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4.jpeg" ContentType="image/jpeg"/>
  <Override PartName="/ppt/media/image16.wmf" ContentType="image/x-wmf"/>
  <Override PartName="/ppt/media/image8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26.png" ContentType="image/png"/>
  <Override PartName="/ppt/media/image3.png" ContentType="image/png"/>
  <Override PartName="/ppt/media/image13.wmf" ContentType="image/x-wmf"/>
  <Override PartName="/ppt/media/image30.wmf" ContentType="image/x-wmf"/>
  <Override PartName="/ppt/media/image31.wmf" ContentType="image/x-wmf"/>
  <Override PartName="/ppt/media/image3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4.wmf" ContentType="image/x-wmf"/>
  <Override PartName="/ppt/media/image9.wmf" ContentType="image/x-wmf"/>
  <Override PartName="/ppt/media/image6.png" ContentType="image/png"/>
  <Override PartName="/ppt/media/image14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5.wmf" ContentType="image/x-wmf"/>
  <Override PartName="/ppt/media/image22.jpeg" ContentType="image/jpeg"/>
  <Override PartName="/ppt/media/image17.wmf" ContentType="image/x-wmf"/>
  <Override PartName="/ppt/media/image19.wmf" ContentType="image/x-wmf"/>
  <Override PartName="/ppt/media/image21.wmf" ContentType="image/x-wmf"/>
  <Override PartName="/ppt/media/image23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1CF-1F75-4D82-AD45-9DEFB7B0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E2A-26B5-4814-A35D-29081880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1F2-014B-4190-AC13-E0F5D933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04E-0EF8-4C5A-8E3D-5B55FD58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3D4-FE39-4788-B337-24F28794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A24-8DB5-4E74-917D-3638C13A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9F6-CF35-4311-B13C-4C936752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2E6-D8CD-4FF0-9E9B-561FBDB8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FF8-C278-4E15-A4EE-CCE012E2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390-199A-45A7-96DD-FCE2136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C16-2CCD-4D67-ABAF-C69F7570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F05-9C63-41B7-8CBE-0E5B8E4A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D49E-F271-481A-9EA9-209E30DF6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16040" y="352440"/>
            <a:ext cx="165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A / IE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1 mar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2514600"/>
            <a:ext cx="12193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82520" y="2509920"/>
            <a:ext cx="11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0" y="2509920"/>
            <a:ext cx="5791320" cy="538200"/>
            <a:chOff x="2286000" y="2509920"/>
            <a:chExt cx="5791320" cy="538200"/>
          </a:xfrm>
        </p:grpSpPr>
        <p:sp>
          <p:nvSpPr>
            <p:cNvPr id="114" name=""/>
            <p:cNvSpPr/>
            <p:nvPr/>
          </p:nvSpPr>
          <p:spPr>
            <a:xfrm>
              <a:off x="2286000" y="2514600"/>
              <a:ext cx="579132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75800" y="2509920"/>
              <a:ext cx="538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386800" y="140976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1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2895480"/>
            <a:ext cx="13716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83600" y="2509920"/>
            <a:ext cx="13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5800" y="2509920"/>
            <a:ext cx="53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75800" y="2509920"/>
            <a:ext cx="53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38280" y="2509920"/>
            <a:ext cx="5639040" cy="919080"/>
            <a:chOff x="2438280" y="2509920"/>
            <a:chExt cx="5639040" cy="919080"/>
          </a:xfrm>
        </p:grpSpPr>
        <p:sp>
          <p:nvSpPr>
            <p:cNvPr id="126" name=""/>
            <p:cNvSpPr/>
            <p:nvPr/>
          </p:nvSpPr>
          <p:spPr>
            <a:xfrm>
              <a:off x="2438280" y="2895480"/>
              <a:ext cx="563904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75800" y="2509920"/>
              <a:ext cx="538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Estabilidade, Robustez, Vulnerabilida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3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2386800" y="140976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3276720"/>
            <a:ext cx="13716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83600" y="2509920"/>
            <a:ext cx="13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5800" y="2509920"/>
            <a:ext cx="53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stabilidade, Robustez, Vulnerabilidad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438280" y="2509920"/>
            <a:ext cx="5791320" cy="1299960"/>
            <a:chOff x="2438280" y="2509920"/>
            <a:chExt cx="5791320" cy="1299960"/>
          </a:xfrm>
        </p:grpSpPr>
        <p:sp>
          <p:nvSpPr>
            <p:cNvPr id="137" name=""/>
            <p:cNvSpPr/>
            <p:nvPr/>
          </p:nvSpPr>
          <p:spPr>
            <a:xfrm>
              <a:off x="2438280" y="3276720"/>
              <a:ext cx="5791320" cy="53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75800" y="2509920"/>
              <a:ext cx="538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stabilidade, Robustez, Vulnerabilidad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jeição de Distúrbio, Linear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41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2386800" y="140976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3657600"/>
            <a:ext cx="16765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81800" y="2509920"/>
            <a:ext cx="164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75800" y="2509920"/>
            <a:ext cx="53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stabilidade, Robustez, Vulnerabil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Rejeição de Distúrbio, Line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75800" y="2509920"/>
            <a:ext cx="5653800" cy="1681200"/>
            <a:chOff x="2575800" y="2509920"/>
            <a:chExt cx="5653800" cy="1681200"/>
          </a:xfrm>
        </p:grpSpPr>
        <p:sp>
          <p:nvSpPr>
            <p:cNvPr id="148" name=""/>
            <p:cNvSpPr/>
            <p:nvPr/>
          </p:nvSpPr>
          <p:spPr>
            <a:xfrm>
              <a:off x="2743200" y="3657600"/>
              <a:ext cx="548640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75800" y="2509920"/>
              <a:ext cx="5387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stabilidade, Robustez, Vulnerabilida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Rejeição de Distúrbio, Linear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Eficiência, Rapidez de Respos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5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2386800" y="140976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3962520"/>
            <a:ext cx="106704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81800" y="2509920"/>
            <a:ext cx="16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5800" y="2509920"/>
            <a:ext cx="53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stabilidade, Robustez, Vulnerabil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Rejeição de Distúrbio, Line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ficiência, Rapidez de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133720" y="2509920"/>
            <a:ext cx="6324480" cy="1985760"/>
            <a:chOff x="2133720" y="2509920"/>
            <a:chExt cx="6324480" cy="1985760"/>
          </a:xfrm>
        </p:grpSpPr>
        <p:sp>
          <p:nvSpPr>
            <p:cNvPr id="159" name=""/>
            <p:cNvSpPr/>
            <p:nvPr/>
          </p:nvSpPr>
          <p:spPr>
            <a:xfrm>
              <a:off x="2133720" y="3962520"/>
              <a:ext cx="6324480" cy="53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71840" y="2509920"/>
              <a:ext cx="5722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stabilidade, Robustez, Vulnerabilida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Rejeição de Distúrbio, Linear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ficiência, Rapidez de Respos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implicidade, Mantenebilidade, Disponibil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6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2386800" y="140976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6680" y="4343400"/>
            <a:ext cx="152424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81800" y="2509920"/>
            <a:ext cx="164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Aprend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71840" y="2509920"/>
            <a:ext cx="572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stabilidade, Robustez, Vulnerabil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Rejeição de Distúrbio, Line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ficiência, Rapidez de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implicidade, Mantenebilidade, Disponi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571840" y="2509920"/>
            <a:ext cx="5810040" cy="2367000"/>
            <a:chOff x="2571840" y="2509920"/>
            <a:chExt cx="5810040" cy="2367000"/>
          </a:xfrm>
        </p:grpSpPr>
        <p:sp>
          <p:nvSpPr>
            <p:cNvPr id="170" name=""/>
            <p:cNvSpPr/>
            <p:nvPr/>
          </p:nvSpPr>
          <p:spPr>
            <a:xfrm>
              <a:off x="2590920" y="4343400"/>
              <a:ext cx="579096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71840" y="2509920"/>
              <a:ext cx="5722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stabilidade, Robustez, Vulnerabilida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Rejeição de Distúrbio, Linear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ficiência, Rapidez de Respos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Simplicidade, Mantenebilidade, Disponibil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hecimento sobre o 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7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>
            <a:off x="2386800" y="140976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90720" y="2438280"/>
            <a:ext cx="1828800" cy="2819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81800" y="2509920"/>
            <a:ext cx="1646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Aprend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ou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71840" y="2509920"/>
            <a:ext cx="572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stabilidade, Robustez, Vulnerabil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Rejeição de Distúrbio, Line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ficiência, Rapidez de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implicidade, Mantenebilidade, Disponi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hecimento sobre o Pro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8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2386800" y="140976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27280" y="2151000"/>
            <a:ext cx="11430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25080" y="134316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 de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22960" y="2198520"/>
            <a:ext cx="50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d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Sistema Físico + Especific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722960" y="2836800"/>
            <a:ext cx="6487200" cy="1361160"/>
            <a:chOff x="1722960" y="2836800"/>
            <a:chExt cx="6487200" cy="1361160"/>
          </a:xfrm>
        </p:grpSpPr>
        <p:sp>
          <p:nvSpPr>
            <p:cNvPr id="189" name=""/>
            <p:cNvSpPr/>
            <p:nvPr/>
          </p:nvSpPr>
          <p:spPr>
            <a:xfrm>
              <a:off x="1727280" y="2836800"/>
              <a:ext cx="99072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22960" y="2884320"/>
              <a:ext cx="6487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Obte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 Um Dispositivo que atua sobre este Sistem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ísico,  de modo que o  seu  comportam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enda às  Especificações  de  Desempenho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necida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 priori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962720" y="4578480"/>
            <a:ext cx="5836320" cy="1795680"/>
            <a:chOff x="1962720" y="4578480"/>
            <a:chExt cx="5836320" cy="1795680"/>
          </a:xfrm>
        </p:grpSpPr>
        <p:sp>
          <p:nvSpPr>
            <p:cNvPr id="192" name=""/>
            <p:cNvSpPr/>
            <p:nvPr/>
          </p:nvSpPr>
          <p:spPr>
            <a:xfrm>
              <a:off x="4600440" y="4578480"/>
              <a:ext cx="914400" cy="976320"/>
            </a:xfrm>
            <a:prstGeom prst="downArrow">
              <a:avLst>
                <a:gd name="adj1" fmla="val 37500"/>
                <a:gd name="adj2" fmla="val 37152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2720" y="5975280"/>
              <a:ext cx="583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ste Dispositivo será chamado de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Control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9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27440" y="1527120"/>
            <a:ext cx="55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da Teoria de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engenh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01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7440" y="1527120"/>
            <a:ext cx="55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da Teoria de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oengenh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5720" y="3924360"/>
            <a:ext cx="5070240" cy="228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25" y="1061"/>
                </a:moveTo>
                <a:lnTo>
                  <a:pt x="-1569" y="1061"/>
                </a:lnTo>
                <a:lnTo>
                  <a:pt x="-1569" y="-2520"/>
                </a:lnTo>
                <a:lnTo>
                  <a:pt x="5639" y="-4399"/>
                </a:lnTo>
              </a:path>
              <a:path w="21600" h="21600">
                <a:moveTo>
                  <a:pt x="-325" y="0"/>
                </a:moveTo>
                <a:lnTo>
                  <a:pt x="-325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medical Sensors and Instr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ignal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medical Systems Modelling an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mecha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materials and Tissue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 Im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habilitation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al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41480" y="2728800"/>
            <a:ext cx="6542280" cy="82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52" y="2859"/>
                </a:moveTo>
                <a:lnTo>
                  <a:pt x="22732" y="2859"/>
                </a:lnTo>
                <a:lnTo>
                  <a:pt x="22732" y="-4566"/>
                </a:lnTo>
                <a:lnTo>
                  <a:pt x="12647" y="-11102"/>
                </a:lnTo>
              </a:path>
              <a:path w="21600" h="21600">
                <a:moveTo>
                  <a:pt x="21852" y="0"/>
                </a:moveTo>
                <a:lnTo>
                  <a:pt x="21852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erle, Blanchard e Bronzino: “...Involves applying the concepts, knowledge and approaches of virtually all engineering disciplines to solve health care-related problems..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08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hit" descr=""/>
          <p:cNvPicPr/>
          <p:nvPr/>
        </p:nvPicPr>
        <p:blipFill>
          <a:blip r:embed="rId1"/>
          <a:stretch/>
        </p:blipFill>
        <p:spPr>
          <a:xfrm>
            <a:off x="7920" y="936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0560" y="2075040"/>
            <a:ext cx="6423120" cy="36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licações da Teoria de Controle 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engenh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ashi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A - Divisão de Engenharia Eletrô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ES - Departamento de Sistemas e Cont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ashi@ele.ita.cta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tyoneyama.hpg.com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07400" y="348624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1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43520" y="1349280"/>
            <a:ext cx="64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em Malha Aberta x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09640" y="2314440"/>
            <a:ext cx="7623000" cy="1500480"/>
            <a:chOff x="809640" y="2314440"/>
            <a:chExt cx="7623000" cy="1500480"/>
          </a:xfrm>
        </p:grpSpPr>
        <p:sp>
          <p:nvSpPr>
            <p:cNvPr id="217" name=""/>
            <p:cNvSpPr/>
            <p:nvPr/>
          </p:nvSpPr>
          <p:spPr>
            <a:xfrm>
              <a:off x="809640" y="2314440"/>
              <a:ext cx="7623000" cy="1500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15040" y="2735280"/>
              <a:ext cx="1385640" cy="779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19160" y="2846520"/>
              <a:ext cx="95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ís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1440" y="2735280"/>
              <a:ext cx="2009880" cy="779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75400" y="29671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57400" y="3094200"/>
              <a:ext cx="55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21320" y="3094200"/>
              <a:ext cx="69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0680" y="3094200"/>
              <a:ext cx="8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27600" y="277164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30840" y="277164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10560" y="2771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560" y="2398680"/>
              <a:ext cx="14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alha Aber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92000" y="4280040"/>
            <a:ext cx="7623360" cy="1979640"/>
            <a:chOff x="792000" y="4280040"/>
            <a:chExt cx="7623360" cy="1979640"/>
          </a:xfrm>
        </p:grpSpPr>
        <p:sp>
          <p:nvSpPr>
            <p:cNvPr id="230" name=""/>
            <p:cNvSpPr/>
            <p:nvPr/>
          </p:nvSpPr>
          <p:spPr>
            <a:xfrm>
              <a:off x="792000" y="4280040"/>
              <a:ext cx="7623360" cy="1979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43720" y="4759200"/>
              <a:ext cx="1385640" cy="781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47840" y="4871880"/>
              <a:ext cx="95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ís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40120" y="4759200"/>
              <a:ext cx="2009880" cy="781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51520" y="500868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86080" y="5119560"/>
              <a:ext cx="55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50000" y="5119560"/>
              <a:ext cx="69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29360" y="5119560"/>
              <a:ext cx="9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7360" y="4797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59520" y="479736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46960" y="4797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32040" y="4879800"/>
              <a:ext cx="554040" cy="479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8000" y="5119560"/>
              <a:ext cx="55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109960" y="5359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2560" y="5877000"/>
              <a:ext cx="526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75680" y="5119560"/>
              <a:ext cx="0" cy="77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79800" y="479736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05040" y="50068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71720" y="504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7280" y="5059440"/>
              <a:ext cx="13824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3360" y="4363920"/>
              <a:ext cx="163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alha Fech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01880" y="4940280"/>
              <a:ext cx="4158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01520" y="4940280"/>
              <a:ext cx="41580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255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86280" y="130500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ustez a Incertezas no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2280" y="1952640"/>
            <a:ext cx="8381880" cy="193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19640" y="2505240"/>
            <a:ext cx="13161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14760" y="2792520"/>
            <a:ext cx="10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10160" y="2962440"/>
            <a:ext cx="609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454880" y="2978280"/>
            <a:ext cx="1019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8280" y="242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00680" y="265752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90840" y="2962440"/>
            <a:ext cx="6098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203800" y="3281040"/>
            <a:ext cx="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08480" y="3736800"/>
            <a:ext cx="2638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848720" y="2962080"/>
            <a:ext cx="1440" cy="77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92640" y="2428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69720" y="2755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54400" y="280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0960" y="2900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54520" y="200196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76640" y="273384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76640" y="273384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04920" y="2543040"/>
            <a:ext cx="13161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00040" y="2830680"/>
            <a:ext cx="10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5440" y="300024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3560" y="24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06760" y="245268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05560" y="19810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Ab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2760" y="3036960"/>
            <a:ext cx="609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4440" y="410364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3000" y="240336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8600" y="4497480"/>
            <a:ext cx="24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(A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840" y="4954680"/>
            <a:ext cx="22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Ae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33440" y="4487760"/>
            <a:ext cx="1681200" cy="874800"/>
            <a:chOff x="433440" y="4487760"/>
            <a:chExt cx="1681200" cy="874800"/>
          </a:xfrm>
        </p:grpSpPr>
        <p:sp>
          <p:nvSpPr>
            <p:cNvPr id="288" name=""/>
            <p:cNvSpPr/>
            <p:nvPr/>
          </p:nvSpPr>
          <p:spPr>
            <a:xfrm flipV="1">
              <a:off x="433440" y="4487760"/>
              <a:ext cx="46188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652760" y="4929120"/>
              <a:ext cx="46188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0600" y="5402160"/>
            <a:ext cx="12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0440" y="5800680"/>
            <a:ext cx="1320840" cy="711720"/>
            <a:chOff x="460440" y="5800680"/>
            <a:chExt cx="1320840" cy="711720"/>
          </a:xfrm>
        </p:grpSpPr>
        <p:sp>
          <p:nvSpPr>
            <p:cNvPr id="292" name=""/>
            <p:cNvSpPr/>
            <p:nvPr/>
          </p:nvSpPr>
          <p:spPr>
            <a:xfrm>
              <a:off x="460440" y="580068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8480" y="6113520"/>
              <a:ext cx="11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1880" y="616284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63600" y="615636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40680" y="59896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990800" y="5902200"/>
            <a:ext cx="2050200" cy="398880"/>
            <a:chOff x="1990800" y="5902200"/>
            <a:chExt cx="2050200" cy="398880"/>
          </a:xfrm>
        </p:grpSpPr>
        <p:sp>
          <p:nvSpPr>
            <p:cNvPr id="298" name=""/>
            <p:cNvSpPr/>
            <p:nvPr/>
          </p:nvSpPr>
          <p:spPr>
            <a:xfrm>
              <a:off x="2415600" y="590220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y%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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90800" y="6119640"/>
              <a:ext cx="317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908960" y="3943440"/>
            <a:ext cx="1412280" cy="759240"/>
            <a:chOff x="4908960" y="3943440"/>
            <a:chExt cx="1412280" cy="759240"/>
          </a:xfrm>
        </p:grpSpPr>
        <p:sp>
          <p:nvSpPr>
            <p:cNvPr id="301" name=""/>
            <p:cNvSpPr/>
            <p:nvPr/>
          </p:nvSpPr>
          <p:spPr>
            <a:xfrm>
              <a:off x="4908960" y="408132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=          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351400" y="3943440"/>
              <a:ext cx="726480" cy="759240"/>
              <a:chOff x="5351400" y="3943440"/>
              <a:chExt cx="726480" cy="759240"/>
            </a:xfrm>
          </p:grpSpPr>
          <p:sp>
            <p:nvSpPr>
              <p:cNvPr id="303" name=""/>
              <p:cNvSpPr/>
              <p:nvPr/>
            </p:nvSpPr>
            <p:spPr>
              <a:xfrm>
                <a:off x="5351400" y="430380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+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40040" y="3943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06840" y="429084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4884120" y="4500720"/>
            <a:ext cx="2840040" cy="759240"/>
            <a:chOff x="4884120" y="4500720"/>
            <a:chExt cx="2840040" cy="759240"/>
          </a:xfrm>
        </p:grpSpPr>
        <p:sp>
          <p:nvSpPr>
            <p:cNvPr id="307" name=""/>
            <p:cNvSpPr/>
            <p:nvPr/>
          </p:nvSpPr>
          <p:spPr>
            <a:xfrm>
              <a:off x="4884120" y="4637160"/>
              <a:ext cx="284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+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=                      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014880" y="4500720"/>
              <a:ext cx="1506960" cy="759240"/>
              <a:chOff x="6014880" y="4500720"/>
              <a:chExt cx="1506960" cy="759240"/>
            </a:xfrm>
          </p:grpSpPr>
          <p:sp>
            <p:nvSpPr>
              <p:cNvPr id="309" name=""/>
              <p:cNvSpPr/>
              <p:nvPr/>
            </p:nvSpPr>
            <p:spPr>
              <a:xfrm>
                <a:off x="6014880" y="4861080"/>
                <a:ext cx="150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+ A +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203520" y="4500720"/>
                <a:ext cx="107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 +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6076800" y="4836960"/>
                <a:ext cx="1326960" cy="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4932360" y="5176800"/>
            <a:ext cx="2953440" cy="1478880"/>
            <a:chOff x="4932360" y="5176800"/>
            <a:chExt cx="2953440" cy="1478880"/>
          </a:xfrm>
        </p:grpSpPr>
        <p:sp>
          <p:nvSpPr>
            <p:cNvPr id="313" name=""/>
            <p:cNvSpPr/>
            <p:nvPr/>
          </p:nvSpPr>
          <p:spPr>
            <a:xfrm>
              <a:off x="5559480" y="5342040"/>
              <a:ext cx="696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862600" y="5219640"/>
              <a:ext cx="1506960" cy="756000"/>
              <a:chOff x="5862600" y="5219640"/>
              <a:chExt cx="1506960" cy="756000"/>
            </a:xfrm>
          </p:grpSpPr>
          <p:sp>
            <p:nvSpPr>
              <p:cNvPr id="315" name=""/>
              <p:cNvSpPr/>
              <p:nvPr/>
            </p:nvSpPr>
            <p:spPr>
              <a:xfrm>
                <a:off x="5862600" y="5576760"/>
                <a:ext cx="150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+ A +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57000" y="5219640"/>
                <a:ext cx="74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924520" y="5552640"/>
                <a:ext cx="1326960" cy="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4932360" y="51768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43520" y="5551560"/>
              <a:ext cx="49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81800" y="558000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54440" y="51894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09880" y="5564160"/>
              <a:ext cx="3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91040" y="5540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873680" y="5564160"/>
            <a:ext cx="3575160" cy="1774080"/>
            <a:chOff x="4873680" y="5564160"/>
            <a:chExt cx="3575160" cy="1774080"/>
          </a:xfrm>
        </p:grpSpPr>
        <p:sp>
          <p:nvSpPr>
            <p:cNvPr id="325" name=""/>
            <p:cNvSpPr/>
            <p:nvPr/>
          </p:nvSpPr>
          <p:spPr>
            <a:xfrm>
              <a:off x="5595840" y="6024600"/>
              <a:ext cx="696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898960" y="5902200"/>
              <a:ext cx="1506960" cy="756000"/>
              <a:chOff x="5898960" y="5902200"/>
              <a:chExt cx="1506960" cy="756000"/>
            </a:xfrm>
          </p:grpSpPr>
          <p:sp>
            <p:nvSpPr>
              <p:cNvPr id="327" name=""/>
              <p:cNvSpPr/>
              <p:nvPr/>
            </p:nvSpPr>
            <p:spPr>
              <a:xfrm>
                <a:off x="5898960" y="6259320"/>
                <a:ext cx="150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+ A +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93360" y="5902200"/>
                <a:ext cx="74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5960880" y="6235200"/>
                <a:ext cx="1326960" cy="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873680" y="6018120"/>
              <a:ext cx="32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y%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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31320" y="5564160"/>
              <a:ext cx="317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33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775960" y="132552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eição de Distúr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040" y="2189160"/>
            <a:ext cx="8382240" cy="214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3440" y="3328920"/>
            <a:ext cx="9903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75000" y="3143160"/>
            <a:ext cx="479160" cy="451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39760" y="3373560"/>
            <a:ext cx="436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103720" y="348912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02280" y="4148280"/>
            <a:ext cx="274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845480" y="3328560"/>
            <a:ext cx="0" cy="83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2760" y="27813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1440" y="31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58000" y="32529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4160" y="22208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44840" y="3198960"/>
            <a:ext cx="3506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560680" y="3211560"/>
            <a:ext cx="31896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78080" y="2867040"/>
            <a:ext cx="6379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31800" y="3186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8240" y="3324240"/>
            <a:ext cx="6098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46360" y="2790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02120" y="2230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Ab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76160" y="306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14760" y="2633760"/>
            <a:ext cx="1440" cy="49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2040" y="2509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339084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70680" y="3108240"/>
            <a:ext cx="479520" cy="451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35800" y="3338640"/>
            <a:ext cx="436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27480" y="3154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40520" y="3164040"/>
            <a:ext cx="35100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7056000" y="3176640"/>
            <a:ext cx="31932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73760" y="2832120"/>
            <a:ext cx="6382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27480" y="3151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80200" y="3274920"/>
            <a:ext cx="49356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42400" y="27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71840" y="30290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10440" y="2598840"/>
            <a:ext cx="1440" cy="49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49920" y="3051000"/>
            <a:ext cx="479160" cy="451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14680" y="3281400"/>
            <a:ext cx="436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06360" y="3097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19760" y="3106800"/>
            <a:ext cx="35064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935600" y="3119400"/>
            <a:ext cx="31896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1800" y="31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8080" y="2503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451656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54240" y="287640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278928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3040" y="506736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Ae +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9080" y="562464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861440" y="4341960"/>
            <a:ext cx="1412280" cy="759240"/>
            <a:chOff x="4861440" y="4341960"/>
            <a:chExt cx="1412280" cy="759240"/>
          </a:xfrm>
        </p:grpSpPr>
        <p:sp>
          <p:nvSpPr>
            <p:cNvPr id="383" name=""/>
            <p:cNvSpPr/>
            <p:nvPr/>
          </p:nvSpPr>
          <p:spPr>
            <a:xfrm>
              <a:off x="4861440" y="447984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=          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5303880" y="4341960"/>
              <a:ext cx="726480" cy="759240"/>
              <a:chOff x="5303880" y="4341960"/>
              <a:chExt cx="726480" cy="759240"/>
            </a:xfrm>
          </p:grpSpPr>
          <p:sp>
            <p:nvSpPr>
              <p:cNvPr id="385" name=""/>
              <p:cNvSpPr/>
              <p:nvPr/>
            </p:nvSpPr>
            <p:spPr>
              <a:xfrm>
                <a:off x="5303880" y="470232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+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492520" y="43419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59320" y="46893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4851000" y="5013360"/>
            <a:ext cx="3215160" cy="767160"/>
            <a:chOff x="4851000" y="5013360"/>
            <a:chExt cx="3215160" cy="767160"/>
          </a:xfrm>
        </p:grpSpPr>
        <p:sp>
          <p:nvSpPr>
            <p:cNvPr id="389" name=""/>
            <p:cNvSpPr/>
            <p:nvPr/>
          </p:nvSpPr>
          <p:spPr>
            <a:xfrm>
              <a:off x="4851000" y="5133960"/>
              <a:ext cx="32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+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=           r +           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5889600" y="5013360"/>
              <a:ext cx="726480" cy="759240"/>
              <a:chOff x="5889600" y="5013360"/>
              <a:chExt cx="726480" cy="759240"/>
            </a:xfrm>
          </p:grpSpPr>
          <p:sp>
            <p:nvSpPr>
              <p:cNvPr id="391" name=""/>
              <p:cNvSpPr/>
              <p:nvPr/>
            </p:nvSpPr>
            <p:spPr>
              <a:xfrm>
                <a:off x="5889600" y="537372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+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78240" y="50133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945040" y="53607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35480" y="5021280"/>
              <a:ext cx="726480" cy="759240"/>
              <a:chOff x="7035480" y="5021280"/>
              <a:chExt cx="726480" cy="759240"/>
            </a:xfrm>
          </p:grpSpPr>
          <p:sp>
            <p:nvSpPr>
              <p:cNvPr id="395" name=""/>
              <p:cNvSpPr/>
              <p:nvPr/>
            </p:nvSpPr>
            <p:spPr>
              <a:xfrm>
                <a:off x="7035480" y="538164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+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24120" y="5021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90920" y="536868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4806000" y="5765760"/>
            <a:ext cx="1694160" cy="759240"/>
            <a:chOff x="4806000" y="5765760"/>
            <a:chExt cx="1694160" cy="759240"/>
          </a:xfrm>
        </p:grpSpPr>
        <p:sp>
          <p:nvSpPr>
            <p:cNvPr id="399" name=""/>
            <p:cNvSpPr/>
            <p:nvPr/>
          </p:nvSpPr>
          <p:spPr>
            <a:xfrm>
              <a:off x="4806000" y="5864400"/>
              <a:ext cx="169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=           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500440" y="5765760"/>
              <a:ext cx="726480" cy="759240"/>
              <a:chOff x="5500440" y="5765760"/>
              <a:chExt cx="726480" cy="759240"/>
            </a:xfrm>
          </p:grpSpPr>
          <p:sp>
            <p:nvSpPr>
              <p:cNvPr id="401" name=""/>
              <p:cNvSpPr/>
              <p:nvPr/>
            </p:nvSpPr>
            <p:spPr>
              <a:xfrm>
                <a:off x="5500440" y="612612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+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89080" y="57657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55880" y="61131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847800" y="5117760"/>
            <a:ext cx="1422360" cy="382680"/>
            <a:chOff x="847800" y="5117760"/>
            <a:chExt cx="1422360" cy="382680"/>
          </a:xfrm>
        </p:grpSpPr>
        <p:sp>
          <p:nvSpPr>
            <p:cNvPr id="405" name=""/>
            <p:cNvSpPr/>
            <p:nvPr/>
          </p:nvSpPr>
          <p:spPr>
            <a:xfrm flipV="1">
              <a:off x="847800" y="5117760"/>
              <a:ext cx="31752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952640" y="5140080"/>
              <a:ext cx="31752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896000" y="5075280"/>
            <a:ext cx="1709640" cy="666720"/>
            <a:chOff x="4896000" y="5075280"/>
            <a:chExt cx="1709640" cy="666720"/>
          </a:xfrm>
        </p:grpSpPr>
        <p:sp>
          <p:nvSpPr>
            <p:cNvPr id="408" name=""/>
            <p:cNvSpPr/>
            <p:nvPr/>
          </p:nvSpPr>
          <p:spPr>
            <a:xfrm flipV="1">
              <a:off x="4896000" y="5154120"/>
              <a:ext cx="31752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072480" y="5075280"/>
              <a:ext cx="533160" cy="666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1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3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127880" y="132732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ação das Características de Es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5000" y="2154240"/>
            <a:ext cx="7991640" cy="235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92680" y="327960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86440" y="3265560"/>
            <a:ext cx="99072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7080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125200" y="276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83200" y="297504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73720" y="3279600"/>
            <a:ext cx="609480" cy="1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5389200" y="3584520"/>
            <a:ext cx="3240" cy="62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392800" y="4179600"/>
            <a:ext cx="1884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7270920" y="3250800"/>
            <a:ext cx="2880" cy="93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75520" y="2746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52240" y="30733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36920" y="3127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318924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86320" y="223056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59520" y="30510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159520" y="30510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79720" y="2903400"/>
            <a:ext cx="5652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65760" y="31147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69880" y="3360600"/>
            <a:ext cx="609840" cy="1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48000" y="282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62720" y="284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70600" y="22525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Ab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76600" y="3411360"/>
            <a:ext cx="60948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88120" y="2840040"/>
            <a:ext cx="5652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59760" y="303696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62120" y="4599000"/>
            <a:ext cx="3514320" cy="1649160"/>
            <a:chOff x="762120" y="4599000"/>
            <a:chExt cx="3514320" cy="1649160"/>
          </a:xfrm>
        </p:grpSpPr>
        <p:sp>
          <p:nvSpPr>
            <p:cNvPr id="442" name=""/>
            <p:cNvSpPr/>
            <p:nvPr/>
          </p:nvSpPr>
          <p:spPr>
            <a:xfrm flipV="1">
              <a:off x="950760" y="4811400"/>
              <a:ext cx="0" cy="142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6140520"/>
              <a:ext cx="15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65160" y="5418000"/>
              <a:ext cx="1125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73440" y="459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92320" y="57466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878200" y="4819320"/>
              <a:ext cx="0" cy="142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89200" y="6148440"/>
              <a:ext cx="15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892600" y="5136840"/>
              <a:ext cx="1023840" cy="10256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00520" y="4606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19400" y="5754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897800" y="4592520"/>
            <a:ext cx="3637800" cy="1666800"/>
            <a:chOff x="4897800" y="4592520"/>
            <a:chExt cx="3637800" cy="1666800"/>
          </a:xfrm>
        </p:grpSpPr>
        <p:sp>
          <p:nvSpPr>
            <p:cNvPr id="453" name=""/>
            <p:cNvSpPr/>
            <p:nvPr/>
          </p:nvSpPr>
          <p:spPr>
            <a:xfrm flipV="1">
              <a:off x="5210280" y="4822920"/>
              <a:ext cx="0" cy="1428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21280" y="6151680"/>
              <a:ext cx="151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24320" y="5429160"/>
              <a:ext cx="1125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97800" y="459252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51480" y="57578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137360" y="4830480"/>
              <a:ext cx="0" cy="142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48360" y="6159600"/>
              <a:ext cx="1516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60040" y="461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278560" y="57657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35920" y="5433840"/>
              <a:ext cx="1197000" cy="723960"/>
            </a:xfrm>
            <a:custGeom>
              <a:avLst/>
              <a:gdLst/>
              <a:ahLst/>
              <a:rect l="l" t="t" r="r" b="b"/>
              <a:pathLst>
                <a:path w="754" h="456">
                  <a:moveTo>
                    <a:pt x="0" y="456"/>
                  </a:moveTo>
                  <a:cubicBezTo>
                    <a:pt x="36" y="392"/>
                    <a:pt x="92" y="148"/>
                    <a:pt x="218" y="74"/>
                  </a:cubicBezTo>
                  <a:cubicBezTo>
                    <a:pt x="344" y="0"/>
                    <a:pt x="642" y="23"/>
                    <a:pt x="754" y="1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65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6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703520" y="3044880"/>
            <a:ext cx="5930640" cy="1515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20360" y="136836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tagens de Controle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78040" y="2962440"/>
            <a:ext cx="57722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ustez a Incertezas no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ição de Distúr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ação das Características de Est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7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98840" y="3309840"/>
            <a:ext cx="406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çã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de 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47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8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96800" y="24303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170080" y="145404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65880" y="22892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f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Desempen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429520" y="135396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r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j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47320" y="29401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álise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a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340800" y="380376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en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(s) Lei(s) de C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86840" y="47721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46840" y="628020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ção e Manuten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07480" y="13842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93800" y="2048040"/>
            <a:ext cx="714528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1560" y="14479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7840" y="25002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33720" y="2857680"/>
            <a:ext cx="388800" cy="387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955840" y="2887560"/>
            <a:ext cx="389160" cy="387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51200" y="3522600"/>
            <a:ext cx="0" cy="352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62360" y="4413240"/>
            <a:ext cx="0" cy="441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9760" y="5106960"/>
            <a:ext cx="0" cy="441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52720" y="1890720"/>
            <a:ext cx="0" cy="441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21320" y="1973160"/>
            <a:ext cx="0" cy="35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28080" y="548964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es e Valid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62360" y="5853240"/>
            <a:ext cx="0" cy="441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0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3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13240" y="357516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agem e Sim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0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8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71280" y="214632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49320" y="3249720"/>
            <a:ext cx="21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i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30640" y="319104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i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792600" y="2644920"/>
            <a:ext cx="900000" cy="70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68840" y="2655720"/>
            <a:ext cx="900000" cy="70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635120" y="4162320"/>
            <a:ext cx="2417760" cy="1616040"/>
            <a:chOff x="1635120" y="4162320"/>
            <a:chExt cx="2417760" cy="1616040"/>
          </a:xfrm>
        </p:grpSpPr>
        <p:sp>
          <p:nvSpPr>
            <p:cNvPr id="516" name=""/>
            <p:cNvSpPr/>
            <p:nvPr/>
          </p:nvSpPr>
          <p:spPr>
            <a:xfrm>
              <a:off x="1635120" y="4967280"/>
              <a:ext cx="2417760" cy="811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98280" y="511164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is Fís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805120" y="4162320"/>
              <a:ext cx="0" cy="757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203800" y="4155840"/>
            <a:ext cx="2417760" cy="1635480"/>
            <a:chOff x="5203800" y="4155840"/>
            <a:chExt cx="2417760" cy="1635480"/>
          </a:xfrm>
        </p:grpSpPr>
        <p:sp>
          <p:nvSpPr>
            <p:cNvPr id="520" name=""/>
            <p:cNvSpPr/>
            <p:nvPr/>
          </p:nvSpPr>
          <p:spPr>
            <a:xfrm>
              <a:off x="5203800" y="4973760"/>
              <a:ext cx="2417760" cy="811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72560" y="496584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d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rimenta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380280" y="4155840"/>
              <a:ext cx="0" cy="7570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2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5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18720" y="348624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inactivated-HIV" descr=""/>
          <p:cNvPicPr/>
          <p:nvPr/>
        </p:nvPicPr>
        <p:blipFill>
          <a:blip r:embed="rId1"/>
          <a:stretch/>
        </p:blipFill>
        <p:spPr>
          <a:xfrm>
            <a:off x="2509920" y="1981080"/>
            <a:ext cx="4427280" cy="4427640"/>
          </a:xfrm>
          <a:prstGeom prst="rect">
            <a:avLst/>
          </a:prstGeom>
          <a:ln w="0">
            <a:noFill/>
          </a:ln>
        </p:spPr>
      </p:pic>
      <p:grpSp>
        <p:nvGrpSpPr>
          <p:cNvPr id="52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2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0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"/>
          <p:cNvSpPr/>
          <p:nvPr/>
        </p:nvSpPr>
        <p:spPr>
          <a:xfrm>
            <a:off x="2579760" y="13701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microelectrhiv" descr=""/>
          <p:cNvPicPr/>
          <p:nvPr/>
        </p:nvPicPr>
        <p:blipFill>
          <a:blip r:embed="rId1"/>
          <a:stretch/>
        </p:blipFill>
        <p:spPr>
          <a:xfrm>
            <a:off x="1874880" y="1908000"/>
            <a:ext cx="5462640" cy="431028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35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6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"/>
          <p:cNvSpPr/>
          <p:nvPr/>
        </p:nvSpPr>
        <p:spPr>
          <a:xfrm>
            <a:off x="2579760" y="13701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cd4t" descr=""/>
          <p:cNvPicPr/>
          <p:nvPr/>
        </p:nvPicPr>
        <p:blipFill>
          <a:blip r:embed="rId1"/>
          <a:stretch/>
        </p:blipFill>
        <p:spPr>
          <a:xfrm>
            <a:off x="1714680" y="2340000"/>
            <a:ext cx="5959440" cy="3732120"/>
          </a:xfrm>
          <a:prstGeom prst="rect">
            <a:avLst/>
          </a:prstGeom>
          <a:ln w="0">
            <a:noFill/>
          </a:ln>
        </p:spPr>
      </p:pic>
      <p:grpSp>
        <p:nvGrpSpPr>
          <p:cNvPr id="540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41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"/>
          <p:cNvSpPr/>
          <p:nvPr/>
        </p:nvSpPr>
        <p:spPr>
          <a:xfrm>
            <a:off x="2579760" y="13701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cycleHIV" descr=""/>
          <p:cNvPicPr/>
          <p:nvPr/>
        </p:nvPicPr>
        <p:blipFill>
          <a:blip r:embed="rId1"/>
          <a:stretch/>
        </p:blipFill>
        <p:spPr>
          <a:xfrm>
            <a:off x="2048040" y="2193840"/>
            <a:ext cx="5519520" cy="423720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4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8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"/>
          <p:cNvSpPr/>
          <p:nvPr/>
        </p:nvSpPr>
        <p:spPr>
          <a:xfrm>
            <a:off x="2579760" y="13701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14280" y="2247840"/>
            <a:ext cx="5608800" cy="3971880"/>
          </a:xfrm>
          <a:prstGeom prst="rect">
            <a:avLst/>
          </a:prstGeom>
          <a:ln w="0">
            <a:noFill/>
          </a:ln>
        </p:spPr>
      </p:pic>
      <p:grpSp>
        <p:nvGrpSpPr>
          <p:cNvPr id="552" name=""/>
          <p:cNvGrpSpPr/>
          <p:nvPr/>
        </p:nvGrpSpPr>
        <p:grpSpPr>
          <a:xfrm>
            <a:off x="6170760" y="2390760"/>
            <a:ext cx="2582640" cy="3161880"/>
            <a:chOff x="6170760" y="2390760"/>
            <a:chExt cx="2582640" cy="3161880"/>
          </a:xfrm>
        </p:grpSpPr>
        <p:sp>
          <p:nvSpPr>
            <p:cNvPr id="553" name=""/>
            <p:cNvSpPr/>
            <p:nvPr/>
          </p:nvSpPr>
          <p:spPr>
            <a:xfrm>
              <a:off x="6170760" y="3467160"/>
              <a:ext cx="249120" cy="376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70760" y="3114720"/>
              <a:ext cx="247680" cy="334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2200" y="2762280"/>
              <a:ext cx="246240" cy="334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8680" y="2390760"/>
              <a:ext cx="239760" cy="352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6192720" y="2413080"/>
              <a:ext cx="2560680" cy="3139560"/>
              <a:chOff x="6192720" y="2413080"/>
              <a:chExt cx="2560680" cy="3139560"/>
            </a:xfrm>
          </p:grpSpPr>
          <mc:AlternateContent>
            <mc:Choice xmlns:a14="http://schemas.microsoft.com/office/drawing/2010/main" Requires="a14">
              <p:sp>
                <p:nvSpPr>
                  <p:cNvPr id="558" name=""/>
                  <p:cNvSpPr txBox="1"/>
                  <p:nvPr/>
                </p:nvSpPr>
                <p:spPr>
                  <a:xfrm>
                    <a:off x="6201000" y="2413080"/>
                    <a:ext cx="2425320" cy="141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Nμ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59" name=""/>
                  <p:cNvSpPr txBox="1"/>
                  <p:nvPr/>
                </p:nvSpPr>
                <p:spPr>
                  <a:xfrm>
                    <a:off x="6192720" y="3908520"/>
                    <a:ext cx="2560680" cy="164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sθ</m:t>
                                </m:r>
                              </m:num>
                              <m:den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den>
                            </m:f>
                          </m:e>
                          <m:e>
                            <m:r>
                              <m:t xml:space="preserve">λ</m:t>
                            </m:r>
                            <m:r>
                              <m:t xml:space="preserve">=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e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60" name=""/>
          <p:cNvSpPr/>
          <p:nvPr/>
        </p:nvSpPr>
        <p:spPr>
          <a:xfrm>
            <a:off x="4057560" y="3147840"/>
            <a:ext cx="3621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5960" y="3157560"/>
            <a:ext cx="362160" cy="405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33600" y="5059440"/>
            <a:ext cx="3744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62440" y="4379760"/>
            <a:ext cx="36216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79760" y="13701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6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7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654120" y="2421000"/>
            <a:ext cx="3090960" cy="3685680"/>
            <a:chOff x="654120" y="2421000"/>
            <a:chExt cx="3090960" cy="3685680"/>
          </a:xfrm>
        </p:grpSpPr>
        <mc:AlternateContent>
          <mc:Choice xmlns:a14="http://schemas.microsoft.com/office/drawing/2010/main" Requires="a14">
            <p:sp>
              <p:nvSpPr>
                <p:cNvPr id="570" name=""/>
                <p:cNvSpPr txBox="1"/>
                <p:nvPr/>
              </p:nvSpPr>
              <p:spPr>
                <a:xfrm>
                  <a:off x="664200" y="2421000"/>
                  <a:ext cx="2927520" cy="166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λ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654120" y="4176720"/>
                  <a:ext cx="3090960" cy="192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sθ</m:t>
                              </m:r>
                            </m:num>
                            <m:den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λ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4280040" y="2600280"/>
            <a:ext cx="4357440" cy="282564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7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5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"/>
          <p:cNvSpPr/>
          <p:nvPr/>
        </p:nvSpPr>
        <p:spPr>
          <a:xfrm>
            <a:off x="974880" y="137016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ção Digital do 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989000" y="1947960"/>
          <a:ext cx="5284800" cy="46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9000" y="1947960"/>
                    <a:ext cx="5284800" cy="46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81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2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"/>
          <p:cNvSpPr/>
          <p:nvPr/>
        </p:nvSpPr>
        <p:spPr>
          <a:xfrm>
            <a:off x="974880" y="137016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ção Digital do Modelo de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83160" y="341784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8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8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00760" y="2786040"/>
            <a:ext cx="613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Ponto de Equilíbri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 dito ser ponto de equilíb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3843360" y="3284640"/>
                <a:ext cx="12477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194000" y="4059360"/>
                <a:ext cx="1668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3648600" y="4051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82840" y="4772160"/>
            <a:ext cx="64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Estabilidad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ponto de equilíbr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 dito ser estável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0" y="5122800"/>
            <a:ext cx="32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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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3003480" y="5575320"/>
                <a:ext cx="41194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97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98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"/>
          <p:cNvSpPr/>
          <p:nvPr/>
        </p:nvSpPr>
        <p:spPr>
          <a:xfrm>
            <a:off x="2049480" y="1387440"/>
            <a:ext cx="59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ilidade do Ponto de Equilí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058760" y="6137280"/>
            <a:ext cx="25225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2880" y="1631880"/>
            <a:ext cx="72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aso de Sistemas Lineares de Tempo Contínuo Invariantes no Tem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3451320" y="4460760"/>
                <a:ext cx="1401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in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 flipV="1">
            <a:off x="3201840" y="3911400"/>
            <a:ext cx="73368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887640" y="3630600"/>
                <a:ext cx="5256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7" name=""/>
          <p:cNvGrpSpPr/>
          <p:nvPr/>
        </p:nvGrpSpPr>
        <p:grpSpPr>
          <a:xfrm>
            <a:off x="1170000" y="6157800"/>
            <a:ext cx="2432880" cy="379080"/>
            <a:chOff x="1170000" y="6157800"/>
            <a:chExt cx="2432880" cy="379080"/>
          </a:xfrm>
        </p:grpSpPr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170000" y="6214680"/>
                  <a:ext cx="12495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9" name=""/>
            <p:cNvSpPr/>
            <p:nvPr/>
          </p:nvSpPr>
          <p:spPr>
            <a:xfrm>
              <a:off x="2326320" y="615780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 rot="16200000">
            <a:off x="2085840" y="3917520"/>
            <a:ext cx="201600" cy="1040040"/>
          </a:xfrm>
          <a:custGeom>
            <a:avLst/>
            <a:gdLst>
              <a:gd name="textAreaLeft" fmla="*/ 128880 w 201600"/>
              <a:gd name="textAreaRight" fmla="*/ 201960 w 201600"/>
              <a:gd name="textAreaTop" fmla="*/ 27000 h 1040040"/>
              <a:gd name="textAreaBottom" fmla="*/ 1013040 h 104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93840" y="4589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187720" y="3311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81240" y="561348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409480" y="4776840"/>
            <a:ext cx="31734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762520" y="4156200"/>
                <a:ext cx="264312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5627520" y="4084560"/>
            <a:ext cx="2872080" cy="14288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531720" y="3930480"/>
                <a:ext cx="3805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B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 flipV="1">
            <a:off x="3201840" y="3911400"/>
            <a:ext cx="73368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887640" y="3630600"/>
                <a:ext cx="5256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 rot="16200000">
            <a:off x="2085840" y="3917520"/>
            <a:ext cx="201600" cy="1040040"/>
          </a:xfrm>
          <a:custGeom>
            <a:avLst/>
            <a:gdLst>
              <a:gd name="textAreaLeft" fmla="*/ 128880 w 201600"/>
              <a:gd name="textAreaRight" fmla="*/ 201960 w 201600"/>
              <a:gd name="textAreaTop" fmla="*/ 27000 h 1040040"/>
              <a:gd name="textAreaBottom" fmla="*/ 1013040 h 104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93840" y="4589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87720" y="3311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81240" y="561348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609560" y="2022480"/>
                <a:ext cx="13273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1017720" y="5003640"/>
                <a:ext cx="24987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2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62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8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92520" y="1668600"/>
            <a:ext cx="55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da Teoria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enharia Bio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5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8560" y="1631880"/>
            <a:ext cx="51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aso de Sistemas Lineares de Tempo Contínu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31720" y="3930480"/>
                <a:ext cx="3805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B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d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2" name=""/>
          <p:cNvSpPr/>
          <p:nvPr/>
        </p:nvSpPr>
        <p:spPr>
          <a:xfrm flipV="1">
            <a:off x="3201840" y="3911400"/>
            <a:ext cx="73368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887640" y="3630600"/>
                <a:ext cx="5256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"/>
          <p:cNvSpPr/>
          <p:nvPr/>
        </p:nvSpPr>
        <p:spPr>
          <a:xfrm rot="16200000">
            <a:off x="2085840" y="3917520"/>
            <a:ext cx="201600" cy="1040040"/>
          </a:xfrm>
          <a:custGeom>
            <a:avLst/>
            <a:gdLst>
              <a:gd name="textAreaLeft" fmla="*/ 128880 w 201600"/>
              <a:gd name="textAreaRight" fmla="*/ 201960 w 201600"/>
              <a:gd name="textAreaTop" fmla="*/ 27000 h 1040040"/>
              <a:gd name="textAreaBottom" fmla="*/ 1013040 h 104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93840" y="4589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187720" y="331164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609560" y="2022480"/>
                <a:ext cx="13273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5562720" y="2171880"/>
                <a:ext cx="247644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119560" y="2925720"/>
                <a:ext cx="3468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B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530680" y="3936960"/>
                <a:ext cx="2713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apla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5222880" y="4964040"/>
                <a:ext cx="3227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apla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513240" y="5632560"/>
                <a:ext cx="22096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apla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 flipV="1">
            <a:off x="7353360" y="2881080"/>
            <a:ext cx="733320" cy="447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8039160" y="2600280"/>
                <a:ext cx="52524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3319560" y="2309760"/>
            <a:ext cx="19908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99320" y="2438280"/>
            <a:ext cx="0" cy="4906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92840" y="3384720"/>
            <a:ext cx="0" cy="490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78800" y="4379760"/>
            <a:ext cx="0" cy="4906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716280" y="5319720"/>
            <a:ext cx="135576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51120" y="5830920"/>
            <a:ext cx="24955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538520" y="5319360"/>
            <a:ext cx="0" cy="274680"/>
          </a:xfrm>
          <a:prstGeom prst="line">
            <a:avLst/>
          </a:prstGeom>
          <a:ln w="1260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6872400" y="4403880"/>
                <a:ext cx="14014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tinto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65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5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"/>
          <p:cNvSpPr/>
          <p:nvPr/>
        </p:nvSpPr>
        <p:spPr>
          <a:xfrm>
            <a:off x="952560" y="6189840"/>
            <a:ext cx="2522520" cy="44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063800" y="6210360"/>
            <a:ext cx="2432880" cy="379080"/>
            <a:chOff x="1063800" y="6210360"/>
            <a:chExt cx="2432880" cy="379080"/>
          </a:xfrm>
        </p:grpSpPr>
        <mc:AlternateContent>
          <mc:Choice xmlns:a14="http://schemas.microsoft.com/office/drawing/2010/main" Requires="a14">
            <p:sp>
              <p:nvSpPr>
                <p:cNvPr id="658" name=""/>
                <p:cNvSpPr txBox="1"/>
                <p:nvPr/>
              </p:nvSpPr>
              <p:spPr>
                <a:xfrm>
                  <a:off x="1063800" y="6267240"/>
                  <a:ext cx="12495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9" name=""/>
            <p:cNvSpPr/>
            <p:nvPr/>
          </p:nvSpPr>
          <p:spPr>
            <a:xfrm>
              <a:off x="2220120" y="621036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abil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2181240" y="5613480"/>
            <a:ext cx="0" cy="49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1017720" y="5003640"/>
                <a:ext cx="24987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9280" y="1631880"/>
            <a:ext cx="556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aso de Sistemas Não-Lineares de Tempo Contínu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824280" y="2349360"/>
                <a:ext cx="13096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5" name=""/>
          <p:cNvGrpSpPr/>
          <p:nvPr/>
        </p:nvGrpSpPr>
        <p:grpSpPr>
          <a:xfrm>
            <a:off x="1151640" y="3340080"/>
            <a:ext cx="2795760" cy="2201040"/>
            <a:chOff x="1151640" y="3340080"/>
            <a:chExt cx="2795760" cy="2201040"/>
          </a:xfrm>
        </p:grpSpPr>
        <p:sp>
          <p:nvSpPr>
            <p:cNvPr id="666" name=""/>
            <p:cNvSpPr/>
            <p:nvPr/>
          </p:nvSpPr>
          <p:spPr>
            <a:xfrm flipH="1">
              <a:off x="2647800" y="3340080"/>
              <a:ext cx="1198800" cy="76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51640" y="4349880"/>
              <a:ext cx="2795760" cy="119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rificação 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uto-valores do 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eariz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congelados no 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908600" y="3333600"/>
            <a:ext cx="3289320" cy="1925280"/>
            <a:chOff x="4908600" y="3333600"/>
            <a:chExt cx="3289320" cy="1925280"/>
          </a:xfrm>
        </p:grpSpPr>
        <p:sp>
          <p:nvSpPr>
            <p:cNvPr id="669" name=""/>
            <p:cNvSpPr/>
            <p:nvPr/>
          </p:nvSpPr>
          <p:spPr>
            <a:xfrm>
              <a:off x="4992840" y="3333600"/>
              <a:ext cx="1198440" cy="76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08600" y="4341960"/>
              <a:ext cx="328932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studo direto verificand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 a "energia" do sistema decai com o t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67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3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97560" y="137016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932120" y="1965240"/>
                <a:ext cx="10047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5738760" y="2465280"/>
                <a:ext cx="4143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081920" y="2340000"/>
                <a:ext cx="13698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5153040" y="28605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consid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6432480" y="2868480"/>
                <a:ext cx="1244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5142960" y="244152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ja           tal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1386000" y="3149640"/>
                <a:ext cx="22064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ξ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487440" y="4303800"/>
                <a:ext cx="4016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Δ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e>
                    </m:d>
                    <m:r>
                      <m:t xml:space="preserve">Δx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643040" y="5545080"/>
                <a:ext cx="15987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Δ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m</m:t>
                            </m:r>
                          </m:sub>
                        </m:sSub>
                      </m:e>
                    </m:d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2413080" y="2585880"/>
            <a:ext cx="0" cy="5065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92200" y="3676680"/>
            <a:ext cx="0" cy="5065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78160" y="4889520"/>
            <a:ext cx="0" cy="5065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16200000">
            <a:off x="2506680" y="5725800"/>
            <a:ext cx="190440" cy="692280"/>
          </a:xfrm>
          <a:custGeom>
            <a:avLst/>
            <a:gdLst>
              <a:gd name="textAreaLeft" fmla="*/ 121680 w 190440"/>
              <a:gd name="textAreaRight" fmla="*/ 190800 w 190440"/>
              <a:gd name="textAreaTop" fmla="*/ 18000 h 692280"/>
              <a:gd name="textAreaBottom" fmla="*/ 674280 h 69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5"/>
                </a:lnTo>
                <a:cubicBezTo>
                  <a:pt x="10800" y="9925"/>
                  <a:pt x="5400" y="10825"/>
                  <a:pt x="0" y="10825"/>
                </a:cubicBezTo>
                <a:cubicBezTo>
                  <a:pt x="5400" y="10825"/>
                  <a:pt x="10800" y="11725"/>
                  <a:pt x="10800" y="126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38280" y="6194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22800" y="3718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y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43320" y="3900600"/>
            <a:ext cx="2452680" cy="0"/>
          </a:xfrm>
          <a:prstGeom prst="line">
            <a:avLst/>
          </a:prstGeom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51240" y="2752560"/>
            <a:ext cx="2452680" cy="0"/>
          </a:xfrm>
          <a:prstGeom prst="line">
            <a:avLst/>
          </a:prstGeom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38840" y="2341440"/>
            <a:ext cx="3592440" cy="909720"/>
          </a:xfrm>
          <a:prstGeom prst="rect">
            <a:avLst/>
          </a:prstGeom>
          <a:noFill/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24440" y="3552840"/>
            <a:ext cx="1239840" cy="679320"/>
          </a:xfrm>
          <a:prstGeom prst="rect">
            <a:avLst/>
          </a:prstGeom>
          <a:noFill/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69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7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670120" y="2273400"/>
            <a:ext cx="4027680" cy="3730320"/>
            <a:chOff x="2670120" y="2273400"/>
            <a:chExt cx="4027680" cy="3730320"/>
          </a:xfrm>
        </p:grpSpPr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2696400" y="2273400"/>
                  <a:ext cx="3764880" cy="167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λ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1" name=""/>
                <p:cNvSpPr txBox="1"/>
                <p:nvPr/>
              </p:nvSpPr>
              <p:spPr>
                <a:xfrm>
                  <a:off x="2670120" y="4038480"/>
                  <a:ext cx="4027680" cy="196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sθ</m:t>
                              </m:r>
                            </m:num>
                            <m:den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λ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0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4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"/>
          <p:cNvSpPr/>
          <p:nvPr/>
        </p:nvSpPr>
        <p:spPr>
          <a:xfrm>
            <a:off x="1695600" y="1387440"/>
            <a:ext cx="67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ilidade no Modelo da Infecção por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249640" y="5153040"/>
            <a:ext cx="4373280" cy="73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2214720" y="2409840"/>
            <a:ext cx="5300640" cy="170172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776160" y="165564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tos de Equilíb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10840" y="5099040"/>
            <a:ext cx="422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(462.828; 0; 0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(4.07; 13.1; 131.04; 1072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(-70.62; 0; 0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438800" y="4232160"/>
            <a:ext cx="0" cy="698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1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4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777000" y="5189400"/>
            <a:ext cx="662040" cy="23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33600" y="1644480"/>
            <a:ext cx="360360" cy="26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59600" y="5146560"/>
            <a:ext cx="14472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21200" y="1630440"/>
            <a:ext cx="6634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539720" y="2100240"/>
          <a:ext cx="515304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2100240"/>
                    <a:ext cx="51530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"/>
          <p:cNvSpPr/>
          <p:nvPr/>
        </p:nvSpPr>
        <p:spPr>
          <a:xfrm>
            <a:off x="6266160" y="5137200"/>
            <a:ext cx="199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= (462.828; 0; 0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26000" y="1609560"/>
            <a:ext cx="291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t-BR" sz="16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= (4.07; 13.1; 131.04; 10724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568600" y="1978200"/>
            <a:ext cx="620640" cy="518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5772240" y="5383080"/>
            <a:ext cx="403200" cy="433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580080" y="5737320"/>
            <a:ext cx="362160" cy="40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63720" y="1646280"/>
            <a:ext cx="37476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2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0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224080" y="3218040"/>
            <a:ext cx="5070240" cy="2882880"/>
            <a:chOff x="2224080" y="3218040"/>
            <a:chExt cx="5070240" cy="2882880"/>
          </a:xfrm>
        </p:grpSpPr>
        <p:pic>
          <p:nvPicPr>
            <p:cNvPr id="733" name="" descr=""/>
            <p:cNvPicPr/>
            <p:nvPr/>
          </p:nvPicPr>
          <p:blipFill>
            <a:blip r:embed="rId1"/>
            <a:stretch/>
          </p:blipFill>
          <p:spPr>
            <a:xfrm>
              <a:off x="2224080" y="3218040"/>
              <a:ext cx="5070240" cy="14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" descr=""/>
            <p:cNvPicPr/>
            <p:nvPr/>
          </p:nvPicPr>
          <p:blipFill>
            <a:blip r:embed="rId2"/>
            <a:stretch/>
          </p:blipFill>
          <p:spPr>
            <a:xfrm>
              <a:off x="2570040" y="4829400"/>
              <a:ext cx="4016160" cy="12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5" name=""/>
          <p:cNvGrpSpPr/>
          <p:nvPr/>
        </p:nvGrpSpPr>
        <p:grpSpPr>
          <a:xfrm>
            <a:off x="3700440" y="1414440"/>
            <a:ext cx="3500640" cy="1096920"/>
            <a:chOff x="3700440" y="1414440"/>
            <a:chExt cx="3500640" cy="1096920"/>
          </a:xfrm>
        </p:grpSpPr>
        <p:pic>
          <p:nvPicPr>
            <p:cNvPr id="736" name="" descr=""/>
            <p:cNvPicPr/>
            <p:nvPr/>
          </p:nvPicPr>
          <p:blipFill>
            <a:blip r:embed="rId3"/>
            <a:stretch/>
          </p:blipFill>
          <p:spPr>
            <a:xfrm>
              <a:off x="3700440" y="1633680"/>
              <a:ext cx="318168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5367600" y="1414440"/>
              <a:ext cx="1833480" cy="10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502160" y="2454120"/>
            <a:ext cx="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4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1" name="ASA_CO13" descr=""/>
            <p:cNvPicPr/>
            <p:nvPr/>
          </p:nvPicPr>
          <p:blipFill>
            <a:blip r:embed="rId4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800680" y="3290760"/>
            <a:ext cx="1630440" cy="37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11480" y="2489040"/>
            <a:ext cx="23403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13 + 1.35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13 - 1.35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0.1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781240" y="4419720"/>
            <a:ext cx="26452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439 + 0.189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2.439 – 0.189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0.77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-0.03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09200" y="3036960"/>
            <a:ext cx="28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(462.828; 0; 0;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8960" y="4940280"/>
            <a:ext cx="42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= (4.07; 13.1; 131.04; 1072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45920" y="139068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va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11880" y="2525760"/>
            <a:ext cx="374400" cy="1487520"/>
          </a:xfrm>
          <a:custGeom>
            <a:avLst/>
            <a:gdLst>
              <a:gd name="textAreaLeft" fmla="*/ 239400 w 374400"/>
              <a:gd name="textAreaRight" fmla="*/ 374760 w 374400"/>
              <a:gd name="textAreaTop" fmla="*/ 38520 h 1487520"/>
              <a:gd name="textAreaBottom" fmla="*/ 1449000 h 14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419800" y="4497480"/>
            <a:ext cx="374400" cy="1487520"/>
          </a:xfrm>
          <a:custGeom>
            <a:avLst/>
            <a:gdLst>
              <a:gd name="textAreaLeft" fmla="*/ 239400 w 374400"/>
              <a:gd name="textAreaRight" fmla="*/ 374760 w 374400"/>
              <a:gd name="textAreaTop" fmla="*/ 38520 h 1487520"/>
              <a:gd name="textAreaBottom" fmla="*/ 1449000 h 14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35600" y="5237280"/>
            <a:ext cx="3747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703680" y="3282840"/>
            <a:ext cx="15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41600" y="378288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nst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2019240" y="211464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5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7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36200" y="341784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Ó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61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620080" y="133524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521000" y="3705120"/>
            <a:ext cx="3025440" cy="704880"/>
            <a:chOff x="1521000" y="3705120"/>
            <a:chExt cx="3025440" cy="704880"/>
          </a:xfrm>
        </p:grpSpPr>
        <p:grpSp>
          <p:nvGrpSpPr>
            <p:cNvPr id="765" name=""/>
            <p:cNvGrpSpPr/>
            <p:nvPr/>
          </p:nvGrpSpPr>
          <p:grpSpPr>
            <a:xfrm>
              <a:off x="2297160" y="3705120"/>
              <a:ext cx="1322280" cy="704880"/>
              <a:chOff x="2297160" y="3705120"/>
              <a:chExt cx="1322280" cy="704880"/>
            </a:xfrm>
          </p:grpSpPr>
          <p:sp>
            <p:nvSpPr>
              <p:cNvPr id="766" name=""/>
              <p:cNvSpPr/>
              <p:nvPr/>
            </p:nvSpPr>
            <p:spPr>
              <a:xfrm>
                <a:off x="2297160" y="3705120"/>
                <a:ext cx="1322280" cy="70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453760" y="3760920"/>
                <a:ext cx="109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stem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nâm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1521000" y="4039920"/>
              <a:ext cx="7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30600" y="4033800"/>
              <a:ext cx="91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500120" y="366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87440" y="36608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855800" y="2090880"/>
            <a:ext cx="2119320" cy="1990080"/>
            <a:chOff x="1855800" y="2090880"/>
            <a:chExt cx="2119320" cy="1990080"/>
          </a:xfrm>
        </p:grpSpPr>
        <p:sp>
          <p:nvSpPr>
            <p:cNvPr id="773" name=""/>
            <p:cNvSpPr/>
            <p:nvPr/>
          </p:nvSpPr>
          <p:spPr>
            <a:xfrm>
              <a:off x="2616120" y="209088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[u,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90680" y="2712960"/>
              <a:ext cx="1322640" cy="70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54040" y="2768400"/>
              <a:ext cx="122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cul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Cus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890720" y="3077640"/>
              <a:ext cx="0" cy="96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90720" y="308736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19440" y="308736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936960" y="3078000"/>
              <a:ext cx="0" cy="96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55800" y="4005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98800" y="3998880"/>
              <a:ext cx="76320" cy="75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2973240" y="2465280"/>
              <a:ext cx="0" cy="24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957200" y="5430960"/>
            <a:ext cx="2048400" cy="876240"/>
            <a:chOff x="4957200" y="5430960"/>
            <a:chExt cx="2048400" cy="876240"/>
          </a:xfrm>
        </p:grpSpPr>
        <p:sp>
          <p:nvSpPr>
            <p:cNvPr id="784" name=""/>
            <p:cNvSpPr/>
            <p:nvPr/>
          </p:nvSpPr>
          <p:spPr>
            <a:xfrm>
              <a:off x="4957200" y="5430960"/>
              <a:ext cx="76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Obter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5" name=""/>
            <p:cNvGraphicFramePr/>
            <p:nvPr/>
          </p:nvGraphicFramePr>
          <p:xfrm>
            <a:off x="5241960" y="5880240"/>
            <a:ext cx="1763640" cy="42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41960" y="5880240"/>
                      <a:ext cx="176364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7" name=""/>
          <p:cNvGrpSpPr/>
          <p:nvPr/>
        </p:nvGrpSpPr>
        <p:grpSpPr>
          <a:xfrm>
            <a:off x="4920840" y="2112840"/>
            <a:ext cx="3232440" cy="2903400"/>
            <a:chOff x="4920840" y="2112840"/>
            <a:chExt cx="3232440" cy="2903400"/>
          </a:xfrm>
        </p:grpSpPr>
        <p:sp>
          <p:nvSpPr>
            <p:cNvPr id="788" name=""/>
            <p:cNvSpPr/>
            <p:nvPr/>
          </p:nvSpPr>
          <p:spPr>
            <a:xfrm>
              <a:off x="4920840" y="2112840"/>
              <a:ext cx="271044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Dad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) Um sistema dinâm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) Um índice de desempenho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9" name=""/>
            <p:cNvGraphicFramePr/>
            <p:nvPr/>
          </p:nvGraphicFramePr>
          <p:xfrm>
            <a:off x="5659560" y="3095640"/>
            <a:ext cx="1197000" cy="83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9560" y="3095640"/>
                      <a:ext cx="1197000" cy="83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5076720" y="4552920"/>
                  <a:ext cx="307656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[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θ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u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2" name=""/>
          <p:cNvSpPr/>
          <p:nvPr/>
        </p:nvSpPr>
        <p:spPr>
          <a:xfrm>
            <a:off x="1581120" y="5364000"/>
            <a:ext cx="2347920" cy="757440"/>
          </a:xfrm>
          <a:prstGeom prst="wedgeRoundRectCallout">
            <a:avLst>
              <a:gd name="adj1" fmla="val 90634"/>
              <a:gd name="adj2" fmla="val -12442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timização 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spaço de Fun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95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ASA_CO13" descr=""/>
            <p:cNvPicPr/>
            <p:nvPr/>
          </p:nvPicPr>
          <p:blipFill>
            <a:blip r:embed="rId5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92520" y="1668600"/>
            <a:ext cx="55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da Teoria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enharia Bio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4840" y="3252960"/>
            <a:ext cx="3765600" cy="119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7" y="2009"/>
                </a:moveTo>
                <a:lnTo>
                  <a:pt x="23959" y="2009"/>
                </a:lnTo>
                <a:lnTo>
                  <a:pt x="23959" y="-9098"/>
                </a:lnTo>
                <a:lnTo>
                  <a:pt x="13149" y="-21613"/>
                </a:lnTo>
              </a:path>
              <a:path w="21600" h="21600">
                <a:moveTo>
                  <a:pt x="22037" y="0"/>
                </a:moveTo>
                <a:lnTo>
                  <a:pt x="22037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ar = Atuar sobre um Sistema Físico, de modo que o seu compotamento satisfaça as Especificações de Desempen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6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0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1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2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1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1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2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354760" y="2600280"/>
            <a:ext cx="4255200" cy="662040"/>
            <a:chOff x="2354760" y="2600280"/>
            <a:chExt cx="4255200" cy="662040"/>
          </a:xfrm>
        </p:grpSpPr>
        <p:sp>
          <p:nvSpPr>
            <p:cNvPr id="815" name=""/>
            <p:cNvSpPr/>
            <p:nvPr/>
          </p:nvSpPr>
          <p:spPr>
            <a:xfrm>
              <a:off x="2354760" y="2600280"/>
              <a:ext cx="28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Definir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16" name=""/>
            <p:cNvGraphicFramePr/>
            <p:nvPr/>
          </p:nvGraphicFramePr>
          <p:xfrm>
            <a:off x="3039120" y="2936880"/>
            <a:ext cx="3570840" cy="3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9120" y="2936880"/>
                      <a:ext cx="35708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2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1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2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354760" y="2600280"/>
            <a:ext cx="4255200" cy="662040"/>
            <a:chOff x="2354760" y="2600280"/>
            <a:chExt cx="4255200" cy="662040"/>
          </a:xfrm>
        </p:grpSpPr>
        <p:sp>
          <p:nvSpPr>
            <p:cNvPr id="825" name=""/>
            <p:cNvSpPr/>
            <p:nvPr/>
          </p:nvSpPr>
          <p:spPr>
            <a:xfrm>
              <a:off x="2354760" y="2600280"/>
              <a:ext cx="28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Definir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26" name=""/>
            <p:cNvGraphicFramePr/>
            <p:nvPr/>
          </p:nvGraphicFramePr>
          <p:xfrm>
            <a:off x="3039120" y="2936880"/>
            <a:ext cx="3570840" cy="3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9120" y="2936880"/>
                      <a:ext cx="35708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8" name=""/>
          <p:cNvGrpSpPr/>
          <p:nvPr/>
        </p:nvGrpSpPr>
        <p:grpSpPr>
          <a:xfrm>
            <a:off x="2300400" y="3348000"/>
            <a:ext cx="6115320" cy="792000"/>
            <a:chOff x="2300400" y="3348000"/>
            <a:chExt cx="6115320" cy="792000"/>
          </a:xfrm>
        </p:grpSpPr>
        <p:sp>
          <p:nvSpPr>
            <p:cNvPr id="829" name=""/>
            <p:cNvSpPr/>
            <p:nvPr/>
          </p:nvSpPr>
          <p:spPr>
            <a:xfrm>
              <a:off x="2300400" y="3348000"/>
              <a:ext cx="611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Obter a expressão d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 que maximiza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0" name=""/>
            <p:cNvGraphicFramePr/>
            <p:nvPr/>
          </p:nvGraphicFramePr>
          <p:xfrm>
            <a:off x="2909880" y="3686400"/>
            <a:ext cx="2207520" cy="45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9880" y="3686400"/>
                      <a:ext cx="2207520" cy="4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2" name=""/>
          <p:cNvGrpSpPr/>
          <p:nvPr/>
        </p:nvGrpSpPr>
        <p:grpSpPr>
          <a:xfrm>
            <a:off x="5398920" y="3726000"/>
            <a:ext cx="2630520" cy="349200"/>
            <a:chOff x="5398920" y="3726000"/>
            <a:chExt cx="2630520" cy="349200"/>
          </a:xfrm>
        </p:grpSpPr>
        <p:graphicFrame>
          <p:nvGraphicFramePr>
            <p:cNvPr id="833" name=""/>
            <p:cNvGraphicFramePr/>
            <p:nvPr/>
          </p:nvGraphicFramePr>
          <p:xfrm>
            <a:off x="5973840" y="3726000"/>
            <a:ext cx="2055600" cy="34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73840" y="3726000"/>
                      <a:ext cx="205560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5" name=""/>
            <p:cNvSpPr/>
            <p:nvPr/>
          </p:nvSpPr>
          <p:spPr>
            <a:xfrm>
              <a:off x="5398920" y="3882960"/>
              <a:ext cx="46044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38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9" name="ASA_CO13" descr=""/>
            <p:cNvPicPr/>
            <p:nvPr/>
          </p:nvPicPr>
          <p:blipFill>
            <a:blip r:embed="rId7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0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2354760" y="2600280"/>
            <a:ext cx="4255200" cy="662040"/>
            <a:chOff x="2354760" y="2600280"/>
            <a:chExt cx="4255200" cy="662040"/>
          </a:xfrm>
        </p:grpSpPr>
        <p:sp>
          <p:nvSpPr>
            <p:cNvPr id="843" name=""/>
            <p:cNvSpPr/>
            <p:nvPr/>
          </p:nvSpPr>
          <p:spPr>
            <a:xfrm>
              <a:off x="2354760" y="2600280"/>
              <a:ext cx="288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Definir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4" name=""/>
            <p:cNvGraphicFramePr/>
            <p:nvPr/>
          </p:nvGraphicFramePr>
          <p:xfrm>
            <a:off x="3039120" y="2936880"/>
            <a:ext cx="3570840" cy="3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39120" y="2936880"/>
                      <a:ext cx="357084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6" name=""/>
          <p:cNvGrpSpPr/>
          <p:nvPr/>
        </p:nvGrpSpPr>
        <p:grpSpPr>
          <a:xfrm>
            <a:off x="2300400" y="3348000"/>
            <a:ext cx="6115320" cy="792000"/>
            <a:chOff x="2300400" y="3348000"/>
            <a:chExt cx="6115320" cy="792000"/>
          </a:xfrm>
        </p:grpSpPr>
        <p:sp>
          <p:nvSpPr>
            <p:cNvPr id="847" name=""/>
            <p:cNvSpPr/>
            <p:nvPr/>
          </p:nvSpPr>
          <p:spPr>
            <a:xfrm>
              <a:off x="2300400" y="3348000"/>
              <a:ext cx="611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Obter a expressão d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 que maximiza o Hamilton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8" name=""/>
            <p:cNvGraphicFramePr/>
            <p:nvPr/>
          </p:nvGraphicFramePr>
          <p:xfrm>
            <a:off x="2909880" y="3686400"/>
            <a:ext cx="2207520" cy="45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9880" y="3686400"/>
                      <a:ext cx="2207520" cy="45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0" name=""/>
          <p:cNvSpPr/>
          <p:nvPr/>
        </p:nvSpPr>
        <p:spPr>
          <a:xfrm>
            <a:off x="2360520" y="4129200"/>
            <a:ext cx="22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Calcula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398920" y="3726000"/>
            <a:ext cx="2630520" cy="349200"/>
            <a:chOff x="5398920" y="3726000"/>
            <a:chExt cx="2630520" cy="349200"/>
          </a:xfrm>
        </p:grpSpPr>
        <p:graphicFrame>
          <p:nvGraphicFramePr>
            <p:cNvPr id="852" name=""/>
            <p:cNvGraphicFramePr/>
            <p:nvPr/>
          </p:nvGraphicFramePr>
          <p:xfrm>
            <a:off x="5973840" y="3726000"/>
            <a:ext cx="2055600" cy="34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73840" y="3726000"/>
                      <a:ext cx="205560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5398920" y="3882960"/>
              <a:ext cx="46044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6421320" y="5013360"/>
            <a:ext cx="1704240" cy="1139760"/>
            <a:chOff x="6421320" y="5013360"/>
            <a:chExt cx="1704240" cy="1139760"/>
          </a:xfrm>
        </p:grpSpPr>
        <p:grpSp>
          <p:nvGrpSpPr>
            <p:cNvPr id="856" name=""/>
            <p:cNvGrpSpPr/>
            <p:nvPr/>
          </p:nvGrpSpPr>
          <p:grpSpPr>
            <a:xfrm>
              <a:off x="6421320" y="5013360"/>
              <a:ext cx="658440" cy="1139760"/>
              <a:chOff x="6421320" y="5013360"/>
              <a:chExt cx="658440" cy="1139760"/>
            </a:xfrm>
          </p:grpSpPr>
          <p:sp>
            <p:nvSpPr>
              <p:cNvPr id="857" name=""/>
              <p:cNvSpPr/>
              <p:nvPr/>
            </p:nvSpPr>
            <p:spPr>
              <a:xfrm flipH="1">
                <a:off x="6421320" y="6115320"/>
                <a:ext cx="62064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459120" y="5045040"/>
                <a:ext cx="62064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041960" y="5013360"/>
                <a:ext cx="0" cy="113976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7111080" y="5367600"/>
              <a:ext cx="101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PBV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495680" y="4191120"/>
                <a:ext cx="22100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λ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4495680" y="5257800"/>
                <a:ext cx="22100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65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6" name="ASA_CO13" descr=""/>
            <p:cNvPicPr/>
            <p:nvPr/>
          </p:nvPicPr>
          <p:blipFill>
            <a:blip r:embed="rId7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PONTRIAG" descr=""/>
          <p:cNvPicPr/>
          <p:nvPr/>
        </p:nvPicPr>
        <p:blipFill>
          <a:blip r:embed="rId1"/>
          <a:stretch/>
        </p:blipFill>
        <p:spPr>
          <a:xfrm>
            <a:off x="1784520" y="2716200"/>
            <a:ext cx="5762520" cy="3454560"/>
          </a:xfrm>
          <a:prstGeom prst="rect">
            <a:avLst/>
          </a:prstGeom>
          <a:ln w="0">
            <a:noFill/>
          </a:ln>
        </p:spPr>
      </p:pic>
      <p:grpSp>
        <p:nvGrpSpPr>
          <p:cNvPr id="87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7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8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2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8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8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9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0600" y="320040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efinir o Hamiltonia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971800" y="3657600"/>
          <a:ext cx="36068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657600"/>
                    <a:ext cx="3606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89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8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2971800" y="4724280"/>
          <a:ext cx="294624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724280"/>
                    <a:ext cx="29462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2280600" y="320040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efinir o Hamiltonia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2971800" y="3657600"/>
          <a:ext cx="36068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657600"/>
                    <a:ext cx="3606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2284200" y="419112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Resolver a ED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6002280" y="4648320"/>
            <a:ext cx="2359080" cy="1649520"/>
            <a:chOff x="6002280" y="4648320"/>
            <a:chExt cx="2359080" cy="1649520"/>
          </a:xfrm>
        </p:grpSpPr>
        <p:sp>
          <p:nvSpPr>
            <p:cNvPr id="909" name=""/>
            <p:cNvSpPr/>
            <p:nvPr/>
          </p:nvSpPr>
          <p:spPr>
            <a:xfrm>
              <a:off x="6002280" y="4648320"/>
              <a:ext cx="239760" cy="914400"/>
            </a:xfrm>
            <a:custGeom>
              <a:avLst/>
              <a:gdLst>
                <a:gd name="textAreaLeft" fmla="*/ 0 w 239760"/>
                <a:gd name="textAreaRight" fmla="*/ 86400 w 2397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65960" y="5473800"/>
              <a:ext cx="1895400" cy="82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68" y="2891"/>
                  </a:moveTo>
                  <a:lnTo>
                    <a:pt x="24929" y="2891"/>
                  </a:lnTo>
                  <a:lnTo>
                    <a:pt x="24929" y="-9234"/>
                  </a:lnTo>
                  <a:lnTo>
                    <a:pt x="-2494" y="-9640"/>
                  </a:lnTo>
                </a:path>
                <a:path w="21600" h="21600">
                  <a:moveTo>
                    <a:pt x="22468" y="0"/>
                  </a:moveTo>
                  <a:lnTo>
                    <a:pt x="22468" y="2160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Galerk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Elementos Fini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Diferenças Fini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91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4" name="ASA_CO13" descr=""/>
            <p:cNvPicPr/>
            <p:nvPr/>
          </p:nvPicPr>
          <p:blipFill>
            <a:blip r:embed="rId5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92520" y="1668600"/>
            <a:ext cx="55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da Teoria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enharia Bio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4840" y="3252960"/>
            <a:ext cx="3765600" cy="119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7" y="2009"/>
                </a:moveTo>
                <a:lnTo>
                  <a:pt x="23959" y="2009"/>
                </a:lnTo>
                <a:lnTo>
                  <a:pt x="23959" y="-9098"/>
                </a:lnTo>
                <a:lnTo>
                  <a:pt x="13149" y="-21613"/>
                </a:lnTo>
              </a:path>
              <a:path w="21600" h="21600">
                <a:moveTo>
                  <a:pt x="22037" y="0"/>
                </a:moveTo>
                <a:lnTo>
                  <a:pt x="22037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Controlar = Atuar sobre 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Físico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, de modo que o seu compotamento satisfaça as Especificações de Desempen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38680" y="5021280"/>
            <a:ext cx="304308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41" y="2588"/>
                </a:moveTo>
                <a:lnTo>
                  <a:pt x="-3786" y="2588"/>
                </a:lnTo>
                <a:lnTo>
                  <a:pt x="-3786" y="-12040"/>
                </a:lnTo>
                <a:lnTo>
                  <a:pt x="3130" y="-28746"/>
                </a:lnTo>
              </a:path>
              <a:path w="21600" h="21600">
                <a:moveTo>
                  <a:pt x="-541" y="0"/>
                </a:moveTo>
                <a:lnTo>
                  <a:pt x="-541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Fís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arte do Universo sobre a qual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a a aten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921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2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3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27600" y="3705120"/>
            <a:ext cx="65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Escolher uma base para o Espaço de Controles Admissív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822400" y="4076640"/>
            <a:ext cx="317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= span{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4006800" y="4494240"/>
            <a:ext cx="4079880" cy="1675800"/>
            <a:chOff x="4006800" y="4494240"/>
            <a:chExt cx="4079880" cy="1675800"/>
          </a:xfrm>
        </p:grpSpPr>
        <p:sp>
          <p:nvSpPr>
            <p:cNvPr id="930" name=""/>
            <p:cNvSpPr/>
            <p:nvPr/>
          </p:nvSpPr>
          <p:spPr>
            <a:xfrm rot="5400000">
              <a:off x="4387680" y="411300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575240" y="5253120"/>
              <a:ext cx="3511440" cy="91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469" y="2614"/>
                  </a:moveTo>
                  <a:lnTo>
                    <a:pt x="-3203" y="2614"/>
                  </a:lnTo>
                  <a:lnTo>
                    <a:pt x="-3203" y="-4865"/>
                  </a:lnTo>
                  <a:lnTo>
                    <a:pt x="-682" y="-14310"/>
                  </a:lnTo>
                </a:path>
                <a:path w="21600" h="21600">
                  <a:moveTo>
                    <a:pt x="-469" y="0"/>
                  </a:moveTo>
                  <a:lnTo>
                    <a:pt x="-469" y="2160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Senos, Cossenos, Exponenci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Hermite, Lagrange, Laguerre,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Wave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93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5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6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27600" y="3705120"/>
            <a:ext cx="65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Escolher uma base para o Espaço de Controles Admissív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22400" y="4076640"/>
            <a:ext cx="317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= span{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36240" y="459432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crever u(t) como combinação linear truncada d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802960" y="5043600"/>
            <a:ext cx="297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+ ...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94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7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8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94320" y="2133720"/>
            <a:ext cx="423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1. Princípio do Máximo de Pontrya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899720" y="274320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2. Princípio da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95760" y="327672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. Busca Direta por Soluções Sub-ót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27600" y="3705120"/>
            <a:ext cx="65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Escolher uma base para o Espaço de Controles Admissíve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22400" y="4076640"/>
            <a:ext cx="317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= span{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6240" y="4594320"/>
            <a:ext cx="61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crever u(t) como combinação linear truncada de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02960" y="5043600"/>
            <a:ext cx="297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(t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+ ...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157200" y="5851440"/>
            <a:ext cx="289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ub-Ótim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J[u,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57840" y="5468760"/>
            <a:ext cx="34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Considerar otimização no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96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1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2" name=""/>
          <p:cNvSpPr/>
          <p:nvPr/>
        </p:nvSpPr>
        <p:spPr>
          <a:xfrm>
            <a:off x="1451160" y="141120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 de Problemas de Controle 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"/>
          <p:cNvGrpSpPr/>
          <p:nvPr/>
        </p:nvGrpSpPr>
        <p:grpSpPr>
          <a:xfrm>
            <a:off x="1450800" y="3583080"/>
            <a:ext cx="3025440" cy="704880"/>
            <a:chOff x="1450800" y="3583080"/>
            <a:chExt cx="3025440" cy="704880"/>
          </a:xfrm>
        </p:grpSpPr>
        <p:grpSp>
          <p:nvGrpSpPr>
            <p:cNvPr id="964" name=""/>
            <p:cNvGrpSpPr/>
            <p:nvPr/>
          </p:nvGrpSpPr>
          <p:grpSpPr>
            <a:xfrm>
              <a:off x="2226960" y="3583080"/>
              <a:ext cx="1322280" cy="704880"/>
              <a:chOff x="2226960" y="3583080"/>
              <a:chExt cx="1322280" cy="704880"/>
            </a:xfrm>
          </p:grpSpPr>
          <p:sp>
            <p:nvSpPr>
              <p:cNvPr id="965" name=""/>
              <p:cNvSpPr/>
              <p:nvPr/>
            </p:nvSpPr>
            <p:spPr>
              <a:xfrm>
                <a:off x="2226960" y="3583080"/>
                <a:ext cx="1322280" cy="70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383560" y="3638880"/>
                <a:ext cx="109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stem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nâm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1450800" y="3917880"/>
              <a:ext cx="7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560400" y="3911760"/>
              <a:ext cx="91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1430280" y="3544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017600" y="3538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20840" y="2590920"/>
            <a:ext cx="132264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84200" y="2646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C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1820880" y="2955960"/>
            <a:ext cx="0" cy="9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0880" y="296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549600" y="296532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67120" y="2955960"/>
            <a:ext cx="0" cy="9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85960" y="3882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28960" y="38768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2903400" y="2342880"/>
            <a:ext cx="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851000" y="1944720"/>
            <a:ext cx="2710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ad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Um sistema dinâ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Um índice de desempenho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5589720" y="2927520"/>
          <a:ext cx="1197000" cy="83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9720" y="2927520"/>
                    <a:ext cx="119700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>
            <a:off x="4887360" y="5308560"/>
            <a:ext cx="76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Ob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33280" y="4753080"/>
            <a:ext cx="178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ub-Ót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46800" y="3865680"/>
            <a:ext cx="2541600" cy="370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(t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) + ... +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4826160" y="5748480"/>
          <a:ext cx="3652560" cy="42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6160" y="5748480"/>
                    <a:ext cx="36525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2091600" y="1946160"/>
            <a:ext cx="178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ub-Ót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620720" y="5396040"/>
            <a:ext cx="2171880" cy="642960"/>
          </a:xfrm>
          <a:prstGeom prst="wedgeRoundRectCallout">
            <a:avLst>
              <a:gd name="adj1" fmla="val 121490"/>
              <a:gd name="adj2" fmla="val -11419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timização no R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99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3" name="ASA_CO13" descr=""/>
            <p:cNvPicPr/>
            <p:nvPr/>
          </p:nvPicPr>
          <p:blipFill>
            <a:blip r:embed="rId5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4" name=""/>
          <p:cNvSpPr/>
          <p:nvPr/>
        </p:nvSpPr>
        <p:spPr>
          <a:xfrm>
            <a:off x="3305160" y="134136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Sub-ó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denguemap" descr=""/>
          <p:cNvPicPr/>
          <p:nvPr/>
        </p:nvPicPr>
        <p:blipFill>
          <a:blip r:embed="rId1"/>
          <a:stretch/>
        </p:blipFill>
        <p:spPr>
          <a:xfrm>
            <a:off x="1012680" y="1851120"/>
            <a:ext cx="7324920" cy="4717800"/>
          </a:xfrm>
          <a:prstGeom prst="rect">
            <a:avLst/>
          </a:prstGeom>
          <a:ln w="0">
            <a:noFill/>
          </a:ln>
        </p:spPr>
      </p:pic>
      <p:grpSp>
        <p:nvGrpSpPr>
          <p:cNvPr id="997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998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9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0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193760" y="1854360"/>
            <a:ext cx="7160760" cy="4705200"/>
            <a:chOff x="1193760" y="1854360"/>
            <a:chExt cx="7160760" cy="4705200"/>
          </a:xfrm>
        </p:grpSpPr>
        <p:pic>
          <p:nvPicPr>
            <p:cNvPr id="1003" name="dengue2001" descr=""/>
            <p:cNvPicPr/>
            <p:nvPr/>
          </p:nvPicPr>
          <p:blipFill>
            <a:blip r:embed="rId1"/>
            <a:stretch/>
          </p:blipFill>
          <p:spPr>
            <a:xfrm>
              <a:off x="1193760" y="1854360"/>
              <a:ext cx="7160760" cy="47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1217520" y="1868760"/>
              <a:ext cx="7090920" cy="46533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0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7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8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Aedesaegypti" descr=""/>
          <p:cNvPicPr/>
          <p:nvPr/>
        </p:nvPicPr>
        <p:blipFill>
          <a:blip r:embed="rId1"/>
          <a:stretch/>
        </p:blipFill>
        <p:spPr>
          <a:xfrm>
            <a:off x="1835280" y="2351160"/>
            <a:ext cx="5794200" cy="3727440"/>
          </a:xfrm>
          <a:prstGeom prst="rect">
            <a:avLst/>
          </a:prstGeom>
          <a:ln w="0">
            <a:noFill/>
          </a:ln>
        </p:spPr>
      </p:pic>
      <p:grpSp>
        <p:nvGrpSpPr>
          <p:cNvPr id="101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1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3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4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fumace" descr=""/>
          <p:cNvPicPr/>
          <p:nvPr/>
        </p:nvPicPr>
        <p:blipFill>
          <a:blip r:embed="rId1"/>
          <a:stretch/>
        </p:blipFill>
        <p:spPr>
          <a:xfrm>
            <a:off x="743040" y="2071800"/>
            <a:ext cx="4048200" cy="2784240"/>
          </a:xfrm>
          <a:prstGeom prst="rect">
            <a:avLst/>
          </a:prstGeom>
          <a:ln w="0">
            <a:noFill/>
          </a:ln>
        </p:spPr>
      </p:pic>
      <p:pic>
        <p:nvPicPr>
          <p:cNvPr id="1017" name="dengue2" descr=""/>
          <p:cNvPicPr/>
          <p:nvPr/>
        </p:nvPicPr>
        <p:blipFill>
          <a:blip r:embed="rId2"/>
          <a:stretch/>
        </p:blipFill>
        <p:spPr>
          <a:xfrm>
            <a:off x="4448160" y="3711600"/>
            <a:ext cx="4127400" cy="2751120"/>
          </a:xfrm>
          <a:prstGeom prst="rect">
            <a:avLst/>
          </a:prstGeom>
          <a:ln w="0">
            <a:noFill/>
          </a:ln>
        </p:spPr>
      </p:pic>
      <p:grpSp>
        <p:nvGrpSpPr>
          <p:cNvPr id="101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1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0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1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592360" y="5724360"/>
            <a:ext cx="4838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763720" y="2543040"/>
            <a:ext cx="0" cy="348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763360" y="3247560"/>
            <a:ext cx="4096080" cy="2486520"/>
            <a:chOff x="2763360" y="3247560"/>
            <a:chExt cx="4096080" cy="2486520"/>
          </a:xfrm>
        </p:grpSpPr>
        <p:sp>
          <p:nvSpPr>
            <p:cNvPr id="1026" name=""/>
            <p:cNvSpPr/>
            <p:nvPr/>
          </p:nvSpPr>
          <p:spPr>
            <a:xfrm flipV="1">
              <a:off x="3335040" y="4223520"/>
              <a:ext cx="0" cy="150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335040" y="4223880"/>
              <a:ext cx="419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754440" y="4226040"/>
              <a:ext cx="0" cy="150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668840" y="5029200"/>
              <a:ext cx="0" cy="704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87560" y="5044680"/>
              <a:ext cx="609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278320" y="5060160"/>
              <a:ext cx="0" cy="668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269040" y="3247560"/>
              <a:ext cx="0" cy="247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269040" y="3247920"/>
              <a:ext cx="2635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35440" y="3247920"/>
              <a:ext cx="0" cy="247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763360" y="5726520"/>
              <a:ext cx="571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754440" y="5726520"/>
              <a:ext cx="914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78320" y="5726520"/>
              <a:ext cx="97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535440" y="5726520"/>
              <a:ext cx="324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H="1">
            <a:off x="2668320" y="3247920"/>
            <a:ext cx="3467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687760" y="421956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2668680" y="5038560"/>
            <a:ext cx="1885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316320" y="58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51200" y="58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668840" y="58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272200" y="58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72280" y="5800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535800" y="5807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92480" y="22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06840" y="5175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137400" y="58546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537360" y="58546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214720" y="393048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2880" y="58546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72040" y="585468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443480" y="585468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05480" y="5854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195640" y="478800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233440" y="295920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61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2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92520" y="1668600"/>
            <a:ext cx="55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da Teoria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enharia Bio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4840" y="3252960"/>
            <a:ext cx="3765600" cy="119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7" y="2009"/>
                </a:moveTo>
                <a:lnTo>
                  <a:pt x="23959" y="2009"/>
                </a:lnTo>
                <a:lnTo>
                  <a:pt x="23959" y="-9098"/>
                </a:lnTo>
                <a:lnTo>
                  <a:pt x="13149" y="-21613"/>
                </a:lnTo>
              </a:path>
              <a:path w="21600" h="21600">
                <a:moveTo>
                  <a:pt x="22037" y="0"/>
                </a:moveTo>
                <a:lnTo>
                  <a:pt x="22037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Controlar = Atuar sobre 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Sistema Físico, de modo que o seu compotamento satisfaça 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pecificações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de Desempen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6240" y="3956040"/>
            <a:ext cx="2441520" cy="225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115" y="-1174"/>
                </a:moveTo>
                <a:lnTo>
                  <a:pt x="22274" y="1081"/>
                </a:lnTo>
              </a:path>
              <a:path w="21600" h="21600">
                <a:moveTo>
                  <a:pt x="22274" y="0"/>
                </a:moveTo>
                <a:lnTo>
                  <a:pt x="22274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pecific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rend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7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3024360" y="2128680"/>
                <a:ext cx="40384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64" name=""/>
          <p:cNvGraphicFramePr/>
          <p:nvPr/>
        </p:nvGraphicFramePr>
        <p:xfrm>
          <a:off x="2719440" y="2814480"/>
          <a:ext cx="4800600" cy="237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814480"/>
                    <a:ext cx="480060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"/>
          <p:cNvGraphicFramePr/>
          <p:nvPr/>
        </p:nvGraphicFramePr>
        <p:xfrm>
          <a:off x="1881360" y="5305320"/>
          <a:ext cx="5105160" cy="1173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1360" y="5305320"/>
                    <a:ext cx="510516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"/>
          <p:cNvSpPr/>
          <p:nvPr/>
        </p:nvSpPr>
        <p:spPr>
          <a:xfrm>
            <a:off x="1810080" y="2205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883880" y="27385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72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3" name="ASA_CO13" descr=""/>
            <p:cNvPicPr/>
            <p:nvPr/>
          </p:nvPicPr>
          <p:blipFill>
            <a:blip r:embed="rId5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4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5" name=""/>
          <p:cNvGraphicFramePr/>
          <p:nvPr/>
        </p:nvGraphicFramePr>
        <p:xfrm>
          <a:off x="1639800" y="2136600"/>
          <a:ext cx="6357960" cy="47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2136600"/>
                    <a:ext cx="635796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7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0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1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2" name=""/>
          <p:cNvGraphicFramePr/>
          <p:nvPr/>
        </p:nvGraphicFramePr>
        <p:xfrm>
          <a:off x="1676520" y="1852560"/>
          <a:ext cx="62085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52560"/>
                    <a:ext cx="62085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86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7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8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9" name=""/>
          <p:cNvGraphicFramePr/>
          <p:nvPr/>
        </p:nvGraphicFramePr>
        <p:xfrm>
          <a:off x="1727280" y="2060640"/>
          <a:ext cx="576900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2060640"/>
                    <a:ext cx="57690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9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4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"/>
          <p:cNvSpPr/>
          <p:nvPr/>
        </p:nvSpPr>
        <p:spPr>
          <a:xfrm>
            <a:off x="492120" y="135396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imização de Investimentos no Controle da De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998440" y="3417840"/>
            <a:ext cx="31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Robu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09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0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MODBUND" descr=""/>
          <p:cNvPicPr/>
          <p:nvPr/>
        </p:nvPicPr>
        <p:blipFill>
          <a:blip r:embed="rId1"/>
          <a:stretch/>
        </p:blipFill>
        <p:spPr>
          <a:xfrm>
            <a:off x="4441680" y="2241720"/>
            <a:ext cx="4272120" cy="1347480"/>
          </a:xfrm>
          <a:prstGeom prst="rect">
            <a:avLst/>
          </a:prstGeom>
          <a:ln w="0">
            <a:noFill/>
          </a:ln>
        </p:spPr>
      </p:pic>
      <p:grpSp>
        <p:nvGrpSpPr>
          <p:cNvPr id="1103" name=""/>
          <p:cNvGrpSpPr/>
          <p:nvPr/>
        </p:nvGrpSpPr>
        <p:grpSpPr>
          <a:xfrm>
            <a:off x="6291360" y="4603680"/>
            <a:ext cx="2012760" cy="1898640"/>
            <a:chOff x="6291360" y="4603680"/>
            <a:chExt cx="2012760" cy="1898640"/>
          </a:xfrm>
        </p:grpSpPr>
        <p:sp>
          <p:nvSpPr>
            <p:cNvPr id="1104" name=""/>
            <p:cNvSpPr/>
            <p:nvPr/>
          </p:nvSpPr>
          <p:spPr>
            <a:xfrm>
              <a:off x="7365960" y="5952960"/>
              <a:ext cx="938160" cy="54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91360" y="4603680"/>
              <a:ext cx="938160" cy="54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1053360" y="4584600"/>
            <a:ext cx="6174360" cy="671760"/>
            <a:chOff x="1053360" y="4584600"/>
            <a:chExt cx="6174360" cy="671760"/>
          </a:xfrm>
        </p:grpSpPr>
        <p:sp>
          <p:nvSpPr>
            <p:cNvPr id="1107" name=""/>
            <p:cNvSpPr/>
            <p:nvPr/>
          </p:nvSpPr>
          <p:spPr>
            <a:xfrm>
              <a:off x="1053360" y="4722840"/>
              <a:ext cx="32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streamento de Referência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4427640" y="4584600"/>
                  <a:ext cx="1231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R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 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09" name=""/>
            <p:cNvSpPr/>
            <p:nvPr/>
          </p:nvSpPr>
          <p:spPr>
            <a:xfrm>
              <a:off x="5754960" y="47242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0" name=""/>
                <p:cNvSpPr txBox="1"/>
                <p:nvPr/>
              </p:nvSpPr>
              <p:spPr>
                <a:xfrm>
                  <a:off x="6338880" y="4721400"/>
                  <a:ext cx="888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↓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1" name=""/>
          <p:cNvGrpSpPr/>
          <p:nvPr/>
        </p:nvGrpSpPr>
        <p:grpSpPr>
          <a:xfrm>
            <a:off x="1050840" y="5337000"/>
            <a:ext cx="6228000" cy="615960"/>
            <a:chOff x="1050840" y="5337000"/>
            <a:chExt cx="6228000" cy="615960"/>
          </a:xfrm>
        </p:grpSpPr>
        <p:sp>
          <p:nvSpPr>
            <p:cNvPr id="1112" name=""/>
            <p:cNvSpPr/>
            <p:nvPr/>
          </p:nvSpPr>
          <p:spPr>
            <a:xfrm>
              <a:off x="1050840" y="5454720"/>
              <a:ext cx="35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jeição de Distúrbios na Saída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3" name=""/>
                <p:cNvSpPr txBox="1"/>
                <p:nvPr/>
              </p:nvSpPr>
              <p:spPr>
                <a:xfrm>
                  <a:off x="4572000" y="5337000"/>
                  <a:ext cx="113040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D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 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4" name=""/>
            <p:cNvSpPr/>
            <p:nvPr/>
          </p:nvSpPr>
          <p:spPr>
            <a:xfrm>
              <a:off x="5805720" y="5452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5" name=""/>
                <p:cNvSpPr txBox="1"/>
                <p:nvPr/>
              </p:nvSpPr>
              <p:spPr>
                <a:xfrm>
                  <a:off x="6389640" y="5450040"/>
                  <a:ext cx="8892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↓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6" name=""/>
          <p:cNvGrpSpPr/>
          <p:nvPr/>
        </p:nvGrpSpPr>
        <p:grpSpPr>
          <a:xfrm>
            <a:off x="1057680" y="5983200"/>
            <a:ext cx="7230600" cy="633600"/>
            <a:chOff x="1057680" y="5983200"/>
            <a:chExt cx="7230600" cy="633600"/>
          </a:xfrm>
        </p:grpSpPr>
        <p:sp>
          <p:nvSpPr>
            <p:cNvPr id="1117" name=""/>
            <p:cNvSpPr/>
            <p:nvPr/>
          </p:nvSpPr>
          <p:spPr>
            <a:xfrm>
              <a:off x="1057680" y="6097680"/>
              <a:ext cx="33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jeição do Ruído de Medida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8" name=""/>
                <p:cNvSpPr txBox="1"/>
                <p:nvPr/>
              </p:nvSpPr>
              <p:spPr>
                <a:xfrm>
                  <a:off x="4540320" y="5983200"/>
                  <a:ext cx="117936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f>
                            <m:num>
                              <m:r>
                                <m:t xml:space="preserve">H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jω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 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9" name=""/>
                <p:cNvSpPr txBox="1"/>
                <p:nvPr/>
              </p:nvSpPr>
              <p:spPr>
                <a:xfrm>
                  <a:off x="6213600" y="6058080"/>
                  <a:ext cx="20746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↓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↑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0" name=""/>
            <p:cNvSpPr/>
            <p:nvPr/>
          </p:nvSpPr>
          <p:spPr>
            <a:xfrm>
              <a:off x="5707440" y="6032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050920" y="3206520"/>
            <a:ext cx="1730520" cy="1168560"/>
            <a:chOff x="2050920" y="3206520"/>
            <a:chExt cx="1730520" cy="1168560"/>
          </a:xfrm>
        </p:grpSpPr>
        <p:sp>
          <p:nvSpPr>
            <p:cNvPr id="1122" name=""/>
            <p:cNvSpPr/>
            <p:nvPr/>
          </p:nvSpPr>
          <p:spPr>
            <a:xfrm rot="16200000">
              <a:off x="2285280" y="3004200"/>
              <a:ext cx="230040" cy="63468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16560 h 634680"/>
                <a:gd name="textAreaBottom" fmla="*/ 618120 h 63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3348720" y="3011760"/>
              <a:ext cx="230040" cy="63504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16560 h 635040"/>
                <a:gd name="textAreaBottom" fmla="*/ 618480 h 63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4" name=""/>
                <p:cNvSpPr txBox="1"/>
                <p:nvPr/>
              </p:nvSpPr>
              <p:spPr>
                <a:xfrm>
                  <a:off x="2249640" y="3476520"/>
                  <a:ext cx="37944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3268800" y="3468600"/>
                  <a:ext cx="40464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6" name=""/>
                <p:cNvSpPr txBox="1"/>
                <p:nvPr/>
              </p:nvSpPr>
              <p:spPr>
                <a:xfrm>
                  <a:off x="2360520" y="4064040"/>
                  <a:ext cx="123048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7" name=""/>
            <p:cNvSpPr/>
            <p:nvPr/>
          </p:nvSpPr>
          <p:spPr>
            <a:xfrm rot="16200000">
              <a:off x="2793960" y="3033360"/>
              <a:ext cx="160200" cy="1646280"/>
            </a:xfrm>
            <a:custGeom>
              <a:avLst/>
              <a:gdLst>
                <a:gd name="textAreaLeft" fmla="*/ 102240 w 160200"/>
                <a:gd name="textAreaRight" fmla="*/ 160560 w 160200"/>
                <a:gd name="textAreaTop" fmla="*/ 42840 h 1646280"/>
                <a:gd name="textAreaBottom" fmla="*/ 1603440 h 16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439560" y="1658880"/>
            <a:ext cx="3738600" cy="1515960"/>
          </a:xfrm>
          <a:prstGeom prst="rect">
            <a:avLst/>
          </a:prstGeom>
          <a:ln w="0">
            <a:noFill/>
          </a:ln>
        </p:spPr>
      </p:pic>
      <p:grpSp>
        <p:nvGrpSpPr>
          <p:cNvPr id="1129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130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1" name="ASA_CO13" descr=""/>
            <p:cNvPicPr/>
            <p:nvPr/>
          </p:nvPicPr>
          <p:blipFill>
            <a:blip r:embed="rId3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2" name=""/>
          <p:cNvSpPr/>
          <p:nvPr/>
        </p:nvSpPr>
        <p:spPr>
          <a:xfrm>
            <a:off x="1954080" y="12826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Rob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4" name="incmli" descr=""/>
          <p:cNvPicPr/>
          <p:nvPr/>
        </p:nvPicPr>
        <p:blipFill>
          <a:blip r:embed="rId1"/>
          <a:stretch/>
        </p:blipFill>
        <p:spPr>
          <a:xfrm>
            <a:off x="2305080" y="1876320"/>
            <a:ext cx="46767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3319560" y="3303720"/>
                <a:ext cx="270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36" name=""/>
          <p:cNvGrpSpPr/>
          <p:nvPr/>
        </p:nvGrpSpPr>
        <p:grpSpPr>
          <a:xfrm>
            <a:off x="995040" y="4530600"/>
            <a:ext cx="5933160" cy="2123640"/>
            <a:chOff x="995040" y="4530600"/>
            <a:chExt cx="5933160" cy="2123640"/>
          </a:xfrm>
        </p:grpSpPr>
        <p:sp>
          <p:nvSpPr>
            <p:cNvPr id="1137" name=""/>
            <p:cNvSpPr/>
            <p:nvPr/>
          </p:nvSpPr>
          <p:spPr>
            <a:xfrm>
              <a:off x="2511360" y="4535640"/>
              <a:ext cx="4408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[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,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 e G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(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- 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/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8" name=""/>
                <p:cNvSpPr txBox="1"/>
                <p:nvPr/>
              </p:nvSpPr>
              <p:spPr>
                <a:xfrm>
                  <a:off x="2887560" y="4564080"/>
                  <a:ext cx="58104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REAL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39" name=""/>
            <p:cNvSpPr/>
            <p:nvPr/>
          </p:nvSpPr>
          <p:spPr>
            <a:xfrm>
              <a:off x="2516760" y="5140440"/>
              <a:ext cx="441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tão, fazendo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( 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ax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/(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+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435040" y="5711760"/>
              <a:ext cx="13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m-se qu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"/>
                <p:cNvSpPr txBox="1"/>
                <p:nvPr/>
              </p:nvSpPr>
              <p:spPr>
                <a:xfrm>
                  <a:off x="3725640" y="5600880"/>
                  <a:ext cx="298152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REAL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"/>
            <p:cNvSpPr/>
            <p:nvPr/>
          </p:nvSpPr>
          <p:spPr>
            <a:xfrm>
              <a:off x="2453400" y="6248520"/>
              <a:ext cx="23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de,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varia de -1 a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995040" y="453060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xempl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4038480" y="3944880"/>
                <a:ext cx="2421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5" name=""/>
          <p:cNvSpPr/>
          <p:nvPr/>
        </p:nvSpPr>
        <p:spPr>
          <a:xfrm flipH="1" flipV="1" rot="5400000">
            <a:off x="5125680" y="2951280"/>
            <a:ext cx="173160" cy="1631880"/>
          </a:xfrm>
          <a:custGeom>
            <a:avLst/>
            <a:gdLst>
              <a:gd name="textAreaLeft" fmla="*/ 110520 w 173160"/>
              <a:gd name="textAreaRight" fmla="*/ 173520 w 173160"/>
              <a:gd name="textAreaTop" fmla="*/ 42480 h 1631880"/>
              <a:gd name="textAreaBottom" fmla="*/ 1589400 h 16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14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8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"/>
          <p:cNvSpPr/>
          <p:nvPr/>
        </p:nvSpPr>
        <p:spPr>
          <a:xfrm>
            <a:off x="1954080" y="12826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Rob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1" name="incmli" descr=""/>
          <p:cNvPicPr/>
          <p:nvPr/>
        </p:nvPicPr>
        <p:blipFill>
          <a:blip r:embed="rId1"/>
          <a:stretch/>
        </p:blipFill>
        <p:spPr>
          <a:xfrm>
            <a:off x="2287440" y="1593720"/>
            <a:ext cx="46767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3273480" y="2948040"/>
                <a:ext cx="270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3" name=""/>
              <p:cNvSpPr txBox="1"/>
              <p:nvPr/>
            </p:nvSpPr>
            <p:spPr>
              <a:xfrm>
                <a:off x="3992400" y="3530520"/>
                <a:ext cx="2421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4" name=""/>
          <p:cNvSpPr/>
          <p:nvPr/>
        </p:nvSpPr>
        <p:spPr>
          <a:xfrm flipH="1" flipV="1" rot="5400000">
            <a:off x="5079600" y="2595600"/>
            <a:ext cx="173160" cy="1631880"/>
          </a:xfrm>
          <a:custGeom>
            <a:avLst/>
            <a:gdLst>
              <a:gd name="textAreaLeft" fmla="*/ 110520 w 173160"/>
              <a:gd name="textAreaRight" fmla="*/ 173520 w 173160"/>
              <a:gd name="textAreaTop" fmla="*/ 42480 h 1631880"/>
              <a:gd name="textAreaBottom" fmla="*/ 1589400 h 16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3476520" y="4921200"/>
                <a:ext cx="2529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Δ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num>
                          <m:den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den>
                        </m:f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ΔG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56" name=""/>
          <p:cNvGrpSpPr/>
          <p:nvPr/>
        </p:nvGrpSpPr>
        <p:grpSpPr>
          <a:xfrm>
            <a:off x="1397520" y="6091200"/>
            <a:ext cx="5990760" cy="476280"/>
            <a:chOff x="1397520" y="6091200"/>
            <a:chExt cx="5990760" cy="476280"/>
          </a:xfrm>
        </p:grpSpPr>
        <p:sp>
          <p:nvSpPr>
            <p:cNvPr id="1157" name=""/>
            <p:cNvSpPr/>
            <p:nvPr/>
          </p:nvSpPr>
          <p:spPr>
            <a:xfrm>
              <a:off x="6364440" y="6091200"/>
              <a:ext cx="1023840" cy="476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397520" y="6153120"/>
              <a:ext cx="50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empenho Robusto a Incertezas no Model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9" name=""/>
                <p:cNvSpPr txBox="1"/>
                <p:nvPr/>
              </p:nvSpPr>
              <p:spPr>
                <a:xfrm>
                  <a:off x="6438960" y="6149880"/>
                  <a:ext cx="888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↓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0" name=""/>
          <p:cNvGrpSpPr/>
          <p:nvPr/>
        </p:nvGrpSpPr>
        <p:grpSpPr>
          <a:xfrm>
            <a:off x="855720" y="4141800"/>
            <a:ext cx="7040520" cy="649440"/>
            <a:chOff x="855720" y="4141800"/>
            <a:chExt cx="7040520" cy="649440"/>
          </a:xfrm>
        </p:grpSpPr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855720" y="4175280"/>
                  <a:ext cx="386892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Δ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acc>
                        <m:accPr>
                          <m:chr m:val="~"/>
                        </m:accPr>
                        <m:e>
                          <m:r>
                            <m:t xml:space="preserve">=</m:t>
                          </m:r>
                        </m:e>
                      </m:acc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ΔG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2" name=""/>
                <p:cNvSpPr txBox="1"/>
                <p:nvPr/>
              </p:nvSpPr>
              <p:spPr>
                <a:xfrm>
                  <a:off x="5857920" y="4141800"/>
                  <a:ext cx="203832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H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acc>
                        <m:accPr>
                          <m:chr m:val="~"/>
                        </m:accPr>
                        <m:e>
                          <m:r>
                            <m:t xml:space="preserve">=</m:t>
                          </m:r>
                        </m:e>
                      </m:acc>
                      <m:f>
                        <m:num>
                          <m:sSub>
                            <m:e>
                              <m:r>
                                <m:t xml:space="preserve">ΔG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R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63" name=""/>
            <p:cNvSpPr/>
            <p:nvPr/>
          </p:nvSpPr>
          <p:spPr>
            <a:xfrm>
              <a:off x="4980240" y="4429080"/>
              <a:ext cx="5191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165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6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5011560" y="4454640"/>
            <a:ext cx="416160" cy="81252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incmli" descr=""/>
          <p:cNvPicPr/>
          <p:nvPr/>
        </p:nvPicPr>
        <p:blipFill>
          <a:blip r:embed="rId1"/>
          <a:stretch/>
        </p:blipFill>
        <p:spPr>
          <a:xfrm>
            <a:off x="2287440" y="1593720"/>
            <a:ext cx="46767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3273480" y="2948040"/>
                <a:ext cx="270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3992400" y="3511440"/>
                <a:ext cx="24210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2" name=""/>
          <p:cNvSpPr/>
          <p:nvPr/>
        </p:nvSpPr>
        <p:spPr>
          <a:xfrm flipH="1" flipV="1" rot="5400000">
            <a:off x="5079600" y="2595600"/>
            <a:ext cx="173160" cy="1631880"/>
          </a:xfrm>
          <a:custGeom>
            <a:avLst/>
            <a:gdLst>
              <a:gd name="textAreaLeft" fmla="*/ 110520 w 173160"/>
              <a:gd name="textAreaRight" fmla="*/ 173520 w 173160"/>
              <a:gd name="textAreaTop" fmla="*/ 42480 h 1631880"/>
              <a:gd name="textAreaBottom" fmla="*/ 1589400 h 163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410840" y="406224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ério de Nyquis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1397520" y="6111720"/>
            <a:ext cx="6911280" cy="476280"/>
            <a:chOff x="1397520" y="6111720"/>
            <a:chExt cx="6911280" cy="476280"/>
          </a:xfrm>
        </p:grpSpPr>
        <p:sp>
          <p:nvSpPr>
            <p:cNvPr id="1175" name=""/>
            <p:cNvSpPr/>
            <p:nvPr/>
          </p:nvSpPr>
          <p:spPr>
            <a:xfrm>
              <a:off x="6245280" y="6111720"/>
              <a:ext cx="2063520" cy="476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397520" y="6153120"/>
              <a:ext cx="48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abilidade Robusta a Incertezas no Model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330960" y="6186600"/>
                  <a:ext cx="191448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↓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↑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8" name=""/>
          <p:cNvSpPr/>
          <p:nvPr/>
        </p:nvSpPr>
        <p:spPr>
          <a:xfrm>
            <a:off x="4530600" y="4473720"/>
            <a:ext cx="237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377040" y="4041720"/>
            <a:ext cx="0" cy="178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10360" y="4473720"/>
            <a:ext cx="1052280" cy="1385640"/>
          </a:xfrm>
          <a:custGeom>
            <a:avLst/>
            <a:gdLst/>
            <a:ahLst/>
            <a:rect l="l" t="t" r="r" b="b"/>
            <a:pathLst>
              <a:path w="663" h="873">
                <a:moveTo>
                  <a:pt x="663" y="0"/>
                </a:moveTo>
                <a:cubicBezTo>
                  <a:pt x="621" y="11"/>
                  <a:pt x="497" y="6"/>
                  <a:pt x="409" y="64"/>
                </a:cubicBezTo>
                <a:cubicBezTo>
                  <a:pt x="321" y="122"/>
                  <a:pt x="204" y="211"/>
                  <a:pt x="136" y="346"/>
                </a:cubicBezTo>
                <a:cubicBezTo>
                  <a:pt x="68" y="481"/>
                  <a:pt x="28" y="763"/>
                  <a:pt x="0" y="8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378480" y="387504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(j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06240" y="428472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(j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049720" y="4892760"/>
            <a:ext cx="781200" cy="7808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75200" y="443088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814280" y="4172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396040" y="5237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371840" y="5283360"/>
            <a:ext cx="1054080" cy="27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365720" y="5387760"/>
            <a:ext cx="662040" cy="168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846960" y="555156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j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)L(j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402440" y="460548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+L(j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641600" y="4687920"/>
                <a:ext cx="23400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1673280" y="5162400"/>
                <a:ext cx="15429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3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194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5" name="ASA_CO13" descr=""/>
            <p:cNvPicPr/>
            <p:nvPr/>
          </p:nvPicPr>
          <p:blipFill>
            <a:blip r:embed="rId2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241440" y="138744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e Rob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1199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0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1" name=""/>
          <p:cNvGrpSpPr/>
          <p:nvPr/>
        </p:nvGrpSpPr>
        <p:grpSpPr>
          <a:xfrm>
            <a:off x="927000" y="2468520"/>
            <a:ext cx="7253280" cy="3306960"/>
            <a:chOff x="927000" y="2468520"/>
            <a:chExt cx="7253280" cy="3306960"/>
          </a:xfrm>
        </p:grpSpPr>
        <p:sp>
          <p:nvSpPr>
            <p:cNvPr id="1202" name=""/>
            <p:cNvSpPr/>
            <p:nvPr/>
          </p:nvSpPr>
          <p:spPr>
            <a:xfrm>
              <a:off x="6213600" y="3220920"/>
              <a:ext cx="938160" cy="549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41880" y="3871800"/>
              <a:ext cx="2138400" cy="462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167520" y="2487600"/>
              <a:ext cx="938160" cy="549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929520" y="2468520"/>
              <a:ext cx="6174360" cy="671400"/>
              <a:chOff x="929520" y="2468520"/>
              <a:chExt cx="6174360" cy="671400"/>
            </a:xfrm>
          </p:grpSpPr>
          <p:sp>
            <p:nvSpPr>
              <p:cNvPr id="1206" name=""/>
              <p:cNvSpPr/>
              <p:nvPr/>
            </p:nvSpPr>
            <p:spPr>
              <a:xfrm>
                <a:off x="929520" y="2606400"/>
                <a:ext cx="322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astreamento de Referência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7" name=""/>
                  <p:cNvSpPr txBox="1"/>
                  <p:nvPr/>
                </p:nvSpPr>
                <p:spPr>
                  <a:xfrm>
                    <a:off x="4303800" y="2468520"/>
                    <a:ext cx="123192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ω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ω</m:t>
                                    </m:r>
                                  </m:e>
                                </m:d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08" name=""/>
              <p:cNvSpPr/>
              <p:nvPr/>
            </p:nvSpPr>
            <p:spPr>
              <a:xfrm>
                <a:off x="5631120" y="260784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u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9" name=""/>
                  <p:cNvSpPr txBox="1"/>
                  <p:nvPr/>
                </p:nvSpPr>
                <p:spPr>
                  <a:xfrm>
                    <a:off x="6215040" y="2604960"/>
                    <a:ext cx="888840" cy="36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↓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10" name=""/>
            <p:cNvGrpSpPr/>
            <p:nvPr/>
          </p:nvGrpSpPr>
          <p:grpSpPr>
            <a:xfrm>
              <a:off x="927000" y="3220920"/>
              <a:ext cx="6228000" cy="615960"/>
              <a:chOff x="927000" y="3220920"/>
              <a:chExt cx="6228000" cy="615960"/>
            </a:xfrm>
          </p:grpSpPr>
          <p:sp>
            <p:nvSpPr>
              <p:cNvPr id="1211" name=""/>
              <p:cNvSpPr/>
              <p:nvPr/>
            </p:nvSpPr>
            <p:spPr>
              <a:xfrm>
                <a:off x="927000" y="3338640"/>
                <a:ext cx="35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jeição de Distúrbios na Saída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12" name=""/>
                  <p:cNvSpPr txBox="1"/>
                  <p:nvPr/>
                </p:nvSpPr>
                <p:spPr>
                  <a:xfrm>
                    <a:off x="4448160" y="3220920"/>
                    <a:ext cx="1130400" cy="61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ω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D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ω</m:t>
                                    </m:r>
                                  </m:e>
                                </m:d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13" name=""/>
              <p:cNvSpPr/>
              <p:nvPr/>
            </p:nvSpPr>
            <p:spPr>
              <a:xfrm>
                <a:off x="5681880" y="333684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u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14" name=""/>
                  <p:cNvSpPr txBox="1"/>
                  <p:nvPr/>
                </p:nvSpPr>
                <p:spPr>
                  <a:xfrm>
                    <a:off x="6265800" y="3333960"/>
                    <a:ext cx="88920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↓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215" name=""/>
            <p:cNvGrpSpPr/>
            <p:nvPr/>
          </p:nvGrpSpPr>
          <p:grpSpPr>
            <a:xfrm>
              <a:off x="933840" y="3867120"/>
              <a:ext cx="7230600" cy="633600"/>
              <a:chOff x="933840" y="3867120"/>
              <a:chExt cx="7230600" cy="633600"/>
            </a:xfrm>
          </p:grpSpPr>
          <p:sp>
            <p:nvSpPr>
              <p:cNvPr id="1216" name=""/>
              <p:cNvSpPr/>
              <p:nvPr/>
            </p:nvSpPr>
            <p:spPr>
              <a:xfrm>
                <a:off x="933840" y="3981600"/>
                <a:ext cx="331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jeição do Ruído de Medida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17" name=""/>
                  <p:cNvSpPr txBox="1"/>
                  <p:nvPr/>
                </p:nvSpPr>
                <p:spPr>
                  <a:xfrm>
                    <a:off x="4416480" y="3867120"/>
                    <a:ext cx="1179360" cy="63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ω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ω</m:t>
                                    </m:r>
                                  </m:e>
                                </m:d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18" name=""/>
                  <p:cNvSpPr txBox="1"/>
                  <p:nvPr/>
                </p:nvSpPr>
                <p:spPr>
                  <a:xfrm>
                    <a:off x="6089760" y="3942000"/>
                    <a:ext cx="207468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↑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19" name=""/>
              <p:cNvSpPr/>
              <p:nvPr/>
            </p:nvSpPr>
            <p:spPr>
              <a:xfrm>
                <a:off x="5583600" y="391644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u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956160" y="5299200"/>
              <a:ext cx="6911280" cy="476280"/>
              <a:chOff x="956160" y="5299200"/>
              <a:chExt cx="6911280" cy="476280"/>
            </a:xfrm>
          </p:grpSpPr>
          <p:sp>
            <p:nvSpPr>
              <p:cNvPr id="1221" name=""/>
              <p:cNvSpPr/>
              <p:nvPr/>
            </p:nvSpPr>
            <p:spPr>
              <a:xfrm>
                <a:off x="5803920" y="5299200"/>
                <a:ext cx="2063520" cy="476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956160" y="5340600"/>
                <a:ext cx="4897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stabilidade Robusta a Incertezas no Modelo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23" name=""/>
                  <p:cNvSpPr txBox="1"/>
                  <p:nvPr/>
                </p:nvSpPr>
                <p:spPr>
                  <a:xfrm>
                    <a:off x="5889600" y="5374080"/>
                    <a:ext cx="1914480" cy="33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↑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24" name=""/>
            <p:cNvSpPr/>
            <p:nvPr/>
          </p:nvSpPr>
          <p:spPr>
            <a:xfrm>
              <a:off x="5907240" y="4610160"/>
              <a:ext cx="1023840" cy="476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940320" y="4672080"/>
              <a:ext cx="50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empenho Robusto a Incertezas no Model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6" name=""/>
                <p:cNvSpPr txBox="1"/>
                <p:nvPr/>
              </p:nvSpPr>
              <p:spPr>
                <a:xfrm>
                  <a:off x="5981760" y="4668840"/>
                  <a:ext cx="888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ω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↓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13880" y="137304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7400" y="2362320"/>
            <a:ext cx="7616880" cy="3662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87200" y="61009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24440" y="3465360"/>
            <a:ext cx="2176200" cy="1489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8720" y="250992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17480" y="40338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Fí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19720" y="4184640"/>
            <a:ext cx="1087560" cy="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02400" y="3138480"/>
            <a:ext cx="235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Variáveis Manipu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u Sinal de Cont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7760" y="4819680"/>
            <a:ext cx="28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Variáveis Não-Manipu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u Sinal de Perturb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u Ruí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64520" y="366408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Sinal de 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82720" y="4552920"/>
            <a:ext cx="1305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3816360"/>
            <a:ext cx="1306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93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93640" y="210960"/>
            <a:ext cx="6600960" cy="1008720"/>
            <a:chOff x="593640" y="210960"/>
            <a:chExt cx="6600960" cy="1008720"/>
          </a:xfrm>
        </p:grpSpPr>
        <p:sp>
          <p:nvSpPr>
            <p:cNvPr id="97" name=""/>
            <p:cNvSpPr/>
            <p:nvPr/>
          </p:nvSpPr>
          <p:spPr>
            <a:xfrm>
              <a:off x="2531880" y="210960"/>
              <a:ext cx="466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Instituto Tecnológico de Aeronáu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Seminário de Matemá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31 mar 20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ASA_CO13" descr=""/>
            <p:cNvPicPr/>
            <p:nvPr/>
          </p:nvPicPr>
          <p:blipFill>
            <a:blip r:embed="rId1"/>
            <a:stretch/>
          </p:blipFill>
          <p:spPr>
            <a:xfrm>
              <a:off x="593640" y="392040"/>
              <a:ext cx="138276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3413880" y="137304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7400" y="2362320"/>
            <a:ext cx="7616880" cy="3662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87200" y="61009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24440" y="3465360"/>
            <a:ext cx="2176200" cy="1489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250992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4200" y="403380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po Hum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19720" y="4184640"/>
            <a:ext cx="1087560" cy="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61240" y="313848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nsulina Exóg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50440" y="48196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limentação 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m Glic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0" y="36640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Glice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82720" y="4552920"/>
            <a:ext cx="13050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3816360"/>
            <a:ext cx="13064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Elena Yoshie Sato Yoneyama</cp:lastModifiedBy>
  <dcterms:modified xsi:type="dcterms:W3CDTF">2003-04-25T00:37:47Z</dcterms:modified>
  <cp:revision>45</cp:revision>
  <dc:subject/>
  <dc:title>No Slide Title</dc:title>
</cp:coreProperties>
</file>