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4.wmf" ContentType="image/x-wmf"/>
  <Override PartName="/ppt/media/image4.jpeg" ContentType="image/jpeg"/>
  <Override PartName="/ppt/media/image2.png" ContentType="image/png"/>
  <Override PartName="/ppt/media/image6.jpeg" ContentType="image/jpeg"/>
  <Override PartName="/ppt/media/image30.wmf" ContentType="image/x-wmf"/>
  <Override PartName="/ppt/media/image11.jpeg" ContentType="image/jpeg"/>
  <Override PartName="/ppt/media/image9.jpeg" ContentType="image/jpeg"/>
  <Override PartName="/ppt/media/image12.wmf" ContentType="image/x-wmf"/>
  <Override PartName="/ppt/media/image7.jpeg" ContentType="image/jpeg"/>
  <Override PartName="/ppt/media/image31.wmf" ContentType="image/x-wmf"/>
  <Override PartName="/ppt/media/image5.png" ContentType="image/png"/>
  <Override PartName="/ppt/media/image13.wmf" ContentType="image/x-wmf"/>
  <Override PartName="/ppt/media/image8.jpeg" ContentType="image/jpeg"/>
  <Override PartName="/ppt/media/image32.wmf" ContentType="image/x-wmf"/>
  <Override PartName="/ppt/media/image33.png" ContentType="image/png"/>
  <Override PartName="/ppt/media/image16.wmf" ContentType="image/x-wmf"/>
  <Override PartName="/ppt/media/image28.wmf" ContentType="image/x-wmf"/>
  <Override PartName="/ppt/media/image3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14.wmf" ContentType="image/x-wmf"/>
  <Override PartName="/ppt/media/image17.wmf" ContentType="image/x-wmf"/>
  <Override PartName="/ppt/media/image20.png" ContentType="image/png"/>
  <Override PartName="/ppt/media/image18.wmf" ContentType="image/x-wmf"/>
  <Override PartName="/ppt/media/image19.png" ContentType="image/png"/>
  <Override PartName="/ppt/media/image21.png" ContentType="image/png"/>
  <Override PartName="/ppt/media/image23.jpeg" ContentType="image/jpeg"/>
  <Override PartName="/ppt/media/image25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38A4-F916-4559-8C5C-4C5B090D5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F94D-CD3B-47EB-A97F-9B805238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EFA0-D5E3-495A-86E1-847DA9981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D117-0BB2-40C7-945E-E60F45A49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7896-B9ED-4C90-B08F-EFF8C77D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1F21-23A0-44F4-9004-E253C74A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5439-23C2-4004-9FA7-7E7A220B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9FED-1131-402F-8A4E-B2DAB614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B4D3-5D93-4CBA-8A0B-B7FB928E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0833-83EA-4539-8588-CDFE25B8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C6B0-585F-4CBA-A05A-E89DEA97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3677-0BBB-483B-A5CA-A0651E90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29F1-EECC-4ECF-B607-7D859E28C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0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2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ancreas" descr=""/>
          <p:cNvPicPr/>
          <p:nvPr/>
        </p:nvPicPr>
        <p:blipFill>
          <a:blip r:embed="rId1"/>
          <a:stretch/>
        </p:blipFill>
        <p:spPr>
          <a:xfrm>
            <a:off x="1689120" y="2046240"/>
            <a:ext cx="5898960" cy="442440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44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" name="ASA_CO13" descr=""/>
            <p:cNvPicPr/>
            <p:nvPr/>
          </p:nvPicPr>
          <p:blipFill>
            <a:blip r:embed="rId2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"/>
          <p:cNvSpPr/>
          <p:nvPr/>
        </p:nvSpPr>
        <p:spPr>
          <a:xfrm>
            <a:off x="1954080" y="1282680"/>
            <a:ext cx="52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e da Glice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41000" y="1316160"/>
            <a:ext cx="30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e Adapt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212840" y="1976400"/>
            <a:ext cx="6748200" cy="4379760"/>
            <a:chOff x="1212840" y="1976400"/>
            <a:chExt cx="6748200" cy="4379760"/>
          </a:xfrm>
        </p:grpSpPr>
        <p:sp>
          <p:nvSpPr>
            <p:cNvPr id="115" name=""/>
            <p:cNvSpPr/>
            <p:nvPr/>
          </p:nvSpPr>
          <p:spPr>
            <a:xfrm>
              <a:off x="4339080" y="2684160"/>
              <a:ext cx="1887120" cy="118548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68760" y="2848320"/>
              <a:ext cx="1442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iste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arcialm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heci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05000" y="3277080"/>
              <a:ext cx="1233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3164040" y="2928240"/>
              <a:ext cx="447480" cy="27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7424640" y="2928240"/>
              <a:ext cx="459360" cy="2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4856040" y="2178360"/>
              <a:ext cx="0" cy="50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4339080" y="4009320"/>
              <a:ext cx="2056680" cy="27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4"/>
            <a:stretch/>
          </p:blipFill>
          <p:spPr>
            <a:xfrm>
              <a:off x="4339080" y="4288320"/>
              <a:ext cx="1524240" cy="27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5"/>
            <a:stretch/>
          </p:blipFill>
          <p:spPr>
            <a:xfrm>
              <a:off x="4922640" y="2015280"/>
              <a:ext cx="145080" cy="20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6"/>
            <a:stretch/>
          </p:blipFill>
          <p:spPr>
            <a:xfrm>
              <a:off x="5797080" y="1976400"/>
              <a:ext cx="483840" cy="27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5688000" y="2178360"/>
              <a:ext cx="0" cy="50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235560" y="3275640"/>
              <a:ext cx="172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3571920" y="3238920"/>
              <a:ext cx="3417840" cy="2914560"/>
              <a:chOff x="3571920" y="3238920"/>
              <a:chExt cx="3417840" cy="2914560"/>
            </a:xfrm>
          </p:grpSpPr>
          <p:sp>
            <p:nvSpPr>
              <p:cNvPr id="128" name=""/>
              <p:cNvSpPr/>
              <p:nvPr/>
            </p:nvSpPr>
            <p:spPr>
              <a:xfrm>
                <a:off x="4338720" y="5055120"/>
                <a:ext cx="1887120" cy="697320"/>
              </a:xfrm>
              <a:prstGeom prst="rect">
                <a:avLst/>
              </a:prstGeom>
              <a:solidFill>
                <a:srgbClr val="ff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611160" y="3276720"/>
                <a:ext cx="0" cy="212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11160" y="5403960"/>
                <a:ext cx="727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562280" y="5244120"/>
                <a:ext cx="1395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Identificado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6225840" y="5403960"/>
                <a:ext cx="727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953400" y="3276720"/>
                <a:ext cx="0" cy="212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571920" y="3238920"/>
                <a:ext cx="72360" cy="69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917400" y="3240360"/>
                <a:ext cx="72360" cy="69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379120" y="5816520"/>
                <a:ext cx="1403280" cy="33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>
                <a:off x="5285160" y="5765760"/>
                <a:ext cx="0" cy="246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1212840" y="2704680"/>
              <a:ext cx="1887120" cy="118548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66560" y="2858400"/>
              <a:ext cx="1578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trolad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Ótim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arametriza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40320" y="3942720"/>
              <a:ext cx="108720" cy="104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843280" y="3531240"/>
              <a:ext cx="432360" cy="42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314120" y="3295800"/>
              <a:ext cx="0" cy="306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616400" y="6330240"/>
              <a:ext cx="5680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1645200" y="3901680"/>
              <a:ext cx="0" cy="245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277760" y="3238920"/>
              <a:ext cx="7236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2792880" y="6013440"/>
              <a:ext cx="249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2793240" y="4032360"/>
              <a:ext cx="0" cy="198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150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ASA_CO13" descr=""/>
            <p:cNvPicPr/>
            <p:nvPr/>
          </p:nvPicPr>
          <p:blipFill>
            <a:blip r:embed="rId8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585120" y="29732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16684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Controle%20MPC%201" descr=""/>
          <p:cNvPicPr/>
          <p:nvPr/>
        </p:nvPicPr>
        <p:blipFill>
          <a:blip r:embed="rId1"/>
          <a:stretch/>
        </p:blipFill>
        <p:spPr>
          <a:xfrm>
            <a:off x="1832040" y="1425600"/>
            <a:ext cx="5688000" cy="3116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69720" y="4713120"/>
            <a:ext cx="846000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m cada instante t predizer o conjunto y(t+i) i=1,...,P de saídas futuras com base no modelo do sistema físic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alcular a seqüência de controle u(t+j) j=0, ..., M que minimiza a função cus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plicar u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sperar o próximo instante de amostragem e reiniciar o algorit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158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9" name="ASA_CO13" descr=""/>
            <p:cNvPicPr/>
            <p:nvPr/>
          </p:nvPicPr>
          <p:blipFill>
            <a:blip r:embed="rId2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194600" y="358920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3130560"/>
            <a:ext cx="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76920" y="3130560"/>
            <a:ext cx="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7622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735200" y="2494080"/>
                <a:ext cx="582624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ℓ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ℓ</m:t>
                        </m:r>
                        <m:r>
                          <m:t xml:space="preserve">|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ℓ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Δu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37479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766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530440" y="4822920"/>
                <a:ext cx="15606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  <m:m>
                      <m:mr>
                        <m:e/>
                        <m:e>
                          <m:r>
                            <m:t xml:space="preserve">∀</m:t>
                          </m:r>
                          <m:r>
                            <m:t xml:space="preserve">k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508120" y="3822840"/>
                <a:ext cx="361332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u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44560" y="200664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miza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87480" y="334800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.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173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4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"/>
          <p:cNvSpPr/>
          <p:nvPr/>
        </p:nvSpPr>
        <p:spPr>
          <a:xfrm>
            <a:off x="3141000" y="1316160"/>
            <a:ext cx="30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e Adapt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3955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6813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242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20960" y="4815000"/>
            <a:ext cx="5681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(t)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= glicose plasmá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(t)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= insulina plasmá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(t)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= glucagon,  cortisol e catecolam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(t)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= insulina exóg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(t)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= glicose absorvida por ingestão de alimentos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65280" y="1352520"/>
            <a:ext cx="44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o de Paciente Di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183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5" name=""/>
          <p:cNvSpPr/>
          <p:nvPr/>
        </p:nvSpPr>
        <p:spPr>
          <a:xfrm>
            <a:off x="4568760" y="2487600"/>
            <a:ext cx="212760" cy="29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9880" y="2487600"/>
            <a:ext cx="212760" cy="29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67160" y="2516040"/>
            <a:ext cx="212760" cy="29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679920" y="3203640"/>
            <a:ext cx="212760" cy="29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49880" y="3205080"/>
            <a:ext cx="212760" cy="29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49760" y="3909960"/>
            <a:ext cx="212760" cy="29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25920" y="3925800"/>
            <a:ext cx="212760" cy="29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865600" y="2328840"/>
            <a:ext cx="3620520" cy="2086920"/>
            <a:chOff x="2865600" y="2328840"/>
            <a:chExt cx="3620520" cy="2086920"/>
          </a:xfrm>
        </p:grpSpPr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2865600" y="2328840"/>
                  <a:ext cx="3620520" cy="62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G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αG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t xml:space="preserve">β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γC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2865600" y="3057840"/>
                  <a:ext cx="2732760" cy="62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δ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εG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5" name=""/>
                <p:cNvSpPr txBox="1"/>
                <p:nvPr/>
              </p:nvSpPr>
              <p:spPr>
                <a:xfrm>
                  <a:off x="2865600" y="3786840"/>
                  <a:ext cx="2300760" cy="62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C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λC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t xml:space="preserve">ρG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3955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6813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242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9556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749160" y="2614680"/>
                <a:ext cx="771048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G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I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35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427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14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40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7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186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129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G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I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97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313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197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3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30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u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k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p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k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552760" y="4046400"/>
                <a:ext cx="3510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G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I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u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k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p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k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204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5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6" name=""/>
          <p:cNvSpPr/>
          <p:nvPr/>
        </p:nvSpPr>
        <p:spPr>
          <a:xfrm>
            <a:off x="2465280" y="1352520"/>
            <a:ext cx="44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o de Paciente Di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711440" y="1893960"/>
            <a:ext cx="6064200" cy="45482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210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1" name="ASA_CO13" descr=""/>
            <p:cNvPicPr/>
            <p:nvPr/>
          </p:nvPicPr>
          <p:blipFill>
            <a:blip r:embed="rId2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"/>
          <p:cNvSpPr/>
          <p:nvPr/>
        </p:nvSpPr>
        <p:spPr>
          <a:xfrm>
            <a:off x="2995200" y="1333440"/>
            <a:ext cx="32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e de Glice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90512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633680" y="1870200"/>
            <a:ext cx="6110280" cy="45831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217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8" name="ASA_CO13" descr=""/>
            <p:cNvPicPr/>
            <p:nvPr/>
          </p:nvPicPr>
          <p:blipFill>
            <a:blip r:embed="rId2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"/>
          <p:cNvSpPr/>
          <p:nvPr/>
        </p:nvSpPr>
        <p:spPr>
          <a:xfrm>
            <a:off x="2995200" y="1333440"/>
            <a:ext cx="32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e de Glice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74600" y="3206880"/>
            <a:ext cx="3908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e Empreg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rramenta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ligência Artifi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223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187440" y="1371600"/>
            <a:ext cx="31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ligência Arti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78800" y="2427120"/>
            <a:ext cx="657360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A é o estudo das faculdades mentais através do uso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odelos computacionais” (Charniak e McDermott, 198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A é o estudo de como fazer os computadores realizar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arefas que, no momento, são feitas melhor por pessoa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Rich, 198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A é o estudo das idéias que permitem habilitar 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mputadores a fazerem coisas que tornam as pesso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teligentes” (Winston, 197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A é o campo de conhecimentos onde se estud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istemas capazes de reproduzir algumas das ativida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entais do homem” (Nilsson, 198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229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0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187440" y="1371600"/>
            <a:ext cx="31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ligência Arti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78800" y="2427120"/>
            <a:ext cx="657360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A é o estudo das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faculdades mentai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através do uso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odelos computacionais” (Charniak e McDermott, 198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A é o estudo de como fazer os computadores realizar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arefas que, no momento, são feitas melhor po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essoa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Rich, 198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A é o estudo das idéias que permitem habilitar 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mputadores a fazerem coisas que tornam as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esso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teligentes” (Winston, 197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A é o campo de conhecimentos onde se estud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istemas capazes de reproduzir algumas das ativida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mentais do Homem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” (Nilsson, 198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235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6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lhota200x" descr=""/>
          <p:cNvPicPr/>
          <p:nvPr/>
        </p:nvPicPr>
        <p:blipFill>
          <a:blip r:embed="rId1"/>
          <a:stretch/>
        </p:blipFill>
        <p:spPr>
          <a:xfrm>
            <a:off x="1270080" y="1963800"/>
            <a:ext cx="6862680" cy="4535280"/>
          </a:xfrm>
          <a:prstGeom prst="rect">
            <a:avLst/>
          </a:prstGeom>
          <a:ln w="0">
            <a:noFill/>
          </a:ln>
        </p:spPr>
      </p:pic>
      <p:pic>
        <p:nvPicPr>
          <p:cNvPr id="49" name="isletlangerhan" descr=""/>
          <p:cNvPicPr/>
          <p:nvPr/>
        </p:nvPicPr>
        <p:blipFill>
          <a:blip r:embed="rId2"/>
          <a:stretch/>
        </p:blipFill>
        <p:spPr>
          <a:xfrm>
            <a:off x="5937120" y="1933560"/>
            <a:ext cx="2170080" cy="2308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30760" y="3843360"/>
            <a:ext cx="1357200" cy="1359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64120" y="1957320"/>
            <a:ext cx="2152800" cy="2292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53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ASA_CO13" descr=""/>
            <p:cNvPicPr/>
            <p:nvPr/>
          </p:nvPicPr>
          <p:blipFill>
            <a:blip r:embed="rId3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"/>
          <p:cNvSpPr/>
          <p:nvPr/>
        </p:nvSpPr>
        <p:spPr>
          <a:xfrm>
            <a:off x="1954080" y="1282680"/>
            <a:ext cx="52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e da Glice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2381400" y="2733840"/>
            <a:ext cx="4109760" cy="811080"/>
            <a:chOff x="2381400" y="2733840"/>
            <a:chExt cx="4109760" cy="811080"/>
          </a:xfrm>
        </p:grpSpPr>
        <p:sp>
          <p:nvSpPr>
            <p:cNvPr id="238" name=""/>
            <p:cNvSpPr/>
            <p:nvPr/>
          </p:nvSpPr>
          <p:spPr>
            <a:xfrm>
              <a:off x="2398680" y="3209760"/>
              <a:ext cx="4092480" cy="33516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381400" y="2733840"/>
              <a:ext cx="2011320" cy="317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346480" y="2577960"/>
            <a:ext cx="4173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es Neur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ógica Nebulosa (Difusa, Fuzz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utação Evolu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xame de Partíc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ômata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c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21040" y="1371600"/>
            <a:ext cx="55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rramentas de Inteligência Arti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244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5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36960" y="1311120"/>
            <a:ext cx="32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m Tipo de Neurô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56200" y="3630600"/>
            <a:ext cx="636480" cy="636480"/>
          </a:xfrm>
          <a:custGeom>
            <a:avLst/>
            <a:gdLst/>
            <a:ahLst/>
            <a:rect l="l" t="t" r="r" b="b"/>
            <a:pathLst>
              <a:path w="401" h="401">
                <a:moveTo>
                  <a:pt x="201" y="401"/>
                </a:moveTo>
                <a:lnTo>
                  <a:pt x="242" y="397"/>
                </a:lnTo>
                <a:lnTo>
                  <a:pt x="278" y="386"/>
                </a:lnTo>
                <a:lnTo>
                  <a:pt x="313" y="367"/>
                </a:lnTo>
                <a:lnTo>
                  <a:pt x="343" y="343"/>
                </a:lnTo>
                <a:lnTo>
                  <a:pt x="367" y="312"/>
                </a:lnTo>
                <a:lnTo>
                  <a:pt x="386" y="278"/>
                </a:lnTo>
                <a:lnTo>
                  <a:pt x="398" y="241"/>
                </a:lnTo>
                <a:lnTo>
                  <a:pt x="401" y="201"/>
                </a:lnTo>
                <a:lnTo>
                  <a:pt x="398" y="160"/>
                </a:lnTo>
                <a:lnTo>
                  <a:pt x="386" y="123"/>
                </a:lnTo>
                <a:lnTo>
                  <a:pt x="367" y="89"/>
                </a:lnTo>
                <a:lnTo>
                  <a:pt x="343" y="59"/>
                </a:lnTo>
                <a:lnTo>
                  <a:pt x="313" y="35"/>
                </a:lnTo>
                <a:lnTo>
                  <a:pt x="278" y="16"/>
                </a:lnTo>
                <a:lnTo>
                  <a:pt x="242" y="4"/>
                </a:lnTo>
                <a:lnTo>
                  <a:pt x="201" y="0"/>
                </a:lnTo>
                <a:lnTo>
                  <a:pt x="160" y="4"/>
                </a:lnTo>
                <a:lnTo>
                  <a:pt x="123" y="16"/>
                </a:lnTo>
                <a:lnTo>
                  <a:pt x="89" y="35"/>
                </a:lnTo>
                <a:lnTo>
                  <a:pt x="59" y="59"/>
                </a:lnTo>
                <a:lnTo>
                  <a:pt x="35" y="89"/>
                </a:lnTo>
                <a:lnTo>
                  <a:pt x="16" y="123"/>
                </a:lnTo>
                <a:lnTo>
                  <a:pt x="4" y="160"/>
                </a:lnTo>
                <a:lnTo>
                  <a:pt x="0" y="201"/>
                </a:lnTo>
                <a:lnTo>
                  <a:pt x="4" y="241"/>
                </a:lnTo>
                <a:lnTo>
                  <a:pt x="16" y="278"/>
                </a:lnTo>
                <a:lnTo>
                  <a:pt x="35" y="312"/>
                </a:lnTo>
                <a:lnTo>
                  <a:pt x="59" y="343"/>
                </a:lnTo>
                <a:lnTo>
                  <a:pt x="89" y="367"/>
                </a:lnTo>
                <a:lnTo>
                  <a:pt x="123" y="386"/>
                </a:lnTo>
                <a:lnTo>
                  <a:pt x="160" y="397"/>
                </a:lnTo>
                <a:lnTo>
                  <a:pt x="201" y="401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940120" y="2262240"/>
            <a:ext cx="2476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2280" y="24462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62440" y="3238560"/>
            <a:ext cx="2476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44600" y="34225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16080" y="4589640"/>
            <a:ext cx="2476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00760" y="4775040"/>
            <a:ext cx="232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66840" y="3535200"/>
            <a:ext cx="1911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055840" y="3535200"/>
            <a:ext cx="1911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20720" y="3530520"/>
            <a:ext cx="968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20920" y="3416400"/>
            <a:ext cx="172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101320" y="2430360"/>
            <a:ext cx="172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58640" y="25732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152080" y="4738680"/>
            <a:ext cx="172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310120" y="4881600"/>
            <a:ext cx="232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140920" y="3367080"/>
            <a:ext cx="172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98240" y="35100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92720" y="3755880"/>
            <a:ext cx="2034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622840" y="3828960"/>
            <a:ext cx="266760" cy="297000"/>
          </a:xfrm>
          <a:custGeom>
            <a:avLst/>
            <a:gdLst/>
            <a:ahLst/>
            <a:rect l="l" t="t" r="r" b="b"/>
            <a:pathLst>
              <a:path w="168" h="187">
                <a:moveTo>
                  <a:pt x="5" y="184"/>
                </a:moveTo>
                <a:lnTo>
                  <a:pt x="10" y="187"/>
                </a:lnTo>
                <a:lnTo>
                  <a:pt x="168" y="7"/>
                </a:lnTo>
                <a:lnTo>
                  <a:pt x="158" y="0"/>
                </a:lnTo>
                <a:lnTo>
                  <a:pt x="0" y="180"/>
                </a:lnTo>
                <a:lnTo>
                  <a:pt x="5" y="18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924440" y="5662440"/>
            <a:ext cx="210960" cy="20880"/>
          </a:xfrm>
          <a:custGeom>
            <a:avLst/>
            <a:gdLst/>
            <a:ahLst/>
            <a:rect l="l" t="t" r="r" b="b"/>
            <a:pathLst>
              <a:path w="133" h="13">
                <a:moveTo>
                  <a:pt x="120" y="7"/>
                </a:moveTo>
                <a:lnTo>
                  <a:pt x="127" y="0"/>
                </a:lnTo>
                <a:lnTo>
                  <a:pt x="0" y="0"/>
                </a:lnTo>
                <a:lnTo>
                  <a:pt x="0" y="13"/>
                </a:lnTo>
                <a:lnTo>
                  <a:pt x="127" y="13"/>
                </a:lnTo>
                <a:lnTo>
                  <a:pt x="133" y="7"/>
                </a:lnTo>
                <a:lnTo>
                  <a:pt x="127" y="13"/>
                </a:lnTo>
                <a:lnTo>
                  <a:pt x="133" y="13"/>
                </a:lnTo>
                <a:lnTo>
                  <a:pt x="133" y="7"/>
                </a:lnTo>
                <a:lnTo>
                  <a:pt x="120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14880" y="5359320"/>
            <a:ext cx="20520" cy="314280"/>
          </a:xfrm>
          <a:custGeom>
            <a:avLst/>
            <a:gdLst/>
            <a:ahLst/>
            <a:rect l="l" t="t" r="r" b="b"/>
            <a:pathLst>
              <a:path w="13" h="198">
                <a:moveTo>
                  <a:pt x="7" y="0"/>
                </a:moveTo>
                <a:lnTo>
                  <a:pt x="0" y="6"/>
                </a:lnTo>
                <a:lnTo>
                  <a:pt x="0" y="198"/>
                </a:lnTo>
                <a:lnTo>
                  <a:pt x="13" y="198"/>
                </a:lnTo>
                <a:lnTo>
                  <a:pt x="13" y="6"/>
                </a:lnTo>
                <a:lnTo>
                  <a:pt x="7" y="12"/>
                </a:lnTo>
                <a:lnTo>
                  <a:pt x="7" y="0"/>
                </a:lnTo>
                <a:lnTo>
                  <a:pt x="0" y="0"/>
                </a:lnTo>
                <a:lnTo>
                  <a:pt x="0" y="6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126040" y="5359320"/>
            <a:ext cx="201600" cy="19080"/>
          </a:xfrm>
          <a:custGeom>
            <a:avLst/>
            <a:gdLst/>
            <a:ahLst/>
            <a:rect l="l" t="t" r="r" b="b"/>
            <a:pathLst>
              <a:path w="127" h="12">
                <a:moveTo>
                  <a:pt x="127" y="6"/>
                </a:moveTo>
                <a:lnTo>
                  <a:pt x="127" y="0"/>
                </a:lnTo>
                <a:lnTo>
                  <a:pt x="0" y="0"/>
                </a:lnTo>
                <a:lnTo>
                  <a:pt x="0" y="12"/>
                </a:lnTo>
                <a:lnTo>
                  <a:pt x="127" y="12"/>
                </a:lnTo>
                <a:lnTo>
                  <a:pt x="127" y="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691160" y="5937120"/>
            <a:ext cx="2095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32000" y="5937120"/>
            <a:ext cx="1911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43680" y="5937120"/>
            <a:ext cx="2476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275080" y="3103560"/>
            <a:ext cx="1911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86040" y="3103560"/>
            <a:ext cx="77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589360" y="3103560"/>
            <a:ext cx="1911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78360" y="3103560"/>
            <a:ext cx="1911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70240" y="3100320"/>
            <a:ext cx="1911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60680" y="3095640"/>
            <a:ext cx="1152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63960" y="5921280"/>
            <a:ext cx="2293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967000" y="5921280"/>
            <a:ext cx="77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55920" y="5921280"/>
            <a:ext cx="1911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11800" y="5921280"/>
            <a:ext cx="2858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87920" y="5921280"/>
            <a:ext cx="1911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659280" y="5921280"/>
            <a:ext cx="77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760800" y="5921280"/>
            <a:ext cx="1911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932160" y="5921280"/>
            <a:ext cx="1911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45120" y="5522760"/>
            <a:ext cx="308160" cy="203400"/>
          </a:xfrm>
          <a:custGeom>
            <a:avLst/>
            <a:gdLst/>
            <a:ahLst/>
            <a:rect l="l" t="t" r="r" b="b"/>
            <a:pathLst>
              <a:path w="194" h="128">
                <a:moveTo>
                  <a:pt x="184" y="0"/>
                </a:moveTo>
                <a:lnTo>
                  <a:pt x="184" y="0"/>
                </a:lnTo>
                <a:lnTo>
                  <a:pt x="156" y="39"/>
                </a:lnTo>
                <a:lnTo>
                  <a:pt x="130" y="67"/>
                </a:lnTo>
                <a:lnTo>
                  <a:pt x="105" y="88"/>
                </a:lnTo>
                <a:lnTo>
                  <a:pt x="81" y="104"/>
                </a:lnTo>
                <a:lnTo>
                  <a:pt x="59" y="111"/>
                </a:lnTo>
                <a:lnTo>
                  <a:pt x="39" y="115"/>
                </a:lnTo>
                <a:lnTo>
                  <a:pt x="19" y="115"/>
                </a:lnTo>
                <a:lnTo>
                  <a:pt x="2" y="114"/>
                </a:lnTo>
                <a:lnTo>
                  <a:pt x="0" y="126"/>
                </a:lnTo>
                <a:lnTo>
                  <a:pt x="19" y="128"/>
                </a:lnTo>
                <a:lnTo>
                  <a:pt x="39" y="128"/>
                </a:lnTo>
                <a:lnTo>
                  <a:pt x="62" y="124"/>
                </a:lnTo>
                <a:lnTo>
                  <a:pt x="86" y="114"/>
                </a:lnTo>
                <a:lnTo>
                  <a:pt x="113" y="99"/>
                </a:lnTo>
                <a:lnTo>
                  <a:pt x="138" y="77"/>
                </a:lnTo>
                <a:lnTo>
                  <a:pt x="166" y="47"/>
                </a:lnTo>
                <a:lnTo>
                  <a:pt x="194" y="7"/>
                </a:lnTo>
                <a:lnTo>
                  <a:pt x="194" y="7"/>
                </a:lnTo>
                <a:lnTo>
                  <a:pt x="184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337440" y="5369040"/>
            <a:ext cx="325440" cy="164880"/>
          </a:xfrm>
          <a:custGeom>
            <a:avLst/>
            <a:gdLst/>
            <a:ahLst/>
            <a:rect l="l" t="t" r="r" b="b"/>
            <a:pathLst>
              <a:path w="205" h="104">
                <a:moveTo>
                  <a:pt x="205" y="3"/>
                </a:moveTo>
                <a:lnTo>
                  <a:pt x="196" y="1"/>
                </a:lnTo>
                <a:lnTo>
                  <a:pt x="179" y="0"/>
                </a:lnTo>
                <a:lnTo>
                  <a:pt x="156" y="0"/>
                </a:lnTo>
                <a:lnTo>
                  <a:pt x="127" y="4"/>
                </a:lnTo>
                <a:lnTo>
                  <a:pt x="95" y="13"/>
                </a:lnTo>
                <a:lnTo>
                  <a:pt x="62" y="32"/>
                </a:lnTo>
                <a:lnTo>
                  <a:pt x="29" y="59"/>
                </a:lnTo>
                <a:lnTo>
                  <a:pt x="0" y="97"/>
                </a:lnTo>
                <a:lnTo>
                  <a:pt x="10" y="104"/>
                </a:lnTo>
                <a:lnTo>
                  <a:pt x="39" y="66"/>
                </a:lnTo>
                <a:lnTo>
                  <a:pt x="69" y="42"/>
                </a:lnTo>
                <a:lnTo>
                  <a:pt x="100" y="26"/>
                </a:lnTo>
                <a:lnTo>
                  <a:pt x="129" y="17"/>
                </a:lnTo>
                <a:lnTo>
                  <a:pt x="156" y="13"/>
                </a:lnTo>
                <a:lnTo>
                  <a:pt x="179" y="13"/>
                </a:lnTo>
                <a:lnTo>
                  <a:pt x="196" y="14"/>
                </a:lnTo>
                <a:lnTo>
                  <a:pt x="205" y="15"/>
                </a:lnTo>
                <a:lnTo>
                  <a:pt x="205" y="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51480" y="3630600"/>
            <a:ext cx="636480" cy="636480"/>
          </a:xfrm>
          <a:custGeom>
            <a:avLst/>
            <a:gdLst/>
            <a:ahLst/>
            <a:rect l="l" t="t" r="r" b="b"/>
            <a:pathLst>
              <a:path w="401" h="401">
                <a:moveTo>
                  <a:pt x="201" y="401"/>
                </a:moveTo>
                <a:lnTo>
                  <a:pt x="242" y="397"/>
                </a:lnTo>
                <a:lnTo>
                  <a:pt x="278" y="386"/>
                </a:lnTo>
                <a:lnTo>
                  <a:pt x="313" y="367"/>
                </a:lnTo>
                <a:lnTo>
                  <a:pt x="343" y="343"/>
                </a:lnTo>
                <a:lnTo>
                  <a:pt x="367" y="312"/>
                </a:lnTo>
                <a:lnTo>
                  <a:pt x="386" y="278"/>
                </a:lnTo>
                <a:lnTo>
                  <a:pt x="398" y="241"/>
                </a:lnTo>
                <a:lnTo>
                  <a:pt x="401" y="201"/>
                </a:lnTo>
                <a:lnTo>
                  <a:pt x="398" y="160"/>
                </a:lnTo>
                <a:lnTo>
                  <a:pt x="386" y="123"/>
                </a:lnTo>
                <a:lnTo>
                  <a:pt x="367" y="89"/>
                </a:lnTo>
                <a:lnTo>
                  <a:pt x="343" y="59"/>
                </a:lnTo>
                <a:lnTo>
                  <a:pt x="313" y="35"/>
                </a:lnTo>
                <a:lnTo>
                  <a:pt x="278" y="16"/>
                </a:lnTo>
                <a:lnTo>
                  <a:pt x="242" y="4"/>
                </a:lnTo>
                <a:lnTo>
                  <a:pt x="201" y="0"/>
                </a:lnTo>
                <a:lnTo>
                  <a:pt x="160" y="4"/>
                </a:lnTo>
                <a:lnTo>
                  <a:pt x="123" y="16"/>
                </a:lnTo>
                <a:lnTo>
                  <a:pt x="89" y="35"/>
                </a:lnTo>
                <a:lnTo>
                  <a:pt x="59" y="59"/>
                </a:lnTo>
                <a:lnTo>
                  <a:pt x="35" y="89"/>
                </a:lnTo>
                <a:lnTo>
                  <a:pt x="16" y="123"/>
                </a:lnTo>
                <a:lnTo>
                  <a:pt x="4" y="160"/>
                </a:lnTo>
                <a:lnTo>
                  <a:pt x="0" y="201"/>
                </a:lnTo>
                <a:lnTo>
                  <a:pt x="4" y="241"/>
                </a:lnTo>
                <a:lnTo>
                  <a:pt x="16" y="278"/>
                </a:lnTo>
                <a:lnTo>
                  <a:pt x="35" y="312"/>
                </a:lnTo>
                <a:lnTo>
                  <a:pt x="59" y="343"/>
                </a:lnTo>
                <a:lnTo>
                  <a:pt x="89" y="367"/>
                </a:lnTo>
                <a:lnTo>
                  <a:pt x="123" y="386"/>
                </a:lnTo>
                <a:lnTo>
                  <a:pt x="160" y="397"/>
                </a:lnTo>
                <a:lnTo>
                  <a:pt x="201" y="401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583000" y="2735280"/>
            <a:ext cx="380880" cy="380880"/>
            <a:chOff x="2583000" y="2735280"/>
            <a:chExt cx="380880" cy="380880"/>
          </a:xfrm>
        </p:grpSpPr>
        <p:sp>
          <p:nvSpPr>
            <p:cNvPr id="290" name=""/>
            <p:cNvSpPr/>
            <p:nvPr/>
          </p:nvSpPr>
          <p:spPr>
            <a:xfrm>
              <a:off x="2583000" y="2735280"/>
              <a:ext cx="380880" cy="3808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678040" y="2830320"/>
              <a:ext cx="195480" cy="19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2673360" y="2830320"/>
              <a:ext cx="195120" cy="19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633760" y="5084640"/>
            <a:ext cx="380880" cy="380880"/>
            <a:chOff x="2633760" y="5084640"/>
            <a:chExt cx="380880" cy="380880"/>
          </a:xfrm>
        </p:grpSpPr>
        <p:sp>
          <p:nvSpPr>
            <p:cNvPr id="294" name=""/>
            <p:cNvSpPr/>
            <p:nvPr/>
          </p:nvSpPr>
          <p:spPr>
            <a:xfrm>
              <a:off x="2633760" y="5084640"/>
              <a:ext cx="380880" cy="3808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728800" y="5179680"/>
              <a:ext cx="195480" cy="19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2724120" y="5179680"/>
              <a:ext cx="195120" cy="19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2595600" y="3801960"/>
            <a:ext cx="380880" cy="380880"/>
            <a:chOff x="2595600" y="3801960"/>
            <a:chExt cx="380880" cy="380880"/>
          </a:xfrm>
        </p:grpSpPr>
        <p:sp>
          <p:nvSpPr>
            <p:cNvPr id="298" name=""/>
            <p:cNvSpPr/>
            <p:nvPr/>
          </p:nvSpPr>
          <p:spPr>
            <a:xfrm>
              <a:off x="2595600" y="3801960"/>
              <a:ext cx="380880" cy="3808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690640" y="3897000"/>
              <a:ext cx="195480" cy="19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2685960" y="3897000"/>
              <a:ext cx="195120" cy="19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2989440" y="396396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011320" y="3989520"/>
            <a:ext cx="571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805280" y="396396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00920" y="3951360"/>
            <a:ext cx="801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773440" y="3303720"/>
            <a:ext cx="0" cy="444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049480" y="5272200"/>
            <a:ext cx="571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86120" y="2935440"/>
            <a:ext cx="571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824200" y="4611600"/>
            <a:ext cx="0" cy="444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2274840"/>
            <a:ext cx="0" cy="444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76480" y="2935440"/>
            <a:ext cx="812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014640" y="5272200"/>
            <a:ext cx="812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3801960" y="4255560"/>
            <a:ext cx="507960" cy="1016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776760" y="2935440"/>
            <a:ext cx="507960" cy="736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97600" y="4410000"/>
            <a:ext cx="371520" cy="79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5197320" y="4438800"/>
            <a:ext cx="371520" cy="79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318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9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241440" y="1293840"/>
            <a:ext cx="29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ador Ne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503440" y="3281400"/>
            <a:ext cx="1943280" cy="1406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136600" y="4657680"/>
            <a:ext cx="29401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149200" y="4784760"/>
            <a:ext cx="2777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ador Ne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70280" y="3556080"/>
            <a:ext cx="5590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659840" y="3513240"/>
            <a:ext cx="4212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(t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565280" y="3995640"/>
            <a:ext cx="752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51400" y="3618000"/>
            <a:ext cx="1695600" cy="703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251840" y="3494160"/>
            <a:ext cx="630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250760" y="3503520"/>
            <a:ext cx="4975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(t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626080" y="3179880"/>
            <a:ext cx="3254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25360" y="3179880"/>
            <a:ext cx="172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577880" y="4465800"/>
            <a:ext cx="92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280040" y="3968640"/>
            <a:ext cx="1056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35160" y="3963960"/>
            <a:ext cx="366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316240" y="3494160"/>
            <a:ext cx="179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319480" y="3128760"/>
            <a:ext cx="0" cy="35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319480" y="3127320"/>
            <a:ext cx="3719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6035760" y="3121200"/>
            <a:ext cx="1440" cy="474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136600" y="3016080"/>
            <a:ext cx="4221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2131920" y="3019320"/>
            <a:ext cx="0" cy="9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819760" y="3332160"/>
            <a:ext cx="2332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819040" y="33321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435720" y="3181320"/>
            <a:ext cx="3160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35000" y="3181320"/>
            <a:ext cx="172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531120" y="3352680"/>
            <a:ext cx="2444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606360" y="33415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047000" y="3929040"/>
            <a:ext cx="8748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070520" y="3851280"/>
            <a:ext cx="212400" cy="235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225960" y="3373560"/>
            <a:ext cx="203040" cy="253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14800" y="3832200"/>
            <a:ext cx="203040" cy="2541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214800" y="4341960"/>
            <a:ext cx="203040" cy="2649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33680" y="3475080"/>
            <a:ext cx="41400" cy="41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523960" y="4452840"/>
            <a:ext cx="39960" cy="41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573280" y="3495600"/>
            <a:ext cx="646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557440" y="3963960"/>
            <a:ext cx="65736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568600" y="447516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421080" y="3956040"/>
            <a:ext cx="64296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573280" y="3498840"/>
            <a:ext cx="641520" cy="465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568600" y="3502080"/>
            <a:ext cx="646200" cy="952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2556000" y="3495240"/>
            <a:ext cx="669960" cy="459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2556000" y="3495240"/>
            <a:ext cx="669960" cy="965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558880" y="3976560"/>
            <a:ext cx="655920" cy="487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3431880" y="3514680"/>
            <a:ext cx="638280" cy="449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419280" y="3963960"/>
            <a:ext cx="639720" cy="507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2562120" y="3963960"/>
            <a:ext cx="652680" cy="501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584680" y="3597120"/>
            <a:ext cx="1516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481720" y="3762360"/>
            <a:ext cx="14317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cess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350040" y="302904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344600" y="4017960"/>
            <a:ext cx="633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 (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452240" y="421956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519280" y="3946680"/>
            <a:ext cx="41400" cy="41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374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5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6" name=""/>
          <p:cNvSpPr/>
          <p:nvPr/>
        </p:nvSpPr>
        <p:spPr>
          <a:xfrm>
            <a:off x="4280040" y="3970440"/>
            <a:ext cx="163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3081240" y="1324080"/>
            <a:ext cx="35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roximação Uni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604920" y="2962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988880" y="2011320"/>
            <a:ext cx="750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22200" y="3127320"/>
            <a:ext cx="255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81040" y="312732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65360" y="312732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68040" y="312732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687200" y="312732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819320" y="312732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03280" y="3127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096880" y="31273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281200" y="312732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463720" y="312732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647680" y="312732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276800" y="3441600"/>
            <a:ext cx="100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u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390840" y="2662200"/>
            <a:ext cx="2897280" cy="155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323040" y="3449520"/>
            <a:ext cx="63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776840" y="1941480"/>
            <a:ext cx="1440" cy="684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716200" y="4373640"/>
            <a:ext cx="452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es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),  x = [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309920" y="4670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146240" y="5130720"/>
            <a:ext cx="7056360" cy="1341360"/>
            <a:chOff x="1146240" y="5130720"/>
            <a:chExt cx="7056360" cy="1341360"/>
          </a:xfrm>
        </p:grpSpPr>
        <p:sp>
          <p:nvSpPr>
            <p:cNvPr id="398" name=""/>
            <p:cNvSpPr/>
            <p:nvPr/>
          </p:nvSpPr>
          <p:spPr>
            <a:xfrm>
              <a:off x="1146240" y="5149800"/>
              <a:ext cx="7056360" cy="1322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1175400" y="5130720"/>
              <a:ext cx="6907680" cy="1250280"/>
              <a:chOff x="1175400" y="5130720"/>
              <a:chExt cx="6907680" cy="1250280"/>
            </a:xfrm>
          </p:grpSpPr>
          <p:sp>
            <p:nvSpPr>
              <p:cNvPr id="400" name=""/>
              <p:cNvSpPr/>
              <p:nvPr/>
            </p:nvSpPr>
            <p:spPr>
              <a:xfrm>
                <a:off x="1175400" y="5130720"/>
                <a:ext cx="6907680" cy="74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Propriedade de Aproximação Universal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 Narrow"/>
                  </a:rPr>
                  <a:t>: Dada uma função g(x) sobre u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Narrow"/>
                  </a:rPr>
                  <a:t>domínio X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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 Narrow"/>
                  </a:rPr>
                  <a:t> R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 Narrow"/>
                  </a:rPr>
                  <a:t>m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 Narrow"/>
                  </a:rPr>
                  <a:t> e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 Narrow"/>
                  </a:rPr>
                  <a:t> &gt; 0, é possível construir f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 Narrow"/>
                  </a:rPr>
                  <a:t>Peso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 Narrow"/>
                  </a:rPr>
                  <a:t>(x) de modo que: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938680" y="5940360"/>
                <a:ext cx="35589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Narrow"/>
                  </a:rPr>
                  <a:t>| g (x) - f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 Narrow"/>
                  </a:rPr>
                  <a:t>Peso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 Narrow"/>
                  </a:rPr>
                  <a:t>(x) | &lt;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 Narrow"/>
                  </a:rPr>
                  <a:t>,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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 Narrow"/>
                  </a:rPr>
                  <a:t>x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 Narrow"/>
                  </a:rPr>
                  <a:t> X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2" name=""/>
          <p:cNvSpPr/>
          <p:nvPr/>
        </p:nvSpPr>
        <p:spPr>
          <a:xfrm>
            <a:off x="2328480" y="2700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484000" y="2840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312280" y="30481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485440" y="3170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269440" y="37368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444400" y="38606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679840" y="287496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706840" y="3965400"/>
            <a:ext cx="653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706840" y="3274920"/>
            <a:ext cx="653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413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4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"/>
          <p:cNvGrpSpPr/>
          <p:nvPr/>
        </p:nvGrpSpPr>
        <p:grpSpPr>
          <a:xfrm>
            <a:off x="0" y="1176480"/>
            <a:ext cx="8061120" cy="5681160"/>
            <a:chOff x="0" y="1176480"/>
            <a:chExt cx="8061120" cy="5681160"/>
          </a:xfrm>
        </p:grpSpPr>
        <p:pic>
          <p:nvPicPr>
            <p:cNvPr id="416" name="ecg" descr=""/>
            <p:cNvPicPr/>
            <p:nvPr/>
          </p:nvPicPr>
          <p:blipFill>
            <a:blip r:embed="rId1"/>
            <a:stretch/>
          </p:blipFill>
          <p:spPr>
            <a:xfrm>
              <a:off x="103320" y="1302480"/>
              <a:ext cx="7861680" cy="548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0" y="1176480"/>
              <a:ext cx="1247400" cy="568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91280" y="6322320"/>
              <a:ext cx="7269840" cy="49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988920" y="1198440"/>
              <a:ext cx="7072200" cy="92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818440" y="1324080"/>
            <a:ext cx="412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ais Eletrocardiográ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423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4" name="ASA_CO13" descr=""/>
            <p:cNvPicPr/>
            <p:nvPr/>
          </p:nvPicPr>
          <p:blipFill>
            <a:blip r:embed="rId2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ecg-pqrst" descr=""/>
          <p:cNvPicPr/>
          <p:nvPr/>
        </p:nvPicPr>
        <p:blipFill>
          <a:blip r:embed="rId1"/>
          <a:stretch/>
        </p:blipFill>
        <p:spPr>
          <a:xfrm>
            <a:off x="1430280" y="1928880"/>
            <a:ext cx="6870600" cy="45115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2818440" y="1324080"/>
            <a:ext cx="412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ais Eletrocardiográ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429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0" name="ASA_CO13" descr=""/>
            <p:cNvPicPr/>
            <p:nvPr/>
          </p:nvPicPr>
          <p:blipFill>
            <a:blip r:embed="rId2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"/>
          <p:cNvGraphicFramePr/>
          <p:nvPr/>
        </p:nvGraphicFramePr>
        <p:xfrm>
          <a:off x="1716120" y="1998720"/>
          <a:ext cx="5919840" cy="46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6120" y="1998720"/>
                    <a:ext cx="5919840" cy="46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16280" y="1305000"/>
            <a:ext cx="40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juste de Ondas P de E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436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7" name="ASA_CO13" descr=""/>
            <p:cNvPicPr/>
            <p:nvPr/>
          </p:nvPicPr>
          <p:blipFill>
            <a:blip r:embed="rId3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8" name=""/>
          <p:cNvGraphicFramePr/>
          <p:nvPr/>
        </p:nvGraphicFramePr>
        <p:xfrm>
          <a:off x="1569960" y="1989000"/>
          <a:ext cx="6110280" cy="457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9960" y="1989000"/>
                    <a:ext cx="6110280" cy="45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816280" y="1305000"/>
            <a:ext cx="40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juste de Ondas P de E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443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4" name="ASA_CO13" descr=""/>
            <p:cNvPicPr/>
            <p:nvPr/>
          </p:nvPicPr>
          <p:blipFill>
            <a:blip r:embed="rId3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5" name=""/>
          <p:cNvGraphicFramePr/>
          <p:nvPr/>
        </p:nvGraphicFramePr>
        <p:xfrm>
          <a:off x="1606680" y="1971720"/>
          <a:ext cx="6110280" cy="45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6680" y="1971720"/>
                    <a:ext cx="6110280" cy="45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7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816280" y="1305000"/>
            <a:ext cx="40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juste de Ondas P de E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450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1" name="ASA_CO13" descr=""/>
            <p:cNvPicPr/>
            <p:nvPr/>
          </p:nvPicPr>
          <p:blipFill>
            <a:blip r:embed="rId3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1821960" y="1343160"/>
            <a:ext cx="57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juntos Nebulosos (Difusos, Fuzz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898640" y="2262240"/>
            <a:ext cx="6003720" cy="3954960"/>
            <a:chOff x="1898640" y="2262240"/>
            <a:chExt cx="6003720" cy="3954960"/>
          </a:xfrm>
        </p:grpSpPr>
        <p:sp>
          <p:nvSpPr>
            <p:cNvPr id="454" name=""/>
            <p:cNvSpPr/>
            <p:nvPr/>
          </p:nvSpPr>
          <p:spPr>
            <a:xfrm>
              <a:off x="1898640" y="5317200"/>
              <a:ext cx="6003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2115720" y="2503440"/>
              <a:ext cx="0" cy="310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130120" y="3460680"/>
              <a:ext cx="3690360" cy="1912320"/>
            </a:xfrm>
            <a:custGeom>
              <a:avLst/>
              <a:gdLst/>
              <a:ahLst/>
              <a:rect l="l" t="t" r="r" b="b"/>
              <a:pathLst>
                <a:path w="2037" h="1093">
                  <a:moveTo>
                    <a:pt x="0" y="1061"/>
                  </a:moveTo>
                  <a:cubicBezTo>
                    <a:pt x="124" y="1041"/>
                    <a:pt x="550" y="1093"/>
                    <a:pt x="744" y="941"/>
                  </a:cubicBezTo>
                  <a:cubicBezTo>
                    <a:pt x="938" y="789"/>
                    <a:pt x="949" y="302"/>
                    <a:pt x="1164" y="151"/>
                  </a:cubicBezTo>
                  <a:cubicBezTo>
                    <a:pt x="1379" y="0"/>
                    <a:pt x="1855" y="57"/>
                    <a:pt x="2037" y="3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811680" y="3973320"/>
              <a:ext cx="0" cy="1404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811680" y="5848920"/>
              <a:ext cx="11300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2681280" y="5848920"/>
              <a:ext cx="1130400" cy="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985360" y="4821840"/>
              <a:ext cx="1791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Temperatura (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 Narrow"/>
                </a:rPr>
                <a:t>o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62560" y="5378400"/>
              <a:ext cx="38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3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130120" y="2262240"/>
              <a:ext cx="1016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Feb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814560" y="584892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Febr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925720" y="5848920"/>
              <a:ext cx="77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Afebr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467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8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Langbetacell" descr=""/>
          <p:cNvPicPr/>
          <p:nvPr/>
        </p:nvPicPr>
        <p:blipFill>
          <a:blip r:embed="rId1"/>
          <a:stretch/>
        </p:blipFill>
        <p:spPr>
          <a:xfrm>
            <a:off x="2279520" y="2130480"/>
            <a:ext cx="4721400" cy="355896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59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" name="ASA_CO13" descr=""/>
            <p:cNvPicPr/>
            <p:nvPr/>
          </p:nvPicPr>
          <p:blipFill>
            <a:blip r:embed="rId2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"/>
          <p:cNvSpPr/>
          <p:nvPr/>
        </p:nvSpPr>
        <p:spPr>
          <a:xfrm>
            <a:off x="1954080" y="1282680"/>
            <a:ext cx="52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e da Glice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1201680" y="2716200"/>
            <a:ext cx="6981840" cy="3601800"/>
            <a:chOff x="1201680" y="2716200"/>
            <a:chExt cx="6981840" cy="3601800"/>
          </a:xfrm>
        </p:grpSpPr>
        <p:sp>
          <p:nvSpPr>
            <p:cNvPr id="471" name=""/>
            <p:cNvSpPr/>
            <p:nvPr/>
          </p:nvSpPr>
          <p:spPr>
            <a:xfrm>
              <a:off x="1201680" y="6032520"/>
              <a:ext cx="6788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630920" y="5472000"/>
              <a:ext cx="55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err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489200" y="2716200"/>
              <a:ext cx="996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er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578040" y="4014360"/>
              <a:ext cx="896760" cy="20019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 flipV="1">
              <a:off x="4474800" y="4014360"/>
              <a:ext cx="895680" cy="20019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2666880" y="4028760"/>
              <a:ext cx="896760" cy="200340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 flipV="1">
              <a:off x="3563640" y="4028760"/>
              <a:ext cx="897120" cy="200340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4489200" y="4014360"/>
              <a:ext cx="895320" cy="2001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 flipV="1">
              <a:off x="5384520" y="4014360"/>
              <a:ext cx="897120" cy="2001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585800" y="4029120"/>
              <a:ext cx="10951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 flipV="1">
              <a:off x="2666520" y="4014360"/>
              <a:ext cx="896760" cy="200196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5370480" y="4028760"/>
              <a:ext cx="896760" cy="200340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6267240" y="4029120"/>
              <a:ext cx="1109520" cy="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305520" y="339552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N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982160" y="3395520"/>
              <a:ext cx="49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114080" y="33955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214240" y="3395520"/>
              <a:ext cx="45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351480" y="339552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P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4474800" y="2976480"/>
              <a:ext cx="0" cy="334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491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2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3" name=""/>
          <p:cNvSpPr/>
          <p:nvPr/>
        </p:nvSpPr>
        <p:spPr>
          <a:xfrm>
            <a:off x="1808640" y="1298520"/>
            <a:ext cx="58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ociação com Variáveis Linguís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266760" y="1940040"/>
            <a:ext cx="8612280" cy="658800"/>
            <a:chOff x="266760" y="1940040"/>
            <a:chExt cx="8612280" cy="658800"/>
          </a:xfrm>
        </p:grpSpPr>
        <p:sp>
          <p:nvSpPr>
            <p:cNvPr id="495" name=""/>
            <p:cNvSpPr/>
            <p:nvPr/>
          </p:nvSpPr>
          <p:spPr>
            <a:xfrm>
              <a:off x="266760" y="1940040"/>
              <a:ext cx="1833480" cy="635040"/>
            </a:xfrm>
            <a:prstGeom prst="wedgeRoundRectCallout">
              <a:avLst>
                <a:gd name="adj1" fmla="val 47662"/>
                <a:gd name="adj2" fmla="val 175500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N</a:t>
              </a: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egativo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G</a:t>
              </a: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ran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184480" y="1951200"/>
              <a:ext cx="1886040" cy="634680"/>
            </a:xfrm>
            <a:prstGeom prst="wedgeRoundRectCallout">
              <a:avLst>
                <a:gd name="adj1" fmla="val 11277"/>
                <a:gd name="adj2" fmla="val 178250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N</a:t>
              </a: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egativo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P</a:t>
              </a: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eque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111640" y="1952640"/>
              <a:ext cx="1886040" cy="635040"/>
            </a:xfrm>
            <a:prstGeom prst="wedgeRoundRectCallout">
              <a:avLst>
                <a:gd name="adj1" fmla="val -33500"/>
                <a:gd name="adj2" fmla="val 175250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P</a:t>
              </a: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ositivo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P</a:t>
              </a: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eque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116840" y="1963800"/>
              <a:ext cx="1762200" cy="635040"/>
            </a:xfrm>
            <a:prstGeom prst="wedgeRoundRectCallout">
              <a:avLst>
                <a:gd name="adj1" fmla="val -79550"/>
                <a:gd name="adj2" fmla="val 183750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P</a:t>
              </a: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ositivo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G</a:t>
              </a: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ran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170240" y="1963800"/>
              <a:ext cx="863640" cy="635040"/>
            </a:xfrm>
            <a:prstGeom prst="wedgeRoundRectCallout">
              <a:avLst>
                <a:gd name="adj1" fmla="val -40625"/>
                <a:gd name="adj2" fmla="val 180500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Z</a:t>
              </a: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e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2046240" y="5732640"/>
            <a:ext cx="5133960" cy="669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502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3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4" name=""/>
          <p:cNvSpPr/>
          <p:nvPr/>
        </p:nvSpPr>
        <p:spPr>
          <a:xfrm>
            <a:off x="2513160" y="3179880"/>
            <a:ext cx="168120" cy="19080"/>
          </a:xfrm>
          <a:custGeom>
            <a:avLst/>
            <a:gdLst/>
            <a:ahLst/>
            <a:rect l="l" t="t" r="r" b="b"/>
            <a:pathLst>
              <a:path w="212" h="24">
                <a:moveTo>
                  <a:pt x="191" y="6"/>
                </a:moveTo>
                <a:lnTo>
                  <a:pt x="201" y="0"/>
                </a:lnTo>
                <a:lnTo>
                  <a:pt x="0" y="1"/>
                </a:lnTo>
                <a:lnTo>
                  <a:pt x="0" y="24"/>
                </a:lnTo>
                <a:lnTo>
                  <a:pt x="201" y="23"/>
                </a:lnTo>
                <a:lnTo>
                  <a:pt x="212" y="16"/>
                </a:lnTo>
                <a:lnTo>
                  <a:pt x="201" y="23"/>
                </a:lnTo>
                <a:lnTo>
                  <a:pt x="208" y="21"/>
                </a:lnTo>
                <a:lnTo>
                  <a:pt x="212" y="16"/>
                </a:lnTo>
                <a:lnTo>
                  <a:pt x="191" y="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658960" y="2608200"/>
            <a:ext cx="279360" cy="584280"/>
          </a:xfrm>
          <a:custGeom>
            <a:avLst/>
            <a:gdLst/>
            <a:ahLst/>
            <a:rect l="l" t="t" r="r" b="b"/>
            <a:pathLst>
              <a:path w="351" h="735">
                <a:moveTo>
                  <a:pt x="341" y="0"/>
                </a:moveTo>
                <a:lnTo>
                  <a:pt x="331" y="6"/>
                </a:lnTo>
                <a:lnTo>
                  <a:pt x="0" y="725"/>
                </a:lnTo>
                <a:lnTo>
                  <a:pt x="21" y="735"/>
                </a:lnTo>
                <a:lnTo>
                  <a:pt x="351" y="16"/>
                </a:lnTo>
                <a:lnTo>
                  <a:pt x="341" y="22"/>
                </a:lnTo>
                <a:lnTo>
                  <a:pt x="341" y="0"/>
                </a:lnTo>
                <a:lnTo>
                  <a:pt x="334" y="0"/>
                </a:lnTo>
                <a:lnTo>
                  <a:pt x="331" y="6"/>
                </a:lnTo>
                <a:lnTo>
                  <a:pt x="341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928960" y="2608200"/>
            <a:ext cx="326880" cy="22320"/>
          </a:xfrm>
          <a:custGeom>
            <a:avLst/>
            <a:gdLst/>
            <a:ahLst/>
            <a:rect l="l" t="t" r="r" b="b"/>
            <a:pathLst>
              <a:path w="412" h="26">
                <a:moveTo>
                  <a:pt x="412" y="12"/>
                </a:moveTo>
                <a:lnTo>
                  <a:pt x="402" y="3"/>
                </a:lnTo>
                <a:lnTo>
                  <a:pt x="0" y="0"/>
                </a:lnTo>
                <a:lnTo>
                  <a:pt x="0" y="22"/>
                </a:lnTo>
                <a:lnTo>
                  <a:pt x="402" y="26"/>
                </a:lnTo>
                <a:lnTo>
                  <a:pt x="391" y="17"/>
                </a:lnTo>
                <a:lnTo>
                  <a:pt x="412" y="12"/>
                </a:lnTo>
                <a:lnTo>
                  <a:pt x="411" y="5"/>
                </a:lnTo>
                <a:lnTo>
                  <a:pt x="402" y="3"/>
                </a:lnTo>
                <a:lnTo>
                  <a:pt x="412" y="1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240000" y="2619360"/>
            <a:ext cx="160560" cy="577800"/>
          </a:xfrm>
          <a:custGeom>
            <a:avLst/>
            <a:gdLst/>
            <a:ahLst/>
            <a:rect l="l" t="t" r="r" b="b"/>
            <a:pathLst>
              <a:path w="202" h="730">
                <a:moveTo>
                  <a:pt x="192" y="707"/>
                </a:moveTo>
                <a:lnTo>
                  <a:pt x="202" y="716"/>
                </a:lnTo>
                <a:lnTo>
                  <a:pt x="21" y="0"/>
                </a:lnTo>
                <a:lnTo>
                  <a:pt x="0" y="5"/>
                </a:lnTo>
                <a:lnTo>
                  <a:pt x="182" y="721"/>
                </a:lnTo>
                <a:lnTo>
                  <a:pt x="192" y="730"/>
                </a:lnTo>
                <a:lnTo>
                  <a:pt x="182" y="721"/>
                </a:lnTo>
                <a:lnTo>
                  <a:pt x="183" y="730"/>
                </a:lnTo>
                <a:lnTo>
                  <a:pt x="192" y="730"/>
                </a:lnTo>
                <a:lnTo>
                  <a:pt x="192" y="70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389400" y="3179880"/>
            <a:ext cx="244440" cy="17280"/>
          </a:xfrm>
          <a:custGeom>
            <a:avLst/>
            <a:gdLst/>
            <a:ahLst/>
            <a:rect l="l" t="t" r="r" b="b"/>
            <a:pathLst>
              <a:path w="307" h="23">
                <a:moveTo>
                  <a:pt x="307" y="11"/>
                </a:moveTo>
                <a:lnTo>
                  <a:pt x="307" y="0"/>
                </a:lnTo>
                <a:lnTo>
                  <a:pt x="0" y="0"/>
                </a:lnTo>
                <a:lnTo>
                  <a:pt x="0" y="23"/>
                </a:lnTo>
                <a:lnTo>
                  <a:pt x="307" y="23"/>
                </a:lnTo>
                <a:lnTo>
                  <a:pt x="307" y="1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122560" y="2598840"/>
            <a:ext cx="117360" cy="9360"/>
          </a:xfrm>
          <a:custGeom>
            <a:avLst/>
            <a:gdLst/>
            <a:ahLst/>
            <a:rect l="l" t="t" r="r" b="b"/>
            <a:pathLst>
              <a:path w="148" h="13">
                <a:moveTo>
                  <a:pt x="148" y="6"/>
                </a:moveTo>
                <a:lnTo>
                  <a:pt x="148" y="0"/>
                </a:lnTo>
                <a:lnTo>
                  <a:pt x="0" y="0"/>
                </a:lnTo>
                <a:lnTo>
                  <a:pt x="0" y="13"/>
                </a:lnTo>
                <a:lnTo>
                  <a:pt x="148" y="13"/>
                </a:lnTo>
                <a:lnTo>
                  <a:pt x="148" y="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982880" y="25509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643120" y="16812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313000" y="238284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403000" y="2382840"/>
            <a:ext cx="9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665520" y="28875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785760" y="2962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262240" y="3711600"/>
            <a:ext cx="136440" cy="590400"/>
          </a:xfrm>
          <a:custGeom>
            <a:avLst/>
            <a:gdLst/>
            <a:ahLst/>
            <a:rect l="l" t="t" r="r" b="b"/>
            <a:pathLst>
              <a:path w="171" h="744">
                <a:moveTo>
                  <a:pt x="161" y="2"/>
                </a:moveTo>
                <a:lnTo>
                  <a:pt x="150" y="9"/>
                </a:lnTo>
                <a:lnTo>
                  <a:pt x="0" y="739"/>
                </a:lnTo>
                <a:lnTo>
                  <a:pt x="20" y="744"/>
                </a:lnTo>
                <a:lnTo>
                  <a:pt x="171" y="14"/>
                </a:lnTo>
                <a:lnTo>
                  <a:pt x="161" y="22"/>
                </a:lnTo>
                <a:lnTo>
                  <a:pt x="161" y="0"/>
                </a:lnTo>
                <a:lnTo>
                  <a:pt x="152" y="0"/>
                </a:lnTo>
                <a:lnTo>
                  <a:pt x="150" y="9"/>
                </a:lnTo>
                <a:lnTo>
                  <a:pt x="161" y="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390760" y="3710160"/>
            <a:ext cx="249120" cy="18720"/>
          </a:xfrm>
          <a:custGeom>
            <a:avLst/>
            <a:gdLst/>
            <a:ahLst/>
            <a:rect l="l" t="t" r="r" b="b"/>
            <a:pathLst>
              <a:path w="315" h="24">
                <a:moveTo>
                  <a:pt x="315" y="7"/>
                </a:moveTo>
                <a:lnTo>
                  <a:pt x="306" y="3"/>
                </a:lnTo>
                <a:lnTo>
                  <a:pt x="0" y="0"/>
                </a:lnTo>
                <a:lnTo>
                  <a:pt x="0" y="20"/>
                </a:lnTo>
                <a:lnTo>
                  <a:pt x="306" y="24"/>
                </a:lnTo>
                <a:lnTo>
                  <a:pt x="297" y="20"/>
                </a:lnTo>
                <a:lnTo>
                  <a:pt x="315" y="7"/>
                </a:lnTo>
                <a:lnTo>
                  <a:pt x="312" y="3"/>
                </a:lnTo>
                <a:lnTo>
                  <a:pt x="306" y="2"/>
                </a:lnTo>
                <a:lnTo>
                  <a:pt x="315" y="7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625840" y="3719520"/>
            <a:ext cx="377640" cy="588960"/>
          </a:xfrm>
          <a:custGeom>
            <a:avLst/>
            <a:gdLst/>
            <a:ahLst/>
            <a:rect l="l" t="t" r="r" b="b"/>
            <a:pathLst>
              <a:path w="474" h="744">
                <a:moveTo>
                  <a:pt x="465" y="721"/>
                </a:moveTo>
                <a:lnTo>
                  <a:pt x="474" y="726"/>
                </a:lnTo>
                <a:lnTo>
                  <a:pt x="18" y="0"/>
                </a:lnTo>
                <a:lnTo>
                  <a:pt x="0" y="13"/>
                </a:lnTo>
                <a:lnTo>
                  <a:pt x="456" y="739"/>
                </a:lnTo>
                <a:lnTo>
                  <a:pt x="465" y="744"/>
                </a:lnTo>
                <a:lnTo>
                  <a:pt x="456" y="739"/>
                </a:lnTo>
                <a:lnTo>
                  <a:pt x="459" y="742"/>
                </a:lnTo>
                <a:lnTo>
                  <a:pt x="465" y="744"/>
                </a:lnTo>
                <a:lnTo>
                  <a:pt x="465" y="72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95560" y="4290840"/>
            <a:ext cx="244440" cy="17640"/>
          </a:xfrm>
          <a:custGeom>
            <a:avLst/>
            <a:gdLst/>
            <a:ahLst/>
            <a:rect l="l" t="t" r="r" b="b"/>
            <a:pathLst>
              <a:path w="308" h="23">
                <a:moveTo>
                  <a:pt x="308" y="11"/>
                </a:moveTo>
                <a:lnTo>
                  <a:pt x="308" y="0"/>
                </a:lnTo>
                <a:lnTo>
                  <a:pt x="0" y="0"/>
                </a:lnTo>
                <a:lnTo>
                  <a:pt x="0" y="23"/>
                </a:lnTo>
                <a:lnTo>
                  <a:pt x="308" y="23"/>
                </a:lnTo>
                <a:lnTo>
                  <a:pt x="308" y="1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982880" y="36720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313000" y="350208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406600" y="350208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654360" y="40402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773160" y="41162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330800" y="3179880"/>
            <a:ext cx="168120" cy="19080"/>
          </a:xfrm>
          <a:custGeom>
            <a:avLst/>
            <a:gdLst/>
            <a:ahLst/>
            <a:rect l="l" t="t" r="r" b="b"/>
            <a:pathLst>
              <a:path w="211" h="24">
                <a:moveTo>
                  <a:pt x="191" y="6"/>
                </a:moveTo>
                <a:lnTo>
                  <a:pt x="201" y="0"/>
                </a:lnTo>
                <a:lnTo>
                  <a:pt x="0" y="1"/>
                </a:lnTo>
                <a:lnTo>
                  <a:pt x="0" y="24"/>
                </a:lnTo>
                <a:lnTo>
                  <a:pt x="201" y="23"/>
                </a:lnTo>
                <a:lnTo>
                  <a:pt x="211" y="16"/>
                </a:lnTo>
                <a:lnTo>
                  <a:pt x="201" y="23"/>
                </a:lnTo>
                <a:lnTo>
                  <a:pt x="208" y="21"/>
                </a:lnTo>
                <a:lnTo>
                  <a:pt x="211" y="16"/>
                </a:lnTo>
                <a:lnTo>
                  <a:pt x="191" y="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483080" y="2612880"/>
            <a:ext cx="281160" cy="579600"/>
          </a:xfrm>
          <a:custGeom>
            <a:avLst/>
            <a:gdLst/>
            <a:ahLst/>
            <a:rect l="l" t="t" r="r" b="b"/>
            <a:pathLst>
              <a:path w="353" h="730">
                <a:moveTo>
                  <a:pt x="332" y="12"/>
                </a:moveTo>
                <a:lnTo>
                  <a:pt x="330" y="1"/>
                </a:lnTo>
                <a:lnTo>
                  <a:pt x="0" y="720"/>
                </a:lnTo>
                <a:lnTo>
                  <a:pt x="20" y="730"/>
                </a:lnTo>
                <a:lnTo>
                  <a:pt x="351" y="11"/>
                </a:lnTo>
                <a:lnTo>
                  <a:pt x="349" y="0"/>
                </a:lnTo>
                <a:lnTo>
                  <a:pt x="351" y="11"/>
                </a:lnTo>
                <a:lnTo>
                  <a:pt x="353" y="5"/>
                </a:lnTo>
                <a:lnTo>
                  <a:pt x="349" y="0"/>
                </a:lnTo>
                <a:lnTo>
                  <a:pt x="332" y="1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746600" y="2611440"/>
            <a:ext cx="476280" cy="585720"/>
          </a:xfrm>
          <a:custGeom>
            <a:avLst/>
            <a:gdLst/>
            <a:ahLst/>
            <a:rect l="l" t="t" r="r" b="b"/>
            <a:pathLst>
              <a:path w="612" h="755">
                <a:moveTo>
                  <a:pt x="603" y="732"/>
                </a:moveTo>
                <a:lnTo>
                  <a:pt x="612" y="737"/>
                </a:lnTo>
                <a:lnTo>
                  <a:pt x="18" y="0"/>
                </a:lnTo>
                <a:lnTo>
                  <a:pt x="0" y="13"/>
                </a:lnTo>
                <a:lnTo>
                  <a:pt x="595" y="750"/>
                </a:lnTo>
                <a:lnTo>
                  <a:pt x="603" y="755"/>
                </a:lnTo>
                <a:lnTo>
                  <a:pt x="595" y="750"/>
                </a:lnTo>
                <a:lnTo>
                  <a:pt x="598" y="755"/>
                </a:lnTo>
                <a:lnTo>
                  <a:pt x="603" y="755"/>
                </a:lnTo>
                <a:lnTo>
                  <a:pt x="603" y="73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216400" y="3179880"/>
            <a:ext cx="243000" cy="17280"/>
          </a:xfrm>
          <a:custGeom>
            <a:avLst/>
            <a:gdLst/>
            <a:ahLst/>
            <a:rect l="l" t="t" r="r" b="b"/>
            <a:pathLst>
              <a:path w="308" h="23">
                <a:moveTo>
                  <a:pt x="308" y="11"/>
                </a:moveTo>
                <a:lnTo>
                  <a:pt x="308" y="0"/>
                </a:lnTo>
                <a:lnTo>
                  <a:pt x="0" y="0"/>
                </a:lnTo>
                <a:lnTo>
                  <a:pt x="0" y="23"/>
                </a:lnTo>
                <a:lnTo>
                  <a:pt x="308" y="23"/>
                </a:lnTo>
                <a:lnTo>
                  <a:pt x="308" y="1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027320" y="2598840"/>
            <a:ext cx="117720" cy="9360"/>
          </a:xfrm>
          <a:custGeom>
            <a:avLst/>
            <a:gdLst/>
            <a:ahLst/>
            <a:rect l="l" t="t" r="r" b="b"/>
            <a:pathLst>
              <a:path w="148" h="13">
                <a:moveTo>
                  <a:pt x="148" y="6"/>
                </a:moveTo>
                <a:lnTo>
                  <a:pt x="148" y="0"/>
                </a:lnTo>
                <a:lnTo>
                  <a:pt x="0" y="0"/>
                </a:lnTo>
                <a:lnTo>
                  <a:pt x="0" y="13"/>
                </a:lnTo>
                <a:lnTo>
                  <a:pt x="148" y="13"/>
                </a:lnTo>
                <a:lnTo>
                  <a:pt x="148" y="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886200" y="25509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546440" y="16812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216320" y="238284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305600" y="238284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553000" y="29368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673240" y="3013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754520" y="3711600"/>
            <a:ext cx="325440" cy="600120"/>
          </a:xfrm>
          <a:custGeom>
            <a:avLst/>
            <a:gdLst/>
            <a:ahLst/>
            <a:rect l="l" t="t" r="r" b="b"/>
            <a:pathLst>
              <a:path w="408" h="756">
                <a:moveTo>
                  <a:pt x="398" y="0"/>
                </a:moveTo>
                <a:lnTo>
                  <a:pt x="388" y="7"/>
                </a:lnTo>
                <a:lnTo>
                  <a:pt x="0" y="746"/>
                </a:lnTo>
                <a:lnTo>
                  <a:pt x="20" y="756"/>
                </a:lnTo>
                <a:lnTo>
                  <a:pt x="408" y="17"/>
                </a:lnTo>
                <a:lnTo>
                  <a:pt x="398" y="23"/>
                </a:lnTo>
                <a:lnTo>
                  <a:pt x="398" y="0"/>
                </a:lnTo>
                <a:lnTo>
                  <a:pt x="391" y="2"/>
                </a:lnTo>
                <a:lnTo>
                  <a:pt x="388" y="7"/>
                </a:lnTo>
                <a:lnTo>
                  <a:pt x="398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070600" y="3711600"/>
            <a:ext cx="333360" cy="19080"/>
          </a:xfrm>
          <a:custGeom>
            <a:avLst/>
            <a:gdLst/>
            <a:ahLst/>
            <a:rect l="l" t="t" r="r" b="b"/>
            <a:pathLst>
              <a:path w="419" h="25">
                <a:moveTo>
                  <a:pt x="404" y="5"/>
                </a:moveTo>
                <a:lnTo>
                  <a:pt x="412" y="2"/>
                </a:lnTo>
                <a:lnTo>
                  <a:pt x="0" y="0"/>
                </a:lnTo>
                <a:lnTo>
                  <a:pt x="0" y="23"/>
                </a:lnTo>
                <a:lnTo>
                  <a:pt x="412" y="25"/>
                </a:lnTo>
                <a:lnTo>
                  <a:pt x="419" y="21"/>
                </a:lnTo>
                <a:lnTo>
                  <a:pt x="412" y="25"/>
                </a:lnTo>
                <a:lnTo>
                  <a:pt x="416" y="23"/>
                </a:lnTo>
                <a:lnTo>
                  <a:pt x="419" y="21"/>
                </a:lnTo>
                <a:lnTo>
                  <a:pt x="404" y="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392800" y="3714840"/>
            <a:ext cx="12600" cy="126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7" y="15"/>
                </a:moveTo>
                <a:lnTo>
                  <a:pt x="1" y="0"/>
                </a:lnTo>
                <a:lnTo>
                  <a:pt x="0" y="1"/>
                </a:lnTo>
                <a:lnTo>
                  <a:pt x="15" y="17"/>
                </a:lnTo>
                <a:lnTo>
                  <a:pt x="17" y="15"/>
                </a:lnTo>
                <a:lnTo>
                  <a:pt x="1" y="0"/>
                </a:lnTo>
                <a:lnTo>
                  <a:pt x="17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392800" y="3714840"/>
            <a:ext cx="12600" cy="12600"/>
          </a:xfrm>
          <a:custGeom>
            <a:avLst/>
            <a:gdLst/>
            <a:ahLst/>
            <a:rect l="l" t="t" r="r" b="b"/>
            <a:pathLst>
              <a:path w="17" h="17">
                <a:moveTo>
                  <a:pt x="8" y="9"/>
                </a:moveTo>
                <a:lnTo>
                  <a:pt x="15" y="17"/>
                </a:lnTo>
                <a:lnTo>
                  <a:pt x="17" y="15"/>
                </a:lnTo>
                <a:lnTo>
                  <a:pt x="1" y="0"/>
                </a:lnTo>
                <a:lnTo>
                  <a:pt x="0" y="1"/>
                </a:lnTo>
                <a:lnTo>
                  <a:pt x="8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887640" y="36720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548240" y="28004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262400" y="354024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350600" y="3540240"/>
            <a:ext cx="9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608800" y="40514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729040" y="4127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081160" y="5154480"/>
            <a:ext cx="1612800" cy="17640"/>
          </a:xfrm>
          <a:custGeom>
            <a:avLst/>
            <a:gdLst/>
            <a:ahLst/>
            <a:rect l="l" t="t" r="r" b="b"/>
            <a:pathLst>
              <a:path w="2032" h="23">
                <a:moveTo>
                  <a:pt x="2032" y="12"/>
                </a:moveTo>
                <a:lnTo>
                  <a:pt x="2032" y="0"/>
                </a:lnTo>
                <a:lnTo>
                  <a:pt x="0" y="0"/>
                </a:lnTo>
                <a:lnTo>
                  <a:pt x="0" y="23"/>
                </a:lnTo>
                <a:lnTo>
                  <a:pt x="2032" y="23"/>
                </a:lnTo>
                <a:lnTo>
                  <a:pt x="2032" y="1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687840" y="5106960"/>
            <a:ext cx="110880" cy="111240"/>
          </a:xfrm>
          <a:custGeom>
            <a:avLst/>
            <a:gdLst/>
            <a:ahLst/>
            <a:rect l="l" t="t" r="r" b="b"/>
            <a:pathLst>
              <a:path w="141" h="140">
                <a:moveTo>
                  <a:pt x="141" y="70"/>
                </a:moveTo>
                <a:lnTo>
                  <a:pt x="141" y="70"/>
                </a:lnTo>
                <a:lnTo>
                  <a:pt x="0" y="0"/>
                </a:lnTo>
                <a:lnTo>
                  <a:pt x="0" y="140"/>
                </a:lnTo>
                <a:lnTo>
                  <a:pt x="141" y="70"/>
                </a:lnTo>
                <a:lnTo>
                  <a:pt x="141" y="7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155680" y="5092560"/>
            <a:ext cx="17640" cy="127080"/>
          </a:xfrm>
          <a:custGeom>
            <a:avLst/>
            <a:gdLst/>
            <a:ahLst/>
            <a:rect l="l" t="t" r="r" b="b"/>
            <a:pathLst>
              <a:path w="23" h="159">
                <a:moveTo>
                  <a:pt x="12" y="159"/>
                </a:moveTo>
                <a:lnTo>
                  <a:pt x="23" y="159"/>
                </a:lnTo>
                <a:lnTo>
                  <a:pt x="23" y="0"/>
                </a:lnTo>
                <a:lnTo>
                  <a:pt x="0" y="0"/>
                </a:lnTo>
                <a:lnTo>
                  <a:pt x="0" y="159"/>
                </a:lnTo>
                <a:lnTo>
                  <a:pt x="12" y="15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130480" y="53020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795760" y="52959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862000" y="5378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002120" y="5154480"/>
            <a:ext cx="1612800" cy="17640"/>
          </a:xfrm>
          <a:custGeom>
            <a:avLst/>
            <a:gdLst/>
            <a:ahLst/>
            <a:rect l="l" t="t" r="r" b="b"/>
            <a:pathLst>
              <a:path w="2032" h="23">
                <a:moveTo>
                  <a:pt x="2032" y="12"/>
                </a:moveTo>
                <a:lnTo>
                  <a:pt x="2032" y="0"/>
                </a:lnTo>
                <a:lnTo>
                  <a:pt x="0" y="0"/>
                </a:lnTo>
                <a:lnTo>
                  <a:pt x="0" y="23"/>
                </a:lnTo>
                <a:lnTo>
                  <a:pt x="2032" y="23"/>
                </a:lnTo>
                <a:lnTo>
                  <a:pt x="2032" y="1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608800" y="5106960"/>
            <a:ext cx="110880" cy="111240"/>
          </a:xfrm>
          <a:custGeom>
            <a:avLst/>
            <a:gdLst/>
            <a:ahLst/>
            <a:rect l="l" t="t" r="r" b="b"/>
            <a:pathLst>
              <a:path w="141" h="140">
                <a:moveTo>
                  <a:pt x="141" y="70"/>
                </a:moveTo>
                <a:lnTo>
                  <a:pt x="141" y="70"/>
                </a:lnTo>
                <a:lnTo>
                  <a:pt x="0" y="0"/>
                </a:lnTo>
                <a:lnTo>
                  <a:pt x="0" y="140"/>
                </a:lnTo>
                <a:lnTo>
                  <a:pt x="141" y="70"/>
                </a:lnTo>
                <a:lnTo>
                  <a:pt x="141" y="7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076640" y="5092560"/>
            <a:ext cx="17640" cy="127080"/>
          </a:xfrm>
          <a:custGeom>
            <a:avLst/>
            <a:gdLst/>
            <a:ahLst/>
            <a:rect l="l" t="t" r="r" b="b"/>
            <a:pathLst>
              <a:path w="23" h="159">
                <a:moveTo>
                  <a:pt x="12" y="159"/>
                </a:moveTo>
                <a:lnTo>
                  <a:pt x="23" y="159"/>
                </a:lnTo>
                <a:lnTo>
                  <a:pt x="23" y="0"/>
                </a:lnTo>
                <a:lnTo>
                  <a:pt x="0" y="0"/>
                </a:lnTo>
                <a:lnTo>
                  <a:pt x="0" y="159"/>
                </a:lnTo>
                <a:lnTo>
                  <a:pt x="12" y="15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051440" y="53020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960800" y="52959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028840" y="5378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824200" y="4959360"/>
            <a:ext cx="28440" cy="198360"/>
          </a:xfrm>
          <a:custGeom>
            <a:avLst/>
            <a:gdLst/>
            <a:ahLst/>
            <a:rect l="l" t="t" r="r" b="b"/>
            <a:pathLst>
              <a:path w="36" h="249">
                <a:moveTo>
                  <a:pt x="18" y="0"/>
                </a:moveTo>
                <a:lnTo>
                  <a:pt x="0" y="0"/>
                </a:lnTo>
                <a:lnTo>
                  <a:pt x="0" y="249"/>
                </a:lnTo>
                <a:lnTo>
                  <a:pt x="36" y="249"/>
                </a:lnTo>
                <a:lnTo>
                  <a:pt x="36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754360" y="4930920"/>
            <a:ext cx="96840" cy="126720"/>
          </a:xfrm>
          <a:custGeom>
            <a:avLst/>
            <a:gdLst/>
            <a:ahLst/>
            <a:rect l="l" t="t" r="r" b="b"/>
            <a:pathLst>
              <a:path w="122" h="160">
                <a:moveTo>
                  <a:pt x="122" y="0"/>
                </a:moveTo>
                <a:lnTo>
                  <a:pt x="91" y="0"/>
                </a:lnTo>
                <a:lnTo>
                  <a:pt x="0" y="141"/>
                </a:lnTo>
                <a:lnTo>
                  <a:pt x="30" y="160"/>
                </a:lnTo>
                <a:lnTo>
                  <a:pt x="122" y="19"/>
                </a:lnTo>
                <a:lnTo>
                  <a:pt x="91" y="19"/>
                </a:lnTo>
                <a:lnTo>
                  <a:pt x="122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825640" y="4913280"/>
            <a:ext cx="25560" cy="17640"/>
          </a:xfrm>
          <a:custGeom>
            <a:avLst/>
            <a:gdLst/>
            <a:ahLst/>
            <a:rect l="l" t="t" r="r" b="b"/>
            <a:pathLst>
              <a:path w="31" h="22">
                <a:moveTo>
                  <a:pt x="31" y="22"/>
                </a:moveTo>
                <a:lnTo>
                  <a:pt x="15" y="0"/>
                </a:lnTo>
                <a:lnTo>
                  <a:pt x="0" y="22"/>
                </a:lnTo>
                <a:lnTo>
                  <a:pt x="31" y="2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825640" y="4930920"/>
            <a:ext cx="96840" cy="126720"/>
          </a:xfrm>
          <a:custGeom>
            <a:avLst/>
            <a:gdLst/>
            <a:ahLst/>
            <a:rect l="l" t="t" r="r" b="b"/>
            <a:pathLst>
              <a:path w="121" h="160">
                <a:moveTo>
                  <a:pt x="107" y="150"/>
                </a:moveTo>
                <a:lnTo>
                  <a:pt x="121" y="141"/>
                </a:lnTo>
                <a:lnTo>
                  <a:pt x="31" y="0"/>
                </a:lnTo>
                <a:lnTo>
                  <a:pt x="0" y="19"/>
                </a:lnTo>
                <a:lnTo>
                  <a:pt x="92" y="160"/>
                </a:lnTo>
                <a:lnTo>
                  <a:pt x="107" y="15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973760" y="4957920"/>
            <a:ext cx="27000" cy="198360"/>
          </a:xfrm>
          <a:custGeom>
            <a:avLst/>
            <a:gdLst/>
            <a:ahLst/>
            <a:rect l="l" t="t" r="r" b="b"/>
            <a:pathLst>
              <a:path w="36" h="250">
                <a:moveTo>
                  <a:pt x="18" y="0"/>
                </a:moveTo>
                <a:lnTo>
                  <a:pt x="0" y="0"/>
                </a:lnTo>
                <a:lnTo>
                  <a:pt x="0" y="250"/>
                </a:lnTo>
                <a:lnTo>
                  <a:pt x="36" y="250"/>
                </a:lnTo>
                <a:lnTo>
                  <a:pt x="36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03920" y="4927680"/>
            <a:ext cx="95040" cy="128520"/>
          </a:xfrm>
          <a:custGeom>
            <a:avLst/>
            <a:gdLst/>
            <a:ahLst/>
            <a:rect l="l" t="t" r="r" b="b"/>
            <a:pathLst>
              <a:path w="121" h="161">
                <a:moveTo>
                  <a:pt x="121" y="0"/>
                </a:moveTo>
                <a:lnTo>
                  <a:pt x="91" y="0"/>
                </a:lnTo>
                <a:lnTo>
                  <a:pt x="0" y="142"/>
                </a:lnTo>
                <a:lnTo>
                  <a:pt x="30" y="161"/>
                </a:lnTo>
                <a:lnTo>
                  <a:pt x="121" y="19"/>
                </a:lnTo>
                <a:lnTo>
                  <a:pt x="91" y="19"/>
                </a:lnTo>
                <a:lnTo>
                  <a:pt x="121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975200" y="4911840"/>
            <a:ext cx="23760" cy="15840"/>
          </a:xfrm>
          <a:custGeom>
            <a:avLst/>
            <a:gdLst/>
            <a:ahLst/>
            <a:rect l="l" t="t" r="r" b="b"/>
            <a:pathLst>
              <a:path w="30" h="22">
                <a:moveTo>
                  <a:pt x="30" y="22"/>
                </a:moveTo>
                <a:lnTo>
                  <a:pt x="15" y="0"/>
                </a:lnTo>
                <a:lnTo>
                  <a:pt x="0" y="22"/>
                </a:lnTo>
                <a:lnTo>
                  <a:pt x="30" y="2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975200" y="4927680"/>
            <a:ext cx="95400" cy="128520"/>
          </a:xfrm>
          <a:custGeom>
            <a:avLst/>
            <a:gdLst/>
            <a:ahLst/>
            <a:rect l="l" t="t" r="r" b="b"/>
            <a:pathLst>
              <a:path w="121" h="161">
                <a:moveTo>
                  <a:pt x="107" y="150"/>
                </a:moveTo>
                <a:lnTo>
                  <a:pt x="121" y="142"/>
                </a:lnTo>
                <a:lnTo>
                  <a:pt x="30" y="0"/>
                </a:lnTo>
                <a:lnTo>
                  <a:pt x="0" y="19"/>
                </a:lnTo>
                <a:lnTo>
                  <a:pt x="92" y="161"/>
                </a:lnTo>
                <a:lnTo>
                  <a:pt x="107" y="15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370560" y="5154480"/>
            <a:ext cx="1612800" cy="17640"/>
          </a:xfrm>
          <a:custGeom>
            <a:avLst/>
            <a:gdLst/>
            <a:ahLst/>
            <a:rect l="l" t="t" r="r" b="b"/>
            <a:pathLst>
              <a:path w="2032" h="23">
                <a:moveTo>
                  <a:pt x="2032" y="12"/>
                </a:moveTo>
                <a:lnTo>
                  <a:pt x="2032" y="0"/>
                </a:lnTo>
                <a:lnTo>
                  <a:pt x="0" y="0"/>
                </a:lnTo>
                <a:lnTo>
                  <a:pt x="0" y="23"/>
                </a:lnTo>
                <a:lnTo>
                  <a:pt x="2032" y="23"/>
                </a:lnTo>
                <a:lnTo>
                  <a:pt x="2032" y="1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977240" y="5106960"/>
            <a:ext cx="111240" cy="111240"/>
          </a:xfrm>
          <a:custGeom>
            <a:avLst/>
            <a:gdLst/>
            <a:ahLst/>
            <a:rect l="l" t="t" r="r" b="b"/>
            <a:pathLst>
              <a:path w="140" h="140">
                <a:moveTo>
                  <a:pt x="140" y="70"/>
                </a:moveTo>
                <a:lnTo>
                  <a:pt x="140" y="70"/>
                </a:lnTo>
                <a:lnTo>
                  <a:pt x="0" y="0"/>
                </a:lnTo>
                <a:lnTo>
                  <a:pt x="0" y="140"/>
                </a:lnTo>
                <a:lnTo>
                  <a:pt x="140" y="70"/>
                </a:lnTo>
                <a:lnTo>
                  <a:pt x="140" y="7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443640" y="5092560"/>
            <a:ext cx="19080" cy="127080"/>
          </a:xfrm>
          <a:custGeom>
            <a:avLst/>
            <a:gdLst/>
            <a:ahLst/>
            <a:rect l="l" t="t" r="r" b="b"/>
            <a:pathLst>
              <a:path w="23" h="159">
                <a:moveTo>
                  <a:pt x="11" y="159"/>
                </a:moveTo>
                <a:lnTo>
                  <a:pt x="23" y="159"/>
                </a:lnTo>
                <a:lnTo>
                  <a:pt x="23" y="0"/>
                </a:lnTo>
                <a:lnTo>
                  <a:pt x="0" y="0"/>
                </a:lnTo>
                <a:lnTo>
                  <a:pt x="0" y="159"/>
                </a:lnTo>
                <a:lnTo>
                  <a:pt x="11" y="15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418440" y="53020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273800" y="5187960"/>
            <a:ext cx="28800" cy="198360"/>
          </a:xfrm>
          <a:custGeom>
            <a:avLst/>
            <a:gdLst/>
            <a:ahLst/>
            <a:rect l="l" t="t" r="r" b="b"/>
            <a:pathLst>
              <a:path w="36" h="250">
                <a:moveTo>
                  <a:pt x="18" y="250"/>
                </a:moveTo>
                <a:lnTo>
                  <a:pt x="36" y="250"/>
                </a:lnTo>
                <a:lnTo>
                  <a:pt x="36" y="0"/>
                </a:lnTo>
                <a:lnTo>
                  <a:pt x="0" y="0"/>
                </a:lnTo>
                <a:lnTo>
                  <a:pt x="0" y="250"/>
                </a:lnTo>
                <a:lnTo>
                  <a:pt x="18" y="250"/>
                </a:lnTo>
                <a:close/>
              </a:path>
            </a:pathLst>
          </a:custGeom>
          <a:solidFill>
            <a:srgbClr val="009900"/>
          </a:solidFill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277040" y="5288040"/>
            <a:ext cx="95400" cy="127080"/>
          </a:xfrm>
          <a:custGeom>
            <a:avLst/>
            <a:gdLst/>
            <a:ahLst/>
            <a:rect l="l" t="t" r="r" b="b"/>
            <a:pathLst>
              <a:path w="122" h="161">
                <a:moveTo>
                  <a:pt x="0" y="161"/>
                </a:moveTo>
                <a:lnTo>
                  <a:pt x="31" y="161"/>
                </a:lnTo>
                <a:lnTo>
                  <a:pt x="122" y="19"/>
                </a:lnTo>
                <a:lnTo>
                  <a:pt x="92" y="0"/>
                </a:lnTo>
                <a:lnTo>
                  <a:pt x="0" y="141"/>
                </a:lnTo>
                <a:lnTo>
                  <a:pt x="31" y="141"/>
                </a:lnTo>
                <a:lnTo>
                  <a:pt x="0" y="161"/>
                </a:lnTo>
                <a:close/>
              </a:path>
            </a:pathLst>
          </a:custGeom>
          <a:solidFill>
            <a:srgbClr val="009900"/>
          </a:solidFill>
          <a:ln w="1260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277040" y="5415120"/>
            <a:ext cx="23760" cy="17280"/>
          </a:xfrm>
          <a:custGeom>
            <a:avLst/>
            <a:gdLst/>
            <a:ahLst/>
            <a:rect l="l" t="t" r="r" b="b"/>
            <a:pathLst>
              <a:path w="31" h="21">
                <a:moveTo>
                  <a:pt x="0" y="0"/>
                </a:moveTo>
                <a:lnTo>
                  <a:pt x="16" y="21"/>
                </a:lnTo>
                <a:lnTo>
                  <a:pt x="3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900"/>
          </a:solidFill>
          <a:ln w="1260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197840" y="5288040"/>
            <a:ext cx="96840" cy="127080"/>
          </a:xfrm>
          <a:custGeom>
            <a:avLst/>
            <a:gdLst/>
            <a:ahLst/>
            <a:rect l="l" t="t" r="r" b="b"/>
            <a:pathLst>
              <a:path w="121" h="161">
                <a:moveTo>
                  <a:pt x="14" y="10"/>
                </a:moveTo>
                <a:lnTo>
                  <a:pt x="0" y="19"/>
                </a:lnTo>
                <a:lnTo>
                  <a:pt x="90" y="161"/>
                </a:lnTo>
                <a:lnTo>
                  <a:pt x="121" y="141"/>
                </a:lnTo>
                <a:lnTo>
                  <a:pt x="29" y="0"/>
                </a:lnTo>
                <a:lnTo>
                  <a:pt x="14" y="10"/>
                </a:lnTo>
                <a:close/>
              </a:path>
            </a:pathLst>
          </a:custGeom>
          <a:solidFill>
            <a:srgbClr val="009900"/>
          </a:solidFill>
          <a:ln w="1260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164440" y="49975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312920" y="289728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428840" y="28972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98680" y="28972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576440" y="289728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638360" y="28972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785960" y="28972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33440" y="401004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449360" y="40100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519200" y="40100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596960" y="401004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660680" y="40100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806480" y="40100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970600" y="2341440"/>
            <a:ext cx="111240" cy="111240"/>
          </a:xfrm>
          <a:custGeom>
            <a:avLst/>
            <a:gdLst/>
            <a:ahLst/>
            <a:rect l="l" t="t" r="r" b="b"/>
            <a:pathLst>
              <a:path w="140" h="140">
                <a:moveTo>
                  <a:pt x="70" y="0"/>
                </a:moveTo>
                <a:lnTo>
                  <a:pt x="70" y="0"/>
                </a:lnTo>
                <a:lnTo>
                  <a:pt x="0" y="140"/>
                </a:lnTo>
                <a:lnTo>
                  <a:pt x="140" y="140"/>
                </a:lnTo>
                <a:lnTo>
                  <a:pt x="70" y="0"/>
                </a:lnTo>
                <a:lnTo>
                  <a:pt x="7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989680" y="3160800"/>
            <a:ext cx="111240" cy="19080"/>
          </a:xfrm>
          <a:custGeom>
            <a:avLst/>
            <a:gdLst/>
            <a:ahLst/>
            <a:rect l="l" t="t" r="r" b="b"/>
            <a:pathLst>
              <a:path w="139" h="23">
                <a:moveTo>
                  <a:pt x="139" y="11"/>
                </a:moveTo>
                <a:lnTo>
                  <a:pt x="139" y="0"/>
                </a:lnTo>
                <a:lnTo>
                  <a:pt x="0" y="0"/>
                </a:lnTo>
                <a:lnTo>
                  <a:pt x="0" y="23"/>
                </a:lnTo>
                <a:lnTo>
                  <a:pt x="139" y="23"/>
                </a:lnTo>
                <a:lnTo>
                  <a:pt x="139" y="1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991120" y="3459240"/>
            <a:ext cx="111240" cy="112680"/>
          </a:xfrm>
          <a:custGeom>
            <a:avLst/>
            <a:gdLst/>
            <a:ahLst/>
            <a:rect l="l" t="t" r="r" b="b"/>
            <a:pathLst>
              <a:path w="140" h="140">
                <a:moveTo>
                  <a:pt x="70" y="0"/>
                </a:moveTo>
                <a:lnTo>
                  <a:pt x="70" y="0"/>
                </a:lnTo>
                <a:lnTo>
                  <a:pt x="0" y="140"/>
                </a:lnTo>
                <a:lnTo>
                  <a:pt x="140" y="140"/>
                </a:lnTo>
                <a:lnTo>
                  <a:pt x="70" y="0"/>
                </a:lnTo>
                <a:lnTo>
                  <a:pt x="7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996160" y="4280040"/>
            <a:ext cx="110880" cy="17280"/>
          </a:xfrm>
          <a:custGeom>
            <a:avLst/>
            <a:gdLst/>
            <a:ahLst/>
            <a:rect l="l" t="t" r="r" b="b"/>
            <a:pathLst>
              <a:path w="139" h="23">
                <a:moveTo>
                  <a:pt x="139" y="11"/>
                </a:moveTo>
                <a:lnTo>
                  <a:pt x="139" y="0"/>
                </a:lnTo>
                <a:lnTo>
                  <a:pt x="0" y="0"/>
                </a:lnTo>
                <a:lnTo>
                  <a:pt x="0" y="23"/>
                </a:lnTo>
                <a:lnTo>
                  <a:pt x="139" y="23"/>
                </a:lnTo>
                <a:lnTo>
                  <a:pt x="139" y="1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149880" y="284652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692840" y="3008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149880" y="394812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260760" y="4052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546960" y="29052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699240" y="2905200"/>
            <a:ext cx="96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827760" y="29052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975360" y="29052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13600" y="2905200"/>
            <a:ext cx="96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243920" y="29052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381800" y="29052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520040" y="2905200"/>
            <a:ext cx="96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650000" y="290520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244920" y="2941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31628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041960" y="30020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894000" y="30020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636960" y="29988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45920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743600" y="41101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597720" y="40068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748560" y="4006800"/>
            <a:ext cx="96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78520" y="40068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026120" y="40068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164360" y="4006800"/>
            <a:ext cx="96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294680" y="40068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432560" y="40068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570800" y="4006800"/>
            <a:ext cx="96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701120" y="400680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365600" y="4111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092720" y="4103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945120" y="4103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686280" y="4100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509960" y="4113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660800" y="47750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509960" y="47736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505280" y="49975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943680" y="46893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118280" y="46893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269120" y="4689360"/>
            <a:ext cx="96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399080" y="46893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572240" y="46893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208640" y="49896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200720" y="47736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052760" y="47750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102440" y="490068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275600" y="4900680"/>
            <a:ext cx="96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405560" y="490068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659640" y="48132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750000" y="4813200"/>
            <a:ext cx="96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016680" y="2419200"/>
            <a:ext cx="17280" cy="868680"/>
          </a:xfrm>
          <a:custGeom>
            <a:avLst/>
            <a:gdLst/>
            <a:ahLst/>
            <a:rect l="l" t="t" r="r" b="b"/>
            <a:pathLst>
              <a:path w="23" h="1094">
                <a:moveTo>
                  <a:pt x="12" y="0"/>
                </a:moveTo>
                <a:lnTo>
                  <a:pt x="0" y="0"/>
                </a:lnTo>
                <a:lnTo>
                  <a:pt x="0" y="1094"/>
                </a:lnTo>
                <a:lnTo>
                  <a:pt x="23" y="1094"/>
                </a:lnTo>
                <a:lnTo>
                  <a:pt x="23" y="0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032520" y="3544920"/>
            <a:ext cx="17280" cy="868320"/>
          </a:xfrm>
          <a:custGeom>
            <a:avLst/>
            <a:gdLst/>
            <a:ahLst/>
            <a:rect l="l" t="t" r="r" b="b"/>
            <a:pathLst>
              <a:path w="23" h="1094">
                <a:moveTo>
                  <a:pt x="12" y="0"/>
                </a:moveTo>
                <a:lnTo>
                  <a:pt x="0" y="0"/>
                </a:lnTo>
                <a:lnTo>
                  <a:pt x="0" y="1094"/>
                </a:lnTo>
                <a:lnTo>
                  <a:pt x="23" y="1094"/>
                </a:lnTo>
                <a:lnTo>
                  <a:pt x="23" y="0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891480" y="4911840"/>
            <a:ext cx="83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113200" y="2208240"/>
            <a:ext cx="2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030920" y="2208240"/>
            <a:ext cx="2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059360" y="3335400"/>
            <a:ext cx="2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070360" y="5703840"/>
            <a:ext cx="51141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gra 1: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SE (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Grande) E (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Médio) ENTÃO (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gra 2: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SE (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Pequeno) E (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Grande) ENTÃO (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2162160" y="3439800"/>
            <a:ext cx="0" cy="9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157480" y="3287880"/>
            <a:ext cx="2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4087800" y="3459240"/>
            <a:ext cx="3240" cy="95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2162160" y="2199960"/>
            <a:ext cx="0" cy="10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4076640" y="2244600"/>
            <a:ext cx="0" cy="104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081160" y="3198960"/>
            <a:ext cx="170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998880" y="3198960"/>
            <a:ext cx="170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938760" y="4317840"/>
            <a:ext cx="170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070000" y="4302000"/>
            <a:ext cx="170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2851200" y="2244240"/>
            <a:ext cx="11160" cy="2643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4987800" y="2208240"/>
            <a:ext cx="11160" cy="2643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903920" y="2936880"/>
            <a:ext cx="1171440" cy="0"/>
          </a:xfrm>
          <a:prstGeom prst="line">
            <a:avLst/>
          </a:prstGeom>
          <a:ln cap="rnd" w="936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687760" y="4040280"/>
            <a:ext cx="3421080" cy="0"/>
          </a:xfrm>
          <a:prstGeom prst="line">
            <a:avLst/>
          </a:prstGeom>
          <a:ln cap="rnd" w="936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754520" y="3870360"/>
            <a:ext cx="468360" cy="0"/>
          </a:xfrm>
          <a:prstGeom prst="line">
            <a:avLst/>
          </a:prstGeom>
          <a:ln cap="rnd" w="9360">
            <a:solidFill>
              <a:srgbClr val="33cc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639880" y="2749680"/>
            <a:ext cx="468360" cy="0"/>
          </a:xfrm>
          <a:prstGeom prst="line">
            <a:avLst/>
          </a:prstGeom>
          <a:ln cap="rnd" w="9360">
            <a:solidFill>
              <a:srgbClr val="33cc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021360" y="2930400"/>
            <a:ext cx="28440" cy="220680"/>
          </a:xfrm>
          <a:custGeom>
            <a:avLst/>
            <a:gdLst/>
            <a:ahLst/>
            <a:rect l="l" t="t" r="r" b="b"/>
            <a:pathLst>
              <a:path w="36" h="278">
                <a:moveTo>
                  <a:pt x="18" y="278"/>
                </a:moveTo>
                <a:lnTo>
                  <a:pt x="36" y="278"/>
                </a:lnTo>
                <a:lnTo>
                  <a:pt x="36" y="0"/>
                </a:lnTo>
                <a:lnTo>
                  <a:pt x="0" y="0"/>
                </a:lnTo>
                <a:lnTo>
                  <a:pt x="0" y="278"/>
                </a:lnTo>
                <a:lnTo>
                  <a:pt x="18" y="278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033960" y="4025880"/>
            <a:ext cx="28800" cy="268200"/>
          </a:xfrm>
          <a:custGeom>
            <a:avLst/>
            <a:gdLst/>
            <a:ahLst/>
            <a:rect l="l" t="t" r="r" b="b"/>
            <a:pathLst>
              <a:path w="36" h="337">
                <a:moveTo>
                  <a:pt x="18" y="337"/>
                </a:moveTo>
                <a:lnTo>
                  <a:pt x="36" y="337"/>
                </a:lnTo>
                <a:lnTo>
                  <a:pt x="36" y="0"/>
                </a:lnTo>
                <a:lnTo>
                  <a:pt x="0" y="0"/>
                </a:lnTo>
                <a:lnTo>
                  <a:pt x="0" y="337"/>
                </a:lnTo>
                <a:lnTo>
                  <a:pt x="18" y="337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4251240" y="4319640"/>
            <a:ext cx="517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 flipV="1">
            <a:off x="2187720" y="4303440"/>
            <a:ext cx="8568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184560" y="1298520"/>
            <a:ext cx="30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rência Nebul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3562200" y="3216240"/>
            <a:ext cx="1231920" cy="806400"/>
          </a:xfrm>
          <a:prstGeom prst="rect">
            <a:avLst/>
          </a:prstGeom>
          <a:noFill/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562200" y="4022640"/>
            <a:ext cx="1231920" cy="806400"/>
          </a:xfrm>
          <a:prstGeom prst="rect">
            <a:avLst/>
          </a:prstGeom>
          <a:noFill/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562200" y="4829040"/>
            <a:ext cx="1231920" cy="804960"/>
          </a:xfrm>
          <a:prstGeom prst="rect">
            <a:avLst/>
          </a:prstGeom>
          <a:noFill/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794120" y="3216240"/>
            <a:ext cx="1231920" cy="806400"/>
          </a:xfrm>
          <a:prstGeom prst="rect">
            <a:avLst/>
          </a:prstGeom>
          <a:noFill/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794120" y="4022640"/>
            <a:ext cx="1231920" cy="806400"/>
          </a:xfrm>
          <a:prstGeom prst="rect">
            <a:avLst/>
          </a:prstGeom>
          <a:noFill/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794120" y="4829040"/>
            <a:ext cx="1231920" cy="804960"/>
          </a:xfrm>
          <a:prstGeom prst="rect">
            <a:avLst/>
          </a:prstGeom>
          <a:noFill/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26040" y="3216240"/>
            <a:ext cx="1231920" cy="806400"/>
          </a:xfrm>
          <a:prstGeom prst="rect">
            <a:avLst/>
          </a:prstGeom>
          <a:noFill/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26040" y="4022640"/>
            <a:ext cx="1231920" cy="806400"/>
          </a:xfrm>
          <a:prstGeom prst="rect">
            <a:avLst/>
          </a:prstGeom>
          <a:noFill/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026040" y="4829040"/>
            <a:ext cx="1231920" cy="804960"/>
          </a:xfrm>
          <a:prstGeom prst="rect">
            <a:avLst/>
          </a:prstGeom>
          <a:noFill/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flipV="1">
            <a:off x="2393640" y="2049120"/>
            <a:ext cx="1168200" cy="116676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835440" y="2784600"/>
            <a:ext cx="627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306840" y="278460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716200" y="3460680"/>
            <a:ext cx="81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716200" y="4233960"/>
            <a:ext cx="54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715840" y="5141880"/>
            <a:ext cx="796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613320" y="2236680"/>
            <a:ext cx="1344600" cy="973080"/>
          </a:xfrm>
          <a:custGeom>
            <a:avLst/>
            <a:gdLst/>
            <a:ahLst/>
            <a:rect l="l" t="t" r="r" b="b"/>
            <a:pathLst>
              <a:path w="847" h="613">
                <a:moveTo>
                  <a:pt x="0" y="0"/>
                </a:moveTo>
                <a:lnTo>
                  <a:pt x="358" y="0"/>
                </a:lnTo>
                <a:lnTo>
                  <a:pt x="847" y="613"/>
                </a:lnTo>
              </a:path>
            </a:pathLst>
          </a:custGeom>
          <a:noFill/>
          <a:ln w="1908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181480" y="2782800"/>
            <a:ext cx="355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586400" y="2239920"/>
            <a:ext cx="1587240" cy="952560"/>
          </a:xfrm>
          <a:custGeom>
            <a:avLst/>
            <a:gdLst/>
            <a:ahLst/>
            <a:rect l="l" t="t" r="r" b="b"/>
            <a:pathLst>
              <a:path w="1000" h="600">
                <a:moveTo>
                  <a:pt x="0" y="600"/>
                </a:moveTo>
                <a:lnTo>
                  <a:pt x="500" y="0"/>
                </a:lnTo>
                <a:lnTo>
                  <a:pt x="1000" y="600"/>
                </a:lnTo>
              </a:path>
            </a:pathLst>
          </a:custGeom>
          <a:noFill/>
          <a:ln w="1908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873760" y="2235240"/>
            <a:ext cx="1306440" cy="957240"/>
          </a:xfrm>
          <a:custGeom>
            <a:avLst/>
            <a:gdLst/>
            <a:ahLst/>
            <a:rect l="l" t="t" r="r" b="b"/>
            <a:pathLst>
              <a:path w="823" h="603">
                <a:moveTo>
                  <a:pt x="0" y="603"/>
                </a:moveTo>
                <a:lnTo>
                  <a:pt x="413" y="0"/>
                </a:lnTo>
                <a:lnTo>
                  <a:pt x="823" y="0"/>
                </a:lnTo>
              </a:path>
            </a:pathLst>
          </a:custGeom>
          <a:noFill/>
          <a:ln w="1908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233440" y="3208320"/>
            <a:ext cx="1303560" cy="874800"/>
          </a:xfrm>
          <a:custGeom>
            <a:avLst/>
            <a:gdLst/>
            <a:ahLst/>
            <a:rect l="l" t="t" r="r" b="b"/>
            <a:pathLst>
              <a:path w="4271" h="2753">
                <a:moveTo>
                  <a:pt x="0" y="0"/>
                </a:moveTo>
                <a:lnTo>
                  <a:pt x="0" y="1188"/>
                </a:lnTo>
                <a:lnTo>
                  <a:pt x="4271" y="2753"/>
                </a:ln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233440" y="3913200"/>
            <a:ext cx="1312920" cy="990720"/>
          </a:xfrm>
          <a:custGeom>
            <a:avLst/>
            <a:gdLst/>
            <a:ahLst/>
            <a:rect l="l" t="t" r="r" b="b"/>
            <a:pathLst>
              <a:path w="827" h="624">
                <a:moveTo>
                  <a:pt x="821" y="0"/>
                </a:moveTo>
                <a:lnTo>
                  <a:pt x="0" y="313"/>
                </a:lnTo>
                <a:lnTo>
                  <a:pt x="827" y="624"/>
                </a:ln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208240" y="4719600"/>
            <a:ext cx="1320840" cy="873000"/>
          </a:xfrm>
          <a:custGeom>
            <a:avLst/>
            <a:gdLst/>
            <a:ahLst/>
            <a:rect l="l" t="t" r="r" b="b"/>
            <a:pathLst>
              <a:path w="4271" h="2751">
                <a:moveTo>
                  <a:pt x="4271" y="0"/>
                </a:moveTo>
                <a:lnTo>
                  <a:pt x="0" y="1390"/>
                </a:lnTo>
                <a:lnTo>
                  <a:pt x="0" y="2751"/>
                </a:ln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831400" y="1968480"/>
            <a:ext cx="476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998000" y="2263680"/>
            <a:ext cx="662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996920" y="2603520"/>
            <a:ext cx="45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259600" y="3435480"/>
            <a:ext cx="2854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943280" y="2629080"/>
            <a:ext cx="704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021200" y="3454560"/>
            <a:ext cx="2854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497640" y="3454560"/>
            <a:ext cx="2854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021200" y="4254480"/>
            <a:ext cx="2854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278680" y="4273560"/>
            <a:ext cx="2854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497640" y="4254480"/>
            <a:ext cx="2854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040280" y="5073480"/>
            <a:ext cx="2854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259600" y="5054760"/>
            <a:ext cx="2854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497640" y="5054760"/>
            <a:ext cx="2854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706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7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8" name=""/>
          <p:cNvSpPr/>
          <p:nvPr/>
        </p:nvSpPr>
        <p:spPr>
          <a:xfrm>
            <a:off x="3339000" y="1262160"/>
            <a:ext cx="28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ras Nebulo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6609960" y="31734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234520" y="29005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390400" y="30402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218680" y="32479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391840" y="33703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175840" y="39369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350800" y="406080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938120" y="2246400"/>
            <a:ext cx="255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193720" y="22464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346360" y="224640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519160" y="224640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658840" y="22464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847840" y="22464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831840" y="33354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100040" y="333540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290840" y="333540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499640" y="333540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622400" y="333540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762080" y="333540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951080" y="33354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047560" y="33354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238360" y="333540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427360" y="333540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617440" y="333540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078080" y="364176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355640" y="36417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527360" y="364176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700160" y="364176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900320" y="364176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997160" y="364176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185800" y="36417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338440" y="364176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282840" y="2881440"/>
            <a:ext cx="2998800" cy="1519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611440" y="3141720"/>
            <a:ext cx="654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612880" y="4165560"/>
            <a:ext cx="654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612880" y="3475080"/>
            <a:ext cx="654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318360" y="3648240"/>
            <a:ext cx="65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757760" y="2158920"/>
            <a:ext cx="0" cy="7336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392200" y="4516560"/>
            <a:ext cx="491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egr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),  x = [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043520" y="457056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1182600" y="5149800"/>
            <a:ext cx="7091280" cy="1322280"/>
            <a:chOff x="1182600" y="5149800"/>
            <a:chExt cx="7091280" cy="1322280"/>
          </a:xfrm>
        </p:grpSpPr>
        <p:sp>
          <p:nvSpPr>
            <p:cNvPr id="750" name=""/>
            <p:cNvSpPr/>
            <p:nvPr/>
          </p:nvSpPr>
          <p:spPr>
            <a:xfrm>
              <a:off x="1182600" y="5149800"/>
              <a:ext cx="7091280" cy="1322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1" name=""/>
            <p:cNvGrpSpPr/>
            <p:nvPr/>
          </p:nvGrpSpPr>
          <p:grpSpPr>
            <a:xfrm>
              <a:off x="1249920" y="5164200"/>
              <a:ext cx="6907680" cy="1250280"/>
              <a:chOff x="1249920" y="5164200"/>
              <a:chExt cx="6907680" cy="1250280"/>
            </a:xfrm>
          </p:grpSpPr>
          <p:sp>
            <p:nvSpPr>
              <p:cNvPr id="752" name=""/>
              <p:cNvSpPr/>
              <p:nvPr/>
            </p:nvSpPr>
            <p:spPr>
              <a:xfrm>
                <a:off x="1249920" y="5164200"/>
                <a:ext cx="6907680" cy="74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Propriedade de Aproximação Universal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 Narrow"/>
                  </a:rPr>
                  <a:t>: Dada uma função g(x) sobre u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Narrow"/>
                  </a:rPr>
                  <a:t>domínio X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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 Narrow"/>
                  </a:rPr>
                  <a:t> R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 Narrow"/>
                  </a:rPr>
                  <a:t>m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 Narrow"/>
                  </a:rPr>
                  <a:t> e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 Narrow"/>
                  </a:rPr>
                  <a:t> &gt; 0, é possível construir f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 Narrow"/>
                  </a:rPr>
                  <a:t>Regra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 Narrow"/>
                  </a:rPr>
                  <a:t>(x) de modo que: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013200" y="5973840"/>
                <a:ext cx="35589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Narrow"/>
                  </a:rPr>
                  <a:t>| g (x) - f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 Narrow"/>
                  </a:rPr>
                  <a:t>Regra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 Narrow"/>
                  </a:rPr>
                  <a:t>(x) | &lt;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 Narrow"/>
                  </a:rPr>
                  <a:t>,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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 Narrow"/>
                  </a:rPr>
                  <a:t>x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 Narrow"/>
                  </a:rPr>
                  <a:t> X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4" name=""/>
          <p:cNvSpPr/>
          <p:nvPr/>
        </p:nvSpPr>
        <p:spPr>
          <a:xfrm>
            <a:off x="2981520" y="1368360"/>
            <a:ext cx="35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roximação Uni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757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8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3018960" y="1298520"/>
            <a:ext cx="33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ador Nebulo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287440" y="3112920"/>
            <a:ext cx="1957680" cy="14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762920" y="4724280"/>
            <a:ext cx="3216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ador Nebulo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471200" y="3498840"/>
            <a:ext cx="436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(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031880" y="3492360"/>
            <a:ext cx="515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(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457600" y="3014640"/>
            <a:ext cx="178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371600" y="4334040"/>
            <a:ext cx="9158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245120" y="3946680"/>
            <a:ext cx="907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920960" y="3816360"/>
            <a:ext cx="3664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09960" y="3325680"/>
            <a:ext cx="180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2106720" y="2963880"/>
            <a:ext cx="0" cy="36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2103480" y="2959200"/>
            <a:ext cx="3794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5896080" y="2963520"/>
            <a:ext cx="0" cy="6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920960" y="2841480"/>
            <a:ext cx="4279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1922400" y="2841120"/>
            <a:ext cx="0" cy="9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649120" y="31687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316200" y="3035160"/>
            <a:ext cx="178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506280" y="31878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912000" y="3949560"/>
            <a:ext cx="8319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471760" y="3268800"/>
            <a:ext cx="733320" cy="1095120"/>
          </a:xfrm>
          <a:custGeom>
            <a:avLst/>
            <a:gdLst/>
            <a:ahLst/>
            <a:rect l="l" t="t" r="r" b="b"/>
            <a:pathLst>
              <a:path w="924" h="1380">
                <a:moveTo>
                  <a:pt x="0" y="1380"/>
                </a:moveTo>
                <a:lnTo>
                  <a:pt x="462" y="0"/>
                </a:lnTo>
                <a:lnTo>
                  <a:pt x="924" y="1380"/>
                </a:lnTo>
                <a:lnTo>
                  <a:pt x="0" y="1380"/>
                </a:lnTo>
                <a:close/>
              </a:path>
            </a:pathLst>
          </a:custGeom>
          <a:noFill/>
          <a:ln w="1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898720" y="3268800"/>
            <a:ext cx="735120" cy="1095120"/>
          </a:xfrm>
          <a:custGeom>
            <a:avLst/>
            <a:gdLst/>
            <a:ahLst/>
            <a:rect l="l" t="t" r="r" b="b"/>
            <a:pathLst>
              <a:path w="924" h="1380">
                <a:moveTo>
                  <a:pt x="0" y="1380"/>
                </a:moveTo>
                <a:lnTo>
                  <a:pt x="462" y="0"/>
                </a:lnTo>
                <a:lnTo>
                  <a:pt x="924" y="1380"/>
                </a:lnTo>
                <a:lnTo>
                  <a:pt x="0" y="1380"/>
                </a:lnTo>
                <a:close/>
              </a:path>
            </a:pathLst>
          </a:custGeom>
          <a:noFill/>
          <a:ln w="1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327480" y="3268800"/>
            <a:ext cx="733320" cy="1095120"/>
          </a:xfrm>
          <a:custGeom>
            <a:avLst/>
            <a:gdLst/>
            <a:ahLst/>
            <a:rect l="l" t="t" r="r" b="b"/>
            <a:pathLst>
              <a:path w="925" h="1380">
                <a:moveTo>
                  <a:pt x="0" y="1380"/>
                </a:moveTo>
                <a:lnTo>
                  <a:pt x="462" y="0"/>
                </a:lnTo>
                <a:lnTo>
                  <a:pt x="925" y="1380"/>
                </a:lnTo>
                <a:lnTo>
                  <a:pt x="0" y="1380"/>
                </a:lnTo>
                <a:close/>
              </a:path>
            </a:pathLst>
          </a:custGeom>
          <a:noFill/>
          <a:ln w="1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192640" y="3598920"/>
            <a:ext cx="1695600" cy="70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264280" y="3894120"/>
            <a:ext cx="16984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425920" y="3578400"/>
            <a:ext cx="15163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322960" y="3743280"/>
            <a:ext cx="14317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cess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203880" y="2844720"/>
            <a:ext cx="0" cy="74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287360" y="3846600"/>
            <a:ext cx="633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 (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428480" y="406548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790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1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776160" y="2257560"/>
            <a:ext cx="3510000" cy="3510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898560" y="2378160"/>
                <a:ext cx="3268800" cy="38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V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r>
                                  <m:t xml:space="preserve">F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e</m:t>
                            </m:r>
                          </m:e>
                        </m:d>
                        <m:r>
                          <m:t xml:space="preserve">V</m:t>
                        </m:r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e</m:t>
                        </m:r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F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U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Le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sub>
                                </m:sSub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r>
                                  <m:t xml:space="preserve">F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e>
                        </m:d>
                        <m:r>
                          <m:t xml:space="preserve">F</m:t>
                        </m:r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V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F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Us</m:t>
                        </m:r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U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U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sub>
                        </m:sSub>
                        <m:r>
                          <m:t xml:space="preserve">u</m:t>
                        </m:r>
                      </m:e>
                      <m:e/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e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795" name=""/>
          <p:cNvGraphicFramePr/>
          <p:nvPr/>
        </p:nvGraphicFramePr>
        <p:xfrm>
          <a:off x="4815000" y="2522520"/>
          <a:ext cx="4046400" cy="172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15000" y="2522520"/>
                    <a:ext cx="404640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7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798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9" name="ASA_CO13" descr=""/>
            <p:cNvPicPr/>
            <p:nvPr/>
          </p:nvPicPr>
          <p:blipFill>
            <a:blip r:embed="rId3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0" name=""/>
          <p:cNvSpPr/>
          <p:nvPr/>
        </p:nvSpPr>
        <p:spPr>
          <a:xfrm>
            <a:off x="2055960" y="1370160"/>
            <a:ext cx="53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o de Infecção Viral (Influenz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299880" y="1922400"/>
            <a:ext cx="8450280" cy="1287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71880" y="2038320"/>
            <a:ext cx="514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itério 1: O tempo de recuperação do paciente é peque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75120" y="2408400"/>
            <a:ext cx="553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itério 2: A quantidade total de fármacos utilizados é peque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79800" y="2792520"/>
            <a:ext cx="404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itério 3: Es efeitos colaterais são peque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6" name=""/>
              <p:cNvSpPr txBox="1"/>
              <p:nvPr/>
            </p:nvSpPr>
            <p:spPr>
              <a:xfrm>
                <a:off x="5877000" y="2016000"/>
                <a:ext cx="271944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λ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t</m:t>
                        </m:r>
                        <m:r>
                          <m:t xml:space="preserve">∈</m:t>
                        </m:r>
                        <m:r>
                          <m:t xml:space="preserve">[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]</m:t>
                        </m:r>
                      </m:lim>
                    </m:limLow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7" name=""/>
              <p:cNvSpPr txBox="1"/>
              <p:nvPr/>
            </p:nvSpPr>
            <p:spPr>
              <a:xfrm>
                <a:off x="6146640" y="2330280"/>
                <a:ext cx="1812960" cy="4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8" name=""/>
              <p:cNvSpPr txBox="1"/>
              <p:nvPr/>
            </p:nvSpPr>
            <p:spPr>
              <a:xfrm>
                <a:off x="4554360" y="2801880"/>
                <a:ext cx="59076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09" name=""/>
          <p:cNvGraphicFramePr/>
          <p:nvPr/>
        </p:nvGraphicFramePr>
        <p:xfrm>
          <a:off x="2371680" y="3413160"/>
          <a:ext cx="4578480" cy="297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1680" y="3413160"/>
                    <a:ext cx="4578480" cy="29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11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812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13" name="ASA_CO13" descr=""/>
            <p:cNvPicPr/>
            <p:nvPr/>
          </p:nvPicPr>
          <p:blipFill>
            <a:blip r:embed="rId3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4" name=""/>
          <p:cNvSpPr/>
          <p:nvPr/>
        </p:nvSpPr>
        <p:spPr>
          <a:xfrm>
            <a:off x="1493640" y="1370160"/>
            <a:ext cx="651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imização do Tratamento de Infecção Vi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1940040" y="1992240"/>
            <a:ext cx="5099040" cy="530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7" name=""/>
          <p:cNvGraphicFramePr/>
          <p:nvPr/>
        </p:nvGraphicFramePr>
        <p:xfrm>
          <a:off x="663480" y="2809800"/>
          <a:ext cx="3727440" cy="339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3480" y="2809800"/>
                    <a:ext cx="3727440" cy="33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9" name=""/>
          <p:cNvGraphicFramePr/>
          <p:nvPr/>
        </p:nvGraphicFramePr>
        <p:xfrm>
          <a:off x="4754520" y="2765520"/>
          <a:ext cx="3708360" cy="3457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54520" y="2765520"/>
                    <a:ext cx="3708360" cy="34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21" name=""/>
              <p:cNvSpPr txBox="1"/>
              <p:nvPr/>
            </p:nvSpPr>
            <p:spPr>
              <a:xfrm>
                <a:off x="2120760" y="2058840"/>
                <a:ext cx="480852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s</m:t>
                    </m:r>
                    <m:r>
                      <m:t xml:space="preserve">,</m:t>
                    </m:r>
                    <m:r>
                      <m:t xml:space="preserve">w</m:t>
                    </m:r>
                    <m:r>
                      <m:t xml:space="preserve">,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822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823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4" name="ASA_CO13" descr=""/>
            <p:cNvPicPr/>
            <p:nvPr/>
          </p:nvPicPr>
          <p:blipFill>
            <a:blip r:embed="rId5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"/>
          <p:cNvSpPr/>
          <p:nvPr/>
        </p:nvSpPr>
        <p:spPr>
          <a:xfrm>
            <a:off x="1493640" y="1370160"/>
            <a:ext cx="651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imização do Tratamento de Infecção Vi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7" name=""/>
          <p:cNvGraphicFramePr/>
          <p:nvPr/>
        </p:nvGraphicFramePr>
        <p:xfrm>
          <a:off x="584280" y="2556000"/>
          <a:ext cx="3467160" cy="323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4280" y="2556000"/>
                    <a:ext cx="3467160" cy="32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9" name=""/>
          <p:cNvGraphicFramePr/>
          <p:nvPr/>
        </p:nvGraphicFramePr>
        <p:xfrm>
          <a:off x="4537080" y="2521080"/>
          <a:ext cx="3654360" cy="3267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37080" y="2521080"/>
                    <a:ext cx="3654360" cy="32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31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832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3" name="ASA_CO13" descr=""/>
            <p:cNvPicPr/>
            <p:nvPr/>
          </p:nvPicPr>
          <p:blipFill>
            <a:blip r:embed="rId5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4" name=""/>
          <p:cNvSpPr/>
          <p:nvPr/>
        </p:nvSpPr>
        <p:spPr>
          <a:xfrm>
            <a:off x="1493640" y="1370160"/>
            <a:ext cx="651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imização do Tratamento de Infecção Vi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06080" y="1819440"/>
            <a:ext cx="8350920" cy="46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achenkov, A.L. et al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isease Dynamic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Birkhäuser, 1994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g, Y.C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troduction to Bioengineer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World Scientific, 200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erle, J.D. et al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troduction to Biomedical Engineer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Academic Press, 200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wan, H.P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iological Engineer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McGraw Hill, 196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cobson, B. e Webster, J.G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edicine and Clinical Engineer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Prentice Hall, 1977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rruault, Y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athematical Modelling in Biomedici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D. Reidel Publishing, 198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rger, S.A. et al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troduction to Bioengineer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University Press, 199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ares, J.G. e Sneddon, I.N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Mathematics of Medicine and Biolog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Year Book, 196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onzino, J.D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iomedical Engineering Handboo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CRC Press/IEEE Press, 199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hoo, M.C.K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hysiological Control Syste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IEEE Press, 200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lsum, J.H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iological Control System Analysi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McGraw Hill, 196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lhorn, H.T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Application of Control Theory to Physiological Syste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Saunders, 196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544560" y="1351080"/>
            <a:ext cx="213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bliograf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839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0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diabetes" descr=""/>
          <p:cNvPicPr/>
          <p:nvPr/>
        </p:nvPicPr>
        <p:blipFill>
          <a:blip r:embed="rId1"/>
          <a:stretch/>
        </p:blipFill>
        <p:spPr>
          <a:xfrm>
            <a:off x="5327640" y="2143080"/>
            <a:ext cx="2779560" cy="4170240"/>
          </a:xfrm>
          <a:prstGeom prst="rect">
            <a:avLst/>
          </a:prstGeom>
          <a:ln w="0">
            <a:noFill/>
          </a:ln>
        </p:spPr>
      </p:pic>
      <p:pic>
        <p:nvPicPr>
          <p:cNvPr id="64" name="Diabetes-1" descr=""/>
          <p:cNvPicPr/>
          <p:nvPr/>
        </p:nvPicPr>
        <p:blipFill>
          <a:blip r:embed="rId2"/>
          <a:stretch/>
        </p:blipFill>
        <p:spPr>
          <a:xfrm>
            <a:off x="973080" y="2130480"/>
            <a:ext cx="3814920" cy="286056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66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" name="ASA_CO13" descr=""/>
            <p:cNvPicPr/>
            <p:nvPr/>
          </p:nvPicPr>
          <p:blipFill>
            <a:blip r:embed="rId3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"/>
          <p:cNvSpPr/>
          <p:nvPr/>
        </p:nvSpPr>
        <p:spPr>
          <a:xfrm>
            <a:off x="1954080" y="1282680"/>
            <a:ext cx="52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e da Glice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shit" descr=""/>
          <p:cNvPicPr/>
          <p:nvPr/>
        </p:nvPicPr>
        <p:blipFill>
          <a:blip r:embed="rId1"/>
          <a:stretch/>
        </p:blipFill>
        <p:spPr>
          <a:xfrm>
            <a:off x="7920" y="9360"/>
            <a:ext cx="9128160" cy="6837480"/>
          </a:xfrm>
          <a:prstGeom prst="rect">
            <a:avLst/>
          </a:prstGeom>
          <a:ln w="0">
            <a:noFill/>
          </a:ln>
        </p:spPr>
      </p:pic>
      <p:sp>
        <p:nvSpPr>
          <p:cNvPr id="842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174840" y="3506760"/>
            <a:ext cx="292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ito Obrigad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845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6" name="ASA_CO13" descr=""/>
            <p:cNvPicPr/>
            <p:nvPr/>
          </p:nvPicPr>
          <p:blipFill>
            <a:blip r:embed="rId2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rototype-sensor" descr=""/>
          <p:cNvPicPr/>
          <p:nvPr/>
        </p:nvPicPr>
        <p:blipFill>
          <a:blip r:embed="rId1"/>
          <a:stretch/>
        </p:blipFill>
        <p:spPr>
          <a:xfrm>
            <a:off x="1398600" y="2668680"/>
            <a:ext cx="2398680" cy="2493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151360" y="5294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338720" y="2651040"/>
            <a:ext cx="3794040" cy="2796840"/>
            <a:chOff x="4338720" y="2651040"/>
            <a:chExt cx="3794040" cy="2796840"/>
          </a:xfrm>
        </p:grpSpPr>
        <p:pic>
          <p:nvPicPr>
            <p:cNvPr id="73" name="insulin-pumpe" descr=""/>
            <p:cNvPicPr/>
            <p:nvPr/>
          </p:nvPicPr>
          <p:blipFill>
            <a:blip r:embed="rId2"/>
            <a:stretch/>
          </p:blipFill>
          <p:spPr>
            <a:xfrm>
              <a:off x="4525920" y="2651040"/>
              <a:ext cx="3304440" cy="273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4338720" y="5160960"/>
              <a:ext cx="3794040" cy="28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5235480" y="5288040"/>
            <a:ext cx="193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mba de Infus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77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" name="ASA_CO13" descr=""/>
            <p:cNvPicPr/>
            <p:nvPr/>
          </p:nvPicPr>
          <p:blipFill>
            <a:blip r:embed="rId3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"/>
          <p:cNvSpPr/>
          <p:nvPr/>
        </p:nvSpPr>
        <p:spPr>
          <a:xfrm>
            <a:off x="1954080" y="1282680"/>
            <a:ext cx="52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e da Glice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032520" y="2468520"/>
            <a:ext cx="458640" cy="389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16680" y="3209760"/>
            <a:ext cx="458640" cy="3366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16080" y="2346480"/>
            <a:ext cx="45900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3955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813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242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865600" y="2328840"/>
            <a:ext cx="3620520" cy="2086920"/>
            <a:chOff x="2865600" y="2328840"/>
            <a:chExt cx="3620520" cy="2086920"/>
          </a:xfrm>
        </p:grpSpPr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2865600" y="2328840"/>
                  <a:ext cx="3620520" cy="62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G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αG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t xml:space="preserve">β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γC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8" name=""/>
                <p:cNvSpPr txBox="1"/>
                <p:nvPr/>
              </p:nvSpPr>
              <p:spPr>
                <a:xfrm>
                  <a:off x="2865600" y="3057840"/>
                  <a:ext cx="2732760" cy="62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δ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εG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2865600" y="3786840"/>
                  <a:ext cx="2300760" cy="62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C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λC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t xml:space="preserve">ρG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0" name=""/>
          <p:cNvSpPr/>
          <p:nvPr/>
        </p:nvSpPr>
        <p:spPr>
          <a:xfrm>
            <a:off x="1920960" y="4815000"/>
            <a:ext cx="5681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(t)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= glicose plasmá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(t)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= insulina plasmá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(t)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= glucagon,  cortisol e catecolam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(t)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= insulina exóg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(t)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= glicose absorvida por ingestão de alimentos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93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2465280" y="1352520"/>
            <a:ext cx="44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o de Paciente Di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604880" y="2049480"/>
            <a:ext cx="5999400" cy="4498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02720" y="1900080"/>
            <a:ext cx="42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rada de Perturbação (alimentaçã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100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1" name="ASA_CO13" descr=""/>
            <p:cNvPicPr/>
            <p:nvPr/>
          </p:nvPicPr>
          <p:blipFill>
            <a:blip r:embed="rId2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"/>
          <p:cNvSpPr/>
          <p:nvPr/>
        </p:nvSpPr>
        <p:spPr>
          <a:xfrm>
            <a:off x="1954080" y="1282680"/>
            <a:ext cx="52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e da Glice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Untitled-1 copy" descr=""/>
          <p:cNvPicPr/>
          <p:nvPr/>
        </p:nvPicPr>
        <p:blipFill>
          <a:blip r:embed="rId1"/>
          <a:stretch/>
        </p:blipFill>
        <p:spPr>
          <a:xfrm>
            <a:off x="1770120" y="1716120"/>
            <a:ext cx="5940360" cy="44575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106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7" name="ASA_CO13" descr=""/>
            <p:cNvPicPr/>
            <p:nvPr/>
          </p:nvPicPr>
          <p:blipFill>
            <a:blip r:embed="rId2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88640" y="3541680"/>
            <a:ext cx="357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e Adapt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111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2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3T20:50:31Z</dcterms:created>
  <dc:creator>Takashi Yoneyama</dc:creator>
  <dc:description/>
  <dc:language>en-US</dc:language>
  <cp:lastModifiedBy>Elena Yoshie Sato Yoneyama</cp:lastModifiedBy>
  <dcterms:modified xsi:type="dcterms:W3CDTF">2003-04-25T00:39:00Z</dcterms:modified>
  <cp:revision>46</cp:revision>
  <dc:subject/>
  <dc:title>No Slide Title</dc:title>
</cp:coreProperties>
</file>