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203040"/>
            <a:ext cx="9144000" cy="785880"/>
            <a:chOff x="0" y="203040"/>
            <a:chExt cx="9144000" cy="785880"/>
          </a:xfrm>
        </p:grpSpPr>
        <p:sp>
          <p:nvSpPr>
            <p:cNvPr id="1" name=""/>
            <p:cNvSpPr/>
            <p:nvPr/>
          </p:nvSpPr>
          <p:spPr>
            <a:xfrm>
              <a:off x="0" y="988920"/>
              <a:ext cx="9144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57200" y="203040"/>
              <a:ext cx="4662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stituto Tecnológico de Aeronáu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E-280 / 2010</a:t>
              </a:r>
              <a:endParaRPr b="0" lang="en-US" sz="2000" spc="-1" strike="noStrike">
                <a:solidFill>
                  <a:srgbClr val="000000"/>
                </a:solidFill>
                <a:latin typeface="Times New Roman"/>
              </a:endParaRPr>
            </a:p>
          </p:txBody>
        </p:sp>
        <p:pic>
          <p:nvPicPr>
            <p:cNvPr id="3" name="ASA_CO13" descr=""/>
            <p:cNvPicPr/>
            <p:nvPr/>
          </p:nvPicPr>
          <p:blipFill>
            <a:blip r:embed="rId2"/>
            <a:stretch/>
          </p:blipFill>
          <p:spPr>
            <a:xfrm>
              <a:off x="246240" y="203040"/>
              <a:ext cx="1382400" cy="55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
          <p:cNvSpPr/>
          <p:nvPr/>
        </p:nvSpPr>
        <p:spPr>
          <a:xfrm>
            <a:off x="7634880" y="31896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mana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ula 1</a:t>
            </a:r>
            <a:endParaRPr b="0" lang="en-US" sz="1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04880" y="2567160"/>
            <a:ext cx="78534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 </a:t>
            </a:r>
            <a:r>
              <a:rPr b="1" lang="pt-BR" sz="1400" spc="-1" strike="noStrike">
                <a:solidFill>
                  <a:srgbClr val="000000"/>
                </a:solidFill>
                <a:latin typeface="Arial"/>
              </a:rPr>
              <a:t>Esta Resolução incorpora, sob a ótica do indivíduo e das coletividades, os quatro referenciais básicos da bioética:</a:t>
            </a:r>
            <a:r>
              <a:rPr b="1" lang="pt-BR" sz="1400" spc="-1" strike="noStrike">
                <a:solidFill>
                  <a:srgbClr val="ff0000"/>
                </a:solidFill>
                <a:latin typeface="Arial"/>
              </a:rPr>
              <a:t> </a:t>
            </a:r>
            <a:r>
              <a:rPr b="1" lang="pt-BR" sz="1400" spc="-1" strike="noStrike">
                <a:solidFill>
                  <a:srgbClr val="0000ff"/>
                </a:solidFill>
                <a:latin typeface="Arial"/>
              </a:rPr>
              <a:t>autonomia</a:t>
            </a:r>
            <a:r>
              <a:rPr b="1" lang="pt-BR" sz="1400" spc="-1" strike="noStrike">
                <a:solidFill>
                  <a:srgbClr val="000000"/>
                </a:solidFill>
                <a:latin typeface="Arial"/>
              </a:rPr>
              <a:t>, </a:t>
            </a:r>
            <a:r>
              <a:rPr b="1" lang="pt-BR" sz="1400" spc="-1" strike="noStrike">
                <a:solidFill>
                  <a:srgbClr val="0000ff"/>
                </a:solidFill>
                <a:latin typeface="Arial"/>
              </a:rPr>
              <a:t>não maleficência</a:t>
            </a:r>
            <a:r>
              <a:rPr b="1" lang="pt-BR" sz="1400" spc="-1" strike="noStrike">
                <a:solidFill>
                  <a:srgbClr val="000000"/>
                </a:solidFill>
                <a:latin typeface="Arial"/>
              </a:rPr>
              <a:t>, </a:t>
            </a:r>
            <a:r>
              <a:rPr b="1" lang="pt-BR" sz="1400" spc="-1" strike="noStrike">
                <a:solidFill>
                  <a:srgbClr val="0000ff"/>
                </a:solidFill>
                <a:latin typeface="Arial"/>
              </a:rPr>
              <a:t>beneficência</a:t>
            </a:r>
            <a:r>
              <a:rPr b="1" lang="pt-BR" sz="1400" spc="-1" strike="noStrike">
                <a:solidFill>
                  <a:srgbClr val="000000"/>
                </a:solidFill>
                <a:latin typeface="Arial"/>
              </a:rPr>
              <a:t> e </a:t>
            </a:r>
            <a:r>
              <a:rPr b="1" lang="pt-BR" sz="1400" spc="-1" strike="noStrike">
                <a:solidFill>
                  <a:srgbClr val="0000ff"/>
                </a:solidFill>
                <a:latin typeface="Arial"/>
              </a:rPr>
              <a:t>justiça</a:t>
            </a:r>
            <a:r>
              <a:rPr b="1" lang="pt-BR" sz="1400" spc="-1" strike="noStrike">
                <a:solidFill>
                  <a:srgbClr val="000000"/>
                </a:solidFill>
                <a:latin typeface="Arial"/>
              </a:rPr>
              <a:t>, entre outros, e visa assegurar os direitos e deveres que dizem respeito à comunidade científica, aos sujeitos da pesquisa e ao Estado. O caráter contextual das considerações aqui desenvolvidas implica em revisões periódicas desta Resolução, conforme necessidades nas áreas técnico-científica e ética. Ressalta-se, ainda, que cada área temática de investigação e cada modalidade de pesquisa, além de respeitar os princípios emanados deste texto, deve cumprir com as exigências setoriais e regulamentações específicas.</a:t>
            </a:r>
            <a:endParaRPr b="0" lang="en-US" sz="1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62040" y="1801800"/>
            <a:ext cx="7967520" cy="363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Arial"/>
              </a:rPr>
              <a:t>III.1 - A eticidade da pesquisa implica e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consentimento livre e esclarecido dos indivíduos-alvo e a proteção a grupos vulneráveis e aos legalmente incapazes (</a:t>
            </a:r>
            <a:r>
              <a:rPr b="1" lang="pt-BR" sz="1400" spc="-1" strike="noStrike">
                <a:solidFill>
                  <a:srgbClr val="0000ff"/>
                </a:solidFill>
                <a:latin typeface="Arial"/>
              </a:rPr>
              <a:t>autonomia</a:t>
            </a:r>
            <a:r>
              <a:rPr b="1" lang="pt-BR" sz="1400" spc="-1" strike="noStrike">
                <a:solidFill>
                  <a:srgbClr val="000000"/>
                </a:solidFill>
                <a:latin typeface="Arial"/>
              </a:rPr>
              <a:t>). Neste sentido, a pesquisa envolvendo seres humanos deverá sempre tratá-los em sua dignidade, respeitá-los em sua autonomia e defendê-los em sua vulnerabilida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 ponderação entre riscos e benefícios, tanto atuais como potenciais, individuais ou coletivos (</a:t>
            </a:r>
            <a:r>
              <a:rPr b="1" lang="pt-BR" sz="1400" spc="-1" strike="noStrike">
                <a:solidFill>
                  <a:srgbClr val="0000ff"/>
                </a:solidFill>
                <a:latin typeface="Arial"/>
              </a:rPr>
              <a:t>beneficência</a:t>
            </a:r>
            <a:r>
              <a:rPr b="1" lang="pt-BR" sz="1400" spc="-1" strike="noStrike">
                <a:solidFill>
                  <a:srgbClr val="000000"/>
                </a:solidFill>
                <a:latin typeface="Arial"/>
              </a:rPr>
              <a:t>), comprometendo-se com o máximo de benefícios e o mínimo de danos e risc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 garantia de que danos previsíveis serão evitados (</a:t>
            </a:r>
            <a:r>
              <a:rPr b="1" lang="pt-BR" sz="1400" spc="-1" strike="noStrike">
                <a:solidFill>
                  <a:srgbClr val="0000ff"/>
                </a:solidFill>
                <a:latin typeface="Arial"/>
              </a:rPr>
              <a:t>não maleficência</a:t>
            </a:r>
            <a:r>
              <a:rPr b="1" lang="pt-BR"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 relevância social da pesquisa com vantagens significativas para os sujeitos da pesquisa e minimização do ônus para os sujeitos vulneráveis, o que garante a igual consideração dos interesses envolvidos, não perdendo o sentido de sua destinação sócio-humanitária (</a:t>
            </a:r>
            <a:r>
              <a:rPr b="1" lang="pt-BR" sz="1400" spc="-1" strike="noStrike">
                <a:solidFill>
                  <a:srgbClr val="0000ff"/>
                </a:solidFill>
                <a:latin typeface="Arial"/>
              </a:rPr>
              <a:t>justiça e eqüidade</a:t>
            </a:r>
            <a:r>
              <a:rPr b="1" lang="pt-BR" sz="1400" spc="-1" strike="noStrike">
                <a:solidFill>
                  <a:srgbClr val="000000"/>
                </a:solidFill>
                <a:latin typeface="Arial"/>
              </a:rPr>
              <a:t>).</a:t>
            </a:r>
            <a:endParaRPr b="0" lang="en-US" sz="1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47720" y="1425600"/>
            <a:ext cx="7721640" cy="49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Arial"/>
              </a:rPr>
              <a:t>III.3 - A pesquisa em qualquer área do conhecimento, envolvendo seres humanos deverá observar as seguintes exigênci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ser adequada aos princípios científicos que a justifiquem e com possibilidades concretas de responder a incertez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 estar fundamentada na experimentação prévia realizada em laboratórios, animais ou em outros fatos científic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 ser realizada somente quando o conhecimento que se pretende obter não possa ser obtido por outro mei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 prevalecer sempre as probabilidades dos benefícios esperados sobre os riscos previsívei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 obedecer a metodologia adequada. Se houver necessidade de distribuição aleatória dos sujeitos da pesquisa em grupos experimentais e de controle, assegurar que, a priori, não seja possível estabelecer as vantagens de um procedimento sobre outro através de revisão de literatura, métodos observacionais ou métodos que não envolvam seres human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 ter plenamente justificada, quando for o caso, a utilização de placebo, em termos de não maleficência e de necessidade metodológi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g) contar com o consentimento livre e esclarecido do sujeito da pesquisa e/ou seu representante legal;</a:t>
            </a:r>
            <a:endParaRPr b="0" lang="en-US" sz="1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804960" y="1379520"/>
            <a:ext cx="7721640" cy="469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 contar com os recursos humanos e materiais necessários que garantam o bem-estar do sujeito da pesquisa, devendo ainda haver adequação entre a competência do pesquisador e o projeto propos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 prever procedimentos que assegurem a confidencialidade e a privacidade, a proteção da imagem e a não estigmatização, garantindo a não utilização das informações em prejuízo das pessoas e/ou das comunidades, inclusive em termos de auto-estima, de prestígio e/ou econômico - financeir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j) ser desenvolvida preferencialmente em indivíduos com autonomia plena. Indivíduos ou grupos vulneráveis não devem ser sujeitos de pesquisa quando a informação desejada possa ser obtida através de sujeitos com plena autonomia, a menos que a investigação possa trazer benefícios diretos aos vulneráveis. Nestes casos, o direito dos indivíduos ou grupos que queiram participar da pesquisa deve ser assegurado, desde que seja garantida a proteção à sua vulnerabilidade e incapacidade legalmente definid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respeitar sempre os valores culturais, sociais, morais, religiosos e éticos, bem como os hábitos e costumes quando as pesquisas envolverem comunidades;m) garantir que as pesquisas em comunidades, sempre que possível, traduzir-se-ão em benefícios cujos efeitos continuem a se fazer sentir após sua conclusão. O projeto deve analisar as necessidades de cada um dos membros da comunidade e analisar as diferenças presentes entre eles, explicitando como será assegurado o respeito às mesmas;</a:t>
            </a:r>
            <a:endParaRPr b="0" lang="en-US" sz="14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04960" y="1509840"/>
            <a:ext cx="7721640" cy="39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n) garantir o retorno dos benefícios obtidos através das pesquisas para as pessoas e as comunidades onde as mesmas forem realizadas. Quando, no interesse da comunidade, houver benefício real em incentivar ou estimular mudanças de costumes ou comportamentos, o protocolo de pesquisa deve incluir, sempre que possível, disposições para comunicar tal benefício às pessoas e/ou comunidad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o) comunicar às autoridades sanitárias os resultados da pesquisa, sempre que os mesmos puderem contribuir para a melhoria das condições de saúde da coletividade, preservando, porém, a imagem e assegurando que os sujeitos da pesquisa não sejam estigmatizados ou percam a auto-estim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 assegurar aos sujeitos da pesquisa os benefícios resultantes do projeto, seja em termos de retorno social, acesso aos procedimentos, produtos ou agentes da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q)assegurar aos sujeitos da pesquisa as condições de acompanhamento, tratamento ou de orientação, conforme o caso, nas pesquisas de rastreamento; demonstrar a preponderância de benefícios sobre riscos e cust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r) assegurar a inexistência de conflito de interesses entre o pesquisador e os sujeitos da pesquisa ou patrocinador do projeto;</a:t>
            </a:r>
            <a:endParaRPr b="0" lang="en-US" sz="1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04800" y="1193760"/>
            <a:ext cx="8026560" cy="533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s) comprovar, nas pesquisas conduzidas do exterior ou com cooperação estrangeira, os compromissos e as vantagens, para os sujeitos das pesquisas e para o Brasil, decorrentes de sua realização. Nestes casos deve ser identificado o pesquisador e a instituição nacionais co-responsáveis pela pesquisa. O protocolo deverá observar as exigências da Declaração de Helsinque e incluir documento de aprovação, no país de origem, entre os apresentados para avaliação do Comitê de Ética em Pesquisa da instituição brasileira, que exigirá o cumprimento de seus próprios referenciais éticos. Os estudos patrocinados do exterior também devem responder às necessidades de treinamento de pessoal no Brasil, para que o país possa desenvolver projetos similares de forma independen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t) utilizar o material biológico e os dados obtidos na pesquisa exclusivamente para a finalidade prevista no seu protocol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 levar em conta, nas pesquisas realizadas em mulheres em idade fértil ou em mulheres grávidas, a avaliação de riscos e benefícios e as eventuais interferências sobre a fertilidade, a gravidez, o embrião ou o feto, o trabalho de parto, o puerpério, a lactação e o recém-nascid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 considerar que as pesquisas em mulheres grávidas devem, ser precedidas de pesquisas em mulheres fora do período gestacional, exceto quando a gravidez for o objetivo fundamental da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x) propiciar, nos estudos multicêntricos, a participação dos pesquisadores que desenvolverão a pesquisa na elaboração do delineamento geral do projeto; 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z) descontinuar o estudo somente após análise das razões da descontinuidade pelo CEP que a aprovou.</a:t>
            </a:r>
            <a:endParaRPr b="0" lang="en-US" sz="1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01640" y="1204920"/>
            <a:ext cx="7912080" cy="54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Arial"/>
              </a:rPr>
              <a:t>VI - PROTOCOLO DE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O protocolo a ser submetido à revisão ética somente poderá ser apreciado s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Arial"/>
              </a:rPr>
              <a:t>VI.1 - folha de rosto</a:t>
            </a:r>
            <a:r>
              <a:rPr b="1" lang="pt-BR" sz="1400" spc="-1" strike="noStrike">
                <a:solidFill>
                  <a:srgbClr val="000000"/>
                </a:solidFill>
                <a:latin typeface="Arial"/>
              </a:rPr>
              <a:t>: título do projeto, nome, número da carteira de identidade, CPF, telefone e endereço para correspondência do pesquisador responsável e do patrocinador, nome e assinaturas dos dirigentes da instituição e/ou organizaçã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Arial"/>
              </a:rPr>
              <a:t>VI.2 - descrição da pesquisa, compreendendo os seguintes ite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descrição dos propósitos e das hipóteses a serem testad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 antecedentes científicos e dados que justifiquem a pesquisa. Se o propósito for testar um novo produto ou dispositivo para a saúde, de procedência estrangeira ou não, deverá ser indicada a situação atual de registro junto a agências regulatórias do país de orige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 descrição detalhada e ordenada do projeto de pesquisa (material e métodos, casuística, resultados esperados e bibliografi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 análise crítica de riscos e benefíci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 duração total da pesquisa, a partir da aprovaçã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 explicitação das responsabilidades do pesquisador, da instituição, do promotor e do patrocinado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g) explicitação de critérios para suspender ou encerrar a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863640" y="1522440"/>
            <a:ext cx="7532640" cy="384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 local da pesquisa: detalhar as instalações dos serviços, centros, comunidades e instituições nas quais se processarão as várias etapas da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 demonstrativo da existência de infra-estrutura necessária ao desenvolvimento da pesquisa e para atender eventuais problemas dela resultantes, com a concordância documentada da instituiçã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j) orçamento financeiro detalhado da pesquisa: recursos, fontes e destinação, bem como a forma e o valor da remuneração do pesquisado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explicitação de acordo preexistente quanto à propriedade das informações geradas, demonstrando a inexistência de qualquer cláusula restritiva quanto à divulgação pública dos resultados, a menos que se trate de caso de obtenção de patenteamento; neste caso, os resultados devem se tornar públicos, tão logo se encerre a etapa de patenteamen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m) declaração de que os resultados da pesquisa serão tornados públicos, sejam eles favoráveis ou não; 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n) declaração sobre o uso e destinação do material e/ou dados coletados.</a:t>
            </a:r>
            <a:endParaRPr b="0" lang="en-US" sz="1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0320" y="1736640"/>
            <a:ext cx="7751880" cy="395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Arial"/>
              </a:rPr>
              <a:t>VI.3 - informações relativas ao sujeito da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descrever as características da população a estudar: tamanho, faixa etária, sexo, cor (classificação do IBGE), estado geral de saúde, classes e grupos sociais, etc. Expor as razões para a utilização de grupos vulnerávei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 descrever os métodos que afetem diretamente os sujeitos da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 identificar as fontes de material de pesquisa, tais como espécimens, registros e dados a serem obtidos de seres humanos. Indicar se esse material será obtido especificamente para os propósitos da pesquisa ou se será usado para outros fi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 descrever os planos para o recrutamento de indivíduos e os procedimentos a serem seguidos. Fornecer critérios de inclusão e exclusã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 apresentar o formulário ou termo de consentimento, específico para a pesquisa, para a apreciação do Comitê de Ética em Pesquisa, incluindo informações sobre as circunstâncias sob as quais o consentimento será obtido, quem irá tratar de obtê-lo e a natureza da informação a ser fornecida aos sujeitos da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 descrever qualquer risco, avaliando sua possibilidade e gravidade;</a:t>
            </a:r>
            <a:endParaRPr b="0" lang="en-US" sz="1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06400" y="1617840"/>
            <a:ext cx="7548480" cy="298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g) descrever as medidas para proteção ou minimização de qualquer risco eventual. Quando apropriado, descrever as medidas para assegurar os necessários cuidados à saúde, no caso de danos aos indivíduos. Descrever também os procedimentos para monitoramento da coleta de dados para prover a segurança dos indivíduos, incluindo as medidas de proteção à confidencialidade; 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 apresentar previsão de ressarcimento de gastos aos sujeitos da pesquisa. A importância referente não poderá ser de tal monta que possa interferir na autonomia da decisão do indivíduo ou responsável de participar ou não da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Arial"/>
              </a:rPr>
              <a:t>VI.4 - qualificação dos pesquisadores:</a:t>
            </a:r>
            <a:r>
              <a:rPr b="1" lang="pt-BR" sz="1400" spc="-1" strike="noStrike">
                <a:solidFill>
                  <a:srgbClr val="000000"/>
                </a:solidFill>
                <a:latin typeface="Arial"/>
              </a:rPr>
              <a:t> "Curriculum vitae" do pesquisador responsável e dos demais participant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Arial"/>
              </a:rPr>
              <a:t>VI.5 - termo de compromisso do pesquisador responsável e da instituição de cumprir os termos desta Resolução.</a:t>
            </a:r>
            <a:endParaRPr b="0" lang="en-US" sz="1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shit" descr=""/>
          <p:cNvPicPr/>
          <p:nvPr/>
        </p:nvPicPr>
        <p:blipFill>
          <a:blip r:embed="rId1"/>
          <a:stretch/>
        </p:blipFill>
        <p:spPr>
          <a:xfrm>
            <a:off x="7920" y="9360"/>
            <a:ext cx="9128160" cy="6837480"/>
          </a:xfrm>
          <a:prstGeom prst="rect">
            <a:avLst/>
          </a:prstGeom>
          <a:ln w="0">
            <a:noFill/>
          </a:ln>
        </p:spPr>
      </p:pic>
      <p:sp>
        <p:nvSpPr>
          <p:cNvPr id="43" name=""/>
          <p:cNvSpPr/>
          <p:nvPr/>
        </p:nvSpPr>
        <p:spPr>
          <a:xfrm>
            <a:off x="620280" y="1825560"/>
            <a:ext cx="7924320" cy="435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E-280</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damentos de Engenharia Bioméd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erto </a:t>
            </a:r>
            <a:r>
              <a:rPr b="1" lang="en-US" sz="2400" spc="-1" strike="noStrike">
                <a:solidFill>
                  <a:srgbClr val="0000ff"/>
                </a:solidFill>
                <a:latin typeface="Arial"/>
              </a:rPr>
              <a:t>Kawakami</a:t>
            </a:r>
            <a:r>
              <a:rPr b="1" lang="en-US" sz="2400" spc="-1" strike="noStrike">
                <a:solidFill>
                  <a:srgbClr val="000000"/>
                </a:solidFill>
                <a:latin typeface="Arial"/>
              </a:rPr>
              <a:t> Harrop Galvã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 kawakami@ele.ita.b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3947-687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kashi</a:t>
            </a:r>
            <a:r>
              <a:rPr b="1" lang="en-US" sz="2400" spc="-1" strike="noStrike">
                <a:solidFill>
                  <a:srgbClr val="000000"/>
                </a:solidFill>
                <a:latin typeface="Arial"/>
              </a:rPr>
              <a:t> Yoneya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 takashi@ele.ita.b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3947-5996</a:t>
            </a:r>
            <a:endParaRPr b="0" lang="en-US" sz="1600" spc="-1" strike="noStrike">
              <a:solidFill>
                <a:srgbClr val="000000"/>
              </a:solidFill>
              <a:latin typeface="Times New Roman"/>
            </a:endParaRPr>
          </a:p>
        </p:txBody>
      </p:sp>
      <p:grpSp>
        <p:nvGrpSpPr>
          <p:cNvPr id="44" name=""/>
          <p:cNvGrpSpPr/>
          <p:nvPr/>
        </p:nvGrpSpPr>
        <p:grpSpPr>
          <a:xfrm>
            <a:off x="0" y="203040"/>
            <a:ext cx="9144000" cy="785880"/>
            <a:chOff x="0" y="203040"/>
            <a:chExt cx="9144000" cy="785880"/>
          </a:xfrm>
        </p:grpSpPr>
        <p:sp>
          <p:nvSpPr>
            <p:cNvPr id="45" name=""/>
            <p:cNvSpPr/>
            <p:nvPr/>
          </p:nvSpPr>
          <p:spPr>
            <a:xfrm>
              <a:off x="0" y="988920"/>
              <a:ext cx="9144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257200" y="203040"/>
              <a:ext cx="4662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stituto Tecnológico de Aeronáu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E-280 / 2010</a:t>
              </a:r>
              <a:endParaRPr b="0" lang="en-US" sz="2000" spc="-1" strike="noStrike">
                <a:solidFill>
                  <a:srgbClr val="000000"/>
                </a:solidFill>
                <a:latin typeface="Times New Roman"/>
              </a:endParaRPr>
            </a:p>
          </p:txBody>
        </p:sp>
        <p:pic>
          <p:nvPicPr>
            <p:cNvPr id="47" name="ASA_CO13" descr=""/>
            <p:cNvPicPr/>
            <p:nvPr/>
          </p:nvPicPr>
          <p:blipFill>
            <a:blip r:embed="rId2"/>
            <a:stretch/>
          </p:blipFill>
          <p:spPr>
            <a:xfrm>
              <a:off x="246240" y="203040"/>
              <a:ext cx="1382400" cy="551160"/>
            </a:xfrm>
            <a:prstGeom prst="rect">
              <a:avLst/>
            </a:prstGeom>
            <a:ln w="0">
              <a:noFill/>
            </a:ln>
          </p:spPr>
        </p:pic>
      </p:gr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71680" y="1287360"/>
            <a:ext cx="8200800" cy="54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ff"/>
                </a:solidFill>
                <a:latin typeface="Arial"/>
              </a:rPr>
              <a:t>VII - COMITÊ DE ÉTICA EM PESQUISA - CE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Toda pesquisa envolvendo seres humanos deverá ser submetida à apreciação de um Comitê de Ética em Pesqu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1 - As instituições nas quais se realizem pesquisas envolvendo seres humanos deverão constituir um ou mais de um Comitê de Ética em Pesquisa- CEP, conforme suas necessidad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2 - Na impossibilidade de se constituir CEP, a instituição ou o pesquisador responsável deverá submeter o projeto à apreciação do CEP de outra instituição, preferencialmente dentre os indicados pela Comissão Nacional de Ética em Pesquisa (CONEP/M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3 - Organização - A organização e criação do CEP será da competência da instituição, respeitadas as normas desta Resolução, assim como o provimento de condições adequadas para o seu funcionament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4 - Composição - O CEP deverá ser constituído por colegiado com número não inferior a 7 (sete) membros. Sua constituição deverá incluir a participação de profissionais da área de saúde, das ciências exatas, sociais e humanas, incluindo, por exemplo, juristas, teólogos, sociólogos, filósofos, bioeticistas e, pelo menos, um membro da sociedade representando os usuários da instituição. Poderá variar na sua composição, dependendo das especificidades da instituição e das linhas de pesquisa a serem analisad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5 - Terá sempre caráter multi e transdisciplinar, não devendo haver mais que metade de seus membros pertencentes à mesma categoria profissional, participando pessoas dos dois sexos. Poderá ainda contar com consultores "ad hoc", pessoas pertencentes ou não à instituição, com a finalidade de fornecer subsídios técnicos.</a:t>
            </a:r>
            <a:endParaRPr b="0" lang="en-US" sz="1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99960" y="1060560"/>
            <a:ext cx="8288280" cy="566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6 - No caso de pesquisas em grupos vulneráveis, comunidades e coletividades, deverá ser convidado um representante, como membro "ad hoc" do CEP, para participar da análise do projeto específic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7 - Nas pesquisas em população indígena deverá participar um consultor familiarizado com os costumes e tradições da comunida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8 - Os membros do CEP deverão se isentar de tomada de decisão, quando diretamente envolvidos na pesquisa em análi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9 - Mandato e escolha dos membros - A composição de cada CEP deverá ser definida a critério da instituição, sendo pelo menos metade dos membros com experiência em pesquisa, eleitos pelos seus pares. A escolha da coordenação de cada Comitê deverá ser feita pelos membros que compõem o colegiado, durante a primeira reunião de trabalho. Será de três anos a duração do mandato, sendo permitida reconduçã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10 - Remuneração - Os membros do CEP não poderão ser remunerados no desempenho desta tarefa, sendo recomendável, porém, que sejam dispensados nos horários de trabalho do Comitê das outras obrigações nas instituições às quais prestam serviço, podendo receber ressarcimento de despesas efetuadas com transporte, hospedagem e alimentaçã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11 - Arquivo - O CEP deverá manter em arquivo o projeto, o protocolo e os relatórios correspondentes, por 5 (cinco) anos após o encerramento do estud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12 - Liberdade de trabalho - Os membros dos CEPs deverão ter total independência na tomada das decisões no exercício das suas funções, mantendo sob caráter confidencial as informações recebidas. Deste modo, não podem sofrer qualquer tipo de pressão por parte de superiores hierárquicos ou pelos interessados em determinada pesquisa, devem isentar-se de envolvimento financeiro e não devem estar submetidos a conflito de interesse.</a:t>
            </a:r>
            <a:endParaRPr b="0" lang="en-US" sz="1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774720" y="1279440"/>
            <a:ext cx="7635960" cy="567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VII.13 - Atribuições do CE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revisar todos os protocolos de pesquisa envolvendo seres humanos, inclusive os multicêntricos, cabendo-lhe a responsabilidade primária pelas decisões sobre a ética da pesquisa a ser desenvolvida na instituição, de modo a garantir e resguardar a integridade e os direitos dos voluntários participantes nas referidas pesquis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 emitir parecer consubstanciado por escrito, no prazo máximo de 30 (trinta) dias, identificando com clareza o ensaio, documentos estudados e data de revisão. A revisão de cada protocolo culminará com seu enquadramento em uma das seguintes ategori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 aprovad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 com pendência: quando o Comitê considera o protocolo como aceitável, porém identifica determinados problemas no protocolo, no formulário do consentimento ou em ambos, e recomenda uma revisão específica ou solicita uma modificação ou informação relevante, que deverá ser atendida em 60 (sessenta) dias pelos pesquisador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 retirado: quando, transcorrido o prazo, o protocolo permanece penden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 não aprovado; 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 aprovado e encaminhado, com o devido parecer, para apreciação pela Comissão Nacional de Ética em Pesquisa -CONEP/MS, nos casos previstos no capítulo VIII, item 4.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 manter a guarda confidencial de todos os dados obtidos na execução de sua tarefa e arquivamento do protocolo completo, que ficará à disposição das autoridades sanitárias;</a:t>
            </a:r>
            <a:endParaRPr b="0" lang="en-US" sz="1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90480" y="1504800"/>
            <a:ext cx="7839000" cy="35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 acompanhar o desenvolvimento dos projetos através de relatórios anuais dos pesquisador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 desempenhar papel consultivo e educativo, fomentando a reflexão em torno da ética na ciênci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 receber dos sujeitos da pesquisa ou de qualquer outra parte denúncias de abusos ou notificação sobre fatos adversos que possam alterar o curso normal do estudo, decidindo pela continuidade, modificação ou suspensão da pesquisa, devendo, se necessário, adequar o termo de consentimento. Considera-se como anti-ética a pesquisa descontinuada sem justificativa aceita pelo CEP que a aprovou;</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g) requerer instauração de sindicância à direção da instituição em caso de denúncias de irregularidades de natureza ética nas pesquisas e, em havendo comprovação, comunicar à Comissão Nacional de Ética em Pesquisa-CONEP/MS e, no que couber, a outras instâncias; 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 manter comunicação regular e permanente com a CONEP/MS.</a:t>
            </a:r>
            <a:endParaRPr b="0" lang="en-US" sz="1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shit" descr=""/>
          <p:cNvPicPr/>
          <p:nvPr/>
        </p:nvPicPr>
        <p:blipFill>
          <a:blip r:embed="rId1"/>
          <a:stretch/>
        </p:blipFill>
        <p:spPr>
          <a:xfrm>
            <a:off x="7920" y="9360"/>
            <a:ext cx="9128160" cy="6837480"/>
          </a:xfrm>
          <a:prstGeom prst="rect">
            <a:avLst/>
          </a:prstGeom>
          <a:ln w="0">
            <a:noFill/>
          </a:ln>
        </p:spPr>
      </p:pic>
      <p:sp>
        <p:nvSpPr>
          <p:cNvPr id="85" name=""/>
          <p:cNvSpPr/>
          <p:nvPr/>
        </p:nvSpPr>
        <p:spPr>
          <a:xfrm>
            <a:off x="3174840" y="3506760"/>
            <a:ext cx="292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ito Obrigado!</a:t>
            </a:r>
            <a:endParaRPr b="0" lang="en-US" sz="2800" spc="-1" strike="noStrike">
              <a:solidFill>
                <a:srgbClr val="000000"/>
              </a:solidFill>
              <a:latin typeface="Times New Roman"/>
            </a:endParaRPr>
          </a:p>
        </p:txBody>
      </p:sp>
      <p:grpSp>
        <p:nvGrpSpPr>
          <p:cNvPr id="86" name=""/>
          <p:cNvGrpSpPr/>
          <p:nvPr/>
        </p:nvGrpSpPr>
        <p:grpSpPr>
          <a:xfrm>
            <a:off x="0" y="203040"/>
            <a:ext cx="9144000" cy="785880"/>
            <a:chOff x="0" y="203040"/>
            <a:chExt cx="9144000" cy="785880"/>
          </a:xfrm>
        </p:grpSpPr>
        <p:sp>
          <p:nvSpPr>
            <p:cNvPr id="87" name=""/>
            <p:cNvSpPr/>
            <p:nvPr/>
          </p:nvSpPr>
          <p:spPr>
            <a:xfrm>
              <a:off x="0" y="988920"/>
              <a:ext cx="9144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57200" y="203040"/>
              <a:ext cx="4662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stituto Tecnológico de Aeronáu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E-280 / 2010</a:t>
              </a:r>
              <a:endParaRPr b="0" lang="en-US" sz="2000" spc="-1" strike="noStrike">
                <a:solidFill>
                  <a:srgbClr val="000000"/>
                </a:solidFill>
                <a:latin typeface="Times New Roman"/>
              </a:endParaRPr>
            </a:p>
          </p:txBody>
        </p:sp>
        <p:pic>
          <p:nvPicPr>
            <p:cNvPr id="89" name="ASA_CO13" descr=""/>
            <p:cNvPicPr/>
            <p:nvPr/>
          </p:nvPicPr>
          <p:blipFill>
            <a:blip r:embed="rId2"/>
            <a:stretch/>
          </p:blipFill>
          <p:spPr>
            <a:xfrm>
              <a:off x="246240" y="203040"/>
              <a:ext cx="1382400" cy="551160"/>
            </a:xfrm>
            <a:prstGeom prst="rect">
              <a:avLst/>
            </a:prstGeom>
            <a:ln w="0">
              <a:noFill/>
            </a:ln>
          </p:spPr>
        </p:pic>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shit" descr=""/>
          <p:cNvPicPr/>
          <p:nvPr/>
        </p:nvPicPr>
        <p:blipFill>
          <a:blip r:embed="rId1"/>
          <a:stretch/>
        </p:blipFill>
        <p:spPr>
          <a:xfrm>
            <a:off x="7920" y="9360"/>
            <a:ext cx="9128160" cy="6837480"/>
          </a:xfrm>
          <a:prstGeom prst="rect">
            <a:avLst/>
          </a:prstGeom>
          <a:ln w="0">
            <a:noFill/>
          </a:ln>
        </p:spPr>
      </p:pic>
      <p:sp>
        <p:nvSpPr>
          <p:cNvPr id="49" name=""/>
          <p:cNvSpPr/>
          <p:nvPr/>
        </p:nvSpPr>
        <p:spPr>
          <a:xfrm>
            <a:off x="2321640" y="2895480"/>
            <a:ext cx="4786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presentação do Cur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Ética na Experimentação</a:t>
            </a:r>
            <a:endParaRPr b="0" lang="en-US" sz="2800" spc="-1" strike="noStrike">
              <a:solidFill>
                <a:srgbClr val="000000"/>
              </a:solidFill>
              <a:latin typeface="Times New Roman"/>
            </a:endParaRPr>
          </a:p>
        </p:txBody>
      </p:sp>
      <p:grpSp>
        <p:nvGrpSpPr>
          <p:cNvPr id="50" name=""/>
          <p:cNvGrpSpPr/>
          <p:nvPr/>
        </p:nvGrpSpPr>
        <p:grpSpPr>
          <a:xfrm>
            <a:off x="0" y="203040"/>
            <a:ext cx="9144000" cy="785880"/>
            <a:chOff x="0" y="203040"/>
            <a:chExt cx="9144000" cy="785880"/>
          </a:xfrm>
        </p:grpSpPr>
        <p:sp>
          <p:nvSpPr>
            <p:cNvPr id="51" name=""/>
            <p:cNvSpPr/>
            <p:nvPr/>
          </p:nvSpPr>
          <p:spPr>
            <a:xfrm>
              <a:off x="0" y="988920"/>
              <a:ext cx="9144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257200" y="203040"/>
              <a:ext cx="4662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stituto Tecnológico de Aeronáu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E-280 / 2010</a:t>
              </a:r>
              <a:endParaRPr b="0" lang="en-US" sz="2000" spc="-1" strike="noStrike">
                <a:solidFill>
                  <a:srgbClr val="000000"/>
                </a:solidFill>
                <a:latin typeface="Times New Roman"/>
              </a:endParaRPr>
            </a:p>
          </p:txBody>
        </p:sp>
        <p:pic>
          <p:nvPicPr>
            <p:cNvPr id="53" name="ASA_CO13" descr=""/>
            <p:cNvPicPr/>
            <p:nvPr/>
          </p:nvPicPr>
          <p:blipFill>
            <a:blip r:embed="rId2"/>
            <a:stretch/>
          </p:blipFill>
          <p:spPr>
            <a:xfrm>
              <a:off x="246240" y="203040"/>
              <a:ext cx="1382400" cy="551160"/>
            </a:xfrm>
            <a:prstGeom prst="rect">
              <a:avLst/>
            </a:prstGeom>
            <a:ln w="0">
              <a:noFill/>
            </a:ln>
          </p:spPr>
        </p:pic>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shit" descr=""/>
          <p:cNvPicPr/>
          <p:nvPr/>
        </p:nvPicPr>
        <p:blipFill>
          <a:blip r:embed="rId1"/>
          <a:stretch/>
        </p:blipFill>
        <p:spPr>
          <a:xfrm>
            <a:off x="7920" y="9360"/>
            <a:ext cx="9128160" cy="6837480"/>
          </a:xfrm>
          <a:prstGeom prst="rect">
            <a:avLst/>
          </a:prstGeom>
          <a:ln w="0">
            <a:noFill/>
          </a:ln>
        </p:spPr>
      </p:pic>
      <p:sp>
        <p:nvSpPr>
          <p:cNvPr id="55" name=""/>
          <p:cNvSpPr/>
          <p:nvPr/>
        </p:nvSpPr>
        <p:spPr>
          <a:xfrm>
            <a:off x="2321640" y="2895480"/>
            <a:ext cx="4786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presentação do Cur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2. Ética na Experimentação</a:t>
            </a:r>
            <a:endParaRPr b="0" lang="en-US" sz="2800" spc="-1" strike="noStrike">
              <a:solidFill>
                <a:srgbClr val="000000"/>
              </a:solidFill>
              <a:latin typeface="Times New Roman"/>
            </a:endParaRPr>
          </a:p>
        </p:txBody>
      </p:sp>
      <p:grpSp>
        <p:nvGrpSpPr>
          <p:cNvPr id="56" name=""/>
          <p:cNvGrpSpPr/>
          <p:nvPr/>
        </p:nvGrpSpPr>
        <p:grpSpPr>
          <a:xfrm>
            <a:off x="0" y="203040"/>
            <a:ext cx="9144000" cy="785880"/>
            <a:chOff x="0" y="203040"/>
            <a:chExt cx="9144000" cy="785880"/>
          </a:xfrm>
        </p:grpSpPr>
        <p:sp>
          <p:nvSpPr>
            <p:cNvPr id="57" name=""/>
            <p:cNvSpPr/>
            <p:nvPr/>
          </p:nvSpPr>
          <p:spPr>
            <a:xfrm>
              <a:off x="0" y="988920"/>
              <a:ext cx="9144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57200" y="203040"/>
              <a:ext cx="4662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stituto Tecnológico de Aeronáu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E-280 / 2010</a:t>
              </a:r>
              <a:endParaRPr b="0" lang="en-US" sz="2000" spc="-1" strike="noStrike">
                <a:solidFill>
                  <a:srgbClr val="000000"/>
                </a:solidFill>
                <a:latin typeface="Times New Roman"/>
              </a:endParaRPr>
            </a:p>
          </p:txBody>
        </p:sp>
        <p:pic>
          <p:nvPicPr>
            <p:cNvPr id="59" name="ASA_CO13" descr=""/>
            <p:cNvPicPr/>
            <p:nvPr/>
          </p:nvPicPr>
          <p:blipFill>
            <a:blip r:embed="rId2"/>
            <a:stretch/>
          </p:blipFill>
          <p:spPr>
            <a:xfrm>
              <a:off x="246240" y="203040"/>
              <a:ext cx="1382400" cy="551160"/>
            </a:xfrm>
            <a:prstGeom prst="rect">
              <a:avLst/>
            </a:prstGeom>
            <a:ln w="0">
              <a:noFill/>
            </a:ln>
          </p:spPr>
        </p:pic>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shit" descr=""/>
          <p:cNvPicPr/>
          <p:nvPr/>
        </p:nvPicPr>
        <p:blipFill>
          <a:blip r:embed="rId1"/>
          <a:stretch/>
        </p:blipFill>
        <p:spPr>
          <a:xfrm>
            <a:off x="7920" y="9360"/>
            <a:ext cx="9128160" cy="6837480"/>
          </a:xfrm>
          <a:prstGeom prst="rect">
            <a:avLst/>
          </a:prstGeom>
          <a:ln w="0">
            <a:noFill/>
          </a:ln>
        </p:spPr>
      </p:pic>
      <p:sp>
        <p:nvSpPr>
          <p:cNvPr id="61" name=""/>
          <p:cNvSpPr/>
          <p:nvPr/>
        </p:nvSpPr>
        <p:spPr>
          <a:xfrm>
            <a:off x="2321640" y="2895480"/>
            <a:ext cx="4786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1. Apresentação do Cur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Ética na Experimentação</a:t>
            </a:r>
            <a:endParaRPr b="0" lang="en-US" sz="2800" spc="-1" strike="noStrike">
              <a:solidFill>
                <a:srgbClr val="000000"/>
              </a:solidFill>
              <a:latin typeface="Times New Roman"/>
            </a:endParaRPr>
          </a:p>
        </p:txBody>
      </p:sp>
      <p:grpSp>
        <p:nvGrpSpPr>
          <p:cNvPr id="62" name=""/>
          <p:cNvGrpSpPr/>
          <p:nvPr/>
        </p:nvGrpSpPr>
        <p:grpSpPr>
          <a:xfrm>
            <a:off x="0" y="203040"/>
            <a:ext cx="9144000" cy="785880"/>
            <a:chOff x="0" y="203040"/>
            <a:chExt cx="9144000" cy="785880"/>
          </a:xfrm>
        </p:grpSpPr>
        <p:sp>
          <p:nvSpPr>
            <p:cNvPr id="63" name=""/>
            <p:cNvSpPr/>
            <p:nvPr/>
          </p:nvSpPr>
          <p:spPr>
            <a:xfrm>
              <a:off x="0" y="988920"/>
              <a:ext cx="9144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57200" y="203040"/>
              <a:ext cx="4662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stituto Tecnológico de Aeronáu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E-280 / 2010</a:t>
              </a:r>
              <a:endParaRPr b="0" lang="en-US" sz="2000" spc="-1" strike="noStrike">
                <a:solidFill>
                  <a:srgbClr val="000000"/>
                </a:solidFill>
                <a:latin typeface="Times New Roman"/>
              </a:endParaRPr>
            </a:p>
          </p:txBody>
        </p:sp>
        <p:pic>
          <p:nvPicPr>
            <p:cNvPr id="65" name="ASA_CO13" descr=""/>
            <p:cNvPicPr/>
            <p:nvPr/>
          </p:nvPicPr>
          <p:blipFill>
            <a:blip r:embed="rId2"/>
            <a:stretch/>
          </p:blipFill>
          <p:spPr>
            <a:xfrm>
              <a:off x="246240" y="203040"/>
              <a:ext cx="1382400" cy="551160"/>
            </a:xfrm>
            <a:prstGeom prst="rect">
              <a:avLst/>
            </a:prstGeom>
            <a:ln w="0">
              <a:noFill/>
            </a:ln>
          </p:spPr>
        </p:pic>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44600" y="1682640"/>
            <a:ext cx="8215200" cy="407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EXPERIMENTAÇÃO HUMANA</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Arial"/>
              </a:rPr>
              <a:t>(CÓDIGO DE NUREMBERG – 1947)</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1. O consentimento voluntário do ser humano é absolutamente essenci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2. Isso significa que as pessoas que serão submetidas ao experimento devem ser legalmente capazes de dar consentimento; essas pessoas devem exercer o livre direito de escolha sem qualquer intervenção de elementos de força, fraude, mentira, coação, astúcia ou outra forma de restrição posterior; devem Ter conhecimento suficiente do assunto em estudo para tomar uma decisão. Esse último aspecto exige que sejam explicados às pessoas a natureza, a duração e o propósito do  experimento; os métodos segundo os quais será conduzido; as inconveniências e os riscos esperados; os efeitos sobre a saúde ou sobre a pessoa do participante que eventualmente possam ocorrer devido à participação no experimento.</a:t>
            </a:r>
            <a:endParaRPr b="0" lang="en-US" sz="1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50840" y="900000"/>
            <a:ext cx="7693200" cy="585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3. O dever e a responsabilidade de garantir a qualidade do consentimento repousam sobre o pesquisador que inicia ou dirige um experimento ou se compromete nele. São deveres e responsabilidades pessoais que não podem ser delegados a outrem impunem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4. O experimento deve ser tal que produza resultados vantajosos para a sociedade, que não possam ser buscados por outros métodos de estudo, mas não podem ser feitos de maneira casuística ou desnecessariam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5. O experimento deve ser baseado em resultados de experimentação com animais e no conhecimento da evolução da doença ou outros problemas em estudo; dessa maneira, os resultados já conhecidos justificam a condição do experime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6. O experimento deve ser conduzido de maneira a evitar todo sofrimento e danos desnecessários, quer físicos, quer menta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7. Não deve ser conduzido nenhum experimento quando existirem razões para acreditar que possa ocorrer morte ou invalidez permanente; exceto, talvez, quando o próprio médico pesquisador se submeter ao experime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8. O grau de risco aceitável deve ser limitado pela importância do problema que o pesquisador se propõe resolv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90640" y="1349280"/>
            <a:ext cx="7692840" cy="315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9. Devem ser tomados cuidados especiais para proteger o participante do experimento de qualquer possibilidade de dano, invalidez ou morte, mesmo que remo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10. O experimento deve ser conduzido apenas por pessoas cientificamente qualificada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11. O participante do experimento deve ter a liberdade de se retirar no decorrer do experime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12. O pesquisador deve estar preparado para suspender os procedimentos experimentais em qualquer estágio, se ele tiver motivos razoáveis para acreditar que a continuação do experimento provavelmente causará dano, invalidez ou morte para os participantes.</a:t>
            </a:r>
            <a:endParaRPr b="0" lang="en-US" sz="16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55680" y="1049400"/>
            <a:ext cx="8491320" cy="550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RESOLUÇÃO Nº 196, de 10 de outubro de 1996</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O Plenário do Conselho Nacional de Saúde em sua 59</a:t>
            </a:r>
            <a:r>
              <a:rPr b="1" lang="pt-BR" sz="1400" spc="-1" strike="noStrike" baseline="30000">
                <a:solidFill>
                  <a:srgbClr val="000000"/>
                </a:solidFill>
                <a:latin typeface="Arial"/>
              </a:rPr>
              <a:t>a</a:t>
            </a:r>
            <a:r>
              <a:rPr b="1" lang="pt-BR" sz="1400" spc="-1" strike="noStrike">
                <a:solidFill>
                  <a:srgbClr val="000000"/>
                </a:solidFill>
                <a:latin typeface="Arial"/>
              </a:rPr>
              <a:t> Reunião Ordinária, realizada nos dias 09 e 10 out 1996, no uso de suas competências regimentais e atribuições conferidas pela Lei nº 8.080, de 19 set 1990, e pela Lei nº 8.142, de 28 dez 1990, RESOLV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provar as seguintes diretrizes e normas reguladoras de pesquisas envolvendo seres human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 - PREÂMBUL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 presente Resolução fundamenta-se nos principais documentos internacionais que emanaram declarações e diretrizes sobre pesquisas que envolvem seres humanos: o Código de Nuremberg (1947), a Declaração dos Direitos do Homem (1948), a Declaração de Helsinque (1964 e suas versões posteriores de 1975, 1983 e 1989), o Acordo Internacional sobre Direitos Civis e Políticos (ONU, 1966, aprovado pelo Congresso Nacional Brasileiro em 1992), as Propostas de Diretrizes Éticas Internacionais para Pesquisas Biomédicas Envolvendo Seres Humanos (CIOMS/OMS 1982 e 1993) e as Diretrizes Internacionais para Revisão Ética de Estudos Epidemiológicos (CIOMS, 1991). Cumpre as disposições da Constituição da República Federativa do Brasil de 1988 e da legislação brasileira correlata: Código de Direitos do Consumidor, Código Civil e Código Penal, Estatuto da Criança e do Adolescente, Lei Orgânica da Saúde 8.080, de 19/09/90 (dispõe sobre as condições de atenção à saúde, a organização e o funcionamento dos serviços correspondentes), Lei 8.142, de 28/12/90 (participação da comunidade na gestão do Sistema Único de Saúde), Decreto 99.438, de 07/08/90 (organização e atribuições do Conselho Nacional de Saúde), Decreto 98.830, de 15/01/90 (coleta por estrangeiros de dados e materiais científicos no Brasil), Lei 8.489, de 18/11/92, e Decreto 879, de 22/07/93 (dispõem sobre retirada de tecidos, órgãos e outras partes do corpo humano com fins humanitários e científicos), Lei 8.501, de 30/11/92 (utilização de cadáver), Lei 8.974, de 05/01/95 (uso das técnicas de engenharia genética e liberação no meio ambiente de organismos geneticamente modificados), Lei 9.279, de 14/05/96 (regula direitos e obrigações relativos à propriedade industrial), e outras.</a:t>
            </a:r>
            <a:endParaRPr b="0" lang="en-US" sz="1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20:50:31Z</dcterms:created>
  <dc:creator>Takashi Yoneyama</dc:creator>
  <dc:description/>
  <dc:language>en-US</dc:language>
  <cp:lastModifiedBy>Takashi Yoneyama</cp:lastModifiedBy>
  <dcterms:modified xsi:type="dcterms:W3CDTF">2010-03-02T20:04:01Z</dcterms:modified>
  <cp:revision>58</cp:revision>
  <dc:subject/>
  <dc:title>No Slide Title</dc:title>
</cp:coreProperties>
</file>