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13.png" ContentType="image/png"/>
  <Override PartName="/ppt/media/image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10.wmf" ContentType="image/x-wmf"/>
  <Override PartName="/ppt/media/image12.wmf" ContentType="image/x-wmf"/>
  <Override PartName="/ppt/media/image30.jpeg" ContentType="image/jpeg"/>
  <Override PartName="/ppt/media/image3.jpeg" ContentType="image/jpeg"/>
  <Override PartName="/ppt/media/image32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26.jpeg" ContentType="image/jpeg"/>
  <Override PartName="/ppt/media/image7.png" ContentType="image/png"/>
  <Override PartName="/ppt/media/image36.png" ContentType="image/png"/>
  <Override PartName="/ppt/media/image27.jpeg" ContentType="image/jpeg"/>
  <Override PartName="/ppt/media/image21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11.wmf" ContentType="image/x-wmf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34880" y="31896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ma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ul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76520" y="1852560"/>
          <a:ext cx="6208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52560"/>
                    <a:ext cx="6208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727280" y="2060640"/>
          <a:ext cx="5769000" cy="47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2060640"/>
                    <a:ext cx="57690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97520" y="13683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Tahoma"/>
              </a:rPr>
              <a:t>Tratamento Ótimo da 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inactivated-HIV" descr=""/>
          <p:cNvPicPr/>
          <p:nvPr/>
        </p:nvPicPr>
        <p:blipFill>
          <a:blip r:embed="rId1"/>
          <a:stretch/>
        </p:blipFill>
        <p:spPr>
          <a:xfrm>
            <a:off x="2814480" y="2360520"/>
            <a:ext cx="3787920" cy="378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microelectrhiv" descr=""/>
          <p:cNvPicPr/>
          <p:nvPr/>
        </p:nvPicPr>
        <p:blipFill>
          <a:blip r:embed="rId1"/>
          <a:stretch/>
        </p:blipFill>
        <p:spPr>
          <a:xfrm>
            <a:off x="1874880" y="1908000"/>
            <a:ext cx="5462640" cy="4310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79760" y="13701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d4t" descr=""/>
          <p:cNvPicPr/>
          <p:nvPr/>
        </p:nvPicPr>
        <p:blipFill>
          <a:blip r:embed="rId1"/>
          <a:stretch/>
        </p:blipFill>
        <p:spPr>
          <a:xfrm>
            <a:off x="1714680" y="2340000"/>
            <a:ext cx="5959440" cy="3732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79760" y="13701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ycleHIV" descr=""/>
          <p:cNvPicPr/>
          <p:nvPr/>
        </p:nvPicPr>
        <p:blipFill>
          <a:blip r:embed="rId1"/>
          <a:stretch/>
        </p:blipFill>
        <p:spPr>
          <a:xfrm>
            <a:off x="2048040" y="2193840"/>
            <a:ext cx="5519520" cy="4237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79760" y="13701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0520" y="2654280"/>
            <a:ext cx="4832280" cy="342252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5784840" y="2548080"/>
            <a:ext cx="2766960" cy="3162240"/>
            <a:chOff x="5784840" y="2548080"/>
            <a:chExt cx="2766960" cy="3162240"/>
          </a:xfrm>
        </p:grpSpPr>
        <p:sp>
          <p:nvSpPr>
            <p:cNvPr id="123" name=""/>
            <p:cNvSpPr/>
            <p:nvPr/>
          </p:nvSpPr>
          <p:spPr>
            <a:xfrm>
              <a:off x="5808600" y="3624480"/>
              <a:ext cx="248760" cy="376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8600" y="3272040"/>
              <a:ext cx="247320" cy="3348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10040" y="2919600"/>
              <a:ext cx="245880" cy="334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16520" y="2548080"/>
              <a:ext cx="239400" cy="352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806800" y="2570400"/>
                  <a:ext cx="2685600" cy="14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λ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5784840" y="4065840"/>
                  <a:ext cx="2766960" cy="16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sθ</m:t>
                              </m:r>
                            </m:num>
                            <m:den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λ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3609720" y="3363840"/>
            <a:ext cx="36216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320" y="3373560"/>
            <a:ext cx="362160" cy="405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3600" y="5059440"/>
            <a:ext cx="3744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84560" y="4479840"/>
            <a:ext cx="36216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70040" y="1341360"/>
            <a:ext cx="46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a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70720" y="2395440"/>
            <a:ext cx="3000240" cy="3449880"/>
          </a:xfrm>
          <a:prstGeom prst="rect">
            <a:avLst/>
          </a:prstGeom>
          <a:noFill/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7120" y="5924520"/>
            <a:ext cx="26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istema de Equações Diferenci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Ordinárias Não Line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5040" y="5816520"/>
            <a:ext cx="4718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079640" y="2873520"/>
          <a:ext cx="7216560" cy="356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873520"/>
                    <a:ext cx="7216560" cy="35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222000" y="218268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âmetros do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654120" y="2421000"/>
            <a:ext cx="3090960" cy="3685680"/>
            <a:chOff x="654120" y="2421000"/>
            <a:chExt cx="3090960" cy="36856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664200" y="2421000"/>
                  <a:ext cx="2927520" cy="166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λ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654120" y="4176720"/>
                  <a:ext cx="3090960" cy="192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sθ</m:t>
                              </m:r>
                            </m:num>
                            <m:den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λ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80040" y="2600280"/>
            <a:ext cx="4357440" cy="2825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74880" y="137016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ção Digital do Modelo de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06800" y="5153040"/>
            <a:ext cx="4416120" cy="73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14720" y="2352600"/>
            <a:ext cx="5332320" cy="1758960"/>
            <a:chOff x="2214720" y="2352600"/>
            <a:chExt cx="5332320" cy="1758960"/>
          </a:xfrm>
        </p:grpSpPr>
        <p:sp>
          <p:nvSpPr>
            <p:cNvPr id="147" name=""/>
            <p:cNvSpPr/>
            <p:nvPr/>
          </p:nvSpPr>
          <p:spPr>
            <a:xfrm>
              <a:off x="5651640" y="3675240"/>
              <a:ext cx="476280" cy="433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72080" y="3227400"/>
              <a:ext cx="47628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81680" y="2808360"/>
              <a:ext cx="47628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70760" y="2352600"/>
              <a:ext cx="47628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214720" y="2409840"/>
              <a:ext cx="5300640" cy="17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776160" y="165564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tos de Equilíb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310840" y="4232160"/>
            <a:ext cx="4222080" cy="2058120"/>
            <a:chOff x="2310840" y="4232160"/>
            <a:chExt cx="4222080" cy="2058120"/>
          </a:xfrm>
        </p:grpSpPr>
        <p:sp>
          <p:nvSpPr>
            <p:cNvPr id="154" name=""/>
            <p:cNvSpPr/>
            <p:nvPr/>
          </p:nvSpPr>
          <p:spPr>
            <a:xfrm>
              <a:off x="2310840" y="5099040"/>
              <a:ext cx="4222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= (462.828; 0; 0; 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= (4.07; 13.1; 131.04; 10724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AU" sz="24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= (-70.62; 0; 0; 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38800" y="4232160"/>
              <a:ext cx="1440" cy="69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25840" y="336708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xemplos de Ca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45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2224080" y="3218040"/>
            <a:ext cx="5070240" cy="2882880"/>
            <a:chOff x="2224080" y="3218040"/>
            <a:chExt cx="5070240" cy="28828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2224080" y="3218040"/>
              <a:ext cx="5070240" cy="14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2570040" y="4829400"/>
              <a:ext cx="4016160" cy="12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3700440" y="1414440"/>
            <a:ext cx="3500640" cy="1096920"/>
            <a:chOff x="3700440" y="1414440"/>
            <a:chExt cx="3500640" cy="109692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3700440" y="1633680"/>
              <a:ext cx="318168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367600" y="1414440"/>
              <a:ext cx="183348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502160" y="2454120"/>
            <a:ext cx="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800680" y="3290760"/>
            <a:ext cx="1630440" cy="37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11480" y="2489040"/>
            <a:ext cx="23403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13 + 1.35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13 - 1.35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0.1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81240" y="4419720"/>
            <a:ext cx="26452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439 + 0.189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439 – 0.189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0.77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0.03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200" y="3036960"/>
            <a:ext cx="28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(462.828; 0; 0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960" y="4940280"/>
            <a:ext cx="42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(4.07; 13.1; 131.04; 1072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45920" y="1390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1880" y="2525760"/>
            <a:ext cx="374400" cy="1487520"/>
          </a:xfrm>
          <a:custGeom>
            <a:avLst/>
            <a:gdLst>
              <a:gd name="textAreaLeft" fmla="*/ 239400 w 374400"/>
              <a:gd name="textAreaRight" fmla="*/ 374760 w 374400"/>
              <a:gd name="textAreaTop" fmla="*/ 38520 h 1487520"/>
              <a:gd name="textAreaBottom" fmla="*/ 1449000 h 14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9800" y="4497480"/>
            <a:ext cx="374400" cy="1487520"/>
          </a:xfrm>
          <a:custGeom>
            <a:avLst/>
            <a:gdLst>
              <a:gd name="textAreaLeft" fmla="*/ 239400 w 374400"/>
              <a:gd name="textAreaRight" fmla="*/ 374760 w 374400"/>
              <a:gd name="textAreaTop" fmla="*/ 38520 h 1487520"/>
              <a:gd name="textAreaBottom" fmla="*/ 1449000 h 14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35600" y="5237280"/>
            <a:ext cx="374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03680" y="3282840"/>
            <a:ext cx="15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41600" y="378288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nst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2019240" y="2114640"/>
            <a:ext cx="247680" cy="2952720"/>
          </a:xfrm>
          <a:custGeom>
            <a:avLst/>
            <a:gdLst>
              <a:gd name="textAreaLeft" fmla="*/ 158400 w 247680"/>
              <a:gd name="textAreaRight" fmla="*/ 248040 w 2476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777000" y="5189400"/>
            <a:ext cx="662040" cy="23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33600" y="1644480"/>
            <a:ext cx="360360" cy="26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59600" y="5146560"/>
            <a:ext cx="14472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21200" y="1630440"/>
            <a:ext cx="6634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39720" y="2100240"/>
          <a:ext cx="515304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2100240"/>
                    <a:ext cx="51530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266160" y="5137200"/>
            <a:ext cx="199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= (462.828; 0; 0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6000" y="1609560"/>
            <a:ext cx="291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= (4.07; 13.1; 131.04; 10724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568600" y="1978200"/>
            <a:ext cx="620640" cy="518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72240" y="5383080"/>
            <a:ext cx="403200" cy="433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0080" y="5737320"/>
            <a:ext cx="36216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63720" y="1646280"/>
            <a:ext cx="37476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63560" y="1471680"/>
            <a:ext cx="61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Tahoma"/>
              </a:rPr>
              <a:t>Ventiladores Mecânicos Artific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ventilador678" descr=""/>
          <p:cNvPicPr/>
          <p:nvPr/>
        </p:nvPicPr>
        <p:blipFill>
          <a:blip r:embed="rId1"/>
          <a:stretch/>
        </p:blipFill>
        <p:spPr>
          <a:xfrm>
            <a:off x="3033720" y="2610000"/>
            <a:ext cx="3065400" cy="35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lungmicroscp" descr=""/>
          <p:cNvPicPr/>
          <p:nvPr/>
        </p:nvPicPr>
        <p:blipFill>
          <a:blip r:embed="rId1"/>
          <a:stretch/>
        </p:blipFill>
        <p:spPr>
          <a:xfrm>
            <a:off x="260280" y="2443320"/>
            <a:ext cx="3654360" cy="2244600"/>
          </a:xfrm>
          <a:prstGeom prst="rect">
            <a:avLst/>
          </a:prstGeom>
          <a:ln w="0">
            <a:noFill/>
          </a:ln>
        </p:spPr>
      </p:pic>
      <p:pic>
        <p:nvPicPr>
          <p:cNvPr id="190" name="pulmao40x" descr=""/>
          <p:cNvPicPr/>
          <p:nvPr/>
        </p:nvPicPr>
        <p:blipFill>
          <a:blip r:embed="rId2"/>
          <a:stretch/>
        </p:blipFill>
        <p:spPr>
          <a:xfrm>
            <a:off x="1674720" y="4238640"/>
            <a:ext cx="3519720" cy="2301840"/>
          </a:xfrm>
          <a:prstGeom prst="rect">
            <a:avLst/>
          </a:prstGeom>
          <a:ln w="0">
            <a:noFill/>
          </a:ln>
        </p:spPr>
      </p:pic>
      <p:pic>
        <p:nvPicPr>
          <p:cNvPr id="191" name="lung1" descr=""/>
          <p:cNvPicPr/>
          <p:nvPr/>
        </p:nvPicPr>
        <p:blipFill>
          <a:blip r:embed="rId3"/>
          <a:stretch/>
        </p:blipFill>
        <p:spPr>
          <a:xfrm>
            <a:off x="4497480" y="1109520"/>
            <a:ext cx="2523960" cy="3287880"/>
          </a:xfrm>
          <a:prstGeom prst="rect">
            <a:avLst/>
          </a:prstGeom>
          <a:ln w="0">
            <a:noFill/>
          </a:ln>
        </p:spPr>
      </p:pic>
      <p:pic>
        <p:nvPicPr>
          <p:cNvPr id="192" name="xraylung" descr=""/>
          <p:cNvPicPr/>
          <p:nvPr/>
        </p:nvPicPr>
        <p:blipFill>
          <a:blip r:embed="rId4"/>
          <a:stretch/>
        </p:blipFill>
        <p:spPr>
          <a:xfrm>
            <a:off x="5533920" y="3862440"/>
            <a:ext cx="3421080" cy="27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3036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ndência da indúst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piradores reguláveis através dos controles dire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lume corren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eqüência respiratór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lação I/E (Inspiração / Expiração), entre outr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estes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juste dos parâmetros do ventilador mecânico é feito pelo especialista em anestesiolog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o da ventilação artificial, em geral, utilizando ventiladores que geram pressão positiva nas vias aéreas (IPPV), sendo do tipo controlado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cientes com pouco comprometimento pulmonar intrínse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31880" y="240984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r uma fração inspirada de O</a:t>
            </a:r>
            <a:r>
              <a:rPr b="1" lang="pt-BR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fiO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novar a fração expirada de gás carbô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ir avaliação e o controle quantitativo e qualitativo  dos gases a serem entregues às vias aéreas do pa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o aumento de resistência ao fluxo de gases no interior do sistema respiratório do paci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perda de calor e umidade das vias aére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modelo" descr=""/>
          <p:cNvPicPr/>
          <p:nvPr/>
        </p:nvPicPr>
        <p:blipFill>
          <a:blip r:embed="rId1"/>
          <a:stretch/>
        </p:blipFill>
        <p:spPr>
          <a:xfrm>
            <a:off x="581040" y="1857240"/>
            <a:ext cx="3724200" cy="440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4133880" y="2513160"/>
          <a:ext cx="4816440" cy="36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33880" y="2513160"/>
                    <a:ext cx="481644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spir" descr=""/>
          <p:cNvPicPr/>
          <p:nvPr/>
        </p:nvPicPr>
        <p:blipFill>
          <a:blip r:embed="rId1"/>
          <a:stretch/>
        </p:blipFill>
        <p:spPr>
          <a:xfrm>
            <a:off x="4492800" y="3220920"/>
            <a:ext cx="3473280" cy="2244960"/>
          </a:xfrm>
          <a:prstGeom prst="rect">
            <a:avLst/>
          </a:prstGeom>
          <a:ln w="0">
            <a:noFill/>
          </a:ln>
        </p:spPr>
      </p:pic>
      <p:pic>
        <p:nvPicPr>
          <p:cNvPr id="199" name="respir1" descr=""/>
          <p:cNvPicPr/>
          <p:nvPr/>
        </p:nvPicPr>
        <p:blipFill>
          <a:blip r:embed="rId2"/>
          <a:stretch/>
        </p:blipFill>
        <p:spPr>
          <a:xfrm>
            <a:off x="1517760" y="1871640"/>
            <a:ext cx="2525760" cy="402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549440" y="1236600"/>
          <a:ext cx="6284880" cy="52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236600"/>
                    <a:ext cx="6284880" cy="52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14320" y="1327320"/>
            <a:ext cx="59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Tahoma"/>
              </a:rPr>
              <a:t>Controle da Epidemia de Den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edesaegypti" descr=""/>
          <p:cNvPicPr/>
          <p:nvPr/>
        </p:nvPicPr>
        <p:blipFill>
          <a:blip r:embed="rId1"/>
          <a:stretch/>
        </p:blipFill>
        <p:spPr>
          <a:xfrm>
            <a:off x="1981080" y="2644920"/>
            <a:ext cx="5403960" cy="34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49960" y="2016000"/>
            <a:ext cx="3460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o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dição de saídas fut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timiz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nimiza uma ou mais funções objetivos, a partir das predições, erros e restrições;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e desliz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lica o primeiro das ações futuras de 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jetória de refer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 obter os erros futu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92040" y="2790720"/>
          <a:ext cx="490536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790720"/>
                    <a:ext cx="490536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3078360" y="113184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"/>
              </a:rPr>
              <a:t>Controlador G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8040" y="2293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ilida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ça de saturações de oxigênio abaixo de 95% por no máximo 3 minu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shoot máximo de 0,5%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mpo de estabilização de no máximo 10 minutos,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ção de limites de seguranç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IOsim3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7053480" cy="52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203040"/>
            <a:ext cx="9144000" cy="785880"/>
            <a:chOff x="0" y="203040"/>
            <a:chExt cx="9144000" cy="785880"/>
          </a:xfrm>
        </p:grpSpPr>
        <p:sp>
          <p:nvSpPr>
            <p:cNvPr id="211" name=""/>
            <p:cNvSpPr/>
            <p:nvPr/>
          </p:nvSpPr>
          <p:spPr>
            <a:xfrm>
              <a:off x="0" y="988920"/>
              <a:ext cx="914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57200" y="203040"/>
              <a:ext cx="466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E-280 / 20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ASA_CO13" descr=""/>
            <p:cNvPicPr/>
            <p:nvPr/>
          </p:nvPicPr>
          <p:blipFill>
            <a:blip r:embed="rId2"/>
            <a:stretch/>
          </p:blipFill>
          <p:spPr>
            <a:xfrm>
              <a:off x="246240" y="203040"/>
              <a:ext cx="1382400" cy="55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enguemap" descr=""/>
          <p:cNvPicPr/>
          <p:nvPr/>
        </p:nvPicPr>
        <p:blipFill>
          <a:blip r:embed="rId1"/>
          <a:stretch/>
        </p:blipFill>
        <p:spPr>
          <a:xfrm>
            <a:off x="1012680" y="1851120"/>
            <a:ext cx="7324920" cy="4717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193760" y="1854360"/>
            <a:ext cx="7160760" cy="4705200"/>
            <a:chOff x="1193760" y="1854360"/>
            <a:chExt cx="7160760" cy="4705200"/>
          </a:xfrm>
        </p:grpSpPr>
        <p:pic>
          <p:nvPicPr>
            <p:cNvPr id="53" name="dengue2001" descr=""/>
            <p:cNvPicPr/>
            <p:nvPr/>
          </p:nvPicPr>
          <p:blipFill>
            <a:blip r:embed="rId1"/>
            <a:stretch/>
          </p:blipFill>
          <p:spPr>
            <a:xfrm>
              <a:off x="1193760" y="1854360"/>
              <a:ext cx="7160760" cy="47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217520" y="1868760"/>
              <a:ext cx="7090920" cy="46533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umace" descr=""/>
          <p:cNvPicPr/>
          <p:nvPr/>
        </p:nvPicPr>
        <p:blipFill>
          <a:blip r:embed="rId1"/>
          <a:stretch/>
        </p:blipFill>
        <p:spPr>
          <a:xfrm>
            <a:off x="743040" y="2071800"/>
            <a:ext cx="4048200" cy="2784240"/>
          </a:xfrm>
          <a:prstGeom prst="rect">
            <a:avLst/>
          </a:prstGeom>
          <a:ln w="0">
            <a:noFill/>
          </a:ln>
        </p:spPr>
      </p:pic>
      <p:pic>
        <p:nvPicPr>
          <p:cNvPr id="57" name="dengue2" descr=""/>
          <p:cNvPicPr/>
          <p:nvPr/>
        </p:nvPicPr>
        <p:blipFill>
          <a:blip r:embed="rId2"/>
          <a:stretch/>
        </p:blipFill>
        <p:spPr>
          <a:xfrm>
            <a:off x="4448160" y="3711600"/>
            <a:ext cx="412740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2360" y="5724360"/>
            <a:ext cx="4838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763720" y="2543040"/>
            <a:ext cx="0" cy="348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763360" y="3247560"/>
            <a:ext cx="4096080" cy="2486520"/>
            <a:chOff x="2763360" y="3247560"/>
            <a:chExt cx="4096080" cy="2486520"/>
          </a:xfrm>
        </p:grpSpPr>
        <p:sp>
          <p:nvSpPr>
            <p:cNvPr id="63" name=""/>
            <p:cNvSpPr/>
            <p:nvPr/>
          </p:nvSpPr>
          <p:spPr>
            <a:xfrm flipV="1">
              <a:off x="3335040" y="4223520"/>
              <a:ext cx="0" cy="150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35040" y="4223880"/>
              <a:ext cx="419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54440" y="4226040"/>
              <a:ext cx="0" cy="150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668840" y="5029200"/>
              <a:ext cx="0" cy="704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87560" y="5044680"/>
              <a:ext cx="609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78320" y="5060160"/>
              <a:ext cx="0" cy="668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269040" y="3247560"/>
              <a:ext cx="0" cy="247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69040" y="3247920"/>
              <a:ext cx="263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35440" y="3247920"/>
              <a:ext cx="0" cy="247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763360" y="5726520"/>
              <a:ext cx="571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54440" y="572652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78320" y="5726520"/>
              <a:ext cx="97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35440" y="5726520"/>
              <a:ext cx="32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flipH="1">
            <a:off x="2668320" y="3247920"/>
            <a:ext cx="346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687760" y="421956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668680" y="5038560"/>
            <a:ext cx="1885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16320" y="58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51200" y="58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68840" y="58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72200" y="58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72280" y="58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35800" y="5807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92480" y="22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06840" y="5175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37400" y="58546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37360" y="58546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14720" y="393048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32880" y="58546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2040" y="585468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43480" y="585468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5480" y="58546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95640" y="478800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33440" y="295920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024360" y="2128680"/>
                <a:ext cx="40384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2719440" y="2814480"/>
          <a:ext cx="4800600" cy="237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2814480"/>
                    <a:ext cx="48006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881360" y="5305320"/>
          <a:ext cx="5105160" cy="1173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1360" y="5305320"/>
                    <a:ext cx="51051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810080" y="2205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83880" y="27385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39800" y="2136600"/>
          <a:ext cx="6357960" cy="47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2136600"/>
                    <a:ext cx="635796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10-03-02T20:05:40Z</dcterms:modified>
  <cp:revision>55</cp:revision>
  <dc:subject/>
  <dc:title>No Slide Title</dc:title>
</cp:coreProperties>
</file>