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17760" y="1925640"/>
            <a:ext cx="4572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Prevenção Primá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Promoção da Saú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Proteção 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Prevenção Secundá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Diagnóstico Precoce e Pronto Atend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Limitação da Inva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Prevenção Terciá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abilit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75040" y="1347840"/>
            <a:ext cx="1282680" cy="212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7120" y="1535040"/>
            <a:ext cx="269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ygi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he goddess of disease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4680" y="3409920"/>
            <a:ext cx="281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an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he goddess of 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41800" y="4530600"/>
            <a:ext cx="1184400" cy="2065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39600" y="5481720"/>
            <a:ext cx="223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I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he goddess of recu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30520" y="3147840"/>
            <a:ext cx="1339920" cy="18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044720" y="4024440"/>
            <a:ext cx="1420560" cy="245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7160" y="36799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sclep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365200" y="3556080"/>
            <a:ext cx="174960" cy="3045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68600" y="4586040"/>
            <a:ext cx="857160" cy="245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0160" y="5776920"/>
            <a:ext cx="2293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6280" y="1735200"/>
            <a:ext cx="85672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u juro, por Apolo, médico, por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sculápio, Higéia e Panacéi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e tomo por testemunhas todos 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uses e todas as deusas, cumprir, segundo meu poder e minha razão, a promessa que se segu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imar, tanto quanto a meus pais, aquele que me ensinou esta arte; fazer vida comum e, 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cessário for, com ele partilhar meus bens; ter seus filhos por meus próprios irmãos; ensinar-l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a arte, se eles tiverem necessidade de aprendê-la, sem remuneração e nem compromisso escrito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zer participar dos preceitos, das lições e de todo o resto do ensino, meus filhos, os de meu mes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 os discípulos inscritos segundo os regulamentos da profissão, porém, só a estes. Aplicarei os regi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o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bem do doente segundo o meu poder e entendimento, nunca para causar dano ou mal a algué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ninguém darei por comprazer, nem remédio mortal nem um conselho que induza a perd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 mesmo modo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não darei a nenhuma mulher uma substância abortiv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servarei imaculada minha vida e minha ar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Não praticarei a talha, mesmo sobre um calculoso confirmado; deixarei essa operação aos prát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que disso cuida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m toda a casa, aí entrarei para o bem dos doentes, mantendo-me longe de todo o dano voluntá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 de toda a sedução sobretudo longe dos prazeres do amor, com as mulheres ou com os homens liv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ou escraviz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Àquilo que no exercício ou fora do exercício da profissão e no convívio da sociedade, eu tiver visto o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ouvido, que não seja preciso divulgar, eu conservarei inteiramente secr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eu cumprir este juramento com fidelidade, que me seja dado gozar felizmente da vida e da minh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issão, honrado para sempre entre os homens; se eu dele me afastar ou infringir, o contrário aconteç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8440" y="123048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Juramento de Hipóc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72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04760" y="2844720"/>
            <a:ext cx="35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ina e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2280" y="3386160"/>
            <a:ext cx="69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Arial"/>
              </a:rPr>
              <a:t>OMS: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Saúde é um estado de completo bem-estar físic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mental e social e não a mera ausência de enferm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54160" y="2409840"/>
            <a:ext cx="7272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Leavell H. e Clark, e.G. - </a:t>
            </a:r>
            <a:r>
              <a:rPr b="1" i="1" lang="pt-BR" sz="1800" spc="-1" strike="noStrike">
                <a:solidFill>
                  <a:srgbClr val="0000ff"/>
                </a:solidFill>
                <a:latin typeface="Arial"/>
              </a:rPr>
              <a:t>Medicina Preventiva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. McGraw Hill, 196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 Promoção da Saú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Proteção 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. Diagnóstico Precoce e Pronto Atend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4. Limitação da Inval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5. Reabil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84480" y="2265480"/>
            <a:ext cx="45720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romoção da Saú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Educação Sanitá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Bom padrão de nutr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Formação de Personalid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Moradia Adequ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Condições Agradáveis de Trabalh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Aconselhamento Matrimon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Educação Sexu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6360" y="2284560"/>
            <a:ext cx="618156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roteção Específ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Imuniz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Higiene Pess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Proteção Contra Radiações e Substâncias Quí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Instalações Sanitá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Alimentos sem Sal ou Açú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Veículos e Estradas Prepa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3120" y="2739960"/>
            <a:ext cx="65023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Diagnóstico Precoce e Pronto Atendime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Campanhas contra Hipertensão e Diab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Check up Periód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Exames de Saúde no Local de Trabal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00400" y="3019320"/>
            <a:ext cx="457200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Limitação da Invalide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Tratamento Adeq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0" y="2711520"/>
            <a:ext cx="45720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Reabilit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Reedu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Fisioterapia e Terapia 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Empregos Sel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3-02T20:04:37Z</dcterms:modified>
  <cp:revision>57</cp:revision>
  <dc:subject/>
  <dc:title>No Slide Title</dc:title>
</cp:coreProperties>
</file>