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2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80880" y="318960"/>
            <a:ext cx="124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mana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ula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04880" y="150192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aso a transferência da substância do fluxo sangüíneo para o líqüido intersticial tenha atraso não desprezível, pode-se dividir o compartimento em do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519280" y="4470480"/>
                <a:ext cx="396900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o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2475000" y="2430360"/>
            <a:ext cx="4059000" cy="2044800"/>
            <a:chOff x="2475000" y="2430360"/>
            <a:chExt cx="4059000" cy="2044800"/>
          </a:xfrm>
        </p:grpSpPr>
        <p:graphicFrame>
          <p:nvGraphicFramePr>
            <p:cNvPr id="84" name=""/>
            <p:cNvGraphicFramePr/>
            <p:nvPr/>
          </p:nvGraphicFramePr>
          <p:xfrm>
            <a:off x="2475000" y="2430360"/>
            <a:ext cx="4059000" cy="204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75000" y="2430360"/>
                      <a:ext cx="4059000" cy="204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2549520" y="2871720"/>
              <a:ext cx="297000" cy="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486240" y="1103400"/>
          <a:ext cx="4495680" cy="55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6240" y="1103400"/>
                    <a:ext cx="4495680" cy="55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122480" y="3463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Glic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36920" y="1415880"/>
            <a:ext cx="309600" cy="4521240"/>
          </a:xfrm>
          <a:custGeom>
            <a:avLst/>
            <a:gdLst>
              <a:gd name="textAreaLeft" fmla="*/ 198000 w 309600"/>
              <a:gd name="textAreaRight" fmla="*/ 309960 w 309600"/>
              <a:gd name="textAreaTop" fmla="*/ 117720 h 4521240"/>
              <a:gd name="textAreaBottom" fmla="*/ 4403520 h 452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880" y="3465000"/>
            <a:ext cx="19670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66ff"/>
                </a:solidFill>
                <a:latin typeface="Arial"/>
              </a:rPr>
              <a:t>Insulin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286080" y="1173240"/>
          <a:ext cx="4808520" cy="54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1173240"/>
                    <a:ext cx="4808520" cy="54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536920" y="1415880"/>
            <a:ext cx="309600" cy="4521240"/>
          </a:xfrm>
          <a:custGeom>
            <a:avLst/>
            <a:gdLst>
              <a:gd name="textAreaLeft" fmla="*/ 198000 w 309600"/>
              <a:gd name="textAreaRight" fmla="*/ 309960 w 309600"/>
              <a:gd name="textAreaTop" fmla="*/ 117720 h 4521240"/>
              <a:gd name="textAreaBottom" fmla="*/ 4403520 h 452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183200" y="3198960"/>
          <a:ext cx="169848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83200" y="3198960"/>
                    <a:ext cx="169848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262040" y="2960640"/>
            <a:ext cx="152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lasma sangüín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0880" y="3465360"/>
            <a:ext cx="19670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Glucag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36920" y="1415880"/>
            <a:ext cx="309600" cy="4521240"/>
          </a:xfrm>
          <a:custGeom>
            <a:avLst/>
            <a:gdLst>
              <a:gd name="textAreaLeft" fmla="*/ 198000 w 309600"/>
              <a:gd name="textAreaRight" fmla="*/ 309960 w 309600"/>
              <a:gd name="textAreaTop" fmla="*/ 117720 h 4521240"/>
              <a:gd name="textAreaBottom" fmla="*/ 4403520 h 452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8480" y="1636560"/>
            <a:ext cx="77724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Acoplamento entre os Sub-modelos da 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Glicose, Insulina e Glucag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47760" y="3367080"/>
            <a:ext cx="711504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lgumas fontes e sorvedouros de um submodelo dependem de concentrações das outras substânci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odelo completo: 22 estados, dinâmica não-linear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incluindo a dinâmica de alguns dos acoplament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Glicose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: 11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66ff"/>
                </a:solidFill>
                <a:latin typeface="Arial"/>
              </a:rPr>
              <a:t>Insulina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: 10 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Glucago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: 1 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95800" y="1581120"/>
            <a:ext cx="4871880" cy="2676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71680" y="4370400"/>
            <a:ext cx="4773600" cy="1533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22480" y="3463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Glic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36920" y="1415880"/>
            <a:ext cx="309600" cy="4521240"/>
          </a:xfrm>
          <a:custGeom>
            <a:avLst/>
            <a:gdLst>
              <a:gd name="textAreaLeft" fmla="*/ 198000 w 309600"/>
              <a:gd name="textAreaRight" fmla="*/ 309960 w 309600"/>
              <a:gd name="textAreaTop" fmla="*/ 117720 h 4521240"/>
              <a:gd name="textAreaBottom" fmla="*/ 4403520 h 452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880" y="3465000"/>
            <a:ext cx="19670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66ff"/>
                </a:solidFill>
                <a:latin typeface="Arial"/>
              </a:rPr>
              <a:t>Insulin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49520" y="1984320"/>
            <a:ext cx="284040" cy="3348000"/>
          </a:xfrm>
          <a:custGeom>
            <a:avLst/>
            <a:gdLst>
              <a:gd name="textAreaLeft" fmla="*/ 181440 w 284040"/>
              <a:gd name="textAreaRight" fmla="*/ 284040 w 284040"/>
              <a:gd name="textAreaTop" fmla="*/ 87120 h 3348000"/>
              <a:gd name="textAreaBottom" fmla="*/ 3260880 h 33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162240" y="2278080"/>
            <a:ext cx="4635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50880" y="3465360"/>
            <a:ext cx="19670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Glucag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00280" y="2638440"/>
            <a:ext cx="349200" cy="1984320"/>
          </a:xfrm>
          <a:custGeom>
            <a:avLst/>
            <a:gdLst>
              <a:gd name="textAreaLeft" fmla="*/ 223200 w 349200"/>
              <a:gd name="textAreaRight" fmla="*/ 349560 w 349200"/>
              <a:gd name="textAreaTop" fmla="*/ 51480 h 1984320"/>
              <a:gd name="textAreaBottom" fmla="*/ 1932840 h 198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98760" y="2687760"/>
            <a:ext cx="430380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3320" y="1547640"/>
            <a:ext cx="64976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Principais limitações do model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3200" y="2732040"/>
            <a:ext cx="777240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 se consideram os efeitos dos hormônios epinefrina (adrenalina), cortisol e hormônio do crescimento, que têm ação antagônica à da insuli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 se considera a ingestão de aminoácidos e ácidos graxos, que podem interferir com a secreção pancreática de hormônios e com o metabolismo no fíg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 se abordam as mudanças na velocidade do metabolismo associadas a estados prolongados de jejum (tais como a depleção do glicogênio hepático e a alteração no emprego de glicose cerebr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3200" y="184104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Modelo de Paciente Diabético tipo 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49360" y="3284280"/>
            <a:ext cx="808992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move-se a liberação pancreática de insulina (r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PIR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= 0), mantendo-se os demais parâmetros do model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imitação: Não-modelamento da resistência à ação insulínica geralmente encontrada em diabét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3880" y="33465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ff"/>
                </a:solidFill>
                <a:latin typeface="Arial"/>
              </a:rPr>
              <a:t>Controle da Glic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48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46080" y="106812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Modelo Matemático da Absorção de Glicose no Trato Gastrointestinal (Lehman e Deutsch, 1992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22360" y="5135400"/>
                <a:ext cx="39225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GA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abs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abs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mpt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8" name=""/>
          <p:cNvGrpSpPr/>
          <p:nvPr/>
        </p:nvGrpSpPr>
        <p:grpSpPr>
          <a:xfrm>
            <a:off x="894960" y="2193840"/>
            <a:ext cx="3175200" cy="1868040"/>
            <a:chOff x="894960" y="2193840"/>
            <a:chExt cx="3175200" cy="1868040"/>
          </a:xfrm>
        </p:grpSpPr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934920" y="2929320"/>
                  <a:ext cx="3135240" cy="113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GA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gabs</m:t>
                              </m:r>
                            </m:sub>
                          </m:sSub>
                          <m:r>
                            <m:t xml:space="preserve">θ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f>
                            <m:num>
                              <m:r>
                                <m:t xml:space="preserve">dθ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mpt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gabs</m:t>
                              </m:r>
                            </m:sub>
                          </m:sSub>
                          <m:r>
                            <m:t xml:space="preserve">θ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0" name=""/>
            <p:cNvSpPr/>
            <p:nvPr/>
          </p:nvSpPr>
          <p:spPr>
            <a:xfrm flipV="1">
              <a:off x="1319760" y="2352600"/>
              <a:ext cx="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21200" y="2352960"/>
              <a:ext cx="4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13320" y="219384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mg/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5400000">
              <a:off x="1213200" y="2453040"/>
              <a:ext cx="168840" cy="805320"/>
            </a:xfrm>
            <a:custGeom>
              <a:avLst/>
              <a:gdLst>
                <a:gd name="textAreaLeft" fmla="*/ 108000 w 168840"/>
                <a:gd name="textAreaRight" fmla="*/ 169200 w 168840"/>
                <a:gd name="textAreaTop" fmla="*/ 20880 h 805320"/>
                <a:gd name="textAreaBottom" fmla="*/ 784440 h 8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395440" y="4160880"/>
            <a:ext cx="0" cy="7840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4160" y="4354560"/>
            <a:ext cx="221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formada de La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416560" y="2171880"/>
            <a:ext cx="3174840" cy="1914480"/>
            <a:chOff x="5416560" y="2171880"/>
            <a:chExt cx="3174840" cy="1914480"/>
          </a:xfrm>
        </p:grpSpPr>
        <p:graphicFrame>
          <p:nvGraphicFramePr>
            <p:cNvPr id="127" name=""/>
            <p:cNvGraphicFramePr/>
            <p:nvPr/>
          </p:nvGraphicFramePr>
          <p:xfrm>
            <a:off x="5416560" y="2171880"/>
            <a:ext cx="3174840" cy="191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16560" y="2171880"/>
                      <a:ext cx="3174840" cy="19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"/>
            <p:cNvSpPr/>
            <p:nvPr/>
          </p:nvSpPr>
          <p:spPr>
            <a:xfrm>
              <a:off x="6468840" y="2209680"/>
              <a:ext cx="145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&lt; 10g carboidra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465880" y="4255920"/>
            <a:ext cx="3186000" cy="1951200"/>
            <a:chOff x="5465880" y="4255920"/>
            <a:chExt cx="3186000" cy="1951200"/>
          </a:xfrm>
        </p:grpSpPr>
        <p:graphicFrame>
          <p:nvGraphicFramePr>
            <p:cNvPr id="131" name=""/>
            <p:cNvGraphicFramePr/>
            <p:nvPr/>
          </p:nvGraphicFramePr>
          <p:xfrm>
            <a:off x="5465880" y="4255920"/>
            <a:ext cx="3186000" cy="195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65880" y="4255920"/>
                      <a:ext cx="3186000" cy="195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6631560" y="4335480"/>
              <a:ext cx="145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&gt; 10g carboidra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100480" y="2060640"/>
            <a:ext cx="0" cy="449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2440" y="1197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Controle MPC da Glicem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11080" y="1835280"/>
            <a:ext cx="77724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ariável controlada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: Concentração da glicose no sangue periférico venoso (Referência: 75 mg/d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ariável manipulada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: Taxa de infusão de insulina [mU/mi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2280" y="3849840"/>
            <a:ext cx="8453520" cy="26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bjetivo: Após uma refeição com carboidratos (50g), buscar compromisso en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inimizar o máximo de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pt-B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ximizar o mínimo de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pt-BR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inimizar o tempo para que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retorne à faixa de 2% da referência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pt-B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inimizar a quantidade de insulina até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retornar à faixa de 2% da referência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pt-BR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duzir as oscilações de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3680" y="3476520"/>
            <a:ext cx="87836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4320" y="3376440"/>
            <a:ext cx="24415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Função de cust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4920" y="1898280"/>
            <a:ext cx="7013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odelo de predição empregado (linearizado em torno da condição normal de glicemia, com taxa basal de infusão de insulina de 22,4 mU/min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900520" y="3780000"/>
          <a:ext cx="355284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0520" y="3780000"/>
                    <a:ext cx="3552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068640" y="2538360"/>
          <a:ext cx="327816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8640" y="2538360"/>
                    <a:ext cx="32781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135080" y="4871880"/>
            <a:ext cx="1771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Restri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55800" y="1403280"/>
            <a:ext cx="17589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od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427120" y="5332320"/>
          <a:ext cx="4537080" cy="99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7120" y="5332320"/>
                    <a:ext cx="453708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6200" y="1133280"/>
            <a:ext cx="7772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Resultados: Paciente em Malha Aber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041560" y="2092320"/>
          <a:ext cx="5348160" cy="41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1560" y="2092320"/>
                    <a:ext cx="534816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328840" y="5029200"/>
            <a:ext cx="0" cy="62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560" y="122364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Resultados: Paciente com Controlador Preditivo</a:t>
            </a:r>
            <a:br>
              <a:rPr sz="2400"/>
            </a:b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(Horizonte de Controle = 1 pass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25800" y="2087640"/>
          <a:ext cx="530532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5800" y="2087640"/>
                    <a:ext cx="530532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2428920" y="3071880"/>
            <a:ext cx="0" cy="62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90360" y="2630520"/>
            <a:ext cx="173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orizonte de Prediçã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4584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Comparação: Com x Sem MP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8640" y="2690280"/>
            <a:ext cx="777240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alha aber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776680" y="5160960"/>
          <a:ext cx="428292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5160960"/>
                    <a:ext cx="42829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970360" y="3193920"/>
          <a:ext cx="381636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0360" y="3193920"/>
                    <a:ext cx="381636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11240" y="4524480"/>
            <a:ext cx="7772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Controle preditivo (Predição de 15 passo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7960" y="1984320"/>
            <a:ext cx="4462200" cy="8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Referência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5200" y="3289320"/>
            <a:ext cx="7751880" cy="19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ARSON, E. R.; DEUTSCH, T.  Spectrum of Approaches for Controlling Diabetes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IEEE Control Systems Magaz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p. 25-30, Dec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LVA, C. D. P. S.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e preditivo de uma bomba de infusão de insulina para regulação da glicemia em pacientes diabéticos tipo I, 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se de Mestrado, ITA,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892960" y="3259080"/>
            <a:ext cx="37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uito Obrigad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70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19080" y="1147680"/>
            <a:ext cx="554508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Malha de controle considera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17680" y="2055960"/>
            <a:ext cx="548964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4680" y="137808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Tratamento Usu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8280" y="2391840"/>
            <a:ext cx="7772400" cy="36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dose basal diária de insulina é aquela requerida para manter uma regulação adequada da glicemia em condições normais de alimentação e gasto de ener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lterações nessa dose são chamadas de ajus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justes podem ser feitos com base em amostragens intermitentes do nível de glicose ou ainda em antecipação a perturbações futuras (refeições ou esforços físic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de ser empregada insulina de ação rápida ou len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3624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Controle Automátic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3280" y="2736720"/>
            <a:ext cx="77724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omba de infusão automática de insulina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“Pâncreas artificial”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trolador realimentado por leituras contínuas ou amostragens periódicas da glicem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ficuldades tecnológic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mazenamento e reposição da insuli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ida útil dos componentes, principalmente do sensor de glicem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4640" y="124920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Regulação da Glicemia em Pessoas Hígid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629360" y="2039760"/>
            <a:ext cx="6011280" cy="4010040"/>
            <a:chOff x="1629360" y="2039760"/>
            <a:chExt cx="6011280" cy="4010040"/>
          </a:xfrm>
        </p:grpSpPr>
        <p:graphicFrame>
          <p:nvGraphicFramePr>
            <p:cNvPr id="59" name=""/>
            <p:cNvGraphicFramePr/>
            <p:nvPr/>
          </p:nvGraphicFramePr>
          <p:xfrm>
            <a:off x="1691640" y="2039760"/>
            <a:ext cx="5949000" cy="401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91640" y="2039760"/>
                      <a:ext cx="5949000" cy="40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1629360" y="2350080"/>
              <a:ext cx="198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Trato Gastrointest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43840" y="2283120"/>
              <a:ext cx="1878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Tecidos independ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da ação da insuli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21320" y="4593960"/>
              <a:ext cx="1742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Tecidos depend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da ação da insuli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3200" y="1133280"/>
            <a:ext cx="77724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Modelo Simplifica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906640" y="2311560"/>
            <a:ext cx="3395520" cy="1990080"/>
            <a:chOff x="2906640" y="2311560"/>
            <a:chExt cx="3395520" cy="1990080"/>
          </a:xfrm>
        </p:grpSpPr>
        <p:sp>
          <p:nvSpPr>
            <p:cNvPr id="66" name=""/>
            <p:cNvSpPr/>
            <p:nvPr/>
          </p:nvSpPr>
          <p:spPr>
            <a:xfrm>
              <a:off x="5872680" y="2444400"/>
              <a:ext cx="429480" cy="370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14800" y="3151440"/>
              <a:ext cx="429480" cy="3207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47400" y="2328120"/>
              <a:ext cx="429840" cy="267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2906640" y="2311560"/>
              <a:ext cx="3391200" cy="1990080"/>
              <a:chOff x="2906640" y="2311560"/>
              <a:chExt cx="3391200" cy="1990080"/>
            </a:xfrm>
          </p:grpSpPr>
          <mc:AlternateContent>
            <mc:Choice xmlns:a14="http://schemas.microsoft.com/office/drawing/2010/main" Requires="a14">
              <p:sp>
                <p:nvSpPr>
                  <p:cNvPr id="70" name=""/>
                  <p:cNvSpPr txBox="1"/>
                  <p:nvPr/>
                </p:nvSpPr>
                <p:spPr>
                  <a:xfrm>
                    <a:off x="2906640" y="2311560"/>
                    <a:ext cx="3391200" cy="59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G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α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β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1" name=""/>
                  <p:cNvSpPr txBox="1"/>
                  <p:nvPr/>
                </p:nvSpPr>
                <p:spPr>
                  <a:xfrm>
                    <a:off x="2906640" y="3006720"/>
                    <a:ext cx="255924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δ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ε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" name=""/>
                  <p:cNvSpPr txBox="1"/>
                  <p:nvPr/>
                </p:nvSpPr>
                <p:spPr>
                  <a:xfrm>
                    <a:off x="2906640" y="3701880"/>
                    <a:ext cx="2154960" cy="59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ρ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73" name=""/>
          <p:cNvSpPr/>
          <p:nvPr/>
        </p:nvSpPr>
        <p:spPr>
          <a:xfrm>
            <a:off x="1712880" y="4824360"/>
            <a:ext cx="564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t)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glicose plas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(t)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insulina plas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t)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glucagon,  cortisol e catecolam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(t)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insulina exóg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t)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glicose absorvida por ingestão de alimento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1732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Modelo de Sorensen (1985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0080" y="2574720"/>
            <a:ext cx="77724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odelo compartiment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organismo é dividido em partes (compartimentos) em que a concentração de cada substância é admitida consta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partimentos considerad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éreb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ração e pulm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í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rato Gastrintest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rif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1360" y="101880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Balanço de massa de cada substância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em um dado compartimen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7680" y="5187600"/>
            <a:ext cx="743904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ncentração no fluxo de entrada e saí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luxo (volume por unidade de tempo) da substância pelo comparti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Volume em quest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onte e sorvedouro metabólicos da substâ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386080" y="2457360"/>
          <a:ext cx="4406760" cy="17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2457360"/>
                    <a:ext cx="440676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011400" y="4149720"/>
                <a:ext cx="32799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Takashi Yoneyama</cp:lastModifiedBy>
  <dcterms:modified xsi:type="dcterms:W3CDTF">2010-05-08T12:47:26Z</dcterms:modified>
  <cp:revision>699</cp:revision>
  <dc:subject/>
  <dc:title>No Slide Title</dc:title>
</cp:coreProperties>
</file>