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579440" y="31896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714680" y="1751040"/>
            <a:ext cx="5913360" cy="4363920"/>
            <a:chOff x="1714680" y="1751040"/>
            <a:chExt cx="5913360" cy="4363920"/>
          </a:xfrm>
        </p:grpSpPr>
        <p:pic>
          <p:nvPicPr>
            <p:cNvPr id="67" name="glucosetolerancetest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1776240" y="1751040"/>
              <a:ext cx="585180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714680" y="5829480"/>
              <a:ext cx="1733400" cy="28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Glicemia" descr=""/>
          <p:cNvPicPr/>
          <p:nvPr/>
        </p:nvPicPr>
        <p:blipFill>
          <a:blip r:embed="rId1"/>
          <a:stretch/>
        </p:blipFill>
        <p:spPr>
          <a:xfrm>
            <a:off x="1103400" y="1442880"/>
            <a:ext cx="7280280" cy="484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30120" y="2274840"/>
            <a:ext cx="844092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Retinopatia Diabé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Retinopatia Diabética é caracterizada por alterações vasculares. São lesões 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arecem na retina, podendo causar pequenos sangramentos e, como conseqüênc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perda da acuidade visual. Exames de rotina (como o “fundo de olho”) pod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tectar anormalidades em estágios primários, o que possibilita o tratamento ai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a fase inicial do problema. Hoje, a Retinopatia é considerada uma das ma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reqüentes complicações crônicas do diabetes, junto com a Catar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434960" y="1468440"/>
            <a:ext cx="6534000" cy="5142960"/>
            <a:chOff x="1434960" y="1468440"/>
            <a:chExt cx="6534000" cy="5142960"/>
          </a:xfrm>
        </p:grpSpPr>
        <p:pic>
          <p:nvPicPr>
            <p:cNvPr id="72" name="17150" descr=""/>
            <p:cNvPicPr/>
            <p:nvPr/>
          </p:nvPicPr>
          <p:blipFill>
            <a:blip r:embed="rId1"/>
            <a:stretch/>
          </p:blipFill>
          <p:spPr>
            <a:xfrm>
              <a:off x="1504080" y="1468440"/>
              <a:ext cx="6301440" cy="50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434960" y="6091920"/>
              <a:ext cx="6534000" cy="51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81320" y="1380960"/>
            <a:ext cx="811800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Nefropatia Diabé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titui-se por alterações nos vasos dos rins, fazendo com que haja a perd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teína na urina. É uma situação em que o órgão pode reduzir sua funçã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entamente, porém de forma progressiva, até a paralisação total. Contudo, es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o é controlável e existem exames para detectar o problema ainda no ini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Nefropatia Diabética pode afetar o bom funcionamento dos rins, fazendo c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 eles percam a capacidade de filtrar adequadamente essas substânci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a das proteínas que circulam no sangue é a albumina, que possui alto va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iológico e fornece todos os aminoácidos essenciais para facilitar a recuperaçã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o organism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a fase inicial da Nefropatia Diabética, aparecem pequenas quantidades des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teína na urina (detectada através do exame de microalbuminúria). É com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 nesse estágio ocorra, também, o aumento da pressão arterial (hipertensão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ta situação pode levar à insuficiência renal avanç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aso já exista perda importante da função renal (insuficiência renal avançada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trará em ação a diálise ou transpla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2419200" y="1181160"/>
            <a:ext cx="4133880" cy="5390640"/>
            <a:chOff x="2419200" y="1181160"/>
            <a:chExt cx="4133880" cy="5390640"/>
          </a:xfrm>
        </p:grpSpPr>
        <p:pic>
          <p:nvPicPr>
            <p:cNvPr id="76" name="CapsBowmHE" descr=""/>
            <p:cNvPicPr/>
            <p:nvPr/>
          </p:nvPicPr>
          <p:blipFill>
            <a:blip r:embed="rId1"/>
            <a:stretch/>
          </p:blipFill>
          <p:spPr>
            <a:xfrm>
              <a:off x="3076560" y="2450880"/>
              <a:ext cx="2952720" cy="39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glomeruloesclerosediabetica" descr=""/>
            <p:cNvPicPr/>
            <p:nvPr/>
          </p:nvPicPr>
          <p:blipFill>
            <a:blip r:embed="rId2"/>
            <a:stretch/>
          </p:blipFill>
          <p:spPr>
            <a:xfrm>
              <a:off x="2606760" y="1277640"/>
              <a:ext cx="3871800" cy="26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419200" y="1181160"/>
              <a:ext cx="781200" cy="537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39000" y="1199880"/>
              <a:ext cx="514080" cy="537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2240" y="1218960"/>
              <a:ext cx="2971800" cy="13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2640" y="1636560"/>
            <a:ext cx="8027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Neuropatia Diabé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 a Neuropatia, os nervos podem ficar incapazes de emitir as mensagen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ití-las na hora errada ou muito lentamente. Os sintomas irão depender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ariar conforme o tipo de complicação e quais os nervos afetados. De f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al, podemos classificar os sintomas em sensitivos, motores e autonômic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Sensitivos: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formigamento, dormência ou queimação das pernas, pés e mã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ores locais e desequilíbrio; Uma das formas mais comuns de Neuropatia, 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omete preferencialmente os nervos mais longos, localizados nas pernas e n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és, causando dores, formigamento ou queimação nas pernas. Tende a ser p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à noite (período onde prestamos mais atenção aos sint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otores: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estado de fraqueza e atrofia muscula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Autonômicos: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ocorrência de pele seca, traumatismo dos pêlos, pressão baix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túrbios digestivos, excesso de transpiração e impot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9960" y="1260360"/>
            <a:ext cx="762408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Pé Diabé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o são vulneráveis a ferimentos, é preciso examiná-los todos os di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inspeção será baseada na procura de úlceras, calos ou qualquer ou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blema visível.  É possível prevenir as infecções nos pés. Manter um b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luxo sangüíneo é, também, outro aspecto importante. Para isso, to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edidas que baixem a pressão alta e os níveis de coleste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É importante também fazer caminhadas com regularidade ou outro tip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ercício físico. Vícios como o fumo devem ser evitados. Só para se ter u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déia, 95% de todas as amputações do pé acontecem em fuman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Ulceras do P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a área machucada ou infeccionada na base do pé pode desenvolver u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úlcera. Seu aparecimento é mais provável quando a circulação é deficient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níveis de glicemia são mal controlados.  As camadas de pele sã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adativamente destruídas pela infecção criando um buraco, quan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úlcera não é devidamente trat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92040" y="1176480"/>
            <a:ext cx="3022560" cy="2261520"/>
            <a:chOff x="392040" y="1176480"/>
            <a:chExt cx="3022560" cy="2261520"/>
          </a:xfrm>
        </p:grpSpPr>
        <p:pic>
          <p:nvPicPr>
            <p:cNvPr id="84" name="1655_F1" descr=""/>
            <p:cNvPicPr/>
            <p:nvPr/>
          </p:nvPicPr>
          <p:blipFill>
            <a:blip r:embed="rId1"/>
            <a:stretch/>
          </p:blipFill>
          <p:spPr>
            <a:xfrm>
              <a:off x="392040" y="1178640"/>
              <a:ext cx="3022560" cy="225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07520" y="1176480"/>
              <a:ext cx="2993040" cy="22489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diabetes%2520-%2520charcot%2520foot%25201" descr=""/>
          <p:cNvPicPr/>
          <p:nvPr/>
        </p:nvPicPr>
        <p:blipFill>
          <a:blip r:embed="rId2"/>
          <a:stretch/>
        </p:blipFill>
        <p:spPr>
          <a:xfrm>
            <a:off x="1117440" y="4054320"/>
            <a:ext cx="2381400" cy="2244960"/>
          </a:xfrm>
          <a:prstGeom prst="rect">
            <a:avLst/>
          </a:prstGeom>
          <a:ln w="0">
            <a:noFill/>
          </a:ln>
        </p:spPr>
      </p:pic>
      <p:pic>
        <p:nvPicPr>
          <p:cNvPr id="87" name="extremities-DM-foot-infection" descr=""/>
          <p:cNvPicPr/>
          <p:nvPr/>
        </p:nvPicPr>
        <p:blipFill>
          <a:blip r:embed="rId3"/>
          <a:stretch/>
        </p:blipFill>
        <p:spPr>
          <a:xfrm>
            <a:off x="2857680" y="1870200"/>
            <a:ext cx="3508200" cy="2630520"/>
          </a:xfrm>
          <a:prstGeom prst="rect">
            <a:avLst/>
          </a:prstGeom>
          <a:ln w="0">
            <a:noFill/>
          </a:ln>
        </p:spPr>
      </p:pic>
      <p:pic>
        <p:nvPicPr>
          <p:cNvPr id="88" name="AMP1" descr=""/>
          <p:cNvPicPr/>
          <p:nvPr/>
        </p:nvPicPr>
        <p:blipFill>
          <a:blip r:embed="rId4"/>
          <a:stretch/>
        </p:blipFill>
        <p:spPr>
          <a:xfrm>
            <a:off x="5157720" y="3894120"/>
            <a:ext cx="3400560" cy="2550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06160" y="1724040"/>
            <a:ext cx="820764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Infarto do Miocárdio e Acidentes Vasculares Cerebr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sas complicações ocorrem quando os grandes vasos são afetados, levando 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bstrução/estenose (arteriosclerose) de órgãos vitais como o coração e o cérebr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bom controle da glicose, somado à atividade física e medicamentos – 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ssam combater a pressão alta, o aumento do colesterol e suspender 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bagismo – são medidas imprescindíveis de segurança. A incidência de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blema é de 2 a 4 vezes maior nas pessoas com diabe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 a oclusão for de uma artéria coronária, a conseqüência será um infarto 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iocárdio. Se for de uma artéria que irriga o cérebro, ocorrerá um derrame o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idente vascular cerebral. Se a oclusão acometer uma das artérias da perna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 for tratada a tempo, pode ocorrer dor durante a caminhada, sensaçã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rio nas extremidades e, às vezes, até uma amputação por gangre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hit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72360" y="2352600"/>
            <a:ext cx="18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5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73480" y="1913040"/>
            <a:ext cx="803988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Infec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presença excessiva de glicose pode causar danos a muitas funções ineren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o sangue, incluindo as tarefas do sistema imunológico. O que aumenta o ris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a pessoa com diabetes contrair algum tipo de infecção. Isso ocorre porque 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lóbulos brancos (responsáveis pelo combate ao vírus, bactérias, etc.) fic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enos eficazes com a hiperglicem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piorar a situação, o alto índice de açúcar no sangue é terreno ideal p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lguns invasores (fungos, bacterias, etc.). O que acaba promovendo a fác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liferação desses patogênicos. Assim, áreas como boca e gengiva, pulmõ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le, pês, genitais e local de incisão pós cirurgia estão totalmente suje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este risco. Ferimentos em geral podem se tornar verdadeiras portas de entr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56280" y="1714680"/>
            <a:ext cx="790452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Hipoglicem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ignifica baixo nível de glicose no sangue. Quando a glicemia está abaix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50 mg%, com grandes variações de pessoa a pessoa, podem ocor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intomas de uma reação hipoglicêmica: sensação de fome aguda, dificulda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raciocinar, sensação de fraqueza com um cansaço muito grande, sudor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agerada, tremores finos ou grosseiros de extremidades, bocejament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nolência, visão dupla, confusão que pode caminhar para a perda total 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ciência, ou seja, co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ausas que favorecem o aparecimento da hipoglice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* Erro no uso da medicação, principalmente, insulin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* Atraso em se alimenta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* Muito exercício sem automonitoriz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1720" y="1825560"/>
            <a:ext cx="812988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Hiperglice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iperglicemia é o aumento da glicose no sangue. A SBD considera que valore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ima de 126 mg em jejum são suspeitos de diabetes. Valores acima de 200 mg 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lquer ocasião fazem o diagnóstic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ausas que podem favorecer o aparecimento da hiperglicem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* Diabetes mellitus primária ou secundária a outras doença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* Muita comida, sem nenhuma restriçã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* Pouco exercíci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* Síndrome Metaból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41640" y="1463760"/>
            <a:ext cx="8492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Tipos de Insuli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ício, concentração máxima e duração  variam conforme o tipo de insulin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ulina: extraída do boi ou do porco ou sintetizado por biotecnologia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ulinas solúveis ou insulinas não modificadas =  insulina reg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odificações: com proteínas para liberação lenta (ex: insulina isofa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 NPH e insulina PZI) ou modificando o tamanho da partícula , p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, mediante suspensão (insulina zinc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 acordo com a duração do efeito, podem ser classificad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 curta duração - ao redor de 6 hs (insulina regular ou simpl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 efeito intermediário - com duração até 24 ho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 longa duração - ao redor de 36 ho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intInsulin" descr=""/>
          <p:cNvPicPr/>
          <p:nvPr/>
        </p:nvPicPr>
        <p:blipFill>
          <a:blip r:embed="rId1"/>
          <a:stretch/>
        </p:blipFill>
        <p:spPr>
          <a:xfrm>
            <a:off x="1716120" y="1612800"/>
            <a:ext cx="5635440" cy="446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2640" y="1414440"/>
            <a:ext cx="799272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Diabete insíp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abete insípid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iabetes insipidu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 é uma condição incomum na qual a ur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 é concentrada, e sim diluída ou semelhante a água. A concentração urinár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 ocorre em pessoas normais é devida à secreção do hormônio antidiuré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ADH) pela porção posterior da glândula hipofisária e pela ação deste hormôn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os rins, onde ocorre a concentração urinár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á dois tipos distintos de diabete insípid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. o central, onde ocorre uma deficiên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a glândula hipofisária em liberar o ADH, e que pode ser primário ou secundá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É primário quando não há uma lesão identificável na hipófise, podendo 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nético ou esporádico (idiopático); é secundário, quando há danos na hipóf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u no hipotálamo, como cirurgias, infecções ou traum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. o nefrogênico, onde a hipófise produz adequadamente o ADH, mas os r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 respondem em função de um defeito nos túbulos renais que interferem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absorção da águ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Diabetes-1" descr=""/>
          <p:cNvPicPr/>
          <p:nvPr/>
        </p:nvPicPr>
        <p:blipFill>
          <a:blip r:embed="rId1"/>
          <a:stretch/>
        </p:blipFill>
        <p:spPr>
          <a:xfrm>
            <a:off x="2441520" y="4249800"/>
            <a:ext cx="3097440" cy="2322360"/>
          </a:xfrm>
          <a:prstGeom prst="rect">
            <a:avLst/>
          </a:prstGeom>
          <a:ln w="0">
            <a:noFill/>
          </a:ln>
        </p:spPr>
      </p:pic>
      <p:pic>
        <p:nvPicPr>
          <p:cNvPr id="97" name="GlicoStick" descr=""/>
          <p:cNvPicPr/>
          <p:nvPr/>
        </p:nvPicPr>
        <p:blipFill>
          <a:blip r:embed="rId2"/>
          <a:stretch/>
        </p:blipFill>
        <p:spPr>
          <a:xfrm>
            <a:off x="716040" y="2335320"/>
            <a:ext cx="2052720" cy="277164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6114960" y="1162080"/>
            <a:ext cx="2800440" cy="2209320"/>
            <a:chOff x="6114960" y="1162080"/>
            <a:chExt cx="2800440" cy="2209320"/>
          </a:xfrm>
        </p:grpSpPr>
        <p:pic>
          <p:nvPicPr>
            <p:cNvPr id="99" name="InsuliPump" descr=""/>
            <p:cNvPicPr/>
            <p:nvPr/>
          </p:nvPicPr>
          <p:blipFill>
            <a:blip r:embed="rId3"/>
            <a:stretch/>
          </p:blipFill>
          <p:spPr>
            <a:xfrm>
              <a:off x="6229440" y="1162080"/>
              <a:ext cx="268596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114960" y="3027240"/>
              <a:ext cx="1790640" cy="34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diabetes" descr=""/>
          <p:cNvPicPr/>
          <p:nvPr/>
        </p:nvPicPr>
        <p:blipFill>
          <a:blip r:embed="rId4"/>
          <a:stretch/>
        </p:blipFill>
        <p:spPr>
          <a:xfrm>
            <a:off x="5316480" y="3022560"/>
            <a:ext cx="2062080" cy="3094200"/>
          </a:xfrm>
          <a:prstGeom prst="rect">
            <a:avLst/>
          </a:prstGeom>
          <a:ln w="0">
            <a:noFill/>
          </a:ln>
        </p:spPr>
      </p:pic>
      <p:pic>
        <p:nvPicPr>
          <p:cNvPr id="102" name="insulinPen" descr=""/>
          <p:cNvPicPr/>
          <p:nvPr/>
        </p:nvPicPr>
        <p:blipFill>
          <a:blip r:embed="rId5"/>
          <a:stretch/>
        </p:blipFill>
        <p:spPr>
          <a:xfrm>
            <a:off x="3124080" y="1509840"/>
            <a:ext cx="2635200" cy="197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nsulinpump" descr=""/>
          <p:cNvPicPr/>
          <p:nvPr/>
        </p:nvPicPr>
        <p:blipFill>
          <a:blip r:embed="rId1"/>
          <a:stretch/>
        </p:blipFill>
        <p:spPr>
          <a:xfrm>
            <a:off x="1374840" y="1536840"/>
            <a:ext cx="6237360" cy="448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rototype-sensor" descr=""/>
          <p:cNvPicPr/>
          <p:nvPr/>
        </p:nvPicPr>
        <p:blipFill>
          <a:blip r:embed="rId1"/>
          <a:stretch/>
        </p:blipFill>
        <p:spPr>
          <a:xfrm>
            <a:off x="1450800" y="2457360"/>
            <a:ext cx="2399040" cy="2494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03560" y="50832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1880" y="511488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mba de Infusão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Implantá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InsuliPump1" descr=""/>
          <p:cNvPicPr/>
          <p:nvPr/>
        </p:nvPicPr>
        <p:blipFill>
          <a:blip r:embed="rId2"/>
          <a:stretch/>
        </p:blipFill>
        <p:spPr>
          <a:xfrm>
            <a:off x="4937040" y="2446200"/>
            <a:ext cx="2927520" cy="2459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shit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11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6360" y="1589040"/>
            <a:ext cx="85107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Diabetes Tip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sultado da destruição das células beta devido a resposta auto-imu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te tipo de reação ocorre em:  esclerose múltipla, Lupus e doenças da tireóid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Diabetes Tipo 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Possui um fator hereditário maior que no tipo 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Grande relação com a obesidade e o sedentarismo. (60% a 90% obesos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A incidência é maior após os 40 an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Produção de insulina pelo pâncreas está mantid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Incapacidade de absorção das células musculares e adipos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Esta é uma anomalia chamada de "resistência insulínica"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O diabetes tipo 2 é cerca de 8 a 10 vezes mais comum que o tipo 1 e pode respon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o tratamento com dieta e exercício físic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Outras vezes  necessita de medicamentos ora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Casos graves requerem insulin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47640" y="20494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5360" y="2208240"/>
            <a:ext cx="791964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Sinto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ita sed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ontade de urinar diversas veze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rda de peso (mesmo sentindo mais fome e comendo mais do que o habitual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ome exagerad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isão embaçad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fecções repetidas na pele ou mucos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chucados que demoram a cicatriza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adiga (cansaço inexplicável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ores nas pernas por causa da má circulaçã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esenhpancreas" descr=""/>
          <p:cNvPicPr/>
          <p:nvPr/>
        </p:nvPicPr>
        <p:blipFill>
          <a:blip r:embed="rId1"/>
          <a:stretch/>
        </p:blipFill>
        <p:spPr>
          <a:xfrm>
            <a:off x="1251000" y="1366920"/>
            <a:ext cx="6691320" cy="4848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ANCREAS" descr=""/>
          <p:cNvPicPr/>
          <p:nvPr/>
        </p:nvPicPr>
        <p:blipFill>
          <a:blip r:embed="rId1"/>
          <a:stretch/>
        </p:blipFill>
        <p:spPr>
          <a:xfrm>
            <a:off x="973080" y="1190520"/>
            <a:ext cx="7205760" cy="540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305000" y="1935000"/>
            <a:ext cx="6871680" cy="4547880"/>
            <a:chOff x="1305000" y="1935000"/>
            <a:chExt cx="6871680" cy="4547880"/>
          </a:xfrm>
        </p:grpSpPr>
        <p:pic>
          <p:nvPicPr>
            <p:cNvPr id="54" name="ilhota200x" descr=""/>
            <p:cNvPicPr/>
            <p:nvPr/>
          </p:nvPicPr>
          <p:blipFill>
            <a:blip r:embed="rId1"/>
            <a:stretch/>
          </p:blipFill>
          <p:spPr>
            <a:xfrm>
              <a:off x="1305000" y="1947600"/>
              <a:ext cx="6862320" cy="45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isletlangerhan" descr=""/>
            <p:cNvPicPr/>
            <p:nvPr/>
          </p:nvPicPr>
          <p:blipFill>
            <a:blip r:embed="rId2"/>
            <a:stretch/>
          </p:blipFill>
          <p:spPr>
            <a:xfrm>
              <a:off x="6006600" y="1935000"/>
              <a:ext cx="217008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865320" y="3827160"/>
              <a:ext cx="1356840" cy="1359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98680" y="1941120"/>
              <a:ext cx="2152440" cy="2292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48680" y="132876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hotas de Langerh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48680" y="132876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hotas de Langerh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angbetacell" descr=""/>
          <p:cNvPicPr/>
          <p:nvPr/>
        </p:nvPicPr>
        <p:blipFill>
          <a:blip r:embed="rId1"/>
          <a:stretch/>
        </p:blipFill>
        <p:spPr>
          <a:xfrm>
            <a:off x="2241720" y="2065320"/>
            <a:ext cx="4721040" cy="355932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3435480" y="5353200"/>
            <a:ext cx="945720" cy="969120"/>
            <a:chOff x="3435480" y="5353200"/>
            <a:chExt cx="945720" cy="969120"/>
          </a:xfrm>
        </p:grpSpPr>
        <p:sp>
          <p:nvSpPr>
            <p:cNvPr id="62" name=""/>
            <p:cNvSpPr/>
            <p:nvPr/>
          </p:nvSpPr>
          <p:spPr>
            <a:xfrm>
              <a:off x="3486240" y="5353200"/>
              <a:ext cx="876240" cy="2854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86200" y="5638680"/>
              <a:ext cx="0" cy="400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35480" y="598500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Arial"/>
                </a:rPr>
                <a:t>insuli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GRAPH13" descr=""/>
          <p:cNvPicPr/>
          <p:nvPr/>
        </p:nvPicPr>
        <p:blipFill>
          <a:blip r:embed="rId1"/>
          <a:stretch/>
        </p:blipFill>
        <p:spPr>
          <a:xfrm>
            <a:off x="2028960" y="1558800"/>
            <a:ext cx="5086080" cy="464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Takashi Yoneyama</cp:lastModifiedBy>
  <dcterms:modified xsi:type="dcterms:W3CDTF">2010-05-08T11:38:41Z</dcterms:modified>
  <cp:revision>72</cp:revision>
  <dc:subject/>
  <dc:title>No Slide Title</dc:title>
</cp:coreProperties>
</file>