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8.jpeg" ContentType="image/jpeg"/>
  <Override PartName="/ppt/media/image15.png" ContentType="image/png"/>
  <Override PartName="/ppt/media/image16.png" ContentType="image/png"/>
  <Override PartName="/ppt/media/image14.png" ContentType="image/png"/>
  <Override PartName="/ppt/media/image10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9.png" ContentType="image/png"/>
  <Override PartName="/ppt/media/image39.png" ContentType="image/png"/>
  <Override PartName="/ppt/media/image11.png" ContentType="image/png"/>
  <Override PartName="/ppt/media/image42.jpeg" ContentType="image/jpeg"/>
  <Override PartName="/ppt/media/image19.jpeg" ContentType="image/jpeg"/>
  <Override PartName="/ppt/media/image30.png" ContentType="image/png"/>
  <Override PartName="/ppt/media/image35.jpeg" ContentType="image/jpeg"/>
  <Override PartName="/ppt/media/image28.png" ContentType="image/png"/>
  <Override PartName="/ppt/media/image29.jpeg" ContentType="image/jpeg"/>
  <Override PartName="/ppt/media/image32.jpeg" ContentType="image/jpeg"/>
  <Override PartName="/ppt/media/image5.jpeg" ContentType="image/jpeg"/>
  <Override PartName="/ppt/media/image36.png" ContentType="image/png"/>
  <Override PartName="/ppt/media/image43.png" ContentType="image/png"/>
  <Override PartName="/ppt/media/image41.jpeg" ContentType="image/jpeg"/>
  <Override PartName="/ppt/media/image44.png" ContentType="image/png"/>
  <Override PartName="/ppt/media/image45.png" ContentType="image/png"/>
  <Override PartName="/ppt/media/image6.jpeg" ContentType="image/jpeg"/>
  <Override PartName="/ppt/media/image12.png" ContentType="image/png"/>
  <Override PartName="/ppt/media/image20.jpeg" ContentType="image/jpeg"/>
  <Override PartName="/ppt/media/image37.png" ContentType="image/png"/>
  <Override PartName="/ppt/media/image34.jpeg" ContentType="image/jpeg"/>
  <Override PartName="/ppt/media/image7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40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03040"/>
            <a:ext cx="9144000" cy="785880"/>
            <a:chOff x="0" y="203040"/>
            <a:chExt cx="9144000" cy="785880"/>
          </a:xfrm>
        </p:grpSpPr>
        <p:sp>
          <p:nvSpPr>
            <p:cNvPr id="1" name=""/>
            <p:cNvSpPr/>
            <p:nvPr/>
          </p:nvSpPr>
          <p:spPr>
            <a:xfrm>
              <a:off x="0" y="988920"/>
              <a:ext cx="9144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257200" y="203040"/>
              <a:ext cx="466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EE-280 / 20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ASA_CO13" descr=""/>
            <p:cNvPicPr/>
            <p:nvPr/>
          </p:nvPicPr>
          <p:blipFill>
            <a:blip r:embed="rId2"/>
            <a:stretch/>
          </p:blipFill>
          <p:spPr>
            <a:xfrm>
              <a:off x="246240" y="203040"/>
              <a:ext cx="1382400" cy="5511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7579440" y="318960"/>
            <a:ext cx="1239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Semana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Aula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AminoAcExmpl2" descr=""/>
          <p:cNvPicPr/>
          <p:nvPr/>
        </p:nvPicPr>
        <p:blipFill>
          <a:blip r:embed="rId1"/>
          <a:stretch/>
        </p:blipFill>
        <p:spPr>
          <a:xfrm>
            <a:off x="1189080" y="1461960"/>
            <a:ext cx="6953040" cy="4470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AminoAcExmpl" descr=""/>
          <p:cNvPicPr/>
          <p:nvPr/>
        </p:nvPicPr>
        <p:blipFill>
          <a:blip r:embed="rId1"/>
          <a:stretch/>
        </p:blipFill>
        <p:spPr>
          <a:xfrm>
            <a:off x="1895400" y="1566720"/>
            <a:ext cx="5380200" cy="4173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AminoAcExmpl1" descr=""/>
          <p:cNvPicPr/>
          <p:nvPr/>
        </p:nvPicPr>
        <p:blipFill>
          <a:blip r:embed="rId1"/>
          <a:stretch/>
        </p:blipFill>
        <p:spPr>
          <a:xfrm>
            <a:off x="1911240" y="1555920"/>
            <a:ext cx="5540400" cy="4298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3062160" y="1095480"/>
            <a:ext cx="3386160" cy="5762520"/>
            <a:chOff x="3062160" y="1095480"/>
            <a:chExt cx="3386160" cy="5762520"/>
          </a:xfrm>
        </p:grpSpPr>
        <p:pic>
          <p:nvPicPr>
            <p:cNvPr id="89" name="Proteina" descr=""/>
            <p:cNvPicPr/>
            <p:nvPr/>
          </p:nvPicPr>
          <p:blipFill>
            <a:blip r:embed="rId1"/>
            <a:stretch/>
          </p:blipFill>
          <p:spPr>
            <a:xfrm>
              <a:off x="3097080" y="1095480"/>
              <a:ext cx="3351240" cy="57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062160" y="6648480"/>
              <a:ext cx="3338640" cy="19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465120" y="930240"/>
            <a:ext cx="5316120" cy="2554200"/>
            <a:chOff x="465120" y="930240"/>
            <a:chExt cx="5316120" cy="2554200"/>
          </a:xfrm>
        </p:grpSpPr>
        <p:pic>
          <p:nvPicPr>
            <p:cNvPr id="92" name="PirimiPuri" descr=""/>
            <p:cNvPicPr/>
            <p:nvPr/>
          </p:nvPicPr>
          <p:blipFill>
            <a:blip r:embed="rId1"/>
            <a:stretch/>
          </p:blipFill>
          <p:spPr>
            <a:xfrm>
              <a:off x="465120" y="1151280"/>
              <a:ext cx="5142960" cy="196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5563080" y="930240"/>
              <a:ext cx="218160" cy="255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3800520" y="3108240"/>
            <a:ext cx="4906440" cy="3749400"/>
            <a:chOff x="3800520" y="3108240"/>
            <a:chExt cx="4906440" cy="3749400"/>
          </a:xfrm>
        </p:grpSpPr>
        <p:pic>
          <p:nvPicPr>
            <p:cNvPr id="95" name="Codom" descr=""/>
            <p:cNvPicPr/>
            <p:nvPr/>
          </p:nvPicPr>
          <p:blipFill>
            <a:blip r:embed="rId2"/>
            <a:stretch/>
          </p:blipFill>
          <p:spPr>
            <a:xfrm>
              <a:off x="4539960" y="3153960"/>
              <a:ext cx="3819960" cy="364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4534920" y="6668640"/>
              <a:ext cx="4051800" cy="18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0520" y="3108240"/>
              <a:ext cx="490644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Ribossom" descr=""/>
          <p:cNvPicPr/>
          <p:nvPr/>
        </p:nvPicPr>
        <p:blipFill>
          <a:blip r:embed="rId1"/>
          <a:stretch/>
        </p:blipFill>
        <p:spPr>
          <a:xfrm>
            <a:off x="4495680" y="3984480"/>
            <a:ext cx="3287880" cy="2451240"/>
          </a:xfrm>
          <a:prstGeom prst="rect">
            <a:avLst/>
          </a:prstGeom>
          <a:ln w="0">
            <a:noFill/>
          </a:ln>
        </p:spPr>
      </p:pic>
      <p:pic>
        <p:nvPicPr>
          <p:cNvPr id="99" name="RNATrans" descr=""/>
          <p:cNvPicPr/>
          <p:nvPr/>
        </p:nvPicPr>
        <p:blipFill>
          <a:blip r:embed="rId2"/>
          <a:stretch/>
        </p:blipFill>
        <p:spPr>
          <a:xfrm>
            <a:off x="4479840" y="1490760"/>
            <a:ext cx="3232080" cy="229212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1352520" y="2554200"/>
            <a:ext cx="2365560" cy="2598840"/>
            <a:chOff x="1352520" y="2554200"/>
            <a:chExt cx="2365560" cy="2598840"/>
          </a:xfrm>
        </p:grpSpPr>
        <p:pic>
          <p:nvPicPr>
            <p:cNvPr id="101" name="Ribosso1" descr=""/>
            <p:cNvPicPr/>
            <p:nvPr/>
          </p:nvPicPr>
          <p:blipFill>
            <a:blip r:embed="rId3"/>
            <a:stretch/>
          </p:blipFill>
          <p:spPr>
            <a:xfrm>
              <a:off x="1435320" y="2697120"/>
              <a:ext cx="2217600" cy="225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3629160" y="2613240"/>
              <a:ext cx="88920" cy="253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352520" y="2554200"/>
              <a:ext cx="158760" cy="255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2206800" y="1549440"/>
            <a:ext cx="4862160" cy="4881600"/>
            <a:chOff x="2206800" y="1549440"/>
            <a:chExt cx="4862160" cy="4881600"/>
          </a:xfrm>
        </p:grpSpPr>
        <p:pic>
          <p:nvPicPr>
            <p:cNvPr id="105" name="Proteina1" descr=""/>
            <p:cNvPicPr/>
            <p:nvPr/>
          </p:nvPicPr>
          <p:blipFill>
            <a:blip r:embed="rId1"/>
            <a:stretch/>
          </p:blipFill>
          <p:spPr>
            <a:xfrm>
              <a:off x="2308320" y="1549440"/>
              <a:ext cx="4666680" cy="484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206800" y="6242040"/>
              <a:ext cx="4862160" cy="18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1828800" y="1622520"/>
            <a:ext cx="5238720" cy="4692600"/>
            <a:chOff x="1828800" y="1622520"/>
            <a:chExt cx="5238720" cy="4692600"/>
          </a:xfrm>
        </p:grpSpPr>
        <p:pic>
          <p:nvPicPr>
            <p:cNvPr id="108" name="Proteina2" descr=""/>
            <p:cNvPicPr/>
            <p:nvPr/>
          </p:nvPicPr>
          <p:blipFill>
            <a:blip r:embed="rId1"/>
            <a:stretch/>
          </p:blipFill>
          <p:spPr>
            <a:xfrm>
              <a:off x="1874880" y="1622520"/>
              <a:ext cx="5192640" cy="469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1828800" y="6154560"/>
              <a:ext cx="2830680" cy="130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668160" y="1467000"/>
            <a:ext cx="7756560" cy="5180040"/>
            <a:chOff x="668160" y="1467000"/>
            <a:chExt cx="7756560" cy="5180040"/>
          </a:xfrm>
        </p:grpSpPr>
        <p:pic>
          <p:nvPicPr>
            <p:cNvPr id="111" name="Proteina3" descr=""/>
            <p:cNvPicPr/>
            <p:nvPr/>
          </p:nvPicPr>
          <p:blipFill>
            <a:blip r:embed="rId1"/>
            <a:stretch/>
          </p:blipFill>
          <p:spPr>
            <a:xfrm>
              <a:off x="804960" y="1467000"/>
              <a:ext cx="7619760" cy="514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668160" y="6240600"/>
              <a:ext cx="3787920" cy="40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HumanInsulin" descr=""/>
          <p:cNvPicPr/>
          <p:nvPr/>
        </p:nvPicPr>
        <p:blipFill>
          <a:blip r:embed="rId1"/>
          <a:stretch/>
        </p:blipFill>
        <p:spPr>
          <a:xfrm>
            <a:off x="1362240" y="1878120"/>
            <a:ext cx="6265800" cy="4151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hit" descr=""/>
          <p:cNvPicPr/>
          <p:nvPr/>
        </p:nvPicPr>
        <p:blipFill>
          <a:blip r:embed="rId1"/>
          <a:stretch/>
        </p:blipFill>
        <p:spPr>
          <a:xfrm>
            <a:off x="7920" y="9360"/>
            <a:ext cx="9128160" cy="6837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570400" y="3490920"/>
            <a:ext cx="414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ções de Metabolo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203040"/>
            <a:ext cx="9144000" cy="785880"/>
            <a:chOff x="0" y="203040"/>
            <a:chExt cx="9144000" cy="785880"/>
          </a:xfrm>
        </p:grpSpPr>
        <p:sp>
          <p:nvSpPr>
            <p:cNvPr id="45" name=""/>
            <p:cNvSpPr/>
            <p:nvPr/>
          </p:nvSpPr>
          <p:spPr>
            <a:xfrm>
              <a:off x="0" y="988920"/>
              <a:ext cx="9144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257200" y="203040"/>
              <a:ext cx="466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EE-280 / 20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ASA_CO13" descr=""/>
            <p:cNvPicPr/>
            <p:nvPr/>
          </p:nvPicPr>
          <p:blipFill>
            <a:blip r:embed="rId2"/>
            <a:stretch/>
          </p:blipFill>
          <p:spPr>
            <a:xfrm>
              <a:off x="246240" y="203040"/>
              <a:ext cx="1382400" cy="551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711360" y="2073240"/>
            <a:ext cx="7672320" cy="3544920"/>
            <a:chOff x="711360" y="2073240"/>
            <a:chExt cx="7672320" cy="3544920"/>
          </a:xfrm>
        </p:grpSpPr>
        <p:pic>
          <p:nvPicPr>
            <p:cNvPr id="115" name="Proteina4" descr=""/>
            <p:cNvPicPr/>
            <p:nvPr/>
          </p:nvPicPr>
          <p:blipFill>
            <a:blip r:embed="rId1"/>
            <a:stretch/>
          </p:blipFill>
          <p:spPr>
            <a:xfrm>
              <a:off x="763560" y="2073240"/>
              <a:ext cx="7620120" cy="34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711360" y="5400720"/>
              <a:ext cx="3352680" cy="21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590metabolism" descr=""/>
          <p:cNvPicPr/>
          <p:nvPr/>
        </p:nvPicPr>
        <p:blipFill>
          <a:blip r:embed="rId1"/>
          <a:stretch/>
        </p:blipFill>
        <p:spPr>
          <a:xfrm>
            <a:off x="1527120" y="1204920"/>
            <a:ext cx="6307200" cy="5351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841320" y="1593720"/>
            <a:ext cx="7678800" cy="5040360"/>
            <a:chOff x="841320" y="1593720"/>
            <a:chExt cx="7678800" cy="5040360"/>
          </a:xfrm>
        </p:grpSpPr>
        <p:pic>
          <p:nvPicPr>
            <p:cNvPr id="119" name="604glycogenesis" descr=""/>
            <p:cNvPicPr/>
            <p:nvPr/>
          </p:nvPicPr>
          <p:blipFill>
            <a:blip r:embed="rId1"/>
            <a:stretch/>
          </p:blipFill>
          <p:spPr>
            <a:xfrm>
              <a:off x="923760" y="1593720"/>
              <a:ext cx="7340760" cy="494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841320" y="6110280"/>
              <a:ext cx="7678800" cy="52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CARBS" descr=""/>
          <p:cNvPicPr/>
          <p:nvPr/>
        </p:nvPicPr>
        <p:blipFill>
          <a:blip r:embed="rId1"/>
          <a:stretch/>
        </p:blipFill>
        <p:spPr>
          <a:xfrm>
            <a:off x="974880" y="1465200"/>
            <a:ext cx="7189560" cy="5392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GlyGluNeoGen" descr=""/>
          <p:cNvPicPr/>
          <p:nvPr/>
        </p:nvPicPr>
        <p:blipFill>
          <a:blip r:embed="rId1"/>
          <a:stretch/>
        </p:blipFill>
        <p:spPr>
          <a:xfrm>
            <a:off x="2527200" y="1125360"/>
            <a:ext cx="3826080" cy="5186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IMAGE001" descr=""/>
          <p:cNvPicPr/>
          <p:nvPr/>
        </p:nvPicPr>
        <p:blipFill>
          <a:blip r:embed="rId1"/>
          <a:stretch/>
        </p:blipFill>
        <p:spPr>
          <a:xfrm>
            <a:off x="2560680" y="1008000"/>
            <a:ext cx="4199040" cy="5850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1611360" y="1160640"/>
            <a:ext cx="5805360" cy="5388840"/>
            <a:chOff x="1611360" y="1160640"/>
            <a:chExt cx="5805360" cy="5388840"/>
          </a:xfrm>
        </p:grpSpPr>
        <p:pic>
          <p:nvPicPr>
            <p:cNvPr id="125" name="Krebs" descr=""/>
            <p:cNvPicPr/>
            <p:nvPr/>
          </p:nvPicPr>
          <p:blipFill>
            <a:blip r:embed="rId1"/>
            <a:stretch/>
          </p:blipFill>
          <p:spPr>
            <a:xfrm>
              <a:off x="1711440" y="1222200"/>
              <a:ext cx="5616360" cy="421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2133360" y="5805360"/>
              <a:ext cx="5281560" cy="744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pt-BR" sz="16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pt-BR" sz="16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pt-BR" sz="16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 + 6O</a:t>
              </a:r>
              <a:r>
                <a:rPr b="1" lang="pt-BR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   &lt;----&gt;   6 CO</a:t>
              </a:r>
              <a:r>
                <a:rPr b="1" lang="pt-BR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 + 6 H</a:t>
              </a:r>
              <a:r>
                <a:rPr b="1" lang="pt-BR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0   + e-  </a:t>
              </a:r>
              <a:r>
                <a:rPr b="1" lang="pt-BR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    36 AT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                       </a:t>
              </a:r>
              <a:r>
                <a:rPr b="1" lang="pt-BR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G =  - 686 Kc/mo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611360" y="1160640"/>
              <a:ext cx="5805360" cy="16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855720" y="1508040"/>
            <a:ext cx="7534080" cy="4994280"/>
            <a:chOff x="855720" y="1508040"/>
            <a:chExt cx="7534080" cy="4994280"/>
          </a:xfrm>
        </p:grpSpPr>
        <p:pic>
          <p:nvPicPr>
            <p:cNvPr id="129" name="604gluconeogenesis" descr=""/>
            <p:cNvPicPr/>
            <p:nvPr/>
          </p:nvPicPr>
          <p:blipFill>
            <a:blip r:embed="rId1"/>
            <a:stretch/>
          </p:blipFill>
          <p:spPr>
            <a:xfrm>
              <a:off x="923760" y="1508040"/>
              <a:ext cx="7277400" cy="490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855720" y="6183360"/>
              <a:ext cx="7534080" cy="3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FG12_18" descr=""/>
          <p:cNvPicPr/>
          <p:nvPr/>
        </p:nvPicPr>
        <p:blipFill>
          <a:blip r:embed="rId1"/>
          <a:stretch/>
        </p:blipFill>
        <p:spPr>
          <a:xfrm>
            <a:off x="365040" y="1353960"/>
            <a:ext cx="3667320" cy="321156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4078440" y="3949560"/>
            <a:ext cx="4803480" cy="2502000"/>
            <a:chOff x="4078440" y="3949560"/>
            <a:chExt cx="4803480" cy="2502000"/>
          </a:xfrm>
        </p:grpSpPr>
        <p:pic>
          <p:nvPicPr>
            <p:cNvPr id="133" name="Osmose1" descr=""/>
            <p:cNvPicPr/>
            <p:nvPr/>
          </p:nvPicPr>
          <p:blipFill>
            <a:blip r:embed="rId2"/>
            <a:stretch/>
          </p:blipFill>
          <p:spPr>
            <a:xfrm>
              <a:off x="4308480" y="3949560"/>
              <a:ext cx="4573440" cy="250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4078440" y="6256440"/>
              <a:ext cx="367164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914400" y="1652760"/>
            <a:ext cx="7475400" cy="4994280"/>
            <a:chOff x="914400" y="1652760"/>
            <a:chExt cx="7475400" cy="4994280"/>
          </a:xfrm>
        </p:grpSpPr>
        <p:pic>
          <p:nvPicPr>
            <p:cNvPr id="136" name="615coricycle" descr=""/>
            <p:cNvPicPr/>
            <p:nvPr/>
          </p:nvPicPr>
          <p:blipFill>
            <a:blip r:embed="rId1"/>
            <a:stretch/>
          </p:blipFill>
          <p:spPr>
            <a:xfrm>
              <a:off x="954000" y="1652760"/>
              <a:ext cx="7321680" cy="49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914400" y="6415200"/>
              <a:ext cx="7475400" cy="23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467080" y="1158840"/>
            <a:ext cx="4222800" cy="5699160"/>
            <a:chOff x="2467080" y="1158840"/>
            <a:chExt cx="4222800" cy="5699160"/>
          </a:xfrm>
        </p:grpSpPr>
        <p:pic>
          <p:nvPicPr>
            <p:cNvPr id="49" name="MetaBolBas" descr=""/>
            <p:cNvPicPr/>
            <p:nvPr/>
          </p:nvPicPr>
          <p:blipFill>
            <a:blip r:embed="rId1"/>
            <a:stretch/>
          </p:blipFill>
          <p:spPr>
            <a:xfrm>
              <a:off x="2505240" y="1158840"/>
              <a:ext cx="3966840" cy="569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2467080" y="1160640"/>
              <a:ext cx="3773520" cy="3776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256440" y="1379520"/>
              <a:ext cx="217440" cy="33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716360" y="6283440"/>
              <a:ext cx="1973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9280" y="6299280"/>
              <a:ext cx="3773520" cy="42228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AerGluMet" descr=""/>
          <p:cNvPicPr/>
          <p:nvPr/>
        </p:nvPicPr>
        <p:blipFill>
          <a:blip r:embed="rId1"/>
          <a:stretch/>
        </p:blipFill>
        <p:spPr>
          <a:xfrm>
            <a:off x="981000" y="1171440"/>
            <a:ext cx="4440240" cy="5686560"/>
          </a:xfrm>
          <a:prstGeom prst="rect">
            <a:avLst/>
          </a:prstGeom>
          <a:ln w="0">
            <a:noFill/>
          </a:ln>
        </p:spPr>
      </p:pic>
      <p:pic>
        <p:nvPicPr>
          <p:cNvPr id="139" name="NAD_NADH" descr=""/>
          <p:cNvPicPr/>
          <p:nvPr/>
        </p:nvPicPr>
        <p:blipFill>
          <a:blip r:embed="rId2"/>
          <a:stretch/>
        </p:blipFill>
        <p:spPr>
          <a:xfrm>
            <a:off x="5937120" y="5156280"/>
            <a:ext cx="2797200" cy="1481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betaoxida" descr=""/>
          <p:cNvPicPr/>
          <p:nvPr/>
        </p:nvPicPr>
        <p:blipFill>
          <a:blip r:embed="rId1"/>
          <a:stretch/>
        </p:blipFill>
        <p:spPr>
          <a:xfrm>
            <a:off x="1852560" y="1825560"/>
            <a:ext cx="5278320" cy="46022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696040" y="1036800"/>
            <a:ext cx="378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Beta-Oxidação de Ácidos Grax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FaReg" descr=""/>
          <p:cNvPicPr/>
          <p:nvPr/>
        </p:nvPicPr>
        <p:blipFill>
          <a:blip r:embed="rId1"/>
          <a:stretch/>
        </p:blipFill>
        <p:spPr>
          <a:xfrm>
            <a:off x="893880" y="1415880"/>
            <a:ext cx="7181640" cy="4770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MetaBolBas" descr=""/>
          <p:cNvPicPr/>
          <p:nvPr/>
        </p:nvPicPr>
        <p:blipFill>
          <a:blip r:embed="rId1"/>
          <a:stretch/>
        </p:blipFill>
        <p:spPr>
          <a:xfrm>
            <a:off x="2505240" y="1158840"/>
            <a:ext cx="3966840" cy="5699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OMEGA36" descr=""/>
          <p:cNvPicPr/>
          <p:nvPr/>
        </p:nvPicPr>
        <p:blipFill>
          <a:blip r:embed="rId1"/>
          <a:stretch/>
        </p:blipFill>
        <p:spPr>
          <a:xfrm>
            <a:off x="1131840" y="1301760"/>
            <a:ext cx="6532560" cy="4898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2X4X1A" descr=""/>
          <p:cNvPicPr/>
          <p:nvPr/>
        </p:nvPicPr>
        <p:blipFill>
          <a:blip r:embed="rId1"/>
          <a:stretch/>
        </p:blipFill>
        <p:spPr>
          <a:xfrm>
            <a:off x="954000" y="1722600"/>
            <a:ext cx="7294680" cy="4387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triglicerides" descr=""/>
          <p:cNvPicPr/>
          <p:nvPr/>
        </p:nvPicPr>
        <p:blipFill>
          <a:blip r:embed="rId1"/>
          <a:stretch/>
        </p:blipFill>
        <p:spPr>
          <a:xfrm>
            <a:off x="609480" y="2224080"/>
            <a:ext cx="4092840" cy="3429000"/>
          </a:xfrm>
          <a:prstGeom prst="rect">
            <a:avLst/>
          </a:prstGeom>
          <a:ln w="0">
            <a:noFill/>
          </a:ln>
        </p:spPr>
      </p:pic>
      <p:pic>
        <p:nvPicPr>
          <p:cNvPr id="147" name="triglyceride" descr=""/>
          <p:cNvPicPr/>
          <p:nvPr/>
        </p:nvPicPr>
        <p:blipFill>
          <a:blip r:embed="rId2"/>
          <a:stretch/>
        </p:blipFill>
        <p:spPr>
          <a:xfrm>
            <a:off x="5495760" y="2784600"/>
            <a:ext cx="3143520" cy="2332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cholesterol" descr=""/>
          <p:cNvPicPr/>
          <p:nvPr/>
        </p:nvPicPr>
        <p:blipFill>
          <a:blip r:embed="rId1"/>
          <a:stretch/>
        </p:blipFill>
        <p:spPr>
          <a:xfrm>
            <a:off x="2122560" y="1403280"/>
            <a:ext cx="4971960" cy="5194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559880" y="1671480"/>
            <a:ext cx="56718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A Tabela do Massachusetts General Hospital de Boston: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1. Colesterol total (&lt; 200 mg %)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Menos de 29 anos abaixo de 200 mg 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e 30 até 39 anos abaixo de 225 mg 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e 40 até 49 anos abaixo de 245 mg 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cima de 50 anos abaixo de 265 mg 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2. HDL (&gt; 35 mg %)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Homens de 30 a 70 mg 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Mulheres de 30 a 90 mg 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3. LDL (&lt; 60 mg %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Homens e mulheres 50 a 190 mg 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shit" descr=""/>
          <p:cNvPicPr/>
          <p:nvPr/>
        </p:nvPicPr>
        <p:blipFill>
          <a:blip r:embed="rId1"/>
          <a:stretch/>
        </p:blipFill>
        <p:spPr>
          <a:xfrm>
            <a:off x="7920" y="9360"/>
            <a:ext cx="9128160" cy="68374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174840" y="3506760"/>
            <a:ext cx="292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ito Obrigado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0" y="203040"/>
            <a:ext cx="9144000" cy="785880"/>
            <a:chOff x="0" y="203040"/>
            <a:chExt cx="9144000" cy="785880"/>
          </a:xfrm>
        </p:grpSpPr>
        <p:sp>
          <p:nvSpPr>
            <p:cNvPr id="153" name=""/>
            <p:cNvSpPr/>
            <p:nvPr/>
          </p:nvSpPr>
          <p:spPr>
            <a:xfrm>
              <a:off x="0" y="988920"/>
              <a:ext cx="9144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57200" y="203040"/>
              <a:ext cx="466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EE-280 / 20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5" name="ASA_CO13" descr=""/>
            <p:cNvPicPr/>
            <p:nvPr/>
          </p:nvPicPr>
          <p:blipFill>
            <a:blip r:embed="rId2"/>
            <a:stretch/>
          </p:blipFill>
          <p:spPr>
            <a:xfrm>
              <a:off x="246240" y="203040"/>
              <a:ext cx="1382400" cy="551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AdicUrico" descr=""/>
          <p:cNvPicPr/>
          <p:nvPr/>
        </p:nvPicPr>
        <p:blipFill>
          <a:blip r:embed="rId1"/>
          <a:stretch/>
        </p:blipFill>
        <p:spPr>
          <a:xfrm>
            <a:off x="1882800" y="2503440"/>
            <a:ext cx="2666880" cy="1959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394000" y="48229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Ácido Úr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38680" y="3935520"/>
            <a:ext cx="1878120" cy="331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70880" y="480060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Uré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5184720" y="2879640"/>
            <a:ext cx="2076480" cy="1134360"/>
            <a:chOff x="5184720" y="2879640"/>
            <a:chExt cx="2076480" cy="1134360"/>
          </a:xfrm>
        </p:grpSpPr>
        <p:sp>
          <p:nvSpPr>
            <p:cNvPr id="59" name=""/>
            <p:cNvSpPr/>
            <p:nvPr/>
          </p:nvSpPr>
          <p:spPr>
            <a:xfrm>
              <a:off x="5184720" y="3608280"/>
              <a:ext cx="582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pt-BR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63120" y="36064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62400" y="28796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678360" y="3606480"/>
              <a:ext cx="582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1" lang="pt-BR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05360" y="3787560"/>
              <a:ext cx="24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407280" y="3794040"/>
              <a:ext cx="24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211800" y="3236760"/>
              <a:ext cx="0" cy="36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262560" y="3230280"/>
              <a:ext cx="0" cy="36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Acucares" descr=""/>
          <p:cNvPicPr/>
          <p:nvPr/>
        </p:nvPicPr>
        <p:blipFill>
          <a:blip r:embed="rId1"/>
          <a:stretch/>
        </p:blipFill>
        <p:spPr>
          <a:xfrm>
            <a:off x="522360" y="1609560"/>
            <a:ext cx="8184960" cy="4808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Glicogenio" descr=""/>
          <p:cNvPicPr/>
          <p:nvPr/>
        </p:nvPicPr>
        <p:blipFill>
          <a:blip r:embed="rId1"/>
          <a:stretch/>
        </p:blipFill>
        <p:spPr>
          <a:xfrm>
            <a:off x="4635360" y="1976400"/>
            <a:ext cx="3845160" cy="2884680"/>
          </a:xfrm>
          <a:prstGeom prst="rect">
            <a:avLst/>
          </a:prstGeom>
          <a:ln w="0">
            <a:noFill/>
          </a:ln>
        </p:spPr>
      </p:pic>
      <p:grpSp>
        <p:nvGrpSpPr>
          <p:cNvPr id="69" name=""/>
          <p:cNvGrpSpPr/>
          <p:nvPr/>
        </p:nvGrpSpPr>
        <p:grpSpPr>
          <a:xfrm>
            <a:off x="1363680" y="1189080"/>
            <a:ext cx="3557520" cy="5262480"/>
            <a:chOff x="1363680" y="1189080"/>
            <a:chExt cx="3557520" cy="5262480"/>
          </a:xfrm>
        </p:grpSpPr>
        <p:pic>
          <p:nvPicPr>
            <p:cNvPr id="70" name="GLYCOGEN" descr=""/>
            <p:cNvPicPr/>
            <p:nvPr/>
          </p:nvPicPr>
          <p:blipFill>
            <a:blip r:embed="rId2"/>
            <a:stretch/>
          </p:blipFill>
          <p:spPr>
            <a:xfrm>
              <a:off x="1376280" y="1200240"/>
              <a:ext cx="3544920" cy="52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363680" y="1189080"/>
              <a:ext cx="842760" cy="363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5994000" y="493560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Glicogên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Amido" descr=""/>
          <p:cNvPicPr/>
          <p:nvPr/>
        </p:nvPicPr>
        <p:blipFill>
          <a:blip r:embed="rId1"/>
          <a:stretch/>
        </p:blipFill>
        <p:spPr>
          <a:xfrm>
            <a:off x="2268360" y="1571760"/>
            <a:ext cx="3335400" cy="21445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208560" y="215100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m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CelulosKitin" descr=""/>
          <p:cNvPicPr/>
          <p:nvPr/>
        </p:nvPicPr>
        <p:blipFill>
          <a:blip r:embed="rId2"/>
          <a:stretch/>
        </p:blipFill>
        <p:spPr>
          <a:xfrm>
            <a:off x="2263680" y="3362400"/>
            <a:ext cx="3746520" cy="24080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166800" y="365904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elul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41320" y="498168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it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FAT" descr=""/>
          <p:cNvPicPr/>
          <p:nvPr/>
        </p:nvPicPr>
        <p:blipFill>
          <a:blip r:embed="rId1">
            <a:lum contrast="46000"/>
          </a:blip>
          <a:stretch/>
        </p:blipFill>
        <p:spPr>
          <a:xfrm>
            <a:off x="4383000" y="1819440"/>
            <a:ext cx="4334040" cy="3619440"/>
          </a:xfrm>
          <a:prstGeom prst="rect">
            <a:avLst/>
          </a:prstGeom>
          <a:ln w="0">
            <a:noFill/>
          </a:ln>
        </p:spPr>
      </p:pic>
      <p:grpSp>
        <p:nvGrpSpPr>
          <p:cNvPr id="79" name=""/>
          <p:cNvGrpSpPr/>
          <p:nvPr/>
        </p:nvGrpSpPr>
        <p:grpSpPr>
          <a:xfrm>
            <a:off x="392040" y="2406600"/>
            <a:ext cx="3990960" cy="2776680"/>
            <a:chOff x="392040" y="2406600"/>
            <a:chExt cx="3990960" cy="2776680"/>
          </a:xfrm>
        </p:grpSpPr>
        <p:pic>
          <p:nvPicPr>
            <p:cNvPr id="80" name="fatty%2520acids" descr=""/>
            <p:cNvPicPr/>
            <p:nvPr/>
          </p:nvPicPr>
          <p:blipFill>
            <a:blip r:embed="rId2"/>
            <a:stretch/>
          </p:blipFill>
          <p:spPr>
            <a:xfrm>
              <a:off x="479520" y="2406600"/>
              <a:ext cx="365760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392040" y="5008680"/>
              <a:ext cx="3990960" cy="17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6006240" y="557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riglicér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08480" y="5546880"/>
            <a:ext cx="16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Ácidos Grax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WIS2D" descr=""/>
          <p:cNvPicPr/>
          <p:nvPr/>
        </p:nvPicPr>
        <p:blipFill>
          <a:blip r:embed="rId1"/>
          <a:stretch/>
        </p:blipFill>
        <p:spPr>
          <a:xfrm>
            <a:off x="0" y="2106720"/>
            <a:ext cx="7140600" cy="3903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3T20:50:31Z</dcterms:created>
  <dc:creator>Takashi Yoneyama</dc:creator>
  <dc:description/>
  <dc:language>en-US</dc:language>
  <cp:lastModifiedBy>Takashi Yoneyama</cp:lastModifiedBy>
  <dcterms:modified xsi:type="dcterms:W3CDTF">2010-05-08T11:38:04Z</dcterms:modified>
  <cp:revision>66</cp:revision>
  <dc:subject/>
  <dc:title>No Slide Title</dc:title>
</cp:coreProperties>
</file>