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Line 8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9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</a:t>
              </a: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10" descr="C:\TAKASHI\FIGURAS\ASA_CO13.GIF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579440" y="3189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Takashi\Cursos2005\BioEng280\Rim\kidneymachine.gif"/>
          <p:cNvPicPr/>
          <p:nvPr/>
        </p:nvPicPr>
        <p:blipFill>
          <a:blip r:embed="rId1"/>
          <a:stretch/>
        </p:blipFill>
        <p:spPr>
          <a:xfrm>
            <a:off x="2228760" y="1112760"/>
            <a:ext cx="497232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emo01" descr=""/>
          <p:cNvPicPr/>
          <p:nvPr/>
        </p:nvPicPr>
        <p:blipFill>
          <a:blip r:embed="rId1"/>
          <a:stretch/>
        </p:blipFill>
        <p:spPr>
          <a:xfrm>
            <a:off x="1820880" y="1593720"/>
            <a:ext cx="5180040" cy="476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940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C:\Takashi\Cursos2005\BioEng280\Rim\fiber_dialyzer.gif"/>
          <p:cNvPicPr/>
          <p:nvPr/>
        </p:nvPicPr>
        <p:blipFill>
          <a:blip r:embed="rId1"/>
          <a:stretch/>
        </p:blipFill>
        <p:spPr>
          <a:xfrm>
            <a:off x="1138320" y="1563840"/>
            <a:ext cx="28242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Takashi\Cursos2005\BioEng280\Rim\HEMO.GIF"/>
          <p:cNvPicPr/>
          <p:nvPr/>
        </p:nvPicPr>
        <p:blipFill>
          <a:blip r:embed="rId2"/>
          <a:stretch/>
        </p:blipFill>
        <p:spPr>
          <a:xfrm>
            <a:off x="4216320" y="1752480"/>
            <a:ext cx="4194360" cy="419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40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fistula" descr=""/>
          <p:cNvPicPr/>
          <p:nvPr/>
        </p:nvPicPr>
        <p:blipFill>
          <a:blip r:embed="rId1"/>
          <a:stretch/>
        </p:blipFill>
        <p:spPr>
          <a:xfrm>
            <a:off x="5181480" y="4460760"/>
            <a:ext cx="3189240" cy="2162160"/>
          </a:xfrm>
          <a:prstGeom prst="rect">
            <a:avLst/>
          </a:prstGeom>
          <a:ln w="0">
            <a:noFill/>
          </a:ln>
        </p:spPr>
      </p:pic>
      <p:pic>
        <p:nvPicPr>
          <p:cNvPr id="65" name="MediaItem_209" descr=""/>
          <p:cNvPicPr/>
          <p:nvPr/>
        </p:nvPicPr>
        <p:blipFill>
          <a:blip r:embed="rId2"/>
          <a:stretch/>
        </p:blipFill>
        <p:spPr>
          <a:xfrm>
            <a:off x="3213000" y="1219320"/>
            <a:ext cx="4513320" cy="29113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87280" y="2387520"/>
            <a:ext cx="3057480" cy="3630600"/>
            <a:chOff x="287280" y="2387520"/>
            <a:chExt cx="3057480" cy="3630600"/>
          </a:xfrm>
        </p:grpSpPr>
        <p:pic>
          <p:nvPicPr>
            <p:cNvPr id="67" name="fistula" descr=""/>
            <p:cNvPicPr/>
            <p:nvPr/>
          </p:nvPicPr>
          <p:blipFill>
            <a:blip r:embed="rId3"/>
            <a:stretch/>
          </p:blipFill>
          <p:spPr>
            <a:xfrm>
              <a:off x="399960" y="2387520"/>
              <a:ext cx="2857680" cy="35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87280" y="5759280"/>
              <a:ext cx="3057480" cy="25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317680" y="1154160"/>
            <a:ext cx="4603320" cy="5498640"/>
            <a:chOff x="2317680" y="1154160"/>
            <a:chExt cx="4603320" cy="5498640"/>
          </a:xfrm>
        </p:grpSpPr>
        <p:pic>
          <p:nvPicPr>
            <p:cNvPr id="70" name="principle" descr=""/>
            <p:cNvPicPr/>
            <p:nvPr/>
          </p:nvPicPr>
          <p:blipFill>
            <a:blip r:embed="rId1"/>
            <a:stretch/>
          </p:blipFill>
          <p:spPr>
            <a:xfrm>
              <a:off x="2317680" y="1179720"/>
              <a:ext cx="4603320" cy="54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319120" y="1183320"/>
              <a:ext cx="4584960" cy="545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19880" y="1154160"/>
              <a:ext cx="2167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6"/>
          <p:cNvSpPr/>
          <p:nvPr/>
        </p:nvSpPr>
        <p:spPr>
          <a:xfrm>
            <a:off x="3400920" y="1063800"/>
            <a:ext cx="230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Diálise Periton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914400" y="1336680"/>
            <a:ext cx="71942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Tipos de Diálise Peritone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stem três tipos de diálise peritoneal sobre as quais vamos comenta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 DIÁLISE PERITONEAL AMBULATORIAL CONTINUA  - CAP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DIÁLISE PERITONEAL CÍCLICA CONTINUA - CCP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. DIÁLISE PERITONEAL INTERMITENTE - D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877680" y="4651200"/>
            <a:ext cx="7709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 caso da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APD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 a solução de diálise fica no abdômen durante 4  horas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ocesso de drenar o dialisado e substitui-lo por uma solução nova leva 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0 a 40 minutos. A maioria das pessoas troca a solução quatro vezes por di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 a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CPD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 o tratamento dura de 10 a 12 horas e é feito todas  as noite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DP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é realizada de 2 a 3 vezes por semana, com um total de 30  a 42 hor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manais. As sessões podem durar até 24 hora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C:\Takashi\Cursos2005\BioEng280\Rim\DISPOS.JPG"/>
          <p:cNvPicPr/>
          <p:nvPr/>
        </p:nvPicPr>
        <p:blipFill>
          <a:blip r:embed="rId1"/>
          <a:stretch/>
        </p:blipFill>
        <p:spPr>
          <a:xfrm>
            <a:off x="622440" y="1312920"/>
            <a:ext cx="1495440" cy="217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Takashi\Cursos2005\BioEng280\Rim\EVOLU_4.JPG"/>
          <p:cNvPicPr/>
          <p:nvPr/>
        </p:nvPicPr>
        <p:blipFill>
          <a:blip r:embed="rId2"/>
          <a:stretch/>
        </p:blipFill>
        <p:spPr>
          <a:xfrm>
            <a:off x="2452680" y="1212840"/>
            <a:ext cx="1714680" cy="234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:\Takashi\Cursos2005\BioEng280\Rim\CATHER01.JPG"/>
          <p:cNvPicPr/>
          <p:nvPr/>
        </p:nvPicPr>
        <p:blipFill>
          <a:blip r:embed="rId3"/>
          <a:stretch/>
        </p:blipFill>
        <p:spPr>
          <a:xfrm>
            <a:off x="5900760" y="1173240"/>
            <a:ext cx="196848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C:\Takashi\Cursos2005\BioEng280\Rim\Tenckhoff.gif"/>
          <p:cNvPicPr/>
          <p:nvPr/>
        </p:nvPicPr>
        <p:blipFill>
          <a:blip r:embed="rId4"/>
          <a:stretch/>
        </p:blipFill>
        <p:spPr>
          <a:xfrm>
            <a:off x="4992840" y="3695760"/>
            <a:ext cx="3733560" cy="266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6293160" y="3546360"/>
            <a:ext cx="11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nckh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2533680" y="3743280"/>
            <a:ext cx="2286000" cy="2800080"/>
            <a:chOff x="2533680" y="3743280"/>
            <a:chExt cx="2286000" cy="2800080"/>
          </a:xfrm>
        </p:grpSpPr>
        <p:pic>
          <p:nvPicPr>
            <p:cNvPr id="82" name="Picture 12" descr="C:\Takashi\Cursos2005\BioEng280\Rim\CATETER.JPG"/>
            <p:cNvPicPr/>
            <p:nvPr/>
          </p:nvPicPr>
          <p:blipFill>
            <a:blip r:embed="rId5"/>
            <a:stretch/>
          </p:blipFill>
          <p:spPr>
            <a:xfrm>
              <a:off x="2533680" y="3743280"/>
              <a:ext cx="2286000" cy="28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3"/>
            <p:cNvSpPr/>
            <p:nvPr/>
          </p:nvSpPr>
          <p:spPr>
            <a:xfrm>
              <a:off x="2590920" y="3771720"/>
              <a:ext cx="2190600" cy="27432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C:\Takashi\Cursos2005\BioEng280\Rim\easy_glam.jpg"/>
          <p:cNvPicPr/>
          <p:nvPr/>
        </p:nvPicPr>
        <p:blipFill>
          <a:blip r:embed="rId1"/>
          <a:stretch/>
        </p:blipFill>
        <p:spPr>
          <a:xfrm>
            <a:off x="1025640" y="1596960"/>
            <a:ext cx="2512800" cy="2335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Takashi\Cursos2005\BioEng280\Rim\gentleman.jpg"/>
          <p:cNvPicPr/>
          <p:nvPr/>
        </p:nvPicPr>
        <p:blipFill>
          <a:blip r:embed="rId2"/>
          <a:stretch/>
        </p:blipFill>
        <p:spPr>
          <a:xfrm>
            <a:off x="4062240" y="1709640"/>
            <a:ext cx="4446720" cy="4480200"/>
          </a:xfrm>
          <a:prstGeom prst="rect">
            <a:avLst/>
          </a:prstGeom>
          <a:ln w="0">
            <a:noFill/>
          </a:ln>
        </p:spPr>
      </p:pic>
      <p:sp>
        <p:nvSpPr>
          <p:cNvPr id="86" name="Line 8"/>
          <p:cNvSpPr/>
          <p:nvPr/>
        </p:nvSpPr>
        <p:spPr>
          <a:xfrm>
            <a:off x="3676680" y="2876400"/>
            <a:ext cx="1009800" cy="743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C:\TAKASHI\FIGURAT\shit.bmp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574080" y="34686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ranspl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4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90" name="Line 15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6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</a:t>
              </a: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7" descr="C:\TAKASHI\FIGURAS\ASA_CO13.GIF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upo 5"/>
          <p:cNvGrpSpPr/>
          <p:nvPr/>
        </p:nvGrpSpPr>
        <p:grpSpPr>
          <a:xfrm>
            <a:off x="0" y="1200240"/>
            <a:ext cx="5467320" cy="4190760"/>
            <a:chOff x="0" y="1200240"/>
            <a:chExt cx="5467320" cy="4190760"/>
          </a:xfrm>
        </p:grpSpPr>
        <p:pic>
          <p:nvPicPr>
            <p:cNvPr id="94" name="Picture 2" descr="http://apps.uwhealth.org/health/graphics/images/en/10250.jpg"/>
            <p:cNvPicPr/>
            <p:nvPr/>
          </p:nvPicPr>
          <p:blipFill>
            <a:blip r:embed="rId1"/>
            <a:stretch/>
          </p:blipFill>
          <p:spPr>
            <a:xfrm>
              <a:off x="0" y="1200240"/>
              <a:ext cx="5121360" cy="41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tângulo 4"/>
            <p:cNvSpPr/>
            <p:nvPr/>
          </p:nvSpPr>
          <p:spPr>
            <a:xfrm>
              <a:off x="4014000" y="4922640"/>
              <a:ext cx="145332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upo 12"/>
          <p:cNvGrpSpPr/>
          <p:nvPr/>
        </p:nvGrpSpPr>
        <p:grpSpPr>
          <a:xfrm>
            <a:off x="5311800" y="2949480"/>
            <a:ext cx="3300480" cy="3629160"/>
            <a:chOff x="5311800" y="2949480"/>
            <a:chExt cx="3300480" cy="3629160"/>
          </a:xfrm>
        </p:grpSpPr>
        <p:pic>
          <p:nvPicPr>
            <p:cNvPr id="97" name="Picture 4" descr="http://3.bp.blogspot.com/_TAm9S4IMSGg/SSpdNOA6VII/AAAAAAAAEao/fapLtiw-sJ8/s400/kidney-transplant.jpg"/>
            <p:cNvPicPr/>
            <p:nvPr/>
          </p:nvPicPr>
          <p:blipFill>
            <a:blip r:embed="rId2"/>
            <a:stretch/>
          </p:blipFill>
          <p:spPr>
            <a:xfrm>
              <a:off x="5445720" y="3294720"/>
              <a:ext cx="3062520" cy="3076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98" name="Retângulo 8"/>
            <p:cNvSpPr/>
            <p:nvPr/>
          </p:nvSpPr>
          <p:spPr>
            <a:xfrm>
              <a:off x="8475840" y="3179160"/>
              <a:ext cx="136440" cy="33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tângulo 9"/>
            <p:cNvSpPr/>
            <p:nvPr/>
          </p:nvSpPr>
          <p:spPr>
            <a:xfrm>
              <a:off x="5311800" y="2949480"/>
              <a:ext cx="136440" cy="33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tângulo 10"/>
            <p:cNvSpPr/>
            <p:nvPr/>
          </p:nvSpPr>
          <p:spPr>
            <a:xfrm>
              <a:off x="5322960" y="3138120"/>
              <a:ext cx="327564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tângulo 11"/>
            <p:cNvSpPr/>
            <p:nvPr/>
          </p:nvSpPr>
          <p:spPr>
            <a:xfrm>
              <a:off x="5311800" y="6362640"/>
              <a:ext cx="327564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6" descr="C:\TAKASHI\FIGURAT\shit.bmp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8"/>
          <p:cNvSpPr/>
          <p:nvPr/>
        </p:nvSpPr>
        <p:spPr>
          <a:xfrm>
            <a:off x="3890520" y="2263680"/>
            <a:ext cx="148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ál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041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Line 1042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43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</a:t>
              </a: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044" descr="C:\TAKASHI\FIGURAS\ASA_CO13.GIF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467000" y="1528920"/>
            <a:ext cx="3595680" cy="4162320"/>
            <a:chOff x="1467000" y="1528920"/>
            <a:chExt cx="3595680" cy="4162320"/>
          </a:xfrm>
        </p:grpSpPr>
        <p:sp>
          <p:nvSpPr>
            <p:cNvPr id="103" name=""/>
            <p:cNvSpPr/>
            <p:nvPr/>
          </p:nvSpPr>
          <p:spPr>
            <a:xfrm>
              <a:off x="2297160" y="26355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kublerorss" descr=""/>
            <p:cNvPicPr/>
            <p:nvPr/>
          </p:nvPicPr>
          <p:blipFill>
            <a:blip r:embed="rId1"/>
            <a:stretch/>
          </p:blipFill>
          <p:spPr>
            <a:xfrm>
              <a:off x="1467000" y="1839960"/>
              <a:ext cx="3463920" cy="36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57720" y="1528920"/>
              <a:ext cx="804960" cy="41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355720" y="2552760"/>
            <a:ext cx="177912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ses da Mor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egaç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iv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rganh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press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eitaç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24760" y="5673600"/>
            <a:ext cx="212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lizabeth Kübler-Ross, M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8 jul 1926 – 24 ago 20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11840" y="1843200"/>
            <a:ext cx="6721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 Conhecimento da causa da situação clínica (por exemplo, AV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Estado de Coma Profun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. Exclusão de Condições Reversívei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Intoxicaç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Hipoterm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Alterações Endócrinas ou Metabólic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4. Ausência de Reflexos Dependentes do Tronco Cerebr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Reflexos Fotomo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Reflexos Oculocefálic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Reflexos Oculovestibul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Reflexos Corneopalpebra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Reflexo Farínge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5. Prova da Apnéia (ausência de respiração espontâne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6. Exames Complementa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alização de 2 conjuntos de provas, com intervalo de 6 horas, po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 médicos não relacionados com o transplante de órgã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3360" y="109044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Verificação de Óbi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35520" y="109044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ngiografia Cereb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74600" y="2270160"/>
            <a:ext cx="3283200" cy="349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91160" y="2263680"/>
            <a:ext cx="3228840" cy="347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uito Obrigad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4a05t1" descr=""/>
          <p:cNvPicPr/>
          <p:nvPr/>
        </p:nvPicPr>
        <p:blipFill>
          <a:blip r:embed="rId1"/>
          <a:stretch/>
        </p:blipFill>
        <p:spPr>
          <a:xfrm>
            <a:off x="1212840" y="1255680"/>
            <a:ext cx="6834240" cy="538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C:\TAKASHI\FIGURAT\shit.bmp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uito Obrigad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18" name="Line 15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6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</a:t>
              </a: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7" descr="C:\TAKASHI\FIGURAS\ASA_CO13.GIF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Takashi\Cursos2005\BioEng280\Rim\DIALYSIS-IN-ACTION3.jpg"/>
          <p:cNvPicPr/>
          <p:nvPr/>
        </p:nvPicPr>
        <p:blipFill>
          <a:blip r:embed="rId1"/>
          <a:stretch/>
        </p:blipFill>
        <p:spPr>
          <a:xfrm>
            <a:off x="2843280" y="1096920"/>
            <a:ext cx="3551040" cy="532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C:\Takashi\Cursos2005\BioEng280\BioImgs\Osmose.jpg"/>
          <p:cNvPicPr/>
          <p:nvPr/>
        </p:nvPicPr>
        <p:blipFill>
          <a:blip r:embed="rId1"/>
          <a:stretch/>
        </p:blipFill>
        <p:spPr>
          <a:xfrm>
            <a:off x="2435400" y="1905120"/>
            <a:ext cx="4292280" cy="4381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Takashi\Cursos2005\BioEng280\Rim\Cellulose.jpg"/>
          <p:cNvPicPr/>
          <p:nvPr/>
        </p:nvPicPr>
        <p:blipFill>
          <a:blip r:embed="rId1"/>
          <a:stretch/>
        </p:blipFill>
        <p:spPr>
          <a:xfrm>
            <a:off x="2324160" y="4064040"/>
            <a:ext cx="4649760" cy="215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93640" y="1344600"/>
            <a:ext cx="817092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rtificial Membr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he artificial kidney uses cellulose membranes in place of the phospholipid-bilay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mbranes used by real kidneys to separate the components of bloo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his cellulose membrane is the same type of membrane that you used in thi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eriment. Cellulose is a polymer of glucose molecules that form long, straigh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hains. Parallel chains form linkages with one another by hydrogen bonding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ke strong fibers. These fibers in turn interact to form the strong, sheet-lik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ure of the membra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Takashi\Cursos2005\BioEng280\Rim\Dialise1.gif"/>
          <p:cNvPicPr/>
          <p:nvPr/>
        </p:nvPicPr>
        <p:blipFill>
          <a:blip r:embed="rId1"/>
          <a:stretch/>
        </p:blipFill>
        <p:spPr>
          <a:xfrm>
            <a:off x="1573200" y="1239840"/>
            <a:ext cx="6389640" cy="525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46600" y="1476360"/>
            <a:ext cx="724464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Breve História da Diáli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.500 a.C: Descrição da cavidade peritoneal em papiro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877: Wegner observa os princípios da osmose e da difusão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23: Diálise peritoneal usada pela 1ª vez como procedimento terapêutico (Ganter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56: Primeiro rim artificia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60: Scribner inicia a técnica da Diálise Peritoneal como manutenção de vid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64: Descoberta do cateter de longa permanência ( Palmer, Quinton e Gray)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 mais tarde é modificado pelo Dr. Tenckhoff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76: Dr. Moncrief e Dr. Popovich criam a Diálise Peritoneal Contínu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77: Dr. Oreopoulus e col. comprovam a eficácia da técnica da Diális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eritoneal Contínua – CAP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83: Ministério da Saúde regulamenta a terapia de CAPD no Bras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Takashi\Cursos2005\BioEng280\Rim\renal_hist_90.jpg"/>
          <p:cNvPicPr/>
          <p:nvPr/>
        </p:nvPicPr>
        <p:blipFill>
          <a:blip r:embed="rId1"/>
          <a:stretch/>
        </p:blipFill>
        <p:spPr>
          <a:xfrm>
            <a:off x="6629400" y="1301760"/>
            <a:ext cx="2286000" cy="18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Takashi\Cursos2005\BioEng280\Rim\renal_hist_56.gif"/>
          <p:cNvPicPr/>
          <p:nvPr/>
        </p:nvPicPr>
        <p:blipFill>
          <a:blip r:embed="rId2"/>
          <a:stretch/>
        </p:blipFill>
        <p:spPr>
          <a:xfrm>
            <a:off x="5670720" y="1047600"/>
            <a:ext cx="109692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40" descr="C:\Takashi\Cursos2005\BioEng280\BioImgs\Hemodialise.jpg"/>
          <p:cNvPicPr/>
          <p:nvPr/>
        </p:nvPicPr>
        <p:blipFill>
          <a:blip r:embed="rId1"/>
          <a:stretch/>
        </p:blipFill>
        <p:spPr>
          <a:xfrm>
            <a:off x="1425600" y="1501920"/>
            <a:ext cx="6307200" cy="463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Takashi\Cursos2005\BioEng280\Rim\TIM1_dial.jpg"/>
          <p:cNvPicPr/>
          <p:nvPr/>
        </p:nvPicPr>
        <p:blipFill>
          <a:blip r:embed="rId1"/>
          <a:stretch/>
        </p:blipFill>
        <p:spPr>
          <a:xfrm>
            <a:off x="2567160" y="1146240"/>
            <a:ext cx="4071600" cy="541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5-18T11:30:43Z</dcterms:modified>
  <cp:revision>65</cp:revision>
  <dc:subject/>
  <dc:title>No Slide Title</dc:title>
</cp:coreProperties>
</file>