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25.png" ContentType="image/png"/>
  <Override PartName="/ppt/media/image9.png" ContentType="image/png"/>
  <Override PartName="/ppt/media/image33.jpeg" ContentType="image/jpeg"/>
  <Override PartName="/ppt/media/image6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37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Line 8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9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</a:t>
              </a: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10" descr="C:\TAKASHI\FIGURAS\ASA_CO13.GIF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izonatransplant.com/images/kidney_large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579440" y="3189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E:\KIDNEY2.JPG"/>
          <p:cNvPicPr/>
          <p:nvPr/>
        </p:nvPicPr>
        <p:blipFill>
          <a:blip r:embed="rId1"/>
          <a:stretch/>
        </p:blipFill>
        <p:spPr>
          <a:xfrm>
            <a:off x="1004760" y="1338120"/>
            <a:ext cx="7248600" cy="498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C:\Takashi\Cursos2005\BioEng280\BioImgs\Tubulos.gif"/>
          <p:cNvPicPr/>
          <p:nvPr/>
        </p:nvPicPr>
        <p:blipFill>
          <a:blip r:embed="rId1"/>
          <a:stretch/>
        </p:blipFill>
        <p:spPr>
          <a:xfrm>
            <a:off x="1486080" y="1571760"/>
            <a:ext cx="6400800" cy="440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E:\KIDNEY1.JPG"/>
          <p:cNvPicPr/>
          <p:nvPr/>
        </p:nvPicPr>
        <p:blipFill>
          <a:blip r:embed="rId1"/>
          <a:stretch/>
        </p:blipFill>
        <p:spPr>
          <a:xfrm>
            <a:off x="1195560" y="1490760"/>
            <a:ext cx="7000560" cy="48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E:\ARTERY1.JPG"/>
          <p:cNvPicPr/>
          <p:nvPr/>
        </p:nvPicPr>
        <p:blipFill>
          <a:blip r:embed="rId1"/>
          <a:stretch/>
        </p:blipFill>
        <p:spPr>
          <a:xfrm>
            <a:off x="987480" y="1415880"/>
            <a:ext cx="7148520" cy="485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C:\Takashi\Cursos2005\BioEng280\BioImgs\GlomeruloEletron.jpg"/>
          <p:cNvPicPr/>
          <p:nvPr/>
        </p:nvPicPr>
        <p:blipFill>
          <a:blip r:embed="rId1"/>
          <a:stretch/>
        </p:blipFill>
        <p:spPr>
          <a:xfrm>
            <a:off x="1530360" y="1090440"/>
            <a:ext cx="6068880" cy="554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E:\GLOMERULUS.jpg"/>
          <p:cNvPicPr/>
          <p:nvPr/>
        </p:nvPicPr>
        <p:blipFill>
          <a:blip r:embed="rId1"/>
          <a:stretch/>
        </p:blipFill>
        <p:spPr>
          <a:xfrm>
            <a:off x="2089080" y="1379520"/>
            <a:ext cx="4964040" cy="49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C:\Takashi\Cursos2005\BioEng280\BioImgs\CapsBowman.gif"/>
          <p:cNvPicPr/>
          <p:nvPr/>
        </p:nvPicPr>
        <p:blipFill>
          <a:blip r:embed="rId1"/>
          <a:stretch/>
        </p:blipFill>
        <p:spPr>
          <a:xfrm>
            <a:off x="2478240" y="1684440"/>
            <a:ext cx="4084560" cy="422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Takashi\Cursos2005\BioEng280\BioImgs\BowmanEletron.jpg"/>
          <p:cNvPicPr/>
          <p:nvPr/>
        </p:nvPicPr>
        <p:blipFill>
          <a:blip r:embed="rId1"/>
          <a:stretch/>
        </p:blipFill>
        <p:spPr>
          <a:xfrm>
            <a:off x="1952640" y="2048040"/>
            <a:ext cx="5324400" cy="354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C:\Takashi\Cursos2005\BioEng280\BioImgs\GloneruloFiltro.jpg"/>
          <p:cNvPicPr/>
          <p:nvPr/>
        </p:nvPicPr>
        <p:blipFill>
          <a:blip r:embed="rId1"/>
          <a:stretch/>
        </p:blipFill>
        <p:spPr>
          <a:xfrm>
            <a:off x="757080" y="1887480"/>
            <a:ext cx="8025120" cy="395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C:\Takashi\Cursos2005\BioEng280\BioImgs\CapsBowmAZ.gif"/>
          <p:cNvPicPr/>
          <p:nvPr/>
        </p:nvPicPr>
        <p:blipFill>
          <a:blip r:embed="rId1"/>
          <a:stretch/>
        </p:blipFill>
        <p:spPr>
          <a:xfrm>
            <a:off x="609480" y="15048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Takashi\Cursos2005\BioEng280\BioImgs\Gomerulo.jpg"/>
          <p:cNvPicPr/>
          <p:nvPr/>
        </p:nvPicPr>
        <p:blipFill>
          <a:blip r:embed="rId2"/>
          <a:stretch/>
        </p:blipFill>
        <p:spPr>
          <a:xfrm>
            <a:off x="4290840" y="2203560"/>
            <a:ext cx="4853160" cy="32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6" descr="C:\TAKASHI\FIGURAT\shit.bmp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8"/>
          <p:cNvSpPr/>
          <p:nvPr/>
        </p:nvSpPr>
        <p:spPr>
          <a:xfrm>
            <a:off x="1868400" y="2684520"/>
            <a:ext cx="5650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tomia do Sistema Urogeni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041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Line 1042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43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</a:t>
              </a: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044" descr="C:\TAKASHI\FIGURAS\ASA_CO13.GIF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C:\Takashi\Cursos2005\BioEng280\BioImgs\AparelhoJustaglomerular.jpg"/>
          <p:cNvPicPr/>
          <p:nvPr/>
        </p:nvPicPr>
        <p:blipFill>
          <a:blip r:embed="rId1"/>
          <a:stretch/>
        </p:blipFill>
        <p:spPr>
          <a:xfrm>
            <a:off x="1743120" y="2079720"/>
            <a:ext cx="5791320" cy="407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C:\Takashi\Cursos2005\BioEng280\BioImgs\CapsBowmHE.gif"/>
          <p:cNvPicPr/>
          <p:nvPr/>
        </p:nvPicPr>
        <p:blipFill>
          <a:blip r:embed="rId1"/>
          <a:stretch/>
        </p:blipFill>
        <p:spPr>
          <a:xfrm>
            <a:off x="666720" y="15048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E:\JG1.JPG"/>
          <p:cNvPicPr/>
          <p:nvPr/>
        </p:nvPicPr>
        <p:blipFill>
          <a:blip r:embed="rId2"/>
          <a:stretch/>
        </p:blipFill>
        <p:spPr>
          <a:xfrm>
            <a:off x="4264200" y="2362320"/>
            <a:ext cx="4325760" cy="293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7"/>
          <p:cNvSpPr/>
          <p:nvPr/>
        </p:nvSpPr>
        <p:spPr>
          <a:xfrm>
            <a:off x="3816360" y="10904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idronefro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4"/>
          <p:cNvGrpSpPr/>
          <p:nvPr/>
        </p:nvGrpSpPr>
        <p:grpSpPr>
          <a:xfrm>
            <a:off x="5878440" y="1420920"/>
            <a:ext cx="3063600" cy="3789000"/>
            <a:chOff x="5878440" y="1420920"/>
            <a:chExt cx="3063600" cy="3789000"/>
          </a:xfrm>
        </p:grpSpPr>
        <p:grpSp>
          <p:nvGrpSpPr>
            <p:cNvPr id="79" name="Group 12"/>
            <p:cNvGrpSpPr/>
            <p:nvPr/>
          </p:nvGrpSpPr>
          <p:grpSpPr>
            <a:xfrm>
              <a:off x="5878440" y="1556280"/>
              <a:ext cx="3017520" cy="3629880"/>
              <a:chOff x="5878440" y="1556280"/>
              <a:chExt cx="3017520" cy="3629880"/>
            </a:xfrm>
          </p:grpSpPr>
          <p:pic>
            <p:nvPicPr>
              <p:cNvPr id="80" name="Picture 10" descr="C:\Takashi\Cursos2005\BioEng280\Rim\urolithRx.jpg"/>
              <p:cNvPicPr/>
              <p:nvPr/>
            </p:nvPicPr>
            <p:blipFill>
              <a:blip r:embed="rId1"/>
              <a:stretch/>
            </p:blipFill>
            <p:spPr>
              <a:xfrm>
                <a:off x="5906160" y="1556280"/>
                <a:ext cx="2975760" cy="355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Rectangle 11"/>
              <p:cNvSpPr/>
              <p:nvPr/>
            </p:nvSpPr>
            <p:spPr>
              <a:xfrm>
                <a:off x="5878440" y="5009040"/>
                <a:ext cx="3017520" cy="17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13"/>
            <p:cNvSpPr/>
            <p:nvPr/>
          </p:nvSpPr>
          <p:spPr>
            <a:xfrm>
              <a:off x="8644680" y="1420920"/>
              <a:ext cx="297360" cy="37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8" descr="C:\Takashi\Cursos2005\BioEng280\Rim\Hidronefrose.gif"/>
          <p:cNvPicPr/>
          <p:nvPr/>
        </p:nvPicPr>
        <p:blipFill>
          <a:blip r:embed="rId2"/>
          <a:stretch/>
        </p:blipFill>
        <p:spPr>
          <a:xfrm>
            <a:off x="2901960" y="3795840"/>
            <a:ext cx="3530520" cy="2647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Takashi\Cursos2005\BioEng280\BioEng\hidronefrose.jpe"/>
          <p:cNvPicPr/>
          <p:nvPr/>
        </p:nvPicPr>
        <p:blipFill>
          <a:blip r:embed="rId3"/>
          <a:stretch/>
        </p:blipFill>
        <p:spPr>
          <a:xfrm>
            <a:off x="390600" y="1628640"/>
            <a:ext cx="3120840" cy="264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4121280" y="2119320"/>
            <a:ext cx="4557600" cy="3395520"/>
            <a:chOff x="4121280" y="2119320"/>
            <a:chExt cx="4557600" cy="3395520"/>
          </a:xfrm>
        </p:grpSpPr>
        <p:pic>
          <p:nvPicPr>
            <p:cNvPr id="86" name="Picture 7" descr="C:\Takashi\Cursos2005\BioEng280\Rim\USNORM1.JPG"/>
            <p:cNvPicPr/>
            <p:nvPr/>
          </p:nvPicPr>
          <p:blipFill>
            <a:blip r:embed="rId1"/>
            <a:stretch/>
          </p:blipFill>
          <p:spPr>
            <a:xfrm>
              <a:off x="4222800" y="2211480"/>
              <a:ext cx="4373640" cy="32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8"/>
            <p:cNvSpPr/>
            <p:nvPr/>
          </p:nvSpPr>
          <p:spPr>
            <a:xfrm>
              <a:off x="4121280" y="5240160"/>
              <a:ext cx="455760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4179960" y="2119320"/>
              <a:ext cx="579240" cy="32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8388360" y="2119320"/>
              <a:ext cx="262080" cy="31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11" descr="C:\Takashi\Cursos2005\BioEng280\Rim\HidroNefroseUSom.jpg"/>
          <p:cNvPicPr/>
          <p:nvPr/>
        </p:nvPicPr>
        <p:blipFill>
          <a:blip r:embed="rId2"/>
          <a:stretch/>
        </p:blipFill>
        <p:spPr>
          <a:xfrm>
            <a:off x="755640" y="2722680"/>
            <a:ext cx="3699000" cy="190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C:\Takashi\Cursos2005\BioEng280\Rim\Ferradura.jpg"/>
          <p:cNvPicPr/>
          <p:nvPr/>
        </p:nvPicPr>
        <p:blipFill>
          <a:blip r:embed="rId1"/>
          <a:stretch/>
        </p:blipFill>
        <p:spPr>
          <a:xfrm>
            <a:off x="380880" y="2343240"/>
            <a:ext cx="4427640" cy="214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Takashi\Cursos2005\BioEng280\Rim\ferradura1.jpg"/>
          <p:cNvPicPr/>
          <p:nvPr/>
        </p:nvPicPr>
        <p:blipFill>
          <a:blip r:embed="rId2"/>
          <a:stretch/>
        </p:blipFill>
        <p:spPr>
          <a:xfrm>
            <a:off x="4878360" y="1395360"/>
            <a:ext cx="3886200" cy="4937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779280" y="592776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im em Ferradu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2349360" y="1498680"/>
            <a:ext cx="4502160" cy="4942080"/>
            <a:chOff x="2349360" y="1498680"/>
            <a:chExt cx="4502160" cy="4942080"/>
          </a:xfrm>
        </p:grpSpPr>
        <p:pic>
          <p:nvPicPr>
            <p:cNvPr id="95" name="Picture 7" descr="C:\Takashi\Cursos2005\BioEng280\BioEng\rimtromboseinfarto.jpe"/>
            <p:cNvPicPr/>
            <p:nvPr/>
          </p:nvPicPr>
          <p:blipFill>
            <a:blip r:embed="rId1"/>
            <a:stretch/>
          </p:blipFill>
          <p:spPr>
            <a:xfrm>
              <a:off x="2349360" y="1498680"/>
              <a:ext cx="4502160" cy="45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3739680" y="6103440"/>
              <a:ext cx="148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Rim Infartad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Takashi\Cursos2005\BioEng280\Rim\NecrosePapilar.gif"/>
          <p:cNvPicPr/>
          <p:nvPr/>
        </p:nvPicPr>
        <p:blipFill>
          <a:blip r:embed="rId1"/>
          <a:stretch/>
        </p:blipFill>
        <p:spPr>
          <a:xfrm>
            <a:off x="2181240" y="1936800"/>
            <a:ext cx="4937040" cy="3703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3804480" y="573084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ecrose Papi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C:\Takashi\Cursos2005\BioEng280\BioEng\hemosiderose.jpe"/>
          <p:cNvPicPr/>
          <p:nvPr/>
        </p:nvPicPr>
        <p:blipFill>
          <a:blip r:embed="rId1"/>
          <a:stretch/>
        </p:blipFill>
        <p:spPr>
          <a:xfrm>
            <a:off x="1436760" y="1671480"/>
            <a:ext cx="6500880" cy="4300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857400" y="605304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emosidero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C:\Takashi\Cursos2005\BioEng280\Rim\POlicistico.gif"/>
          <p:cNvPicPr/>
          <p:nvPr/>
        </p:nvPicPr>
        <p:blipFill>
          <a:blip r:embed="rId1"/>
          <a:stretch/>
        </p:blipFill>
        <p:spPr>
          <a:xfrm>
            <a:off x="2262240" y="1854360"/>
            <a:ext cx="4937040" cy="3703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961080" y="55785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im Policísti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C:\Takashi\Cursos2005\BioEng280\Rim\Wilms.gif"/>
          <p:cNvPicPr/>
          <p:nvPr/>
        </p:nvPicPr>
        <p:blipFill>
          <a:blip r:embed="rId1"/>
          <a:stretch/>
        </p:blipFill>
        <p:spPr>
          <a:xfrm>
            <a:off x="534960" y="1989000"/>
            <a:ext cx="3921120" cy="2941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Takashi\Cursos2005\BioEng280\Rim\Wilms.jpg"/>
          <p:cNvPicPr/>
          <p:nvPr/>
        </p:nvPicPr>
        <p:blipFill>
          <a:blip r:embed="rId2"/>
          <a:stretch/>
        </p:blipFill>
        <p:spPr>
          <a:xfrm>
            <a:off x="4853160" y="1868400"/>
            <a:ext cx="3482640" cy="3407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760920" y="556560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umor de Wil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Takashi\Cursos2005\BioEng280\Rim\AbdomeKidney.jpg"/>
          <p:cNvPicPr/>
          <p:nvPr/>
        </p:nvPicPr>
        <p:blipFill>
          <a:blip r:embed="rId1"/>
          <a:stretch/>
        </p:blipFill>
        <p:spPr>
          <a:xfrm>
            <a:off x="853920" y="2039760"/>
            <a:ext cx="3981600" cy="3697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Takashi\Cursos2005\BioEng280\Rim\EXCRETOR.GIF"/>
          <p:cNvPicPr/>
          <p:nvPr/>
        </p:nvPicPr>
        <p:blipFill>
          <a:blip r:embed="rId2"/>
          <a:stretch/>
        </p:blipFill>
        <p:spPr>
          <a:xfrm>
            <a:off x="5268960" y="2276640"/>
            <a:ext cx="3268440" cy="348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:\Takashi\Cursos2005\BioEng280\Rim\Calculos.gif"/>
          <p:cNvPicPr/>
          <p:nvPr/>
        </p:nvPicPr>
        <p:blipFill>
          <a:blip r:embed="rId1"/>
          <a:stretch/>
        </p:blipFill>
        <p:spPr>
          <a:xfrm>
            <a:off x="2103480" y="1576440"/>
            <a:ext cx="4937040" cy="3703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3988800" y="52848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álcu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C:\TAKASHI\FIGURAT\shit.bmp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uito Obrigad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4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11" name="Line 15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</a:t>
              </a: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7" descr="C:\TAKASHI\FIGURAS\ASA_CO13.GIF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Takashi\Cursos2005\BioEng280\BioEng\rimnormal.jpe"/>
          <p:cNvPicPr/>
          <p:nvPr/>
        </p:nvPicPr>
        <p:blipFill>
          <a:blip r:embed="rId1"/>
          <a:stretch/>
        </p:blipFill>
        <p:spPr>
          <a:xfrm>
            <a:off x="1606680" y="1816200"/>
            <a:ext cx="6053040" cy="41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:\Takashi\Cursos2005\BioEng280\Rim\Normal.gif"/>
          <p:cNvPicPr/>
          <p:nvPr/>
        </p:nvPicPr>
        <p:blipFill>
          <a:blip r:embed="rId1"/>
          <a:stretch/>
        </p:blipFill>
        <p:spPr>
          <a:xfrm>
            <a:off x="2179800" y="1919160"/>
            <a:ext cx="4937040" cy="3703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009320" y="5613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im N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C:\Takashi\Cursos2005\BioEng280\BioEng\CAT.JPG"/>
          <p:cNvPicPr/>
          <p:nvPr/>
        </p:nvPicPr>
        <p:blipFill>
          <a:blip r:embed="rId1"/>
          <a:stretch/>
        </p:blipFill>
        <p:spPr>
          <a:xfrm>
            <a:off x="1433520" y="1365120"/>
            <a:ext cx="6192720" cy="511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o 6"/>
          <p:cNvGrpSpPr/>
          <p:nvPr/>
        </p:nvGrpSpPr>
        <p:grpSpPr>
          <a:xfrm>
            <a:off x="1949400" y="1446120"/>
            <a:ext cx="5735520" cy="4722840"/>
            <a:chOff x="1949400" y="1446120"/>
            <a:chExt cx="5735520" cy="4722840"/>
          </a:xfrm>
        </p:grpSpPr>
        <p:pic>
          <p:nvPicPr>
            <p:cNvPr id="55" name="Picture 9" descr="Normal functioning kidney before a kidney transplant or kidney disease. Click image for larger view  from www.medivisuals.com.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49400" y="1449000"/>
              <a:ext cx="5735520" cy="47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tângulo 4"/>
            <p:cNvSpPr/>
            <p:nvPr/>
          </p:nvSpPr>
          <p:spPr>
            <a:xfrm>
              <a:off x="1965960" y="1446120"/>
              <a:ext cx="5690160" cy="470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tângulo 5"/>
            <p:cNvSpPr/>
            <p:nvPr/>
          </p:nvSpPr>
          <p:spPr>
            <a:xfrm>
              <a:off x="6330600" y="5403960"/>
              <a:ext cx="9842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736560" y="2511360"/>
            <a:ext cx="756000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Os rins são responsáveis por quatro funções no organismo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 Eliminam de toxinas do sangue por um sistema de filtração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Regulam a produção dos glóbulos vermelhos (eritropoetina)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. Regulam a pressão sangüíne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4. Controlam o balanço químico e de líquidos de corpo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9"/>
          <p:cNvGrpSpPr/>
          <p:nvPr/>
        </p:nvGrpSpPr>
        <p:grpSpPr>
          <a:xfrm>
            <a:off x="493560" y="1317600"/>
            <a:ext cx="8264520" cy="5111640"/>
            <a:chOff x="493560" y="1317600"/>
            <a:chExt cx="8264520" cy="5111640"/>
          </a:xfrm>
        </p:grpSpPr>
        <p:pic>
          <p:nvPicPr>
            <p:cNvPr id="60" name="Picture 6" descr="C:\Takashi\Cursos2005\BioEng280\Rim\excretor1.gif"/>
            <p:cNvPicPr/>
            <p:nvPr/>
          </p:nvPicPr>
          <p:blipFill>
            <a:blip r:embed="rId1"/>
            <a:stretch/>
          </p:blipFill>
          <p:spPr>
            <a:xfrm>
              <a:off x="493560" y="1317600"/>
              <a:ext cx="8264520" cy="511164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  <p:sp>
          <p:nvSpPr>
            <p:cNvPr id="61" name="Rectangle 7"/>
            <p:cNvSpPr/>
            <p:nvPr/>
          </p:nvSpPr>
          <p:spPr>
            <a:xfrm>
              <a:off x="707760" y="6132240"/>
              <a:ext cx="7315200" cy="261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547560" y="1401480"/>
              <a:ext cx="8097840" cy="466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5-18T10:15:12Z</dcterms:modified>
  <cp:revision>64</cp:revision>
  <dc:subject/>
  <dc:title>No Slide Title</dc:title>
</cp:coreProperties>
</file>