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1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ASA_CO13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7579440" y="318960"/>
            <a:ext cx="12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mana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ul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ma_brain_stroke_lev20_thebraineffectsstroke_01" descr=""/>
          <p:cNvPicPr/>
          <p:nvPr/>
        </p:nvPicPr>
        <p:blipFill>
          <a:blip r:embed="rId1"/>
          <a:stretch/>
        </p:blipFill>
        <p:spPr>
          <a:xfrm>
            <a:off x="1546200" y="1243080"/>
            <a:ext cx="6116760" cy="522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Homunculo" descr=""/>
          <p:cNvPicPr/>
          <p:nvPr/>
        </p:nvPicPr>
        <p:blipFill>
          <a:blip r:embed="rId1"/>
          <a:stretch/>
        </p:blipFill>
        <p:spPr>
          <a:xfrm>
            <a:off x="2197080" y="1157400"/>
            <a:ext cx="4673520" cy="5424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198600" y="1228680"/>
            <a:ext cx="302292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Eye Opening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pontaneously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to verbal stimuli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to pain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never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Best Verbal Response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riented and converses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isoriented and converses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nappropriate words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ncomprehensible sounds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no respons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Best Motor Response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beys commands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localises pain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lexion withdrawal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ecorticate rigidity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ecerebrate rigidity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no respons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96360" y="114444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Glasgow Coma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FIG2" descr=""/>
          <p:cNvPicPr/>
          <p:nvPr/>
        </p:nvPicPr>
        <p:blipFill>
          <a:blip r:embed="rId1"/>
          <a:stretch/>
        </p:blipFill>
        <p:spPr>
          <a:xfrm>
            <a:off x="1219320" y="1254240"/>
            <a:ext cx="6862680" cy="514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61680" y="2135160"/>
            <a:ext cx="785088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Força muscular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e forma rotineira, músculos flexores e extensores dos braços, mãos, pernas e pés s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testados em poucos segundos, através de moviemtnos de “puxar” e “empurrar”  contra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ão do examinhado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Grupos musculares maiores, como os da cintura escapular, podem ser também testad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a mesma form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lterações da força muscular são geralmente descritas como 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paresias [deficit parcial]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plegias [deficit total].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stas podem ser caracterizadas como hemiplegia, parapalegia, hemiparesia alterna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4760" y="2297160"/>
            <a:ext cx="824256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Tônus e trofismo muscular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bservado através da palpação e da observaçã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Hipotonia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costuma ser observada em lesões periféricas e em quadros cerebelares e coréi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Hipertonia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é comum em quadros de lesão supraespinal e em certas doenças extra-piramidai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Miotonia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é a manutenção da espasticidade após a contratura de um músculo e pode por vez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er obtida através de percussã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97360" y="1631880"/>
            <a:ext cx="842400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Sensibilidade: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lterações da sensibilidade são geralmente descritas com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nestes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ipoeste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iperestes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iseste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Sensibilidade superficial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Tátil: Pede-se ao paciente que diga “Sim” quando estimulado na pele e que compare a sensaç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btida em diferentes partes do corp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Térmica: Pode ser testada com o uso de tubos de ensaio contendo água quente e água gelada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u com tubos de metal aquecidos ou resfriado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olorosa: Usa-se a ponta e da cabeça de um alfinete de forma aleatória é um excelente tes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obter respostas de “ponta”e “cabo”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NeuroExam26" descr=""/>
          <p:cNvPicPr/>
          <p:nvPr/>
        </p:nvPicPr>
        <p:blipFill>
          <a:blip r:embed="rId1"/>
          <a:stretch/>
        </p:blipFill>
        <p:spPr>
          <a:xfrm>
            <a:off x="639720" y="3211560"/>
            <a:ext cx="4122720" cy="3090960"/>
          </a:xfrm>
          <a:prstGeom prst="rect">
            <a:avLst/>
          </a:prstGeom>
          <a:ln w="0">
            <a:noFill/>
          </a:ln>
        </p:spPr>
      </p:pic>
      <p:pic>
        <p:nvPicPr>
          <p:cNvPr id="65" name="TATO" descr=""/>
          <p:cNvPicPr/>
          <p:nvPr/>
        </p:nvPicPr>
        <p:blipFill>
          <a:blip r:embed="rId2"/>
          <a:stretch/>
        </p:blipFill>
        <p:spPr>
          <a:xfrm>
            <a:off x="4224240" y="1598760"/>
            <a:ext cx="4000680" cy="3027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dermatomo" descr=""/>
          <p:cNvPicPr/>
          <p:nvPr/>
        </p:nvPicPr>
        <p:blipFill>
          <a:blip r:embed="rId1"/>
          <a:stretch/>
        </p:blipFill>
        <p:spPr>
          <a:xfrm>
            <a:off x="4956120" y="1211400"/>
            <a:ext cx="2629080" cy="5246640"/>
          </a:xfrm>
          <a:prstGeom prst="rect">
            <a:avLst/>
          </a:prstGeom>
          <a:ln w="0">
            <a:noFill/>
          </a:ln>
        </p:spPr>
      </p:pic>
      <p:pic>
        <p:nvPicPr>
          <p:cNvPr id="67" name="SPINE" descr=""/>
          <p:cNvPicPr/>
          <p:nvPr/>
        </p:nvPicPr>
        <p:blipFill>
          <a:blip r:embed="rId2"/>
          <a:stretch/>
        </p:blipFill>
        <p:spPr>
          <a:xfrm>
            <a:off x="1455840" y="1397160"/>
            <a:ext cx="2968560" cy="4601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0760" y="1684440"/>
            <a:ext cx="81554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Sensibilidade Profunda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Proprioceptiva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relacionada à noção da posição de partes do corpo no espaç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ode ser  testada pedindo-se ao paciente que feche os olhos e diga como estão suas pern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neste momento [cruzadas, uma ao lado da outra, etc]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ode ser avaliada com o paciente de olhos fechados e o examinador movimentando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or exemplo, o grande hálux e perguntando sua posição num determinado moment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ode se posicionar a mão do paciente (que permanece com olhos fechados) a uma cer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ltura e pedir que coloque a outra mão no mesmo nível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Vibratória [palestésica]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avaliada com o uso de um diapasão vibrando e colocado leveme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obre as articulaçõ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Pressão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testada com o uso de um objeto arredondado, como um pequeno tubo, com o qu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e aplica uma pressão em áreas da pele. Se a pressão aplicada for mais forte e causar dor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sta é do tipo “dor profunda”, e não interferirá com o resultado da avaliação da sensibili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à pressão [ambas com as mesmas vias aferentes]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hit" descr="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14600" y="2612880"/>
            <a:ext cx="4227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emiologia Neur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45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ASA_CO13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Neuro-proprioception" descr=""/>
          <p:cNvPicPr/>
          <p:nvPr/>
        </p:nvPicPr>
        <p:blipFill>
          <a:blip r:embed="rId1"/>
          <a:stretch/>
        </p:blipFill>
        <p:spPr>
          <a:xfrm>
            <a:off x="1390680" y="1719360"/>
            <a:ext cx="6402240" cy="4802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Neuro-vibration" descr=""/>
          <p:cNvPicPr/>
          <p:nvPr/>
        </p:nvPicPr>
        <p:blipFill>
          <a:blip r:embed="rId1"/>
          <a:stretch/>
        </p:blipFill>
        <p:spPr>
          <a:xfrm>
            <a:off x="2670120" y="1382760"/>
            <a:ext cx="3940200" cy="5253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24160" y="1887480"/>
            <a:ext cx="8218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Coordenação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quando houver alteração da força muscular, os testes de coordenação poder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star prejudicados. Um movimento coordenado exige ação perfeita dos músculos agonista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ntagonistas e sinergistas. Nos testes de coordenação são utilizadas manobras simples; a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ais complexos que exigem um envolvimento cortical não são provas de coordenação m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im de praxi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ovas 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index-nariz, index-index e index-nariz-index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são em geral suficientes para a avaliaç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a coordenação dos membros superiores. As provas podem ser sensibilizadas se realizad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ontra uma leve resistência ou contra um objeto em movimento lento [por exemplo, apon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o dedo do examinador]. Achados anormais nestas provas são denominados hipometria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ipermetria, dismetri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 prova equivalente nos membros inferiores é o teste de 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calcanhar-joelho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, onde o pacie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oloca a ponta do calcanhar sobre o joelho do outro membro e escorrega o calcanha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lentamente pela tíbia. Não há necessidade de se testar a coordenação nesta ordem, a pro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lcanhar-joelho poderá ter sido realizada quando o paciente esteve em decúbito dors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exame do abdôm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ndeice" descr=""/>
          <p:cNvPicPr/>
          <p:nvPr/>
        </p:nvPicPr>
        <p:blipFill>
          <a:blip r:embed="rId1"/>
          <a:stretch/>
        </p:blipFill>
        <p:spPr>
          <a:xfrm>
            <a:off x="712800" y="158904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73" name="INDEICE1" descr=""/>
          <p:cNvPicPr/>
          <p:nvPr/>
        </p:nvPicPr>
        <p:blipFill>
          <a:blip r:embed="rId2"/>
          <a:stretch/>
        </p:blipFill>
        <p:spPr>
          <a:xfrm>
            <a:off x="4208400" y="3182760"/>
            <a:ext cx="4078440" cy="305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18160" y="1538280"/>
            <a:ext cx="87714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Diadococinesia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teste específico para observação de movimentos alternados, onde a ação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úsculos agonistas e antagonistas de um movimento se alternam rapidamente. Pode ser fei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om movimentos alternados da palma e dorso da mão batendo na mesa, com abertura e fecham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as mãos e movimentos laterais da língua. Outro teste sensível consiste em pedir para o pa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que toque a ponta de cada um dos dedos em seqüência, usando o polega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Movimentos Involuntários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possivelmente já terão sido observados até esta parte do exame, e de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er anotado: a parte do corpo onde ocorrem os movimentos, sua distribuição, padrão, ritmo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uniformidade, curso, velocidade, freqüência, amplitude, força, fadiga e resposta a estímul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xternos. Deve ser questionado se tais movimentos aparecem durante o sono. Os movimen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nvoluntários mais comuns são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Tremores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simples, de repouso ou de ação, grosseiros ou fino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Fasciculações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são movimentos finos, vermiculares, rápidos que ocorrem em grupos de fib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usculares. Quando muito finos, por vezes são chamados fibrilações. Costumam estar present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no repouso, mas poder ser acentuadas por movimentos. Sugerem degeneração de células n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orno anterior da medula, mas podem ter origem tóxica também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Mioquimia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contração espontânea, rápida, de um grupamento de fibras musculares, leve o suficie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ser incapaz de movimentar a articulação. São comumente observados em condições de fadig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uscula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6040" y="1190520"/>
            <a:ext cx="821988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Mioclonia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movimento paroxístico, abrupto, curto, arrítmico, assinérgico, principalmente 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egiões distais dos membro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Coréia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movimento involuntário irregular, sem propósito e de caráter explosivo. Interrompe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armonia de movimentos normais. Pode estar limitada a um hemicorpo ou a uma par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specífica do corp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Balismo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com as mesmas características da coréia, porem de intensidade muito maior.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violência do movimento pode ser suficiente para projetar o hemicorpo e provocar a qued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u levar à exaustã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Atetose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movimentos lentos, mantidos, de grande amplitude. São involuntários, grosseiro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or vezes com ritmicidade e podem envolver qualquer parte do corp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Distonia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Similar à atetose, mas envolvem porções maiores do corpo, resultando em posiçõ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isformes por excesso de tônus em certos músculos. Os movimentos são lentos e mantid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or algum tempo, podendo desencadear do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Espasmos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contração de um grupo de músculos inervados por um mesmo nervo. Podem s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lônicos ou tônicos, esta característica é dependente da duração do espasm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Tiques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espasmo condicionado por certas situações, são contrações rápidas com sinergism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os grupos musculares envolvidos. Tendem a se agravar em situações de ansiedad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Cãimbras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espasmos dolorosos causados pela contração involuntária de um grupo muscula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inérgico, mantida por algum temp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94560" y="1709640"/>
            <a:ext cx="84013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Reflexos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são ações realizadas involuntariamente, como resultado de um impulso ou impress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transmitidos por uma via nervos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eflexos Profundos: obtidos através de um estímulo tendinoso ou periósteo, causando u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ontratura muscula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É necessário que o paciente mantenha-se relaxado e a expectativa da resposta da pesquisa 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eflexo causa por si uma inibição do mesm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m caso de dificuldade em se obter resposta ao exame de reflexos profundos, é de valia distrai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 atenção do paciente durante o exam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e forma sumária, pode-se dizer que os reflexos se encontram patologicamente exalatad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m lesões supraspinais e diminuídos em lesões periféricas, embora haja exceçõ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0200" y="5243400"/>
            <a:ext cx="8126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hvostek's Sign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Tap over facial nerve anterior to ear, and look for contraction of the fa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scles, especially shutting of ey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Trousseau's Phenomenon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Inflate a blood-pressure cuff to systolic pressure and maintain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-2 minutes. Induction of carpal-pedal spasm indicates latent tetan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30000" y="1838160"/>
            <a:ext cx="7972920" cy="39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bnormal Reflex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   </a:t>
            </a:r>
            <a:r>
              <a:rPr b="1" lang="en-US" sz="1600" spc="-1" strike="noStrike">
                <a:solidFill>
                  <a:srgbClr val="333333"/>
                </a:solidFill>
                <a:latin typeface="Trebuchet MS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Babinski Sign: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Stroke bottom of the foot -&gt; fanning (eversion) of big to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haddock's Reflex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hen the external malleolar skin area is irritated, extension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 great toe occurs in cases of organic disease of the corticospinal reflex path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Oppenheim's Sign</a:t>
            </a: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Scratch inner side of leg -&gt; extension of toes. Sign of cerebral irrita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Gordon's Sign</a:t>
            </a: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Squeeze the calf muscles and note the response of the great to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anning or extension is considered abnormal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Hoffman's Sign</a:t>
            </a: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Flexion of the terminal phalanx of the thumb and of the second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ird phalanges of one or more of the fingers when the volar surface of the termi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halanx of the fingers is flick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 </a:t>
            </a:r>
            <a:r>
              <a:rPr b="1" lang="en-US" sz="1400" spc="-1" strike="noStrike">
                <a:solidFill>
                  <a:srgbClr val="333333"/>
                </a:solidFill>
                <a:latin typeface="Trebuchet MS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significant for pyramidal tract disease when it is unilateral. If it is bilateral than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eaning is uncertai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llu_cranial_nerves" descr=""/>
          <p:cNvPicPr/>
          <p:nvPr/>
        </p:nvPicPr>
        <p:blipFill>
          <a:blip r:embed="rId1"/>
          <a:stretch/>
        </p:blipFill>
        <p:spPr>
          <a:xfrm>
            <a:off x="4595760" y="1082520"/>
            <a:ext cx="3915000" cy="5529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857840" y="1584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8080" y="2684520"/>
            <a:ext cx="3826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Nervos Cranianos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finalidades práticas, o exame d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nervos cranianos não requer aparelhage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special, exceto pelo oftalmoscópi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78160" y="2162160"/>
            <a:ext cx="7919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I- Nervo Olfatório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nervo sensitivo com funcão única de olfato, filogenteticamente a funç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ais antig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evido às conexões com terminações de nervos relacionados ao paladar,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erda do olfato pode ser interpretada como perda do paladar por alguns paciente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specialmente quando a perda do olfato é unilateral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 exame clínico do nervo olfatório deve ser realizado com substâncias de o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racterístico que não sejam irritantes (p.ex. café fresco e tabaco, óleo de limão, óleo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ne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lterações na mucosa nasal, rinites de repetição, sinusite, hipertrofia de corne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 outras doenças nasais podem levar à alteração do olfato sem que haja lesão do ner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lftório e/ou de suas conexõ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9200" y="1450800"/>
            <a:ext cx="817704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HEADACH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Times New Roman"/>
              </a:rPr>
              <a:t>   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rimary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Migraine: Often preceded by aura, and associated with weakness,   numbness, and paraesthesi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Tension Headache: Usually is frontal or occipital. Tends to be recurre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Cluster Headache: In males, occurring at night, 2-3 hours after falling asleep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mptoms are intense unilateral orbital pain (over one eye), with lacrimation, rhinorrhoea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shing. Usually lasts about 1 hou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econd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Times New Roman"/>
              </a:rPr>
              <a:t>  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Meningismus: Stiff neck. If it occurs with the "worst headache of my life," then you shoul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 suspicious of subarachnoid haemorrhag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Projectile Vomiting: Headache with projectile vomiting, occurring in morning, usual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ans increased intracranial pressur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Transient loss of Consciousness: Headache accompanied by transient los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ciousness should raise question of strok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23520" y="1042920"/>
            <a:ext cx="456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NEUROLOGICAL SYMPTO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04640" y="1558800"/>
            <a:ext cx="82350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II - Nervo Óptico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não é exatamente um nervo periférico, mas sim uma via que conecta a reti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o cérebro. A anatomia das vias ópticas é de fundamental importância para a coompreens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as lesões que envolvem o nervo óptic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xame do nervo óptico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-) acuidade visual: geralmente avaliada pelo oftalmologista, pode estar alterada por defei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e refração, por lesões do nervo óptico ou doenças do globo ocula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2-) campos visuais: se necessário, podem ser avaliados por campimetria. Porém, de for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otineira,podem ser avaliados pelo método de confrontação. O paciente fica em frente a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xaminador e manter o olhar fixo nos olhos do examinador, que faz o mesmo em relação a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ciente. Usando a aproximação de seu dedo indicador, o examinador observa se os camp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visuais do paciente são comparáveis so seu própri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3-) fundo de olho: deve ser praticada de rotina pelo estudante, para que possa se familiriaza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om o uso do oftalmoscópio e com fundos de olho normai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4-) reflexo fotomotor: a via aferente deste reflexo é o nervo óptico, a via eferente é o ner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culomotor. Os reflexos pupilares serão discutidos a segui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9680" y="1366920"/>
            <a:ext cx="85687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III- Nervo Oculomotor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junto com o nervo troclear (IV) e o nervo abducente (VI), é responsável pe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ovimentação do globo ocular dentro da cavidade orbitária. O exame da movimentação ocular 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eito visando a avaliação destes 3 pares de nervos cranianos. O nervo oculomotor é tambe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esponsável pela elevação da pálpebra superior e pela contração da pupila. Assim sendo, e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so de alteração funcional do III, nota-se um desvio lateral do globo ocular, ptose palpebral 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idrías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eflexos pupilar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-) fotomotor: contração da pupila mediante a aplicação de luz diretamente sobro o olh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2-) consensual: como resultado da semidecussassão das fibras do nervo óptico, uma respos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e contração pupilar é também observada contralatealment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3-) acomodação: convergência dos olhos para um objeto próximo, causando contração pupila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Nervo Troclear (IV): o menor dos nervos cranianos, inerva exclusivamente o músculo oblíqu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uperior. A paralisia do IV se manifesta pelo desvio do globo para cima e para for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Nervo Abducente (VI): inerva o músculo reto-lateral e sua paralisia provoca o desvio medial 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lho afetado. É um nervo longo, cuja paralisia pode ser decorrente de uma série de process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ntracranianos que cursem com aumento de pressão intracraniana ou edema intracerebr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eye-CN3Palsey1" descr=""/>
          <p:cNvPicPr/>
          <p:nvPr/>
        </p:nvPicPr>
        <p:blipFill>
          <a:blip r:embed="rId1"/>
          <a:stretch/>
        </p:blipFill>
        <p:spPr>
          <a:xfrm flipH="1">
            <a:off x="537840" y="1709640"/>
            <a:ext cx="5119560" cy="2232000"/>
          </a:xfrm>
          <a:prstGeom prst="rect">
            <a:avLst/>
          </a:prstGeom>
          <a:ln w="0">
            <a:noFill/>
          </a:ln>
        </p:spPr>
      </p:pic>
      <p:pic>
        <p:nvPicPr>
          <p:cNvPr id="86" name="eyes-cn6-palsy3" descr=""/>
          <p:cNvPicPr/>
          <p:nvPr/>
        </p:nvPicPr>
        <p:blipFill>
          <a:blip r:embed="rId2"/>
          <a:stretch/>
        </p:blipFill>
        <p:spPr>
          <a:xfrm>
            <a:off x="3846600" y="4307040"/>
            <a:ext cx="4610160" cy="2212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culomotor" descr=""/>
          <p:cNvPicPr/>
          <p:nvPr/>
        </p:nvPicPr>
        <p:blipFill>
          <a:blip r:embed="rId1"/>
          <a:stretch/>
        </p:blipFill>
        <p:spPr>
          <a:xfrm>
            <a:off x="1450800" y="1619280"/>
            <a:ext cx="6332760" cy="4749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42720" y="1960560"/>
            <a:ext cx="84970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Nervo Trigêmio (V)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tem uma porção motora e uma porção sensitiv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 porção motora inerva músculos mastigatórios e desvio da mandíbula para o lado lesad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trofia da musculatura da face e flacidez do pálato também podem ser observados na les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otora do V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 sensibilidade da face deve ser testada conforme descrito na parte Sensibilidade deste capítulo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om o cuidado de se avaliar as sensações nas regiões providas pelos três ramos sensitivos 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V isoladament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 reflexo corneal [fechamento das pálpebras devido a um leve estímulo da córnea] pode 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acilemtne testado com um fino fio de algodã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eye-corneal-reflex" descr=""/>
          <p:cNvPicPr/>
          <p:nvPr/>
        </p:nvPicPr>
        <p:blipFill>
          <a:blip r:embed="rId1"/>
          <a:stretch/>
        </p:blipFill>
        <p:spPr>
          <a:xfrm>
            <a:off x="1192320" y="1389240"/>
            <a:ext cx="6646680" cy="498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09880" y="1886040"/>
            <a:ext cx="86436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Nervo Facial (VII)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predominantemente um nervo motor, cuja função pode ser avaliada rapidame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edindo ao paciente que, em sequência, enrugue a testa, feche os olhos e sorri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 paralisia facial periférica, que pode ocorrer a vários níveis após a emergência da ponte, curs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om deficit de todas as funções motoras, em maior ou menor grau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 paralisia facial de origem central ou supranuclear cursa com desvio da rima bucal - outr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normalidades do movimento da face não são comuns e, se encontradas, são muito discret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odem ser também encontradas anomalias na função secretória salivar em decorrência d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lisia facial, uma vez que as glândulas salivares são inervadas pelo VI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nvolvimento sensitivo na lesão do nervo facial é rar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head-cn7palsey3" descr=""/>
          <p:cNvPicPr/>
          <p:nvPr/>
        </p:nvPicPr>
        <p:blipFill>
          <a:blip r:embed="rId1"/>
          <a:stretch/>
        </p:blipFill>
        <p:spPr>
          <a:xfrm>
            <a:off x="1333440" y="1176480"/>
            <a:ext cx="3392640" cy="2544480"/>
          </a:xfrm>
          <a:prstGeom prst="rect">
            <a:avLst/>
          </a:prstGeom>
          <a:ln w="0">
            <a:noFill/>
          </a:ln>
        </p:spPr>
      </p:pic>
      <p:pic>
        <p:nvPicPr>
          <p:cNvPr id="92" name="head-cn7palsey4" descr=""/>
          <p:cNvPicPr/>
          <p:nvPr/>
        </p:nvPicPr>
        <p:blipFill>
          <a:blip r:embed="rId2"/>
          <a:stretch/>
        </p:blipFill>
        <p:spPr>
          <a:xfrm>
            <a:off x="4584600" y="206388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93" name="head-cn7palsey5" descr=""/>
          <p:cNvPicPr/>
          <p:nvPr/>
        </p:nvPicPr>
        <p:blipFill>
          <a:blip r:embed="rId3"/>
          <a:stretch/>
        </p:blipFill>
        <p:spPr>
          <a:xfrm>
            <a:off x="1987560" y="4121280"/>
            <a:ext cx="3281400" cy="2460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2040" y="2103480"/>
            <a:ext cx="84178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Nervo Vestíbulo-Coclear (VIII)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relacionada a audição e equilíbri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oclear: A função auditiva, quando alterada, deverá ser testada através de aparelhagem própria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elo otorrinolaringologista. Testes simples de transmissão vibratória óssea e condução aére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odem ser efetuados facilmente com um diapasã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Vestibular: A porção vestibular do VIII está relacionada ao equilíbrio e pode ser avaliada atravé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as provas de equilíbrio e marcha. Estas se encontram desviadas para o lado hipoat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incipalmente, e por vezes exclusivamente, durante o fechamento dos olhos. A presença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nistagmo também pode sugerir lesão de vias vestibular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head-rinne1" descr=""/>
          <p:cNvPicPr/>
          <p:nvPr/>
        </p:nvPicPr>
        <p:blipFill>
          <a:blip r:embed="rId1"/>
          <a:stretch/>
        </p:blipFill>
        <p:spPr>
          <a:xfrm>
            <a:off x="363600" y="1238400"/>
            <a:ext cx="4278240" cy="3208320"/>
          </a:xfrm>
          <a:prstGeom prst="rect">
            <a:avLst/>
          </a:prstGeom>
          <a:ln w="0">
            <a:noFill/>
          </a:ln>
        </p:spPr>
      </p:pic>
      <p:pic>
        <p:nvPicPr>
          <p:cNvPr id="96" name="head-rinne2" descr=""/>
          <p:cNvPicPr/>
          <p:nvPr/>
        </p:nvPicPr>
        <p:blipFill>
          <a:blip r:embed="rId2"/>
          <a:stretch/>
        </p:blipFill>
        <p:spPr>
          <a:xfrm>
            <a:off x="4064040" y="2987640"/>
            <a:ext cx="4552920" cy="3414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95000" y="1587600"/>
            <a:ext cx="78570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EIZUR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Times New Roman"/>
              </a:rPr>
              <a:t>       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ypes of Seizur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Times New Roman"/>
              </a:rPr>
              <a:t>     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Complex Partial Seizures: Patients commonly have feelings of fear or déja vu associa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 complex partial seizur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Grand Mal Seizures: Tonic-clonic, often with loss of autonomic control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Petit Mal Seizures: Lasting for a short period of time -- only a few secon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uses of Seizur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Times New Roman"/>
              </a:rPr>
              <a:t>   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Adolescents (12-20): Idiopathic (Epilepsy), Trauma, Drug and alcohol withdraw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Young Adults (20-35): Trauma, alcoholism, brain tum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Older adults (35+): brain tumour, CVA, metabolic disorders, electrolyte imbalanc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hyponatraemia, hypoglycaemia, uraemia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head-webber" descr=""/>
          <p:cNvPicPr/>
          <p:nvPr/>
        </p:nvPicPr>
        <p:blipFill>
          <a:blip r:embed="rId1"/>
          <a:stretch/>
        </p:blipFill>
        <p:spPr>
          <a:xfrm>
            <a:off x="1611360" y="1519200"/>
            <a:ext cx="6126120" cy="4594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6320" y="2379600"/>
            <a:ext cx="8216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Nervos Glossofaríngeo (IX) e Vago (X)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geralmente avaliados juntos, são responsáveis pel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ovimentos harmônicos de deglutição e fala. Reflexos relacionados a estes nervos cranian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odem ser avaliados facilmente [reflexo do vômito, da deglutição, da tosse]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head-cn9palsey" descr=""/>
          <p:cNvPicPr/>
          <p:nvPr/>
        </p:nvPicPr>
        <p:blipFill>
          <a:blip r:embed="rId1"/>
          <a:stretch/>
        </p:blipFill>
        <p:spPr>
          <a:xfrm>
            <a:off x="1320840" y="1803240"/>
            <a:ext cx="6386400" cy="4789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93920" y="2365200"/>
            <a:ext cx="8099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Nervo Acessório (XI)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possui uma porção craniana e uma porção espinal. É responsável pe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nervação do músculo esternocleidomatoideo e promove a rotação contralateral da cabeç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ode ser testado através do movimento de empurrar a mão do examinador com a cabeç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nerva também o múculo trapézio, e pode ser testado pela movimentação superior do ombr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ontra a mão do examinado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62680" y="2568600"/>
            <a:ext cx="778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Nervo Hipoglosso (XII)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nervo motor da língua, protui a hemilíngua ipsilateral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ua lesão causa paralisia ou paresia da hemilíngua, e quando crônica evolui com atrofi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Head-CN12Palsy" descr=""/>
          <p:cNvPicPr/>
          <p:nvPr/>
        </p:nvPicPr>
        <p:blipFill>
          <a:blip r:embed="rId1"/>
          <a:stretch/>
        </p:blipFill>
        <p:spPr>
          <a:xfrm>
            <a:off x="1393920" y="1670040"/>
            <a:ext cx="6370560" cy="4776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8480" y="1204920"/>
            <a:ext cx="865116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Mar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Marcha espástica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devido à lesão do tracto cortico-espinal, os reflexos profundos encontram-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xaltados. O paciente não pode dobrar o joelho ou elicitará um exagerado reflexo patelar, poden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ovocar a queda. Portanto, o paciente anda com a perna esticada, em atitude escarvant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Marcha festinante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típica da doença de Parkison, é uma marcha em pequenos passos, c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lteração do centro de gravidade, com dificuldade para iniciar a marcha e também para para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Marcha cerebelar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devido à alteração de equilíbrio, o paciente anda com a base alargada 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reqüentemente se observa também um tremor dos membros inferior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Marcha tabética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devido à lesão dos funículos posteriores da medula e a conseqüente perd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a sensibilidade profunda, o paciente tem dificuldade em sentir que o pé está no chã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ssim, ele “bate” o pé firmemente ao andar, para que através da audição, possa saber qu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já pode movimentar o outro pé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Marcha com pé caído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devido à dificuldade em fletir o pé pela lesão dos nervos periférico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 paciente eleva exageradamente a perna, o pé fica caído [pé em gota] e é jogado para a frent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Marcha histérica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freqüentemente bizarra,não se enquadra em nenhuma das marchas conhecid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u é uma mistura de várias delas. Geralmente é florida por movimentos supérfluos, irregulares, 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tendem a desaparecer se o paciente anda para trá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MARCHA1" descr=""/>
          <p:cNvPicPr/>
          <p:nvPr/>
        </p:nvPicPr>
        <p:blipFill>
          <a:blip r:embed="rId1"/>
          <a:stretch/>
        </p:blipFill>
        <p:spPr>
          <a:xfrm>
            <a:off x="3422520" y="1173240"/>
            <a:ext cx="2600280" cy="544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76920" y="1639800"/>
            <a:ext cx="827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Equilíbrio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apenas alterações muito grosseiras do equilíbrio poderão ser observadas com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ciente sentado/deitado. Deve se solicitar ao paciente que fique em pé, com os pés ju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 os braços ao longo do corpo. É de bom senso que o médico mantenha as mãos ao l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o corpo do paciente [para evitar a queda, se realmente houver alteração de equilíbrio]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ede-se ao paciente que feche os olhos e permaneça assim por cerca de 20 segun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sensibilização da prova, o paciente poderá ficar com um pé um pouco à frente do ou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 repete-se a manobr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 impossibilidade de se manter o equilíbrio com olhos abertos e/ou fechados, a queda semp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o mesmo lado e a rotação da cabeça durante a manutenção do equilíbrio, sugerem lesõ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m vias relacionadas à propriocepção, vias vestibulares, vias cerebelares e suas conexões 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núcleos no tronco cerebral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9520" y="5154480"/>
            <a:ext cx="77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Romberg's Test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Patient can't maintain balance with legs tight together, with eyes closed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FIG25" descr=""/>
          <p:cNvPicPr/>
          <p:nvPr/>
        </p:nvPicPr>
        <p:blipFill>
          <a:blip r:embed="rId1"/>
          <a:stretch/>
        </p:blipFill>
        <p:spPr>
          <a:xfrm>
            <a:off x="2940120" y="1344600"/>
            <a:ext cx="3071880" cy="5162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3120" y="1577880"/>
            <a:ext cx="879912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HANGES in VISIO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Homonymous hemianopia occurs with certain strok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Bitemporal hemianopia occurs with pituitary tum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Amaurosis Fugax: Transient, painless loss of vision in one eye, due to ischaemic changes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ina. Usually due to carotid artery stenosis or some form of retinal artery occlus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Courier New"/>
              </a:rPr>
              <a:t>o</a:t>
            </a: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Times New Roman"/>
              </a:rPr>
              <a:t>      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HANGES in HEARIN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Tinnitu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Deaf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HANGES in SPEECH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Times New Roman"/>
              </a:rPr>
              <a:t>      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Dysphonia: Difficulty speaking due to impaired phonation abil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Dysarthria: Difficulty in articulating words. Can occur with weakness of tongue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opharynx in stroke, Parkinson’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Aphasia: Inability to produce (motor aphasia) or understand (receptive aphasia) meaningful speech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SisteAutonomo1" descr=""/>
          <p:cNvPicPr/>
          <p:nvPr/>
        </p:nvPicPr>
        <p:blipFill>
          <a:blip r:embed="rId1"/>
          <a:stretch/>
        </p:blipFill>
        <p:spPr>
          <a:xfrm>
            <a:off x="2104920" y="1409760"/>
            <a:ext cx="5072040" cy="5241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shit" descr="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174840" y="350676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uito Obrig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112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0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ASA_CO13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59440" y="1289160"/>
            <a:ext cx="7962120" cy="50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ARALYSIS or WEAKNES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Times New Roman"/>
              </a:rPr>
              <a:t>       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alysis complete loss of fun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sis is intermittent or incomplete weaknes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uses of Paresi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Times New Roman"/>
              </a:rPr>
              <a:t>      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ient ischaemic attacks (TIAs): Recurrent Transient weaknesses in an upper extremity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ompanied by numbness and paraesthesi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asthenia Gravis (fatigable weakness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pokalaemia can result in periodic paralysi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ipheral neuropathi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ymyositis or dermatomyositi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NUMBNESS and PARAESTHESIA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Times New Roman"/>
              </a:rPr>
              <a:t>     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y be hemisensory loss in stroke or sensory inatten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ypocalcaemia, hypomagnesaem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yperventilation syndrom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aneoplastic syndrom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cations: isoniazid, metronidazol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tamin B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eficienc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38440" y="1878120"/>
            <a:ext cx="426708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Exame Neurológic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33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33"/>
                </a:solidFill>
                <a:latin typeface="Arial"/>
                <a:ea typeface="Times New Roman"/>
              </a:rPr>
              <a:t>Consciê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33"/>
                </a:solidFill>
                <a:latin typeface="Arial"/>
                <a:ea typeface="Times New Roman"/>
              </a:rPr>
              <a:t>Funções Superi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33"/>
                </a:solidFill>
                <a:latin typeface="Arial"/>
                <a:ea typeface="Times New Roman"/>
              </a:rPr>
              <a:t>Enervação Mot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33"/>
                </a:solidFill>
                <a:latin typeface="Arial"/>
                <a:ea typeface="Times New Roman"/>
              </a:rPr>
              <a:t>Enervação Sens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33"/>
                </a:solidFill>
                <a:latin typeface="Arial"/>
                <a:ea typeface="Times New Roman"/>
              </a:rPr>
              <a:t>Nervos Cranian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33"/>
                </a:solidFill>
                <a:latin typeface="Arial"/>
                <a:ea typeface="Times New Roman"/>
              </a:rPr>
              <a:t>Coorden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Times New Roman"/>
              </a:rPr>
              <a:t>March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87080" y="1312920"/>
            <a:ext cx="598716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ROTEIRO PARA O EXAME NEUROLÓG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Consciênci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nível: alerta/acordado, sonolento/letárgico, estuporoso, comatos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estado: orientação (de si, do tempo e do espaç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Funções Corticais Superior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Gnosia, praxia, linguagem e psiqu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Moto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trofism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tônus (hipotonia, hipertonia, rígido, espástico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coordenação (índex-naso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força muscular (paresia, plegi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fasciculações, movimentos anormais (tremor, mioclonia, tiques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Sensorial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tátil, vibratória, dolorosa, profund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Reflex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tendinosos: bicipital, tricipital, patelar, aquile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cutâneo-planta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sinais de frontalização, Grasping, palmomentoniano, orbicula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09960" y="1335240"/>
            <a:ext cx="65113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Nervos Craniano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 – Olfató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I- Óp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II, IV e VI – Oculomotor, troclear e abduc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V – Trigêm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VII – Fa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VIII- Vestíbulo-cocl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X e X – Glossofaríngeo e v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XI – Acessó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XII – Hipoglo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Cerebela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index-naso (dismetria, decomposição do movimento, tremor intencion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calcâneo-joelh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disdiadococines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ataxia de marcha e do tron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Marcha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marchas atípicas: parkinsoniana, espástica, atáxica,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Takashi Yoneyama</cp:lastModifiedBy>
  <dcterms:modified xsi:type="dcterms:W3CDTF">2010-05-25T16:10:14Z</dcterms:modified>
  <cp:revision>84</cp:revision>
  <dc:subject/>
  <dc:title>No Slide Title</dc:title>
</cp:coreProperties>
</file>