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4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8C1-F604-41E6-BDD9-22C8C71B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CCD-E5B5-4214-9CBF-49E366F7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A0D1-0656-401C-864D-E2E7A95B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2D7-5AF7-4384-903F-E4DE9D46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D4F6-7D63-4CAD-A07C-03498E76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841-594F-4232-BF7E-01865454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8067-3F44-4C3F-8B29-6D707A56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C1F-4314-485C-AB9E-389B5397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2560"/>
            <a:ext cx="7772400" cy="42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A80-A055-4600-BF47-4ED127A6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C41-BBAA-4961-A64A-DAA8FEDD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A9DE-2BA8-47F1-9110-0BFA6F1E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2D1-7C01-4933-9E69-1DEEEEFD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008F-029E-4552-B91C-2D55E778E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80880" y="318960"/>
            <a:ext cx="124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D6F-1D95-41A3-99A4-48BEF8FB07E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Eletrodos com eletrônica loca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11280" y="1622520"/>
            <a:ext cx="4292640" cy="43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766-0BE0-41A1-8DD7-A5BDC45D2F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5400" y="52560"/>
            <a:ext cx="8715240" cy="9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adrão 10-20 (Federação Internacional de Sociedades para Eletroencefalografia e Neurofisiologia Clínica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0" b="26824"/>
          <a:stretch/>
        </p:blipFill>
        <p:spPr>
          <a:xfrm>
            <a:off x="243000" y="1085760"/>
            <a:ext cx="5667120" cy="5729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24709" t="69162" r="23445" b="0"/>
          <a:stretch/>
        </p:blipFill>
        <p:spPr>
          <a:xfrm>
            <a:off x="5952960" y="2457360"/>
            <a:ext cx="2938680" cy="241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900760" y="2286000"/>
            <a:ext cx="10573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E72-C934-41AE-B1DC-582A6481F3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Padrão 10-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308240" y="1467000"/>
            <a:ext cx="6564240" cy="42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755-7175-4A4C-9F32-213AFB7C4B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Padrão 10-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05080" y="1419120"/>
            <a:ext cx="4543560" cy="469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0AF-9525-49D7-B0DE-E5D1F2AA10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Detalhes da aquisiçã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9960" y="2080800"/>
            <a:ext cx="632916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Filtragem passa-baixas (corte em 75Hz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Registro em papel: 100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V/cm e 30mm/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Duração de 10 a 20 m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quisição simultânea em 8 a 16 cana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A4C-EA64-47DC-84EC-82A5C24987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68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Ritm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013-8CE9-439E-A89E-6961EF5E2E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Ritm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>
            <a:lum contrast="94000"/>
          </a:blip>
          <a:srcRect l="5409" t="0" r="0" b="0"/>
          <a:stretch/>
        </p:blipFill>
        <p:spPr>
          <a:xfrm>
            <a:off x="2287440" y="1677960"/>
            <a:ext cx="5994720" cy="401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0360" y="147312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0,5 - 4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9760" y="232560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4 - 8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7000" y="3206880"/>
            <a:ext cx="153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8 - 13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960" y="40165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&gt; 13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4788000"/>
            <a:ext cx="136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oque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 Al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00400" y="5645160"/>
            <a:ext cx="728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4000" y="5738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A3B-F23B-4ACE-8B45-EFF39876EB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Observaçõ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2680" y="1473120"/>
            <a:ext cx="77151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ritmo alfa é o principal ritmo do cérebro em repouso, sendo comum em indivíduos despertos, especialmente na área occipital com sincronismo bilateral. Tarefas auditivas e cálculos aritméticos mentais com os olhos fechados levam ao surgimento de ondas alfa pronunciadas, que são suprimidas com a abertura dos olhos. O ritmo alfa é substituído por ritmos mais lentos durante o s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073-8487-4E2F-BEE1-EDAD771499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Análise tempo-freqüênci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154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Em vermelho: Episódios de ritmo alfa (olhos fechado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4658" t="7842" r="7596" b="6479"/>
          <a:stretch/>
        </p:blipFill>
        <p:spPr>
          <a:xfrm>
            <a:off x="1847880" y="2376360"/>
            <a:ext cx="5118120" cy="359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D25-64BB-4873-8439-2BAED157D2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Observaçõ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1434960"/>
            <a:ext cx="7715160" cy="47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ndas beta de alta freqüência aparecem como atividade de fundo em indivíduos tensos e ansio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presença de ondas lentas (delta ou teta) em adultos despertos é geralmente anormal, podendo ser causada localmente por danos cerebrais e tum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simetrias esquerda-direita de um ritmo podem indicar anormalidades na condução dentro do córt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98D-C7C4-40FD-9352-F150C5F42E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629440" y="3225960"/>
            <a:ext cx="40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letroencefal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7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DCE-75E6-4078-817D-005F966591C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8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Eventos divers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245-6AD9-4A96-B8B7-78743CA69A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omplexo 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7080" y="3735360"/>
            <a:ext cx="77724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Caracterizado por ondas lentas, por vezes associadas com componentes aguçadas, seguidas de ondas de 14Hz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Pode ocorrer espontaneamente ou em resposta a estímulos repentinos durante o sono, com amplitude de cerca de 200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V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lum contrast="100000"/>
          </a:blip>
          <a:srcRect l="19866" t="2664" r="6240" b="87786"/>
          <a:stretch/>
        </p:blipFill>
        <p:spPr>
          <a:xfrm>
            <a:off x="1111320" y="1360440"/>
            <a:ext cx="7170840" cy="154008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3657600" y="3144960"/>
            <a:ext cx="1914480" cy="556920"/>
            <a:chOff x="3657600" y="3144960"/>
            <a:chExt cx="1914480" cy="556920"/>
          </a:xfrm>
        </p:grpSpPr>
        <p:sp>
          <p:nvSpPr>
            <p:cNvPr id="103" name=""/>
            <p:cNvSpPr/>
            <p:nvPr/>
          </p:nvSpPr>
          <p:spPr>
            <a:xfrm>
              <a:off x="3657600" y="3144960"/>
              <a:ext cx="191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67160" y="318132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50360" y="1865160"/>
            <a:ext cx="56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DF6-51BA-46C3-BD21-7890450957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Ondas Lamb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00200" y="3538080"/>
            <a:ext cx="777240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Ondas monofásicas e aguçadas que ocorrem na posição occipital com amplitude inferior a 50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V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Relacionadas a movimentos dos olhos e exploração visu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contrast="100000"/>
          </a:blip>
          <a:srcRect l="17382" t="14442" r="6240" b="80639"/>
          <a:stretch/>
        </p:blipFill>
        <p:spPr>
          <a:xfrm>
            <a:off x="1225440" y="1701720"/>
            <a:ext cx="7392960" cy="79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91480" y="179388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657600" y="2801880"/>
            <a:ext cx="1914480" cy="556920"/>
            <a:chOff x="3657600" y="2801880"/>
            <a:chExt cx="1914480" cy="556920"/>
          </a:xfrm>
        </p:grpSpPr>
        <p:sp>
          <p:nvSpPr>
            <p:cNvPr id="111" name=""/>
            <p:cNvSpPr/>
            <p:nvPr/>
          </p:nvSpPr>
          <p:spPr>
            <a:xfrm>
              <a:off x="3657600" y="2801880"/>
              <a:ext cx="191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67160" y="283824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D69-04C7-4382-882E-6ACD61B955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Ritmo Mu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3295440"/>
            <a:ext cx="777240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Grupo de ondas na faixa de 7 – 11 Hz com formato de pente e amplitude usualmente inferior a 50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V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Bloqueado ou atenuado por estímulos tácteis, movimentos contra-laterais e pensamento ou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intenção de movimen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88000"/>
          </a:blip>
          <a:srcRect l="18117" t="22146" r="6240" b="72680"/>
          <a:stretch/>
        </p:blipFill>
        <p:spPr>
          <a:xfrm>
            <a:off x="1168560" y="1476360"/>
            <a:ext cx="7327800" cy="835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3320" y="166536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57600" y="2544840"/>
            <a:ext cx="1914480" cy="556920"/>
            <a:chOff x="3657600" y="2544840"/>
            <a:chExt cx="1914480" cy="556920"/>
          </a:xfrm>
        </p:grpSpPr>
        <p:sp>
          <p:nvSpPr>
            <p:cNvPr id="118" name=""/>
            <p:cNvSpPr/>
            <p:nvPr/>
          </p:nvSpPr>
          <p:spPr>
            <a:xfrm>
              <a:off x="3657600" y="2544840"/>
              <a:ext cx="191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67160" y="258120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72D-7ECA-4CE8-9484-E151F2F8FE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Spike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2960" y="3767040"/>
            <a:ext cx="80438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Transitório com pico agudo e duração de 20 a 30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16635" t="30132" r="6240" b="63284"/>
          <a:stretch/>
        </p:blipFill>
        <p:spPr>
          <a:xfrm>
            <a:off x="1096920" y="1589040"/>
            <a:ext cx="7470720" cy="1058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4600" y="187956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657600" y="2830680"/>
            <a:ext cx="1914480" cy="556920"/>
            <a:chOff x="3657600" y="2830680"/>
            <a:chExt cx="1914480" cy="556920"/>
          </a:xfrm>
        </p:grpSpPr>
        <p:sp>
          <p:nvSpPr>
            <p:cNvPr id="125" name=""/>
            <p:cNvSpPr/>
            <p:nvPr/>
          </p:nvSpPr>
          <p:spPr>
            <a:xfrm>
              <a:off x="3657600" y="2830680"/>
              <a:ext cx="191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67160" y="286704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DA9-B3EE-4DC9-B46F-BC1197A07B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Onda aguça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5360" y="3752640"/>
            <a:ext cx="8472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Transitório com pico agudo e duração de 70 a 200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>
            <a:lum contrast="90000"/>
          </a:blip>
          <a:srcRect l="16212" t="39662" r="6240" b="54157"/>
          <a:stretch/>
        </p:blipFill>
        <p:spPr>
          <a:xfrm>
            <a:off x="1154160" y="1574640"/>
            <a:ext cx="7489800" cy="992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4600" y="197964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657600" y="2830680"/>
            <a:ext cx="1914480" cy="556920"/>
            <a:chOff x="3657600" y="2830680"/>
            <a:chExt cx="1914480" cy="556920"/>
          </a:xfrm>
        </p:grpSpPr>
        <p:sp>
          <p:nvSpPr>
            <p:cNvPr id="132" name=""/>
            <p:cNvSpPr/>
            <p:nvPr/>
          </p:nvSpPr>
          <p:spPr>
            <a:xfrm>
              <a:off x="3657600" y="2830680"/>
              <a:ext cx="191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67160" y="286704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B95-AADC-4387-B3C0-9213FBD85B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Ritmo “Spike-and-Wave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924280"/>
            <a:ext cx="7772400" cy="18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Seqüência de “spikes” de até 1000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V seguidos por ondas lentas na faixa de 2,5 – 3,5 Hz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No ritmo “Polyspike-and-wave”, cada complexo pode conter vários “spikes”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>
            <a:lum contrast="90000"/>
          </a:blip>
          <a:srcRect l="21192" t="49527" r="6240" b="43554"/>
          <a:stretch/>
        </p:blipFill>
        <p:spPr>
          <a:xfrm>
            <a:off x="1306440" y="1197000"/>
            <a:ext cx="7042320" cy="111456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629160" y="2401920"/>
            <a:ext cx="1914480" cy="556920"/>
            <a:chOff x="3629160" y="2401920"/>
            <a:chExt cx="1914480" cy="556920"/>
          </a:xfrm>
        </p:grpSpPr>
        <p:sp>
          <p:nvSpPr>
            <p:cNvPr id="138" name=""/>
            <p:cNvSpPr/>
            <p:nvPr/>
          </p:nvSpPr>
          <p:spPr>
            <a:xfrm>
              <a:off x="3629160" y="2401920"/>
              <a:ext cx="191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38720" y="243828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2280" y="147960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p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>
            <a:lum contrast="90000"/>
          </a:blip>
          <a:srcRect l="17816" t="77337" r="6240" b="8885"/>
          <a:stretch/>
        </p:blipFill>
        <p:spPr>
          <a:xfrm>
            <a:off x="1285920" y="4599000"/>
            <a:ext cx="7356600" cy="2216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58080" y="538956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FBB-A104-4CCF-99CD-77A7568B5E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Fuso de Son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609720"/>
            <a:ext cx="77724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Ondas com aprox. 14 Hz de freqüência e 50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V de amplitu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Ocorrem de forma mais pronunciada nas regiões fronto-centrais durante certos estágios de son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>
            <a:lum contrast="90000"/>
          </a:blip>
          <a:srcRect l="17961" t="59056" r="6240" b="35608"/>
          <a:stretch/>
        </p:blipFill>
        <p:spPr>
          <a:xfrm>
            <a:off x="1206360" y="1598760"/>
            <a:ext cx="7350120" cy="857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1640" y="1636560"/>
            <a:ext cx="56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543480" y="2759040"/>
            <a:ext cx="1914480" cy="556920"/>
            <a:chOff x="3543480" y="2759040"/>
            <a:chExt cx="1914480" cy="556920"/>
          </a:xfrm>
        </p:grpSpPr>
        <p:sp>
          <p:nvSpPr>
            <p:cNvPr id="148" name=""/>
            <p:cNvSpPr/>
            <p:nvPr/>
          </p:nvSpPr>
          <p:spPr>
            <a:xfrm>
              <a:off x="3543480" y="2759040"/>
              <a:ext cx="191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53040" y="279540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DE8-A27B-4258-B8D0-CD68AA3B1A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Ondas de Vértice (Ondas V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367080"/>
            <a:ext cx="77724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Onda aguçada com pico de aprox. 300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V seguido por uma descida a valores negativos de poten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Ocorre espontaneamente durante o sono ou em resposta a estímulos sensoriais durante o sono ou vigíl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90000"/>
          </a:blip>
          <a:srcRect l="16791" t="67042" r="6240" b="26441"/>
          <a:stretch/>
        </p:blipFill>
        <p:spPr>
          <a:xfrm>
            <a:off x="1120680" y="1397160"/>
            <a:ext cx="7446960" cy="104904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543480" y="2673360"/>
            <a:ext cx="1914480" cy="556920"/>
            <a:chOff x="3543480" y="2673360"/>
            <a:chExt cx="1914480" cy="556920"/>
          </a:xfrm>
        </p:grpSpPr>
        <p:sp>
          <p:nvSpPr>
            <p:cNvPr id="154" name=""/>
            <p:cNvSpPr/>
            <p:nvPr/>
          </p:nvSpPr>
          <p:spPr>
            <a:xfrm>
              <a:off x="3543480" y="2673360"/>
              <a:ext cx="191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53040" y="270972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21640" y="1636560"/>
            <a:ext cx="56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025-36C2-4A34-A007-EB8A2AF369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Descrição de um registro de EE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38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Ritmo mais persistente (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, por exempl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Presença de outros ritmos, tais como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Eventos de duração relativamente longa, tais como episódios de atividade “spike-and-wave”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Eventos de duração curta, tais como “spikes” ou ondas aguçadas isolad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tividade que resta após a descrição dos elementos acima (“background activity”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rtefat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DEE-8361-4F29-A75C-7CC04852F0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Referência Sugeri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640" y="2295360"/>
            <a:ext cx="741528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RANGAYYAN, R. 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Biomedical Signal Analysis – A Case-Study Approa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Piscataway, NJ: IEEE Press, 200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58C-8D16-47C7-A6EE-54C262952D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Descrição de um registro de EE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1380600"/>
            <a:ext cx="80578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Os elementos anteriormente elencados são descrito em ordem cronológica em termos de amplitude, freqüência, forma de onda, localização ou distribuição espacial, simetria espacial esquerda-direita e resposta a estímulos, tais como abertura e fechamento dos olh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O registro começa com o EEG de repouso, sendo seguido pela aquisição de potenciais evocados empregando técnicas de estímul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lterações comportamentais, tais como episódios de sonolência ou sono, devem também ser registrad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B07-C340-4D64-9269-9AB7EE990B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EEG Norma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47560" y="1428840"/>
            <a:ext cx="8124840" cy="44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B34-F8CD-4D4E-891F-EFCBA3FE6D1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Epilepsi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2560" y="1228680"/>
            <a:ext cx="7642440" cy="510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1514-FECE-4422-B4AA-CC4F93D261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213840"/>
            <a:ext cx="8643960" cy="9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G of a 53-year-old man with one day history of acute confusion and slowness of motor responses, showing almost continuous generalized spike wave activity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6960" r="0" b="4014"/>
          <a:stretch/>
        </p:blipFill>
        <p:spPr>
          <a:xfrm>
            <a:off x="357120" y="1592280"/>
            <a:ext cx="8572680" cy="475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C1C-4940-4B37-87B6-280BC34AF7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23840"/>
            <a:ext cx="8615520" cy="150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G of the same patient following 4 mg of intravenous lorazepam, showing disappearance of all paroxysmal activity and mental clearing, highly suggestive of nonconvulsive status epilepticu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4040" r="0" b="6459"/>
          <a:stretch/>
        </p:blipFill>
        <p:spPr>
          <a:xfrm>
            <a:off x="843120" y="1763640"/>
            <a:ext cx="7443720" cy="49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D4E-28E5-4007-B880-BA9F9AA8131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Petit Mal (paciente de 8 no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11249"/>
          <a:stretch/>
        </p:blipFill>
        <p:spPr>
          <a:xfrm>
            <a:off x="446040" y="1146240"/>
            <a:ext cx="8301240" cy="51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CD2F-EB37-4072-A75C-7E4AF01C2B2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68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563-B087-4EB7-9BC6-DDF0E2DB462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872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Média de horas de sono por noi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115"/>
          <a:stretch/>
        </p:blipFill>
        <p:spPr>
          <a:xfrm>
            <a:off x="376200" y="1465200"/>
            <a:ext cx="8353440" cy="457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C6A-3105-4731-85A3-AFD11FD02E2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Estágios de Son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8640" y="125244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Os estágios de sono seguem um padrão cíclico que se repete a cada 90 minutos, aproximadamen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Com o avançar da noite, a pessoa passa progressivamente menos tempo no sono profundo e mais tempo no sono R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0" b="24300"/>
          <a:stretch/>
        </p:blipFill>
        <p:spPr>
          <a:xfrm>
            <a:off x="2417760" y="3454560"/>
            <a:ext cx="4054320" cy="31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44B-3A89-4E47-99BC-4D8FC05D5FB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Estágios de Son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3681" r="0" b="3443"/>
          <a:stretch/>
        </p:blipFill>
        <p:spPr>
          <a:xfrm>
            <a:off x="2251080" y="1197000"/>
            <a:ext cx="4521240" cy="540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943-5E2B-4E51-8CB5-E12AF558ABD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Origem do sinal de EE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724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ientes de potencial ao longo das membranas de neurônios causadas pela ativação de sinap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 coincidência espacial e temporal dos campos elétricos de neurônios individuais é necessária à geração de sinais suficientemente intensos para detecção no escalp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das de EEG de menor freqüência tendem a possuir maior amplitu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10D-D629-41EB-A4FF-C43DF3B94B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68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Potenciais Evocados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(Event-Related Potentials, ERP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B92-FA92-4C9F-8E5D-AE72ACCE536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Potenciais evocados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(Event-Related Potentials, ERP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00200" y="2124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 resposta a estímulos (visuais, sonoros, etc.) pode ser caracterizada no EE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O estímulo pode ser aplicado repetidamente, tomando-se a média do sinal resultante (o instante de aplicação do estímulo é usado com referência para alinhamento dos segmentos de EEG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0F5-1905-4B93-855E-9542703CEBC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56800" y="52560"/>
            <a:ext cx="80866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Exemplo de ERP em resposta a estímulo luminoso (“flash”): linha média occipital, O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>
            <a:lum contrast="66000"/>
          </a:blip>
          <a:srcRect l="0" t="0" r="1475" b="0"/>
          <a:stretch/>
        </p:blipFill>
        <p:spPr>
          <a:xfrm>
            <a:off x="274680" y="1363680"/>
            <a:ext cx="6458040" cy="4910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441840" y="2259000"/>
            <a:ext cx="2193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aquis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51560" y="3197160"/>
            <a:ext cx="2193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aquis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46880" y="3821040"/>
            <a:ext cx="2041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di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 aquisi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41840" y="4702320"/>
            <a:ext cx="2041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di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0 aquisi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215-CC12-411B-B237-482F157C6E5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Origem do sinal de EE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7450" t="8724" r="7450" b="7223"/>
          <a:stretch/>
        </p:blipFill>
        <p:spPr>
          <a:xfrm>
            <a:off x="1235160" y="1193760"/>
            <a:ext cx="6861240" cy="541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32C0-8DFC-4783-89B6-A7C4FC3148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8680" y="1224000"/>
            <a:ext cx="83008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sinal registrado no escalpo tem amplitude da ordem de µ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rodos de Ag/AgCl são usualmente empreg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ós a fixação com um colóide, um eletrólito apropriado pode ser aplicado através do orifício central do eletr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Aquisição do sinal de EE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contrast="18000"/>
          </a:blip>
          <a:srcRect l="0" t="15913" r="0" b="0"/>
          <a:stretch/>
        </p:blipFill>
        <p:spPr>
          <a:xfrm>
            <a:off x="2844720" y="2954160"/>
            <a:ext cx="3308400" cy="1474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4360" y="4381560"/>
            <a:ext cx="85438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, uma pasta condutora pode ser empregada. Cuidado deve ser tomado para limitar o espalhamento da pasta, de modo a não perder resolução espa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referência para a aquisição, são usualmente empregados os lóbulos auriculares (ligados) ou as apófises mastóides (ligad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8CE-6031-49B6-816C-94E498D7CB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Pasta conduto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4120" y="3724200"/>
            <a:ext cx="714996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oxethylene 20 Cetyl Ether, Water,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erin, Calcium Carbonate, 1,2 Propanediol,</a:t>
            </a:r>
            <a:br>
              <a:rPr sz="2600"/>
            </a:br>
            <a:r>
              <a:rPr b="0" lang="pt-BR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tassium Chloride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elwhite, </a:t>
            </a:r>
            <a:r>
              <a:rPr b="0" lang="pt-BR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dium Chloride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lyoxythylene 20 Sorbitol, Methylparaben, Propylparaben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13160" y="1604880"/>
            <a:ext cx="3973320" cy="16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DEE-74A8-4A4B-8430-CF3F6C0437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Pasta condutora e fixado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1480" y="272376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/ Polyoxyellylene Oleyiether Phosphate / Glycerin / Calcium Carbonate / Liquid Patrolatum / Propylene Glycol / Lanolin Alcohol / </a:t>
            </a:r>
            <a:r>
              <a:rPr b="0" lang="pt-BR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dium Chloride 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Sodium Hydroxide / Polyoxyethylene Hydrogenated Lanolin / Coconut Fatty Acid Diethanolamide / Polyoxyethylene Stearylether / Polyoxyethylrne Oleylether / Egg Yolk Oil / Dibutylhydroxytoluene / Methl Parahydroxybenzoate / Propyl Parahydroxybenzoat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14440" y="1251000"/>
            <a:ext cx="4557960" cy="152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90B-60E9-447F-AD87-8128ACB9D3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Pasta abrasiv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2880" y="4295520"/>
            <a:ext cx="77724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, Aluminum Oxide, 1,2 Propanediol, Sodium Polyacrylate, Methylparaben, Propylparaben, FD&amp;C Blue 1, FD&amp;C Red 40, FD&amp;C Yellow 5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27280" y="1521000"/>
            <a:ext cx="3962520" cy="24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8E9-3818-4E9A-8B1C-E125C68D7D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Takashi Yoneyama</cp:lastModifiedBy>
  <dcterms:modified xsi:type="dcterms:W3CDTF">2010-06-01T16:52:28Z</dcterms:modified>
  <cp:revision>755</cp:revision>
  <dc:subject/>
  <dc:title>No Slide Title</dc:title>
</cp:coreProperties>
</file>