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0.jpeg" ContentType="image/jpeg"/>
  <Override PartName="/ppt/media/image30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5.png" ContentType="image/png"/>
  <Override PartName="/ppt/media/image43.jpeg" ContentType="image/jpeg"/>
  <Override PartName="/ppt/media/image9.png" ContentType="image/png"/>
  <Override PartName="/ppt/media/image39.png" ContentType="image/png"/>
  <Override PartName="/ppt/media/image40.jpeg" ContentType="image/jpeg"/>
  <Override PartName="/ppt/media/image13.jpeg" ContentType="image/jpeg"/>
  <Override PartName="/ppt/media/image6.png" ContentType="image/png"/>
  <Override PartName="/ppt/media/image1.png" ContentType="image/png"/>
  <Override PartName="/ppt/media/image3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580880" y="318960"/>
            <a:ext cx="124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</a:t>
            </a: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4600" y="1379520"/>
            <a:ext cx="4235400" cy="19242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94920" y="1068480"/>
            <a:ext cx="2791440" cy="4012920"/>
            <a:chOff x="394920" y="1068480"/>
            <a:chExt cx="2791440" cy="40129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68520" y="1068480"/>
              <a:ext cx="2028960" cy="40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044800" y="1352520"/>
              <a:ext cx="104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Bigo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6480" y="1271520"/>
              <a:ext cx="992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Marte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17600" y="2305080"/>
              <a:ext cx="968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Estri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920" y="35892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Tímp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986200" y="2766960"/>
            <a:ext cx="2222280" cy="209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11560" y="3808440"/>
            <a:ext cx="3740400" cy="231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4960" y="21708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Médio: Ossícul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14240" y="1125360"/>
            <a:ext cx="7395480" cy="5203800"/>
            <a:chOff x="714240" y="1125360"/>
            <a:chExt cx="7395480" cy="52038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4852" r="0" b="9960"/>
            <a:stretch/>
          </p:blipFill>
          <p:spPr>
            <a:xfrm>
              <a:off x="2431800" y="1563480"/>
              <a:ext cx="408132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551600" y="3963960"/>
              <a:ext cx="113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Tímp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4240" y="1450800"/>
              <a:ext cx="307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Base do céreb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86320" y="3911400"/>
              <a:ext cx="1412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Janela o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39200" y="4949640"/>
              <a:ext cx="177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Janela circ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89680" y="1125360"/>
              <a:ext cx="1770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Lobo temp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53720" y="3078000"/>
              <a:ext cx="1474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Nervo fa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19160" y="4473360"/>
              <a:ext cx="2416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Promontório co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89720" y="5473440"/>
              <a:ext cx="252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Trompa de Eustáqu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19320" y="1452240"/>
              <a:ext cx="2284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Arial"/>
                </a:rPr>
                <a:t>Osso mastóid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4960" y="21708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Médio: Ossícul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763" t="4286" r="5009" b="4589"/>
          <a:stretch/>
        </p:blipFill>
        <p:spPr>
          <a:xfrm>
            <a:off x="4576680" y="1852560"/>
            <a:ext cx="381024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3440" y="25992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inter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84080" y="1777680"/>
            <a:ext cx="3810240" cy="33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) Labir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ém células sensoriais que fornecem informação sobre a posição e movimento da cabeça (sensação de balanç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) Nervo vestib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899480" y="1582560"/>
            <a:ext cx="457200" cy="468360"/>
            <a:chOff x="7899480" y="1582560"/>
            <a:chExt cx="457200" cy="468360"/>
          </a:xfrm>
        </p:grpSpPr>
        <p:sp>
          <p:nvSpPr>
            <p:cNvPr id="133" name=""/>
            <p:cNvSpPr/>
            <p:nvPr/>
          </p:nvSpPr>
          <p:spPr>
            <a:xfrm>
              <a:off x="7899480" y="159372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66080" y="158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7542360" y="2036520"/>
            <a:ext cx="500040" cy="95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80120" y="1620720"/>
            <a:ext cx="457200" cy="468360"/>
            <a:chOff x="6180120" y="1620720"/>
            <a:chExt cx="457200" cy="468360"/>
          </a:xfrm>
        </p:grpSpPr>
        <p:sp>
          <p:nvSpPr>
            <p:cNvPr id="137" name=""/>
            <p:cNvSpPr/>
            <p:nvPr/>
          </p:nvSpPr>
          <p:spPr>
            <a:xfrm>
              <a:off x="6180120" y="163188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6720" y="162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 flipV="1">
            <a:off x="6561000" y="2041560"/>
            <a:ext cx="557280" cy="8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11040" y="1346040"/>
            <a:ext cx="5070600" cy="4815000"/>
            <a:chOff x="311040" y="1346040"/>
            <a:chExt cx="5070600" cy="4815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311040" y="1346040"/>
              <a:ext cx="5070600" cy="48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36040" y="1662120"/>
              <a:ext cx="3020400" cy="3569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46680" y="1670040"/>
            <a:ext cx="2933640" cy="4222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interno: Labir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31960" y="1295280"/>
            <a:ext cx="4594320" cy="5220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interno: Labir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49800"/>
          <a:stretch/>
        </p:blipFill>
        <p:spPr>
          <a:xfrm>
            <a:off x="4295880" y="1738440"/>
            <a:ext cx="4748040" cy="393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interno: Labir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51160" r="23737" b="5223"/>
          <a:stretch/>
        </p:blipFill>
        <p:spPr>
          <a:xfrm>
            <a:off x="304920" y="1488960"/>
            <a:ext cx="4091040" cy="38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0600" y="1230480"/>
            <a:ext cx="6043680" cy="5627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95680" y="3219480"/>
            <a:ext cx="876600" cy="148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interno: Labir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94080" y="3786120"/>
            <a:ext cx="5200560" cy="225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6400" y="1457280"/>
            <a:ext cx="3783240" cy="1513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 flipV="1">
            <a:off x="2427120" y="3090600"/>
            <a:ext cx="1841760" cy="15685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interno: Labiri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413080" y="1042920"/>
            <a:ext cx="4216320" cy="5796000"/>
            <a:chOff x="2413080" y="1042920"/>
            <a:chExt cx="4216320" cy="57960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413080" y="1042920"/>
              <a:ext cx="4103640" cy="57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00640" y="4000680"/>
              <a:ext cx="7048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35160" y="4102200"/>
              <a:ext cx="3594240" cy="5713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Nervo Vestibuloco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85640" y="1312560"/>
            <a:ext cx="3981600" cy="38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9) Cócl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bo de tecido ósseo (inserido no osso temporal do crânio) enrolado em caracol (espiral de 2,5 voltas) com o tamanho aproximado de uma ervil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ém células sensoriais que detectam as oscilações do som captado extern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) Nervo coc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763" t="4286" r="5009" b="4589"/>
          <a:stretch/>
        </p:blipFill>
        <p:spPr>
          <a:xfrm>
            <a:off x="4633920" y="19987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01160" y="17892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81720" y="177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815240" y="2217240"/>
            <a:ext cx="54288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015320" y="1706400"/>
            <a:ext cx="457200" cy="468360"/>
            <a:chOff x="7015320" y="1706400"/>
            <a:chExt cx="457200" cy="468360"/>
          </a:xfrm>
        </p:grpSpPr>
        <p:sp>
          <p:nvSpPr>
            <p:cNvPr id="175" name=""/>
            <p:cNvSpPr/>
            <p:nvPr/>
          </p:nvSpPr>
          <p:spPr>
            <a:xfrm>
              <a:off x="7015320" y="171756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1920" y="170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H="1" flipV="1">
            <a:off x="7315200" y="2160720"/>
            <a:ext cx="285840" cy="117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in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177360" y="31035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stema Aud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3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47720" y="1442880"/>
            <a:ext cx="5967360" cy="4695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4800" y="1347840"/>
            <a:ext cx="3692520" cy="3429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33840" y="1779480"/>
            <a:ext cx="4065480" cy="2795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8000" y="4950000"/>
            <a:ext cx="8511840" cy="11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ross section of the spiral cochlea shows that there are three sections: the scala vestibuli (upper); the scala tympani (lower); and the triangular shaped scala media in the center. It houses the organ of Corti, which contains the 13,000 hair cells which are designed to receive the acoustic energ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06600" y="1523880"/>
            <a:ext cx="6433920" cy="4573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93440" y="25992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8160" y="5222880"/>
            <a:ext cx="8645400" cy="13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HC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letromotilidade em resposta a vibrações acústicas (ressonâ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da sensibilidade e seletividade em frequê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7240" y="1287360"/>
            <a:ext cx="5359680" cy="3807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693440" y="25992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9440" y="1906560"/>
            <a:ext cx="37735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HC, IHC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and inner hai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M: Membrana bas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M: Membrana te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52640" y="1584360"/>
            <a:ext cx="3511800" cy="481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85640" y="1628640"/>
            <a:ext cx="4392720" cy="228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36720" y="4121280"/>
            <a:ext cx="2857320" cy="253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354640" y="1625760"/>
            <a:ext cx="3346560" cy="4219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276200" y="1371600"/>
            <a:ext cx="6724440" cy="5010120"/>
            <a:chOff x="1276200" y="1371600"/>
            <a:chExt cx="6724440" cy="5010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333080" y="1423800"/>
              <a:ext cx="6610320" cy="49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276200" y="1371600"/>
              <a:ext cx="67244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71720" y="1265400"/>
            <a:ext cx="5289480" cy="5268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66720" y="1341360"/>
            <a:ext cx="7505640" cy="4727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31840" y="1419120"/>
            <a:ext cx="6897600" cy="4695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76440" y="820800"/>
            <a:ext cx="6808320" cy="5475240"/>
            <a:chOff x="1576440" y="820800"/>
            <a:chExt cx="6808320" cy="54752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76440" y="820800"/>
              <a:ext cx="5694120" cy="54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284640" y="5446800"/>
              <a:ext cx="140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Exter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2525760" y="3552840"/>
              <a:ext cx="1255680" cy="190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768480" y="3381480"/>
              <a:ext cx="986040" cy="20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381640" y="3416400"/>
              <a:ext cx="1713240" cy="1881000"/>
              <a:chOff x="5381640" y="3416400"/>
              <a:chExt cx="1713240" cy="1881000"/>
            </a:xfrm>
          </p:grpSpPr>
          <p:sp>
            <p:nvSpPr>
              <p:cNvPr id="52" name=""/>
              <p:cNvSpPr/>
              <p:nvPr/>
            </p:nvSpPr>
            <p:spPr>
              <a:xfrm>
                <a:off x="5945040" y="4776840"/>
                <a:ext cx="114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Arial"/>
                  </a:rPr>
                  <a:t>Médi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5381640" y="3416400"/>
                <a:ext cx="82872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746680" y="2509560"/>
              <a:ext cx="2638080" cy="638280"/>
              <a:chOff x="5746680" y="2509560"/>
              <a:chExt cx="2638080" cy="638280"/>
            </a:xfrm>
          </p:grpSpPr>
          <p:sp>
            <p:nvSpPr>
              <p:cNvPr id="55" name=""/>
              <p:cNvSpPr/>
              <p:nvPr/>
            </p:nvSpPr>
            <p:spPr>
              <a:xfrm>
                <a:off x="7094520" y="2627280"/>
                <a:ext cx="129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Arial"/>
                  </a:rPr>
                  <a:t>Inter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flipV="1">
                <a:off x="5746680" y="2509560"/>
                <a:ext cx="1357200" cy="32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4960" y="21708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Huma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57320" y="1300320"/>
            <a:ext cx="7140600" cy="5324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65360" y="1244520"/>
            <a:ext cx="5916600" cy="5175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óc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2000" y="1274760"/>
            <a:ext cx="4356000" cy="5335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79360" y="1687680"/>
            <a:ext cx="6934320" cy="4400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1720" y="231480"/>
            <a:ext cx="77724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Modelo de Zwislocki (1948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3921120"/>
            <a:ext cx="777240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rada: Velocidade do estrib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ções da membrana basilar representadas como unidades a parâmetros concentrados (indutância, compliância, resistência por unidade de compriment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utores em série: Massa do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utores/Capacitores em paralelo: Massa/Compliância da membrana basi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00280" y="1312920"/>
            <a:ext cx="7441920" cy="2322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143000" y="1330200"/>
            <a:ext cx="7086600" cy="5508360"/>
            <a:chOff x="1143000" y="1330200"/>
            <a:chExt cx="7086600" cy="55083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228680" y="1330200"/>
              <a:ext cx="683748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143000" y="6629040"/>
              <a:ext cx="708660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Implante co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5143680" cy="3349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164120" y="3929040"/>
            <a:ext cx="3333600" cy="2592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Implante co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21000" y="3338640"/>
            <a:ext cx="4883040" cy="31366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378000" y="4479840"/>
            <a:ext cx="2857320" cy="1616040"/>
            <a:chOff x="378000" y="4479840"/>
            <a:chExt cx="2857320" cy="161604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378000" y="4479840"/>
              <a:ext cx="28573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0880" y="4495680"/>
              <a:ext cx="2837880" cy="16002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661080" y="1428840"/>
            <a:ext cx="1860480" cy="2603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206800" y="1262160"/>
            <a:ext cx="2022480" cy="2847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Implante co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66640" y="895320"/>
            <a:ext cx="7553520" cy="59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Implante co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42800" y="930240"/>
            <a:ext cx="8258400" cy="5927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93800" y="260280"/>
            <a:ext cx="588492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Implante co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6400" y="1820520"/>
            <a:ext cx="381024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vilhão da orel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iona o som par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anal aud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freqüências menores que 27 kHz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nda de pressão é praticamente plana (modos superiores são cort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763" t="4286" r="5009" b="4589"/>
          <a:stretch/>
        </p:blipFill>
        <p:spPr>
          <a:xfrm>
            <a:off x="4265640" y="1324080"/>
            <a:ext cx="4392720" cy="41288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4421160" y="2847960"/>
            <a:ext cx="457200" cy="468360"/>
            <a:chOff x="4421160" y="2847960"/>
            <a:chExt cx="457200" cy="468360"/>
          </a:xfrm>
        </p:grpSpPr>
        <p:sp>
          <p:nvSpPr>
            <p:cNvPr id="62" name=""/>
            <p:cNvSpPr/>
            <p:nvPr/>
          </p:nvSpPr>
          <p:spPr>
            <a:xfrm>
              <a:off x="4421160" y="285912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87760" y="2847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94960" y="231840"/>
            <a:ext cx="7265880" cy="60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Exter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260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763" t="4286" r="5009" b="4589"/>
          <a:stretch/>
        </p:blipFill>
        <p:spPr>
          <a:xfrm>
            <a:off x="4267080" y="1325520"/>
            <a:ext cx="4389480" cy="4125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5760" y="1311120"/>
            <a:ext cx="3838320" cy="377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nal (conduto) auditivo ex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âmetro: 0,7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rimento: 2,2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era do ouvi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rume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produzida para proteção e limpeza do ca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freqüências menores que 27 kHz, a onda de pressão é plana (modos superiores são cort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05560" y="32688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72160" y="325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894960" y="21708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Exter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763" t="4286" r="5009" b="4589"/>
          <a:stretch/>
        </p:blipFill>
        <p:spPr>
          <a:xfrm>
            <a:off x="4191120" y="1303200"/>
            <a:ext cx="4491000" cy="4221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04520" y="1571400"/>
            <a:ext cx="33814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ímpa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embrana timpâ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450120" y="3460680"/>
            <a:ext cx="457200" cy="5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6840" y="2890800"/>
            <a:ext cx="2714760" cy="28558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6054840" y="3994200"/>
            <a:ext cx="457200" cy="468360"/>
            <a:chOff x="6054840" y="3994200"/>
            <a:chExt cx="457200" cy="468360"/>
          </a:xfrm>
        </p:grpSpPr>
        <p:sp>
          <p:nvSpPr>
            <p:cNvPr id="77" name=""/>
            <p:cNvSpPr/>
            <p:nvPr/>
          </p:nvSpPr>
          <p:spPr>
            <a:xfrm>
              <a:off x="6054840" y="400536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21440" y="399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94960" y="21708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Extern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12100"/>
          <a:stretch/>
        </p:blipFill>
        <p:spPr>
          <a:xfrm>
            <a:off x="984240" y="1442880"/>
            <a:ext cx="7334280" cy="3162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23880" y="5138640"/>
            <a:ext cx="77724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Diferenças de fase entre os dois ouvidos permitem a localização de fontes sonoras em baixas freqüênc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Informações de posição também são obtidas devido à direcionalidade do ouvido externo (discriminação angular no plano sagital) e através de movimentos da cabeç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4960" y="3132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ff"/>
                </a:solidFill>
                <a:latin typeface="Arial"/>
              </a:rPr>
              <a:t>Ouvido Externo:</a:t>
            </a:r>
            <a:br>
              <a:rPr sz="2600"/>
            </a:br>
            <a:r>
              <a:rPr b="1" lang="pt-BR" sz="2600" spc="-1" strike="noStrike">
                <a:solidFill>
                  <a:srgbClr val="0000ff"/>
                </a:solidFill>
                <a:latin typeface="Arial"/>
              </a:rPr>
              <a:t>Localização de fontes sonora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4600" y="1905120"/>
            <a:ext cx="3828960" cy="3516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30720" y="2316240"/>
            <a:ext cx="4543560" cy="3425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320" y="3168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ff"/>
                </a:solidFill>
                <a:latin typeface="Arial"/>
              </a:rPr>
              <a:t>Ouvido Externo:</a:t>
            </a:r>
            <a:br>
              <a:rPr sz="2600"/>
            </a:br>
            <a:r>
              <a:rPr b="1" lang="pt-BR" sz="2600" spc="-1" strike="noStrike">
                <a:solidFill>
                  <a:srgbClr val="0000ff"/>
                </a:solidFill>
                <a:latin typeface="Arial"/>
              </a:rPr>
              <a:t>Localização de fontes sono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1763" t="4286" r="5009" b="4589"/>
          <a:stretch/>
        </p:blipFill>
        <p:spPr>
          <a:xfrm>
            <a:off x="4792680" y="128736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71680" y="1437840"/>
            <a:ext cx="4141440" cy="39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) Caixa do tímp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) Trompa de Eustáqu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cta o ouvido médio à nasofaringe, de modo a equalizar a pressão nos dois lados do tímp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) Ossícul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rtelo, Bigorna, Estri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amento de impedância entre os ouvidos externo (ar) e interno (fluido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676920" y="3871800"/>
            <a:ext cx="457200" cy="468360"/>
            <a:chOff x="6676920" y="3871800"/>
            <a:chExt cx="457200" cy="468360"/>
          </a:xfrm>
        </p:grpSpPr>
        <p:sp>
          <p:nvSpPr>
            <p:cNvPr id="92" name=""/>
            <p:cNvSpPr/>
            <p:nvPr/>
          </p:nvSpPr>
          <p:spPr>
            <a:xfrm>
              <a:off x="6676920" y="388296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43520" y="38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flipV="1">
            <a:off x="7000920" y="3149280"/>
            <a:ext cx="471600" cy="75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716960" y="4587840"/>
            <a:ext cx="457200" cy="468360"/>
            <a:chOff x="7716960" y="4587840"/>
            <a:chExt cx="457200" cy="468360"/>
          </a:xfrm>
        </p:grpSpPr>
        <p:sp>
          <p:nvSpPr>
            <p:cNvPr id="96" name=""/>
            <p:cNvSpPr/>
            <p:nvPr/>
          </p:nvSpPr>
          <p:spPr>
            <a:xfrm>
              <a:off x="7716960" y="459900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83560" y="4587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V="1">
            <a:off x="7966080" y="3606480"/>
            <a:ext cx="119160" cy="10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512040" y="1324080"/>
            <a:ext cx="457200" cy="468360"/>
            <a:chOff x="6512040" y="1324080"/>
            <a:chExt cx="457200" cy="468360"/>
          </a:xfrm>
        </p:grpSpPr>
        <p:sp>
          <p:nvSpPr>
            <p:cNvPr id="100" name=""/>
            <p:cNvSpPr/>
            <p:nvPr/>
          </p:nvSpPr>
          <p:spPr>
            <a:xfrm>
              <a:off x="6512040" y="133524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78640" y="13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H="1" flipV="1">
            <a:off x="6778440" y="1801800"/>
            <a:ext cx="299880" cy="98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88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94960" y="217080"/>
            <a:ext cx="72658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Ouvido Médi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Roberto</cp:lastModifiedBy>
  <dcterms:modified xsi:type="dcterms:W3CDTF">2010-06-01T14:18:41Z</dcterms:modified>
  <cp:revision>1012</cp:revision>
  <dc:subject/>
  <dc:title>No Slide Title</dc:title>
</cp:coreProperties>
</file>