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5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7B2-4870-4DD5-88C3-69E2BC66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465-9042-4CB2-8242-F8992354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700-5C47-4AB9-AB9D-5521400D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A2A-A806-4E7C-855C-B8D8104A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025-A60D-4AE9-A86F-B6352796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67F-B853-4FEB-B42D-426707A4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F2B-D1AE-4DFD-BFAC-844742D0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46E-8AF0-4842-972D-DEE255D9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2560"/>
            <a:ext cx="7772400" cy="42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9BF-0C92-4FBF-AC48-CF9A7F43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F05-E3C4-4C0F-B35C-452B4355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C10-CD31-404B-AE21-D9C55345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BA5-BC0C-4653-8C10-669507BD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20" y="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41F7-663F-4DB5-8E3A-5E7F91D65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4880" y="31896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1448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lução clássica: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dificação de Huff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80136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ípio básico: Os dois símbolos menos prováveis recebem palavras de mesmo comprimento que diferem apenas no último b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lustr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609560" y="3995640"/>
          <a:ext cx="6096240" cy="107496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pt-B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pt-B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asso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20024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por os símbolos em ordem decrescente de probabilida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-21689" t="-1763" r="-17535" b="-2055"/>
          <a:stretch/>
        </p:blipFill>
        <p:spPr>
          <a:xfrm>
            <a:off x="4148280" y="1882800"/>
            <a:ext cx="17110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asso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9160" y="1056960"/>
            <a:ext cx="83818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ntar uma árvore binária combinando os dois símbolos de menor probabilidade. Continuar o processo até restar um único ra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82840" y="2475000"/>
            <a:ext cx="451476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asso 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520" y="1304640"/>
            <a:ext cx="896616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tribuir 0 ao ramo superior e 1 ao ramo inferior de cada n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16320" y="2028960"/>
            <a:ext cx="47955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asso 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38120" y="1180800"/>
            <a:ext cx="422928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Ler as palavras ao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longo da árvore na direção inver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71960" y="1130400"/>
            <a:ext cx="4268880" cy="387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1452600" y="5214960"/>
          <a:ext cx="6095880" cy="1114200"/>
        </p:xfrm>
        <a:graphic>
          <a:graphicData uri="http://schemas.openxmlformats.org/drawingml/2006/table">
            <a:tbl>
              <a:tblPr/>
              <a:tblGrid>
                <a:gridCol w="87120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pt-B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pt-B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xtração de parâmetr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080" y="1238400"/>
            <a:ext cx="810108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parâmetros de interesse dependem da investigação a ser fei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nálise da variabilidade da freqüência cardíaca: Intervalos R-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tecção de arritmias: Instantes de ocorrência de ondas P e complexos Q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squemia e Infarto: Elevação/rebaixamento dos segmentos ST e da onda 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blemas de bloqueio e batimentos ectópicos: Morfologia do QRS (Altura, Largura, Bigeminism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ompressão Dire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urning-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ZTEC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mplitude-Zone Time-Epoch Coding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RTE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ordinate Reduction Time Encoding Syste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APA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can-Along Polygonal Approximatio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daptive Least-Squares Line Fitting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Turning-poi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6720" y="1181160"/>
            <a:ext cx="80442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 um ponto de cada par consecutivo, dando preferência ao ponto que seja de troca na inclin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41480" y="2284560"/>
            <a:ext cx="53118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Turning Point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: Reconstruçã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65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ideram-se todos os pontos da seqüência comprimida como sendo pontos ímpares da seqüência reconstruí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ntos pares: média dos pontos adjac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sos em que dois pontos originalmente adjacentes foram armazenados: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- A reconstrução causará um desloc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Turning Point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: Reconstruçã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52600" y="1790640"/>
            <a:ext cx="814680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76160" y="2911320"/>
            <a:ext cx="42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pressão de E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8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Turning Point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: Reconstruçã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52600" y="1790640"/>
            <a:ext cx="814680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ZTEC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Amplitude-Zone Time-Epoch Co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01840"/>
            <a:ext cx="777240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sinal de ECG apresenta regiões de alta freqüência (variação rápida: Complexo QRS) e baixa freqüência (variação lenta: Demais regiõ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ixa freqüê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oximação por degraus (duração, níve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ta freqüê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oximação por rampas (duração com sinal negativo, valor do último pont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ZTEC: Exemp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5280" y="1390680"/>
            <a:ext cx="837252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qüência comprimid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{6, 0, 2, 1, 3, 0, -1, -1, -1, 7, -1, -2, -1, 0, 2, 0, 3, 2, 2, 0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1440" y="2666880"/>
            <a:ext cx="86011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ZTEC: Decisão degrau/ramp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274760"/>
            <a:ext cx="826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urante a aquisição/varredura do sinal, são comparados os valores mínimo e máximo do si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so a diferença entre os mesmos não ultrapasse um dado limiar dentro de uma janela de tamanho pré-fixado, implementa-se uma aproximação degra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so contrário, o intervalo é considerado um trecho de ramp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rampa só é “terminada” quando houver inversão do sinal ou quando for estabelecida uma aproximação degra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812952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RTES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ordinate Reduction Time Encoding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5260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binação d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urning Po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do AZT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ZTEC nas regiões de baixa freqüência (degra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urning Po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ao invés de rampas) nas regiões de alta freqüê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separação entre uma codificação e outra é indicada pela presença de um código marcador reserv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APA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can-Along Polygonal Approx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52240"/>
            <a:ext cx="77724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mazenam-se alguns pontos do sinal para posterior descompressão através de interpolação lin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oximação poligonal de mínimo períme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rro máximo tolerável (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especificad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elo operad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709640" y="5003640"/>
                <a:ext cx="58914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|</m:t>
                    </m:r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SAPA: Ilustraçã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7960" y="2185920"/>
            <a:ext cx="86680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888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SAPA - Critério da linha centr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6680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 o último ponto armaze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5200" y="2647800"/>
            <a:ext cx="86583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SAPA - Critério da linha centr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8480" y="3952800"/>
            <a:ext cx="84441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seguintes inclinações são monitor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42920" y="4546440"/>
                <a:ext cx="34815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6760" y="1181160"/>
            <a:ext cx="8655120" cy="2652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849920" y="5070600"/>
                <a:ext cx="29160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006560" y="5592600"/>
                <a:ext cx="363060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SAPA - Critério da linha centr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3156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menor valor d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) é armazenado em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maior valor de g(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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) é armazenado em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ndo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, 0) &gt;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, 0) &lt;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, armazena-se o ponto anterior e o procedimento recomeç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47560" y="3657600"/>
            <a:ext cx="83282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ompressão de EC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â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ncos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mazenamento em aparelhos portáteis para registros de longa duração (Hol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LS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Adaptive Least-Squares Line Fit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ECG é aproximado por uma seqüência de retas ajustadas por mínimos-quadr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novo segmento de reta é introduzido quando o erro quadrático médio de aproximação ultrapassa um limite especificado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LS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Adaptive Least-Squares Line Fit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1160" y="1409760"/>
            <a:ext cx="84121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siderando a seqüência {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[0],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[1], …,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], …}, uma aproximação linear para os primeiros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pontos após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[0] pode ser escrita co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28880" y="3062160"/>
                <a:ext cx="2765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09760" y="3882960"/>
            <a:ext cx="80438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este caso, o erro quadrático médio é dado p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87360" y="4657680"/>
                <a:ext cx="829800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LS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Adaptive Least-Squares Line Fit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valor d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que minimiza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é dado p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174760" y="1893960"/>
                <a:ext cx="4062600" cy="22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  <m:r>
                              <m:t xml:space="preserve">[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k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81040" y="419112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o estender a aproximação a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+1], o valor d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6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pode ser obtido a partir d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com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7920" y="5345280"/>
                <a:ext cx="853416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LS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Adaptive Least-Squares Line Fit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4240" y="146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forma análoga, o err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ode ser obtido a partir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08000" y="2771640"/>
                <a:ext cx="8978760" cy="22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LS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Adaptive Least-Squares Line Fit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rcício: Demonstrar as relações recursivas do ALS sabendo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560680" y="3417840"/>
                <a:ext cx="38926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9600" y="52560"/>
            <a:ext cx="84582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pressão com o uso de Transformad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66480"/>
            <a:ext cx="77724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transformação linear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: R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mapeia a seqüência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[0]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[1], …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1]}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m uma nova seqüência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[0]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[1], …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1]}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000240" y="2898720"/>
                <a:ext cx="29019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[</m:t>
                    </m:r>
                    <m:r>
                      <m:t xml:space="preserve">i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838080" y="421956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pretação geométr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[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[0]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[1], …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1]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[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[0]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[1], …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1]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Interpretação geométr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5208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pond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rtogonais com norma unit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01760" y="2352600"/>
          <a:ext cx="4736880" cy="37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2352600"/>
                    <a:ext cx="473688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365800" y="2570040"/>
          <a:ext cx="33735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5800" y="2570040"/>
                    <a:ext cx="33735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307960" y="6151680"/>
            <a:ext cx="38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te qu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VV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52560"/>
            <a:ext cx="80866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ransformadas Ortonorma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334880"/>
            <a:ext cx="817884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riedade interessante de uma transformada ortonormal: Isometria (Parseval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t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VV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eqüência: Pequenas diferenças no domínio transformado estão associadas a pequenas diferenças no domínio orig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ransformadas úte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36600" y="2338200"/>
            <a:ext cx="6686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formada de Fou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formada Discreta de Coss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Transformada Wave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4367" t="0" r="5937" b="0"/>
          <a:stretch/>
        </p:blipFill>
        <p:spPr>
          <a:xfrm>
            <a:off x="127080" y="1101600"/>
            <a:ext cx="8862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CG digit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5240" y="2019240"/>
            <a:ext cx="876132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qüência {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0]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1], …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]} de valores inteiros (codificados com um certo número de bi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 da compressão: Reduzir o número de bits a serem armazenados, preservando a informação de utilidade para diagnós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Histograma dos valores de 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06360" y="1162080"/>
            <a:ext cx="7023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plicação da Transformada Wavel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o da wavelet Daubechies 4 (db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 níveis de decompos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Histograma dos coeficientes wavel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79640" y="1200240"/>
            <a:ext cx="714996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cedimento de compressã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49160" y="219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úmero total de coeficientes wavelet: 100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9187 coeficientes arredondados para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5813" t="0" r="6666" b="0"/>
          <a:stretch/>
        </p:blipFill>
        <p:spPr>
          <a:xfrm>
            <a:off x="291960" y="1116000"/>
            <a:ext cx="86997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5524" t="0" r="8075" b="0"/>
          <a:stretch/>
        </p:blipFill>
        <p:spPr>
          <a:xfrm>
            <a:off x="266760" y="1244520"/>
            <a:ext cx="864864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axa de compressã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0200" y="133776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xa de compressã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117880" y="2217600"/>
                <a:ext cx="51926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riginal de b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its armazenados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90480" y="3419640"/>
            <a:ext cx="777240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, supondo que o número de bits/inteiro seja manti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258920" y="4638600"/>
                <a:ext cx="68626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riginal de valores intei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valores inteiros armazenados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ipos de compressã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000" y="1309680"/>
            <a:ext cx="866304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odificação de entropia</a:t>
            </a:r>
            <a:br>
              <a:rPr sz="3000"/>
            </a:b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(Redução de redundância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éia: Criar um “dicionário” em que símbolos (valores) mais freqüentes são representados por poucos b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Código Morse (Códigos mais curtos são usados para representar as letras que ocorrem com mais freqüência na língua ingles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de codificação de entropia: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ódigo Mo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5600" y="1238040"/>
            <a:ext cx="380988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   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   -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   -.-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   -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   ..-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   --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  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4960" y="1252440"/>
            <a:ext cx="3809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  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J   .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K   -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   .-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  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   -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 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   .--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6520" y="1247760"/>
            <a:ext cx="26240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Q   --.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R   .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S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T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U   ..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V   …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W   .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X   -..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Y   -.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Z   --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81200" y="52560"/>
            <a:ext cx="8076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bjetivo da codificação de entrop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400" y="153792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ponha que haj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ímbolos {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serem codificados por palavras {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.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objetivo consiste em minim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487600" y="3189240"/>
                <a:ext cx="37321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23880" y="4348080"/>
            <a:ext cx="82296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icionalmente, nenhuma palavra deve ser um prefixo de ou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Roberto</cp:lastModifiedBy>
  <dcterms:modified xsi:type="dcterms:W3CDTF">2010-03-16T12:58:25Z</dcterms:modified>
  <cp:revision>178</cp:revision>
  <dc:subject/>
  <dc:title>No Slide Title</dc:title>
</cp:coreProperties>
</file>