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5FB-D429-445C-A1BB-CCE8340F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892-3F52-4927-9CAA-1FBF592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E58-93FE-4BAF-8728-891337DD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679-EFAA-483A-9240-E953476F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5FD-A2F2-4988-B1F9-31AFEA7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259-C1A7-41A9-8F73-EAF2C87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A55-66BC-46FD-A38D-C037CB5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58C-3F08-40D7-956F-5A8E2CF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7B2-844D-4E74-B823-8286731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375-CDD7-4853-9468-9073121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7AF-D7D8-4F67-820A-4213D2B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96D-1F21-4D96-95BE-06C3170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F45-FCD7-4318-A437-E98C4460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2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 da aplicação da derivada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52360" y="121428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talhe da deriv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23920" y="122868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fatizando os picos maiores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drado da deriv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2440" y="1257480"/>
            <a:ext cx="68914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adrado da derivada: detal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1160" y="1314360"/>
            <a:ext cx="68911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so da derivad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mitação: Ruí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082520"/>
            <a:ext cx="83185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: Ruído gaussiano branco de média zero e desvio-padrão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09840" y="2122560"/>
            <a:ext cx="6203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nal ruidoso: Ampli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09520" y="124308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rivada do sinal ruidos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38400" y="1271520"/>
            <a:ext cx="68911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872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rivada do sinal ruidoso: Ampli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81080" y="120024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adrado da deriv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0" y="1300320"/>
            <a:ext cx="689112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lução: Uso de Filtro Passa-Baix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Suavizaçã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70080"/>
            <a:ext cx="84916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mais simples: Filtro de média mó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= ½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volução com a seqüência de ponderação {½, ½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alternat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1, 2, 1}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1, 3, 3, 1}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90760" y="5749920"/>
            <a:ext cx="6621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Sucessivas convoluções com {½, ½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2400" y="291132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tecção de Q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8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ultado da Aplicação 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ltro Passa-Baixas {1, 2, 1}/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38400" y="3930480"/>
            <a:ext cx="6891120" cy="278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38400" y="1144440"/>
            <a:ext cx="68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rivada do Sinal Suaviz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52360" y="3882960"/>
            <a:ext cx="6891480" cy="278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38320" y="1100160"/>
            <a:ext cx="68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288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drado da Derivada do Sinal Suaviz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8400" y="3871800"/>
            <a:ext cx="6891120" cy="278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24000" y="1073160"/>
            <a:ext cx="68914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sumin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7464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agem passa-altas para remover variações de linha de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agem passa-baixas para suavizar o sinal (filtragem de ruí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agem passa-faix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ormação não-linear (quadrado do sinal) para enfatizar o pico associado ao complexo Q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7249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a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so de análise conjunta tempo-frequê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4367" t="0" r="5937" b="0"/>
          <a:stretch/>
        </p:blipFill>
        <p:spPr>
          <a:xfrm>
            <a:off x="88920" y="1101600"/>
            <a:ext cx="8862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ção SPECGRAM do Matlab SP Tool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7396" t="5572" r="8022" b="3698"/>
          <a:stretch/>
        </p:blipFill>
        <p:spPr>
          <a:xfrm>
            <a:off x="293760" y="1368360"/>
            <a:ext cx="86090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nal com ruído e flutuação de linha d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6135" t="0" r="6469" b="0"/>
          <a:stretch/>
        </p:blipFill>
        <p:spPr>
          <a:xfrm>
            <a:off x="330120" y="1184400"/>
            <a:ext cx="84711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nal com ruído e flutuação de linha d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7709" t="3840" r="8438" b="1923"/>
          <a:stretch/>
        </p:blipFill>
        <p:spPr>
          <a:xfrm>
            <a:off x="184320" y="1203480"/>
            <a:ext cx="87944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reqüência, Extra-sístoles, Paus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3800"/>
            <a:ext cx="77724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= Intervalo R-R entre 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-ésimo complexo QRS e o complexo QRS ant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valo R-R médio (janel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batimentos, excluíndo extra-sístoles e pausa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0200" y="4206960"/>
            <a:ext cx="7554960" cy="25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reqüência instantânea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0" lang="pt-BR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6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reqüência média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med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0" lang="pt-BR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tra-sístole: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 &lt;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med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, 0 &lt;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usa: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 &gt;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Times New Roman"/>
              </a:rPr>
              <a:t>RRmed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56000" y="3114720"/>
                <a:ext cx="38034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Rmed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724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iabilidade da Freqüência Cardíaca (VF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al de VFC: Freqüência instantânea em função do tempo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eart Rate Variabilit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HR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lete a atividade da função autonômica cardía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mo vagal (parassimpático)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ção da fr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mo simpático: aumento da fr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tecção de Q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320840"/>
            <a:ext cx="814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â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mento de freqüência cardí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da Variabilidade da Freqüência Cardí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cção de extra-sístoles e pau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imento de uma referência temporal para análise de morfologia (nível do segmento ST, agrupamento/classificação de batimentos ectóp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tenção do sinal de VF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2080" y="1365120"/>
            <a:ext cx="81658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ja-se uma série temporal de valores de freqüência igualmente espaçados no tempo (período de amostragem cons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a freqüência não for constante, os interval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-R não são igualmente espaçados n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: realizar uma interpolação dos valores de freqüência instantânea a fim de obter uma seqüência para instantes de tempo igualmente espaç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2560"/>
            <a:ext cx="81723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 espectral do sinal de VFC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Flutuação da freqüência ao longo do temp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6080" y="1149120"/>
            <a:ext cx="835668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F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igh Frequency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: 0,15 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0,40 Hz (período de 2,5 – 6.5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dulação parassimpá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pi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F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ow Frequency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: 0,05 – 0,15 Hz (período de 6.5 – 2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dulação simpática e parassimpá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ga emocional inten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posta barorreflexa e pressão sangü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LF (Very Low Frequency): &lt; 0,05 Hz (período &gt; 2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de 90% da potência total do sinal de V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rmorregulação, movimento vasomotor, e outros sistemas regulatórios l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nente do tipo 1/f (aumento da potência com a diminuição da freqüê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56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tilidade do sinal de VFC: Exempl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onente L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aques isquêm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túrbios cardiopulmon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onente H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rometimento da função autonômica cardíaca em pacientes chagás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sível indicador do risco de morte súbi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2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se MIT-BIH de Arritm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4280" y="1258920"/>
            <a:ext cx="8186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sachusetts Institute of Technology –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th Israe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8 registros de 30 minutos de d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rivações: II e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: 11 bits, faixa de 1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de amostragem: 360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otações inseridas por méd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antes de ocorrência dos complexo Q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ificação de arrit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rupamento morfológico de batimentos ectóp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o 223, Derivação II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ciente de 73 an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16160" y="1400040"/>
            <a:ext cx="68022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bordagem mais simples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tecção por Limi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1080" y="1214280"/>
            <a:ext cx="68914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serv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38240" y="1157400"/>
            <a:ext cx="68914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tecção por limia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mitação: Flutuação da linha d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66920" y="1228680"/>
            <a:ext cx="68911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lução: Uso de Filtro Passa-Alt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o passa-altas mais simples: Deri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s de 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1] –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2] +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k + 1] –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1] – 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3-16T13:13:28Z</dcterms:modified>
  <cp:revision>212</cp:revision>
  <dc:subject/>
  <dc:title>No Slide Title</dc:title>
</cp:coreProperties>
</file>