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20" y="-4680"/>
            <a:ext cx="9128160" cy="6837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634880" y="318960"/>
            <a:ext cx="112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man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ul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35329" b="0"/>
          <a:stretch/>
        </p:blipFill>
        <p:spPr>
          <a:xfrm>
            <a:off x="1996920" y="1127160"/>
            <a:ext cx="5126040" cy="5454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rincipais trechos do E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57440" y="1149480"/>
            <a:ext cx="6075360" cy="5468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rincipais trechos do E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43160" y="714240"/>
            <a:ext cx="5067360" cy="5946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914400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nterpretação fís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9557" r="0" b="10078"/>
          <a:stretch/>
        </p:blipFill>
        <p:spPr>
          <a:xfrm>
            <a:off x="131760" y="1285920"/>
            <a:ext cx="8883720" cy="5051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914400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rojeções do E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200240" y="1990800"/>
            <a:ext cx="7943400" cy="3539880"/>
            <a:chOff x="1200240" y="1990800"/>
            <a:chExt cx="7943400" cy="353988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3438360" y="1990800"/>
              <a:ext cx="5705280" cy="35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1200240" y="2114640"/>
              <a:ext cx="3255480" cy="335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"/>
          <p:cNvSpPr/>
          <p:nvPr/>
        </p:nvSpPr>
        <p:spPr>
          <a:xfrm>
            <a:off x="457200" y="217440"/>
            <a:ext cx="8229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Posicionamento padrão dos eletro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11520" t="0" r="0" b="7749"/>
          <a:stretch/>
        </p:blipFill>
        <p:spPr>
          <a:xfrm>
            <a:off x="1069920" y="1312920"/>
            <a:ext cx="7134120" cy="5005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217440"/>
            <a:ext cx="8229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Configuração elétrica para as medid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CG normal em 12 deriv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84320" y="1114560"/>
            <a:ext cx="511020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184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nterpretação das derivações do E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0080" y="1143000"/>
            <a:ext cx="5321160" cy="5468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80200" y="1154160"/>
            <a:ext cx="367956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3184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nterpretação das derivações do E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0" r="0" b="1611"/>
          <a:stretch/>
        </p:blipFill>
        <p:spPr>
          <a:xfrm>
            <a:off x="1176480" y="1239840"/>
            <a:ext cx="65674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0" t="5908" r="0" b="16524"/>
          <a:stretch/>
        </p:blipFill>
        <p:spPr>
          <a:xfrm>
            <a:off x="326880" y="1692360"/>
            <a:ext cx="8591760" cy="4108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97920" y="1901880"/>
            <a:ext cx="7521480" cy="30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de hoje (16 Mar)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ncípios de Eletrocardiografia. ECG Norm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Compressão de EC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Detecção de Q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45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45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spectos a serem analisados no registro de E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95120" y="2006640"/>
            <a:ext cx="294660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reqüê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it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ix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rfolo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07360" y="2735280"/>
            <a:ext cx="5554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ípios de Eletrocardiograf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G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51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98320" y="1627200"/>
            <a:ext cx="777240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eferênci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8000" y="2673360"/>
            <a:ext cx="84326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ubin, D.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Interpretação Rápida do ECG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3 ed.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io de Janeiro: Ed. Publicações Científicas, 198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letrocardiógra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62120" y="1554120"/>
            <a:ext cx="600084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onitor multiparamét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12960" y="1189080"/>
            <a:ext cx="545796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Holter eletrocardiográ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60560" y="1227240"/>
            <a:ext cx="341172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ardiover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39800" y="1693800"/>
            <a:ext cx="60199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dução do impulso elétrico no co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30520" y="1187280"/>
            <a:ext cx="597204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Roberto</cp:lastModifiedBy>
  <dcterms:modified xsi:type="dcterms:W3CDTF">2010-03-16T12:21:02Z</dcterms:modified>
  <cp:revision>91</cp:revision>
  <dc:subject/>
  <dc:title>No Slide Title</dc:title>
</cp:coreProperties>
</file>