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10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3.wmf" ContentType="image/x-wmf"/>
  <Override PartName="/ppt/media/image2.png" ContentType="image/png"/>
  <Override PartName="/ppt/media/image27.wmf" ContentType="image/x-wmf"/>
  <Override PartName="/ppt/media/image15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1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ASA_CO13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4880" y="318960"/>
            <a:ext cx="112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mana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ul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74760" y="3448080"/>
            <a:ext cx="489600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Controle da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85120" y="29732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003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971720" y="4022640"/>
                <a:ext cx="5145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A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37176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1960" y="2106720"/>
          <a:ext cx="420984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2106720"/>
                    <a:ext cx="42098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2385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973960" y="1655640"/>
            <a:ext cx="2521440" cy="855720"/>
            <a:chOff x="2973960" y="1655640"/>
            <a:chExt cx="2521440" cy="855720"/>
          </a:xfrm>
        </p:grpSpPr>
        <p:sp>
          <p:nvSpPr>
            <p:cNvPr id="72" name=""/>
            <p:cNvSpPr/>
            <p:nvPr/>
          </p:nvSpPr>
          <p:spPr>
            <a:xfrm flipV="1">
              <a:off x="3556080" y="1959120"/>
              <a:ext cx="434880" cy="552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73960" y="1655640"/>
              <a:ext cx="252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Reflexo devido a Reni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844720" y="2511360"/>
            <a:ext cx="10299960" cy="1060560"/>
            <a:chOff x="2844720" y="2511360"/>
            <a:chExt cx="10299960" cy="1060560"/>
          </a:xfrm>
        </p:grpSpPr>
        <p:graphicFrame>
          <p:nvGraphicFramePr>
            <p:cNvPr id="75" name=""/>
            <p:cNvGraphicFramePr/>
            <p:nvPr/>
          </p:nvGraphicFramePr>
          <p:xfrm>
            <a:off x="3603600" y="2793960"/>
            <a:ext cx="4840200" cy="777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03600" y="2793960"/>
                      <a:ext cx="4840200" cy="77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7" name=""/>
            <p:cNvGrpSpPr/>
            <p:nvPr/>
          </p:nvGrpSpPr>
          <p:grpSpPr>
            <a:xfrm>
              <a:off x="2844720" y="2511360"/>
              <a:ext cx="10299960" cy="713160"/>
              <a:chOff x="2844720" y="2511360"/>
              <a:chExt cx="10299960" cy="713160"/>
            </a:xfrm>
          </p:grpSpPr>
          <p:sp>
            <p:nvSpPr>
              <p:cNvPr id="78" name=""/>
              <p:cNvSpPr/>
              <p:nvPr/>
            </p:nvSpPr>
            <p:spPr>
              <a:xfrm>
                <a:off x="4000680" y="322416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2844720" y="2511360"/>
                <a:ext cx="595440" cy="652680"/>
                <a:chOff x="2844720" y="2511360"/>
                <a:chExt cx="595440" cy="6526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859120" y="2511360"/>
                  <a:ext cx="0" cy="652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844720" y="3164040"/>
                  <a:ext cx="5954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2" name=""/>
          <p:cNvGrpSpPr/>
          <p:nvPr/>
        </p:nvGrpSpPr>
        <p:grpSpPr>
          <a:xfrm>
            <a:off x="3403440" y="4870440"/>
            <a:ext cx="3279960" cy="1098720"/>
            <a:chOff x="3403440" y="4870440"/>
            <a:chExt cx="3279960" cy="1098720"/>
          </a:xfrm>
        </p:grpSpPr>
        <p:graphicFrame>
          <p:nvGraphicFramePr>
            <p:cNvPr id="83" name=""/>
            <p:cNvGraphicFramePr/>
            <p:nvPr/>
          </p:nvGraphicFramePr>
          <p:xfrm>
            <a:off x="3403440" y="5154480"/>
            <a:ext cx="2273400" cy="814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03440" y="5154480"/>
                      <a:ext cx="2273400" cy="8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5" name=""/>
            <p:cNvGrpSpPr/>
            <p:nvPr/>
          </p:nvGrpSpPr>
          <p:grpSpPr>
            <a:xfrm>
              <a:off x="6087960" y="4870440"/>
              <a:ext cx="595440" cy="652320"/>
              <a:chOff x="6087960" y="4870440"/>
              <a:chExt cx="595440" cy="652320"/>
            </a:xfrm>
          </p:grpSpPr>
          <p:sp>
            <p:nvSpPr>
              <p:cNvPr id="86" name=""/>
              <p:cNvSpPr/>
              <p:nvPr/>
            </p:nvSpPr>
            <p:spPr>
              <a:xfrm>
                <a:off x="6669000" y="4870440"/>
                <a:ext cx="0" cy="652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087960" y="5522760"/>
                <a:ext cx="595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006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435560" y="1989000"/>
          <a:ext cx="2421000" cy="3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35560" y="1989000"/>
                    <a:ext cx="24210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8144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89160" y="3062160"/>
          <a:ext cx="6319800" cy="32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9160" y="3062160"/>
                    <a:ext cx="63198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267080" y="1654200"/>
            <a:ext cx="0" cy="987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1484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306440" y="3803760"/>
          <a:ext cx="308304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06440" y="3803760"/>
                    <a:ext cx="3083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405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11120" y="4390920"/>
                <a:ext cx="40546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568600" y="2031840"/>
          <a:ext cx="4714920" cy="8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8600" y="2031840"/>
                    <a:ext cx="471492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08080" y="3300480"/>
          <a:ext cx="7128000" cy="2921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8080" y="3300480"/>
                    <a:ext cx="7128000" cy="29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14280" y="1208160"/>
            <a:ext cx="7189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 da Pressão Arterial Mé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952560" y="3600360"/>
          <a:ext cx="7353360" cy="217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3600360"/>
                    <a:ext cx="735336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963880" y="2427120"/>
                <a:ext cx="349236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914040" y="184788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Índice de Desempen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287440" y="1682640"/>
          <a:ext cx="4637160" cy="23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7440" y="1682640"/>
                    <a:ext cx="4637160" cy="23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311560" y="4253040"/>
          <a:ext cx="4662360" cy="2365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1560" y="4253040"/>
                    <a:ext cx="4662360" cy="23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961800" y="151596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ainty Equival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4049640"/>
            <a:ext cx="195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al Controller N =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104920" y="1511280"/>
          <a:ext cx="4687920" cy="239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4920" y="1511280"/>
                    <a:ext cx="46879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116080" y="4033800"/>
          <a:ext cx="4624560" cy="2373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6080" y="4033800"/>
                    <a:ext cx="4624560" cy="23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961800" y="151596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ainty Equival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4049640"/>
            <a:ext cx="195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al Controller N =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305080" y="1619280"/>
          <a:ext cx="4637160" cy="238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5080" y="1619280"/>
                    <a:ext cx="4637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305080" y="4051440"/>
          <a:ext cx="4637160" cy="2387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5080" y="4051440"/>
                    <a:ext cx="4637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961800" y="151596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ainty Equival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4049640"/>
            <a:ext cx="195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al Controller N =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shit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ito Obrig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130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ASA_CO13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hit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99520" y="2612880"/>
            <a:ext cx="4982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a Pressão Ar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47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ASA_CO13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arciocircuit" descr=""/>
          <p:cNvPicPr/>
          <p:nvPr/>
        </p:nvPicPr>
        <p:blipFill>
          <a:blip r:embed="rId1"/>
          <a:stretch/>
        </p:blipFill>
        <p:spPr>
          <a:xfrm>
            <a:off x="668160" y="2355840"/>
            <a:ext cx="4183200" cy="3586320"/>
          </a:xfrm>
          <a:prstGeom prst="rect">
            <a:avLst/>
          </a:prstGeom>
          <a:ln w="0">
            <a:noFill/>
          </a:ln>
        </p:spPr>
      </p:pic>
      <p:pic>
        <p:nvPicPr>
          <p:cNvPr id="51" name="circulacao" descr=""/>
          <p:cNvPicPr/>
          <p:nvPr/>
        </p:nvPicPr>
        <p:blipFill>
          <a:blip r:embed="rId2"/>
          <a:stretch/>
        </p:blipFill>
        <p:spPr>
          <a:xfrm>
            <a:off x="5537160" y="1932120"/>
            <a:ext cx="2800440" cy="4479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94840" y="131616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o da Circu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ROL" descr=""/>
          <p:cNvPicPr/>
          <p:nvPr/>
        </p:nvPicPr>
        <p:blipFill>
          <a:blip r:embed="rId1"/>
          <a:stretch/>
        </p:blipFill>
        <p:spPr>
          <a:xfrm>
            <a:off x="4249800" y="2563920"/>
            <a:ext cx="4705200" cy="2614680"/>
          </a:xfrm>
          <a:prstGeom prst="rect">
            <a:avLst/>
          </a:prstGeom>
          <a:ln w="0">
            <a:noFill/>
          </a:ln>
        </p:spPr>
      </p:pic>
      <p:pic>
        <p:nvPicPr>
          <p:cNvPr id="54" name="baroreceptorcarotid" descr=""/>
          <p:cNvPicPr/>
          <p:nvPr/>
        </p:nvPicPr>
        <p:blipFill>
          <a:blip r:embed="rId2"/>
          <a:stretch/>
        </p:blipFill>
        <p:spPr>
          <a:xfrm>
            <a:off x="185760" y="1220760"/>
            <a:ext cx="2397240" cy="3284640"/>
          </a:xfrm>
          <a:prstGeom prst="rect">
            <a:avLst/>
          </a:prstGeom>
          <a:ln w="0">
            <a:noFill/>
          </a:ln>
        </p:spPr>
      </p:pic>
      <p:pic>
        <p:nvPicPr>
          <p:cNvPr id="55" name="Carotidas" descr=""/>
          <p:cNvPicPr/>
          <p:nvPr/>
        </p:nvPicPr>
        <p:blipFill>
          <a:blip r:embed="rId3"/>
          <a:stretch/>
        </p:blipFill>
        <p:spPr>
          <a:xfrm>
            <a:off x="2381400" y="3881520"/>
            <a:ext cx="2128680" cy="2552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llu_cranial_nerves" descr=""/>
          <p:cNvPicPr/>
          <p:nvPr/>
        </p:nvPicPr>
        <p:blipFill>
          <a:blip r:embed="rId1"/>
          <a:stretch/>
        </p:blipFill>
        <p:spPr>
          <a:xfrm>
            <a:off x="297000" y="1409760"/>
            <a:ext cx="3625560" cy="5122800"/>
          </a:xfrm>
          <a:prstGeom prst="rect">
            <a:avLst/>
          </a:prstGeom>
          <a:ln w="0">
            <a:noFill/>
          </a:ln>
        </p:spPr>
      </p:pic>
      <p:pic>
        <p:nvPicPr>
          <p:cNvPr id="57" name="CONTROL" descr=""/>
          <p:cNvPicPr/>
          <p:nvPr/>
        </p:nvPicPr>
        <p:blipFill>
          <a:blip r:embed="rId2"/>
          <a:stretch/>
        </p:blipFill>
        <p:spPr>
          <a:xfrm>
            <a:off x="4249800" y="2563920"/>
            <a:ext cx="4705200" cy="26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ROL" descr=""/>
          <p:cNvPicPr/>
          <p:nvPr/>
        </p:nvPicPr>
        <p:blipFill>
          <a:blip r:embed="rId1"/>
          <a:stretch/>
        </p:blipFill>
        <p:spPr>
          <a:xfrm>
            <a:off x="4249800" y="2563920"/>
            <a:ext cx="4705200" cy="2614680"/>
          </a:xfrm>
          <a:prstGeom prst="rect">
            <a:avLst/>
          </a:prstGeom>
          <a:ln w="0">
            <a:noFill/>
          </a:ln>
        </p:spPr>
      </p:pic>
      <p:pic>
        <p:nvPicPr>
          <p:cNvPr id="59" name="SisteAutonomo" descr=""/>
          <p:cNvPicPr/>
          <p:nvPr/>
        </p:nvPicPr>
        <p:blipFill>
          <a:blip r:embed="rId2"/>
          <a:stretch/>
        </p:blipFill>
        <p:spPr>
          <a:xfrm>
            <a:off x="304920" y="1531800"/>
            <a:ext cx="3957480" cy="4532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rolePress" descr=""/>
          <p:cNvPicPr/>
          <p:nvPr/>
        </p:nvPicPr>
        <p:blipFill>
          <a:blip r:embed="rId1"/>
          <a:stretch/>
        </p:blipFill>
        <p:spPr>
          <a:xfrm>
            <a:off x="565200" y="1055520"/>
            <a:ext cx="7740720" cy="5802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rterial_pressure" descr=""/>
          <p:cNvPicPr/>
          <p:nvPr/>
        </p:nvPicPr>
        <p:blipFill>
          <a:blip r:embed="rId1"/>
          <a:stretch/>
        </p:blipFill>
        <p:spPr>
          <a:xfrm>
            <a:off x="934920" y="1512720"/>
            <a:ext cx="7280280" cy="4623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ardioVasc" descr=""/>
          <p:cNvPicPr/>
          <p:nvPr/>
        </p:nvPicPr>
        <p:blipFill>
          <a:blip r:embed="rId1"/>
          <a:stretch/>
        </p:blipFill>
        <p:spPr>
          <a:xfrm>
            <a:off x="1263600" y="1614600"/>
            <a:ext cx="6734160" cy="441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Takashi Yoneyama</cp:lastModifiedBy>
  <dcterms:modified xsi:type="dcterms:W3CDTF">2010-03-06T12:26:15Z</dcterms:modified>
  <cp:revision>56</cp:revision>
  <dc:subject/>
  <dc:title>No Slide Title</dc:title>
</cp:coreProperties>
</file>