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10.png" ContentType="image/png"/>
  <Override PartName="/ppt/media/image25.wmf" ContentType="image/x-wmf"/>
  <Override PartName="/ppt/media/image22.jpeg" ContentType="image/jpeg"/>
  <Override PartName="/ppt/media/image14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4880" y="31896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myoX" descr=""/>
          <p:cNvPicPr/>
          <p:nvPr/>
        </p:nvPicPr>
        <p:blipFill>
          <a:blip r:embed="rId1"/>
          <a:stretch/>
        </p:blipFill>
        <p:spPr>
          <a:xfrm>
            <a:off x="1407960" y="1895400"/>
            <a:ext cx="6586560" cy="4211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781720" y="102384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Rx: Hipertrofia Cardí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ECG_EVOL" descr=""/>
          <p:cNvPicPr/>
          <p:nvPr/>
        </p:nvPicPr>
        <p:blipFill>
          <a:blip r:embed="rId1"/>
          <a:stretch/>
        </p:blipFill>
        <p:spPr>
          <a:xfrm>
            <a:off x="2535120" y="1719360"/>
            <a:ext cx="3967200" cy="4871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89320" y="1009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80960" y="4689360"/>
            <a:ext cx="2803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Hyperkala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 wave tall, narrow peak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aked P wa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 QRS wi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ne wa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F/asysto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15680" y="4708440"/>
            <a:ext cx="191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Hypokalaemi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 wav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 notch – flatte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 de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5080" y="4834080"/>
            <a:ext cx="0" cy="1755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MPE_12END_156_02_eps" descr=""/>
          <p:cNvPicPr/>
          <p:nvPr/>
        </p:nvPicPr>
        <p:blipFill>
          <a:blip r:embed="rId1"/>
          <a:stretch/>
        </p:blipFill>
        <p:spPr>
          <a:xfrm>
            <a:off x="2306520" y="1328760"/>
            <a:ext cx="4761000" cy="322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rolongedQT" descr=""/>
          <p:cNvPicPr/>
          <p:nvPr/>
        </p:nvPicPr>
        <p:blipFill>
          <a:blip r:embed="rId1"/>
          <a:stretch/>
        </p:blipFill>
        <p:spPr>
          <a:xfrm>
            <a:off x="1035000" y="2556000"/>
            <a:ext cx="7440840" cy="4108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349440" y="103824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Hypokala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906438-907111-635" descr=""/>
          <p:cNvPicPr/>
          <p:nvPr/>
        </p:nvPicPr>
        <p:blipFill>
          <a:blip r:embed="rId2"/>
          <a:stretch/>
        </p:blipFill>
        <p:spPr>
          <a:xfrm>
            <a:off x="442800" y="1163520"/>
            <a:ext cx="1698840" cy="127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HyperK2" descr=""/>
          <p:cNvPicPr/>
          <p:nvPr/>
        </p:nvPicPr>
        <p:blipFill>
          <a:blip r:embed="rId1"/>
          <a:stretch/>
        </p:blipFill>
        <p:spPr>
          <a:xfrm>
            <a:off x="947880" y="2530440"/>
            <a:ext cx="7381800" cy="413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66000" y="108108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Hyperkala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906438-907111-636" descr="A graphical representation of the ECG changes of ..."/>
          <p:cNvPicPr/>
          <p:nvPr/>
        </p:nvPicPr>
        <p:blipFill>
          <a:blip r:embed="rId2"/>
          <a:stretch/>
        </p:blipFill>
        <p:spPr>
          <a:xfrm>
            <a:off x="514440" y="1216080"/>
            <a:ext cx="1760400" cy="132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04080" y="106848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Uso de Digi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digitalistoxicitycf" descr=""/>
          <p:cNvPicPr/>
          <p:nvPr/>
        </p:nvPicPr>
        <p:blipFill>
          <a:blip r:embed="rId1"/>
          <a:stretch/>
        </p:blipFill>
        <p:spPr>
          <a:xfrm>
            <a:off x="1473120" y="2320920"/>
            <a:ext cx="6864480" cy="4359240"/>
          </a:xfrm>
          <a:prstGeom prst="rect">
            <a:avLst/>
          </a:prstGeom>
          <a:ln w="0">
            <a:noFill/>
          </a:ln>
        </p:spPr>
      </p:pic>
      <p:pic>
        <p:nvPicPr>
          <p:cNvPr id="87" name="20090420130435" descr=""/>
          <p:cNvPicPr/>
          <p:nvPr/>
        </p:nvPicPr>
        <p:blipFill>
          <a:blip r:embed="rId2"/>
          <a:stretch/>
        </p:blipFill>
        <p:spPr>
          <a:xfrm>
            <a:off x="609480" y="1440000"/>
            <a:ext cx="1246320" cy="1622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1-13" descr=""/>
          <p:cNvPicPr/>
          <p:nvPr/>
        </p:nvPicPr>
        <p:blipFill>
          <a:blip r:embed="rId1"/>
          <a:stretch/>
        </p:blipFill>
        <p:spPr>
          <a:xfrm>
            <a:off x="1125360" y="1409760"/>
            <a:ext cx="6975720" cy="501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1-8" descr=""/>
          <p:cNvPicPr/>
          <p:nvPr/>
        </p:nvPicPr>
        <p:blipFill>
          <a:blip r:embed="rId1"/>
          <a:stretch/>
        </p:blipFill>
        <p:spPr>
          <a:xfrm>
            <a:off x="2770200" y="1230480"/>
            <a:ext cx="3782880" cy="535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16120" y="1998720"/>
          <a:ext cx="591984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1998720"/>
                    <a:ext cx="591984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700360" y="104292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juste de Ondas P de E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69960" y="1989000"/>
          <a:ext cx="611028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9960" y="1989000"/>
                    <a:ext cx="611028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700360" y="104292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juste de Ondas P de E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99680" y="2798640"/>
            <a:ext cx="6560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G: Alterações de Morfologia e Ei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7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606680" y="1971720"/>
          <a:ext cx="6110280" cy="45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1971720"/>
                    <a:ext cx="611028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700360" y="104292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juste de Ondas P de E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02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ecg_torso" descr=""/>
          <p:cNvPicPr/>
          <p:nvPr/>
        </p:nvPicPr>
        <p:blipFill>
          <a:blip r:embed="rId1"/>
          <a:stretch/>
        </p:blipFill>
        <p:spPr>
          <a:xfrm>
            <a:off x="2387520" y="1558800"/>
            <a:ext cx="4430880" cy="4986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28240" y="103824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rincipais Deriv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1-7" descr=""/>
          <p:cNvPicPr/>
          <p:nvPr/>
        </p:nvPicPr>
        <p:blipFill>
          <a:blip r:embed="rId1"/>
          <a:stretch/>
        </p:blipFill>
        <p:spPr>
          <a:xfrm>
            <a:off x="1076400" y="1554120"/>
            <a:ext cx="7218360" cy="5106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03720" y="10540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E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86040" y="2446200"/>
            <a:ext cx="3152160" cy="26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Axis Deviation Caus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ypertroph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far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undle branch b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emib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rect lead plac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86040" y="2446200"/>
            <a:ext cx="3152160" cy="26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Axis Deviation Caus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ypertroph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far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undle branch b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emib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rect lead plac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41480" y="1719360"/>
            <a:ext cx="5538960" cy="4935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02040" y="106524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res dos Eletr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Hipetrofia" descr=""/>
          <p:cNvPicPr/>
          <p:nvPr/>
        </p:nvPicPr>
        <p:blipFill>
          <a:blip r:embed="rId1"/>
          <a:stretch/>
        </p:blipFill>
        <p:spPr>
          <a:xfrm>
            <a:off x="685800" y="3613320"/>
            <a:ext cx="4041720" cy="29113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441320" y="1452600"/>
            <a:ext cx="4483440" cy="3192480"/>
            <a:chOff x="4441320" y="1452600"/>
            <a:chExt cx="4483440" cy="3192480"/>
          </a:xfrm>
        </p:grpSpPr>
        <p:pic>
          <p:nvPicPr>
            <p:cNvPr id="60" name="hipertrofiavent" descr=""/>
            <p:cNvPicPr/>
            <p:nvPr/>
          </p:nvPicPr>
          <p:blipFill>
            <a:blip r:embed="rId2"/>
            <a:stretch/>
          </p:blipFill>
          <p:spPr>
            <a:xfrm flipH="1">
              <a:off x="4441320" y="1690920"/>
              <a:ext cx="4405320" cy="28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577000" y="1452600"/>
              <a:ext cx="347760" cy="319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11760" y="100980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Hipertrofia Ventr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HVIECG39" descr=""/>
          <p:cNvPicPr/>
          <p:nvPr/>
        </p:nvPicPr>
        <p:blipFill>
          <a:blip r:embed="rId1"/>
          <a:stretch/>
        </p:blipFill>
        <p:spPr>
          <a:xfrm>
            <a:off x="322200" y="2846520"/>
            <a:ext cx="3868920" cy="2313000"/>
          </a:xfrm>
          <a:prstGeom prst="rect">
            <a:avLst/>
          </a:prstGeom>
          <a:ln w="0">
            <a:noFill/>
          </a:ln>
        </p:spPr>
      </p:pic>
      <p:pic>
        <p:nvPicPr>
          <p:cNvPr id="64" name="HVIECG40" descr=""/>
          <p:cNvPicPr/>
          <p:nvPr/>
        </p:nvPicPr>
        <p:blipFill>
          <a:blip r:embed="rId2"/>
          <a:stretch/>
        </p:blipFill>
        <p:spPr>
          <a:xfrm>
            <a:off x="4683240" y="2422440"/>
            <a:ext cx="4002120" cy="2895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6480" y="102384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Eixo do Co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hypertX" descr=""/>
          <p:cNvPicPr/>
          <p:nvPr/>
        </p:nvPicPr>
        <p:blipFill>
          <a:blip r:embed="rId1"/>
          <a:stretch/>
        </p:blipFill>
        <p:spPr>
          <a:xfrm>
            <a:off x="1201680" y="1782720"/>
            <a:ext cx="3606840" cy="46497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897440" y="1668600"/>
            <a:ext cx="3230640" cy="4949640"/>
            <a:chOff x="4897440" y="1668600"/>
            <a:chExt cx="3230640" cy="4949640"/>
          </a:xfrm>
        </p:grpSpPr>
        <p:pic>
          <p:nvPicPr>
            <p:cNvPr id="68" name="ChagasMyocarditis" descr=""/>
            <p:cNvPicPr/>
            <p:nvPr/>
          </p:nvPicPr>
          <p:blipFill>
            <a:blip r:embed="rId2"/>
            <a:stretch/>
          </p:blipFill>
          <p:spPr>
            <a:xfrm>
              <a:off x="4897440" y="1787760"/>
              <a:ext cx="3135240" cy="46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896240" y="1668600"/>
              <a:ext cx="231840" cy="49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781720" y="102384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Rx: Hipertrofia Cardí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10-03-20T15:05:51Z</dcterms:modified>
  <cp:revision>74</cp:revision>
  <dc:subject/>
  <dc:title>No Slide Title</dc:title>
</cp:coreProperties>
</file>