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5B6A-D31B-4949-8771-AE524D92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2A18-D956-4A6E-B7AF-B99020B0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065-E7F4-47BE-ADA6-D9BCCB78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1EA6-135D-40A2-A515-0737C2F2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67A-D776-4E85-AA89-DCEBDB46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22B5-AB0D-4A86-B622-F40FF5D6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6B2-0A35-439A-85D9-F514A66A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6CDE-74BA-47FB-9EC9-20305190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2560"/>
            <a:ext cx="7772400" cy="42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2A3-E3CA-46ED-992B-0A636E6C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41DF-7C9A-42AF-B1FE-72655262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F2B-FF88-415E-A41E-8AC7F25D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E5FF-5CD2-4F60-8B40-C32B4B79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7B40-1FB6-4316-B22E-396F88C83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4880" y="318960"/>
            <a:ext cx="112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mana 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ula 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Demonstraçã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533600" y="1155600"/>
                <a:ext cx="62229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273320" y="2151000"/>
                <a:ext cx="670536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244520" y="4040280"/>
                <a:ext cx="678204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r>
                                      <m:t xml:space="preserve">|</m:t>
                                    </m:r>
                                    <m:r>
                                      <m:t xml:space="preserve">|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|</m:t>
                                    </m:r>
                                    <m:sSup>
                                      <m:e>
                                        <m:r>
                                          <m:t xml:space="preserve">|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 de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328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t-BR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 Passo: Direções principais a partir da origem do espaç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91800"/>
            <a:ext cx="77724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blema: Encontrar uma aproximação para cada padrão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da fo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687760" y="3068640"/>
                <a:ext cx="3381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695160" y="3830760"/>
            <a:ext cx="77724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ndo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um vetor de norma unitária, de modo a minim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597040" y="4881600"/>
                <a:ext cx="3662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Soluçã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031760" y="1155600"/>
                <a:ext cx="72234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r>
                                      <m:t xml:space="preserve">|</m:t>
                                    </m:r>
                                    <m:r>
                                      <m:t xml:space="preserve">|</m:t>
                                    </m:r>
                                    <m:r>
                                      <m:t xml:space="preserve">e</m:t>
                                    </m:r>
                                    <m:r>
                                      <m:t xml:space="preserve">|</m:t>
                                    </m:r>
                                    <m:sSup>
                                      <m:e>
                                        <m:r>
                                          <m:t xml:space="preserve">|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groupChr>
                              </m:e>
                              <m:lim>
                                <m:r>
                                  <m:t xml:space="preserve">1</m:t>
                                </m:r>
                              </m:lim>
                            </m:limLow>
                          </m:e>
                        </m:nary>
                        <m:r>
                          <m:t xml:space="preserve">−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100320" y="4056120"/>
                <a:ext cx="320364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252960" y="6037200"/>
                <a:ext cx="2590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Interpretação da aproximaçã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381040"/>
            <a:ext cx="77724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notando por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a diferença de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m relação à média, tem-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81320" y="1650960"/>
                <a:ext cx="25909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711520" y="3521160"/>
                <a:ext cx="3606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i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e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852480" y="4276800"/>
            <a:ext cx="77724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 seja, a aproximação a partir do ponto central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é dada pela projeção de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ci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a direção de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coeficiente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xpressa a coordenada de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no eixo definido pelo vetor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Obtenção do melhor vetor 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7360" y="1095120"/>
            <a:ext cx="77724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Substituindo a expressão encontrada para 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pt-BR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na função de custo, obtém-s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08040" y="1951200"/>
                <a:ext cx="7985160" cy="36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sub>
                            </m:sSub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−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sub>
                            </m:sSub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sub>
                            </m:sSub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i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Σ</m:t>
                        </m:r>
                        <m:r>
                          <m:t xml:space="preserve">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164360" y="5653080"/>
                <a:ext cx="17496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i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233280" y="5764320"/>
            <a:ext cx="70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em que </a:t>
            </a:r>
            <a:r>
              <a:rPr b="1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, dita Matriz de Espalhamento, é dada po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Obtenção do melhor vetor 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7080" y="2109960"/>
            <a:ext cx="777240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 minimização de 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equivale à maximização de 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pt-BR" sz="26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sob a restrição de que 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tenha norma unitár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Empregando um multiplicador de Lagrange </a:t>
            </a:r>
            <a:r>
              <a:rPr b="0" i="1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, deve-se analisar a seguinte expressã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782800" y="1279440"/>
                <a:ext cx="3205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eΣ</m:t>
                    </m:r>
                    <m:r>
                      <m:t xml:space="preserve">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</m:t>
                            </m:r>
                          </m:sub>
                        </m:sSub>
                        <m:r>
                          <m:t xml:space="preserve">|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017880" y="4029120"/>
                <a:ext cx="3278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Σ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38160" y="4648320"/>
            <a:ext cx="77724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Calculando o gradiente de 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) com respeito a 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, obtém-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440160" y="5504040"/>
                <a:ext cx="19573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eΣ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λ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Obtenção do melhor vetor 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9840" y="2166480"/>
            <a:ext cx="778644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gualando o gradiente a zero e transpondo o resultado, tem-se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611520" y="1274760"/>
                <a:ext cx="19573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eΣ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λ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693960" y="3092400"/>
                <a:ext cx="1295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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λ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666720" y="3691080"/>
            <a:ext cx="82868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 seja,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pt-BR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é um autovetor da matriz de espalhamento </a:t>
            </a:r>
            <a:r>
              <a:rPr b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dicionalmente, como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pt-BR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pt-BR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conclui-se que para maximizar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pt-BR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deve-se tomar o autovetor correspondente ao maior autovalor de </a:t>
            </a:r>
            <a:r>
              <a:rPr b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a Componente Principal dos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Generalização para 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Componentes Principai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1400" y="13237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so se deseje obter aproximações da fo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494160" y="1943280"/>
                <a:ext cx="2084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623880" y="2862360"/>
            <a:ext cx="80582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pode-se mostrar que o erro quadrático total de aproximação é minimizado quando 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são os 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autovetores de </a:t>
            </a:r>
            <a:r>
              <a:rPr b="1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associados aos maiores autovalo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Como </a:t>
            </a:r>
            <a:r>
              <a:rPr b="1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é real e simétrica, seus autovetores são ortogona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Caso os padrões 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pt-BR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estejam distribuídos em uma “nuvem” com formato hiper-elipsoidal, os autovetores de </a:t>
            </a:r>
            <a:r>
              <a:rPr b="1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são os eixos principais do hiper-elipsói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Os coeficientes 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pt-BR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são denominados “escores” do padrão 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pt-BR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6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Decomposição em Valores Singulares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Singular Value Decomposition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, SV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423800"/>
            <a:ext cx="811548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étodo numérico eficiente para realizar uma P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te-se inicialmente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79360" y="2432160"/>
                <a:ext cx="6489720" cy="18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i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c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  <m:sup>
                                          <m:r>
                                            <m:t xml:space="preserve">T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c</m:t>
                                          </m:r>
                                          <m:r>
                                            <m:t xml:space="preserve">2</m:t>
                                          </m:r>
                                        </m:e>
                                        <m:sup>
                                          <m:r>
                                            <m:t xml:space="preserve">T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166760" y="4576680"/>
            <a:ext cx="1314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m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908440" y="4556160"/>
                <a:ext cx="2763720" cy="18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Decomposição em Valores Singula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0120" y="1480680"/>
            <a:ext cx="77724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a SVD decompõe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m três matrizes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tais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668760" y="2322360"/>
                <a:ext cx="1496880" cy="139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S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U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566640" y="3976560"/>
            <a:ext cx="8158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ndo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uma matriz retangular tal que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= 0 para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5160" y="4591080"/>
            <a:ext cx="77583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 base nessa decomposição, tem-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897200" y="5259240"/>
                <a:ext cx="538308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S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US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S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D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704880" y="5757840"/>
            <a:ext cx="77580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ndo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uma matriz diagonal com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52920" y="2951280"/>
            <a:ext cx="57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grupamento de padr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47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Decomposição em Valores Singula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65284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de-se ver então que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é a matriz cujas colunas correspondem aos autovetores de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pt-BR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com autovalores correspondendo aos elementos da diagonal de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escore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corresponde ao produto escalar de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com a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ésima coluna de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824120" y="1204920"/>
                <a:ext cx="55864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D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D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V</m:t>
                        </m:r>
                      </m:e>
                      <m:e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510000" y="5686560"/>
                <a:ext cx="1908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Exemplo: Agrupamento de Batimentos Extra-sistólicos de origem ventricula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gistro 106 do banco MIT-BIH de Arritmi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460 extra-sístoles de origem ventricular (excluindo os cinco primeiros minutos de aquisiçã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plexos QRS agrupados em oito subtipos morfológicos indicados no arquivo de anotaçõ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52560"/>
            <a:ext cx="84582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Distribuição dos subtipos (grupos) morfológic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38320" y="1271520"/>
            <a:ext cx="6891120" cy="516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H="1">
            <a:off x="3457080" y="1900080"/>
            <a:ext cx="414360" cy="314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624280" y="3081240"/>
            <a:ext cx="414360" cy="314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Complexos QRS dos grupos 1 e 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52360" y="2529000"/>
            <a:ext cx="6891480" cy="4132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57280" y="1095480"/>
            <a:ext cx="7772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Padrões formados por 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36 pontos antes e 54 pontos depois da indicação do QRS (ponto fiducial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Normalização entre –1 e +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Escores de PC1 e PC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52560" y="1271520"/>
            <a:ext cx="6891120" cy="51642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1886040" y="1685880"/>
            <a:ext cx="2671560" cy="1700280"/>
            <a:chOff x="1886040" y="1685880"/>
            <a:chExt cx="2671560" cy="1700280"/>
          </a:xfrm>
        </p:grpSpPr>
        <p:sp>
          <p:nvSpPr>
            <p:cNvPr id="142" name=""/>
            <p:cNvSpPr/>
            <p:nvPr/>
          </p:nvSpPr>
          <p:spPr>
            <a:xfrm>
              <a:off x="1886040" y="1685880"/>
              <a:ext cx="2671560" cy="170028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95880" y="2610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3333cc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Grupo 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38320" y="1214280"/>
            <a:ext cx="689112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Grupo 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24000" y="1328760"/>
            <a:ext cx="68914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Pergunt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00200" y="24955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o agrupar os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padrões de forma automátic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0028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nálise Hierárquica de Agrupamentos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Hierarchical Cluster Analysis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, HCA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38060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déia: Formar agrupamentos maiores a partir da combinação de agrupamentos men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goritmo: Seja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o número de agrup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icialização: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agrupamentos contendo um padrão c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pet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grupar os dois agrupamentos mais próximos entre 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té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=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5872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Como definir a distância entre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dois agrupamentos 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pt-BR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pt-BR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830240" y="1523880"/>
                <a:ext cx="5365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lim>
                    </m:limLow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|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827360" y="2706840"/>
                <a:ext cx="540216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lim>
                    </m:limLow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|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889280" y="3854520"/>
                <a:ext cx="53006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449440" y="5262480"/>
                <a:ext cx="40737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O Problema de Agrupamento de Padrõ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0280" y="456696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Vale notar que os objetos aqui apresentados poderiam ser agrupados por forma ou tamanh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O agrupamento depende das características (“features”) escolhidas para representar os padrõ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479680" y="1149480"/>
          <a:ext cx="4060800" cy="34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9680" y="1149480"/>
                    <a:ext cx="4060800" cy="34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1240" y="-36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endograma usando o critério d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vizinho mais próximo (com base em PC1 e PC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2420" t="6223" r="4664" b="6916"/>
          <a:stretch/>
        </p:blipFill>
        <p:spPr>
          <a:xfrm>
            <a:off x="781200" y="1185840"/>
            <a:ext cx="7684920" cy="5383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114640" y="2443320"/>
            <a:ext cx="622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Primeiro grupo do Dendogram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52360" y="1371600"/>
            <a:ext cx="68914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Segundo grupo do Dendogram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38320" y="1271520"/>
            <a:ext cx="689112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Padrões restan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23920" y="1128600"/>
            <a:ext cx="68914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Outras possibilidad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goritmo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me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apa auto-organizativo de Kohonen (redução de dimensionalidade e agrupament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grupamento de padrões: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Utilida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2440" y="1452240"/>
            <a:ext cx="84870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 análise de registros de ECG de longa duração pode ser uma tarefa desgastan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À taxa de 75 bpm, o registro contém aproximadamen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2.000 batimentos em 30 m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100.000 batimentos em 24 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 análise visual pode ser facilitada caso os batimentos sejam previamente reunidos em grupos de morfologia semelhante (tipicamente com base no complexo QR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pós o agrupamento, basta ao especialista inspecionar um elemento representativo de cada grup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Exemplo simplificad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85520" y="1566360"/>
            <a:ext cx="45147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sidere o seguinte conjunto de padrões descritos por um par de características {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095800" y="1682640"/>
          <a:ext cx="2781360" cy="4100400"/>
        </p:xfrm>
        <a:graphic>
          <a:graphicData uri="http://schemas.openxmlformats.org/drawingml/2006/table">
            <a:tbl>
              <a:tblPr/>
              <a:tblGrid>
                <a:gridCol w="1390680"/>
                <a:gridCol w="13906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pt-B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pt-B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Exemplo simplificad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4149" r="0" b="0"/>
          <a:stretch/>
        </p:blipFill>
        <p:spPr>
          <a:xfrm>
            <a:off x="952560" y="1114560"/>
            <a:ext cx="6891120" cy="4949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51120" y="3025800"/>
            <a:ext cx="549288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incípio bás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palhamento intra-grupos peque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palhamento entre-grupos gra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43360" y="1371600"/>
            <a:ext cx="2443320" cy="142884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14640" y="3728880"/>
            <a:ext cx="1957320" cy="1743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26560" y="570564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7560" y="30510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Pergunt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3040" y="246672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o vizualizar os dados quando o número de características for maior do que doi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56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nálise de Componentes Principais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Principal Component Analysis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, PCA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ransformação linear que projeta os padrões em um espaço de dimensão reduzida, de modo a facilitar visualização e anál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al espaço é definido de modo a proporcionar a melhor representação reduzida dos padrões de acordo com o critério de mínimos-quad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t-BR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 Passo: Origem do Espaço de Componentes Principai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666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blema: Dados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padrões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de dimensão (1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, encontrar um ponto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pt-BR" sz="2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que minim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078000" y="2955960"/>
                <a:ext cx="2819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3" name=""/>
          <p:cNvGrpSpPr/>
          <p:nvPr/>
        </p:nvGrpSpPr>
        <p:grpSpPr>
          <a:xfrm>
            <a:off x="666720" y="4033800"/>
            <a:ext cx="7772400" cy="1616040"/>
            <a:chOff x="666720" y="4033800"/>
            <a:chExt cx="7772400" cy="1616040"/>
          </a:xfrm>
        </p:grpSpPr>
        <p:sp>
          <p:nvSpPr>
            <p:cNvPr id="74" name=""/>
            <p:cNvSpPr/>
            <p:nvPr/>
          </p:nvSpPr>
          <p:spPr>
            <a:xfrm>
              <a:off x="666720" y="4033800"/>
              <a:ext cx="77724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Solução: </a:t>
              </a: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pt-BR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 = média amostral </a:t>
              </a: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3691080" y="4784760"/>
                  <a:ext cx="152532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Roberto</cp:lastModifiedBy>
  <dcterms:modified xsi:type="dcterms:W3CDTF">2010-03-27T15:56:41Z</dcterms:modified>
  <cp:revision>291</cp:revision>
  <dc:subject/>
  <dc:title>No Slide Title</dc:title>
</cp:coreProperties>
</file>