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64A-A589-4405-B23A-2024579A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F5E-42CD-47D8-8D24-2ABCAAC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9C5-BD1E-48C3-84E7-0D169D52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7C9-EAEF-4AAF-9495-7CD1BBB7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DF3-3115-490E-8C3A-92B6433C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3A6-FB55-4300-A196-CFADB6FE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263-CA8D-4A32-9ED8-1B0B2E1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1AF-1A7E-47C7-9E72-C99C2C2F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2560"/>
            <a:ext cx="777240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6F4-B8D3-47F4-82B4-F72B66E6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022-3704-4FF2-9295-7F2A8EDD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B50-78A9-4F26-9AB3-3F54D42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BEE-A511-4ED9-A6B0-F45B6BA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E51F-A7F6-48B4-9221-2CC28B279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Treiname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4240" y="1181160"/>
            <a:ext cx="777240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Neste caso, o “treinamento” consiste na determinação dos padrões de referência (tomados como a média dos padrões de treinamento de cada clas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38360" y="2513160"/>
            <a:ext cx="55134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Tes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344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sultado da classificação do conjunto de tes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“Tabela de Contingência” ou “Matriz de Confusão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2625840"/>
          <a:ext cx="6096240" cy="2778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11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e atribuí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e Verdadei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09760" y="5605560"/>
            <a:ext cx="8343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xa de acerto: (79 + 56)/(81 + 56) = 98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xtração de característ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200" y="1195200"/>
            <a:ext cx="8015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Seria possível realizar a classificação com base em um número reduzido de características que englobem adequadamente a diferença entre as classes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9640" y="2513160"/>
            <a:ext cx="5513400" cy="413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43320" y="2828880"/>
            <a:ext cx="0" cy="337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494400" y="3500280"/>
                <a:ext cx="2408400" cy="21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81600" y="2824200"/>
            <a:ext cx="0" cy="337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Utilizando as novas característ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6800" y="117792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eta de Decis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24000" y="120024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imalidade da Lei de Classific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680" y="136692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ob que condições a classificação por padrões de referência seria ótima (no sentido de minimizar a probabilidade de erro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ha que a função densidade de probabilida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ara os objetos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pertencentes à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ésima classe seja gaussiana, ou se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90560" y="4478400"/>
                <a:ext cx="7358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imalidade da Lei de Classific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5880" y="139500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sumindo probabilidade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ênticas para cada classe, a superfície de decisão entre as classe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 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 é dada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562200" y="2919240"/>
                <a:ext cx="2189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66760" y="3957480"/>
                <a:ext cx="680580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304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imalidade da Lei de Classific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00200" y="116640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licando LN aos dois lados da eq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38200" y="1771560"/>
                <a:ext cx="566280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766800" y="3762360"/>
            <a:ext cx="777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perfície de decisão quadrática em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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tem-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327320" y="4917960"/>
                <a:ext cx="65102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92040" y="6122880"/>
                <a:ext cx="28004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336840" y="6089760"/>
            <a:ext cx="565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LG dos pontos equidistantes a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imalidade da Lei de Classific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7080" y="1195560"/>
            <a:ext cx="77724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clusão: A classificação por padrões de referência é ótima quando todas as classes apresentam distribuições “esféricas” de igual dispersão em torno de suas méd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so contrário, torna-se necessário levar em conta as matrizes de covariância na lei de classificação (Análise Discrimina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sse caso, o “treinamento” consiste em estimar a média e covariância de cada classe a partir dos padrões fornec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22200" y="5396040"/>
                <a:ext cx="253080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68720" y="5408640"/>
                <a:ext cx="40086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étodos Paramétrico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Métodos Não-Paramétr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66880"/>
            <a:ext cx="815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métodos até aqui vistos para obtenção de leis de classificação são denominados “paramétricos” porque assumem uma forma para a distribuição de cada classe e em seguida estimam os parâmetros da distribuição a partir do conjunto de trein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so a hipótese sobre a distribuição esteja incorreta, o classificador resultante pode não ser adequ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ternativa: Métodos Não-Paramét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3520" y="2913120"/>
            <a:ext cx="56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lassificação de padr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7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étodos Não-Paramétrico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xemplo: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vizinhos mais próxim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3800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K nearest neighbour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K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padrão é classificado por votação entre seus</a:t>
            </a: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vizinhos mais próximos no conjunto de “treinament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ste caso, a classificação requer o armazenamento e consulta a todos os padrões do conjunto de trein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éia: A ocorrência de padrões de uma certa classe é maior em regiões do espaço em que a densidade de probabilidade associada àquela classe é ma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o exemplo considerado anteriormen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ixand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dos os padrões de teste são corretamente classificados (com ou sem extração de característic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Visualiza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4527" r="0" b="0"/>
          <a:stretch/>
        </p:blipFill>
        <p:spPr>
          <a:xfrm>
            <a:off x="838080" y="1117440"/>
            <a:ext cx="7583760" cy="542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3638520" y="3867120"/>
            <a:ext cx="271440" cy="385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14760" y="4257720"/>
            <a:ext cx="557280" cy="28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52800" y="4259160"/>
            <a:ext cx="561960" cy="439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mo determinar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 valor mais adequado para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0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paração de alguns padrões de treinament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fins de valid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lidação cruzada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ross-validatio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Jack-knif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mbém útil em outras decisões referentes à obtenção da lei de classificação (procedimento de extração de características, por exemp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plicação de Validação Cruzada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“leave-one-out”) à escolha de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5938" t="0" r="8019" b="0"/>
          <a:stretch/>
        </p:blipFill>
        <p:spPr>
          <a:xfrm>
            <a:off x="285840" y="2200320"/>
            <a:ext cx="4140000" cy="3614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6517" t="0" r="8296" b="0"/>
          <a:stretch/>
        </p:blipFill>
        <p:spPr>
          <a:xfrm>
            <a:off x="4821120" y="2171880"/>
            <a:ext cx="4108680" cy="36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1560" y="1360440"/>
            <a:ext cx="40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tor de características original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91 característ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398600"/>
            <a:ext cx="26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ós a redução par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utras possibilidad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Janelas de Par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s Neurais Artifi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s Neuro-Fuz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s Wavelet-Neu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upport Vector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étodos baseados em Componente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eferência utiliza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6560" y="233676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DA, R.O.; HART, P.E; STORK, D.G.</a:t>
            </a: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attern Classificatio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w York: John Wiley and Sons,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lassificação de padr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440" y="1652400"/>
            <a:ext cx="84870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ocedimento em que padrões são associados a classes pré-estabelecid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Utilida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Auxílio a diagnós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Monitoramento de sinais e geração de alarmes em tempo re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Relação entre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lassificação e Agrupament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ós uma etapa de agrupamento de padrões, um especialista pode rotular cada um dos grupos encontrados (juntando grupos, se necessár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vos padrões podem ser classificados através de sua inclusão em um dos grupos estabelecidos (de acordo com o critério de agrupamento utiliz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grupamento + Rotulaçã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finição de uma lei de classificaçã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“Treinamento do classificador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dimento dito “Não-Supervisionado” (ou de “Supervisão Fraca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Treinamento Supervisionad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360" y="1895400"/>
            <a:ext cx="83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einamento realizado com base em um conjunto de padrões previamente classificados por um especialista ou método de referência (“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Golden Tes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junto de treinamento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es (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I, sendo I o conjunto de possíveis índices de c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bjetivo: Obter uma lei de classificação que forneça a class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partir do conhecimento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objetos ainda não classifi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bordagem mais simples: Comparação com padrões de referência (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Template Matching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2096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Supondo que seja dado um padrão de referência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= 1, …,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) associado a cada uma das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classes do problema, a lei de classificação pode ser expressa co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548080" y="2712960"/>
                <a:ext cx="3789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52320" y="3348000"/>
            <a:ext cx="77724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Sendo dado um conjunto de treinamento, os padrões de referência podem ser tomados como sendo a média amostral de cada classe, isto 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52840" y="4745160"/>
                <a:ext cx="188604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19200" y="5757840"/>
            <a:ext cx="8410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sendo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o conjunto de índices dos padrões de treinamento pertencentes à classe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008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xemplo: Classificação de batimentos extrassistólicos em dois tipos morfológ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8096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 utilizado na aula pass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7106" b="0"/>
          <a:stretch/>
        </p:blipFill>
        <p:spPr>
          <a:xfrm>
            <a:off x="4532400" y="2614680"/>
            <a:ext cx="4483080" cy="3616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7402" b="0"/>
          <a:stretch/>
        </p:blipFill>
        <p:spPr>
          <a:xfrm>
            <a:off x="57240" y="2600280"/>
            <a:ext cx="4468680" cy="361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7080" y="2077920"/>
            <a:ext cx="415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Times New Roman"/>
              </a:rPr>
              <a:t>Classe 1 (Subtipo 1 do MI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74320" y="2073240"/>
            <a:ext cx="415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Times New Roman"/>
              </a:rPr>
              <a:t>Classe 2 (Subtipo 5 do MI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56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onjuntos de Treinamento e Tes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28880" y="159516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visão aleatória do conjunto de dados em treinamento e teste (para fins ilustrativ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3880" y="2982960"/>
          <a:ext cx="6096240" cy="2735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ju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ina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Roberto</cp:lastModifiedBy>
  <dcterms:modified xsi:type="dcterms:W3CDTF">2010-03-27T16:03:08Z</dcterms:modified>
  <cp:revision>343</cp:revision>
  <dc:subject/>
  <dc:title>No Slide Title</dc:title>
</cp:coreProperties>
</file>