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406520" y="1714680"/>
            <a:ext cx="6544800" cy="5142960"/>
            <a:chOff x="1406520" y="1714680"/>
            <a:chExt cx="6544800" cy="51429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67800" y="1714680"/>
              <a:ext cx="6316920" cy="51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06520" y="6299280"/>
              <a:ext cx="6544800" cy="5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67080" y="1209600"/>
            <a:ext cx="4048200" cy="535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73320" y="2401920"/>
            <a:ext cx="7132320" cy="311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36880" y="1058760"/>
            <a:ext cx="5045040" cy="560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6080" y="1739880"/>
            <a:ext cx="5960880" cy="452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43800" y="1008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raqué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447920"/>
            <a:ext cx="2781360" cy="400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1560" y="1512720"/>
            <a:ext cx="3995640" cy="29210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037040" y="4821120"/>
            <a:ext cx="4541400" cy="2036880"/>
            <a:chOff x="4037040" y="4821120"/>
            <a:chExt cx="4541400" cy="203688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4055760" y="4821120"/>
              <a:ext cx="45226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37040" y="6537240"/>
              <a:ext cx="45147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162080" y="1384200"/>
            <a:ext cx="7083000" cy="5473440"/>
            <a:chOff x="1162080" y="1384200"/>
            <a:chExt cx="7083000" cy="54734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62080" y="1384200"/>
              <a:ext cx="7083000" cy="54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162080" y="6622920"/>
              <a:ext cx="5045760" cy="15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06800" y="1743120"/>
            <a:ext cx="4678200" cy="438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90640" y="1036800"/>
            <a:ext cx="7700760" cy="513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54200" y="1577880"/>
            <a:ext cx="5977080" cy="476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0200" y="2698920"/>
            <a:ext cx="5987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tomia do Sistema Respir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68600" y="1263600"/>
            <a:ext cx="3903480" cy="50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4760" y="3751200"/>
            <a:ext cx="3701880" cy="22748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2449440" y="1546200"/>
            <a:ext cx="6411600" cy="4097160"/>
            <a:chOff x="2449440" y="1546200"/>
            <a:chExt cx="6411600" cy="40971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449440" y="1546200"/>
              <a:ext cx="3566520" cy="25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5490720" y="3239640"/>
              <a:ext cx="337032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67040" y="33598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40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43560" y="16405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200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2480" y="1517760"/>
            <a:ext cx="4717800" cy="45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1523880"/>
            <a:ext cx="6495840" cy="466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7120" y="1865160"/>
            <a:ext cx="5732280" cy="397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914480" y="1623960"/>
            <a:ext cx="5500440" cy="4474800"/>
            <a:chOff x="1914480" y="1623960"/>
            <a:chExt cx="5500440" cy="44748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990440" y="1727640"/>
              <a:ext cx="5379840" cy="43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914480" y="1623960"/>
              <a:ext cx="5500440" cy="18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349280" y="1508040"/>
            <a:ext cx="6719760" cy="4721040"/>
            <a:chOff x="1349280" y="1508040"/>
            <a:chExt cx="6719760" cy="47210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404360" y="1535760"/>
              <a:ext cx="6664680" cy="46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49280" y="1508040"/>
              <a:ext cx="666468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87760" y="3429000"/>
            <a:ext cx="4303800" cy="298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5840" y="1281240"/>
            <a:ext cx="3943440" cy="277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85960" y="1212840"/>
            <a:ext cx="3967200" cy="5087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8840" y="2627280"/>
            <a:ext cx="4092480" cy="1335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9880" y="1476360"/>
            <a:ext cx="3443040" cy="496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93760" y="1278000"/>
            <a:ext cx="6583320" cy="495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85960" y="1212840"/>
            <a:ext cx="39672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8840" y="2627280"/>
            <a:ext cx="4092480" cy="1335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23920" y="1571760"/>
            <a:ext cx="5040360" cy="458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4920" y="1247760"/>
            <a:ext cx="7566120" cy="540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1880" y="1314360"/>
            <a:ext cx="7812000" cy="507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4-03T17:32:00Z</dcterms:modified>
  <cp:revision>60</cp:revision>
  <dc:subject/>
  <dc:title>No Slide Title</dc:title>
</cp:coreProperties>
</file>