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png" ContentType="image/png"/>
  <Override PartName="/ppt/media/image49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2.jpeg" ContentType="image/jpeg"/>
  <Override PartName="/ppt/media/image43.jpeg" ContentType="image/jpeg"/>
  <Override PartName="/ppt/media/image44.jpeg" ContentType="image/jpeg"/>
  <Override PartName="/ppt/media/image34.png" ContentType="image/png"/>
  <Override PartName="/ppt/media/image45.jpeg" ContentType="image/jpeg"/>
  <Override PartName="/ppt/media/image35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46.png" ContentType="image/png"/>
  <Override PartName="/ppt/media/image47.jpeg" ContentType="image/jpeg"/>
  <Override PartName="/ppt/media/image31.jpeg" ContentType="image/jpeg"/>
  <Override PartName="/ppt/media/image48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5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03040"/>
            <a:ext cx="9144000" cy="785880"/>
            <a:chOff x="0" y="203040"/>
            <a:chExt cx="9144000" cy="785880"/>
          </a:xfrm>
        </p:grpSpPr>
        <p:sp>
          <p:nvSpPr>
            <p:cNvPr id="1" name=""/>
            <p:cNvSpPr/>
            <p:nvPr/>
          </p:nvSpPr>
          <p:spPr>
            <a:xfrm>
              <a:off x="0" y="988920"/>
              <a:ext cx="9144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257200" y="203040"/>
              <a:ext cx="466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EE-280 / 20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246240" y="203040"/>
              <a:ext cx="1382400" cy="5511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7634880" y="318960"/>
            <a:ext cx="112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emana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ula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631960" y="1933560"/>
            <a:ext cx="3969000" cy="4400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817080" y="99360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Absce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000080" y="3706920"/>
            <a:ext cx="3916440" cy="26589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449600" y="1692360"/>
            <a:ext cx="3757680" cy="2574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712880" y="1047600"/>
            <a:ext cx="61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  <a:ea typeface="Arial"/>
              </a:rPr>
              <a:t>Mycobacterium tuberculosos - B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753080" y="3382920"/>
            <a:ext cx="3416040" cy="3200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941560" y="1506600"/>
            <a:ext cx="2517840" cy="3249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900000" y="3262320"/>
            <a:ext cx="2473560" cy="31370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553560" y="102384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Tubercul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57080" y="1658880"/>
            <a:ext cx="2578320" cy="3657600"/>
          </a:xfrm>
          <a:prstGeom prst="rect">
            <a:avLst/>
          </a:prstGeom>
          <a:ln w="0">
            <a:noFill/>
          </a:ln>
        </p:spPr>
      </p:pic>
      <p:grpSp>
        <p:nvGrpSpPr>
          <p:cNvPr id="81" name=""/>
          <p:cNvGrpSpPr/>
          <p:nvPr/>
        </p:nvGrpSpPr>
        <p:grpSpPr>
          <a:xfrm>
            <a:off x="3048120" y="3468600"/>
            <a:ext cx="3022560" cy="3070440"/>
            <a:chOff x="3048120" y="3468600"/>
            <a:chExt cx="3022560" cy="3070440"/>
          </a:xfrm>
        </p:grpSpPr>
        <p:pic>
          <p:nvPicPr>
            <p:cNvPr id="82" name="" descr=""/>
            <p:cNvPicPr/>
            <p:nvPr/>
          </p:nvPicPr>
          <p:blipFill>
            <a:blip r:embed="rId2"/>
            <a:stretch/>
          </p:blipFill>
          <p:spPr>
            <a:xfrm>
              <a:off x="3048120" y="3468600"/>
              <a:ext cx="3022560" cy="28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255840" y="6262560"/>
              <a:ext cx="263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Cristais vistos com luz polariza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286240" y="1633680"/>
            <a:ext cx="3187800" cy="2985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871440" y="103680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Silic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347760" y="2382840"/>
            <a:ext cx="4371840" cy="3538440"/>
            <a:chOff x="347760" y="2382840"/>
            <a:chExt cx="4371840" cy="3538440"/>
          </a:xfrm>
        </p:grpSpPr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347760" y="2382840"/>
              <a:ext cx="4371840" cy="34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3395880" y="5572080"/>
              <a:ext cx="123336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610800" y="1008000"/>
            <a:ext cx="21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Pneumotór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484520" y="2335320"/>
            <a:ext cx="4121280" cy="3547440"/>
            <a:chOff x="4484520" y="2335320"/>
            <a:chExt cx="4121280" cy="3547440"/>
          </a:xfrm>
        </p:grpSpPr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4535280" y="2408040"/>
              <a:ext cx="4052880" cy="34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4484520" y="2335320"/>
              <a:ext cx="4121280" cy="11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09760" y="1508040"/>
            <a:ext cx="3686040" cy="435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21320" y="1538280"/>
            <a:ext cx="3867120" cy="4332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69880" y="1598760"/>
            <a:ext cx="6496200" cy="4260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17480" y="4186080"/>
            <a:ext cx="2946600" cy="2425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875200" y="1271520"/>
            <a:ext cx="2968920" cy="26035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69720" y="1236600"/>
            <a:ext cx="3756240" cy="300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3235320" y="2498760"/>
            <a:ext cx="3044880" cy="2017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5403960" y="4308480"/>
            <a:ext cx="3271680" cy="2273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4114800" y="5106960"/>
            <a:ext cx="1434960" cy="1434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58800" y="1135080"/>
            <a:ext cx="2684520" cy="2641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479840" y="1141560"/>
            <a:ext cx="3378240" cy="2627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92280" y="3970440"/>
            <a:ext cx="3554280" cy="2571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476600" y="3978360"/>
            <a:ext cx="3875400" cy="267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03360" y="2120760"/>
            <a:ext cx="3863880" cy="3451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73440" y="2114640"/>
            <a:ext cx="4118040" cy="3463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415160" y="5640480"/>
            <a:ext cx="22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Neoplasia de Cordas Voc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82160" y="5626080"/>
            <a:ext cx="221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pós cirurgia e radioterap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920" y="9360"/>
            <a:ext cx="9128160" cy="6837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492920" y="3308400"/>
            <a:ext cx="634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ologias do Aparelho Respirató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203040"/>
            <a:ext cx="9144000" cy="785880"/>
            <a:chOff x="0" y="203040"/>
            <a:chExt cx="9144000" cy="785880"/>
          </a:xfrm>
        </p:grpSpPr>
        <p:sp>
          <p:nvSpPr>
            <p:cNvPr id="45" name=""/>
            <p:cNvSpPr/>
            <p:nvPr/>
          </p:nvSpPr>
          <p:spPr>
            <a:xfrm>
              <a:off x="0" y="988920"/>
              <a:ext cx="9144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257200" y="203040"/>
              <a:ext cx="466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EE-280 / 20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246240" y="203040"/>
              <a:ext cx="1382400" cy="551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73480" y="1168560"/>
            <a:ext cx="4194000" cy="5421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49320" y="3602160"/>
            <a:ext cx="2730600" cy="26953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8640" y="2465280"/>
            <a:ext cx="2651400" cy="1143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2443320" y="1847880"/>
            <a:ext cx="3154320" cy="1181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4016520" y="3382920"/>
            <a:ext cx="4424040" cy="2967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6257880" y="1600200"/>
            <a:ext cx="2143080" cy="1714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303640" y="1504800"/>
            <a:ext cx="1838160" cy="4426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226120" y="1798560"/>
            <a:ext cx="2057400" cy="3086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920" y="9360"/>
            <a:ext cx="9128160" cy="68374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174840" y="3506760"/>
            <a:ext cx="292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ito Obrigad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0" y="203040"/>
            <a:ext cx="9144000" cy="785880"/>
            <a:chOff x="0" y="203040"/>
            <a:chExt cx="9144000" cy="785880"/>
          </a:xfrm>
        </p:grpSpPr>
        <p:sp>
          <p:nvSpPr>
            <p:cNvPr id="121" name=""/>
            <p:cNvSpPr/>
            <p:nvPr/>
          </p:nvSpPr>
          <p:spPr>
            <a:xfrm>
              <a:off x="0" y="988920"/>
              <a:ext cx="9144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57200" y="203040"/>
              <a:ext cx="466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EE-280 / 20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246240" y="203040"/>
              <a:ext cx="1382400" cy="551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2560" y="1579680"/>
            <a:ext cx="4397400" cy="2873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758040" y="99216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Asbest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208400" y="3514680"/>
            <a:ext cx="4275360" cy="3121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1880" y="1200240"/>
            <a:ext cx="4391280" cy="5395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149800" y="1592280"/>
            <a:ext cx="3630600" cy="236844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4884840" y="3451320"/>
            <a:ext cx="4259160" cy="3406680"/>
            <a:chOff x="4884840" y="3451320"/>
            <a:chExt cx="4259160" cy="3406680"/>
          </a:xfrm>
        </p:grpSpPr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4884840" y="3451320"/>
              <a:ext cx="4259160" cy="34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7750080" y="6488280"/>
              <a:ext cx="1379520" cy="35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768480" y="100800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Bronqu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7400" y="2828880"/>
            <a:ext cx="3381480" cy="2247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365640" y="1038240"/>
            <a:ext cx="24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Pneumococ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475160" y="2212920"/>
            <a:ext cx="4016520" cy="3665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8080" y="2152800"/>
            <a:ext cx="4418280" cy="2881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467320" y="1619280"/>
            <a:ext cx="2857680" cy="5238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361320" y="105084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Neoplasia - 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906560" y="1925640"/>
            <a:ext cx="5491080" cy="4368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374560" y="1022400"/>
            <a:ext cx="44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Pneumonia por Criptococ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50800" y="1490760"/>
            <a:ext cx="4321080" cy="281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137200" y="2990880"/>
            <a:ext cx="3365280" cy="3152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783600" y="102240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Enfis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734000" y="1544760"/>
            <a:ext cx="3825720" cy="5122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638520" y="99540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Metapl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76160" y="1508040"/>
            <a:ext cx="3786480" cy="3027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3T20:50:31Z</dcterms:created>
  <dc:creator>Takashi Yoneyama</dc:creator>
  <dc:description/>
  <dc:language>en-US</dc:language>
  <cp:lastModifiedBy>Roberto</cp:lastModifiedBy>
  <dcterms:modified xsi:type="dcterms:W3CDTF">2010-04-05T18:09:28Z</dcterms:modified>
  <cp:revision>57</cp:revision>
  <dc:subject/>
  <dc:title>No Slide Title</dc:title>
</cp:coreProperties>
</file>