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wmf" ContentType="image/x-wmf"/>
  <Override PartName="/ppt/media/image110.wmf" ContentType="image/x-wmf"/>
  <Override PartName="/ppt/media/image58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29.png" ContentType="image/png"/>
  <Override PartName="/ppt/media/image50.wmf" ContentType="image/x-wmf"/>
  <Override PartName="/ppt/media/image28.png" ContentType="image/png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png" ContentType="image/png"/>
  <Override PartName="/ppt/media/image39.png" ContentType="image/png"/>
  <Override PartName="/ppt/media/image61.wmf" ContentType="image/x-wmf"/>
  <Override PartName="/ppt/media/image30.png" ContentType="image/png"/>
  <Override PartName="/ppt/media/image98.wmf" ContentType="image/x-wmf"/>
  <Override PartName="/ppt/media/image41.png" ContentType="image/png"/>
  <Override PartName="/ppt/media/image9.wmf" ContentType="image/x-wmf"/>
  <Override PartName="/ppt/media/image86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27.png" ContentType="image/png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113.png" ContentType="image/png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112.png" ContentType="image/png"/>
  <Override PartName="/ppt/media/image47.wmf" ContentType="image/x-wmf"/>
  <Override PartName="/ppt/media/image10.wmf" ContentType="image/x-wmf"/>
  <Override PartName="/ppt/media/image107.wmf" ContentType="image/x-wmf"/>
  <Override PartName="/ppt/media/image2.png" ContentType="image/png"/>
  <Override PartName="/ppt/media/image35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1.png" ContentType="image/png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106.wmf" ContentType="image/x-wmf"/>
  <Override PartName="/ppt/media/image62.wmf" ContentType="image/x-wmf"/>
  <Override PartName="/ppt/media/image22.png" ContentType="image/png"/>
  <Override PartName="/ppt/media/image31.png" ContentType="image/png"/>
  <Override PartName="/ppt/media/image99.wmf" ContentType="image/x-wmf"/>
  <Override PartName="/ppt/media/image105.wmf" ContentType="image/x-wmf"/>
  <Override PartName="/ppt/media/image104.wmf" ContentType="image/x-wmf"/>
  <Override PartName="/ppt/media/image97.wmf" ContentType="image/x-wmf"/>
  <Override PartName="/ppt/media/image60.wmf" ContentType="image/x-wmf"/>
  <Override PartName="/ppt/media/image103.wmf" ContentType="image/x-wmf"/>
  <Override PartName="/ppt/media/image96.wmf" ContentType="image/x-wmf"/>
  <Override PartName="/ppt/media/image102.wmf" ContentType="image/x-wmf"/>
  <Override PartName="/ppt/media/image95.wmf" ContentType="image/x-wmf"/>
  <Override PartName="/ppt/media/image88.wmf" ContentType="image/x-wmf"/>
  <Override PartName="/ppt/media/image79.wmf" ContentType="image/x-wmf"/>
  <Override PartName="/ppt/media/image101.wmf" ContentType="image/x-wmf"/>
  <Override PartName="/ppt/media/image94.wmf" ContentType="image/x-wmf"/>
  <Override PartName="/ppt/media/image93.wmf" ContentType="image/x-wmf"/>
  <Override PartName="/ppt/media/image14.wmf" ContentType="image/x-wmf"/>
  <Override PartName="/ppt/media/image92.wmf" ContentType="image/x-wmf"/>
  <Override PartName="/ppt/media/image64.wmf" ContentType="image/x-wmf"/>
  <Override PartName="/ppt/media/image24.png" ContentType="image/png"/>
  <Override PartName="/ppt/media/image63.wmf" ContentType="image/x-wmf"/>
  <Override PartName="/ppt/media/image23.png" ContentType="image/png"/>
  <Override PartName="/ppt/media/image90.wmf" ContentType="image/x-wmf"/>
  <Override PartName="/ppt/media/image25.wmf" ContentType="image/x-wmf"/>
  <Override PartName="/ppt/media/image21.png" ContentType="image/png"/>
  <Override PartName="/ppt/media/image89.wmf" ContentType="image/x-wmf"/>
  <Override PartName="/ppt/media/image20.wmf" ContentType="image/x-wmf"/>
  <Override PartName="/ppt/media/image57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5.wmf" ContentType="image/x-wmf"/>
  <Override PartName="/ppt/media/image17.wmf" ContentType="image/x-wmf"/>
  <Override PartName="/ppt/media/image111.png" ContentType="image/png"/>
  <Override PartName="/ppt/media/image8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8390-94F8-4F1C-B9BB-0A0825578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800D-3B4E-4108-B290-46F3B253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DE55-9C9A-4674-8683-8AE65789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738F-379B-4F02-B733-76724A07C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67F6-3A54-4C48-9438-B8050834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888C-752E-41E7-A818-C4C5A2F9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8CCB-FD88-45C3-AE23-6D78E31D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65E7-8863-43A3-948B-C18E1CC4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BCBC-38C1-471F-BEDF-A5DBD773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0282-F36B-4EBE-B36E-F8B34F5E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7250-AC32-4CCD-B934-24397ABC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9457-20B0-4966-AEEE-A58375FF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BB44-3162-421D-A660-54D9300C5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25.wmf"/><Relationship Id="rId5" Type="http://schemas.openxmlformats.org/officeDocument/2006/relationships/image" Target="../media/image20.wmf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19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image" Target="../media/image48.wmf"/><Relationship Id="rId7" Type="http://schemas.openxmlformats.org/officeDocument/2006/relationships/image" Target="../media/image49.wmf"/><Relationship Id="rId8" Type="http://schemas.openxmlformats.org/officeDocument/2006/relationships/image" Target="../media/image1.png"/><Relationship Id="rId9" Type="http://schemas.openxmlformats.org/officeDocument/2006/relationships/package" Target="../embeddings/oleObject1.docx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image" Target="../media/image53.wmf"/><Relationship Id="rId5" Type="http://schemas.openxmlformats.org/officeDocument/2006/relationships/image" Target="../media/image54.wmf"/><Relationship Id="rId6" Type="http://schemas.openxmlformats.org/officeDocument/2006/relationships/image" Target="../media/image55.wmf"/><Relationship Id="rId7" Type="http://schemas.openxmlformats.org/officeDocument/2006/relationships/image" Target="../media/image56.wmf"/><Relationship Id="rId8" Type="http://schemas.openxmlformats.org/officeDocument/2006/relationships/image" Target="../media/image1.png"/><Relationship Id="rId9" Type="http://schemas.openxmlformats.org/officeDocument/2006/relationships/package" Target="../embeddings/oleObject1.docx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1.png"/><Relationship Id="rId5" Type="http://schemas.openxmlformats.org/officeDocument/2006/relationships/package" Target="../embeddings/oleObject1.docx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image" Target="../media/image1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wmf"/><Relationship Id="rId3" Type="http://schemas.openxmlformats.org/officeDocument/2006/relationships/image" Target="../media/image1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3.wmf"/><Relationship Id="rId3" Type="http://schemas.openxmlformats.org/officeDocument/2006/relationships/image" Target="../media/image1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4.wmf"/><Relationship Id="rId3" Type="http://schemas.openxmlformats.org/officeDocument/2006/relationships/image" Target="../media/image65.wmf"/><Relationship Id="rId4" Type="http://schemas.openxmlformats.org/officeDocument/2006/relationships/image" Target="../media/image66.wmf"/><Relationship Id="rId5" Type="http://schemas.openxmlformats.org/officeDocument/2006/relationships/image" Target="../media/image67.wmf"/><Relationship Id="rId6" Type="http://schemas.openxmlformats.org/officeDocument/2006/relationships/image" Target="../media/image1.png"/><Relationship Id="rId7" Type="http://schemas.openxmlformats.org/officeDocument/2006/relationships/package" Target="../embeddings/oleObject1.docx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69.wmf"/><Relationship Id="rId3" Type="http://schemas.openxmlformats.org/officeDocument/2006/relationships/image" Target="../media/image70.wmf"/><Relationship Id="rId4" Type="http://schemas.openxmlformats.org/officeDocument/2006/relationships/image" Target="../media/image71.wmf"/><Relationship Id="rId5" Type="http://schemas.openxmlformats.org/officeDocument/2006/relationships/image" Target="../media/image72.wmf"/><Relationship Id="rId6" Type="http://schemas.openxmlformats.org/officeDocument/2006/relationships/image" Target="../media/image1.png"/><Relationship Id="rId7" Type="http://schemas.openxmlformats.org/officeDocument/2006/relationships/package" Target="../embeddings/oleObject1.docx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image" Target="../media/image74.wmf"/><Relationship Id="rId3" Type="http://schemas.openxmlformats.org/officeDocument/2006/relationships/image" Target="../media/image1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76.wmf"/><Relationship Id="rId3" Type="http://schemas.openxmlformats.org/officeDocument/2006/relationships/image" Target="../media/image77.wmf"/><Relationship Id="rId4" Type="http://schemas.openxmlformats.org/officeDocument/2006/relationships/image" Target="../media/image1.png"/><Relationship Id="rId5" Type="http://schemas.openxmlformats.org/officeDocument/2006/relationships/package" Target="../embeddings/oleObject1.docx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image" Target="../media/image79.wmf"/><Relationship Id="rId3" Type="http://schemas.openxmlformats.org/officeDocument/2006/relationships/image" Target="../media/image80.wmf"/><Relationship Id="rId4" Type="http://schemas.openxmlformats.org/officeDocument/2006/relationships/image" Target="../media/image81.wmf"/><Relationship Id="rId5" Type="http://schemas.openxmlformats.org/officeDocument/2006/relationships/image" Target="../media/image82.wmf"/><Relationship Id="rId6" Type="http://schemas.openxmlformats.org/officeDocument/2006/relationships/image" Target="../media/image83.wmf"/><Relationship Id="rId7" Type="http://schemas.openxmlformats.org/officeDocument/2006/relationships/image" Target="../media/image84.wmf"/><Relationship Id="rId8" Type="http://schemas.openxmlformats.org/officeDocument/2006/relationships/image" Target="../media/image1.png"/><Relationship Id="rId9" Type="http://schemas.openxmlformats.org/officeDocument/2006/relationships/package" Target="../embeddings/oleObject1.docx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5.wmf"/><Relationship Id="rId3" Type="http://schemas.openxmlformats.org/officeDocument/2006/relationships/image" Target="../media/image86.wmf"/><Relationship Id="rId4" Type="http://schemas.openxmlformats.org/officeDocument/2006/relationships/image" Target="../media/image1.png"/><Relationship Id="rId5" Type="http://schemas.openxmlformats.org/officeDocument/2006/relationships/package" Target="../embeddings/oleObject1.docx"/><Relationship Id="rId6" Type="http://schemas.openxmlformats.org/officeDocument/2006/relationships/image" Target="../media/image2.png"/><Relationship Id="rId7" Type="http://schemas.openxmlformats.org/officeDocument/2006/relationships/image" Target="../media/image87.wmf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image" Target="../media/image89.wmf"/><Relationship Id="rId3" Type="http://schemas.openxmlformats.org/officeDocument/2006/relationships/image" Target="../media/image90.wmf"/><Relationship Id="rId4" Type="http://schemas.openxmlformats.org/officeDocument/2006/relationships/image" Target="../media/image91.wmf"/><Relationship Id="rId5" Type="http://schemas.openxmlformats.org/officeDocument/2006/relationships/image" Target="../media/image92.wmf"/><Relationship Id="rId6" Type="http://schemas.openxmlformats.org/officeDocument/2006/relationships/image" Target="../media/image1.png"/><Relationship Id="rId7" Type="http://schemas.openxmlformats.org/officeDocument/2006/relationships/package" Target="../embeddings/oleObject1.docx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4.wmf"/><Relationship Id="rId3" Type="http://schemas.openxmlformats.org/officeDocument/2006/relationships/image" Target="../media/image95.wmf"/><Relationship Id="rId4" Type="http://schemas.openxmlformats.org/officeDocument/2006/relationships/image" Target="../media/image88.wmf"/><Relationship Id="rId5" Type="http://schemas.openxmlformats.org/officeDocument/2006/relationships/image" Target="../media/image96.wmf"/><Relationship Id="rId6" Type="http://schemas.openxmlformats.org/officeDocument/2006/relationships/image" Target="../media/image97.wmf"/><Relationship Id="rId7" Type="http://schemas.openxmlformats.org/officeDocument/2006/relationships/image" Target="../media/image98.wmf"/><Relationship Id="rId8" Type="http://schemas.openxmlformats.org/officeDocument/2006/relationships/image" Target="../media/image99.wmf"/><Relationship Id="rId9" Type="http://schemas.openxmlformats.org/officeDocument/2006/relationships/image" Target="../media/image1.png"/><Relationship Id="rId10" Type="http://schemas.openxmlformats.org/officeDocument/2006/relationships/package" Target="../embeddings/oleObject1.docx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image" Target="../media/image100.wmf"/><Relationship Id="rId3" Type="http://schemas.openxmlformats.org/officeDocument/2006/relationships/image" Target="../media/image101.wmf"/><Relationship Id="rId4" Type="http://schemas.openxmlformats.org/officeDocument/2006/relationships/image" Target="../media/image102.wmf"/><Relationship Id="rId5" Type="http://schemas.openxmlformats.org/officeDocument/2006/relationships/image" Target="../media/image103.wmf"/><Relationship Id="rId6" Type="http://schemas.openxmlformats.org/officeDocument/2006/relationships/image" Target="../media/image104.wmf"/><Relationship Id="rId7" Type="http://schemas.openxmlformats.org/officeDocument/2006/relationships/image" Target="../media/image105.wmf"/><Relationship Id="rId8" Type="http://schemas.openxmlformats.org/officeDocument/2006/relationships/image" Target="../media/image1.png"/><Relationship Id="rId9" Type="http://schemas.openxmlformats.org/officeDocument/2006/relationships/package" Target="../embeddings/oleObject1.docx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5.wmf"/><Relationship Id="rId2" Type="http://schemas.openxmlformats.org/officeDocument/2006/relationships/image" Target="../media/image98.wmf"/><Relationship Id="rId3" Type="http://schemas.openxmlformats.org/officeDocument/2006/relationships/image" Target="../media/image99.wmf"/><Relationship Id="rId4" Type="http://schemas.openxmlformats.org/officeDocument/2006/relationships/image" Target="../media/image106.wmf"/><Relationship Id="rId5" Type="http://schemas.openxmlformats.org/officeDocument/2006/relationships/image" Target="../media/image107.wmf"/><Relationship Id="rId6" Type="http://schemas.openxmlformats.org/officeDocument/2006/relationships/image" Target="../media/image43.wmf"/><Relationship Id="rId7" Type="http://schemas.openxmlformats.org/officeDocument/2006/relationships/image" Target="../media/image44.wmf"/><Relationship Id="rId8" Type="http://schemas.openxmlformats.org/officeDocument/2006/relationships/image" Target="../media/image45.wmf"/><Relationship Id="rId9" Type="http://schemas.openxmlformats.org/officeDocument/2006/relationships/image" Target="../media/image108.wmf"/><Relationship Id="rId10" Type="http://schemas.openxmlformats.org/officeDocument/2006/relationships/image" Target="../media/image109.wmf"/><Relationship Id="rId11" Type="http://schemas.openxmlformats.org/officeDocument/2006/relationships/image" Target="../media/image1.png"/><Relationship Id="rId12" Type="http://schemas.openxmlformats.org/officeDocument/2006/relationships/package" Target="../embeddings/oleObject1.docx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19.wmf"/><Relationship Id="rId5" Type="http://schemas.openxmlformats.org/officeDocument/2006/relationships/image" Target="../media/image110.wmf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111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112.png"/><Relationship Id="rId5" Type="http://schemas.openxmlformats.org/officeDocument/2006/relationships/image" Target="../media/image110.wmf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113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65960" y="285840"/>
            <a:ext cx="244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Metodologias base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em Modelos pa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Prognóstico de Fal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361800" y="1190520"/>
            <a:ext cx="8782200" cy="53182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28560" y="1371600"/>
            <a:ext cx="723960" cy="72396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743040" y="1452600"/>
            <a:ext cx="7783560" cy="492444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6095880" y="5067360"/>
            <a:ext cx="1676520" cy="457200"/>
            <a:chOff x="6095880" y="5067360"/>
            <a:chExt cx="1676520" cy="457200"/>
          </a:xfrm>
        </p:grpSpPr>
        <p:sp>
          <p:nvSpPr>
            <p:cNvPr id="189" name=""/>
            <p:cNvSpPr/>
            <p:nvPr/>
          </p:nvSpPr>
          <p:spPr>
            <a:xfrm>
              <a:off x="6095880" y="5067360"/>
              <a:ext cx="1676520" cy="457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6224400" y="5124600"/>
                  <a:ext cx="14814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~"/>
                            </m:accPr>
                            <m:e>
                              <m:r>
                                <m:t xml:space="preserve">y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y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3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304920" y="1247760"/>
            <a:ext cx="8591400" cy="5202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52600" y="1428840"/>
            <a:ext cx="723600" cy="72396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34240" y="3165480"/>
            <a:ext cx="812880" cy="75420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719280" y="1328760"/>
            <a:ext cx="7808760" cy="497988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5962680" y="4838760"/>
            <a:ext cx="1676520" cy="457200"/>
            <a:chOff x="5962680" y="4838760"/>
            <a:chExt cx="1676520" cy="457200"/>
          </a:xfrm>
        </p:grpSpPr>
        <p:sp>
          <p:nvSpPr>
            <p:cNvPr id="208" name=""/>
            <p:cNvSpPr/>
            <p:nvPr/>
          </p:nvSpPr>
          <p:spPr>
            <a:xfrm>
              <a:off x="5962680" y="4838760"/>
              <a:ext cx="1676520" cy="457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6091200" y="4896000"/>
                  <a:ext cx="14814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~"/>
                            </m:accPr>
                            <m:e>
                              <m:r>
                                <m:t xml:space="preserve">y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y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657600" y="4572000"/>
            <a:ext cx="1619280" cy="1200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96840" y="135576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xempl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421000" y="1687680"/>
            <a:ext cx="4610160" cy="1841400"/>
            <a:chOff x="2421000" y="1687680"/>
            <a:chExt cx="4610160" cy="1841400"/>
          </a:xfrm>
        </p:grpSpPr>
        <p:sp>
          <p:nvSpPr>
            <p:cNvPr id="219" name=""/>
            <p:cNvSpPr/>
            <p:nvPr/>
          </p:nvSpPr>
          <p:spPr>
            <a:xfrm>
              <a:off x="3076560" y="3178080"/>
              <a:ext cx="1044720" cy="289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4"/>
            <a:stretch/>
          </p:blipFill>
          <p:spPr>
            <a:xfrm>
              <a:off x="2421000" y="1687680"/>
              <a:ext cx="4610160" cy="1841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"/>
          <p:cNvGrpSpPr/>
          <p:nvPr/>
        </p:nvGrpSpPr>
        <p:grpSpPr>
          <a:xfrm>
            <a:off x="2376000" y="3562200"/>
            <a:ext cx="4695120" cy="2588400"/>
            <a:chOff x="2376000" y="3562200"/>
            <a:chExt cx="4695120" cy="2588400"/>
          </a:xfrm>
        </p:grpSpPr>
        <p:sp>
          <p:nvSpPr>
            <p:cNvPr id="222" name=""/>
            <p:cNvSpPr/>
            <p:nvPr/>
          </p:nvSpPr>
          <p:spPr>
            <a:xfrm>
              <a:off x="4533840" y="3562200"/>
              <a:ext cx="0" cy="93348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3" name="" descr=""/>
            <p:cNvPicPr/>
            <p:nvPr/>
          </p:nvPicPr>
          <p:blipFill>
            <a:blip r:embed="rId5"/>
            <a:stretch/>
          </p:blipFill>
          <p:spPr>
            <a:xfrm>
              <a:off x="3828960" y="4635360"/>
              <a:ext cx="129240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2376000" y="5813280"/>
              <a:ext cx="453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E-valores do observador em 0.1 e 0.2 (mult 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4752360" y="3679920"/>
              <a:ext cx="2318760" cy="657000"/>
              <a:chOff x="4752360" y="3679920"/>
              <a:chExt cx="2318760" cy="657000"/>
            </a:xfrm>
          </p:grpSpPr>
          <p:sp>
            <p:nvSpPr>
              <p:cNvPr id="226" name=""/>
              <p:cNvSpPr/>
              <p:nvPr/>
            </p:nvSpPr>
            <p:spPr>
              <a:xfrm>
                <a:off x="4752360" y="3679920"/>
                <a:ext cx="231876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</a:rPr>
                  <a:t>Observador utilizand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</a:rPr>
                  <a:t>apena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632200" y="3975480"/>
                <a:ext cx="270000" cy="355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0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304920" y="1076400"/>
            <a:ext cx="8839080" cy="55180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34160" y="4078440"/>
            <a:ext cx="1162080" cy="102996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8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604800" y="1247760"/>
            <a:ext cx="8143920" cy="5189400"/>
          </a:xfrm>
          <a:prstGeom prst="rect">
            <a:avLst/>
          </a:prstGeom>
          <a:ln w="0">
            <a:noFill/>
          </a:ln>
        </p:spPr>
      </p:pic>
      <p:grpSp>
        <p:nvGrpSpPr>
          <p:cNvPr id="243" name=""/>
          <p:cNvGrpSpPr/>
          <p:nvPr/>
        </p:nvGrpSpPr>
        <p:grpSpPr>
          <a:xfrm>
            <a:off x="6286680" y="4476600"/>
            <a:ext cx="1752480" cy="819000"/>
            <a:chOff x="6286680" y="4476600"/>
            <a:chExt cx="1752480" cy="819000"/>
          </a:xfrm>
        </p:grpSpPr>
        <p:sp>
          <p:nvSpPr>
            <p:cNvPr id="244" name=""/>
            <p:cNvSpPr/>
            <p:nvPr/>
          </p:nvSpPr>
          <p:spPr>
            <a:xfrm>
              <a:off x="6286680" y="4476600"/>
              <a:ext cx="1752480" cy="8190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6453360" y="4552560"/>
                  <a:ext cx="140004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Sup>
                            <m:e>
                              <m:acc>
                                <m:accPr>
                                  <m:chr m:val="~"/>
                                </m:accPr>
                                <m:e>
                                  <m:r>
                                    <m:t xml:space="preserve">y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k</m:t>
                              </m:r>
                            </m:sub>
                            <m:sup>
                              <m:r>
                                <m:t xml:space="preserve">1</m:t>
                              </m:r>
                            </m:sup>
                          </m:sSubSup>
                          <m:r>
                            <m:t xml:space="preserve">≡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magenta</m:t>
                          </m:r>
                        </m:e>
                        <m:e>
                          <m:sSubSup>
                            <m:e>
                              <m:acc>
                                <m:accPr>
                                  <m:chr m:val="~"/>
                                </m:accPr>
                                <m:e>
                                  <m:r>
                                    <m:t xml:space="preserve">y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k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≡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marelo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8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471600" y="1962000"/>
            <a:ext cx="3857400" cy="30862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4791240" y="1957320"/>
            <a:ext cx="3867120" cy="30956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986840" y="5241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Falha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368400" y="5184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Falh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90720" y="3556080"/>
            <a:ext cx="295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2463480" y="2387520"/>
            <a:ext cx="12600" cy="232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21160" y="3543480"/>
            <a:ext cx="294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794640" y="2387520"/>
            <a:ext cx="0" cy="232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654960" y="2819520"/>
            <a:ext cx="253800" cy="25380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60720" y="3429000"/>
            <a:ext cx="254160" cy="25416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4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9564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614520" y="1266840"/>
            <a:ext cx="7914960" cy="4998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2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81400" y="1109520"/>
            <a:ext cx="45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Equações de Par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3441600" y="2413080"/>
            <a:ext cx="1935360" cy="6858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264320" y="17938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Sem falh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454040" y="3182760"/>
            <a:ext cx="6465960" cy="2818080"/>
            <a:chOff x="1454040" y="3182760"/>
            <a:chExt cx="6465960" cy="2818080"/>
          </a:xfrm>
        </p:grpSpPr>
        <p:pic>
          <p:nvPicPr>
            <p:cNvPr id="280" name="" descr=""/>
            <p:cNvPicPr/>
            <p:nvPr/>
          </p:nvPicPr>
          <p:blipFill>
            <a:blip r:embed="rId5"/>
            <a:stretch/>
          </p:blipFill>
          <p:spPr>
            <a:xfrm>
              <a:off x="1454040" y="4210200"/>
              <a:ext cx="6465960" cy="17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4286160" y="3182760"/>
              <a:ext cx="0" cy="8557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24160" y="267192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4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1936800" y="1617840"/>
            <a:ext cx="5530680" cy="1508040"/>
          </a:xfrm>
          <a:prstGeom prst="rect">
            <a:avLst/>
          </a:prstGeom>
          <a:ln w="0">
            <a:noFill/>
          </a:ln>
        </p:spPr>
      </p:pic>
      <p:grpSp>
        <p:nvGrpSpPr>
          <p:cNvPr id="289" name=""/>
          <p:cNvGrpSpPr/>
          <p:nvPr/>
        </p:nvGrpSpPr>
        <p:grpSpPr>
          <a:xfrm>
            <a:off x="1933560" y="3209400"/>
            <a:ext cx="5562720" cy="1172160"/>
            <a:chOff x="1933560" y="3209400"/>
            <a:chExt cx="5562720" cy="1172160"/>
          </a:xfrm>
        </p:grpSpPr>
        <p:sp>
          <p:nvSpPr>
            <p:cNvPr id="290" name=""/>
            <p:cNvSpPr/>
            <p:nvPr/>
          </p:nvSpPr>
          <p:spPr>
            <a:xfrm rot="16200000">
              <a:off x="3057120" y="2904480"/>
              <a:ext cx="209880" cy="81936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21240 h 819360"/>
                <a:gd name="textAreaBottom" fmla="*/ 7981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6200000">
              <a:off x="5305320" y="1914120"/>
              <a:ext cx="209880" cy="28004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72720 h 2800440"/>
                <a:gd name="textAreaBottom" fmla="*/ 2727720 h 280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6200000">
              <a:off x="2209680" y="2933280"/>
              <a:ext cx="209880" cy="76212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6200000">
              <a:off x="7095960" y="3019320"/>
              <a:ext cx="190800" cy="609840"/>
            </a:xfrm>
            <a:custGeom>
              <a:avLst/>
              <a:gdLst>
                <a:gd name="textAreaLeft" fmla="*/ 122040 w 190800"/>
                <a:gd name="textAreaRight" fmla="*/ 191160 w 1908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76200" y="34894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34080" y="348948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44480" y="34704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034040" y="34513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8" name="" descr=""/>
            <p:cNvPicPr/>
            <p:nvPr/>
          </p:nvPicPr>
          <p:blipFill>
            <a:blip r:embed="rId5"/>
            <a:stretch/>
          </p:blipFill>
          <p:spPr>
            <a:xfrm>
              <a:off x="3733920" y="4035600"/>
              <a:ext cx="1633320" cy="34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9" name=""/>
          <p:cNvGrpSpPr/>
          <p:nvPr/>
        </p:nvGrpSpPr>
        <p:grpSpPr>
          <a:xfrm>
            <a:off x="3505320" y="4611600"/>
            <a:ext cx="2835000" cy="1600200"/>
            <a:chOff x="3505320" y="4611600"/>
            <a:chExt cx="2835000" cy="1600200"/>
          </a:xfrm>
        </p:grpSpPr>
        <p:sp>
          <p:nvSpPr>
            <p:cNvPr id="300" name=""/>
            <p:cNvSpPr/>
            <p:nvPr/>
          </p:nvSpPr>
          <p:spPr>
            <a:xfrm>
              <a:off x="3505320" y="5754600"/>
              <a:ext cx="2457360" cy="457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11600" y="4611600"/>
              <a:ext cx="0" cy="92736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2" name="" descr=""/>
            <p:cNvPicPr/>
            <p:nvPr/>
          </p:nvPicPr>
          <p:blipFill>
            <a:blip r:embed="rId6"/>
            <a:stretch/>
          </p:blipFill>
          <p:spPr>
            <a:xfrm>
              <a:off x="4768920" y="4884840"/>
              <a:ext cx="1571400" cy="3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7"/>
            <a:stretch/>
          </p:blipFill>
          <p:spPr>
            <a:xfrm>
              <a:off x="3625920" y="5826240"/>
              <a:ext cx="2209680" cy="290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2260440" y="1987560"/>
            <a:ext cx="4654800" cy="14540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996840" y="148896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xempl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124080" y="3790800"/>
            <a:ext cx="3881520" cy="2419560"/>
            <a:chOff x="3124080" y="3790800"/>
            <a:chExt cx="3881520" cy="2419560"/>
          </a:xfrm>
        </p:grpSpPr>
        <p:sp>
          <p:nvSpPr>
            <p:cNvPr id="313" name=""/>
            <p:cNvSpPr/>
            <p:nvPr/>
          </p:nvSpPr>
          <p:spPr>
            <a:xfrm>
              <a:off x="3124080" y="5772240"/>
              <a:ext cx="2876760" cy="438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533840" y="3790800"/>
              <a:ext cx="0" cy="181008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69520" y="5832360"/>
              <a:ext cx="262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 = [-0.12  0.74  -1.5  1.0]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6" name="" descr=""/>
            <p:cNvPicPr/>
            <p:nvPr/>
          </p:nvPicPr>
          <p:blipFill>
            <a:blip r:embed="rId5"/>
            <a:stretch/>
          </p:blipFill>
          <p:spPr>
            <a:xfrm>
              <a:off x="4692600" y="3987720"/>
              <a:ext cx="2313000" cy="1339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9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4"/>
          <a:stretch/>
        </p:blipFill>
        <p:spPr>
          <a:xfrm>
            <a:off x="438120" y="1285920"/>
            <a:ext cx="8705880" cy="53244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648480" y="1619280"/>
            <a:ext cx="666720" cy="62856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7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561960" y="1228680"/>
            <a:ext cx="8008920" cy="50706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6577920" y="1908000"/>
            <a:ext cx="979200" cy="33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sídu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5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324000" y="1266840"/>
            <a:ext cx="8820000" cy="5394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610320" y="1638360"/>
            <a:ext cx="666720" cy="62856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3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690480" y="1271520"/>
            <a:ext cx="7782120" cy="49244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6577920" y="1908000"/>
            <a:ext cx="979200" cy="33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sídu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2271600" y="1798560"/>
            <a:ext cx="4552920" cy="4543560"/>
            <a:chOff x="2271600" y="1798560"/>
            <a:chExt cx="4552920" cy="4543560"/>
          </a:xfrm>
        </p:grpSpPr>
        <p:sp>
          <p:nvSpPr>
            <p:cNvPr id="350" name=""/>
            <p:cNvSpPr/>
            <p:nvPr/>
          </p:nvSpPr>
          <p:spPr>
            <a:xfrm>
              <a:off x="3567240" y="4838760"/>
              <a:ext cx="1981080" cy="76212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803680" y="3219480"/>
              <a:ext cx="0" cy="199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03680" y="5219640"/>
              <a:ext cx="76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760200" y="50166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dentific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5547960" y="5219640"/>
              <a:ext cx="76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11880" y="3219480"/>
              <a:ext cx="0" cy="200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57600" y="5600880"/>
              <a:ext cx="0" cy="55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762280" y="3178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73720" y="317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9" name="" descr=""/>
            <p:cNvPicPr/>
            <p:nvPr/>
          </p:nvPicPr>
          <p:blipFill>
            <a:blip r:embed="rId1"/>
            <a:stretch/>
          </p:blipFill>
          <p:spPr>
            <a:xfrm>
              <a:off x="4789440" y="5973840"/>
              <a:ext cx="147312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3567240" y="2571840"/>
              <a:ext cx="1981080" cy="129528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65240" y="2722680"/>
              <a:ext cx="1600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ste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rcialm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hec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71600" y="3219480"/>
              <a:ext cx="12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548320" y="3219480"/>
              <a:ext cx="1276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4" name="" descr=""/>
            <p:cNvPicPr/>
            <p:nvPr/>
          </p:nvPicPr>
          <p:blipFill>
            <a:blip r:embed="rId2"/>
            <a:stretch/>
          </p:blipFill>
          <p:spPr>
            <a:xfrm>
              <a:off x="2333520" y="2838600"/>
              <a:ext cx="4701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" descr=""/>
            <p:cNvPicPr/>
            <p:nvPr/>
          </p:nvPicPr>
          <p:blipFill>
            <a:blip r:embed="rId3"/>
            <a:stretch/>
          </p:blipFill>
          <p:spPr>
            <a:xfrm>
              <a:off x="6157800" y="2838600"/>
              <a:ext cx="48276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4110120" y="2019240"/>
              <a:ext cx="0" cy="55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7" name="" descr=""/>
            <p:cNvPicPr/>
            <p:nvPr/>
          </p:nvPicPr>
          <p:blipFill>
            <a:blip r:embed="rId4"/>
            <a:stretch/>
          </p:blipFill>
          <p:spPr>
            <a:xfrm>
              <a:off x="3567240" y="4019400"/>
              <a:ext cx="2158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5"/>
            <a:stretch/>
          </p:blipFill>
          <p:spPr>
            <a:xfrm>
              <a:off x="3567240" y="4324320"/>
              <a:ext cx="160020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6"/>
            <a:stretch/>
          </p:blipFill>
          <p:spPr>
            <a:xfrm>
              <a:off x="4179960" y="1841400"/>
              <a:ext cx="15228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/>
            <p:cNvPicPr/>
            <p:nvPr/>
          </p:nvPicPr>
          <p:blipFill>
            <a:blip r:embed="rId7"/>
            <a:stretch/>
          </p:blipFill>
          <p:spPr>
            <a:xfrm>
              <a:off x="5097600" y="1798560"/>
              <a:ext cx="5079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4983120" y="2019240"/>
              <a:ext cx="0" cy="55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8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4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95600" y="1128600"/>
            <a:ext cx="57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Identificação Paramé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804960" y="187308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d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2157480" y="1857240"/>
            <a:ext cx="1733400" cy="4064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2152800" y="2293920"/>
            <a:ext cx="2552400" cy="30492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819360" y="2806560"/>
            <a:ext cx="64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ter:         um estimador g, tal que g( y ) se aproxime d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7142040" y="2859120"/>
            <a:ext cx="279360" cy="3049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509400" y="144144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. Estimad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830160" y="3475080"/>
            <a:ext cx="7375680" cy="3068280"/>
            <a:chOff x="830160" y="3475080"/>
            <a:chExt cx="7375680" cy="3068280"/>
          </a:xfrm>
        </p:grpSpPr>
        <p:sp>
          <p:nvSpPr>
            <p:cNvPr id="386" name=""/>
            <p:cNvSpPr/>
            <p:nvPr/>
          </p:nvSpPr>
          <p:spPr>
            <a:xfrm>
              <a:off x="1168560" y="5895720"/>
              <a:ext cx="4919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1398600" y="4033800"/>
              <a:ext cx="0" cy="209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1622520" y="4738680"/>
              <a:ext cx="2747520" cy="1127160"/>
              <a:chOff x="1622520" y="4738680"/>
              <a:chExt cx="2747520" cy="1127160"/>
            </a:xfrm>
          </p:grpSpPr>
          <p:sp>
            <p:nvSpPr>
              <p:cNvPr id="389" name=""/>
              <p:cNvSpPr/>
              <p:nvPr/>
            </p:nvSpPr>
            <p:spPr>
              <a:xfrm>
                <a:off x="2987640" y="4738680"/>
                <a:ext cx="1382400" cy="1125360"/>
              </a:xfrm>
              <a:custGeom>
                <a:avLst/>
                <a:gdLst/>
                <a:ahLst/>
                <a:rect l="l" t="t" r="r" b="b"/>
                <a:pathLst>
                  <a:path w="871" h="709">
                    <a:moveTo>
                      <a:pt x="871" y="700"/>
                    </a:moveTo>
                    <a:cubicBezTo>
                      <a:pt x="804" y="701"/>
                      <a:pt x="625" y="709"/>
                      <a:pt x="516" y="609"/>
                    </a:cubicBezTo>
                    <a:cubicBezTo>
                      <a:pt x="407" y="509"/>
                      <a:pt x="306" y="202"/>
                      <a:pt x="220" y="101"/>
                    </a:cubicBezTo>
                    <a:cubicBezTo>
                      <a:pt x="134" y="0"/>
                      <a:pt x="76" y="3"/>
                      <a:pt x="0" y="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1622520" y="4740120"/>
                <a:ext cx="1382400" cy="1125720"/>
              </a:xfrm>
              <a:custGeom>
                <a:avLst/>
                <a:gdLst/>
                <a:ahLst/>
                <a:rect l="l" t="t" r="r" b="b"/>
                <a:pathLst>
                  <a:path w="871" h="709">
                    <a:moveTo>
                      <a:pt x="871" y="700"/>
                    </a:moveTo>
                    <a:cubicBezTo>
                      <a:pt x="804" y="701"/>
                      <a:pt x="625" y="709"/>
                      <a:pt x="516" y="609"/>
                    </a:cubicBezTo>
                    <a:cubicBezTo>
                      <a:pt x="407" y="509"/>
                      <a:pt x="306" y="202"/>
                      <a:pt x="220" y="101"/>
                    </a:cubicBezTo>
                    <a:cubicBezTo>
                      <a:pt x="134" y="0"/>
                      <a:pt x="76" y="3"/>
                      <a:pt x="0" y="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2495520" y="4738680"/>
              <a:ext cx="2747520" cy="1127160"/>
              <a:chOff x="2495520" y="4738680"/>
              <a:chExt cx="2747520" cy="1127160"/>
            </a:xfrm>
          </p:grpSpPr>
          <p:sp>
            <p:nvSpPr>
              <p:cNvPr id="392" name=""/>
              <p:cNvSpPr/>
              <p:nvPr/>
            </p:nvSpPr>
            <p:spPr>
              <a:xfrm>
                <a:off x="3860640" y="4738680"/>
                <a:ext cx="1382400" cy="1125360"/>
              </a:xfrm>
              <a:custGeom>
                <a:avLst/>
                <a:gdLst/>
                <a:ahLst/>
                <a:rect l="l" t="t" r="r" b="b"/>
                <a:pathLst>
                  <a:path w="871" h="709">
                    <a:moveTo>
                      <a:pt x="871" y="700"/>
                    </a:moveTo>
                    <a:cubicBezTo>
                      <a:pt x="804" y="701"/>
                      <a:pt x="625" y="709"/>
                      <a:pt x="516" y="609"/>
                    </a:cubicBezTo>
                    <a:cubicBezTo>
                      <a:pt x="407" y="509"/>
                      <a:pt x="306" y="202"/>
                      <a:pt x="220" y="101"/>
                    </a:cubicBezTo>
                    <a:cubicBezTo>
                      <a:pt x="134" y="0"/>
                      <a:pt x="76" y="3"/>
                      <a:pt x="0" y="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2495520" y="4740120"/>
                <a:ext cx="1382400" cy="1125720"/>
              </a:xfrm>
              <a:custGeom>
                <a:avLst/>
                <a:gdLst/>
                <a:ahLst/>
                <a:rect l="l" t="t" r="r" b="b"/>
                <a:pathLst>
                  <a:path w="871" h="709">
                    <a:moveTo>
                      <a:pt x="871" y="700"/>
                    </a:moveTo>
                    <a:cubicBezTo>
                      <a:pt x="804" y="701"/>
                      <a:pt x="625" y="709"/>
                      <a:pt x="516" y="609"/>
                    </a:cubicBezTo>
                    <a:cubicBezTo>
                      <a:pt x="407" y="509"/>
                      <a:pt x="306" y="202"/>
                      <a:pt x="220" y="101"/>
                    </a:cubicBezTo>
                    <a:cubicBezTo>
                      <a:pt x="134" y="0"/>
                      <a:pt x="76" y="3"/>
                      <a:pt x="0" y="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94" name="" descr=""/>
            <p:cNvPicPr/>
            <p:nvPr/>
          </p:nvPicPr>
          <p:blipFill>
            <a:blip r:embed="rId4"/>
            <a:stretch/>
          </p:blipFill>
          <p:spPr>
            <a:xfrm>
              <a:off x="1747800" y="4525920"/>
              <a:ext cx="91440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" descr=""/>
            <p:cNvPicPr/>
            <p:nvPr/>
          </p:nvPicPr>
          <p:blipFill>
            <a:blip r:embed="rId5"/>
            <a:stretch/>
          </p:blipFill>
          <p:spPr>
            <a:xfrm>
              <a:off x="4338720" y="4497120"/>
              <a:ext cx="9270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6"/>
            <a:stretch/>
          </p:blipFill>
          <p:spPr>
            <a:xfrm>
              <a:off x="5934240" y="5562360"/>
              <a:ext cx="16488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3678120" y="4611600"/>
              <a:ext cx="0" cy="1530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30880" y="6175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3678120" y="590832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641760" y="55083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38520" y="47386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30160" y="3475080"/>
              <a:ext cx="12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Exemplo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40160" y="4101840"/>
              <a:ext cx="0" cy="1862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300840" y="5916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5" name="" descr=""/>
            <p:cNvPicPr/>
            <p:nvPr/>
          </p:nvPicPr>
          <p:blipFill>
            <a:blip r:embed="rId7"/>
            <a:stretch/>
          </p:blipFill>
          <p:spPr>
            <a:xfrm>
              <a:off x="6338880" y="4665600"/>
              <a:ext cx="1866960" cy="67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6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8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8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695600" y="1128600"/>
            <a:ext cx="57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Identificação Paramé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"/>
          <p:cNvGrpSpPr/>
          <p:nvPr/>
        </p:nvGrpSpPr>
        <p:grpSpPr>
          <a:xfrm>
            <a:off x="2762280" y="5221440"/>
            <a:ext cx="5334120" cy="1257120"/>
            <a:chOff x="2762280" y="5221440"/>
            <a:chExt cx="5334120" cy="1257120"/>
          </a:xfrm>
        </p:grpSpPr>
        <p:sp>
          <p:nvSpPr>
            <p:cNvPr id="414" name=""/>
            <p:cNvSpPr/>
            <p:nvPr/>
          </p:nvSpPr>
          <p:spPr>
            <a:xfrm>
              <a:off x="2762280" y="5983200"/>
              <a:ext cx="2076480" cy="49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34320" y="5221440"/>
              <a:ext cx="1162080" cy="704880"/>
            </a:xfrm>
            <a:prstGeom prst="wedgeRectCallout">
              <a:avLst>
                <a:gd name="adj1" fmla="val -230055"/>
                <a:gd name="adj2" fmla="val 90541"/>
              </a:avLst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546480" y="1163520"/>
            <a:ext cx="35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2. Estimador Não - Polarizad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2608200" y="1774800"/>
            <a:ext cx="3124440" cy="368280"/>
          </a:xfrm>
          <a:prstGeom prst="rect">
            <a:avLst/>
          </a:prstGeom>
          <a:ln w="0">
            <a:noFill/>
          </a:ln>
        </p:spPr>
      </p:pic>
      <p:grpSp>
        <p:nvGrpSpPr>
          <p:cNvPr id="418" name=""/>
          <p:cNvGrpSpPr/>
          <p:nvPr/>
        </p:nvGrpSpPr>
        <p:grpSpPr>
          <a:xfrm>
            <a:off x="782640" y="2313000"/>
            <a:ext cx="5908320" cy="1201680"/>
            <a:chOff x="782640" y="2313000"/>
            <a:chExt cx="5908320" cy="1201680"/>
          </a:xfrm>
        </p:grpSpPr>
        <p:sp>
          <p:nvSpPr>
            <p:cNvPr id="419" name=""/>
            <p:cNvSpPr/>
            <p:nvPr/>
          </p:nvSpPr>
          <p:spPr>
            <a:xfrm>
              <a:off x="782640" y="2313000"/>
              <a:ext cx="180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Exemplo: Sej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0" name=""/>
                <p:cNvSpPr txBox="1"/>
                <p:nvPr/>
              </p:nvSpPr>
              <p:spPr>
                <a:xfrm>
                  <a:off x="2556000" y="2367000"/>
                  <a:ext cx="10285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Aθ</m:t>
                          </m:r>
                          <m:r>
                            <m:t xml:space="preserve">+</m:t>
                          </m:r>
                          <m:r>
                            <m:t xml:space="preserve">e</m:t>
                          </m:r>
                        </m:e>
                        <m:e>
                          <m:r>
                            <m:t xml:space="preserve">e</m:t>
                          </m:r>
                          <m:r>
                            <m:rPr>
                              <m:lit/>
                              <m:nor/>
                            </m:rPr>
                            <m:t xml:space="preserve">~</m:t>
                          </m:r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421" name=""/>
            <p:cNvGrpSpPr/>
            <p:nvPr/>
          </p:nvGrpSpPr>
          <p:grpSpPr>
            <a:xfrm>
              <a:off x="1901520" y="3032280"/>
              <a:ext cx="4789440" cy="482400"/>
              <a:chOff x="1901520" y="3032280"/>
              <a:chExt cx="4789440" cy="482400"/>
            </a:xfrm>
          </p:grpSpPr>
          <p:pic>
            <p:nvPicPr>
              <p:cNvPr id="42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652480" y="3032280"/>
                <a:ext cx="4038480" cy="48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"/>
              <p:cNvSpPr/>
              <p:nvPr/>
            </p:nvSpPr>
            <p:spPr>
              <a:xfrm>
                <a:off x="1901520" y="3085920"/>
                <a:ext cx="79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cc"/>
                    </a:solidFill>
                    <a:latin typeface="Arial"/>
                  </a:rPr>
                  <a:t>Obt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24" name="" descr=""/>
          <p:cNvPicPr/>
          <p:nvPr/>
        </p:nvPicPr>
        <p:blipFill>
          <a:blip r:embed="rId3"/>
          <a:stretch/>
        </p:blipFill>
        <p:spPr>
          <a:xfrm>
            <a:off x="2887560" y="3605040"/>
            <a:ext cx="3137040" cy="28069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4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7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2311560" y="1523880"/>
            <a:ext cx="4406760" cy="2400480"/>
          </a:xfrm>
          <a:prstGeom prst="rect">
            <a:avLst/>
          </a:prstGeom>
          <a:ln w="0">
            <a:noFill/>
          </a:ln>
        </p:spPr>
      </p:pic>
      <p:grpSp>
        <p:nvGrpSpPr>
          <p:cNvPr id="432" name=""/>
          <p:cNvGrpSpPr/>
          <p:nvPr/>
        </p:nvGrpSpPr>
        <p:grpSpPr>
          <a:xfrm>
            <a:off x="720000" y="4211640"/>
            <a:ext cx="7619760" cy="1763640"/>
            <a:chOff x="720000" y="4211640"/>
            <a:chExt cx="7619760" cy="1763640"/>
          </a:xfrm>
        </p:grpSpPr>
        <p:sp>
          <p:nvSpPr>
            <p:cNvPr id="433" name=""/>
            <p:cNvSpPr/>
            <p:nvPr/>
          </p:nvSpPr>
          <p:spPr>
            <a:xfrm>
              <a:off x="720000" y="4211640"/>
              <a:ext cx="349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3. Teorema de Gauss-Markov: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61440" y="4703760"/>
              <a:ext cx="707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SE é </a:t>
              </a: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ótim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na classe de estimadores 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linear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não-polariz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5" name="" descr=""/>
            <p:cNvPicPr/>
            <p:nvPr/>
          </p:nvPicPr>
          <p:blipFill>
            <a:blip r:embed="rId2"/>
            <a:stretch/>
          </p:blipFill>
          <p:spPr>
            <a:xfrm>
              <a:off x="2495520" y="5645160"/>
              <a:ext cx="4533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 flipH="1">
              <a:off x="3029040" y="5029200"/>
              <a:ext cx="2876400" cy="6285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4591080" y="5029200"/>
              <a:ext cx="2610000" cy="59040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362320" y="5029200"/>
              <a:ext cx="3390840" cy="5904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3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1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43040" y="1943280"/>
            <a:ext cx="7924680" cy="361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70760" y="1370160"/>
            <a:ext cx="78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3333cc"/>
                </a:solidFill>
                <a:uFillTx/>
                <a:latin typeface="Arial"/>
              </a:rPr>
              <a:t>Modelo</a:t>
            </a: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Representação das características essenciais do sistema em estud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38560" y="5334120"/>
            <a:ext cx="1181160" cy="609480"/>
          </a:xfrm>
          <a:prstGeom prst="wedgeRoundRectCallout">
            <a:avLst>
              <a:gd name="adj1" fmla="val -30643"/>
              <a:gd name="adj2" fmla="val -195574"/>
              <a:gd name="adj3" fmla="val 16667"/>
            </a:avLst>
          </a:pr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st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33440" y="5010120"/>
            <a:ext cx="1181160" cy="971640"/>
          </a:xfrm>
          <a:prstGeom prst="wedgeRoundRectCallout">
            <a:avLst>
              <a:gd name="adj1" fmla="val 62902"/>
              <a:gd name="adj2" fmla="val -102125"/>
              <a:gd name="adj3" fmla="val 16667"/>
            </a:avLst>
          </a:pr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di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Saí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00400" y="2610000"/>
            <a:ext cx="1714680" cy="609480"/>
          </a:xfrm>
          <a:prstGeom prst="wedgeRoundRectCallout">
            <a:avLst>
              <a:gd name="adj1" fmla="val 51111"/>
              <a:gd name="adj2" fmla="val 126300"/>
              <a:gd name="adj3" fmla="val 16667"/>
            </a:avLst>
          </a:pr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ntrada 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xcit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660760" y="3733920"/>
            <a:ext cx="4246560" cy="64764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4800600" y="2590920"/>
            <a:ext cx="1847880" cy="3429000"/>
            <a:chOff x="4800600" y="2590920"/>
            <a:chExt cx="1847880" cy="3429000"/>
          </a:xfrm>
        </p:grpSpPr>
        <p:sp>
          <p:nvSpPr>
            <p:cNvPr id="63" name=""/>
            <p:cNvSpPr/>
            <p:nvPr/>
          </p:nvSpPr>
          <p:spPr>
            <a:xfrm>
              <a:off x="5295960" y="2590920"/>
              <a:ext cx="1352520" cy="609480"/>
            </a:xfrm>
            <a:prstGeom prst="wedgeRoundRectCallout">
              <a:avLst>
                <a:gd name="adj1" fmla="val -19013"/>
                <a:gd name="adj2" fmla="val 135675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Ruído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Est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00600" y="5334120"/>
              <a:ext cx="1181160" cy="685800"/>
            </a:xfrm>
            <a:prstGeom prst="wedgeRoundRectCallout">
              <a:avLst>
                <a:gd name="adj1" fmla="val -64513"/>
                <a:gd name="adj2" fmla="val -190509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Ruído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Medi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352520" y="2724120"/>
            <a:ext cx="6953400" cy="3105360"/>
            <a:chOff x="1352520" y="2724120"/>
            <a:chExt cx="6953400" cy="3105360"/>
          </a:xfrm>
        </p:grpSpPr>
        <p:sp>
          <p:nvSpPr>
            <p:cNvPr id="66" name=""/>
            <p:cNvSpPr/>
            <p:nvPr/>
          </p:nvSpPr>
          <p:spPr>
            <a:xfrm>
              <a:off x="6953400" y="2724120"/>
              <a:ext cx="1352520" cy="609480"/>
            </a:xfrm>
            <a:prstGeom prst="wedgeRoundRectCallout">
              <a:avLst>
                <a:gd name="adj1" fmla="val -75351"/>
                <a:gd name="adj2" fmla="val 120050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Falha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Atuad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67600" y="5143680"/>
              <a:ext cx="1180800" cy="685800"/>
            </a:xfrm>
            <a:prstGeom prst="wedgeRoundRectCallout">
              <a:avLst>
                <a:gd name="adj1" fmla="val -114513"/>
                <a:gd name="adj2" fmla="val -162731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Falha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Sens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52520" y="2819520"/>
              <a:ext cx="1295280" cy="609480"/>
            </a:xfrm>
            <a:prstGeom prst="wedgeRoundRectCallout">
              <a:avLst>
                <a:gd name="adj1" fmla="val 142648"/>
                <a:gd name="adj2" fmla="val 95050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Falh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Inter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6210360" y="1295280"/>
            <a:ext cx="762120" cy="60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2362320" y="1397160"/>
            <a:ext cx="4533840" cy="330120"/>
          </a:xfrm>
          <a:prstGeom prst="rect">
            <a:avLst/>
          </a:prstGeom>
          <a:ln w="0">
            <a:noFill/>
          </a:ln>
        </p:spPr>
      </p:pic>
      <p:grpSp>
        <p:nvGrpSpPr>
          <p:cNvPr id="447" name=""/>
          <p:cNvGrpSpPr/>
          <p:nvPr/>
        </p:nvGrpSpPr>
        <p:grpSpPr>
          <a:xfrm>
            <a:off x="2076480" y="2222640"/>
            <a:ext cx="4870440" cy="4051080"/>
            <a:chOff x="2076480" y="2222640"/>
            <a:chExt cx="4870440" cy="4051080"/>
          </a:xfrm>
        </p:grpSpPr>
        <p:sp>
          <p:nvSpPr>
            <p:cNvPr id="448" name=""/>
            <p:cNvSpPr/>
            <p:nvPr/>
          </p:nvSpPr>
          <p:spPr>
            <a:xfrm>
              <a:off x="2076480" y="4229280"/>
              <a:ext cx="762120" cy="609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9" name="" descr=""/>
            <p:cNvPicPr/>
            <p:nvPr/>
          </p:nvPicPr>
          <p:blipFill>
            <a:blip r:embed="rId2"/>
            <a:stretch/>
          </p:blipFill>
          <p:spPr>
            <a:xfrm>
              <a:off x="2158920" y="2222640"/>
              <a:ext cx="4788000" cy="405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0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2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5315040" y="1523880"/>
            <a:ext cx="761760" cy="609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2362320" y="1644480"/>
            <a:ext cx="4533840" cy="330480"/>
          </a:xfrm>
          <a:prstGeom prst="rect">
            <a:avLst/>
          </a:prstGeom>
          <a:ln w="0">
            <a:noFill/>
          </a:ln>
        </p:spPr>
      </p:pic>
      <p:grpSp>
        <p:nvGrpSpPr>
          <p:cNvPr id="458" name=""/>
          <p:cNvGrpSpPr/>
          <p:nvPr/>
        </p:nvGrpSpPr>
        <p:grpSpPr>
          <a:xfrm>
            <a:off x="2629080" y="2476440"/>
            <a:ext cx="3898800" cy="3581280"/>
            <a:chOff x="2629080" y="2476440"/>
            <a:chExt cx="3898800" cy="3581280"/>
          </a:xfrm>
        </p:grpSpPr>
        <p:sp>
          <p:nvSpPr>
            <p:cNvPr id="459" name=""/>
            <p:cNvSpPr/>
            <p:nvPr/>
          </p:nvSpPr>
          <p:spPr>
            <a:xfrm>
              <a:off x="2629080" y="3962160"/>
              <a:ext cx="761760" cy="6098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0" name="" descr=""/>
            <p:cNvPicPr/>
            <p:nvPr/>
          </p:nvPicPr>
          <p:blipFill>
            <a:blip r:embed="rId2"/>
            <a:stretch/>
          </p:blipFill>
          <p:spPr>
            <a:xfrm>
              <a:off x="2692440" y="2476440"/>
              <a:ext cx="3835440" cy="358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1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3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210360" y="1276200"/>
            <a:ext cx="762120" cy="60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315040" y="1276200"/>
            <a:ext cx="761760" cy="609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2362320" y="1397160"/>
            <a:ext cx="4533840" cy="33012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4419720" y="2314440"/>
            <a:ext cx="3454200" cy="4194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 flipH="1">
            <a:off x="5281200" y="1876320"/>
            <a:ext cx="389160" cy="3891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531120" y="1884240"/>
            <a:ext cx="388800" cy="38916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879480" y="2738520"/>
            <a:ext cx="7048440" cy="3597120"/>
            <a:chOff x="879480" y="2738520"/>
            <a:chExt cx="7048440" cy="3597120"/>
          </a:xfrm>
        </p:grpSpPr>
        <p:sp>
          <p:nvSpPr>
            <p:cNvPr id="474" name=""/>
            <p:cNvSpPr/>
            <p:nvPr/>
          </p:nvSpPr>
          <p:spPr>
            <a:xfrm>
              <a:off x="879480" y="3954600"/>
              <a:ext cx="762120" cy="609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94080" y="5672160"/>
              <a:ext cx="761760" cy="6094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941400" y="2738520"/>
              <a:ext cx="6986520" cy="3597120"/>
              <a:chOff x="941400" y="2738520"/>
              <a:chExt cx="6986520" cy="3597120"/>
            </a:xfrm>
          </p:grpSpPr>
          <p:pic>
            <p:nvPicPr>
              <p:cNvPr id="47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55800" y="4070520"/>
                <a:ext cx="6972120" cy="204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941400" y="2738520"/>
                <a:ext cx="2768760" cy="124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9" name=""/>
              <p:cNvSpPr/>
              <p:nvPr/>
            </p:nvSpPr>
            <p:spPr>
              <a:xfrm flipV="1">
                <a:off x="2714760" y="4905000"/>
                <a:ext cx="476280" cy="405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4511520" y="4900680"/>
                <a:ext cx="476280" cy="4046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876320" y="6107040"/>
                <a:ext cx="317520" cy="228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82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6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4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6899400" y="2195640"/>
            <a:ext cx="1657080" cy="857160"/>
          </a:xfrm>
          <a:prstGeom prst="wedgeRectCallout">
            <a:avLst>
              <a:gd name="adj1" fmla="val -86782"/>
              <a:gd name="adj2" fmla="val -20185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riz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Fis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62040" y="146844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4. Limitante Inferior de Cramér-Rao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4876920" y="1444680"/>
            <a:ext cx="2133360" cy="36828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915480" y="188136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2092320" y="2149560"/>
            <a:ext cx="4038480" cy="749160"/>
          </a:xfrm>
          <a:prstGeom prst="rect">
            <a:avLst/>
          </a:prstGeom>
          <a:ln w="0">
            <a:noFill/>
          </a:ln>
        </p:spPr>
      </p:pic>
      <p:grpSp>
        <p:nvGrpSpPr>
          <p:cNvPr id="493" name=""/>
          <p:cNvGrpSpPr/>
          <p:nvPr/>
        </p:nvGrpSpPr>
        <p:grpSpPr>
          <a:xfrm>
            <a:off x="966960" y="3297240"/>
            <a:ext cx="3673440" cy="2784600"/>
            <a:chOff x="966960" y="3297240"/>
            <a:chExt cx="3673440" cy="2784600"/>
          </a:xfrm>
        </p:grpSpPr>
        <p:pic>
          <p:nvPicPr>
            <p:cNvPr id="494" name="" descr=""/>
            <p:cNvPicPr/>
            <p:nvPr/>
          </p:nvPicPr>
          <p:blipFill>
            <a:blip r:embed="rId3"/>
            <a:stretch/>
          </p:blipFill>
          <p:spPr>
            <a:xfrm>
              <a:off x="1000080" y="3297240"/>
              <a:ext cx="293364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" descr=""/>
            <p:cNvPicPr/>
            <p:nvPr/>
          </p:nvPicPr>
          <p:blipFill>
            <a:blip r:embed="rId4"/>
            <a:stretch/>
          </p:blipFill>
          <p:spPr>
            <a:xfrm>
              <a:off x="966960" y="4710240"/>
              <a:ext cx="3114360" cy="62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" descr=""/>
            <p:cNvPicPr/>
            <p:nvPr/>
          </p:nvPicPr>
          <p:blipFill>
            <a:blip r:embed="rId5"/>
            <a:stretch/>
          </p:blipFill>
          <p:spPr>
            <a:xfrm>
              <a:off x="3268800" y="5433840"/>
              <a:ext cx="137160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7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6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9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1109520" y="1393920"/>
            <a:ext cx="3619800" cy="1841400"/>
          </a:xfrm>
          <a:prstGeom prst="rect">
            <a:avLst/>
          </a:prstGeom>
          <a:ln w="0">
            <a:noFill/>
          </a:ln>
        </p:spPr>
      </p:pic>
      <p:grpSp>
        <p:nvGrpSpPr>
          <p:cNvPr id="504" name=""/>
          <p:cNvGrpSpPr/>
          <p:nvPr/>
        </p:nvGrpSpPr>
        <p:grpSpPr>
          <a:xfrm>
            <a:off x="857160" y="3405240"/>
            <a:ext cx="3489480" cy="2746440"/>
            <a:chOff x="857160" y="3405240"/>
            <a:chExt cx="3489480" cy="2746440"/>
          </a:xfrm>
        </p:grpSpPr>
        <p:pic>
          <p:nvPicPr>
            <p:cNvPr id="505" name="" descr=""/>
            <p:cNvPicPr/>
            <p:nvPr/>
          </p:nvPicPr>
          <p:blipFill>
            <a:blip r:embed="rId2"/>
            <a:stretch/>
          </p:blipFill>
          <p:spPr>
            <a:xfrm>
              <a:off x="1108080" y="3903840"/>
              <a:ext cx="3238560" cy="22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857160" y="3405240"/>
              <a:ext cx="181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Por outro lado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3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9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1603440" y="2760840"/>
            <a:ext cx="5773680" cy="1409400"/>
          </a:xfrm>
          <a:prstGeom prst="rect">
            <a:avLst/>
          </a:prstGeom>
          <a:ln w="0">
            <a:noFill/>
          </a:ln>
        </p:spPr>
      </p:pic>
      <p:grpSp>
        <p:nvGrpSpPr>
          <p:cNvPr id="514" name=""/>
          <p:cNvGrpSpPr/>
          <p:nvPr/>
        </p:nvGrpSpPr>
        <p:grpSpPr>
          <a:xfrm>
            <a:off x="690840" y="1276200"/>
            <a:ext cx="3719520" cy="1384560"/>
            <a:chOff x="690840" y="1276200"/>
            <a:chExt cx="3719520" cy="1384560"/>
          </a:xfrm>
        </p:grpSpPr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1260720" y="1276200"/>
              <a:ext cx="2076120" cy="13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690840" y="17589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556080" y="1751040"/>
              <a:ext cx="85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então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523880" y="4335480"/>
            <a:ext cx="3390840" cy="2122200"/>
            <a:chOff x="1523880" y="4335480"/>
            <a:chExt cx="3390840" cy="2122200"/>
          </a:xfrm>
        </p:grpSpPr>
        <p:sp>
          <p:nvSpPr>
            <p:cNvPr id="519" name=""/>
            <p:cNvSpPr/>
            <p:nvPr/>
          </p:nvSpPr>
          <p:spPr>
            <a:xfrm>
              <a:off x="1523880" y="6057720"/>
              <a:ext cx="1466640" cy="399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0" name="" descr=""/>
            <p:cNvPicPr/>
            <p:nvPr/>
          </p:nvPicPr>
          <p:blipFill>
            <a:blip r:embed="rId3"/>
            <a:stretch/>
          </p:blipFill>
          <p:spPr>
            <a:xfrm>
              <a:off x="1638000" y="4335480"/>
              <a:ext cx="3276720" cy="210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4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3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"/>
          <p:cNvGrpSpPr/>
          <p:nvPr/>
        </p:nvGrpSpPr>
        <p:grpSpPr>
          <a:xfrm>
            <a:off x="781200" y="1430280"/>
            <a:ext cx="6662160" cy="387360"/>
            <a:chOff x="781200" y="1430280"/>
            <a:chExt cx="6662160" cy="387360"/>
          </a:xfrm>
        </p:grpSpPr>
        <p:sp>
          <p:nvSpPr>
            <p:cNvPr id="528" name=""/>
            <p:cNvSpPr/>
            <p:nvPr/>
          </p:nvSpPr>
          <p:spPr>
            <a:xfrm>
              <a:off x="781200" y="1449360"/>
              <a:ext cx="457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5. Eficiência: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(y) é dito ser eficiente se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9" name="" descr=""/>
            <p:cNvPicPr/>
            <p:nvPr/>
          </p:nvPicPr>
          <p:blipFill>
            <a:blip r:embed="rId1"/>
            <a:stretch/>
          </p:blipFill>
          <p:spPr>
            <a:xfrm>
              <a:off x="5310000" y="1430280"/>
              <a:ext cx="2133360" cy="36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0" name=""/>
          <p:cNvGrpSpPr/>
          <p:nvPr/>
        </p:nvGrpSpPr>
        <p:grpSpPr>
          <a:xfrm>
            <a:off x="795240" y="2009880"/>
            <a:ext cx="4946760" cy="439560"/>
            <a:chOff x="795240" y="2009880"/>
            <a:chExt cx="4946760" cy="439560"/>
          </a:xfrm>
        </p:grpSpPr>
        <p:sp>
          <p:nvSpPr>
            <p:cNvPr id="531" name=""/>
            <p:cNvSpPr/>
            <p:nvPr/>
          </p:nvSpPr>
          <p:spPr>
            <a:xfrm>
              <a:off x="795240" y="208116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6. Teorema: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2" name="" descr=""/>
            <p:cNvPicPr/>
            <p:nvPr/>
          </p:nvPicPr>
          <p:blipFill>
            <a:blip r:embed="rId2"/>
            <a:stretch/>
          </p:blipFill>
          <p:spPr>
            <a:xfrm>
              <a:off x="2274840" y="2009880"/>
              <a:ext cx="3467160" cy="41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3" name=""/>
          <p:cNvGrpSpPr/>
          <p:nvPr/>
        </p:nvGrpSpPr>
        <p:grpSpPr>
          <a:xfrm>
            <a:off x="1057320" y="2679840"/>
            <a:ext cx="6735600" cy="3181320"/>
            <a:chOff x="1057320" y="2679840"/>
            <a:chExt cx="6735600" cy="3181320"/>
          </a:xfrm>
        </p:grpSpPr>
        <p:grpSp>
          <p:nvGrpSpPr>
            <p:cNvPr id="534" name=""/>
            <p:cNvGrpSpPr/>
            <p:nvPr/>
          </p:nvGrpSpPr>
          <p:grpSpPr>
            <a:xfrm>
              <a:off x="1057320" y="2679840"/>
              <a:ext cx="4562280" cy="3181320"/>
              <a:chOff x="1057320" y="2679840"/>
              <a:chExt cx="4562280" cy="3181320"/>
            </a:xfrm>
          </p:grpSpPr>
          <p:pic>
            <p:nvPicPr>
              <p:cNvPr id="53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47680" y="2679840"/>
                <a:ext cx="1629000" cy="43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7680" y="3403440"/>
                <a:ext cx="4410000" cy="66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123920" y="4121280"/>
                <a:ext cx="4495680" cy="55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057320" y="4883040"/>
                <a:ext cx="3638520" cy="97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9" name=""/>
            <p:cNvGrpSpPr/>
            <p:nvPr/>
          </p:nvGrpSpPr>
          <p:grpSpPr>
            <a:xfrm>
              <a:off x="3257640" y="2876040"/>
              <a:ext cx="4535280" cy="2800800"/>
              <a:chOff x="3257640" y="2876040"/>
              <a:chExt cx="4535280" cy="2800800"/>
            </a:xfrm>
          </p:grpSpPr>
          <p:sp>
            <p:nvSpPr>
              <p:cNvPr id="540" name=""/>
              <p:cNvSpPr/>
              <p:nvPr/>
            </p:nvSpPr>
            <p:spPr>
              <a:xfrm>
                <a:off x="6435720" y="4011480"/>
                <a:ext cx="1357200" cy="4622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257640" y="2876400"/>
                <a:ext cx="30621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638520" y="5676840"/>
                <a:ext cx="26859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6305400" y="2876040"/>
                <a:ext cx="0" cy="280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4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516720" y="4056120"/>
                <a:ext cx="1219320" cy="36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45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8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7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5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9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1611360" y="1944720"/>
            <a:ext cx="5441760" cy="465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63480" y="143208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7. Propriedades do LSE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1668600" y="1951200"/>
            <a:ext cx="5421960" cy="436320"/>
            <a:chOff x="1668600" y="1951200"/>
            <a:chExt cx="5421960" cy="436320"/>
          </a:xfrm>
        </p:grpSpPr>
        <p:pic>
          <p:nvPicPr>
            <p:cNvPr id="554" name="" descr=""/>
            <p:cNvPicPr/>
            <p:nvPr/>
          </p:nvPicPr>
          <p:blipFill>
            <a:blip r:embed="rId1"/>
            <a:stretch/>
          </p:blipFill>
          <p:spPr>
            <a:xfrm>
              <a:off x="1668600" y="1951200"/>
              <a:ext cx="346680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5103720" y="2019240"/>
              <a:ext cx="198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 não polariz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71400" y="2682720"/>
            <a:ext cx="6615360" cy="887400"/>
            <a:chOff x="671400" y="2682720"/>
            <a:chExt cx="6615360" cy="887400"/>
          </a:xfrm>
        </p:grpSpPr>
        <p:sp>
          <p:nvSpPr>
            <p:cNvPr id="557" name=""/>
            <p:cNvSpPr/>
            <p:nvPr/>
          </p:nvSpPr>
          <p:spPr>
            <a:xfrm>
              <a:off x="671400" y="2682720"/>
              <a:ext cx="426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8. Identificação de Modelos ARMAX: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1814400" y="3206880"/>
              <a:ext cx="5472360" cy="363240"/>
              <a:chOff x="1814400" y="3206880"/>
              <a:chExt cx="5472360" cy="363240"/>
            </a:xfrm>
          </p:grpSpPr>
          <p:sp>
            <p:nvSpPr>
              <p:cNvPr id="559" name=""/>
              <p:cNvSpPr/>
              <p:nvPr/>
            </p:nvSpPr>
            <p:spPr>
              <a:xfrm>
                <a:off x="1814400" y="3206880"/>
                <a:ext cx="5472360" cy="3632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6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19160" y="3217680"/>
                <a:ext cx="5295960" cy="304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61" name="" descr=""/>
          <p:cNvPicPr/>
          <p:nvPr/>
        </p:nvPicPr>
        <p:blipFill>
          <a:blip r:embed="rId3"/>
          <a:stretch/>
        </p:blipFill>
        <p:spPr>
          <a:xfrm>
            <a:off x="1433520" y="3710160"/>
            <a:ext cx="6438960" cy="204444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4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4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1233360" y="5627160"/>
            <a:ext cx="6753240" cy="749880"/>
            <a:chOff x="1233360" y="5627160"/>
            <a:chExt cx="6753240" cy="749880"/>
          </a:xfrm>
        </p:grpSpPr>
        <p:grpSp>
          <p:nvGrpSpPr>
            <p:cNvPr id="569" name=""/>
            <p:cNvGrpSpPr/>
            <p:nvPr/>
          </p:nvGrpSpPr>
          <p:grpSpPr>
            <a:xfrm>
              <a:off x="1233360" y="6008760"/>
              <a:ext cx="6753240" cy="368280"/>
              <a:chOff x="1233360" y="6008760"/>
              <a:chExt cx="6753240" cy="368280"/>
            </a:xfrm>
          </p:grpSpPr>
          <p:sp>
            <p:nvSpPr>
              <p:cNvPr id="570" name=""/>
              <p:cNvSpPr/>
              <p:nvPr/>
            </p:nvSpPr>
            <p:spPr>
              <a:xfrm>
                <a:off x="1233360" y="6059160"/>
                <a:ext cx="6753240" cy="302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525320" y="6008760"/>
                <a:ext cx="6179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y     =                                 A                                         +    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7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583320" y="6087960"/>
                <a:ext cx="152280" cy="228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73" name=""/>
            <p:cNvSpPr/>
            <p:nvPr/>
          </p:nvSpPr>
          <p:spPr>
            <a:xfrm rot="16200000">
              <a:off x="4264920" y="3802320"/>
              <a:ext cx="282600" cy="3932280"/>
            </a:xfrm>
            <a:custGeom>
              <a:avLst/>
              <a:gdLst>
                <a:gd name="textAreaLeft" fmla="*/ 180720 w 282600"/>
                <a:gd name="textAreaRight" fmla="*/ 282960 w 282600"/>
                <a:gd name="textAreaTop" fmla="*/ 102240 h 3932280"/>
                <a:gd name="textAreaBottom" fmla="*/ 3830040 h 393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16200000">
              <a:off x="7406280" y="5377320"/>
              <a:ext cx="211320" cy="723960"/>
            </a:xfrm>
            <a:custGeom>
              <a:avLst/>
              <a:gdLst>
                <a:gd name="textAreaLeft" fmla="*/ 135000 w 211320"/>
                <a:gd name="textAreaRight" fmla="*/ 211680 w 211320"/>
                <a:gd name="textAreaTop" fmla="*/ 18720 h 723960"/>
                <a:gd name="textAreaBottom" fmla="*/ 705240 h 7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16200000">
              <a:off x="1694520" y="5370840"/>
              <a:ext cx="211320" cy="723960"/>
            </a:xfrm>
            <a:custGeom>
              <a:avLst/>
              <a:gdLst>
                <a:gd name="textAreaLeft" fmla="*/ 135000 w 211320"/>
                <a:gd name="textAreaRight" fmla="*/ 211680 w 211320"/>
                <a:gd name="textAreaTop" fmla="*/ 18720 h 723960"/>
                <a:gd name="textAreaBottom" fmla="*/ 705240 h 7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16200000">
              <a:off x="6601320" y="5457960"/>
              <a:ext cx="211320" cy="594000"/>
            </a:xfrm>
            <a:custGeom>
              <a:avLst/>
              <a:gdLst>
                <a:gd name="textAreaLeft" fmla="*/ 135000 w 211320"/>
                <a:gd name="textAreaRight" fmla="*/ 211680 w 211320"/>
                <a:gd name="textAreaTop" fmla="*/ 15480 h 594000"/>
                <a:gd name="textAreaBottom" fmla="*/ 578520 h 59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2106720" y="2038320"/>
            <a:ext cx="1198440" cy="56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36480" y="1593720"/>
            <a:ext cx="38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. Lema de Inversão de Matrize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2171880" y="2114640"/>
            <a:ext cx="4495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580" name=""/>
          <p:cNvGrpSpPr/>
          <p:nvPr/>
        </p:nvGrpSpPr>
        <p:grpSpPr>
          <a:xfrm>
            <a:off x="694800" y="2665440"/>
            <a:ext cx="7175880" cy="3887640"/>
            <a:chOff x="694800" y="2665440"/>
            <a:chExt cx="7175880" cy="3887640"/>
          </a:xfrm>
        </p:grpSpPr>
        <p:sp>
          <p:nvSpPr>
            <p:cNvPr id="581" name=""/>
            <p:cNvSpPr/>
            <p:nvPr/>
          </p:nvSpPr>
          <p:spPr>
            <a:xfrm>
              <a:off x="694800" y="2665440"/>
              <a:ext cx="293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2. Estimação Recursiva: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2"/>
            <a:stretch/>
          </p:blipFill>
          <p:spPr>
            <a:xfrm>
              <a:off x="1433520" y="3606840"/>
              <a:ext cx="4371840" cy="6732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83" name=""/>
                <p:cNvSpPr txBox="1"/>
                <p:nvPr/>
              </p:nvSpPr>
              <p:spPr>
                <a:xfrm>
                  <a:off x="3146400" y="4308480"/>
                  <a:ext cx="4064040" cy="90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p>
                                <m:e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m>
                                        <m:m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A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N</m:t>
                                                </m:r>
                                              </m:sub>
                                            </m:sSub>
                                          </m:e>
                                        </m:mr>
                                        <m:mr>
                                          <m:e>
                                            <m:sSubSup>
                                              <m:e>
                                                <m:r>
                                                  <m:t xml:space="preserve">a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N</m:t>
                                                </m:r>
                                                <m:r>
                                                  <m:t xml:space="preserve">+</m:t>
                                                </m:r>
                                                <m:r>
                                                  <m:t xml:space="preserve">1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</m:e>
                                        </m:mr>
                                      </m:m>
                                    </m:e>
                                  </m:d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m>
                                    <m:mr>
                                      <m:e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e>
                                    </m:mr>
                                    <m:mr>
                                      <m:e>
                                        <m:sSub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T</m:t>
                                            </m:r>
                                          </m:sup>
                                        </m:sSubSup>
                                      </m:e>
                                    </m:mr>
                                  </m:m>
                                </m:e>
                              </m:d>
                            </m:e>
                          </m:d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sSup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</m:e>
                                </m:mr>
                              </m:m>
                            </m:e>
                          </m:d>
                        </m:e>
                        <m:sup>
                          <m:r>
                            <m:t xml:space="preserve">T</m:t>
                          </m:r>
                        </m:sup>
                      </m:sSup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pic>
          <p:nvPicPr>
            <p:cNvPr id="584" name="" descr=""/>
            <p:cNvPicPr/>
            <p:nvPr/>
          </p:nvPicPr>
          <p:blipFill>
            <a:blip r:embed="rId3"/>
            <a:stretch/>
          </p:blipFill>
          <p:spPr>
            <a:xfrm>
              <a:off x="3156120" y="5176800"/>
              <a:ext cx="4714560" cy="76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5" name=""/>
            <p:cNvGrpSpPr/>
            <p:nvPr/>
          </p:nvGrpSpPr>
          <p:grpSpPr>
            <a:xfrm>
              <a:off x="3129120" y="5975280"/>
              <a:ext cx="4562280" cy="577800"/>
              <a:chOff x="3129120" y="5975280"/>
              <a:chExt cx="4562280" cy="577800"/>
            </a:xfrm>
          </p:grpSpPr>
          <p:sp>
            <p:nvSpPr>
              <p:cNvPr id="586" name=""/>
              <p:cNvSpPr/>
              <p:nvPr/>
            </p:nvSpPr>
            <p:spPr>
              <a:xfrm>
                <a:off x="3795840" y="5975280"/>
                <a:ext cx="2077920" cy="5778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8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129120" y="6018120"/>
                <a:ext cx="4562280" cy="432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88" name="" descr=""/>
            <p:cNvPicPr/>
            <p:nvPr/>
          </p:nvPicPr>
          <p:blipFill>
            <a:blip r:embed="rId5"/>
            <a:stretch/>
          </p:blipFill>
          <p:spPr>
            <a:xfrm>
              <a:off x="1428840" y="3193920"/>
              <a:ext cx="516240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9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6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1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695600" y="1090440"/>
            <a:ext cx="57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Identificação Paramétrica Recurs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909720" y="1492200"/>
            <a:ext cx="1438200" cy="43200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2771640" y="1457280"/>
            <a:ext cx="1438560" cy="673200"/>
          </a:xfrm>
          <a:prstGeom prst="rect">
            <a:avLst/>
          </a:prstGeom>
          <a:ln w="0">
            <a:noFill/>
          </a:ln>
        </p:spPr>
      </p:pic>
      <p:grpSp>
        <p:nvGrpSpPr>
          <p:cNvPr id="598" name=""/>
          <p:cNvGrpSpPr/>
          <p:nvPr/>
        </p:nvGrpSpPr>
        <p:grpSpPr>
          <a:xfrm>
            <a:off x="900000" y="1971720"/>
            <a:ext cx="6462720" cy="1257120"/>
            <a:chOff x="900000" y="1971720"/>
            <a:chExt cx="6462720" cy="1257120"/>
          </a:xfrm>
        </p:grpSpPr>
        <p:sp>
          <p:nvSpPr>
            <p:cNvPr id="599" name=""/>
            <p:cNvSpPr/>
            <p:nvPr/>
          </p:nvSpPr>
          <p:spPr>
            <a:xfrm>
              <a:off x="5284440" y="2095200"/>
              <a:ext cx="2078280" cy="591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0" name="" descr=""/>
            <p:cNvPicPr/>
            <p:nvPr/>
          </p:nvPicPr>
          <p:blipFill>
            <a:blip r:embed="rId3"/>
            <a:stretch/>
          </p:blipFill>
          <p:spPr>
            <a:xfrm>
              <a:off x="900000" y="1971720"/>
              <a:ext cx="6429240" cy="12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1" name=""/>
          <p:cNvGrpSpPr/>
          <p:nvPr/>
        </p:nvGrpSpPr>
        <p:grpSpPr>
          <a:xfrm>
            <a:off x="2832120" y="2932200"/>
            <a:ext cx="4632480" cy="793440"/>
            <a:chOff x="2832120" y="2932200"/>
            <a:chExt cx="4632480" cy="793440"/>
          </a:xfrm>
        </p:grpSpPr>
        <p:pic>
          <p:nvPicPr>
            <p:cNvPr id="602" name="" descr=""/>
            <p:cNvPicPr/>
            <p:nvPr/>
          </p:nvPicPr>
          <p:blipFill>
            <a:blip r:embed="rId4"/>
            <a:stretch/>
          </p:blipFill>
          <p:spPr>
            <a:xfrm>
              <a:off x="2968920" y="3081240"/>
              <a:ext cx="44956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2832120" y="2932200"/>
              <a:ext cx="0" cy="793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923760" y="3811680"/>
            <a:ext cx="4714560" cy="1041120"/>
            <a:chOff x="923760" y="3811680"/>
            <a:chExt cx="4714560" cy="1041120"/>
          </a:xfrm>
        </p:grpSpPr>
        <p:sp>
          <p:nvSpPr>
            <p:cNvPr id="605" name=""/>
            <p:cNvSpPr/>
            <p:nvPr/>
          </p:nvSpPr>
          <p:spPr>
            <a:xfrm>
              <a:off x="2079360" y="4332240"/>
              <a:ext cx="245268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923760" y="3811680"/>
              <a:ext cx="4714560" cy="966600"/>
              <a:chOff x="923760" y="3811680"/>
              <a:chExt cx="4714560" cy="966600"/>
            </a:xfrm>
          </p:grpSpPr>
          <p:pic>
            <p:nvPicPr>
              <p:cNvPr id="60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923760" y="3811680"/>
                <a:ext cx="47145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417320" y="4346640"/>
                <a:ext cx="3809880" cy="43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09" name=""/>
          <p:cNvGrpSpPr/>
          <p:nvPr/>
        </p:nvGrpSpPr>
        <p:grpSpPr>
          <a:xfrm>
            <a:off x="2797200" y="4938840"/>
            <a:ext cx="3251160" cy="799560"/>
            <a:chOff x="2797200" y="4938840"/>
            <a:chExt cx="3251160" cy="799560"/>
          </a:xfrm>
        </p:grpSpPr>
        <p:sp>
          <p:nvSpPr>
            <p:cNvPr id="610" name=""/>
            <p:cNvSpPr/>
            <p:nvPr/>
          </p:nvSpPr>
          <p:spPr>
            <a:xfrm>
              <a:off x="3724560" y="4938840"/>
              <a:ext cx="2323800" cy="750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797200" y="4944960"/>
              <a:ext cx="0" cy="793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2" name="" descr=""/>
            <p:cNvPicPr/>
            <p:nvPr/>
          </p:nvPicPr>
          <p:blipFill>
            <a:blip r:embed="rId7"/>
            <a:stretch/>
          </p:blipFill>
          <p:spPr>
            <a:xfrm>
              <a:off x="3036960" y="4975200"/>
              <a:ext cx="2933640" cy="64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3" name="" descr=""/>
          <p:cNvPicPr/>
          <p:nvPr/>
        </p:nvPicPr>
        <p:blipFill>
          <a:blip r:embed="rId8"/>
          <a:stretch/>
        </p:blipFill>
        <p:spPr>
          <a:xfrm>
            <a:off x="1720800" y="5851440"/>
            <a:ext cx="2362320" cy="36828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9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6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8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51120" y="5830920"/>
            <a:ext cx="249552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2730600" y="1593720"/>
            <a:ext cx="3798720" cy="33048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4572000" y="2019240"/>
            <a:ext cx="1574640" cy="1847880"/>
            <a:chOff x="4572000" y="2019240"/>
            <a:chExt cx="1574640" cy="1847880"/>
          </a:xfrm>
        </p:grpSpPr>
        <p:pic>
          <p:nvPicPr>
            <p:cNvPr id="78" name="" descr=""/>
            <p:cNvPicPr/>
            <p:nvPr/>
          </p:nvPicPr>
          <p:blipFill>
            <a:blip r:embed="rId5"/>
            <a:stretch/>
          </p:blipFill>
          <p:spPr>
            <a:xfrm>
              <a:off x="4857840" y="2089080"/>
              <a:ext cx="128880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572000" y="2019240"/>
              <a:ext cx="0" cy="184788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2571840" y="3956040"/>
            <a:ext cx="4637160" cy="1689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1028880" y="1576440"/>
            <a:ext cx="4565160" cy="1036440"/>
            <a:chOff x="1028880" y="1576440"/>
            <a:chExt cx="4565160" cy="1036440"/>
          </a:xfrm>
        </p:grpSpPr>
        <p:grpSp>
          <p:nvGrpSpPr>
            <p:cNvPr id="621" name=""/>
            <p:cNvGrpSpPr/>
            <p:nvPr/>
          </p:nvGrpSpPr>
          <p:grpSpPr>
            <a:xfrm>
              <a:off x="1031760" y="1576440"/>
              <a:ext cx="4562280" cy="577800"/>
              <a:chOff x="1031760" y="1576440"/>
              <a:chExt cx="4562280" cy="577800"/>
            </a:xfrm>
          </p:grpSpPr>
          <p:sp>
            <p:nvSpPr>
              <p:cNvPr id="622" name=""/>
              <p:cNvSpPr/>
              <p:nvPr/>
            </p:nvSpPr>
            <p:spPr>
              <a:xfrm>
                <a:off x="1698480" y="1576440"/>
                <a:ext cx="2077920" cy="5778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2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31760" y="1619280"/>
                <a:ext cx="4562280" cy="432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24" name="" descr=""/>
            <p:cNvPicPr/>
            <p:nvPr/>
          </p:nvPicPr>
          <p:blipFill>
            <a:blip r:embed="rId2"/>
            <a:stretch/>
          </p:blipFill>
          <p:spPr>
            <a:xfrm>
              <a:off x="1028880" y="2181240"/>
              <a:ext cx="3009600" cy="43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5" name=""/>
          <p:cNvGrpSpPr/>
          <p:nvPr/>
        </p:nvGrpSpPr>
        <p:grpSpPr>
          <a:xfrm>
            <a:off x="2489040" y="2765520"/>
            <a:ext cx="4464360" cy="793800"/>
            <a:chOff x="2489040" y="2765520"/>
            <a:chExt cx="4464360" cy="793800"/>
          </a:xfrm>
        </p:grpSpPr>
        <p:sp>
          <p:nvSpPr>
            <p:cNvPr id="626" name=""/>
            <p:cNvSpPr/>
            <p:nvPr/>
          </p:nvSpPr>
          <p:spPr>
            <a:xfrm>
              <a:off x="2489040" y="2765520"/>
              <a:ext cx="0" cy="793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3"/>
            <a:stretch/>
          </p:blipFill>
          <p:spPr>
            <a:xfrm>
              <a:off x="2647800" y="2889360"/>
              <a:ext cx="4305600" cy="43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8" name=""/>
          <p:cNvGrpSpPr/>
          <p:nvPr/>
        </p:nvGrpSpPr>
        <p:grpSpPr>
          <a:xfrm>
            <a:off x="1036800" y="3605040"/>
            <a:ext cx="6314760" cy="936720"/>
            <a:chOff x="1036800" y="3605040"/>
            <a:chExt cx="6314760" cy="936720"/>
          </a:xfrm>
        </p:grpSpPr>
        <p:sp>
          <p:nvSpPr>
            <p:cNvPr id="629" name=""/>
            <p:cNvSpPr/>
            <p:nvPr/>
          </p:nvSpPr>
          <p:spPr>
            <a:xfrm>
              <a:off x="3220920" y="4108320"/>
              <a:ext cx="2511720" cy="4334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751120" y="3611520"/>
              <a:ext cx="2511360" cy="4460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675400" y="3662280"/>
              <a:ext cx="850680" cy="390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12880" y="3668760"/>
              <a:ext cx="851040" cy="390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3" name="" descr=""/>
            <p:cNvPicPr/>
            <p:nvPr/>
          </p:nvPicPr>
          <p:blipFill>
            <a:blip r:embed="rId4"/>
            <a:stretch/>
          </p:blipFill>
          <p:spPr>
            <a:xfrm>
              <a:off x="1036800" y="3605040"/>
              <a:ext cx="6314760" cy="93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4" name=""/>
          <p:cNvGrpSpPr/>
          <p:nvPr/>
        </p:nvGrpSpPr>
        <p:grpSpPr>
          <a:xfrm>
            <a:off x="2496960" y="4678200"/>
            <a:ext cx="4756320" cy="793800"/>
            <a:chOff x="2496960" y="4678200"/>
            <a:chExt cx="4756320" cy="793800"/>
          </a:xfrm>
        </p:grpSpPr>
        <p:sp>
          <p:nvSpPr>
            <p:cNvPr id="635" name=""/>
            <p:cNvSpPr/>
            <p:nvPr/>
          </p:nvSpPr>
          <p:spPr>
            <a:xfrm>
              <a:off x="5016600" y="4737240"/>
              <a:ext cx="2236680" cy="7063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198960" y="4794120"/>
              <a:ext cx="880920" cy="4194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496960" y="4678200"/>
              <a:ext cx="0" cy="793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8" name="" descr=""/>
            <p:cNvPicPr/>
            <p:nvPr/>
          </p:nvPicPr>
          <p:blipFill>
            <a:blip r:embed="rId5"/>
            <a:stretch/>
          </p:blipFill>
          <p:spPr>
            <a:xfrm>
              <a:off x="2657520" y="4811760"/>
              <a:ext cx="137160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6"/>
            <a:stretch/>
          </p:blipFill>
          <p:spPr>
            <a:xfrm>
              <a:off x="4300560" y="4757760"/>
              <a:ext cx="2933640" cy="64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0" name="" descr=""/>
          <p:cNvPicPr/>
          <p:nvPr/>
        </p:nvPicPr>
        <p:blipFill>
          <a:blip r:embed="rId7"/>
          <a:stretch/>
        </p:blipFill>
        <p:spPr>
          <a:xfrm>
            <a:off x="1089000" y="5591160"/>
            <a:ext cx="3181320" cy="36828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8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3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3211560" y="1981080"/>
            <a:ext cx="5576760" cy="766800"/>
          </a:xfrm>
          <a:prstGeom prst="wedgeRectCallout">
            <a:avLst>
              <a:gd name="adj1" fmla="val -42087"/>
              <a:gd name="adj2" fmla="val 107351"/>
            </a:avLst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898720" y="2193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5291280" y="3719520"/>
            <a:ext cx="3406680" cy="1833480"/>
            <a:chOff x="5291280" y="3719520"/>
            <a:chExt cx="3406680" cy="1833480"/>
          </a:xfrm>
        </p:grpSpPr>
        <p:sp>
          <p:nvSpPr>
            <p:cNvPr id="650" name=""/>
            <p:cNvSpPr/>
            <p:nvPr/>
          </p:nvSpPr>
          <p:spPr>
            <a:xfrm>
              <a:off x="5291280" y="3719520"/>
              <a:ext cx="3406680" cy="18334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5400720" y="3811680"/>
              <a:ext cx="3181320" cy="1608120"/>
              <a:chOff x="5400720" y="3811680"/>
              <a:chExt cx="3181320" cy="1608120"/>
            </a:xfrm>
          </p:grpSpPr>
          <p:pic>
            <p:nvPicPr>
              <p:cNvPr id="6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400720" y="3811680"/>
                <a:ext cx="318132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427720" y="4333680"/>
                <a:ext cx="2933640" cy="64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426280" y="5051520"/>
                <a:ext cx="2362320" cy="36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655" name="" descr=""/>
          <p:cNvPicPr/>
          <p:nvPr/>
        </p:nvPicPr>
        <p:blipFill>
          <a:blip r:embed="rId4"/>
          <a:stretch/>
        </p:blipFill>
        <p:spPr>
          <a:xfrm>
            <a:off x="3638520" y="2297160"/>
            <a:ext cx="4511880" cy="36360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5"/>
          <a:stretch/>
        </p:blipFill>
        <p:spPr>
          <a:xfrm>
            <a:off x="3338640" y="2031840"/>
            <a:ext cx="5286240" cy="292320"/>
          </a:xfrm>
          <a:prstGeom prst="rect">
            <a:avLst/>
          </a:prstGeom>
          <a:ln w="0">
            <a:noFill/>
          </a:ln>
        </p:spPr>
      </p:pic>
      <p:grpSp>
        <p:nvGrpSpPr>
          <p:cNvPr id="657" name=""/>
          <p:cNvGrpSpPr/>
          <p:nvPr/>
        </p:nvGrpSpPr>
        <p:grpSpPr>
          <a:xfrm>
            <a:off x="324000" y="2895480"/>
            <a:ext cx="4476600" cy="3489120"/>
            <a:chOff x="324000" y="2895480"/>
            <a:chExt cx="4476600" cy="3489120"/>
          </a:xfrm>
        </p:grpSpPr>
        <p:sp>
          <p:nvSpPr>
            <p:cNvPr id="658" name=""/>
            <p:cNvSpPr/>
            <p:nvPr/>
          </p:nvSpPr>
          <p:spPr>
            <a:xfrm>
              <a:off x="1591920" y="5072760"/>
              <a:ext cx="1939680" cy="72612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44560" y="5436000"/>
              <a:ext cx="747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763640" y="524376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dentific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531960" y="5436000"/>
              <a:ext cx="747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2" name=""/>
            <p:cNvGrpSpPr/>
            <p:nvPr/>
          </p:nvGrpSpPr>
          <p:grpSpPr>
            <a:xfrm>
              <a:off x="844560" y="3803400"/>
              <a:ext cx="3434760" cy="1643040"/>
              <a:chOff x="844560" y="3803400"/>
              <a:chExt cx="3434760" cy="1643040"/>
            </a:xfrm>
          </p:grpSpPr>
          <p:sp>
            <p:nvSpPr>
              <p:cNvPr id="663" name=""/>
              <p:cNvSpPr/>
              <p:nvPr/>
            </p:nvSpPr>
            <p:spPr>
              <a:xfrm>
                <a:off x="844560" y="3803400"/>
                <a:ext cx="0" cy="1643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279320" y="3803400"/>
                <a:ext cx="0" cy="1643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2562120" y="5799240"/>
              <a:ext cx="0" cy="52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03880" y="3764160"/>
              <a:ext cx="74520" cy="7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242240" y="3765600"/>
              <a:ext cx="7452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8" name="" descr=""/>
            <p:cNvPicPr/>
            <p:nvPr/>
          </p:nvPicPr>
          <p:blipFill>
            <a:blip r:embed="rId6"/>
            <a:stretch/>
          </p:blipFill>
          <p:spPr>
            <a:xfrm>
              <a:off x="2703600" y="6033600"/>
              <a:ext cx="1442160" cy="3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"/>
            <p:cNvSpPr/>
            <p:nvPr/>
          </p:nvSpPr>
          <p:spPr>
            <a:xfrm>
              <a:off x="1610640" y="2949840"/>
              <a:ext cx="1939680" cy="118008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807200" y="3077280"/>
              <a:ext cx="1600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ste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rcialm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hec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24000" y="3803400"/>
              <a:ext cx="1267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550680" y="3803400"/>
              <a:ext cx="1249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3" name="" descr=""/>
            <p:cNvPicPr/>
            <p:nvPr/>
          </p:nvPicPr>
          <p:blipFill>
            <a:blip r:embed="rId7"/>
            <a:stretch/>
          </p:blipFill>
          <p:spPr>
            <a:xfrm>
              <a:off x="328320" y="3476520"/>
              <a:ext cx="459720" cy="29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" descr=""/>
            <p:cNvPicPr/>
            <p:nvPr/>
          </p:nvPicPr>
          <p:blipFill>
            <a:blip r:embed="rId8"/>
            <a:stretch/>
          </p:blipFill>
          <p:spPr>
            <a:xfrm>
              <a:off x="4128840" y="3440160"/>
              <a:ext cx="472320" cy="2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"/>
            <p:cNvSpPr/>
            <p:nvPr/>
          </p:nvSpPr>
          <p:spPr>
            <a:xfrm>
              <a:off x="342360" y="3222360"/>
              <a:ext cx="1267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6" name="" descr=""/>
            <p:cNvPicPr/>
            <p:nvPr/>
          </p:nvPicPr>
          <p:blipFill>
            <a:blip r:embed="rId9"/>
            <a:stretch/>
          </p:blipFill>
          <p:spPr>
            <a:xfrm>
              <a:off x="333000" y="2895480"/>
              <a:ext cx="466200" cy="2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 flipV="1">
              <a:off x="2562120" y="4129920"/>
              <a:ext cx="0" cy="47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8" name="" descr=""/>
            <p:cNvPicPr/>
            <p:nvPr/>
          </p:nvPicPr>
          <p:blipFill>
            <a:blip r:embed="rId10"/>
            <a:stretch/>
          </p:blipFill>
          <p:spPr>
            <a:xfrm>
              <a:off x="1088280" y="4535640"/>
              <a:ext cx="3096000" cy="35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9" name=""/>
          <p:cNvSpPr/>
          <p:nvPr/>
        </p:nvSpPr>
        <p:spPr>
          <a:xfrm>
            <a:off x="361800" y="1327320"/>
            <a:ext cx="39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3. Identificação de Modelos ARX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1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2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68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4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8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0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4"/>
          <a:stretch/>
        </p:blipFill>
        <p:spPr>
          <a:xfrm>
            <a:off x="2260440" y="2216160"/>
            <a:ext cx="4654800" cy="145404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>
            <a:off x="996840" y="148896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xempl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5"/>
          <a:stretch/>
        </p:blipFill>
        <p:spPr>
          <a:xfrm>
            <a:off x="2171880" y="4905360"/>
            <a:ext cx="5181480" cy="33336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4533840" y="3962520"/>
            <a:ext cx="0" cy="7426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8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4"/>
          <a:stretch/>
        </p:blipFill>
        <p:spPr>
          <a:xfrm>
            <a:off x="324000" y="1395360"/>
            <a:ext cx="8534160" cy="5221440"/>
          </a:xfrm>
          <a:prstGeom prst="rect">
            <a:avLst/>
          </a:prstGeom>
          <a:ln w="0">
            <a:noFill/>
          </a:ln>
        </p:spPr>
      </p:pic>
      <p:sp>
        <p:nvSpPr>
          <p:cNvPr id="702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5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7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Ident1" descr=""/>
          <p:cNvPicPr/>
          <p:nvPr/>
        </p:nvPicPr>
        <p:blipFill>
          <a:blip r:embed="rId4"/>
          <a:stretch/>
        </p:blipFill>
        <p:spPr>
          <a:xfrm>
            <a:off x="590400" y="1285920"/>
            <a:ext cx="8001000" cy="508644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5"/>
          <a:stretch/>
        </p:blipFill>
        <p:spPr>
          <a:xfrm>
            <a:off x="2724120" y="4867200"/>
            <a:ext cx="5181480" cy="333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3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5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Ident2" descr=""/>
          <p:cNvPicPr/>
          <p:nvPr/>
        </p:nvPicPr>
        <p:blipFill>
          <a:blip r:embed="rId4"/>
          <a:stretch/>
        </p:blipFill>
        <p:spPr>
          <a:xfrm>
            <a:off x="642960" y="1251000"/>
            <a:ext cx="7931160" cy="5192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0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2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944440" y="3360600"/>
            <a:ext cx="354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Arial"/>
              </a:rPr>
              <a:t>Muito Obrigado!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400480" y="1231920"/>
            <a:ext cx="4636800" cy="168912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720800" y="3086280"/>
            <a:ext cx="5927760" cy="2495520"/>
            <a:chOff x="1720800" y="3086280"/>
            <a:chExt cx="5927760" cy="2495520"/>
          </a:xfrm>
        </p:grpSpPr>
        <p:pic>
          <p:nvPicPr>
            <p:cNvPr id="89" name="" descr=""/>
            <p:cNvPicPr/>
            <p:nvPr/>
          </p:nvPicPr>
          <p:blipFill>
            <a:blip r:embed="rId5"/>
            <a:stretch/>
          </p:blipFill>
          <p:spPr>
            <a:xfrm>
              <a:off x="1720800" y="3828960"/>
              <a:ext cx="592776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514760" y="3086280"/>
              <a:ext cx="0" cy="60948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733840" y="5705280"/>
            <a:ext cx="4686120" cy="693000"/>
            <a:chOff x="2733840" y="5705280"/>
            <a:chExt cx="4686120" cy="693000"/>
          </a:xfrm>
        </p:grpSpPr>
        <p:sp>
          <p:nvSpPr>
            <p:cNvPr id="92" name=""/>
            <p:cNvSpPr/>
            <p:nvPr/>
          </p:nvSpPr>
          <p:spPr>
            <a:xfrm rot="16200000">
              <a:off x="4295880" y="4161960"/>
              <a:ext cx="304920" cy="34290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89280 h 3429000"/>
                <a:gd name="textAreaBottom" fmla="*/ 3339720 h 342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290840" y="6060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6200000">
              <a:off x="7048440" y="5657400"/>
              <a:ext cx="323640" cy="419040"/>
            </a:xfrm>
            <a:custGeom>
              <a:avLst/>
              <a:gdLst>
                <a:gd name="textAreaLeft" fmla="*/ 207000 w 323640"/>
                <a:gd name="textAreaRight" fmla="*/ 324000 w 32364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072200" y="60418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035000" y="1384200"/>
            <a:ext cx="7429680" cy="3676680"/>
            <a:chOff x="1035000" y="1384200"/>
            <a:chExt cx="7429680" cy="3676680"/>
          </a:xfrm>
        </p:grpSpPr>
        <p:sp>
          <p:nvSpPr>
            <p:cNvPr id="103" name=""/>
            <p:cNvSpPr/>
            <p:nvPr/>
          </p:nvSpPr>
          <p:spPr>
            <a:xfrm>
              <a:off x="3486240" y="2457360"/>
              <a:ext cx="2057400" cy="819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76440" y="1390680"/>
              <a:ext cx="4095720" cy="380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4"/>
            <a:stretch/>
          </p:blipFill>
          <p:spPr>
            <a:xfrm>
              <a:off x="3632040" y="2533680"/>
              <a:ext cx="182736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5"/>
            <a:stretch/>
          </p:blipFill>
          <p:spPr>
            <a:xfrm>
              <a:off x="1035000" y="3549600"/>
              <a:ext cx="3530520" cy="15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6"/>
            <a:stretch/>
          </p:blipFill>
          <p:spPr>
            <a:xfrm>
              <a:off x="5207040" y="3492360"/>
              <a:ext cx="673200" cy="15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7"/>
            <a:stretch/>
          </p:blipFill>
          <p:spPr>
            <a:xfrm>
              <a:off x="6622920" y="4114800"/>
              <a:ext cx="184176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2654280" y="1384200"/>
              <a:ext cx="379908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234320" y="19843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o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72560" y="5508720"/>
            <a:ext cx="456984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3333cc"/>
                </a:solidFill>
                <a:uFillTx/>
                <a:latin typeface="Arial"/>
              </a:rPr>
              <a:t>Obs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Transformada Z  </a:t>
            </a:r>
            <a:r>
              <a:rPr b="1" lang="pt-BR" sz="1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Função de Transferê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u = Delta de Kronecker </a:t>
            </a:r>
            <a:r>
              <a:rPr b="1" lang="pt-BR" sz="1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Resposta Pul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343240" y="1866960"/>
            <a:ext cx="4572000" cy="762120"/>
            <a:chOff x="2343240" y="1866960"/>
            <a:chExt cx="4572000" cy="762120"/>
          </a:xfrm>
        </p:grpSpPr>
        <p:sp>
          <p:nvSpPr>
            <p:cNvPr id="119" name=""/>
            <p:cNvSpPr/>
            <p:nvPr/>
          </p:nvSpPr>
          <p:spPr>
            <a:xfrm>
              <a:off x="2914560" y="1866960"/>
              <a:ext cx="3429000" cy="7621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43240" y="1890720"/>
              <a:ext cx="4572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3333cc"/>
                  </a:solidFill>
                  <a:latin typeface="Arial"/>
                </a:rPr>
                <a:t>Como utilizar Modelos 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3333cc"/>
                  </a:solidFill>
                  <a:latin typeface="Arial"/>
                </a:rPr>
                <a:t>Prognóstico de Falhas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939960" y="2670120"/>
            <a:ext cx="3580920" cy="1946880"/>
            <a:chOff x="939960" y="2670120"/>
            <a:chExt cx="3580920" cy="1946880"/>
          </a:xfrm>
        </p:grpSpPr>
        <p:sp>
          <p:nvSpPr>
            <p:cNvPr id="122" name=""/>
            <p:cNvSpPr/>
            <p:nvPr/>
          </p:nvSpPr>
          <p:spPr>
            <a:xfrm>
              <a:off x="939960" y="3913200"/>
              <a:ext cx="2228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3333cc"/>
                  </a:solidFill>
                  <a:latin typeface="Arial"/>
                </a:rPr>
                <a:t>Observadore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3333cc"/>
                  </a:solidFill>
                  <a:latin typeface="Arial"/>
                </a:rPr>
                <a:t>de Est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3035160" y="2670120"/>
              <a:ext cx="1485720" cy="120024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527720" y="2673360"/>
            <a:ext cx="3790440" cy="1870200"/>
            <a:chOff x="4527720" y="2673360"/>
            <a:chExt cx="3790440" cy="1870200"/>
          </a:xfrm>
        </p:grpSpPr>
        <p:sp>
          <p:nvSpPr>
            <p:cNvPr id="125" name=""/>
            <p:cNvSpPr/>
            <p:nvPr/>
          </p:nvSpPr>
          <p:spPr>
            <a:xfrm>
              <a:off x="6089400" y="3839760"/>
              <a:ext cx="2228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3333cc"/>
                  </a:solidFill>
                  <a:latin typeface="Arial"/>
                </a:rPr>
                <a:t>Identific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3333cc"/>
                  </a:solidFill>
                  <a:latin typeface="Arial"/>
                </a:rPr>
                <a:t>Paramétr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27720" y="2673360"/>
              <a:ext cx="1485720" cy="119988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454560" y="2689200"/>
            <a:ext cx="2228760" cy="2956680"/>
            <a:chOff x="3454560" y="2689200"/>
            <a:chExt cx="2228760" cy="2956680"/>
          </a:xfrm>
        </p:grpSpPr>
        <p:sp>
          <p:nvSpPr>
            <p:cNvPr id="128" name=""/>
            <p:cNvSpPr/>
            <p:nvPr/>
          </p:nvSpPr>
          <p:spPr>
            <a:xfrm>
              <a:off x="3454560" y="4942080"/>
              <a:ext cx="2228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3333cc"/>
                  </a:solidFill>
                  <a:latin typeface="Arial"/>
                </a:rPr>
                <a:t>Equaçõ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3333cc"/>
                  </a:solidFill>
                  <a:latin typeface="Arial"/>
                </a:rPr>
                <a:t>de Parida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21240" y="2689200"/>
              <a:ext cx="0" cy="20574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33680" y="1128600"/>
            <a:ext cx="413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Observadores de 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(ou Estimadores de Est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9564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809720" y="4113360"/>
            <a:ext cx="5964120" cy="896760"/>
            <a:chOff x="1809720" y="4113360"/>
            <a:chExt cx="5964120" cy="896760"/>
          </a:xfrm>
        </p:grpSpPr>
        <p:pic>
          <p:nvPicPr>
            <p:cNvPr id="139" name="" descr=""/>
            <p:cNvPicPr/>
            <p:nvPr/>
          </p:nvPicPr>
          <p:blipFill>
            <a:blip r:embed="rId4"/>
            <a:stretch/>
          </p:blipFill>
          <p:spPr>
            <a:xfrm>
              <a:off x="1873080" y="4113360"/>
              <a:ext cx="5900760" cy="3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5"/>
            <a:stretch/>
          </p:blipFill>
          <p:spPr>
            <a:xfrm>
              <a:off x="1809720" y="4667400"/>
              <a:ext cx="3673440" cy="34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" name=""/>
          <p:cNvGrpSpPr/>
          <p:nvPr/>
        </p:nvGrpSpPr>
        <p:grpSpPr>
          <a:xfrm>
            <a:off x="2101680" y="2152800"/>
            <a:ext cx="3372120" cy="679320"/>
            <a:chOff x="2101680" y="2152800"/>
            <a:chExt cx="3372120" cy="679320"/>
          </a:xfrm>
        </p:grpSpPr>
        <p:pic>
          <p:nvPicPr>
            <p:cNvPr id="142" name="" descr=""/>
            <p:cNvPicPr/>
            <p:nvPr/>
          </p:nvPicPr>
          <p:blipFill>
            <a:blip r:embed="rId6"/>
            <a:stretch/>
          </p:blipFill>
          <p:spPr>
            <a:xfrm>
              <a:off x="3556080" y="2152800"/>
              <a:ext cx="1917720" cy="6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101680" y="2327400"/>
              <a:ext cx="85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Planta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19480" y="2171880"/>
              <a:ext cx="190440" cy="62856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6200 h 628560"/>
                <a:gd name="textAreaBottom" fmla="*/ 612360 h 62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607040" y="2965320"/>
            <a:ext cx="5271480" cy="698760"/>
            <a:chOff x="1607040" y="2965320"/>
            <a:chExt cx="5271480" cy="698760"/>
          </a:xfrm>
        </p:grpSpPr>
        <p:pic>
          <p:nvPicPr>
            <p:cNvPr id="146" name="" descr=""/>
            <p:cNvPicPr/>
            <p:nvPr/>
          </p:nvPicPr>
          <p:blipFill>
            <a:blip r:embed="rId7"/>
            <a:stretch/>
          </p:blipFill>
          <p:spPr>
            <a:xfrm>
              <a:off x="3568680" y="2965320"/>
              <a:ext cx="3309840" cy="6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607040" y="3127320"/>
              <a:ext cx="138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Observador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19480" y="3009960"/>
              <a:ext cx="190440" cy="62856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6200 h 628560"/>
                <a:gd name="textAreaBottom" fmla="*/ 612360 h 62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990720" y="3679920"/>
            <a:ext cx="7595640" cy="337320"/>
            <a:chOff x="990720" y="3679920"/>
            <a:chExt cx="7595640" cy="337320"/>
          </a:xfrm>
        </p:grpSpPr>
        <p:sp>
          <p:nvSpPr>
            <p:cNvPr id="150" name=""/>
            <p:cNvSpPr/>
            <p:nvPr/>
          </p:nvSpPr>
          <p:spPr>
            <a:xfrm>
              <a:off x="990720" y="3867120"/>
              <a:ext cx="689616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46000" y="3679920"/>
              <a:ext cx="54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( </a:t>
              </a:r>
              <a:r>
                <a:rPr b="1" lang="pt-BR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–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743120" y="5019480"/>
            <a:ext cx="3714840" cy="581400"/>
            <a:chOff x="1743120" y="5019480"/>
            <a:chExt cx="3714840" cy="581400"/>
          </a:xfrm>
        </p:grpSpPr>
        <p:sp>
          <p:nvSpPr>
            <p:cNvPr id="153" name=""/>
            <p:cNvSpPr/>
            <p:nvPr/>
          </p:nvSpPr>
          <p:spPr>
            <a:xfrm rot="16200000">
              <a:off x="2381040" y="4381200"/>
              <a:ext cx="228600" cy="15048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39240 h 1504800"/>
                <a:gd name="textAreaBottom" fmla="*/ 1465560 h 150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6200000">
              <a:off x="4809960" y="4600080"/>
              <a:ext cx="228600" cy="10670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8"/>
            <a:stretch/>
          </p:blipFill>
          <p:spPr>
            <a:xfrm>
              <a:off x="4813200" y="5219640"/>
              <a:ext cx="34632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9"/>
            <a:stretch/>
          </p:blipFill>
          <p:spPr>
            <a:xfrm>
              <a:off x="2381400" y="5238720"/>
              <a:ext cx="569880" cy="36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"/>
          <p:cNvGrpSpPr/>
          <p:nvPr/>
        </p:nvGrpSpPr>
        <p:grpSpPr>
          <a:xfrm>
            <a:off x="1143000" y="5848200"/>
            <a:ext cx="7182000" cy="495360"/>
            <a:chOff x="1143000" y="5848200"/>
            <a:chExt cx="7182000" cy="495360"/>
          </a:xfrm>
        </p:grpSpPr>
        <p:sp>
          <p:nvSpPr>
            <p:cNvPr id="158" name=""/>
            <p:cNvSpPr/>
            <p:nvPr/>
          </p:nvSpPr>
          <p:spPr>
            <a:xfrm>
              <a:off x="1143000" y="5848200"/>
              <a:ext cx="7182000" cy="49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10"/>
            <a:stretch/>
          </p:blipFill>
          <p:spPr>
            <a:xfrm>
              <a:off x="1352520" y="5945040"/>
              <a:ext cx="6854760" cy="322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657600" y="4572000"/>
            <a:ext cx="1619280" cy="1200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68400"/>
            <a:ext cx="9144000" cy="5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880" y="341280"/>
            <a:ext cx="1644840" cy="4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"/>
          <p:cNvGraphicFramePr/>
          <p:nvPr/>
        </p:nvGraphicFramePr>
        <p:xfrm>
          <a:off x="7391520" y="228600"/>
          <a:ext cx="1485720" cy="68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8600"/>
                    <a:ext cx="1485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 flipH="1">
            <a:off x="0" y="6553080"/>
            <a:ext cx="9144000" cy="52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763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todologias base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m Modelo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gnóstico de Fal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2260440" y="1987560"/>
            <a:ext cx="4654800" cy="14540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996840" y="148896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xempl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376000" y="3733920"/>
            <a:ext cx="4537800" cy="2416680"/>
            <a:chOff x="2376000" y="3733920"/>
            <a:chExt cx="4537800" cy="2416680"/>
          </a:xfrm>
        </p:grpSpPr>
        <p:sp>
          <p:nvSpPr>
            <p:cNvPr id="170" name=""/>
            <p:cNvSpPr/>
            <p:nvPr/>
          </p:nvSpPr>
          <p:spPr>
            <a:xfrm>
              <a:off x="4533840" y="3733920"/>
              <a:ext cx="0" cy="74268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5"/>
            <a:stretch/>
          </p:blipFill>
          <p:spPr>
            <a:xfrm>
              <a:off x="3828960" y="4635360"/>
              <a:ext cx="129240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2376000" y="5813280"/>
              <a:ext cx="453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E-valores do observador em 0.1 e 0.2 (mult 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5T22:36:58Z</dcterms:created>
  <dc:creator>Otto Gotlieb</dc:creator>
  <dc:description/>
  <dc:language>en-US</dc:language>
  <cp:lastModifiedBy>Takashi Yoneyama</cp:lastModifiedBy>
  <dcterms:modified xsi:type="dcterms:W3CDTF">2006-09-28T10:26:17Z</dcterms:modified>
  <cp:revision>50</cp:revision>
  <dc:subject/>
  <dc:title>PowerPoint Presentation</dc:title>
</cp:coreProperties>
</file>