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1.png" ContentType="image/png"/>
  <Override PartName="/ppt/media/image71.wmf" ContentType="image/x-wmf"/>
  <Override PartName="/ppt/media/image29.wmf" ContentType="image/x-wmf"/>
  <Override PartName="/ppt/media/image1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74.wmf" ContentType="image/x-wmf"/>
  <Override PartName="/ppt/media/image25.wmf" ContentType="image/x-wmf"/>
  <Override PartName="/ppt/media/image62.wmf" ContentType="image/x-wmf"/>
  <Override PartName="/ppt/media/image73.wmf" ContentType="image/x-wmf"/>
  <Override PartName="/ppt/media/image72.wmf" ContentType="image/x-wmf"/>
  <Override PartName="/ppt/media/image2.png" ContentType="image/png"/>
  <Override PartName="/ppt/media/image6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C0D2-974F-46C3-A551-FD0AD2EB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F1D1-E14F-4AC0-8755-C4F4D217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226E-748F-455C-8442-B69DFFBB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8036-3D34-46CA-B95F-3AB8169A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DABE-E20A-4E76-AFAC-6AE03ED1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1D9D-593B-41D0-838D-EDE0214C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3BEF-63F1-4F53-B29E-CB1AF250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7363-C345-44FB-B2D6-4DFD8BB3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9C3C-3284-4A98-ADA5-AD29B5C3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654C-7EE9-4C84-9A40-AAD7CD81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69B-52ED-4546-8B43-F3767C2A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5333-EFAF-4CCC-AB4C-0CDF093B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6AD7-1562-4660-B01F-8262E1284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1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2.png"/><Relationship Id="rId6" Type="http://schemas.openxmlformats.org/officeDocument/2006/relationships/image" Target="../media/image21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21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21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21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21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21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21.wmf"/><Relationship Id="rId5" Type="http://schemas.openxmlformats.org/officeDocument/2006/relationships/image" Target="../media/image19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19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3.wmf"/><Relationship Id="rId7" Type="http://schemas.openxmlformats.org/officeDocument/2006/relationships/image" Target="../media/image44.wmf"/><Relationship Id="rId8" Type="http://schemas.openxmlformats.org/officeDocument/2006/relationships/image" Target="../media/image45.wmf"/><Relationship Id="rId9" Type="http://schemas.openxmlformats.org/officeDocument/2006/relationships/image" Target="../media/image41.wmf"/><Relationship Id="rId10" Type="http://schemas.openxmlformats.org/officeDocument/2006/relationships/image" Target="../media/image42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5.wmf"/><Relationship Id="rId7" Type="http://schemas.openxmlformats.org/officeDocument/2006/relationships/image" Target="../media/image41.wmf"/><Relationship Id="rId8" Type="http://schemas.openxmlformats.org/officeDocument/2006/relationships/image" Target="../media/image42.wmf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5.wmf"/><Relationship Id="rId7" Type="http://schemas.openxmlformats.org/officeDocument/2006/relationships/image" Target="../media/image46.wmf"/><Relationship Id="rId8" Type="http://schemas.openxmlformats.org/officeDocument/2006/relationships/image" Target="../media/image41.wmf"/><Relationship Id="rId9" Type="http://schemas.openxmlformats.org/officeDocument/2006/relationships/image" Target="../media/image42.wmf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5.wmf"/><Relationship Id="rId7" Type="http://schemas.openxmlformats.org/officeDocument/2006/relationships/image" Target="../media/image46.wmf"/><Relationship Id="rId8" Type="http://schemas.openxmlformats.org/officeDocument/2006/relationships/image" Target="../media/image47.wmf"/><Relationship Id="rId9" Type="http://schemas.openxmlformats.org/officeDocument/2006/relationships/image" Target="../media/image48.wmf"/><Relationship Id="rId10" Type="http://schemas.openxmlformats.org/officeDocument/2006/relationships/image" Target="../media/image49.wmf"/><Relationship Id="rId11" Type="http://schemas.openxmlformats.org/officeDocument/2006/relationships/image" Target="../media/image41.wmf"/><Relationship Id="rId12" Type="http://schemas.openxmlformats.org/officeDocument/2006/relationships/image" Target="../media/image42.wmf"/><Relationship Id="rId1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5.wmf"/><Relationship Id="rId7" Type="http://schemas.openxmlformats.org/officeDocument/2006/relationships/image" Target="../media/image46.wmf"/><Relationship Id="rId8" Type="http://schemas.openxmlformats.org/officeDocument/2006/relationships/image" Target="../media/image50.wmf"/><Relationship Id="rId9" Type="http://schemas.openxmlformats.org/officeDocument/2006/relationships/image" Target="../media/image41.wmf"/><Relationship Id="rId10" Type="http://schemas.openxmlformats.org/officeDocument/2006/relationships/image" Target="../media/image42.wmf"/><Relationship Id="rId1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8.wmf"/><Relationship Id="rId7" Type="http://schemas.openxmlformats.org/officeDocument/2006/relationships/image" Target="../media/image50.wmf"/><Relationship Id="rId8" Type="http://schemas.openxmlformats.org/officeDocument/2006/relationships/image" Target="../media/image51.wmf"/><Relationship Id="rId9" Type="http://schemas.openxmlformats.org/officeDocument/2006/relationships/image" Target="../media/image52.wmf"/><Relationship Id="rId10" Type="http://schemas.openxmlformats.org/officeDocument/2006/relationships/image" Target="../media/image53.wmf"/><Relationship Id="rId11" Type="http://schemas.openxmlformats.org/officeDocument/2006/relationships/image" Target="../media/image41.wmf"/><Relationship Id="rId12" Type="http://schemas.openxmlformats.org/officeDocument/2006/relationships/image" Target="../media/image42.wmf"/><Relationship Id="rId1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53.wmf"/><Relationship Id="rId7" Type="http://schemas.openxmlformats.org/officeDocument/2006/relationships/image" Target="../media/image41.wmf"/><Relationship Id="rId8" Type="http://schemas.openxmlformats.org/officeDocument/2006/relationships/image" Target="../media/image54.wmf"/><Relationship Id="rId9" Type="http://schemas.openxmlformats.org/officeDocument/2006/relationships/image" Target="../media/image42.wmf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7.wmf"/><Relationship Id="rId7" Type="http://schemas.openxmlformats.org/officeDocument/2006/relationships/image" Target="../media/image58.wmf"/><Relationship Id="rId8" Type="http://schemas.openxmlformats.org/officeDocument/2006/relationships/image" Target="../media/image59.wmf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2.wmf"/><Relationship Id="rId7" Type="http://schemas.openxmlformats.org/officeDocument/2006/relationships/image" Target="../media/image53.wmf"/><Relationship Id="rId8" Type="http://schemas.openxmlformats.org/officeDocument/2006/relationships/image" Target="../media/image41.wmf"/><Relationship Id="rId9" Type="http://schemas.openxmlformats.org/officeDocument/2006/relationships/image" Target="../media/image54.wmf"/><Relationship Id="rId10" Type="http://schemas.openxmlformats.org/officeDocument/2006/relationships/image" Target="../media/image60.wmf"/><Relationship Id="rId11" Type="http://schemas.openxmlformats.org/officeDocument/2006/relationships/image" Target="../media/image61.wmf"/><Relationship Id="rId1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21.wmf"/><Relationship Id="rId5" Type="http://schemas.openxmlformats.org/officeDocument/2006/relationships/image" Target="../media/image19.wmf"/><Relationship Id="rId6" Type="http://schemas.openxmlformats.org/officeDocument/2006/relationships/image" Target="../media/image62.wmf"/><Relationship Id="rId7" Type="http://schemas.openxmlformats.org/officeDocument/2006/relationships/image" Target="../media/image63.wmf"/><Relationship Id="rId8" Type="http://schemas.openxmlformats.org/officeDocument/2006/relationships/image" Target="../media/image64.wmf"/><Relationship Id="rId9" Type="http://schemas.openxmlformats.org/officeDocument/2006/relationships/image" Target="../media/image65.wmf"/><Relationship Id="rId10" Type="http://schemas.openxmlformats.org/officeDocument/2006/relationships/image" Target="../media/image66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64.wmf"/><Relationship Id="rId5" Type="http://schemas.openxmlformats.org/officeDocument/2006/relationships/image" Target="../media/image67.wmf"/><Relationship Id="rId6" Type="http://schemas.openxmlformats.org/officeDocument/2006/relationships/image" Target="../media/image68.wmf"/><Relationship Id="rId7" Type="http://schemas.openxmlformats.org/officeDocument/2006/relationships/image" Target="../media/image69.wmf"/><Relationship Id="rId8" Type="http://schemas.openxmlformats.org/officeDocument/2006/relationships/image" Target="../media/image70.wmf"/><Relationship Id="rId9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66.wmf"/><Relationship Id="rId5" Type="http://schemas.openxmlformats.org/officeDocument/2006/relationships/image" Target="../media/image71.wmf"/><Relationship Id="rId6" Type="http://schemas.openxmlformats.org/officeDocument/2006/relationships/image" Target="../media/image72.wmf"/><Relationship Id="rId7" Type="http://schemas.openxmlformats.org/officeDocument/2006/relationships/image" Target="../media/image73.wmf"/><Relationship Id="rId8" Type="http://schemas.openxmlformats.org/officeDocument/2006/relationships/image" Target="../media/image74.wmf"/><Relationship Id="rId9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65960" y="285840"/>
            <a:ext cx="24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Metodologias Gerais p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Prognóstico de Fal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02960" y="1111320"/>
            <a:ext cx="56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Princípio da Máxima Verossimilh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68600" y="4992840"/>
            <a:ext cx="4311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728800" y="278568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206880" y="3173400"/>
            <a:ext cx="2964240" cy="1718280"/>
            <a:chOff x="3206880" y="3173400"/>
            <a:chExt cx="2964240" cy="1718280"/>
          </a:xfrm>
        </p:grpSpPr>
        <p:grpSp>
          <p:nvGrpSpPr>
            <p:cNvPr id="218" name=""/>
            <p:cNvGrpSpPr/>
            <p:nvPr/>
          </p:nvGrpSpPr>
          <p:grpSpPr>
            <a:xfrm>
              <a:off x="3206880" y="3660840"/>
              <a:ext cx="2214000" cy="1230840"/>
              <a:chOff x="3206880" y="3660840"/>
              <a:chExt cx="2214000" cy="1230840"/>
            </a:xfrm>
          </p:grpSpPr>
          <p:sp>
            <p:nvSpPr>
              <p:cNvPr id="219" name=""/>
              <p:cNvSpPr/>
              <p:nvPr/>
            </p:nvSpPr>
            <p:spPr>
              <a:xfrm>
                <a:off x="3206880" y="3667320"/>
                <a:ext cx="1117800" cy="1224360"/>
              </a:xfrm>
              <a:custGeom>
                <a:avLst/>
                <a:gdLst/>
                <a:ahLst/>
                <a:rect l="l" t="t" r="r" b="b"/>
                <a:pathLst>
                  <a:path w="632" h="726">
                    <a:moveTo>
                      <a:pt x="0" y="726"/>
                    </a:moveTo>
                    <a:cubicBezTo>
                      <a:pt x="40" y="704"/>
                      <a:pt x="163" y="696"/>
                      <a:pt x="241" y="595"/>
                    </a:cubicBezTo>
                    <a:cubicBezTo>
                      <a:pt x="377" y="379"/>
                      <a:pt x="379" y="238"/>
                      <a:pt x="469" y="119"/>
                    </a:cubicBezTo>
                    <a:cubicBezTo>
                      <a:pt x="559" y="0"/>
                      <a:pt x="598" y="35"/>
                      <a:pt x="632" y="13"/>
                    </a:cubicBezTo>
                  </a:path>
                </a:pathLst>
              </a:custGeom>
              <a:noFill/>
              <a:ln w="1260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302720" y="3660840"/>
                <a:ext cx="1117800" cy="1224000"/>
              </a:xfrm>
              <a:custGeom>
                <a:avLst/>
                <a:gdLst/>
                <a:ahLst/>
                <a:rect l="l" t="t" r="r" b="b"/>
                <a:pathLst>
                  <a:path w="632" h="726">
                    <a:moveTo>
                      <a:pt x="0" y="726"/>
                    </a:moveTo>
                    <a:cubicBezTo>
                      <a:pt x="40" y="704"/>
                      <a:pt x="163" y="696"/>
                      <a:pt x="241" y="595"/>
                    </a:cubicBezTo>
                    <a:cubicBezTo>
                      <a:pt x="377" y="379"/>
                      <a:pt x="379" y="238"/>
                      <a:pt x="469" y="119"/>
                    </a:cubicBezTo>
                    <a:cubicBezTo>
                      <a:pt x="559" y="0"/>
                      <a:pt x="598" y="35"/>
                      <a:pt x="632" y="13"/>
                    </a:cubicBezTo>
                  </a:path>
                </a:pathLst>
              </a:custGeom>
              <a:noFill/>
              <a:ln w="1260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4475160" y="3173400"/>
              <a:ext cx="1695960" cy="1710360"/>
              <a:chOff x="4475160" y="3173400"/>
              <a:chExt cx="1695960" cy="1710360"/>
            </a:xfrm>
          </p:grpSpPr>
          <p:sp>
            <p:nvSpPr>
              <p:cNvPr id="222" name=""/>
              <p:cNvSpPr/>
              <p:nvPr/>
            </p:nvSpPr>
            <p:spPr>
              <a:xfrm>
                <a:off x="4475160" y="3182400"/>
                <a:ext cx="856440" cy="1701360"/>
              </a:xfrm>
              <a:custGeom>
                <a:avLst/>
                <a:gdLst/>
                <a:ahLst/>
                <a:rect l="l" t="t" r="r" b="b"/>
                <a:pathLst>
                  <a:path w="632" h="726">
                    <a:moveTo>
                      <a:pt x="0" y="726"/>
                    </a:moveTo>
                    <a:cubicBezTo>
                      <a:pt x="40" y="704"/>
                      <a:pt x="163" y="696"/>
                      <a:pt x="241" y="595"/>
                    </a:cubicBezTo>
                    <a:cubicBezTo>
                      <a:pt x="377" y="379"/>
                      <a:pt x="379" y="238"/>
                      <a:pt x="469" y="119"/>
                    </a:cubicBezTo>
                    <a:cubicBezTo>
                      <a:pt x="559" y="0"/>
                      <a:pt x="598" y="35"/>
                      <a:pt x="632" y="13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5314320" y="3173400"/>
                <a:ext cx="856440" cy="1700640"/>
              </a:xfrm>
              <a:custGeom>
                <a:avLst/>
                <a:gdLst/>
                <a:ahLst/>
                <a:rect l="l" t="t" r="r" b="b"/>
                <a:pathLst>
                  <a:path w="632" h="726">
                    <a:moveTo>
                      <a:pt x="0" y="726"/>
                    </a:moveTo>
                    <a:cubicBezTo>
                      <a:pt x="40" y="704"/>
                      <a:pt x="163" y="696"/>
                      <a:pt x="241" y="595"/>
                    </a:cubicBezTo>
                    <a:cubicBezTo>
                      <a:pt x="377" y="379"/>
                      <a:pt x="379" y="238"/>
                      <a:pt x="469" y="119"/>
                    </a:cubicBezTo>
                    <a:cubicBezTo>
                      <a:pt x="559" y="0"/>
                      <a:pt x="598" y="35"/>
                      <a:pt x="632" y="13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6832800" y="46753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01160" y="25844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  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14920" y="27432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15280" y="248112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82040" y="330048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56640" y="282240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19200" y="3405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93800" y="292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10360" y="3352680"/>
            <a:ext cx="1331280" cy="2488680"/>
            <a:chOff x="4410360" y="3352680"/>
            <a:chExt cx="1331280" cy="2488680"/>
          </a:xfrm>
        </p:grpSpPr>
        <p:sp>
          <p:nvSpPr>
            <p:cNvPr id="233" name=""/>
            <p:cNvSpPr/>
            <p:nvPr/>
          </p:nvSpPr>
          <p:spPr>
            <a:xfrm flipV="1">
              <a:off x="5051520" y="5165280"/>
              <a:ext cx="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4410360" y="3352680"/>
              <a:ext cx="1331280" cy="2488680"/>
              <a:chOff x="4410360" y="3352680"/>
              <a:chExt cx="1331280" cy="2488680"/>
            </a:xfrm>
          </p:grpSpPr>
          <p:sp>
            <p:nvSpPr>
              <p:cNvPr id="235" name=""/>
              <p:cNvSpPr/>
              <p:nvPr/>
            </p:nvSpPr>
            <p:spPr>
              <a:xfrm flipV="1">
                <a:off x="5037120" y="3352680"/>
                <a:ext cx="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410360" y="5504040"/>
                <a:ext cx="1331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Amostra de 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979880" y="3630600"/>
                <a:ext cx="11448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973760" y="4668840"/>
                <a:ext cx="114120" cy="11412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24720" y="11113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6440" y="268452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0800" y="2495520"/>
            <a:ext cx="0" cy="21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0800" y="2987640"/>
            <a:ext cx="3636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7280" y="3241800"/>
            <a:ext cx="654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5480" y="3705120"/>
            <a:ext cx="1660680" cy="1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0520" y="3473280"/>
            <a:ext cx="11016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32720" y="27003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68400" y="28177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96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40320" y="39924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.744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15000" y="37609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.051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77880" y="3529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763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27080" y="3294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49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6280" y="30621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257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5480" y="3916440"/>
            <a:ext cx="2189160" cy="1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54040" y="4168800"/>
            <a:ext cx="3070080" cy="1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5745240" y="1735200"/>
            <a:ext cx="2387520" cy="3175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5829480" y="2197080"/>
            <a:ext cx="2247840" cy="584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6040440" y="2851200"/>
            <a:ext cx="1739880" cy="584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7"/>
          <a:stretch/>
        </p:blipFill>
        <p:spPr>
          <a:xfrm>
            <a:off x="5030640" y="3619440"/>
            <a:ext cx="3695760" cy="6098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8"/>
          <a:stretch/>
        </p:blipFill>
        <p:spPr>
          <a:xfrm>
            <a:off x="6283440" y="4287960"/>
            <a:ext cx="1396800" cy="60948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1671480" y="5164200"/>
            <a:ext cx="6210360" cy="1258920"/>
            <a:chOff x="1671480" y="5164200"/>
            <a:chExt cx="6210360" cy="1258920"/>
          </a:xfrm>
        </p:grpSpPr>
        <p:pic>
          <p:nvPicPr>
            <p:cNvPr id="267" name="" descr=""/>
            <p:cNvPicPr/>
            <p:nvPr/>
          </p:nvPicPr>
          <p:blipFill>
            <a:blip r:embed="rId9"/>
            <a:stretch/>
          </p:blipFill>
          <p:spPr>
            <a:xfrm>
              <a:off x="2838600" y="5624640"/>
              <a:ext cx="398772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10"/>
            <a:stretch/>
          </p:blipFill>
          <p:spPr>
            <a:xfrm>
              <a:off x="3809880" y="6130800"/>
              <a:ext cx="21862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6200000">
              <a:off x="4601160" y="2234160"/>
              <a:ext cx="350640" cy="6210360"/>
            </a:xfrm>
            <a:custGeom>
              <a:avLst/>
              <a:gdLst>
                <a:gd name="textAreaLeft" fmla="*/ 223920 w 350640"/>
                <a:gd name="textAreaRight" fmla="*/ 351000 w 350640"/>
                <a:gd name="textAreaTop" fmla="*/ 161640 h 6210360"/>
                <a:gd name="textAreaBottom" fmla="*/ 6048720 h 621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78400" y="2597040"/>
            <a:ext cx="6125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Dados de Popul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ados de População + Condições de U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Dados históricos de  alguns sinais do componente part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Dados de entrada e saída do sub-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61040" y="107460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Seqüência de Apresen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50800" y="2192400"/>
            <a:ext cx="0" cy="31208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8200" y="175896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ais Informa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2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01280" y="1125360"/>
            <a:ext cx="25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Efeito do </a:t>
            </a:r>
            <a:r>
              <a:rPr b="1" i="1" lang="pt-BR" sz="2400" spc="-1" strike="noStrike">
                <a:solidFill>
                  <a:srgbClr val="3333cc"/>
                </a:solidFill>
                <a:latin typeface="Arial"/>
              </a:rPr>
              <a:t>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424240" y="3020760"/>
            <a:ext cx="4157640" cy="163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95440" y="4514760"/>
            <a:ext cx="2452680" cy="11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584440" y="2206800"/>
            <a:ext cx="0" cy="249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129120" y="3533400"/>
            <a:ext cx="3643200" cy="1467000"/>
          </a:xfrm>
          <a:prstGeom prst="line">
            <a:avLst/>
          </a:prstGeom>
          <a:ln w="648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09840" y="3427560"/>
            <a:ext cx="3119400" cy="1492200"/>
          </a:xfrm>
          <a:custGeom>
            <a:avLst/>
            <a:gdLst/>
            <a:ahLst/>
            <a:rect l="l" t="t" r="r" b="b"/>
            <a:pathLst>
              <a:path w="1965" h="940">
                <a:moveTo>
                  <a:pt x="0" y="940"/>
                </a:moveTo>
                <a:cubicBezTo>
                  <a:pt x="33" y="910"/>
                  <a:pt x="149" y="878"/>
                  <a:pt x="201" y="758"/>
                </a:cubicBezTo>
                <a:cubicBezTo>
                  <a:pt x="253" y="638"/>
                  <a:pt x="255" y="343"/>
                  <a:pt x="310" y="218"/>
                </a:cubicBezTo>
                <a:cubicBezTo>
                  <a:pt x="365" y="93"/>
                  <a:pt x="410" y="0"/>
                  <a:pt x="530" y="8"/>
                </a:cubicBezTo>
                <a:cubicBezTo>
                  <a:pt x="650" y="16"/>
                  <a:pt x="887" y="214"/>
                  <a:pt x="1033" y="264"/>
                </a:cubicBezTo>
                <a:cubicBezTo>
                  <a:pt x="1179" y="314"/>
                  <a:pt x="1253" y="330"/>
                  <a:pt x="1408" y="310"/>
                </a:cubicBezTo>
                <a:cubicBezTo>
                  <a:pt x="1563" y="290"/>
                  <a:pt x="1849" y="179"/>
                  <a:pt x="1965" y="145"/>
                </a:cubicBezTo>
              </a:path>
            </a:pathLst>
          </a:custGeom>
          <a:noFill/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092480" y="3440160"/>
            <a:ext cx="0" cy="1174680"/>
          </a:xfrm>
          <a:prstGeom prst="line">
            <a:avLst/>
          </a:prstGeom>
          <a:ln w="93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2703600" y="1954080"/>
            <a:ext cx="519120" cy="360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410520" y="26812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59280" y="5546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71680" y="5813280"/>
            <a:ext cx="171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[intensidade de 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6400" y="4892760"/>
            <a:ext cx="12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8000"/>
                </a:solidFill>
                <a:latin typeface="Arial"/>
              </a:rPr>
              <a:t>Baixo st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46400" y="4575240"/>
            <a:ext cx="88920" cy="88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579040" y="3038400"/>
            <a:ext cx="5186880" cy="2671200"/>
            <a:chOff x="2579040" y="3038400"/>
            <a:chExt cx="5186880" cy="2671200"/>
          </a:xfrm>
        </p:grpSpPr>
        <p:sp>
          <p:nvSpPr>
            <p:cNvPr id="300" name=""/>
            <p:cNvSpPr/>
            <p:nvPr/>
          </p:nvSpPr>
          <p:spPr>
            <a:xfrm flipV="1">
              <a:off x="4122720" y="4019040"/>
              <a:ext cx="3643200" cy="1467000"/>
            </a:xfrm>
            <a:prstGeom prst="line">
              <a:avLst/>
            </a:prstGeom>
            <a:ln w="6480">
              <a:solidFill>
                <a:srgbClr val="ff33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89400" y="3038400"/>
              <a:ext cx="2170080" cy="2382840"/>
            </a:xfrm>
            <a:custGeom>
              <a:avLst/>
              <a:gdLst/>
              <a:ahLst/>
              <a:rect l="l" t="t" r="r" b="b"/>
              <a:pathLst>
                <a:path w="1367" h="1501">
                  <a:moveTo>
                    <a:pt x="0" y="1501"/>
                  </a:moveTo>
                  <a:cubicBezTo>
                    <a:pt x="19" y="1462"/>
                    <a:pt x="90" y="1456"/>
                    <a:pt x="114" y="1266"/>
                  </a:cubicBezTo>
                  <a:cubicBezTo>
                    <a:pt x="138" y="1076"/>
                    <a:pt x="120" y="571"/>
                    <a:pt x="141" y="363"/>
                  </a:cubicBezTo>
                  <a:cubicBezTo>
                    <a:pt x="162" y="155"/>
                    <a:pt x="175" y="0"/>
                    <a:pt x="242" y="16"/>
                  </a:cubicBezTo>
                  <a:cubicBezTo>
                    <a:pt x="309" y="32"/>
                    <a:pt x="436" y="298"/>
                    <a:pt x="544" y="458"/>
                  </a:cubicBezTo>
                  <a:cubicBezTo>
                    <a:pt x="652" y="619"/>
                    <a:pt x="754" y="896"/>
                    <a:pt x="891" y="978"/>
                  </a:cubicBezTo>
                  <a:cubicBezTo>
                    <a:pt x="1028" y="1060"/>
                    <a:pt x="1268" y="954"/>
                    <a:pt x="1367" y="948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59480" y="3062160"/>
              <a:ext cx="0" cy="2206800"/>
            </a:xfrm>
            <a:prstGeom prst="line">
              <a:avLst/>
            </a:prstGeom>
            <a:ln w="93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79040" y="537228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3300"/>
                  </a:solidFill>
                  <a:latin typeface="Arial"/>
                </a:rPr>
                <a:t>Elevado st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614840" y="5234040"/>
              <a:ext cx="88920" cy="8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646600" y="4543560"/>
              <a:ext cx="0" cy="333360"/>
            </a:xfrm>
            <a:prstGeom prst="line">
              <a:avLst/>
            </a:prstGeom>
            <a:ln w="93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84520" y="4919760"/>
              <a:ext cx="0" cy="422280"/>
            </a:xfrm>
            <a:prstGeom prst="line">
              <a:avLst/>
            </a:prstGeom>
            <a:ln w="93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03760" y="4842000"/>
              <a:ext cx="88920" cy="88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40240" y="5299200"/>
              <a:ext cx="88920" cy="88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5113440" y="4157640"/>
            <a:ext cx="88920" cy="88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38520" y="4741920"/>
            <a:ext cx="88920" cy="88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86040" y="4470480"/>
            <a:ext cx="0" cy="333360"/>
          </a:xfrm>
          <a:prstGeom prst="line">
            <a:avLst/>
          </a:prstGeom>
          <a:ln w="93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53040" y="3903840"/>
            <a:ext cx="0" cy="290160"/>
          </a:xfrm>
          <a:prstGeom prst="line">
            <a:avLst/>
          </a:prstGeom>
          <a:ln w="93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5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01280" y="1125360"/>
            <a:ext cx="25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Efeito do </a:t>
            </a:r>
            <a:r>
              <a:rPr b="1" i="1" lang="pt-BR" sz="2400" spc="-1" strike="noStrike">
                <a:solidFill>
                  <a:srgbClr val="3333cc"/>
                </a:solidFill>
                <a:latin typeface="Arial"/>
              </a:rPr>
              <a:t>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300400" y="5122440"/>
            <a:ext cx="48909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432160" y="1806480"/>
            <a:ext cx="0" cy="352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5784840" y="2457360"/>
            <a:ext cx="14400" cy="2857680"/>
          </a:xfrm>
          <a:prstGeom prst="line">
            <a:avLst/>
          </a:prstGeom>
          <a:ln w="648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049880" y="4708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343200" y="5261040"/>
            <a:ext cx="171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[intensidade de 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178520" y="5369040"/>
            <a:ext cx="7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8000"/>
                </a:solidFill>
                <a:latin typeface="Arial"/>
              </a:rPr>
              <a:t>Baix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8000"/>
                </a:solidFill>
                <a:latin typeface="Arial"/>
              </a:rPr>
              <a:t>st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0320" y="5372280"/>
            <a:ext cx="91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Elev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3300"/>
                </a:solidFill>
                <a:latin typeface="Arial"/>
              </a:rPr>
              <a:t>st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38720" y="17366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4546440" y="2457000"/>
            <a:ext cx="14400" cy="2876760"/>
          </a:xfrm>
          <a:prstGeom prst="line">
            <a:avLst/>
          </a:prstGeom>
          <a:ln w="648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2673720" y="2457360"/>
            <a:ext cx="3136320" cy="3495600"/>
            <a:chOff x="2673720" y="2457360"/>
            <a:chExt cx="3136320" cy="3495600"/>
          </a:xfrm>
        </p:grpSpPr>
        <p:sp>
          <p:nvSpPr>
            <p:cNvPr id="330" name=""/>
            <p:cNvSpPr/>
            <p:nvPr/>
          </p:nvSpPr>
          <p:spPr>
            <a:xfrm flipH="1" flipV="1">
              <a:off x="3232080" y="2457360"/>
              <a:ext cx="14400" cy="2819520"/>
            </a:xfrm>
            <a:prstGeom prst="line">
              <a:avLst/>
            </a:prstGeom>
            <a:ln w="648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3257280" y="4362480"/>
              <a:ext cx="2552760" cy="2858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3238560" y="2819520"/>
              <a:ext cx="2533680" cy="6285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3219120" y="3866760"/>
              <a:ext cx="2552760" cy="3999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73720" y="5372280"/>
              <a:ext cx="114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3333cc"/>
                  </a:solidFill>
                  <a:latin typeface="Arial"/>
                </a:rPr>
                <a:t>Condiçõ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3333cc"/>
                  </a:solidFill>
                  <a:latin typeface="Arial"/>
                </a:rPr>
                <a:t>Nomina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5738760" y="423072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10080" y="4022640"/>
            <a:ext cx="88920" cy="88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49920" y="4600440"/>
            <a:ext cx="88920" cy="88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54600" y="3406680"/>
            <a:ext cx="88920" cy="88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10080" y="3103560"/>
            <a:ext cx="88920" cy="88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14760" y="4462560"/>
            <a:ext cx="88920" cy="88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10400" y="3152880"/>
            <a:ext cx="690480" cy="1876320"/>
          </a:xfrm>
          <a:custGeom>
            <a:avLst/>
            <a:gdLst/>
            <a:ahLst/>
            <a:rect l="l" t="t" r="r" b="b"/>
            <a:pathLst>
              <a:path w="399" h="1236">
                <a:moveTo>
                  <a:pt x="0" y="1236"/>
                </a:moveTo>
                <a:cubicBezTo>
                  <a:pt x="8" y="1132"/>
                  <a:pt x="18" y="1028"/>
                  <a:pt x="84" y="948"/>
                </a:cubicBezTo>
                <a:cubicBezTo>
                  <a:pt x="150" y="868"/>
                  <a:pt x="393" y="836"/>
                  <a:pt x="396" y="756"/>
                </a:cubicBezTo>
                <a:cubicBezTo>
                  <a:pt x="399" y="676"/>
                  <a:pt x="168" y="594"/>
                  <a:pt x="102" y="468"/>
                </a:cubicBezTo>
                <a:cubicBezTo>
                  <a:pt x="36" y="342"/>
                  <a:pt x="21" y="97"/>
                  <a:pt x="0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81360" y="2714760"/>
            <a:ext cx="586080" cy="2257200"/>
          </a:xfrm>
          <a:custGeom>
            <a:avLst/>
            <a:gdLst/>
            <a:ahLst/>
            <a:rect l="l" t="t" r="r" b="b"/>
            <a:pathLst>
              <a:path w="399" h="1236">
                <a:moveTo>
                  <a:pt x="0" y="1236"/>
                </a:moveTo>
                <a:cubicBezTo>
                  <a:pt x="8" y="1132"/>
                  <a:pt x="18" y="1028"/>
                  <a:pt x="84" y="948"/>
                </a:cubicBezTo>
                <a:cubicBezTo>
                  <a:pt x="150" y="868"/>
                  <a:pt x="393" y="836"/>
                  <a:pt x="396" y="756"/>
                </a:cubicBezTo>
                <a:cubicBezTo>
                  <a:pt x="399" y="676"/>
                  <a:pt x="168" y="594"/>
                  <a:pt x="102" y="468"/>
                </a:cubicBezTo>
                <a:cubicBezTo>
                  <a:pt x="36" y="342"/>
                  <a:pt x="21" y="97"/>
                  <a:pt x="0" y="0"/>
                </a:cubicBezTo>
              </a:path>
            </a:pathLst>
          </a:custGeom>
          <a:noFill/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276720" y="2428920"/>
            <a:ext cx="490320" cy="2390760"/>
          </a:xfrm>
          <a:custGeom>
            <a:avLst/>
            <a:gdLst/>
            <a:ahLst/>
            <a:rect l="l" t="t" r="r" b="b"/>
            <a:pathLst>
              <a:path w="399" h="1236">
                <a:moveTo>
                  <a:pt x="0" y="1236"/>
                </a:moveTo>
                <a:cubicBezTo>
                  <a:pt x="8" y="1132"/>
                  <a:pt x="18" y="1028"/>
                  <a:pt x="84" y="948"/>
                </a:cubicBezTo>
                <a:cubicBezTo>
                  <a:pt x="150" y="868"/>
                  <a:pt x="393" y="836"/>
                  <a:pt x="396" y="756"/>
                </a:cubicBezTo>
                <a:cubicBezTo>
                  <a:pt x="399" y="676"/>
                  <a:pt x="168" y="594"/>
                  <a:pt x="102" y="468"/>
                </a:cubicBezTo>
                <a:cubicBezTo>
                  <a:pt x="36" y="342"/>
                  <a:pt x="21" y="97"/>
                  <a:pt x="0" y="0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6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78400" y="2597040"/>
            <a:ext cx="6125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Dados de Popul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Dados de População + Condições de U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ados históricos de  alguns sinais do componente part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Dados de entrada e saída do sub-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61040" y="107460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Seqüência de Apresen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50800" y="2192400"/>
            <a:ext cx="0" cy="31208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8200" y="175896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ais Informa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6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13800" y="112536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Análise de Si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falha1f" descr=""/>
          <p:cNvPicPr/>
          <p:nvPr/>
        </p:nvPicPr>
        <p:blipFill>
          <a:blip r:embed="rId4"/>
          <a:stretch/>
        </p:blipFill>
        <p:spPr>
          <a:xfrm>
            <a:off x="782640" y="2209680"/>
            <a:ext cx="2814480" cy="3672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 flipH="1">
            <a:off x="3541320" y="2233440"/>
            <a:ext cx="406440" cy="290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395960" y="1704960"/>
            <a:ext cx="4071240" cy="3692520"/>
            <a:chOff x="4395960" y="1704960"/>
            <a:chExt cx="4071240" cy="3692520"/>
          </a:xfrm>
        </p:grpSpPr>
        <p:sp>
          <p:nvSpPr>
            <p:cNvPr id="364" name=""/>
            <p:cNvSpPr/>
            <p:nvPr/>
          </p:nvSpPr>
          <p:spPr>
            <a:xfrm>
              <a:off x="4680000" y="3016080"/>
              <a:ext cx="363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917960" y="1862280"/>
              <a:ext cx="0" cy="138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229960" y="265752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73120" y="18651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933080" y="1704960"/>
              <a:ext cx="3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19760" y="2454120"/>
              <a:ext cx="29178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673520" y="5170320"/>
              <a:ext cx="363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911840" y="4016520"/>
              <a:ext cx="0" cy="138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23480" y="48117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254640" y="3397320"/>
              <a:ext cx="0" cy="59364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45320" y="386388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32080" y="3941640"/>
              <a:ext cx="43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o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4915080" y="4554360"/>
              <a:ext cx="2616120" cy="95400"/>
              <a:chOff x="4915080" y="4554360"/>
              <a:chExt cx="2616120" cy="9540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4915080" y="4554360"/>
                <a:ext cx="869400" cy="95400"/>
                <a:chOff x="4915080" y="4554360"/>
                <a:chExt cx="869400" cy="954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4915080" y="4554360"/>
                  <a:ext cx="434880" cy="95400"/>
                </a:xfrm>
                <a:custGeom>
                  <a:avLst/>
                  <a:gdLst/>
                  <a:ahLst/>
                  <a:rect l="l" t="t" r="r" b="b"/>
                  <a:pathLst>
                    <a:path w="540" h="80">
                      <a:moveTo>
                        <a:pt x="0" y="77"/>
                      </a:moveTo>
                      <a:cubicBezTo>
                        <a:pt x="27" y="75"/>
                        <a:pt x="121" y="76"/>
                        <a:pt x="164" y="63"/>
                      </a:cubicBezTo>
                      <a:cubicBezTo>
                        <a:pt x="207" y="50"/>
                        <a:pt x="226" y="0"/>
                        <a:pt x="261" y="1"/>
                      </a:cubicBezTo>
                      <a:cubicBezTo>
                        <a:pt x="296" y="2"/>
                        <a:pt x="326" y="54"/>
                        <a:pt x="372" y="67"/>
                      </a:cubicBezTo>
                      <a:cubicBezTo>
                        <a:pt x="418" y="80"/>
                        <a:pt x="505" y="77"/>
                        <a:pt x="540" y="79"/>
                      </a:cubicBezTo>
                    </a:path>
                  </a:pathLst>
                </a:custGeom>
                <a:noFill/>
                <a:ln w="126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349960" y="4554360"/>
                  <a:ext cx="434520" cy="95400"/>
                </a:xfrm>
                <a:custGeom>
                  <a:avLst/>
                  <a:gdLst/>
                  <a:ahLst/>
                  <a:rect l="l" t="t" r="r" b="b"/>
                  <a:pathLst>
                    <a:path w="540" h="80">
                      <a:moveTo>
                        <a:pt x="0" y="77"/>
                      </a:moveTo>
                      <a:cubicBezTo>
                        <a:pt x="27" y="75"/>
                        <a:pt x="121" y="76"/>
                        <a:pt x="164" y="63"/>
                      </a:cubicBezTo>
                      <a:cubicBezTo>
                        <a:pt x="207" y="50"/>
                        <a:pt x="226" y="0"/>
                        <a:pt x="261" y="1"/>
                      </a:cubicBezTo>
                      <a:cubicBezTo>
                        <a:pt x="296" y="2"/>
                        <a:pt x="326" y="54"/>
                        <a:pt x="372" y="67"/>
                      </a:cubicBezTo>
                      <a:cubicBezTo>
                        <a:pt x="418" y="80"/>
                        <a:pt x="505" y="77"/>
                        <a:pt x="540" y="79"/>
                      </a:cubicBezTo>
                    </a:path>
                  </a:pathLst>
                </a:custGeom>
                <a:noFill/>
                <a:ln w="126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5784840" y="4554360"/>
                <a:ext cx="870120" cy="95400"/>
                <a:chOff x="5784840" y="4554360"/>
                <a:chExt cx="870120" cy="9540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5784840" y="4554360"/>
                  <a:ext cx="435240" cy="95400"/>
                </a:xfrm>
                <a:custGeom>
                  <a:avLst/>
                  <a:gdLst/>
                  <a:ahLst/>
                  <a:rect l="l" t="t" r="r" b="b"/>
                  <a:pathLst>
                    <a:path w="540" h="80">
                      <a:moveTo>
                        <a:pt x="0" y="77"/>
                      </a:moveTo>
                      <a:cubicBezTo>
                        <a:pt x="27" y="75"/>
                        <a:pt x="121" y="76"/>
                        <a:pt x="164" y="63"/>
                      </a:cubicBezTo>
                      <a:cubicBezTo>
                        <a:pt x="207" y="50"/>
                        <a:pt x="226" y="0"/>
                        <a:pt x="261" y="1"/>
                      </a:cubicBezTo>
                      <a:cubicBezTo>
                        <a:pt x="296" y="2"/>
                        <a:pt x="326" y="54"/>
                        <a:pt x="372" y="67"/>
                      </a:cubicBezTo>
                      <a:cubicBezTo>
                        <a:pt x="418" y="80"/>
                        <a:pt x="505" y="77"/>
                        <a:pt x="540" y="79"/>
                      </a:cubicBezTo>
                    </a:path>
                  </a:pathLst>
                </a:custGeom>
                <a:noFill/>
                <a:ln w="126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220080" y="4554360"/>
                  <a:ext cx="434880" cy="95400"/>
                </a:xfrm>
                <a:custGeom>
                  <a:avLst/>
                  <a:gdLst/>
                  <a:ahLst/>
                  <a:rect l="l" t="t" r="r" b="b"/>
                  <a:pathLst>
                    <a:path w="540" h="80">
                      <a:moveTo>
                        <a:pt x="0" y="77"/>
                      </a:moveTo>
                      <a:cubicBezTo>
                        <a:pt x="27" y="75"/>
                        <a:pt x="121" y="76"/>
                        <a:pt x="164" y="63"/>
                      </a:cubicBezTo>
                      <a:cubicBezTo>
                        <a:pt x="207" y="50"/>
                        <a:pt x="226" y="0"/>
                        <a:pt x="261" y="1"/>
                      </a:cubicBezTo>
                      <a:cubicBezTo>
                        <a:pt x="296" y="2"/>
                        <a:pt x="326" y="54"/>
                        <a:pt x="372" y="67"/>
                      </a:cubicBezTo>
                      <a:cubicBezTo>
                        <a:pt x="418" y="80"/>
                        <a:pt x="505" y="77"/>
                        <a:pt x="540" y="79"/>
                      </a:cubicBezTo>
                    </a:path>
                  </a:pathLst>
                </a:custGeom>
                <a:noFill/>
                <a:ln w="126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6661080" y="4554360"/>
                <a:ext cx="870120" cy="95400"/>
                <a:chOff x="6661080" y="4554360"/>
                <a:chExt cx="870120" cy="9540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6661080" y="4554360"/>
                  <a:ext cx="435240" cy="95400"/>
                </a:xfrm>
                <a:custGeom>
                  <a:avLst/>
                  <a:gdLst/>
                  <a:ahLst/>
                  <a:rect l="l" t="t" r="r" b="b"/>
                  <a:pathLst>
                    <a:path w="540" h="80">
                      <a:moveTo>
                        <a:pt x="0" y="77"/>
                      </a:moveTo>
                      <a:cubicBezTo>
                        <a:pt x="27" y="75"/>
                        <a:pt x="121" y="76"/>
                        <a:pt x="164" y="63"/>
                      </a:cubicBezTo>
                      <a:cubicBezTo>
                        <a:pt x="207" y="50"/>
                        <a:pt x="226" y="0"/>
                        <a:pt x="261" y="1"/>
                      </a:cubicBezTo>
                      <a:cubicBezTo>
                        <a:pt x="296" y="2"/>
                        <a:pt x="326" y="54"/>
                        <a:pt x="372" y="67"/>
                      </a:cubicBezTo>
                      <a:cubicBezTo>
                        <a:pt x="418" y="80"/>
                        <a:pt x="505" y="77"/>
                        <a:pt x="540" y="79"/>
                      </a:cubicBezTo>
                    </a:path>
                  </a:pathLst>
                </a:custGeom>
                <a:noFill/>
                <a:ln w="126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096320" y="4554360"/>
                  <a:ext cx="434880" cy="95400"/>
                </a:xfrm>
                <a:custGeom>
                  <a:avLst/>
                  <a:gdLst/>
                  <a:ahLst/>
                  <a:rect l="l" t="t" r="r" b="b"/>
                  <a:pathLst>
                    <a:path w="540" h="80">
                      <a:moveTo>
                        <a:pt x="0" y="77"/>
                      </a:moveTo>
                      <a:cubicBezTo>
                        <a:pt x="27" y="75"/>
                        <a:pt x="121" y="76"/>
                        <a:pt x="164" y="63"/>
                      </a:cubicBezTo>
                      <a:cubicBezTo>
                        <a:pt x="207" y="50"/>
                        <a:pt x="226" y="0"/>
                        <a:pt x="261" y="1"/>
                      </a:cubicBezTo>
                      <a:cubicBezTo>
                        <a:pt x="296" y="2"/>
                        <a:pt x="326" y="54"/>
                        <a:pt x="372" y="67"/>
                      </a:cubicBezTo>
                      <a:cubicBezTo>
                        <a:pt x="418" y="80"/>
                        <a:pt x="505" y="77"/>
                        <a:pt x="540" y="79"/>
                      </a:cubicBezTo>
                    </a:path>
                  </a:pathLst>
                </a:custGeom>
                <a:noFill/>
                <a:ln w="126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86" name="" descr=""/>
            <p:cNvPicPr/>
            <p:nvPr/>
          </p:nvPicPr>
          <p:blipFill>
            <a:blip r:embed="rId5"/>
            <a:stretch/>
          </p:blipFill>
          <p:spPr>
            <a:xfrm>
              <a:off x="4395960" y="2336760"/>
              <a:ext cx="469800" cy="27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7" name=""/>
          <p:cNvGrpSpPr/>
          <p:nvPr/>
        </p:nvGrpSpPr>
        <p:grpSpPr>
          <a:xfrm>
            <a:off x="5805360" y="4479840"/>
            <a:ext cx="863640" cy="1646280"/>
            <a:chOff x="5805360" y="4479840"/>
            <a:chExt cx="863640" cy="1646280"/>
          </a:xfrm>
        </p:grpSpPr>
        <p:sp>
          <p:nvSpPr>
            <p:cNvPr id="388" name=""/>
            <p:cNvSpPr/>
            <p:nvPr/>
          </p:nvSpPr>
          <p:spPr>
            <a:xfrm>
              <a:off x="6000840" y="4479840"/>
              <a:ext cx="0" cy="1054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26360" y="447984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6"/>
            <a:stretch/>
          </p:blipFill>
          <p:spPr>
            <a:xfrm>
              <a:off x="5805360" y="5567400"/>
              <a:ext cx="86364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5994360" y="5427720"/>
              <a:ext cx="43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4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66920" y="114444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Sensores de Propósito Espe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3579480" y="2519280"/>
            <a:ext cx="406440" cy="290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falha1h" descr=""/>
          <p:cNvPicPr/>
          <p:nvPr/>
        </p:nvPicPr>
        <p:blipFill>
          <a:blip r:embed="rId4"/>
          <a:stretch/>
        </p:blipFill>
        <p:spPr>
          <a:xfrm>
            <a:off x="762120" y="2209680"/>
            <a:ext cx="2814480" cy="38703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1581120" y="2247840"/>
            <a:ext cx="362160" cy="1713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127400" y="3013200"/>
            <a:ext cx="4206240" cy="2019960"/>
            <a:chOff x="4127400" y="3013200"/>
            <a:chExt cx="4206240" cy="2019960"/>
          </a:xfrm>
        </p:grpSpPr>
        <p:sp>
          <p:nvSpPr>
            <p:cNvPr id="403" name=""/>
            <p:cNvSpPr/>
            <p:nvPr/>
          </p:nvSpPr>
          <p:spPr>
            <a:xfrm>
              <a:off x="4127400" y="4178160"/>
              <a:ext cx="41623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365720" y="3175920"/>
              <a:ext cx="1440" cy="18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096400" y="371448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86240" y="3013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81560" y="4128840"/>
              <a:ext cx="114120" cy="42480"/>
            </a:xfrm>
            <a:custGeom>
              <a:avLst/>
              <a:gdLst/>
              <a:ahLst/>
              <a:rect l="l" t="t" r="r" b="b"/>
              <a:pathLst>
                <a:path w="248" h="132">
                  <a:moveTo>
                    <a:pt x="0" y="132"/>
                  </a:moveTo>
                  <a:cubicBezTo>
                    <a:pt x="19" y="110"/>
                    <a:pt x="40" y="0"/>
                    <a:pt x="116" y="0"/>
                  </a:cubicBezTo>
                  <a:cubicBezTo>
                    <a:pt x="192" y="0"/>
                    <a:pt x="221" y="101"/>
                    <a:pt x="248" y="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4495680" y="4171680"/>
              <a:ext cx="119160" cy="50400"/>
            </a:xfrm>
            <a:custGeom>
              <a:avLst/>
              <a:gdLst/>
              <a:ahLst/>
              <a:rect l="l" t="t" r="r" b="b"/>
              <a:pathLst>
                <a:path w="248" h="132">
                  <a:moveTo>
                    <a:pt x="0" y="132"/>
                  </a:moveTo>
                  <a:cubicBezTo>
                    <a:pt x="19" y="110"/>
                    <a:pt x="40" y="0"/>
                    <a:pt x="116" y="0"/>
                  </a:cubicBezTo>
                  <a:cubicBezTo>
                    <a:pt x="192" y="0"/>
                    <a:pt x="221" y="101"/>
                    <a:pt x="248" y="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14840" y="4122360"/>
              <a:ext cx="106200" cy="42840"/>
            </a:xfrm>
            <a:custGeom>
              <a:avLst/>
              <a:gdLst/>
              <a:ahLst/>
              <a:rect l="l" t="t" r="r" b="b"/>
              <a:pathLst>
                <a:path w="248" h="132">
                  <a:moveTo>
                    <a:pt x="0" y="132"/>
                  </a:moveTo>
                  <a:cubicBezTo>
                    <a:pt x="19" y="110"/>
                    <a:pt x="40" y="0"/>
                    <a:pt x="116" y="0"/>
                  </a:cubicBezTo>
                  <a:cubicBezTo>
                    <a:pt x="192" y="0"/>
                    <a:pt x="221" y="101"/>
                    <a:pt x="248" y="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4728960" y="4165560"/>
              <a:ext cx="119160" cy="75600"/>
            </a:xfrm>
            <a:custGeom>
              <a:avLst/>
              <a:gdLst/>
              <a:ahLst/>
              <a:rect l="l" t="t" r="r" b="b"/>
              <a:pathLst>
                <a:path w="248" h="132">
                  <a:moveTo>
                    <a:pt x="0" y="132"/>
                  </a:moveTo>
                  <a:cubicBezTo>
                    <a:pt x="19" y="110"/>
                    <a:pt x="40" y="0"/>
                    <a:pt x="116" y="0"/>
                  </a:cubicBezTo>
                  <a:cubicBezTo>
                    <a:pt x="192" y="0"/>
                    <a:pt x="221" y="101"/>
                    <a:pt x="248" y="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848120" y="4116240"/>
              <a:ext cx="119160" cy="51840"/>
            </a:xfrm>
            <a:custGeom>
              <a:avLst/>
              <a:gdLst/>
              <a:ahLst/>
              <a:rect l="l" t="t" r="r" b="b"/>
              <a:pathLst>
                <a:path w="248" h="132">
                  <a:moveTo>
                    <a:pt x="0" y="132"/>
                  </a:moveTo>
                  <a:cubicBezTo>
                    <a:pt x="19" y="110"/>
                    <a:pt x="40" y="0"/>
                    <a:pt x="116" y="0"/>
                  </a:cubicBezTo>
                  <a:cubicBezTo>
                    <a:pt x="192" y="0"/>
                    <a:pt x="221" y="101"/>
                    <a:pt x="248" y="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4962600" y="4159080"/>
              <a:ext cx="118800" cy="88560"/>
            </a:xfrm>
            <a:custGeom>
              <a:avLst/>
              <a:gdLst/>
              <a:ahLst/>
              <a:rect l="l" t="t" r="r" b="b"/>
              <a:pathLst>
                <a:path w="248" h="132">
                  <a:moveTo>
                    <a:pt x="0" y="132"/>
                  </a:moveTo>
                  <a:cubicBezTo>
                    <a:pt x="19" y="110"/>
                    <a:pt x="40" y="0"/>
                    <a:pt x="116" y="0"/>
                  </a:cubicBezTo>
                  <a:cubicBezTo>
                    <a:pt x="192" y="0"/>
                    <a:pt x="221" y="101"/>
                    <a:pt x="248" y="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84640" y="4108320"/>
              <a:ext cx="119160" cy="50400"/>
            </a:xfrm>
            <a:custGeom>
              <a:avLst/>
              <a:gdLst/>
              <a:ahLst/>
              <a:rect l="l" t="t" r="r" b="b"/>
              <a:pathLst>
                <a:path w="248" h="132">
                  <a:moveTo>
                    <a:pt x="0" y="132"/>
                  </a:moveTo>
                  <a:cubicBezTo>
                    <a:pt x="19" y="110"/>
                    <a:pt x="40" y="0"/>
                    <a:pt x="116" y="0"/>
                  </a:cubicBezTo>
                  <a:cubicBezTo>
                    <a:pt x="192" y="0"/>
                    <a:pt x="221" y="101"/>
                    <a:pt x="248" y="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5199120" y="4158360"/>
              <a:ext cx="118800" cy="101160"/>
            </a:xfrm>
            <a:custGeom>
              <a:avLst/>
              <a:gdLst/>
              <a:ahLst/>
              <a:rect l="l" t="t" r="r" b="b"/>
              <a:pathLst>
                <a:path w="248" h="132">
                  <a:moveTo>
                    <a:pt x="0" y="132"/>
                  </a:moveTo>
                  <a:cubicBezTo>
                    <a:pt x="19" y="110"/>
                    <a:pt x="40" y="0"/>
                    <a:pt x="116" y="0"/>
                  </a:cubicBezTo>
                  <a:cubicBezTo>
                    <a:pt x="192" y="0"/>
                    <a:pt x="221" y="101"/>
                    <a:pt x="248" y="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317920" y="4098600"/>
              <a:ext cx="119160" cy="66600"/>
            </a:xfrm>
            <a:custGeom>
              <a:avLst/>
              <a:gdLst/>
              <a:ahLst/>
              <a:rect l="l" t="t" r="r" b="b"/>
              <a:pathLst>
                <a:path w="248" h="132">
                  <a:moveTo>
                    <a:pt x="0" y="132"/>
                  </a:moveTo>
                  <a:cubicBezTo>
                    <a:pt x="19" y="110"/>
                    <a:pt x="40" y="0"/>
                    <a:pt x="116" y="0"/>
                  </a:cubicBezTo>
                  <a:cubicBezTo>
                    <a:pt x="192" y="0"/>
                    <a:pt x="221" y="101"/>
                    <a:pt x="248" y="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5432400" y="4171680"/>
              <a:ext cx="119160" cy="95040"/>
            </a:xfrm>
            <a:custGeom>
              <a:avLst/>
              <a:gdLst/>
              <a:ahLst/>
              <a:rect l="l" t="t" r="r" b="b"/>
              <a:pathLst>
                <a:path w="248" h="132">
                  <a:moveTo>
                    <a:pt x="0" y="132"/>
                  </a:moveTo>
                  <a:cubicBezTo>
                    <a:pt x="19" y="110"/>
                    <a:pt x="40" y="0"/>
                    <a:pt x="116" y="0"/>
                  </a:cubicBezTo>
                  <a:cubicBezTo>
                    <a:pt x="192" y="0"/>
                    <a:pt x="221" y="101"/>
                    <a:pt x="248" y="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51560" y="4079520"/>
              <a:ext cx="118800" cy="91800"/>
            </a:xfrm>
            <a:custGeom>
              <a:avLst/>
              <a:gdLst/>
              <a:ahLst/>
              <a:rect l="l" t="t" r="r" b="b"/>
              <a:pathLst>
                <a:path w="248" h="132">
                  <a:moveTo>
                    <a:pt x="0" y="132"/>
                  </a:moveTo>
                  <a:cubicBezTo>
                    <a:pt x="19" y="110"/>
                    <a:pt x="40" y="0"/>
                    <a:pt x="116" y="0"/>
                  </a:cubicBezTo>
                  <a:cubicBezTo>
                    <a:pt x="192" y="0"/>
                    <a:pt x="221" y="101"/>
                    <a:pt x="248" y="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5665680" y="4168440"/>
              <a:ext cx="119160" cy="126720"/>
            </a:xfrm>
            <a:custGeom>
              <a:avLst/>
              <a:gdLst/>
              <a:ahLst/>
              <a:rect l="l" t="t" r="r" b="b"/>
              <a:pathLst>
                <a:path w="248" h="132">
                  <a:moveTo>
                    <a:pt x="0" y="132"/>
                  </a:moveTo>
                  <a:cubicBezTo>
                    <a:pt x="19" y="110"/>
                    <a:pt x="40" y="0"/>
                    <a:pt x="116" y="0"/>
                  </a:cubicBezTo>
                  <a:cubicBezTo>
                    <a:pt x="192" y="0"/>
                    <a:pt x="221" y="101"/>
                    <a:pt x="248" y="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788080" y="4047840"/>
              <a:ext cx="118800" cy="120240"/>
            </a:xfrm>
            <a:custGeom>
              <a:avLst/>
              <a:gdLst/>
              <a:ahLst/>
              <a:rect l="l" t="t" r="r" b="b"/>
              <a:pathLst>
                <a:path w="248" h="132">
                  <a:moveTo>
                    <a:pt x="0" y="132"/>
                  </a:moveTo>
                  <a:cubicBezTo>
                    <a:pt x="19" y="110"/>
                    <a:pt x="40" y="0"/>
                    <a:pt x="116" y="0"/>
                  </a:cubicBezTo>
                  <a:cubicBezTo>
                    <a:pt x="192" y="0"/>
                    <a:pt x="221" y="101"/>
                    <a:pt x="248" y="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5905440" y="4174920"/>
              <a:ext cx="119160" cy="158400"/>
            </a:xfrm>
            <a:custGeom>
              <a:avLst/>
              <a:gdLst/>
              <a:ahLst/>
              <a:rect l="l" t="t" r="r" b="b"/>
              <a:pathLst>
                <a:path w="248" h="132">
                  <a:moveTo>
                    <a:pt x="0" y="132"/>
                  </a:moveTo>
                  <a:cubicBezTo>
                    <a:pt x="19" y="110"/>
                    <a:pt x="40" y="0"/>
                    <a:pt x="116" y="0"/>
                  </a:cubicBezTo>
                  <a:cubicBezTo>
                    <a:pt x="192" y="0"/>
                    <a:pt x="221" y="101"/>
                    <a:pt x="248" y="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24600" y="4016160"/>
              <a:ext cx="118800" cy="155160"/>
            </a:xfrm>
            <a:custGeom>
              <a:avLst/>
              <a:gdLst/>
              <a:ahLst/>
              <a:rect l="l" t="t" r="r" b="b"/>
              <a:pathLst>
                <a:path w="248" h="132">
                  <a:moveTo>
                    <a:pt x="0" y="132"/>
                  </a:moveTo>
                  <a:cubicBezTo>
                    <a:pt x="19" y="110"/>
                    <a:pt x="40" y="0"/>
                    <a:pt x="116" y="0"/>
                  </a:cubicBezTo>
                  <a:cubicBezTo>
                    <a:pt x="192" y="0"/>
                    <a:pt x="221" y="101"/>
                    <a:pt x="248" y="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38720" y="4174920"/>
              <a:ext cx="119160" cy="205920"/>
            </a:xfrm>
            <a:custGeom>
              <a:avLst/>
              <a:gdLst/>
              <a:ahLst/>
              <a:rect l="l" t="t" r="r" b="b"/>
              <a:pathLst>
                <a:path w="248" h="132">
                  <a:moveTo>
                    <a:pt x="0" y="132"/>
                  </a:moveTo>
                  <a:cubicBezTo>
                    <a:pt x="19" y="110"/>
                    <a:pt x="40" y="0"/>
                    <a:pt x="116" y="0"/>
                  </a:cubicBezTo>
                  <a:cubicBezTo>
                    <a:pt x="192" y="0"/>
                    <a:pt x="221" y="101"/>
                    <a:pt x="248" y="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257880" y="3968640"/>
              <a:ext cx="119160" cy="205920"/>
            </a:xfrm>
            <a:custGeom>
              <a:avLst/>
              <a:gdLst/>
              <a:ahLst/>
              <a:rect l="l" t="t" r="r" b="b"/>
              <a:pathLst>
                <a:path w="248" h="132">
                  <a:moveTo>
                    <a:pt x="0" y="132"/>
                  </a:moveTo>
                  <a:cubicBezTo>
                    <a:pt x="19" y="110"/>
                    <a:pt x="40" y="0"/>
                    <a:pt x="116" y="0"/>
                  </a:cubicBezTo>
                  <a:cubicBezTo>
                    <a:pt x="192" y="0"/>
                    <a:pt x="221" y="101"/>
                    <a:pt x="248" y="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6378480" y="4177440"/>
              <a:ext cx="119160" cy="247320"/>
            </a:xfrm>
            <a:custGeom>
              <a:avLst/>
              <a:gdLst/>
              <a:ahLst/>
              <a:rect l="l" t="t" r="r" b="b"/>
              <a:pathLst>
                <a:path w="248" h="132">
                  <a:moveTo>
                    <a:pt x="0" y="132"/>
                  </a:moveTo>
                  <a:cubicBezTo>
                    <a:pt x="19" y="110"/>
                    <a:pt x="40" y="0"/>
                    <a:pt x="116" y="0"/>
                  </a:cubicBezTo>
                  <a:cubicBezTo>
                    <a:pt x="192" y="0"/>
                    <a:pt x="221" y="101"/>
                    <a:pt x="248" y="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97640" y="3917880"/>
              <a:ext cx="119160" cy="250200"/>
            </a:xfrm>
            <a:custGeom>
              <a:avLst/>
              <a:gdLst/>
              <a:ahLst/>
              <a:rect l="l" t="t" r="r" b="b"/>
              <a:pathLst>
                <a:path w="248" h="132">
                  <a:moveTo>
                    <a:pt x="0" y="132"/>
                  </a:moveTo>
                  <a:cubicBezTo>
                    <a:pt x="19" y="110"/>
                    <a:pt x="40" y="0"/>
                    <a:pt x="116" y="0"/>
                  </a:cubicBezTo>
                  <a:cubicBezTo>
                    <a:pt x="192" y="0"/>
                    <a:pt x="221" y="101"/>
                    <a:pt x="248" y="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6608880" y="4178160"/>
              <a:ext cx="118800" cy="298080"/>
            </a:xfrm>
            <a:custGeom>
              <a:avLst/>
              <a:gdLst/>
              <a:ahLst/>
              <a:rect l="l" t="t" r="r" b="b"/>
              <a:pathLst>
                <a:path w="248" h="132">
                  <a:moveTo>
                    <a:pt x="0" y="132"/>
                  </a:moveTo>
                  <a:cubicBezTo>
                    <a:pt x="19" y="110"/>
                    <a:pt x="40" y="0"/>
                    <a:pt x="116" y="0"/>
                  </a:cubicBezTo>
                  <a:cubicBezTo>
                    <a:pt x="192" y="0"/>
                    <a:pt x="221" y="101"/>
                    <a:pt x="248" y="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727680" y="3863880"/>
              <a:ext cx="119160" cy="313920"/>
            </a:xfrm>
            <a:custGeom>
              <a:avLst/>
              <a:gdLst/>
              <a:ahLst/>
              <a:rect l="l" t="t" r="r" b="b"/>
              <a:pathLst>
                <a:path w="248" h="132">
                  <a:moveTo>
                    <a:pt x="0" y="132"/>
                  </a:moveTo>
                  <a:cubicBezTo>
                    <a:pt x="19" y="110"/>
                    <a:pt x="40" y="0"/>
                    <a:pt x="116" y="0"/>
                  </a:cubicBezTo>
                  <a:cubicBezTo>
                    <a:pt x="192" y="0"/>
                    <a:pt x="221" y="101"/>
                    <a:pt x="248" y="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842160" y="4173480"/>
              <a:ext cx="118800" cy="347040"/>
            </a:xfrm>
            <a:custGeom>
              <a:avLst/>
              <a:gdLst/>
              <a:ahLst/>
              <a:rect l="l" t="t" r="r" b="b"/>
              <a:pathLst>
                <a:path w="248" h="132">
                  <a:moveTo>
                    <a:pt x="0" y="132"/>
                  </a:moveTo>
                  <a:cubicBezTo>
                    <a:pt x="19" y="110"/>
                    <a:pt x="40" y="0"/>
                    <a:pt x="116" y="0"/>
                  </a:cubicBezTo>
                  <a:cubicBezTo>
                    <a:pt x="192" y="0"/>
                    <a:pt x="221" y="101"/>
                    <a:pt x="248" y="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60960" y="3822480"/>
              <a:ext cx="119160" cy="355320"/>
            </a:xfrm>
            <a:custGeom>
              <a:avLst/>
              <a:gdLst/>
              <a:ahLst/>
              <a:rect l="l" t="t" r="r" b="b"/>
              <a:pathLst>
                <a:path w="248" h="132">
                  <a:moveTo>
                    <a:pt x="0" y="132"/>
                  </a:moveTo>
                  <a:cubicBezTo>
                    <a:pt x="19" y="110"/>
                    <a:pt x="40" y="0"/>
                    <a:pt x="116" y="0"/>
                  </a:cubicBezTo>
                  <a:cubicBezTo>
                    <a:pt x="192" y="0"/>
                    <a:pt x="221" y="101"/>
                    <a:pt x="248" y="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7075440" y="4166280"/>
              <a:ext cx="119160" cy="410760"/>
            </a:xfrm>
            <a:custGeom>
              <a:avLst/>
              <a:gdLst/>
              <a:ahLst/>
              <a:rect l="l" t="t" r="r" b="b"/>
              <a:pathLst>
                <a:path w="248" h="132">
                  <a:moveTo>
                    <a:pt x="0" y="132"/>
                  </a:moveTo>
                  <a:cubicBezTo>
                    <a:pt x="19" y="110"/>
                    <a:pt x="40" y="0"/>
                    <a:pt x="116" y="0"/>
                  </a:cubicBezTo>
                  <a:cubicBezTo>
                    <a:pt x="192" y="0"/>
                    <a:pt x="221" y="101"/>
                    <a:pt x="248" y="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89560" y="3822480"/>
              <a:ext cx="119160" cy="355320"/>
            </a:xfrm>
            <a:custGeom>
              <a:avLst/>
              <a:gdLst/>
              <a:ahLst/>
              <a:rect l="l" t="t" r="r" b="b"/>
              <a:pathLst>
                <a:path w="248" h="132">
                  <a:moveTo>
                    <a:pt x="0" y="132"/>
                  </a:moveTo>
                  <a:cubicBezTo>
                    <a:pt x="19" y="110"/>
                    <a:pt x="40" y="0"/>
                    <a:pt x="116" y="0"/>
                  </a:cubicBezTo>
                  <a:cubicBezTo>
                    <a:pt x="192" y="0"/>
                    <a:pt x="221" y="101"/>
                    <a:pt x="248" y="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7304040" y="4166280"/>
              <a:ext cx="119160" cy="410760"/>
            </a:xfrm>
            <a:custGeom>
              <a:avLst/>
              <a:gdLst/>
              <a:ahLst/>
              <a:rect l="l" t="t" r="r" b="b"/>
              <a:pathLst>
                <a:path w="248" h="132">
                  <a:moveTo>
                    <a:pt x="0" y="132"/>
                  </a:moveTo>
                  <a:cubicBezTo>
                    <a:pt x="19" y="110"/>
                    <a:pt x="40" y="0"/>
                    <a:pt x="116" y="0"/>
                  </a:cubicBezTo>
                  <a:cubicBezTo>
                    <a:pt x="192" y="0"/>
                    <a:pt x="221" y="101"/>
                    <a:pt x="248" y="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18160" y="3822480"/>
              <a:ext cx="119160" cy="355320"/>
            </a:xfrm>
            <a:custGeom>
              <a:avLst/>
              <a:gdLst/>
              <a:ahLst/>
              <a:rect l="l" t="t" r="r" b="b"/>
              <a:pathLst>
                <a:path w="248" h="132">
                  <a:moveTo>
                    <a:pt x="0" y="132"/>
                  </a:moveTo>
                  <a:cubicBezTo>
                    <a:pt x="19" y="110"/>
                    <a:pt x="40" y="0"/>
                    <a:pt x="116" y="0"/>
                  </a:cubicBezTo>
                  <a:cubicBezTo>
                    <a:pt x="192" y="0"/>
                    <a:pt x="221" y="101"/>
                    <a:pt x="248" y="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7532640" y="4166280"/>
              <a:ext cx="119160" cy="410760"/>
            </a:xfrm>
            <a:custGeom>
              <a:avLst/>
              <a:gdLst/>
              <a:ahLst/>
              <a:rect l="l" t="t" r="r" b="b"/>
              <a:pathLst>
                <a:path w="248" h="132">
                  <a:moveTo>
                    <a:pt x="0" y="132"/>
                  </a:moveTo>
                  <a:cubicBezTo>
                    <a:pt x="19" y="110"/>
                    <a:pt x="40" y="0"/>
                    <a:pt x="116" y="0"/>
                  </a:cubicBezTo>
                  <a:cubicBezTo>
                    <a:pt x="192" y="0"/>
                    <a:pt x="221" y="101"/>
                    <a:pt x="248" y="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481320" y="1870200"/>
            <a:ext cx="110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8000"/>
                </a:solidFill>
                <a:latin typeface="Arial"/>
              </a:rPr>
              <a:t>Sensor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8000"/>
                </a:solidFill>
                <a:latin typeface="Arial"/>
              </a:rPr>
              <a:t>Vib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400480" y="1127160"/>
            <a:ext cx="45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Redundância Física de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falha1a" descr=""/>
          <p:cNvPicPr/>
          <p:nvPr/>
        </p:nvPicPr>
        <p:blipFill>
          <a:blip r:embed="rId4"/>
          <a:stretch/>
        </p:blipFill>
        <p:spPr>
          <a:xfrm>
            <a:off x="536400" y="2133720"/>
            <a:ext cx="3741840" cy="3651120"/>
          </a:xfrm>
          <a:prstGeom prst="rect">
            <a:avLst/>
          </a:prstGeom>
          <a:ln w="0">
            <a:noFill/>
          </a:ln>
        </p:spPr>
      </p:pic>
      <p:grpSp>
        <p:nvGrpSpPr>
          <p:cNvPr id="444" name=""/>
          <p:cNvGrpSpPr/>
          <p:nvPr/>
        </p:nvGrpSpPr>
        <p:grpSpPr>
          <a:xfrm>
            <a:off x="4670280" y="1616040"/>
            <a:ext cx="3796920" cy="4684680"/>
            <a:chOff x="4670280" y="1616040"/>
            <a:chExt cx="3796920" cy="4684680"/>
          </a:xfrm>
        </p:grpSpPr>
        <p:sp>
          <p:nvSpPr>
            <p:cNvPr id="445" name=""/>
            <p:cNvSpPr/>
            <p:nvPr/>
          </p:nvSpPr>
          <p:spPr>
            <a:xfrm>
              <a:off x="4680000" y="2927520"/>
              <a:ext cx="363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4917960" y="1773360"/>
              <a:ext cx="0" cy="138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917960" y="2225520"/>
              <a:ext cx="3132360" cy="374760"/>
            </a:xfrm>
            <a:custGeom>
              <a:avLst/>
              <a:gdLst/>
              <a:ahLst/>
              <a:rect l="l" t="t" r="r" b="b"/>
              <a:pathLst>
                <a:path w="1973" h="236">
                  <a:moveTo>
                    <a:pt x="0" y="0"/>
                  </a:moveTo>
                  <a:cubicBezTo>
                    <a:pt x="92" y="35"/>
                    <a:pt x="329" y="206"/>
                    <a:pt x="550" y="213"/>
                  </a:cubicBezTo>
                  <a:cubicBezTo>
                    <a:pt x="771" y="220"/>
                    <a:pt x="1092" y="40"/>
                    <a:pt x="1329" y="44"/>
                  </a:cubicBezTo>
                  <a:cubicBezTo>
                    <a:pt x="1566" y="48"/>
                    <a:pt x="1839" y="196"/>
                    <a:pt x="1973" y="236"/>
                  </a:cubicBez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229960" y="256860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47120" y="1616040"/>
              <a:ext cx="3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73120" y="1776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670280" y="4514760"/>
              <a:ext cx="363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908600" y="3360240"/>
              <a:ext cx="0" cy="138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220240" y="415620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37760" y="3203640"/>
              <a:ext cx="3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63760" y="3363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672080" y="6073920"/>
              <a:ext cx="363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4910040" y="4919760"/>
              <a:ext cx="0" cy="138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222040" y="571500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39200" y="4762440"/>
              <a:ext cx="3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65200" y="49230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10040" y="5319720"/>
              <a:ext cx="3132360" cy="374760"/>
            </a:xfrm>
            <a:custGeom>
              <a:avLst/>
              <a:gdLst/>
              <a:ahLst/>
              <a:rect l="l" t="t" r="r" b="b"/>
              <a:pathLst>
                <a:path w="1973" h="236">
                  <a:moveTo>
                    <a:pt x="0" y="0"/>
                  </a:moveTo>
                  <a:cubicBezTo>
                    <a:pt x="92" y="35"/>
                    <a:pt x="329" y="206"/>
                    <a:pt x="550" y="213"/>
                  </a:cubicBezTo>
                  <a:cubicBezTo>
                    <a:pt x="771" y="220"/>
                    <a:pt x="1092" y="40"/>
                    <a:pt x="1329" y="44"/>
                  </a:cubicBezTo>
                  <a:cubicBezTo>
                    <a:pt x="1566" y="48"/>
                    <a:pt x="1839" y="196"/>
                    <a:pt x="1973" y="236"/>
                  </a:cubicBez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930920" y="3836880"/>
              <a:ext cx="1290600" cy="681120"/>
            </a:xfrm>
            <a:custGeom>
              <a:avLst/>
              <a:gdLst/>
              <a:ahLst/>
              <a:rect l="l" t="t" r="r" b="b"/>
              <a:pathLst>
                <a:path w="813" h="429">
                  <a:moveTo>
                    <a:pt x="0" y="0"/>
                  </a:moveTo>
                  <a:cubicBezTo>
                    <a:pt x="20" y="77"/>
                    <a:pt x="41" y="155"/>
                    <a:pt x="79" y="181"/>
                  </a:cubicBezTo>
                  <a:cubicBezTo>
                    <a:pt x="117" y="207"/>
                    <a:pt x="185" y="151"/>
                    <a:pt x="226" y="158"/>
                  </a:cubicBezTo>
                  <a:cubicBezTo>
                    <a:pt x="267" y="165"/>
                    <a:pt x="288" y="237"/>
                    <a:pt x="327" y="226"/>
                  </a:cubicBezTo>
                  <a:cubicBezTo>
                    <a:pt x="366" y="215"/>
                    <a:pt x="433" y="81"/>
                    <a:pt x="463" y="90"/>
                  </a:cubicBezTo>
                  <a:cubicBezTo>
                    <a:pt x="493" y="99"/>
                    <a:pt x="467" y="258"/>
                    <a:pt x="508" y="282"/>
                  </a:cubicBezTo>
                  <a:cubicBezTo>
                    <a:pt x="549" y="306"/>
                    <a:pt x="660" y="213"/>
                    <a:pt x="711" y="237"/>
                  </a:cubicBezTo>
                  <a:cubicBezTo>
                    <a:pt x="762" y="261"/>
                    <a:pt x="796" y="397"/>
                    <a:pt x="813" y="429"/>
                  </a:cubicBez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543720" y="3905280"/>
              <a:ext cx="1506600" cy="612720"/>
            </a:xfrm>
            <a:custGeom>
              <a:avLst/>
              <a:gdLst/>
              <a:ahLst/>
              <a:rect l="l" t="t" r="r" b="b"/>
              <a:pathLst>
                <a:path w="949" h="386">
                  <a:moveTo>
                    <a:pt x="0" y="386"/>
                  </a:moveTo>
                  <a:cubicBezTo>
                    <a:pt x="12" y="282"/>
                    <a:pt x="25" y="179"/>
                    <a:pt x="57" y="138"/>
                  </a:cubicBezTo>
                  <a:cubicBezTo>
                    <a:pt x="89" y="97"/>
                    <a:pt x="149" y="151"/>
                    <a:pt x="192" y="138"/>
                  </a:cubicBezTo>
                  <a:cubicBezTo>
                    <a:pt x="235" y="125"/>
                    <a:pt x="280" y="82"/>
                    <a:pt x="317" y="59"/>
                  </a:cubicBezTo>
                  <a:cubicBezTo>
                    <a:pt x="354" y="36"/>
                    <a:pt x="367" y="0"/>
                    <a:pt x="418" y="2"/>
                  </a:cubicBezTo>
                  <a:cubicBezTo>
                    <a:pt x="469" y="4"/>
                    <a:pt x="571" y="40"/>
                    <a:pt x="622" y="70"/>
                  </a:cubicBezTo>
                  <a:cubicBezTo>
                    <a:pt x="673" y="100"/>
                    <a:pt x="668" y="166"/>
                    <a:pt x="723" y="183"/>
                  </a:cubicBezTo>
                  <a:cubicBezTo>
                    <a:pt x="778" y="200"/>
                    <a:pt x="911" y="174"/>
                    <a:pt x="949" y="172"/>
                  </a:cubicBez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226200" y="4513320"/>
              <a:ext cx="31896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7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00480" y="1127160"/>
            <a:ext cx="45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Redundância Física de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falha1a" descr=""/>
          <p:cNvPicPr/>
          <p:nvPr/>
        </p:nvPicPr>
        <p:blipFill>
          <a:blip r:embed="rId4"/>
          <a:stretch/>
        </p:blipFill>
        <p:spPr>
          <a:xfrm>
            <a:off x="536400" y="2133720"/>
            <a:ext cx="3741840" cy="3651120"/>
          </a:xfrm>
          <a:prstGeom prst="rect">
            <a:avLst/>
          </a:prstGeom>
          <a:ln w="0">
            <a:noFill/>
          </a:ln>
        </p:spPr>
      </p:pic>
      <p:grpSp>
        <p:nvGrpSpPr>
          <p:cNvPr id="473" name=""/>
          <p:cNvGrpSpPr/>
          <p:nvPr/>
        </p:nvGrpSpPr>
        <p:grpSpPr>
          <a:xfrm>
            <a:off x="4670280" y="1616040"/>
            <a:ext cx="3796920" cy="4684680"/>
            <a:chOff x="4670280" y="1616040"/>
            <a:chExt cx="3796920" cy="4684680"/>
          </a:xfrm>
        </p:grpSpPr>
        <p:sp>
          <p:nvSpPr>
            <p:cNvPr id="474" name=""/>
            <p:cNvSpPr/>
            <p:nvPr/>
          </p:nvSpPr>
          <p:spPr>
            <a:xfrm>
              <a:off x="4680000" y="2927520"/>
              <a:ext cx="363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4917960" y="1773360"/>
              <a:ext cx="0" cy="138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917960" y="2225520"/>
              <a:ext cx="3132360" cy="374760"/>
            </a:xfrm>
            <a:custGeom>
              <a:avLst/>
              <a:gdLst/>
              <a:ahLst/>
              <a:rect l="l" t="t" r="r" b="b"/>
              <a:pathLst>
                <a:path w="1973" h="236">
                  <a:moveTo>
                    <a:pt x="0" y="0"/>
                  </a:moveTo>
                  <a:cubicBezTo>
                    <a:pt x="92" y="35"/>
                    <a:pt x="329" y="206"/>
                    <a:pt x="550" y="213"/>
                  </a:cubicBezTo>
                  <a:cubicBezTo>
                    <a:pt x="771" y="220"/>
                    <a:pt x="1092" y="40"/>
                    <a:pt x="1329" y="44"/>
                  </a:cubicBezTo>
                  <a:cubicBezTo>
                    <a:pt x="1566" y="48"/>
                    <a:pt x="1839" y="196"/>
                    <a:pt x="1973" y="236"/>
                  </a:cubicBez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29960" y="256860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947120" y="1616040"/>
              <a:ext cx="3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73120" y="1776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670280" y="4514760"/>
              <a:ext cx="363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4908600" y="3360240"/>
              <a:ext cx="0" cy="138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20240" y="415620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937760" y="3203640"/>
              <a:ext cx="3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63760" y="3363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672080" y="6073920"/>
              <a:ext cx="363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4910040" y="4919760"/>
              <a:ext cx="0" cy="138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222040" y="571500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927680" y="3722760"/>
              <a:ext cx="3141720" cy="544320"/>
            </a:xfrm>
            <a:custGeom>
              <a:avLst/>
              <a:gdLst/>
              <a:ahLst/>
              <a:rect l="l" t="t" r="r" b="b"/>
              <a:pathLst>
                <a:path w="1979" h="343">
                  <a:moveTo>
                    <a:pt x="0" y="0"/>
                  </a:moveTo>
                  <a:cubicBezTo>
                    <a:pt x="92" y="42"/>
                    <a:pt x="336" y="232"/>
                    <a:pt x="555" y="253"/>
                  </a:cubicBezTo>
                  <a:cubicBezTo>
                    <a:pt x="774" y="274"/>
                    <a:pt x="1075" y="109"/>
                    <a:pt x="1312" y="124"/>
                  </a:cubicBezTo>
                  <a:cubicBezTo>
                    <a:pt x="1549" y="139"/>
                    <a:pt x="1840" y="298"/>
                    <a:pt x="1979" y="343"/>
                  </a:cubicBezTo>
                </a:path>
              </a:pathLst>
            </a:custGeom>
            <a:noFill/>
            <a:ln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145480" y="4767120"/>
              <a:ext cx="48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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446080" y="49197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52160" y="4765680"/>
              <a:ext cx="3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77800" y="4925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38840" y="3713040"/>
              <a:ext cx="3132000" cy="374760"/>
            </a:xfrm>
            <a:custGeom>
              <a:avLst/>
              <a:gdLst/>
              <a:ahLst/>
              <a:rect l="l" t="t" r="r" b="b"/>
              <a:pathLst>
                <a:path w="1973" h="236">
                  <a:moveTo>
                    <a:pt x="0" y="0"/>
                  </a:moveTo>
                  <a:cubicBezTo>
                    <a:pt x="92" y="35"/>
                    <a:pt x="329" y="206"/>
                    <a:pt x="550" y="213"/>
                  </a:cubicBezTo>
                  <a:cubicBezTo>
                    <a:pt x="771" y="220"/>
                    <a:pt x="1092" y="40"/>
                    <a:pt x="1329" y="44"/>
                  </a:cubicBezTo>
                  <a:cubicBezTo>
                    <a:pt x="1566" y="48"/>
                    <a:pt x="1839" y="196"/>
                    <a:pt x="1973" y="236"/>
                  </a:cubicBezTo>
                </a:path>
              </a:pathLst>
            </a:custGeom>
            <a:noFill/>
            <a:ln w="1260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4905360" y="5878080"/>
              <a:ext cx="3149640" cy="189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4320" y="2409840"/>
            <a:ext cx="6811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: Conjectura sobre o desenvolvimento de uma situ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Falta (lat </a:t>
            </a:r>
            <a:r>
              <a:rPr b="1" i="1" lang="pt-BR" sz="1600" spc="-1" strike="noStrike">
                <a:solidFill>
                  <a:srgbClr val="3333cc"/>
                </a:solidFill>
                <a:latin typeface="Arial"/>
              </a:rPr>
              <a:t>fallita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) : Ausência ; Privação ; </a:t>
            </a: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Imperfeição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;  </a:t>
            </a: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Defe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Falha (lat </a:t>
            </a:r>
            <a:r>
              <a:rPr b="1" i="1" lang="pt-BR" sz="1600" spc="-1" strike="noStrike">
                <a:solidFill>
                  <a:srgbClr val="3333cc"/>
                </a:solidFill>
                <a:latin typeface="Arial"/>
              </a:rPr>
              <a:t>fallia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) : Falta ; Defeito ; Fal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7880" y="1952640"/>
            <a:ext cx="798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3333cc"/>
                </a:solidFill>
                <a:uFillTx/>
                <a:latin typeface="Arial"/>
              </a:rPr>
              <a:t>Novo Dicionário da Língua Portuguesa de Aurélio Buarque de Holanda Ferreira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2760" y="4325760"/>
            <a:ext cx="333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3333cc"/>
                </a:solidFill>
                <a:uFillTx/>
                <a:latin typeface="Arial"/>
              </a:rPr>
              <a:t>The Concise Oxford Dictionary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53280" y="4729320"/>
            <a:ext cx="7573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ostic (grego </a:t>
            </a:r>
            <a:r>
              <a:rPr b="1" i="1" lang="pt-BR" sz="1600" spc="-1" strike="noStrike">
                <a:solidFill>
                  <a:srgbClr val="3333cc"/>
                </a:solidFill>
                <a:latin typeface="Arial"/>
              </a:rPr>
              <a:t>prognostikon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) : Advance indication ; prediction ; fore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Fault : </a:t>
            </a: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Defect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; </a:t>
            </a: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Imperfection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; Thing wrongly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Failure : Break down ; Cessation of vital function ; Non-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46720" y="111132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Termin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7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11120" y="112716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Redundância Analítica de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falha1e" descr=""/>
          <p:cNvPicPr/>
          <p:nvPr/>
        </p:nvPicPr>
        <p:blipFill>
          <a:blip r:embed="rId4"/>
          <a:stretch/>
        </p:blipFill>
        <p:spPr>
          <a:xfrm>
            <a:off x="687240" y="2289240"/>
            <a:ext cx="3264120" cy="366372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4680000" y="3174840"/>
            <a:ext cx="3638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4917960" y="2021040"/>
            <a:ext cx="0" cy="1380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229960" y="28162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073120" y="2023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933080" y="1863720"/>
            <a:ext cx="3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919760" y="2612880"/>
            <a:ext cx="291780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659480" y="5619600"/>
            <a:ext cx="3638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4897440" y="4465800"/>
            <a:ext cx="0" cy="1380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209440" y="52610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912200" y="430848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4898880" y="4767120"/>
            <a:ext cx="2962440" cy="8272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08760" y="3687840"/>
            <a:ext cx="0" cy="59364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5"/>
          <a:stretch/>
        </p:blipFill>
        <p:spPr>
          <a:xfrm>
            <a:off x="6357960" y="3762360"/>
            <a:ext cx="1320840" cy="39384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6"/>
          <a:stretch/>
        </p:blipFill>
        <p:spPr>
          <a:xfrm>
            <a:off x="4351320" y="2452680"/>
            <a:ext cx="46980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9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5600" y="112716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odelo em Regime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motocargbat" descr=""/>
          <p:cNvPicPr/>
          <p:nvPr/>
        </p:nvPicPr>
        <p:blipFill>
          <a:blip r:embed="rId4"/>
          <a:stretch/>
        </p:blipFill>
        <p:spPr>
          <a:xfrm>
            <a:off x="4718160" y="1914480"/>
            <a:ext cx="3365280" cy="120024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5"/>
          <a:stretch/>
        </p:blipFill>
        <p:spPr>
          <a:xfrm>
            <a:off x="4025880" y="3587760"/>
            <a:ext cx="1224000" cy="1689120"/>
          </a:xfrm>
          <a:prstGeom prst="rect">
            <a:avLst/>
          </a:prstGeom>
          <a:ln w="0">
            <a:noFill/>
          </a:ln>
        </p:spPr>
      </p:pic>
      <p:grpSp>
        <p:nvGrpSpPr>
          <p:cNvPr id="526" name=""/>
          <p:cNvGrpSpPr/>
          <p:nvPr/>
        </p:nvGrpSpPr>
        <p:grpSpPr>
          <a:xfrm>
            <a:off x="5299200" y="3728880"/>
            <a:ext cx="1137960" cy="208080"/>
            <a:chOff x="5299200" y="3728880"/>
            <a:chExt cx="1137960" cy="208080"/>
          </a:xfrm>
        </p:grpSpPr>
        <p:pic>
          <p:nvPicPr>
            <p:cNvPr id="527" name="" descr=""/>
            <p:cNvPicPr/>
            <p:nvPr/>
          </p:nvPicPr>
          <p:blipFill>
            <a:blip r:embed="rId6"/>
            <a:stretch/>
          </p:blipFill>
          <p:spPr>
            <a:xfrm>
              <a:off x="5869080" y="3728880"/>
              <a:ext cx="56808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5299200" y="3838680"/>
              <a:ext cx="46008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5299200" y="4033800"/>
            <a:ext cx="3247920" cy="1812960"/>
            <a:chOff x="5299200" y="4033800"/>
            <a:chExt cx="3247920" cy="1812960"/>
          </a:xfrm>
        </p:grpSpPr>
        <p:pic>
          <p:nvPicPr>
            <p:cNvPr id="530" name="" descr=""/>
            <p:cNvPicPr/>
            <p:nvPr/>
          </p:nvPicPr>
          <p:blipFill>
            <a:blip r:embed="rId7"/>
            <a:stretch/>
          </p:blipFill>
          <p:spPr>
            <a:xfrm>
              <a:off x="5826240" y="4033800"/>
              <a:ext cx="1466640" cy="5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5299200" y="4254480"/>
              <a:ext cx="460080" cy="0"/>
            </a:xfrm>
            <a:prstGeom prst="line">
              <a:avLst/>
            </a:prstGeom>
            <a:ln w="1908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2" name="" descr=""/>
            <p:cNvPicPr/>
            <p:nvPr/>
          </p:nvPicPr>
          <p:blipFill>
            <a:blip r:embed="rId8"/>
            <a:stretch/>
          </p:blipFill>
          <p:spPr>
            <a:xfrm>
              <a:off x="5819760" y="4670280"/>
              <a:ext cx="2727360" cy="117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3" name=""/>
          <p:cNvGrpSpPr/>
          <p:nvPr/>
        </p:nvGrpSpPr>
        <p:grpSpPr>
          <a:xfrm>
            <a:off x="6086520" y="5846760"/>
            <a:ext cx="2290680" cy="456480"/>
            <a:chOff x="6086520" y="5846760"/>
            <a:chExt cx="2290680" cy="456480"/>
          </a:xfrm>
        </p:grpSpPr>
        <p:sp>
          <p:nvSpPr>
            <p:cNvPr id="534" name=""/>
            <p:cNvSpPr/>
            <p:nvPr/>
          </p:nvSpPr>
          <p:spPr>
            <a:xfrm rot="16200000">
              <a:off x="7891920" y="5483880"/>
              <a:ext cx="122400" cy="847800"/>
            </a:xfrm>
            <a:custGeom>
              <a:avLst/>
              <a:gdLst>
                <a:gd name="textAreaLeft" fmla="*/ 78120 w 122400"/>
                <a:gd name="textAreaRight" fmla="*/ 122760 w 122400"/>
                <a:gd name="textAreaTop" fmla="*/ 21960 h 847800"/>
                <a:gd name="textAreaBottom" fmla="*/ 825840 h 84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16200000">
              <a:off x="6679440" y="5264640"/>
              <a:ext cx="111240" cy="1297080"/>
            </a:xfrm>
            <a:custGeom>
              <a:avLst/>
              <a:gdLst>
                <a:gd name="textAreaLeft" fmla="*/ 71280 w 111240"/>
                <a:gd name="textAreaRight" fmla="*/ 111600 w 111240"/>
                <a:gd name="textAreaTop" fmla="*/ 33480 h 1297080"/>
                <a:gd name="textAreaBottom" fmla="*/ 126360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831080" y="5952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605640" y="5965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8" name="falha1e" descr=""/>
          <p:cNvPicPr/>
          <p:nvPr/>
        </p:nvPicPr>
        <p:blipFill>
          <a:blip r:embed="rId9"/>
          <a:stretch/>
        </p:blipFill>
        <p:spPr>
          <a:xfrm>
            <a:off x="687240" y="2289240"/>
            <a:ext cx="3264120" cy="36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431640" y="2813040"/>
            <a:ext cx="4241880" cy="3173760"/>
            <a:chOff x="431640" y="2813040"/>
            <a:chExt cx="4241880" cy="3173760"/>
          </a:xfrm>
        </p:grpSpPr>
        <p:sp>
          <p:nvSpPr>
            <p:cNvPr id="540" name=""/>
            <p:cNvSpPr/>
            <p:nvPr/>
          </p:nvSpPr>
          <p:spPr>
            <a:xfrm>
              <a:off x="1611360" y="2813040"/>
              <a:ext cx="2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431640" y="3060720"/>
              <a:ext cx="4241880" cy="2926080"/>
              <a:chOff x="431640" y="3060720"/>
              <a:chExt cx="4241880" cy="2926080"/>
            </a:xfrm>
          </p:grpSpPr>
          <p:sp>
            <p:nvSpPr>
              <p:cNvPr id="542" name=""/>
              <p:cNvSpPr/>
              <p:nvPr/>
            </p:nvSpPr>
            <p:spPr>
              <a:xfrm>
                <a:off x="1549440" y="4038480"/>
                <a:ext cx="2489040" cy="10796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1549440" y="3936600"/>
                <a:ext cx="1803240" cy="167796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1498680" y="4546440"/>
                <a:ext cx="1231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705040" y="4546440"/>
                <a:ext cx="0" cy="115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1549440" y="3060720"/>
                <a:ext cx="0" cy="270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422360" y="5613480"/>
                <a:ext cx="289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29720" y="5365800"/>
                <a:ext cx="319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809880"/>
                <a:ext cx="107028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28960" y="4305240"/>
                <a:ext cx="844560" cy="48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1" name=""/>
              <p:cNvSpPr/>
              <p:nvPr/>
            </p:nvSpPr>
            <p:spPr>
              <a:xfrm>
                <a:off x="3479760" y="4940280"/>
                <a:ext cx="60948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3111840" y="4596480"/>
                <a:ext cx="837000" cy="71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2902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290276"/>
                  </a:path>
                </a:pathLst>
              </a:custGeom>
              <a:noFill/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112920" y="4601520"/>
                <a:ext cx="835200" cy="709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501" y="654"/>
                    </a:moveTo>
                    <a:arcTo wR="10800" hR="10800" stAng="-4197437" swAng="40841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501" y="654"/>
                    </a:moveTo>
                    <a:arcTo wR="10800" hR="10800" stAng="-4197437" swAng="4084196"/>
                  </a:path>
                </a:pathLst>
              </a:custGeom>
              <a:noFill/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660760" y="4495680"/>
                <a:ext cx="88920" cy="88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051560" y="4478400"/>
                <a:ext cx="478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o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689920" y="5710320"/>
                <a:ext cx="478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o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564280" y="5581800"/>
                <a:ext cx="319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63720" y="4349880"/>
                <a:ext cx="26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9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1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325600" y="112716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odelo em Regime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motocargbat" descr=""/>
          <p:cNvPicPr/>
          <p:nvPr/>
        </p:nvPicPr>
        <p:blipFill>
          <a:blip r:embed="rId6"/>
          <a:stretch/>
        </p:blipFill>
        <p:spPr>
          <a:xfrm>
            <a:off x="4718160" y="1914480"/>
            <a:ext cx="3365280" cy="1200240"/>
          </a:xfrm>
          <a:prstGeom prst="rect">
            <a:avLst/>
          </a:prstGeom>
          <a:ln w="0">
            <a:noFill/>
          </a:ln>
        </p:spPr>
      </p:pic>
      <p:grpSp>
        <p:nvGrpSpPr>
          <p:cNvPr id="567" name=""/>
          <p:cNvGrpSpPr/>
          <p:nvPr/>
        </p:nvGrpSpPr>
        <p:grpSpPr>
          <a:xfrm>
            <a:off x="509760" y="3272760"/>
            <a:ext cx="3450600" cy="3456000"/>
            <a:chOff x="509760" y="3272760"/>
            <a:chExt cx="3450600" cy="3456000"/>
          </a:xfrm>
        </p:grpSpPr>
        <p:sp>
          <p:nvSpPr>
            <p:cNvPr id="568" name=""/>
            <p:cNvSpPr/>
            <p:nvPr/>
          </p:nvSpPr>
          <p:spPr>
            <a:xfrm flipV="1">
              <a:off x="1549440" y="3746160"/>
              <a:ext cx="1555560" cy="1879560"/>
            </a:xfrm>
            <a:prstGeom prst="line">
              <a:avLst/>
            </a:prstGeom>
            <a:ln w="93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1549440" y="3555720"/>
              <a:ext cx="1274760" cy="2058840"/>
            </a:xfrm>
            <a:prstGeom prst="line">
              <a:avLst/>
            </a:prstGeom>
            <a:ln w="93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09760" y="3272760"/>
              <a:ext cx="3450600" cy="345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72" y="838"/>
                  </a:moveTo>
                  <a:arcTo wR="10800" hR="10800" stAng="-4036568" swAng="15948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72" y="838"/>
                  </a:moveTo>
                  <a:arcTo wR="10800" hR="10800" stAng="-4036568" swAng="1594802"/>
                </a:path>
              </a:pathLst>
            </a:custGeom>
            <a:noFill/>
            <a:ln w="1908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160800" y="32878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70320" y="4413240"/>
              <a:ext cx="88560" cy="88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79520" y="4324320"/>
              <a:ext cx="88920" cy="88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664240" y="3483000"/>
            <a:ext cx="2857320" cy="2645640"/>
            <a:chOff x="5664240" y="3483000"/>
            <a:chExt cx="2857320" cy="2645640"/>
          </a:xfrm>
        </p:grpSpPr>
        <p:pic>
          <p:nvPicPr>
            <p:cNvPr id="575" name="" descr=""/>
            <p:cNvPicPr/>
            <p:nvPr/>
          </p:nvPicPr>
          <p:blipFill>
            <a:blip r:embed="rId7"/>
            <a:stretch/>
          </p:blipFill>
          <p:spPr>
            <a:xfrm>
              <a:off x="5767560" y="3554280"/>
              <a:ext cx="56808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" descr=""/>
            <p:cNvPicPr/>
            <p:nvPr/>
          </p:nvPicPr>
          <p:blipFill>
            <a:blip r:embed="rId8"/>
            <a:stretch/>
          </p:blipFill>
          <p:spPr>
            <a:xfrm>
              <a:off x="5724360" y="3859200"/>
              <a:ext cx="146700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" descr=""/>
            <p:cNvPicPr/>
            <p:nvPr/>
          </p:nvPicPr>
          <p:blipFill>
            <a:blip r:embed="rId9"/>
            <a:stretch/>
          </p:blipFill>
          <p:spPr>
            <a:xfrm>
              <a:off x="5718240" y="4495680"/>
              <a:ext cx="27273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 rot="16200000">
              <a:off x="7790760" y="5308920"/>
              <a:ext cx="122040" cy="847800"/>
            </a:xfrm>
            <a:custGeom>
              <a:avLst/>
              <a:gdLst>
                <a:gd name="textAreaLeft" fmla="*/ 78120 w 122040"/>
                <a:gd name="textAreaRight" fmla="*/ 122040 w 122040"/>
                <a:gd name="textAreaTop" fmla="*/ 21960 h 847800"/>
                <a:gd name="textAreaBottom" fmla="*/ 825840 h 84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16200000">
              <a:off x="6577920" y="5090400"/>
              <a:ext cx="110880" cy="1296720"/>
            </a:xfrm>
            <a:custGeom>
              <a:avLst/>
              <a:gdLst>
                <a:gd name="textAreaLeft" fmla="*/ 70920 w 110880"/>
                <a:gd name="textAreaRight" fmla="*/ 111240 w 110880"/>
                <a:gd name="textAreaTop" fmla="*/ 33480 h 1296720"/>
                <a:gd name="textAreaBottom" fmla="*/ 1263240 h 12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729560" y="577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504120" y="5791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664240" y="3483000"/>
              <a:ext cx="774720" cy="34272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689440" y="5076720"/>
              <a:ext cx="2832120" cy="102240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6362640" y="5778360"/>
            <a:ext cx="939960" cy="33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1498680" y="4546440"/>
            <a:ext cx="1231920" cy="0"/>
          </a:xfrm>
          <a:prstGeom prst="line">
            <a:avLst/>
          </a:prstGeom>
          <a:ln w="64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705040" y="4546440"/>
            <a:ext cx="0" cy="1155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9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325600" y="112716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odelo em Regime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motocargbat" descr=""/>
          <p:cNvPicPr/>
          <p:nvPr/>
        </p:nvPicPr>
        <p:blipFill>
          <a:blip r:embed="rId4"/>
          <a:stretch/>
        </p:blipFill>
        <p:spPr>
          <a:xfrm>
            <a:off x="4718160" y="1914480"/>
            <a:ext cx="3365280" cy="120024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 flipV="1">
            <a:off x="1549440" y="3060720"/>
            <a:ext cx="0" cy="270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22360" y="56134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329720" y="5365800"/>
            <a:ext cx="3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611360" y="281304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549440" y="4038480"/>
            <a:ext cx="2489040" cy="1079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5"/>
          <a:stretch/>
        </p:blipFill>
        <p:spPr>
          <a:xfrm>
            <a:off x="431640" y="3809880"/>
            <a:ext cx="1070280" cy="45720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6"/>
          <a:stretch/>
        </p:blipFill>
        <p:spPr>
          <a:xfrm>
            <a:off x="3828960" y="4305240"/>
            <a:ext cx="844560" cy="48276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479760" y="4940280"/>
            <a:ext cx="6094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3111840" y="4596480"/>
            <a:ext cx="83700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902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90276"/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12920" y="4601520"/>
            <a:ext cx="835200" cy="709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01" y="654"/>
                </a:moveTo>
                <a:arcTo wR="10800" hR="10800" stAng="-4197437" swAng="4084196"/>
                <a:lnTo>
                  <a:pt x="10800" y="10800"/>
                </a:lnTo>
                <a:close/>
              </a:path>
              <a:path fill="none" w="21600" h="21600">
                <a:moveTo>
                  <a:pt x="14501" y="654"/>
                </a:moveTo>
                <a:arcTo wR="10800" hR="10800" stAng="-4197437" swAng="4084196"/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49440" y="3555720"/>
            <a:ext cx="1803240" cy="2070000"/>
            <a:chOff x="1549440" y="3555720"/>
            <a:chExt cx="1803240" cy="2070000"/>
          </a:xfrm>
        </p:grpSpPr>
        <p:sp>
          <p:nvSpPr>
            <p:cNvPr id="606" name=""/>
            <p:cNvSpPr/>
            <p:nvPr/>
          </p:nvSpPr>
          <p:spPr>
            <a:xfrm flipV="1">
              <a:off x="1549440" y="3936240"/>
              <a:ext cx="1803240" cy="16783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1549440" y="3745800"/>
              <a:ext cx="1554840" cy="1879920"/>
            </a:xfrm>
            <a:prstGeom prst="line">
              <a:avLst/>
            </a:prstGeom>
            <a:ln w="93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1549440" y="3555720"/>
              <a:ext cx="1274040" cy="2058840"/>
            </a:xfrm>
            <a:prstGeom prst="line">
              <a:avLst/>
            </a:prstGeom>
            <a:ln w="93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509760" y="3272760"/>
            <a:ext cx="3450600" cy="345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72" y="838"/>
                </a:moveTo>
                <a:arcTo wR="10800" hR="10800" stAng="-4036568" swAng="1594802"/>
                <a:lnTo>
                  <a:pt x="10800" y="10800"/>
                </a:lnTo>
                <a:close/>
              </a:path>
              <a:path fill="none" w="21600" h="21600">
                <a:moveTo>
                  <a:pt x="14972" y="838"/>
                </a:moveTo>
                <a:arcTo wR="10800" hR="10800" stAng="-4036568" swAng="1594802"/>
              </a:path>
            </a:pathLst>
          </a:custGeom>
          <a:noFill/>
          <a:ln w="1908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60800" y="32878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470320" y="4413240"/>
            <a:ext cx="8856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79520" y="432432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660760" y="449568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5492880" y="3708360"/>
            <a:ext cx="0" cy="20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65800" y="55944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253720" y="52419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689920" y="57103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64280" y="5581800"/>
            <a:ext cx="3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051560" y="447840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63720" y="434988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674320" y="36529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549040" y="3524400"/>
            <a:ext cx="3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499000" y="4521240"/>
            <a:ext cx="2184480" cy="317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414120" y="5786280"/>
            <a:ext cx="86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com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1549440" y="4317840"/>
            <a:ext cx="2235240" cy="8258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549440" y="4597560"/>
            <a:ext cx="2209680" cy="660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1498680" y="4546440"/>
            <a:ext cx="1231920" cy="0"/>
          </a:xfrm>
          <a:prstGeom prst="line">
            <a:avLst/>
          </a:prstGeom>
          <a:ln w="64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5040" y="4546440"/>
            <a:ext cx="0" cy="1155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1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325600" y="112716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odelo em Regime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motocargbat" descr=""/>
          <p:cNvPicPr/>
          <p:nvPr/>
        </p:nvPicPr>
        <p:blipFill>
          <a:blip r:embed="rId4"/>
          <a:stretch/>
        </p:blipFill>
        <p:spPr>
          <a:xfrm>
            <a:off x="4718160" y="1914480"/>
            <a:ext cx="3365280" cy="120024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5"/>
          <a:stretch/>
        </p:blipFill>
        <p:spPr>
          <a:xfrm>
            <a:off x="5767560" y="3554280"/>
            <a:ext cx="568080" cy="20808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6"/>
          <a:stretch/>
        </p:blipFill>
        <p:spPr>
          <a:xfrm>
            <a:off x="5724360" y="3859200"/>
            <a:ext cx="1467000" cy="5508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7"/>
          <a:stretch/>
        </p:blipFill>
        <p:spPr>
          <a:xfrm>
            <a:off x="5718240" y="4495680"/>
            <a:ext cx="2727360" cy="11764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 rot="16200000">
            <a:off x="7790760" y="5308920"/>
            <a:ext cx="122040" cy="847800"/>
          </a:xfrm>
          <a:custGeom>
            <a:avLst/>
            <a:gdLst>
              <a:gd name="textAreaLeft" fmla="*/ 78120 w 122040"/>
              <a:gd name="textAreaRight" fmla="*/ 122040 w 122040"/>
              <a:gd name="textAreaTop" fmla="*/ 21960 h 847800"/>
              <a:gd name="textAreaBottom" fmla="*/ 825840 h 84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rot="16200000">
            <a:off x="6577920" y="5090400"/>
            <a:ext cx="110880" cy="1296720"/>
          </a:xfrm>
          <a:custGeom>
            <a:avLst/>
            <a:gdLst>
              <a:gd name="textAreaLeft" fmla="*/ 70920 w 110880"/>
              <a:gd name="textAreaRight" fmla="*/ 111240 w 11088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729560" y="5778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04120" y="5791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549440" y="3060720"/>
            <a:ext cx="0" cy="270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422360" y="56134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329720" y="5365800"/>
            <a:ext cx="3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611360" y="281304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664240" y="3483000"/>
            <a:ext cx="774720" cy="342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689440" y="5057640"/>
            <a:ext cx="2832120" cy="1041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549440" y="4038480"/>
            <a:ext cx="2844720" cy="12193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8"/>
          <a:stretch/>
        </p:blipFill>
        <p:spPr>
          <a:xfrm>
            <a:off x="431640" y="3809880"/>
            <a:ext cx="1070280" cy="4572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9"/>
          <a:stretch/>
        </p:blipFill>
        <p:spPr>
          <a:xfrm>
            <a:off x="4210200" y="4419720"/>
            <a:ext cx="844560" cy="48240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3860640" y="5054760"/>
            <a:ext cx="609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3493440" y="4723560"/>
            <a:ext cx="83628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902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90276"/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494520" y="4716000"/>
            <a:ext cx="834480" cy="709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01" y="654"/>
                </a:moveTo>
                <a:arcTo wR="10800" hR="10800" stAng="-4197437" swAng="4084196"/>
                <a:lnTo>
                  <a:pt x="10800" y="10800"/>
                </a:lnTo>
                <a:close/>
              </a:path>
              <a:path fill="none" w="21600" h="21600">
                <a:moveTo>
                  <a:pt x="14501" y="654"/>
                </a:moveTo>
                <a:arcTo wR="10800" hR="10800" stAng="-4197437" swAng="4084196"/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1549440" y="3936600"/>
            <a:ext cx="1803240" cy="16779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313440" y="36813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495520" y="465444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305080" y="479412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660760" y="449568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051560" y="447840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89920" y="57103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564280" y="5581800"/>
            <a:ext cx="3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963720" y="434988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52960" y="2913840"/>
            <a:ext cx="2729520" cy="278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75" y="12993"/>
                </a:moveTo>
                <a:arcTo wR="10800" hR="10800" stAng="702916" swAng="1840920"/>
                <a:lnTo>
                  <a:pt x="10800" y="10800"/>
                </a:lnTo>
                <a:close/>
              </a:path>
              <a:path fill="none" w="21600" h="21600">
                <a:moveTo>
                  <a:pt x="21375" y="12993"/>
                </a:moveTo>
                <a:arcTo wR="10800" hR="10800" stAng="702916" swAng="1840920"/>
              </a:path>
            </a:pathLst>
          </a:custGeom>
          <a:noFill/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198960" y="4303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cc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337920" y="43927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cc"/>
                </a:solidFill>
                <a:latin typeface="Arial"/>
              </a:rPr>
              <a:t>B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1549440" y="4317840"/>
            <a:ext cx="2235240" cy="8258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549440" y="4597560"/>
            <a:ext cx="2209680" cy="660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1498680" y="4546440"/>
            <a:ext cx="1231920" cy="0"/>
          </a:xfrm>
          <a:prstGeom prst="line">
            <a:avLst/>
          </a:prstGeom>
          <a:ln w="64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705040" y="4546440"/>
            <a:ext cx="0" cy="1155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4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6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325600" y="112716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odelo em Regime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motocargbat" descr=""/>
          <p:cNvPicPr/>
          <p:nvPr/>
        </p:nvPicPr>
        <p:blipFill>
          <a:blip r:embed="rId4"/>
          <a:stretch/>
        </p:blipFill>
        <p:spPr>
          <a:xfrm>
            <a:off x="4718160" y="1914480"/>
            <a:ext cx="3365280" cy="120024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 flipV="1">
            <a:off x="1549440" y="3060720"/>
            <a:ext cx="0" cy="270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422360" y="56134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329720" y="5365800"/>
            <a:ext cx="3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611360" y="281304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549440" y="4038480"/>
            <a:ext cx="2844720" cy="12193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5"/>
          <a:stretch/>
        </p:blipFill>
        <p:spPr>
          <a:xfrm>
            <a:off x="431640" y="3809880"/>
            <a:ext cx="1070280" cy="45720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6"/>
          <a:stretch/>
        </p:blipFill>
        <p:spPr>
          <a:xfrm>
            <a:off x="4210200" y="4419720"/>
            <a:ext cx="844560" cy="48240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3860640" y="5054760"/>
            <a:ext cx="609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3493440" y="4723560"/>
            <a:ext cx="83628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902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90276"/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494520" y="4716000"/>
            <a:ext cx="834480" cy="709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01" y="654"/>
                </a:moveTo>
                <a:arcTo wR="10800" hR="10800" stAng="-4197437" swAng="4084196"/>
                <a:lnTo>
                  <a:pt x="10800" y="10800"/>
                </a:lnTo>
                <a:close/>
              </a:path>
              <a:path fill="none" w="21600" h="21600">
                <a:moveTo>
                  <a:pt x="14501" y="654"/>
                </a:moveTo>
                <a:arcTo wR="10800" hR="10800" stAng="-4197437" swAng="4084196"/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1549440" y="3936600"/>
            <a:ext cx="1803240" cy="16779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13440" y="36813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495520" y="465444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305080" y="479412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660760" y="449568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051560" y="447840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689920" y="57103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564280" y="5581800"/>
            <a:ext cx="3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63720" y="434988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52960" y="2913840"/>
            <a:ext cx="2729520" cy="278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75" y="12993"/>
                </a:moveTo>
                <a:arcTo wR="10800" hR="10800" stAng="702916" swAng="1840920"/>
                <a:lnTo>
                  <a:pt x="10800" y="10800"/>
                </a:lnTo>
                <a:close/>
              </a:path>
              <a:path fill="none" w="21600" h="21600">
                <a:moveTo>
                  <a:pt x="21375" y="12993"/>
                </a:moveTo>
                <a:arcTo wR="10800" hR="10800" stAng="702916" swAng="1840920"/>
              </a:path>
            </a:pathLst>
          </a:custGeom>
          <a:noFill/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198960" y="4303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cc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337920" y="43927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cc"/>
                </a:solidFill>
                <a:latin typeface="Arial"/>
              </a:rPr>
              <a:t>B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362640" y="5778360"/>
            <a:ext cx="939960" cy="33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5492880" y="3708360"/>
            <a:ext cx="0" cy="20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365800" y="55944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253720" y="52419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674320" y="36529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549040" y="3524400"/>
            <a:ext cx="3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499000" y="4521240"/>
            <a:ext cx="2184480" cy="3175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411600" y="5786280"/>
            <a:ext cx="11210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     </a:t>
            </a:r>
            <a:r>
              <a:rPr b="0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com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525360" y="585324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3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325600" y="112716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odelo em Regime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motocargbat" descr=""/>
          <p:cNvPicPr/>
          <p:nvPr/>
        </p:nvPicPr>
        <p:blipFill>
          <a:blip r:embed="rId4"/>
          <a:stretch/>
        </p:blipFill>
        <p:spPr>
          <a:xfrm>
            <a:off x="4718160" y="1914480"/>
            <a:ext cx="3365280" cy="120024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6362640" y="5778360"/>
            <a:ext cx="1200240" cy="34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5492880" y="3708360"/>
            <a:ext cx="0" cy="20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365800" y="55944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253720" y="52419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674320" y="36529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549040" y="3524400"/>
            <a:ext cx="3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499000" y="4521240"/>
            <a:ext cx="2184480" cy="3175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11600" y="578628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     </a:t>
            </a:r>
            <a:r>
              <a:rPr b="0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com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525360" y="585324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209680" y="5765760"/>
            <a:ext cx="939960" cy="33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339920" y="3695760"/>
            <a:ext cx="0" cy="20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12840" y="55818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100760" y="52293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521360" y="363996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396080" y="3511440"/>
            <a:ext cx="3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346040" y="4508640"/>
            <a:ext cx="2184480" cy="317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261160" y="5773680"/>
            <a:ext cx="86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com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6362640" y="5778360"/>
            <a:ext cx="939960" cy="33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1498680" y="4546440"/>
            <a:ext cx="1231920" cy="0"/>
          </a:xfrm>
          <a:prstGeom prst="line">
            <a:avLst/>
          </a:prstGeom>
          <a:ln w="64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705040" y="4546440"/>
            <a:ext cx="0" cy="1155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1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3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325600" y="112716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odelo em Regime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motocargbat" descr=""/>
          <p:cNvPicPr/>
          <p:nvPr/>
        </p:nvPicPr>
        <p:blipFill>
          <a:blip r:embed="rId4"/>
          <a:stretch/>
        </p:blipFill>
        <p:spPr>
          <a:xfrm>
            <a:off x="4718160" y="1914480"/>
            <a:ext cx="3365280" cy="1200240"/>
          </a:xfrm>
          <a:prstGeom prst="rect">
            <a:avLst/>
          </a:prstGeom>
          <a:ln w="0">
            <a:noFill/>
          </a:ln>
        </p:spPr>
      </p:pic>
      <p:sp>
        <p:nvSpPr>
          <p:cNvPr id="747" name=""/>
          <p:cNvSpPr/>
          <p:nvPr/>
        </p:nvSpPr>
        <p:spPr>
          <a:xfrm flipV="1">
            <a:off x="1549440" y="3060720"/>
            <a:ext cx="0" cy="270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422360" y="56134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329720" y="5365800"/>
            <a:ext cx="3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611360" y="281304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549440" y="4038480"/>
            <a:ext cx="2489040" cy="1079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5"/>
          <a:stretch/>
        </p:blipFill>
        <p:spPr>
          <a:xfrm>
            <a:off x="431640" y="3809880"/>
            <a:ext cx="1070280" cy="45720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6"/>
          <a:stretch/>
        </p:blipFill>
        <p:spPr>
          <a:xfrm>
            <a:off x="3828960" y="4305240"/>
            <a:ext cx="844560" cy="48276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3479760" y="4940280"/>
            <a:ext cx="6094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111840" y="4596480"/>
            <a:ext cx="83700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902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90276"/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112920" y="4601520"/>
            <a:ext cx="835200" cy="709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01" y="654"/>
                </a:moveTo>
                <a:arcTo wR="10800" hR="10800" stAng="-4197437" swAng="4084196"/>
                <a:lnTo>
                  <a:pt x="10800" y="10800"/>
                </a:lnTo>
                <a:close/>
              </a:path>
              <a:path fill="none" w="21600" h="21600">
                <a:moveTo>
                  <a:pt x="14501" y="654"/>
                </a:moveTo>
                <a:arcTo wR="10800" hR="10800" stAng="-4197437" swAng="4084196"/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49440" y="3555720"/>
            <a:ext cx="1803240" cy="2070000"/>
            <a:chOff x="1549440" y="3555720"/>
            <a:chExt cx="1803240" cy="2070000"/>
          </a:xfrm>
        </p:grpSpPr>
        <p:sp>
          <p:nvSpPr>
            <p:cNvPr id="758" name=""/>
            <p:cNvSpPr/>
            <p:nvPr/>
          </p:nvSpPr>
          <p:spPr>
            <a:xfrm flipV="1">
              <a:off x="1549440" y="3936240"/>
              <a:ext cx="1803240" cy="16783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1549440" y="3745800"/>
              <a:ext cx="1554840" cy="1879920"/>
            </a:xfrm>
            <a:prstGeom prst="line">
              <a:avLst/>
            </a:prstGeom>
            <a:ln w="93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1549440" y="3555720"/>
              <a:ext cx="1274040" cy="2058840"/>
            </a:xfrm>
            <a:prstGeom prst="line">
              <a:avLst/>
            </a:prstGeom>
            <a:ln w="93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509760" y="3272760"/>
            <a:ext cx="3450600" cy="345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72" y="838"/>
                </a:moveTo>
                <a:arcTo wR="10800" hR="10800" stAng="-4036568" swAng="1594802"/>
                <a:lnTo>
                  <a:pt x="10800" y="10800"/>
                </a:lnTo>
                <a:close/>
              </a:path>
              <a:path fill="none" w="21600" h="21600">
                <a:moveTo>
                  <a:pt x="14972" y="838"/>
                </a:moveTo>
                <a:arcTo wR="10800" hR="10800" stAng="-4036568" swAng="1594802"/>
              </a:path>
            </a:pathLst>
          </a:custGeom>
          <a:noFill/>
          <a:ln w="1908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160800" y="32878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470320" y="4413240"/>
            <a:ext cx="8856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279520" y="432432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660760" y="449568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5492880" y="3708360"/>
            <a:ext cx="0" cy="20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365800" y="55944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253720" y="52419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689920" y="57103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564280" y="5581800"/>
            <a:ext cx="3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051560" y="447840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963720" y="434988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674320" y="36529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548680" y="352440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5499000" y="4272120"/>
            <a:ext cx="2170080" cy="2491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414120" y="5786280"/>
            <a:ext cx="86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com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1549440" y="4317840"/>
            <a:ext cx="2235240" cy="8258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549440" y="4597560"/>
            <a:ext cx="2209680" cy="660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1498680" y="4546440"/>
            <a:ext cx="1231920" cy="0"/>
          </a:xfrm>
          <a:prstGeom prst="line">
            <a:avLst/>
          </a:prstGeom>
          <a:ln w="64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705040" y="4546440"/>
            <a:ext cx="0" cy="1155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3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5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325600" y="112716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odelo em Regime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motocargbat" descr=""/>
          <p:cNvPicPr/>
          <p:nvPr/>
        </p:nvPicPr>
        <p:blipFill>
          <a:blip r:embed="rId4"/>
          <a:stretch/>
        </p:blipFill>
        <p:spPr>
          <a:xfrm>
            <a:off x="4718160" y="1914480"/>
            <a:ext cx="3365280" cy="120024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 flipV="1">
            <a:off x="1549440" y="3060720"/>
            <a:ext cx="0" cy="270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422360" y="56134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329720" y="5365800"/>
            <a:ext cx="3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1360" y="281304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549440" y="4038480"/>
            <a:ext cx="2844720" cy="12193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5"/>
          <a:stretch/>
        </p:blipFill>
        <p:spPr>
          <a:xfrm>
            <a:off x="431640" y="3809880"/>
            <a:ext cx="1070280" cy="45720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6"/>
          <a:stretch/>
        </p:blipFill>
        <p:spPr>
          <a:xfrm>
            <a:off x="4210200" y="4419720"/>
            <a:ext cx="844560" cy="48240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3860640" y="5054760"/>
            <a:ext cx="609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3493440" y="4723560"/>
            <a:ext cx="83628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902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90276"/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494520" y="4716000"/>
            <a:ext cx="834480" cy="709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01" y="654"/>
                </a:moveTo>
                <a:arcTo wR="10800" hR="10800" stAng="-4197437" swAng="4084196"/>
                <a:lnTo>
                  <a:pt x="10800" y="10800"/>
                </a:lnTo>
                <a:close/>
              </a:path>
              <a:path fill="none" w="21600" h="21600">
                <a:moveTo>
                  <a:pt x="14501" y="654"/>
                </a:moveTo>
                <a:arcTo wR="10800" hR="10800" stAng="-4197437" swAng="4084196"/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1549440" y="3936600"/>
            <a:ext cx="1803240" cy="16779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313440" y="36813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495520" y="465444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305080" y="479412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660760" y="449568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051560" y="447840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689920" y="57103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564280" y="5581800"/>
            <a:ext cx="3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963720" y="434988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52960" y="2913840"/>
            <a:ext cx="2729520" cy="278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75" y="12993"/>
                </a:moveTo>
                <a:arcTo wR="10800" hR="10800" stAng="702916" swAng="1840920"/>
                <a:lnTo>
                  <a:pt x="10800" y="10800"/>
                </a:lnTo>
                <a:close/>
              </a:path>
              <a:path fill="none" w="21600" h="21600">
                <a:moveTo>
                  <a:pt x="21375" y="12993"/>
                </a:moveTo>
                <a:arcTo wR="10800" hR="10800" stAng="702916" swAng="1840920"/>
              </a:path>
            </a:pathLst>
          </a:custGeom>
          <a:noFill/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198960" y="4303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cc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337920" y="43927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cc"/>
                </a:solidFill>
                <a:latin typeface="Arial"/>
              </a:rPr>
              <a:t>B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362640" y="5778360"/>
            <a:ext cx="1171800" cy="358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5492880" y="3708360"/>
            <a:ext cx="0" cy="20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365800" y="55944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8253720" y="52419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674320" y="36529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548680" y="352440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499000" y="4521240"/>
            <a:ext cx="2184480" cy="3175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411600" y="578628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     </a:t>
            </a:r>
            <a:r>
              <a:rPr b="0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com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525360" y="585324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2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4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325600" y="112716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odelo em Regime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130800" y="1798560"/>
            <a:ext cx="1187640" cy="37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165720" y="1806480"/>
            <a:ext cx="114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     </a:t>
            </a:r>
            <a:r>
              <a:rPr b="0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com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293880" y="18730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2035080" y="1817640"/>
            <a:ext cx="939960" cy="330120"/>
            <a:chOff x="2035080" y="1817640"/>
            <a:chExt cx="939960" cy="330120"/>
          </a:xfrm>
        </p:grpSpPr>
        <p:sp>
          <p:nvSpPr>
            <p:cNvPr id="831" name=""/>
            <p:cNvSpPr/>
            <p:nvPr/>
          </p:nvSpPr>
          <p:spPr>
            <a:xfrm>
              <a:off x="2035080" y="1817640"/>
              <a:ext cx="939960" cy="33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086560" y="1825560"/>
              <a:ext cx="86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com 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 flipV="1">
            <a:off x="5264280" y="4417560"/>
            <a:ext cx="0" cy="19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143680" y="6184800"/>
            <a:ext cx="275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888680" y="58546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437080" y="436716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317920" y="4246560"/>
            <a:ext cx="3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270400" y="5180040"/>
            <a:ext cx="2076480" cy="297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1317600" y="4406400"/>
            <a:ext cx="0" cy="19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197000" y="6173640"/>
            <a:ext cx="275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942000" y="58435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489680" y="435456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370520" y="4233960"/>
            <a:ext cx="3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324080" y="5167440"/>
            <a:ext cx="2076480" cy="2984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1319040" y="2433240"/>
            <a:ext cx="0" cy="19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198440" y="4200480"/>
            <a:ext cx="275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43800" y="38703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491120" y="238140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371960" y="226044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1325520" y="2960640"/>
            <a:ext cx="2062080" cy="23328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5256360" y="2413080"/>
            <a:ext cx="0" cy="19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135400" y="4178160"/>
            <a:ext cx="275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880760" y="38498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429880" y="23605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340600" y="224172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262480" y="3173400"/>
            <a:ext cx="2076480" cy="298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3240" y="2084400"/>
            <a:ext cx="25135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tecçã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Isolaçã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Identificaçã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ia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comodaçã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Tolerância a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46720" y="111132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Termin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9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1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894320" y="2597040"/>
            <a:ext cx="6125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Dados de Popul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Dados de População + Condições de U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Dados históricos de  alguns sinais do componente part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ados de entrada e saída do sub-sistem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561040" y="107460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Seqüência de Apresen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50800" y="2511360"/>
            <a:ext cx="0" cy="2295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79520" y="202104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ais Informa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753640" y="4764240"/>
            <a:ext cx="256536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3333cc"/>
                </a:solidFill>
                <a:latin typeface="Arial"/>
              </a:rPr>
              <a:t>Identificação Paramétric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3333cc"/>
                </a:solidFill>
                <a:latin typeface="Arial"/>
              </a:rPr>
              <a:t>Observadores de Est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3333cc"/>
                </a:solidFill>
                <a:latin typeface="Arial"/>
              </a:rPr>
              <a:t>Relações de Parida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0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2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894320" y="2597040"/>
            <a:ext cx="6125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Dados de Popul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Dados de População + Condições de U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Dados históricos de  alguns sinais do componente part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ados de entrada e saída do sub-sistem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61040" y="107460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Seqüência de Apresen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450800" y="2511360"/>
            <a:ext cx="0" cy="2295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79520" y="202104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ais Informa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753640" y="4764240"/>
            <a:ext cx="256536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3333cc"/>
                </a:solidFill>
                <a:latin typeface="Arial"/>
              </a:rPr>
              <a:t>Identificação Paramétric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b2b2b2"/>
                </a:solidFill>
                <a:latin typeface="Arial"/>
              </a:rPr>
              <a:t>Observadores de Est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b2b2b2"/>
                </a:solidFill>
                <a:latin typeface="Arial"/>
              </a:rPr>
              <a:t>Relações de Parida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0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1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3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5" name="motocargbat" descr=""/>
          <p:cNvPicPr/>
          <p:nvPr/>
        </p:nvPicPr>
        <p:blipFill>
          <a:blip r:embed="rId4"/>
          <a:stretch/>
        </p:blipFill>
        <p:spPr>
          <a:xfrm>
            <a:off x="4486320" y="1741320"/>
            <a:ext cx="3365280" cy="1200240"/>
          </a:xfrm>
          <a:prstGeom prst="rect">
            <a:avLst/>
          </a:prstGeom>
          <a:ln w="0">
            <a:noFill/>
          </a:ln>
        </p:spPr>
      </p:pic>
      <p:pic>
        <p:nvPicPr>
          <p:cNvPr id="886" name="falha1e" descr=""/>
          <p:cNvPicPr/>
          <p:nvPr/>
        </p:nvPicPr>
        <p:blipFill>
          <a:blip r:embed="rId5"/>
          <a:stretch/>
        </p:blipFill>
        <p:spPr>
          <a:xfrm>
            <a:off x="236520" y="2158920"/>
            <a:ext cx="3263760" cy="366408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2323440" y="1127160"/>
            <a:ext cx="46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odelo em Regime Transitó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6"/>
          <a:stretch/>
        </p:blipFill>
        <p:spPr>
          <a:xfrm>
            <a:off x="3941640" y="3214800"/>
            <a:ext cx="1517760" cy="755640"/>
          </a:xfrm>
          <a:prstGeom prst="rect">
            <a:avLst/>
          </a:prstGeom>
          <a:ln w="0">
            <a:noFill/>
          </a:ln>
        </p:spPr>
      </p:pic>
      <p:grpSp>
        <p:nvGrpSpPr>
          <p:cNvPr id="889" name=""/>
          <p:cNvGrpSpPr/>
          <p:nvPr/>
        </p:nvGrpSpPr>
        <p:grpSpPr>
          <a:xfrm>
            <a:off x="5545080" y="3090960"/>
            <a:ext cx="2608200" cy="976320"/>
            <a:chOff x="5545080" y="3090960"/>
            <a:chExt cx="2608200" cy="976320"/>
          </a:xfrm>
        </p:grpSpPr>
        <p:pic>
          <p:nvPicPr>
            <p:cNvPr id="890" name="" descr=""/>
            <p:cNvPicPr/>
            <p:nvPr/>
          </p:nvPicPr>
          <p:blipFill>
            <a:blip r:embed="rId7"/>
            <a:stretch/>
          </p:blipFill>
          <p:spPr>
            <a:xfrm>
              <a:off x="6564240" y="3090960"/>
              <a:ext cx="158904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"/>
            <p:cNvSpPr/>
            <p:nvPr/>
          </p:nvSpPr>
          <p:spPr>
            <a:xfrm>
              <a:off x="5545080" y="3571920"/>
              <a:ext cx="73656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5376960" y="5996160"/>
            <a:ext cx="1800000" cy="423000"/>
            <a:chOff x="5376960" y="5996160"/>
            <a:chExt cx="1800000" cy="423000"/>
          </a:xfrm>
        </p:grpSpPr>
        <p:sp>
          <p:nvSpPr>
            <p:cNvPr id="893" name=""/>
            <p:cNvSpPr/>
            <p:nvPr/>
          </p:nvSpPr>
          <p:spPr>
            <a:xfrm rot="16200000">
              <a:off x="5752080" y="5640840"/>
              <a:ext cx="111240" cy="861840"/>
            </a:xfrm>
            <a:custGeom>
              <a:avLst/>
              <a:gdLst>
                <a:gd name="textAreaLeft" fmla="*/ 71280 w 111240"/>
                <a:gd name="textAreaRight" fmla="*/ 111600 w 111240"/>
                <a:gd name="textAreaTop" fmla="*/ 22320 h 861840"/>
                <a:gd name="textAreaBottom" fmla="*/ 839520 h 86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16200000">
              <a:off x="6864480" y="5794560"/>
              <a:ext cx="110880" cy="514080"/>
            </a:xfrm>
            <a:custGeom>
              <a:avLst/>
              <a:gdLst>
                <a:gd name="textAreaLeft" fmla="*/ 70920 w 110880"/>
                <a:gd name="textAreaRight" fmla="*/ 111240 w 110880"/>
                <a:gd name="textAreaTop" fmla="*/ 13320 h 514080"/>
                <a:gd name="textAreaBottom" fmla="*/ 50076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670720" y="6081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789960" y="6068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7" name="" descr=""/>
          <p:cNvPicPr/>
          <p:nvPr/>
        </p:nvPicPr>
        <p:blipFill>
          <a:blip r:embed="rId8"/>
          <a:stretch/>
        </p:blipFill>
        <p:spPr>
          <a:xfrm>
            <a:off x="4581360" y="4430880"/>
            <a:ext cx="30927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0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2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323440" y="1127160"/>
            <a:ext cx="46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odelo em Regime Transitó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923760" y="1868400"/>
                <a:ext cx="2063880" cy="2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06" name="" descr=""/>
          <p:cNvPicPr/>
          <p:nvPr/>
        </p:nvPicPr>
        <p:blipFill>
          <a:blip r:embed="rId4"/>
          <a:stretch/>
        </p:blipFill>
        <p:spPr>
          <a:xfrm>
            <a:off x="907920" y="2470320"/>
            <a:ext cx="3078360" cy="1374480"/>
          </a:xfrm>
          <a:prstGeom prst="rect">
            <a:avLst/>
          </a:prstGeom>
          <a:ln w="0">
            <a:noFill/>
          </a:ln>
        </p:spPr>
      </p:pic>
      <p:grpSp>
        <p:nvGrpSpPr>
          <p:cNvPr id="907" name=""/>
          <p:cNvGrpSpPr/>
          <p:nvPr/>
        </p:nvGrpSpPr>
        <p:grpSpPr>
          <a:xfrm>
            <a:off x="898560" y="4151160"/>
            <a:ext cx="4457520" cy="1597320"/>
            <a:chOff x="898560" y="4151160"/>
            <a:chExt cx="4457520" cy="1597320"/>
          </a:xfrm>
        </p:grpSpPr>
        <p:sp>
          <p:nvSpPr>
            <p:cNvPr id="908" name=""/>
            <p:cNvSpPr/>
            <p:nvPr/>
          </p:nvSpPr>
          <p:spPr>
            <a:xfrm>
              <a:off x="4368960" y="4151160"/>
              <a:ext cx="987120" cy="1597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9" name="" descr=""/>
            <p:cNvPicPr/>
            <p:nvPr/>
          </p:nvPicPr>
          <p:blipFill>
            <a:blip r:embed="rId5"/>
            <a:stretch/>
          </p:blipFill>
          <p:spPr>
            <a:xfrm>
              <a:off x="898560" y="4317840"/>
              <a:ext cx="3427200" cy="138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6"/>
            <a:stretch/>
          </p:blipFill>
          <p:spPr>
            <a:xfrm>
              <a:off x="4390920" y="4327560"/>
              <a:ext cx="811440" cy="136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1" name=""/>
          <p:cNvGrpSpPr/>
          <p:nvPr/>
        </p:nvGrpSpPr>
        <p:grpSpPr>
          <a:xfrm>
            <a:off x="950760" y="5762160"/>
            <a:ext cx="4265640" cy="441000"/>
            <a:chOff x="950760" y="5762160"/>
            <a:chExt cx="4265640" cy="441000"/>
          </a:xfrm>
        </p:grpSpPr>
        <p:sp>
          <p:nvSpPr>
            <p:cNvPr id="912" name=""/>
            <p:cNvSpPr/>
            <p:nvPr/>
          </p:nvSpPr>
          <p:spPr>
            <a:xfrm rot="16200000">
              <a:off x="4838400" y="5495400"/>
              <a:ext cx="111240" cy="644400"/>
            </a:xfrm>
            <a:custGeom>
              <a:avLst/>
              <a:gdLst>
                <a:gd name="textAreaLeft" fmla="*/ 71280 w 111240"/>
                <a:gd name="textAreaRight" fmla="*/ 111600 w 111240"/>
                <a:gd name="textAreaTop" fmla="*/ 16560 h 644400"/>
                <a:gd name="textAreaBottom" fmla="*/ 627840 h 64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6200000">
              <a:off x="2798640" y="4703400"/>
              <a:ext cx="125280" cy="2256120"/>
            </a:xfrm>
            <a:custGeom>
              <a:avLst/>
              <a:gdLst>
                <a:gd name="textAreaLeft" fmla="*/ 79920 w 125280"/>
                <a:gd name="textAreaRight" fmla="*/ 125640 w 125280"/>
                <a:gd name="textAreaTop" fmla="*/ 58680 h 2256120"/>
                <a:gd name="textAreaBottom" fmla="*/ 2197440 h 22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rot="16200000">
              <a:off x="4133880" y="5677920"/>
              <a:ext cx="96840" cy="281160"/>
            </a:xfrm>
            <a:custGeom>
              <a:avLst/>
              <a:gdLst>
                <a:gd name="textAreaLeft" fmla="*/ 61920 w 96840"/>
                <a:gd name="textAreaRight" fmla="*/ 97200 w 96840"/>
                <a:gd name="textAreaTop" fmla="*/ 7200 h 281160"/>
                <a:gd name="textAreaBottom" fmla="*/ 273960 h 28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rot="16200000">
              <a:off x="1217520" y="5501880"/>
              <a:ext cx="111240" cy="644760"/>
            </a:xfrm>
            <a:custGeom>
              <a:avLst/>
              <a:gdLst>
                <a:gd name="textAreaLeft" fmla="*/ 71280 w 111240"/>
                <a:gd name="textAreaRight" fmla="*/ 111600 w 111240"/>
                <a:gd name="textAreaTop" fmla="*/ 16560 h 644760"/>
                <a:gd name="textAreaBottom" fmla="*/ 628200 h 64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128240" y="5865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695320" y="5864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32000" y="58500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744800" y="58514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5616720" y="4776840"/>
            <a:ext cx="2286720" cy="337320"/>
            <a:chOff x="5616720" y="4776840"/>
            <a:chExt cx="2286720" cy="337320"/>
          </a:xfrm>
        </p:grpSpPr>
        <p:sp>
          <p:nvSpPr>
            <p:cNvPr id="921" name=""/>
            <p:cNvSpPr/>
            <p:nvPr/>
          </p:nvSpPr>
          <p:spPr>
            <a:xfrm>
              <a:off x="6716880" y="4776840"/>
              <a:ext cx="118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Y = AX + 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616720" y="4950000"/>
              <a:ext cx="90000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5079960" y="3814920"/>
            <a:ext cx="117360" cy="117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2641680" y="3875040"/>
            <a:ext cx="2587680" cy="0"/>
          </a:xfrm>
          <a:prstGeom prst="line">
            <a:avLst/>
          </a:prstGeom>
          <a:ln w="3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138640" y="3798720"/>
            <a:ext cx="0" cy="2079720"/>
          </a:xfrm>
          <a:prstGeom prst="line">
            <a:avLst/>
          </a:prstGeom>
          <a:ln w="3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8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0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194920" y="1125360"/>
            <a:ext cx="51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Estimador de Mínimos Quad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2638440" y="1744560"/>
                <a:ext cx="43909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X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Δt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X</m:t>
                        </m:r>
                      </m:lim>
                    </m:limLow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E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X</m:t>
                        </m:r>
                      </m:lim>
                    </m:limLow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4" name=""/>
          <p:cNvSpPr/>
          <p:nvPr/>
        </p:nvSpPr>
        <p:spPr>
          <a:xfrm>
            <a:off x="2525760" y="5791320"/>
            <a:ext cx="4803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2714760" y="2960280"/>
            <a:ext cx="0" cy="30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768400" y="27464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283160" y="5489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556080" y="5240160"/>
            <a:ext cx="117360" cy="117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281480" y="4411800"/>
            <a:ext cx="117360" cy="117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25800" y="4768920"/>
            <a:ext cx="117720" cy="117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775040" y="4484520"/>
            <a:ext cx="117720" cy="117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521320" y="3852720"/>
            <a:ext cx="117360" cy="117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913360" y="3706920"/>
            <a:ext cx="117720" cy="117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157560" y="5276880"/>
            <a:ext cx="117360" cy="117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019480" y="5794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133960" y="5915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284200" y="3668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427120" y="3789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376360" y="3138480"/>
            <a:ext cx="9144000" cy="2638440"/>
            <a:chOff x="2376360" y="3138480"/>
            <a:chExt cx="9144000" cy="2638440"/>
          </a:xfrm>
        </p:grpSpPr>
        <p:sp>
          <p:nvSpPr>
            <p:cNvPr id="950" name=""/>
            <p:cNvSpPr/>
            <p:nvPr/>
          </p:nvSpPr>
          <p:spPr>
            <a:xfrm>
              <a:off x="6121440" y="3267000"/>
              <a:ext cx="87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3333cc"/>
                  </a:solidFill>
                  <a:latin typeface="Arial"/>
                </a:rPr>
                <a:t>Y = AX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2376360" y="3138480"/>
              <a:ext cx="9144000" cy="2638440"/>
              <a:chOff x="2376360" y="3138480"/>
              <a:chExt cx="9144000" cy="2638440"/>
            </a:xfrm>
          </p:grpSpPr>
          <p:sp>
            <p:nvSpPr>
              <p:cNvPr id="952" name=""/>
              <p:cNvSpPr/>
              <p:nvPr/>
            </p:nvSpPr>
            <p:spPr>
              <a:xfrm>
                <a:off x="2376360" y="313848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V="1">
                <a:off x="2728800" y="3484440"/>
                <a:ext cx="3338640" cy="22924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138640" y="3440160"/>
                <a:ext cx="0" cy="43488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V="1">
                <a:off x="5138640" y="4118040"/>
                <a:ext cx="0" cy="39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153040" y="31845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ff33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267160" y="33051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ff33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9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0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2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194920" y="1125360"/>
            <a:ext cx="51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Estimador de Mínimos Quad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37636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2638440" y="1846440"/>
                <a:ext cx="4390920" cy="58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X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Δt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X</m:t>
                        </m:r>
                      </m:lim>
                    </m:limLow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E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X</m:t>
                        </m:r>
                      </m:lim>
                    </m:limLow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67" name="" descr=""/>
          <p:cNvPicPr/>
          <p:nvPr/>
        </p:nvPicPr>
        <p:blipFill>
          <a:blip r:embed="rId4"/>
          <a:stretch/>
        </p:blipFill>
        <p:spPr>
          <a:xfrm>
            <a:off x="3022560" y="2986200"/>
            <a:ext cx="3656160" cy="284040"/>
          </a:xfrm>
          <a:prstGeom prst="rect">
            <a:avLst/>
          </a:prstGeom>
          <a:ln w="0">
            <a:noFill/>
          </a:ln>
        </p:spPr>
      </p:pic>
      <p:sp>
        <p:nvSpPr>
          <p:cNvPr id="968" name=""/>
          <p:cNvSpPr/>
          <p:nvPr/>
        </p:nvSpPr>
        <p:spPr>
          <a:xfrm>
            <a:off x="378612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4203720" y="5289480"/>
                <a:ext cx="14349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70" name=""/>
          <p:cNvGrpSpPr/>
          <p:nvPr/>
        </p:nvGrpSpPr>
        <p:grpSpPr>
          <a:xfrm>
            <a:off x="4067280" y="3497400"/>
            <a:ext cx="1806480" cy="1373040"/>
            <a:chOff x="4067280" y="3497400"/>
            <a:chExt cx="1806480" cy="1373040"/>
          </a:xfrm>
        </p:grpSpPr>
        <p:pic>
          <p:nvPicPr>
            <p:cNvPr id="971" name="" descr=""/>
            <p:cNvPicPr/>
            <p:nvPr/>
          </p:nvPicPr>
          <p:blipFill>
            <a:blip r:embed="rId5"/>
            <a:stretch/>
          </p:blipFill>
          <p:spPr>
            <a:xfrm>
              <a:off x="5014800" y="3568680"/>
              <a:ext cx="85896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2" name="" descr=""/>
            <p:cNvPicPr/>
            <p:nvPr/>
          </p:nvPicPr>
          <p:blipFill>
            <a:blip r:embed="rId6"/>
            <a:stretch/>
          </p:blipFill>
          <p:spPr>
            <a:xfrm>
              <a:off x="4067280" y="4351320"/>
              <a:ext cx="1782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"/>
            <p:cNvSpPr/>
            <p:nvPr/>
          </p:nvSpPr>
          <p:spPr>
            <a:xfrm>
              <a:off x="4848120" y="3497400"/>
              <a:ext cx="0" cy="8125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5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6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8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0" name="falha1e" descr=""/>
          <p:cNvPicPr/>
          <p:nvPr/>
        </p:nvPicPr>
        <p:blipFill>
          <a:blip r:embed="rId4"/>
          <a:stretch/>
        </p:blipFill>
        <p:spPr>
          <a:xfrm>
            <a:off x="236520" y="2158920"/>
            <a:ext cx="3263760" cy="366408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2323440" y="1127160"/>
            <a:ext cx="46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odelo em Regime Transitó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16200000">
            <a:off x="5882400" y="2084760"/>
            <a:ext cx="111240" cy="862200"/>
          </a:xfrm>
          <a:custGeom>
            <a:avLst/>
            <a:gdLst>
              <a:gd name="textAreaLeft" fmla="*/ 71280 w 111240"/>
              <a:gd name="textAreaRight" fmla="*/ 111600 w 111240"/>
              <a:gd name="textAreaTop" fmla="*/ 22320 h 862200"/>
              <a:gd name="textAreaBottom" fmla="*/ 839880 h 86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rot="16200000">
            <a:off x="6994440" y="2238120"/>
            <a:ext cx="110880" cy="514440"/>
          </a:xfrm>
          <a:custGeom>
            <a:avLst/>
            <a:gdLst>
              <a:gd name="textAreaLeft" fmla="*/ 70920 w 110880"/>
              <a:gd name="textAreaRight" fmla="*/ 111240 w 11088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800680" y="2525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919920" y="2513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5"/>
          <a:stretch/>
        </p:blipFill>
        <p:spPr>
          <a:xfrm>
            <a:off x="4692600" y="1935000"/>
            <a:ext cx="3154320" cy="516240"/>
          </a:xfrm>
          <a:prstGeom prst="rect">
            <a:avLst/>
          </a:prstGeom>
          <a:ln w="0">
            <a:noFill/>
          </a:ln>
        </p:spPr>
      </p:pic>
      <p:pic>
        <p:nvPicPr>
          <p:cNvPr id="987" name="" descr=""/>
          <p:cNvPicPr/>
          <p:nvPr/>
        </p:nvPicPr>
        <p:blipFill>
          <a:blip r:embed="rId6"/>
          <a:stretch/>
        </p:blipFill>
        <p:spPr>
          <a:xfrm>
            <a:off x="4197240" y="3040200"/>
            <a:ext cx="4453200" cy="132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5526000" y="4649760"/>
                <a:ext cx="15717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9" name=""/>
          <p:cNvSpPr/>
          <p:nvPr/>
        </p:nvSpPr>
        <p:spPr>
          <a:xfrm>
            <a:off x="4102200" y="5268960"/>
            <a:ext cx="4468680" cy="82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ados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termina-se J a partir d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ados J e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termina-se </a:t>
            </a:r>
            <a:r>
              <a:rPr b="0" lang="pt-BR" sz="16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 partir de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565200" y="3222360"/>
            <a:ext cx="290520" cy="3063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2242800" y="3781080"/>
            <a:ext cx="29052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3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4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6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894320" y="2597040"/>
            <a:ext cx="6125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Dados de Popul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Dados de População + Condições de U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Dados históricos de  alguns sinais do componente part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ados de entrada e saída do sub-sistem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561040" y="107460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Seqüência de Apresen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450800" y="2511360"/>
            <a:ext cx="0" cy="2295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79520" y="202104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ais Informa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753640" y="4764240"/>
            <a:ext cx="256536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b2b2b2"/>
                </a:solidFill>
                <a:latin typeface="Arial"/>
              </a:rPr>
              <a:t>Identificação Paramétric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3333cc"/>
                </a:solidFill>
                <a:latin typeface="Arial"/>
              </a:rPr>
              <a:t>Observadores de Est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b2b2b2"/>
                </a:solidFill>
                <a:latin typeface="Arial"/>
              </a:rPr>
              <a:t>Relações de Parida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6948360" y="2211480"/>
            <a:ext cx="1150920" cy="52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5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6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8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642040" y="1109520"/>
            <a:ext cx="40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odelo em Malha Fech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4"/>
          <a:stretch/>
        </p:blipFill>
        <p:spPr>
          <a:xfrm>
            <a:off x="3689280" y="2171880"/>
            <a:ext cx="469800" cy="279360"/>
          </a:xfrm>
          <a:prstGeom prst="rect">
            <a:avLst/>
          </a:prstGeom>
          <a:ln w="0">
            <a:noFill/>
          </a:ln>
        </p:spPr>
      </p:pic>
      <p:sp>
        <p:nvSpPr>
          <p:cNvPr id="1012" name=""/>
          <p:cNvSpPr/>
          <p:nvPr/>
        </p:nvSpPr>
        <p:spPr>
          <a:xfrm>
            <a:off x="4325760" y="2292480"/>
            <a:ext cx="349560" cy="349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979880" y="2206800"/>
            <a:ext cx="598680" cy="52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977720" y="237024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NT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856120" y="2212920"/>
            <a:ext cx="787680" cy="52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849280" y="237024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O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112240" y="248112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73520" y="24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573880" y="2481120"/>
            <a:ext cx="27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6640560" y="248256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825720" y="2473200"/>
            <a:ext cx="50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034160" y="24400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498920" y="1827360"/>
            <a:ext cx="0" cy="46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498920" y="1832040"/>
            <a:ext cx="38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350200" y="183528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294760" y="24368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7" name="" descr=""/>
          <p:cNvPicPr/>
          <p:nvPr/>
        </p:nvPicPr>
        <p:blipFill>
          <a:blip r:embed="rId5"/>
          <a:stretch/>
        </p:blipFill>
        <p:spPr>
          <a:xfrm>
            <a:off x="8491680" y="2224080"/>
            <a:ext cx="164880" cy="165240"/>
          </a:xfrm>
          <a:prstGeom prst="rect">
            <a:avLst/>
          </a:prstGeom>
          <a:ln w="0">
            <a:noFill/>
          </a:ln>
        </p:spPr>
      </p:pic>
      <p:sp>
        <p:nvSpPr>
          <p:cNvPr id="1028" name=""/>
          <p:cNvSpPr/>
          <p:nvPr/>
        </p:nvSpPr>
        <p:spPr>
          <a:xfrm>
            <a:off x="4356360" y="229860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946920" y="2351160"/>
            <a:ext cx="116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tor + Car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778800" y="21765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157640" y="1982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2" name="Falha2a" descr=""/>
          <p:cNvPicPr/>
          <p:nvPr/>
        </p:nvPicPr>
        <p:blipFill>
          <a:blip r:embed="rId6"/>
          <a:stretch/>
        </p:blipFill>
        <p:spPr>
          <a:xfrm>
            <a:off x="272880" y="2122560"/>
            <a:ext cx="3224520" cy="3878280"/>
          </a:xfrm>
          <a:prstGeom prst="rect">
            <a:avLst/>
          </a:prstGeom>
          <a:ln w="0">
            <a:noFill/>
          </a:ln>
        </p:spPr>
      </p:pic>
      <p:pic>
        <p:nvPicPr>
          <p:cNvPr id="1033" name="" descr=""/>
          <p:cNvPicPr/>
          <p:nvPr/>
        </p:nvPicPr>
        <p:blipFill>
          <a:blip r:embed="rId7"/>
          <a:stretch/>
        </p:blipFill>
        <p:spPr>
          <a:xfrm>
            <a:off x="6635880" y="1949400"/>
            <a:ext cx="358560" cy="2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/>
          <p:nvPr/>
        </p:nvSpPr>
        <p:spPr>
          <a:xfrm>
            <a:off x="6948360" y="2211480"/>
            <a:ext cx="1150920" cy="52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6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7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9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642040" y="1109520"/>
            <a:ext cx="40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odelo em Malha Fech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4"/>
          <a:stretch/>
        </p:blipFill>
        <p:spPr>
          <a:xfrm>
            <a:off x="3689280" y="2171880"/>
            <a:ext cx="469800" cy="279360"/>
          </a:xfrm>
          <a:prstGeom prst="rect">
            <a:avLst/>
          </a:prstGeom>
          <a:ln w="0">
            <a:noFill/>
          </a:ln>
        </p:spPr>
      </p:pic>
      <p:sp>
        <p:nvSpPr>
          <p:cNvPr id="1043" name=""/>
          <p:cNvSpPr/>
          <p:nvPr/>
        </p:nvSpPr>
        <p:spPr>
          <a:xfrm>
            <a:off x="4325760" y="2292480"/>
            <a:ext cx="349560" cy="349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979880" y="2206800"/>
            <a:ext cx="598680" cy="52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977720" y="237024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NT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856120" y="2212920"/>
            <a:ext cx="787680" cy="52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849280" y="237024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O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112240" y="248112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673520" y="24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573880" y="2481120"/>
            <a:ext cx="27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6640560" y="248292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825720" y="2473200"/>
            <a:ext cx="50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034160" y="24400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498920" y="1827360"/>
            <a:ext cx="0" cy="46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498920" y="1832040"/>
            <a:ext cx="38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8350200" y="183528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8294760" y="24368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5"/>
          <a:stretch/>
        </p:blipFill>
        <p:spPr>
          <a:xfrm>
            <a:off x="8491680" y="2224080"/>
            <a:ext cx="164880" cy="165240"/>
          </a:xfrm>
          <a:prstGeom prst="rect">
            <a:avLst/>
          </a:prstGeom>
          <a:ln w="0">
            <a:noFill/>
          </a:ln>
        </p:spPr>
      </p:pic>
      <p:sp>
        <p:nvSpPr>
          <p:cNvPr id="1059" name=""/>
          <p:cNvSpPr/>
          <p:nvPr/>
        </p:nvSpPr>
        <p:spPr>
          <a:xfrm>
            <a:off x="4356360" y="229860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0" name="" descr=""/>
          <p:cNvPicPr/>
          <p:nvPr/>
        </p:nvPicPr>
        <p:blipFill>
          <a:blip r:embed="rId6"/>
          <a:stretch/>
        </p:blipFill>
        <p:spPr>
          <a:xfrm>
            <a:off x="5348160" y="3168720"/>
            <a:ext cx="3063960" cy="512640"/>
          </a:xfrm>
          <a:prstGeom prst="rect">
            <a:avLst/>
          </a:prstGeom>
          <a:ln w="0">
            <a:noFill/>
          </a:ln>
        </p:spPr>
      </p:pic>
      <p:sp>
        <p:nvSpPr>
          <p:cNvPr id="1061" name=""/>
          <p:cNvSpPr/>
          <p:nvPr/>
        </p:nvSpPr>
        <p:spPr>
          <a:xfrm rot="16200000">
            <a:off x="7235640" y="2633040"/>
            <a:ext cx="160200" cy="2293920"/>
          </a:xfrm>
          <a:custGeom>
            <a:avLst/>
            <a:gdLst>
              <a:gd name="textAreaLeft" fmla="*/ 102240 w 160200"/>
              <a:gd name="textAreaRight" fmla="*/ 160560 w 160200"/>
              <a:gd name="textAreaTop" fmla="*/ 59760 h 2293920"/>
              <a:gd name="textAreaBottom" fmla="*/ 2234160 h 229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196400" y="381636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7"/>
          <a:stretch/>
        </p:blipFill>
        <p:spPr>
          <a:xfrm>
            <a:off x="5276880" y="4157640"/>
            <a:ext cx="3433680" cy="560520"/>
          </a:xfrm>
          <a:prstGeom prst="rect">
            <a:avLst/>
          </a:prstGeom>
          <a:ln w="0">
            <a:noFill/>
          </a:ln>
        </p:spPr>
      </p:pic>
      <p:sp>
        <p:nvSpPr>
          <p:cNvPr id="1064" name=""/>
          <p:cNvSpPr/>
          <p:nvPr/>
        </p:nvSpPr>
        <p:spPr>
          <a:xfrm rot="16200000">
            <a:off x="6300000" y="4266000"/>
            <a:ext cx="144360" cy="1320840"/>
          </a:xfrm>
          <a:custGeom>
            <a:avLst/>
            <a:gdLst>
              <a:gd name="textAreaLeft" fmla="*/ 92160 w 144360"/>
              <a:gd name="textAreaRight" fmla="*/ 144360 w 144360"/>
              <a:gd name="textAreaTop" fmla="*/ 34200 h 1320840"/>
              <a:gd name="textAreaBottom" fmla="*/ 1286640 h 132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rot="16200000">
            <a:off x="7997040" y="4380120"/>
            <a:ext cx="160200" cy="1060560"/>
          </a:xfrm>
          <a:custGeom>
            <a:avLst/>
            <a:gdLst>
              <a:gd name="textAreaLeft" fmla="*/ 102240 w 160200"/>
              <a:gd name="textAreaRight" fmla="*/ 160560 w 160200"/>
              <a:gd name="textAreaTop" fmla="*/ 27360 h 1060560"/>
              <a:gd name="textAreaBottom" fmla="*/ 1033200 h 106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269040" y="499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951320" y="499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8" name="" descr=""/>
          <p:cNvPicPr/>
          <p:nvPr/>
        </p:nvPicPr>
        <p:blipFill>
          <a:blip r:embed="rId8"/>
          <a:stretch/>
        </p:blipFill>
        <p:spPr>
          <a:xfrm>
            <a:off x="6402240" y="5864400"/>
            <a:ext cx="1298880" cy="428400"/>
          </a:xfrm>
          <a:prstGeom prst="rect">
            <a:avLst/>
          </a:prstGeom>
          <a:ln w="0">
            <a:noFill/>
          </a:ln>
        </p:spPr>
      </p:pic>
      <p:sp>
        <p:nvSpPr>
          <p:cNvPr id="1069" name=""/>
          <p:cNvSpPr/>
          <p:nvPr/>
        </p:nvSpPr>
        <p:spPr>
          <a:xfrm>
            <a:off x="5199120" y="5470560"/>
            <a:ext cx="25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odelo para o motor + carg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946920" y="2351160"/>
            <a:ext cx="116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tor + Car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778800" y="21765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157640" y="1982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3" name="Falha2a" descr=""/>
          <p:cNvPicPr/>
          <p:nvPr/>
        </p:nvPicPr>
        <p:blipFill>
          <a:blip r:embed="rId9"/>
          <a:stretch/>
        </p:blipFill>
        <p:spPr>
          <a:xfrm>
            <a:off x="272880" y="2122560"/>
            <a:ext cx="3224520" cy="3878280"/>
          </a:xfrm>
          <a:prstGeom prst="rect">
            <a:avLst/>
          </a:prstGeom>
          <a:ln w="0">
            <a:noFill/>
          </a:ln>
        </p:spPr>
      </p:pic>
      <p:pic>
        <p:nvPicPr>
          <p:cNvPr id="1074" name="" descr=""/>
          <p:cNvPicPr/>
          <p:nvPr/>
        </p:nvPicPr>
        <p:blipFill>
          <a:blip r:embed="rId10"/>
          <a:stretch/>
        </p:blipFill>
        <p:spPr>
          <a:xfrm>
            <a:off x="6635880" y="1949400"/>
            <a:ext cx="358560" cy="2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85680" y="2320920"/>
            <a:ext cx="2557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jeto Inadequ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Construção Inadequ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Operação Incorr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Desgaste com U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Degradação Natural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47960" y="107460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Porque ocorrem falh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6948360" y="2211480"/>
            <a:ext cx="1150920" cy="52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7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8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0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642040" y="1109520"/>
            <a:ext cx="40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odelo em Malha Fech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3" name="" descr=""/>
          <p:cNvPicPr/>
          <p:nvPr/>
        </p:nvPicPr>
        <p:blipFill>
          <a:blip r:embed="rId4"/>
          <a:stretch/>
        </p:blipFill>
        <p:spPr>
          <a:xfrm>
            <a:off x="3689280" y="2171880"/>
            <a:ext cx="469800" cy="279360"/>
          </a:xfrm>
          <a:prstGeom prst="rect">
            <a:avLst/>
          </a:prstGeom>
          <a:ln w="0">
            <a:noFill/>
          </a:ln>
        </p:spPr>
      </p:pic>
      <p:sp>
        <p:nvSpPr>
          <p:cNvPr id="1084" name=""/>
          <p:cNvSpPr/>
          <p:nvPr/>
        </p:nvSpPr>
        <p:spPr>
          <a:xfrm>
            <a:off x="4325760" y="2292480"/>
            <a:ext cx="349560" cy="349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979880" y="2206800"/>
            <a:ext cx="598680" cy="52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977720" y="237024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NT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856120" y="2212920"/>
            <a:ext cx="787680" cy="52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849280" y="237024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O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8112240" y="248112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673520" y="24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573880" y="2481120"/>
            <a:ext cx="27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825720" y="2473200"/>
            <a:ext cx="50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034160" y="24400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98920" y="1827360"/>
            <a:ext cx="0" cy="46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498920" y="1832040"/>
            <a:ext cx="38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8350200" y="183528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8294760" y="24368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8" name="" descr=""/>
          <p:cNvPicPr/>
          <p:nvPr/>
        </p:nvPicPr>
        <p:blipFill>
          <a:blip r:embed="rId5"/>
          <a:stretch/>
        </p:blipFill>
        <p:spPr>
          <a:xfrm>
            <a:off x="8491680" y="2224080"/>
            <a:ext cx="164880" cy="16524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/>
          <p:nvPr/>
        </p:nvSpPr>
        <p:spPr>
          <a:xfrm>
            <a:off x="4356360" y="229860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0" name="" descr=""/>
          <p:cNvPicPr/>
          <p:nvPr/>
        </p:nvPicPr>
        <p:blipFill>
          <a:blip r:embed="rId6"/>
          <a:stretch/>
        </p:blipFill>
        <p:spPr>
          <a:xfrm>
            <a:off x="6910560" y="3106800"/>
            <a:ext cx="1298520" cy="428400"/>
          </a:xfrm>
          <a:prstGeom prst="rect">
            <a:avLst/>
          </a:prstGeom>
          <a:ln w="0">
            <a:noFill/>
          </a:ln>
        </p:spPr>
      </p:pic>
      <p:sp>
        <p:nvSpPr>
          <p:cNvPr id="1101" name=""/>
          <p:cNvSpPr/>
          <p:nvPr/>
        </p:nvSpPr>
        <p:spPr>
          <a:xfrm>
            <a:off x="6946920" y="2351160"/>
            <a:ext cx="116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tor + Car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778800" y="21765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556240" y="1930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683320" y="219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rot="16200000">
            <a:off x="7428600" y="2406960"/>
            <a:ext cx="160200" cy="1060560"/>
          </a:xfrm>
          <a:custGeom>
            <a:avLst/>
            <a:gdLst>
              <a:gd name="textAreaLeft" fmla="*/ 102240 w 160200"/>
              <a:gd name="textAreaRight" fmla="*/ 160560 w 160200"/>
              <a:gd name="textAreaTop" fmla="*/ 27360 h 1060560"/>
              <a:gd name="textAreaBottom" fmla="*/ 1033200 h 106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157640" y="1982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7" name="Falha2a" descr=""/>
          <p:cNvPicPr/>
          <p:nvPr/>
        </p:nvPicPr>
        <p:blipFill>
          <a:blip r:embed="rId7"/>
          <a:stretch/>
        </p:blipFill>
        <p:spPr>
          <a:xfrm>
            <a:off x="272880" y="2122560"/>
            <a:ext cx="3224520" cy="3878280"/>
          </a:xfrm>
          <a:prstGeom prst="rect">
            <a:avLst/>
          </a:prstGeom>
          <a:ln w="0">
            <a:noFill/>
          </a:ln>
        </p:spPr>
      </p:pic>
      <p:sp>
        <p:nvSpPr>
          <p:cNvPr id="1108" name=""/>
          <p:cNvSpPr/>
          <p:nvPr/>
        </p:nvSpPr>
        <p:spPr>
          <a:xfrm flipV="1">
            <a:off x="6640560" y="248292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9" name="" descr=""/>
          <p:cNvPicPr/>
          <p:nvPr/>
        </p:nvPicPr>
        <p:blipFill>
          <a:blip r:embed="rId8"/>
          <a:stretch/>
        </p:blipFill>
        <p:spPr>
          <a:xfrm>
            <a:off x="6635880" y="1949400"/>
            <a:ext cx="358560" cy="2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6948360" y="2211480"/>
            <a:ext cx="1150920" cy="52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2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3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5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642040" y="1109520"/>
            <a:ext cx="40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odelo em Malha Fech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8" name="" descr=""/>
          <p:cNvPicPr/>
          <p:nvPr/>
        </p:nvPicPr>
        <p:blipFill>
          <a:blip r:embed="rId4"/>
          <a:stretch/>
        </p:blipFill>
        <p:spPr>
          <a:xfrm>
            <a:off x="3689280" y="2171880"/>
            <a:ext cx="469800" cy="279360"/>
          </a:xfrm>
          <a:prstGeom prst="rect">
            <a:avLst/>
          </a:prstGeom>
          <a:ln w="0">
            <a:noFill/>
          </a:ln>
        </p:spPr>
      </p:pic>
      <p:sp>
        <p:nvSpPr>
          <p:cNvPr id="1119" name=""/>
          <p:cNvSpPr/>
          <p:nvPr/>
        </p:nvSpPr>
        <p:spPr>
          <a:xfrm>
            <a:off x="4325760" y="2292480"/>
            <a:ext cx="349560" cy="349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979880" y="2206800"/>
            <a:ext cx="598680" cy="52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977720" y="237024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NT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856120" y="2212920"/>
            <a:ext cx="787680" cy="52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849280" y="237024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O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8112240" y="248112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673520" y="24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573880" y="2481120"/>
            <a:ext cx="27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825720" y="2473200"/>
            <a:ext cx="50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034160" y="24400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498920" y="1827360"/>
            <a:ext cx="0" cy="46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498920" y="1832040"/>
            <a:ext cx="38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8350200" y="183528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8294760" y="24368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3" name="" descr=""/>
          <p:cNvPicPr/>
          <p:nvPr/>
        </p:nvPicPr>
        <p:blipFill>
          <a:blip r:embed="rId5"/>
          <a:stretch/>
        </p:blipFill>
        <p:spPr>
          <a:xfrm>
            <a:off x="8491680" y="2224080"/>
            <a:ext cx="164880" cy="165240"/>
          </a:xfrm>
          <a:prstGeom prst="rect">
            <a:avLst/>
          </a:prstGeom>
          <a:ln w="0">
            <a:noFill/>
          </a:ln>
        </p:spPr>
      </p:pic>
      <p:sp>
        <p:nvSpPr>
          <p:cNvPr id="1134" name=""/>
          <p:cNvSpPr/>
          <p:nvPr/>
        </p:nvSpPr>
        <p:spPr>
          <a:xfrm>
            <a:off x="4356360" y="229860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5" name="" descr=""/>
          <p:cNvPicPr/>
          <p:nvPr/>
        </p:nvPicPr>
        <p:blipFill>
          <a:blip r:embed="rId6"/>
          <a:stretch/>
        </p:blipFill>
        <p:spPr>
          <a:xfrm>
            <a:off x="6910560" y="3106800"/>
            <a:ext cx="1298520" cy="428400"/>
          </a:xfrm>
          <a:prstGeom prst="rect">
            <a:avLst/>
          </a:prstGeom>
          <a:ln w="0">
            <a:noFill/>
          </a:ln>
        </p:spPr>
      </p:pic>
      <p:sp>
        <p:nvSpPr>
          <p:cNvPr id="1136" name=""/>
          <p:cNvSpPr/>
          <p:nvPr/>
        </p:nvSpPr>
        <p:spPr>
          <a:xfrm>
            <a:off x="6946920" y="2351160"/>
            <a:ext cx="116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tor + Car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778800" y="21765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556240" y="1930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683320" y="219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rot="16200000">
            <a:off x="7428600" y="2406960"/>
            <a:ext cx="160200" cy="1060560"/>
          </a:xfrm>
          <a:custGeom>
            <a:avLst/>
            <a:gdLst>
              <a:gd name="textAreaLeft" fmla="*/ 102240 w 160200"/>
              <a:gd name="textAreaRight" fmla="*/ 160560 w 160200"/>
              <a:gd name="textAreaTop" fmla="*/ 27360 h 1060560"/>
              <a:gd name="textAreaBottom" fmla="*/ 1033200 h 106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rot="16200000">
            <a:off x="6203160" y="2414880"/>
            <a:ext cx="160200" cy="1060560"/>
          </a:xfrm>
          <a:custGeom>
            <a:avLst/>
            <a:gdLst>
              <a:gd name="textAreaLeft" fmla="*/ 102240 w 160200"/>
              <a:gd name="textAreaRight" fmla="*/ 160560 w 160200"/>
              <a:gd name="textAreaTop" fmla="*/ 27360 h 1060560"/>
              <a:gd name="textAreaBottom" fmla="*/ 1033200 h 106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2" name="" descr=""/>
          <p:cNvPicPr/>
          <p:nvPr/>
        </p:nvPicPr>
        <p:blipFill>
          <a:blip r:embed="rId7"/>
          <a:stretch/>
        </p:blipFill>
        <p:spPr>
          <a:xfrm>
            <a:off x="5864400" y="3192480"/>
            <a:ext cx="784080" cy="236520"/>
          </a:xfrm>
          <a:prstGeom prst="rect">
            <a:avLst/>
          </a:prstGeom>
          <a:ln w="0">
            <a:noFill/>
          </a:ln>
        </p:spPr>
      </p:pic>
      <p:sp>
        <p:nvSpPr>
          <p:cNvPr id="1143" name=""/>
          <p:cNvSpPr/>
          <p:nvPr/>
        </p:nvSpPr>
        <p:spPr>
          <a:xfrm>
            <a:off x="4157640" y="1982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4" name="Falha2a" descr=""/>
          <p:cNvPicPr/>
          <p:nvPr/>
        </p:nvPicPr>
        <p:blipFill>
          <a:blip r:embed="rId8"/>
          <a:stretch/>
        </p:blipFill>
        <p:spPr>
          <a:xfrm>
            <a:off x="272880" y="2122560"/>
            <a:ext cx="3224520" cy="3878280"/>
          </a:xfrm>
          <a:prstGeom prst="rect">
            <a:avLst/>
          </a:prstGeom>
          <a:ln w="0">
            <a:noFill/>
          </a:ln>
        </p:spPr>
      </p:pic>
      <p:sp>
        <p:nvSpPr>
          <p:cNvPr id="1145" name=""/>
          <p:cNvSpPr/>
          <p:nvPr/>
        </p:nvSpPr>
        <p:spPr>
          <a:xfrm flipV="1">
            <a:off x="6640560" y="248292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6" name="" descr=""/>
          <p:cNvPicPr/>
          <p:nvPr/>
        </p:nvPicPr>
        <p:blipFill>
          <a:blip r:embed="rId9"/>
          <a:stretch/>
        </p:blipFill>
        <p:spPr>
          <a:xfrm>
            <a:off x="6635880" y="1949400"/>
            <a:ext cx="358560" cy="2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/>
          <p:nvPr/>
        </p:nvSpPr>
        <p:spPr>
          <a:xfrm>
            <a:off x="6948360" y="2211480"/>
            <a:ext cx="1150920" cy="52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9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0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2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642040" y="1109520"/>
            <a:ext cx="40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odelo em Malha Fech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5" name="" descr=""/>
          <p:cNvPicPr/>
          <p:nvPr/>
        </p:nvPicPr>
        <p:blipFill>
          <a:blip r:embed="rId4"/>
          <a:stretch/>
        </p:blipFill>
        <p:spPr>
          <a:xfrm>
            <a:off x="3689280" y="2171880"/>
            <a:ext cx="469800" cy="279360"/>
          </a:xfrm>
          <a:prstGeom prst="rect">
            <a:avLst/>
          </a:prstGeom>
          <a:ln w="0">
            <a:noFill/>
          </a:ln>
        </p:spPr>
      </p:pic>
      <p:sp>
        <p:nvSpPr>
          <p:cNvPr id="1156" name=""/>
          <p:cNvSpPr/>
          <p:nvPr/>
        </p:nvSpPr>
        <p:spPr>
          <a:xfrm>
            <a:off x="4325760" y="2292480"/>
            <a:ext cx="349560" cy="349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979880" y="2206800"/>
            <a:ext cx="598680" cy="52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977720" y="237024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NT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856120" y="2212920"/>
            <a:ext cx="787680" cy="52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849280" y="237024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O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112240" y="248112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673520" y="24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573880" y="2481120"/>
            <a:ext cx="27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825720" y="2473200"/>
            <a:ext cx="50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034160" y="24400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498920" y="1827360"/>
            <a:ext cx="0" cy="46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498920" y="1832040"/>
            <a:ext cx="38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350200" y="183528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294760" y="24368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0" name="" descr=""/>
          <p:cNvPicPr/>
          <p:nvPr/>
        </p:nvPicPr>
        <p:blipFill>
          <a:blip r:embed="rId5"/>
          <a:stretch/>
        </p:blipFill>
        <p:spPr>
          <a:xfrm>
            <a:off x="8491680" y="2224080"/>
            <a:ext cx="164880" cy="165240"/>
          </a:xfrm>
          <a:prstGeom prst="rect">
            <a:avLst/>
          </a:prstGeom>
          <a:ln w="0">
            <a:noFill/>
          </a:ln>
        </p:spPr>
      </p:pic>
      <p:sp>
        <p:nvSpPr>
          <p:cNvPr id="1171" name=""/>
          <p:cNvSpPr/>
          <p:nvPr/>
        </p:nvSpPr>
        <p:spPr>
          <a:xfrm>
            <a:off x="4157640" y="1982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356360" y="229860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946920" y="2351160"/>
            <a:ext cx="116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tor + Car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778800" y="21765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556240" y="1930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683320" y="219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774600" y="3686040"/>
            <a:ext cx="2963520" cy="3070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ntrolador Proporcional +Integra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8" name="" descr=""/>
          <p:cNvPicPr/>
          <p:nvPr/>
        </p:nvPicPr>
        <p:blipFill>
          <a:blip r:embed="rId6"/>
          <a:stretch/>
        </p:blipFill>
        <p:spPr>
          <a:xfrm>
            <a:off x="6910560" y="3106800"/>
            <a:ext cx="1298520" cy="42840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 rot="16200000">
            <a:off x="7428600" y="2406960"/>
            <a:ext cx="160200" cy="1060560"/>
          </a:xfrm>
          <a:custGeom>
            <a:avLst/>
            <a:gdLst>
              <a:gd name="textAreaLeft" fmla="*/ 102240 w 160200"/>
              <a:gd name="textAreaRight" fmla="*/ 160560 w 160200"/>
              <a:gd name="textAreaTop" fmla="*/ 27360 h 1060560"/>
              <a:gd name="textAreaBottom" fmla="*/ 1033200 h 106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rot="16200000">
            <a:off x="6203160" y="2414880"/>
            <a:ext cx="160200" cy="1060560"/>
          </a:xfrm>
          <a:custGeom>
            <a:avLst/>
            <a:gdLst>
              <a:gd name="textAreaLeft" fmla="*/ 102240 w 160200"/>
              <a:gd name="textAreaRight" fmla="*/ 160560 w 160200"/>
              <a:gd name="textAreaTop" fmla="*/ 27360 h 1060560"/>
              <a:gd name="textAreaBottom" fmla="*/ 1033200 h 106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1" name="" descr=""/>
          <p:cNvPicPr/>
          <p:nvPr/>
        </p:nvPicPr>
        <p:blipFill>
          <a:blip r:embed="rId7"/>
          <a:stretch/>
        </p:blipFill>
        <p:spPr>
          <a:xfrm>
            <a:off x="5864400" y="3192480"/>
            <a:ext cx="784080" cy="236520"/>
          </a:xfrm>
          <a:prstGeom prst="rect">
            <a:avLst/>
          </a:prstGeom>
          <a:ln w="0">
            <a:noFill/>
          </a:ln>
        </p:spPr>
      </p:pic>
      <p:sp>
        <p:nvSpPr>
          <p:cNvPr id="1182" name=""/>
          <p:cNvSpPr/>
          <p:nvPr/>
        </p:nvSpPr>
        <p:spPr>
          <a:xfrm>
            <a:off x="4649760" y="1922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791240" y="2158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4367160" y="4732200"/>
            <a:ext cx="2129040" cy="1447920"/>
            <a:chOff x="4367160" y="4732200"/>
            <a:chExt cx="2129040" cy="1447920"/>
          </a:xfrm>
        </p:grpSpPr>
        <p:pic>
          <p:nvPicPr>
            <p:cNvPr id="1185" name="" descr=""/>
            <p:cNvPicPr/>
            <p:nvPr/>
          </p:nvPicPr>
          <p:blipFill>
            <a:blip r:embed="rId8"/>
            <a:stretch/>
          </p:blipFill>
          <p:spPr>
            <a:xfrm>
              <a:off x="5243400" y="4827600"/>
              <a:ext cx="125280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6" name="" descr=""/>
            <p:cNvPicPr/>
            <p:nvPr/>
          </p:nvPicPr>
          <p:blipFill>
            <a:blip r:embed="rId9"/>
            <a:stretch/>
          </p:blipFill>
          <p:spPr>
            <a:xfrm>
              <a:off x="4367160" y="5467320"/>
              <a:ext cx="160812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7" name=""/>
            <p:cNvSpPr/>
            <p:nvPr/>
          </p:nvSpPr>
          <p:spPr>
            <a:xfrm>
              <a:off x="5122800" y="4732200"/>
              <a:ext cx="0" cy="681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8" name="" descr=""/>
          <p:cNvPicPr/>
          <p:nvPr/>
        </p:nvPicPr>
        <p:blipFill>
          <a:blip r:embed="rId10"/>
          <a:stretch/>
        </p:blipFill>
        <p:spPr>
          <a:xfrm>
            <a:off x="4113360" y="4052880"/>
            <a:ext cx="2232000" cy="625320"/>
          </a:xfrm>
          <a:prstGeom prst="rect">
            <a:avLst/>
          </a:prstGeom>
          <a:ln w="0">
            <a:noFill/>
          </a:ln>
        </p:spPr>
      </p:pic>
      <p:pic>
        <p:nvPicPr>
          <p:cNvPr id="1189" name="Falha2a" descr=""/>
          <p:cNvPicPr/>
          <p:nvPr/>
        </p:nvPicPr>
        <p:blipFill>
          <a:blip r:embed="rId11"/>
          <a:stretch/>
        </p:blipFill>
        <p:spPr>
          <a:xfrm>
            <a:off x="272880" y="2122560"/>
            <a:ext cx="3224520" cy="3878280"/>
          </a:xfrm>
          <a:prstGeom prst="rect">
            <a:avLst/>
          </a:prstGeom>
          <a:ln w="0">
            <a:noFill/>
          </a:ln>
        </p:spPr>
      </p:pic>
      <p:sp>
        <p:nvSpPr>
          <p:cNvPr id="1190" name=""/>
          <p:cNvSpPr/>
          <p:nvPr/>
        </p:nvSpPr>
        <p:spPr>
          <a:xfrm flipV="1">
            <a:off x="6640560" y="248292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2"/>
          <a:stretch/>
        </p:blipFill>
        <p:spPr>
          <a:xfrm>
            <a:off x="6635880" y="1949400"/>
            <a:ext cx="358560" cy="2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948360" y="2211480"/>
            <a:ext cx="1150920" cy="52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4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5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7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642040" y="1109520"/>
            <a:ext cx="40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odelo em Malha Fech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0" name="" descr=""/>
          <p:cNvPicPr/>
          <p:nvPr/>
        </p:nvPicPr>
        <p:blipFill>
          <a:blip r:embed="rId4"/>
          <a:stretch/>
        </p:blipFill>
        <p:spPr>
          <a:xfrm>
            <a:off x="3689280" y="2171880"/>
            <a:ext cx="469800" cy="279360"/>
          </a:xfrm>
          <a:prstGeom prst="rect">
            <a:avLst/>
          </a:prstGeom>
          <a:ln w="0">
            <a:noFill/>
          </a:ln>
        </p:spPr>
      </p:pic>
      <p:sp>
        <p:nvSpPr>
          <p:cNvPr id="1201" name=""/>
          <p:cNvSpPr/>
          <p:nvPr/>
        </p:nvSpPr>
        <p:spPr>
          <a:xfrm>
            <a:off x="4325760" y="2292480"/>
            <a:ext cx="349560" cy="349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979880" y="2206800"/>
            <a:ext cx="598680" cy="52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977720" y="237024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NT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856120" y="2212920"/>
            <a:ext cx="787680" cy="52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849280" y="237024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O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8112240" y="248112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673520" y="24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573880" y="2481120"/>
            <a:ext cx="27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825720" y="2473200"/>
            <a:ext cx="50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034160" y="24400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498920" y="1827360"/>
            <a:ext cx="0" cy="46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498920" y="1832040"/>
            <a:ext cx="38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8350200" y="183528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8294760" y="24368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5" name="" descr=""/>
          <p:cNvPicPr/>
          <p:nvPr/>
        </p:nvPicPr>
        <p:blipFill>
          <a:blip r:embed="rId5"/>
          <a:stretch/>
        </p:blipFill>
        <p:spPr>
          <a:xfrm>
            <a:off x="8491680" y="2224080"/>
            <a:ext cx="164880" cy="165240"/>
          </a:xfrm>
          <a:prstGeom prst="rect">
            <a:avLst/>
          </a:prstGeom>
          <a:ln w="0">
            <a:noFill/>
          </a:ln>
        </p:spPr>
      </p:pic>
      <p:sp>
        <p:nvSpPr>
          <p:cNvPr id="1216" name=""/>
          <p:cNvSpPr/>
          <p:nvPr/>
        </p:nvSpPr>
        <p:spPr>
          <a:xfrm>
            <a:off x="4157640" y="1982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356360" y="229860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946920" y="2351160"/>
            <a:ext cx="116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tor + Car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778800" y="21765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6240" y="1930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683320" y="219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2" name="" descr=""/>
          <p:cNvPicPr/>
          <p:nvPr/>
        </p:nvPicPr>
        <p:blipFill>
          <a:blip r:embed="rId6"/>
          <a:stretch/>
        </p:blipFill>
        <p:spPr>
          <a:xfrm>
            <a:off x="6910560" y="3106800"/>
            <a:ext cx="1298520" cy="428400"/>
          </a:xfrm>
          <a:prstGeom prst="rect">
            <a:avLst/>
          </a:prstGeom>
          <a:ln w="0">
            <a:noFill/>
          </a:ln>
        </p:spPr>
      </p:pic>
      <p:sp>
        <p:nvSpPr>
          <p:cNvPr id="1223" name=""/>
          <p:cNvSpPr/>
          <p:nvPr/>
        </p:nvSpPr>
        <p:spPr>
          <a:xfrm rot="16200000">
            <a:off x="7428600" y="2406960"/>
            <a:ext cx="160200" cy="1060560"/>
          </a:xfrm>
          <a:custGeom>
            <a:avLst/>
            <a:gdLst>
              <a:gd name="textAreaLeft" fmla="*/ 102240 w 160200"/>
              <a:gd name="textAreaRight" fmla="*/ 160560 w 160200"/>
              <a:gd name="textAreaTop" fmla="*/ 27360 h 1060560"/>
              <a:gd name="textAreaBottom" fmla="*/ 1033200 h 106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rot="16200000">
            <a:off x="6203160" y="2414880"/>
            <a:ext cx="160200" cy="1060560"/>
          </a:xfrm>
          <a:custGeom>
            <a:avLst/>
            <a:gdLst>
              <a:gd name="textAreaLeft" fmla="*/ 102240 w 160200"/>
              <a:gd name="textAreaRight" fmla="*/ 160560 w 160200"/>
              <a:gd name="textAreaTop" fmla="*/ 27360 h 1060560"/>
              <a:gd name="textAreaBottom" fmla="*/ 1033200 h 106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5" name="" descr=""/>
          <p:cNvPicPr/>
          <p:nvPr/>
        </p:nvPicPr>
        <p:blipFill>
          <a:blip r:embed="rId7"/>
          <a:stretch/>
        </p:blipFill>
        <p:spPr>
          <a:xfrm>
            <a:off x="5864400" y="3192480"/>
            <a:ext cx="784080" cy="236520"/>
          </a:xfrm>
          <a:prstGeom prst="rect">
            <a:avLst/>
          </a:prstGeom>
          <a:ln w="0">
            <a:noFill/>
          </a:ln>
        </p:spPr>
      </p:pic>
      <p:sp>
        <p:nvSpPr>
          <p:cNvPr id="1226" name=""/>
          <p:cNvSpPr/>
          <p:nvPr/>
        </p:nvSpPr>
        <p:spPr>
          <a:xfrm>
            <a:off x="4649760" y="1922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791240" y="2158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09104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6797520" y="3665520"/>
            <a:ext cx="1760760" cy="1233360"/>
            <a:chOff x="6797520" y="3665520"/>
            <a:chExt cx="1760760" cy="1233360"/>
          </a:xfrm>
        </p:grpSpPr>
        <mc:AlternateContent>
          <mc:Choice xmlns:a14="http://schemas.microsoft.com/office/drawing/2010/main" Requires="a14">
            <p:sp>
              <p:nvSpPr>
                <p:cNvPr id="1230" name=""/>
                <p:cNvSpPr txBox="1"/>
                <p:nvPr/>
              </p:nvSpPr>
              <p:spPr>
                <a:xfrm>
                  <a:off x="7674120" y="3889440"/>
                  <a:ext cx="817560" cy="22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ω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pic>
          <p:nvPicPr>
            <p:cNvPr id="1231" name="" descr=""/>
            <p:cNvPicPr/>
            <p:nvPr/>
          </p:nvPicPr>
          <p:blipFill>
            <a:blip r:embed="rId8"/>
            <a:stretch/>
          </p:blipFill>
          <p:spPr>
            <a:xfrm>
              <a:off x="6797520" y="4467240"/>
              <a:ext cx="176076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2" name=""/>
            <p:cNvSpPr/>
            <p:nvPr/>
          </p:nvSpPr>
          <p:spPr>
            <a:xfrm>
              <a:off x="7556400" y="3665520"/>
              <a:ext cx="0" cy="681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3" name="Falha2a" descr=""/>
          <p:cNvPicPr/>
          <p:nvPr/>
        </p:nvPicPr>
        <p:blipFill>
          <a:blip r:embed="rId9"/>
          <a:stretch/>
        </p:blipFill>
        <p:spPr>
          <a:xfrm>
            <a:off x="272880" y="2122560"/>
            <a:ext cx="3224520" cy="3878280"/>
          </a:xfrm>
          <a:prstGeom prst="rect">
            <a:avLst/>
          </a:prstGeom>
          <a:ln w="0">
            <a:noFill/>
          </a:ln>
        </p:spPr>
      </p:pic>
      <p:sp>
        <p:nvSpPr>
          <p:cNvPr id="1234" name=""/>
          <p:cNvSpPr/>
          <p:nvPr/>
        </p:nvSpPr>
        <p:spPr>
          <a:xfrm flipV="1">
            <a:off x="6640560" y="248292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5" name="" descr=""/>
          <p:cNvPicPr/>
          <p:nvPr/>
        </p:nvPicPr>
        <p:blipFill>
          <a:blip r:embed="rId10"/>
          <a:stretch/>
        </p:blipFill>
        <p:spPr>
          <a:xfrm>
            <a:off x="6635880" y="1949400"/>
            <a:ext cx="358560" cy="2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"/>
          <p:cNvSpPr/>
          <p:nvPr/>
        </p:nvSpPr>
        <p:spPr>
          <a:xfrm>
            <a:off x="6948360" y="2211480"/>
            <a:ext cx="1150920" cy="52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9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1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642040" y="1109520"/>
            <a:ext cx="40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odelo em Malha Fech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4" name="" descr=""/>
          <p:cNvPicPr/>
          <p:nvPr/>
        </p:nvPicPr>
        <p:blipFill>
          <a:blip r:embed="rId4"/>
          <a:stretch/>
        </p:blipFill>
        <p:spPr>
          <a:xfrm>
            <a:off x="3689280" y="2171880"/>
            <a:ext cx="469800" cy="279360"/>
          </a:xfrm>
          <a:prstGeom prst="rect">
            <a:avLst/>
          </a:prstGeom>
          <a:ln w="0">
            <a:noFill/>
          </a:ln>
        </p:spPr>
      </p:pic>
      <p:sp>
        <p:nvSpPr>
          <p:cNvPr id="1245" name=""/>
          <p:cNvSpPr/>
          <p:nvPr/>
        </p:nvSpPr>
        <p:spPr>
          <a:xfrm>
            <a:off x="4325760" y="2292480"/>
            <a:ext cx="349560" cy="349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979880" y="2206800"/>
            <a:ext cx="598680" cy="52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977720" y="237024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NT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856120" y="2212920"/>
            <a:ext cx="787680" cy="52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849280" y="237024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O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8112240" y="248112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673520" y="24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573880" y="2481120"/>
            <a:ext cx="27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825720" y="2473200"/>
            <a:ext cx="50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034160" y="24400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98920" y="1827360"/>
            <a:ext cx="0" cy="46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498920" y="1832040"/>
            <a:ext cx="38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8350200" y="183528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8294760" y="24368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9" name="" descr=""/>
          <p:cNvPicPr/>
          <p:nvPr/>
        </p:nvPicPr>
        <p:blipFill>
          <a:blip r:embed="rId5"/>
          <a:stretch/>
        </p:blipFill>
        <p:spPr>
          <a:xfrm>
            <a:off x="8491680" y="2224080"/>
            <a:ext cx="164880" cy="165240"/>
          </a:xfrm>
          <a:prstGeom prst="rect">
            <a:avLst/>
          </a:prstGeom>
          <a:ln w="0">
            <a:noFill/>
          </a:ln>
        </p:spPr>
      </p:pic>
      <p:sp>
        <p:nvSpPr>
          <p:cNvPr id="1260" name=""/>
          <p:cNvSpPr/>
          <p:nvPr/>
        </p:nvSpPr>
        <p:spPr>
          <a:xfrm>
            <a:off x="4157640" y="1982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356360" y="229860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946920" y="2351160"/>
            <a:ext cx="116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tor + Car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778800" y="21765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556240" y="1930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683320" y="219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rot="16200000">
            <a:off x="6862680" y="1841040"/>
            <a:ext cx="160200" cy="2192400"/>
          </a:xfrm>
          <a:custGeom>
            <a:avLst/>
            <a:gdLst>
              <a:gd name="textAreaLeft" fmla="*/ 102240 w 160200"/>
              <a:gd name="textAreaRight" fmla="*/ 160560 w 160200"/>
              <a:gd name="textAreaTop" fmla="*/ 56880 h 2192400"/>
              <a:gd name="textAreaBottom" fmla="*/ 2135520 h 219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rot="16200000">
            <a:off x="5245200" y="2501640"/>
            <a:ext cx="160200" cy="887400"/>
          </a:xfrm>
          <a:custGeom>
            <a:avLst/>
            <a:gdLst>
              <a:gd name="textAreaLeft" fmla="*/ 102240 w 160200"/>
              <a:gd name="textAreaRight" fmla="*/ 160560 w 160200"/>
              <a:gd name="textAreaTop" fmla="*/ 23040 h 887400"/>
              <a:gd name="textAreaBottom" fmla="*/ 864360 h 88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649760" y="1922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791240" y="2158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0" name="" descr=""/>
          <p:cNvPicPr/>
          <p:nvPr/>
        </p:nvPicPr>
        <p:blipFill>
          <a:blip r:embed="rId6"/>
          <a:stretch/>
        </p:blipFill>
        <p:spPr>
          <a:xfrm>
            <a:off x="4467240" y="3044880"/>
            <a:ext cx="1608120" cy="712800"/>
          </a:xfrm>
          <a:prstGeom prst="rect">
            <a:avLst/>
          </a:prstGeom>
          <a:ln w="0">
            <a:noFill/>
          </a:ln>
        </p:spPr>
      </p:pic>
      <p:pic>
        <p:nvPicPr>
          <p:cNvPr id="1271" name="" descr=""/>
          <p:cNvPicPr/>
          <p:nvPr/>
        </p:nvPicPr>
        <p:blipFill>
          <a:blip r:embed="rId7"/>
          <a:stretch/>
        </p:blipFill>
        <p:spPr>
          <a:xfrm>
            <a:off x="6389640" y="3132000"/>
            <a:ext cx="1760760" cy="432000"/>
          </a:xfrm>
          <a:prstGeom prst="rect">
            <a:avLst/>
          </a:prstGeom>
          <a:ln w="0">
            <a:noFill/>
          </a:ln>
        </p:spPr>
      </p:pic>
      <p:grpSp>
        <p:nvGrpSpPr>
          <p:cNvPr id="1272" name=""/>
          <p:cNvGrpSpPr/>
          <p:nvPr/>
        </p:nvGrpSpPr>
        <p:grpSpPr>
          <a:xfrm>
            <a:off x="4255920" y="3808440"/>
            <a:ext cx="4283280" cy="1363680"/>
            <a:chOff x="4255920" y="3808440"/>
            <a:chExt cx="4283280" cy="1363680"/>
          </a:xfrm>
        </p:grpSpPr>
        <p:pic>
          <p:nvPicPr>
            <p:cNvPr id="1273" name="" descr=""/>
            <p:cNvPicPr/>
            <p:nvPr/>
          </p:nvPicPr>
          <p:blipFill>
            <a:blip r:embed="rId8"/>
            <a:stretch/>
          </p:blipFill>
          <p:spPr>
            <a:xfrm>
              <a:off x="6564240" y="4178160"/>
              <a:ext cx="161280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 rot="16200000">
              <a:off x="6281640" y="1782720"/>
              <a:ext cx="231840" cy="4283280"/>
            </a:xfrm>
            <a:custGeom>
              <a:avLst/>
              <a:gdLst>
                <a:gd name="textAreaLeft" fmla="*/ 148320 w 231840"/>
                <a:gd name="textAreaRight" fmla="*/ 232200 w 231840"/>
                <a:gd name="textAreaTop" fmla="*/ 111600 h 4283280"/>
                <a:gd name="textAreaBottom" fmla="*/ 4171680 h 428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416640" y="4135320"/>
              <a:ext cx="0" cy="3477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6" name="" descr=""/>
            <p:cNvPicPr/>
            <p:nvPr/>
          </p:nvPicPr>
          <p:blipFill>
            <a:blip r:embed="rId9"/>
            <a:stretch/>
          </p:blipFill>
          <p:spPr>
            <a:xfrm>
              <a:off x="4570560" y="4653000"/>
              <a:ext cx="3786120" cy="51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7" name=""/>
          <p:cNvGrpSpPr/>
          <p:nvPr/>
        </p:nvGrpSpPr>
        <p:grpSpPr>
          <a:xfrm>
            <a:off x="5273640" y="5200560"/>
            <a:ext cx="2604960" cy="1243080"/>
            <a:chOff x="5273640" y="5200560"/>
            <a:chExt cx="2604960" cy="1243080"/>
          </a:xfrm>
        </p:grpSpPr>
        <p:grpSp>
          <p:nvGrpSpPr>
            <p:cNvPr id="1278" name=""/>
            <p:cNvGrpSpPr/>
            <p:nvPr/>
          </p:nvGrpSpPr>
          <p:grpSpPr>
            <a:xfrm>
              <a:off x="5273640" y="5200560"/>
              <a:ext cx="2604960" cy="461160"/>
              <a:chOff x="5273640" y="5200560"/>
              <a:chExt cx="2604960" cy="461160"/>
            </a:xfrm>
          </p:grpSpPr>
          <p:sp>
            <p:nvSpPr>
              <p:cNvPr id="1279" name=""/>
              <p:cNvSpPr/>
              <p:nvPr/>
            </p:nvSpPr>
            <p:spPr>
              <a:xfrm rot="16200000">
                <a:off x="5999040" y="4475160"/>
                <a:ext cx="160560" cy="1611360"/>
              </a:xfrm>
              <a:custGeom>
                <a:avLst/>
                <a:gdLst>
                  <a:gd name="textAreaLeft" fmla="*/ 102600 w 160560"/>
                  <a:gd name="textAreaRight" fmla="*/ 160920 w 160560"/>
                  <a:gd name="textAreaTop" fmla="*/ 41760 h 1611360"/>
                  <a:gd name="textAreaBottom" fmla="*/ 1569600 h 161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16200000">
                <a:off x="7581600" y="5041800"/>
                <a:ext cx="115920" cy="477720"/>
              </a:xfrm>
              <a:custGeom>
                <a:avLst/>
                <a:gdLst>
                  <a:gd name="textAreaLeft" fmla="*/ 74160 w 115920"/>
                  <a:gd name="textAreaRight" fmla="*/ 116280 w 115920"/>
                  <a:gd name="textAreaTop" fmla="*/ 12240 h 477720"/>
                  <a:gd name="textAreaBottom" fmla="*/ 465480 h 47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950080" y="535464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515360" y="5326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3" name=""/>
            <p:cNvGrpSpPr/>
            <p:nvPr/>
          </p:nvGrpSpPr>
          <p:grpSpPr>
            <a:xfrm>
              <a:off x="6046920" y="5624640"/>
              <a:ext cx="996840" cy="819000"/>
              <a:chOff x="6046920" y="5624640"/>
              <a:chExt cx="996840" cy="819000"/>
            </a:xfrm>
          </p:grpSpPr>
          <p:pic>
            <p:nvPicPr>
              <p:cNvPr id="128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046920" y="6010200"/>
                <a:ext cx="996840" cy="4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5" name=""/>
              <p:cNvSpPr/>
              <p:nvPr/>
            </p:nvSpPr>
            <p:spPr>
              <a:xfrm>
                <a:off x="6451560" y="5624640"/>
                <a:ext cx="0" cy="347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86" name="Falha2a" descr=""/>
          <p:cNvPicPr/>
          <p:nvPr/>
        </p:nvPicPr>
        <p:blipFill>
          <a:blip r:embed="rId11"/>
          <a:stretch/>
        </p:blipFill>
        <p:spPr>
          <a:xfrm>
            <a:off x="272880" y="2122560"/>
            <a:ext cx="3224520" cy="3878280"/>
          </a:xfrm>
          <a:prstGeom prst="rect">
            <a:avLst/>
          </a:prstGeom>
          <a:ln w="0">
            <a:noFill/>
          </a:ln>
        </p:spPr>
      </p:pic>
      <p:sp>
        <p:nvSpPr>
          <p:cNvPr id="1287" name=""/>
          <p:cNvSpPr/>
          <p:nvPr/>
        </p:nvSpPr>
        <p:spPr>
          <a:xfrm flipV="1">
            <a:off x="6640560" y="248292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8" name="" descr=""/>
          <p:cNvPicPr/>
          <p:nvPr/>
        </p:nvPicPr>
        <p:blipFill>
          <a:blip r:embed="rId12"/>
          <a:stretch/>
        </p:blipFill>
        <p:spPr>
          <a:xfrm>
            <a:off x="6635880" y="1949400"/>
            <a:ext cx="358560" cy="2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948360" y="2211480"/>
            <a:ext cx="1150920" cy="52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1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2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4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642040" y="1109520"/>
            <a:ext cx="40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odelo em Malha Fech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" descr=""/>
          <p:cNvPicPr/>
          <p:nvPr/>
        </p:nvPicPr>
        <p:blipFill>
          <a:blip r:embed="rId4"/>
          <a:stretch/>
        </p:blipFill>
        <p:spPr>
          <a:xfrm>
            <a:off x="3689280" y="2171880"/>
            <a:ext cx="469800" cy="279360"/>
          </a:xfrm>
          <a:prstGeom prst="rect">
            <a:avLst/>
          </a:prstGeom>
          <a:ln w="0">
            <a:noFill/>
          </a:ln>
        </p:spPr>
      </p:pic>
      <p:sp>
        <p:nvSpPr>
          <p:cNvPr id="1298" name=""/>
          <p:cNvSpPr/>
          <p:nvPr/>
        </p:nvSpPr>
        <p:spPr>
          <a:xfrm>
            <a:off x="4325760" y="2292480"/>
            <a:ext cx="349560" cy="349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979880" y="2206800"/>
            <a:ext cx="598680" cy="52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977720" y="237024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NT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856120" y="2212920"/>
            <a:ext cx="787680" cy="52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849280" y="237024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O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8112240" y="248112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673520" y="24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573880" y="2481120"/>
            <a:ext cx="27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825720" y="2473200"/>
            <a:ext cx="50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034160" y="24400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498920" y="1827360"/>
            <a:ext cx="0" cy="46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498920" y="1832040"/>
            <a:ext cx="38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8350200" y="183528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8294760" y="24368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2" name="" descr=""/>
          <p:cNvPicPr/>
          <p:nvPr/>
        </p:nvPicPr>
        <p:blipFill>
          <a:blip r:embed="rId5"/>
          <a:stretch/>
        </p:blipFill>
        <p:spPr>
          <a:xfrm>
            <a:off x="8491680" y="2224080"/>
            <a:ext cx="164880" cy="165240"/>
          </a:xfrm>
          <a:prstGeom prst="rect">
            <a:avLst/>
          </a:prstGeom>
          <a:ln w="0">
            <a:noFill/>
          </a:ln>
        </p:spPr>
      </p:pic>
      <p:sp>
        <p:nvSpPr>
          <p:cNvPr id="1313" name=""/>
          <p:cNvSpPr/>
          <p:nvPr/>
        </p:nvSpPr>
        <p:spPr>
          <a:xfrm>
            <a:off x="4157640" y="1982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356360" y="229860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946920" y="2351160"/>
            <a:ext cx="116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tor + Car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778800" y="21765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556240" y="1930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683320" y="219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649760" y="1922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91240" y="2158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rot="16200000">
            <a:off x="6265800" y="838080"/>
            <a:ext cx="231840" cy="4283280"/>
          </a:xfrm>
          <a:custGeom>
            <a:avLst/>
            <a:gdLst>
              <a:gd name="textAreaLeft" fmla="*/ 148320 w 231840"/>
              <a:gd name="textAreaRight" fmla="*/ 232200 w 231840"/>
              <a:gd name="textAreaTop" fmla="*/ 111600 h 4283280"/>
              <a:gd name="textAreaBottom" fmla="*/ 4171680 h 428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2" name="" descr=""/>
          <p:cNvPicPr/>
          <p:nvPr/>
        </p:nvPicPr>
        <p:blipFill>
          <a:blip r:embed="rId6"/>
          <a:stretch/>
        </p:blipFill>
        <p:spPr>
          <a:xfrm>
            <a:off x="5292720" y="3295800"/>
            <a:ext cx="996840" cy="433080"/>
          </a:xfrm>
          <a:prstGeom prst="rect">
            <a:avLst/>
          </a:prstGeom>
          <a:ln w="0">
            <a:noFill/>
          </a:ln>
        </p:spPr>
      </p:pic>
      <p:pic>
        <p:nvPicPr>
          <p:cNvPr id="1323" name="Falha2a" descr=""/>
          <p:cNvPicPr/>
          <p:nvPr/>
        </p:nvPicPr>
        <p:blipFill>
          <a:blip r:embed="rId7"/>
          <a:stretch/>
        </p:blipFill>
        <p:spPr>
          <a:xfrm>
            <a:off x="272880" y="2122560"/>
            <a:ext cx="3224520" cy="3878280"/>
          </a:xfrm>
          <a:prstGeom prst="rect">
            <a:avLst/>
          </a:prstGeom>
          <a:ln w="0">
            <a:noFill/>
          </a:ln>
        </p:spPr>
      </p:pic>
      <p:sp>
        <p:nvSpPr>
          <p:cNvPr id="1324" name=""/>
          <p:cNvSpPr/>
          <p:nvPr/>
        </p:nvSpPr>
        <p:spPr>
          <a:xfrm>
            <a:off x="4624560" y="5067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262400" y="4081320"/>
            <a:ext cx="4264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rá que é possível obter uma estimativa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t-BR" sz="1200" spc="-1" strike="noStrike" baseline="-25000">
                <a:solidFill>
                  <a:srgbClr val="000000"/>
                </a:solidFill>
                <a:latin typeface="Arial"/>
              </a:rPr>
              <a:t>mot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t)  a partirda medida somente de </a:t>
            </a:r>
            <a:r>
              <a:rPr b="0" lang="pt-BR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t) = y(t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6" name="" descr=""/>
          <p:cNvPicPr/>
          <p:nvPr/>
        </p:nvPicPr>
        <p:blipFill>
          <a:blip r:embed="rId8"/>
          <a:stretch/>
        </p:blipFill>
        <p:spPr>
          <a:xfrm>
            <a:off x="6456240" y="3235320"/>
            <a:ext cx="1335240" cy="581040"/>
          </a:xfrm>
          <a:prstGeom prst="rect">
            <a:avLst/>
          </a:prstGeom>
          <a:ln w="0">
            <a:noFill/>
          </a:ln>
        </p:spPr>
      </p:pic>
      <p:sp>
        <p:nvSpPr>
          <p:cNvPr id="1327" name=""/>
          <p:cNvSpPr/>
          <p:nvPr/>
        </p:nvSpPr>
        <p:spPr>
          <a:xfrm flipV="1">
            <a:off x="6640560" y="248292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8" name="" descr=""/>
          <p:cNvPicPr/>
          <p:nvPr/>
        </p:nvPicPr>
        <p:blipFill>
          <a:blip r:embed="rId9"/>
          <a:stretch/>
        </p:blipFill>
        <p:spPr>
          <a:xfrm>
            <a:off x="6635880" y="1949400"/>
            <a:ext cx="358560" cy="2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0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1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3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717280" y="110952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Observadores de 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610160" y="52419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7" name="" descr=""/>
          <p:cNvPicPr/>
          <p:nvPr/>
        </p:nvPicPr>
        <p:blipFill>
          <a:blip r:embed="rId4"/>
          <a:stretch/>
        </p:blipFill>
        <p:spPr>
          <a:xfrm>
            <a:off x="2913120" y="2255760"/>
            <a:ext cx="993600" cy="692280"/>
          </a:xfrm>
          <a:prstGeom prst="rect">
            <a:avLst/>
          </a:prstGeom>
          <a:ln w="0">
            <a:noFill/>
          </a:ln>
        </p:spPr>
      </p:pic>
      <p:pic>
        <p:nvPicPr>
          <p:cNvPr id="1338" name="" descr=""/>
          <p:cNvPicPr/>
          <p:nvPr/>
        </p:nvPicPr>
        <p:blipFill>
          <a:blip r:embed="rId5"/>
          <a:stretch/>
        </p:blipFill>
        <p:spPr>
          <a:xfrm>
            <a:off x="4896000" y="2243160"/>
            <a:ext cx="1695240" cy="690480"/>
          </a:xfrm>
          <a:prstGeom prst="rect">
            <a:avLst/>
          </a:prstGeom>
          <a:ln w="0">
            <a:noFill/>
          </a:ln>
        </p:spPr>
      </p:pic>
      <p:sp>
        <p:nvSpPr>
          <p:cNvPr id="1339" name=""/>
          <p:cNvSpPr/>
          <p:nvPr/>
        </p:nvSpPr>
        <p:spPr>
          <a:xfrm>
            <a:off x="2780640" y="190332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istema 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691880" y="188928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bservador de Es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1" name=""/>
          <p:cNvGrpSpPr/>
          <p:nvPr/>
        </p:nvGrpSpPr>
        <p:grpSpPr>
          <a:xfrm>
            <a:off x="2817720" y="3111480"/>
            <a:ext cx="3862440" cy="774720"/>
            <a:chOff x="2817720" y="3111480"/>
            <a:chExt cx="3862440" cy="774720"/>
          </a:xfrm>
        </p:grpSpPr>
        <p:pic>
          <p:nvPicPr>
            <p:cNvPr id="1342" name="" descr=""/>
            <p:cNvPicPr/>
            <p:nvPr/>
          </p:nvPicPr>
          <p:blipFill>
            <a:blip r:embed="rId6"/>
            <a:stretch/>
          </p:blipFill>
          <p:spPr>
            <a:xfrm>
              <a:off x="3382920" y="3454560"/>
              <a:ext cx="303696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3" name=""/>
            <p:cNvSpPr/>
            <p:nvPr/>
          </p:nvSpPr>
          <p:spPr>
            <a:xfrm rot="16200000">
              <a:off x="4632840" y="1296000"/>
              <a:ext cx="231840" cy="3862440"/>
            </a:xfrm>
            <a:custGeom>
              <a:avLst/>
              <a:gdLst>
                <a:gd name="textAreaLeft" fmla="*/ 148320 w 231840"/>
                <a:gd name="textAreaRight" fmla="*/ 232200 w 231840"/>
                <a:gd name="textAreaTop" fmla="*/ 100440 h 3862440"/>
                <a:gd name="textAreaBottom" fmla="*/ 3762000 h 386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3986280" y="4179960"/>
            <a:ext cx="1838160" cy="1173240"/>
            <a:chOff x="3986280" y="4179960"/>
            <a:chExt cx="1838160" cy="1173240"/>
          </a:xfrm>
        </p:grpSpPr>
        <p:pic>
          <p:nvPicPr>
            <p:cNvPr id="1345" name="" descr=""/>
            <p:cNvPicPr/>
            <p:nvPr/>
          </p:nvPicPr>
          <p:blipFill>
            <a:blip r:embed="rId7"/>
            <a:stretch/>
          </p:blipFill>
          <p:spPr>
            <a:xfrm>
              <a:off x="3986280" y="4179960"/>
              <a:ext cx="183816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6" name="" descr=""/>
            <p:cNvPicPr/>
            <p:nvPr/>
          </p:nvPicPr>
          <p:blipFill>
            <a:blip r:embed="rId8"/>
            <a:stretch/>
          </p:blipFill>
          <p:spPr>
            <a:xfrm>
              <a:off x="4341960" y="4921200"/>
              <a:ext cx="1079280" cy="4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7" name=""/>
          <p:cNvSpPr/>
          <p:nvPr/>
        </p:nvSpPr>
        <p:spPr>
          <a:xfrm>
            <a:off x="2957400" y="5700600"/>
            <a:ext cx="37958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(t) </a:t>
            </a:r>
            <a:r>
              <a:rPr b="0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0 se (A - LC) tiver auto-valores no SP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6948360" y="2211480"/>
            <a:ext cx="1150920" cy="52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0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1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3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642040" y="1109520"/>
            <a:ext cx="40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odelo em Malha Fech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6" name="" descr=""/>
          <p:cNvPicPr/>
          <p:nvPr/>
        </p:nvPicPr>
        <p:blipFill>
          <a:blip r:embed="rId4"/>
          <a:stretch/>
        </p:blipFill>
        <p:spPr>
          <a:xfrm>
            <a:off x="3689280" y="2171880"/>
            <a:ext cx="469800" cy="279360"/>
          </a:xfrm>
          <a:prstGeom prst="rect">
            <a:avLst/>
          </a:prstGeom>
          <a:ln w="0">
            <a:noFill/>
          </a:ln>
        </p:spPr>
      </p:pic>
      <p:sp>
        <p:nvSpPr>
          <p:cNvPr id="1357" name=""/>
          <p:cNvSpPr/>
          <p:nvPr/>
        </p:nvSpPr>
        <p:spPr>
          <a:xfrm>
            <a:off x="4325760" y="2292480"/>
            <a:ext cx="349560" cy="349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979880" y="2206800"/>
            <a:ext cx="598680" cy="52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977720" y="237024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NT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856120" y="2212920"/>
            <a:ext cx="787680" cy="52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849280" y="237024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O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112240" y="248112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673520" y="24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573880" y="2481120"/>
            <a:ext cx="27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825720" y="2473200"/>
            <a:ext cx="50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034160" y="24400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498920" y="1827360"/>
            <a:ext cx="0" cy="46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498920" y="1832040"/>
            <a:ext cx="38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8350200" y="183528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8294760" y="24368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1" name="" descr=""/>
          <p:cNvPicPr/>
          <p:nvPr/>
        </p:nvPicPr>
        <p:blipFill>
          <a:blip r:embed="rId5"/>
          <a:stretch/>
        </p:blipFill>
        <p:spPr>
          <a:xfrm>
            <a:off x="8491680" y="2224080"/>
            <a:ext cx="164880" cy="165240"/>
          </a:xfrm>
          <a:prstGeom prst="rect">
            <a:avLst/>
          </a:prstGeom>
          <a:ln w="0">
            <a:noFill/>
          </a:ln>
        </p:spPr>
      </p:pic>
      <p:sp>
        <p:nvSpPr>
          <p:cNvPr id="1372" name=""/>
          <p:cNvSpPr/>
          <p:nvPr/>
        </p:nvSpPr>
        <p:spPr>
          <a:xfrm>
            <a:off x="4157640" y="1982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356360" y="229860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946920" y="2351160"/>
            <a:ext cx="116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tor + Car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5" name="" descr=""/>
          <p:cNvPicPr/>
          <p:nvPr/>
        </p:nvPicPr>
        <p:blipFill>
          <a:blip r:embed="rId6"/>
          <a:stretch/>
        </p:blipFill>
        <p:spPr>
          <a:xfrm>
            <a:off x="6635880" y="1949400"/>
            <a:ext cx="358560" cy="231840"/>
          </a:xfrm>
          <a:prstGeom prst="rect">
            <a:avLst/>
          </a:prstGeom>
          <a:ln w="0">
            <a:noFill/>
          </a:ln>
        </p:spPr>
      </p:pic>
      <p:sp>
        <p:nvSpPr>
          <p:cNvPr id="1376" name=""/>
          <p:cNvSpPr/>
          <p:nvPr/>
        </p:nvSpPr>
        <p:spPr>
          <a:xfrm>
            <a:off x="6778800" y="21765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556240" y="1930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5683320" y="219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649760" y="1922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791240" y="2158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rot="16200000">
            <a:off x="6265800" y="838080"/>
            <a:ext cx="231840" cy="4283280"/>
          </a:xfrm>
          <a:custGeom>
            <a:avLst/>
            <a:gdLst>
              <a:gd name="textAreaLeft" fmla="*/ 148320 w 231840"/>
              <a:gd name="textAreaRight" fmla="*/ 232200 w 231840"/>
              <a:gd name="textAreaTop" fmla="*/ 111600 h 4283280"/>
              <a:gd name="textAreaBottom" fmla="*/ 4171680 h 428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7"/>
          <a:stretch/>
        </p:blipFill>
        <p:spPr>
          <a:xfrm>
            <a:off x="5292720" y="3295800"/>
            <a:ext cx="996840" cy="433080"/>
          </a:xfrm>
          <a:prstGeom prst="rect">
            <a:avLst/>
          </a:prstGeom>
          <a:ln w="0">
            <a:noFill/>
          </a:ln>
        </p:spPr>
      </p:pic>
      <p:pic>
        <p:nvPicPr>
          <p:cNvPr id="1383" name="Falha2a" descr=""/>
          <p:cNvPicPr/>
          <p:nvPr/>
        </p:nvPicPr>
        <p:blipFill>
          <a:blip r:embed="rId8"/>
          <a:stretch/>
        </p:blipFill>
        <p:spPr>
          <a:xfrm>
            <a:off x="272880" y="2122560"/>
            <a:ext cx="3224520" cy="3878280"/>
          </a:xfrm>
          <a:prstGeom prst="rect">
            <a:avLst/>
          </a:prstGeom>
          <a:ln w="0">
            <a:noFill/>
          </a:ln>
        </p:spPr>
      </p:pic>
      <p:sp>
        <p:nvSpPr>
          <p:cNvPr id="1384" name=""/>
          <p:cNvSpPr/>
          <p:nvPr/>
        </p:nvSpPr>
        <p:spPr>
          <a:xfrm>
            <a:off x="4624560" y="5067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262400" y="4081320"/>
            <a:ext cx="4264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rá que é possível obter uma estimativa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t-BR" sz="1200" spc="-1" strike="noStrike" baseline="-25000">
                <a:solidFill>
                  <a:srgbClr val="000000"/>
                </a:solidFill>
                <a:latin typeface="Arial"/>
              </a:rPr>
              <a:t>mot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t)  a partirda medida somente de </a:t>
            </a:r>
            <a:r>
              <a:rPr b="0" lang="pt-BR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t) = y(t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6" name="" descr=""/>
          <p:cNvPicPr/>
          <p:nvPr/>
        </p:nvPicPr>
        <p:blipFill>
          <a:blip r:embed="rId9"/>
          <a:stretch/>
        </p:blipFill>
        <p:spPr>
          <a:xfrm>
            <a:off x="6456240" y="3235320"/>
            <a:ext cx="1335240" cy="581040"/>
          </a:xfrm>
          <a:prstGeom prst="rect">
            <a:avLst/>
          </a:prstGeom>
          <a:ln w="0">
            <a:noFill/>
          </a:ln>
        </p:spPr>
      </p:pic>
      <p:pic>
        <p:nvPicPr>
          <p:cNvPr id="1387" name="" descr=""/>
          <p:cNvPicPr/>
          <p:nvPr/>
        </p:nvPicPr>
        <p:blipFill>
          <a:blip r:embed="rId10"/>
          <a:stretch/>
        </p:blipFill>
        <p:spPr>
          <a:xfrm>
            <a:off x="5106960" y="4735440"/>
            <a:ext cx="2641680" cy="625680"/>
          </a:xfrm>
          <a:prstGeom prst="rect">
            <a:avLst/>
          </a:prstGeom>
          <a:ln w="0">
            <a:noFill/>
          </a:ln>
        </p:spPr>
      </p:pic>
      <p:pic>
        <p:nvPicPr>
          <p:cNvPr id="1388" name="" descr=""/>
          <p:cNvPicPr/>
          <p:nvPr/>
        </p:nvPicPr>
        <p:blipFill>
          <a:blip r:embed="rId11"/>
          <a:stretch/>
        </p:blipFill>
        <p:spPr>
          <a:xfrm>
            <a:off x="5354640" y="5972040"/>
            <a:ext cx="2173320" cy="270000"/>
          </a:xfrm>
          <a:prstGeom prst="rect">
            <a:avLst/>
          </a:prstGeom>
          <a:ln w="0">
            <a:noFill/>
          </a:ln>
        </p:spPr>
      </p:pic>
      <p:sp>
        <p:nvSpPr>
          <p:cNvPr id="1389" name=""/>
          <p:cNvSpPr/>
          <p:nvPr/>
        </p:nvSpPr>
        <p:spPr>
          <a:xfrm>
            <a:off x="6400800" y="5370480"/>
            <a:ext cx="0" cy="507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520880" y="5451480"/>
            <a:ext cx="171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bservador de Es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6640560" y="248292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4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6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894320" y="2597040"/>
            <a:ext cx="6125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Dados de Popul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Dados de População + Condições de U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Dados históricos de  alguns sinais do componente part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ados de entrada e saída do sub-sistem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561040" y="107460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Seqüência de Apresen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450800" y="2511360"/>
            <a:ext cx="0" cy="2295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79520" y="202104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ais Informa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753640" y="4764240"/>
            <a:ext cx="256536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b2b2b2"/>
                </a:solidFill>
                <a:latin typeface="Arial"/>
              </a:rPr>
              <a:t>Identificação Paramétric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b2b2b2"/>
                </a:solidFill>
                <a:latin typeface="Arial"/>
              </a:rPr>
              <a:t>Observadores de Est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3333cc"/>
                </a:solidFill>
                <a:latin typeface="Arial"/>
              </a:rPr>
              <a:t>Relações de Parida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4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5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7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9" name="motocargbat" descr=""/>
          <p:cNvPicPr/>
          <p:nvPr/>
        </p:nvPicPr>
        <p:blipFill>
          <a:blip r:embed="rId4"/>
          <a:stretch/>
        </p:blipFill>
        <p:spPr>
          <a:xfrm>
            <a:off x="4486320" y="1741320"/>
            <a:ext cx="3365280" cy="1200240"/>
          </a:xfrm>
          <a:prstGeom prst="rect">
            <a:avLst/>
          </a:prstGeom>
          <a:ln w="0">
            <a:noFill/>
          </a:ln>
        </p:spPr>
      </p:pic>
      <p:pic>
        <p:nvPicPr>
          <p:cNvPr id="1410" name="falha1e" descr=""/>
          <p:cNvPicPr/>
          <p:nvPr/>
        </p:nvPicPr>
        <p:blipFill>
          <a:blip r:embed="rId5"/>
          <a:stretch/>
        </p:blipFill>
        <p:spPr>
          <a:xfrm>
            <a:off x="236520" y="2158920"/>
            <a:ext cx="3263760" cy="3664080"/>
          </a:xfrm>
          <a:prstGeom prst="rect">
            <a:avLst/>
          </a:prstGeom>
          <a:ln w="0">
            <a:noFill/>
          </a:ln>
        </p:spPr>
      </p:pic>
      <p:sp>
        <p:nvSpPr>
          <p:cNvPr id="1411" name=""/>
          <p:cNvSpPr/>
          <p:nvPr/>
        </p:nvSpPr>
        <p:spPr>
          <a:xfrm>
            <a:off x="2308320" y="1127160"/>
            <a:ext cx="46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odelo Dinâmico Discret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2" name="" descr=""/>
          <p:cNvPicPr/>
          <p:nvPr/>
        </p:nvPicPr>
        <p:blipFill>
          <a:blip r:embed="rId6"/>
          <a:stretch/>
        </p:blipFill>
        <p:spPr>
          <a:xfrm>
            <a:off x="4576680" y="3327480"/>
            <a:ext cx="2908440" cy="476280"/>
          </a:xfrm>
          <a:prstGeom prst="rect">
            <a:avLst/>
          </a:prstGeom>
          <a:ln w="0">
            <a:noFill/>
          </a:ln>
        </p:spPr>
      </p:pic>
      <p:pic>
        <p:nvPicPr>
          <p:cNvPr id="1413" name="" descr=""/>
          <p:cNvPicPr/>
          <p:nvPr/>
        </p:nvPicPr>
        <p:blipFill>
          <a:blip r:embed="rId7"/>
          <a:stretch/>
        </p:blipFill>
        <p:spPr>
          <a:xfrm>
            <a:off x="4348080" y="4083120"/>
            <a:ext cx="3473640" cy="476280"/>
          </a:xfrm>
          <a:prstGeom prst="rect">
            <a:avLst/>
          </a:prstGeom>
          <a:ln w="0">
            <a:noFill/>
          </a:ln>
        </p:spPr>
      </p:pic>
      <p:pic>
        <p:nvPicPr>
          <p:cNvPr id="1414" name="" descr=""/>
          <p:cNvPicPr/>
          <p:nvPr/>
        </p:nvPicPr>
        <p:blipFill>
          <a:blip r:embed="rId8"/>
          <a:stretch/>
        </p:blipFill>
        <p:spPr>
          <a:xfrm>
            <a:off x="5423040" y="5129280"/>
            <a:ext cx="1320840" cy="226800"/>
          </a:xfrm>
          <a:prstGeom prst="rect">
            <a:avLst/>
          </a:prstGeom>
          <a:ln w="0">
            <a:noFill/>
          </a:ln>
        </p:spPr>
      </p:pic>
      <p:grpSp>
        <p:nvGrpSpPr>
          <p:cNvPr id="1415" name=""/>
          <p:cNvGrpSpPr/>
          <p:nvPr/>
        </p:nvGrpSpPr>
        <p:grpSpPr>
          <a:xfrm>
            <a:off x="4478400" y="4560840"/>
            <a:ext cx="2655720" cy="462600"/>
            <a:chOff x="4478400" y="4560840"/>
            <a:chExt cx="2655720" cy="462600"/>
          </a:xfrm>
        </p:grpSpPr>
        <p:sp>
          <p:nvSpPr>
            <p:cNvPr id="1416" name=""/>
            <p:cNvSpPr/>
            <p:nvPr/>
          </p:nvSpPr>
          <p:spPr>
            <a:xfrm rot="16200000">
              <a:off x="5617440" y="4364280"/>
              <a:ext cx="160200" cy="597240"/>
            </a:xfrm>
            <a:custGeom>
              <a:avLst/>
              <a:gdLst>
                <a:gd name="textAreaLeft" fmla="*/ 102240 w 160200"/>
                <a:gd name="textAreaRight" fmla="*/ 160560 w 160200"/>
                <a:gd name="textAreaTop" fmla="*/ 15480 h 597240"/>
                <a:gd name="textAreaBottom" fmla="*/ 581760 h 59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rot="16200000">
              <a:off x="6828480" y="4415760"/>
              <a:ext cx="160560" cy="450720"/>
            </a:xfrm>
            <a:custGeom>
              <a:avLst/>
              <a:gdLst>
                <a:gd name="textAreaLeft" fmla="*/ 102600 w 160560"/>
                <a:gd name="textAreaRight" fmla="*/ 160920 w 160560"/>
                <a:gd name="textAreaTop" fmla="*/ 11520 h 450720"/>
                <a:gd name="textAreaBottom" fmla="*/ 439200 h 45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569200" y="47163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775560" y="46879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rot="16200000">
              <a:off x="4696560" y="4358520"/>
              <a:ext cx="160560" cy="596880"/>
            </a:xfrm>
            <a:custGeom>
              <a:avLst/>
              <a:gdLst>
                <a:gd name="textAreaLeft" fmla="*/ 102600 w 160560"/>
                <a:gd name="textAreaRight" fmla="*/ 160920 w 160560"/>
                <a:gd name="textAreaTop" fmla="*/ 15480 h 596880"/>
                <a:gd name="textAreaBottom" fmla="*/ 58140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1" name="" descr=""/>
            <p:cNvPicPr/>
            <p:nvPr/>
          </p:nvPicPr>
          <p:blipFill>
            <a:blip r:embed="rId9"/>
            <a:stretch/>
          </p:blipFill>
          <p:spPr>
            <a:xfrm>
              <a:off x="4638600" y="4751280"/>
              <a:ext cx="355680" cy="22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2" name=""/>
          <p:cNvGrpSpPr/>
          <p:nvPr/>
        </p:nvGrpSpPr>
        <p:grpSpPr>
          <a:xfrm>
            <a:off x="5251320" y="5457960"/>
            <a:ext cx="1959120" cy="871560"/>
            <a:chOff x="5251320" y="5457960"/>
            <a:chExt cx="1959120" cy="871560"/>
          </a:xfrm>
        </p:grpSpPr>
        <p:sp>
          <p:nvSpPr>
            <p:cNvPr id="1423" name=""/>
            <p:cNvSpPr/>
            <p:nvPr/>
          </p:nvSpPr>
          <p:spPr>
            <a:xfrm>
              <a:off x="6207120" y="5532480"/>
              <a:ext cx="100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Falha Lf</a:t>
              </a:r>
              <a:r>
                <a:rPr b="0" lang="pt-BR" sz="14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095880" y="5457960"/>
              <a:ext cx="0" cy="493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5" name="" descr=""/>
            <p:cNvPicPr/>
            <p:nvPr/>
          </p:nvPicPr>
          <p:blipFill>
            <a:blip r:embed="rId10"/>
            <a:stretch/>
          </p:blipFill>
          <p:spPr>
            <a:xfrm>
              <a:off x="5251320" y="6102360"/>
              <a:ext cx="1710000" cy="22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78400" y="2597040"/>
            <a:ext cx="6125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ados de Popul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ados de População + Condições de U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ados históricos de  alguns sinais do componente part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ados de entrada e saída do sub-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61040" y="107460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Seqüência de Apresen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50800" y="2192400"/>
            <a:ext cx="0" cy="31208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8200" y="175896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ais Informa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7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8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0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308320" y="1127160"/>
            <a:ext cx="46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odelo Dinâmico Discret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3" name="" descr=""/>
          <p:cNvPicPr/>
          <p:nvPr/>
        </p:nvPicPr>
        <p:blipFill>
          <a:blip r:embed="rId4"/>
          <a:stretch/>
        </p:blipFill>
        <p:spPr>
          <a:xfrm>
            <a:off x="2187720" y="1849320"/>
            <a:ext cx="1320480" cy="227160"/>
          </a:xfrm>
          <a:prstGeom prst="rect">
            <a:avLst/>
          </a:prstGeom>
          <a:ln w="0">
            <a:noFill/>
          </a:ln>
        </p:spPr>
      </p:pic>
      <p:sp>
        <p:nvSpPr>
          <p:cNvPr id="1434" name=""/>
          <p:cNvSpPr/>
          <p:nvPr/>
        </p:nvSpPr>
        <p:spPr>
          <a:xfrm>
            <a:off x="1097640" y="180036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em falh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5" name=""/>
          <p:cNvGrpSpPr/>
          <p:nvPr/>
        </p:nvGrpSpPr>
        <p:grpSpPr>
          <a:xfrm>
            <a:off x="1214280" y="4610160"/>
            <a:ext cx="3497400" cy="509040"/>
            <a:chOff x="1214280" y="4610160"/>
            <a:chExt cx="3497400" cy="509040"/>
          </a:xfrm>
        </p:grpSpPr>
        <p:sp>
          <p:nvSpPr>
            <p:cNvPr id="1436" name=""/>
            <p:cNvSpPr/>
            <p:nvPr/>
          </p:nvSpPr>
          <p:spPr>
            <a:xfrm rot="16200000">
              <a:off x="1900800" y="4494960"/>
              <a:ext cx="146160" cy="379080"/>
            </a:xfrm>
            <a:custGeom>
              <a:avLst/>
              <a:gdLst>
                <a:gd name="textAreaLeft" fmla="*/ 93600 w 146160"/>
                <a:gd name="textAreaRight" fmla="*/ 146520 w 146160"/>
                <a:gd name="textAreaTop" fmla="*/ 9720 h 379080"/>
                <a:gd name="textAreaBottom" fmla="*/ 369360 h 37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rot="16200000">
              <a:off x="3229560" y="3950280"/>
              <a:ext cx="160560" cy="1482840"/>
            </a:xfrm>
            <a:custGeom>
              <a:avLst/>
              <a:gdLst>
                <a:gd name="textAreaLeft" fmla="*/ 102600 w 160560"/>
                <a:gd name="textAreaRight" fmla="*/ 160920 w 160560"/>
                <a:gd name="textAreaTop" fmla="*/ 38520 h 1482840"/>
                <a:gd name="textAreaBottom" fmla="*/ 1444320 h 148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823760" y="477684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159000" y="479124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rot="16200000">
              <a:off x="1342080" y="4501440"/>
              <a:ext cx="146160" cy="379440"/>
            </a:xfrm>
            <a:custGeom>
              <a:avLst/>
              <a:gdLst>
                <a:gd name="textAreaLeft" fmla="*/ 93600 w 146160"/>
                <a:gd name="textAreaRight" fmla="*/ 146520 w 146160"/>
                <a:gd name="textAreaTop" fmla="*/ 9720 h 379440"/>
                <a:gd name="textAreaBottom" fmla="*/ 369720 h 37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rot="16200000">
              <a:off x="4310640" y="4493520"/>
              <a:ext cx="146160" cy="379440"/>
            </a:xfrm>
            <a:custGeom>
              <a:avLst/>
              <a:gdLst>
                <a:gd name="textAreaLeft" fmla="*/ 93600 w 146160"/>
                <a:gd name="textAreaRight" fmla="*/ 146520 w 146160"/>
                <a:gd name="textAreaTop" fmla="*/ 9720 h 379440"/>
                <a:gd name="textAreaBottom" fmla="*/ 369720 h 37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214280" y="4778280"/>
              <a:ext cx="543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pt-BR" sz="1400" spc="-1" strike="noStrike" baseline="-25000">
                  <a:solidFill>
                    <a:srgbClr val="000000"/>
                  </a:solidFill>
                  <a:latin typeface="Arial"/>
                </a:rPr>
                <a:t>k+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168800" y="4782960"/>
              <a:ext cx="542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pt-BR" sz="1400" spc="-1" strike="noStrike" baseline="-25000">
                  <a:solidFill>
                    <a:srgbClr val="000000"/>
                  </a:solidFill>
                  <a:latin typeface="Arial"/>
                </a:rPr>
                <a:t>k+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44" name="" descr=""/>
          <p:cNvPicPr/>
          <p:nvPr/>
        </p:nvPicPr>
        <p:blipFill>
          <a:blip r:embed="rId5"/>
          <a:stretch/>
        </p:blipFill>
        <p:spPr>
          <a:xfrm>
            <a:off x="1209600" y="5211720"/>
            <a:ext cx="1270080" cy="258840"/>
          </a:xfrm>
          <a:prstGeom prst="rect">
            <a:avLst/>
          </a:prstGeom>
          <a:ln w="0">
            <a:noFill/>
          </a:ln>
        </p:spPr>
      </p:pic>
      <p:pic>
        <p:nvPicPr>
          <p:cNvPr id="1445" name="" descr=""/>
          <p:cNvPicPr/>
          <p:nvPr/>
        </p:nvPicPr>
        <p:blipFill>
          <a:blip r:embed="rId6"/>
          <a:stretch/>
        </p:blipFill>
        <p:spPr>
          <a:xfrm>
            <a:off x="1192320" y="3614760"/>
            <a:ext cx="3479760" cy="923760"/>
          </a:xfrm>
          <a:prstGeom prst="rect">
            <a:avLst/>
          </a:prstGeom>
          <a:ln w="0">
            <a:noFill/>
          </a:ln>
        </p:spPr>
      </p:pic>
      <p:pic>
        <p:nvPicPr>
          <p:cNvPr id="1446" name="" descr=""/>
          <p:cNvPicPr/>
          <p:nvPr/>
        </p:nvPicPr>
        <p:blipFill>
          <a:blip r:embed="rId7"/>
          <a:stretch/>
        </p:blipFill>
        <p:spPr>
          <a:xfrm>
            <a:off x="1193760" y="2238480"/>
            <a:ext cx="5127840" cy="1144440"/>
          </a:xfrm>
          <a:prstGeom prst="rect">
            <a:avLst/>
          </a:prstGeom>
          <a:ln w="0">
            <a:noFill/>
          </a:ln>
        </p:spPr>
      </p:pic>
      <p:grpSp>
        <p:nvGrpSpPr>
          <p:cNvPr id="1447" name=""/>
          <p:cNvGrpSpPr/>
          <p:nvPr/>
        </p:nvGrpSpPr>
        <p:grpSpPr>
          <a:xfrm>
            <a:off x="1126440" y="5559480"/>
            <a:ext cx="2504160" cy="668160"/>
            <a:chOff x="1126440" y="5559480"/>
            <a:chExt cx="2504160" cy="668160"/>
          </a:xfrm>
        </p:grpSpPr>
        <p:sp>
          <p:nvSpPr>
            <p:cNvPr id="1448" name=""/>
            <p:cNvSpPr/>
            <p:nvPr/>
          </p:nvSpPr>
          <p:spPr>
            <a:xfrm>
              <a:off x="1127880" y="5559480"/>
              <a:ext cx="203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Seja W tal que W</a:t>
              </a:r>
              <a:r>
                <a:rPr b="0" lang="pt-BR" sz="1400" spc="-1" strike="noStrike" baseline="30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T =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126440" y="590724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ntão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0" name="" descr=""/>
            <p:cNvPicPr/>
            <p:nvPr/>
          </p:nvPicPr>
          <p:blipFill>
            <a:blip r:embed="rId8"/>
            <a:stretch/>
          </p:blipFill>
          <p:spPr>
            <a:xfrm>
              <a:off x="1820880" y="5925960"/>
              <a:ext cx="1809720" cy="301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2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3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5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308320" y="1127160"/>
            <a:ext cx="46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odelo Dinâmico Discret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8" name="" descr=""/>
          <p:cNvPicPr/>
          <p:nvPr/>
        </p:nvPicPr>
        <p:blipFill>
          <a:blip r:embed="rId4"/>
          <a:stretch/>
        </p:blipFill>
        <p:spPr>
          <a:xfrm>
            <a:off x="2195640" y="2184480"/>
            <a:ext cx="1709640" cy="226800"/>
          </a:xfrm>
          <a:prstGeom prst="rect">
            <a:avLst/>
          </a:prstGeom>
          <a:ln w="0">
            <a:noFill/>
          </a:ln>
        </p:spPr>
      </p:pic>
      <p:sp>
        <p:nvSpPr>
          <p:cNvPr id="1459" name=""/>
          <p:cNvSpPr/>
          <p:nvPr/>
        </p:nvSpPr>
        <p:spPr>
          <a:xfrm>
            <a:off x="1159560" y="214956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 falh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069920" y="4730760"/>
            <a:ext cx="7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o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1" name="" descr=""/>
          <p:cNvPicPr/>
          <p:nvPr/>
        </p:nvPicPr>
        <p:blipFill>
          <a:blip r:embed="rId5"/>
          <a:stretch/>
        </p:blipFill>
        <p:spPr>
          <a:xfrm>
            <a:off x="1835280" y="4749840"/>
            <a:ext cx="1522440" cy="301680"/>
          </a:xfrm>
          <a:prstGeom prst="rect">
            <a:avLst/>
          </a:prstGeom>
          <a:ln w="0">
            <a:noFill/>
          </a:ln>
        </p:spPr>
      </p:pic>
      <p:sp>
        <p:nvSpPr>
          <p:cNvPr id="1462" name=""/>
          <p:cNvSpPr/>
          <p:nvPr/>
        </p:nvSpPr>
        <p:spPr>
          <a:xfrm rot="16200000">
            <a:off x="1872360" y="3550320"/>
            <a:ext cx="146160" cy="379440"/>
          </a:xfrm>
          <a:custGeom>
            <a:avLst/>
            <a:gdLst>
              <a:gd name="textAreaLeft" fmla="*/ 93600 w 146160"/>
              <a:gd name="textAreaRight" fmla="*/ 146520 w 146160"/>
              <a:gd name="textAreaTop" fmla="*/ 9720 h 379440"/>
              <a:gd name="textAreaBottom" fmla="*/ 369720 h 37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rot="16200000">
            <a:off x="3201120" y="3006000"/>
            <a:ext cx="160560" cy="1482480"/>
          </a:xfrm>
          <a:custGeom>
            <a:avLst/>
            <a:gdLst>
              <a:gd name="textAreaLeft" fmla="*/ 102600 w 160560"/>
              <a:gd name="textAreaRight" fmla="*/ 160920 w 160560"/>
              <a:gd name="textAreaTop" fmla="*/ 38520 h 1482480"/>
              <a:gd name="textAreaBottom" fmla="*/ 1443960 h 148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795320" y="38322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130560" y="384660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rot="16200000">
            <a:off x="1313640" y="3556800"/>
            <a:ext cx="146160" cy="379440"/>
          </a:xfrm>
          <a:custGeom>
            <a:avLst/>
            <a:gdLst>
              <a:gd name="textAreaLeft" fmla="*/ 93600 w 146160"/>
              <a:gd name="textAreaRight" fmla="*/ 146520 w 146160"/>
              <a:gd name="textAreaTop" fmla="*/ 9720 h 379440"/>
              <a:gd name="textAreaBottom" fmla="*/ 369720 h 37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rot="16200000">
            <a:off x="4282200" y="3548880"/>
            <a:ext cx="146160" cy="379440"/>
          </a:xfrm>
          <a:custGeom>
            <a:avLst/>
            <a:gdLst>
              <a:gd name="textAreaLeft" fmla="*/ 93600 w 146160"/>
              <a:gd name="textAreaRight" fmla="*/ 146520 w 146160"/>
              <a:gd name="textAreaTop" fmla="*/ 9720 h 379440"/>
              <a:gd name="textAreaBottom" fmla="*/ 369720 h 37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185840" y="3833640"/>
            <a:ext cx="542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k+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140360" y="3838680"/>
            <a:ext cx="542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k+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0" name="" descr=""/>
          <p:cNvPicPr/>
          <p:nvPr/>
        </p:nvPicPr>
        <p:blipFill>
          <a:blip r:embed="rId6"/>
          <a:stretch/>
        </p:blipFill>
        <p:spPr>
          <a:xfrm>
            <a:off x="1158840" y="2671920"/>
            <a:ext cx="5761080" cy="923760"/>
          </a:xfrm>
          <a:prstGeom prst="rect">
            <a:avLst/>
          </a:prstGeom>
          <a:ln w="0">
            <a:noFill/>
          </a:ln>
        </p:spPr>
      </p:pic>
      <p:sp>
        <p:nvSpPr>
          <p:cNvPr id="1471" name=""/>
          <p:cNvSpPr/>
          <p:nvPr/>
        </p:nvSpPr>
        <p:spPr>
          <a:xfrm rot="16200000">
            <a:off x="5529960" y="2998080"/>
            <a:ext cx="160560" cy="1482480"/>
          </a:xfrm>
          <a:custGeom>
            <a:avLst/>
            <a:gdLst>
              <a:gd name="textAreaLeft" fmla="*/ 102600 w 160560"/>
              <a:gd name="textAreaRight" fmla="*/ 160920 w 160560"/>
              <a:gd name="textAreaTop" fmla="*/ 38520 h 1482480"/>
              <a:gd name="textAreaBottom" fmla="*/ 1443960 h 148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459400" y="38386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rot="16200000">
            <a:off x="6611040" y="3540960"/>
            <a:ext cx="146160" cy="379440"/>
          </a:xfrm>
          <a:custGeom>
            <a:avLst/>
            <a:gdLst>
              <a:gd name="textAreaLeft" fmla="*/ 93600 w 146160"/>
              <a:gd name="textAreaRight" fmla="*/ 146520 w 146160"/>
              <a:gd name="textAreaTop" fmla="*/ 9720 h 379440"/>
              <a:gd name="textAreaBottom" fmla="*/ 369720 h 37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469200" y="3830760"/>
            <a:ext cx="542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k+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5" name="" descr=""/>
          <p:cNvPicPr/>
          <p:nvPr/>
        </p:nvPicPr>
        <p:blipFill>
          <a:blip r:embed="rId7"/>
          <a:stretch/>
        </p:blipFill>
        <p:spPr>
          <a:xfrm>
            <a:off x="1160640" y="4354560"/>
            <a:ext cx="1723680" cy="258840"/>
          </a:xfrm>
          <a:prstGeom prst="rect">
            <a:avLst/>
          </a:prstGeom>
          <a:ln w="0">
            <a:noFill/>
          </a:ln>
        </p:spPr>
      </p:pic>
      <p:pic>
        <p:nvPicPr>
          <p:cNvPr id="1476" name="" descr=""/>
          <p:cNvPicPr/>
          <p:nvPr/>
        </p:nvPicPr>
        <p:blipFill>
          <a:blip r:embed="rId8"/>
          <a:stretch/>
        </p:blipFill>
        <p:spPr>
          <a:xfrm>
            <a:off x="1173240" y="5202360"/>
            <a:ext cx="83808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8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9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1" name=""/>
          <p:cNvSpPr/>
          <p:nvPr/>
        </p:nvSpPr>
        <p:spPr>
          <a:xfrm>
            <a:off x="8097120" y="65833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cc"/>
                </a:solidFill>
                <a:latin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894320" y="2597040"/>
            <a:ext cx="6125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ados de Popul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ados de População + Condições de U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ados históricos de  alguns sinais do componente part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ados de entrada e saída do sub-sistem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2561040" y="107460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Seqüência de Apresen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450800" y="2511360"/>
            <a:ext cx="0" cy="2295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79520" y="202104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ais Informa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753640" y="4764240"/>
            <a:ext cx="256536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3333cc"/>
                </a:solidFill>
                <a:latin typeface="Arial"/>
              </a:rPr>
              <a:t>Identificação Paramétric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3333cc"/>
                </a:solidFill>
                <a:latin typeface="Arial"/>
              </a:rPr>
              <a:t>Observadores de Est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3333cc"/>
                </a:solidFill>
                <a:latin typeface="Arial"/>
              </a:rPr>
              <a:t>Relações de Parida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0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1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3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925720" y="3322800"/>
            <a:ext cx="35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"/>
              </a:rPr>
              <a:t>Muito Obrigado!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78400" y="2597040"/>
            <a:ext cx="6125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ados de Popul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Dados de População + Condições de U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Dados históricos de  alguns sinais do componente part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Dados de entrada e saída do sub-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61040" y="107460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Seqüência de Apresen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50800" y="2192400"/>
            <a:ext cx="0" cy="31208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8200" y="175896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ais Informa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5040" y="108252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Informações de Popu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25480" y="47466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67080" y="3643200"/>
            <a:ext cx="30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11440" y="3454560"/>
            <a:ext cx="0" cy="279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11440" y="3946680"/>
            <a:ext cx="14670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17920" y="4505400"/>
            <a:ext cx="10605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0280" y="5429160"/>
            <a:ext cx="1994040" cy="4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19360" y="6000840"/>
            <a:ext cx="15973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69480" y="33829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falha1g" descr=""/>
          <p:cNvPicPr/>
          <p:nvPr/>
        </p:nvPicPr>
        <p:blipFill>
          <a:blip r:embed="rId4"/>
          <a:stretch/>
        </p:blipFill>
        <p:spPr>
          <a:xfrm>
            <a:off x="1998720" y="3706920"/>
            <a:ext cx="1332000" cy="2649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363840" y="3094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63840" y="2965320"/>
            <a:ext cx="30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513240" y="1768320"/>
            <a:ext cx="0" cy="130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014720" y="2152800"/>
            <a:ext cx="1571760" cy="811080"/>
            <a:chOff x="4014720" y="2152800"/>
            <a:chExt cx="1571760" cy="811080"/>
          </a:xfrm>
        </p:grpSpPr>
        <p:sp>
          <p:nvSpPr>
            <p:cNvPr id="110" name=""/>
            <p:cNvSpPr/>
            <p:nvPr/>
          </p:nvSpPr>
          <p:spPr>
            <a:xfrm>
              <a:off x="4014720" y="2695680"/>
              <a:ext cx="262080" cy="26820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76800" y="2394000"/>
              <a:ext cx="261720" cy="56844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38520" y="2152800"/>
              <a:ext cx="262080" cy="8110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00600" y="2470320"/>
              <a:ext cx="262080" cy="492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62680" y="2666880"/>
              <a:ext cx="261720" cy="29700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24400" y="2803680"/>
              <a:ext cx="262080" cy="15876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540960" y="16113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  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4720" y="1770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42480" y="26575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05040" y="108252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Informações de Popu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513240" y="1768320"/>
            <a:ext cx="0" cy="130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14720" y="2695680"/>
            <a:ext cx="262080" cy="268200"/>
          </a:xfrm>
          <a:prstGeom prst="rect">
            <a:avLst/>
          </a:prstGeom>
          <a:noFill/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76800" y="2394000"/>
            <a:ext cx="261720" cy="568440"/>
          </a:xfrm>
          <a:prstGeom prst="rect">
            <a:avLst/>
          </a:prstGeom>
          <a:noFill/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38520" y="2152800"/>
            <a:ext cx="262080" cy="811080"/>
          </a:xfrm>
          <a:prstGeom prst="rect">
            <a:avLst/>
          </a:prstGeom>
          <a:noFill/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2473200"/>
            <a:ext cx="262080" cy="492120"/>
          </a:xfrm>
          <a:prstGeom prst="rect">
            <a:avLst/>
          </a:prstGeom>
          <a:noFill/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62680" y="2666880"/>
            <a:ext cx="261720" cy="297000"/>
          </a:xfrm>
          <a:prstGeom prst="rect">
            <a:avLst/>
          </a:prstGeom>
          <a:noFill/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24400" y="2805120"/>
            <a:ext cx="262080" cy="158760"/>
          </a:xfrm>
          <a:prstGeom prst="rect">
            <a:avLst/>
          </a:prstGeom>
          <a:noFill/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40960" y="16113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  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4720" y="1770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42480" y="26575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63840" y="2965320"/>
            <a:ext cx="30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5200" y="2070000"/>
            <a:ext cx="2305080" cy="892440"/>
          </a:xfrm>
          <a:custGeom>
            <a:avLst/>
            <a:gdLst/>
            <a:ahLst/>
            <a:rect l="l" t="t" r="r" b="b"/>
            <a:pathLst>
              <a:path w="1452" h="562">
                <a:moveTo>
                  <a:pt x="0" y="562"/>
                </a:moveTo>
                <a:cubicBezTo>
                  <a:pt x="30" y="543"/>
                  <a:pt x="116" y="510"/>
                  <a:pt x="180" y="448"/>
                </a:cubicBezTo>
                <a:cubicBezTo>
                  <a:pt x="267" y="361"/>
                  <a:pt x="321" y="286"/>
                  <a:pt x="384" y="187"/>
                </a:cubicBezTo>
                <a:cubicBezTo>
                  <a:pt x="447" y="88"/>
                  <a:pt x="489" y="0"/>
                  <a:pt x="555" y="25"/>
                </a:cubicBezTo>
                <a:cubicBezTo>
                  <a:pt x="621" y="50"/>
                  <a:pt x="654" y="226"/>
                  <a:pt x="783" y="340"/>
                </a:cubicBezTo>
                <a:cubicBezTo>
                  <a:pt x="912" y="454"/>
                  <a:pt x="999" y="458"/>
                  <a:pt x="1110" y="490"/>
                </a:cubicBezTo>
                <a:cubicBezTo>
                  <a:pt x="1221" y="522"/>
                  <a:pt x="1395" y="528"/>
                  <a:pt x="1452" y="535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3200" y="226368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nsidade de Probabili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72480" y="3075120"/>
            <a:ext cx="5886360" cy="1463040"/>
            <a:chOff x="672480" y="3075120"/>
            <a:chExt cx="5886360" cy="1463040"/>
          </a:xfrm>
        </p:grpSpPr>
        <p:sp>
          <p:nvSpPr>
            <p:cNvPr id="140" name=""/>
            <p:cNvSpPr/>
            <p:nvPr/>
          </p:nvSpPr>
          <p:spPr>
            <a:xfrm>
              <a:off x="3516480" y="3075120"/>
              <a:ext cx="76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F  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672480" y="3209760"/>
              <a:ext cx="5886360" cy="1328400"/>
              <a:chOff x="672480" y="3209760"/>
              <a:chExt cx="5886360" cy="1328400"/>
            </a:xfrm>
          </p:grpSpPr>
          <p:sp>
            <p:nvSpPr>
              <p:cNvPr id="142" name=""/>
              <p:cNvSpPr/>
              <p:nvPr/>
            </p:nvSpPr>
            <p:spPr>
              <a:xfrm flipV="1">
                <a:off x="3492360" y="3231720"/>
                <a:ext cx="0" cy="13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634200" y="320976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321600" y="4121280"/>
                <a:ext cx="23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343320" y="4429080"/>
                <a:ext cx="30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492360" y="3576600"/>
                <a:ext cx="2603520" cy="871560"/>
              </a:xfrm>
              <a:custGeom>
                <a:avLst/>
                <a:gdLst/>
                <a:ahLst/>
                <a:rect l="l" t="t" r="r" b="b"/>
                <a:pathLst>
                  <a:path w="1456" h="549">
                    <a:moveTo>
                      <a:pt x="0" y="535"/>
                    </a:moveTo>
                    <a:cubicBezTo>
                      <a:pt x="58" y="530"/>
                      <a:pt x="245" y="549"/>
                      <a:pt x="350" y="503"/>
                    </a:cubicBezTo>
                    <a:cubicBezTo>
                      <a:pt x="480" y="466"/>
                      <a:pt x="505" y="384"/>
                      <a:pt x="633" y="256"/>
                    </a:cubicBezTo>
                    <a:cubicBezTo>
                      <a:pt x="761" y="128"/>
                      <a:pt x="807" y="119"/>
                      <a:pt x="926" y="64"/>
                    </a:cubicBezTo>
                    <a:cubicBezTo>
                      <a:pt x="1045" y="9"/>
                      <a:pt x="1346" y="13"/>
                      <a:pt x="1456" y="0"/>
                    </a:cubicBezTo>
                  </a:path>
                </a:pathLst>
              </a:custGeom>
              <a:noFill/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363840" y="3570120"/>
                <a:ext cx="2725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72480" y="3998880"/>
                <a:ext cx="250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Distribuição de Probabilida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090960" y="3402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773280" y="4605480"/>
            <a:ext cx="5792040" cy="1819800"/>
            <a:chOff x="773280" y="4605480"/>
            <a:chExt cx="5792040" cy="1819800"/>
          </a:xfrm>
        </p:grpSpPr>
        <p:sp>
          <p:nvSpPr>
            <p:cNvPr id="151" name=""/>
            <p:cNvSpPr/>
            <p:nvPr/>
          </p:nvSpPr>
          <p:spPr>
            <a:xfrm>
              <a:off x="3522600" y="4605480"/>
              <a:ext cx="180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R(t) = 1 – F  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773280" y="4749840"/>
              <a:ext cx="5792040" cy="1675440"/>
              <a:chOff x="773280" y="4749840"/>
              <a:chExt cx="5792040" cy="1675440"/>
            </a:xfrm>
          </p:grpSpPr>
          <p:sp>
            <p:nvSpPr>
              <p:cNvPr id="153" name=""/>
              <p:cNvSpPr/>
              <p:nvPr/>
            </p:nvSpPr>
            <p:spPr>
              <a:xfrm>
                <a:off x="3370320" y="5121360"/>
                <a:ext cx="27255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349800" y="6087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3498840" y="4762080"/>
                <a:ext cx="0" cy="13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8080" y="5651640"/>
                <a:ext cx="23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343320" y="5978520"/>
                <a:ext cx="30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3492360" y="5099760"/>
                <a:ext cx="2610000" cy="878040"/>
              </a:xfrm>
              <a:custGeom>
                <a:avLst/>
                <a:gdLst/>
                <a:ahLst/>
                <a:rect l="l" t="t" r="r" b="b"/>
                <a:pathLst>
                  <a:path w="1456" h="549">
                    <a:moveTo>
                      <a:pt x="0" y="535"/>
                    </a:moveTo>
                    <a:cubicBezTo>
                      <a:pt x="58" y="530"/>
                      <a:pt x="245" y="549"/>
                      <a:pt x="350" y="503"/>
                    </a:cubicBezTo>
                    <a:cubicBezTo>
                      <a:pt x="480" y="466"/>
                      <a:pt x="505" y="384"/>
                      <a:pt x="633" y="256"/>
                    </a:cubicBezTo>
                    <a:cubicBezTo>
                      <a:pt x="761" y="128"/>
                      <a:pt x="807" y="119"/>
                      <a:pt x="926" y="64"/>
                    </a:cubicBezTo>
                    <a:cubicBezTo>
                      <a:pt x="1045" y="9"/>
                      <a:pt x="1346" y="13"/>
                      <a:pt x="1456" y="0"/>
                    </a:cubicBezTo>
                  </a:path>
                </a:pathLst>
              </a:custGeom>
              <a:noFill/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097440" y="49323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555080" y="474984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73280" y="5415120"/>
                <a:ext cx="2203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Função de Confiabilida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04200" y="227160"/>
            <a:ext cx="32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todologias Gerais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24720" y="11113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62080" y="187164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6440" y="1682640"/>
            <a:ext cx="0" cy="212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06440" y="2174760"/>
            <a:ext cx="3636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12920" y="2428920"/>
            <a:ext cx="654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11120" y="2892600"/>
            <a:ext cx="1660680" cy="1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16160" y="2660760"/>
            <a:ext cx="11016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88360" y="1887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24040" y="200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96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95960" y="31798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.744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70640" y="294804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.051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33520" y="27162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763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82720" y="24811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49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31920" y="22496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257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314360" y="3104640"/>
            <a:ext cx="2185920" cy="1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16160" y="3355920"/>
            <a:ext cx="3063600" cy="1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182600" y="2862360"/>
            <a:ext cx="7302600" cy="3044880"/>
            <a:chOff x="1182600" y="2862360"/>
            <a:chExt cx="7302600" cy="3044880"/>
          </a:xfrm>
        </p:grpSpPr>
        <p:pic>
          <p:nvPicPr>
            <p:cNvPr id="185" name="" descr=""/>
            <p:cNvPicPr/>
            <p:nvPr/>
          </p:nvPicPr>
          <p:blipFill>
            <a:blip r:embed="rId4"/>
            <a:stretch/>
          </p:blipFill>
          <p:spPr>
            <a:xfrm>
              <a:off x="6084720" y="3565440"/>
              <a:ext cx="240048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1182600" y="5711760"/>
              <a:ext cx="36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1308240" y="4064040"/>
              <a:ext cx="0" cy="18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66040" y="537840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9160" y="3921120"/>
              <a:ext cx="84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log R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93040" y="2862360"/>
              <a:ext cx="1102680" cy="176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11023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11023822"/>
                </a:path>
              </a:pathLst>
            </a:custGeom>
            <a:noFill/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79880" y="5041800"/>
            <a:ext cx="7411680" cy="1404000"/>
            <a:chOff x="479880" y="5041800"/>
            <a:chExt cx="7411680" cy="1404000"/>
          </a:xfrm>
        </p:grpSpPr>
        <p:pic>
          <p:nvPicPr>
            <p:cNvPr id="192" name="" descr=""/>
            <p:cNvPicPr/>
            <p:nvPr/>
          </p:nvPicPr>
          <p:blipFill>
            <a:blip r:embed="rId5"/>
            <a:stretch/>
          </p:blipFill>
          <p:spPr>
            <a:xfrm>
              <a:off x="5846760" y="5762520"/>
              <a:ext cx="2044800" cy="5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206360" y="5180040"/>
              <a:ext cx="249552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87840" y="5180040"/>
              <a:ext cx="0" cy="53820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9880" y="5041800"/>
              <a:ext cx="72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log 0.3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69640" y="5869080"/>
              <a:ext cx="155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 = 833 e </a:t>
              </a:r>
              <a:r>
                <a:rPr b="0" lang="pt-BR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= 0.00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762080" y="6008760"/>
              <a:ext cx="85572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366720" y="6138720"/>
              <a:ext cx="65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3300"/>
                  </a:solidFill>
                  <a:latin typeface="Arial"/>
                </a:rPr>
                <a:t>MTT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64920" y="4290840"/>
            <a:ext cx="3878640" cy="1152720"/>
            <a:chOff x="664920" y="4290840"/>
            <a:chExt cx="3878640" cy="1152720"/>
          </a:xfrm>
        </p:grpSpPr>
        <p:sp>
          <p:nvSpPr>
            <p:cNvPr id="200" name=""/>
            <p:cNvSpPr/>
            <p:nvPr/>
          </p:nvSpPr>
          <p:spPr>
            <a:xfrm>
              <a:off x="664920" y="429084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08240" y="4441680"/>
              <a:ext cx="3235320" cy="1001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68600" y="4484520"/>
              <a:ext cx="117360" cy="11772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65240" y="4653000"/>
              <a:ext cx="117720" cy="11736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09920" y="5267160"/>
              <a:ext cx="117720" cy="11772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28840" y="4594320"/>
              <a:ext cx="117360" cy="11736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95480" y="4940280"/>
              <a:ext cx="117720" cy="11736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89400" y="4971960"/>
              <a:ext cx="117360" cy="11772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5T22:36:58Z</dcterms:created>
  <dc:creator>Otto Gotlieb</dc:creator>
  <dc:description/>
  <dc:language>en-US</dc:language>
  <cp:lastModifiedBy>Takashi Yoneyama</cp:lastModifiedBy>
  <dcterms:modified xsi:type="dcterms:W3CDTF">2006-09-28T10:24:15Z</dcterms:modified>
  <cp:revision>42</cp:revision>
  <dc:subject/>
  <dc:title>PowerPoint Presentation</dc:title>
</cp:coreProperties>
</file>