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34.wmf" ContentType="image/x-wmf"/>
  <Override PartName="/ppt/media/image35.wmf" ContentType="image/x-wmf"/>
  <Override PartName="/ppt/media/image37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5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44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10.png" ContentType="image/png"/>
  <Override PartName="/ppt/media/image47.png" ContentType="image/png"/>
  <Override PartName="/ppt/media/image49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40.png" ContentType="image/png"/>
  <Override PartName="/ppt/media/image3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8D6-4021-4C3A-B4F0-8106BB89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F16-A948-4584-8EF7-03679CB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B78-F02F-4410-90C0-66689253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1BF-471D-481B-A76B-4D6458C1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A32-9EE7-426F-8C11-71300A07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C7D-3A02-451D-8298-E79726CE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AAD-3BA5-4EEE-9966-E9F8BB23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414-B91E-4988-B203-8A79DD14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019-28F8-4262-ADA0-47CE6CDE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314-4110-484A-9F47-9E339B4A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1C1-F623-4A16-A23C-46346A5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923-5D6E-4DB0-A620-DB17B76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0BCF-7845-4FDA-803C-EBB72206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6.wmf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6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8.png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65960" y="285840"/>
            <a:ext cx="24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nálise de Sé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Tempor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62200" y="2593800"/>
            <a:ext cx="3288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1: Igual à semana anterior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2: Média de 5 semanas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3: Tendência de 8 semanas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4: Sazonal de 5 semanas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5: Tendência de 3 semanas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6: Média de R1 a R5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057400"/>
            <a:ext cx="3047760" cy="876240"/>
          </a:xfrm>
          <a:prstGeom prst="wedgeRoundRectCallout">
            <a:avLst>
              <a:gd name="adj1" fmla="val 64115"/>
              <a:gd name="adj2" fmla="val 99638"/>
              <a:gd name="adj3" fmla="val 16667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Qual a melhor previsã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33800" y="2571840"/>
            <a:ext cx="285840" cy="1600200"/>
          </a:xfrm>
          <a:custGeom>
            <a:avLst/>
            <a:gdLst>
              <a:gd name="textAreaLeft" fmla="*/ 182520 w 285840"/>
              <a:gd name="textAreaRight" fmla="*/ 286200 w 285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080" y="4210200"/>
            <a:ext cx="4705200" cy="1942920"/>
          </a:xfrm>
          <a:prstGeom prst="wedgeRoundRectCallout">
            <a:avLst>
              <a:gd name="adj1" fmla="val 42643"/>
              <a:gd name="adj2" fmla="val -85703"/>
              <a:gd name="adj3" fmla="val 16667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e todos os irlandeses dispuserem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um preditor acurad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todos eles freqüentariam o Bar El Fa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o dia onde a previsão se aproxima de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8720" y="1527120"/>
            <a:ext cx="74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cc"/>
                </a:solidFill>
                <a:uFillTx/>
                <a:latin typeface="Arial"/>
              </a:rPr>
              <a:t>Série temporal</a:t>
            </a:r>
            <a:r>
              <a:rPr b="1" lang="pt-BR" sz="1600" spc="-1" strike="noStrike">
                <a:solidFill>
                  <a:srgbClr val="0000cc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0000cc"/>
                </a:solidFill>
                <a:latin typeface="Arial"/>
              </a:rPr>
              <a:t>Conjunto de valores de uma grandeza gerada  seqüencialmente no temp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87680" y="2727360"/>
            <a:ext cx="3193920" cy="3570480"/>
            <a:chOff x="787680" y="2727360"/>
            <a:chExt cx="3193920" cy="3570480"/>
          </a:xfrm>
        </p:grpSpPr>
        <p:sp>
          <p:nvSpPr>
            <p:cNvPr id="164" name=""/>
            <p:cNvSpPr/>
            <p:nvPr/>
          </p:nvSpPr>
          <p:spPr>
            <a:xfrm>
              <a:off x="2475720" y="2795760"/>
              <a:ext cx="1503720" cy="35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         </a:t>
              </a: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t          y ( 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.0000    0.95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.0000    1.45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3.0000   -1.29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4.0000   -1.04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5.0000    1.07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6.0000    0.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7.0000    1.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8.0000    1.61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9.0000    1.61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0.0000    2.29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1.0000    1.76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2.0000    2.39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3.0000    0.0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...            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7680" y="272736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Exemplo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3680" y="3124080"/>
              <a:ext cx="1447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933640" y="1809720"/>
            <a:ext cx="533412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27840" y="1214280"/>
            <a:ext cx="1524960" cy="5204520"/>
            <a:chOff x="627840" y="1214280"/>
            <a:chExt cx="1524960" cy="5204520"/>
          </a:xfrm>
        </p:grpSpPr>
        <p:sp>
          <p:nvSpPr>
            <p:cNvPr id="175" name=""/>
            <p:cNvSpPr/>
            <p:nvPr/>
          </p:nvSpPr>
          <p:spPr>
            <a:xfrm>
              <a:off x="627840" y="1214280"/>
              <a:ext cx="151128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         </a:t>
              </a: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t           y ( 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.0000    0.95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.0000    1.45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3.0000   -1.29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4.0000   -1.04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5.0000    1.07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6.0000    0.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7.0000    1.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8.0000    1.61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9.0000    1.61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0.0000    2.29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1.0000    1.76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2.0000    2.39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3.0000    0.0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4.0000    1.38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5.0000    1.34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6.0000   -0.00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7.0000    1.95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8.0000    0.74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9.0000    3.31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0.0000    1.19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1.0000    2.62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2.0000    2.41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3.0000    1.37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4.0000    0.22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5.0000    2.44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960" y="1523880"/>
              <a:ext cx="1428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30400" y="180972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27840" y="1214280"/>
            <a:ext cx="1524960" cy="5204520"/>
            <a:chOff x="627840" y="1214280"/>
            <a:chExt cx="1524960" cy="5204520"/>
          </a:xfrm>
        </p:grpSpPr>
        <p:sp>
          <p:nvSpPr>
            <p:cNvPr id="185" name=""/>
            <p:cNvSpPr/>
            <p:nvPr/>
          </p:nvSpPr>
          <p:spPr>
            <a:xfrm>
              <a:off x="627840" y="1214280"/>
              <a:ext cx="151128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         </a:t>
              </a: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t           y ( 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.0000    0.95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.0000    1.45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3.0000   -1.29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4.0000   -1.04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5.0000    1.07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6.0000    0.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7.0000    1.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8.0000    1.61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9.0000    1.61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0.0000    2.29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1.0000    1.76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2.0000    2.39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3.0000    0.0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4.0000    1.38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5.0000    1.34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6.0000   -0.00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7.0000    1.95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8.0000    0.74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9.0000    3.31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0.0000    1.19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1.0000    2.62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2.0000    2.41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3.0000    1.37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4.0000    0.22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5.0000    2.44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960" y="1523880"/>
              <a:ext cx="1428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930400" y="180972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619440" y="2819520"/>
            <a:ext cx="4133880" cy="171432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619440" y="3219120"/>
            <a:ext cx="4133880" cy="110484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600360" y="3104640"/>
            <a:ext cx="4133880" cy="1009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27840" y="1214280"/>
            <a:ext cx="1524960" cy="5204520"/>
            <a:chOff x="627840" y="1214280"/>
            <a:chExt cx="1524960" cy="5204520"/>
          </a:xfrm>
        </p:grpSpPr>
        <p:sp>
          <p:nvSpPr>
            <p:cNvPr id="198" name=""/>
            <p:cNvSpPr/>
            <p:nvPr/>
          </p:nvSpPr>
          <p:spPr>
            <a:xfrm>
              <a:off x="627840" y="1214280"/>
              <a:ext cx="151128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         </a:t>
              </a: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t           y ( 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.0000    0.95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.0000    1.45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3.0000   -1.29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4.0000   -1.04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5.0000    1.07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6.0000    0.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7.0000    1.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8.0000    1.61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9.0000    1.61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0.0000    2.29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1.0000    1.76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2.0000    2.39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3.0000    0.0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4.0000    1.38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5.0000    1.34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6.0000   -0.00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7.0000    1.95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8.0000    0.74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9.0000    3.31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0.0000    1.19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1.0000    2.62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2.0000    2.41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3.0000    1.37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4.0000    0.22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5.0000    2.44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960" y="1523880"/>
              <a:ext cx="1428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880440" y="1298520"/>
            <a:ext cx="35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juste de uma função linear ( ret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930400" y="1809720"/>
            <a:ext cx="5334120" cy="4000680"/>
            <a:chOff x="2930400" y="1809720"/>
            <a:chExt cx="5334120" cy="400068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2930400" y="1809720"/>
              <a:ext cx="533412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flipV="1">
              <a:off x="3619440" y="3028680"/>
              <a:ext cx="4133880" cy="1276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1400" y="3317760"/>
              <a:ext cx="0" cy="1200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22760" y="3470400"/>
              <a:ext cx="0" cy="11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1520" y="3176640"/>
              <a:ext cx="0" cy="1200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448160" y="4051080"/>
              <a:ext cx="0" cy="53316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621320" y="4260600"/>
              <a:ext cx="0" cy="53316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781520" y="3948120"/>
              <a:ext cx="0" cy="5335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24560" y="3462480"/>
              <a:ext cx="0" cy="53316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81520" y="2948040"/>
              <a:ext cx="0" cy="5335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51400" y="3157560"/>
              <a:ext cx="0" cy="5335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68560" y="41292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e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27840" y="1214280"/>
            <a:ext cx="1524960" cy="5204520"/>
            <a:chOff x="627840" y="1214280"/>
            <a:chExt cx="1524960" cy="5204520"/>
          </a:xfrm>
        </p:grpSpPr>
        <p:sp>
          <p:nvSpPr>
            <p:cNvPr id="221" name=""/>
            <p:cNvSpPr/>
            <p:nvPr/>
          </p:nvSpPr>
          <p:spPr>
            <a:xfrm>
              <a:off x="627840" y="1214280"/>
              <a:ext cx="151128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         </a:t>
              </a:r>
              <a:r>
                <a:rPr b="0" lang="pt-BR" sz="1200" spc="-1" strike="noStrike">
                  <a:solidFill>
                    <a:srgbClr val="ff0066"/>
                  </a:solidFill>
                  <a:latin typeface="Arial"/>
                </a:rPr>
                <a:t>t           y ( 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0" lang="pt-BR" sz="1200" spc="-1" strike="noStrike">
                  <a:solidFill>
                    <a:srgbClr val="0000cc"/>
                  </a:solidFill>
                  <a:latin typeface="Arial"/>
                </a:rPr>
                <a:t>.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.0000    0.95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.0000    1.45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3.0000   -1.29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4.0000   -1.04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5.0000    1.07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6.0000    0.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7.0000    1.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8.0000    1.61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9.0000    1.61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0.0000    2.29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1.0000    1.76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2.0000    2.39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3.0000    0.0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4.0000    1.38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5.0000    1.34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6.0000   -0.00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7.0000    1.95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8.0000    0.74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19.0000    3.31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0.0000    1.19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1.0000    2.62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2.0000    2.41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3.0000    1.37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4.0000    0.22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25.0000    2.44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960" y="1523880"/>
              <a:ext cx="1428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61200" y="127944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no Ajuste da R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0920" y="1438200"/>
            <a:ext cx="312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Regressão Linear: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a 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1480" y="1967040"/>
            <a:ext cx="48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ínimos Quadrados: Obter valores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de modo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79480" y="310680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seja míni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322800" y="3468600"/>
            <a:ext cx="1811160" cy="914400"/>
            <a:chOff x="3322800" y="3468600"/>
            <a:chExt cx="1811160" cy="914400"/>
          </a:xfrm>
        </p:grpSpPr>
        <p:sp>
          <p:nvSpPr>
            <p:cNvPr id="234" name=""/>
            <p:cNvSpPr/>
            <p:nvPr/>
          </p:nvSpPr>
          <p:spPr>
            <a:xfrm>
              <a:off x="3322800" y="3468600"/>
              <a:ext cx="0" cy="914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4"/>
            <a:stretch/>
          </p:blipFill>
          <p:spPr>
            <a:xfrm>
              <a:off x="3457440" y="3632040"/>
              <a:ext cx="1676520" cy="5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2011320" y="4597560"/>
            <a:ext cx="3538440" cy="1514160"/>
            <a:chOff x="2011320" y="4597560"/>
            <a:chExt cx="3538440" cy="1514160"/>
          </a:xfrm>
        </p:grpSpPr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2011320" y="4905360"/>
              <a:ext cx="9399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213000" y="4597560"/>
              <a:ext cx="233676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6324480" y="2438280"/>
            <a:ext cx="1646640" cy="3676680"/>
            <a:chOff x="6324480" y="2438280"/>
            <a:chExt cx="1646640" cy="3676680"/>
          </a:xfrm>
        </p:grpSpPr>
        <p:sp>
          <p:nvSpPr>
            <p:cNvPr id="240" name=""/>
            <p:cNvSpPr/>
            <p:nvPr/>
          </p:nvSpPr>
          <p:spPr>
            <a:xfrm>
              <a:off x="6324480" y="2438280"/>
              <a:ext cx="304920" cy="367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5760 h 3676680"/>
                <a:gd name="textAreaBottom" fmla="*/ 3580920 h 367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1520" y="4011480"/>
              <a:ext cx="111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cc"/>
                  </a:solidFill>
                  <a:latin typeface="Arial"/>
                </a:rPr>
                <a:t>Míni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cc"/>
                  </a:solidFill>
                  <a:latin typeface="Arial"/>
                </a:rPr>
                <a:t>Quadr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1930320" y="2413080"/>
            <a:ext cx="3016440" cy="60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80920" y="1438200"/>
            <a:ext cx="312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Regressão Linear: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a 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30960" y="1428840"/>
            <a:ext cx="1871640" cy="1778040"/>
          </a:xfrm>
          <a:prstGeom prst="wedgeRoundRectCallout">
            <a:avLst>
              <a:gd name="adj1" fmla="val -171037"/>
              <a:gd name="adj2" fmla="val -39912"/>
              <a:gd name="adj3" fmla="val 16667"/>
            </a:avLst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o ex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t no lugar de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x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pt-BR" sz="16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= y( 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2530440"/>
            <a:ext cx="8055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Supondo que os pares x(k) e y(k) estão disponív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&gt; uns = ones(size(x),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&gt;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[coef,interv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coef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,res,intervres,stat]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=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regress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(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,[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x uns],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0.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 0.05 se refere (1 – 0.05) de nível de confian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 coef são os coeficientes angular e linear da r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 intervcoef são os intervalos de confiança dos coefic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 res são os resíd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 intervres são os intervalos de confiança para os resíd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 stat contém os valores de R</a:t>
            </a:r>
            <a:r>
              <a:rPr b="1" lang="pt-BR" sz="1600" spc="-1" strike="noStrike" baseline="30000">
                <a:solidFill>
                  <a:srgbClr val="009900"/>
                </a:solidFill>
                <a:latin typeface="Courier New"/>
              </a:rPr>
              <a:t>2</a:t>
            </a: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, F e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6480" y="179388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ão Lin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V="1">
            <a:off x="2598840" y="2684520"/>
            <a:ext cx="4120920" cy="10461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58040" y="5808600"/>
            <a:ext cx="20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y(t) =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.0665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0.38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60840" y="5684760"/>
            <a:ext cx="203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pt-BR" sz="1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0.0117    0.1212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1" lang="pt-BR" sz="1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-0.4155   1.1800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= 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14640" y="5840280"/>
            <a:ext cx="11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.20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05080" y="3086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Análise e Previsã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Séries  Tempo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58040" y="5808600"/>
            <a:ext cx="20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y(t) =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.0665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0.38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60840" y="5684760"/>
            <a:ext cx="203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pt-BR" sz="1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0.0117    0.1212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1" lang="pt-BR" sz="1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-0.4155   1.1800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= 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14640" y="5840280"/>
            <a:ext cx="11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.20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590920" y="3867120"/>
            <a:ext cx="4133880" cy="36216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90920" y="1733040"/>
            <a:ext cx="3333600" cy="150516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598840" y="2684520"/>
            <a:ext cx="4120920" cy="10461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897920" y="5889600"/>
            <a:ext cx="5473440" cy="337320"/>
            <a:chOff x="1897920" y="5889600"/>
            <a:chExt cx="5473440" cy="337320"/>
          </a:xfrm>
        </p:grpSpPr>
        <p:sp>
          <p:nvSpPr>
            <p:cNvPr id="290" name=""/>
            <p:cNvSpPr/>
            <p:nvPr/>
          </p:nvSpPr>
          <p:spPr>
            <a:xfrm>
              <a:off x="1897920" y="5889600"/>
              <a:ext cx="124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R</a:t>
              </a:r>
              <a:r>
                <a:rPr b="1" lang="pt-BR" sz="1600" spc="-1" strike="noStrike" baseline="30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0.92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27200" y="5889600"/>
              <a:ext cx="124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R</a:t>
              </a:r>
              <a:r>
                <a:rPr b="1" lang="pt-BR" sz="1600" spc="-1" strike="noStrike" baseline="30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0.42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8560" y="2857680"/>
            <a:ext cx="7812000" cy="2817720"/>
            <a:chOff x="628560" y="2857680"/>
            <a:chExt cx="7812000" cy="2817720"/>
          </a:xfrm>
        </p:grpSpPr>
        <p:pic>
          <p:nvPicPr>
            <p:cNvPr id="293" name="" descr=""/>
            <p:cNvPicPr/>
            <p:nvPr/>
          </p:nvPicPr>
          <p:blipFill>
            <a:blip r:embed="rId4"/>
            <a:stretch/>
          </p:blipFill>
          <p:spPr>
            <a:xfrm>
              <a:off x="4705200" y="2857680"/>
              <a:ext cx="3735360" cy="28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628560" y="2876400"/>
              <a:ext cx="3732480" cy="279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4721760" y="22366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33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5040" y="223344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3300"/>
                </a:solidFill>
                <a:latin typeface="Arial"/>
              </a:rPr>
              <a:t>Não-Expli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15880" y="2224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3300"/>
                </a:solidFill>
                <a:latin typeface="Arial"/>
              </a:rPr>
              <a:t>Expli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894200" y="1771560"/>
            <a:ext cx="158760" cy="711000"/>
          </a:xfrm>
          <a:custGeom>
            <a:avLst/>
            <a:gdLst>
              <a:gd name="textAreaLeft" fmla="*/ 101520 w 158760"/>
              <a:gd name="textAreaRight" fmla="*/ 159120 w 158760"/>
              <a:gd name="textAreaTop" fmla="*/ 18360 h 711000"/>
              <a:gd name="textAreaBottom" fmla="*/ 692640 h 71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7116480" y="1764720"/>
            <a:ext cx="158760" cy="711360"/>
          </a:xfrm>
          <a:custGeom>
            <a:avLst/>
            <a:gdLst>
              <a:gd name="textAreaLeft" fmla="*/ 101520 w 158760"/>
              <a:gd name="textAreaRight" fmla="*/ 159120 w 158760"/>
              <a:gd name="textAreaTop" fmla="*/ 18360 h 711360"/>
              <a:gd name="textAreaBottom" fmla="*/ 69300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6024600" y="1765080"/>
            <a:ext cx="158760" cy="711000"/>
          </a:xfrm>
          <a:custGeom>
            <a:avLst/>
            <a:gdLst>
              <a:gd name="textAreaLeft" fmla="*/ 101520 w 158760"/>
              <a:gd name="textAreaRight" fmla="*/ 159120 w 158760"/>
              <a:gd name="textAreaTop" fmla="*/ 18360 h 711000"/>
              <a:gd name="textAreaBottom" fmla="*/ 692640 h 71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2203560" y="1266840"/>
            <a:ext cx="1739880" cy="116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4583160" y="1657440"/>
            <a:ext cx="2997000" cy="26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387240" y="550872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olinômio de 10</a:t>
            </a:r>
            <a:r>
              <a:rPr b="1" lang="pt-BR" sz="1600" spc="-1" strike="noStrike" baseline="30000">
                <a:solidFill>
                  <a:srgbClr val="3333cc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or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5800" y="5900760"/>
            <a:ext cx="74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y(t) =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.7640e-010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-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.2032e-008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9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3.8719e-008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8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2.0053e-005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-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8.4235e-004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.6681e-002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–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0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8486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4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1.1401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-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3.4843e+000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3.9049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-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.2614e-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03400" y="2868480"/>
            <a:ext cx="69912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ourier New"/>
              </a:rPr>
              <a:t>% Supondo que os pares y(k),x(k) já estão defin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&gt; coef =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polyfit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(x,y,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&gt; plot(x,y,’r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&gt; hol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&gt; ychapeu =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polyval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(coef,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&gt; plot(x,ychap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6880" y="1851120"/>
            <a:ext cx="35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juste do Polinômio de 10</a:t>
            </a:r>
            <a:r>
              <a:rPr b="1" lang="pt-BR" sz="1600" spc="-1" strike="noStrike" baseline="30000">
                <a:solidFill>
                  <a:srgbClr val="3333cc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ord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 flipV="1">
            <a:off x="6032520" y="1714320"/>
            <a:ext cx="0" cy="4330440"/>
          </a:xfrm>
          <a:prstGeom prst="line">
            <a:avLst/>
          </a:prstGeom>
          <a:ln w="64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32520" y="5905440"/>
            <a:ext cx="7873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16680" y="559584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9900"/>
                </a:solidFill>
                <a:latin typeface="Arial"/>
              </a:rPr>
              <a:t>previ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4146480" y="5829480"/>
            <a:ext cx="889200" cy="26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038480" y="4857840"/>
            <a:ext cx="4686480" cy="116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95320" y="658332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cc"/>
                </a:solidFill>
                <a:latin typeface="Arial"/>
              </a:rPr>
              <a:t>21 set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571680" y="255276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1403280" y="4705200"/>
            <a:ext cx="889200" cy="266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562200" y="1238400"/>
            <a:ext cx="0" cy="5143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99520" y="12747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U de Th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66400" y="18781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Actual Relative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23400" y="1859040"/>
            <a:ext cx="23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Forecast Relative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5991120" y="866520"/>
            <a:ext cx="266760" cy="43434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4044960" y="2235240"/>
            <a:ext cx="1854360" cy="558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6559560" y="2209680"/>
            <a:ext cx="1816200" cy="5716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4221000" y="4957920"/>
            <a:ext cx="4465440" cy="941760"/>
            <a:chOff x="4221000" y="4957920"/>
            <a:chExt cx="4465440" cy="9417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4221000" y="4978440"/>
              <a:ext cx="12718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436360" y="4957920"/>
              <a:ext cx="325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posta é tão boa quanto a “naïv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31320" y="5275440"/>
              <a:ext cx="293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posta é melhor que a “naïv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31680" y="5592600"/>
              <a:ext cx="267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posta é pior que a “naïv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977040" y="1927080"/>
            <a:ext cx="18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evisão “naïv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4735440" y="3371760"/>
            <a:ext cx="287172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3714840"/>
            <a:ext cx="7810560" cy="36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1320" y="2709720"/>
            <a:ext cx="428076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Linear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y(t) = at +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Polinomial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y(t) = a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  n-1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+ ... + a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Exponencial 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y(t) = ab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Potencial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y(t) = a t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Hiperbólica</a:t>
            </a:r>
            <a:r>
              <a:rPr b="1" lang="pt-BR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y(t) = a + b /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42320" y="3554280"/>
            <a:ext cx="3077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g y(t) = log a + t log b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g y(t) = log a + b lo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y(t) = a + b (1/ 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9280" y="188280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daptações do Método de Regressão Lin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237960" y="2749680"/>
            <a:ext cx="4264200" cy="3198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89480" y="2097000"/>
            <a:ext cx="31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y(t) = 5 exp (- 0.1 t) = 5 (e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 -0.1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 t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= ab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 t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641840" y="2279520"/>
            <a:ext cx="4264200" cy="3667320"/>
            <a:chOff x="4641840" y="2279520"/>
            <a:chExt cx="4264200" cy="3667320"/>
          </a:xfrm>
        </p:grpSpPr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4641840" y="2749680"/>
              <a:ext cx="4264200" cy="31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764240" y="2279520"/>
              <a:ext cx="391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log y(t) = log a + t log b =  log 5 + t log (e</a:t>
              </a:r>
              <a:r>
                <a:rPr b="1" lang="pt-BR" sz="1400" spc="-1" strike="noStrike" baseline="30000">
                  <a:solidFill>
                    <a:srgbClr val="000000"/>
                  </a:solidFill>
                  <a:latin typeface="Arial"/>
                </a:rPr>
                <a:t> -0.1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748040" y="1508040"/>
            <a:ext cx="1101960" cy="2838600"/>
            <a:chOff x="4748040" y="1508040"/>
            <a:chExt cx="1101960" cy="2838600"/>
          </a:xfrm>
        </p:grpSpPr>
        <p:pic>
          <p:nvPicPr>
            <p:cNvPr id="384" name="" descr=""/>
            <p:cNvPicPr/>
            <p:nvPr/>
          </p:nvPicPr>
          <p:blipFill>
            <a:blip r:embed="rId6"/>
            <a:stretch/>
          </p:blipFill>
          <p:spPr>
            <a:xfrm>
              <a:off x="5302080" y="2928960"/>
              <a:ext cx="2304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748040" y="15080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cc"/>
                  </a:solidFill>
                  <a:latin typeface="Arial"/>
                </a:rPr>
                <a:t>log 5 =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0.6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53040" y="3338640"/>
              <a:ext cx="8892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570640" y="1819440"/>
              <a:ext cx="279360" cy="480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129720" y="1488960"/>
            <a:ext cx="2342880" cy="4098960"/>
            <a:chOff x="6129720" y="1488960"/>
            <a:chExt cx="2342880" cy="4098960"/>
          </a:xfrm>
        </p:grpSpPr>
        <p:sp>
          <p:nvSpPr>
            <p:cNvPr id="389" name=""/>
            <p:cNvSpPr/>
            <p:nvPr/>
          </p:nvSpPr>
          <p:spPr>
            <a:xfrm flipV="1">
              <a:off x="8169120" y="3835080"/>
              <a:ext cx="0" cy="5713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6129720" y="1488960"/>
              <a:ext cx="2342880" cy="4098960"/>
              <a:chOff x="6129720" y="1488960"/>
              <a:chExt cx="2342880" cy="4098960"/>
            </a:xfrm>
          </p:grpSpPr>
          <p:sp>
            <p:nvSpPr>
              <p:cNvPr id="391" name=""/>
              <p:cNvSpPr/>
              <p:nvPr/>
            </p:nvSpPr>
            <p:spPr>
              <a:xfrm>
                <a:off x="6129720" y="1488960"/>
                <a:ext cx="158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Arial"/>
                  </a:rPr>
                  <a:t>log</a:t>
                </a:r>
                <a:r>
                  <a:rPr b="1" lang="pt-BR" sz="1200" spc="-1" strike="noStrike">
                    <a:solidFill>
                      <a:srgbClr val="009900"/>
                    </a:solidFill>
                    <a:latin typeface="Arial"/>
                  </a:rPr>
                  <a:t> </a:t>
                </a:r>
                <a:r>
                  <a:rPr b="1" lang="pt-BR" sz="1400" spc="-1" strike="noStrike">
                    <a:solidFill>
                      <a:srgbClr val="009900"/>
                    </a:solidFill>
                    <a:latin typeface="Arial"/>
                  </a:rPr>
                  <a:t>(e</a:t>
                </a:r>
                <a:r>
                  <a:rPr b="1" lang="pt-BR" sz="1400" spc="-1" strike="noStrike" baseline="30000">
                    <a:solidFill>
                      <a:srgbClr val="009900"/>
                    </a:solidFill>
                    <a:latin typeface="Arial"/>
                  </a:rPr>
                  <a:t> -0.1</a:t>
                </a:r>
                <a:r>
                  <a:rPr b="1" lang="pt-BR" sz="1400" spc="-1" strike="noStrike">
                    <a:solidFill>
                      <a:srgbClr val="009900"/>
                    </a:solidFill>
                    <a:latin typeface="Arial"/>
                  </a:rPr>
                  <a:t>) </a:t>
                </a:r>
                <a:r>
                  <a:rPr b="1" lang="en-US" sz="1200" spc="-1" strike="noStrike">
                    <a:solidFill>
                      <a:srgbClr val="009900"/>
                    </a:solidFill>
                    <a:latin typeface="Arial"/>
                  </a:rPr>
                  <a:t>=</a:t>
                </a:r>
                <a:r>
                  <a:rPr b="1" lang="pt-BR" sz="1200" spc="-1" strike="noStrike">
                    <a:solidFill>
                      <a:srgbClr val="0099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9900"/>
                    </a:solidFill>
                    <a:latin typeface="Arial"/>
                  </a:rPr>
                  <a:t>-0.043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505560" y="3860640"/>
                <a:ext cx="0" cy="1727280"/>
              </a:xfrm>
              <a:prstGeom prst="line">
                <a:avLst/>
              </a:prstGeom>
              <a:ln w="1260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8169120" y="4431960"/>
                <a:ext cx="0" cy="1143000"/>
              </a:xfrm>
              <a:prstGeom prst="line">
                <a:avLst/>
              </a:prstGeom>
              <a:ln w="1260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531120" y="3835440"/>
                <a:ext cx="1638000" cy="0"/>
              </a:xfrm>
              <a:prstGeom prst="line">
                <a:avLst/>
              </a:prstGeom>
              <a:ln w="1260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42200" y="3030480"/>
                <a:ext cx="230400" cy="14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flipV="1">
                <a:off x="6673680" y="1797120"/>
                <a:ext cx="277920" cy="49032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981080" y="19810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341160" y="135576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ão Linear Robu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863800" y="2476440"/>
            <a:ext cx="5431680" cy="2952720"/>
            <a:chOff x="2863800" y="2476440"/>
            <a:chExt cx="5431680" cy="2952720"/>
          </a:xfrm>
        </p:grpSpPr>
        <p:sp>
          <p:nvSpPr>
            <p:cNvPr id="406" name=""/>
            <p:cNvSpPr/>
            <p:nvPr/>
          </p:nvSpPr>
          <p:spPr>
            <a:xfrm>
              <a:off x="2863800" y="2476440"/>
              <a:ext cx="266760" cy="266760"/>
            </a:xfrm>
            <a:prstGeom prst="ellipse">
              <a:avLst/>
            </a:prstGeom>
            <a:noFill/>
            <a:ln w="93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22720" y="5162400"/>
              <a:ext cx="266760" cy="266760"/>
            </a:xfrm>
            <a:prstGeom prst="ellipse">
              <a:avLst/>
            </a:prstGeom>
            <a:noFill/>
            <a:ln w="93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95760" y="2743200"/>
              <a:ext cx="266760" cy="266760"/>
            </a:xfrm>
            <a:prstGeom prst="ellipse">
              <a:avLst/>
            </a:prstGeom>
            <a:noFill/>
            <a:ln w="93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960" y="4883040"/>
              <a:ext cx="266760" cy="266760"/>
            </a:xfrm>
            <a:prstGeom prst="ellipse">
              <a:avLst/>
            </a:prstGeom>
            <a:noFill/>
            <a:ln w="93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267600" y="3946680"/>
              <a:ext cx="1180800" cy="968400"/>
            </a:xfrm>
            <a:prstGeom prst="line">
              <a:avLst/>
            </a:prstGeom>
            <a:ln w="1260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000" y="370692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cc00ff"/>
                  </a:solidFill>
                  <a:latin typeface="Arial"/>
                </a:rPr>
                <a:t>outli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257440" y="3943440"/>
              <a:ext cx="2190600" cy="1295280"/>
            </a:xfrm>
            <a:prstGeom prst="line">
              <a:avLst/>
            </a:prstGeom>
            <a:ln w="1260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852880" y="3801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84760" y="321156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cc33"/>
                </a:solidFill>
                <a:latin typeface="Arial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8040" y="119844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roblema do Bar El Fa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48240" y="2038320"/>
            <a:ext cx="3314880" cy="1333440"/>
          </a:xfrm>
          <a:prstGeom prst="wedgeRoundRectCallout">
            <a:avLst>
              <a:gd name="adj1" fmla="val -63555"/>
              <a:gd name="adj2" fmla="val 174287"/>
              <a:gd name="adj3" fmla="val 16667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Quantas pessoas haverá na Festa Irlandesa do Bar El Farol na 15</a:t>
            </a:r>
            <a:r>
              <a:rPr b="1" lang="pt-BR" sz="1600" spc="-1" strike="noStrike" baseline="30000">
                <a:solidFill>
                  <a:srgbClr val="3333cc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seman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952880"/>
            <a:ext cx="3276360" cy="1352520"/>
          </a:xfrm>
          <a:prstGeom prst="wedgeRoundRectCallout">
            <a:avLst>
              <a:gd name="adj1" fmla="val 5476"/>
              <a:gd name="adj2" fmla="val -166902"/>
              <a:gd name="adj3" fmla="val 16667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O ambiente do Bar El Far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oi projetado para acomo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torno de 50 pesso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0560" y="154620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ão Linear Múltipl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2927520" y="2120760"/>
            <a:ext cx="3403440" cy="33048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44560" y="2746440"/>
            <a:ext cx="5811840" cy="3552840"/>
            <a:chOff x="844560" y="2746440"/>
            <a:chExt cx="5811840" cy="3552840"/>
          </a:xfrm>
        </p:grpSpPr>
        <p:sp>
          <p:nvSpPr>
            <p:cNvPr id="424" name=""/>
            <p:cNvSpPr/>
            <p:nvPr/>
          </p:nvSpPr>
          <p:spPr>
            <a:xfrm>
              <a:off x="844560" y="27464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Exempl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092400" y="2879640"/>
              <a:ext cx="3564000" cy="3419640"/>
              <a:chOff x="3092400" y="2879640"/>
              <a:chExt cx="3564000" cy="3419640"/>
            </a:xfrm>
          </p:grpSpPr>
          <p:sp>
            <p:nvSpPr>
              <p:cNvPr id="426" name=""/>
              <p:cNvSpPr/>
              <p:nvPr/>
            </p:nvSpPr>
            <p:spPr>
              <a:xfrm>
                <a:off x="3098880" y="5289480"/>
                <a:ext cx="3200400" cy="10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098880" y="3079800"/>
                <a:ext cx="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19440" y="5264280"/>
                <a:ext cx="114480" cy="507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000680" y="5340240"/>
                <a:ext cx="114120" cy="507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38800" y="5187960"/>
                <a:ext cx="114120" cy="507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52880" y="5359320"/>
                <a:ext cx="114480" cy="507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29160" y="5264280"/>
                <a:ext cx="114480" cy="507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05000" y="3314880"/>
                <a:ext cx="3181680" cy="1676160"/>
              </a:xfrm>
              <a:custGeom>
                <a:avLst/>
                <a:gdLst/>
                <a:ahLst/>
                <a:rect l="l" t="t" r="r" b="b"/>
                <a:pathLst>
                  <a:path w="2004" h="1056">
                    <a:moveTo>
                      <a:pt x="0" y="420"/>
                    </a:moveTo>
                    <a:lnTo>
                      <a:pt x="1404" y="1056"/>
                    </a:lnTo>
                    <a:lnTo>
                      <a:pt x="2004" y="600"/>
                    </a:lnTo>
                    <a:lnTo>
                      <a:pt x="660" y="0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3092400" y="4019400"/>
                <a:ext cx="3149640" cy="12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3676680" y="3962160"/>
                <a:ext cx="0" cy="131436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057560" y="4019400"/>
                <a:ext cx="0" cy="13147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495680" y="3866760"/>
                <a:ext cx="0" cy="131436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5010120" y="4260960"/>
                <a:ext cx="0" cy="109224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5486400" y="4196880"/>
                <a:ext cx="0" cy="10414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19440" y="3924360"/>
                <a:ext cx="114480" cy="114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000680" y="3994200"/>
                <a:ext cx="114120" cy="114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38800" y="3854520"/>
                <a:ext cx="114120" cy="114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2880" y="4184640"/>
                <a:ext cx="114480" cy="11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29160" y="4133880"/>
                <a:ext cx="114480" cy="114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97480" y="5946840"/>
                <a:ext cx="3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pt-BR" sz="16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11640" y="3679920"/>
                <a:ext cx="3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pt-BR" sz="1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67280" y="28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661560" y="5040360"/>
                <a:ext cx="4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3333cc"/>
                    </a:solidFill>
                    <a:latin typeface="Arial"/>
                  </a:rPr>
                  <a:t>k=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61520" y="5326200"/>
                <a:ext cx="4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3333cc"/>
                    </a:solidFill>
                    <a:latin typeface="Arial"/>
                  </a:rPr>
                  <a:t>k=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518720" y="5002200"/>
                <a:ext cx="4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3333cc"/>
                    </a:solidFill>
                    <a:latin typeface="Arial"/>
                  </a:rPr>
                  <a:t>k=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99600" y="5383080"/>
                <a:ext cx="4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3333cc"/>
                    </a:solidFill>
                    <a:latin typeface="Arial"/>
                  </a:rPr>
                  <a:t>k=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414040" y="5288040"/>
                <a:ext cx="4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3333cc"/>
                    </a:solidFill>
                    <a:latin typeface="Arial"/>
                  </a:rPr>
                  <a:t>k=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93560" y="2192400"/>
            <a:ext cx="8244000" cy="42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93560" y="2598840"/>
            <a:ext cx="8244000" cy="380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493560" y="3267000"/>
            <a:ext cx="824400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93560" y="3844800"/>
            <a:ext cx="8244000" cy="25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493560" y="4468680"/>
            <a:ext cx="8244000" cy="19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93560" y="5137200"/>
            <a:ext cx="8244000" cy="12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93560" y="5732640"/>
            <a:ext cx="824400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7080" y="13701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plicantes na Regressão Lin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39320" y="1952640"/>
            <a:ext cx="3426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gressores mal escolh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eficientes variante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eterocedasti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rrelacionados n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rros com média nã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ulticoline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42600" y="22510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 e 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ão são inter-rela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4984920" y="1301760"/>
            <a:ext cx="3403440" cy="3301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5"/>
          <a:stretch/>
        </p:blipFill>
        <p:spPr>
          <a:xfrm>
            <a:off x="3156120" y="2876400"/>
            <a:ext cx="1384200" cy="2667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6"/>
          <a:stretch/>
        </p:blipFill>
        <p:spPr>
          <a:xfrm>
            <a:off x="4622760" y="3505320"/>
            <a:ext cx="2032200" cy="2667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1943280" cy="2667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8"/>
          <a:stretch/>
        </p:blipFill>
        <p:spPr>
          <a:xfrm>
            <a:off x="5715000" y="1611360"/>
            <a:ext cx="1866960" cy="3380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9"/>
          <a:stretch/>
        </p:blipFill>
        <p:spPr>
          <a:xfrm>
            <a:off x="4613400" y="4743360"/>
            <a:ext cx="850680" cy="2667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0"/>
          <a:stretch/>
        </p:blipFill>
        <p:spPr>
          <a:xfrm>
            <a:off x="3956040" y="5299200"/>
            <a:ext cx="1992240" cy="336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1"/>
          <a:stretch/>
        </p:blipFill>
        <p:spPr>
          <a:xfrm>
            <a:off x="3203640" y="5899320"/>
            <a:ext cx="1940040" cy="37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40320" y="129852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uavização Exponenc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4"/>
          <a:stretch/>
        </p:blipFill>
        <p:spPr>
          <a:xfrm>
            <a:off x="3365640" y="1790640"/>
            <a:ext cx="2336760" cy="266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5"/>
          <a:stretch/>
        </p:blipFill>
        <p:spPr>
          <a:xfrm>
            <a:off x="2038320" y="222876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564880" y="41036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=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876920" y="2548080"/>
            <a:ext cx="457200" cy="3236760"/>
            <a:chOff x="4876920" y="2548080"/>
            <a:chExt cx="457200" cy="3236760"/>
          </a:xfrm>
        </p:grpSpPr>
        <p:sp>
          <p:nvSpPr>
            <p:cNvPr id="607" name=""/>
            <p:cNvSpPr/>
            <p:nvPr/>
          </p:nvSpPr>
          <p:spPr>
            <a:xfrm>
              <a:off x="5006880" y="2548080"/>
              <a:ext cx="0" cy="323208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76920" y="438300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216400" y="2571840"/>
              <a:ext cx="0" cy="32130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52880" y="4334040"/>
              <a:ext cx="101880" cy="101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51440" y="3732120"/>
              <a:ext cx="101520" cy="101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56280" y="4041720"/>
              <a:ext cx="101520" cy="101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11720" y="3803760"/>
              <a:ext cx="0" cy="27936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214960" y="4381200"/>
              <a:ext cx="0" cy="32868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005440" y="4385880"/>
              <a:ext cx="0" cy="32868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2200" y="3498840"/>
              <a:ext cx="0" cy="27936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4649760" y="2593800"/>
            <a:ext cx="3878640" cy="1798920"/>
            <a:chOff x="4649760" y="2593800"/>
            <a:chExt cx="3878640" cy="1798920"/>
          </a:xfrm>
        </p:grpSpPr>
        <p:sp>
          <p:nvSpPr>
            <p:cNvPr id="63" name=""/>
            <p:cNvSpPr/>
            <p:nvPr/>
          </p:nvSpPr>
          <p:spPr>
            <a:xfrm>
              <a:off x="5363640" y="2593800"/>
              <a:ext cx="31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1: Igual à semana anterior, 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49760" y="4316400"/>
              <a:ext cx="295200" cy="76320"/>
              <a:chOff x="4649760" y="4316400"/>
              <a:chExt cx="295200" cy="76320"/>
            </a:xfrm>
          </p:grpSpPr>
          <p:sp>
            <p:nvSpPr>
              <p:cNvPr id="65" name=""/>
              <p:cNvSpPr/>
              <p:nvPr/>
            </p:nvSpPr>
            <p:spPr>
              <a:xfrm>
                <a:off x="4649760" y="4354560"/>
                <a:ext cx="2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69000" y="43164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40320" y="129852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uavização Exponenc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3365640" y="1790640"/>
            <a:ext cx="2336760" cy="2667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495680" y="2381400"/>
            <a:ext cx="0" cy="704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5"/>
          <a:stretch/>
        </p:blipFill>
        <p:spPr>
          <a:xfrm>
            <a:off x="1752480" y="3524400"/>
            <a:ext cx="563904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44280" y="12985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étodo de Holt-Wint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2959200" y="1631880"/>
            <a:ext cx="3073320" cy="88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5"/>
          <a:stretch/>
        </p:blipFill>
        <p:spPr>
          <a:xfrm>
            <a:off x="2152800" y="2610000"/>
            <a:ext cx="5070240" cy="38034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5793480" y="5078520"/>
            <a:ext cx="74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m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= 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= 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341720" y="158436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uto-Regressão - 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495360" y="2095560"/>
            <a:ext cx="3771720" cy="2667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 flipH="1" flipV="1">
            <a:off x="1581120" y="2437920"/>
            <a:ext cx="876240" cy="97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476440" y="2437920"/>
            <a:ext cx="876240" cy="97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2247840" y="2457000"/>
            <a:ext cx="209520" cy="933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97680" y="254484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4840" y="3516480"/>
            <a:ext cx="336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Valores anteriores de y no lugar de x</a:t>
            </a:r>
            <a:r>
              <a:rPr b="1" lang="pt-BR" sz="1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605480" y="1603440"/>
            <a:ext cx="4245120" cy="2249280"/>
            <a:chOff x="4605480" y="1603440"/>
            <a:chExt cx="4245120" cy="2249280"/>
          </a:xfrm>
        </p:grpSpPr>
        <p:sp>
          <p:nvSpPr>
            <p:cNvPr id="651" name=""/>
            <p:cNvSpPr/>
            <p:nvPr/>
          </p:nvSpPr>
          <p:spPr>
            <a:xfrm>
              <a:off x="5838120" y="16034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Média Móvel - M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5"/>
            <a:stretch/>
          </p:blipFill>
          <p:spPr>
            <a:xfrm>
              <a:off x="4749840" y="2070000"/>
              <a:ext cx="38527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 flipH="1" flipV="1">
              <a:off x="5791320" y="2437920"/>
              <a:ext cx="876240" cy="9716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86640" y="2437920"/>
              <a:ext cx="876240" cy="9716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6458040" y="2457000"/>
              <a:ext cx="209520" cy="9334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7880" y="2544840"/>
              <a:ext cx="43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00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05480" y="3516480"/>
              <a:ext cx="4245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00"/>
                  </a:solidFill>
                  <a:latin typeface="Arial"/>
                </a:rPr>
                <a:t>Média ponderada dos últimos m+1 valores de x</a:t>
              </a:r>
              <a:r>
                <a:rPr b="1" lang="pt-BR" sz="1400" spc="-1" strike="noStrike" baseline="-25000">
                  <a:solidFill>
                    <a:srgbClr val="0099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66720" y="4133880"/>
            <a:ext cx="8115480" cy="1654920"/>
            <a:chOff x="666720" y="4133880"/>
            <a:chExt cx="8115480" cy="1654920"/>
          </a:xfrm>
        </p:grpSpPr>
        <p:sp>
          <p:nvSpPr>
            <p:cNvPr id="659" name=""/>
            <p:cNvSpPr/>
            <p:nvPr/>
          </p:nvSpPr>
          <p:spPr>
            <a:xfrm>
              <a:off x="857160" y="4896000"/>
              <a:ext cx="7639200" cy="41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6"/>
            <a:stretch/>
          </p:blipFill>
          <p:spPr>
            <a:xfrm>
              <a:off x="990720" y="4946760"/>
              <a:ext cx="74469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 rot="16200000">
              <a:off x="4545720" y="254520"/>
              <a:ext cx="357120" cy="811548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211320 h 8115480"/>
                <a:gd name="textAreaBottom" fmla="*/ 7904160 h 811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57"/>
                  </a:lnTo>
                  <a:cubicBezTo>
                    <a:pt x="10800" y="9857"/>
                    <a:pt x="5400" y="10757"/>
                    <a:pt x="0" y="10757"/>
                  </a:cubicBezTo>
                  <a:cubicBezTo>
                    <a:pt x="5400" y="10757"/>
                    <a:pt x="10800" y="11657"/>
                    <a:pt x="10800" y="1255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67160" y="54514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AR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0" y="107640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28600" y="3052800"/>
            <a:ext cx="7124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gt;&gt;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 dados=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iddata</a:t>
            </a:r>
            <a:r>
              <a:rPr b="1" lang="pt-BR" sz="1600" spc="-1" strike="noStrike">
                <a:solidFill>
                  <a:srgbClr val="3333cc"/>
                </a:solidFill>
                <a:latin typeface="Courier New"/>
              </a:rPr>
              <a:t>(y,u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gt;&gt; M=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arx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(dados,[2 1 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72560" y="185112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stimação de coeficientes de um modelo AR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1" name="" descr=""/>
          <p:cNvPicPr/>
          <p:nvPr/>
        </p:nvPicPr>
        <p:blipFill>
          <a:blip r:embed="rId4"/>
          <a:stretch/>
        </p:blipFill>
        <p:spPr>
          <a:xfrm>
            <a:off x="343080" y="1133640"/>
            <a:ext cx="8800920" cy="538308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4"/>
          <a:stretch/>
        </p:blipFill>
        <p:spPr>
          <a:xfrm>
            <a:off x="366840" y="1204920"/>
            <a:ext cx="8475480" cy="52545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036800" y="1521000"/>
            <a:ext cx="479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y(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14760" y="4221000"/>
            <a:ext cx="11743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y-chapeu (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51640" y="2157480"/>
            <a:ext cx="1252800" cy="13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43880" y="550224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previ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16200000">
            <a:off x="7932600" y="4680000"/>
            <a:ext cx="233280" cy="1277640"/>
          </a:xfrm>
          <a:custGeom>
            <a:avLst/>
            <a:gdLst>
              <a:gd name="textAreaLeft" fmla="*/ 149040 w 233280"/>
              <a:gd name="textAreaRight" fmla="*/ 233640 w 233280"/>
              <a:gd name="textAreaTop" fmla="*/ 33120 h 1277640"/>
              <a:gd name="textAreaBottom" fmla="*/ 1244520 h 127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60440" y="1168560"/>
            <a:ext cx="8223120" cy="51987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212840" y="162576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Ajuste Polinom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006400" y="33973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00ff"/>
                </a:solidFill>
                <a:latin typeface="Arial"/>
              </a:rPr>
              <a:t>n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33960" y="3032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27160" y="2306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ccff"/>
                </a:solidFill>
                <a:latin typeface="Arial"/>
              </a:rPr>
              <a:t>n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36640" y="2482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66"/>
                </a:solidFill>
                <a:latin typeface="Arial"/>
              </a:rPr>
              <a:t>n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1501920" y="1689120"/>
            <a:ext cx="6406920" cy="480528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312360" y="1214280"/>
            <a:ext cx="2933640" cy="342000"/>
            <a:chOff x="3312360" y="1214280"/>
            <a:chExt cx="2933640" cy="342000"/>
          </a:xfrm>
        </p:grpSpPr>
        <p:sp>
          <p:nvSpPr>
            <p:cNvPr id="717" name=""/>
            <p:cNvSpPr/>
            <p:nvPr/>
          </p:nvSpPr>
          <p:spPr>
            <a:xfrm>
              <a:off x="3312360" y="12142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ARIM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5"/>
            <a:stretch/>
          </p:blipFill>
          <p:spPr>
            <a:xfrm>
              <a:off x="4379760" y="1230120"/>
              <a:ext cx="92556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288040" y="121896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é AR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944440" y="33606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Muito Obrigado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363640" y="2593800"/>
            <a:ext cx="31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67200" y="4081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552840" y="412416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57520" y="3662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9600" y="422424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362200" y="2593800"/>
            <a:ext cx="328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33560" y="3905280"/>
            <a:ext cx="2059200" cy="542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4416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7520" y="3662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19600" y="422424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7600" y="353376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9320" y="431496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86080" y="415296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362200" y="2593800"/>
            <a:ext cx="32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28680" y="3603600"/>
            <a:ext cx="1152720" cy="111132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90760" y="3584520"/>
            <a:ext cx="1152720" cy="111132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43480" y="3594240"/>
            <a:ext cx="1152360" cy="111096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95840" y="3594240"/>
            <a:ext cx="1152360" cy="111096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48120" y="3625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362200" y="2593800"/>
            <a:ext cx="3288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5: Tendência de 3 semanas,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8040" y="4165560"/>
            <a:ext cx="774720" cy="542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46911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362200" y="2593800"/>
            <a:ext cx="3288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: Tendência de 3 semanas,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6: Média de R1 a R5,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5120" y="4222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86280" y="2286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nálise e Prev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Séries Tempo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2:36:58Z</dcterms:created>
  <dc:creator>Otto Gotlieb</dc:creator>
  <dc:description/>
  <dc:language>en-US</dc:language>
  <cp:lastModifiedBy>Takashi Yoneyama</cp:lastModifiedBy>
  <dcterms:modified xsi:type="dcterms:W3CDTF">2006-09-28T10:21:59Z</dcterms:modified>
  <cp:revision>105</cp:revision>
  <dc:subject/>
  <dc:title>PowerPoint Presentation</dc:title>
</cp:coreProperties>
</file>