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86C-81BE-40DD-8119-8BF8C1E2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457-5D15-455A-A8A6-19426737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4A2-509B-490A-B53A-06D18173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B86-2707-4AB7-A901-A4171A62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813-E8BE-4E66-9703-3491EA1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6C7-8144-4A18-9711-C69E5816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392-D565-4BAB-87C7-04575CD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213-3243-47B3-9B4B-861DDF0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62B-1648-4D0A-B76F-39D2D5E9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E70-F511-4D74-81A4-24DC980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CA9-74CF-4B8D-A702-8F6B7C1F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894-327D-45FE-B105-41B2570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E546-06A6-4ACA-940D-F4D973800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5880" y="274320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AVALIAÇÃO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23520" y="472428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62520" y="3581280"/>
            <a:ext cx="1304640" cy="916920"/>
            <a:chOff x="3962520" y="3581280"/>
            <a:chExt cx="1304640" cy="916920"/>
          </a:xfrm>
        </p:grpSpPr>
        <p:sp>
          <p:nvSpPr>
            <p:cNvPr id="54" name=""/>
            <p:cNvSpPr/>
            <p:nvPr/>
          </p:nvSpPr>
          <p:spPr>
            <a:xfrm>
              <a:off x="4290480" y="35812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59320" y="382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62520" y="36972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0480" y="2133720"/>
            <a:ext cx="45651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va Esc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atureza: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uração: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100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lta: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Apenas a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Livros e Apost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Apresentação do Gabarito: 30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13440" y="297072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Boa prova a tod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Albert Einstein</cp:lastModifiedBy>
  <cp:lastPrinted>2000-05-03T14:19:10Z</cp:lastPrinted>
  <dcterms:modified xsi:type="dcterms:W3CDTF">2000-05-27T13:59:30Z</dcterms:modified>
  <cp:revision>119</cp:revision>
  <dc:subject/>
  <dc:title>Prova</dc:title>
</cp:coreProperties>
</file>