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BBD-3969-451B-BBB7-150C0D7C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E4B-BC2B-463A-BC9F-552C2253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C24-0C77-49FB-AF3A-BF1368A2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3AB-EA4B-4C96-9DB4-7891D006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3B8-4933-4046-B53B-F25E9B83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502-D7D5-403E-8AF0-9AC51EE7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A57-313A-4C4B-A42A-692E6E36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166-E6A0-4A88-9FC4-6FC7D135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FA7-B3D3-4C46-B30D-F7E8F213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031-BF2A-4D3A-9A8E-2D720F2A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727-1BB6-4AFD-A416-E099D6B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A63-8250-43D3-8D1D-F9F0C6A9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507C-7615-45B5-AD5E-7E1C01FA2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1800" y="518760"/>
            <a:ext cx="25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Órgãos Regul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e Fiscaliz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2840" y="960480"/>
            <a:ext cx="86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37640" y="18421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Lei no 9.610 de 19 ju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5400" y="2776320"/>
            <a:ext cx="7866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“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ltera, atualiza e consolida a legislação sobre dire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utorais e dá outras providência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dequação aos tratados da O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azo de Proteção: 70 anos “post mortem auctor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rei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Morais (paternidade, integridade, modificação, divulgaçã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arrependimento, acesso a exemplar ún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atrimoniais (“...qualquer tipo de utilização depende de prévia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expressa autorização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imitações: Braile, Pequenos Trechos, Paródias e Paraf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2840" y="960480"/>
            <a:ext cx="86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65720" y="1797480"/>
            <a:ext cx="415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Lei no 9.609 de 19 fev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Lei do Soft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9920" y="2772720"/>
            <a:ext cx="84927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“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ispõe sobre a proteção da propriedade intelectu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rograma de computador, sua comercialização no país e d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outras providência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V: Art. 9: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“O uso de programa de computador no país se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objeto de contrato de licenç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V: Art. 12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“Violar direitos de autor de program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putador; Pena: Detenção de seis meses a dois anos ou mult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§3</a:t>
            </a:r>
            <a:r>
              <a:rPr b="1" lang="pt-BR" sz="2000" spc="-1" strike="noStrike" baseline="30000">
                <a:solidFill>
                  <a:srgbClr val="3333cc"/>
                </a:solidFill>
                <a:latin typeface="Lucida Casual"/>
              </a:rPr>
              <a:t>o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Nos crimes previstos neste artigo sòmente se proc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mediante queixa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840" y="960480"/>
            <a:ext cx="86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5480" y="2632680"/>
            <a:ext cx="299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INPI, Resolução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14 jul 19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8160" y="3642120"/>
            <a:ext cx="752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“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stabelece normas e procedimentos relativos ao regis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e programas de computad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4280" y="102060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ização de Cópia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3600" y="2189520"/>
            <a:ext cx="742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ópias da Tel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ópias residentes em 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ferenciação entre Excluído e Apagado (Delete </a:t>
            </a:r>
            <a:r>
              <a:rPr b="1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E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ópias em Nós da Rede (para buffering, monito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ou regist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3440" y="4075200"/>
            <a:ext cx="1760400" cy="1166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21160" y="91440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3440" y="4075200"/>
            <a:ext cx="1760400" cy="1166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3440" y="3902040"/>
            <a:ext cx="1530360" cy="1339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21160" y="91440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86200" y="526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62160" y="36885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39800" y="2568600"/>
            <a:ext cx="3130560" cy="206208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56040" y="382284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98080" y="2374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3440" y="4075200"/>
            <a:ext cx="1760400" cy="1166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3440" y="3902040"/>
            <a:ext cx="1530360" cy="1339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1640" y="3911760"/>
            <a:ext cx="1530360" cy="258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21160" y="91440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98080" y="2374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86200" y="526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62160" y="36885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39800" y="2568600"/>
            <a:ext cx="3130560" cy="206208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6040" y="382284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601280" y="4170240"/>
            <a:ext cx="15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5400" y="410364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2760" y="1719360"/>
            <a:ext cx="2717640" cy="565200"/>
          </a:xfrm>
          <a:prstGeom prst="wedgeRoundRectCallout">
            <a:avLst>
              <a:gd name="adj1" fmla="val -59055"/>
              <a:gd name="adj2" fmla="val 36011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muneração do A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16040" y="3579840"/>
            <a:ext cx="1947960" cy="167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3440" y="3902040"/>
            <a:ext cx="1530360" cy="1339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1640" y="3579840"/>
            <a:ext cx="1962360" cy="3888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21160" y="91440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603440" y="1634760"/>
            <a:ext cx="0" cy="382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96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337104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6040" y="382284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98080" y="2374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22520" y="1887480"/>
            <a:ext cx="3545280" cy="2644200"/>
            <a:chOff x="1622520" y="1887480"/>
            <a:chExt cx="3545280" cy="2644200"/>
          </a:xfrm>
        </p:grpSpPr>
        <p:sp>
          <p:nvSpPr>
            <p:cNvPr id="201" name=""/>
            <p:cNvSpPr/>
            <p:nvPr/>
          </p:nvSpPr>
          <p:spPr>
            <a:xfrm>
              <a:off x="4817880" y="41634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22520" y="1887480"/>
              <a:ext cx="3186000" cy="228132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89640" y="4127040"/>
            <a:ext cx="3684240" cy="1433880"/>
            <a:chOff x="4589640" y="4127040"/>
            <a:chExt cx="3684240" cy="1433880"/>
          </a:xfrm>
        </p:grpSpPr>
        <p:sp>
          <p:nvSpPr>
            <p:cNvPr id="204" name=""/>
            <p:cNvSpPr/>
            <p:nvPr/>
          </p:nvSpPr>
          <p:spPr>
            <a:xfrm flipV="1">
              <a:off x="4589640" y="4127040"/>
              <a:ext cx="0" cy="476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05680" y="4591080"/>
              <a:ext cx="2068200" cy="969840"/>
            </a:xfrm>
            <a:prstGeom prst="wedgeRoundRectCallout">
              <a:avLst>
                <a:gd name="adj1" fmla="val -126824"/>
                <a:gd name="adj2" fmla="val -68495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ondições m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liberais de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39800" y="2568600"/>
            <a:ext cx="3130560" cy="206208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44480" y="3506760"/>
            <a:ext cx="1992600" cy="1731960"/>
            <a:chOff x="1644480" y="3506760"/>
            <a:chExt cx="1992600" cy="1731960"/>
          </a:xfrm>
        </p:grpSpPr>
        <p:sp>
          <p:nvSpPr>
            <p:cNvPr id="208" name=""/>
            <p:cNvSpPr/>
            <p:nvPr/>
          </p:nvSpPr>
          <p:spPr>
            <a:xfrm>
              <a:off x="3562200" y="3565440"/>
              <a:ext cx="1800" cy="16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644480" y="3578400"/>
              <a:ext cx="19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490920" y="3506760"/>
              <a:ext cx="146160" cy="522360"/>
              <a:chOff x="3490920" y="3506760"/>
              <a:chExt cx="146160" cy="522360"/>
            </a:xfrm>
          </p:grpSpPr>
          <p:sp>
            <p:nvSpPr>
              <p:cNvPr id="211" name=""/>
              <p:cNvSpPr/>
              <p:nvPr/>
            </p:nvSpPr>
            <p:spPr>
              <a:xfrm>
                <a:off x="3492360" y="3506760"/>
                <a:ext cx="144720" cy="130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90920" y="3898800"/>
                <a:ext cx="144360" cy="130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2482920" y="1660680"/>
            <a:ext cx="2833560" cy="581040"/>
          </a:xfrm>
          <a:prstGeom prst="wedgeRoundRectCallout">
            <a:avLst>
              <a:gd name="adj1" fmla="val -29101"/>
              <a:gd name="adj2" fmla="val 304643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muneração do A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38560" y="914400"/>
            <a:ext cx="63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teção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4680" y="2529000"/>
            <a:ext cx="69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elepirat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(para denúncias sobre pirataria de soft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60560" y="3859200"/>
            <a:ext cx="3807000" cy="971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Lucida Casual"/>
              </a:rPr>
              <a:t>0800-1100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Lucida Casual"/>
              </a:rPr>
              <a:t>telepirata@abes.org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97320" y="17542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8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8040" y="3243600"/>
            <a:ext cx="744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scuta a dimensão econômica dos direitos autor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 produtos digitais (utilizando de 100 a 150 palav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m termos das propriedades de indestrutividd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transmutatiblidade e reprodutibil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0200" y="1752480"/>
            <a:ext cx="495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INFLUÊNCIA 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ÓRGÃOS REGUL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E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495288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733920"/>
            <a:ext cx="1304640" cy="916920"/>
            <a:chOff x="3962520" y="373392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7339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39754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8498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228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7600" y="6235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Contin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22720" y="91584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incipais Impostos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67120" y="1767600"/>
            <a:ext cx="6503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de Importação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de Exportação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de Renda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Produtos Industrializado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Operações Financeira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a Propriedade Territorial Rural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Grandes Fortuna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Transmissão </a:t>
            </a:r>
            <a:r>
              <a:rPr b="1" i="1" lang="en-US" sz="1600" spc="-1" strike="noStrike">
                <a:solidFill>
                  <a:srgbClr val="3333cc"/>
                </a:solidFill>
                <a:latin typeface="Lucida Casual"/>
              </a:rPr>
              <a:t>Causa Mortis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e Doaçõe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T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Circulação de Mercadorias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Prestação de Serviço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C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Propriedade de Veículos Automotore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P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Servioços de Qualquer Natureza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Propriedade Predial e Territorial Urbana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P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Transmissão Intervivos 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T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Vendas a Varejo de Combustívei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V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920" y="26042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1760" y="420444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2120" y="536184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Lucida Casual"/>
              </a:rPr>
              <a:t>Municíp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9280" y="1874880"/>
            <a:ext cx="0" cy="19494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89280" y="3886200"/>
            <a:ext cx="0" cy="1127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89280" y="5075280"/>
            <a:ext cx="0" cy="11113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04320" y="96192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utras Contribu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8520" y="4735440"/>
            <a:ext cx="66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Programa de Integração Social - </a:t>
            </a:r>
            <a:r>
              <a:rPr b="1" lang="en-US" sz="2000" spc="-1" strike="noStrike">
                <a:solidFill>
                  <a:srgbClr val="ff5050"/>
                </a:solidFill>
                <a:latin typeface="Lucida Casual"/>
              </a:rPr>
              <a:t>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Contribuição Social sobre o Faturamento - </a:t>
            </a:r>
            <a:r>
              <a:rPr b="1" lang="en-US" sz="2000" spc="-1" strike="noStrike">
                <a:solidFill>
                  <a:srgbClr val="ff5050"/>
                </a:solidFill>
                <a:latin typeface="Lucida Casual"/>
              </a:rPr>
              <a:t>CO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Contribuição Social sobre o Lucro - </a:t>
            </a:r>
            <a:r>
              <a:rPr b="1" lang="en-US" sz="2000" spc="-1" strike="noStrike">
                <a:solidFill>
                  <a:srgbClr val="ff5050"/>
                </a:solidFill>
                <a:latin typeface="Lucida Casual"/>
              </a:rPr>
              <a:t>C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520" y="1943280"/>
            <a:ext cx="80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nstituição da República Federativa d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Título VIII: Da Ordem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ap II, Seção I, Art. 195</a:t>
            </a:r>
            <a:r>
              <a:rPr b="1" lang="pt-BR" sz="1800" spc="-1" strike="noStrike" baseline="30000">
                <a:solidFill>
                  <a:srgbClr val="ff3300"/>
                </a:solidFill>
                <a:latin typeface="Lucida Casual"/>
              </a:rPr>
              <a:t>o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“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 seguridade social será financiada por toda a sociedade, de for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reta e indireta, nos termos da lei, mediante recursos proveni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os orçamentos da União, dos Estados, do Distrito Federal e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unicípios...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603440" y="4075200"/>
            <a:ext cx="1760400" cy="1166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46720" y="9144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14600" y="4067280"/>
            <a:ext cx="1760400" cy="1166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46720" y="9144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03440" y="4075200"/>
            <a:ext cx="1760400" cy="1166760"/>
            <a:chOff x="1603440" y="4075200"/>
            <a:chExt cx="1760400" cy="1166760"/>
          </a:xfrm>
        </p:grpSpPr>
        <p:sp>
          <p:nvSpPr>
            <p:cNvPr id="284" name=""/>
            <p:cNvSpPr/>
            <p:nvPr/>
          </p:nvSpPr>
          <p:spPr>
            <a:xfrm>
              <a:off x="1603440" y="4075200"/>
              <a:ext cx="1760400" cy="1166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11360" y="4325760"/>
              <a:ext cx="1154160" cy="90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92280" y="3635280"/>
            <a:ext cx="1154160" cy="68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12760" y="2627280"/>
            <a:ext cx="4637880" cy="3149640"/>
            <a:chOff x="1112760" y="2627280"/>
            <a:chExt cx="4637880" cy="3149640"/>
          </a:xfrm>
        </p:grpSpPr>
        <p:sp>
          <p:nvSpPr>
            <p:cNvPr id="290" name=""/>
            <p:cNvSpPr/>
            <p:nvPr/>
          </p:nvSpPr>
          <p:spPr>
            <a:xfrm>
              <a:off x="4589640" y="2732040"/>
              <a:ext cx="0" cy="6634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15920" y="285192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Impo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57600" y="3699000"/>
              <a:ext cx="0" cy="155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603080" y="3627360"/>
              <a:ext cx="111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112760" y="2627280"/>
              <a:ext cx="3629160" cy="3149640"/>
              <a:chOff x="1112760" y="2627280"/>
              <a:chExt cx="3629160" cy="31496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25760" y="2627280"/>
                <a:ext cx="3116160" cy="1339920"/>
              </a:xfrm>
              <a:custGeom>
                <a:avLst/>
                <a:gdLst/>
                <a:ahLst/>
                <a:rect l="l" t="t" r="r" b="b"/>
                <a:pathLst>
                  <a:path w="1963" h="663">
                    <a:moveTo>
                      <a:pt x="0" y="663"/>
                    </a:moveTo>
                    <a:cubicBezTo>
                      <a:pt x="220" y="621"/>
                      <a:pt x="441" y="580"/>
                      <a:pt x="682" y="509"/>
                    </a:cubicBezTo>
                    <a:cubicBezTo>
                      <a:pt x="923" y="438"/>
                      <a:pt x="1231" y="321"/>
                      <a:pt x="1445" y="236"/>
                    </a:cubicBezTo>
                    <a:cubicBezTo>
                      <a:pt x="1659" y="151"/>
                      <a:pt x="1877" y="39"/>
                      <a:pt x="1963" y="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617920" y="5284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260720" y="34218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112760" y="3627360"/>
                <a:ext cx="0" cy="44784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43200" y="5776920"/>
                <a:ext cx="64944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9840" y="3564000"/>
                <a:ext cx="144360" cy="1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14600" y="4067280"/>
            <a:ext cx="1760400" cy="11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46720" y="9144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603440" y="4075200"/>
            <a:ext cx="1760400" cy="1166760"/>
            <a:chOff x="1603440" y="4075200"/>
            <a:chExt cx="1760400" cy="1166760"/>
          </a:xfrm>
        </p:grpSpPr>
        <p:sp>
          <p:nvSpPr>
            <p:cNvPr id="317" name=""/>
            <p:cNvSpPr/>
            <p:nvPr/>
          </p:nvSpPr>
          <p:spPr>
            <a:xfrm>
              <a:off x="1603440" y="4075200"/>
              <a:ext cx="1760400" cy="11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11360" y="4325760"/>
              <a:ext cx="1154160" cy="90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92280" y="3635280"/>
            <a:ext cx="1154160" cy="68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112760" y="2627280"/>
            <a:ext cx="4637880" cy="3149640"/>
            <a:chOff x="1112760" y="2627280"/>
            <a:chExt cx="4637880" cy="3149640"/>
          </a:xfrm>
        </p:grpSpPr>
        <p:sp>
          <p:nvSpPr>
            <p:cNvPr id="322" name=""/>
            <p:cNvSpPr/>
            <p:nvPr/>
          </p:nvSpPr>
          <p:spPr>
            <a:xfrm>
              <a:off x="4589640" y="2732040"/>
              <a:ext cx="0" cy="6634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15920" y="285192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Impo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57600" y="3699000"/>
              <a:ext cx="0" cy="155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603080" y="3627360"/>
              <a:ext cx="111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1112760" y="2627280"/>
              <a:ext cx="3629160" cy="3149640"/>
              <a:chOff x="1112760" y="2627280"/>
              <a:chExt cx="3629160" cy="3149640"/>
            </a:xfrm>
          </p:grpSpPr>
          <p:sp>
            <p:nvSpPr>
              <p:cNvPr id="327" name=""/>
              <p:cNvSpPr/>
              <p:nvPr/>
            </p:nvSpPr>
            <p:spPr>
              <a:xfrm>
                <a:off x="1625760" y="2627280"/>
                <a:ext cx="3116160" cy="1339920"/>
              </a:xfrm>
              <a:custGeom>
                <a:avLst/>
                <a:gdLst/>
                <a:ahLst/>
                <a:rect l="l" t="t" r="r" b="b"/>
                <a:pathLst>
                  <a:path w="1963" h="663">
                    <a:moveTo>
                      <a:pt x="0" y="663"/>
                    </a:moveTo>
                    <a:cubicBezTo>
                      <a:pt x="220" y="621"/>
                      <a:pt x="441" y="580"/>
                      <a:pt x="682" y="509"/>
                    </a:cubicBezTo>
                    <a:cubicBezTo>
                      <a:pt x="923" y="438"/>
                      <a:pt x="1231" y="321"/>
                      <a:pt x="1445" y="236"/>
                    </a:cubicBezTo>
                    <a:cubicBezTo>
                      <a:pt x="1659" y="151"/>
                      <a:pt x="1877" y="39"/>
                      <a:pt x="1963" y="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617920" y="5284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60720" y="34218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112760" y="3627360"/>
                <a:ext cx="0" cy="44784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743200" y="5776920"/>
                <a:ext cx="64944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9840" y="3564000"/>
                <a:ext cx="144360" cy="1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42640" y="1848240"/>
            <a:ext cx="1530720" cy="2288520"/>
          </a:xfrm>
          <a:solidFill>
            <a:srgbClr val="ffcc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Govern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aú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du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Habi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gu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La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768760" y="3657600"/>
            <a:ext cx="622080" cy="660240"/>
          </a:xfrm>
          <a:custGeom>
            <a:avLst/>
            <a:gdLst/>
            <a:ahLst/>
            <a:rect l="l" t="t" r="r" b="b"/>
            <a:pathLst>
              <a:path w="392" h="416">
                <a:moveTo>
                  <a:pt x="0" y="0"/>
                </a:moveTo>
                <a:lnTo>
                  <a:pt x="164" y="104"/>
                </a:lnTo>
                <a:lnTo>
                  <a:pt x="392" y="248"/>
                </a:lnTo>
                <a:lnTo>
                  <a:pt x="0" y="416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4600" y="4067280"/>
            <a:ext cx="1760400" cy="11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46720" y="9144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03440" y="4075200"/>
            <a:ext cx="1760400" cy="1166760"/>
            <a:chOff x="1603440" y="4075200"/>
            <a:chExt cx="1760400" cy="1166760"/>
          </a:xfrm>
        </p:grpSpPr>
        <p:sp>
          <p:nvSpPr>
            <p:cNvPr id="353" name=""/>
            <p:cNvSpPr/>
            <p:nvPr/>
          </p:nvSpPr>
          <p:spPr>
            <a:xfrm>
              <a:off x="1603440" y="4075200"/>
              <a:ext cx="1760400" cy="11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11360" y="4325760"/>
              <a:ext cx="1154160" cy="90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92280" y="3635280"/>
            <a:ext cx="1154160" cy="68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12760" y="2627280"/>
            <a:ext cx="4637880" cy="3149640"/>
            <a:chOff x="1112760" y="2627280"/>
            <a:chExt cx="4637880" cy="3149640"/>
          </a:xfrm>
        </p:grpSpPr>
        <p:sp>
          <p:nvSpPr>
            <p:cNvPr id="358" name=""/>
            <p:cNvSpPr/>
            <p:nvPr/>
          </p:nvSpPr>
          <p:spPr>
            <a:xfrm>
              <a:off x="4589640" y="2732040"/>
              <a:ext cx="0" cy="6634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15920" y="285192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Impo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57600" y="3699000"/>
              <a:ext cx="0" cy="155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1603080" y="3627360"/>
              <a:ext cx="111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112760" y="2627280"/>
              <a:ext cx="3629160" cy="3149640"/>
              <a:chOff x="1112760" y="2627280"/>
              <a:chExt cx="3629160" cy="3149640"/>
            </a:xfrm>
          </p:grpSpPr>
          <p:sp>
            <p:nvSpPr>
              <p:cNvPr id="363" name=""/>
              <p:cNvSpPr/>
              <p:nvPr/>
            </p:nvSpPr>
            <p:spPr>
              <a:xfrm>
                <a:off x="1625760" y="2627280"/>
                <a:ext cx="3116160" cy="1339920"/>
              </a:xfrm>
              <a:custGeom>
                <a:avLst/>
                <a:gdLst/>
                <a:ahLst/>
                <a:rect l="l" t="t" r="r" b="b"/>
                <a:pathLst>
                  <a:path w="1963" h="663">
                    <a:moveTo>
                      <a:pt x="0" y="663"/>
                    </a:moveTo>
                    <a:cubicBezTo>
                      <a:pt x="220" y="621"/>
                      <a:pt x="441" y="580"/>
                      <a:pt x="682" y="509"/>
                    </a:cubicBezTo>
                    <a:cubicBezTo>
                      <a:pt x="923" y="438"/>
                      <a:pt x="1231" y="321"/>
                      <a:pt x="1445" y="236"/>
                    </a:cubicBezTo>
                    <a:cubicBezTo>
                      <a:pt x="1659" y="151"/>
                      <a:pt x="1877" y="39"/>
                      <a:pt x="1963" y="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617920" y="5284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60720" y="34218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112760" y="3627360"/>
                <a:ext cx="0" cy="44784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2743200" y="5776920"/>
                <a:ext cx="64944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79840" y="3564000"/>
                <a:ext cx="144360" cy="1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603440" y="4071960"/>
            <a:ext cx="177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42640" y="1848240"/>
            <a:ext cx="1530720" cy="2288520"/>
          </a:xfrm>
          <a:solidFill>
            <a:srgbClr val="ffcc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Govern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aú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Edu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Habi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egu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a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21440" y="4772880"/>
            <a:ext cx="2386080" cy="368280"/>
          </a:xfrm>
          <a:solidFill>
            <a:srgbClr val="ffff00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eadweigh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3400" y="91584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ubsí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3440" y="4056120"/>
            <a:ext cx="1760400" cy="1185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603440" y="1808280"/>
            <a:ext cx="0" cy="365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5257800"/>
            <a:ext cx="428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805680" y="1910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44920" y="54936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16040" y="3868560"/>
            <a:ext cx="2149560" cy="1370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23400" y="91584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ubsí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440" y="4056120"/>
            <a:ext cx="1760400" cy="1185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257800"/>
            <a:ext cx="428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08120" y="26067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22560" y="4215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805680" y="1910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44920" y="54936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66840" y="3904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2720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27200" y="2104920"/>
            <a:ext cx="3159000" cy="223704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76680" y="380988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603440" y="1808280"/>
            <a:ext cx="0" cy="365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27360" y="5282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74760" y="3668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729400"/>
            <a:ext cx="44784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211400" y="3825360"/>
            <a:ext cx="0" cy="360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593720" y="2108160"/>
            <a:ext cx="2159280" cy="2546280"/>
          </a:xfrm>
          <a:custGeom>
            <a:avLst/>
            <a:gdLst/>
            <a:ahLst/>
            <a:rect l="l" t="t" r="r" b="b"/>
            <a:pathLst>
              <a:path w="1360" h="1604">
                <a:moveTo>
                  <a:pt x="12" y="0"/>
                </a:moveTo>
                <a:lnTo>
                  <a:pt x="236" y="252"/>
                </a:lnTo>
                <a:lnTo>
                  <a:pt x="456" y="472"/>
                </a:lnTo>
                <a:lnTo>
                  <a:pt x="752" y="712"/>
                </a:lnTo>
                <a:lnTo>
                  <a:pt x="1036" y="912"/>
                </a:lnTo>
                <a:lnTo>
                  <a:pt x="1360" y="1116"/>
                </a:lnTo>
                <a:lnTo>
                  <a:pt x="848" y="1348"/>
                </a:lnTo>
                <a:lnTo>
                  <a:pt x="512" y="1476"/>
                </a:lnTo>
                <a:lnTo>
                  <a:pt x="0" y="1604"/>
                </a:lnTo>
                <a:lnTo>
                  <a:pt x="12" y="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93720" y="2616120"/>
            <a:ext cx="1771920" cy="2032200"/>
          </a:xfrm>
          <a:custGeom>
            <a:avLst/>
            <a:gdLst/>
            <a:ahLst/>
            <a:rect l="l" t="t" r="r" b="b"/>
            <a:pathLst>
              <a:path w="1116" h="1280">
                <a:moveTo>
                  <a:pt x="4" y="0"/>
                </a:moveTo>
                <a:lnTo>
                  <a:pt x="228" y="232"/>
                </a:lnTo>
                <a:lnTo>
                  <a:pt x="400" y="400"/>
                </a:lnTo>
                <a:lnTo>
                  <a:pt x="684" y="624"/>
                </a:lnTo>
                <a:lnTo>
                  <a:pt x="1116" y="908"/>
                </a:lnTo>
                <a:lnTo>
                  <a:pt x="756" y="1068"/>
                </a:lnTo>
                <a:lnTo>
                  <a:pt x="512" y="1152"/>
                </a:lnTo>
                <a:lnTo>
                  <a:pt x="240" y="1228"/>
                </a:lnTo>
                <a:lnTo>
                  <a:pt x="0" y="1280"/>
                </a:lnTo>
                <a:lnTo>
                  <a:pt x="4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23400" y="91584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ubsí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5257800"/>
            <a:ext cx="428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8120" y="26067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22560" y="4215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805680" y="1910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44920" y="54936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66840" y="3904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2720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27200" y="2104920"/>
            <a:ext cx="3159000" cy="223704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76680" y="380988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603440" y="1808280"/>
            <a:ext cx="0" cy="365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27360" y="5282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74760" y="3668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90840" y="5729400"/>
            <a:ext cx="44784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211400" y="3825360"/>
            <a:ext cx="0" cy="360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616040" y="3882960"/>
            <a:ext cx="207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51200" y="395460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04080" y="1948680"/>
            <a:ext cx="2328840" cy="916920"/>
          </a:xfrm>
          <a:solidFill>
            <a:srgbClr val="33ccff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xcedentes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nsumidor e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dutor Ma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57960" y="3606120"/>
            <a:ext cx="175248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39" y="2588"/>
                </a:moveTo>
                <a:lnTo>
                  <a:pt x="26472" y="2588"/>
                </a:lnTo>
                <a:lnTo>
                  <a:pt x="26472" y="-10063"/>
                </a:lnTo>
                <a:lnTo>
                  <a:pt x="23965" y="-17395"/>
                </a:lnTo>
              </a:path>
              <a:path w="21600" h="21600">
                <a:moveTo>
                  <a:pt x="22539" y="0"/>
                </a:moveTo>
                <a:lnTo>
                  <a:pt x="22539" y="21600"/>
                </a:lnTo>
              </a:path>
            </a:pathLst>
          </a:custGeom>
          <a:solidFill>
            <a:srgbClr val="ffff00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Recursos para dar Subsíd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11960" y="5163480"/>
            <a:ext cx="17524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939" y="3634"/>
                </a:moveTo>
                <a:lnTo>
                  <a:pt x="-4011" y="3634"/>
                </a:lnTo>
                <a:lnTo>
                  <a:pt x="-4011" y="-11254"/>
                </a:lnTo>
                <a:lnTo>
                  <a:pt x="-976" y="-20512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ffff00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Criaçã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l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2560" y="1314360"/>
            <a:ext cx="776664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omover a utilização de instrumentos da Teoria Econômica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avaliar os impactos dos mecanismos de regulação e fis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nalisar conceitos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teção à Propriedade Intele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ib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ubsí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rmat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teção a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teção a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teção aos Valores So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2880" y="94788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Normas, Padrões, Certif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0240" y="2048040"/>
            <a:ext cx="62715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adr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MPEG, RS 232, IEE 488, PCMCIA, *.ps, etc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              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VESA?, Zip Drive?, 110/220V?, SCSI?, PAL-M?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88360" y="3236760"/>
            <a:ext cx="4139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ABNT, DIN, IEEE, CCIT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78000" y="4313160"/>
            <a:ext cx="47768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ertif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ISO 9002, ISO 14001, BS 88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49080" y="99072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teção a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70920" y="3187800"/>
            <a:ext cx="3567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Órgãos de Prote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PROCOM, IDEC,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91440" y="4176720"/>
            <a:ext cx="6986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ublicações e sites especia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Revistas de análise de sites, listas negras, etc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7920" y="2125800"/>
            <a:ext cx="4071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Legislação espec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Código do consumido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2880" y="5202360"/>
            <a:ext cx="40543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ertificações e homolog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INMETRO, FDA, FAA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70680" y="2031840"/>
            <a:ext cx="4362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ódigo de Defesa d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Lei 8072 de 11 set 19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9720" y="3164040"/>
            <a:ext cx="794088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Tit I: Dos Direitos d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ap IV, Seção III: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Da Responsabilidade por Vício do Produt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o Serviço -&gt; Prazo para sanar o vício 30 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ap V, Art. 37: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paganda Enganosa ou Publicidade Abu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ap VII, Art. 56: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Das Sanções Administrativas (multa, apreen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o produto, cassação do registro, probição de fabricação, interd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o estabelecimento, intervenção, imposição de contra-propagan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49080" y="99072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teção a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71040" y="2031840"/>
            <a:ext cx="4362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ódigo de Defesa d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Lei 8072 de 11 set 19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9200" y="2946240"/>
            <a:ext cx="81648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Tit II: Das Infrações Pe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Art. 66: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azer afirmação falsa ou enganosa, ou omitir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levante sobre a natureza, característica, qualidade, quantida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gurança, desempenho, durabilidade, preço ou garantia de 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 serviços;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ena: Detenção de 3 meses a 1 ano e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Art. 67: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azer ou promover publicidade que sabe ou deveria sa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r enganosa ou abusiva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ena: Detenção de 3 meses a 1 ano e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Art. 72: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Impedir ou dificultar o acesso do consumidor às 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e sobre ele contém em cadastros, bando de dados, fichas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gistros.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ena: Detenção de 3 meses a 1 ano e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49080" y="99072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teção a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08920" y="990720"/>
            <a:ext cx="39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teção a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600" y="1654200"/>
            <a:ext cx="83764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Legislação espec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Fair trading act, 1973; Sherman act, 1890; Clayton act, 191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 Brasil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ei 8.884 de 11 jun 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rt. 20 “... são consideradas infrações, os atos, mesmo aqueles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ão surtem o efeito pretendido, direcionad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 - limitar, falsear ou de qualquer forma prejudicar a li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   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corrência ou a livre inic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I- dominar o mercado relevante de 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II - aumentar arbitrariamente os luc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V - exercer de forma abusiva posição dominant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9920" y="4479840"/>
            <a:ext cx="7518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Organis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Organização Mundial do Comérci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 Brasil: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CADE - Conselho Administrativo de Defesa Econô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2960" y="5605560"/>
            <a:ext cx="5412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No caso do mercado de 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Sindicatos, Ministério do Trabalh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2200" y="175428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8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31920" y="3366000"/>
            <a:ext cx="665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ite aspectos positivos e negativos decorrentes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necessidade econômica de se financiar um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 proteção ao consum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88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17600" y="6235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Contin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0280" y="914400"/>
            <a:ext cx="82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teção aos Valores Sociais e Me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21680" y="2125800"/>
            <a:ext cx="6022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rganizações civis ou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ONGs, clubes, associações, jornais, tv,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04680" y="3159000"/>
            <a:ext cx="5400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rganizações governamen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Delegacias, comitês consultivos,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24920" y="4235400"/>
            <a:ext cx="5139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rganizações religi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Igrejas, escolas confessionais,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94120" y="1501920"/>
            <a:ext cx="6082920" cy="41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505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oteção à Propriedade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rib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Subsí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Normat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oteção ao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oteção ao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oteção aos Valores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87600" y="175428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8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1080" y="3243960"/>
            <a:ext cx="79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ente, em termos da liberdade econômica d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no comércio eletrônico, o deb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87440" y="4221720"/>
            <a:ext cx="63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Liberdade de Expressão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 Decência de Conteú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38560" y="914400"/>
            <a:ext cx="63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teção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4520" y="2543760"/>
            <a:ext cx="68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Declaração Universal dos Direit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2720" y="3408840"/>
            <a:ext cx="85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Lucida Casual"/>
              </a:rPr>
              <a:t>Art. 27, §2</a:t>
            </a:r>
            <a:r>
              <a:rPr b="1" lang="pt-BR" sz="2000" spc="-1" strike="noStrike" baseline="30000">
                <a:solidFill>
                  <a:srgbClr val="ff5050"/>
                </a:solidFill>
                <a:latin typeface="Lucida Casual"/>
              </a:rPr>
              <a:t>o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“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Todo homem tem direito à proteção dos interesses mor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 materiais decorrentes de qualquer produção científica, literá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ou artística da qual seja auto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NP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8560" y="914400"/>
            <a:ext cx="63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teção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8000" y="199296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Exemplos de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3920" y="2625120"/>
            <a:ext cx="71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Barney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-&gt; criadora Sheryl Leach distribui Videos Gratuitos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ícone 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2000" y="3342960"/>
            <a:ext cx="71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isney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-&gt; John J. Tormey, advogado da Disney: “Persegui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odas as infrações conhecidas de nossos direitos” -&gt; amea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 processar 3 creches na Florida por pintar personag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a Disney em su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1680" y="4654080"/>
            <a:ext cx="74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layboy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-&gt; Imagem de Playmate com marca d’água DigiMarc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 software MarcSpider vasculha r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2840" y="960480"/>
            <a:ext cx="86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3800" y="2405520"/>
            <a:ext cx="723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onstituição da República Federativa d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22 set 19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8360" y="3573720"/>
            <a:ext cx="762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Título II: Dos Direitos e Garantias Fundam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, Art. 5</a:t>
            </a:r>
            <a:r>
              <a:rPr b="1" lang="pt-BR" sz="2000" spc="-1" strike="noStrike" baseline="30000">
                <a:solidFill>
                  <a:srgbClr val="ff3300"/>
                </a:solidFill>
                <a:latin typeface="Lucida Casual"/>
              </a:rPr>
              <a:t>o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, XXVI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“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aos autores pertence o direito exclusivo de utilizaçã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ublicação ou reprodução de suas obras, transmissível a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herdeiros pelo tempo que a lei fix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840" y="960480"/>
            <a:ext cx="86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5600" y="1794240"/>
            <a:ext cx="4344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ódigo P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Decreto-Lei no 3.914 de 07 dez 19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1000" y="2664000"/>
            <a:ext cx="708120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Título III: Dos Crimes Contra a Propriedade I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: Art. 184 a 186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opriedade intele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I: Art. 187 a 191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ivilégio de inve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II: Art. 192 a 195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marcas de indústria e comé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V: art 196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orrência desl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80720" y="4863600"/>
            <a:ext cx="693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Obs: Lei 6.895 de 17 dez 1980: Dá nova redação aos art. 184 e 186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Art. 184: “Violar direito autor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Art. 186: “Nos crimes previstos neste Capítulo, sòmente se proc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mediante queixa...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2840" y="960480"/>
            <a:ext cx="86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2560" y="2221560"/>
            <a:ext cx="430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Decreto-Lei no 4.657 de 04 set 19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50400" y="3368160"/>
            <a:ext cx="590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Título II: Da Proprie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V: art 649-67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a propriedade literária, científica e art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3-28T23:13:49Z</dcterms:modified>
  <cp:revision>138</cp:revision>
  <dc:subject/>
  <dc:title>regula</dc:title>
</cp:coreProperties>
</file>