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0B8-927B-4E4F-91C0-024A8B6B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E008-65BA-471B-A89A-9C758B72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929-23B5-4793-96E2-700A6C08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28F-56B8-4A6D-8970-B5A51615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171-FB0E-4ED4-88A4-E34AD461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1164-742C-4ACC-87C2-E368EDCA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ABC-A7D0-4075-B0E6-4B6CE60C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062-8FF7-423B-8252-823DF181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863-BDB3-4E24-8066-F64911B6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339-C19F-4A51-A2E3-FB89A8E0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606-A1F9-4AD7-B741-383940D5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168-8A8C-44F6-9377-08872F4B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FA6A-58D6-4021-8282-9FC634CF4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6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92320" y="474120"/>
            <a:ext cx="20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Macro-ec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612800" y="472428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3988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95960" y="2915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27840" y="29282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086600" y="213372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044800" y="213372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4800" y="213372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882880" y="24382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82880" y="24382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69520" y="18280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79160" y="2133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44800" y="350532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044800" y="411480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086600" y="35049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350532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82880" y="38098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882880" y="35053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78000" y="380916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3505320"/>
            <a:ext cx="0" cy="1218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67600" y="4914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oup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200400" y="3504960"/>
            <a:ext cx="4342320" cy="1981440"/>
            <a:chOff x="3200400" y="3504960"/>
            <a:chExt cx="4342320" cy="1981440"/>
          </a:xfrm>
        </p:grpSpPr>
        <p:sp>
          <p:nvSpPr>
            <p:cNvPr id="251" name=""/>
            <p:cNvSpPr/>
            <p:nvPr/>
          </p:nvSpPr>
          <p:spPr>
            <a:xfrm flipV="1">
              <a:off x="7238880" y="3504960"/>
              <a:ext cx="0" cy="12445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3200400" y="4749840"/>
              <a:ext cx="4342320" cy="736560"/>
              <a:chOff x="3200400" y="4749840"/>
              <a:chExt cx="4342320" cy="736560"/>
            </a:xfrm>
          </p:grpSpPr>
          <p:sp>
            <p:nvSpPr>
              <p:cNvPr id="253" name=""/>
              <p:cNvSpPr/>
              <p:nvPr/>
            </p:nvSpPr>
            <p:spPr>
              <a:xfrm>
                <a:off x="3200400" y="5105520"/>
                <a:ext cx="2666880" cy="0"/>
              </a:xfrm>
              <a:prstGeom prst="line">
                <a:avLst/>
              </a:prstGeom>
              <a:ln w="1908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67280" y="4749840"/>
                <a:ext cx="1600200" cy="73656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822640" y="4914360"/>
                <a:ext cx="172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8000"/>
                    </a:solidFill>
                    <a:latin typeface="Lucida Casual"/>
                  </a:rPr>
                  <a:t>Investime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3252960" y="474912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ercado de Cap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12320" y="3504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200400" y="5105520"/>
            <a:ext cx="266688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12800" y="472428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3988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95960" y="2915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7840" y="29282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086600" y="213372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044800" y="213372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44800" y="213372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882880" y="24382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82880" y="24382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34280" y="18280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: R$ 1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79160" y="2133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44800" y="350532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044800" y="411480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086600" y="35049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350532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82880" y="38098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82880" y="35053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08640" y="38091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: R$ 9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05120" y="3505320"/>
            <a:ext cx="0" cy="1218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67600" y="4914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oup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474984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238880" y="3504960"/>
            <a:ext cx="0" cy="12445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22640" y="49143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Invest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52960" y="474912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ercado de Cap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18440" y="426636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43280" y="429192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12320" y="3504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200400" y="5105520"/>
            <a:ext cx="266688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12800" y="472428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3988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95960" y="2915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27840" y="29282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044440" y="2119320"/>
            <a:ext cx="4655880" cy="619200"/>
            <a:chOff x="2044440" y="2119320"/>
            <a:chExt cx="4655880" cy="619200"/>
          </a:xfrm>
        </p:grpSpPr>
        <p:sp>
          <p:nvSpPr>
            <p:cNvPr id="302" name=""/>
            <p:cNvSpPr/>
            <p:nvPr/>
          </p:nvSpPr>
          <p:spPr>
            <a:xfrm flipV="1">
              <a:off x="6697800" y="2119320"/>
              <a:ext cx="0" cy="619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044440" y="2133720"/>
              <a:ext cx="4655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4800" y="2133720"/>
              <a:ext cx="0" cy="59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 flipV="1">
            <a:off x="2882880" y="24382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82880" y="24382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69520" y="18280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79160" y="2133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44800" y="350532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044800" y="411480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086600" y="35049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48520" y="350532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82880" y="38098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882880" y="35053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78000" y="380916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05120" y="3505320"/>
            <a:ext cx="0" cy="1218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67600" y="4914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oup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67280" y="474984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7238880" y="3504960"/>
            <a:ext cx="0" cy="12445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22640" y="49143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Invest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52960" y="474912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ercado de Cap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12800" y="552456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63000" y="56966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050480" y="1752480"/>
            <a:ext cx="6077160" cy="4137120"/>
            <a:chOff x="1050480" y="1752480"/>
            <a:chExt cx="6077160" cy="4137120"/>
          </a:xfrm>
        </p:grpSpPr>
        <p:sp>
          <p:nvSpPr>
            <p:cNvPr id="327" name=""/>
            <p:cNvSpPr/>
            <p:nvPr/>
          </p:nvSpPr>
          <p:spPr>
            <a:xfrm>
              <a:off x="7115040" y="1760400"/>
              <a:ext cx="3240" cy="10051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050480" y="1760400"/>
              <a:ext cx="6077160" cy="79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66680" y="1752480"/>
              <a:ext cx="0" cy="41371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74600" y="5883120"/>
              <a:ext cx="53352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712320" y="3504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00400" y="5105520"/>
            <a:ext cx="266688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12800" y="472428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3988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95960" y="2915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27840" y="29282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882880" y="24382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82880" y="24382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34280" y="18280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: R$ 1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79160" y="2133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44800" y="350532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044800" y="411480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7086600" y="35049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350532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82880" y="38098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882880" y="35053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75880" y="38091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 R$ 9k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05120" y="3505320"/>
            <a:ext cx="0" cy="1218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67600" y="4914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oup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474984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238880" y="3504960"/>
            <a:ext cx="0" cy="12445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22640" y="49143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Invest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52960" y="474912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ercado de Cap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12800" y="552456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63000" y="56966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32920" y="42523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0.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67040" y="42760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0.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2320" y="3504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050480" y="1752480"/>
            <a:ext cx="6077160" cy="4137120"/>
            <a:chOff x="1050480" y="1752480"/>
            <a:chExt cx="6077160" cy="4137120"/>
          </a:xfrm>
        </p:grpSpPr>
        <p:sp>
          <p:nvSpPr>
            <p:cNvPr id="366" name=""/>
            <p:cNvSpPr/>
            <p:nvPr/>
          </p:nvSpPr>
          <p:spPr>
            <a:xfrm>
              <a:off x="7115040" y="1760400"/>
              <a:ext cx="3240" cy="10051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1050480" y="1760400"/>
              <a:ext cx="6077160" cy="79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66680" y="1752480"/>
              <a:ext cx="0" cy="41371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74600" y="5883120"/>
              <a:ext cx="53352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044440" y="2119320"/>
            <a:ext cx="4655880" cy="619200"/>
            <a:chOff x="2044440" y="2119320"/>
            <a:chExt cx="4655880" cy="619200"/>
          </a:xfrm>
        </p:grpSpPr>
        <p:sp>
          <p:nvSpPr>
            <p:cNvPr id="371" name=""/>
            <p:cNvSpPr/>
            <p:nvPr/>
          </p:nvSpPr>
          <p:spPr>
            <a:xfrm flipV="1">
              <a:off x="6697800" y="2119320"/>
              <a:ext cx="0" cy="619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044440" y="2133720"/>
              <a:ext cx="4655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44800" y="2133720"/>
              <a:ext cx="0" cy="59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200400" y="5105520"/>
            <a:ext cx="266688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12800" y="472428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73988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95960" y="2915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4360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27840" y="29282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882880" y="24382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82880" y="24382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99800" y="182808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: R$ 9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79160" y="2133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44800" y="350532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044800" y="411480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7086600" y="35049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48520" y="350532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82880" y="38098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2882880" y="35053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75880" y="38091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 R$ 8k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3505320"/>
            <a:ext cx="0" cy="1218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67600" y="4914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oup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67280" y="474984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238880" y="3504960"/>
            <a:ext cx="0" cy="12445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640" y="49143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Invest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52960" y="474912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ercado de Cap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12800" y="552456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30600" y="554436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32920" y="42523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0.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4640" y="568080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R$ 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367040" y="42760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0.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12320" y="3504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050480" y="1752480"/>
            <a:ext cx="6077160" cy="4137120"/>
            <a:chOff x="1050480" y="1752480"/>
            <a:chExt cx="6077160" cy="4137120"/>
          </a:xfrm>
        </p:grpSpPr>
        <p:sp>
          <p:nvSpPr>
            <p:cNvPr id="409" name=""/>
            <p:cNvSpPr/>
            <p:nvPr/>
          </p:nvSpPr>
          <p:spPr>
            <a:xfrm>
              <a:off x="7115040" y="1760400"/>
              <a:ext cx="3240" cy="10051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1050480" y="1760400"/>
              <a:ext cx="6077160" cy="79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66680" y="1752480"/>
              <a:ext cx="0" cy="41371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74600" y="5883120"/>
              <a:ext cx="53352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2044440" y="2119320"/>
            <a:ext cx="4655880" cy="619200"/>
            <a:chOff x="2044440" y="2119320"/>
            <a:chExt cx="4655880" cy="619200"/>
          </a:xfrm>
        </p:grpSpPr>
        <p:sp>
          <p:nvSpPr>
            <p:cNvPr id="414" name=""/>
            <p:cNvSpPr/>
            <p:nvPr/>
          </p:nvSpPr>
          <p:spPr>
            <a:xfrm flipV="1">
              <a:off x="6697800" y="2119320"/>
              <a:ext cx="0" cy="619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044440" y="2133720"/>
              <a:ext cx="4655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44800" y="2133720"/>
              <a:ext cx="0" cy="59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991520" y="58474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R$ 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200400" y="5105520"/>
            <a:ext cx="266688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12800" y="472428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3988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95960" y="2915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27840" y="29282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2882880" y="24382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82880" y="24382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99800" y="182808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: R$ 8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79160" y="2133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4800" y="350532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044800" y="411480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5049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8520" y="350532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82880" y="38098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882880" y="35053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75880" y="38091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 R$ 7k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3505320"/>
            <a:ext cx="0" cy="1218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67600" y="4914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oup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867280" y="474984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7238880" y="3504960"/>
            <a:ext cx="0" cy="12445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22640" y="49143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Invest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52960" y="474912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ercado de Cap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12800" y="552456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830600" y="554436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032920" y="42523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0.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4640" y="568080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R$ 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367040" y="42760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0.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12320" y="3504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050480" y="1752480"/>
            <a:ext cx="6077160" cy="4137120"/>
            <a:chOff x="1050480" y="1752480"/>
            <a:chExt cx="6077160" cy="4137120"/>
          </a:xfrm>
        </p:grpSpPr>
        <p:sp>
          <p:nvSpPr>
            <p:cNvPr id="453" name=""/>
            <p:cNvSpPr/>
            <p:nvPr/>
          </p:nvSpPr>
          <p:spPr>
            <a:xfrm>
              <a:off x="7115040" y="1760400"/>
              <a:ext cx="3240" cy="10051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1050480" y="1760400"/>
              <a:ext cx="6077160" cy="79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66680" y="1752480"/>
              <a:ext cx="0" cy="41371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74600" y="5883120"/>
              <a:ext cx="53352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044440" y="2119320"/>
            <a:ext cx="4655880" cy="619200"/>
            <a:chOff x="2044440" y="2119320"/>
            <a:chExt cx="4655880" cy="619200"/>
          </a:xfrm>
        </p:grpSpPr>
        <p:sp>
          <p:nvSpPr>
            <p:cNvPr id="458" name=""/>
            <p:cNvSpPr/>
            <p:nvPr/>
          </p:nvSpPr>
          <p:spPr>
            <a:xfrm flipV="1">
              <a:off x="6697800" y="2119320"/>
              <a:ext cx="0" cy="619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044440" y="2133720"/>
              <a:ext cx="4655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44800" y="2133720"/>
              <a:ext cx="0" cy="59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991520" y="58474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R$ 2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200400" y="5105520"/>
            <a:ext cx="266688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12800" y="472428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3988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95960" y="2915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94360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27840" y="29282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82880" y="24382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82880" y="24382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799800" y="182808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: R$ 7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79160" y="2133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44800" y="350532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044800" y="411480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086600" y="35049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48520" y="350532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82880" y="38098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82880" y="35053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75880" y="38091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 R$ 6k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05120" y="3505320"/>
            <a:ext cx="0" cy="1218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67600" y="4914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oup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67280" y="474984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238880" y="3504960"/>
            <a:ext cx="0" cy="12445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22640" y="49143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Invest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52960" y="474912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ercado de Cap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12800" y="552456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30600" y="554436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32920" y="42523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0.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4640" y="568080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R$ 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367040" y="42760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0.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12320" y="3504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050480" y="1752480"/>
            <a:ext cx="6077160" cy="4137120"/>
            <a:chOff x="1050480" y="1752480"/>
            <a:chExt cx="6077160" cy="4137120"/>
          </a:xfrm>
        </p:grpSpPr>
        <p:sp>
          <p:nvSpPr>
            <p:cNvPr id="497" name=""/>
            <p:cNvSpPr/>
            <p:nvPr/>
          </p:nvSpPr>
          <p:spPr>
            <a:xfrm>
              <a:off x="7115040" y="1760400"/>
              <a:ext cx="3240" cy="10051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1050480" y="1760400"/>
              <a:ext cx="6077160" cy="79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66680" y="1752480"/>
              <a:ext cx="0" cy="41371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74600" y="5883120"/>
              <a:ext cx="53352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044440" y="2119320"/>
            <a:ext cx="4655880" cy="619200"/>
            <a:chOff x="2044440" y="2119320"/>
            <a:chExt cx="4655880" cy="619200"/>
          </a:xfrm>
        </p:grpSpPr>
        <p:sp>
          <p:nvSpPr>
            <p:cNvPr id="502" name=""/>
            <p:cNvSpPr/>
            <p:nvPr/>
          </p:nvSpPr>
          <p:spPr>
            <a:xfrm flipV="1">
              <a:off x="6697800" y="2119320"/>
              <a:ext cx="0" cy="619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044440" y="2133720"/>
              <a:ext cx="4655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4800" y="2133720"/>
              <a:ext cx="0" cy="59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991520" y="58474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R$ 3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200400" y="5105520"/>
            <a:ext cx="266688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12800" y="472428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3988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95960" y="2915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4360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27840" y="29282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882880" y="24382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82880" y="24382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69520" y="18280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79160" y="2133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44800" y="350532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044800" y="411480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7086600" y="35049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48520" y="350532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82880" y="38098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82880" y="35053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78000" y="380916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05120" y="3505320"/>
            <a:ext cx="0" cy="1218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767600" y="4914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oup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474984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7238880" y="3504960"/>
            <a:ext cx="0" cy="12445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22640" y="49143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Invest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52960" y="474912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ercado de Cap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12800" y="552456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863000" y="56966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200400" y="3124080"/>
            <a:ext cx="4800600" cy="3175200"/>
            <a:chOff x="3200400" y="3124080"/>
            <a:chExt cx="4800600" cy="3175200"/>
          </a:xfrm>
        </p:grpSpPr>
        <p:sp>
          <p:nvSpPr>
            <p:cNvPr id="537" name=""/>
            <p:cNvSpPr/>
            <p:nvPr/>
          </p:nvSpPr>
          <p:spPr>
            <a:xfrm>
              <a:off x="5867280" y="5562720"/>
              <a:ext cx="1600200" cy="7365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00400" y="5867280"/>
              <a:ext cx="266688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08680" y="5595480"/>
              <a:ext cx="154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993300"/>
                  </a:solidFill>
                  <a:latin typeface="Lucida Casual"/>
                </a:rPr>
                <a:t>Compras 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993300"/>
                  </a:solidFill>
                  <a:latin typeface="Lucida Casual"/>
                </a:rPr>
                <a:t>Gover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67480" y="5867280"/>
              <a:ext cx="53352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8001000" y="3124080"/>
              <a:ext cx="0" cy="274320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7391160" y="3124080"/>
              <a:ext cx="60948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378600" y="54856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Tesouro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12320" y="3504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050480" y="1752480"/>
            <a:ext cx="6077160" cy="4137120"/>
            <a:chOff x="1050480" y="1752480"/>
            <a:chExt cx="6077160" cy="4137120"/>
          </a:xfrm>
        </p:grpSpPr>
        <p:sp>
          <p:nvSpPr>
            <p:cNvPr id="546" name=""/>
            <p:cNvSpPr/>
            <p:nvPr/>
          </p:nvSpPr>
          <p:spPr>
            <a:xfrm>
              <a:off x="7115040" y="1760400"/>
              <a:ext cx="3240" cy="10051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1050480" y="1760400"/>
              <a:ext cx="6077160" cy="79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66680" y="1752480"/>
              <a:ext cx="0" cy="41371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74600" y="5883120"/>
              <a:ext cx="53352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2044440" y="2119320"/>
            <a:ext cx="4655880" cy="619200"/>
            <a:chOff x="2044440" y="2119320"/>
            <a:chExt cx="4655880" cy="619200"/>
          </a:xfrm>
        </p:grpSpPr>
        <p:sp>
          <p:nvSpPr>
            <p:cNvPr id="551" name=""/>
            <p:cNvSpPr/>
            <p:nvPr/>
          </p:nvSpPr>
          <p:spPr>
            <a:xfrm flipV="1">
              <a:off x="6697800" y="2119320"/>
              <a:ext cx="0" cy="619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2044440" y="2133720"/>
              <a:ext cx="4655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044800" y="2133720"/>
              <a:ext cx="0" cy="59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3200400" y="5105520"/>
            <a:ext cx="266688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12800" y="472428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73988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95960" y="2915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94360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27840" y="29282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882880" y="24382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82880" y="24382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34280" y="18280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: R$ 1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79160" y="2133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44800" y="350532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044800" y="411480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7086600" y="35049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248520" y="350532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82880" y="38098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882880" y="35053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75880" y="38091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 R$ 8k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306680" y="350460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05120" y="3505320"/>
            <a:ext cx="0" cy="1218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767600" y="4914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oup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67280" y="474984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7238880" y="3504960"/>
            <a:ext cx="0" cy="12445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22640" y="49143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Invest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52960" y="474912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ercado de Cap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612800" y="552456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63000" y="56966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032920" y="42523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0.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4640" y="568080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R$ 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144480" y="42663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0.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200400" y="3124080"/>
            <a:ext cx="4800600" cy="3175200"/>
            <a:chOff x="3200400" y="3124080"/>
            <a:chExt cx="4800600" cy="3175200"/>
          </a:xfrm>
        </p:grpSpPr>
        <p:sp>
          <p:nvSpPr>
            <p:cNvPr id="589" name=""/>
            <p:cNvSpPr/>
            <p:nvPr/>
          </p:nvSpPr>
          <p:spPr>
            <a:xfrm>
              <a:off x="5867280" y="5562720"/>
              <a:ext cx="1600200" cy="7365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00400" y="5867280"/>
              <a:ext cx="266688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08680" y="5595480"/>
              <a:ext cx="154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993300"/>
                  </a:solidFill>
                  <a:latin typeface="Lucida Casual"/>
                </a:rPr>
                <a:t>Compras 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993300"/>
                  </a:solidFill>
                  <a:latin typeface="Lucida Casual"/>
                </a:rPr>
                <a:t>Gover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467480" y="5867280"/>
              <a:ext cx="53352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8001000" y="3124080"/>
              <a:ext cx="0" cy="274320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7391160" y="3124080"/>
              <a:ext cx="60948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05040" y="556200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R$ 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378600" y="54856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Tesouro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050480" y="1752480"/>
            <a:ext cx="6077160" cy="4137120"/>
            <a:chOff x="1050480" y="1752480"/>
            <a:chExt cx="6077160" cy="4137120"/>
          </a:xfrm>
        </p:grpSpPr>
        <p:sp>
          <p:nvSpPr>
            <p:cNvPr id="598" name=""/>
            <p:cNvSpPr/>
            <p:nvPr/>
          </p:nvSpPr>
          <p:spPr>
            <a:xfrm>
              <a:off x="7115040" y="1760400"/>
              <a:ext cx="3240" cy="10051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050480" y="1760400"/>
              <a:ext cx="6077160" cy="79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066680" y="1752480"/>
              <a:ext cx="0" cy="41371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74600" y="5883120"/>
              <a:ext cx="53352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2044440" y="2119320"/>
            <a:ext cx="4655880" cy="619200"/>
            <a:chOff x="2044440" y="2119320"/>
            <a:chExt cx="4655880" cy="619200"/>
          </a:xfrm>
        </p:grpSpPr>
        <p:sp>
          <p:nvSpPr>
            <p:cNvPr id="603" name=""/>
            <p:cNvSpPr/>
            <p:nvPr/>
          </p:nvSpPr>
          <p:spPr>
            <a:xfrm flipV="1">
              <a:off x="6697800" y="2119320"/>
              <a:ext cx="0" cy="619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2044440" y="2133720"/>
              <a:ext cx="4655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44800" y="2133720"/>
              <a:ext cx="0" cy="59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7467480" y="586728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213000" y="4267080"/>
            <a:ext cx="266724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25760" y="388620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52480" y="1905120"/>
            <a:ext cx="1447920" cy="7617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08560" y="207720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956200" y="1905120"/>
            <a:ext cx="1447920" cy="7617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40440" y="209016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895480" y="159984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95480" y="1600200"/>
            <a:ext cx="33530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261120" y="160020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82480" y="99000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91760" y="12945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7400" y="2666880"/>
            <a:ext cx="0" cy="609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2057400" y="327672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099200" y="2666880"/>
            <a:ext cx="0" cy="609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61120" y="26668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895480" y="2971800"/>
            <a:ext cx="33530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2895480" y="266652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90960" y="29710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17720" y="2666880"/>
            <a:ext cx="0" cy="12193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780560" y="407592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oup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80240" y="391176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51840" y="2666880"/>
            <a:ext cx="0" cy="1244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835240" y="407592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Invest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65560" y="391104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ercado de Cap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25760" y="468648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75960" y="485856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880240" y="472428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213000" y="5029200"/>
            <a:ext cx="266724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921280" y="475704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Compras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Gov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480440" y="5029200"/>
            <a:ext cx="533160" cy="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8013600" y="2286000"/>
            <a:ext cx="0" cy="27432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7403760" y="2286000"/>
            <a:ext cx="60948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54920" y="464760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Tesouro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28640" y="551484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873760" y="552600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84920" y="570960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Export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25040" y="570312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Import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55280" y="2284560"/>
            <a:ext cx="96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2120" y="58672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76720" y="586728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157560" y="546012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ercado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8305920" y="2057040"/>
            <a:ext cx="0" cy="38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7419600" y="2057400"/>
            <a:ext cx="88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40760" y="26200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058480" y="1280880"/>
            <a:ext cx="4655880" cy="618840"/>
            <a:chOff x="2058480" y="1280880"/>
            <a:chExt cx="4655880" cy="618840"/>
          </a:xfrm>
        </p:grpSpPr>
        <p:sp>
          <p:nvSpPr>
            <p:cNvPr id="655" name=""/>
            <p:cNvSpPr/>
            <p:nvPr/>
          </p:nvSpPr>
          <p:spPr>
            <a:xfrm flipV="1">
              <a:off x="6711840" y="1280880"/>
              <a:ext cx="0" cy="618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058480" y="1295280"/>
              <a:ext cx="4655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058840" y="1295280"/>
              <a:ext cx="0" cy="596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1079640" y="952560"/>
            <a:ext cx="6054480" cy="4228920"/>
            <a:chOff x="1079640" y="952560"/>
            <a:chExt cx="6054480" cy="4228920"/>
          </a:xfrm>
        </p:grpSpPr>
        <p:sp>
          <p:nvSpPr>
            <p:cNvPr id="659" name=""/>
            <p:cNvSpPr/>
            <p:nvPr/>
          </p:nvSpPr>
          <p:spPr>
            <a:xfrm flipH="1">
              <a:off x="1079640" y="958680"/>
              <a:ext cx="605448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79640" y="958680"/>
              <a:ext cx="0" cy="422280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79640" y="5181480"/>
              <a:ext cx="53316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29440" y="952560"/>
              <a:ext cx="0" cy="95544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770040" y="2286000"/>
            <a:ext cx="6120" cy="35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76640" y="1828800"/>
            <a:ext cx="472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IMPAC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MACRO-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DO MERCADO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23520" y="502920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rnoldo Souza Ca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962520" y="3809880"/>
            <a:ext cx="1304640" cy="916920"/>
            <a:chOff x="3962520" y="3809880"/>
            <a:chExt cx="1304640" cy="916920"/>
          </a:xfrm>
        </p:grpSpPr>
        <p:sp>
          <p:nvSpPr>
            <p:cNvPr id="55" name=""/>
            <p:cNvSpPr/>
            <p:nvPr/>
          </p:nvSpPr>
          <p:spPr>
            <a:xfrm>
              <a:off x="4290480" y="380988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59320" y="40514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392580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7467480" y="586728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13000" y="4267080"/>
            <a:ext cx="266724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625760" y="388620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52480" y="1905120"/>
            <a:ext cx="1447920" cy="7617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708560" y="207720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956200" y="1905120"/>
            <a:ext cx="1447920" cy="7617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40440" y="209016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7099200" y="129528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2057400" y="129528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57400" y="129528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2895480" y="159984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95480" y="1600200"/>
            <a:ext cx="33530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61120" y="160020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82480" y="99000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091760" y="12945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057400" y="2666880"/>
            <a:ext cx="0" cy="609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2057400" y="327672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099200" y="2666880"/>
            <a:ext cx="0" cy="609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261120" y="26668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895480" y="2971800"/>
            <a:ext cx="33530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895480" y="266652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17720" y="2666880"/>
            <a:ext cx="0" cy="12193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80240" y="391176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7251840" y="2666880"/>
            <a:ext cx="0" cy="1244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560640" y="40759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265560" y="391104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ercado de Cap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25760" y="468648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86360" y="48585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880240" y="472428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13000" y="5029200"/>
            <a:ext cx="266724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32560" y="490788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480440" y="5029200"/>
            <a:ext cx="533160" cy="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8013600" y="2286000"/>
            <a:ext cx="0" cy="27432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403760" y="2286000"/>
            <a:ext cx="60948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54920" y="464760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Tesouro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628640" y="551484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73760" y="552600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507360" y="5709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41360" y="57031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755280" y="2284560"/>
            <a:ext cx="96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70040" y="2286000"/>
            <a:ext cx="6120" cy="35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58672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76720" y="586728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157560" y="546012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ercado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8305920" y="2057040"/>
            <a:ext cx="0" cy="38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7419600" y="2057400"/>
            <a:ext cx="88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00760" y="406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990960" y="29710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740760" y="26200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079640" y="952560"/>
            <a:ext cx="6054480" cy="4228920"/>
            <a:chOff x="1079640" y="952560"/>
            <a:chExt cx="6054480" cy="4228920"/>
          </a:xfrm>
        </p:grpSpPr>
        <p:sp>
          <p:nvSpPr>
            <p:cNvPr id="717" name=""/>
            <p:cNvSpPr/>
            <p:nvPr/>
          </p:nvSpPr>
          <p:spPr>
            <a:xfrm flipH="1">
              <a:off x="1079640" y="958680"/>
              <a:ext cx="605448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79640" y="958680"/>
              <a:ext cx="0" cy="422280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79640" y="5181480"/>
              <a:ext cx="53316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29440" y="952560"/>
              <a:ext cx="0" cy="95544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213000" y="4267080"/>
            <a:ext cx="266724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25760" y="388620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80240" y="391176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560640" y="40759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65560" y="391104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ercado de Capi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25760" y="468648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86360" y="48585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880240" y="472428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13000" y="5029200"/>
            <a:ext cx="266724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532560" y="490788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454920" y="464760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Tesouro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8640" y="551484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873760" y="5526000"/>
            <a:ext cx="1600200" cy="736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507360" y="5709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41360" y="57031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276720" y="586728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157560" y="546012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ercado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300760" y="406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14960" y="1950480"/>
            <a:ext cx="23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S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T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800" spc="-1" strike="noStrike">
                <a:solidFill>
                  <a:srgbClr val="3333cc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I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G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2539800" y="2468520"/>
            <a:ext cx="1284120" cy="1197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348160" y="2432160"/>
            <a:ext cx="1284480" cy="1197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414960" y="1950480"/>
            <a:ext cx="23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S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T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800" spc="-1" strike="noStrike">
                <a:solidFill>
                  <a:srgbClr val="3333cc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I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G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2215440" y="2514600"/>
            <a:ext cx="2188440" cy="1204200"/>
            <a:chOff x="2215440" y="2514600"/>
            <a:chExt cx="2188440" cy="1204200"/>
          </a:xfrm>
        </p:grpSpPr>
        <p:sp>
          <p:nvSpPr>
            <p:cNvPr id="752" name=""/>
            <p:cNvSpPr/>
            <p:nvPr/>
          </p:nvSpPr>
          <p:spPr>
            <a:xfrm>
              <a:off x="3260880" y="251460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15440" y="3350520"/>
              <a:ext cx="158436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705" y="6562"/>
                  </a:moveTo>
                  <a:lnTo>
                    <a:pt x="25814" y="6562"/>
                  </a:lnTo>
                  <a:lnTo>
                    <a:pt x="25814" y="-29073"/>
                  </a:lnTo>
                  <a:lnTo>
                    <a:pt x="22621" y="-44993"/>
                  </a:lnTo>
                </a:path>
              </a:pathLst>
            </a:custGeom>
            <a:solidFill>
              <a:srgbClr val="ffcc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Vazam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4846680" y="2514600"/>
            <a:ext cx="1778760" cy="1218240"/>
            <a:chOff x="4846680" y="2514600"/>
            <a:chExt cx="1778760" cy="1218240"/>
          </a:xfrm>
        </p:grpSpPr>
        <p:sp>
          <p:nvSpPr>
            <p:cNvPr id="755" name=""/>
            <p:cNvSpPr/>
            <p:nvPr/>
          </p:nvSpPr>
          <p:spPr>
            <a:xfrm>
              <a:off x="4846680" y="2514600"/>
              <a:ext cx="11430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90720" y="3364560"/>
              <a:ext cx="11347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448" y="6562"/>
                  </a:moveTo>
                  <a:lnTo>
                    <a:pt x="-4706" y="6562"/>
                  </a:lnTo>
                  <a:lnTo>
                    <a:pt x="-4706" y="-30076"/>
                  </a:lnTo>
                  <a:lnTo>
                    <a:pt x="-747" y="-47609"/>
                  </a:lnTo>
                </a:path>
              </a:pathLst>
            </a:custGeom>
            <a:solidFill>
              <a:srgbClr val="ff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njeçõ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414600" y="19504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 + T + M </a:t>
            </a:r>
            <a:r>
              <a:rPr b="1" lang="pt-BR" sz="2800" spc="-1" strike="noStrike">
                <a:solidFill>
                  <a:srgbClr val="808080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I + G +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86160" y="3421080"/>
            <a:ext cx="3035520" cy="1360440"/>
          </a:xfrm>
          <a:prstGeom prst="wedgeRoundRectCallout">
            <a:avLst>
              <a:gd name="adj1" fmla="val -39541"/>
              <a:gd name="adj2" fmla="val -85356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e G &gt;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ou se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e o Governo gas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mais do que Arre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388320" y="243468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I </a:t>
            </a:r>
            <a:r>
              <a:rPr b="1" lang="pt-BR" sz="2800" spc="-1" strike="noStrike">
                <a:solidFill>
                  <a:srgbClr val="3333cc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S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(T - G)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M -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966960" y="4935600"/>
            <a:ext cx="4321080" cy="969840"/>
            <a:chOff x="966960" y="4935600"/>
            <a:chExt cx="4321080" cy="969840"/>
          </a:xfrm>
        </p:grpSpPr>
        <p:sp>
          <p:nvSpPr>
            <p:cNvPr id="765" name=""/>
            <p:cNvSpPr/>
            <p:nvPr/>
          </p:nvSpPr>
          <p:spPr>
            <a:xfrm>
              <a:off x="966960" y="5295960"/>
              <a:ext cx="3193920" cy="609480"/>
            </a:xfrm>
            <a:prstGeom prst="wedgeRoundRectCallout">
              <a:avLst>
                <a:gd name="adj1" fmla="val 19532"/>
                <a:gd name="adj2" fmla="val -443750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Redução nos Investim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0800000">
              <a:off x="4473720" y="4935600"/>
              <a:ext cx="814320" cy="8668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14600" y="19504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 + T + M </a:t>
            </a:r>
            <a:r>
              <a:rPr b="1" lang="pt-BR" sz="2800" spc="-1" strike="noStrike">
                <a:solidFill>
                  <a:srgbClr val="808080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I + G +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18080" y="3451320"/>
            <a:ext cx="3208320" cy="1301760"/>
          </a:xfrm>
          <a:prstGeom prst="wedgeRoundRectCallout">
            <a:avLst>
              <a:gd name="adj1" fmla="val -14027"/>
              <a:gd name="adj2" fmla="val -88171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e M &gt;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ou se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e o Balanç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s é negativ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446640" y="2434680"/>
            <a:ext cx="24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S </a:t>
            </a:r>
            <a:r>
              <a:rPr b="1" lang="pt-BR" sz="2800" spc="-1" strike="noStrike">
                <a:solidFill>
                  <a:srgbClr val="3333cc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I -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(T - G)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-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M -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1168560" y="4935600"/>
            <a:ext cx="4119480" cy="969840"/>
            <a:chOff x="1168560" y="4935600"/>
            <a:chExt cx="4119480" cy="969840"/>
          </a:xfrm>
        </p:grpSpPr>
        <p:sp>
          <p:nvSpPr>
            <p:cNvPr id="775" name=""/>
            <p:cNvSpPr/>
            <p:nvPr/>
          </p:nvSpPr>
          <p:spPr>
            <a:xfrm>
              <a:off x="1168560" y="5295960"/>
              <a:ext cx="2992320" cy="609480"/>
            </a:xfrm>
            <a:prstGeom prst="wedgeRoundRectCallout">
              <a:avLst>
                <a:gd name="adj1" fmla="val 18435"/>
                <a:gd name="adj2" fmla="val -443750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Redução na Poupanç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0800000">
              <a:off x="4473720" y="4935600"/>
              <a:ext cx="814320" cy="8668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414600" y="19504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 + T + M </a:t>
            </a:r>
            <a:r>
              <a:rPr b="1" lang="pt-BR" sz="2800" spc="-1" strike="noStrike">
                <a:solidFill>
                  <a:srgbClr val="808080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I + G +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446640" y="2434680"/>
            <a:ext cx="24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S </a:t>
            </a:r>
            <a:r>
              <a:rPr b="1" lang="pt-BR" sz="2800" spc="-1" strike="noStrike">
                <a:solidFill>
                  <a:srgbClr val="3333cc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I -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(T - G)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-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M -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957480" y="3712680"/>
            <a:ext cx="2502000" cy="916920"/>
          </a:xfrm>
          <a:solidFill>
            <a:srgbClr val="ffcc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olítica monet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Taxa de J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Juros</a:t>
            </a:r>
            <a:r>
              <a:rPr b="1" lang="pt-BR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S</a:t>
            </a:r>
            <a:r>
              <a:rPr b="1" lang="pt-BR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414600" y="19504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 + T + M </a:t>
            </a:r>
            <a:r>
              <a:rPr b="1" lang="pt-BR" sz="2800" spc="-1" strike="noStrike">
                <a:solidFill>
                  <a:srgbClr val="808080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I + G +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446640" y="2434680"/>
            <a:ext cx="24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S </a:t>
            </a:r>
            <a:r>
              <a:rPr b="1" lang="pt-BR" sz="2800" spc="-1" strike="noStrike">
                <a:solidFill>
                  <a:srgbClr val="3333cc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I -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(T - G)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-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M -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160960" y="3728520"/>
            <a:ext cx="3462480" cy="642600"/>
          </a:xfrm>
          <a:solidFill>
            <a:srgbClr val="ffcccc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Política fis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Gastos Públicos x Imp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414600" y="19504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 + T + M </a:t>
            </a:r>
            <a:r>
              <a:rPr b="1" lang="pt-BR" sz="2800" spc="-1" strike="noStrike">
                <a:solidFill>
                  <a:srgbClr val="808080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I + G +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446640" y="2434680"/>
            <a:ext cx="24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S </a:t>
            </a:r>
            <a:r>
              <a:rPr b="1" lang="pt-BR" sz="2800" spc="-1" strike="noStrike">
                <a:solidFill>
                  <a:srgbClr val="3333cc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I -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(T - G)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-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M -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87600" y="3768120"/>
            <a:ext cx="3600360" cy="642600"/>
          </a:xfr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olítica de Comércio 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axa de Câm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414600" y="19504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 + T + M </a:t>
            </a:r>
            <a:r>
              <a:rPr b="1" lang="pt-BR" sz="2800" spc="-1" strike="noStrike">
                <a:solidFill>
                  <a:srgbClr val="808080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I + G +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35840" y="2434680"/>
            <a:ext cx="24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S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T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800" spc="-1" strike="noStrike">
                <a:solidFill>
                  <a:srgbClr val="3333cc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I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 G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X -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14600" y="19504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 + T + M </a:t>
            </a:r>
            <a:r>
              <a:rPr b="1" lang="pt-BR" sz="2800" spc="-1" strike="noStrike">
                <a:solidFill>
                  <a:srgbClr val="808080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I + G +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435840" y="243468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 + T </a:t>
            </a:r>
            <a:r>
              <a:rPr b="1" lang="pt-BR" sz="2800" spc="-1" strike="noStrike">
                <a:solidFill>
                  <a:srgbClr val="808080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I + G + (X -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063240" y="2947320"/>
            <a:ext cx="32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C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S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T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800" spc="-1" strike="noStrike">
                <a:solidFill>
                  <a:srgbClr val="3333cc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C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I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 G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(X -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3360" y="1676520"/>
            <a:ext cx="8254440" cy="41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ituar o mercado digital em um contexto maior, nacional, integra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as implicações micro-econômicas com a situação macro-econôm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aracterizar os conceito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luxo circular da r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olítica Fis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olítica Monet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ércio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414600" y="19504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 + T + M </a:t>
            </a:r>
            <a:r>
              <a:rPr b="1" lang="pt-BR" sz="2800" spc="-1" strike="noStrike">
                <a:solidFill>
                  <a:srgbClr val="808080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I + G +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35840" y="243468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 + T </a:t>
            </a:r>
            <a:r>
              <a:rPr b="1" lang="pt-BR" sz="2800" spc="-1" strike="noStrike">
                <a:solidFill>
                  <a:srgbClr val="808080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I + G + (X -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63240" y="2947320"/>
            <a:ext cx="32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 + S + T </a:t>
            </a:r>
            <a:r>
              <a:rPr b="1" lang="pt-BR" sz="2800" spc="-1" strike="noStrike">
                <a:solidFill>
                  <a:srgbClr val="808080"/>
                </a:solidFill>
                <a:latin typeface="Lucida Casual"/>
              </a:rPr>
              <a:t>=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C + I + G + (X -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26000" y="3765960"/>
            <a:ext cx="40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Lucida Casual"/>
              </a:rPr>
              <a:t>Y = PIB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=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ff0000"/>
                </a:solidFill>
                <a:latin typeface="Lucida Casual"/>
              </a:rPr>
              <a:t>C 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+ 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I 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2400" spc="-1" strike="noStrike">
                <a:solidFill>
                  <a:srgbClr val="993300"/>
                </a:solidFill>
                <a:latin typeface="Lucida Casual"/>
              </a:rPr>
              <a:t> G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(X -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BRE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578600" y="1010520"/>
            <a:ext cx="64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istema de Contas Nacionais - O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990720" y="23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100160" y="2165400"/>
            <a:ext cx="72687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Conta Produto Interno Bruto (produ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Conta Renda Nacional Dsiponível Líquida (apropri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Conta de Capital (acumul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Conta Transações Cor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578600" y="1010520"/>
            <a:ext cx="64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istema de Contas Nacionais - O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990720" y="23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1370160" y="2013120"/>
          <a:ext cx="7026120" cy="371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2013120"/>
                    <a:ext cx="7026120" cy="37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78600" y="1010520"/>
            <a:ext cx="64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istema de Contas Nacionais - O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23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1371600" y="2011320"/>
          <a:ext cx="70261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11320"/>
                    <a:ext cx="7026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578600" y="1010520"/>
            <a:ext cx="64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istema de Contas Nacionais - O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990720" y="23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1417680" y="2484360"/>
          <a:ext cx="6811920" cy="277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2484360"/>
                    <a:ext cx="681192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78600" y="1010520"/>
            <a:ext cx="64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istema de Contas Nacionais - O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90720" y="23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417680" y="2484360"/>
          <a:ext cx="6811920" cy="28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2484360"/>
                    <a:ext cx="681192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489120" y="101052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12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90720" y="23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004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58680" y="2239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96040" y="1981800"/>
            <a:ext cx="743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Qual o significado de “vazamento = injeções” e qual a s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repercussão em termos do comércio eletrôn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864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824160" y="47412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Continu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39840" y="101052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644480" y="378468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301840" y="2481120"/>
            <a:ext cx="149220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777680" y="202500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741120" y="38242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2163600" y="2177640"/>
            <a:ext cx="0" cy="170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561120" y="1505520"/>
            <a:ext cx="25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S + T + M = I + G +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3988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95960" y="2915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27840" y="29282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086600" y="213372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044800" y="213372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44800" y="213372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82880" y="24382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82880" y="24382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97080" y="182808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9160" y="2133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44800" y="350532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044800" y="411480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086600" y="35049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350532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82880" y="38098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82880" y="35053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50840" y="38091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s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12320" y="3504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939840" y="101052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44480" y="378468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1903320" y="2177640"/>
            <a:ext cx="0" cy="170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301840" y="2481120"/>
            <a:ext cx="149220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442880" y="19789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40040" y="382428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+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2163600" y="2177640"/>
            <a:ext cx="0" cy="17067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889280" y="397656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163600" y="3978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889280" y="419112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834920" y="423648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561120" y="1505520"/>
            <a:ext cx="25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S + T + M = I + G +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939840" y="101052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644480" y="378468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1736640" y="2177640"/>
            <a:ext cx="0" cy="170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301840" y="2481120"/>
            <a:ext cx="149220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442880" y="19789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750840" y="382356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+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163600" y="2177640"/>
            <a:ext cx="0" cy="17067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736640" y="397656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63600" y="3978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736640" y="419112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651680" y="426636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561120" y="1505520"/>
            <a:ext cx="25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S + T + M = I + G +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903320" y="2177640"/>
            <a:ext cx="0" cy="17067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939840" y="101052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44480" y="378468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736640" y="2192400"/>
            <a:ext cx="0" cy="170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301840" y="2481120"/>
            <a:ext cx="149220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442880" y="19789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750840" y="382356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I+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257800" y="5951520"/>
            <a:ext cx="2954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32480" y="4587840"/>
            <a:ext cx="2255760" cy="13716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098560" y="60350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 flipV="1">
            <a:off x="5516640" y="4203720"/>
            <a:ext cx="1440" cy="1860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2163600" y="2177640"/>
            <a:ext cx="0" cy="17067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561120" y="1505520"/>
            <a:ext cx="25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S + T + M = I + G +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736640" y="3976560"/>
            <a:ext cx="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163600" y="3978360"/>
            <a:ext cx="0" cy="334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736640" y="4191120"/>
            <a:ext cx="42696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51680" y="426636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496760" y="4176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S+T+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939840" y="101052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644480" y="378468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1736640" y="2192400"/>
            <a:ext cx="0" cy="170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301840" y="2481120"/>
            <a:ext cx="149220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442880" y="19789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1736280" y="4203720"/>
            <a:ext cx="1800" cy="1860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273640" y="3740040"/>
            <a:ext cx="2954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257800" y="5951520"/>
            <a:ext cx="2954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5516640" y="2147400"/>
            <a:ext cx="0" cy="170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5532480" y="4587840"/>
            <a:ext cx="2255760" cy="13716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098560" y="60350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8082360" y="37933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12800" y="596412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 flipV="1">
            <a:off x="5516640" y="4203720"/>
            <a:ext cx="1440" cy="1860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192640" y="200916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736640" y="4220640"/>
            <a:ext cx="2043360" cy="17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2362320" y="2635200"/>
            <a:ext cx="315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332080" y="2637000"/>
            <a:ext cx="0" cy="28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316240" y="5456160"/>
            <a:ext cx="402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6338880" y="3718080"/>
            <a:ext cx="0" cy="17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86880" y="4131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S+T+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5516640" y="2484000"/>
            <a:ext cx="1022400" cy="1249560"/>
            <a:chOff x="5516640" y="2484000"/>
            <a:chExt cx="1022400" cy="1249560"/>
          </a:xfrm>
        </p:grpSpPr>
        <p:sp>
          <p:nvSpPr>
            <p:cNvPr id="955" name=""/>
            <p:cNvSpPr/>
            <p:nvPr/>
          </p:nvSpPr>
          <p:spPr>
            <a:xfrm>
              <a:off x="5516640" y="2637000"/>
              <a:ext cx="1022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6338880" y="2484000"/>
              <a:ext cx="0" cy="1249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281640" y="2576520"/>
              <a:ext cx="122400" cy="119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3561120" y="1505520"/>
            <a:ext cx="25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S + T + M = I + G +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750840" y="382356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+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96760" y="4176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S+T+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705120" y="60174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+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939840" y="101052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44480" y="378468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1736640" y="2192400"/>
            <a:ext cx="0" cy="170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301840" y="2481120"/>
            <a:ext cx="149220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42880" y="19789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 flipV="1">
            <a:off x="1736280" y="4203720"/>
            <a:ext cx="1800" cy="1860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273640" y="3740040"/>
            <a:ext cx="2954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57800" y="5951520"/>
            <a:ext cx="2954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5516640" y="2147400"/>
            <a:ext cx="0" cy="170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5532480" y="4587840"/>
            <a:ext cx="2255760" cy="13716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098560" y="60350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082360" y="37933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612800" y="596412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5516640" y="4203720"/>
            <a:ext cx="1440" cy="1860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192640" y="200916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1736640" y="4220640"/>
            <a:ext cx="2043360" cy="17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2362320" y="2635200"/>
            <a:ext cx="315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332080" y="2637000"/>
            <a:ext cx="0" cy="28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16240" y="5456160"/>
            <a:ext cx="402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6338880" y="3718080"/>
            <a:ext cx="0" cy="17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516640" y="2637000"/>
            <a:ext cx="102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6338880" y="2484000"/>
            <a:ext cx="0" cy="124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281640" y="2576520"/>
            <a:ext cx="12240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498400" y="301788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14600" y="3032280"/>
            <a:ext cx="0" cy="22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514600" y="5303880"/>
            <a:ext cx="405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6568920" y="37335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546880" y="3017880"/>
            <a:ext cx="116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6561000" y="2881440"/>
            <a:ext cx="6480" cy="836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499080" y="2960640"/>
            <a:ext cx="12240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561120" y="1505520"/>
            <a:ext cx="25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S + T + M = I + G +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86880" y="4131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S+T+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750840" y="382356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+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496760" y="4176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S+T+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705120" y="60174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+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"/>
          <p:cNvGrpSpPr/>
          <p:nvPr/>
        </p:nvGrpSpPr>
        <p:grpSpPr>
          <a:xfrm>
            <a:off x="6052680" y="2056680"/>
            <a:ext cx="1431720" cy="1679400"/>
            <a:chOff x="6052680" y="2056680"/>
            <a:chExt cx="1431720" cy="1679400"/>
          </a:xfrm>
        </p:grpSpPr>
        <p:sp>
          <p:nvSpPr>
            <p:cNvPr id="1001" name=""/>
            <p:cNvSpPr/>
            <p:nvPr/>
          </p:nvSpPr>
          <p:spPr>
            <a:xfrm>
              <a:off x="6248520" y="2392200"/>
              <a:ext cx="914400" cy="1113120"/>
            </a:xfrm>
            <a:custGeom>
              <a:avLst/>
              <a:gdLst/>
              <a:ahLst/>
              <a:rect l="l" t="t" r="r" b="b"/>
              <a:pathLst>
                <a:path w="576" h="701">
                  <a:moveTo>
                    <a:pt x="0" y="0"/>
                  </a:moveTo>
                  <a:cubicBezTo>
                    <a:pt x="13" y="44"/>
                    <a:pt x="26" y="88"/>
                    <a:pt x="58" y="154"/>
                  </a:cubicBezTo>
                  <a:cubicBezTo>
                    <a:pt x="90" y="220"/>
                    <a:pt x="126" y="316"/>
                    <a:pt x="192" y="394"/>
                  </a:cubicBezTo>
                  <a:cubicBezTo>
                    <a:pt x="258" y="472"/>
                    <a:pt x="387" y="573"/>
                    <a:pt x="451" y="624"/>
                  </a:cubicBezTo>
                  <a:cubicBezTo>
                    <a:pt x="515" y="675"/>
                    <a:pt x="555" y="688"/>
                    <a:pt x="576" y="701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52680" y="20566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177320" y="3367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Lucida Casu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39840" y="101052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644480" y="378468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1736640" y="2192400"/>
            <a:ext cx="0" cy="170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301840" y="2481120"/>
            <a:ext cx="149220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442880" y="19789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 flipV="1">
            <a:off x="1736280" y="4203720"/>
            <a:ext cx="1800" cy="1860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273640" y="3740040"/>
            <a:ext cx="2954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257800" y="5951520"/>
            <a:ext cx="2954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516640" y="2147400"/>
            <a:ext cx="0" cy="170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5532480" y="4587840"/>
            <a:ext cx="2255760" cy="13716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98560" y="60350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82360" y="37933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612800" y="596412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 flipV="1">
            <a:off x="5516640" y="4203720"/>
            <a:ext cx="1440" cy="1860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192640" y="200916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2362320" y="2635200"/>
            <a:ext cx="315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332080" y="2637000"/>
            <a:ext cx="0" cy="28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316240" y="5456160"/>
            <a:ext cx="402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338880" y="3718080"/>
            <a:ext cx="0" cy="17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516640" y="2637000"/>
            <a:ext cx="102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6338880" y="2484000"/>
            <a:ext cx="0" cy="124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281640" y="2576520"/>
            <a:ext cx="12240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2498400" y="301788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514600" y="3032280"/>
            <a:ext cx="0" cy="22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514600" y="5303880"/>
            <a:ext cx="405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6568920" y="37335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546880" y="3017880"/>
            <a:ext cx="116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 flipV="1">
            <a:off x="6561000" y="2881440"/>
            <a:ext cx="6480" cy="836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9080" y="2960640"/>
            <a:ext cx="12240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789280" y="3382920"/>
            <a:ext cx="272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773440" y="3382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73440" y="5075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6964200" y="3718080"/>
            <a:ext cx="0" cy="13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560920" y="3382920"/>
            <a:ext cx="157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6964200" y="320148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99400" y="3321000"/>
            <a:ext cx="12204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561120" y="1505520"/>
            <a:ext cx="25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S + T + M = I + G +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6880" y="4131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S+T+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750840" y="382356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+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496760" y="4176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S+T+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1736640" y="4220640"/>
            <a:ext cx="2043360" cy="17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705120" y="60174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+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6545160" y="2401920"/>
            <a:ext cx="1281240" cy="1073160"/>
          </a:xfrm>
          <a:custGeom>
            <a:avLst/>
            <a:gdLst/>
            <a:ahLst/>
            <a:rect l="l" t="t" r="r" b="b"/>
            <a:pathLst>
              <a:path w="807" h="676">
                <a:moveTo>
                  <a:pt x="0" y="0"/>
                </a:moveTo>
                <a:cubicBezTo>
                  <a:pt x="11" y="40"/>
                  <a:pt x="22" y="80"/>
                  <a:pt x="73" y="145"/>
                </a:cubicBezTo>
                <a:cubicBezTo>
                  <a:pt x="124" y="210"/>
                  <a:pt x="210" y="314"/>
                  <a:pt x="306" y="393"/>
                </a:cubicBezTo>
                <a:cubicBezTo>
                  <a:pt x="402" y="472"/>
                  <a:pt x="564" y="571"/>
                  <a:pt x="647" y="618"/>
                </a:cubicBezTo>
                <a:cubicBezTo>
                  <a:pt x="730" y="665"/>
                  <a:pt x="780" y="666"/>
                  <a:pt x="807" y="676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248520" y="2392200"/>
            <a:ext cx="914400" cy="1113120"/>
          </a:xfrm>
          <a:custGeom>
            <a:avLst/>
            <a:gdLst/>
            <a:ahLst/>
            <a:rect l="l" t="t" r="r" b="b"/>
            <a:pathLst>
              <a:path w="576" h="701">
                <a:moveTo>
                  <a:pt x="0" y="0"/>
                </a:moveTo>
                <a:cubicBezTo>
                  <a:pt x="13" y="44"/>
                  <a:pt x="26" y="88"/>
                  <a:pt x="58" y="154"/>
                </a:cubicBezTo>
                <a:cubicBezTo>
                  <a:pt x="90" y="220"/>
                  <a:pt x="126" y="316"/>
                  <a:pt x="192" y="394"/>
                </a:cubicBezTo>
                <a:cubicBezTo>
                  <a:pt x="258" y="472"/>
                  <a:pt x="387" y="573"/>
                  <a:pt x="451" y="624"/>
                </a:cubicBezTo>
                <a:cubicBezTo>
                  <a:pt x="515" y="675"/>
                  <a:pt x="555" y="688"/>
                  <a:pt x="576" y="701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52680" y="20566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177320" y="336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39840" y="101052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644480" y="378468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1736640" y="2192400"/>
            <a:ext cx="0" cy="170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301840" y="2481120"/>
            <a:ext cx="149220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442880" y="19789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1736280" y="4203720"/>
            <a:ext cx="1800" cy="1860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273640" y="3740040"/>
            <a:ext cx="2954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257800" y="5951520"/>
            <a:ext cx="2954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5516640" y="2147400"/>
            <a:ext cx="0" cy="170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5532480" y="4903920"/>
            <a:ext cx="2452680" cy="10555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098560" y="60350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8082360" y="37933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612800" y="596412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5516640" y="4203720"/>
            <a:ext cx="1440" cy="1860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192640" y="200916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2362320" y="2635200"/>
            <a:ext cx="315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332080" y="2637000"/>
            <a:ext cx="0" cy="28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316240" y="545616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6338880" y="3718080"/>
            <a:ext cx="0" cy="1722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16640" y="263700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338880" y="2484000"/>
            <a:ext cx="0" cy="124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281640" y="2576520"/>
            <a:ext cx="122400" cy="119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98400" y="301788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14600" y="3032280"/>
            <a:ext cx="0" cy="22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14600" y="53038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568920" y="3733560"/>
            <a:ext cx="0" cy="1584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546880" y="30178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 flipV="1">
            <a:off x="6561000" y="2881440"/>
            <a:ext cx="6480" cy="836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499080" y="2960640"/>
            <a:ext cx="122400" cy="119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2789280" y="3382920"/>
            <a:ext cx="272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773440" y="3382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773440" y="5075280"/>
            <a:ext cx="477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6964200" y="3718080"/>
            <a:ext cx="0" cy="13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560920" y="3382920"/>
            <a:ext cx="225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6964200" y="320148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899400" y="3321000"/>
            <a:ext cx="122040" cy="119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5532480" y="4587840"/>
            <a:ext cx="2255760" cy="1371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7574040" y="3733920"/>
            <a:ext cx="0" cy="13413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7026120" y="3733560"/>
            <a:ext cx="0" cy="15843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6659640" y="3733920"/>
            <a:ext cx="0" cy="17222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653160" y="2470320"/>
            <a:ext cx="6480" cy="123336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flipV="1">
            <a:off x="7024680" y="2820600"/>
            <a:ext cx="1440" cy="88092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 flipV="1">
            <a:off x="7559640" y="3173400"/>
            <a:ext cx="15840" cy="52848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591240" y="2573280"/>
            <a:ext cx="122400" cy="119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500960" y="3325680"/>
            <a:ext cx="122040" cy="119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970680" y="2954160"/>
            <a:ext cx="122400" cy="119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424200" y="2058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815600" y="329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Lucida Casu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561120" y="1505520"/>
            <a:ext cx="25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S + T + M = I + G +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86880" y="4131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S+T+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50840" y="382356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+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496760" y="4176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S+T+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1736640" y="4220640"/>
            <a:ext cx="2043360" cy="17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705120" y="60174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+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5791320" y="2392200"/>
            <a:ext cx="930240" cy="1113120"/>
          </a:xfrm>
          <a:custGeom>
            <a:avLst/>
            <a:gdLst/>
            <a:ahLst/>
            <a:rect l="l" t="t" r="r" b="b"/>
            <a:pathLst>
              <a:path w="586" h="701">
                <a:moveTo>
                  <a:pt x="0" y="0"/>
                </a:moveTo>
                <a:cubicBezTo>
                  <a:pt x="2" y="44"/>
                  <a:pt x="5" y="88"/>
                  <a:pt x="29" y="154"/>
                </a:cubicBezTo>
                <a:cubicBezTo>
                  <a:pt x="53" y="220"/>
                  <a:pt x="80" y="316"/>
                  <a:pt x="144" y="394"/>
                </a:cubicBezTo>
                <a:cubicBezTo>
                  <a:pt x="208" y="472"/>
                  <a:pt x="339" y="573"/>
                  <a:pt x="413" y="624"/>
                </a:cubicBezTo>
                <a:cubicBezTo>
                  <a:pt x="487" y="675"/>
                  <a:pt x="557" y="688"/>
                  <a:pt x="586" y="701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248520" y="2392200"/>
            <a:ext cx="914400" cy="1113120"/>
          </a:xfrm>
          <a:custGeom>
            <a:avLst/>
            <a:gdLst/>
            <a:ahLst/>
            <a:rect l="l" t="t" r="r" b="b"/>
            <a:pathLst>
              <a:path w="576" h="701">
                <a:moveTo>
                  <a:pt x="0" y="0"/>
                </a:moveTo>
                <a:cubicBezTo>
                  <a:pt x="13" y="44"/>
                  <a:pt x="26" y="88"/>
                  <a:pt x="58" y="154"/>
                </a:cubicBezTo>
                <a:cubicBezTo>
                  <a:pt x="90" y="220"/>
                  <a:pt x="126" y="316"/>
                  <a:pt x="192" y="394"/>
                </a:cubicBezTo>
                <a:cubicBezTo>
                  <a:pt x="258" y="472"/>
                  <a:pt x="387" y="573"/>
                  <a:pt x="451" y="624"/>
                </a:cubicBezTo>
                <a:cubicBezTo>
                  <a:pt x="515" y="675"/>
                  <a:pt x="555" y="688"/>
                  <a:pt x="576" y="701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52680" y="20566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177320" y="336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939840" y="101052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44480" y="378468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736640" y="2192400"/>
            <a:ext cx="0" cy="170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301840" y="2481120"/>
            <a:ext cx="149220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442880" y="19789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750840" y="382356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+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 flipV="1">
            <a:off x="1736280" y="4203720"/>
            <a:ext cx="1800" cy="1860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273640" y="3740040"/>
            <a:ext cx="2954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257800" y="5951520"/>
            <a:ext cx="2954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5516640" y="2147400"/>
            <a:ext cx="0" cy="170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5532480" y="4587840"/>
            <a:ext cx="2255760" cy="13716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8098560" y="60350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8082360" y="37933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612800" y="596412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 flipV="1">
            <a:off x="5516640" y="4203720"/>
            <a:ext cx="1440" cy="1860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192640" y="200916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1969920" y="2635200"/>
            <a:ext cx="354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332080" y="2637000"/>
            <a:ext cx="0" cy="28033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316240" y="5456160"/>
            <a:ext cx="4022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6338880" y="3718080"/>
            <a:ext cx="0" cy="1722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16640" y="2637000"/>
            <a:ext cx="102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6338880" y="2484000"/>
            <a:ext cx="0" cy="12495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705120" y="60174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+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281640" y="2576520"/>
            <a:ext cx="122400" cy="119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2128320" y="3017880"/>
            <a:ext cx="337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514600" y="3032280"/>
            <a:ext cx="0" cy="2271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514600" y="5303880"/>
            <a:ext cx="40543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6568920" y="3733560"/>
            <a:ext cx="0" cy="1584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546880" y="3017880"/>
            <a:ext cx="116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 flipV="1">
            <a:off x="6561000" y="2881440"/>
            <a:ext cx="6480" cy="836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499080" y="2960640"/>
            <a:ext cx="122400" cy="119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2408400" y="3382920"/>
            <a:ext cx="310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773440" y="3382920"/>
            <a:ext cx="0" cy="16765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73440" y="5075280"/>
            <a:ext cx="419076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6964200" y="3718080"/>
            <a:ext cx="0" cy="13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60920" y="3382920"/>
            <a:ext cx="157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6964200" y="3201480"/>
            <a:ext cx="1800" cy="5000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99400" y="3321000"/>
            <a:ext cx="122040" cy="119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24200" y="2495520"/>
            <a:ext cx="149220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413080" y="3371760"/>
            <a:ext cx="0" cy="19861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100240" y="3013200"/>
            <a:ext cx="0" cy="26208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962000" y="2631960"/>
            <a:ext cx="0" cy="31179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401920" y="5380200"/>
            <a:ext cx="402732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100240" y="5646600"/>
            <a:ext cx="393696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951200" y="5749920"/>
            <a:ext cx="390204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6453360" y="3752640"/>
            <a:ext cx="0" cy="16398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037200" y="3752640"/>
            <a:ext cx="0" cy="19047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5853240" y="3753000"/>
            <a:ext cx="0" cy="20080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5853240" y="2480760"/>
            <a:ext cx="0" cy="127188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6040440" y="2852280"/>
            <a:ext cx="0" cy="87948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6445080" y="3258720"/>
            <a:ext cx="0" cy="45252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86280" y="2579760"/>
            <a:ext cx="122400" cy="119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388200" y="3327480"/>
            <a:ext cx="122040" cy="119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973840" y="2954160"/>
            <a:ext cx="122040" cy="119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657400" y="20566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88440" y="336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Lucida Casu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561120" y="1505520"/>
            <a:ext cx="25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S + T + M = I + G +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86880" y="4131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S+T+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496760" y="4176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S+T+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1736640" y="4220640"/>
            <a:ext cx="2043360" cy="17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4057200" y="304884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442480" y="516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39840" y="101052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712960" y="5600880"/>
            <a:ext cx="4311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2955960" y="289548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801480" y="56840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571480" y="27410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79440" y="304884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45440" y="516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206960" y="3400560"/>
            <a:ext cx="1157040" cy="18907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984920" y="3386160"/>
            <a:ext cx="1430280" cy="18907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327560" y="3765600"/>
            <a:ext cx="77796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068720" y="1996920"/>
            <a:ext cx="2578320" cy="638280"/>
          </a:xfrm>
          <a:prstGeom prst="wedgeRoundRectCallout">
            <a:avLst>
              <a:gd name="adj1" fmla="val -34175"/>
              <a:gd name="adj2" fmla="val 224379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(G+X)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 ou (S+T+M)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4057200" y="304884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442480" y="516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939840" y="101052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712960" y="5600880"/>
            <a:ext cx="4311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2955960" y="289548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801480" y="56840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571480" y="27410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339720" y="30646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511880" y="5150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206960" y="3400560"/>
            <a:ext cx="1157040" cy="18907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444840" y="3402000"/>
            <a:ext cx="1003320" cy="18907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3565440" y="3765600"/>
            <a:ext cx="73368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12960" y="1828800"/>
            <a:ext cx="2577960" cy="638280"/>
          </a:xfrm>
          <a:prstGeom prst="wedgeRoundRectCallout">
            <a:avLst>
              <a:gd name="adj1" fmla="val 33805"/>
              <a:gd name="adj2" fmla="val 248259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(G+X)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 ou (S+T+M)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3988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5960" y="2915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27840" y="29282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086600" y="213372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44800" y="213372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44800" y="213372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882880" y="24382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82880" y="24382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4280" y="18280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: R$ 1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76640" y="2133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44800" y="350532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44800" y="411480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086600" y="35049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350532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82880" y="38098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882880" y="35053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44200" y="380916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: R$ 1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12320" y="3504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838680" y="101052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644480" y="337356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1736640" y="1781280"/>
            <a:ext cx="0" cy="170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935000" y="2070000"/>
            <a:ext cx="185904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442880" y="156780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928680" y="33840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838680" y="101052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644480" y="3373560"/>
            <a:ext cx="2360880" cy="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1736640" y="1781280"/>
            <a:ext cx="0" cy="17064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935000" y="2070000"/>
            <a:ext cx="185904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442880" y="156780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28680" y="33840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213520" y="5799240"/>
            <a:ext cx="2954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5487840" y="4435560"/>
            <a:ext cx="2256120" cy="13716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53920" y="58824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 flipV="1">
            <a:off x="5501880" y="3900240"/>
            <a:ext cx="1800" cy="20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089680" y="3764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38680" y="101052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644480" y="3373560"/>
            <a:ext cx="2360880" cy="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1736640" y="1781280"/>
            <a:ext cx="0" cy="17064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935000" y="2070000"/>
            <a:ext cx="185904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442880" y="156780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928680" y="33840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 flipV="1">
            <a:off x="1736280" y="3854160"/>
            <a:ext cx="1800" cy="20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612800" y="579744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736640" y="4375080"/>
            <a:ext cx="1569960" cy="1417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1312560" y="4085640"/>
            <a:ext cx="395640" cy="641160"/>
            <a:chOff x="1312560" y="4085640"/>
            <a:chExt cx="395640" cy="641160"/>
          </a:xfrm>
        </p:grpSpPr>
        <p:sp>
          <p:nvSpPr>
            <p:cNvPr id="1245" name=""/>
            <p:cNvSpPr/>
            <p:nvPr/>
          </p:nvSpPr>
          <p:spPr>
            <a:xfrm>
              <a:off x="1312560" y="408564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348560" y="4358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342800" y="43909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3095280" y="5822280"/>
            <a:ext cx="395640" cy="641160"/>
            <a:chOff x="3095280" y="5822280"/>
            <a:chExt cx="395640" cy="641160"/>
          </a:xfrm>
        </p:grpSpPr>
        <p:sp>
          <p:nvSpPr>
            <p:cNvPr id="1249" name=""/>
            <p:cNvSpPr/>
            <p:nvPr/>
          </p:nvSpPr>
          <p:spPr>
            <a:xfrm>
              <a:off x="3095280" y="582228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131280" y="60951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125520" y="6127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3928680" y="5790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357560" y="373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2545920" y="4330080"/>
            <a:ext cx="1301760" cy="671400"/>
            <a:chOff x="2545920" y="4330080"/>
            <a:chExt cx="1301760" cy="671400"/>
          </a:xfrm>
        </p:grpSpPr>
        <p:grpSp>
          <p:nvGrpSpPr>
            <p:cNvPr id="1255" name=""/>
            <p:cNvGrpSpPr/>
            <p:nvPr/>
          </p:nvGrpSpPr>
          <p:grpSpPr>
            <a:xfrm>
              <a:off x="2545920" y="4330080"/>
              <a:ext cx="395640" cy="671400"/>
              <a:chOff x="2545920" y="4330080"/>
              <a:chExt cx="395640" cy="671400"/>
            </a:xfrm>
          </p:grpSpPr>
          <p:sp>
            <p:nvSpPr>
              <p:cNvPr id="1256" name=""/>
              <p:cNvSpPr/>
              <p:nvPr/>
            </p:nvSpPr>
            <p:spPr>
              <a:xfrm>
                <a:off x="2545920" y="433008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595960" y="4633200"/>
                <a:ext cx="3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590560" y="4665600"/>
                <a:ext cx="304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9" name=""/>
            <p:cNvSpPr/>
            <p:nvPr/>
          </p:nvSpPr>
          <p:spPr>
            <a:xfrm>
              <a:off x="2944440" y="446652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= K + 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"/>
          <p:cNvSpPr/>
          <p:nvPr/>
        </p:nvSpPr>
        <p:spPr>
          <a:xfrm>
            <a:off x="5213520" y="5799240"/>
            <a:ext cx="2954160" cy="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5487840" y="4435560"/>
            <a:ext cx="2256120" cy="1371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053920" y="58824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 flipV="1">
            <a:off x="5501880" y="3900240"/>
            <a:ext cx="1800" cy="20430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089680" y="3764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38680" y="101052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44480" y="337356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1736640" y="1781280"/>
            <a:ext cx="0" cy="170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35000" y="2070000"/>
            <a:ext cx="185904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442880" y="156780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28680" y="33840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1736280" y="3854160"/>
            <a:ext cx="1800" cy="20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612800" y="579744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1312560" y="4085640"/>
            <a:ext cx="395640" cy="641160"/>
            <a:chOff x="1312560" y="4085640"/>
            <a:chExt cx="395640" cy="641160"/>
          </a:xfrm>
        </p:grpSpPr>
        <p:sp>
          <p:nvSpPr>
            <p:cNvPr id="1277" name=""/>
            <p:cNvSpPr/>
            <p:nvPr/>
          </p:nvSpPr>
          <p:spPr>
            <a:xfrm>
              <a:off x="1312560" y="408564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348560" y="4358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342800" y="43909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3095280" y="5822280"/>
            <a:ext cx="395640" cy="641160"/>
            <a:chOff x="3095280" y="5822280"/>
            <a:chExt cx="395640" cy="641160"/>
          </a:xfrm>
        </p:grpSpPr>
        <p:sp>
          <p:nvSpPr>
            <p:cNvPr id="1281" name=""/>
            <p:cNvSpPr/>
            <p:nvPr/>
          </p:nvSpPr>
          <p:spPr>
            <a:xfrm>
              <a:off x="3095280" y="582228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131280" y="60951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125520" y="6127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3928680" y="5790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357560" y="373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257800" y="3375000"/>
            <a:ext cx="2954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213520" y="5799240"/>
            <a:ext cx="2954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5500800" y="1782360"/>
            <a:ext cx="0" cy="170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5487840" y="4435560"/>
            <a:ext cx="2256120" cy="13716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053920" y="58824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066520" y="3428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H="1" flipV="1">
            <a:off x="5501880" y="3900240"/>
            <a:ext cx="1800" cy="20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089680" y="3764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162400" y="15818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1980720" y="2209680"/>
            <a:ext cx="35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979640" y="2179800"/>
            <a:ext cx="1440" cy="239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981080" y="4572000"/>
            <a:ext cx="551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7513560" y="3368160"/>
            <a:ext cx="0" cy="12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5516640" y="2011320"/>
            <a:ext cx="2225520" cy="1357200"/>
            <a:chOff x="5516640" y="2011320"/>
            <a:chExt cx="2225520" cy="1357200"/>
          </a:xfrm>
        </p:grpSpPr>
        <p:sp>
          <p:nvSpPr>
            <p:cNvPr id="1300" name=""/>
            <p:cNvSpPr/>
            <p:nvPr/>
          </p:nvSpPr>
          <p:spPr>
            <a:xfrm>
              <a:off x="5516640" y="2209680"/>
              <a:ext cx="2225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7513560" y="2011320"/>
              <a:ext cx="0" cy="13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454880" y="2149560"/>
              <a:ext cx="122400" cy="118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3" name=""/>
          <p:cNvSpPr/>
          <p:nvPr/>
        </p:nvSpPr>
        <p:spPr>
          <a:xfrm>
            <a:off x="1736640" y="4375080"/>
            <a:ext cx="1569960" cy="1417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838680" y="101052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44480" y="337356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1736640" y="1781280"/>
            <a:ext cx="0" cy="170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935000" y="2070000"/>
            <a:ext cx="185904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442880" y="156780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928680" y="33840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 flipV="1">
            <a:off x="1736280" y="3854160"/>
            <a:ext cx="1800" cy="20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612800" y="579744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1312560" y="4085640"/>
            <a:ext cx="395640" cy="641160"/>
            <a:chOff x="1312560" y="4085640"/>
            <a:chExt cx="395640" cy="641160"/>
          </a:xfrm>
        </p:grpSpPr>
        <p:sp>
          <p:nvSpPr>
            <p:cNvPr id="1316" name=""/>
            <p:cNvSpPr/>
            <p:nvPr/>
          </p:nvSpPr>
          <p:spPr>
            <a:xfrm>
              <a:off x="1312560" y="408564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348560" y="4358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342800" y="43909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095280" y="5822280"/>
            <a:ext cx="395640" cy="641160"/>
            <a:chOff x="3095280" y="5822280"/>
            <a:chExt cx="395640" cy="641160"/>
          </a:xfrm>
        </p:grpSpPr>
        <p:sp>
          <p:nvSpPr>
            <p:cNvPr id="1320" name=""/>
            <p:cNvSpPr/>
            <p:nvPr/>
          </p:nvSpPr>
          <p:spPr>
            <a:xfrm>
              <a:off x="3095280" y="582228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131280" y="60951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125520" y="6127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3928680" y="5790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57560" y="373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257800" y="3375000"/>
            <a:ext cx="2954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213520" y="5799240"/>
            <a:ext cx="2954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5500800" y="1782360"/>
            <a:ext cx="0" cy="170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5487840" y="4435560"/>
            <a:ext cx="2256120" cy="13716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8053920" y="58824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8066520" y="3428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5501880" y="3900240"/>
            <a:ext cx="1800" cy="20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89680" y="3764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162400" y="15818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1980720" y="2209680"/>
            <a:ext cx="35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979640" y="2179800"/>
            <a:ext cx="1440" cy="239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981080" y="4572000"/>
            <a:ext cx="551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7513560" y="3368160"/>
            <a:ext cx="0" cy="12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516640" y="2209680"/>
            <a:ext cx="2225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7513560" y="2011320"/>
            <a:ext cx="0" cy="13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454880" y="2149560"/>
            <a:ext cx="122400" cy="11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2209680" y="2637000"/>
            <a:ext cx="329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09680" y="2620800"/>
            <a:ext cx="0" cy="214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193840" y="478476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7178760" y="3368520"/>
            <a:ext cx="0" cy="141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516640" y="2637000"/>
            <a:ext cx="18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7178760" y="245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120080" y="2575080"/>
            <a:ext cx="122040" cy="11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736640" y="4375080"/>
            <a:ext cx="1569960" cy="1417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"/>
          <p:cNvGrpSpPr/>
          <p:nvPr/>
        </p:nvGrpSpPr>
        <p:grpSpPr>
          <a:xfrm>
            <a:off x="5668560" y="1647000"/>
            <a:ext cx="2121480" cy="1754280"/>
            <a:chOff x="5668560" y="1647000"/>
            <a:chExt cx="2121480" cy="1754280"/>
          </a:xfrm>
        </p:grpSpPr>
        <p:sp>
          <p:nvSpPr>
            <p:cNvPr id="1350" name=""/>
            <p:cNvSpPr/>
            <p:nvPr/>
          </p:nvSpPr>
          <p:spPr>
            <a:xfrm>
              <a:off x="5913360" y="1951200"/>
              <a:ext cx="1683000" cy="1222200"/>
            </a:xfrm>
            <a:custGeom>
              <a:avLst/>
              <a:gdLst/>
              <a:ahLst/>
              <a:rect l="l" t="t" r="r" b="b"/>
              <a:pathLst>
                <a:path w="1060" h="770">
                  <a:moveTo>
                    <a:pt x="0" y="758"/>
                  </a:moveTo>
                  <a:cubicBezTo>
                    <a:pt x="5" y="770"/>
                    <a:pt x="67" y="750"/>
                    <a:pt x="144" y="729"/>
                  </a:cubicBezTo>
                  <a:cubicBezTo>
                    <a:pt x="221" y="708"/>
                    <a:pt x="352" y="682"/>
                    <a:pt x="461" y="633"/>
                  </a:cubicBezTo>
                  <a:cubicBezTo>
                    <a:pt x="570" y="584"/>
                    <a:pt x="704" y="510"/>
                    <a:pt x="797" y="432"/>
                  </a:cubicBezTo>
                  <a:cubicBezTo>
                    <a:pt x="890" y="354"/>
                    <a:pt x="974" y="235"/>
                    <a:pt x="1017" y="163"/>
                  </a:cubicBezTo>
                  <a:cubicBezTo>
                    <a:pt x="1060" y="91"/>
                    <a:pt x="1048" y="34"/>
                    <a:pt x="1056" y="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668560" y="3033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Lucida Casu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394400" y="164700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Lucida Casu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838680" y="101052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644480" y="337356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736640" y="1781280"/>
            <a:ext cx="0" cy="170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935000" y="2070000"/>
            <a:ext cx="185904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42880" y="156780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928680" y="33840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 flipV="1">
            <a:off x="1736280" y="3854160"/>
            <a:ext cx="1800" cy="20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612800" y="579744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1312560" y="4085640"/>
            <a:ext cx="395640" cy="641160"/>
            <a:chOff x="1312560" y="4085640"/>
            <a:chExt cx="395640" cy="641160"/>
          </a:xfrm>
        </p:grpSpPr>
        <p:sp>
          <p:nvSpPr>
            <p:cNvPr id="1365" name=""/>
            <p:cNvSpPr/>
            <p:nvPr/>
          </p:nvSpPr>
          <p:spPr>
            <a:xfrm>
              <a:off x="1312560" y="408564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348560" y="4358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42800" y="43909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3095280" y="5822280"/>
            <a:ext cx="395640" cy="641160"/>
            <a:chOff x="3095280" y="5822280"/>
            <a:chExt cx="395640" cy="641160"/>
          </a:xfrm>
        </p:grpSpPr>
        <p:sp>
          <p:nvSpPr>
            <p:cNvPr id="1369" name=""/>
            <p:cNvSpPr/>
            <p:nvPr/>
          </p:nvSpPr>
          <p:spPr>
            <a:xfrm>
              <a:off x="3095280" y="582228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131280" y="60951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125520" y="6127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3928680" y="5790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357560" y="373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257800" y="3375000"/>
            <a:ext cx="2954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213520" y="5799240"/>
            <a:ext cx="2954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5500800" y="1782360"/>
            <a:ext cx="0" cy="170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5487840" y="4435560"/>
            <a:ext cx="2256120" cy="13716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053920" y="58824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066520" y="3428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 flipV="1">
            <a:off x="5501880" y="3900240"/>
            <a:ext cx="1800" cy="20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089680" y="3764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162400" y="15818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1980720" y="2209680"/>
            <a:ext cx="35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979640" y="2179800"/>
            <a:ext cx="1440" cy="239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981080" y="4572000"/>
            <a:ext cx="551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7513560" y="3368160"/>
            <a:ext cx="0" cy="12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516640" y="2209680"/>
            <a:ext cx="2225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7513560" y="2011320"/>
            <a:ext cx="0" cy="13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454880" y="2149560"/>
            <a:ext cx="122400" cy="11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2209680" y="2637000"/>
            <a:ext cx="329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209680" y="2620800"/>
            <a:ext cx="0" cy="214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93840" y="478476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7178760" y="3368520"/>
            <a:ext cx="0" cy="141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516640" y="2637000"/>
            <a:ext cx="18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7178760" y="245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120080" y="2575080"/>
            <a:ext cx="122040" cy="11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H="1">
            <a:off x="2910960" y="31082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911320" y="3094200"/>
            <a:ext cx="0" cy="23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911320" y="5410080"/>
            <a:ext cx="32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6126120" y="3382560"/>
            <a:ext cx="0" cy="20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502240" y="31082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6126120" y="297180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67440" y="3046320"/>
            <a:ext cx="12240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736640" y="4375080"/>
            <a:ext cx="1569960" cy="1417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384960" y="1981080"/>
            <a:ext cx="1598400" cy="1143000"/>
          </a:xfrm>
          <a:custGeom>
            <a:avLst/>
            <a:gdLst/>
            <a:ahLst/>
            <a:rect l="l" t="t" r="r" b="b"/>
            <a:pathLst>
              <a:path w="1007" h="720">
                <a:moveTo>
                  <a:pt x="0" y="720"/>
                </a:moveTo>
                <a:cubicBezTo>
                  <a:pt x="21" y="719"/>
                  <a:pt x="46" y="717"/>
                  <a:pt x="125" y="701"/>
                </a:cubicBezTo>
                <a:cubicBezTo>
                  <a:pt x="204" y="685"/>
                  <a:pt x="362" y="672"/>
                  <a:pt x="471" y="624"/>
                </a:cubicBezTo>
                <a:cubicBezTo>
                  <a:pt x="580" y="576"/>
                  <a:pt x="695" y="493"/>
                  <a:pt x="778" y="413"/>
                </a:cubicBezTo>
                <a:cubicBezTo>
                  <a:pt x="861" y="333"/>
                  <a:pt x="933" y="213"/>
                  <a:pt x="970" y="144"/>
                </a:cubicBezTo>
                <a:cubicBezTo>
                  <a:pt x="1007" y="75"/>
                  <a:pt x="994" y="24"/>
                  <a:pt x="999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913360" y="1951200"/>
            <a:ext cx="1683000" cy="1222200"/>
          </a:xfrm>
          <a:custGeom>
            <a:avLst/>
            <a:gdLst/>
            <a:ahLst/>
            <a:rect l="l" t="t" r="r" b="b"/>
            <a:pathLst>
              <a:path w="1060" h="770">
                <a:moveTo>
                  <a:pt x="0" y="758"/>
                </a:moveTo>
                <a:cubicBezTo>
                  <a:pt x="5" y="770"/>
                  <a:pt x="67" y="750"/>
                  <a:pt x="144" y="729"/>
                </a:cubicBezTo>
                <a:cubicBezTo>
                  <a:pt x="221" y="708"/>
                  <a:pt x="352" y="682"/>
                  <a:pt x="461" y="633"/>
                </a:cubicBezTo>
                <a:cubicBezTo>
                  <a:pt x="570" y="584"/>
                  <a:pt x="704" y="510"/>
                  <a:pt x="797" y="432"/>
                </a:cubicBezTo>
                <a:cubicBezTo>
                  <a:pt x="890" y="354"/>
                  <a:pt x="974" y="235"/>
                  <a:pt x="1017" y="163"/>
                </a:cubicBezTo>
                <a:cubicBezTo>
                  <a:pt x="1060" y="91"/>
                  <a:pt x="1048" y="34"/>
                  <a:pt x="1056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217920" y="30790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791480" y="16772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838680" y="101052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44480" y="337356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1736640" y="1781280"/>
            <a:ext cx="0" cy="170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35000" y="2070000"/>
            <a:ext cx="1859040" cy="1160640"/>
          </a:xfrm>
          <a:custGeom>
            <a:avLst/>
            <a:gdLst/>
            <a:ahLst/>
            <a:rect l="l" t="t" r="r" b="b"/>
            <a:pathLst>
              <a:path w="1142" h="731">
                <a:moveTo>
                  <a:pt x="0" y="0"/>
                </a:moveTo>
                <a:cubicBezTo>
                  <a:pt x="61" y="157"/>
                  <a:pt x="120" y="317"/>
                  <a:pt x="211" y="424"/>
                </a:cubicBezTo>
                <a:cubicBezTo>
                  <a:pt x="302" y="531"/>
                  <a:pt x="392" y="593"/>
                  <a:pt x="547" y="644"/>
                </a:cubicBezTo>
                <a:cubicBezTo>
                  <a:pt x="702" y="695"/>
                  <a:pt x="1018" y="713"/>
                  <a:pt x="1142" y="73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442880" y="156780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928680" y="33840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 flipV="1">
            <a:off x="1736280" y="3854160"/>
            <a:ext cx="1800" cy="20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612800" y="5797440"/>
            <a:ext cx="236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1312560" y="4085640"/>
            <a:ext cx="395640" cy="641160"/>
            <a:chOff x="1312560" y="4085640"/>
            <a:chExt cx="395640" cy="641160"/>
          </a:xfrm>
        </p:grpSpPr>
        <p:sp>
          <p:nvSpPr>
            <p:cNvPr id="1421" name=""/>
            <p:cNvSpPr/>
            <p:nvPr/>
          </p:nvSpPr>
          <p:spPr>
            <a:xfrm>
              <a:off x="1312560" y="408564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348560" y="4358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342800" y="43909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3095280" y="5822280"/>
            <a:ext cx="395640" cy="641160"/>
            <a:chOff x="3095280" y="5822280"/>
            <a:chExt cx="395640" cy="641160"/>
          </a:xfrm>
        </p:grpSpPr>
        <p:sp>
          <p:nvSpPr>
            <p:cNvPr id="1425" name=""/>
            <p:cNvSpPr/>
            <p:nvPr/>
          </p:nvSpPr>
          <p:spPr>
            <a:xfrm>
              <a:off x="3095280" y="582228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131280" y="60951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125520" y="6127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8" name=""/>
          <p:cNvSpPr/>
          <p:nvPr/>
        </p:nvSpPr>
        <p:spPr>
          <a:xfrm>
            <a:off x="3928680" y="5790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357560" y="373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57800" y="3375000"/>
            <a:ext cx="2954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13520" y="5799240"/>
            <a:ext cx="2954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5500800" y="1782360"/>
            <a:ext cx="0" cy="170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5487840" y="4236840"/>
            <a:ext cx="2606760" cy="15699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8053920" y="58824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8066520" y="3428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H="1" flipV="1">
            <a:off x="5501880" y="3900240"/>
            <a:ext cx="1800" cy="20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089680" y="3764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162400" y="15818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1980720" y="2209680"/>
            <a:ext cx="35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979640" y="2179800"/>
            <a:ext cx="1440" cy="239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981080" y="4572000"/>
            <a:ext cx="5516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7513560" y="3368160"/>
            <a:ext cx="0" cy="12034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516640" y="2209680"/>
            <a:ext cx="2606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7513560" y="2011320"/>
            <a:ext cx="0" cy="13572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454880" y="2149560"/>
            <a:ext cx="122400" cy="118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2209680" y="2637000"/>
            <a:ext cx="329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209680" y="2620800"/>
            <a:ext cx="0" cy="214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193840" y="4784760"/>
            <a:ext cx="49690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7178760" y="3368520"/>
            <a:ext cx="0" cy="1416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516640" y="2637000"/>
            <a:ext cx="2241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7178760" y="245412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120080" y="2575080"/>
            <a:ext cx="122040" cy="118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2910960" y="31082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911320" y="3094200"/>
            <a:ext cx="0" cy="23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911320" y="5410080"/>
            <a:ext cx="32148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6126120" y="3382560"/>
            <a:ext cx="0" cy="20113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502240" y="3092400"/>
            <a:ext cx="1249560" cy="1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126120" y="2971800"/>
            <a:ext cx="0" cy="3967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067440" y="3046320"/>
            <a:ext cx="122400" cy="119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736640" y="4375080"/>
            <a:ext cx="1569960" cy="1417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766880" y="4102200"/>
            <a:ext cx="1889280" cy="17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981080" y="4297320"/>
            <a:ext cx="595944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7924680" y="3368520"/>
            <a:ext cx="0" cy="9288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7924680" y="2011320"/>
            <a:ext cx="0" cy="135720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209680" y="4495680"/>
            <a:ext cx="539460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911320" y="5135400"/>
            <a:ext cx="367200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6568920" y="3382920"/>
            <a:ext cx="0" cy="17524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7620120" y="3382560"/>
            <a:ext cx="0" cy="11127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7620120" y="2454120"/>
            <a:ext cx="0" cy="91440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6568920" y="2925720"/>
            <a:ext cx="0" cy="44280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507000" y="3038400"/>
            <a:ext cx="12240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567560" y="2577960"/>
            <a:ext cx="12240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861320" y="2151000"/>
            <a:ext cx="12204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838680" y="101052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712960" y="5586480"/>
            <a:ext cx="4907160" cy="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2955960" y="2620440"/>
            <a:ext cx="0" cy="3094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426800" y="56840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617560" y="240588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111720" y="3675240"/>
            <a:ext cx="77796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668920" y="1812960"/>
            <a:ext cx="1509840" cy="593640"/>
          </a:xfrm>
          <a:prstGeom prst="wedgeRoundRectCallout">
            <a:avLst>
              <a:gd name="adj1" fmla="val 4259"/>
              <a:gd name="adj2" fmla="val 252939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 ou P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382920" y="3016080"/>
            <a:ext cx="2911680" cy="207360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221000" y="3046320"/>
            <a:ext cx="291168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898440" y="500004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966000" y="26805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490200" y="101052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nálise IS-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2257560" y="5662440"/>
            <a:ext cx="4906800" cy="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2500200" y="2438280"/>
            <a:ext cx="0" cy="335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71400" y="5760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146320" y="21614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490920" y="3092400"/>
            <a:ext cx="291132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168360" y="50461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235560" y="27266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417480" y="30949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983480" y="52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22600" y="3432240"/>
            <a:ext cx="1430280" cy="18907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3992400" y="5135400"/>
            <a:ext cx="0" cy="8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5013360"/>
            <a:ext cx="0" cy="9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90200" y="101052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nálise IS-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251080" y="5662440"/>
            <a:ext cx="491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2500200" y="2438280"/>
            <a:ext cx="0" cy="335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971400" y="5760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146320" y="21614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490920" y="3092400"/>
            <a:ext cx="291132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168360" y="50461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235560" y="27266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914200" y="31554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374000" y="531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019320" y="3492360"/>
            <a:ext cx="1430280" cy="18907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485160" y="3093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614760" y="3416400"/>
            <a:ext cx="1612800" cy="187488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246280" y="51364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930480" y="5049720"/>
            <a:ext cx="12240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587840" y="4897440"/>
            <a:ext cx="12240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H="1">
            <a:off x="2208240" y="4952880"/>
            <a:ext cx="237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>
            <a:off x="2177640" y="5105520"/>
            <a:ext cx="17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821040" y="6130800"/>
            <a:ext cx="1017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2043000" y="4792680"/>
            <a:ext cx="0" cy="426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2649600" y="1784520"/>
            <a:ext cx="2577960" cy="1888920"/>
            <a:chOff x="2649600" y="1784520"/>
            <a:chExt cx="2577960" cy="1888920"/>
          </a:xfrm>
        </p:grpSpPr>
        <p:sp>
          <p:nvSpPr>
            <p:cNvPr id="1528" name=""/>
            <p:cNvSpPr/>
            <p:nvPr/>
          </p:nvSpPr>
          <p:spPr>
            <a:xfrm>
              <a:off x="2649600" y="1784520"/>
              <a:ext cx="2577960" cy="637920"/>
            </a:xfrm>
            <a:prstGeom prst="wedgeRoundRectCallout">
              <a:avLst>
                <a:gd name="adj1" fmla="val -24629"/>
                <a:gd name="adj2" fmla="val 238805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Lucida Casual"/>
                </a:rPr>
                <a:t>(G+X)</a:t>
              </a:r>
              <a:r>
                <a:rPr b="1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</a:t>
              </a:r>
              <a:r>
                <a:rPr b="1" lang="en-US" sz="1800" spc="-1" strike="noStrike">
                  <a:solidFill>
                    <a:srgbClr val="009900"/>
                  </a:solidFill>
                  <a:latin typeface="Lucida Casual"/>
                </a:rPr>
                <a:t> ou (S+T+M)</a:t>
              </a:r>
              <a:r>
                <a:rPr b="1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108240" y="3673440"/>
              <a:ext cx="57960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3988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95960" y="2915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27840" y="29282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86600" y="213372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044800" y="213372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44800" y="213372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882880" y="24382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82880" y="24382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69520" y="18280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79160" y="2133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44800" y="350532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044800" y="411480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086600" y="35049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350532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82880" y="38098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882880" y="35053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77280" y="380916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752480" y="3505320"/>
            <a:ext cx="1447920" cy="1981080"/>
            <a:chOff x="1752480" y="3505320"/>
            <a:chExt cx="1447920" cy="1981080"/>
          </a:xfrm>
        </p:grpSpPr>
        <p:sp>
          <p:nvSpPr>
            <p:cNvPr id="136" name=""/>
            <p:cNvSpPr/>
            <p:nvPr/>
          </p:nvSpPr>
          <p:spPr>
            <a:xfrm>
              <a:off x="1905120" y="350532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4724280"/>
              <a:ext cx="1447920" cy="762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1320" y="4876200"/>
              <a:ext cx="130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Poupanç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712320" y="3504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5054760" y="4167360"/>
            <a:ext cx="0" cy="174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433840" y="3605040"/>
            <a:ext cx="0" cy="228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490200" y="101052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nálise IS-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251080" y="5662440"/>
            <a:ext cx="491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2500200" y="2438280"/>
            <a:ext cx="0" cy="335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971400" y="5760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146320" y="21614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706840" y="2932200"/>
            <a:ext cx="291132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557080" y="50349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427720" y="26013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484160" y="2682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943960" y="4844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89640" y="3019320"/>
            <a:ext cx="1430280" cy="18907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055120" y="2620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184720" y="2943360"/>
            <a:ext cx="1612800" cy="187488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816240" y="46634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992840" y="4022640"/>
            <a:ext cx="12204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372280" y="3467160"/>
            <a:ext cx="12204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2230560" y="3527280"/>
            <a:ext cx="313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2236320" y="4089240"/>
            <a:ext cx="27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940280" y="6073920"/>
            <a:ext cx="658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2054160" y="3303720"/>
            <a:ext cx="0" cy="946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4187880" y="1633680"/>
            <a:ext cx="2577960" cy="1492200"/>
            <a:chOff x="4187880" y="1633680"/>
            <a:chExt cx="2577960" cy="1492200"/>
          </a:xfrm>
        </p:grpSpPr>
        <p:sp>
          <p:nvSpPr>
            <p:cNvPr id="1556" name=""/>
            <p:cNvSpPr/>
            <p:nvPr/>
          </p:nvSpPr>
          <p:spPr>
            <a:xfrm>
              <a:off x="4187880" y="1633680"/>
              <a:ext cx="2577960" cy="637920"/>
            </a:xfrm>
            <a:prstGeom prst="wedgeRoundRectCallout">
              <a:avLst>
                <a:gd name="adj1" fmla="val -22782"/>
                <a:gd name="adj2" fmla="val 176370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Lucida Casual"/>
                </a:rPr>
                <a:t>(G+X)</a:t>
              </a:r>
              <a:r>
                <a:rPr b="1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</a:t>
              </a:r>
              <a:r>
                <a:rPr b="1" lang="en-US" sz="1800" spc="-1" strike="noStrike">
                  <a:solidFill>
                    <a:srgbClr val="009900"/>
                  </a:solidFill>
                  <a:latin typeface="Lucida Casual"/>
                </a:rPr>
                <a:t> ou (S+T+M)</a:t>
              </a:r>
              <a:r>
                <a:rPr b="1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662360" y="3125880"/>
              <a:ext cx="57960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490200" y="101052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nálise IS-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257560" y="5676840"/>
            <a:ext cx="490680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2500200" y="2438280"/>
            <a:ext cx="0" cy="335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971400" y="5760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146320" y="21614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086280" y="3024360"/>
            <a:ext cx="291132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798280" y="50014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830920" y="26582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012480" y="30265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983480" y="52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117960" y="3363840"/>
            <a:ext cx="1430280" cy="18907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805200" y="3062160"/>
            <a:ext cx="291168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13600" y="51188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535080" y="269496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M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008600" y="4875120"/>
            <a:ext cx="12204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195800" y="5018040"/>
            <a:ext cx="12204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248000" y="5138640"/>
            <a:ext cx="0" cy="8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064040" y="4998960"/>
            <a:ext cx="0" cy="95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2226960" y="4941720"/>
            <a:ext cx="177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2250720" y="5079960"/>
            <a:ext cx="194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066760" y="4780080"/>
            <a:ext cx="0" cy="43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936960" y="6108840"/>
            <a:ext cx="5079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5975280" y="3370320"/>
            <a:ext cx="669960" cy="15840"/>
          </a:xfrm>
          <a:prstGeom prst="line">
            <a:avLst/>
          </a:prstGeom>
          <a:ln w="763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318280" y="1859040"/>
            <a:ext cx="1509480" cy="593640"/>
          </a:xfrm>
          <a:prstGeom prst="wedgeRoundRectCallout">
            <a:avLst>
              <a:gd name="adj1" fmla="val 10254"/>
              <a:gd name="adj2" fmla="val 201606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M</a:t>
            </a:r>
            <a:r>
              <a:rPr b="1" lang="en-US" sz="1800" spc="-1" strike="noStrike">
                <a:solidFill>
                  <a:srgbClr val="993300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 ou P</a:t>
            </a:r>
            <a:r>
              <a:rPr b="1" lang="en-US" sz="1800" spc="-1" strike="noStrike">
                <a:solidFill>
                  <a:srgbClr val="9933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490200" y="101052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nálise IS-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2257560" y="5670360"/>
            <a:ext cx="4922640" cy="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2500200" y="2438280"/>
            <a:ext cx="0" cy="335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971400" y="5760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146320" y="21614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086280" y="3024360"/>
            <a:ext cx="291132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798280" y="50014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830920" y="26582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943520" y="233460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553440" y="446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114880" y="2660760"/>
            <a:ext cx="1430280" cy="18907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05200" y="3062160"/>
            <a:ext cx="291168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513600" y="51188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535080" y="269496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M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613480" y="3755880"/>
            <a:ext cx="12204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054840" y="4199040"/>
            <a:ext cx="122040" cy="11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118200" y="4319640"/>
            <a:ext cx="0" cy="15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680080" y="3878280"/>
            <a:ext cx="1440" cy="202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H="1">
            <a:off x="2262240" y="3809880"/>
            <a:ext cx="33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H="1">
            <a:off x="2252520" y="4272120"/>
            <a:ext cx="378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089080" y="3753000"/>
            <a:ext cx="0" cy="669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5564160" y="6108840"/>
            <a:ext cx="774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5975280" y="3370320"/>
            <a:ext cx="669960" cy="15840"/>
          </a:xfrm>
          <a:prstGeom prst="line">
            <a:avLst/>
          </a:prstGeom>
          <a:ln w="763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318280" y="1859040"/>
            <a:ext cx="1509480" cy="593640"/>
          </a:xfrm>
          <a:prstGeom prst="wedgeRoundRectCallout">
            <a:avLst>
              <a:gd name="adj1" fmla="val 10254"/>
              <a:gd name="adj2" fmla="val 201606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M</a:t>
            </a:r>
            <a:r>
              <a:rPr b="1" lang="en-US" sz="1800" spc="-1" strike="noStrike">
                <a:solidFill>
                  <a:srgbClr val="993300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 ou P</a:t>
            </a:r>
            <a:r>
              <a:rPr b="1" lang="en-US" sz="1800" spc="-1" strike="noStrike">
                <a:solidFill>
                  <a:srgbClr val="9933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490200" y="101052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nálise IS-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2257560" y="5670360"/>
            <a:ext cx="4922640" cy="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2500200" y="3017880"/>
            <a:ext cx="0" cy="277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71400" y="5760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085840" y="28472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483000" y="3146400"/>
            <a:ext cx="291132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117240" y="51807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308560" y="5153760"/>
            <a:ext cx="5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940200" y="3146400"/>
            <a:ext cx="1430280" cy="21193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033800" y="3124080"/>
            <a:ext cx="291168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12600">
            <a:solidFill>
              <a:srgbClr val="99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819680" y="4827600"/>
            <a:ext cx="12204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4878000" y="4965840"/>
            <a:ext cx="4680" cy="76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2361960" y="4888080"/>
            <a:ext cx="24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367160" y="3147840"/>
            <a:ext cx="1430280" cy="21193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1260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438360" y="3146400"/>
            <a:ext cx="1430640" cy="21193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1260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921040" y="3106800"/>
            <a:ext cx="291132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12600">
            <a:solidFill>
              <a:srgbClr val="99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2733840" y="2538360"/>
            <a:ext cx="2377440" cy="476280"/>
            <a:chOff x="2733840" y="2538360"/>
            <a:chExt cx="2377440" cy="476280"/>
          </a:xfrm>
        </p:grpSpPr>
        <p:sp>
          <p:nvSpPr>
            <p:cNvPr id="1632" name=""/>
            <p:cNvSpPr/>
            <p:nvPr/>
          </p:nvSpPr>
          <p:spPr>
            <a:xfrm>
              <a:off x="3054240" y="2816280"/>
              <a:ext cx="17218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4765680" y="2684520"/>
              <a:ext cx="0" cy="133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3063600" y="2677680"/>
              <a:ext cx="0" cy="1335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2733840" y="2538360"/>
              <a:ext cx="691920" cy="141120"/>
              <a:chOff x="2733840" y="2538360"/>
              <a:chExt cx="691920" cy="141120"/>
            </a:xfrm>
          </p:grpSpPr>
          <p:sp>
            <p:nvSpPr>
              <p:cNvPr id="1636" name=""/>
              <p:cNvSpPr/>
              <p:nvPr/>
            </p:nvSpPr>
            <p:spPr>
              <a:xfrm>
                <a:off x="2743200" y="2538360"/>
                <a:ext cx="0" cy="14112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733840" y="2679480"/>
                <a:ext cx="691920" cy="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414600" y="2538360"/>
                <a:ext cx="0" cy="14112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4419360" y="2543400"/>
              <a:ext cx="691920" cy="141120"/>
              <a:chOff x="4419360" y="2543400"/>
              <a:chExt cx="691920" cy="141120"/>
            </a:xfrm>
          </p:grpSpPr>
          <p:sp>
            <p:nvSpPr>
              <p:cNvPr id="1640" name=""/>
              <p:cNvSpPr/>
              <p:nvPr/>
            </p:nvSpPr>
            <p:spPr>
              <a:xfrm>
                <a:off x="4428720" y="2543400"/>
                <a:ext cx="0" cy="14112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4419360" y="2684520"/>
                <a:ext cx="691920" cy="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100120" y="2543400"/>
                <a:ext cx="0" cy="14112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3" name=""/>
            <p:cNvSpPr/>
            <p:nvPr/>
          </p:nvSpPr>
          <p:spPr>
            <a:xfrm>
              <a:off x="3851280" y="2832120"/>
              <a:ext cx="167760" cy="182520"/>
            </a:xfrm>
            <a:custGeom>
              <a:avLst/>
              <a:gdLst/>
              <a:ahLst/>
              <a:rect l="l" t="t" r="r" b="b"/>
              <a:pathLst>
                <a:path w="106" h="115">
                  <a:moveTo>
                    <a:pt x="52" y="0"/>
                  </a:moveTo>
                  <a:lnTo>
                    <a:pt x="106" y="115"/>
                  </a:lnTo>
                  <a:lnTo>
                    <a:pt x="0" y="11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4" name=""/>
          <p:cNvSpPr/>
          <p:nvPr/>
        </p:nvSpPr>
        <p:spPr>
          <a:xfrm>
            <a:off x="4485240" y="222336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621880" y="22089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S+T+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5265720" y="2522520"/>
            <a:ext cx="2378160" cy="476280"/>
            <a:chOff x="5265720" y="2522520"/>
            <a:chExt cx="2378160" cy="476280"/>
          </a:xfrm>
        </p:grpSpPr>
        <p:sp>
          <p:nvSpPr>
            <p:cNvPr id="1647" name=""/>
            <p:cNvSpPr/>
            <p:nvPr/>
          </p:nvSpPr>
          <p:spPr>
            <a:xfrm>
              <a:off x="5586480" y="2800440"/>
              <a:ext cx="17222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7297920" y="2668680"/>
              <a:ext cx="0" cy="1332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5595840" y="2661840"/>
              <a:ext cx="0" cy="1335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0" name=""/>
            <p:cNvGrpSpPr/>
            <p:nvPr/>
          </p:nvGrpSpPr>
          <p:grpSpPr>
            <a:xfrm>
              <a:off x="5265720" y="2522520"/>
              <a:ext cx="692280" cy="141120"/>
              <a:chOff x="5265720" y="2522520"/>
              <a:chExt cx="692280" cy="141120"/>
            </a:xfrm>
          </p:grpSpPr>
          <p:sp>
            <p:nvSpPr>
              <p:cNvPr id="1651" name=""/>
              <p:cNvSpPr/>
              <p:nvPr/>
            </p:nvSpPr>
            <p:spPr>
              <a:xfrm>
                <a:off x="5275440" y="2522520"/>
                <a:ext cx="0" cy="141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265720" y="2663640"/>
                <a:ext cx="69228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946840" y="2522520"/>
                <a:ext cx="0" cy="141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6951600" y="2527560"/>
              <a:ext cx="692280" cy="141120"/>
              <a:chOff x="6951600" y="2527560"/>
              <a:chExt cx="692280" cy="141120"/>
            </a:xfrm>
          </p:grpSpPr>
          <p:sp>
            <p:nvSpPr>
              <p:cNvPr id="1655" name=""/>
              <p:cNvSpPr/>
              <p:nvPr/>
            </p:nvSpPr>
            <p:spPr>
              <a:xfrm>
                <a:off x="6961320" y="2527560"/>
                <a:ext cx="0" cy="141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6951600" y="2668680"/>
                <a:ext cx="69228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632720" y="2527560"/>
                <a:ext cx="0" cy="141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8" name=""/>
            <p:cNvSpPr/>
            <p:nvPr/>
          </p:nvSpPr>
          <p:spPr>
            <a:xfrm>
              <a:off x="6383520" y="2816280"/>
              <a:ext cx="168120" cy="182520"/>
            </a:xfrm>
            <a:custGeom>
              <a:avLst/>
              <a:gdLst/>
              <a:ahLst/>
              <a:rect l="l" t="t" r="r" b="b"/>
              <a:pathLst>
                <a:path w="106" h="115">
                  <a:moveTo>
                    <a:pt x="52" y="0"/>
                  </a:moveTo>
                  <a:lnTo>
                    <a:pt x="106" y="115"/>
                  </a:lnTo>
                  <a:lnTo>
                    <a:pt x="0" y="11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9" name=""/>
          <p:cNvSpPr/>
          <p:nvPr/>
        </p:nvSpPr>
        <p:spPr>
          <a:xfrm>
            <a:off x="7105680" y="22075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433480" y="22219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490200" y="101052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nálise IS-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2257560" y="5670360"/>
            <a:ext cx="4922640" cy="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2500200" y="3017880"/>
            <a:ext cx="0" cy="277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971400" y="5760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085840" y="28472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483000" y="3146400"/>
            <a:ext cx="291132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117240" y="51807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308560" y="5153760"/>
            <a:ext cx="5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940200" y="3146400"/>
            <a:ext cx="1430280" cy="21193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033800" y="3124080"/>
            <a:ext cx="291168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12600">
            <a:solidFill>
              <a:srgbClr val="99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819680" y="4827600"/>
            <a:ext cx="122040" cy="119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884840" y="49482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H="1">
            <a:off x="2376360" y="4888080"/>
            <a:ext cx="243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367160" y="3147840"/>
            <a:ext cx="1430280" cy="21193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438360" y="3146400"/>
            <a:ext cx="1430640" cy="21193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1260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921040" y="3106800"/>
            <a:ext cx="291132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12600">
            <a:solidFill>
              <a:srgbClr val="99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076200" y="2624040"/>
            <a:ext cx="1678680" cy="3859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4745160" y="2859120"/>
            <a:ext cx="1440" cy="1569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3094200" y="2494080"/>
            <a:ext cx="0" cy="1332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2747880" y="2355840"/>
            <a:ext cx="692280" cy="141120"/>
            <a:chOff x="2747880" y="2355840"/>
            <a:chExt cx="692280" cy="141120"/>
          </a:xfrm>
        </p:grpSpPr>
        <p:sp>
          <p:nvSpPr>
            <p:cNvPr id="1684" name=""/>
            <p:cNvSpPr/>
            <p:nvPr/>
          </p:nvSpPr>
          <p:spPr>
            <a:xfrm>
              <a:off x="2757600" y="2355840"/>
              <a:ext cx="0" cy="1411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747880" y="2496960"/>
              <a:ext cx="6922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429000" y="2355840"/>
              <a:ext cx="0" cy="1411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7" name=""/>
          <p:cNvGrpSpPr/>
          <p:nvPr/>
        </p:nvGrpSpPr>
        <p:grpSpPr>
          <a:xfrm>
            <a:off x="4389480" y="2724120"/>
            <a:ext cx="692280" cy="141120"/>
            <a:chOff x="4389480" y="2724120"/>
            <a:chExt cx="692280" cy="141120"/>
          </a:xfrm>
        </p:grpSpPr>
        <p:sp>
          <p:nvSpPr>
            <p:cNvPr id="1688" name=""/>
            <p:cNvSpPr/>
            <p:nvPr/>
          </p:nvSpPr>
          <p:spPr>
            <a:xfrm>
              <a:off x="4399200" y="2724120"/>
              <a:ext cx="0" cy="1411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389480" y="2865240"/>
              <a:ext cx="6922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70600" y="2724120"/>
              <a:ext cx="0" cy="1411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1" name=""/>
          <p:cNvSpPr/>
          <p:nvPr/>
        </p:nvSpPr>
        <p:spPr>
          <a:xfrm>
            <a:off x="3851280" y="2832120"/>
            <a:ext cx="168120" cy="182520"/>
          </a:xfrm>
          <a:custGeom>
            <a:avLst/>
            <a:gdLst/>
            <a:ahLst/>
            <a:rect l="l" t="t" r="r" b="b"/>
            <a:pathLst>
              <a:path w="106" h="115">
                <a:moveTo>
                  <a:pt x="52" y="0"/>
                </a:moveTo>
                <a:lnTo>
                  <a:pt x="106" y="115"/>
                </a:lnTo>
                <a:lnTo>
                  <a:pt x="0" y="115"/>
                </a:lnTo>
                <a:lnTo>
                  <a:pt x="52" y="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366800" y="2299680"/>
            <a:ext cx="7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asual"/>
              </a:rPr>
              <a:t>G</a:t>
            </a: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636280" y="20264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S+T+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4" name=""/>
          <p:cNvGrpSpPr/>
          <p:nvPr/>
        </p:nvGrpSpPr>
        <p:grpSpPr>
          <a:xfrm>
            <a:off x="5265720" y="2522520"/>
            <a:ext cx="2378160" cy="476280"/>
            <a:chOff x="5265720" y="2522520"/>
            <a:chExt cx="2378160" cy="476280"/>
          </a:xfrm>
        </p:grpSpPr>
        <p:sp>
          <p:nvSpPr>
            <p:cNvPr id="1695" name=""/>
            <p:cNvSpPr/>
            <p:nvPr/>
          </p:nvSpPr>
          <p:spPr>
            <a:xfrm>
              <a:off x="5586480" y="2800440"/>
              <a:ext cx="17222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7297920" y="2668680"/>
              <a:ext cx="0" cy="1332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V="1">
              <a:off x="5595840" y="2661840"/>
              <a:ext cx="0" cy="1335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8" name=""/>
            <p:cNvGrpSpPr/>
            <p:nvPr/>
          </p:nvGrpSpPr>
          <p:grpSpPr>
            <a:xfrm>
              <a:off x="5265720" y="2522520"/>
              <a:ext cx="692280" cy="141120"/>
              <a:chOff x="5265720" y="2522520"/>
              <a:chExt cx="692280" cy="141120"/>
            </a:xfrm>
          </p:grpSpPr>
          <p:sp>
            <p:nvSpPr>
              <p:cNvPr id="1699" name=""/>
              <p:cNvSpPr/>
              <p:nvPr/>
            </p:nvSpPr>
            <p:spPr>
              <a:xfrm>
                <a:off x="5275440" y="2522520"/>
                <a:ext cx="0" cy="141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265720" y="2663640"/>
                <a:ext cx="69228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946840" y="2522520"/>
                <a:ext cx="0" cy="141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6951600" y="2527560"/>
              <a:ext cx="692280" cy="141120"/>
              <a:chOff x="6951600" y="2527560"/>
              <a:chExt cx="692280" cy="141120"/>
            </a:xfrm>
          </p:grpSpPr>
          <p:sp>
            <p:nvSpPr>
              <p:cNvPr id="1703" name=""/>
              <p:cNvSpPr/>
              <p:nvPr/>
            </p:nvSpPr>
            <p:spPr>
              <a:xfrm>
                <a:off x="6961320" y="2527560"/>
                <a:ext cx="0" cy="141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6951600" y="2668680"/>
                <a:ext cx="69228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632720" y="2527560"/>
                <a:ext cx="0" cy="141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6" name=""/>
            <p:cNvSpPr/>
            <p:nvPr/>
          </p:nvSpPr>
          <p:spPr>
            <a:xfrm>
              <a:off x="6383520" y="2816280"/>
              <a:ext cx="168120" cy="182520"/>
            </a:xfrm>
            <a:custGeom>
              <a:avLst/>
              <a:gdLst/>
              <a:ahLst/>
              <a:rect l="l" t="t" r="r" b="b"/>
              <a:pathLst>
                <a:path w="106" h="115">
                  <a:moveTo>
                    <a:pt x="52" y="0"/>
                  </a:moveTo>
                  <a:lnTo>
                    <a:pt x="106" y="115"/>
                  </a:lnTo>
                  <a:lnTo>
                    <a:pt x="0" y="11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7" name=""/>
          <p:cNvSpPr/>
          <p:nvPr/>
        </p:nvSpPr>
        <p:spPr>
          <a:xfrm>
            <a:off x="7105680" y="22075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433480" y="22219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124600" y="4719600"/>
            <a:ext cx="12204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192640" y="4843440"/>
            <a:ext cx="0" cy="9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H="1">
            <a:off x="2390760" y="47736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2263680" y="4610160"/>
            <a:ext cx="0" cy="40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770360" y="587520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"/>
          <p:cNvSpPr/>
          <p:nvPr/>
        </p:nvSpPr>
        <p:spPr>
          <a:xfrm>
            <a:off x="4338720" y="4829040"/>
            <a:ext cx="0" cy="91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490200" y="101052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nálise IS-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2257560" y="5670360"/>
            <a:ext cx="4922640" cy="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2500200" y="3017880"/>
            <a:ext cx="0" cy="277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971400" y="5760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085840" y="28472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483000" y="3146400"/>
            <a:ext cx="291132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117240" y="51807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308560" y="5153760"/>
            <a:ext cx="5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40200" y="3146400"/>
            <a:ext cx="1430280" cy="21193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033800" y="3124080"/>
            <a:ext cx="291168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12600">
            <a:solidFill>
              <a:srgbClr val="99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819680" y="4827600"/>
            <a:ext cx="122040" cy="119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884840" y="49482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367160" y="3147840"/>
            <a:ext cx="1430280" cy="21193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1260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438360" y="3146400"/>
            <a:ext cx="1430640" cy="21193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921040" y="3106800"/>
            <a:ext cx="2911320" cy="207324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2747520" y="2355840"/>
            <a:ext cx="2333880" cy="660240"/>
            <a:chOff x="2747520" y="2355840"/>
            <a:chExt cx="2333880" cy="660240"/>
          </a:xfrm>
        </p:grpSpPr>
        <p:sp>
          <p:nvSpPr>
            <p:cNvPr id="1734" name=""/>
            <p:cNvSpPr/>
            <p:nvPr/>
          </p:nvSpPr>
          <p:spPr>
            <a:xfrm flipH="1">
              <a:off x="3074400" y="2624040"/>
              <a:ext cx="1678680" cy="3859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3082680" y="2859120"/>
              <a:ext cx="1440" cy="1569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4735080" y="2494080"/>
              <a:ext cx="0" cy="133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7" name=""/>
            <p:cNvGrpSpPr/>
            <p:nvPr/>
          </p:nvGrpSpPr>
          <p:grpSpPr>
            <a:xfrm>
              <a:off x="4389120" y="2355840"/>
              <a:ext cx="692280" cy="141120"/>
              <a:chOff x="4389120" y="2355840"/>
              <a:chExt cx="692280" cy="141120"/>
            </a:xfrm>
          </p:grpSpPr>
          <p:sp>
            <p:nvSpPr>
              <p:cNvPr id="1738" name=""/>
              <p:cNvSpPr/>
              <p:nvPr/>
            </p:nvSpPr>
            <p:spPr>
              <a:xfrm>
                <a:off x="5071680" y="2355840"/>
                <a:ext cx="0" cy="14112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4389120" y="2496960"/>
                <a:ext cx="692280" cy="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400280" y="2355840"/>
                <a:ext cx="0" cy="14112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2747520" y="2724120"/>
              <a:ext cx="692280" cy="141120"/>
              <a:chOff x="2747520" y="2724120"/>
              <a:chExt cx="692280" cy="141120"/>
            </a:xfrm>
          </p:grpSpPr>
          <p:sp>
            <p:nvSpPr>
              <p:cNvPr id="1742" name=""/>
              <p:cNvSpPr/>
              <p:nvPr/>
            </p:nvSpPr>
            <p:spPr>
              <a:xfrm>
                <a:off x="3430080" y="2724120"/>
                <a:ext cx="0" cy="14112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H="1">
                <a:off x="2747520" y="2865240"/>
                <a:ext cx="692280" cy="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758680" y="2724120"/>
                <a:ext cx="0" cy="14112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 flipH="1">
              <a:off x="3809520" y="2832120"/>
              <a:ext cx="168120" cy="182520"/>
            </a:xfrm>
            <a:custGeom>
              <a:avLst/>
              <a:gdLst/>
              <a:ahLst/>
              <a:rect l="l" t="t" r="r" b="b"/>
              <a:pathLst>
                <a:path w="106" h="115">
                  <a:moveTo>
                    <a:pt x="52" y="0"/>
                  </a:moveTo>
                  <a:lnTo>
                    <a:pt x="106" y="115"/>
                  </a:lnTo>
                  <a:lnTo>
                    <a:pt x="0" y="11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6" name=""/>
          <p:cNvSpPr/>
          <p:nvPr/>
        </p:nvSpPr>
        <p:spPr>
          <a:xfrm>
            <a:off x="2631600" y="225180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S+</a:t>
            </a:r>
            <a:r>
              <a:rPr b="1" lang="en-US" sz="2800" spc="-1" strike="noStrike">
                <a:solidFill>
                  <a:srgbClr val="ff0000"/>
                </a:solidFill>
                <a:latin typeface="Lucida Casual"/>
              </a:rPr>
              <a:t>T</a:t>
            </a: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+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029360" y="20552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409360" y="234252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asu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286160" y="4781520"/>
            <a:ext cx="122400" cy="1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4343040" y="5891040"/>
            <a:ext cx="577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5248800" y="2371680"/>
            <a:ext cx="2333160" cy="660240"/>
            <a:chOff x="5248800" y="2371680"/>
            <a:chExt cx="2333160" cy="660240"/>
          </a:xfrm>
        </p:grpSpPr>
        <p:sp>
          <p:nvSpPr>
            <p:cNvPr id="1752" name=""/>
            <p:cNvSpPr/>
            <p:nvPr/>
          </p:nvSpPr>
          <p:spPr>
            <a:xfrm flipH="1">
              <a:off x="5575680" y="2639880"/>
              <a:ext cx="1678320" cy="3859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5584320" y="2874960"/>
              <a:ext cx="1080" cy="1569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7236000" y="2509920"/>
              <a:ext cx="0" cy="1332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5" name=""/>
            <p:cNvGrpSpPr/>
            <p:nvPr/>
          </p:nvGrpSpPr>
          <p:grpSpPr>
            <a:xfrm>
              <a:off x="6890040" y="2371680"/>
              <a:ext cx="691920" cy="141120"/>
              <a:chOff x="6890040" y="2371680"/>
              <a:chExt cx="691920" cy="141120"/>
            </a:xfrm>
          </p:grpSpPr>
          <p:sp>
            <p:nvSpPr>
              <p:cNvPr id="1756" name=""/>
              <p:cNvSpPr/>
              <p:nvPr/>
            </p:nvSpPr>
            <p:spPr>
              <a:xfrm>
                <a:off x="7572600" y="2371680"/>
                <a:ext cx="0" cy="141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H="1">
                <a:off x="6890040" y="2512800"/>
                <a:ext cx="69192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901200" y="2371680"/>
                <a:ext cx="0" cy="141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5248800" y="2739960"/>
              <a:ext cx="691920" cy="141120"/>
              <a:chOff x="5248800" y="2739960"/>
              <a:chExt cx="691920" cy="141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5931360" y="2739960"/>
                <a:ext cx="0" cy="141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>
                <a:off x="5248800" y="2881080"/>
                <a:ext cx="69192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259960" y="2739960"/>
                <a:ext cx="0" cy="141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3" name=""/>
            <p:cNvSpPr/>
            <p:nvPr/>
          </p:nvSpPr>
          <p:spPr>
            <a:xfrm flipH="1">
              <a:off x="6311160" y="2847960"/>
              <a:ext cx="167760" cy="182520"/>
            </a:xfrm>
            <a:custGeom>
              <a:avLst/>
              <a:gdLst/>
              <a:ahLst/>
              <a:rect l="l" t="t" r="r" b="b"/>
              <a:pathLst>
                <a:path w="106" h="115">
                  <a:moveTo>
                    <a:pt x="52" y="0"/>
                  </a:moveTo>
                  <a:lnTo>
                    <a:pt x="106" y="115"/>
                  </a:lnTo>
                  <a:lnTo>
                    <a:pt x="0" y="11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4409280" y="20250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489120" y="101052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12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24080" y="1665000"/>
            <a:ext cx="811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Tem-se noticiado, ultimamente, que a Necessidade de Financ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do Setor Público (G - T) vem diminuindo. Supondo que a su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está necessitando de financiamento, verifique se tais notícias s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favoráveis, utilizando para isso a análise IS-L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831720" y="56826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887480" y="372996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690280" y="55141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138640" y="5517360"/>
            <a:ext cx="5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V="1">
            <a:off x="2013120" y="6081480"/>
            <a:ext cx="49226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2255760" y="3870360"/>
            <a:ext cx="0" cy="231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238560" y="3978360"/>
            <a:ext cx="2911320" cy="1730160"/>
          </a:xfrm>
          <a:custGeom>
            <a:avLst/>
            <a:gdLst/>
            <a:ahLst/>
            <a:rect l="l" t="t" r="r" b="b"/>
            <a:pathLst>
              <a:path w="1834" h="1306">
                <a:moveTo>
                  <a:pt x="0" y="1306"/>
                </a:moveTo>
                <a:cubicBezTo>
                  <a:pt x="117" y="1287"/>
                  <a:pt x="475" y="1256"/>
                  <a:pt x="701" y="1181"/>
                </a:cubicBezTo>
                <a:cubicBezTo>
                  <a:pt x="927" y="1106"/>
                  <a:pt x="1183" y="996"/>
                  <a:pt x="1354" y="855"/>
                </a:cubicBezTo>
                <a:cubicBezTo>
                  <a:pt x="1525" y="714"/>
                  <a:pt x="1648" y="478"/>
                  <a:pt x="1728" y="336"/>
                </a:cubicBezTo>
                <a:cubicBezTo>
                  <a:pt x="1808" y="194"/>
                  <a:pt x="1812" y="70"/>
                  <a:pt x="183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695760" y="3978360"/>
            <a:ext cx="1430280" cy="1770120"/>
          </a:xfrm>
          <a:custGeom>
            <a:avLst/>
            <a:gdLst/>
            <a:ahLst/>
            <a:rect l="l" t="t" r="r" b="b"/>
            <a:pathLst>
              <a:path w="729" h="1191">
                <a:moveTo>
                  <a:pt x="0" y="0"/>
                </a:moveTo>
                <a:cubicBezTo>
                  <a:pt x="32" y="93"/>
                  <a:pt x="115" y="397"/>
                  <a:pt x="192" y="557"/>
                </a:cubicBezTo>
                <a:cubicBezTo>
                  <a:pt x="269" y="717"/>
                  <a:pt x="372" y="854"/>
                  <a:pt x="461" y="960"/>
                </a:cubicBezTo>
                <a:cubicBezTo>
                  <a:pt x="550" y="1066"/>
                  <a:pt x="673" y="1143"/>
                  <a:pt x="729" y="119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638600" y="549756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2117520" y="5432400"/>
            <a:ext cx="24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2489040" y="3390840"/>
            <a:ext cx="2378160" cy="476280"/>
            <a:chOff x="2489040" y="3390840"/>
            <a:chExt cx="2378160" cy="476280"/>
          </a:xfrm>
        </p:grpSpPr>
        <p:sp>
          <p:nvSpPr>
            <p:cNvPr id="1781" name=""/>
            <p:cNvSpPr/>
            <p:nvPr/>
          </p:nvSpPr>
          <p:spPr>
            <a:xfrm>
              <a:off x="2809800" y="3668760"/>
              <a:ext cx="172224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4521240" y="3537000"/>
              <a:ext cx="0" cy="133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2819160" y="3530160"/>
              <a:ext cx="0" cy="1335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4" name=""/>
            <p:cNvGrpSpPr/>
            <p:nvPr/>
          </p:nvGrpSpPr>
          <p:grpSpPr>
            <a:xfrm>
              <a:off x="2489040" y="3390840"/>
              <a:ext cx="692280" cy="141120"/>
              <a:chOff x="2489040" y="3390840"/>
              <a:chExt cx="692280" cy="141120"/>
            </a:xfrm>
          </p:grpSpPr>
          <p:sp>
            <p:nvSpPr>
              <p:cNvPr id="1785" name=""/>
              <p:cNvSpPr/>
              <p:nvPr/>
            </p:nvSpPr>
            <p:spPr>
              <a:xfrm>
                <a:off x="2498760" y="3390840"/>
                <a:ext cx="0" cy="14112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489040" y="3531960"/>
                <a:ext cx="692280" cy="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170160" y="3390840"/>
                <a:ext cx="0" cy="14112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8" name=""/>
            <p:cNvGrpSpPr/>
            <p:nvPr/>
          </p:nvGrpSpPr>
          <p:grpSpPr>
            <a:xfrm>
              <a:off x="4174920" y="3395880"/>
              <a:ext cx="692280" cy="141120"/>
              <a:chOff x="4174920" y="3395880"/>
              <a:chExt cx="692280" cy="141120"/>
            </a:xfrm>
          </p:grpSpPr>
          <p:sp>
            <p:nvSpPr>
              <p:cNvPr id="1789" name=""/>
              <p:cNvSpPr/>
              <p:nvPr/>
            </p:nvSpPr>
            <p:spPr>
              <a:xfrm>
                <a:off x="4184640" y="3395880"/>
                <a:ext cx="0" cy="14112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174920" y="3537000"/>
                <a:ext cx="692280" cy="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856040" y="3395880"/>
                <a:ext cx="0" cy="14112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2" name=""/>
            <p:cNvSpPr/>
            <p:nvPr/>
          </p:nvSpPr>
          <p:spPr>
            <a:xfrm>
              <a:off x="3606840" y="3684600"/>
              <a:ext cx="168120" cy="182520"/>
            </a:xfrm>
            <a:custGeom>
              <a:avLst/>
              <a:gdLst/>
              <a:ahLst/>
              <a:rect l="l" t="t" r="r" b="b"/>
              <a:pathLst>
                <a:path w="106" h="115">
                  <a:moveTo>
                    <a:pt x="52" y="0"/>
                  </a:moveTo>
                  <a:lnTo>
                    <a:pt x="106" y="115"/>
                  </a:lnTo>
                  <a:lnTo>
                    <a:pt x="0" y="11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3" name=""/>
          <p:cNvSpPr/>
          <p:nvPr/>
        </p:nvSpPr>
        <p:spPr>
          <a:xfrm>
            <a:off x="4240800" y="30758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G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377440" y="30614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S+T+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5" name=""/>
          <p:cNvGrpSpPr/>
          <p:nvPr/>
        </p:nvGrpSpPr>
        <p:grpSpPr>
          <a:xfrm>
            <a:off x="5021280" y="3375000"/>
            <a:ext cx="2378160" cy="476280"/>
            <a:chOff x="5021280" y="3375000"/>
            <a:chExt cx="2378160" cy="476280"/>
          </a:xfrm>
        </p:grpSpPr>
        <p:sp>
          <p:nvSpPr>
            <p:cNvPr id="1796" name=""/>
            <p:cNvSpPr/>
            <p:nvPr/>
          </p:nvSpPr>
          <p:spPr>
            <a:xfrm>
              <a:off x="5342040" y="3652920"/>
              <a:ext cx="17222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7053480" y="3521160"/>
              <a:ext cx="0" cy="1332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5351400" y="3514320"/>
              <a:ext cx="0" cy="1335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9" name=""/>
            <p:cNvGrpSpPr/>
            <p:nvPr/>
          </p:nvGrpSpPr>
          <p:grpSpPr>
            <a:xfrm>
              <a:off x="5021280" y="3375000"/>
              <a:ext cx="692280" cy="141120"/>
              <a:chOff x="5021280" y="3375000"/>
              <a:chExt cx="692280" cy="141120"/>
            </a:xfrm>
          </p:grpSpPr>
          <p:sp>
            <p:nvSpPr>
              <p:cNvPr id="1800" name=""/>
              <p:cNvSpPr/>
              <p:nvPr/>
            </p:nvSpPr>
            <p:spPr>
              <a:xfrm>
                <a:off x="5031000" y="3375000"/>
                <a:ext cx="0" cy="141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021280" y="3516120"/>
                <a:ext cx="69228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702400" y="3375000"/>
                <a:ext cx="0" cy="141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3" name=""/>
            <p:cNvGrpSpPr/>
            <p:nvPr/>
          </p:nvGrpSpPr>
          <p:grpSpPr>
            <a:xfrm>
              <a:off x="6707160" y="3380040"/>
              <a:ext cx="692280" cy="141120"/>
              <a:chOff x="6707160" y="3380040"/>
              <a:chExt cx="692280" cy="141120"/>
            </a:xfrm>
          </p:grpSpPr>
          <p:sp>
            <p:nvSpPr>
              <p:cNvPr id="1804" name=""/>
              <p:cNvSpPr/>
              <p:nvPr/>
            </p:nvSpPr>
            <p:spPr>
              <a:xfrm>
                <a:off x="6716880" y="3380040"/>
                <a:ext cx="0" cy="141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707160" y="3521160"/>
                <a:ext cx="69228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388280" y="3380040"/>
                <a:ext cx="0" cy="141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7" name=""/>
            <p:cNvSpPr/>
            <p:nvPr/>
          </p:nvSpPr>
          <p:spPr>
            <a:xfrm>
              <a:off x="6139080" y="3668760"/>
              <a:ext cx="168120" cy="182520"/>
            </a:xfrm>
            <a:custGeom>
              <a:avLst/>
              <a:gdLst/>
              <a:ahLst/>
              <a:rect l="l" t="t" r="r" b="b"/>
              <a:pathLst>
                <a:path w="106" h="115">
                  <a:moveTo>
                    <a:pt x="52" y="0"/>
                  </a:moveTo>
                  <a:lnTo>
                    <a:pt x="106" y="115"/>
                  </a:lnTo>
                  <a:lnTo>
                    <a:pt x="0" y="11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8" name=""/>
          <p:cNvSpPr/>
          <p:nvPr/>
        </p:nvSpPr>
        <p:spPr>
          <a:xfrm>
            <a:off x="6861240" y="30600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188680" y="30744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559400" y="5378400"/>
            <a:ext cx="13788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2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1813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6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824160" y="47412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Continu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595600" y="1010520"/>
            <a:ext cx="43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mércio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587840" y="3535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2940120" y="1873080"/>
            <a:ext cx="0" cy="332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773440" y="504360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2940120" y="2529000"/>
            <a:ext cx="3384360" cy="1890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940120" y="2529000"/>
            <a:ext cx="3475080" cy="20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861240" y="5106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503800" y="1661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532400" y="3444840"/>
            <a:ext cx="1141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H="1">
            <a:off x="2757600" y="3505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08200" y="5177880"/>
            <a:ext cx="88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sem i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207520" y="3288960"/>
            <a:ext cx="56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3" name=""/>
          <p:cNvGrpSpPr/>
          <p:nvPr/>
        </p:nvGrpSpPr>
        <p:grpSpPr>
          <a:xfrm>
            <a:off x="3581280" y="5565600"/>
            <a:ext cx="3917160" cy="780480"/>
            <a:chOff x="3581280" y="5565600"/>
            <a:chExt cx="3917160" cy="780480"/>
          </a:xfrm>
        </p:grpSpPr>
        <p:sp>
          <p:nvSpPr>
            <p:cNvPr id="1834" name=""/>
            <p:cNvSpPr/>
            <p:nvPr/>
          </p:nvSpPr>
          <p:spPr>
            <a:xfrm>
              <a:off x="5564160" y="5565600"/>
              <a:ext cx="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581280" y="5668920"/>
              <a:ext cx="1981440" cy="15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106240" y="5977800"/>
              <a:ext cx="239220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724" y="6562"/>
                  </a:moveTo>
                  <a:lnTo>
                    <a:pt x="-7150" y="6562"/>
                  </a:lnTo>
                  <a:lnTo>
                    <a:pt x="-7150" y="-3372"/>
                  </a:lnTo>
                  <a:lnTo>
                    <a:pt x="-5463" y="-17445"/>
                  </a:lnTo>
                </a:path>
                <a:path w="21600" h="21600">
                  <a:moveTo>
                    <a:pt x="-724" y="0"/>
                  </a:moveTo>
                  <a:lnTo>
                    <a:pt x="-724" y="21600"/>
                  </a:lnTo>
                </a:path>
              </a:pathLst>
            </a:custGeom>
            <a:solidFill>
              <a:srgbClr val="ff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roduto Import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2936880" y="2530440"/>
            <a:ext cx="2617920" cy="1538280"/>
          </a:xfrm>
          <a:custGeom>
            <a:avLst/>
            <a:gdLst/>
            <a:ahLst/>
            <a:rect l="l" t="t" r="r" b="b"/>
            <a:pathLst>
              <a:path w="1649" h="969">
                <a:moveTo>
                  <a:pt x="0" y="0"/>
                </a:moveTo>
                <a:lnTo>
                  <a:pt x="1649" y="969"/>
                </a:lnTo>
                <a:lnTo>
                  <a:pt x="3" y="969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562720" y="408456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581280" y="408456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587840" y="3535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595600" y="1010520"/>
            <a:ext cx="43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mércio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2940120" y="1873080"/>
            <a:ext cx="0" cy="332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773440" y="504360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V="1">
            <a:off x="2940120" y="2529000"/>
            <a:ext cx="3384360" cy="1890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940120" y="2529000"/>
            <a:ext cx="3475080" cy="20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6861240" y="5106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2503800" y="1661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H="1">
            <a:off x="2757600" y="3505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408200" y="5177880"/>
            <a:ext cx="88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969696"/>
                </a:solidFill>
                <a:latin typeface="Lucida Casual"/>
              </a:rPr>
              <a:t>sem i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207520" y="3288960"/>
            <a:ext cx="56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969696"/>
                </a:solidFill>
                <a:latin typeface="Lucida Casual"/>
              </a:rPr>
              <a:t>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>
            <a:off x="2773440" y="4068720"/>
            <a:ext cx="27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191680" y="38365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g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505480" y="4008600"/>
            <a:ext cx="114120" cy="115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525840" y="4010040"/>
            <a:ext cx="1141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411160" y="5163840"/>
            <a:ext cx="64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693360" y="5303880"/>
            <a:ext cx="2887920" cy="1040400"/>
            <a:chOff x="693360" y="5303880"/>
            <a:chExt cx="2887920" cy="1040400"/>
          </a:xfrm>
        </p:grpSpPr>
        <p:sp>
          <p:nvSpPr>
            <p:cNvPr id="1860" name=""/>
            <p:cNvSpPr/>
            <p:nvPr/>
          </p:nvSpPr>
          <p:spPr>
            <a:xfrm>
              <a:off x="2941560" y="5303880"/>
              <a:ext cx="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581280" y="5318280"/>
              <a:ext cx="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941560" y="5667480"/>
              <a:ext cx="609840" cy="14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93360" y="5976000"/>
              <a:ext cx="21787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3" y="6562"/>
                  </a:moveTo>
                  <a:lnTo>
                    <a:pt x="26937" y="6562"/>
                  </a:lnTo>
                  <a:lnTo>
                    <a:pt x="26937" y="-4466"/>
                  </a:lnTo>
                  <a:lnTo>
                    <a:pt x="25789" y="-18373"/>
                  </a:lnTo>
                </a:path>
                <a:path w="21600" h="21600">
                  <a:moveTo>
                    <a:pt x="22403" y="0"/>
                  </a:moveTo>
                  <a:lnTo>
                    <a:pt x="22403" y="21600"/>
                  </a:lnTo>
                </a:path>
              </a:pathLst>
            </a:custGeom>
            <a:solidFill>
              <a:srgbClr val="ffcccc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Lucida Casual"/>
                </a:rPr>
                <a:t>Produto Na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4" name=""/>
          <p:cNvSpPr/>
          <p:nvPr/>
        </p:nvSpPr>
        <p:spPr>
          <a:xfrm>
            <a:off x="2941560" y="2530440"/>
            <a:ext cx="1660680" cy="977760"/>
          </a:xfrm>
          <a:custGeom>
            <a:avLst/>
            <a:gdLst/>
            <a:ahLst/>
            <a:rect l="l" t="t" r="r" b="b"/>
            <a:pathLst>
              <a:path w="1046" h="616">
                <a:moveTo>
                  <a:pt x="0" y="0"/>
                </a:moveTo>
                <a:lnTo>
                  <a:pt x="1046" y="616"/>
                </a:lnTo>
                <a:lnTo>
                  <a:pt x="0" y="61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532400" y="3444840"/>
            <a:ext cx="1141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3988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95960" y="2915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27840" y="29282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086600" y="213372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044800" y="213372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44800" y="213372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882880" y="24382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82880" y="24382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4280" y="18280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: R$ 1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76640" y="2133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44800" y="350532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44800" y="411480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086600" y="35049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350532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82880" y="38098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882880" y="35053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76960" y="38091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 : R$ 9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505320"/>
            <a:ext cx="0" cy="1218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472428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98200" y="473976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oupanç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18440" y="426636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12320" y="3504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"/>
          <p:cNvSpPr/>
          <p:nvPr/>
        </p:nvSpPr>
        <p:spPr>
          <a:xfrm>
            <a:off x="3581280" y="4068720"/>
            <a:ext cx="1981440" cy="976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941560" y="4068720"/>
            <a:ext cx="639720" cy="9684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8" name=""/>
          <p:cNvGrpSpPr/>
          <p:nvPr/>
        </p:nvGrpSpPr>
        <p:grpSpPr>
          <a:xfrm>
            <a:off x="3581280" y="5565600"/>
            <a:ext cx="3917160" cy="780480"/>
            <a:chOff x="3581280" y="5565600"/>
            <a:chExt cx="3917160" cy="780480"/>
          </a:xfrm>
        </p:grpSpPr>
        <p:sp>
          <p:nvSpPr>
            <p:cNvPr id="1869" name=""/>
            <p:cNvSpPr/>
            <p:nvPr/>
          </p:nvSpPr>
          <p:spPr>
            <a:xfrm>
              <a:off x="5564160" y="5565600"/>
              <a:ext cx="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581280" y="5668920"/>
              <a:ext cx="1981440" cy="15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106240" y="5977800"/>
              <a:ext cx="239220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724" y="6562"/>
                  </a:moveTo>
                  <a:lnTo>
                    <a:pt x="-7150" y="6562"/>
                  </a:lnTo>
                  <a:lnTo>
                    <a:pt x="-7150" y="-3372"/>
                  </a:lnTo>
                  <a:lnTo>
                    <a:pt x="-5463" y="-17445"/>
                  </a:lnTo>
                </a:path>
                <a:path w="21600" h="21600">
                  <a:moveTo>
                    <a:pt x="-724" y="0"/>
                  </a:moveTo>
                  <a:lnTo>
                    <a:pt x="-724" y="21600"/>
                  </a:lnTo>
                </a:path>
              </a:pathLst>
            </a:custGeom>
            <a:solidFill>
              <a:srgbClr val="ff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roduto Import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2" name=""/>
          <p:cNvSpPr/>
          <p:nvPr/>
        </p:nvSpPr>
        <p:spPr>
          <a:xfrm>
            <a:off x="2936880" y="2530440"/>
            <a:ext cx="2617920" cy="1538280"/>
          </a:xfrm>
          <a:custGeom>
            <a:avLst/>
            <a:gdLst/>
            <a:ahLst/>
            <a:rect l="l" t="t" r="r" b="b"/>
            <a:pathLst>
              <a:path w="1649" h="969">
                <a:moveTo>
                  <a:pt x="0" y="0"/>
                </a:moveTo>
                <a:lnTo>
                  <a:pt x="1649" y="969"/>
                </a:lnTo>
                <a:lnTo>
                  <a:pt x="3" y="969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562720" y="408456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581280" y="408456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587840" y="3535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2595600" y="1010520"/>
            <a:ext cx="43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mércio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2940120" y="1873080"/>
            <a:ext cx="0" cy="332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2773440" y="504360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2940120" y="2529000"/>
            <a:ext cx="3384360" cy="1890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2940120" y="2529000"/>
            <a:ext cx="3475080" cy="20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861240" y="5106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503800" y="1661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H="1">
            <a:off x="2757600" y="3505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4408200" y="5177880"/>
            <a:ext cx="88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969696"/>
                </a:solidFill>
                <a:latin typeface="Lucida Casual"/>
              </a:rPr>
              <a:t>sem i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207520" y="3288960"/>
            <a:ext cx="56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969696"/>
                </a:solidFill>
                <a:latin typeface="Lucida Casual"/>
              </a:rPr>
              <a:t>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2773440" y="4068720"/>
            <a:ext cx="27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191680" y="38365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g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505480" y="4008600"/>
            <a:ext cx="114120" cy="115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525840" y="4010040"/>
            <a:ext cx="1141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411160" y="5163840"/>
            <a:ext cx="64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4" name=""/>
          <p:cNvGrpSpPr/>
          <p:nvPr/>
        </p:nvGrpSpPr>
        <p:grpSpPr>
          <a:xfrm>
            <a:off x="693360" y="5303880"/>
            <a:ext cx="2887920" cy="1040400"/>
            <a:chOff x="693360" y="5303880"/>
            <a:chExt cx="2887920" cy="1040400"/>
          </a:xfrm>
        </p:grpSpPr>
        <p:sp>
          <p:nvSpPr>
            <p:cNvPr id="1895" name=""/>
            <p:cNvSpPr/>
            <p:nvPr/>
          </p:nvSpPr>
          <p:spPr>
            <a:xfrm>
              <a:off x="2941560" y="5303880"/>
              <a:ext cx="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581280" y="5318280"/>
              <a:ext cx="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41560" y="5667480"/>
              <a:ext cx="609840" cy="14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93360" y="5976000"/>
              <a:ext cx="21787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3" y="6562"/>
                  </a:moveTo>
                  <a:lnTo>
                    <a:pt x="26937" y="6562"/>
                  </a:lnTo>
                  <a:lnTo>
                    <a:pt x="26937" y="-4466"/>
                  </a:lnTo>
                  <a:lnTo>
                    <a:pt x="25789" y="-18373"/>
                  </a:lnTo>
                </a:path>
                <a:path w="21600" h="21600">
                  <a:moveTo>
                    <a:pt x="22403" y="0"/>
                  </a:moveTo>
                  <a:lnTo>
                    <a:pt x="22403" y="21600"/>
                  </a:lnTo>
                </a:path>
              </a:pathLst>
            </a:custGeom>
            <a:solidFill>
              <a:srgbClr val="ffcccc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Lucida Casual"/>
                </a:rPr>
                <a:t>Produto Na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9" name=""/>
          <p:cNvSpPr/>
          <p:nvPr/>
        </p:nvSpPr>
        <p:spPr>
          <a:xfrm>
            <a:off x="2941560" y="2530440"/>
            <a:ext cx="1660680" cy="977760"/>
          </a:xfrm>
          <a:custGeom>
            <a:avLst/>
            <a:gdLst/>
            <a:ahLst/>
            <a:rect l="l" t="t" r="r" b="b"/>
            <a:pathLst>
              <a:path w="1046" h="616">
                <a:moveTo>
                  <a:pt x="0" y="0"/>
                </a:moveTo>
                <a:lnTo>
                  <a:pt x="1046" y="616"/>
                </a:lnTo>
                <a:lnTo>
                  <a:pt x="0" y="61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532400" y="3444840"/>
            <a:ext cx="1141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358440" y="13294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Taxa de Câ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1739160" y="2588400"/>
            <a:ext cx="61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Taxa de Câmbio = preço da moeda estrangei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855160" y="3448440"/>
            <a:ext cx="3846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Exemplo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: compra, 29 set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US$ = 1.849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FF = 0.2495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¥ = 0,01722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£ = 2.7119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319920" y="94860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Âncora Camb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01400" y="19072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1 kg de açúcar = V$ 1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661200" y="19090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Lucida Casual"/>
              </a:rPr>
              <a:t>V$ 1,00 = R$ 1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352520" y="149616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Paí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6624720" y="1480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Bra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988240" y="189324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1 R$ = 1 kg de açú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6" name=""/>
          <p:cNvGrpSpPr/>
          <p:nvPr/>
        </p:nvGrpSpPr>
        <p:grpSpPr>
          <a:xfrm>
            <a:off x="5705280" y="2349360"/>
            <a:ext cx="1657440" cy="716040"/>
            <a:chOff x="5705280" y="2349360"/>
            <a:chExt cx="1657440" cy="716040"/>
          </a:xfrm>
        </p:grpSpPr>
        <p:sp>
          <p:nvSpPr>
            <p:cNvPr id="1917" name=""/>
            <p:cNvSpPr/>
            <p:nvPr/>
          </p:nvSpPr>
          <p:spPr>
            <a:xfrm>
              <a:off x="6889680" y="2349360"/>
              <a:ext cx="473040" cy="716040"/>
            </a:xfrm>
            <a:prstGeom prst="downArrow">
              <a:avLst>
                <a:gd name="adj1" fmla="val 50000"/>
                <a:gd name="adj2" fmla="val 3784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705280" y="2486520"/>
              <a:ext cx="122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Lucida Casual"/>
                </a:rPr>
                <a:t>Infl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5486760" y="4392720"/>
            <a:ext cx="325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Lucida Casual"/>
              </a:rPr>
              <a:t>1 kg açúcar = R$ 2,00 no Bras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3333ff"/>
                </a:solidFill>
                <a:latin typeface="Lucida Casual"/>
              </a:rPr>
              <a:t>R$ 1,00 no País V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0" name=""/>
          <p:cNvGrpSpPr/>
          <p:nvPr/>
        </p:nvGrpSpPr>
        <p:grpSpPr>
          <a:xfrm>
            <a:off x="5617080" y="3551400"/>
            <a:ext cx="1775880" cy="715680"/>
            <a:chOff x="5617080" y="3551400"/>
            <a:chExt cx="1775880" cy="715680"/>
          </a:xfrm>
        </p:grpSpPr>
        <p:sp>
          <p:nvSpPr>
            <p:cNvPr id="1921" name=""/>
            <p:cNvSpPr/>
            <p:nvPr/>
          </p:nvSpPr>
          <p:spPr>
            <a:xfrm>
              <a:off x="5617080" y="3702600"/>
              <a:ext cx="11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Lucida Casual"/>
                </a:rPr>
                <a:t>R$ f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19920" y="3551400"/>
              <a:ext cx="473040" cy="715680"/>
            </a:xfrm>
            <a:prstGeom prst="downArrow">
              <a:avLst>
                <a:gd name="adj1" fmla="val 50000"/>
                <a:gd name="adj2" fmla="val 3782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6202080" y="5032440"/>
            <a:ext cx="1962360" cy="1172520"/>
            <a:chOff x="6202080" y="5032440"/>
            <a:chExt cx="1962360" cy="1172520"/>
          </a:xfrm>
        </p:grpSpPr>
        <p:sp>
          <p:nvSpPr>
            <p:cNvPr id="1924" name=""/>
            <p:cNvSpPr/>
            <p:nvPr/>
          </p:nvSpPr>
          <p:spPr>
            <a:xfrm>
              <a:off x="6934320" y="5032440"/>
              <a:ext cx="473040" cy="716040"/>
            </a:xfrm>
            <a:prstGeom prst="downArrow">
              <a:avLst>
                <a:gd name="adj1" fmla="val 50000"/>
                <a:gd name="adj2" fmla="val 3784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202080" y="5806080"/>
              <a:ext cx="196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Importações </a:t>
              </a: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6" name=""/>
          <p:cNvGrpSpPr/>
          <p:nvPr/>
        </p:nvGrpSpPr>
        <p:grpSpPr>
          <a:xfrm>
            <a:off x="447480" y="3158280"/>
            <a:ext cx="8072280" cy="384120"/>
            <a:chOff x="447480" y="3158280"/>
            <a:chExt cx="8072280" cy="384120"/>
          </a:xfrm>
        </p:grpSpPr>
        <p:sp>
          <p:nvSpPr>
            <p:cNvPr id="1927" name=""/>
            <p:cNvSpPr/>
            <p:nvPr/>
          </p:nvSpPr>
          <p:spPr>
            <a:xfrm>
              <a:off x="447480" y="3172680"/>
              <a:ext cx="287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 kg de açúcar = V$ 1,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662640" y="3174120"/>
              <a:ext cx="202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Lucida Casual"/>
                </a:rPr>
                <a:t>V$ 1,00 = R$ 1,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973840" y="3158280"/>
              <a:ext cx="25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2 R$ = 1 kg de aç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619000" y="948600"/>
            <a:ext cx="43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Desvalorização Camb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01400" y="19072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1 kg de açúcar = V$ 1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646800" y="189324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Lucida Casual"/>
              </a:rPr>
              <a:t>V$ 1,00 = R$ 1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352520" y="149616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Paí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624720" y="1480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Bra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945400" y="187740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1 R$ = 1 kg de açú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9" name=""/>
          <p:cNvGrpSpPr/>
          <p:nvPr/>
        </p:nvGrpSpPr>
        <p:grpSpPr>
          <a:xfrm>
            <a:off x="2595600" y="2333520"/>
            <a:ext cx="2222640" cy="716040"/>
            <a:chOff x="2595600" y="2333520"/>
            <a:chExt cx="2222640" cy="716040"/>
          </a:xfrm>
        </p:grpSpPr>
        <p:sp>
          <p:nvSpPr>
            <p:cNvPr id="1940" name=""/>
            <p:cNvSpPr/>
            <p:nvPr/>
          </p:nvSpPr>
          <p:spPr>
            <a:xfrm>
              <a:off x="4344840" y="2333520"/>
              <a:ext cx="473400" cy="716040"/>
            </a:xfrm>
            <a:prstGeom prst="downArrow">
              <a:avLst>
                <a:gd name="adj1" fmla="val 50000"/>
                <a:gd name="adj2" fmla="val 37814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595600" y="2410560"/>
              <a:ext cx="180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Lucida Casual"/>
                </a:rPr>
                <a:t>Desvaloriz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2" name=""/>
          <p:cNvSpPr/>
          <p:nvPr/>
        </p:nvSpPr>
        <p:spPr>
          <a:xfrm>
            <a:off x="2912040" y="4454640"/>
            <a:ext cx="325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Lucida Casual"/>
              </a:rPr>
              <a:t>1 kg açúcar = R$ 1,00 no Bras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3333ff"/>
                </a:solidFill>
                <a:latin typeface="Lucida Casual"/>
              </a:rPr>
              <a:t>R$ 2,00 no País V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3" name=""/>
          <p:cNvGrpSpPr/>
          <p:nvPr/>
        </p:nvGrpSpPr>
        <p:grpSpPr>
          <a:xfrm>
            <a:off x="3028320" y="3613320"/>
            <a:ext cx="1789920" cy="715680"/>
            <a:chOff x="3028320" y="3613320"/>
            <a:chExt cx="1789920" cy="715680"/>
          </a:xfrm>
        </p:grpSpPr>
        <p:sp>
          <p:nvSpPr>
            <p:cNvPr id="1944" name=""/>
            <p:cNvSpPr/>
            <p:nvPr/>
          </p:nvSpPr>
          <p:spPr>
            <a:xfrm>
              <a:off x="3028320" y="376452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Lucida Casual"/>
                </a:rPr>
                <a:t>R$ fra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344840" y="3613320"/>
              <a:ext cx="473400" cy="715680"/>
            </a:xfrm>
            <a:prstGeom prst="downArrow">
              <a:avLst>
                <a:gd name="adj1" fmla="val 50000"/>
                <a:gd name="adj2" fmla="val 37795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3656880" y="5094360"/>
            <a:ext cx="1904400" cy="1172520"/>
            <a:chOff x="3656880" y="5094360"/>
            <a:chExt cx="1904400" cy="1172520"/>
          </a:xfrm>
        </p:grpSpPr>
        <p:sp>
          <p:nvSpPr>
            <p:cNvPr id="1947" name=""/>
            <p:cNvSpPr/>
            <p:nvPr/>
          </p:nvSpPr>
          <p:spPr>
            <a:xfrm>
              <a:off x="4359240" y="5094360"/>
              <a:ext cx="473040" cy="716040"/>
            </a:xfrm>
            <a:prstGeom prst="downArrow">
              <a:avLst>
                <a:gd name="adj1" fmla="val 50000"/>
                <a:gd name="adj2" fmla="val 3784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656880" y="5868000"/>
              <a:ext cx="190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Exportações </a:t>
              </a: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447480" y="3158280"/>
            <a:ext cx="8072280" cy="384120"/>
            <a:chOff x="447480" y="3158280"/>
            <a:chExt cx="8072280" cy="384120"/>
          </a:xfrm>
        </p:grpSpPr>
        <p:sp>
          <p:nvSpPr>
            <p:cNvPr id="1950" name=""/>
            <p:cNvSpPr/>
            <p:nvPr/>
          </p:nvSpPr>
          <p:spPr>
            <a:xfrm>
              <a:off x="447480" y="3172680"/>
              <a:ext cx="287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 kg de açúcar = V$ 1,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662640" y="3174120"/>
              <a:ext cx="202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Lucida Casual"/>
                </a:rPr>
                <a:t>V$ 1,00 = R$ 2,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973840" y="3158280"/>
              <a:ext cx="25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 R$ = 1 kg de aç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846000" y="1676520"/>
            <a:ext cx="4339440" cy="37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Lucida Casual"/>
              </a:rPr>
              <a:t>Recap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Fluxo circular da r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olítica Fis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olítica Monet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omércio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489120" y="101052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12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914400" y="2195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98840" y="1891080"/>
            <a:ext cx="751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Suponha que houve uma macro-desvalorização do re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Comente sobre os seus efeitos sobre ‘sites’ que vend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produtos importados no Brasil e sobre ‘sites’ que vend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produtos nacionais no ex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934000" y="29469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Obrigado Pela Atenç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336760" y="2251080"/>
            <a:ext cx="4978440" cy="1976400"/>
          </a:xfrm>
          <a:prstGeom prst="cloudCallout">
            <a:avLst>
              <a:gd name="adj1" fmla="val -58865"/>
              <a:gd name="adj2" fmla="val 137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3988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95960" y="2915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27840" y="29282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086600" y="213372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044800" y="213372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44800" y="213372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82880" y="24382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82880" y="24382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99800" y="182808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: R$ 9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6640" y="2133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44800" y="350532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044800" y="411480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35049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50532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38098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882880" y="35053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10080" y="38091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: R$ 8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505320"/>
            <a:ext cx="0" cy="1218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472428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98200" y="473976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oupanç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2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18440" y="426636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12320" y="3504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5080" y="101052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Um Modelo Macroeconômico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3988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95960" y="2915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274320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27840" y="29282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086600" y="213372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44800" y="213372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44800" y="2133720"/>
            <a:ext cx="0" cy="59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882880" y="2438280"/>
            <a:ext cx="0" cy="292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82880" y="24382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99800" y="182808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Salário: R$ 8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09080" y="21330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balho: R$ 8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44800" y="350532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044800" y="411480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086600" y="35049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505320"/>
            <a:ext cx="0" cy="291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82880" y="3809880"/>
            <a:ext cx="33526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882880" y="35053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08640" y="38091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gamento: R$ 7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3505320"/>
            <a:ext cx="0" cy="1218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4724280"/>
            <a:ext cx="144792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98200" y="473976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oupanç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3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18440" y="426636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$ 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12320" y="3504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Elena Yoshie Sato Yoneyama</cp:lastModifiedBy>
  <cp:lastPrinted>2000-05-03T14:19:10Z</cp:lastPrinted>
  <dcterms:modified xsi:type="dcterms:W3CDTF">2003-04-24T23:51:39Z</dcterms:modified>
  <cp:revision>142</cp:revision>
  <dc:subject/>
  <dc:title>Macroeconomia</dc:title>
</cp:coreProperties>
</file>