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AAB-DC37-4791-99B9-1957F65F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F62-FEEC-4B07-A045-7414C4B3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CCC-8C88-4B06-9AEE-7C577932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AC8-2D61-4C38-8C0E-E9527C78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AB6-1846-4AB1-8EB4-7E7C0F58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200-C560-4076-BEEB-0439159D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537-1B5F-4A59-B989-5DD6EE03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07A-7AF4-4B02-8A34-FD4384AC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27C-A867-4853-B0BE-D52BC8D4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060-93CD-4366-94CA-38A3D10A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D3B-8CFF-4645-831F-992CB5AC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0FB-F707-4185-9C89-88268DC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EC81-B93E-4A05-972C-019EC614B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9600" y="53460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Concorrência Imperf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02920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34290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8268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3408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007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629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02920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579132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8268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3408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0076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29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5920" y="1599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138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1388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5744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69240" y="24375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38760" y="3015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42120" y="5425920"/>
            <a:ext cx="0" cy="36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5194440"/>
            <a:ext cx="0" cy="585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027760" y="2987640"/>
            <a:ext cx="1295280" cy="2843280"/>
            <a:chOff x="5027760" y="2987640"/>
            <a:chExt cx="1295280" cy="2843280"/>
          </a:xfrm>
        </p:grpSpPr>
        <p:sp>
          <p:nvSpPr>
            <p:cNvPr id="293" name=""/>
            <p:cNvSpPr/>
            <p:nvPr/>
          </p:nvSpPr>
          <p:spPr>
            <a:xfrm>
              <a:off x="5027760" y="2987640"/>
              <a:ext cx="1290600" cy="433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19800" y="3637080"/>
              <a:ext cx="1800" cy="21938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23040" y="5037120"/>
              <a:ext cx="0" cy="752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 rot="16200000">
            <a:off x="4196520" y="26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4158720" y="5044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28720" y="9900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Receita no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61920" y="437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02920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4290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8268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408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007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02920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579132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8268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3408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0076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58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1629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85920" y="1599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138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91388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5744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69240" y="24375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38760" y="3015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42120" y="5425920"/>
            <a:ext cx="0" cy="36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5189400"/>
            <a:ext cx="1800" cy="592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7720" y="5035680"/>
            <a:ext cx="1800" cy="753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027760" y="3117960"/>
            <a:ext cx="1738080" cy="2712960"/>
            <a:chOff x="5027760" y="3117960"/>
            <a:chExt cx="1738080" cy="2712960"/>
          </a:xfrm>
        </p:grpSpPr>
        <p:sp>
          <p:nvSpPr>
            <p:cNvPr id="328" name=""/>
            <p:cNvSpPr/>
            <p:nvPr/>
          </p:nvSpPr>
          <p:spPr>
            <a:xfrm>
              <a:off x="5027760" y="3117960"/>
              <a:ext cx="1738080" cy="303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53240" y="3637080"/>
              <a:ext cx="1440" cy="21938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0000" y="5018040"/>
              <a:ext cx="1800" cy="750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 rot="16200000">
            <a:off x="4196520" y="26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4158720" y="5044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28720" y="9900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Receita no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61920" y="437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02920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00600" y="34290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2920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8268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3408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007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29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02920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579132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8268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408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076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1629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85920" y="1599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9138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1388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5744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69240" y="24375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538760" y="3015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67280" y="5181480"/>
            <a:ext cx="1800" cy="592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324120" y="5054760"/>
            <a:ext cx="1800" cy="72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50000" y="5018040"/>
            <a:ext cx="1800" cy="750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027760" y="3160800"/>
            <a:ext cx="2136600" cy="2627280"/>
            <a:chOff x="5027760" y="3160800"/>
            <a:chExt cx="2136600" cy="2627280"/>
          </a:xfrm>
        </p:grpSpPr>
        <p:sp>
          <p:nvSpPr>
            <p:cNvPr id="363" name=""/>
            <p:cNvSpPr/>
            <p:nvPr/>
          </p:nvSpPr>
          <p:spPr>
            <a:xfrm>
              <a:off x="5027760" y="3160800"/>
              <a:ext cx="2128680" cy="260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57880" y="3594240"/>
              <a:ext cx="1800" cy="21938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62920" y="5111640"/>
              <a:ext cx="1440" cy="66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 rot="16200000">
            <a:off x="4196520" y="26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4158720" y="5044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28720" y="9900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Receita no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61920" y="437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2120" y="5425920"/>
            <a:ext cx="0" cy="36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029200" y="1980720"/>
            <a:ext cx="0" cy="1600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3429000"/>
            <a:ext cx="3352680" cy="1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2920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8268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408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007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162920" y="32767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02920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0600" y="579132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8268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408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0076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58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629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85920" y="1599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9138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91388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5744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61920" y="437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69240" y="24375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38760" y="3015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5181480"/>
            <a:ext cx="1800" cy="592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324120" y="5054760"/>
            <a:ext cx="1800" cy="72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50000" y="5030640"/>
            <a:ext cx="1800" cy="750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2920" y="5111640"/>
            <a:ext cx="1440" cy="665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4197960" y="26564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4158720" y="5044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49720" y="5033880"/>
            <a:ext cx="2113200" cy="739800"/>
          </a:xfrm>
          <a:custGeom>
            <a:avLst/>
            <a:gdLst/>
            <a:ahLst/>
            <a:rect l="l" t="t" r="r" b="b"/>
            <a:pathLst>
              <a:path w="1331" h="466">
                <a:moveTo>
                  <a:pt x="0" y="466"/>
                </a:moveTo>
                <a:cubicBezTo>
                  <a:pt x="80" y="383"/>
                  <a:pt x="160" y="300"/>
                  <a:pt x="246" y="238"/>
                </a:cubicBezTo>
                <a:cubicBezTo>
                  <a:pt x="332" y="176"/>
                  <a:pt x="425" y="129"/>
                  <a:pt x="519" y="93"/>
                </a:cubicBezTo>
                <a:cubicBezTo>
                  <a:pt x="613" y="57"/>
                  <a:pt x="716" y="35"/>
                  <a:pt x="809" y="20"/>
                </a:cubicBezTo>
                <a:cubicBezTo>
                  <a:pt x="902" y="5"/>
                  <a:pt x="992" y="0"/>
                  <a:pt x="1079" y="5"/>
                </a:cubicBezTo>
                <a:cubicBezTo>
                  <a:pt x="1166" y="10"/>
                  <a:pt x="1279" y="43"/>
                  <a:pt x="1331" y="5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628720" y="9900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Receita no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42120" y="5425920"/>
            <a:ext cx="0" cy="36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82680" y="575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34080" y="575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00760" y="575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913880" y="5679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05120" y="2123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4171320" y="354276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029200" y="2149200"/>
            <a:ext cx="0" cy="359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600" y="5581800"/>
            <a:ext cx="3352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49720" y="2894040"/>
            <a:ext cx="2113200" cy="2636640"/>
          </a:xfrm>
          <a:custGeom>
            <a:avLst/>
            <a:gdLst/>
            <a:ahLst/>
            <a:rect l="l" t="t" r="r" b="b"/>
            <a:pathLst>
              <a:path w="1331" h="466">
                <a:moveTo>
                  <a:pt x="0" y="466"/>
                </a:moveTo>
                <a:cubicBezTo>
                  <a:pt x="80" y="383"/>
                  <a:pt x="160" y="300"/>
                  <a:pt x="246" y="238"/>
                </a:cubicBezTo>
                <a:cubicBezTo>
                  <a:pt x="332" y="176"/>
                  <a:pt x="425" y="129"/>
                  <a:pt x="519" y="93"/>
                </a:cubicBezTo>
                <a:cubicBezTo>
                  <a:pt x="613" y="57"/>
                  <a:pt x="716" y="35"/>
                  <a:pt x="809" y="20"/>
                </a:cubicBezTo>
                <a:cubicBezTo>
                  <a:pt x="902" y="5"/>
                  <a:pt x="992" y="0"/>
                  <a:pt x="1079" y="5"/>
                </a:cubicBezTo>
                <a:cubicBezTo>
                  <a:pt x="1166" y="10"/>
                  <a:pt x="1279" y="43"/>
                  <a:pt x="1331" y="5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81840" y="54230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99200" y="5432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51040" y="31791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58320" y="100404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Lucro no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947160" y="2117160"/>
            <a:ext cx="3577320" cy="4000320"/>
            <a:chOff x="947160" y="2117160"/>
            <a:chExt cx="3577320" cy="4000320"/>
          </a:xfrm>
        </p:grpSpPr>
        <p:sp>
          <p:nvSpPr>
            <p:cNvPr id="422" name=""/>
            <p:cNvSpPr/>
            <p:nvPr/>
          </p:nvSpPr>
          <p:spPr>
            <a:xfrm rot="16200000">
              <a:off x="-25560" y="370980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Custo de Prod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21000" y="2565360"/>
              <a:ext cx="2151000" cy="2530440"/>
            </a:xfrm>
            <a:custGeom>
              <a:avLst/>
              <a:gdLst/>
              <a:ahLst/>
              <a:rect l="l" t="t" r="r" b="b"/>
              <a:pathLst>
                <a:path w="2064" h="1296">
                  <a:moveTo>
                    <a:pt x="0" y="1296"/>
                  </a:moveTo>
                  <a:cubicBezTo>
                    <a:pt x="70" y="1226"/>
                    <a:pt x="168" y="1012"/>
                    <a:pt x="420" y="876"/>
                  </a:cubicBezTo>
                  <a:cubicBezTo>
                    <a:pt x="672" y="740"/>
                    <a:pt x="1238" y="626"/>
                    <a:pt x="1512" y="480"/>
                  </a:cubicBezTo>
                  <a:cubicBezTo>
                    <a:pt x="1786" y="334"/>
                    <a:pt x="1949" y="100"/>
                    <a:pt x="2064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63560" y="21819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6600"/>
                  </a:solidFill>
                  <a:latin typeface="Lucida Casual"/>
                </a:rPr>
                <a:t>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99040" y="56588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18800" y="2117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$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1473120" y="2142720"/>
              <a:ext cx="0" cy="359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44520" y="5575320"/>
              <a:ext cx="323712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25760" y="5416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43480" y="54259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55400" y="5749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06440" y="57492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73480" y="57492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04720" y="5452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55760" y="545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22440" y="545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35560" y="5376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26800" y="1820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550880" y="1846080"/>
            <a:ext cx="0" cy="359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22280" y="5278320"/>
            <a:ext cx="335304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71760" y="2590920"/>
            <a:ext cx="2112840" cy="2636640"/>
          </a:xfrm>
          <a:custGeom>
            <a:avLst/>
            <a:gdLst/>
            <a:ahLst/>
            <a:rect l="l" t="t" r="r" b="b"/>
            <a:pathLst>
              <a:path w="1331" h="466">
                <a:moveTo>
                  <a:pt x="0" y="466"/>
                </a:moveTo>
                <a:cubicBezTo>
                  <a:pt x="80" y="383"/>
                  <a:pt x="160" y="300"/>
                  <a:pt x="246" y="238"/>
                </a:cubicBezTo>
                <a:cubicBezTo>
                  <a:pt x="332" y="176"/>
                  <a:pt x="425" y="129"/>
                  <a:pt x="519" y="93"/>
                </a:cubicBezTo>
                <a:cubicBezTo>
                  <a:pt x="613" y="57"/>
                  <a:pt x="716" y="35"/>
                  <a:pt x="809" y="20"/>
                </a:cubicBezTo>
                <a:cubicBezTo>
                  <a:pt x="902" y="5"/>
                  <a:pt x="992" y="0"/>
                  <a:pt x="1079" y="5"/>
                </a:cubicBezTo>
                <a:cubicBezTo>
                  <a:pt x="1166" y="10"/>
                  <a:pt x="1279" y="43"/>
                  <a:pt x="1331" y="5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03520" y="51195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621240" y="51292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72720" y="28756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58320" y="100404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Lucro no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63840" y="2103480"/>
            <a:ext cx="2151000" cy="253044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06400" y="1735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857680" y="2727360"/>
            <a:ext cx="5416200" cy="1879560"/>
            <a:chOff x="2857680" y="2727360"/>
            <a:chExt cx="5416200" cy="1879560"/>
          </a:xfrm>
        </p:grpSpPr>
        <p:sp>
          <p:nvSpPr>
            <p:cNvPr id="452" name=""/>
            <p:cNvSpPr/>
            <p:nvPr/>
          </p:nvSpPr>
          <p:spPr>
            <a:xfrm>
              <a:off x="2857680" y="2727360"/>
              <a:ext cx="0" cy="4906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0840" y="4084560"/>
              <a:ext cx="3713040" cy="522360"/>
            </a:xfrm>
            <a:prstGeom prst="wedgeRoundRectCallout">
              <a:avLst>
                <a:gd name="adj1" fmla="val -95449"/>
                <a:gd name="adj2" fmla="val -264287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Lucro = </a:t>
              </a: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Receita</a:t>
              </a: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 - </a:t>
              </a:r>
              <a:r>
                <a:rPr b="1" lang="pt-BR" sz="1800" spc="-1" strike="noStrike">
                  <a:solidFill>
                    <a:srgbClr val="ff6600"/>
                  </a:solidFill>
                  <a:latin typeface="Lucida Casual"/>
                </a:rPr>
                <a:t>Custo 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404720" y="5452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55760" y="545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22440" y="545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35560" y="5376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26800" y="1820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1550880" y="1846080"/>
            <a:ext cx="0" cy="359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22280" y="5278320"/>
            <a:ext cx="335304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71760" y="2590920"/>
            <a:ext cx="2112840" cy="2636640"/>
          </a:xfrm>
          <a:custGeom>
            <a:avLst/>
            <a:gdLst/>
            <a:ahLst/>
            <a:rect l="l" t="t" r="r" b="b"/>
            <a:pathLst>
              <a:path w="1331" h="466">
                <a:moveTo>
                  <a:pt x="0" y="466"/>
                </a:moveTo>
                <a:cubicBezTo>
                  <a:pt x="80" y="383"/>
                  <a:pt x="160" y="300"/>
                  <a:pt x="246" y="238"/>
                </a:cubicBezTo>
                <a:cubicBezTo>
                  <a:pt x="332" y="176"/>
                  <a:pt x="425" y="129"/>
                  <a:pt x="519" y="93"/>
                </a:cubicBezTo>
                <a:cubicBezTo>
                  <a:pt x="613" y="57"/>
                  <a:pt x="716" y="35"/>
                  <a:pt x="809" y="20"/>
                </a:cubicBezTo>
                <a:cubicBezTo>
                  <a:pt x="902" y="5"/>
                  <a:pt x="992" y="0"/>
                  <a:pt x="1079" y="5"/>
                </a:cubicBezTo>
                <a:cubicBezTo>
                  <a:pt x="1166" y="10"/>
                  <a:pt x="1279" y="43"/>
                  <a:pt x="1331" y="5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03520" y="51195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21240" y="51292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72720" y="28756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58320" y="100404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Lucro no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63840" y="2103480"/>
            <a:ext cx="2151000" cy="253044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06400" y="1735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57680" y="2727360"/>
            <a:ext cx="0" cy="49068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60840" y="4084560"/>
            <a:ext cx="3713040" cy="522360"/>
          </a:xfrm>
          <a:prstGeom prst="wedgeRoundRectCallout">
            <a:avLst>
              <a:gd name="adj1" fmla="val -95449"/>
              <a:gd name="adj2" fmla="val -264287"/>
              <a:gd name="adj3" fmla="val 16667"/>
            </a:avLst>
          </a:prstGeom>
          <a:solidFill>
            <a:srgbClr val="ffcc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uando o Lucro é Máxim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04720" y="5452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35560" y="5376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26800" y="1820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550880" y="1846080"/>
            <a:ext cx="0" cy="359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22280" y="5278320"/>
            <a:ext cx="335304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71760" y="2590920"/>
            <a:ext cx="2112840" cy="2636640"/>
          </a:xfrm>
          <a:custGeom>
            <a:avLst/>
            <a:gdLst/>
            <a:ahLst/>
            <a:rect l="l" t="t" r="r" b="b"/>
            <a:pathLst>
              <a:path w="1331" h="466">
                <a:moveTo>
                  <a:pt x="0" y="466"/>
                </a:moveTo>
                <a:cubicBezTo>
                  <a:pt x="80" y="383"/>
                  <a:pt x="160" y="300"/>
                  <a:pt x="246" y="238"/>
                </a:cubicBezTo>
                <a:cubicBezTo>
                  <a:pt x="332" y="176"/>
                  <a:pt x="425" y="129"/>
                  <a:pt x="519" y="93"/>
                </a:cubicBezTo>
                <a:cubicBezTo>
                  <a:pt x="613" y="57"/>
                  <a:pt x="716" y="35"/>
                  <a:pt x="809" y="20"/>
                </a:cubicBezTo>
                <a:cubicBezTo>
                  <a:pt x="902" y="5"/>
                  <a:pt x="992" y="0"/>
                  <a:pt x="1079" y="5"/>
                </a:cubicBezTo>
                <a:cubicBezTo>
                  <a:pt x="1166" y="10"/>
                  <a:pt x="1279" y="43"/>
                  <a:pt x="1331" y="5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03520" y="51195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21240" y="51292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72720" y="28756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58320" y="100404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Lucro no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63840" y="2103480"/>
            <a:ext cx="2151000" cy="2530440"/>
          </a:xfrm>
          <a:custGeom>
            <a:avLst/>
            <a:gdLst/>
            <a:ahLst/>
            <a:rect l="l" t="t" r="r" b="b"/>
            <a:pathLst>
              <a:path w="1355" h="1594">
                <a:moveTo>
                  <a:pt x="0" y="1594"/>
                </a:moveTo>
                <a:cubicBezTo>
                  <a:pt x="46" y="1508"/>
                  <a:pt x="108" y="1238"/>
                  <a:pt x="276" y="1077"/>
                </a:cubicBezTo>
                <a:cubicBezTo>
                  <a:pt x="444" y="916"/>
                  <a:pt x="826" y="809"/>
                  <a:pt x="1006" y="630"/>
                </a:cubicBezTo>
                <a:cubicBezTo>
                  <a:pt x="1186" y="451"/>
                  <a:pt x="1282" y="131"/>
                  <a:pt x="135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6400" y="1735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200320" y="2329920"/>
            <a:ext cx="1285920" cy="752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00520" y="2684520"/>
            <a:ext cx="0" cy="258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220840" y="2943360"/>
            <a:ext cx="1285920" cy="752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05200" y="2693880"/>
            <a:ext cx="0" cy="58572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58600" y="5284440"/>
            <a:ext cx="71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56680" y="2085840"/>
            <a:ext cx="349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o ponto 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ótimo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as inclin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as curvas R e CT são igu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43280" y="5224320"/>
            <a:ext cx="114120" cy="115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30840" y="2990520"/>
            <a:ext cx="150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u se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860000" y="4204440"/>
            <a:ext cx="2360520" cy="1959120"/>
            <a:chOff x="4860000" y="4204440"/>
            <a:chExt cx="2360520" cy="1959120"/>
          </a:xfrm>
        </p:grpSpPr>
        <p:sp>
          <p:nvSpPr>
            <p:cNvPr id="497" name=""/>
            <p:cNvSpPr/>
            <p:nvPr/>
          </p:nvSpPr>
          <p:spPr>
            <a:xfrm>
              <a:off x="4860000" y="4204440"/>
              <a:ext cx="122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Lembra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62160" y="459504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</a:t>
              </a: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73680" y="4979160"/>
              <a:ext cx="46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</a:t>
              </a: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20760" y="5438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</a:t>
              </a:r>
              <a:r>
                <a:rPr b="1" lang="pt-BR" sz="1800" spc="-1" strike="noStrike">
                  <a:solidFill>
                    <a:srgbClr val="ff6600"/>
                  </a:solidFill>
                  <a:latin typeface="Lucida Casual"/>
                </a:rPr>
                <a:t>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96000" y="5795280"/>
              <a:ext cx="46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</a:t>
              </a:r>
              <a:r>
                <a:rPr b="1" lang="pt-BR" sz="1800" spc="-1" strike="noStrike">
                  <a:solidFill>
                    <a:srgbClr val="ff66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05360" y="47728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RMg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81960" y="4965840"/>
              <a:ext cx="460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16520" y="56048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6600"/>
                  </a:solidFill>
                  <a:latin typeface="Lucida Casual"/>
                </a:rPr>
                <a:t>CMg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89880" y="5797440"/>
              <a:ext cx="460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95560" y="1004040"/>
            <a:ext cx="68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Determinação de Preço no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6200000">
            <a:off x="1034280" y="374220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179800" y="2741760"/>
            <a:ext cx="5281920" cy="2220120"/>
            <a:chOff x="2179800" y="2741760"/>
            <a:chExt cx="5281920" cy="2220120"/>
          </a:xfrm>
        </p:grpSpPr>
        <p:sp>
          <p:nvSpPr>
            <p:cNvPr id="517" name=""/>
            <p:cNvSpPr/>
            <p:nvPr/>
          </p:nvSpPr>
          <p:spPr>
            <a:xfrm>
              <a:off x="2179800" y="2741760"/>
              <a:ext cx="4890960" cy="2063520"/>
            </a:xfrm>
            <a:custGeom>
              <a:avLst/>
              <a:gdLst/>
              <a:ahLst/>
              <a:rect l="l" t="t" r="r" b="b"/>
              <a:pathLst>
                <a:path w="3081" h="1173">
                  <a:moveTo>
                    <a:pt x="0" y="0"/>
                  </a:moveTo>
                  <a:cubicBezTo>
                    <a:pt x="162" y="106"/>
                    <a:pt x="624" y="466"/>
                    <a:pt x="972" y="637"/>
                  </a:cubicBezTo>
                  <a:cubicBezTo>
                    <a:pt x="1320" y="808"/>
                    <a:pt x="1739" y="939"/>
                    <a:pt x="2090" y="1028"/>
                  </a:cubicBezTo>
                  <a:cubicBezTo>
                    <a:pt x="2441" y="1117"/>
                    <a:pt x="2875" y="1143"/>
                    <a:pt x="3081" y="1173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11800" y="45936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338640" y="3610080"/>
            <a:ext cx="129960" cy="806400"/>
            <a:chOff x="3338640" y="3610080"/>
            <a:chExt cx="129960" cy="806400"/>
          </a:xfrm>
        </p:grpSpPr>
        <p:sp>
          <p:nvSpPr>
            <p:cNvPr id="523" name=""/>
            <p:cNvSpPr/>
            <p:nvPr/>
          </p:nvSpPr>
          <p:spPr>
            <a:xfrm flipV="1">
              <a:off x="3409920" y="3710160"/>
              <a:ext cx="0" cy="70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38640" y="3610080"/>
              <a:ext cx="129960" cy="10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90840" y="4532400"/>
            <a:ext cx="0" cy="89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07880" y="5355720"/>
            <a:ext cx="71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771920" y="3423600"/>
            <a:ext cx="1561320" cy="368280"/>
            <a:chOff x="1771920" y="3423600"/>
            <a:chExt cx="1561320" cy="368280"/>
          </a:xfrm>
        </p:grpSpPr>
        <p:sp>
          <p:nvSpPr>
            <p:cNvPr id="529" name=""/>
            <p:cNvSpPr/>
            <p:nvPr/>
          </p:nvSpPr>
          <p:spPr>
            <a:xfrm flipH="1">
              <a:off x="2179440" y="3651120"/>
              <a:ext cx="115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71920" y="3423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604800" y="4443480"/>
            <a:ext cx="2800440" cy="882720"/>
            <a:chOff x="604800" y="4443480"/>
            <a:chExt cx="2800440" cy="882720"/>
          </a:xfrm>
        </p:grpSpPr>
        <p:sp>
          <p:nvSpPr>
            <p:cNvPr id="532" name=""/>
            <p:cNvSpPr/>
            <p:nvPr/>
          </p:nvSpPr>
          <p:spPr>
            <a:xfrm>
              <a:off x="2163600" y="4691160"/>
              <a:ext cx="1241640" cy="635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4800" y="4443480"/>
              <a:ext cx="914400" cy="609480"/>
            </a:xfrm>
            <a:prstGeom prst="wedgeRoundRectCallout">
              <a:avLst>
                <a:gd name="adj1" fmla="val 136287"/>
                <a:gd name="adj2" fmla="val 36981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Cus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151000" y="2322360"/>
            <a:ext cx="1592280" cy="2373480"/>
            <a:chOff x="2151000" y="2322360"/>
            <a:chExt cx="1592280" cy="2373480"/>
          </a:xfrm>
        </p:grpSpPr>
        <p:sp>
          <p:nvSpPr>
            <p:cNvPr id="535" name=""/>
            <p:cNvSpPr/>
            <p:nvPr/>
          </p:nvSpPr>
          <p:spPr>
            <a:xfrm>
              <a:off x="2151000" y="3665520"/>
              <a:ext cx="1244520" cy="1030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28880" y="2322360"/>
              <a:ext cx="914400" cy="609840"/>
            </a:xfrm>
            <a:prstGeom prst="wedgeRoundRectCallout">
              <a:avLst>
                <a:gd name="adj1" fmla="val -13712"/>
                <a:gd name="adj2" fmla="val 200259"/>
                <a:gd name="adj3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00"/>
                  </a:solidFill>
                  <a:latin typeface="Lucida Casual"/>
                </a:rPr>
                <a:t>Luc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405240" y="3724200"/>
            <a:ext cx="0" cy="161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66240" y="100404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Lucro no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79800" y="2828880"/>
            <a:ext cx="3895560" cy="1946160"/>
          </a:xfrm>
          <a:custGeom>
            <a:avLst/>
            <a:gdLst/>
            <a:ahLst/>
            <a:rect l="l" t="t" r="r" b="b"/>
            <a:pathLst>
              <a:path w="2454" h="1226">
                <a:moveTo>
                  <a:pt x="0" y="773"/>
                </a:moveTo>
                <a:cubicBezTo>
                  <a:pt x="88" y="841"/>
                  <a:pt x="342" y="1138"/>
                  <a:pt x="527" y="1182"/>
                </a:cubicBezTo>
                <a:cubicBezTo>
                  <a:pt x="712" y="1226"/>
                  <a:pt x="896" y="1139"/>
                  <a:pt x="1109" y="1036"/>
                </a:cubicBezTo>
                <a:cubicBezTo>
                  <a:pt x="1322" y="933"/>
                  <a:pt x="1584" y="737"/>
                  <a:pt x="1808" y="564"/>
                </a:cubicBezTo>
                <a:cubicBezTo>
                  <a:pt x="2032" y="391"/>
                  <a:pt x="2320" y="117"/>
                  <a:pt x="245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83840" y="2485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38640" y="361008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340080" y="464832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61400" y="97632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juste na Programação da Maté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27280" y="2560680"/>
            <a:ext cx="1096560" cy="52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Lucida Casual"/>
              </a:rPr>
              <a:t>Aula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Qua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71680" y="3186000"/>
            <a:ext cx="1616400" cy="52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Lucida Casual"/>
              </a:rPr>
              <a:t>Aula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Aprision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1840" y="3825720"/>
            <a:ext cx="1422720" cy="52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Lucida Casual"/>
              </a:rPr>
              <a:t>Aula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Custom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5400" y="4465800"/>
            <a:ext cx="1668240" cy="52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Lucida Casual"/>
              </a:rPr>
              <a:t>Aula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Macro-econom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87840" y="5106960"/>
            <a:ext cx="2593080" cy="52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Lucida Casual"/>
              </a:rPr>
              <a:t>Aula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Aspectos Socio-Econôm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5960" y="5732640"/>
            <a:ext cx="1340640" cy="52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Lucida Casual"/>
              </a:rPr>
              <a:t>Aula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Prova Escr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55520" y="2533680"/>
            <a:ext cx="2725920" cy="52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Lucida Casual"/>
              </a:rPr>
              <a:t>Aula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Qualidade + Aprision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5640" y="3173400"/>
            <a:ext cx="1422720" cy="52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Lucida Casual"/>
              </a:rPr>
              <a:t>Aula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Custom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38360" y="3813120"/>
            <a:ext cx="1668240" cy="52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Lucida Casual"/>
              </a:rPr>
              <a:t>Aula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Macro-econom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29680" y="4437000"/>
            <a:ext cx="2593080" cy="52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Lucida Casual"/>
              </a:rPr>
              <a:t>Aula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Aspectos Socio-Econôm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5094360"/>
            <a:ext cx="2695320" cy="52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Lucida Casual"/>
              </a:rPr>
              <a:t>Aula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Apresentação dos Trabalh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44640" y="5734080"/>
            <a:ext cx="1340640" cy="52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Lucida Casual"/>
              </a:rPr>
              <a:t>Aula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Prova Escr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45240" y="1951560"/>
            <a:ext cx="21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Versão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2800" y="195156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Nova Pro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444480" y="2560680"/>
            <a:ext cx="182880" cy="1157400"/>
            <a:chOff x="3444480" y="2560680"/>
            <a:chExt cx="182880" cy="1157400"/>
          </a:xfrm>
        </p:grpSpPr>
        <p:sp>
          <p:nvSpPr>
            <p:cNvPr id="70" name=""/>
            <p:cNvSpPr/>
            <p:nvPr/>
          </p:nvSpPr>
          <p:spPr>
            <a:xfrm flipV="1">
              <a:off x="3457440" y="2560680"/>
              <a:ext cx="16992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27360" y="2560680"/>
              <a:ext cx="0" cy="11574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444480" y="3718080"/>
              <a:ext cx="1825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627360" y="2819520"/>
            <a:ext cx="199548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611520" y="3428640"/>
            <a:ext cx="2027160" cy="669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611520" y="4024080"/>
            <a:ext cx="2027160" cy="669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11520" y="4662000"/>
            <a:ext cx="2027160" cy="669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3320" y="6066000"/>
            <a:ext cx="199548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81680" y="5385600"/>
            <a:ext cx="8787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NO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952880" y="5317920"/>
            <a:ext cx="639720" cy="228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66280" y="1004040"/>
            <a:ext cx="63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ncorrência Perfeita x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67160" y="2755800"/>
            <a:ext cx="3397320" cy="1548000"/>
          </a:xfrm>
          <a:prstGeom prst="wedgeRoundRectCallout">
            <a:avLst>
              <a:gd name="adj1" fmla="val -46120"/>
              <a:gd name="adj2" fmla="val -65180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Havia sido visto na aul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nálise de custos qu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ofertada ót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do produtor é 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preço = CMg(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267160" y="2755800"/>
            <a:ext cx="3397320" cy="1548000"/>
          </a:xfrm>
          <a:prstGeom prst="wedgeRoundRectCallout">
            <a:avLst>
              <a:gd name="adj1" fmla="val -46120"/>
              <a:gd name="adj2" fmla="val -65180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mo toda a oferta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ercado é proveniente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olis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urva de Oferta = CMg(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466280" y="1004040"/>
            <a:ext cx="63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ncorrência Perfeita x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50840" y="223272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 = O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10360" y="2901960"/>
            <a:ext cx="2936880" cy="1012680"/>
          </a:xfrm>
          <a:prstGeom prst="wedgeRoundRectCallout">
            <a:avLst>
              <a:gd name="adj1" fmla="val -98106"/>
              <a:gd name="adj2" fmla="val 49217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onto de equilíbrio se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odutor não fo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o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51200" y="3865680"/>
            <a:ext cx="130320" cy="10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66280" y="1004040"/>
            <a:ext cx="63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ncorrência Perfeita x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16200000">
            <a:off x="789840" y="36979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179800" y="2741760"/>
            <a:ext cx="5281920" cy="2220120"/>
            <a:chOff x="2179800" y="2741760"/>
            <a:chExt cx="5281920" cy="2220120"/>
          </a:xfrm>
        </p:grpSpPr>
        <p:sp>
          <p:nvSpPr>
            <p:cNvPr id="611" name=""/>
            <p:cNvSpPr/>
            <p:nvPr/>
          </p:nvSpPr>
          <p:spPr>
            <a:xfrm>
              <a:off x="2179800" y="2741760"/>
              <a:ext cx="4890960" cy="2063520"/>
            </a:xfrm>
            <a:custGeom>
              <a:avLst/>
              <a:gdLst/>
              <a:ahLst/>
              <a:rect l="l" t="t" r="r" b="b"/>
              <a:pathLst>
                <a:path w="3081" h="1173">
                  <a:moveTo>
                    <a:pt x="0" y="0"/>
                  </a:moveTo>
                  <a:cubicBezTo>
                    <a:pt x="162" y="106"/>
                    <a:pt x="624" y="466"/>
                    <a:pt x="972" y="637"/>
                  </a:cubicBezTo>
                  <a:cubicBezTo>
                    <a:pt x="1320" y="808"/>
                    <a:pt x="1739" y="939"/>
                    <a:pt x="2090" y="1028"/>
                  </a:cubicBezTo>
                  <a:cubicBezTo>
                    <a:pt x="2441" y="1117"/>
                    <a:pt x="2875" y="1143"/>
                    <a:pt x="3081" y="1173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11800" y="45936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338640" y="3610080"/>
            <a:ext cx="129960" cy="806400"/>
            <a:chOff x="3338640" y="3610080"/>
            <a:chExt cx="129960" cy="806400"/>
          </a:xfrm>
        </p:grpSpPr>
        <p:sp>
          <p:nvSpPr>
            <p:cNvPr id="617" name=""/>
            <p:cNvSpPr/>
            <p:nvPr/>
          </p:nvSpPr>
          <p:spPr>
            <a:xfrm flipV="1">
              <a:off x="3409920" y="3710160"/>
              <a:ext cx="0" cy="70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38640" y="3610080"/>
              <a:ext cx="129960" cy="10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0840" y="4532400"/>
            <a:ext cx="0" cy="89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07880" y="5355720"/>
            <a:ext cx="71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771920" y="3423600"/>
            <a:ext cx="1561320" cy="368280"/>
            <a:chOff x="1771920" y="3423600"/>
            <a:chExt cx="1561320" cy="368280"/>
          </a:xfrm>
        </p:grpSpPr>
        <p:sp>
          <p:nvSpPr>
            <p:cNvPr id="623" name=""/>
            <p:cNvSpPr/>
            <p:nvPr/>
          </p:nvSpPr>
          <p:spPr>
            <a:xfrm flipH="1">
              <a:off x="2179440" y="3651120"/>
              <a:ext cx="115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71920" y="3423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1466280" y="1004040"/>
            <a:ext cx="63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ncorrência Perfeita x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760040" y="3728160"/>
            <a:ext cx="2121480" cy="368280"/>
            <a:chOff x="1760040" y="3728160"/>
            <a:chExt cx="2121480" cy="368280"/>
          </a:xfrm>
        </p:grpSpPr>
        <p:sp>
          <p:nvSpPr>
            <p:cNvPr id="627" name=""/>
            <p:cNvSpPr/>
            <p:nvPr/>
          </p:nvSpPr>
          <p:spPr>
            <a:xfrm>
              <a:off x="3751200" y="3865680"/>
              <a:ext cx="130320" cy="101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2169720" y="3921120"/>
              <a:ext cx="15858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60040" y="3728160"/>
              <a:ext cx="3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Lucida Casual"/>
                </a:rPr>
                <a:t>p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77800" y="2554200"/>
            <a:ext cx="914400" cy="609840"/>
          </a:xfrm>
          <a:prstGeom prst="wedgeRoundRectCallout">
            <a:avLst>
              <a:gd name="adj1" fmla="val 87152"/>
              <a:gd name="adj2" fmla="val 11275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&gt;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146320" y="2717640"/>
            <a:ext cx="1689120" cy="1206720"/>
          </a:xfrm>
          <a:custGeom>
            <a:avLst/>
            <a:gdLst/>
            <a:ahLst/>
            <a:rect l="l" t="t" r="r" b="b"/>
            <a:pathLst>
              <a:path w="1064" h="760">
                <a:moveTo>
                  <a:pt x="0" y="0"/>
                </a:moveTo>
                <a:lnTo>
                  <a:pt x="392" y="312"/>
                </a:lnTo>
                <a:lnTo>
                  <a:pt x="860" y="644"/>
                </a:lnTo>
                <a:lnTo>
                  <a:pt x="1064" y="760"/>
                </a:lnTo>
                <a:lnTo>
                  <a:pt x="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05240" y="3724200"/>
            <a:ext cx="0" cy="16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38640" y="361008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51200" y="3865680"/>
            <a:ext cx="130320" cy="10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66280" y="1004040"/>
            <a:ext cx="63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ncorrência Perfeita x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46320" y="3924360"/>
            <a:ext cx="1609560" cy="3240"/>
          </a:xfrm>
          <a:custGeom>
            <a:avLst/>
            <a:gdLst/>
            <a:ahLst/>
            <a:rect l="l" t="t" r="r" b="b"/>
            <a:pathLst>
              <a:path w="1014" h="2">
                <a:moveTo>
                  <a:pt x="1014" y="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379600" y="1746360"/>
            <a:ext cx="2646360" cy="609480"/>
          </a:xfrm>
          <a:prstGeom prst="wedgeRoundRectCallout">
            <a:avLst>
              <a:gd name="adj1" fmla="val -31402"/>
              <a:gd name="adj2" fmla="val 250259"/>
              <a:gd name="adj3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Ganho social 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corrência perf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405240" y="3724200"/>
            <a:ext cx="0" cy="16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163600" y="3665520"/>
            <a:ext cx="1241640" cy="260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133720" y="2705040"/>
            <a:ext cx="1257120" cy="957240"/>
          </a:xfrm>
          <a:custGeom>
            <a:avLst/>
            <a:gdLst/>
            <a:ahLst/>
            <a:rect l="l" t="t" r="r" b="b"/>
            <a:pathLst>
              <a:path w="792" h="603">
                <a:moveTo>
                  <a:pt x="0" y="0"/>
                </a:moveTo>
                <a:lnTo>
                  <a:pt x="344" y="280"/>
                </a:lnTo>
                <a:lnTo>
                  <a:pt x="792" y="603"/>
                </a:lnTo>
                <a:lnTo>
                  <a:pt x="12" y="603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338640" y="361008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51200" y="3865680"/>
            <a:ext cx="130320" cy="10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66280" y="1004040"/>
            <a:ext cx="63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ncorrência Perfeita x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2149200" y="3925800"/>
            <a:ext cx="16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93840" y="1587600"/>
            <a:ext cx="4132440" cy="609480"/>
          </a:xfrm>
          <a:prstGeom prst="wedgeRoundRectCallout">
            <a:avLst>
              <a:gd name="adj1" fmla="val -28370"/>
              <a:gd name="adj2" fmla="val 316407"/>
              <a:gd name="adj3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arte do ganho social fo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ansformado em aumento de lu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405240" y="3724200"/>
            <a:ext cx="0" cy="16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00560" y="3662280"/>
            <a:ext cx="414360" cy="795600"/>
          </a:xfrm>
          <a:custGeom>
            <a:avLst/>
            <a:gdLst/>
            <a:ahLst/>
            <a:rect l="l" t="t" r="r" b="b"/>
            <a:pathLst>
              <a:path w="261" h="501">
                <a:moveTo>
                  <a:pt x="0" y="0"/>
                </a:moveTo>
                <a:lnTo>
                  <a:pt x="126" y="81"/>
                </a:lnTo>
                <a:lnTo>
                  <a:pt x="261" y="159"/>
                </a:lnTo>
                <a:lnTo>
                  <a:pt x="96" y="384"/>
                </a:lnTo>
                <a:lnTo>
                  <a:pt x="0" y="501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33720" y="2705040"/>
            <a:ext cx="1266840" cy="960480"/>
          </a:xfrm>
          <a:custGeom>
            <a:avLst/>
            <a:gdLst/>
            <a:ahLst/>
            <a:rect l="l" t="t" r="r" b="b"/>
            <a:pathLst>
              <a:path w="798" h="605">
                <a:moveTo>
                  <a:pt x="0" y="0"/>
                </a:moveTo>
                <a:lnTo>
                  <a:pt x="344" y="280"/>
                </a:lnTo>
                <a:lnTo>
                  <a:pt x="798" y="605"/>
                </a:lnTo>
                <a:lnTo>
                  <a:pt x="11" y="603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764240" y="243468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338640" y="361008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751200" y="3865680"/>
            <a:ext cx="130320" cy="10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66280" y="1004040"/>
            <a:ext cx="63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ncorrência Perfeita x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2149200" y="3925800"/>
            <a:ext cx="16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97200" y="1674720"/>
            <a:ext cx="2976480" cy="609840"/>
          </a:xfrm>
          <a:prstGeom prst="wedgeRoundRectCallout">
            <a:avLst>
              <a:gd name="adj1" fmla="val -23333"/>
              <a:gd name="adj2" fmla="val 327865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Deadweight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384720" y="86832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7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714240" y="2165040"/>
            <a:ext cx="0" cy="286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39640" y="4866840"/>
            <a:ext cx="36864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3880" y="434340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23880" y="3825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23880" y="3308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08040" y="278928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736640" y="4770360"/>
            <a:ext cx="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757600" y="479088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3778200" y="478584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33440" y="3555720"/>
            <a:ext cx="0" cy="13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9560" y="3556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696960" y="2991960"/>
            <a:ext cx="2630520" cy="1349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96960" y="2793960"/>
            <a:ext cx="2574720" cy="12747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78880" y="2617560"/>
            <a:ext cx="185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O = O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 +...+ O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Lucida Casu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66720" y="38887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66360" y="4904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49160" y="4896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90640" y="49107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3800" y="3663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0840" y="4190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56680" y="3169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1080" y="2640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5089680" y="2165040"/>
            <a:ext cx="0" cy="286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15080" y="4854600"/>
            <a:ext cx="3673440" cy="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98960" y="434340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998960" y="3825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998960" y="3308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983120" y="278928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111720" y="4770360"/>
            <a:ext cx="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7132680" y="479088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8153280" y="478584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072040" y="3022200"/>
            <a:ext cx="2584440" cy="1319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072040" y="2793960"/>
            <a:ext cx="2560680" cy="12733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84640" y="2793960"/>
            <a:ext cx="2367000" cy="23893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197480" y="26503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O = 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651440" y="39045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41920" y="50936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941800" y="4904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24240" y="4896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965720" y="49107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28880" y="3663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615920" y="4190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632120" y="3169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46160" y="2640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110280" y="3306600"/>
            <a:ext cx="0" cy="155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089680" y="3306600"/>
            <a:ext cx="10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44120" y="196416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Centavos de R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93720" y="200880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Centavos de R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95520" y="4299480"/>
            <a:ext cx="114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Milhõe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Un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738920" y="4327920"/>
            <a:ext cx="114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Milhõe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Un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11680" y="153756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Competição Perf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00840" y="15678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18840" y="5609520"/>
            <a:ext cx="79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Supondo que o custo fixo é de R$ 0.5 milhões calcular os lucros 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ontos A e B. Note que A é o ponto de cruzamento das curvas 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 e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24640" y="3487680"/>
            <a:ext cx="128520" cy="12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35760" y="3243240"/>
            <a:ext cx="129960" cy="13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459120" y="31536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58000" y="2878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181240" y="3487680"/>
            <a:ext cx="128520" cy="12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85480" y="31233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044440" y="4894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Lucida Casu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5520" y="34311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Lucida Casu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84720" y="86832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7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2688840" y="3251160"/>
            <a:ext cx="3240" cy="13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90440" y="323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1173240" y="1844280"/>
            <a:ext cx="0" cy="286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98640" y="454824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082520" y="402264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82520" y="3505320"/>
            <a:ext cx="18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082520" y="2987640"/>
            <a:ext cx="18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66680" y="2468520"/>
            <a:ext cx="19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2195640" y="4449600"/>
            <a:ext cx="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216240" y="447048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4237200" y="446544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155600" y="2701440"/>
            <a:ext cx="2584440" cy="1319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155600" y="2473200"/>
            <a:ext cx="2560680" cy="12733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168560" y="2473200"/>
            <a:ext cx="2366640" cy="23893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81040" y="23295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O = 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735000" y="35838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525480" y="47728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025360" y="45835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007800" y="4575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049280" y="4590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8280" y="3342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28280" y="3867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99840" y="2832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29720" y="23198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193840" y="2985840"/>
            <a:ext cx="0" cy="15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73240" y="2986200"/>
            <a:ext cx="10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173240" y="3503520"/>
            <a:ext cx="10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277640" y="168804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Centavos de R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22480" y="4007160"/>
            <a:ext cx="114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Milhõe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Un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8840" y="5609520"/>
            <a:ext cx="79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Supondo que o custo fixo é de R$ 0.5 milhões calcular os lucros 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ontos A e B. Note que A é o ponto de cruzamento das curvas 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 e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08200" y="3166920"/>
            <a:ext cx="128520" cy="12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19320" y="2922480"/>
            <a:ext cx="130320" cy="13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42680" y="283284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041920" y="25581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177520" y="155376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CF = 0,5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80480" y="1954440"/>
            <a:ext cx="3102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CT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no ponto 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CT para produzir 15m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CV para produzir 15mi +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(0,10+0,25)*15mi/2 + 0.5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R$ 3,125 mi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19320" y="3425760"/>
            <a:ext cx="130320" cy="13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894680" y="3548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498400" y="45835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15680" y="3075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296320" y="3416400"/>
            <a:ext cx="3102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CT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no ponto 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CT para produzir 10m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CV para produzir 10mi +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(0,10+0,20)*10mi/2 + 0.5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R$ 2 mi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57520" y="4966920"/>
            <a:ext cx="27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Lucro = RT - CT = 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p x q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-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09960" y="3000960"/>
            <a:ext cx="50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p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Lucida Casual"/>
              </a:rPr>
              <a:t>A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03080" y="473760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=q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Lucida Casu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814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70000" y="1752480"/>
            <a:ext cx="50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CONCORRÊNCI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PERFEITA X IMPERFE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EM MERCADOS DIGI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23520" y="48769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962520" y="3657600"/>
            <a:ext cx="1304640" cy="916920"/>
            <a:chOff x="3962520" y="3657600"/>
            <a:chExt cx="1304640" cy="916920"/>
          </a:xfrm>
        </p:grpSpPr>
        <p:sp>
          <p:nvSpPr>
            <p:cNvPr id="84" name=""/>
            <p:cNvSpPr/>
            <p:nvPr/>
          </p:nvSpPr>
          <p:spPr>
            <a:xfrm>
              <a:off x="4290480" y="365760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59320" y="38991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77352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384720" y="86832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7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2673000" y="3243240"/>
            <a:ext cx="3240" cy="130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90440" y="323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1173240" y="1844280"/>
            <a:ext cx="0" cy="286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998640" y="454824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082520" y="402264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082520" y="3505320"/>
            <a:ext cx="18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082520" y="2987640"/>
            <a:ext cx="18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066680" y="2468520"/>
            <a:ext cx="19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195640" y="4449600"/>
            <a:ext cx="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3216240" y="447048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237200" y="446544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1155600" y="2701440"/>
            <a:ext cx="2584440" cy="1319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155600" y="2473200"/>
            <a:ext cx="2560680" cy="12733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68560" y="2473200"/>
            <a:ext cx="2366640" cy="23893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81040" y="23295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O = 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735000" y="35838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25480" y="47728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025360" y="45835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007800" y="4575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049280" y="4590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8280" y="3342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8280" y="3867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9840" y="2832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29720" y="23198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2193840" y="2985840"/>
            <a:ext cx="0" cy="15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173240" y="2986200"/>
            <a:ext cx="10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173240" y="3503520"/>
            <a:ext cx="10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77640" y="168804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Centavos de R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822480" y="4007160"/>
            <a:ext cx="114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Milhõe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Un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608200" y="3166920"/>
            <a:ext cx="128520" cy="12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9320" y="2922480"/>
            <a:ext cx="130320" cy="13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542680" y="283284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041920" y="25581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255280" y="1588320"/>
            <a:ext cx="30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CT no pont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= (0,10+0,25)*15mi/2 + 0.5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= R$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3,125 mi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119320" y="3425760"/>
            <a:ext cx="130320" cy="13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94680" y="3548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498400" y="45835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15680" y="3075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249520" y="2578680"/>
            <a:ext cx="304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CT no pon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= (0,10+0,20)*10mi/2 + 0.5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= R$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2 mi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09960" y="3000960"/>
            <a:ext cx="50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p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Lucida Casual"/>
              </a:rPr>
              <a:t>A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503080" y="473760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=q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Lucida Casu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78920" y="5545800"/>
            <a:ext cx="67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Lucro no ponto A = R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Lucida Casual"/>
              </a:rPr>
              <a:t>A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- C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Lucida Casual"/>
              </a:rPr>
              <a:t>A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0,25 x 15mi -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3,125 mi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= 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R$ 0,625 mi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004040" y="5941080"/>
            <a:ext cx="5910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Lucro no ponto B = R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Lucida Casual"/>
              </a:rPr>
              <a:t>B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- C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Lucida Casual"/>
              </a:rPr>
              <a:t>B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0,30 x 10mi -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2 mi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= 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R$ 1 mi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245560" y="3552840"/>
            <a:ext cx="2443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RT no pont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p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Lucida Casual"/>
              </a:rPr>
              <a:t>A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x q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Lucida Casual"/>
              </a:rPr>
              <a:t>A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= 0,25 x 15m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R$ </a:t>
            </a: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3.75 mi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62840" y="4497480"/>
            <a:ext cx="2440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RT no pon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p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Lucida Casual"/>
              </a:rPr>
              <a:t>B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x q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Lucida Casual"/>
              </a:rPr>
              <a:t>B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= 0,30 x 10m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= R$ </a:t>
            </a: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3 mi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92040" y="1004040"/>
            <a:ext cx="48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mpetição Monopol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84000" y="19072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902120" y="192960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mpetição Monopol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617400" y="2420640"/>
            <a:ext cx="7983360" cy="1992240"/>
            <a:chOff x="617400" y="2420640"/>
            <a:chExt cx="7983360" cy="1992240"/>
          </a:xfrm>
        </p:grpSpPr>
        <p:sp>
          <p:nvSpPr>
            <p:cNvPr id="874" name=""/>
            <p:cNvSpPr/>
            <p:nvPr/>
          </p:nvSpPr>
          <p:spPr>
            <a:xfrm>
              <a:off x="617400" y="2420640"/>
              <a:ext cx="328140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cc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Único produtor supre tod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a demanda do merc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61560" y="2475000"/>
              <a:ext cx="403920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cc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Único produtor de um prod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diferenciad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60000"/>
                </a:lnSpc>
                <a:spcBef>
                  <a:spcPts val="1125"/>
                </a:spcBef>
                <a:buClr>
                  <a:srgbClr val="3333cc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Mar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30000"/>
                </a:lnSpc>
                <a:spcBef>
                  <a:spcPts val="1125"/>
                </a:spcBef>
                <a:buClr>
                  <a:srgbClr val="3333cc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Localiz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40000"/>
                </a:lnSpc>
                <a:spcBef>
                  <a:spcPts val="1125"/>
                </a:spcBef>
                <a:buClr>
                  <a:srgbClr val="3333cc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Propagan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3333cc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Podem existir muitos produt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de bens substituti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74560" y="3293280"/>
            <a:ext cx="8219160" cy="1783440"/>
            <a:chOff x="574560" y="3293280"/>
            <a:chExt cx="8219160" cy="1783440"/>
          </a:xfrm>
        </p:grpSpPr>
        <p:sp>
          <p:nvSpPr>
            <p:cNvPr id="877" name=""/>
            <p:cNvSpPr/>
            <p:nvPr/>
          </p:nvSpPr>
          <p:spPr>
            <a:xfrm>
              <a:off x="574560" y="3293280"/>
              <a:ext cx="239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buClr>
                  <a:srgbClr val="ff3300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Determina o preç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563720" y="4483440"/>
              <a:ext cx="423000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Determina o preço, mas de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conhecer o preço dos compet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23520" y="3729240"/>
            <a:ext cx="7611480" cy="2076480"/>
            <a:chOff x="623520" y="3729240"/>
            <a:chExt cx="7611480" cy="2076480"/>
          </a:xfrm>
        </p:grpSpPr>
        <p:sp>
          <p:nvSpPr>
            <p:cNvPr id="880" name=""/>
            <p:cNvSpPr/>
            <p:nvPr/>
          </p:nvSpPr>
          <p:spPr>
            <a:xfrm>
              <a:off x="623520" y="3729240"/>
              <a:ext cx="3578760" cy="17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8000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Barreiras fortes à entrad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competidor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70000"/>
                </a:lnSpc>
                <a:spcBef>
                  <a:spcPts val="1125"/>
                </a:spcBef>
                <a:buClr>
                  <a:srgbClr val="008000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Pat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40000"/>
                </a:lnSpc>
                <a:spcBef>
                  <a:spcPts val="1125"/>
                </a:spcBef>
                <a:buClr>
                  <a:srgbClr val="008000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Concessões do Gover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40000"/>
                </a:lnSpc>
                <a:spcBef>
                  <a:spcPts val="1125"/>
                </a:spcBef>
                <a:buClr>
                  <a:srgbClr val="008000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Economia de Esca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40000"/>
                </a:lnSpc>
                <a:spcBef>
                  <a:spcPts val="1125"/>
                </a:spcBef>
                <a:buClr>
                  <a:srgbClr val="008000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Tecnolog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37880" y="5185080"/>
              <a:ext cx="359712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buClr>
                  <a:srgbClr val="008000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Barreiras fracas à entrad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compet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2151000" y="3665520"/>
            <a:ext cx="1244520" cy="525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684520" y="2322360"/>
            <a:ext cx="1535040" cy="609840"/>
          </a:xfrm>
          <a:prstGeom prst="wedgeRoundRectCallout">
            <a:avLst>
              <a:gd name="adj1" fmla="val -18976"/>
              <a:gd name="adj2" fmla="val 20025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Lucr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32120" y="1004040"/>
            <a:ext cx="89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Lucro a </a:t>
            </a:r>
            <a:r>
              <a:rPr b="1" lang="pt-BR" sz="2800" spc="-1" strike="noStrike">
                <a:solidFill>
                  <a:srgbClr val="ff3300"/>
                </a:solidFill>
                <a:latin typeface="Lucida Casual"/>
              </a:rPr>
              <a:t>Curto</a:t>
            </a: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 Prazo na Competição Monopol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2179800" y="2289960"/>
            <a:ext cx="3358800" cy="2747160"/>
            <a:chOff x="2179800" y="2289960"/>
            <a:chExt cx="3358800" cy="2747160"/>
          </a:xfrm>
        </p:grpSpPr>
        <p:sp>
          <p:nvSpPr>
            <p:cNvPr id="897" name=""/>
            <p:cNvSpPr/>
            <p:nvPr/>
          </p:nvSpPr>
          <p:spPr>
            <a:xfrm>
              <a:off x="2179800" y="2670120"/>
              <a:ext cx="2554200" cy="2367000"/>
            </a:xfrm>
            <a:custGeom>
              <a:avLst/>
              <a:gdLst/>
              <a:ahLst/>
              <a:rect l="l" t="t" r="r" b="b"/>
              <a:pathLst>
                <a:path w="1545" h="1227">
                  <a:moveTo>
                    <a:pt x="0" y="745"/>
                  </a:moveTo>
                  <a:cubicBezTo>
                    <a:pt x="84" y="921"/>
                    <a:pt x="168" y="1097"/>
                    <a:pt x="272" y="1145"/>
                  </a:cubicBezTo>
                  <a:cubicBezTo>
                    <a:pt x="376" y="1193"/>
                    <a:pt x="415" y="1227"/>
                    <a:pt x="627" y="1036"/>
                  </a:cubicBezTo>
                  <a:cubicBezTo>
                    <a:pt x="839" y="845"/>
                    <a:pt x="1391" y="174"/>
                    <a:pt x="1545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792680" y="2289960"/>
              <a:ext cx="7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6600"/>
                  </a:solidFill>
                  <a:latin typeface="Lucida Casual"/>
                </a:rPr>
                <a:t>CMg</a:t>
              </a: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163600" y="2096280"/>
            <a:ext cx="5290200" cy="2185200"/>
            <a:chOff x="2163600" y="2096280"/>
            <a:chExt cx="5290200" cy="2185200"/>
          </a:xfrm>
        </p:grpSpPr>
        <p:sp>
          <p:nvSpPr>
            <p:cNvPr id="900" name=""/>
            <p:cNvSpPr/>
            <p:nvPr/>
          </p:nvSpPr>
          <p:spPr>
            <a:xfrm>
              <a:off x="2163600" y="2309760"/>
              <a:ext cx="4518360" cy="1971720"/>
            </a:xfrm>
            <a:custGeom>
              <a:avLst/>
              <a:gdLst/>
              <a:ahLst/>
              <a:rect l="l" t="t" r="r" b="b"/>
              <a:pathLst>
                <a:path w="2846" h="1242">
                  <a:moveTo>
                    <a:pt x="0" y="618"/>
                  </a:moveTo>
                  <a:cubicBezTo>
                    <a:pt x="124" y="710"/>
                    <a:pt x="513" y="1102"/>
                    <a:pt x="746" y="1172"/>
                  </a:cubicBezTo>
                  <a:cubicBezTo>
                    <a:pt x="979" y="1242"/>
                    <a:pt x="1174" y="1137"/>
                    <a:pt x="1400" y="1036"/>
                  </a:cubicBezTo>
                  <a:cubicBezTo>
                    <a:pt x="1626" y="935"/>
                    <a:pt x="1861" y="737"/>
                    <a:pt x="2102" y="564"/>
                  </a:cubicBezTo>
                  <a:cubicBezTo>
                    <a:pt x="2343" y="391"/>
                    <a:pt x="2692" y="117"/>
                    <a:pt x="2846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79160" y="20962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Lucida Casual"/>
                </a:rPr>
                <a:t>C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3338640" y="3610080"/>
            <a:ext cx="131760" cy="1730160"/>
            <a:chOff x="3338640" y="3610080"/>
            <a:chExt cx="131760" cy="1730160"/>
          </a:xfrm>
        </p:grpSpPr>
        <p:sp>
          <p:nvSpPr>
            <p:cNvPr id="904" name=""/>
            <p:cNvSpPr/>
            <p:nvPr/>
          </p:nvSpPr>
          <p:spPr>
            <a:xfrm>
              <a:off x="3405240" y="3724200"/>
              <a:ext cx="0" cy="16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40080" y="4395960"/>
              <a:ext cx="130320" cy="10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338640" y="3610080"/>
              <a:ext cx="129960" cy="10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3332160" y="414180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4160" y="3054240"/>
            <a:ext cx="1779840" cy="1096920"/>
          </a:xfrm>
          <a:prstGeom prst="wedgeRoundRectCallout">
            <a:avLst>
              <a:gd name="adj1" fmla="val -38671"/>
              <a:gd name="adj2" fmla="val 102967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od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iferen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2049480" y="925560"/>
            <a:ext cx="1143000" cy="655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51000" y="3665520"/>
            <a:ext cx="1244520" cy="525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684520" y="2322360"/>
            <a:ext cx="1535040" cy="609840"/>
          </a:xfrm>
          <a:prstGeom prst="wedgeRoundRectCallout">
            <a:avLst>
              <a:gd name="adj1" fmla="val -18976"/>
              <a:gd name="adj2" fmla="val 20025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Lucr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405240" y="3724200"/>
            <a:ext cx="0" cy="161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163600" y="2309760"/>
            <a:ext cx="4518360" cy="1971720"/>
          </a:xfrm>
          <a:custGeom>
            <a:avLst/>
            <a:gdLst/>
            <a:ahLst/>
            <a:rect l="l" t="t" r="r" b="b"/>
            <a:pathLst>
              <a:path w="2846" h="1242">
                <a:moveTo>
                  <a:pt x="0" y="618"/>
                </a:moveTo>
                <a:cubicBezTo>
                  <a:pt x="124" y="710"/>
                  <a:pt x="513" y="1102"/>
                  <a:pt x="746" y="1172"/>
                </a:cubicBezTo>
                <a:cubicBezTo>
                  <a:pt x="979" y="1242"/>
                  <a:pt x="1174" y="1137"/>
                  <a:pt x="1400" y="1036"/>
                </a:cubicBezTo>
                <a:cubicBezTo>
                  <a:pt x="1626" y="935"/>
                  <a:pt x="1861" y="737"/>
                  <a:pt x="2102" y="564"/>
                </a:cubicBezTo>
                <a:cubicBezTo>
                  <a:pt x="2343" y="391"/>
                  <a:pt x="2692" y="117"/>
                  <a:pt x="2846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79160" y="2096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38640" y="361008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32160" y="414180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80920" y="1033920"/>
            <a:ext cx="78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Lucro a 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Longo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 Prazo na Competição Monopol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2151000" y="3929040"/>
            <a:ext cx="1139760" cy="22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3292200" y="3911760"/>
            <a:ext cx="4680" cy="14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09560" y="1033920"/>
            <a:ext cx="78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Lucro a 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Longo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 Prazo na Competição Monopol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503680" y="562860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179800" y="2741760"/>
            <a:ext cx="32907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79800" y="2771640"/>
            <a:ext cx="328896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163600" y="2309760"/>
            <a:ext cx="4518360" cy="1971720"/>
          </a:xfrm>
          <a:custGeom>
            <a:avLst/>
            <a:gdLst/>
            <a:ahLst/>
            <a:rect l="l" t="t" r="r" b="b"/>
            <a:pathLst>
              <a:path w="2846" h="1242">
                <a:moveTo>
                  <a:pt x="0" y="618"/>
                </a:moveTo>
                <a:cubicBezTo>
                  <a:pt x="124" y="710"/>
                  <a:pt x="513" y="1102"/>
                  <a:pt x="746" y="1172"/>
                </a:cubicBezTo>
                <a:cubicBezTo>
                  <a:pt x="979" y="1242"/>
                  <a:pt x="1174" y="1137"/>
                  <a:pt x="1400" y="1036"/>
                </a:cubicBezTo>
                <a:cubicBezTo>
                  <a:pt x="1626" y="935"/>
                  <a:pt x="1861" y="737"/>
                  <a:pt x="2102" y="564"/>
                </a:cubicBezTo>
                <a:cubicBezTo>
                  <a:pt x="2343" y="391"/>
                  <a:pt x="2692" y="117"/>
                  <a:pt x="2846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79160" y="2096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509800" y="46364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27400" y="4538520"/>
            <a:ext cx="130320" cy="101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230640" y="3879720"/>
            <a:ext cx="129960" cy="101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225960" y="410544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127920" y="3714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935600" y="3103560"/>
            <a:ext cx="3225600" cy="1130400"/>
          </a:xfrm>
          <a:prstGeom prst="wedgeRoundRectCallout">
            <a:avLst>
              <a:gd name="adj1" fmla="val -47342"/>
              <a:gd name="adj2" fmla="val 91291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manda deslocada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squerda devido à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 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2151000" y="4003560"/>
            <a:ext cx="966960" cy="74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3147840" y="3956040"/>
            <a:ext cx="5040" cy="14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0640" y="1004040"/>
            <a:ext cx="91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Lucro a </a:t>
            </a:r>
            <a:r>
              <a:rPr b="1" lang="pt-BR" sz="2800" spc="-1" strike="noStrike">
                <a:solidFill>
                  <a:srgbClr val="ff3300"/>
                </a:solidFill>
                <a:latin typeface="Lucida Casual"/>
              </a:rPr>
              <a:t>Longo</a:t>
            </a: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 Prazo na Competição Monopol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584160" y="54698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179800" y="2741760"/>
            <a:ext cx="242712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179800" y="2771640"/>
            <a:ext cx="259704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163600" y="2309760"/>
            <a:ext cx="4518360" cy="1971720"/>
          </a:xfrm>
          <a:custGeom>
            <a:avLst/>
            <a:gdLst/>
            <a:ahLst/>
            <a:rect l="l" t="t" r="r" b="b"/>
            <a:pathLst>
              <a:path w="2846" h="1242">
                <a:moveTo>
                  <a:pt x="0" y="618"/>
                </a:moveTo>
                <a:cubicBezTo>
                  <a:pt x="124" y="710"/>
                  <a:pt x="513" y="1102"/>
                  <a:pt x="746" y="1172"/>
                </a:cubicBezTo>
                <a:cubicBezTo>
                  <a:pt x="979" y="1242"/>
                  <a:pt x="1174" y="1137"/>
                  <a:pt x="1400" y="1036"/>
                </a:cubicBezTo>
                <a:cubicBezTo>
                  <a:pt x="1626" y="935"/>
                  <a:pt x="1861" y="737"/>
                  <a:pt x="2102" y="564"/>
                </a:cubicBezTo>
                <a:cubicBezTo>
                  <a:pt x="2343" y="391"/>
                  <a:pt x="2692" y="117"/>
                  <a:pt x="2846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779160" y="2096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00440" y="46648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83040" y="466884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57480" y="3965400"/>
            <a:ext cx="130320" cy="101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052800" y="403380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127920" y="3714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79800" y="2741760"/>
            <a:ext cx="32907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179800" y="2771640"/>
            <a:ext cx="328896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482920" y="1717560"/>
            <a:ext cx="2257200" cy="725760"/>
          </a:xfrm>
          <a:prstGeom prst="wedgeRoundRectCallout">
            <a:avLst>
              <a:gd name="adj1" fmla="val -48805"/>
              <a:gd name="adj2" fmla="val 269694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 longo prazo, 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lucros tendem a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82920" y="1143000"/>
            <a:ext cx="24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7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89800" y="1977480"/>
            <a:ext cx="86709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As três características principais da competição monopolística s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Grande número de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Diferenciação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Facilidade para entrar ou sair d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a) Escolha um exemplo de mercado onde ocorre a competi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monopol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b) Justifique a escolha em termos das características princip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da competição monopol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994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637800" y="10040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lig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4191120" y="3429000"/>
            <a:ext cx="1752480" cy="990720"/>
            <a:chOff x="4191120" y="3429000"/>
            <a:chExt cx="1752480" cy="990720"/>
          </a:xfrm>
        </p:grpSpPr>
        <p:sp>
          <p:nvSpPr>
            <p:cNvPr id="1011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1014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5943600" y="3429000"/>
            <a:ext cx="1752480" cy="990720"/>
            <a:chOff x="5943600" y="3429000"/>
            <a:chExt cx="1752480" cy="990720"/>
          </a:xfrm>
        </p:grpSpPr>
        <p:sp>
          <p:nvSpPr>
            <p:cNvPr id="1017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5943600" y="4419720"/>
            <a:ext cx="1752480" cy="990360"/>
            <a:chOff x="5943600" y="4419720"/>
            <a:chExt cx="1752480" cy="990360"/>
          </a:xfrm>
        </p:grpSpPr>
        <p:sp>
          <p:nvSpPr>
            <p:cNvPr id="1020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637800" y="10040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lig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4191120" y="3429000"/>
            <a:ext cx="1752480" cy="990720"/>
            <a:chOff x="4191120" y="3429000"/>
            <a:chExt cx="1752480" cy="990720"/>
          </a:xfrm>
        </p:grpSpPr>
        <p:sp>
          <p:nvSpPr>
            <p:cNvPr id="1045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1048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5943600" y="3429000"/>
            <a:ext cx="1752480" cy="990720"/>
            <a:chOff x="5943600" y="3429000"/>
            <a:chExt cx="1752480" cy="990720"/>
          </a:xfrm>
        </p:grpSpPr>
        <p:sp>
          <p:nvSpPr>
            <p:cNvPr id="1051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5943600" y="4419720"/>
            <a:ext cx="1752480" cy="990360"/>
            <a:chOff x="5943600" y="4419720"/>
            <a:chExt cx="1752480" cy="990360"/>
          </a:xfrm>
        </p:grpSpPr>
        <p:sp>
          <p:nvSpPr>
            <p:cNvPr id="1054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14240" y="1552680"/>
            <a:ext cx="3078360" cy="1660320"/>
          </a:xfrm>
          <a:prstGeom prst="wedgeRoundRectCallout">
            <a:avLst>
              <a:gd name="adj1" fmla="val 75166"/>
              <a:gd name="adj2" fmla="val 67495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Significa que o Luc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da Blue Telecom é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R$ 750 se adotar Preç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360" y="1676520"/>
            <a:ext cx="7320240" cy="34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Compreender as diferenças entre as Concorrências Perfeita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Imperfeita, bem como avaliar os impactos result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acterizar os conceit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ceita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ncorrência Monopol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lig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637800" y="10040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lig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4191120" y="3429000"/>
            <a:ext cx="1752480" cy="990720"/>
            <a:chOff x="4191120" y="3429000"/>
            <a:chExt cx="1752480" cy="990720"/>
          </a:xfrm>
        </p:grpSpPr>
        <p:sp>
          <p:nvSpPr>
            <p:cNvPr id="1080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1083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5943600" y="3429000"/>
            <a:ext cx="1752480" cy="990720"/>
            <a:chOff x="5943600" y="3429000"/>
            <a:chExt cx="1752480" cy="990720"/>
          </a:xfrm>
        </p:grpSpPr>
        <p:sp>
          <p:nvSpPr>
            <p:cNvPr id="1086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5943600" y="4419720"/>
            <a:ext cx="1752480" cy="990360"/>
            <a:chOff x="5943600" y="4419720"/>
            <a:chExt cx="1752480" cy="990360"/>
          </a:xfrm>
        </p:grpSpPr>
        <p:sp>
          <p:nvSpPr>
            <p:cNvPr id="1089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4240" y="1552680"/>
            <a:ext cx="3078360" cy="1660320"/>
          </a:xfrm>
          <a:prstGeom prst="wedgeRoundRectCallout">
            <a:avLst>
              <a:gd name="adj1" fmla="val 71712"/>
              <a:gd name="adj2" fmla="val 84893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Significa que o Luc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a Red Datacom é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R$ 750 se adotar Preç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37800" y="10040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lig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4191120" y="3429000"/>
            <a:ext cx="1752480" cy="990720"/>
            <a:chOff x="4191120" y="3429000"/>
            <a:chExt cx="1752480" cy="990720"/>
          </a:xfrm>
        </p:grpSpPr>
        <p:sp>
          <p:nvSpPr>
            <p:cNvPr id="1115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1118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943600" y="3429000"/>
            <a:ext cx="1752480" cy="990720"/>
            <a:chOff x="5943600" y="3429000"/>
            <a:chExt cx="1752480" cy="990720"/>
          </a:xfrm>
        </p:grpSpPr>
        <p:sp>
          <p:nvSpPr>
            <p:cNvPr id="1121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5943600" y="4419720"/>
            <a:ext cx="1752480" cy="990360"/>
            <a:chOff x="5943600" y="4419720"/>
            <a:chExt cx="1752480" cy="990360"/>
          </a:xfrm>
        </p:grpSpPr>
        <p:sp>
          <p:nvSpPr>
            <p:cNvPr id="1124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731880" y="5699160"/>
            <a:ext cx="7892280" cy="485640"/>
            <a:chOff x="731880" y="5699160"/>
            <a:chExt cx="7892280" cy="485640"/>
          </a:xfrm>
        </p:grpSpPr>
        <p:sp>
          <p:nvSpPr>
            <p:cNvPr id="1137" name=""/>
            <p:cNvSpPr/>
            <p:nvPr/>
          </p:nvSpPr>
          <p:spPr>
            <a:xfrm>
              <a:off x="731880" y="569916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996560" y="5788800"/>
              <a:ext cx="66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Há </a:t>
              </a:r>
              <a:r>
                <a:rPr b="1" lang="en-US" sz="1800" spc="-1" strike="noStrike">
                  <a:solidFill>
                    <a:srgbClr val="669900"/>
                  </a:solidFill>
                  <a:latin typeface="Lucida Casual"/>
                </a:rPr>
                <a:t>interdependência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 entre 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Blue Telecom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 e 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Red Data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637800" y="10040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lig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1154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5943600" y="3429000"/>
            <a:ext cx="1752480" cy="990720"/>
            <a:chOff x="5943600" y="3429000"/>
            <a:chExt cx="1752480" cy="990720"/>
          </a:xfrm>
        </p:grpSpPr>
        <p:sp>
          <p:nvSpPr>
            <p:cNvPr id="1157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5943600" y="4419720"/>
            <a:ext cx="1752480" cy="990360"/>
            <a:chOff x="5943600" y="4419720"/>
            <a:chExt cx="1752480" cy="990360"/>
          </a:xfrm>
        </p:grpSpPr>
        <p:sp>
          <p:nvSpPr>
            <p:cNvPr id="1160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757600" y="5782320"/>
            <a:ext cx="46324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56" y="6099"/>
                </a:moveTo>
                <a:lnTo>
                  <a:pt x="24096" y="6099"/>
                </a:lnTo>
                <a:lnTo>
                  <a:pt x="24096" y="-5760"/>
                </a:lnTo>
                <a:lnTo>
                  <a:pt x="23129" y="-21115"/>
                </a:lnTo>
              </a:path>
            </a:pathLst>
          </a:custGeom>
          <a:solidFill>
            <a:srgbClr val="ffcc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oalisão, Cartel, Acordo de Cavalhei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594360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637800" y="10040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lig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1189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594360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943600" y="4419720"/>
            <a:ext cx="175248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943600" y="4419720"/>
            <a:ext cx="175248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511080" y="5752080"/>
            <a:ext cx="335844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98" y="6099"/>
                </a:moveTo>
                <a:lnTo>
                  <a:pt x="25005" y="6099"/>
                </a:lnTo>
                <a:lnTo>
                  <a:pt x="25005" y="-7793"/>
                </a:lnTo>
                <a:lnTo>
                  <a:pt x="23834" y="-25692"/>
                </a:lnTo>
              </a:path>
            </a:pathLst>
          </a:custGeom>
          <a:solidFill>
            <a:srgbClr val="ffcc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Red Datacom viola o aco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594360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637800" y="10040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lig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1221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594360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943600" y="4419720"/>
            <a:ext cx="175248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943600" y="4419720"/>
            <a:ext cx="175248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511080" y="5752080"/>
            <a:ext cx="335844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98" y="6099"/>
                </a:moveTo>
                <a:lnTo>
                  <a:pt x="25005" y="6099"/>
                </a:lnTo>
                <a:lnTo>
                  <a:pt x="25005" y="-7793"/>
                </a:lnTo>
                <a:lnTo>
                  <a:pt x="23834" y="-25692"/>
                </a:lnTo>
              </a:path>
            </a:pathLst>
          </a:custGeom>
          <a:solidFill>
            <a:srgbClr val="ffcc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Red Datacom viola o aco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567480" y="38847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594360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637800" y="10040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lig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1253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" name=""/>
          <p:cNvSpPr/>
          <p:nvPr/>
        </p:nvSpPr>
        <p:spPr>
          <a:xfrm>
            <a:off x="594360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43600" y="4419720"/>
            <a:ext cx="175248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943600" y="4419720"/>
            <a:ext cx="175248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11080" y="5752080"/>
            <a:ext cx="335844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98" y="6099"/>
                </a:moveTo>
                <a:lnTo>
                  <a:pt x="25005" y="6099"/>
                </a:lnTo>
                <a:lnTo>
                  <a:pt x="25005" y="-7793"/>
                </a:lnTo>
                <a:lnTo>
                  <a:pt x="23834" y="-25692"/>
                </a:lnTo>
              </a:path>
            </a:pathLst>
          </a:custGeom>
          <a:solidFill>
            <a:srgbClr val="ffcc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Red Datacom viola o aco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rot="16200000">
            <a:off x="5620320" y="34261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98560" y="1908000"/>
            <a:ext cx="2628720" cy="1111320"/>
          </a:xfrm>
          <a:prstGeom prst="horizontalScroll">
            <a:avLst>
              <a:gd name="adj" fmla="val 19569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Efeito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Guerra de Pre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643400" y="1004040"/>
            <a:ext cx="60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de Demanda no Olig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766880" y="2531880"/>
            <a:ext cx="0" cy="2909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468440" y="5114880"/>
            <a:ext cx="3444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878120" y="2210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925880" y="4892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2085840" y="3325680"/>
            <a:ext cx="1859040" cy="1401840"/>
            <a:chOff x="2085840" y="3325680"/>
            <a:chExt cx="1859040" cy="1401840"/>
          </a:xfrm>
        </p:grpSpPr>
        <p:sp>
          <p:nvSpPr>
            <p:cNvPr id="1281" name=""/>
            <p:cNvSpPr/>
            <p:nvPr/>
          </p:nvSpPr>
          <p:spPr>
            <a:xfrm>
              <a:off x="2085840" y="3325680"/>
              <a:ext cx="1570320" cy="381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39960" y="3690720"/>
              <a:ext cx="304920" cy="1036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"/>
          <p:cNvSpPr/>
          <p:nvPr/>
        </p:nvSpPr>
        <p:spPr>
          <a:xfrm flipH="1">
            <a:off x="1690560" y="3705120"/>
            <a:ext cx="19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625920" y="3705120"/>
            <a:ext cx="0" cy="14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432240" y="5185800"/>
            <a:ext cx="122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0880" y="3471480"/>
            <a:ext cx="10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858120" y="451080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Demanda vista por um dos Oligopo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816440" y="2316240"/>
            <a:ext cx="3200400" cy="1447560"/>
          </a:xfrm>
          <a:prstGeom prst="wedgeRoundRectCallout">
            <a:avLst>
              <a:gd name="adj1" fmla="val -81101"/>
              <a:gd name="adj2" fmla="val 8475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Se um dos Oligopo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abaixa o preço, ocor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guerra de preços e 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emais seguem a tend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551400" y="3639960"/>
            <a:ext cx="129960" cy="101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43400" y="1004040"/>
            <a:ext cx="60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rva de Demanda no Olig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1766880" y="2531880"/>
            <a:ext cx="0" cy="2909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68440" y="5114880"/>
            <a:ext cx="3444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878120" y="2210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25880" y="4892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085840" y="3325680"/>
            <a:ext cx="1859040" cy="1401840"/>
            <a:chOff x="2085840" y="3325680"/>
            <a:chExt cx="1859040" cy="1401840"/>
          </a:xfrm>
        </p:grpSpPr>
        <p:sp>
          <p:nvSpPr>
            <p:cNvPr id="1299" name=""/>
            <p:cNvSpPr/>
            <p:nvPr/>
          </p:nvSpPr>
          <p:spPr>
            <a:xfrm>
              <a:off x="2085840" y="3325680"/>
              <a:ext cx="1570320" cy="381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639960" y="3690720"/>
              <a:ext cx="304920" cy="1036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"/>
          <p:cNvSpPr/>
          <p:nvPr/>
        </p:nvSpPr>
        <p:spPr>
          <a:xfrm flipH="1">
            <a:off x="1690560" y="3705120"/>
            <a:ext cx="19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625920" y="3705120"/>
            <a:ext cx="0" cy="14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432240" y="5185800"/>
            <a:ext cx="122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60880" y="3471480"/>
            <a:ext cx="10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58120" y="451080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Demanda vista por um dos Oligopo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645000" y="1905120"/>
            <a:ext cx="4570200" cy="1419120"/>
          </a:xfrm>
          <a:prstGeom prst="wedgeRoundRectCallout">
            <a:avLst>
              <a:gd name="adj1" fmla="val -70111"/>
              <a:gd name="adj2" fmla="val 6073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Mesmo que um dos Oligopo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eleve o preço, os demais continu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om q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estratégico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. Os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eixam de comprar deste Oligopol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51400" y="3639960"/>
            <a:ext cx="129960" cy="101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408480" y="2031840"/>
            <a:ext cx="264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mpetição Perf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uitas Fi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duto Homogê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ntrada Liv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92200" y="3274920"/>
            <a:ext cx="32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mpetição Monopol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uitas Fi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duto Diferen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ntrada Liv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027120" y="3311640"/>
            <a:ext cx="24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lig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oucas Fi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m prod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ntrada Dificul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44800" y="4621320"/>
            <a:ext cx="17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ma 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m prod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em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640560" y="481824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rot="16200000">
            <a:off x="6620040" y="216360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0800000">
            <a:off x="1467000" y="217656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5400000">
            <a:off x="1496880" y="481320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742440" y="172836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Lucida Casu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3040" y="1630440"/>
            <a:ext cx="157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Lucida Casual"/>
              </a:rPr>
              <a:t>Diferenci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Lucida Casual"/>
              </a:rPr>
              <a:t>de Produ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2400" y="5618160"/>
            <a:ext cx="157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Lucida Casual"/>
              </a:rPr>
              <a:t>Diferenci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Lucida Casual"/>
              </a:rPr>
              <a:t>de Produ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780600" y="573048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Lucida Casu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231920" y="866160"/>
            <a:ext cx="68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MPETIÇÃO PERFEITA X IMPERFE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76280" y="1676520"/>
            <a:ext cx="5994360" cy="33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 Microsoft adota práticas monopolist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orque o monopólio é combat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mo se formam monopól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mo reduzir práticas monopolist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600" y="1676520"/>
            <a:ext cx="5460840" cy="31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Quest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A Microsoft adota práticas monopolist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orque o monopólio é combati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o se formam monopól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o reduzir práticas monopolist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382920" y="1143000"/>
            <a:ext cx="24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7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19640" y="2125440"/>
            <a:ext cx="77792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Indicar se trata de Competição Perfeita (CP), Monopólio (M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Competição Monopolística (CM) ou Oligopólio (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a) Microsoft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i) In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b) Telefonica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j) Gazeta Merca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c) Embratel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k) Comp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d) Rede Globo de TV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l) 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e) AOL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m) Embra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f) Saraiva.com.br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n) Fe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g) Pão de Açúcar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o) Banco do Bra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h) GM do Bra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934000" y="2946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Obrigado Pela Aten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29528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429000"/>
            <a:ext cx="33530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912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01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684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44320" y="990000"/>
            <a:ext cx="45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articipação n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28880" y="159948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ncorrência (Quase) Perf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76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352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2666880"/>
            <a:ext cx="69840" cy="32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080" y="29934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57440" y="1599480"/>
            <a:ext cx="3881880" cy="4711680"/>
            <a:chOff x="4357440" y="1599480"/>
            <a:chExt cx="3881880" cy="4711680"/>
          </a:xfrm>
        </p:grpSpPr>
        <p:grpSp>
          <p:nvGrpSpPr>
            <p:cNvPr id="115" name=""/>
            <p:cNvGrpSpPr/>
            <p:nvPr/>
          </p:nvGrpSpPr>
          <p:grpSpPr>
            <a:xfrm>
              <a:off x="4357440" y="1599480"/>
              <a:ext cx="3881880" cy="4711680"/>
              <a:chOff x="4357440" y="1599480"/>
              <a:chExt cx="3881880" cy="471168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5029200" y="1980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00600" y="3429000"/>
                <a:ext cx="33526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29200" y="2286000"/>
                <a:ext cx="2514600" cy="914400"/>
              </a:xfrm>
              <a:custGeom>
                <a:avLst/>
                <a:gdLst/>
                <a:ahLst/>
                <a:rect l="l" t="t" r="r" b="b"/>
                <a:pathLst>
                  <a:path w="1584" h="720">
                    <a:moveTo>
                      <a:pt x="0" y="0"/>
                    </a:moveTo>
                    <a:cubicBezTo>
                      <a:pt x="152" y="140"/>
                      <a:pt x="304" y="280"/>
                      <a:pt x="480" y="384"/>
                    </a:cubicBezTo>
                    <a:cubicBezTo>
                      <a:pt x="656" y="488"/>
                      <a:pt x="872" y="568"/>
                      <a:pt x="1056" y="624"/>
                    </a:cubicBezTo>
                    <a:cubicBezTo>
                      <a:pt x="1240" y="680"/>
                      <a:pt x="1496" y="704"/>
                      <a:pt x="1584" y="72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882680" y="35805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4080" y="358056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00760" y="358056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95880" y="32767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162920" y="32767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5029200" y="434304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00600" y="5791320"/>
                <a:ext cx="33526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29200" y="4648320"/>
                <a:ext cx="2514600" cy="914400"/>
              </a:xfrm>
              <a:custGeom>
                <a:avLst/>
                <a:gdLst/>
                <a:ahLst/>
                <a:rect l="l" t="t" r="r" b="b"/>
                <a:pathLst>
                  <a:path w="1584" h="720">
                    <a:moveTo>
                      <a:pt x="0" y="0"/>
                    </a:moveTo>
                    <a:cubicBezTo>
                      <a:pt x="152" y="140"/>
                      <a:pt x="304" y="280"/>
                      <a:pt x="480" y="384"/>
                    </a:cubicBezTo>
                    <a:cubicBezTo>
                      <a:pt x="656" y="488"/>
                      <a:pt x="872" y="568"/>
                      <a:pt x="1056" y="624"/>
                    </a:cubicBezTo>
                    <a:cubicBezTo>
                      <a:pt x="1240" y="680"/>
                      <a:pt x="1496" y="704"/>
                      <a:pt x="1584" y="720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82680" y="5942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34080" y="59428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800760" y="59428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95880" y="56386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56386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785920" y="1599480"/>
                <a:ext cx="139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Monopól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98080" y="4571280"/>
                <a:ext cx="186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8000"/>
                    </a:solidFill>
                    <a:latin typeface="Lucida Casual"/>
                  </a:rPr>
                  <a:t>Produtor 100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3880" y="35046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13880" y="58665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57440" y="1980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$/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57440" y="44190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$/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69240" y="2437560"/>
                <a:ext cx="117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Lucida Casual"/>
                  </a:rPr>
                  <a:t>Mercad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7538760" y="301536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89520" y="534744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23520" y="2590920"/>
            <a:ext cx="3805560" cy="3720240"/>
            <a:chOff x="623520" y="2590920"/>
            <a:chExt cx="3805560" cy="3720240"/>
          </a:xfrm>
        </p:grpSpPr>
        <p:grpSp>
          <p:nvGrpSpPr>
            <p:cNvPr id="142" name=""/>
            <p:cNvGrpSpPr/>
            <p:nvPr/>
          </p:nvGrpSpPr>
          <p:grpSpPr>
            <a:xfrm>
              <a:off x="623520" y="2590920"/>
              <a:ext cx="3805560" cy="3720240"/>
              <a:chOff x="623520" y="2590920"/>
              <a:chExt cx="3805560" cy="3720240"/>
            </a:xfrm>
          </p:grpSpPr>
          <p:sp>
            <p:nvSpPr>
              <p:cNvPr id="143" name=""/>
              <p:cNvSpPr/>
              <p:nvPr/>
            </p:nvSpPr>
            <p:spPr>
              <a:xfrm flipV="1">
                <a:off x="1295280" y="434304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66680" y="5791320"/>
                <a:ext cx="33530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49120" y="5942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1200" y="594288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97880" y="594288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362320" y="56386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429000" y="56386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95280" y="5029200"/>
                <a:ext cx="2133720" cy="76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28800" y="25909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295280" y="4038480"/>
                <a:ext cx="533520" cy="175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05120" y="25909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05120" y="4038480"/>
                <a:ext cx="1523880" cy="175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92360" y="4571280"/>
                <a:ext cx="160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3333cc"/>
                    </a:solidFill>
                    <a:latin typeface="Lucida Casual"/>
                  </a:rPr>
                  <a:t>Produtor 1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03640" y="58665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3520" y="44190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$/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477960" y="49572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648160" y="25250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29528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3429000"/>
            <a:ext cx="33530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912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001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6684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4320" y="990000"/>
            <a:ext cx="45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articipação n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96520" y="15994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ncorrência Perf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276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352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9528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791320"/>
            <a:ext cx="33530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912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1200" y="5942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97880" y="5942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295280" y="5019840"/>
            <a:ext cx="2162160" cy="9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295280" y="4038480"/>
            <a:ext cx="53352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038480"/>
            <a:ext cx="1523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0364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3520" y="441900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48160" y="25250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35280" y="2666880"/>
            <a:ext cx="69840" cy="32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61000" y="3594240"/>
            <a:ext cx="3483000" cy="825480"/>
          </a:xfrm>
          <a:prstGeom prst="wedgeRoundRectCallout">
            <a:avLst>
              <a:gd name="adj1" fmla="val -87328"/>
              <a:gd name="adj2" fmla="val 120962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a Concorrência Perf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 Mercado determina o preç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080" y="29934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35280" y="1994760"/>
            <a:ext cx="3142080" cy="3192480"/>
            <a:chOff x="935280" y="1994760"/>
            <a:chExt cx="3142080" cy="3192480"/>
          </a:xfrm>
        </p:grpSpPr>
        <p:grpSp>
          <p:nvGrpSpPr>
            <p:cNvPr id="194" name=""/>
            <p:cNvGrpSpPr/>
            <p:nvPr/>
          </p:nvGrpSpPr>
          <p:grpSpPr>
            <a:xfrm>
              <a:off x="935280" y="2178000"/>
              <a:ext cx="2801520" cy="793800"/>
              <a:chOff x="935280" y="2178000"/>
              <a:chExt cx="2801520" cy="793800"/>
            </a:xfrm>
          </p:grpSpPr>
          <p:sp>
            <p:nvSpPr>
              <p:cNvPr id="195" name=""/>
              <p:cNvSpPr/>
              <p:nvPr/>
            </p:nvSpPr>
            <p:spPr>
              <a:xfrm>
                <a:off x="1327320" y="2178000"/>
                <a:ext cx="2409480" cy="793800"/>
              </a:xfrm>
              <a:custGeom>
                <a:avLst/>
                <a:gdLst/>
                <a:ahLst/>
                <a:rect l="l" t="t" r="r" b="b"/>
                <a:pathLst>
                  <a:path w="1518" h="500">
                    <a:moveTo>
                      <a:pt x="0" y="500"/>
                    </a:moveTo>
                    <a:cubicBezTo>
                      <a:pt x="128" y="405"/>
                      <a:pt x="256" y="311"/>
                      <a:pt x="509" y="228"/>
                    </a:cubicBezTo>
                    <a:cubicBezTo>
                      <a:pt x="762" y="145"/>
                      <a:pt x="1350" y="38"/>
                      <a:pt x="1518" y="0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60400" y="2583000"/>
                <a:ext cx="144720" cy="129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312920" y="2655720"/>
                <a:ext cx="4334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935280" y="24440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3333cc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957600" y="4818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15200" y="199476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5035680" y="2576520"/>
            <a:ext cx="414360" cy="3205080"/>
            <a:chOff x="5035680" y="2576520"/>
            <a:chExt cx="414360" cy="3205080"/>
          </a:xfrm>
        </p:grpSpPr>
        <p:sp>
          <p:nvSpPr>
            <p:cNvPr id="202" name=""/>
            <p:cNvSpPr/>
            <p:nvPr/>
          </p:nvSpPr>
          <p:spPr>
            <a:xfrm>
              <a:off x="5035680" y="2576520"/>
              <a:ext cx="41256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48240" y="3573360"/>
              <a:ext cx="1800" cy="21938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48240" y="5419440"/>
              <a:ext cx="1800" cy="362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28720" y="9900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Receita no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02920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34290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8268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3408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007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2920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579132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8268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3408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0076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629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85920" y="1599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138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1388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5744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69240" y="24375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38760" y="3015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196520" y="26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4158720" y="5044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61920" y="437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02920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34290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8268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3408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007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2920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579132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8268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408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0076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85920" y="1599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138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1388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5744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69240" y="24375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38760" y="3015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438880" y="5425920"/>
            <a:ext cx="1440" cy="371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027760" y="2814480"/>
            <a:ext cx="847440" cy="2971440"/>
            <a:chOff x="5027760" y="2814480"/>
            <a:chExt cx="847440" cy="2971440"/>
          </a:xfrm>
        </p:grpSpPr>
        <p:sp>
          <p:nvSpPr>
            <p:cNvPr id="259" name=""/>
            <p:cNvSpPr/>
            <p:nvPr/>
          </p:nvSpPr>
          <p:spPr>
            <a:xfrm>
              <a:off x="5027760" y="2814480"/>
              <a:ext cx="846000" cy="610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73760" y="3570120"/>
              <a:ext cx="1440" cy="22075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67280" y="5190120"/>
              <a:ext cx="1800" cy="59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rot="16200000">
            <a:off x="4196520" y="26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4158720" y="5044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8720" y="9900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Receita no Monopó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61920" y="437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5-03T14:19:10Z</cp:lastPrinted>
  <dcterms:modified xsi:type="dcterms:W3CDTF">2003-03-28T23:17:15Z</dcterms:modified>
  <cp:revision>143</cp:revision>
  <dc:subject/>
  <dc:title>compet</dc:title>
</cp:coreProperties>
</file>