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C88-0AB0-47FB-B1B5-885001A5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2C1-2BAC-481F-800B-6DA159E9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F17-9B71-493D-B363-B1E78090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61E-5DC1-4D1A-97D5-4471520E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AE0-E157-4E8B-A489-21560D50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9FF-5B9B-4AB2-9BC7-7CAA1F47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DAE-4701-416C-B17A-198907D0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EBB-FF3C-4EF4-8721-1DEB193E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91C-15FE-42B6-A0D0-BD6F4986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CF4-73D4-4E79-B6F7-C75706C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C60-6D1A-4AAD-851D-B2648A6D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93A-B776-49AA-9BA5-6FDBE757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ED29-41CA-4344-B68F-5CB03FA4D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3480" y="686520"/>
            <a:ext cx="181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asual"/>
              </a:rPr>
              <a:t>Aula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asual"/>
              </a:rPr>
              <a:t>Part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asual"/>
              </a:rPr>
              <a:t>Aprision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7320" y="1065960"/>
            <a:ext cx="52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de Custos de T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360" y="190440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BM PC x Mac -&gt; Programas do PC não ‘rodam’ no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6800" y="2437920"/>
            <a:ext cx="79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Windows x Linux -&gt; Compatibilidade limitada do emulador Wind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ara Linux, Retrei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4400" y="3276000"/>
            <a:ext cx="68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ffice x Smartsuite -&gt; Retreinamento de Pessoal, Arqu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compatíveis (por exemplo textos, dados) [StarOffice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1480" y="41140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G x UOL -&gt; Mudança de endereço eletrônico [.forward?, bigfoot.com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800" y="472356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*.avi x *.mpeg -&gt; Novo editor/visu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38360" y="5256360"/>
            <a:ext cx="61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Custo de Troca -&gt; Omni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Custo Troca Elevado -&gt; Apris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09840" y="106596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ipos de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520" y="1905120"/>
            <a:ext cx="727920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ompromissos contratu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Exclus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Encomenda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Contratos Perenes (renovação automá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99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Lucida Casual"/>
              </a:rPr>
              <a:t>Garantia de Qu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99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Lucida Casual"/>
              </a:rPr>
              <a:t>Reajuste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99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Lucida Casual"/>
              </a:rPr>
              <a:t>Preços dos 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84240" y="106596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s de Troca do Fornec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9760" y="2209680"/>
            <a:ext cx="803052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ompetitive upgr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(Produtos superior a preços men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treinamento grat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Instalação gratu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onversões e adaptações gratu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Subsídios para indenizações de quebra de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Bonif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09840" y="106596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Tipos de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680" y="2209680"/>
            <a:ext cx="787824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ompromissos contratu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Bens durá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Treinamento especi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Informação e banco de dados em formato próp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Financiamentos vinculados ao fornec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usto de bu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ogramas de lealdade (fidelid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6160" y="21326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Seleção 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50880" y="106596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iclo do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81240" y="350424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Experim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4960" y="487584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Entrinchei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24560" y="350424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Apris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133720"/>
            <a:ext cx="814320" cy="86652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6502680" y="2259720"/>
            <a:ext cx="814320" cy="86652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6400800" y="44956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2007360" y="439344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60200" y="1065960"/>
            <a:ext cx="55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onto de Vista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240" y="2209680"/>
            <a:ext cx="855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Negociar benefícios inici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Manter opções abertas a uma segunda 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oteger-se da exploração monopo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autela na elaboração 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avaliar periodicamente o estado de apris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29320" y="1065960"/>
            <a:ext cx="53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onto de Vista do Fornec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2640" y="2209680"/>
            <a:ext cx="770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Formar a base instalada de 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Fomentar o entrincheiramento, não apena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experimentação por parte do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Aumentar o valor da base instalada com a v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de produtos complement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080" y="1676520"/>
            <a:ext cx="59702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Lucida Casual"/>
              </a:rPr>
              <a:t>Recapitulação Part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Apris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Tipos de Apris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usto de T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Administração do Apris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95880" y="99072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0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5280" y="1751760"/>
            <a:ext cx="73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Quais desses são exemplos de aprisionamento e porq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400" y="4041000"/>
            <a:ext cx="7834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2. A Cisco Systems fornece 80% das roteadores que formam o núcleo bás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da Internet. O valor da Cisco vem da </a:t>
            </a:r>
            <a:r>
              <a:rPr b="1" lang="pt-BR" sz="1600" spc="-1" strike="noStrike" u="sng">
                <a:solidFill>
                  <a:srgbClr val="0000ff"/>
                </a:solidFill>
                <a:uFillTx/>
                <a:latin typeface="Lucida Casual"/>
              </a:rPr>
              <a:t>sua reputação de alta qualidade</a:t>
            </a: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sua </a:t>
            </a:r>
            <a:r>
              <a:rPr b="1" lang="pt-BR" sz="1600" spc="-1" strike="noStrike" u="sng">
                <a:solidFill>
                  <a:srgbClr val="0000ff"/>
                </a:solidFill>
                <a:uFillTx/>
                <a:latin typeface="Lucida Casual"/>
              </a:rPr>
              <a:t>linha completa</a:t>
            </a: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 de produtos </a:t>
            </a:r>
            <a:r>
              <a:rPr b="1" lang="pt-BR" sz="1600" spc="-1" strike="noStrike" u="sng">
                <a:solidFill>
                  <a:srgbClr val="0000ff"/>
                </a:solidFill>
                <a:uFillTx/>
                <a:latin typeface="Lucida Casual"/>
              </a:rPr>
              <a:t>compatíveis</a:t>
            </a: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 de hardware para redes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especialmente de sua capacidade de </a:t>
            </a:r>
            <a:r>
              <a:rPr b="1" lang="pt-BR" sz="1600" spc="-1" strike="noStrike" u="sng">
                <a:solidFill>
                  <a:srgbClr val="0000ff"/>
                </a:solidFill>
                <a:uFillTx/>
                <a:latin typeface="Lucida Casual"/>
              </a:rPr>
              <a:t>permanecer um passo à frente</a:t>
            </a: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concorrência em termos de </a:t>
            </a:r>
            <a:r>
              <a:rPr b="1" lang="pt-BR" sz="1600" spc="-1" strike="noStrike" u="sng">
                <a:solidFill>
                  <a:srgbClr val="0000ff"/>
                </a:solidFill>
                <a:uFillTx/>
                <a:latin typeface="Lucida Casual"/>
              </a:rPr>
              <a:t>desempenho</a:t>
            </a: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 do produto e </a:t>
            </a:r>
            <a:r>
              <a:rPr b="1" lang="pt-BR" sz="1600" spc="-1" strike="noStrike" u="sng">
                <a:solidFill>
                  <a:srgbClr val="0000ff"/>
                </a:solidFill>
                <a:uFillTx/>
                <a:latin typeface="Lucida Casual"/>
              </a:rPr>
              <a:t>não de extra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ff"/>
                </a:solidFill>
                <a:uFillTx/>
                <a:latin typeface="Lucida Casual"/>
              </a:rPr>
              <a:t>lucros abusivos</a:t>
            </a: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 de sua base instalada cativa de cli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1000" y="2516400"/>
            <a:ext cx="809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1. Na década de 80 a Bell Atlantic investiu US$ 3 bi nos comutadores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5ESS da AT&amp;T para desenvolver sua rede de telefonia. Os comutadores 5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empregam um sistema operacional proprietário controlado pela AT&amp;T,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modo que as expansões requeriam o fornecimento de adaptações de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Lucida Casual"/>
              </a:rPr>
              <a:t>por parte da AT&amp;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23680" y="2057400"/>
            <a:ext cx="39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FENÔMEN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APRISIO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520" y="48006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62520" y="3581280"/>
            <a:ext cx="1304640" cy="916920"/>
            <a:chOff x="3962520" y="3581280"/>
            <a:chExt cx="1304640" cy="916920"/>
          </a:xfrm>
        </p:grpSpPr>
        <p:sp>
          <p:nvSpPr>
            <p:cNvPr id="55" name=""/>
            <p:cNvSpPr/>
            <p:nvPr/>
          </p:nvSpPr>
          <p:spPr>
            <a:xfrm>
              <a:off x="4290480" y="35812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9320" y="382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36972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RAC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PP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1720" y="1676520"/>
            <a:ext cx="831528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Investigar o fenômeno do aprisionamento através de instrumentos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Teoria Econô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prisio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ipos de Aprisio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 de Tro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dministração do Aprisio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3920" y="990000"/>
            <a:ext cx="52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incípio do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5400" y="2209680"/>
            <a:ext cx="46839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Lucida Casual"/>
              </a:rPr>
              <a:t>Escolhas </a:t>
            </a:r>
            <a:r>
              <a:rPr b="1" lang="pt-BR" sz="3200" spc="-1" strike="noStrike">
                <a:solidFill>
                  <a:srgbClr val="ff0000"/>
                </a:solidFill>
                <a:latin typeface="Lucida Casual"/>
              </a:rPr>
              <a:t>Futuras</a:t>
            </a:r>
            <a:r>
              <a:rPr b="1" lang="pt-BR" sz="32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Lucida Casual"/>
              </a:rPr>
              <a:t>depend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Lucida Casual"/>
              </a:rPr>
              <a:t>das Escolhas </a:t>
            </a:r>
            <a:r>
              <a:rPr b="1" lang="pt-BR" sz="3200" spc="-1" strike="noStrike">
                <a:solidFill>
                  <a:srgbClr val="008000"/>
                </a:solidFill>
                <a:latin typeface="Lucida Casual"/>
              </a:rPr>
              <a:t>Pass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23920" y="990000"/>
            <a:ext cx="52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incípio do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8960" y="2209680"/>
            <a:ext cx="387324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8080"/>
                </a:solidFill>
                <a:latin typeface="Lucida Casual"/>
              </a:rPr>
              <a:t>Escolhas Futu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8080"/>
                </a:solidFill>
                <a:latin typeface="Lucida Casual"/>
              </a:rPr>
              <a:t>dependem 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8080"/>
                </a:solidFill>
                <a:latin typeface="Lucida Casual"/>
              </a:rPr>
              <a:t>Escolhas Pass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7720" y="5257080"/>
            <a:ext cx="48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Lucida Casual"/>
              </a:rPr>
              <a:t>Custo de Troca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19720" y="44190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47320" y="1065960"/>
            <a:ext cx="52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de Custos de T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7360" y="190440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BM PC x Mac -&gt; Programas do PC não ‘rodam’ no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6800" y="2437920"/>
            <a:ext cx="79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Windows x Linux -&gt; Compatibilidade limitada do emulador Wind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ara Linux, Retrei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400" y="3276000"/>
            <a:ext cx="68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ffice x Smartsuite -&gt; Retreinamento de Pessoal, Arqu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ncompatíveis (por exemplo textos, dados) [StarOffice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1480" y="41140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iG x UOL -&gt; Mudança de endereço eletrônico [.forward?, bigfoot.com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800" y="472356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*.avi x *.mpeg -&gt; Novo editor/visu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7320" y="1065960"/>
            <a:ext cx="52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mplos de Custos de T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360" y="190440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BM PC x Mac -&gt; Programas do PC não ‘rodam’ no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6800" y="2437920"/>
            <a:ext cx="79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Windows x Linux -&gt; Compatibilidade limitada do emulador Wind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ara Linux, Retrei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400" y="3276000"/>
            <a:ext cx="68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ffice x Smartsuite -&gt; Retreinamento de Pessoal, Arqu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ncompatíveis (por exemplo textos, dados) [StarOffice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1480" y="41140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G x UOL -&gt; Mudança de endereço eletrônico [.forward?, bigfoot.com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800" y="472356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*.avi x *.mpeg -&gt; Novo editor/visu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75480" y="5256360"/>
            <a:ext cx="50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Custo de Troca -&gt; Omni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Takashi Yoneyama</cp:lastModifiedBy>
  <cp:lastPrinted>2000-05-03T14:19:10Z</cp:lastPrinted>
  <dcterms:modified xsi:type="dcterms:W3CDTF">2000-10-02T01:40:18Z</dcterms:modified>
  <cp:revision>129</cp:revision>
  <dc:subject/>
  <dc:title>Qualidade</dc:title>
</cp:coreProperties>
</file>