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371-9EB4-4924-914A-93D2C4DA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BFB-4A37-41CF-A7D8-E34139DD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092-EC6A-4795-A91A-9A3030BE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874-6F8E-4789-BBD0-38F0847F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2D7-ED8D-4EC3-9879-3225632F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72D-EDB1-4DA2-B4DE-6BE98503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516-F18E-4A85-ABC3-CE0479F2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F12-8F55-4887-BE6D-621A4BEE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DAB8-2B7B-487A-AD87-5B774010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901-CA6D-4AA1-A4E9-97B2B078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B14-4E80-46B3-AABE-27D6FD2A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8CF-DC76-41D7-827D-17578431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E298-297C-40B4-A516-D580EB84F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46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80080" y="609120"/>
            <a:ext cx="19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Infra-estru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97520" y="99000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Acesso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6800" y="601920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aso de Comutação de Pac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90440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037760" y="4648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857280" y="3429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409360" y="3505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48568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885480" y="2438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742480" y="3657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790600" y="4876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990000" y="4572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54308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219320" y="388584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251460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971800" y="26668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71800" y="388620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67080" y="4781520"/>
            <a:ext cx="152424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267080" y="3714840"/>
            <a:ext cx="114300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742480" y="5143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7047720" y="5486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7809840" y="4324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19920" y="5086440"/>
            <a:ext cx="100944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000840" y="4438800"/>
            <a:ext cx="1790640" cy="55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5657760" y="35431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619600" y="2438280"/>
            <a:ext cx="19051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5543640" y="2190240"/>
            <a:ext cx="572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81800" y="3753000"/>
            <a:ext cx="26640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952720" y="4800600"/>
            <a:ext cx="108576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951840" y="27813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428120" y="1714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1676160" y="1924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200240" y="2495520"/>
            <a:ext cx="704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342680" y="5410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210200" y="48769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8280" y="303192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161.24.1.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62720" y="573696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215.112.11.1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7040" y="206028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196.201.15.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197080" y="539388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196.77.15.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4600" y="13172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161.24.1.1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206480" y="39650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215.112.12.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20640" y="1907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215.112.41.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96520" y="571788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200.102.41.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02600" y="35809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196.11.151.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44680" y="30697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215.112.41.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2760" y="48416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196.77.15.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63880" y="185076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161.24.1.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11560" y="449856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196.11.15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730040" y="516528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215.112.10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15880" y="160308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215.112.41.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91960" y="310788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asual"/>
              </a:rPr>
              <a:t>215.112.41.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971800" y="365724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97520" y="99000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Acesso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90440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037760" y="4648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857280" y="3429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5409360" y="3505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48568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3885480" y="2438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742480" y="3657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5790600" y="4876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990000" y="4572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754308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1219320" y="388584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33720" y="251460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971800" y="26668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971800" y="388620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4781520"/>
            <a:ext cx="152424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267080" y="3714840"/>
            <a:ext cx="114300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742480" y="5143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7047720" y="54864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7809840" y="4324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9920" y="5086440"/>
            <a:ext cx="100944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000840" y="4438800"/>
            <a:ext cx="1790640" cy="55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657760" y="35431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5619600" y="2438280"/>
            <a:ext cx="19051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5543640" y="2190240"/>
            <a:ext cx="572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81800" y="3753000"/>
            <a:ext cx="26640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952720" y="4800600"/>
            <a:ext cx="108576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951840" y="278136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428120" y="1714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1676160" y="1924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200240" y="2495520"/>
            <a:ext cx="704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342680" y="5410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10200" y="48769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4320" y="307440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161.24.1.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386400" y="577944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215.112.11.1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" y="3429000"/>
            <a:ext cx="32400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62120" y="3429000"/>
            <a:ext cx="323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066680" y="3429000"/>
            <a:ext cx="32400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429000"/>
            <a:ext cx="324000" cy="152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971800" y="365724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6800" y="601920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aso de Comutação de Pac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97520" y="99000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Acesso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190440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037760" y="4648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857280" y="3429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409360" y="3505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48568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3885480" y="2438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742480" y="3657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5790600" y="4876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990000" y="4572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754308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1219320" y="388584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133720" y="2514600"/>
            <a:ext cx="609480" cy="1143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71800" y="26668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71800" y="388620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67080" y="4781520"/>
            <a:ext cx="152424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267080" y="3714840"/>
            <a:ext cx="114300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2742480" y="5143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7047720" y="54864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7809840" y="4324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19920" y="5086440"/>
            <a:ext cx="100944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000840" y="4438800"/>
            <a:ext cx="1790640" cy="55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657760" y="35431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5619600" y="2438280"/>
            <a:ext cx="19051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543640" y="2190240"/>
            <a:ext cx="572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81800" y="3753000"/>
            <a:ext cx="26640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952720" y="4800600"/>
            <a:ext cx="108576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951840" y="278136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1428120" y="1714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1676160" y="1924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200240" y="2495520"/>
            <a:ext cx="704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342680" y="5410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210200" y="48769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64320" y="307440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161.24.1.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386400" y="577944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215.112.11.1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43200" y="3352680"/>
            <a:ext cx="324000" cy="152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90920" y="3048120"/>
            <a:ext cx="323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38280" y="2743200"/>
            <a:ext cx="32400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0" y="2438280"/>
            <a:ext cx="324000" cy="152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971800" y="365724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6800" y="601920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aso de Comutação de Pac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97520" y="99000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Acesso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190440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4037760" y="4648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6857280" y="3429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409360" y="3505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48568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3885480" y="2438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742480" y="3657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5790600" y="4876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990000" y="4572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754308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219320" y="388584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33720" y="251460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971800" y="26668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971800" y="3886200"/>
            <a:ext cx="1066680" cy="7621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4781520"/>
            <a:ext cx="152424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4267080" y="3714840"/>
            <a:ext cx="114300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2742480" y="5143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7047720" y="54864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7809840" y="4324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5086440"/>
            <a:ext cx="100944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6000840" y="4438800"/>
            <a:ext cx="1790640" cy="55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657760" y="35431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619600" y="2438280"/>
            <a:ext cx="19051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543640" y="2190240"/>
            <a:ext cx="572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581800" y="3753000"/>
            <a:ext cx="26640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2952720" y="4800600"/>
            <a:ext cx="108576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951840" y="278136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428120" y="1714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1676160" y="1924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1200240" y="2495520"/>
            <a:ext cx="704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342680" y="5410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10200" y="48769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4320" y="307440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161.24.1.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386400" y="577944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215.112.11.1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14800" y="3429000"/>
            <a:ext cx="32400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29000" y="3505320"/>
            <a:ext cx="3240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86200" y="4343400"/>
            <a:ext cx="32400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05320" y="4038480"/>
            <a:ext cx="323640" cy="152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971800" y="3657240"/>
            <a:ext cx="243828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6800" y="601920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aso de Comutação de Pac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97520" y="99000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Acesso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90440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037760" y="4648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857280" y="3429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5409360" y="3505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548568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885480" y="2438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2742480" y="3657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790600" y="4876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990000" y="4572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754308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1219320" y="388584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51460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971800" y="26668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71800" y="3886200"/>
            <a:ext cx="1066680" cy="7621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67080" y="4781520"/>
            <a:ext cx="1524240" cy="247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4267080" y="3714840"/>
            <a:ext cx="114300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2742480" y="5143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047720" y="54864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7809840" y="4324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019920" y="5086440"/>
            <a:ext cx="100944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6000840" y="4438800"/>
            <a:ext cx="1790640" cy="55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657760" y="35431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5619600" y="2438280"/>
            <a:ext cx="19051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5543640" y="2190240"/>
            <a:ext cx="572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81800" y="3753000"/>
            <a:ext cx="266400" cy="1123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952720" y="4800600"/>
            <a:ext cx="108576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951840" y="278136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428120" y="1714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1676160" y="1924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1200240" y="2495520"/>
            <a:ext cx="704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4342680" y="5410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210200" y="48769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4320" y="307440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161.24.1.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386400" y="577944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215.112.11.1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867280" y="4419720"/>
            <a:ext cx="32400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15000" y="3886200"/>
            <a:ext cx="3240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24280" y="4572000"/>
            <a:ext cx="32400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6200" y="4267080"/>
            <a:ext cx="324000" cy="152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971800" y="365724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6800" y="601920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aso de Comutação de Pac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97520" y="99000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Acesso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190440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4037760" y="4648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6857280" y="3429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5409360" y="3505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48568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3885480" y="2438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2742480" y="3657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5790600" y="4876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990000" y="4572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754308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1219320" y="388584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133720" y="251460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971800" y="26668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971800" y="388620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67080" y="4781520"/>
            <a:ext cx="1524240" cy="247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267080" y="3714840"/>
            <a:ext cx="1143000" cy="9525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2742480" y="5143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7047720" y="54864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7809840" y="4324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19920" y="5086440"/>
            <a:ext cx="1009440" cy="3999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6000840" y="4438800"/>
            <a:ext cx="1790640" cy="55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5657760" y="35431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5619600" y="2438280"/>
            <a:ext cx="19051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543640" y="2190240"/>
            <a:ext cx="572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81800" y="3753000"/>
            <a:ext cx="266400" cy="1123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2952720" y="4800600"/>
            <a:ext cx="108576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951840" y="278136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1428120" y="1714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1676160" y="1924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200240" y="2495520"/>
            <a:ext cx="704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4342680" y="5410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10200" y="48769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64320" y="307440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161.24.1.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386400" y="577944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215.112.11.1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781680" y="5181480"/>
            <a:ext cx="324000" cy="152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943600" y="4572000"/>
            <a:ext cx="3240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34120" y="4724280"/>
            <a:ext cx="32364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48320" y="3809880"/>
            <a:ext cx="323640" cy="152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2971800" y="365724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6800" y="601920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aso de Comutação de Pac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97520" y="99000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Acesso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90440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4037760" y="4648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857280" y="3429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409360" y="3505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548568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885480" y="2438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742480" y="3657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5790600" y="4876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990000" y="4572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754308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1219320" y="388584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33720" y="251460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2971800" y="26668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971800" y="388620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267080" y="4781520"/>
            <a:ext cx="152424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267080" y="3714840"/>
            <a:ext cx="114300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2742480" y="5143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047720" y="54864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7809840" y="4324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19920" y="5086440"/>
            <a:ext cx="1009440" cy="3999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000840" y="4438800"/>
            <a:ext cx="1790640" cy="55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5657760" y="35431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5619600" y="2438280"/>
            <a:ext cx="19051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5543640" y="2190240"/>
            <a:ext cx="572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581800" y="3753000"/>
            <a:ext cx="266400" cy="1123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952720" y="4800600"/>
            <a:ext cx="108576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951840" y="278136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1428120" y="1714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>
            <a:off x="1676160" y="1924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1200240" y="2495520"/>
            <a:ext cx="704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4342680" y="5410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210200" y="48769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4320" y="307440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161.24.1.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86400" y="577944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215.112.11.1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772400" y="6095880"/>
            <a:ext cx="324000" cy="152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400800" y="5029200"/>
            <a:ext cx="3240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934320" y="5181480"/>
            <a:ext cx="32364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91320" y="4191120"/>
            <a:ext cx="323640" cy="152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2971800" y="365724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6800" y="601920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aso de Comutação de Pac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97520" y="99000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Acesso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190440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4037760" y="4648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6857280" y="3429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5409360" y="3505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548568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3885480" y="2438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2742480" y="3657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5790600" y="4876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990000" y="4572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754308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1219320" y="388584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133720" y="251460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2971800" y="26668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71800" y="388620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67080" y="4781520"/>
            <a:ext cx="152424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267080" y="3714840"/>
            <a:ext cx="114300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2742480" y="5143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7047720" y="54864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7809840" y="4324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19920" y="5086440"/>
            <a:ext cx="100944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6000840" y="4438800"/>
            <a:ext cx="1790640" cy="55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5657760" y="35431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619600" y="2438280"/>
            <a:ext cx="19051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5543640" y="2190240"/>
            <a:ext cx="572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581800" y="3753000"/>
            <a:ext cx="26640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2952720" y="4800600"/>
            <a:ext cx="108576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951840" y="278136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1428120" y="1714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1676160" y="1924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1200240" y="2495520"/>
            <a:ext cx="704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4342680" y="5410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210200" y="48769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64320" y="307440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161.24.1.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386400" y="577944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215.112.11.1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971800" y="365724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457200" y="3429000"/>
            <a:ext cx="1238400" cy="152280"/>
            <a:chOff x="457200" y="3429000"/>
            <a:chExt cx="1238400" cy="152280"/>
          </a:xfrm>
        </p:grpSpPr>
        <p:sp>
          <p:nvSpPr>
            <p:cNvPr id="743" name=""/>
            <p:cNvSpPr/>
            <p:nvPr/>
          </p:nvSpPr>
          <p:spPr>
            <a:xfrm>
              <a:off x="457200" y="3429000"/>
              <a:ext cx="324000" cy="152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62120" y="3429000"/>
              <a:ext cx="32364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066680" y="3429000"/>
              <a:ext cx="32400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71600" y="3429000"/>
              <a:ext cx="324000" cy="152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6705720" y="6172200"/>
            <a:ext cx="32364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010280" y="6172200"/>
            <a:ext cx="3240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315200" y="6172200"/>
            <a:ext cx="32400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0120" y="6172200"/>
            <a:ext cx="323640" cy="152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26800" y="601920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aso de Comutação de Pac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97520" y="99000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Acesso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25320" y="2057400"/>
            <a:ext cx="719856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No caso de ligações telefôn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Linhas ocupadas durante todo o tempo da cha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Há sentido em cobrar por tempo de ligação x distâ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67720" y="3581280"/>
            <a:ext cx="66513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No caso da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Internet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acotes ocupam janelas de tempo de várias lin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 por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volume de dados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uniforme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(flatfare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 de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congestão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 por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prioridade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 por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lance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(leilão)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480840" y="175176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9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68520" y="2743200"/>
            <a:ext cx="769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valie como diferentes formas de cobrança por servi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Internet, se adotadas, afetariam os custos da sua empre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Cobrança por volume de dados, uniforme [flatfare], p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prioridade e por lance [leilão])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6103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24280" y="913320"/>
            <a:ext cx="709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Questionário Intermediário de Avaliação Turmas B +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5440" y="1447920"/>
            <a:ext cx="699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1. Até o momento, a disciplina manteve-se dentro de seus 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 </a:t>
            </a: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iniciais, que são aqueles que constam do programa receb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2133000"/>
            <a:ext cx="74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SIM: 88%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	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EM PARTE: 8%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	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         NÃO: 0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	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      BRANCO: 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2320" y="2668680"/>
            <a:ext cx="819684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2. Até o momento ,a forma, o conteúdo e a seqüência das aulas têm propicia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- Um processo de aprendizado const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- A percepção de como os conceitos se aplicam à prática dos negó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74440" y="4074480"/>
            <a:ext cx="584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SIM: 70%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	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EM PARTE: 26%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	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         NÃO: 4%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	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6560" y="3312360"/>
            <a:ext cx="51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SIM: 85%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	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EM PARTE: 15%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	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         NÃO: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4583880"/>
            <a:ext cx="8030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3. Até o momento, o profess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- Abriu e manteve canais de diálogo com os alu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- Vem propiciando acompanhamento e retorno sobre o desenvolvim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   </a:t>
            </a: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dos alunos dentro de sua discipl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74440" y="6189120"/>
            <a:ext cx="584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SIM: 96%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	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EM PARTE: 4%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	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         NÃO: 0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	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4440" y="5160240"/>
            <a:ext cx="584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SIM: 100%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	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EM PARTE: 0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	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         NÃO: 0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	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765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655680" y="6328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Aula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Continu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650680" y="1370880"/>
            <a:ext cx="39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Registros de Domí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064160" y="2743200"/>
            <a:ext cx="6991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“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 Comitê Gestor Internet do Brasil, criado pela Porta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Interministerial MC/MCT 147/95, publicada no D.O.U.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31 de maio de 1995, delegou competência para a realiz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o serviço de registro, através da Resolução 001 de 15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bril de 1998, publicada no D.O.U. de 21 de maio de 1998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à Fundação de Amparo à Pesquisa do Estad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São Paulo...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471320" y="990000"/>
            <a:ext cx="62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egurança na Compra via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6080" y="190440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orque nunca comprou na Interne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63120" y="2497320"/>
            <a:ext cx="45921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ceio de falta de segur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fere fazer compras pessoal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ão dispõe de acesso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uer ver ou experimentar 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alta de inte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alta de tempo para pesquisas 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ceio de atraso ou erro na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ão encontrou nada que interess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638680" y="2590920"/>
            <a:ext cx="213372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638680" y="2971800"/>
            <a:ext cx="99072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638680" y="3352680"/>
            <a:ext cx="53352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638680" y="3733920"/>
            <a:ext cx="45720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4114800"/>
            <a:ext cx="38124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638680" y="4495680"/>
            <a:ext cx="22860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638680" y="4876920"/>
            <a:ext cx="15264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38680" y="5257800"/>
            <a:ext cx="15264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803360" y="2590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43,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736680" y="29710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19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279480" y="33519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11,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203160" y="3733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10,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203160" y="41140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10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40080" y="449496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4,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893920" y="487620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893920" y="525708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99520" y="6094800"/>
            <a:ext cx="56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Fonte: Júlio Lobos Consultores Associados, Exame - 19 abr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471320" y="990000"/>
            <a:ext cx="62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egurança na Compra via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96080" y="190440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orque nunca comprou na Interne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63120" y="2497320"/>
            <a:ext cx="45921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ff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Receio de falta de segur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efere fazer compras pessoal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Não dispõe de acesso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uer ver ou experimentar 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Falta de inte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Falta de tempo para pesquisas 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eceio de atraso ou erro na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Não encontrou nada que interess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638680" y="2590920"/>
            <a:ext cx="21337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638680" y="2971800"/>
            <a:ext cx="99072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638680" y="3352680"/>
            <a:ext cx="53352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638680" y="3733920"/>
            <a:ext cx="4572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638680" y="4114800"/>
            <a:ext cx="38124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638680" y="4495680"/>
            <a:ext cx="2286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638680" y="4876920"/>
            <a:ext cx="15264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638680" y="5257800"/>
            <a:ext cx="15264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803360" y="2590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43,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736680" y="29710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19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279480" y="33519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11,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203160" y="3733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10,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203160" y="41140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10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40080" y="449496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4,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893920" y="487620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893920" y="525708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99520" y="6094800"/>
            <a:ext cx="56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Fonte: Júlio Lobos Consultores Associados, Exame - 19 abr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765880" y="990000"/>
            <a:ext cx="37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egurança dos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25320" y="1905120"/>
            <a:ext cx="818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nce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Integridade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garantia de não alteração acidental ou crimi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           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de informaçõ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765880" y="990000"/>
            <a:ext cx="37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egurança dos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25320" y="1905120"/>
            <a:ext cx="8187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nce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Integridade (garantia de não alteração acidental ou crimi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         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de informaçõ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nfiabilidade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garantia de que o sistema possui desempen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                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consistente com nível de qualidade aceitá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65880" y="990000"/>
            <a:ext cx="37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egurança dos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25320" y="1905120"/>
            <a:ext cx="8187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nce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Integridade (garantia de não alteração acidental ou crimi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         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de informaçõ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onfiabilidade (garantia de que o sistema possui desempen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              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onsistente com nível de qualidade aceitá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Firewall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filtro entre a rede da empresa e o Interne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765880" y="990000"/>
            <a:ext cx="37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egurança dos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25320" y="1905120"/>
            <a:ext cx="8187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nce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Integridade (garantia de não alteração acidental ou crimi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         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de informaçõ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onfiabilidade (garantia de que o sistema possui desempen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              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onsistente com nível de qualidade aceitá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Firewall (filtro entre a rede da empresa e o Interne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Spoofing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criação de pacotes com IP falsos para ob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           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acesso a redes privadas e roubar inform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765880" y="990000"/>
            <a:ext cx="37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egurança dos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25320" y="1905120"/>
            <a:ext cx="8187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nce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Integridade (garantia de não alteração acidental ou crimi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         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de informaçõ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onfiabilidade (garantia de que o sistema possui desempen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              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onsistente com nível de qualidade aceitá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Firewall (filtro entre a rede da empresa e o Interne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poofing (criação de pacotes com IP falsos para ob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         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cesso a redes privadas e roubar inform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enial of Service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tipo de ataque a um servidor baseado 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                    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sobrecarga de serviç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765880" y="990000"/>
            <a:ext cx="37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egurança dos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25320" y="1905120"/>
            <a:ext cx="8187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nce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Integridade (garantia de não alteração acidental ou crimi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         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de informaçõ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onfiabilidade (garantia de que o sistema possui desempen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              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onsistente com nível de qualidade aceitá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Firewall (filtro entre a rede da empresa e o Interne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poofing (criação de pacotes com IP falsos para ob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         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cesso a redes privadas e roubar inform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Denial of Service (tipo de ataque a um servidor baseado 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                  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obrecarga de serviç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utentificação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processo de verificação da identidade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                 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cliente que solicita acesso ou serviç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1752480"/>
            <a:ext cx="513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ASPECTOS 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DA INFRAESTRU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23520" y="495288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rnoldo Souza Ca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akashi Yoney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962520" y="3733920"/>
            <a:ext cx="1304640" cy="916920"/>
            <a:chOff x="3962520" y="3733920"/>
            <a:chExt cx="1304640" cy="916920"/>
          </a:xfrm>
        </p:grpSpPr>
        <p:sp>
          <p:nvSpPr>
            <p:cNvPr id="67" name=""/>
            <p:cNvSpPr/>
            <p:nvPr/>
          </p:nvSpPr>
          <p:spPr>
            <a:xfrm>
              <a:off x="4290480" y="37339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59320" y="39754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62520" y="38498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197800" y="990000"/>
            <a:ext cx="48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egurança das Trans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50200" y="1905120"/>
            <a:ext cx="863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nce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Sniffer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programas que monitoram a rede e coletam informaçõ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197800" y="990000"/>
            <a:ext cx="48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egurança das Trans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50200" y="1905120"/>
            <a:ext cx="8638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nce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niffer (programas que monitoram a rede e coletam informaçõ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ivacidade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controle de acesso às informações fornecid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197800" y="990000"/>
            <a:ext cx="48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egurança das Trans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50200" y="1905120"/>
            <a:ext cx="8638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nce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niffer (programas que monitoram a rede e coletam informaçõ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ivacidade (controle de acesso às informações fornecid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utenticidade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garantia das identidades das partes que realiz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                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a transaçã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197800" y="990000"/>
            <a:ext cx="48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egurança das Trans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0200" y="1905120"/>
            <a:ext cx="8638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nce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niffer (programas que monitoram a rede e coletam informaçõ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ivacidade (controle de acesso às informações fornecid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utenticidade (garantia das identidades das partes que realiz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              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 transaçã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Blocking (mecanismo que repele intrusões não autorizad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197800" y="990000"/>
            <a:ext cx="48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egurança das Trans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0200" y="1905120"/>
            <a:ext cx="8638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nce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niffer (programas que monitoram a rede e coletam informaçõ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ivacidade (controle de acesso às informações fornecid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utenticidade (garantia das identidades das partes que realiz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              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 transaçã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Blocking (mecanismo que repele intrusões não autorizad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isponibilidade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garantia da possibilidade de prestar serviç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                 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quando solicit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197800" y="990000"/>
            <a:ext cx="48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egurança das Trans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50200" y="1905120"/>
            <a:ext cx="8638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nce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niffer (programas que monitoram a rede e coletam informaçõ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ivacidade (controle de acesso às informações fornecid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utenticidade (garantia das identidades das partes que realiz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              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 transaçã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Blocking (mecanismo que repele intrusões não autorizad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Disponibilidade (garantia da possibilidade de prestar serviç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               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quando solicit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Integridade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garantia da não alteração dos dados transmi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              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ou armazena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408480" y="175176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9.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05400" y="281952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Lucida Casual"/>
              </a:rPr>
              <a:t>Cite aspectos positivos e negativos decorr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Lucida Casual"/>
              </a:rPr>
              <a:t>da necessidade econômica de se investir 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Lucida Casual"/>
              </a:rPr>
              <a:t>segurança de re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888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005240" y="60912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Continu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528640" y="990000"/>
            <a:ext cx="41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Formas de Pag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17320" y="2057400"/>
            <a:ext cx="788868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artões de Créd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aixas eletrônicas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ATM = Automated Teller Machi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ancos eletrô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heques eletrô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Smart cards (carteiras eletrônicas = smart pur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oeda eletrônica (digital cas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pensações automatizadas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ACH = Automated Clearing Hou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21080" y="990000"/>
            <a:ext cx="77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blemas Relacionados com o Pag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13000" y="2286000"/>
            <a:ext cx="77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nveniência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depósito bancário -&gt; fax do recibo -&gt; off l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2080" y="1676520"/>
            <a:ext cx="65566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Investigar os impactos da Internet na economia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siderar mercado tradicional x eletrônic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usto de A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Valor do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brangência Geográ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isseminação das Inform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Segur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ormas de Pag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21080" y="990000"/>
            <a:ext cx="77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blemas Relacionados com o Pag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960" y="2286000"/>
            <a:ext cx="8158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onveniência (depósito bancário -&gt; fax do recibo -&gt; off l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Segurança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https pior que mandar número do cartão por fax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1080" y="990000"/>
            <a:ext cx="77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blemas Relacionados com o Pag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2960" y="2286000"/>
            <a:ext cx="81586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onveniência (depósito bancário -&gt; fax do recibo -&gt; off l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egurança (https pior que mandar número do cartão por fax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bertura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cartões -&gt; somente fornecedores conveniados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            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não suporta pagamento a indivíduos -&gt; leilões?)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21080" y="990000"/>
            <a:ext cx="77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blemas Relacionados com o Pag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72960" y="2286000"/>
            <a:ext cx="81586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onveniência (depósito bancário -&gt; fax do recibo -&gt; off l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egurança (https pior que mandar número do cartão por fax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obertura (cartões -&gt; somente fornecedores conveniados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          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não suporta pagamento a indivíduos -&gt; leilões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Qualificação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(nem todos se qualificam para possuir cart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                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restrição de renda, idade, anteceden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21080" y="990000"/>
            <a:ext cx="77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blemas Relacionados com o Pag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72960" y="2286000"/>
            <a:ext cx="81586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onveniência (depósito bancário -&gt; fax do recibo -&gt; off l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egurança (https pior que mandar número do cartão por fax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obertura (cartões -&gt; somente fornecedores conveniados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          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não suporta pagamento a indivíduos -&gt; leilões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Qualificação (nem todos se qualificam para possuir cart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              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restrição de renda, idade, anteceden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Micro-transações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viabilizado pelo baixo custo Internet)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381760" y="990000"/>
            <a:ext cx="44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brangência Geográ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24400" y="1958760"/>
            <a:ext cx="46123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m princípio, global e instantâ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22240" y="2592360"/>
            <a:ext cx="63709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oble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Conversão de câ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Línguas diferentes (inclusive alfabe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Costumes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Fenômeno do fuso horário (bolsa de val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Política inter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Tarifas alfandegá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Distrib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Impuni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50000" y="913680"/>
            <a:ext cx="28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tern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74280" y="1801440"/>
            <a:ext cx="680976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xtern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feito social que emana de uma atividade econômica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ão visava explicitamente tal efe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60760" y="3174840"/>
            <a:ext cx="7386120" cy="10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x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tividade: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Exploração intensa da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feito: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Segurados do INSS podem marcar consulta via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22600" y="4308480"/>
            <a:ext cx="69516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tividade: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isponibilização de software na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feito: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Educação de crianças usando versões demo ou b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96240" y="5052960"/>
            <a:ext cx="78854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tividade: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Aumento no número de terminais bancários eletrô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feito: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Classes menos favorecidas podem usar moeda eletrôn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80560" y="5754600"/>
            <a:ext cx="59702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tividade: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Shopping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feito: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Geração de empregos no setor de logís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50000" y="913680"/>
            <a:ext cx="28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tern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34880" y="1856520"/>
            <a:ext cx="63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lgumas externalidades podem ser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indesejáve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6600" y="2525760"/>
            <a:ext cx="8103600" cy="10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x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tividade: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romoção de jogos eletrônicos na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feito: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Congestão da rede, redução de atividades esportivas e soci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240" y="3646440"/>
            <a:ext cx="72396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tividade: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Automação bancária baseado em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feito: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Redução no número de postos de trabalho em banc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37200" y="4346640"/>
            <a:ext cx="7290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tividade: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Ampla liberdade de expressão na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feito: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pornografia infantil,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drogas ilícitas, tráfico de anima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99400" y="5033880"/>
            <a:ext cx="6453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tividade: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Venda de remédios pela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feito: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Aumento de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auto-medicação, disputas judici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971640" y="1676520"/>
            <a:ext cx="4676400" cy="39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Lucida Casual"/>
              </a:rPr>
              <a:t>Recapit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usto de A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Valor do 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brangência Geográ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isseminação das Inform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Formas de Pag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309120" y="144720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9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25040" y="2514600"/>
            <a:ext cx="78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Cite pelo menos 1 vantagem e 1 desvantagem, em term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econômicos, das seguintes formas de pagamento eletrôn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212840" y="3581280"/>
            <a:ext cx="6267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Cartões de Créd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Cartões eletrônicos (com chips, criptografa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Micropaga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Moeda eletrônica (digital ca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934000" y="294696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Obrigado Pela Atençã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336760" y="2251080"/>
            <a:ext cx="4978440" cy="1976400"/>
          </a:xfrm>
          <a:prstGeom prst="cloudCallout">
            <a:avLst>
              <a:gd name="adj1" fmla="val -58865"/>
              <a:gd name="adj2" fmla="val 137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95216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952160" y="2590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952160" y="2895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952160" y="3200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952160" y="3505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952160" y="3809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885840" y="2362320"/>
            <a:ext cx="1066680" cy="1523880"/>
            <a:chOff x="3885840" y="2362320"/>
            <a:chExt cx="1066680" cy="1523880"/>
          </a:xfrm>
        </p:grpSpPr>
        <p:sp>
          <p:nvSpPr>
            <p:cNvPr id="83" name=""/>
            <p:cNvSpPr/>
            <p:nvPr/>
          </p:nvSpPr>
          <p:spPr>
            <a:xfrm flipH="1">
              <a:off x="3885840" y="23623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3885840" y="26668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885840" y="29718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3885840" y="32767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885840" y="35812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885840" y="38862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97520" y="99000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Acesso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08588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085880" y="2590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085880" y="2895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085880" y="3200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085880" y="3505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085880" y="3809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019560" y="2362320"/>
            <a:ext cx="1066680" cy="1523880"/>
            <a:chOff x="6019560" y="2362320"/>
            <a:chExt cx="1066680" cy="1523880"/>
          </a:xfrm>
        </p:grpSpPr>
        <p:sp>
          <p:nvSpPr>
            <p:cNvPr id="103" name=""/>
            <p:cNvSpPr/>
            <p:nvPr/>
          </p:nvSpPr>
          <p:spPr>
            <a:xfrm flipH="1">
              <a:off x="6019560" y="23623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019560" y="26668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019560" y="29718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019560" y="32767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019560" y="35812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019560" y="38862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70572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51055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54100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66616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666160" y="2590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666160" y="2895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66160" y="3200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666160" y="3505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666160" y="3809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599840" y="2362320"/>
            <a:ext cx="1066680" cy="1523880"/>
            <a:chOff x="1599840" y="2362320"/>
            <a:chExt cx="1066680" cy="1523880"/>
          </a:xfrm>
        </p:grpSpPr>
        <p:sp>
          <p:nvSpPr>
            <p:cNvPr id="120" name=""/>
            <p:cNvSpPr/>
            <p:nvPr/>
          </p:nvSpPr>
          <p:spPr>
            <a:xfrm flipH="1">
              <a:off x="1599840" y="23623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599840" y="26668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599840" y="29718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99840" y="32767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599840" y="35812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599840" y="38862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28600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57150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99560" y="17517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Ár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85560" y="17517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Ár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9280" y="17517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Áre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82240" y="2208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2240" y="2513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2240" y="2818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82240" y="3123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82240" y="342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82240" y="3733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68240" y="2208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68240" y="2513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8240" y="2818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68240" y="3123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68240" y="342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68240" y="3733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01600" y="2208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01600" y="2513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01600" y="2818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01600" y="3123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01600" y="342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01600" y="3733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9680" y="601920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aso de LigaçãoTelefô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H="1">
            <a:off x="495216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952160" y="2590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952160" y="2895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952160" y="3200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952160" y="35053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952160" y="3809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885840" y="2362320"/>
            <a:ext cx="1066680" cy="1523880"/>
            <a:chOff x="3885840" y="2362320"/>
            <a:chExt cx="1066680" cy="1523880"/>
          </a:xfrm>
        </p:grpSpPr>
        <p:sp>
          <p:nvSpPr>
            <p:cNvPr id="157" name=""/>
            <p:cNvSpPr/>
            <p:nvPr/>
          </p:nvSpPr>
          <p:spPr>
            <a:xfrm flipH="1">
              <a:off x="3885840" y="23623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885840" y="26668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885840" y="29718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885840" y="32767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885840" y="35812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885840" y="38862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7520" y="99000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Acesso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08588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085880" y="2590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085880" y="2895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085880" y="3200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085880" y="3505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085880" y="3809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019560" y="2362320"/>
            <a:ext cx="1066680" cy="1523880"/>
            <a:chOff x="6019560" y="2362320"/>
            <a:chExt cx="1066680" cy="1523880"/>
          </a:xfrm>
        </p:grpSpPr>
        <p:sp>
          <p:nvSpPr>
            <p:cNvPr id="177" name=""/>
            <p:cNvSpPr/>
            <p:nvPr/>
          </p:nvSpPr>
          <p:spPr>
            <a:xfrm flipH="1">
              <a:off x="6019560" y="23623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019560" y="26668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019560" y="29718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019560" y="32767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019560" y="35812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019560" y="38862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70572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51055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54100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66616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666160" y="25909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666160" y="2895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666160" y="3200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666160" y="3505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666160" y="3809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599840" y="2362320"/>
            <a:ext cx="1066680" cy="1523880"/>
            <a:chOff x="1599840" y="2362320"/>
            <a:chExt cx="1066680" cy="1523880"/>
          </a:xfrm>
        </p:grpSpPr>
        <p:sp>
          <p:nvSpPr>
            <p:cNvPr id="194" name=""/>
            <p:cNvSpPr/>
            <p:nvPr/>
          </p:nvSpPr>
          <p:spPr>
            <a:xfrm flipH="1">
              <a:off x="1599840" y="23623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599840" y="26668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1599840" y="29718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599840" y="32767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599840" y="35812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599840" y="38862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28600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3880" y="57150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99560" y="17517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Ár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85560" y="17517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Ár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19280" y="17517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Áre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2240" y="2208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82240" y="2513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82240" y="2818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82240" y="3123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82240" y="342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82240" y="3733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68240" y="2208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68240" y="2513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68240" y="2818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68240" y="3123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68240" y="342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68240" y="3733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01600" y="2208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01600" y="2513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01600" y="2818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01600" y="3123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01600" y="342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01600" y="3733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9680" y="601920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aso de LigaçãoTelefô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 flipH="1">
            <a:off x="495216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952160" y="2590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952160" y="2895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952160" y="3200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952160" y="35053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952160" y="3809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885840" y="23623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885840" y="26668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885840" y="29718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885840" y="32767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885840" y="358128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885840" y="38862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97520" y="99000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Acesso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2133720"/>
            <a:ext cx="0" cy="380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0080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08588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085880" y="2590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085880" y="2895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7085880" y="3200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085880" y="3505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085880" y="3809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019560" y="2362320"/>
            <a:ext cx="1066680" cy="1523880"/>
            <a:chOff x="6019560" y="2362320"/>
            <a:chExt cx="1066680" cy="1523880"/>
          </a:xfrm>
        </p:grpSpPr>
        <p:sp>
          <p:nvSpPr>
            <p:cNvPr id="250" name=""/>
            <p:cNvSpPr/>
            <p:nvPr/>
          </p:nvSpPr>
          <p:spPr>
            <a:xfrm flipH="1">
              <a:off x="6019560" y="23623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019560" y="26668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019560" y="29718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019560" y="32767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019560" y="35812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019560" y="38862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70572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5105520"/>
            <a:ext cx="5410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54100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5029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3505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1080" y="2133720"/>
            <a:ext cx="0" cy="380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66616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666160" y="25909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666160" y="2895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666160" y="3200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666160" y="3505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666160" y="3809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599840" y="23623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599840" y="266688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599840" y="29718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599840" y="32767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599840" y="35812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599840" y="38862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05120" y="5029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259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57150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99560" y="17517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Ár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85560" y="17517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Ár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19280" y="17517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Áre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82240" y="2208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2240" y="2513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82240" y="2818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82240" y="3123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82240" y="342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82240" y="3733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68240" y="2208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68240" y="2513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68240" y="2818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68240" y="3123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68240" y="342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68240" y="3733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01600" y="2208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01600" y="2513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01600" y="2818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01600" y="3123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01600" y="342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01600" y="3733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9680" y="601920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aso de LigaçãoTelefô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H="1">
            <a:off x="495216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952160" y="259092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952160" y="2895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952160" y="3200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952160" y="35053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952160" y="3809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885840" y="23623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885840" y="2666880"/>
            <a:ext cx="1066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885840" y="29718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3885840" y="32767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885840" y="358128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885840" y="38862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97520" y="99000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Acesso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2133720"/>
            <a:ext cx="0" cy="3809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67080" y="2133720"/>
            <a:ext cx="0" cy="380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0080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08588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7085880" y="2590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085880" y="2895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085880" y="3200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7085880" y="3505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7085880" y="380988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019560" y="23623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019560" y="26668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019560" y="29718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019560" y="32767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6019560" y="35812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019560" y="3886200"/>
            <a:ext cx="1066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05720" y="2133720"/>
            <a:ext cx="0" cy="3809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00200" y="5105520"/>
            <a:ext cx="5410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00200" y="5410080"/>
            <a:ext cx="5410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95680" y="25909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5029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29400" y="53341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91120" y="3505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81080" y="2133720"/>
            <a:ext cx="0" cy="380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666160" y="2286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666160" y="25909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666160" y="2895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666160" y="3200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666160" y="3505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666160" y="3809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599840" y="23623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599840" y="266688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1599840" y="29718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599840" y="32767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1599840" y="35812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599840" y="38862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5120" y="5029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95680" y="53341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05120" y="259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29400" y="38098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3880" y="57150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99560" y="17517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Ár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85560" y="17517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Ár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19280" y="17517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Áre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82240" y="2208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2240" y="2513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82240" y="2818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82240" y="3123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82240" y="342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82240" y="3733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68240" y="2208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68240" y="2513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68240" y="2818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240" y="3123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68240" y="342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68240" y="3733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01600" y="2208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401600" y="2513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01600" y="2818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401600" y="3123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401600" y="342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401600" y="3733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09680" y="601920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aso de LigaçãoTelefô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91520" y="4800600"/>
            <a:ext cx="1371600" cy="1295280"/>
          </a:xfrm>
          <a:prstGeom prst="wedgeRoundRectCallout">
            <a:avLst>
              <a:gd name="adj1" fmla="val -72222"/>
              <a:gd name="adj2" fmla="val -27328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Ocup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Fís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as lin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97520" y="99000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Acesso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5320" y="2057400"/>
            <a:ext cx="7198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No caso de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ligações telefônicas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Linhas ocupadas durante todo o tempo da cha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Há sentido em cobrar por tempo de ligação x distâ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Elena Yoshie Sato Yoneyama</cp:lastModifiedBy>
  <cp:lastPrinted>2000-05-03T14:19:10Z</cp:lastPrinted>
  <dcterms:modified xsi:type="dcterms:W3CDTF">2003-04-24T23:52:10Z</dcterms:modified>
  <cp:revision>143</cp:revision>
  <dc:subject/>
  <dc:title>Internet</dc:title>
</cp:coreProperties>
</file>