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E517-204A-4087-9424-A8C04E408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7C2E-295F-4A3E-86D6-DE882A792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530E-B2BF-4909-BB13-B1A9305C5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7422-DE18-4A89-AB7A-3B0453144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4B91-53A9-4117-AF0A-B07C3CCEE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2559-0A3C-4622-B670-67C52ADA0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5A47-2E9E-4146-B122-3793A81AD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8999-47BD-4A49-BA23-40F2AA252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C5E1-F76C-4878-89F6-D160AF86F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A374-3CEA-4934-B6DE-067F56196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83FC-22E2-4DFF-B429-B3FEADEA7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C034-57B1-408F-874D-D6239BA2D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FAEB8-A937-41EB-86CD-F97D950C5B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094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762120" y="990720"/>
            <a:ext cx="1304640" cy="916920"/>
            <a:chOff x="762120" y="990720"/>
            <a:chExt cx="1304640" cy="916920"/>
          </a:xfrm>
        </p:grpSpPr>
        <p:sp>
          <p:nvSpPr>
            <p:cNvPr id="46" name=""/>
            <p:cNvSpPr/>
            <p:nvPr/>
          </p:nvSpPr>
          <p:spPr>
            <a:xfrm>
              <a:off x="1090080" y="990720"/>
              <a:ext cx="613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5400" spc="-1" strike="noStrike">
                  <a:solidFill>
                    <a:srgbClr val="ff6600"/>
                  </a:solidFill>
                  <a:latin typeface="Lucida Casual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258920" y="123228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6600"/>
                  </a:solidFill>
                  <a:latin typeface="Lucida Casu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62120" y="1106640"/>
              <a:ext cx="1304640" cy="619200"/>
            </a:xfrm>
            <a:prstGeom prst="ellipse">
              <a:avLst/>
            </a:prstGeom>
            <a:noFill/>
            <a:ln w="9360">
              <a:solidFill>
                <a:srgbClr val="ff6600"/>
              </a:solidFill>
              <a:miter/>
            </a:ln>
            <a:effectLst>
              <a:outerShdw dist="153753" dir="2700000" blurRad="0" rotWithShape="0">
                <a:srgbClr val="983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774000" y="38016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66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816880" y="474480"/>
            <a:ext cx="273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Lucida Casual"/>
              </a:rPr>
              <a:t>Aula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Lucida Casual"/>
              </a:rPr>
              <a:t>Alterações 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Lucida Casual"/>
              </a:rPr>
              <a:t>Condições de Mer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12160" y="6027120"/>
            <a:ext cx="420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Lucida Casual"/>
              </a:rPr>
              <a:t>http://www.ele.ita.cta.br/~takash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48520" y="1371600"/>
            <a:ext cx="7524360" cy="23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Lucida Casual"/>
              </a:rPr>
              <a:t>De modo ger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Simplificaçã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análise de preços e quant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demais variáveis assumidas fixas (condição </a:t>
            </a:r>
            <a:r>
              <a:rPr b="1" i="1" lang="pt-BR" sz="1800" spc="-1" strike="noStrike">
                <a:solidFill>
                  <a:srgbClr val="808080"/>
                </a:solidFill>
                <a:latin typeface="Lucida Casual"/>
              </a:rPr>
              <a:t>ceteris paribus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Mas, na realidad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demanda = função(preços, renda, prestígio, preferências,..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000" y="4209480"/>
            <a:ext cx="5337360" cy="916920"/>
          </a:xfrm>
          <a:solidFill>
            <a:srgbClr val="ffcc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Moda -&gt; Altera preferência -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Mantido o preço, bens que acompanham a moda vendem ma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94520" y="1371600"/>
            <a:ext cx="7480440" cy="23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Lucida Casual"/>
              </a:rPr>
              <a:t>De modo ger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Simplificaçã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análise de preços e quant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demais variáveis assumidas fixas (condição </a:t>
            </a:r>
            <a:r>
              <a:rPr b="1" i="1" lang="pt-BR" sz="1800" spc="-1" strike="noStrike">
                <a:solidFill>
                  <a:srgbClr val="808080"/>
                </a:solidFill>
                <a:latin typeface="Lucida Casual"/>
              </a:rPr>
              <a:t>ceteris paribus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Mas, na realidad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oferta = função(preços, tecnologia, clima, normas,..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69840" y="4101480"/>
            <a:ext cx="3114720" cy="916920"/>
          </a:xfrm>
          <a:solidFill>
            <a:srgbClr val="ffcc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Avanço tecnológico -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Custos menores -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Produtos mais bara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94520" y="1371600"/>
            <a:ext cx="7480440" cy="23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Lucida Casual"/>
              </a:rPr>
              <a:t>De modo ger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Simplificaçã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análise de preços e quant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demais variáveis assumidas fixas (condição </a:t>
            </a:r>
            <a:r>
              <a:rPr b="1" i="1" lang="pt-BR" sz="1800" spc="-1" strike="noStrike">
                <a:solidFill>
                  <a:srgbClr val="808080"/>
                </a:solidFill>
                <a:latin typeface="Lucida Casual"/>
              </a:rPr>
              <a:t>ceteris paribus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Mas, na realidad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oferta = função(preços, tecnologia, clima, normas,..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17600" y="4193640"/>
            <a:ext cx="4695840" cy="642600"/>
          </a:xfrm>
          <a:solidFill>
            <a:srgbClr val="ffcc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Seca -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Mantida a demanda, os preços sob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94520" y="1371600"/>
            <a:ext cx="7480440" cy="23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Lucida Casual"/>
              </a:rPr>
              <a:t>De modo ger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Simplificaçã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análise de preços e quant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demais variáveis assumidas fixas (condição </a:t>
            </a:r>
            <a:r>
              <a:rPr b="1" i="1" lang="pt-BR" sz="1800" spc="-1" strike="noStrike">
                <a:solidFill>
                  <a:srgbClr val="808080"/>
                </a:solidFill>
                <a:latin typeface="Lucida Casual"/>
              </a:rPr>
              <a:t>ceteris paribus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Mas, na realidad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oferta = função(preços, tecnologia, clima, normas,..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052640" y="4241160"/>
            <a:ext cx="4886280" cy="916920"/>
          </a:xfrm>
          <a:solidFill>
            <a:srgbClr val="ffcc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Segurança, poluição, homologação -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Aumento de custo -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Mantida a demanda, o preço aume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18120" y="969120"/>
            <a:ext cx="239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Exercício 5.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83320" y="1807200"/>
            <a:ext cx="871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Lucida Casual"/>
              </a:rPr>
              <a:t>Indicar se são bens substitutivos, complementares ou indiferent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477080" y="2546280"/>
            <a:ext cx="62978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Windows x Lin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TV pago x TV aber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Micro-Computador x Acesso 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Placa de MODEM x Brow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Netscape x Explor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PDA (Personal Digital Assistant) x Micro-Comput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Caixa Automática de Banco x Acesso 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Jornal Eletrônico x Jornal em Pap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Receptor de TV x Acesso 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762120" y="990720"/>
            <a:ext cx="1304640" cy="916920"/>
            <a:chOff x="762120" y="990720"/>
            <a:chExt cx="1304640" cy="916920"/>
          </a:xfrm>
        </p:grpSpPr>
        <p:sp>
          <p:nvSpPr>
            <p:cNvPr id="185" name=""/>
            <p:cNvSpPr/>
            <p:nvPr/>
          </p:nvSpPr>
          <p:spPr>
            <a:xfrm>
              <a:off x="1090080" y="990720"/>
              <a:ext cx="613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5400" spc="-1" strike="noStrike">
                  <a:solidFill>
                    <a:srgbClr val="ff6600"/>
                  </a:solidFill>
                  <a:latin typeface="Lucida Casual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258920" y="123228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6600"/>
                  </a:solidFill>
                  <a:latin typeface="Lucida Casu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62120" y="1106640"/>
              <a:ext cx="1304640" cy="619200"/>
            </a:xfrm>
            <a:prstGeom prst="ellipse">
              <a:avLst/>
            </a:prstGeom>
            <a:noFill/>
            <a:ln w="9360">
              <a:solidFill>
                <a:srgbClr val="ff6600"/>
              </a:solidFill>
              <a:miter/>
            </a:ln>
            <a:effectLst>
              <a:outerShdw dist="153753" dir="2700000" blurRad="0" rotWithShape="0">
                <a:srgbClr val="983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774000" y="38016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66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27320" y="913680"/>
            <a:ext cx="463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Elasticidade da Dema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1676520" y="2057040"/>
            <a:ext cx="1440" cy="297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371600" y="4724280"/>
            <a:ext cx="274320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209680" y="2438280"/>
            <a:ext cx="990720" cy="1828800"/>
          </a:xfrm>
          <a:custGeom>
            <a:avLst/>
            <a:gdLst/>
            <a:ahLst/>
            <a:rect l="l" t="t" r="r" b="b"/>
            <a:pathLst>
              <a:path w="768" h="1248">
                <a:moveTo>
                  <a:pt x="0" y="0"/>
                </a:moveTo>
                <a:cubicBezTo>
                  <a:pt x="56" y="256"/>
                  <a:pt x="112" y="512"/>
                  <a:pt x="240" y="720"/>
                </a:cubicBezTo>
                <a:cubicBezTo>
                  <a:pt x="368" y="928"/>
                  <a:pt x="672" y="1152"/>
                  <a:pt x="768" y="124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67280" y="3505320"/>
            <a:ext cx="1676520" cy="304560"/>
          </a:xfrm>
          <a:custGeom>
            <a:avLst/>
            <a:gdLst/>
            <a:ahLst/>
            <a:rect l="l" t="t" r="r" b="b"/>
            <a:pathLst>
              <a:path w="1164" h="240">
                <a:moveTo>
                  <a:pt x="0" y="0"/>
                </a:moveTo>
                <a:cubicBezTo>
                  <a:pt x="84" y="28"/>
                  <a:pt x="310" y="128"/>
                  <a:pt x="504" y="168"/>
                </a:cubicBezTo>
                <a:cubicBezTo>
                  <a:pt x="698" y="208"/>
                  <a:pt x="1027" y="225"/>
                  <a:pt x="1164" y="24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16200000">
            <a:off x="915120" y="325512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012760" y="479988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5486400" y="2057040"/>
            <a:ext cx="1440" cy="297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181480" y="4724280"/>
            <a:ext cx="274320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rot="16200000">
            <a:off x="4725000" y="325512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823000" y="479988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548320" y="159948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Microcomput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030760" y="1599480"/>
            <a:ext cx="94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Vac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137680" y="5562000"/>
            <a:ext cx="48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Vacina: pequeno </a:t>
            </a:r>
            <a:r>
              <a:rPr b="1" lang="pt-BR" sz="18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q mesmo se </a:t>
            </a:r>
            <a:r>
              <a:rPr b="1" lang="pt-BR" sz="18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p gra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282320" y="5866560"/>
            <a:ext cx="66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Microcomputador: mesmo </a:t>
            </a:r>
            <a:r>
              <a:rPr b="1" lang="pt-BR" sz="1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p pequeno causa grande </a:t>
            </a:r>
            <a:r>
              <a:rPr b="1" lang="pt-BR" sz="1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q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85880" y="913680"/>
            <a:ext cx="572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Elasticidade Preço da Dema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1143000" y="1980720"/>
            <a:ext cx="0" cy="3124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38080" y="4800600"/>
            <a:ext cx="3505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rot="16200000">
            <a:off x="345960" y="3161520"/>
            <a:ext cx="89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Lucida Casual"/>
              </a:rPr>
              <a:t>Preç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853280" y="4952160"/>
            <a:ext cx="168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Lucida Casual"/>
              </a:rPr>
              <a:t>Quant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447920" y="2438280"/>
            <a:ext cx="2438280" cy="1752840"/>
          </a:xfrm>
          <a:custGeom>
            <a:avLst/>
            <a:gdLst/>
            <a:ahLst/>
            <a:rect l="l" t="t" r="r" b="b"/>
            <a:pathLst>
              <a:path w="1536" h="1104">
                <a:moveTo>
                  <a:pt x="0" y="0"/>
                </a:moveTo>
                <a:cubicBezTo>
                  <a:pt x="76" y="208"/>
                  <a:pt x="152" y="416"/>
                  <a:pt x="288" y="576"/>
                </a:cubicBezTo>
                <a:cubicBezTo>
                  <a:pt x="424" y="736"/>
                  <a:pt x="608" y="872"/>
                  <a:pt x="816" y="960"/>
                </a:cubicBezTo>
                <a:cubicBezTo>
                  <a:pt x="1024" y="1048"/>
                  <a:pt x="1416" y="1080"/>
                  <a:pt x="1536" y="1104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670480" y="3504240"/>
            <a:ext cx="56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Symbol"/>
                <a:ea typeface="Symbol"/>
              </a:rPr>
              <a:t></a:t>
            </a:r>
            <a:r>
              <a:rPr b="1" lang="pt-BR" sz="2400" spc="-1" strike="noStrike">
                <a:solidFill>
                  <a:srgbClr val="008000"/>
                </a:solidFill>
                <a:latin typeface="Lucida Casu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906200" y="2589840"/>
            <a:ext cx="56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pt-BR" sz="2400" spc="-1" strike="noStrike">
                <a:solidFill>
                  <a:srgbClr val="ff0000"/>
                </a:solidFill>
                <a:latin typeface="Lucida Casu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76520" y="3048120"/>
            <a:ext cx="990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666880" y="3048120"/>
            <a:ext cx="0" cy="16002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676520" y="3048120"/>
            <a:ext cx="990360" cy="16002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524480" y="3047400"/>
            <a:ext cx="35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Variação Percentual de 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06840" y="3398040"/>
            <a:ext cx="4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Symbol"/>
                <a:ea typeface="Symbol"/>
              </a:rPr>
              <a:t>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10080" y="3809880"/>
            <a:ext cx="4572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477040" y="38091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976000" y="3580560"/>
            <a:ext cx="11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(x 100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497120" y="1751760"/>
            <a:ext cx="42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Variação Percentual da Quant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406840" y="2102760"/>
            <a:ext cx="4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410080" y="251460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477040" y="251388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976000" y="2285280"/>
            <a:ext cx="11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(x 100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30960" y="4206240"/>
            <a:ext cx="37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Elasticidade Preço da Deman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765680" y="5257080"/>
            <a:ext cx="56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e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261040" y="5442120"/>
            <a:ext cx="1801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406840" y="4617360"/>
            <a:ext cx="4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410080" y="502920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477040" y="502848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976000" y="4799880"/>
            <a:ext cx="11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(x 100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06840" y="5455440"/>
            <a:ext cx="4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Symbol"/>
                <a:ea typeface="Symbol"/>
              </a:rPr>
              <a:t>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10080" y="5867280"/>
            <a:ext cx="4572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477040" y="58665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976000" y="5637960"/>
            <a:ext cx="11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(x 100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102080" y="52585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416720" y="5442120"/>
            <a:ext cx="76536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435800" y="5029920"/>
            <a:ext cx="4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21720" y="54252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449840" y="5434920"/>
            <a:ext cx="4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Symbol"/>
                <a:ea typeface="Symbol"/>
              </a:rPr>
              <a:t>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823520" y="50220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2673360" y="2172960"/>
            <a:ext cx="1440" cy="297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368440" y="4840200"/>
            <a:ext cx="274320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206880" y="2554200"/>
            <a:ext cx="990360" cy="1828800"/>
          </a:xfrm>
          <a:custGeom>
            <a:avLst/>
            <a:gdLst/>
            <a:ahLst/>
            <a:rect l="l" t="t" r="r" b="b"/>
            <a:pathLst>
              <a:path w="768" h="1248">
                <a:moveTo>
                  <a:pt x="0" y="0"/>
                </a:moveTo>
                <a:cubicBezTo>
                  <a:pt x="56" y="256"/>
                  <a:pt x="112" y="512"/>
                  <a:pt x="240" y="720"/>
                </a:cubicBezTo>
                <a:cubicBezTo>
                  <a:pt x="368" y="928"/>
                  <a:pt x="672" y="1152"/>
                  <a:pt x="768" y="1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rot="16200000">
            <a:off x="1911960" y="337104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009960" y="491580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27600" y="1715400"/>
            <a:ext cx="94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Vac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513880" y="5576040"/>
            <a:ext cx="48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Vacina: pequeno </a:t>
            </a:r>
            <a:r>
              <a:rPr b="1" lang="pt-BR" sz="18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q mesmo se </a:t>
            </a:r>
            <a:r>
              <a:rPr b="1" lang="pt-BR" sz="18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p gra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5113440" y="3099600"/>
            <a:ext cx="1252080" cy="780840"/>
            <a:chOff x="5113440" y="3099600"/>
            <a:chExt cx="1252080" cy="780840"/>
          </a:xfrm>
        </p:grpSpPr>
        <p:sp>
          <p:nvSpPr>
            <p:cNvPr id="259" name=""/>
            <p:cNvSpPr/>
            <p:nvPr/>
          </p:nvSpPr>
          <p:spPr>
            <a:xfrm>
              <a:off x="5113440" y="3350160"/>
              <a:ext cx="56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3333cc"/>
                  </a:solidFill>
                  <a:latin typeface="Lucida Casual"/>
                </a:rPr>
                <a:t>e =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0" name=""/>
            <p:cNvGrpSpPr/>
            <p:nvPr/>
          </p:nvGrpSpPr>
          <p:grpSpPr>
            <a:xfrm>
              <a:off x="5600520" y="3099600"/>
              <a:ext cx="765000" cy="780840"/>
              <a:chOff x="5600520" y="3099600"/>
              <a:chExt cx="765000" cy="780840"/>
            </a:xfrm>
          </p:grpSpPr>
          <p:sp>
            <p:nvSpPr>
              <p:cNvPr id="261" name=""/>
              <p:cNvSpPr/>
              <p:nvPr/>
            </p:nvSpPr>
            <p:spPr>
              <a:xfrm>
                <a:off x="5600520" y="3519360"/>
                <a:ext cx="76500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619600" y="3107520"/>
                <a:ext cx="46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</a:t>
                </a:r>
                <a:r>
                  <a:rPr b="1" lang="pt-BR" sz="1800" spc="-1" strike="noStrike">
                    <a:solidFill>
                      <a:srgbClr val="ff0000"/>
                    </a:solidFill>
                    <a:latin typeface="Lucida Casual"/>
                  </a:rPr>
                  <a:t>q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6005160" y="3502800"/>
                <a:ext cx="32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ff0000"/>
                    </a:solidFill>
                    <a:latin typeface="Lucida Casual"/>
                  </a:rPr>
                  <a:t>q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633640" y="3512160"/>
                <a:ext cx="46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8000"/>
                    </a:solidFill>
                    <a:latin typeface="Symbol"/>
                    <a:ea typeface="Symbol"/>
                  </a:rPr>
                  <a:t></a:t>
                </a:r>
                <a:r>
                  <a:rPr b="1" lang="pt-BR" sz="1800" spc="-1" strike="noStrike">
                    <a:solidFill>
                      <a:srgbClr val="008000"/>
                    </a:solidFill>
                    <a:latin typeface="Lucida Casual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006960" y="3099600"/>
                <a:ext cx="32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8000"/>
                    </a:solidFill>
                    <a:latin typeface="Lucida Casual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6" name=""/>
          <p:cNvSpPr/>
          <p:nvPr/>
        </p:nvSpPr>
        <p:spPr>
          <a:xfrm>
            <a:off x="3838680" y="3548520"/>
            <a:ext cx="56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Symbol"/>
                <a:ea typeface="Symbol"/>
              </a:rPr>
              <a:t></a:t>
            </a:r>
            <a:r>
              <a:rPr b="1" lang="pt-BR" sz="2400" spc="-1" strike="noStrike">
                <a:solidFill>
                  <a:srgbClr val="008000"/>
                </a:solidFill>
                <a:latin typeface="Lucida Casu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318840" y="2561040"/>
            <a:ext cx="56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pt-BR" sz="2400" spc="-1" strike="noStrike">
                <a:solidFill>
                  <a:srgbClr val="ff0000"/>
                </a:solidFill>
                <a:latin typeface="Lucida Casu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292560" y="3033720"/>
            <a:ext cx="530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07000" y="3019320"/>
            <a:ext cx="0" cy="171612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292560" y="3033720"/>
            <a:ext cx="500040" cy="167148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364800" y="333936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Symbol"/>
                <a:ea typeface="Symbol"/>
              </a:rPr>
              <a:t>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 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Peque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685880" y="913680"/>
            <a:ext cx="572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Elasticidade Preço da Dema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2455920" y="2130120"/>
            <a:ext cx="1440" cy="297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151000" y="4797360"/>
            <a:ext cx="274320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523960" y="3392640"/>
            <a:ext cx="2078280" cy="649080"/>
          </a:xfrm>
          <a:custGeom>
            <a:avLst/>
            <a:gdLst/>
            <a:ahLst/>
            <a:rect l="l" t="t" r="r" b="b"/>
            <a:pathLst>
              <a:path w="1309" h="409">
                <a:moveTo>
                  <a:pt x="0" y="0"/>
                </a:moveTo>
                <a:cubicBezTo>
                  <a:pt x="67" y="30"/>
                  <a:pt x="178" y="115"/>
                  <a:pt x="396" y="183"/>
                </a:cubicBezTo>
                <a:cubicBezTo>
                  <a:pt x="614" y="251"/>
                  <a:pt x="1119" y="362"/>
                  <a:pt x="1309" y="409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rot="16200000">
            <a:off x="1694520" y="332820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792160" y="487296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810160" y="1672560"/>
            <a:ext cx="94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Vac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127840" y="2867760"/>
            <a:ext cx="1252080" cy="780840"/>
            <a:chOff x="5127840" y="2867760"/>
            <a:chExt cx="1252080" cy="780840"/>
          </a:xfrm>
        </p:grpSpPr>
        <p:sp>
          <p:nvSpPr>
            <p:cNvPr id="283" name=""/>
            <p:cNvSpPr/>
            <p:nvPr/>
          </p:nvSpPr>
          <p:spPr>
            <a:xfrm>
              <a:off x="5127840" y="3118320"/>
              <a:ext cx="56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3333cc"/>
                  </a:solidFill>
                  <a:latin typeface="Lucida Casual"/>
                </a:rPr>
                <a:t>e =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4" name=""/>
            <p:cNvGrpSpPr/>
            <p:nvPr/>
          </p:nvGrpSpPr>
          <p:grpSpPr>
            <a:xfrm>
              <a:off x="5614920" y="2867760"/>
              <a:ext cx="765000" cy="780840"/>
              <a:chOff x="5614920" y="2867760"/>
              <a:chExt cx="765000" cy="780840"/>
            </a:xfrm>
          </p:grpSpPr>
          <p:sp>
            <p:nvSpPr>
              <p:cNvPr id="285" name=""/>
              <p:cNvSpPr/>
              <p:nvPr/>
            </p:nvSpPr>
            <p:spPr>
              <a:xfrm>
                <a:off x="5614920" y="3287520"/>
                <a:ext cx="76500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634000" y="2875680"/>
                <a:ext cx="46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</a:t>
                </a:r>
                <a:r>
                  <a:rPr b="1" lang="pt-BR" sz="1800" spc="-1" strike="noStrike">
                    <a:solidFill>
                      <a:srgbClr val="ff0000"/>
                    </a:solidFill>
                    <a:latin typeface="Lucida Casual"/>
                  </a:rPr>
                  <a:t>q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019560" y="3270960"/>
                <a:ext cx="32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ff0000"/>
                    </a:solidFill>
                    <a:latin typeface="Lucida Casual"/>
                  </a:rPr>
                  <a:t>q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648040" y="3280320"/>
                <a:ext cx="46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8000"/>
                    </a:solidFill>
                    <a:latin typeface="Symbol"/>
                    <a:ea typeface="Symbol"/>
                  </a:rPr>
                  <a:t></a:t>
                </a:r>
                <a:r>
                  <a:rPr b="1" lang="pt-BR" sz="1800" spc="-1" strike="noStrike">
                    <a:solidFill>
                      <a:srgbClr val="008000"/>
                    </a:solidFill>
                    <a:latin typeface="Lucida Casual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021360" y="2867760"/>
                <a:ext cx="32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8000"/>
                    </a:solidFill>
                    <a:latin typeface="Lucida Casual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0" name=""/>
          <p:cNvSpPr/>
          <p:nvPr/>
        </p:nvSpPr>
        <p:spPr>
          <a:xfrm>
            <a:off x="4400640" y="3607200"/>
            <a:ext cx="56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Symbol"/>
                <a:ea typeface="Symbol"/>
              </a:rPr>
              <a:t></a:t>
            </a:r>
            <a:r>
              <a:rPr b="1" lang="pt-BR" sz="2400" spc="-1" strike="noStrike">
                <a:solidFill>
                  <a:srgbClr val="008000"/>
                </a:solidFill>
                <a:latin typeface="Lucida Casu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463560" y="3096000"/>
            <a:ext cx="56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pt-BR" sz="2400" spc="-1" strike="noStrike">
                <a:solidFill>
                  <a:srgbClr val="ff0000"/>
                </a:solidFill>
                <a:latin typeface="Lucida Casu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032280" y="3611520"/>
            <a:ext cx="1339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354560" y="3624120"/>
            <a:ext cx="0" cy="6210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989440" y="3611520"/>
            <a:ext cx="1380960" cy="5889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462000" y="3107520"/>
            <a:ext cx="129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Symbol"/>
                <a:ea typeface="Symbol"/>
              </a:rPr>
              <a:t>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 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Gra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483920" y="5490360"/>
            <a:ext cx="66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Microcomputador: mesmo </a:t>
            </a:r>
            <a:r>
              <a:rPr b="1" lang="pt-BR" sz="1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p pequeno causa grande </a:t>
            </a:r>
            <a:r>
              <a:rPr b="1" lang="pt-BR" sz="1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q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685880" y="913680"/>
            <a:ext cx="572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Elasticidade Preço da Dema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51600" y="2133720"/>
            <a:ext cx="619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Lucida Casual"/>
              </a:rPr>
              <a:t>ALTERAÇÕES NAS CONDIÇÕ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Lucida Casual"/>
              </a:rPr>
              <a:t>DE MERC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323520" y="5029200"/>
            <a:ext cx="262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Arnoldo Souza Cab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Takashi Yoney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962520" y="3809880"/>
            <a:ext cx="1304640" cy="916920"/>
            <a:chOff x="3962520" y="3809880"/>
            <a:chExt cx="1304640" cy="916920"/>
          </a:xfrm>
        </p:grpSpPr>
        <p:sp>
          <p:nvSpPr>
            <p:cNvPr id="56" name=""/>
            <p:cNvSpPr/>
            <p:nvPr/>
          </p:nvSpPr>
          <p:spPr>
            <a:xfrm>
              <a:off x="4290480" y="3809880"/>
              <a:ext cx="613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5400" spc="-1" strike="noStrike">
                  <a:solidFill>
                    <a:srgbClr val="ff6600"/>
                  </a:solidFill>
                  <a:latin typeface="Lucida Casual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459320" y="405144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6600"/>
                  </a:solidFill>
                  <a:latin typeface="Lucida Casu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962520" y="3925800"/>
              <a:ext cx="1304640" cy="619200"/>
            </a:xfrm>
            <a:prstGeom prst="ellipse">
              <a:avLst/>
            </a:prstGeom>
            <a:noFill/>
            <a:ln w="9360">
              <a:solidFill>
                <a:srgbClr val="ff6600"/>
              </a:solidFill>
              <a:miter/>
            </a:ln>
            <a:effectLst>
              <a:outerShdw dist="153753" dir="2700000" blurRad="0" rotWithShape="0">
                <a:srgbClr val="983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44320" y="2988360"/>
            <a:ext cx="81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Lucida Casual"/>
              </a:rPr>
              <a:t>Qual a utilidade prática do conceito de </a:t>
            </a:r>
            <a:r>
              <a:rPr b="1" lang="en-US" sz="2400" spc="-1" strike="noStrike">
                <a:solidFill>
                  <a:srgbClr val="ff0000"/>
                </a:solidFill>
                <a:latin typeface="Lucida Casual"/>
              </a:rPr>
              <a:t>elasticidade</a:t>
            </a:r>
            <a:r>
              <a:rPr b="1" lang="en-US" sz="2400" spc="-1" strike="noStrike">
                <a:solidFill>
                  <a:srgbClr val="0000ff"/>
                </a:solidFill>
                <a:latin typeface="Lucida Casu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2468520" y="2959200"/>
            <a:ext cx="0" cy="56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1417320" y="2959200"/>
            <a:ext cx="1050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111400" y="913680"/>
            <a:ext cx="489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Ação e Reação do Mer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1295280" y="2133360"/>
            <a:ext cx="2041560" cy="1463400"/>
            <a:chOff x="1295280" y="2133360"/>
            <a:chExt cx="2041560" cy="1463400"/>
          </a:xfrm>
        </p:grpSpPr>
        <p:sp>
          <p:nvSpPr>
            <p:cNvPr id="309" name=""/>
            <p:cNvSpPr/>
            <p:nvPr/>
          </p:nvSpPr>
          <p:spPr>
            <a:xfrm flipV="1">
              <a:off x="1421640" y="2133360"/>
              <a:ext cx="0" cy="146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295280" y="3518640"/>
              <a:ext cx="2041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508760" y="2535120"/>
              <a:ext cx="1517040" cy="724320"/>
            </a:xfrm>
            <a:custGeom>
              <a:avLst/>
              <a:gdLst/>
              <a:ahLst/>
              <a:rect l="l" t="t" r="r" b="b"/>
              <a:pathLst>
                <a:path w="1498" h="884">
                  <a:moveTo>
                    <a:pt x="0" y="884"/>
                  </a:moveTo>
                  <a:cubicBezTo>
                    <a:pt x="93" y="860"/>
                    <a:pt x="376" y="817"/>
                    <a:pt x="557" y="740"/>
                  </a:cubicBezTo>
                  <a:cubicBezTo>
                    <a:pt x="738" y="663"/>
                    <a:pt x="928" y="546"/>
                    <a:pt x="1085" y="423"/>
                  </a:cubicBezTo>
                  <a:cubicBezTo>
                    <a:pt x="1242" y="300"/>
                    <a:pt x="1412" y="88"/>
                    <a:pt x="1498" y="0"/>
                  </a:cubicBezTo>
                </a:path>
              </a:pathLst>
            </a:custGeom>
            <a:noFill/>
            <a:ln w="381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489320" y="2526840"/>
              <a:ext cx="1546200" cy="834120"/>
            </a:xfrm>
            <a:custGeom>
              <a:avLst/>
              <a:gdLst/>
              <a:ahLst/>
              <a:rect l="l" t="t" r="r" b="b"/>
              <a:pathLst>
                <a:path w="1527" h="1018">
                  <a:moveTo>
                    <a:pt x="0" y="0"/>
                  </a:moveTo>
                  <a:cubicBezTo>
                    <a:pt x="77" y="80"/>
                    <a:pt x="296" y="347"/>
                    <a:pt x="461" y="480"/>
                  </a:cubicBezTo>
                  <a:cubicBezTo>
                    <a:pt x="626" y="613"/>
                    <a:pt x="811" y="707"/>
                    <a:pt x="989" y="797"/>
                  </a:cubicBezTo>
                  <a:cubicBezTo>
                    <a:pt x="1167" y="887"/>
                    <a:pt x="1415" y="972"/>
                    <a:pt x="1527" y="1018"/>
                  </a:cubicBezTo>
                </a:path>
              </a:pathLst>
            </a:custGeom>
            <a:noFill/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737720" y="2452320"/>
              <a:ext cx="1360800" cy="731880"/>
            </a:xfrm>
            <a:custGeom>
              <a:avLst/>
              <a:gdLst/>
              <a:ahLst/>
              <a:rect l="l" t="t" r="r" b="b"/>
              <a:pathLst>
                <a:path w="1344" h="893">
                  <a:moveTo>
                    <a:pt x="0" y="0"/>
                  </a:moveTo>
                  <a:cubicBezTo>
                    <a:pt x="64" y="62"/>
                    <a:pt x="247" y="262"/>
                    <a:pt x="384" y="374"/>
                  </a:cubicBezTo>
                  <a:cubicBezTo>
                    <a:pt x="521" y="486"/>
                    <a:pt x="661" y="586"/>
                    <a:pt x="821" y="672"/>
                  </a:cubicBezTo>
                  <a:cubicBezTo>
                    <a:pt x="981" y="758"/>
                    <a:pt x="1235" y="847"/>
                    <a:pt x="1344" y="893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3044880" y="2361960"/>
            <a:ext cx="34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00"/>
                </a:solidFill>
                <a:latin typeface="Lucida Casu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81360" y="20743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252960" y="34916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171960" y="2927160"/>
            <a:ext cx="70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Lucida Casual"/>
              </a:rPr>
              <a:t>No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006720" y="3171600"/>
            <a:ext cx="85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Lucida Casual"/>
              </a:rPr>
              <a:t>Anti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411280" y="2905200"/>
            <a:ext cx="115920" cy="115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508040" y="2316240"/>
            <a:ext cx="48888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39920" y="3065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1432080" y="3081240"/>
            <a:ext cx="80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184480" y="3014640"/>
            <a:ext cx="115920" cy="115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686960" y="3825000"/>
            <a:ext cx="14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D</a:t>
            </a:r>
            <a:r>
              <a:rPr b="1" lang="en-US" sz="1800" spc="-1" strike="noStrike">
                <a:solidFill>
                  <a:srgbClr val="008000"/>
                </a:solidFill>
                <a:latin typeface="Symbol"/>
                <a:ea typeface="Symbol"/>
              </a:rPr>
              <a:t></a:t>
            </a: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 p</a:t>
            </a:r>
            <a:r>
              <a:rPr b="1" lang="en-US" sz="1800" spc="-1" strike="noStrike">
                <a:solidFill>
                  <a:srgbClr val="008000"/>
                </a:solidFill>
                <a:latin typeface="Symbol"/>
                <a:ea typeface="Symbol"/>
              </a:rPr>
              <a:t></a:t>
            </a: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 e q</a:t>
            </a:r>
            <a:r>
              <a:rPr b="1" lang="en-US" sz="1800" spc="-1" strike="noStrike">
                <a:solidFill>
                  <a:srgbClr val="008000"/>
                </a:solidFill>
                <a:latin typeface="Symbol"/>
                <a:ea typeface="Symbol"/>
              </a:rPr>
              <a:t>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683000" y="1615320"/>
            <a:ext cx="152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Curto Praz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1309680" y="2835360"/>
            <a:ext cx="0" cy="304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208240" y="3629160"/>
            <a:ext cx="3049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499760" y="196776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4175280" y="1631160"/>
            <a:ext cx="4216320" cy="2576520"/>
            <a:chOff x="4175280" y="1631160"/>
            <a:chExt cx="4216320" cy="2576520"/>
          </a:xfrm>
        </p:grpSpPr>
        <p:sp>
          <p:nvSpPr>
            <p:cNvPr id="330" name=""/>
            <p:cNvSpPr/>
            <p:nvPr/>
          </p:nvSpPr>
          <p:spPr>
            <a:xfrm>
              <a:off x="5908680" y="2541600"/>
              <a:ext cx="1547640" cy="833400"/>
            </a:xfrm>
            <a:custGeom>
              <a:avLst/>
              <a:gdLst/>
              <a:ahLst/>
              <a:rect l="l" t="t" r="r" b="b"/>
              <a:pathLst>
                <a:path w="1527" h="1018">
                  <a:moveTo>
                    <a:pt x="0" y="0"/>
                  </a:moveTo>
                  <a:cubicBezTo>
                    <a:pt x="77" y="80"/>
                    <a:pt x="296" y="347"/>
                    <a:pt x="461" y="480"/>
                  </a:cubicBezTo>
                  <a:cubicBezTo>
                    <a:pt x="626" y="613"/>
                    <a:pt x="811" y="707"/>
                    <a:pt x="989" y="797"/>
                  </a:cubicBezTo>
                  <a:cubicBezTo>
                    <a:pt x="1167" y="887"/>
                    <a:pt x="1415" y="972"/>
                    <a:pt x="1527" y="1018"/>
                  </a:cubicBezTo>
                </a:path>
              </a:pathLst>
            </a:custGeom>
            <a:noFill/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188040" y="2779560"/>
              <a:ext cx="1560600" cy="665280"/>
            </a:xfrm>
            <a:custGeom>
              <a:avLst/>
              <a:gdLst/>
              <a:ahLst/>
              <a:rect l="l" t="t" r="r" b="b"/>
              <a:pathLst>
                <a:path w="983" h="419">
                  <a:moveTo>
                    <a:pt x="0" y="419"/>
                  </a:moveTo>
                  <a:cubicBezTo>
                    <a:pt x="57" y="413"/>
                    <a:pt x="232" y="407"/>
                    <a:pt x="345" y="380"/>
                  </a:cubicBezTo>
                  <a:cubicBezTo>
                    <a:pt x="458" y="353"/>
                    <a:pt x="575" y="318"/>
                    <a:pt x="681" y="255"/>
                  </a:cubicBezTo>
                  <a:cubicBezTo>
                    <a:pt x="787" y="192"/>
                    <a:pt x="920" y="53"/>
                    <a:pt x="983" y="0"/>
                  </a:cubicBezTo>
                </a:path>
              </a:pathLst>
            </a:custGeom>
            <a:noFill/>
            <a:ln w="381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329600" y="3218040"/>
              <a:ext cx="0" cy="32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5835600" y="3171960"/>
              <a:ext cx="140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842080" y="2147760"/>
              <a:ext cx="0" cy="146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715000" y="3532320"/>
              <a:ext cx="2041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929200" y="2549520"/>
              <a:ext cx="1516320" cy="723960"/>
            </a:xfrm>
            <a:custGeom>
              <a:avLst/>
              <a:gdLst/>
              <a:ahLst/>
              <a:rect l="l" t="t" r="r" b="b"/>
              <a:pathLst>
                <a:path w="1498" h="884">
                  <a:moveTo>
                    <a:pt x="0" y="884"/>
                  </a:moveTo>
                  <a:cubicBezTo>
                    <a:pt x="93" y="860"/>
                    <a:pt x="376" y="817"/>
                    <a:pt x="557" y="740"/>
                  </a:cubicBezTo>
                  <a:cubicBezTo>
                    <a:pt x="738" y="663"/>
                    <a:pt x="928" y="546"/>
                    <a:pt x="1085" y="423"/>
                  </a:cubicBezTo>
                  <a:cubicBezTo>
                    <a:pt x="1242" y="300"/>
                    <a:pt x="1412" y="88"/>
                    <a:pt x="1498" y="0"/>
                  </a:cubicBezTo>
                </a:path>
              </a:pathLst>
            </a:custGeom>
            <a:noFill/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157800" y="2467080"/>
              <a:ext cx="1355760" cy="755640"/>
            </a:xfrm>
            <a:custGeom>
              <a:avLst/>
              <a:gdLst/>
              <a:ahLst/>
              <a:rect l="l" t="t" r="r" b="b"/>
              <a:pathLst>
                <a:path w="854" h="476">
                  <a:moveTo>
                    <a:pt x="0" y="0"/>
                  </a:moveTo>
                  <a:cubicBezTo>
                    <a:pt x="41" y="32"/>
                    <a:pt x="158" y="134"/>
                    <a:pt x="245" y="193"/>
                  </a:cubicBezTo>
                  <a:cubicBezTo>
                    <a:pt x="332" y="252"/>
                    <a:pt x="421" y="309"/>
                    <a:pt x="523" y="356"/>
                  </a:cubicBezTo>
                  <a:cubicBezTo>
                    <a:pt x="625" y="403"/>
                    <a:pt x="785" y="451"/>
                    <a:pt x="854" y="476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400720" y="208836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asu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672320" y="350604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asu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683480" y="2560320"/>
              <a:ext cx="70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3300"/>
                  </a:solidFill>
                  <a:latin typeface="Lucida Casual"/>
                </a:rPr>
                <a:t>Nov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426440" y="3185640"/>
              <a:ext cx="854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Lucida Casual"/>
                </a:rPr>
                <a:t>Antig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265880" y="3110040"/>
              <a:ext cx="115920" cy="115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959440" y="2346480"/>
              <a:ext cx="488880" cy="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659640" y="3079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5851080" y="3095640"/>
              <a:ext cx="80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603840" y="3029040"/>
              <a:ext cx="115920" cy="1159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098400" y="3839400"/>
              <a:ext cx="149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Lucida Casual"/>
                </a:rPr>
                <a:t>D</a:t>
              </a:r>
              <a:r>
                <a:rPr b="1" lang="en-US" sz="18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</a:t>
              </a:r>
              <a:r>
                <a:rPr b="1" lang="en-US" sz="1800" spc="-1" strike="noStrike">
                  <a:solidFill>
                    <a:srgbClr val="008000"/>
                  </a:solidFill>
                  <a:latin typeface="Lucida Casual"/>
                </a:rPr>
                <a:t> </a:t>
              </a:r>
              <a:r>
                <a:rPr b="1" lang="en-US" sz="18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</a:t>
              </a:r>
              <a:r>
                <a:rPr b="1" lang="en-US" sz="1800" spc="-1" strike="noStrike">
                  <a:solidFill>
                    <a:srgbClr val="008000"/>
                  </a:solidFill>
                  <a:latin typeface="Lucida Casual"/>
                </a:rPr>
                <a:t> p? e q</a:t>
              </a:r>
              <a:r>
                <a:rPr b="1" lang="en-US" sz="18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5729400" y="2879640"/>
              <a:ext cx="0" cy="473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6627960" y="3635280"/>
              <a:ext cx="691920" cy="7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935320" y="2012400"/>
              <a:ext cx="34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Lucida Casu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947920" y="1631160"/>
              <a:ext cx="158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Longo Praz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823080" y="2922480"/>
              <a:ext cx="115920" cy="1159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418000" y="2926800"/>
              <a:ext cx="29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Lucida Casu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175280" y="2695680"/>
              <a:ext cx="976320" cy="485640"/>
            </a:xfrm>
            <a:prstGeom prst="rightArrow">
              <a:avLst>
                <a:gd name="adj1" fmla="val 49676"/>
                <a:gd name="adj2" fmla="val 50343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Lucida Casual"/>
                </a:rPr>
                <a:t>temp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1011240" y="4303080"/>
            <a:ext cx="2754360" cy="2103480"/>
            <a:chOff x="1011240" y="4303080"/>
            <a:chExt cx="2754360" cy="2103480"/>
          </a:xfrm>
        </p:grpSpPr>
        <p:sp>
          <p:nvSpPr>
            <p:cNvPr id="356" name=""/>
            <p:cNvSpPr/>
            <p:nvPr/>
          </p:nvSpPr>
          <p:spPr>
            <a:xfrm>
              <a:off x="2392200" y="546876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1463760" y="5407200"/>
              <a:ext cx="86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1452600" y="4406760"/>
              <a:ext cx="0" cy="146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325520" y="5791320"/>
              <a:ext cx="2041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630440" y="4808520"/>
              <a:ext cx="1608120" cy="800280"/>
            </a:xfrm>
            <a:custGeom>
              <a:avLst/>
              <a:gdLst/>
              <a:ahLst/>
              <a:rect l="l" t="t" r="r" b="b"/>
              <a:pathLst>
                <a:path w="1013" h="504">
                  <a:moveTo>
                    <a:pt x="0" y="504"/>
                  </a:moveTo>
                  <a:cubicBezTo>
                    <a:pt x="59" y="492"/>
                    <a:pt x="238" y="470"/>
                    <a:pt x="353" y="430"/>
                  </a:cubicBezTo>
                  <a:cubicBezTo>
                    <a:pt x="468" y="391"/>
                    <a:pt x="578" y="340"/>
                    <a:pt x="688" y="268"/>
                  </a:cubicBezTo>
                  <a:cubicBezTo>
                    <a:pt x="798" y="196"/>
                    <a:pt x="945" y="56"/>
                    <a:pt x="1013" y="0"/>
                  </a:cubicBezTo>
                </a:path>
              </a:pathLst>
            </a:custGeom>
            <a:noFill/>
            <a:ln w="381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519200" y="4800600"/>
              <a:ext cx="1548000" cy="833400"/>
            </a:xfrm>
            <a:custGeom>
              <a:avLst/>
              <a:gdLst/>
              <a:ahLst/>
              <a:rect l="l" t="t" r="r" b="b"/>
              <a:pathLst>
                <a:path w="1527" h="1018">
                  <a:moveTo>
                    <a:pt x="0" y="0"/>
                  </a:moveTo>
                  <a:cubicBezTo>
                    <a:pt x="77" y="80"/>
                    <a:pt x="296" y="347"/>
                    <a:pt x="461" y="480"/>
                  </a:cubicBezTo>
                  <a:cubicBezTo>
                    <a:pt x="626" y="613"/>
                    <a:pt x="811" y="707"/>
                    <a:pt x="989" y="797"/>
                  </a:cubicBezTo>
                  <a:cubicBezTo>
                    <a:pt x="1167" y="887"/>
                    <a:pt x="1415" y="972"/>
                    <a:pt x="1527" y="1018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011240" y="434736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asu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13080" y="575064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asu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057480" y="4909680"/>
              <a:ext cx="70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3300"/>
                  </a:solidFill>
                  <a:latin typeface="Lucida Casual"/>
                </a:rPr>
                <a:t>Nov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070080" y="5474880"/>
              <a:ext cx="330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Lucida Casu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335320" y="5351400"/>
              <a:ext cx="115920" cy="115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894040" y="4667400"/>
              <a:ext cx="488880" cy="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147760" y="5361120"/>
              <a:ext cx="0" cy="42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>
              <a:off x="1461960" y="5308560"/>
              <a:ext cx="62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092320" y="5249880"/>
              <a:ext cx="115920" cy="1159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698480" y="6038280"/>
              <a:ext cx="148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Lucida Casual"/>
                </a:rPr>
                <a:t>O</a:t>
              </a:r>
              <a:r>
                <a:rPr b="1" lang="en-US" sz="18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</a:t>
              </a:r>
              <a:r>
                <a:rPr b="1" lang="en-US" sz="1800" spc="-1" strike="noStrike">
                  <a:solidFill>
                    <a:srgbClr val="008000"/>
                  </a:solidFill>
                  <a:latin typeface="Lucida Casual"/>
                </a:rPr>
                <a:t> </a:t>
              </a:r>
              <a:r>
                <a:rPr b="1" lang="en-US" sz="18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</a:t>
              </a:r>
              <a:r>
                <a:rPr b="1" lang="en-US" sz="1800" spc="-1" strike="noStrike">
                  <a:solidFill>
                    <a:srgbClr val="008000"/>
                  </a:solidFill>
                  <a:latin typeface="Lucida Casual"/>
                </a:rPr>
                <a:t> p</a:t>
              </a:r>
              <a:r>
                <a:rPr b="1" lang="en-US" sz="18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</a:t>
              </a:r>
              <a:r>
                <a:rPr b="1" lang="en-US" sz="1800" spc="-1" strike="noStrike">
                  <a:solidFill>
                    <a:srgbClr val="008000"/>
                  </a:solidFill>
                  <a:latin typeface="Lucida Casual"/>
                </a:rPr>
                <a:t> e q</a:t>
              </a:r>
              <a:r>
                <a:rPr b="1" lang="en-US" sz="18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347840" y="5238720"/>
              <a:ext cx="0" cy="304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154240" y="5894280"/>
              <a:ext cx="304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873880" y="430308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Lucida Casu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515960" y="4746600"/>
              <a:ext cx="1494000" cy="747720"/>
            </a:xfrm>
            <a:custGeom>
              <a:avLst/>
              <a:gdLst/>
              <a:ahLst/>
              <a:rect l="l" t="t" r="r" b="b"/>
              <a:pathLst>
                <a:path w="941" h="471">
                  <a:moveTo>
                    <a:pt x="0" y="471"/>
                  </a:moveTo>
                  <a:cubicBezTo>
                    <a:pt x="51" y="459"/>
                    <a:pt x="201" y="438"/>
                    <a:pt x="307" y="399"/>
                  </a:cubicBezTo>
                  <a:cubicBezTo>
                    <a:pt x="413" y="360"/>
                    <a:pt x="533" y="307"/>
                    <a:pt x="639" y="240"/>
                  </a:cubicBezTo>
                  <a:cubicBezTo>
                    <a:pt x="745" y="173"/>
                    <a:pt x="878" y="50"/>
                    <a:pt x="941" y="0"/>
                  </a:cubicBezTo>
                </a:path>
              </a:pathLst>
            </a:custGeom>
            <a:noFill/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74960" y="4600080"/>
              <a:ext cx="854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Lucida Casual"/>
                </a:rPr>
                <a:t>Antig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4176720" y="4333320"/>
            <a:ext cx="4160880" cy="2103120"/>
            <a:chOff x="4176720" y="4333320"/>
            <a:chExt cx="4160880" cy="2103120"/>
          </a:xfrm>
        </p:grpSpPr>
        <p:sp>
          <p:nvSpPr>
            <p:cNvPr id="378" name=""/>
            <p:cNvSpPr/>
            <p:nvPr/>
          </p:nvSpPr>
          <p:spPr>
            <a:xfrm>
              <a:off x="5873760" y="4776840"/>
              <a:ext cx="1494000" cy="747720"/>
            </a:xfrm>
            <a:custGeom>
              <a:avLst/>
              <a:gdLst/>
              <a:ahLst/>
              <a:rect l="l" t="t" r="r" b="b"/>
              <a:pathLst>
                <a:path w="941" h="471">
                  <a:moveTo>
                    <a:pt x="0" y="471"/>
                  </a:moveTo>
                  <a:cubicBezTo>
                    <a:pt x="51" y="459"/>
                    <a:pt x="201" y="438"/>
                    <a:pt x="307" y="399"/>
                  </a:cubicBezTo>
                  <a:cubicBezTo>
                    <a:pt x="413" y="360"/>
                    <a:pt x="533" y="307"/>
                    <a:pt x="639" y="240"/>
                  </a:cubicBezTo>
                  <a:cubicBezTo>
                    <a:pt x="745" y="173"/>
                    <a:pt x="878" y="50"/>
                    <a:pt x="941" y="0"/>
                  </a:cubicBezTo>
                </a:path>
              </a:pathLst>
            </a:custGeom>
            <a:noFill/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031160" y="5369040"/>
              <a:ext cx="0" cy="44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5813280" y="5292720"/>
              <a:ext cx="115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5810400" y="4437000"/>
              <a:ext cx="0" cy="146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683320" y="5821200"/>
              <a:ext cx="2041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987880" y="4838760"/>
              <a:ext cx="1608480" cy="799920"/>
            </a:xfrm>
            <a:custGeom>
              <a:avLst/>
              <a:gdLst/>
              <a:ahLst/>
              <a:rect l="l" t="t" r="r" b="b"/>
              <a:pathLst>
                <a:path w="1013" h="504">
                  <a:moveTo>
                    <a:pt x="0" y="504"/>
                  </a:moveTo>
                  <a:cubicBezTo>
                    <a:pt x="59" y="492"/>
                    <a:pt x="238" y="470"/>
                    <a:pt x="353" y="430"/>
                  </a:cubicBezTo>
                  <a:cubicBezTo>
                    <a:pt x="468" y="391"/>
                    <a:pt x="578" y="340"/>
                    <a:pt x="688" y="268"/>
                  </a:cubicBezTo>
                  <a:cubicBezTo>
                    <a:pt x="798" y="196"/>
                    <a:pt x="945" y="56"/>
                    <a:pt x="1013" y="0"/>
                  </a:cubicBezTo>
                </a:path>
              </a:pathLst>
            </a:custGeom>
            <a:noFill/>
            <a:ln w="381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877000" y="4830840"/>
              <a:ext cx="1547640" cy="833400"/>
            </a:xfrm>
            <a:custGeom>
              <a:avLst/>
              <a:gdLst/>
              <a:ahLst/>
              <a:rect l="l" t="t" r="r" b="b"/>
              <a:pathLst>
                <a:path w="1527" h="1018">
                  <a:moveTo>
                    <a:pt x="0" y="0"/>
                  </a:moveTo>
                  <a:cubicBezTo>
                    <a:pt x="77" y="80"/>
                    <a:pt x="296" y="347"/>
                    <a:pt x="461" y="480"/>
                  </a:cubicBezTo>
                  <a:cubicBezTo>
                    <a:pt x="626" y="613"/>
                    <a:pt x="811" y="707"/>
                    <a:pt x="989" y="797"/>
                  </a:cubicBezTo>
                  <a:cubicBezTo>
                    <a:pt x="1167" y="887"/>
                    <a:pt x="1415" y="972"/>
                    <a:pt x="1527" y="1018"/>
                  </a:cubicBezTo>
                </a:path>
              </a:pathLst>
            </a:custGeom>
            <a:noFill/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369040" y="437760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asu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670880" y="578088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asu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629480" y="5222520"/>
              <a:ext cx="70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Lucida Casual"/>
                </a:rPr>
                <a:t>Nov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427880" y="5505120"/>
              <a:ext cx="330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Lucida Casu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251840" y="4697280"/>
              <a:ext cx="488880" cy="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505560" y="5391000"/>
              <a:ext cx="0" cy="42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5819400" y="5338800"/>
              <a:ext cx="62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450120" y="5280120"/>
              <a:ext cx="115920" cy="1159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046920" y="6068160"/>
              <a:ext cx="150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Lucida Casual"/>
                </a:rPr>
                <a:t>O</a:t>
              </a:r>
              <a:r>
                <a:rPr b="1" lang="en-US" sz="18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</a:t>
              </a:r>
              <a:r>
                <a:rPr b="1" lang="en-US" sz="1800" spc="-1" strike="noStrike">
                  <a:solidFill>
                    <a:srgbClr val="008000"/>
                  </a:solidFill>
                  <a:latin typeface="Lucida Casual"/>
                </a:rPr>
                <a:t> </a:t>
              </a:r>
              <a:r>
                <a:rPr b="1" lang="en-US" sz="18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</a:t>
              </a:r>
              <a:r>
                <a:rPr b="1" lang="en-US" sz="1800" spc="-1" strike="noStrike">
                  <a:solidFill>
                    <a:srgbClr val="008000"/>
                  </a:solidFill>
                  <a:latin typeface="Lucida Casual"/>
                </a:rPr>
                <a:t> p? e q</a:t>
              </a:r>
              <a:r>
                <a:rPr b="1" lang="en-US" sz="18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719680" y="5110200"/>
              <a:ext cx="0" cy="4572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512040" y="5924520"/>
              <a:ext cx="5252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231680" y="433332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Lucida Casu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332400" y="4630320"/>
              <a:ext cx="854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Lucida Casual"/>
                </a:rPr>
                <a:t>Antig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073920" y="4748040"/>
              <a:ext cx="1538280" cy="668520"/>
            </a:xfrm>
            <a:custGeom>
              <a:avLst/>
              <a:gdLst/>
              <a:ahLst/>
              <a:rect l="l" t="t" r="r" b="b"/>
              <a:pathLst>
                <a:path w="969" h="421">
                  <a:moveTo>
                    <a:pt x="0" y="0"/>
                  </a:moveTo>
                  <a:cubicBezTo>
                    <a:pt x="41" y="32"/>
                    <a:pt x="140" y="131"/>
                    <a:pt x="249" y="191"/>
                  </a:cubicBezTo>
                  <a:cubicBezTo>
                    <a:pt x="358" y="251"/>
                    <a:pt x="537" y="325"/>
                    <a:pt x="657" y="363"/>
                  </a:cubicBezTo>
                  <a:cubicBezTo>
                    <a:pt x="777" y="401"/>
                    <a:pt x="904" y="409"/>
                    <a:pt x="969" y="421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73920" y="5243400"/>
              <a:ext cx="115920" cy="115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395680" y="5123880"/>
              <a:ext cx="29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Lucida Casu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738840" y="5157720"/>
              <a:ext cx="115920" cy="1159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176720" y="5010120"/>
              <a:ext cx="976320" cy="485640"/>
            </a:xfrm>
            <a:prstGeom prst="rightArrow">
              <a:avLst>
                <a:gd name="adj1" fmla="val 49676"/>
                <a:gd name="adj2" fmla="val 50343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Lucida Casual"/>
                </a:rPr>
                <a:t>temp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1203480" y="3992400"/>
            <a:ext cx="2895480" cy="366840"/>
          </a:xfrm>
          <a:custGeom>
            <a:avLst/>
            <a:gdLst/>
            <a:ahLst/>
            <a:rect l="l" t="t" r="r" b="b"/>
            <a:pathLst>
              <a:path w="1824" h="164">
                <a:moveTo>
                  <a:pt x="0" y="0"/>
                </a:moveTo>
                <a:cubicBezTo>
                  <a:pt x="338" y="44"/>
                  <a:pt x="676" y="89"/>
                  <a:pt x="980" y="116"/>
                </a:cubicBezTo>
                <a:cubicBezTo>
                  <a:pt x="1284" y="143"/>
                  <a:pt x="1675" y="156"/>
                  <a:pt x="1824" y="16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34160" y="969120"/>
            <a:ext cx="822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Efeitos da Elasticidade na Reação do Mer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1171440" y="2317680"/>
            <a:ext cx="0" cy="3138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988920" y="5243400"/>
            <a:ext cx="3398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560960" y="1812240"/>
            <a:ext cx="22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Demanda Elás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44560" y="22233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089600" y="48013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278000" y="2759040"/>
            <a:ext cx="2622600" cy="1417680"/>
          </a:xfrm>
          <a:custGeom>
            <a:avLst/>
            <a:gdLst/>
            <a:ahLst/>
            <a:rect l="l" t="t" r="r" b="b"/>
            <a:pathLst>
              <a:path w="1652" h="893">
                <a:moveTo>
                  <a:pt x="0" y="893"/>
                </a:moveTo>
                <a:cubicBezTo>
                  <a:pt x="78" y="880"/>
                  <a:pt x="298" y="872"/>
                  <a:pt x="471" y="816"/>
                </a:cubicBezTo>
                <a:cubicBezTo>
                  <a:pt x="644" y="760"/>
                  <a:pt x="841" y="692"/>
                  <a:pt x="1038" y="556"/>
                </a:cubicBezTo>
                <a:cubicBezTo>
                  <a:pt x="1235" y="420"/>
                  <a:pt x="1524" y="116"/>
                  <a:pt x="1652" y="0"/>
                </a:cubicBezTo>
              </a:path>
            </a:pathLst>
          </a:custGeom>
          <a:noFill/>
          <a:ln w="381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432000" y="3855960"/>
            <a:ext cx="3757320" cy="1891800"/>
            <a:chOff x="432000" y="3855960"/>
            <a:chExt cx="3757320" cy="1891800"/>
          </a:xfrm>
        </p:grpSpPr>
        <p:grpSp>
          <p:nvGrpSpPr>
            <p:cNvPr id="415" name=""/>
            <p:cNvGrpSpPr/>
            <p:nvPr/>
          </p:nvGrpSpPr>
          <p:grpSpPr>
            <a:xfrm>
              <a:off x="432000" y="3855960"/>
              <a:ext cx="3757320" cy="1891800"/>
              <a:chOff x="432000" y="3855960"/>
              <a:chExt cx="3757320" cy="1891800"/>
            </a:xfrm>
          </p:grpSpPr>
          <p:sp>
            <p:nvSpPr>
              <p:cNvPr id="416" name=""/>
              <p:cNvSpPr/>
              <p:nvPr/>
            </p:nvSpPr>
            <p:spPr>
              <a:xfrm>
                <a:off x="1293840" y="3855960"/>
                <a:ext cx="2895480" cy="260280"/>
              </a:xfrm>
              <a:custGeom>
                <a:avLst/>
                <a:gdLst/>
                <a:ahLst/>
                <a:rect l="l" t="t" r="r" b="b"/>
                <a:pathLst>
                  <a:path w="1824" h="164">
                    <a:moveTo>
                      <a:pt x="0" y="0"/>
                    </a:moveTo>
                    <a:cubicBezTo>
                      <a:pt x="338" y="44"/>
                      <a:pt x="676" y="89"/>
                      <a:pt x="980" y="116"/>
                    </a:cubicBezTo>
                    <a:cubicBezTo>
                      <a:pt x="1284" y="143"/>
                      <a:pt x="1675" y="156"/>
                      <a:pt x="1824" y="164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H="1">
                <a:off x="947520" y="3978360"/>
                <a:ext cx="1276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2243160" y="4038480"/>
                <a:ext cx="0" cy="137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1739880" y="5379480"/>
                <a:ext cx="55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Symbol"/>
                    <a:ea typeface="Symbol"/>
                  </a:rPr>
                  <a:t></a:t>
                </a:r>
                <a:r>
                  <a:rPr b="1" lang="en-US" sz="1800" spc="-1" strike="noStrike">
                    <a:solidFill>
                      <a:srgbClr val="0000ff"/>
                    </a:solidFill>
                    <a:latin typeface="Lucida Casual"/>
                  </a:rPr>
                  <a:t>q</a:t>
                </a:r>
                <a:r>
                  <a:rPr b="1" lang="en-US" sz="1800" spc="-1" strike="noStrike">
                    <a:solidFill>
                      <a:srgbClr val="0000ff"/>
                    </a:solidFill>
                    <a:latin typeface="Symbol"/>
                    <a:ea typeface="Symbol"/>
                  </a:rPr>
                  <a:t>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H="1">
                <a:off x="2232000" y="5030640"/>
                <a:ext cx="365040" cy="0"/>
              </a:xfrm>
              <a:prstGeom prst="line">
                <a:avLst/>
              </a:prstGeom>
              <a:ln w="5724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32000" y="3874320"/>
                <a:ext cx="55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Symbol"/>
                    <a:ea typeface="Symbol"/>
                  </a:rPr>
                  <a:t></a:t>
                </a:r>
                <a:r>
                  <a:rPr b="1" lang="en-US" sz="1800" spc="-1" strike="noStrike">
                    <a:solidFill>
                      <a:srgbClr val="0000ff"/>
                    </a:solidFill>
                    <a:latin typeface="Lucida Casual"/>
                  </a:rPr>
                  <a:t>p</a:t>
                </a:r>
                <a:r>
                  <a:rPr b="1" lang="en-US" sz="1800" spc="-1" strike="noStrike">
                    <a:solidFill>
                      <a:srgbClr val="0000ff"/>
                    </a:solidFill>
                    <a:latin typeface="Symbol"/>
                    <a:ea typeface="Symbol"/>
                  </a:rPr>
                  <a:t>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420920" y="5035680"/>
                <a:ext cx="426960" cy="0"/>
              </a:xfrm>
              <a:prstGeom prst="line">
                <a:avLst/>
              </a:prstGeom>
              <a:ln w="5724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3" name=""/>
            <p:cNvSpPr/>
            <p:nvPr/>
          </p:nvSpPr>
          <p:spPr>
            <a:xfrm>
              <a:off x="2179800" y="3913200"/>
              <a:ext cx="115560" cy="115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1787400" y="4048200"/>
            <a:ext cx="115920" cy="115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849320" y="4162320"/>
            <a:ext cx="5040" cy="12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H="1" flipV="1">
            <a:off x="948960" y="4105440"/>
            <a:ext cx="826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34160" y="969120"/>
            <a:ext cx="822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Efeitos da Elasticidade na Reação do Mer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1171440" y="2317680"/>
            <a:ext cx="0" cy="3138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988920" y="5243400"/>
            <a:ext cx="3398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560960" y="1812240"/>
            <a:ext cx="22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Demanda Elás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844560" y="22233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089600" y="48013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293840" y="3855960"/>
            <a:ext cx="2895480" cy="260280"/>
          </a:xfrm>
          <a:custGeom>
            <a:avLst/>
            <a:gdLst/>
            <a:ahLst/>
            <a:rect l="l" t="t" r="r" b="b"/>
            <a:pathLst>
              <a:path w="1824" h="164">
                <a:moveTo>
                  <a:pt x="0" y="0"/>
                </a:moveTo>
                <a:cubicBezTo>
                  <a:pt x="338" y="44"/>
                  <a:pt x="676" y="89"/>
                  <a:pt x="980" y="116"/>
                </a:cubicBezTo>
                <a:cubicBezTo>
                  <a:pt x="1284" y="143"/>
                  <a:pt x="1675" y="156"/>
                  <a:pt x="1824" y="16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278000" y="2759040"/>
            <a:ext cx="2622600" cy="1417680"/>
          </a:xfrm>
          <a:custGeom>
            <a:avLst/>
            <a:gdLst/>
            <a:ahLst/>
            <a:rect l="l" t="t" r="r" b="b"/>
            <a:pathLst>
              <a:path w="1652" h="893">
                <a:moveTo>
                  <a:pt x="0" y="893"/>
                </a:moveTo>
                <a:cubicBezTo>
                  <a:pt x="78" y="880"/>
                  <a:pt x="298" y="872"/>
                  <a:pt x="471" y="816"/>
                </a:cubicBezTo>
                <a:cubicBezTo>
                  <a:pt x="644" y="760"/>
                  <a:pt x="841" y="692"/>
                  <a:pt x="1038" y="556"/>
                </a:cubicBezTo>
                <a:cubicBezTo>
                  <a:pt x="1235" y="420"/>
                  <a:pt x="1524" y="116"/>
                  <a:pt x="1652" y="0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293840" y="2774880"/>
            <a:ext cx="3063960" cy="1662120"/>
          </a:xfrm>
          <a:custGeom>
            <a:avLst/>
            <a:gdLst/>
            <a:ahLst/>
            <a:rect l="l" t="t" r="r" b="b"/>
            <a:pathLst>
              <a:path w="1930" h="1047">
                <a:moveTo>
                  <a:pt x="0" y="1047"/>
                </a:moveTo>
                <a:cubicBezTo>
                  <a:pt x="90" y="1032"/>
                  <a:pt x="339" y="1024"/>
                  <a:pt x="542" y="961"/>
                </a:cubicBezTo>
                <a:cubicBezTo>
                  <a:pt x="745" y="898"/>
                  <a:pt x="989" y="831"/>
                  <a:pt x="1220" y="671"/>
                </a:cubicBezTo>
                <a:cubicBezTo>
                  <a:pt x="1451" y="511"/>
                  <a:pt x="1782" y="140"/>
                  <a:pt x="1930" y="0"/>
                </a:cubicBezTo>
              </a:path>
            </a:pathLst>
          </a:custGeom>
          <a:noFill/>
          <a:ln w="381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H="1">
            <a:off x="948960" y="4092480"/>
            <a:ext cx="90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948960" y="4027320"/>
            <a:ext cx="19494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867040" y="3973680"/>
            <a:ext cx="115920" cy="115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816200" y="4048200"/>
            <a:ext cx="115920" cy="115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879560" y="4135320"/>
            <a:ext cx="0" cy="136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925720" y="408456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78000" y="3876120"/>
            <a:ext cx="55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p</a:t>
            </a:r>
            <a:r>
              <a:rPr b="1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144880" y="5287320"/>
            <a:ext cx="55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q</a:t>
            </a:r>
            <a:r>
              <a:rPr b="1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879560" y="4984920"/>
            <a:ext cx="1046160" cy="0"/>
          </a:xfrm>
          <a:prstGeom prst="line">
            <a:avLst/>
          </a:prstGeom>
          <a:ln w="5724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203480" y="3992400"/>
            <a:ext cx="2895480" cy="366840"/>
          </a:xfrm>
          <a:custGeom>
            <a:avLst/>
            <a:gdLst/>
            <a:ahLst/>
            <a:rect l="l" t="t" r="r" b="b"/>
            <a:pathLst>
              <a:path w="1824" h="164">
                <a:moveTo>
                  <a:pt x="0" y="0"/>
                </a:moveTo>
                <a:cubicBezTo>
                  <a:pt x="338" y="44"/>
                  <a:pt x="676" y="89"/>
                  <a:pt x="980" y="116"/>
                </a:cubicBezTo>
                <a:cubicBezTo>
                  <a:pt x="1284" y="143"/>
                  <a:pt x="1675" y="156"/>
                  <a:pt x="1824" y="164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6157800" y="2754360"/>
            <a:ext cx="1508400" cy="2408040"/>
          </a:xfrm>
          <a:custGeom>
            <a:avLst/>
            <a:gdLst/>
            <a:ahLst/>
            <a:rect l="l" t="t" r="r" b="b"/>
            <a:pathLst>
              <a:path w="950" h="1517">
                <a:moveTo>
                  <a:pt x="0" y="0"/>
                </a:moveTo>
                <a:cubicBezTo>
                  <a:pt x="43" y="148"/>
                  <a:pt x="154" y="670"/>
                  <a:pt x="251" y="891"/>
                </a:cubicBezTo>
                <a:cubicBezTo>
                  <a:pt x="348" y="1112"/>
                  <a:pt x="467" y="1222"/>
                  <a:pt x="584" y="1326"/>
                </a:cubicBezTo>
                <a:cubicBezTo>
                  <a:pt x="701" y="1430"/>
                  <a:pt x="874" y="1477"/>
                  <a:pt x="950" y="1517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203480" y="3992400"/>
            <a:ext cx="2895480" cy="366840"/>
          </a:xfrm>
          <a:custGeom>
            <a:avLst/>
            <a:gdLst/>
            <a:ahLst/>
            <a:rect l="l" t="t" r="r" b="b"/>
            <a:pathLst>
              <a:path w="1824" h="164">
                <a:moveTo>
                  <a:pt x="0" y="0"/>
                </a:moveTo>
                <a:cubicBezTo>
                  <a:pt x="338" y="44"/>
                  <a:pt x="676" y="89"/>
                  <a:pt x="980" y="116"/>
                </a:cubicBezTo>
                <a:cubicBezTo>
                  <a:pt x="1284" y="143"/>
                  <a:pt x="1675" y="156"/>
                  <a:pt x="1824" y="164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34160" y="969120"/>
            <a:ext cx="822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Efeitos da Elasticidade na Reação do Mer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V="1">
            <a:off x="1171440" y="2317680"/>
            <a:ext cx="0" cy="3138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988920" y="5243400"/>
            <a:ext cx="3398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560960" y="1812240"/>
            <a:ext cx="22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Lucida Casual"/>
              </a:rPr>
              <a:t>Demanda Elás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844560" y="22233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089600" y="48013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293840" y="3855960"/>
            <a:ext cx="2895480" cy="260280"/>
          </a:xfrm>
          <a:custGeom>
            <a:avLst/>
            <a:gdLst/>
            <a:ahLst/>
            <a:rect l="l" t="t" r="r" b="b"/>
            <a:pathLst>
              <a:path w="1824" h="164">
                <a:moveTo>
                  <a:pt x="0" y="0"/>
                </a:moveTo>
                <a:cubicBezTo>
                  <a:pt x="338" y="44"/>
                  <a:pt x="676" y="89"/>
                  <a:pt x="980" y="116"/>
                </a:cubicBezTo>
                <a:cubicBezTo>
                  <a:pt x="1284" y="143"/>
                  <a:pt x="1675" y="156"/>
                  <a:pt x="1824" y="164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278000" y="2759040"/>
            <a:ext cx="2622600" cy="1417680"/>
          </a:xfrm>
          <a:custGeom>
            <a:avLst/>
            <a:gdLst/>
            <a:ahLst/>
            <a:rect l="l" t="t" r="r" b="b"/>
            <a:pathLst>
              <a:path w="1652" h="893">
                <a:moveTo>
                  <a:pt x="0" y="893"/>
                </a:moveTo>
                <a:cubicBezTo>
                  <a:pt x="78" y="880"/>
                  <a:pt x="298" y="872"/>
                  <a:pt x="471" y="816"/>
                </a:cubicBezTo>
                <a:cubicBezTo>
                  <a:pt x="644" y="760"/>
                  <a:pt x="841" y="692"/>
                  <a:pt x="1038" y="556"/>
                </a:cubicBezTo>
                <a:cubicBezTo>
                  <a:pt x="1235" y="420"/>
                  <a:pt x="1524" y="116"/>
                  <a:pt x="1652" y="0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>
            <a:off x="947520" y="3978360"/>
            <a:ext cx="127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79800" y="3913200"/>
            <a:ext cx="115560" cy="115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787400" y="4048200"/>
            <a:ext cx="115920" cy="115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H="1">
            <a:off x="1841400" y="4162320"/>
            <a:ext cx="7920" cy="123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243160" y="40384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739880" y="5379480"/>
            <a:ext cx="55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Symbol"/>
                <a:ea typeface="Symbol"/>
              </a:rPr>
              <a:t></a:t>
            </a:r>
            <a:r>
              <a:rPr b="1" lang="en-US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r>
              <a:rPr b="1" lang="en-US" sz="1800" spc="-1" strike="noStrike">
                <a:solidFill>
                  <a:srgbClr val="808080"/>
                </a:solidFill>
                <a:latin typeface="Symbol"/>
                <a:ea typeface="Symbol"/>
              </a:rPr>
              <a:t>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2232000" y="5030640"/>
            <a:ext cx="365040" cy="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5226120" y="2317680"/>
            <a:ext cx="0" cy="3138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043600" y="5243400"/>
            <a:ext cx="3398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8113680" y="478548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332320" y="2759040"/>
            <a:ext cx="2622600" cy="1417680"/>
          </a:xfrm>
          <a:custGeom>
            <a:avLst/>
            <a:gdLst/>
            <a:ahLst/>
            <a:rect l="l" t="t" r="r" b="b"/>
            <a:pathLst>
              <a:path w="1652" h="893">
                <a:moveTo>
                  <a:pt x="0" y="893"/>
                </a:moveTo>
                <a:cubicBezTo>
                  <a:pt x="78" y="880"/>
                  <a:pt x="298" y="872"/>
                  <a:pt x="471" y="816"/>
                </a:cubicBezTo>
                <a:cubicBezTo>
                  <a:pt x="644" y="760"/>
                  <a:pt x="841" y="692"/>
                  <a:pt x="1038" y="556"/>
                </a:cubicBezTo>
                <a:cubicBezTo>
                  <a:pt x="1235" y="420"/>
                  <a:pt x="1524" y="116"/>
                  <a:pt x="1652" y="0"/>
                </a:cubicBezTo>
              </a:path>
            </a:pathLst>
          </a:custGeom>
          <a:noFill/>
          <a:ln w="381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400800" y="3863880"/>
            <a:ext cx="115920" cy="115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464160" y="3978360"/>
            <a:ext cx="1800" cy="137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853160" y="217728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434200" y="1796400"/>
            <a:ext cx="24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Demanda Inelás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5087520" y="3932280"/>
            <a:ext cx="131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H="1" flipV="1">
            <a:off x="948960" y="4105440"/>
            <a:ext cx="826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4551480" y="2562120"/>
            <a:ext cx="3160440" cy="3171240"/>
            <a:chOff x="4551480" y="2562120"/>
            <a:chExt cx="3160440" cy="3171240"/>
          </a:xfrm>
        </p:grpSpPr>
        <p:sp>
          <p:nvSpPr>
            <p:cNvPr id="480" name=""/>
            <p:cNvSpPr/>
            <p:nvPr/>
          </p:nvSpPr>
          <p:spPr>
            <a:xfrm>
              <a:off x="6013440" y="4987800"/>
              <a:ext cx="426960" cy="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202440" y="2562120"/>
              <a:ext cx="1509480" cy="2513160"/>
            </a:xfrm>
            <a:custGeom>
              <a:avLst/>
              <a:gdLst/>
              <a:ahLst/>
              <a:rect l="l" t="t" r="r" b="b"/>
              <a:pathLst>
                <a:path w="951" h="1583">
                  <a:moveTo>
                    <a:pt x="0" y="0"/>
                  </a:moveTo>
                  <a:cubicBezTo>
                    <a:pt x="43" y="145"/>
                    <a:pt x="165" y="651"/>
                    <a:pt x="259" y="872"/>
                  </a:cubicBezTo>
                  <a:cubicBezTo>
                    <a:pt x="353" y="1093"/>
                    <a:pt x="452" y="1206"/>
                    <a:pt x="567" y="1324"/>
                  </a:cubicBezTo>
                  <a:cubicBezTo>
                    <a:pt x="682" y="1442"/>
                    <a:pt x="871" y="1529"/>
                    <a:pt x="951" y="1583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5065560" y="3854520"/>
              <a:ext cx="146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534000" y="3805200"/>
              <a:ext cx="115920" cy="115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591240" y="3927600"/>
              <a:ext cx="0" cy="143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399360" y="5365080"/>
              <a:ext cx="55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</a:t>
              </a: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q</a:t>
              </a:r>
              <a:r>
                <a:rPr b="1" lang="en-US" sz="18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551480" y="3734640"/>
              <a:ext cx="55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</a:t>
              </a: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p</a:t>
              </a:r>
              <a:r>
                <a:rPr b="1" lang="en-US" sz="18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586560" y="4984920"/>
              <a:ext cx="365040" cy="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432000" y="3874320"/>
            <a:ext cx="55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Symbol"/>
                <a:ea typeface="Symbol"/>
              </a:rPr>
              <a:t></a:t>
            </a:r>
            <a:r>
              <a:rPr b="1" lang="en-US" sz="1800" spc="-1" strike="noStrike">
                <a:solidFill>
                  <a:srgbClr val="808080"/>
                </a:solidFill>
                <a:latin typeface="Lucida Casual"/>
              </a:rPr>
              <a:t>p</a:t>
            </a:r>
            <a:r>
              <a:rPr b="1" lang="en-US" sz="1800" spc="-1" strike="noStrike">
                <a:solidFill>
                  <a:srgbClr val="808080"/>
                </a:solidFill>
                <a:latin typeface="Symbol"/>
                <a:ea typeface="Symbol"/>
              </a:rPr>
              <a:t>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420920" y="5035680"/>
            <a:ext cx="426960" cy="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34160" y="969120"/>
            <a:ext cx="822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Efeitos da Elasticidade na Reação do Mer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1171440" y="2317680"/>
            <a:ext cx="0" cy="3138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988920" y="5243400"/>
            <a:ext cx="3398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560960" y="1812240"/>
            <a:ext cx="22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Lucida Casual"/>
              </a:rPr>
              <a:t>Demanda Elás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44560" y="22233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089600" y="48013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293840" y="3855960"/>
            <a:ext cx="2895480" cy="260280"/>
          </a:xfrm>
          <a:custGeom>
            <a:avLst/>
            <a:gdLst/>
            <a:ahLst/>
            <a:rect l="l" t="t" r="r" b="b"/>
            <a:pathLst>
              <a:path w="1824" h="164">
                <a:moveTo>
                  <a:pt x="0" y="0"/>
                </a:moveTo>
                <a:cubicBezTo>
                  <a:pt x="338" y="44"/>
                  <a:pt x="676" y="89"/>
                  <a:pt x="980" y="116"/>
                </a:cubicBezTo>
                <a:cubicBezTo>
                  <a:pt x="1284" y="143"/>
                  <a:pt x="1675" y="156"/>
                  <a:pt x="1824" y="164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278000" y="2759040"/>
            <a:ext cx="2622600" cy="1417680"/>
          </a:xfrm>
          <a:custGeom>
            <a:avLst/>
            <a:gdLst/>
            <a:ahLst/>
            <a:rect l="l" t="t" r="r" b="b"/>
            <a:pathLst>
              <a:path w="1652" h="893">
                <a:moveTo>
                  <a:pt x="0" y="893"/>
                </a:moveTo>
                <a:cubicBezTo>
                  <a:pt x="78" y="880"/>
                  <a:pt x="298" y="872"/>
                  <a:pt x="471" y="816"/>
                </a:cubicBezTo>
                <a:cubicBezTo>
                  <a:pt x="644" y="760"/>
                  <a:pt x="841" y="692"/>
                  <a:pt x="1038" y="556"/>
                </a:cubicBezTo>
                <a:cubicBezTo>
                  <a:pt x="1235" y="420"/>
                  <a:pt x="1524" y="116"/>
                  <a:pt x="1652" y="0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293840" y="2774880"/>
            <a:ext cx="3063960" cy="1662120"/>
          </a:xfrm>
          <a:custGeom>
            <a:avLst/>
            <a:gdLst/>
            <a:ahLst/>
            <a:rect l="l" t="t" r="r" b="b"/>
            <a:pathLst>
              <a:path w="1930" h="1047">
                <a:moveTo>
                  <a:pt x="0" y="1047"/>
                </a:moveTo>
                <a:cubicBezTo>
                  <a:pt x="90" y="1032"/>
                  <a:pt x="339" y="1024"/>
                  <a:pt x="542" y="961"/>
                </a:cubicBezTo>
                <a:cubicBezTo>
                  <a:pt x="745" y="898"/>
                  <a:pt x="989" y="831"/>
                  <a:pt x="1220" y="671"/>
                </a:cubicBezTo>
                <a:cubicBezTo>
                  <a:pt x="1451" y="511"/>
                  <a:pt x="1782" y="140"/>
                  <a:pt x="1930" y="0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 flipV="1">
            <a:off x="948960" y="4095360"/>
            <a:ext cx="89388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H="1" flipV="1">
            <a:off x="948960" y="4029120"/>
            <a:ext cx="1949400" cy="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867040" y="3973680"/>
            <a:ext cx="115920" cy="1155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816200" y="4048200"/>
            <a:ext cx="115920" cy="115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879560" y="4135320"/>
            <a:ext cx="0" cy="136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925720" y="408456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78000" y="3876120"/>
            <a:ext cx="55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Symbol"/>
                <a:ea typeface="Symbol"/>
              </a:rPr>
              <a:t></a:t>
            </a:r>
            <a:r>
              <a:rPr b="1" lang="en-US" sz="1800" spc="-1" strike="noStrike">
                <a:solidFill>
                  <a:srgbClr val="808080"/>
                </a:solidFill>
                <a:latin typeface="Lucida Casual"/>
              </a:rPr>
              <a:t>p</a:t>
            </a:r>
            <a:r>
              <a:rPr b="1" lang="en-US" sz="1800" spc="-1" strike="noStrike">
                <a:solidFill>
                  <a:srgbClr val="808080"/>
                </a:solidFill>
                <a:latin typeface="Symbol"/>
                <a:ea typeface="Symbol"/>
              </a:rPr>
              <a:t>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144880" y="5287320"/>
            <a:ext cx="55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Symbol"/>
                <a:ea typeface="Symbol"/>
              </a:rPr>
              <a:t></a:t>
            </a:r>
            <a:r>
              <a:rPr b="1" lang="en-US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r>
              <a:rPr b="1" lang="en-US" sz="1800" spc="-1" strike="noStrike">
                <a:solidFill>
                  <a:srgbClr val="808080"/>
                </a:solidFill>
                <a:latin typeface="Symbol"/>
                <a:ea typeface="Symbol"/>
              </a:rPr>
              <a:t>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879560" y="4984920"/>
            <a:ext cx="1046160" cy="0"/>
          </a:xfrm>
          <a:prstGeom prst="line">
            <a:avLst/>
          </a:prstGeom>
          <a:ln w="5724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039000" y="5046840"/>
            <a:ext cx="42696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H="1">
            <a:off x="6713640" y="5052960"/>
            <a:ext cx="36504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5226120" y="2317680"/>
            <a:ext cx="0" cy="3138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043600" y="5243400"/>
            <a:ext cx="3398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8113680" y="478548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202440" y="2562120"/>
            <a:ext cx="1509480" cy="2513160"/>
          </a:xfrm>
          <a:custGeom>
            <a:avLst/>
            <a:gdLst/>
            <a:ahLst/>
            <a:rect l="l" t="t" r="r" b="b"/>
            <a:pathLst>
              <a:path w="951" h="1583">
                <a:moveTo>
                  <a:pt x="0" y="0"/>
                </a:moveTo>
                <a:cubicBezTo>
                  <a:pt x="43" y="145"/>
                  <a:pt x="165" y="651"/>
                  <a:pt x="259" y="872"/>
                </a:cubicBezTo>
                <a:cubicBezTo>
                  <a:pt x="353" y="1093"/>
                  <a:pt x="452" y="1206"/>
                  <a:pt x="567" y="1324"/>
                </a:cubicBezTo>
                <a:cubicBezTo>
                  <a:pt x="682" y="1442"/>
                  <a:pt x="871" y="1529"/>
                  <a:pt x="951" y="158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332320" y="2759040"/>
            <a:ext cx="2622600" cy="1417680"/>
          </a:xfrm>
          <a:custGeom>
            <a:avLst/>
            <a:gdLst/>
            <a:ahLst/>
            <a:rect l="l" t="t" r="r" b="b"/>
            <a:pathLst>
              <a:path w="1652" h="893">
                <a:moveTo>
                  <a:pt x="0" y="893"/>
                </a:moveTo>
                <a:cubicBezTo>
                  <a:pt x="78" y="880"/>
                  <a:pt x="298" y="872"/>
                  <a:pt x="471" y="816"/>
                </a:cubicBezTo>
                <a:cubicBezTo>
                  <a:pt x="644" y="760"/>
                  <a:pt x="841" y="692"/>
                  <a:pt x="1038" y="556"/>
                </a:cubicBezTo>
                <a:cubicBezTo>
                  <a:pt x="1235" y="420"/>
                  <a:pt x="1524" y="116"/>
                  <a:pt x="1652" y="0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348160" y="2774880"/>
            <a:ext cx="3063960" cy="1662120"/>
          </a:xfrm>
          <a:custGeom>
            <a:avLst/>
            <a:gdLst/>
            <a:ahLst/>
            <a:rect l="l" t="t" r="r" b="b"/>
            <a:pathLst>
              <a:path w="1930" h="1047">
                <a:moveTo>
                  <a:pt x="0" y="1047"/>
                </a:moveTo>
                <a:cubicBezTo>
                  <a:pt x="90" y="1032"/>
                  <a:pt x="339" y="1024"/>
                  <a:pt x="542" y="961"/>
                </a:cubicBezTo>
                <a:cubicBezTo>
                  <a:pt x="745" y="898"/>
                  <a:pt x="989" y="831"/>
                  <a:pt x="1220" y="671"/>
                </a:cubicBezTo>
                <a:cubicBezTo>
                  <a:pt x="1451" y="511"/>
                  <a:pt x="1782" y="140"/>
                  <a:pt x="1930" y="0"/>
                </a:cubicBezTo>
              </a:path>
            </a:pathLst>
          </a:custGeom>
          <a:noFill/>
          <a:ln w="381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5073480" y="3909960"/>
            <a:ext cx="13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>
            <a:off x="5043240" y="4162320"/>
            <a:ext cx="1569960" cy="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632640" y="4095720"/>
            <a:ext cx="115920" cy="115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410160" y="3875040"/>
            <a:ext cx="115920" cy="115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475320" y="3965400"/>
            <a:ext cx="1800" cy="134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707160" y="4206960"/>
            <a:ext cx="0" cy="114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399360" y="5365080"/>
            <a:ext cx="55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q</a:t>
            </a:r>
            <a:r>
              <a:rPr b="1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533120" y="3866400"/>
            <a:ext cx="55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p</a:t>
            </a:r>
            <a:r>
              <a:rPr b="1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853160" y="217728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434200" y="1796400"/>
            <a:ext cx="24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Demanda Inelás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203480" y="3992400"/>
            <a:ext cx="2895480" cy="366840"/>
          </a:xfrm>
          <a:custGeom>
            <a:avLst/>
            <a:gdLst/>
            <a:ahLst/>
            <a:rect l="l" t="t" r="r" b="b"/>
            <a:pathLst>
              <a:path w="1824" h="164">
                <a:moveTo>
                  <a:pt x="0" y="0"/>
                </a:moveTo>
                <a:cubicBezTo>
                  <a:pt x="338" y="44"/>
                  <a:pt x="676" y="89"/>
                  <a:pt x="980" y="116"/>
                </a:cubicBezTo>
                <a:cubicBezTo>
                  <a:pt x="1284" y="143"/>
                  <a:pt x="1675" y="156"/>
                  <a:pt x="1824" y="164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157800" y="2754360"/>
            <a:ext cx="1508400" cy="2408040"/>
          </a:xfrm>
          <a:custGeom>
            <a:avLst/>
            <a:gdLst/>
            <a:ahLst/>
            <a:rect l="l" t="t" r="r" b="b"/>
            <a:pathLst>
              <a:path w="950" h="1517">
                <a:moveTo>
                  <a:pt x="0" y="0"/>
                </a:moveTo>
                <a:cubicBezTo>
                  <a:pt x="43" y="148"/>
                  <a:pt x="154" y="670"/>
                  <a:pt x="251" y="891"/>
                </a:cubicBezTo>
                <a:cubicBezTo>
                  <a:pt x="348" y="1112"/>
                  <a:pt x="467" y="1222"/>
                  <a:pt x="584" y="1326"/>
                </a:cubicBezTo>
                <a:cubicBezTo>
                  <a:pt x="701" y="1430"/>
                  <a:pt x="874" y="1477"/>
                  <a:pt x="950" y="1517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6475320" y="3965400"/>
            <a:ext cx="1800" cy="134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879560" y="4135320"/>
            <a:ext cx="0" cy="136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34160" y="969120"/>
            <a:ext cx="822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Efeitos da Elasticidade na Reação do Mer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1171440" y="2317680"/>
            <a:ext cx="0" cy="3138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988920" y="5243400"/>
            <a:ext cx="3398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560960" y="1812240"/>
            <a:ext cx="22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Demanda Elás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844560" y="22233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089600" y="48013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H="1" flipV="1">
            <a:off x="964800" y="4103280"/>
            <a:ext cx="847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948960" y="4027320"/>
            <a:ext cx="19494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867040" y="3973680"/>
            <a:ext cx="115920" cy="115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816200" y="4048200"/>
            <a:ext cx="115920" cy="115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925720" y="408456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08240" y="3876120"/>
            <a:ext cx="55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p</a:t>
            </a:r>
            <a:r>
              <a:rPr b="1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144880" y="5287320"/>
            <a:ext cx="55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q</a:t>
            </a:r>
            <a:r>
              <a:rPr b="1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5226120" y="2317680"/>
            <a:ext cx="0" cy="3138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043600" y="5243400"/>
            <a:ext cx="3398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8113680" y="478548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5073480" y="3909960"/>
            <a:ext cx="13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H="1" flipV="1">
            <a:off x="5051160" y="4158720"/>
            <a:ext cx="156204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632640" y="4095720"/>
            <a:ext cx="115920" cy="115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410160" y="3875040"/>
            <a:ext cx="115920" cy="115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707160" y="4206960"/>
            <a:ext cx="0" cy="114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399360" y="5365080"/>
            <a:ext cx="55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q</a:t>
            </a:r>
            <a:r>
              <a:rPr b="1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533120" y="3866400"/>
            <a:ext cx="55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p</a:t>
            </a:r>
            <a:r>
              <a:rPr b="1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853160" y="217728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434200" y="1796400"/>
            <a:ext cx="24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Demanda Inelás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1936800" y="4030560"/>
            <a:ext cx="928800" cy="684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518160" y="3978360"/>
            <a:ext cx="136800" cy="1540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27840" y="1167840"/>
            <a:ext cx="781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Características que influem na Elastic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703080" y="2704320"/>
            <a:ext cx="244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Lucida Casual"/>
              </a:rPr>
              <a:t>Demanda </a:t>
            </a:r>
            <a:r>
              <a:rPr b="1" lang="pt-BR" sz="2000" spc="-1" strike="noStrike">
                <a:solidFill>
                  <a:srgbClr val="ff0000"/>
                </a:solidFill>
                <a:latin typeface="Lucida Casual"/>
              </a:rPr>
              <a:t>Elás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939600" y="3434400"/>
            <a:ext cx="3159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Lucida Casual"/>
              </a:rPr>
              <a:t>Supérflu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Lucida Casual"/>
              </a:rPr>
              <a:t>Muitos Substitu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Lucida Casual"/>
              </a:rPr>
              <a:t>Grande Fatia da Re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Lucida Casual"/>
              </a:rPr>
              <a:t>Longo Praz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9" name=""/>
          <p:cNvGrpSpPr/>
          <p:nvPr/>
        </p:nvGrpSpPr>
        <p:grpSpPr>
          <a:xfrm>
            <a:off x="4548960" y="2675520"/>
            <a:ext cx="3535560" cy="2072160"/>
            <a:chOff x="4548960" y="2675520"/>
            <a:chExt cx="3535560" cy="2072160"/>
          </a:xfrm>
        </p:grpSpPr>
        <p:sp>
          <p:nvSpPr>
            <p:cNvPr id="570" name=""/>
            <p:cNvSpPr/>
            <p:nvPr/>
          </p:nvSpPr>
          <p:spPr>
            <a:xfrm>
              <a:off x="4548960" y="2675520"/>
              <a:ext cx="272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ff"/>
                  </a:solidFill>
                  <a:latin typeface="Lucida Casual"/>
                </a:rPr>
                <a:t>Demanda </a:t>
              </a:r>
              <a:r>
                <a:rPr b="1" lang="pt-BR" sz="2000" spc="-1" strike="noStrike">
                  <a:solidFill>
                    <a:srgbClr val="ff0000"/>
                  </a:solidFill>
                  <a:latin typeface="Lucida Casual"/>
                </a:rPr>
                <a:t>Inelás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746240" y="3434040"/>
              <a:ext cx="33382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buClr>
                  <a:srgbClr val="0000ff"/>
                </a:buClr>
                <a:buFont typeface="Lucida Casu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Lucida Casual"/>
                </a:rPr>
                <a:t>Essenc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ff"/>
                </a:buClr>
                <a:buFont typeface="Lucida Casu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Lucida Casual"/>
                </a:rPr>
                <a:t>Poucos Substitut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ff"/>
                </a:buClr>
                <a:buFont typeface="Lucida Casu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Lucida Casual"/>
                </a:rPr>
                <a:t>Pequena Fatia da Ren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ff"/>
                </a:buClr>
                <a:buFont typeface="Lucida Casu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Lucida Casual"/>
                </a:rPr>
                <a:t>Curto Praz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 flipV="1">
            <a:off x="5927760" y="3841920"/>
            <a:ext cx="1830240" cy="86832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5927760" y="4206960"/>
            <a:ext cx="1830240" cy="86832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1903320" y="3840120"/>
            <a:ext cx="1830600" cy="86832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1919160" y="4191120"/>
            <a:ext cx="1830600" cy="86832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860480" y="4390920"/>
            <a:ext cx="1828800" cy="182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464160" y="3629160"/>
            <a:ext cx="655920" cy="1569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321720" y="969120"/>
            <a:ext cx="239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Exercício 5.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V="1">
            <a:off x="1339920" y="2790720"/>
            <a:ext cx="0" cy="3138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157400" y="5716440"/>
            <a:ext cx="3398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013040" y="26964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257720" y="52747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1081080" y="4451400"/>
            <a:ext cx="131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1112760" y="4527720"/>
            <a:ext cx="193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035160" y="4446720"/>
            <a:ext cx="115920" cy="115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381400" y="4384800"/>
            <a:ext cx="115560" cy="115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422440" y="449748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094200" y="45576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19560" y="443592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9,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5394240" y="2790720"/>
            <a:ext cx="0" cy="3138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211720" y="5716440"/>
            <a:ext cx="3398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282160" y="52585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H="1">
            <a:off x="5211720" y="4343400"/>
            <a:ext cx="1463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5211360" y="4635360"/>
            <a:ext cx="1569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800760" y="4568760"/>
            <a:ext cx="115920" cy="115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680160" y="4276800"/>
            <a:ext cx="115920" cy="115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735600" y="437688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875640" y="4680000"/>
            <a:ext cx="0" cy="114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021280" y="26503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38200" y="4221720"/>
            <a:ext cx="63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10,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675320" y="446472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8,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576680" y="4174200"/>
            <a:ext cx="63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12,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317640" y="582012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819120" y="582192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169360" y="589644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871000" y="589644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1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193480" y="4053600"/>
            <a:ext cx="33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Lucida Casu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658920" y="3871080"/>
            <a:ext cx="33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Lucida Casu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306880" y="2315520"/>
            <a:ext cx="91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Lucida Casual"/>
              </a:rPr>
              <a:t>Caso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471000" y="2299680"/>
            <a:ext cx="91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Lucida Casual"/>
              </a:rPr>
              <a:t>Caso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50080" y="1813680"/>
            <a:ext cx="81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Calcular a Elasticidade Preço da Demanda dos Casos </a:t>
            </a:r>
            <a:r>
              <a:rPr b="1" lang="en-US" sz="1800" spc="-1" strike="noStrike">
                <a:solidFill>
                  <a:srgbClr val="993300"/>
                </a:solidFill>
                <a:latin typeface="Lucida Casual"/>
              </a:rPr>
              <a:t>1</a:t>
            </a: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 e </a:t>
            </a:r>
            <a:r>
              <a:rPr b="1" lang="en-US" sz="1800" spc="-1" strike="noStrike">
                <a:solidFill>
                  <a:srgbClr val="993300"/>
                </a:solidFill>
                <a:latin typeface="Lucida Casu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, no ponto </a:t>
            </a:r>
            <a:r>
              <a:rPr b="1" lang="en-US" sz="1800" spc="-1" strike="noStrike">
                <a:solidFill>
                  <a:srgbClr val="ff0000"/>
                </a:solidFill>
                <a:latin typeface="Lucida Casual"/>
              </a:rPr>
              <a:t>A</a:t>
            </a: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6" name=""/>
          <p:cNvGrpSpPr/>
          <p:nvPr/>
        </p:nvGrpSpPr>
        <p:grpSpPr>
          <a:xfrm>
            <a:off x="762120" y="990720"/>
            <a:ext cx="1304640" cy="916920"/>
            <a:chOff x="762120" y="990720"/>
            <a:chExt cx="1304640" cy="916920"/>
          </a:xfrm>
        </p:grpSpPr>
        <p:sp>
          <p:nvSpPr>
            <p:cNvPr id="617" name=""/>
            <p:cNvSpPr/>
            <p:nvPr/>
          </p:nvSpPr>
          <p:spPr>
            <a:xfrm>
              <a:off x="1090080" y="990720"/>
              <a:ext cx="613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5400" spc="-1" strike="noStrike">
                  <a:solidFill>
                    <a:srgbClr val="ff6600"/>
                  </a:solidFill>
                  <a:latin typeface="Lucida Casual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58920" y="123228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6600"/>
                  </a:solidFill>
                  <a:latin typeface="Lucida Casu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62120" y="1106640"/>
              <a:ext cx="1304640" cy="619200"/>
            </a:xfrm>
            <a:prstGeom prst="ellipse">
              <a:avLst/>
            </a:prstGeom>
            <a:noFill/>
            <a:ln w="9360">
              <a:solidFill>
                <a:srgbClr val="ff6600"/>
              </a:solidFill>
              <a:miter/>
            </a:ln>
            <a:effectLst>
              <a:outerShdw dist="153753" dir="2700000" blurRad="0" rotWithShape="0">
                <a:srgbClr val="983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0" name=""/>
          <p:cNvSpPr/>
          <p:nvPr/>
        </p:nvSpPr>
        <p:spPr>
          <a:xfrm>
            <a:off x="774000" y="38016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66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4520" y="1676520"/>
            <a:ext cx="7986240" cy="41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Conhecer alguns dos efeitos resultantes de alteração das condiçõ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de mercad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Caracterizar os conceitos d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Bens Substitu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Bens Complementa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Bens Inferi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Reações do mer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Elastic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Tribut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/>
          <p:nvPr/>
        </p:nvSpPr>
        <p:spPr>
          <a:xfrm flipV="1">
            <a:off x="5927760" y="3841920"/>
            <a:ext cx="1830240" cy="86832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5927760" y="4206960"/>
            <a:ext cx="1830240" cy="86832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1903320" y="3840120"/>
            <a:ext cx="1830600" cy="86832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V="1">
            <a:off x="1919160" y="4191120"/>
            <a:ext cx="1830600" cy="86832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860480" y="4390920"/>
            <a:ext cx="1828800" cy="182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464160" y="3629160"/>
            <a:ext cx="655920" cy="1569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321720" y="969120"/>
            <a:ext cx="239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Exercício 5.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V="1">
            <a:off x="1339920" y="2790720"/>
            <a:ext cx="0" cy="3138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157400" y="5716440"/>
            <a:ext cx="3398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306880" y="2315520"/>
            <a:ext cx="91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Lucida Casual"/>
              </a:rPr>
              <a:t>Caso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013040" y="26964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257720" y="52747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1081080" y="4451400"/>
            <a:ext cx="131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 flipH="1">
            <a:off x="1112760" y="4527720"/>
            <a:ext cx="193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035160" y="4446720"/>
            <a:ext cx="115920" cy="115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381400" y="4384800"/>
            <a:ext cx="115560" cy="115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422440" y="449748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094200" y="45576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19560" y="443592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Lucida Casual"/>
              </a:rPr>
              <a:t>9,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5394240" y="2790720"/>
            <a:ext cx="0" cy="3138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211720" y="5716440"/>
            <a:ext cx="3398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8282160" y="52585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5211720" y="4343400"/>
            <a:ext cx="1463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H="1">
            <a:off x="5211360" y="4635360"/>
            <a:ext cx="1569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800760" y="4568760"/>
            <a:ext cx="115920" cy="115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680160" y="4276800"/>
            <a:ext cx="115920" cy="115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735600" y="437688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875640" y="4680000"/>
            <a:ext cx="0" cy="114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021280" y="26503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471000" y="2299680"/>
            <a:ext cx="91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Lucida Casual"/>
              </a:rPr>
              <a:t>Caso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38200" y="4221720"/>
            <a:ext cx="63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Lucida Casual"/>
              </a:rPr>
              <a:t>10,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675320" y="446472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Lucida Casual"/>
              </a:rPr>
              <a:t>8,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576680" y="4174200"/>
            <a:ext cx="63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Lucida Casual"/>
              </a:rPr>
              <a:t>12,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317640" y="582012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Lucida Casu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819120" y="582192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Lucida Casual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169360" y="589644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Lucida Casu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871000" y="589644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Lucida Casual"/>
              </a:rPr>
              <a:t>1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50080" y="1813680"/>
            <a:ext cx="81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Calcular a Elasticidade Preço da Demanda dos Casos </a:t>
            </a:r>
            <a:r>
              <a:rPr b="1" lang="en-US" sz="1800" spc="-1" strike="noStrike">
                <a:solidFill>
                  <a:srgbClr val="993300"/>
                </a:solidFill>
                <a:latin typeface="Lucida Casual"/>
              </a:rPr>
              <a:t>1</a:t>
            </a: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 e </a:t>
            </a:r>
            <a:r>
              <a:rPr b="1" lang="en-US" sz="1800" spc="-1" strike="noStrike">
                <a:solidFill>
                  <a:srgbClr val="993300"/>
                </a:solidFill>
                <a:latin typeface="Lucida Casu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, no ponto </a:t>
            </a:r>
            <a:r>
              <a:rPr b="1" lang="en-US" sz="1800" spc="-1" strike="noStrike">
                <a:solidFill>
                  <a:srgbClr val="ff0000"/>
                </a:solidFill>
                <a:latin typeface="Lucida Casual"/>
              </a:rPr>
              <a:t>A</a:t>
            </a: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193480" y="4053600"/>
            <a:ext cx="33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Lucida Casu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658920" y="3871080"/>
            <a:ext cx="33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Lucida Casu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514520" y="3109320"/>
            <a:ext cx="56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e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001960" y="3278160"/>
            <a:ext cx="765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020680" y="2866320"/>
            <a:ext cx="4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406600" y="32616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035080" y="3270960"/>
            <a:ext cx="4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Symbol"/>
                <a:ea typeface="Symbol"/>
              </a:rPr>
              <a:t>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408400" y="28584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046320" y="3297240"/>
            <a:ext cx="1027080" cy="14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232080" y="299520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Lucida Casual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457080" y="3309480"/>
            <a:ext cx="5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Lucida Casu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160440" y="330156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8000"/>
                </a:solidFill>
                <a:latin typeface="Symbol"/>
                <a:ea typeface="Symbol"/>
              </a:rPr>
              <a:t>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595680" y="298404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8000"/>
                </a:solidFill>
                <a:latin typeface="Lucida Casu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784600" y="3096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071600" y="3094920"/>
            <a:ext cx="5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= -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554800" y="3064680"/>
            <a:ext cx="56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e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041880" y="3233880"/>
            <a:ext cx="76536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060960" y="2821680"/>
            <a:ext cx="4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446880" y="32173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075360" y="3226680"/>
            <a:ext cx="4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Symbol"/>
                <a:ea typeface="Symbol"/>
              </a:rPr>
              <a:t>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448680" y="28137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134120" y="3214800"/>
            <a:ext cx="858960" cy="14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174080" y="293184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Lucida Casu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478280" y="3246120"/>
            <a:ext cx="5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Lucida Casu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7176240" y="323820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8000"/>
                </a:solidFill>
                <a:latin typeface="Lucida Casu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7575480" y="293976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8000"/>
                </a:solidFill>
                <a:latin typeface="Lucida Casu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824880" y="3052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8013960" y="3031560"/>
            <a:ext cx="7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= -0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487520" y="4747320"/>
            <a:ext cx="4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Symbol"/>
                <a:ea typeface="Symbol"/>
              </a:rPr>
              <a:t>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538360" y="5122080"/>
            <a:ext cx="4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494320" y="4290120"/>
            <a:ext cx="4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Symbol"/>
                <a:ea typeface="Symbol"/>
              </a:rPr>
              <a:t>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164280" y="5091840"/>
            <a:ext cx="4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126120" y="5532480"/>
            <a:ext cx="5954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6873840" y="5532480"/>
            <a:ext cx="3492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422440" y="5532480"/>
            <a:ext cx="67176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684760" y="3916440"/>
            <a:ext cx="0" cy="42696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V="1">
            <a:off x="5684760" y="4632480"/>
            <a:ext cx="0" cy="38088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508040" y="4022640"/>
            <a:ext cx="0" cy="42696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V="1">
            <a:off x="1492200" y="4541400"/>
            <a:ext cx="0" cy="7477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"/>
          <p:cNvSpPr/>
          <p:nvPr/>
        </p:nvSpPr>
        <p:spPr>
          <a:xfrm flipV="1">
            <a:off x="5927760" y="3841920"/>
            <a:ext cx="1830240" cy="8683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5927760" y="4206960"/>
            <a:ext cx="1830240" cy="8683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V="1">
            <a:off x="1903320" y="3840120"/>
            <a:ext cx="1830600" cy="8683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V="1">
            <a:off x="1919160" y="4191120"/>
            <a:ext cx="1830600" cy="8683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1860480" y="4390920"/>
            <a:ext cx="1828800" cy="1825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6464160" y="3629160"/>
            <a:ext cx="655920" cy="15699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321720" y="969120"/>
            <a:ext cx="239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Exercício 5.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V="1">
            <a:off x="1339920" y="2790720"/>
            <a:ext cx="0" cy="3138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157400" y="5716440"/>
            <a:ext cx="3398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306880" y="2315520"/>
            <a:ext cx="91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Lucida Casual"/>
              </a:rPr>
              <a:t>Caso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013040" y="26964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257720" y="52747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H="1">
            <a:off x="1081080" y="4451400"/>
            <a:ext cx="131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1112760" y="4527720"/>
            <a:ext cx="193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035160" y="4446720"/>
            <a:ext cx="115920" cy="115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81400" y="4384800"/>
            <a:ext cx="115560" cy="115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22440" y="449748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094200" y="45576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603720" y="443592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Lucida Casual"/>
              </a:rPr>
              <a:t>9,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5394240" y="2790720"/>
            <a:ext cx="0" cy="3138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211720" y="5716440"/>
            <a:ext cx="3398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8282160" y="52585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>
            <a:off x="5211720" y="4343400"/>
            <a:ext cx="1463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flipH="1">
            <a:off x="5211360" y="4635360"/>
            <a:ext cx="1569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800760" y="4568760"/>
            <a:ext cx="115920" cy="115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680160" y="4276800"/>
            <a:ext cx="115920" cy="115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735600" y="437688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875640" y="4680000"/>
            <a:ext cx="0" cy="114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5021280" y="26503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471000" y="2299680"/>
            <a:ext cx="91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Lucida Casual"/>
              </a:rPr>
              <a:t>Caso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538200" y="4221720"/>
            <a:ext cx="63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Lucida Casual"/>
              </a:rPr>
              <a:t>10,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675320" y="446472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Lucida Casual"/>
              </a:rPr>
              <a:t>8,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4576680" y="4174200"/>
            <a:ext cx="63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Lucida Casual"/>
              </a:rPr>
              <a:t>12,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317640" y="582012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Lucida Casu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819120" y="582192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Lucida Casual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69360" y="589644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Lucida Casu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871000" y="589644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Lucida Casual"/>
              </a:rPr>
              <a:t>1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50080" y="1813680"/>
            <a:ext cx="81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Calcular a Elasticidade Preço da Demanda dos Casos </a:t>
            </a:r>
            <a:r>
              <a:rPr b="1" lang="en-US" sz="1800" spc="-1" strike="noStrike">
                <a:solidFill>
                  <a:srgbClr val="993300"/>
                </a:solidFill>
                <a:latin typeface="Lucida Casual"/>
              </a:rPr>
              <a:t>1</a:t>
            </a: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 e </a:t>
            </a:r>
            <a:r>
              <a:rPr b="1" lang="en-US" sz="1800" spc="-1" strike="noStrike">
                <a:solidFill>
                  <a:srgbClr val="993300"/>
                </a:solidFill>
                <a:latin typeface="Lucida Casu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, no ponto </a:t>
            </a:r>
            <a:r>
              <a:rPr b="1" lang="en-US" sz="1800" spc="-1" strike="noStrike">
                <a:solidFill>
                  <a:srgbClr val="ff0000"/>
                </a:solidFill>
                <a:latin typeface="Lucida Casual"/>
              </a:rPr>
              <a:t>A</a:t>
            </a: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193480" y="4053600"/>
            <a:ext cx="33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Lucida Casu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658920" y="3871080"/>
            <a:ext cx="33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Lucida Casu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1487520" y="4747320"/>
            <a:ext cx="4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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538360" y="5122080"/>
            <a:ext cx="4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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494320" y="4290120"/>
            <a:ext cx="4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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164280" y="5091840"/>
            <a:ext cx="4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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126120" y="5532480"/>
            <a:ext cx="59544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H="1">
            <a:off x="6873840" y="5532480"/>
            <a:ext cx="34920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422440" y="5532480"/>
            <a:ext cx="671760" cy="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5684760" y="3916440"/>
            <a:ext cx="0" cy="42696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 flipV="1">
            <a:off x="5684760" y="4632480"/>
            <a:ext cx="0" cy="3808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508040" y="4022640"/>
            <a:ext cx="0" cy="42696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1492200" y="4541400"/>
            <a:ext cx="0" cy="74772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513800" y="3109320"/>
            <a:ext cx="56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e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001960" y="3278160"/>
            <a:ext cx="7650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2021400" y="2866320"/>
            <a:ext cx="4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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407320" y="32616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035080" y="3270960"/>
            <a:ext cx="4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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408040" y="28584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046320" y="3297240"/>
            <a:ext cx="1027080" cy="14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232080" y="299520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808080"/>
                </a:solidFill>
                <a:latin typeface="Lucida Casual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457080" y="3309480"/>
            <a:ext cx="5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808080"/>
                </a:solidFill>
                <a:latin typeface="Lucida Casu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160440" y="330156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808080"/>
                </a:solidFill>
                <a:latin typeface="Symbol"/>
                <a:ea typeface="Symbol"/>
              </a:rPr>
              <a:t>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595680" y="298404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808080"/>
                </a:solidFill>
                <a:latin typeface="Lucida Casu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784600" y="3096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071600" y="3094920"/>
            <a:ext cx="5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= </a:t>
            </a: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-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5554080" y="3064680"/>
            <a:ext cx="56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e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041880" y="3233880"/>
            <a:ext cx="76536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061680" y="2821680"/>
            <a:ext cx="4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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447600" y="32173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6075000" y="3226680"/>
            <a:ext cx="4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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6448320" y="28137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7143840" y="3224160"/>
            <a:ext cx="858600" cy="18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174080" y="293184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808080"/>
                </a:solidFill>
                <a:latin typeface="Lucida Casu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478280" y="3246120"/>
            <a:ext cx="5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808080"/>
                </a:solidFill>
                <a:latin typeface="Lucida Casu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7176240" y="323820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808080"/>
                </a:solidFill>
                <a:latin typeface="Lucida Casu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7575480" y="293976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808080"/>
                </a:solidFill>
                <a:latin typeface="Lucida Casu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6824880" y="30614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8014320" y="3031560"/>
            <a:ext cx="7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= </a:t>
            </a: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-0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"/>
          <p:cNvSpPr/>
          <p:nvPr/>
        </p:nvSpPr>
        <p:spPr>
          <a:xfrm>
            <a:off x="2987640" y="4014720"/>
            <a:ext cx="1760400" cy="11988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668320" y="913680"/>
            <a:ext cx="375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Efeito da Tribut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flipV="1">
            <a:off x="2987640" y="2077560"/>
            <a:ext cx="0" cy="3333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2755800" y="5210280"/>
            <a:ext cx="376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030480" y="3263760"/>
            <a:ext cx="3116160" cy="1339920"/>
          </a:xfrm>
          <a:custGeom>
            <a:avLst/>
            <a:gdLst/>
            <a:ahLst/>
            <a:rect l="l" t="t" r="r" b="b"/>
            <a:pathLst>
              <a:path w="1963" h="663">
                <a:moveTo>
                  <a:pt x="0" y="663"/>
                </a:moveTo>
                <a:cubicBezTo>
                  <a:pt x="220" y="621"/>
                  <a:pt x="441" y="580"/>
                  <a:pt x="682" y="509"/>
                </a:cubicBezTo>
                <a:cubicBezTo>
                  <a:pt x="923" y="438"/>
                  <a:pt x="1231" y="321"/>
                  <a:pt x="1445" y="236"/>
                </a:cubicBezTo>
                <a:cubicBezTo>
                  <a:pt x="1659" y="151"/>
                  <a:pt x="1877" y="39"/>
                  <a:pt x="1963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002040" y="2540160"/>
            <a:ext cx="3159000" cy="2106360"/>
          </a:xfrm>
          <a:custGeom>
            <a:avLst/>
            <a:gdLst/>
            <a:ahLst/>
            <a:rect l="l" t="t" r="r" b="b"/>
            <a:pathLst>
              <a:path w="1627" h="1427">
                <a:moveTo>
                  <a:pt x="0" y="0"/>
                </a:moveTo>
                <a:cubicBezTo>
                  <a:pt x="134" y="197"/>
                  <a:pt x="268" y="394"/>
                  <a:pt x="463" y="591"/>
                </a:cubicBezTo>
                <a:cubicBezTo>
                  <a:pt x="658" y="788"/>
                  <a:pt x="978" y="1043"/>
                  <a:pt x="1172" y="1182"/>
                </a:cubicBezTo>
                <a:cubicBezTo>
                  <a:pt x="1366" y="1321"/>
                  <a:pt x="1551" y="1386"/>
                  <a:pt x="1627" y="1427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6187680" y="449208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6153840" y="307728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rot="16200000">
            <a:off x="2218320" y="228204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5742000" y="536040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4762440" y="4027320"/>
            <a:ext cx="0" cy="119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flipH="1">
            <a:off x="2987640" y="4011480"/>
            <a:ext cx="177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691160" y="3954600"/>
            <a:ext cx="144360" cy="12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629240" y="52286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2637000" y="38142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4127400" y="2165400"/>
            <a:ext cx="2024280" cy="609480"/>
          </a:xfrm>
          <a:prstGeom prst="wedgeRoundRectCallout">
            <a:avLst>
              <a:gd name="adj1" fmla="val -59962"/>
              <a:gd name="adj2" fmla="val 247657"/>
              <a:gd name="adj3" fmla="val 1666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Receita 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Setor Produ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"/>
          <p:cNvSpPr/>
          <p:nvPr/>
        </p:nvSpPr>
        <p:spPr>
          <a:xfrm>
            <a:off x="2987640" y="4013280"/>
            <a:ext cx="1760400" cy="11811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976480" y="3587760"/>
            <a:ext cx="1154160" cy="682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2668320" y="913680"/>
            <a:ext cx="375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Efeito da Tribut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2987640" y="2077560"/>
            <a:ext cx="0" cy="3333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755800" y="5210280"/>
            <a:ext cx="376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002040" y="2540160"/>
            <a:ext cx="3159000" cy="2106360"/>
          </a:xfrm>
          <a:custGeom>
            <a:avLst/>
            <a:gdLst/>
            <a:ahLst/>
            <a:rect l="l" t="t" r="r" b="b"/>
            <a:pathLst>
              <a:path w="1627" h="1427">
                <a:moveTo>
                  <a:pt x="0" y="0"/>
                </a:moveTo>
                <a:cubicBezTo>
                  <a:pt x="134" y="197"/>
                  <a:pt x="268" y="394"/>
                  <a:pt x="463" y="591"/>
                </a:cubicBezTo>
                <a:cubicBezTo>
                  <a:pt x="658" y="788"/>
                  <a:pt x="978" y="1043"/>
                  <a:pt x="1172" y="1182"/>
                </a:cubicBezTo>
                <a:cubicBezTo>
                  <a:pt x="1366" y="1321"/>
                  <a:pt x="1551" y="1386"/>
                  <a:pt x="1627" y="1427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6187680" y="449208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6153840" y="307728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rot="16200000">
            <a:off x="2218320" y="228204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742000" y="536040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4762440" y="4027320"/>
            <a:ext cx="0" cy="119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2987640" y="4011480"/>
            <a:ext cx="1774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4629240" y="52286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2637000" y="38142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009960" y="2579760"/>
            <a:ext cx="3116160" cy="1339920"/>
          </a:xfrm>
          <a:custGeom>
            <a:avLst/>
            <a:gdLst/>
            <a:ahLst/>
            <a:rect l="l" t="t" r="r" b="b"/>
            <a:pathLst>
              <a:path w="1963" h="663">
                <a:moveTo>
                  <a:pt x="0" y="663"/>
                </a:moveTo>
                <a:cubicBezTo>
                  <a:pt x="220" y="621"/>
                  <a:pt x="441" y="580"/>
                  <a:pt x="682" y="509"/>
                </a:cubicBezTo>
                <a:cubicBezTo>
                  <a:pt x="923" y="438"/>
                  <a:pt x="1231" y="321"/>
                  <a:pt x="1445" y="236"/>
                </a:cubicBezTo>
                <a:cubicBezTo>
                  <a:pt x="1659" y="151"/>
                  <a:pt x="1877" y="39"/>
                  <a:pt x="1963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2995560" y="4278240"/>
            <a:ext cx="1154160" cy="9097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5973840" y="2684520"/>
            <a:ext cx="0" cy="663480"/>
          </a:xfrm>
          <a:prstGeom prst="line">
            <a:avLst/>
          </a:prstGeom>
          <a:ln w="28440">
            <a:solidFill>
              <a:srgbClr val="99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6000120" y="2804400"/>
            <a:ext cx="11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993300"/>
                </a:solidFill>
                <a:latin typeface="Lucida Casual"/>
              </a:rPr>
              <a:t>Imp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141800" y="3651120"/>
            <a:ext cx="0" cy="1559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H="1">
            <a:off x="2987280" y="3579840"/>
            <a:ext cx="1111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4002120" y="52365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2644920" y="337428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V="1">
            <a:off x="2496960" y="3579480"/>
            <a:ext cx="0" cy="447480"/>
          </a:xfrm>
          <a:prstGeom prst="line">
            <a:avLst/>
          </a:prstGeom>
          <a:ln w="2844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H="1">
            <a:off x="4127400" y="5729400"/>
            <a:ext cx="649440" cy="0"/>
          </a:xfrm>
          <a:prstGeom prst="line">
            <a:avLst/>
          </a:prstGeom>
          <a:ln w="2844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064040" y="3516480"/>
            <a:ext cx="144360" cy="12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3030480" y="3263760"/>
            <a:ext cx="3116160" cy="1339920"/>
          </a:xfrm>
          <a:custGeom>
            <a:avLst/>
            <a:gdLst/>
            <a:ahLst/>
            <a:rect l="l" t="t" r="r" b="b"/>
            <a:pathLst>
              <a:path w="1963" h="663">
                <a:moveTo>
                  <a:pt x="0" y="663"/>
                </a:moveTo>
                <a:cubicBezTo>
                  <a:pt x="220" y="621"/>
                  <a:pt x="441" y="580"/>
                  <a:pt x="682" y="509"/>
                </a:cubicBezTo>
                <a:cubicBezTo>
                  <a:pt x="923" y="438"/>
                  <a:pt x="1231" y="321"/>
                  <a:pt x="1445" y="236"/>
                </a:cubicBezTo>
                <a:cubicBezTo>
                  <a:pt x="1659" y="151"/>
                  <a:pt x="1877" y="39"/>
                  <a:pt x="1963" y="0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4691160" y="3954600"/>
            <a:ext cx="144360" cy="1299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486240" y="1905120"/>
            <a:ext cx="1790640" cy="609480"/>
          </a:xfrm>
          <a:prstGeom prst="wedgeRoundRectCallout">
            <a:avLst>
              <a:gd name="adj1" fmla="val -46810"/>
              <a:gd name="adj2" fmla="val 22942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Recolhid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elo Gover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157480" y="913680"/>
            <a:ext cx="47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Excedente do Consumi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V="1">
            <a:off x="2987640" y="2077560"/>
            <a:ext cx="0" cy="3333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755800" y="5210280"/>
            <a:ext cx="376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030480" y="3263760"/>
            <a:ext cx="3116160" cy="1339920"/>
          </a:xfrm>
          <a:custGeom>
            <a:avLst/>
            <a:gdLst/>
            <a:ahLst/>
            <a:rect l="l" t="t" r="r" b="b"/>
            <a:pathLst>
              <a:path w="1963" h="663">
                <a:moveTo>
                  <a:pt x="0" y="663"/>
                </a:moveTo>
                <a:cubicBezTo>
                  <a:pt x="220" y="621"/>
                  <a:pt x="441" y="580"/>
                  <a:pt x="682" y="509"/>
                </a:cubicBezTo>
                <a:cubicBezTo>
                  <a:pt x="923" y="438"/>
                  <a:pt x="1231" y="321"/>
                  <a:pt x="1445" y="236"/>
                </a:cubicBezTo>
                <a:cubicBezTo>
                  <a:pt x="1659" y="151"/>
                  <a:pt x="1877" y="39"/>
                  <a:pt x="1963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002040" y="2540160"/>
            <a:ext cx="3159000" cy="2106360"/>
          </a:xfrm>
          <a:custGeom>
            <a:avLst/>
            <a:gdLst/>
            <a:ahLst/>
            <a:rect l="l" t="t" r="r" b="b"/>
            <a:pathLst>
              <a:path w="1627" h="1427">
                <a:moveTo>
                  <a:pt x="0" y="0"/>
                </a:moveTo>
                <a:cubicBezTo>
                  <a:pt x="134" y="197"/>
                  <a:pt x="268" y="394"/>
                  <a:pt x="463" y="591"/>
                </a:cubicBezTo>
                <a:cubicBezTo>
                  <a:pt x="658" y="788"/>
                  <a:pt x="978" y="1043"/>
                  <a:pt x="1172" y="1182"/>
                </a:cubicBezTo>
                <a:cubicBezTo>
                  <a:pt x="1366" y="1321"/>
                  <a:pt x="1551" y="1386"/>
                  <a:pt x="1627" y="1427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6187680" y="449208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6153840" y="307728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rot="16200000">
            <a:off x="2218320" y="228204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5742000" y="536040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762440" y="4027320"/>
            <a:ext cx="0" cy="119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flipH="1">
            <a:off x="2987640" y="4011480"/>
            <a:ext cx="177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4691160" y="3954600"/>
            <a:ext cx="144360" cy="12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4629240" y="52286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2637000" y="38142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3102120" y="2684520"/>
            <a:ext cx="0" cy="13269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3692520" y="1616040"/>
            <a:ext cx="2776680" cy="609480"/>
          </a:xfrm>
          <a:prstGeom prst="wedgeRoundRectCallout">
            <a:avLst>
              <a:gd name="adj1" fmla="val -66638"/>
              <a:gd name="adj2" fmla="val 115106"/>
              <a:gd name="adj3" fmla="val 16667"/>
            </a:avLst>
          </a:prstGeom>
          <a:solidFill>
            <a:srgbClr val="ffcc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Preço, se houves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sòmente 1 consumi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3024360" y="2619360"/>
            <a:ext cx="144360" cy="1303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 flipV="1">
            <a:off x="2987640" y="2077560"/>
            <a:ext cx="0" cy="3333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755800" y="5210280"/>
            <a:ext cx="376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030480" y="3263760"/>
            <a:ext cx="3116160" cy="1339920"/>
          </a:xfrm>
          <a:custGeom>
            <a:avLst/>
            <a:gdLst/>
            <a:ahLst/>
            <a:rect l="l" t="t" r="r" b="b"/>
            <a:pathLst>
              <a:path w="1963" h="663">
                <a:moveTo>
                  <a:pt x="0" y="663"/>
                </a:moveTo>
                <a:cubicBezTo>
                  <a:pt x="220" y="621"/>
                  <a:pt x="441" y="580"/>
                  <a:pt x="682" y="509"/>
                </a:cubicBezTo>
                <a:cubicBezTo>
                  <a:pt x="923" y="438"/>
                  <a:pt x="1231" y="321"/>
                  <a:pt x="1445" y="236"/>
                </a:cubicBezTo>
                <a:cubicBezTo>
                  <a:pt x="1659" y="151"/>
                  <a:pt x="1877" y="39"/>
                  <a:pt x="1963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3002040" y="2540160"/>
            <a:ext cx="3159000" cy="2106360"/>
          </a:xfrm>
          <a:custGeom>
            <a:avLst/>
            <a:gdLst/>
            <a:ahLst/>
            <a:rect l="l" t="t" r="r" b="b"/>
            <a:pathLst>
              <a:path w="1627" h="1427">
                <a:moveTo>
                  <a:pt x="0" y="0"/>
                </a:moveTo>
                <a:cubicBezTo>
                  <a:pt x="134" y="197"/>
                  <a:pt x="268" y="394"/>
                  <a:pt x="463" y="591"/>
                </a:cubicBezTo>
                <a:cubicBezTo>
                  <a:pt x="658" y="788"/>
                  <a:pt x="978" y="1043"/>
                  <a:pt x="1172" y="1182"/>
                </a:cubicBezTo>
                <a:cubicBezTo>
                  <a:pt x="1366" y="1321"/>
                  <a:pt x="1551" y="1386"/>
                  <a:pt x="1627" y="1427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187680" y="449208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6153840" y="307728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rot="16200000">
            <a:off x="2218320" y="228204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5742000" y="536040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4762440" y="4027320"/>
            <a:ext cx="0" cy="119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H="1">
            <a:off x="2987640" y="4011480"/>
            <a:ext cx="177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4691160" y="3954600"/>
            <a:ext cx="144360" cy="12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4629240" y="52286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2637000" y="38142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102120" y="2684520"/>
            <a:ext cx="0" cy="13269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3692520" y="1616040"/>
            <a:ext cx="2776680" cy="609480"/>
          </a:xfrm>
          <a:prstGeom prst="wedgeRoundRectCallout">
            <a:avLst>
              <a:gd name="adj1" fmla="val -62462"/>
              <a:gd name="adj2" fmla="val 141148"/>
              <a:gd name="adj3" fmla="val 16667"/>
            </a:avLst>
          </a:prstGeom>
          <a:solidFill>
            <a:srgbClr val="ffcc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Preço menor, pago pel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dois consumi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181320" y="2763720"/>
            <a:ext cx="144360" cy="1303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240000" y="2808360"/>
            <a:ext cx="0" cy="12110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2157480" y="913680"/>
            <a:ext cx="47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Excedente do Consumi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2987640" y="2077560"/>
            <a:ext cx="0" cy="3333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755800" y="5210280"/>
            <a:ext cx="376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3030480" y="3263760"/>
            <a:ext cx="3116160" cy="1339920"/>
          </a:xfrm>
          <a:custGeom>
            <a:avLst/>
            <a:gdLst/>
            <a:ahLst/>
            <a:rect l="l" t="t" r="r" b="b"/>
            <a:pathLst>
              <a:path w="1963" h="663">
                <a:moveTo>
                  <a:pt x="0" y="663"/>
                </a:moveTo>
                <a:cubicBezTo>
                  <a:pt x="220" y="621"/>
                  <a:pt x="441" y="580"/>
                  <a:pt x="682" y="509"/>
                </a:cubicBezTo>
                <a:cubicBezTo>
                  <a:pt x="923" y="438"/>
                  <a:pt x="1231" y="321"/>
                  <a:pt x="1445" y="236"/>
                </a:cubicBezTo>
                <a:cubicBezTo>
                  <a:pt x="1659" y="151"/>
                  <a:pt x="1877" y="39"/>
                  <a:pt x="1963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02040" y="2540160"/>
            <a:ext cx="3159000" cy="2106360"/>
          </a:xfrm>
          <a:custGeom>
            <a:avLst/>
            <a:gdLst/>
            <a:ahLst/>
            <a:rect l="l" t="t" r="r" b="b"/>
            <a:pathLst>
              <a:path w="1627" h="1427">
                <a:moveTo>
                  <a:pt x="0" y="0"/>
                </a:moveTo>
                <a:cubicBezTo>
                  <a:pt x="134" y="197"/>
                  <a:pt x="268" y="394"/>
                  <a:pt x="463" y="591"/>
                </a:cubicBezTo>
                <a:cubicBezTo>
                  <a:pt x="658" y="788"/>
                  <a:pt x="978" y="1043"/>
                  <a:pt x="1172" y="1182"/>
                </a:cubicBezTo>
                <a:cubicBezTo>
                  <a:pt x="1366" y="1321"/>
                  <a:pt x="1551" y="1386"/>
                  <a:pt x="1627" y="1427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6187680" y="449208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153840" y="307728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 rot="16200000">
            <a:off x="2218320" y="228204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5742000" y="536040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762440" y="4027320"/>
            <a:ext cx="0" cy="119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 flipH="1">
            <a:off x="2987640" y="4011480"/>
            <a:ext cx="177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691160" y="3954600"/>
            <a:ext cx="144360" cy="12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629240" y="52286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2637000" y="38142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3102120" y="2660760"/>
            <a:ext cx="0" cy="135072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3692520" y="1616040"/>
            <a:ext cx="2776680" cy="609480"/>
          </a:xfrm>
          <a:prstGeom prst="wedgeRoundRectCallout">
            <a:avLst>
              <a:gd name="adj1" fmla="val -58291"/>
              <a:gd name="adj2" fmla="val 162240"/>
              <a:gd name="adj3" fmla="val 16667"/>
            </a:avLst>
          </a:prstGeom>
          <a:solidFill>
            <a:srgbClr val="ffcc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Preço menor, pago pel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três consumi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3313080" y="2901960"/>
            <a:ext cx="144360" cy="1303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240000" y="2808360"/>
            <a:ext cx="0" cy="12110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392640" y="2989440"/>
            <a:ext cx="0" cy="10238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2157480" y="913680"/>
            <a:ext cx="47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Excedente do Consumi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 flipV="1">
            <a:off x="2987640" y="2077560"/>
            <a:ext cx="0" cy="3333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755800" y="5210280"/>
            <a:ext cx="376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030480" y="3263760"/>
            <a:ext cx="3116160" cy="1339920"/>
          </a:xfrm>
          <a:custGeom>
            <a:avLst/>
            <a:gdLst/>
            <a:ahLst/>
            <a:rect l="l" t="t" r="r" b="b"/>
            <a:pathLst>
              <a:path w="1963" h="663">
                <a:moveTo>
                  <a:pt x="0" y="663"/>
                </a:moveTo>
                <a:cubicBezTo>
                  <a:pt x="220" y="621"/>
                  <a:pt x="441" y="580"/>
                  <a:pt x="682" y="509"/>
                </a:cubicBezTo>
                <a:cubicBezTo>
                  <a:pt x="923" y="438"/>
                  <a:pt x="1231" y="321"/>
                  <a:pt x="1445" y="236"/>
                </a:cubicBezTo>
                <a:cubicBezTo>
                  <a:pt x="1659" y="151"/>
                  <a:pt x="1877" y="39"/>
                  <a:pt x="1963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002040" y="2540160"/>
            <a:ext cx="3159000" cy="2106360"/>
          </a:xfrm>
          <a:custGeom>
            <a:avLst/>
            <a:gdLst/>
            <a:ahLst/>
            <a:rect l="l" t="t" r="r" b="b"/>
            <a:pathLst>
              <a:path w="1627" h="1427">
                <a:moveTo>
                  <a:pt x="0" y="0"/>
                </a:moveTo>
                <a:cubicBezTo>
                  <a:pt x="134" y="197"/>
                  <a:pt x="268" y="394"/>
                  <a:pt x="463" y="591"/>
                </a:cubicBezTo>
                <a:cubicBezTo>
                  <a:pt x="658" y="788"/>
                  <a:pt x="978" y="1043"/>
                  <a:pt x="1172" y="1182"/>
                </a:cubicBezTo>
                <a:cubicBezTo>
                  <a:pt x="1366" y="1321"/>
                  <a:pt x="1551" y="1386"/>
                  <a:pt x="1627" y="1427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6187680" y="449208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6153840" y="307728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rot="16200000">
            <a:off x="2218320" y="228204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5742000" y="536040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4762440" y="4027320"/>
            <a:ext cx="0" cy="119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 flipH="1">
            <a:off x="2987640" y="4011480"/>
            <a:ext cx="177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691160" y="3954600"/>
            <a:ext cx="144360" cy="12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4629240" y="52286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2637000" y="38142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692520" y="1616040"/>
            <a:ext cx="2776680" cy="609480"/>
          </a:xfrm>
          <a:prstGeom prst="wedgeRoundRectCallout">
            <a:avLst>
              <a:gd name="adj1" fmla="val -50458"/>
              <a:gd name="adj2" fmla="val 211981"/>
              <a:gd name="adj3" fmla="val 16667"/>
            </a:avLst>
          </a:prstGeom>
          <a:solidFill>
            <a:srgbClr val="ffcc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Todos os consumi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pagam me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3535200" y="3112920"/>
            <a:ext cx="0" cy="9003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3678120" y="3218040"/>
            <a:ext cx="0" cy="7952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3821040" y="3341520"/>
            <a:ext cx="0" cy="6717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3944880" y="3456000"/>
            <a:ext cx="0" cy="5666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4078440" y="3541680"/>
            <a:ext cx="0" cy="4716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4211640" y="3637080"/>
            <a:ext cx="0" cy="3855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344840" y="3732120"/>
            <a:ext cx="0" cy="29052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4478400" y="3817800"/>
            <a:ext cx="0" cy="2048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4602240" y="3894120"/>
            <a:ext cx="0" cy="1191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2157480" y="913680"/>
            <a:ext cx="47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Excedente do Consumi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102120" y="2660760"/>
            <a:ext cx="0" cy="135072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240000" y="2808360"/>
            <a:ext cx="0" cy="12110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392640" y="2989440"/>
            <a:ext cx="0" cy="10238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"/>
          <p:cNvSpPr/>
          <p:nvPr/>
        </p:nvSpPr>
        <p:spPr>
          <a:xfrm>
            <a:off x="2987640" y="2548080"/>
            <a:ext cx="1774800" cy="1463400"/>
          </a:xfrm>
          <a:custGeom>
            <a:avLst/>
            <a:gdLst/>
            <a:ahLst/>
            <a:rect l="l" t="t" r="r" b="b"/>
            <a:pathLst>
              <a:path w="1118" h="922">
                <a:moveTo>
                  <a:pt x="2" y="0"/>
                </a:moveTo>
                <a:lnTo>
                  <a:pt x="163" y="168"/>
                </a:lnTo>
                <a:lnTo>
                  <a:pt x="353" y="360"/>
                </a:lnTo>
                <a:lnTo>
                  <a:pt x="584" y="555"/>
                </a:lnTo>
                <a:lnTo>
                  <a:pt x="842" y="729"/>
                </a:lnTo>
                <a:lnTo>
                  <a:pt x="1028" y="855"/>
                </a:lnTo>
                <a:lnTo>
                  <a:pt x="1118" y="922"/>
                </a:lnTo>
                <a:lnTo>
                  <a:pt x="0" y="922"/>
                </a:lnTo>
                <a:lnTo>
                  <a:pt x="2" y="0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 flipV="1">
            <a:off x="2987640" y="2077560"/>
            <a:ext cx="0" cy="3333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2755800" y="5210280"/>
            <a:ext cx="376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030480" y="3263760"/>
            <a:ext cx="3116160" cy="1339920"/>
          </a:xfrm>
          <a:custGeom>
            <a:avLst/>
            <a:gdLst/>
            <a:ahLst/>
            <a:rect l="l" t="t" r="r" b="b"/>
            <a:pathLst>
              <a:path w="1963" h="663">
                <a:moveTo>
                  <a:pt x="0" y="663"/>
                </a:moveTo>
                <a:cubicBezTo>
                  <a:pt x="220" y="621"/>
                  <a:pt x="441" y="580"/>
                  <a:pt x="682" y="509"/>
                </a:cubicBezTo>
                <a:cubicBezTo>
                  <a:pt x="923" y="438"/>
                  <a:pt x="1231" y="321"/>
                  <a:pt x="1445" y="236"/>
                </a:cubicBezTo>
                <a:cubicBezTo>
                  <a:pt x="1659" y="151"/>
                  <a:pt x="1877" y="39"/>
                  <a:pt x="1963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02040" y="2540160"/>
            <a:ext cx="3159000" cy="2106360"/>
          </a:xfrm>
          <a:custGeom>
            <a:avLst/>
            <a:gdLst/>
            <a:ahLst/>
            <a:rect l="l" t="t" r="r" b="b"/>
            <a:pathLst>
              <a:path w="1627" h="1427">
                <a:moveTo>
                  <a:pt x="0" y="0"/>
                </a:moveTo>
                <a:cubicBezTo>
                  <a:pt x="134" y="197"/>
                  <a:pt x="268" y="394"/>
                  <a:pt x="463" y="591"/>
                </a:cubicBezTo>
                <a:cubicBezTo>
                  <a:pt x="658" y="788"/>
                  <a:pt x="978" y="1043"/>
                  <a:pt x="1172" y="1182"/>
                </a:cubicBezTo>
                <a:cubicBezTo>
                  <a:pt x="1366" y="1321"/>
                  <a:pt x="1551" y="1386"/>
                  <a:pt x="1627" y="1427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6187680" y="449208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153840" y="307728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 rot="16200000">
            <a:off x="2218320" y="228204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5742000" y="536040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4762440" y="4027320"/>
            <a:ext cx="0" cy="119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 flipH="1">
            <a:off x="2987640" y="4011480"/>
            <a:ext cx="177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4691160" y="3954600"/>
            <a:ext cx="144360" cy="12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4629240" y="52286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637000" y="38142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692520" y="1616040"/>
            <a:ext cx="2776680" cy="609480"/>
          </a:xfrm>
          <a:prstGeom prst="wedgeRoundRectCallout">
            <a:avLst>
              <a:gd name="adj1" fmla="val -50458"/>
              <a:gd name="adj2" fmla="val 211981"/>
              <a:gd name="adj3" fmla="val 16667"/>
            </a:avLst>
          </a:prstGeom>
          <a:solidFill>
            <a:srgbClr val="ffcc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Área represe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ganho da socie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2157480" y="913680"/>
            <a:ext cx="47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Excedente do Consumi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2434320" y="913680"/>
            <a:ext cx="42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Excedente do Produ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flipV="1">
            <a:off x="2987640" y="2077560"/>
            <a:ext cx="0" cy="3333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2755800" y="5210280"/>
            <a:ext cx="376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3011400" y="3273480"/>
            <a:ext cx="3116520" cy="1339920"/>
          </a:xfrm>
          <a:custGeom>
            <a:avLst/>
            <a:gdLst/>
            <a:ahLst/>
            <a:rect l="l" t="t" r="r" b="b"/>
            <a:pathLst>
              <a:path w="1963" h="663">
                <a:moveTo>
                  <a:pt x="0" y="663"/>
                </a:moveTo>
                <a:cubicBezTo>
                  <a:pt x="220" y="621"/>
                  <a:pt x="441" y="580"/>
                  <a:pt x="682" y="509"/>
                </a:cubicBezTo>
                <a:cubicBezTo>
                  <a:pt x="923" y="438"/>
                  <a:pt x="1231" y="321"/>
                  <a:pt x="1445" y="236"/>
                </a:cubicBezTo>
                <a:cubicBezTo>
                  <a:pt x="1659" y="151"/>
                  <a:pt x="1877" y="39"/>
                  <a:pt x="1963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3002040" y="2540160"/>
            <a:ext cx="3159000" cy="2106360"/>
          </a:xfrm>
          <a:custGeom>
            <a:avLst/>
            <a:gdLst/>
            <a:ahLst/>
            <a:rect l="l" t="t" r="r" b="b"/>
            <a:pathLst>
              <a:path w="1627" h="1427">
                <a:moveTo>
                  <a:pt x="0" y="0"/>
                </a:moveTo>
                <a:cubicBezTo>
                  <a:pt x="134" y="197"/>
                  <a:pt x="268" y="394"/>
                  <a:pt x="463" y="591"/>
                </a:cubicBezTo>
                <a:cubicBezTo>
                  <a:pt x="658" y="788"/>
                  <a:pt x="978" y="1043"/>
                  <a:pt x="1172" y="1182"/>
                </a:cubicBezTo>
                <a:cubicBezTo>
                  <a:pt x="1366" y="1321"/>
                  <a:pt x="1551" y="1386"/>
                  <a:pt x="1627" y="1427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6187680" y="449208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6153840" y="307728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 rot="16200000">
            <a:off x="2218320" y="228204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5742000" y="536040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4762440" y="4027320"/>
            <a:ext cx="0" cy="119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 flipH="1">
            <a:off x="2987640" y="4011480"/>
            <a:ext cx="177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691160" y="3954600"/>
            <a:ext cx="144360" cy="12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29240" y="52286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637000" y="38142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3116160" y="4014720"/>
            <a:ext cx="0" cy="57312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4040280" y="2049480"/>
            <a:ext cx="2776320" cy="609480"/>
          </a:xfrm>
          <a:prstGeom prst="wedgeRoundRectCallout">
            <a:avLst>
              <a:gd name="adj1" fmla="val -82189"/>
              <a:gd name="adj2" fmla="val 356773"/>
              <a:gd name="adj3" fmla="val 16667"/>
            </a:avLst>
          </a:prstGeom>
          <a:solidFill>
            <a:srgbClr val="ffcccc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993300"/>
                </a:solidFill>
                <a:latin typeface="Lucida Casual"/>
              </a:rPr>
              <a:t>Preço, se houves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993300"/>
                </a:solidFill>
                <a:latin typeface="Lucida Casual"/>
              </a:rPr>
              <a:t>sòmente 1 consumi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3036960" y="4514760"/>
            <a:ext cx="144360" cy="130320"/>
          </a:xfrm>
          <a:prstGeom prst="ellipse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3557520" y="2490840"/>
            <a:ext cx="4854240" cy="2355120"/>
            <a:chOff x="3557520" y="2490840"/>
            <a:chExt cx="4854240" cy="2355120"/>
          </a:xfrm>
        </p:grpSpPr>
        <p:sp>
          <p:nvSpPr>
            <p:cNvPr id="66" name=""/>
            <p:cNvSpPr/>
            <p:nvPr/>
          </p:nvSpPr>
          <p:spPr>
            <a:xfrm>
              <a:off x="3557520" y="2490840"/>
              <a:ext cx="3159360" cy="1947960"/>
            </a:xfrm>
            <a:custGeom>
              <a:avLst/>
              <a:gdLst/>
              <a:ahLst/>
              <a:rect l="l" t="t" r="r" b="b"/>
              <a:pathLst>
                <a:path w="1627" h="1427">
                  <a:moveTo>
                    <a:pt x="0" y="0"/>
                  </a:moveTo>
                  <a:cubicBezTo>
                    <a:pt x="134" y="197"/>
                    <a:pt x="268" y="394"/>
                    <a:pt x="463" y="591"/>
                  </a:cubicBezTo>
                  <a:cubicBezTo>
                    <a:pt x="658" y="788"/>
                    <a:pt x="978" y="1043"/>
                    <a:pt x="1172" y="1182"/>
                  </a:cubicBezTo>
                  <a:cubicBezTo>
                    <a:pt x="1366" y="1321"/>
                    <a:pt x="1551" y="1386"/>
                    <a:pt x="1627" y="1427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487560" y="4477680"/>
              <a:ext cx="192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0000"/>
                  </a:solidFill>
                  <a:latin typeface="Lucida Casual"/>
                </a:rPr>
                <a:t>D: Renda Mai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987640" y="2077560"/>
            <a:ext cx="0" cy="3333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755800" y="5210280"/>
            <a:ext cx="376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30480" y="3263760"/>
            <a:ext cx="3116160" cy="1339920"/>
          </a:xfrm>
          <a:custGeom>
            <a:avLst/>
            <a:gdLst/>
            <a:ahLst/>
            <a:rect l="l" t="t" r="r" b="b"/>
            <a:pathLst>
              <a:path w="1963" h="663">
                <a:moveTo>
                  <a:pt x="0" y="663"/>
                </a:moveTo>
                <a:cubicBezTo>
                  <a:pt x="220" y="621"/>
                  <a:pt x="441" y="580"/>
                  <a:pt x="682" y="509"/>
                </a:cubicBezTo>
                <a:cubicBezTo>
                  <a:pt x="923" y="438"/>
                  <a:pt x="1231" y="321"/>
                  <a:pt x="1445" y="236"/>
                </a:cubicBezTo>
                <a:cubicBezTo>
                  <a:pt x="1659" y="151"/>
                  <a:pt x="1877" y="39"/>
                  <a:pt x="1963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02040" y="2540160"/>
            <a:ext cx="3159000" cy="2106360"/>
          </a:xfrm>
          <a:custGeom>
            <a:avLst/>
            <a:gdLst/>
            <a:ahLst/>
            <a:rect l="l" t="t" r="r" b="b"/>
            <a:pathLst>
              <a:path w="1627" h="1427">
                <a:moveTo>
                  <a:pt x="0" y="0"/>
                </a:moveTo>
                <a:cubicBezTo>
                  <a:pt x="134" y="197"/>
                  <a:pt x="268" y="394"/>
                  <a:pt x="463" y="591"/>
                </a:cubicBezTo>
                <a:cubicBezTo>
                  <a:pt x="658" y="788"/>
                  <a:pt x="978" y="1043"/>
                  <a:pt x="1172" y="1182"/>
                </a:cubicBezTo>
                <a:cubicBezTo>
                  <a:pt x="1366" y="1321"/>
                  <a:pt x="1551" y="1386"/>
                  <a:pt x="1627" y="1427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153840" y="307728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6200000">
            <a:off x="2218320" y="228204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42000" y="536040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762440" y="4027320"/>
            <a:ext cx="0" cy="119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987640" y="4011480"/>
            <a:ext cx="177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91160" y="3954600"/>
            <a:ext cx="144360" cy="1299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629240" y="52286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637000" y="38142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2987640" y="3716280"/>
            <a:ext cx="2303640" cy="1494000"/>
            <a:chOff x="2987640" y="3716280"/>
            <a:chExt cx="2303640" cy="1494000"/>
          </a:xfrm>
        </p:grpSpPr>
        <p:sp>
          <p:nvSpPr>
            <p:cNvPr id="84" name=""/>
            <p:cNvSpPr/>
            <p:nvPr/>
          </p:nvSpPr>
          <p:spPr>
            <a:xfrm>
              <a:off x="5224320" y="3809880"/>
              <a:ext cx="0" cy="140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2987640" y="3767040"/>
              <a:ext cx="219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46560" y="3716280"/>
              <a:ext cx="144720" cy="130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3736800" y="1774800"/>
            <a:ext cx="2127600" cy="1473120"/>
            <a:chOff x="3736800" y="1774800"/>
            <a:chExt cx="2127600" cy="1473120"/>
          </a:xfrm>
        </p:grpSpPr>
        <p:sp>
          <p:nvSpPr>
            <p:cNvPr id="88" name=""/>
            <p:cNvSpPr/>
            <p:nvPr/>
          </p:nvSpPr>
          <p:spPr>
            <a:xfrm>
              <a:off x="3736800" y="3247920"/>
              <a:ext cx="592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968640" y="1774800"/>
              <a:ext cx="1895760" cy="536760"/>
            </a:xfrm>
            <a:prstGeom prst="wedgeRoundRectCallout">
              <a:avLst>
                <a:gd name="adj1" fmla="val -50000"/>
                <a:gd name="adj2" fmla="val 218342"/>
                <a:gd name="adj3" fmla="val 16667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0000"/>
                  </a:solidFill>
                  <a:latin typeface="Lucida Casual"/>
                </a:rPr>
                <a:t>Bens Norma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1249920" y="913680"/>
            <a:ext cx="659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Efeito da Renda sobre Bens Norm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 flipV="1">
            <a:off x="2987640" y="2077560"/>
            <a:ext cx="0" cy="3333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2755800" y="5210280"/>
            <a:ext cx="376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3011400" y="3273480"/>
            <a:ext cx="3116520" cy="1339920"/>
          </a:xfrm>
          <a:custGeom>
            <a:avLst/>
            <a:gdLst/>
            <a:ahLst/>
            <a:rect l="l" t="t" r="r" b="b"/>
            <a:pathLst>
              <a:path w="1963" h="663">
                <a:moveTo>
                  <a:pt x="0" y="663"/>
                </a:moveTo>
                <a:cubicBezTo>
                  <a:pt x="220" y="621"/>
                  <a:pt x="441" y="580"/>
                  <a:pt x="682" y="509"/>
                </a:cubicBezTo>
                <a:cubicBezTo>
                  <a:pt x="923" y="438"/>
                  <a:pt x="1231" y="321"/>
                  <a:pt x="1445" y="236"/>
                </a:cubicBezTo>
                <a:cubicBezTo>
                  <a:pt x="1659" y="151"/>
                  <a:pt x="1877" y="39"/>
                  <a:pt x="1963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3002040" y="2540160"/>
            <a:ext cx="3159000" cy="2106360"/>
          </a:xfrm>
          <a:custGeom>
            <a:avLst/>
            <a:gdLst/>
            <a:ahLst/>
            <a:rect l="l" t="t" r="r" b="b"/>
            <a:pathLst>
              <a:path w="1627" h="1427">
                <a:moveTo>
                  <a:pt x="0" y="0"/>
                </a:moveTo>
                <a:cubicBezTo>
                  <a:pt x="134" y="197"/>
                  <a:pt x="268" y="394"/>
                  <a:pt x="463" y="591"/>
                </a:cubicBezTo>
                <a:cubicBezTo>
                  <a:pt x="658" y="788"/>
                  <a:pt x="978" y="1043"/>
                  <a:pt x="1172" y="1182"/>
                </a:cubicBezTo>
                <a:cubicBezTo>
                  <a:pt x="1366" y="1321"/>
                  <a:pt x="1551" y="1386"/>
                  <a:pt x="1627" y="1427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6187680" y="449208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6153840" y="307728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rot="16200000">
            <a:off x="2218320" y="228204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5742000" y="536040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4762440" y="4027320"/>
            <a:ext cx="0" cy="119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 flipH="1">
            <a:off x="2987640" y="4011480"/>
            <a:ext cx="177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4691160" y="3954600"/>
            <a:ext cx="144360" cy="12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4629240" y="52286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2637000" y="38142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3116160" y="4014720"/>
            <a:ext cx="0" cy="57312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040280" y="2049480"/>
            <a:ext cx="2776320" cy="609480"/>
          </a:xfrm>
          <a:prstGeom prst="wedgeRoundRectCallout">
            <a:avLst>
              <a:gd name="adj1" fmla="val -75958"/>
              <a:gd name="adj2" fmla="val 347134"/>
              <a:gd name="adj3" fmla="val 16667"/>
            </a:avLst>
          </a:prstGeom>
          <a:solidFill>
            <a:srgbClr val="ffcccc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993300"/>
                </a:solidFill>
                <a:latin typeface="Lucida Casual"/>
              </a:rPr>
              <a:t>Preço, por hav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993300"/>
                </a:solidFill>
                <a:latin typeface="Lucida Casual"/>
              </a:rPr>
              <a:t>2 consumi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3171960" y="4491000"/>
            <a:ext cx="144360" cy="130320"/>
          </a:xfrm>
          <a:prstGeom prst="ellipse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254400" y="4008600"/>
            <a:ext cx="0" cy="52992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2434320" y="913680"/>
            <a:ext cx="42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Excedente do Produ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 flipV="1">
            <a:off x="2987640" y="2077560"/>
            <a:ext cx="0" cy="3333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2755800" y="5210280"/>
            <a:ext cx="376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011400" y="3273480"/>
            <a:ext cx="3116520" cy="1339920"/>
          </a:xfrm>
          <a:custGeom>
            <a:avLst/>
            <a:gdLst/>
            <a:ahLst/>
            <a:rect l="l" t="t" r="r" b="b"/>
            <a:pathLst>
              <a:path w="1963" h="663">
                <a:moveTo>
                  <a:pt x="0" y="663"/>
                </a:moveTo>
                <a:cubicBezTo>
                  <a:pt x="220" y="621"/>
                  <a:pt x="441" y="580"/>
                  <a:pt x="682" y="509"/>
                </a:cubicBezTo>
                <a:cubicBezTo>
                  <a:pt x="923" y="438"/>
                  <a:pt x="1231" y="321"/>
                  <a:pt x="1445" y="236"/>
                </a:cubicBezTo>
                <a:cubicBezTo>
                  <a:pt x="1659" y="151"/>
                  <a:pt x="1877" y="39"/>
                  <a:pt x="1963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3002040" y="2540160"/>
            <a:ext cx="3159000" cy="2106360"/>
          </a:xfrm>
          <a:custGeom>
            <a:avLst/>
            <a:gdLst/>
            <a:ahLst/>
            <a:rect l="l" t="t" r="r" b="b"/>
            <a:pathLst>
              <a:path w="1627" h="1427">
                <a:moveTo>
                  <a:pt x="0" y="0"/>
                </a:moveTo>
                <a:cubicBezTo>
                  <a:pt x="134" y="197"/>
                  <a:pt x="268" y="394"/>
                  <a:pt x="463" y="591"/>
                </a:cubicBezTo>
                <a:cubicBezTo>
                  <a:pt x="658" y="788"/>
                  <a:pt x="978" y="1043"/>
                  <a:pt x="1172" y="1182"/>
                </a:cubicBezTo>
                <a:cubicBezTo>
                  <a:pt x="1366" y="1321"/>
                  <a:pt x="1551" y="1386"/>
                  <a:pt x="1627" y="1427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6187680" y="449208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6153840" y="307728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rot="16200000">
            <a:off x="2218320" y="228204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5742000" y="536040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4762440" y="4027320"/>
            <a:ext cx="0" cy="119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 flipH="1">
            <a:off x="2987640" y="4011480"/>
            <a:ext cx="177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4691160" y="3954600"/>
            <a:ext cx="144360" cy="12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4629240" y="52286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2637000" y="38142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4040280" y="2049480"/>
            <a:ext cx="2776320" cy="609480"/>
          </a:xfrm>
          <a:prstGeom prst="wedgeRoundRectCallout">
            <a:avLst>
              <a:gd name="adj1" fmla="val -56231"/>
              <a:gd name="adj2" fmla="val 269009"/>
              <a:gd name="adj3" fmla="val 16667"/>
            </a:avLst>
          </a:prstGeom>
          <a:solidFill>
            <a:srgbClr val="ffcccc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993300"/>
                </a:solidFill>
                <a:latin typeface="Lucida Casual"/>
              </a:rPr>
              <a:t>Os produt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993300"/>
                </a:solidFill>
                <a:latin typeface="Lucida Casual"/>
              </a:rPr>
              <a:t>recebem ma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3409920" y="4019400"/>
            <a:ext cx="0" cy="47628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3705120" y="4010040"/>
            <a:ext cx="0" cy="39996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3562200" y="4019400"/>
            <a:ext cx="0" cy="45720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3867120" y="4019400"/>
            <a:ext cx="0" cy="33336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4029120" y="4010040"/>
            <a:ext cx="0" cy="29520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4172040" y="4019400"/>
            <a:ext cx="0" cy="24768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4305240" y="4010040"/>
            <a:ext cx="0" cy="19044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4438800" y="4019400"/>
            <a:ext cx="0" cy="15264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4572000" y="4019400"/>
            <a:ext cx="0" cy="9540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2434320" y="913680"/>
            <a:ext cx="42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Excedente do Produ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3116160" y="4014720"/>
            <a:ext cx="0" cy="57312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3254400" y="4008600"/>
            <a:ext cx="0" cy="52992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"/>
          <p:cNvSpPr/>
          <p:nvPr/>
        </p:nvSpPr>
        <p:spPr>
          <a:xfrm>
            <a:off x="2987640" y="4010040"/>
            <a:ext cx="1781280" cy="609480"/>
          </a:xfrm>
          <a:custGeom>
            <a:avLst/>
            <a:gdLst/>
            <a:ahLst/>
            <a:rect l="l" t="t" r="r" b="b"/>
            <a:pathLst>
              <a:path w="1122" h="384">
                <a:moveTo>
                  <a:pt x="0" y="0"/>
                </a:moveTo>
                <a:lnTo>
                  <a:pt x="1122" y="2"/>
                </a:lnTo>
                <a:lnTo>
                  <a:pt x="930" y="90"/>
                </a:lnTo>
                <a:lnTo>
                  <a:pt x="646" y="198"/>
                </a:lnTo>
                <a:lnTo>
                  <a:pt x="426" y="270"/>
                </a:lnTo>
                <a:lnTo>
                  <a:pt x="158" y="34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 flipV="1">
            <a:off x="2987640" y="2077560"/>
            <a:ext cx="0" cy="3333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2755800" y="5210280"/>
            <a:ext cx="376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3011400" y="3273480"/>
            <a:ext cx="3116520" cy="1339920"/>
          </a:xfrm>
          <a:custGeom>
            <a:avLst/>
            <a:gdLst/>
            <a:ahLst/>
            <a:rect l="l" t="t" r="r" b="b"/>
            <a:pathLst>
              <a:path w="1963" h="663">
                <a:moveTo>
                  <a:pt x="0" y="663"/>
                </a:moveTo>
                <a:cubicBezTo>
                  <a:pt x="220" y="621"/>
                  <a:pt x="441" y="580"/>
                  <a:pt x="682" y="509"/>
                </a:cubicBezTo>
                <a:cubicBezTo>
                  <a:pt x="923" y="438"/>
                  <a:pt x="1231" y="321"/>
                  <a:pt x="1445" y="236"/>
                </a:cubicBezTo>
                <a:cubicBezTo>
                  <a:pt x="1659" y="151"/>
                  <a:pt x="1877" y="39"/>
                  <a:pt x="1963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3002040" y="2540160"/>
            <a:ext cx="3159000" cy="2106360"/>
          </a:xfrm>
          <a:custGeom>
            <a:avLst/>
            <a:gdLst/>
            <a:ahLst/>
            <a:rect l="l" t="t" r="r" b="b"/>
            <a:pathLst>
              <a:path w="1627" h="1427">
                <a:moveTo>
                  <a:pt x="0" y="0"/>
                </a:moveTo>
                <a:cubicBezTo>
                  <a:pt x="134" y="197"/>
                  <a:pt x="268" y="394"/>
                  <a:pt x="463" y="591"/>
                </a:cubicBezTo>
                <a:cubicBezTo>
                  <a:pt x="658" y="788"/>
                  <a:pt x="978" y="1043"/>
                  <a:pt x="1172" y="1182"/>
                </a:cubicBezTo>
                <a:cubicBezTo>
                  <a:pt x="1366" y="1321"/>
                  <a:pt x="1551" y="1386"/>
                  <a:pt x="1627" y="1427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6187680" y="449208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6153840" y="307728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rot="16200000">
            <a:off x="2218320" y="228204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5742000" y="536040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4762440" y="4027320"/>
            <a:ext cx="0" cy="119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 flipH="1">
            <a:off x="2987640" y="4011480"/>
            <a:ext cx="177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4691160" y="3954600"/>
            <a:ext cx="144360" cy="12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4629240" y="52286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2637000" y="38142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4040280" y="2049480"/>
            <a:ext cx="2776320" cy="609480"/>
          </a:xfrm>
          <a:prstGeom prst="wedgeRoundRectCallout">
            <a:avLst>
              <a:gd name="adj1" fmla="val -56231"/>
              <a:gd name="adj2" fmla="val 269009"/>
              <a:gd name="adj3" fmla="val 16667"/>
            </a:avLst>
          </a:prstGeom>
          <a:solidFill>
            <a:srgbClr val="ffcccc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993300"/>
                </a:solidFill>
                <a:latin typeface="Lucida Casual"/>
              </a:rPr>
              <a:t>Benefícios para 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993300"/>
                </a:solidFill>
                <a:latin typeface="Lucida Casual"/>
              </a:rPr>
              <a:t>Setor Produ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2434320" y="913680"/>
            <a:ext cx="42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Excedente do Produ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"/>
          <p:cNvSpPr/>
          <p:nvPr/>
        </p:nvSpPr>
        <p:spPr>
          <a:xfrm>
            <a:off x="4676760" y="457200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 flipH="1">
            <a:off x="2666520" y="4572000"/>
            <a:ext cx="2057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3193200" y="913680"/>
            <a:ext cx="30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Criação de Va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 flipV="1">
            <a:off x="2666880" y="19810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2438280" y="5486400"/>
            <a:ext cx="4496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6128280" y="373320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Lucida Casu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6171840" y="479988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3917880" y="571428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 rot="16200000">
            <a:off x="1829520" y="355968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2666880" y="3811680"/>
            <a:ext cx="3718080" cy="1401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2666880" y="4130640"/>
            <a:ext cx="3703680" cy="9590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4597560" y="4492800"/>
            <a:ext cx="15228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"/>
          <p:cNvSpPr/>
          <p:nvPr/>
        </p:nvSpPr>
        <p:spPr>
          <a:xfrm>
            <a:off x="2698920" y="3567240"/>
            <a:ext cx="3717720" cy="1401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5095800" y="4541760"/>
            <a:ext cx="0" cy="916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 flipH="1">
            <a:off x="2679480" y="4471920"/>
            <a:ext cx="2323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193200" y="913680"/>
            <a:ext cx="30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Criação de Va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 flipV="1">
            <a:off x="2666880" y="19810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2438280" y="5486400"/>
            <a:ext cx="4496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3917880" y="571428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 rot="16200000">
            <a:off x="1829520" y="355968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V="1">
            <a:off x="3178080" y="3730320"/>
            <a:ext cx="0" cy="2682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4260960" y="2433600"/>
            <a:ext cx="2444760" cy="927000"/>
          </a:xfrm>
          <a:prstGeom prst="wedgeRoundRectCallout">
            <a:avLst>
              <a:gd name="adj1" fmla="val -92013"/>
              <a:gd name="adj2" fmla="val 113527"/>
              <a:gd name="adj3" fmla="val 1666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Maior preço pe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diferenciaçã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do Produ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2666880" y="3811680"/>
            <a:ext cx="3718080" cy="14018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 flipV="1">
            <a:off x="2666880" y="4130640"/>
            <a:ext cx="3703680" cy="9590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4597560" y="4492800"/>
            <a:ext cx="152280" cy="1522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5014800" y="4395960"/>
            <a:ext cx="15264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6128280" y="373320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Lucida Casu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6157440" y="457128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"/>
          <p:cNvSpPr/>
          <p:nvPr/>
        </p:nvSpPr>
        <p:spPr>
          <a:xfrm>
            <a:off x="5553000" y="4435560"/>
            <a:ext cx="0" cy="10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 flipH="1">
            <a:off x="2680920" y="4330800"/>
            <a:ext cx="2784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3193200" y="913680"/>
            <a:ext cx="30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Criação de Va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 flipV="1">
            <a:off x="2666880" y="19810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3917880" y="571428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 rot="16200000">
            <a:off x="1829520" y="355968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 flipH="1" flipV="1">
            <a:off x="3251160" y="3492360"/>
            <a:ext cx="14400" cy="26856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4321080" y="2338560"/>
            <a:ext cx="2444760" cy="798480"/>
          </a:xfrm>
          <a:prstGeom prst="wedgeRoundRectCallout">
            <a:avLst>
              <a:gd name="adj1" fmla="val -92078"/>
              <a:gd name="adj2" fmla="val 120180"/>
              <a:gd name="adj3" fmla="val 1666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Diminuição 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custos de trans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2698920" y="3567240"/>
            <a:ext cx="3717720" cy="140148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2666880" y="3811680"/>
            <a:ext cx="3718080" cy="14018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6128280" y="373320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Lucida Casu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6217920" y="428076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2698920" y="3567240"/>
            <a:ext cx="3717720" cy="140148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 flipV="1">
            <a:off x="2666880" y="4130640"/>
            <a:ext cx="3703680" cy="9590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2714760" y="3276720"/>
            <a:ext cx="3717720" cy="1401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5473800" y="4267080"/>
            <a:ext cx="152280" cy="152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5014800" y="4395960"/>
            <a:ext cx="152640" cy="1522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4597560" y="4492800"/>
            <a:ext cx="152280" cy="1522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2438280" y="5486400"/>
            <a:ext cx="4496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3193200" y="913680"/>
            <a:ext cx="30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Criação de Va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 flipV="1">
            <a:off x="2666880" y="19810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2438280" y="5486400"/>
            <a:ext cx="4496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3917880" y="571428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 rot="16200000">
            <a:off x="1829520" y="355968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 flipV="1">
            <a:off x="6078600" y="4260960"/>
            <a:ext cx="625320" cy="1584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5856120" y="2185920"/>
            <a:ext cx="2589480" cy="798480"/>
          </a:xfrm>
          <a:prstGeom prst="wedgeRoundRectCallout">
            <a:avLst>
              <a:gd name="adj1" fmla="val -27865"/>
              <a:gd name="adj2" fmla="val 205666"/>
              <a:gd name="adj3" fmla="val 1666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Aumento de eficiê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na cadeia de va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6010200" y="4587840"/>
            <a:ext cx="0" cy="898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 flipH="1">
            <a:off x="2650680" y="4513320"/>
            <a:ext cx="3272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2698920" y="3567240"/>
            <a:ext cx="3717720" cy="140148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2666880" y="3811680"/>
            <a:ext cx="3718080" cy="14018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7028280" y="409824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Lucida Casu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6492600" y="452520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2698920" y="3567240"/>
            <a:ext cx="3717720" cy="140148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 flipV="1">
            <a:off x="2666880" y="4130640"/>
            <a:ext cx="3703680" cy="9590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2714760" y="3276720"/>
            <a:ext cx="3717720" cy="1401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5473800" y="4267080"/>
            <a:ext cx="152280" cy="1526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5014800" y="4395960"/>
            <a:ext cx="152640" cy="1522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4597560" y="4492800"/>
            <a:ext cx="152280" cy="1522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 flipV="1">
            <a:off x="2697120" y="4284360"/>
            <a:ext cx="4281480" cy="11271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5925960" y="4435560"/>
            <a:ext cx="15264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"/>
          <p:cNvSpPr/>
          <p:nvPr/>
        </p:nvSpPr>
        <p:spPr>
          <a:xfrm>
            <a:off x="2662200" y="3241800"/>
            <a:ext cx="3373560" cy="2184120"/>
          </a:xfrm>
          <a:custGeom>
            <a:avLst/>
            <a:gdLst/>
            <a:ahLst/>
            <a:rect l="l" t="t" r="r" b="b"/>
            <a:pathLst>
              <a:path w="2125" h="1376">
                <a:moveTo>
                  <a:pt x="0" y="0"/>
                </a:moveTo>
                <a:lnTo>
                  <a:pt x="2125" y="806"/>
                </a:lnTo>
                <a:lnTo>
                  <a:pt x="5" y="1376"/>
                </a:lnTo>
                <a:lnTo>
                  <a:pt x="0" y="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2662200" y="3809880"/>
            <a:ext cx="2021040" cy="1290600"/>
          </a:xfrm>
          <a:custGeom>
            <a:avLst/>
            <a:gdLst/>
            <a:ahLst/>
            <a:rect l="l" t="t" r="r" b="b"/>
            <a:pathLst>
              <a:path w="1273" h="813">
                <a:moveTo>
                  <a:pt x="0" y="0"/>
                </a:moveTo>
                <a:lnTo>
                  <a:pt x="1273" y="480"/>
                </a:lnTo>
                <a:lnTo>
                  <a:pt x="0" y="813"/>
                </a:lnTo>
                <a:lnTo>
                  <a:pt x="0" y="0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3193200" y="913680"/>
            <a:ext cx="30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Criação de Va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 flipV="1">
            <a:off x="2666880" y="19810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2438280" y="5486400"/>
            <a:ext cx="4496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3917880" y="571428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 rot="16200000">
            <a:off x="1829520" y="355968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6010200" y="4587840"/>
            <a:ext cx="0" cy="898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2666880" y="3811680"/>
            <a:ext cx="3718080" cy="14018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7028280" y="409824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Lucida Casu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6492600" y="452520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 flipV="1">
            <a:off x="2666880" y="4130640"/>
            <a:ext cx="3703680" cy="9590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2682720" y="3246480"/>
            <a:ext cx="3749760" cy="1431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4597560" y="4492800"/>
            <a:ext cx="152280" cy="1522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 flipV="1">
            <a:off x="2697120" y="4284360"/>
            <a:ext cx="4281480" cy="11271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5925960" y="4435560"/>
            <a:ext cx="15264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3848040" y="2278080"/>
            <a:ext cx="2530440" cy="671400"/>
          </a:xfrm>
          <a:prstGeom prst="wedgeRoundRectCallout">
            <a:avLst>
              <a:gd name="adj1" fmla="val -39458"/>
              <a:gd name="adj2" fmla="val 198226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Criação de va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2698920" y="3567240"/>
            <a:ext cx="3717720" cy="140148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"/>
          <p:cNvSpPr/>
          <p:nvPr/>
        </p:nvSpPr>
        <p:spPr>
          <a:xfrm>
            <a:off x="2979720" y="4013280"/>
            <a:ext cx="1789200" cy="603000"/>
          </a:xfrm>
          <a:custGeom>
            <a:avLst/>
            <a:gdLst/>
            <a:ahLst/>
            <a:rect l="l" t="t" r="r" b="b"/>
            <a:pathLst>
              <a:path w="1132" h="380">
                <a:moveTo>
                  <a:pt x="0" y="0"/>
                </a:moveTo>
                <a:lnTo>
                  <a:pt x="1132" y="0"/>
                </a:lnTo>
                <a:lnTo>
                  <a:pt x="940" y="88"/>
                </a:lnTo>
                <a:lnTo>
                  <a:pt x="656" y="196"/>
                </a:lnTo>
                <a:lnTo>
                  <a:pt x="436" y="268"/>
                </a:lnTo>
                <a:lnTo>
                  <a:pt x="168" y="340"/>
                </a:lnTo>
                <a:lnTo>
                  <a:pt x="0" y="380"/>
                </a:lnTo>
                <a:lnTo>
                  <a:pt x="0" y="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2987640" y="2548080"/>
            <a:ext cx="1774800" cy="1463400"/>
          </a:xfrm>
          <a:custGeom>
            <a:avLst/>
            <a:gdLst/>
            <a:ahLst/>
            <a:rect l="l" t="t" r="r" b="b"/>
            <a:pathLst>
              <a:path w="1118" h="922">
                <a:moveTo>
                  <a:pt x="2" y="0"/>
                </a:moveTo>
                <a:lnTo>
                  <a:pt x="163" y="168"/>
                </a:lnTo>
                <a:lnTo>
                  <a:pt x="353" y="360"/>
                </a:lnTo>
                <a:lnTo>
                  <a:pt x="584" y="555"/>
                </a:lnTo>
                <a:lnTo>
                  <a:pt x="842" y="729"/>
                </a:lnTo>
                <a:lnTo>
                  <a:pt x="1028" y="855"/>
                </a:lnTo>
                <a:lnTo>
                  <a:pt x="1118" y="922"/>
                </a:lnTo>
                <a:lnTo>
                  <a:pt x="0" y="922"/>
                </a:lnTo>
                <a:lnTo>
                  <a:pt x="2" y="0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2668320" y="913680"/>
            <a:ext cx="375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Efeito da Tribut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 flipV="1">
            <a:off x="2987640" y="2077560"/>
            <a:ext cx="0" cy="3333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2755800" y="5210280"/>
            <a:ext cx="376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3030480" y="3263760"/>
            <a:ext cx="3116160" cy="1339920"/>
          </a:xfrm>
          <a:custGeom>
            <a:avLst/>
            <a:gdLst/>
            <a:ahLst/>
            <a:rect l="l" t="t" r="r" b="b"/>
            <a:pathLst>
              <a:path w="1963" h="663">
                <a:moveTo>
                  <a:pt x="0" y="663"/>
                </a:moveTo>
                <a:cubicBezTo>
                  <a:pt x="220" y="621"/>
                  <a:pt x="441" y="580"/>
                  <a:pt x="682" y="509"/>
                </a:cubicBezTo>
                <a:cubicBezTo>
                  <a:pt x="923" y="438"/>
                  <a:pt x="1231" y="321"/>
                  <a:pt x="1445" y="236"/>
                </a:cubicBezTo>
                <a:cubicBezTo>
                  <a:pt x="1659" y="151"/>
                  <a:pt x="1877" y="39"/>
                  <a:pt x="1963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3002040" y="2540160"/>
            <a:ext cx="3159000" cy="2106360"/>
          </a:xfrm>
          <a:custGeom>
            <a:avLst/>
            <a:gdLst/>
            <a:ahLst/>
            <a:rect l="l" t="t" r="r" b="b"/>
            <a:pathLst>
              <a:path w="1627" h="1427">
                <a:moveTo>
                  <a:pt x="0" y="0"/>
                </a:moveTo>
                <a:cubicBezTo>
                  <a:pt x="134" y="197"/>
                  <a:pt x="268" y="394"/>
                  <a:pt x="463" y="591"/>
                </a:cubicBezTo>
                <a:cubicBezTo>
                  <a:pt x="658" y="788"/>
                  <a:pt x="978" y="1043"/>
                  <a:pt x="1172" y="1182"/>
                </a:cubicBezTo>
                <a:cubicBezTo>
                  <a:pt x="1366" y="1321"/>
                  <a:pt x="1551" y="1386"/>
                  <a:pt x="1627" y="1427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6187680" y="449208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6153840" y="307728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rot="16200000">
            <a:off x="2218320" y="228204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5742000" y="536040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4762440" y="4027320"/>
            <a:ext cx="0" cy="119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 flipH="1">
            <a:off x="2987640" y="4011480"/>
            <a:ext cx="177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4691160" y="3954600"/>
            <a:ext cx="144360" cy="12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4629240" y="52286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2637000" y="38142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"/>
          <p:cNvSpPr/>
          <p:nvPr/>
        </p:nvSpPr>
        <p:spPr>
          <a:xfrm>
            <a:off x="2981160" y="4013280"/>
            <a:ext cx="1787760" cy="604800"/>
          </a:xfrm>
          <a:custGeom>
            <a:avLst/>
            <a:gdLst/>
            <a:ahLst/>
            <a:rect l="l" t="t" r="r" b="b"/>
            <a:pathLst>
              <a:path w="1126" h="381">
                <a:moveTo>
                  <a:pt x="4" y="0"/>
                </a:moveTo>
                <a:lnTo>
                  <a:pt x="1126" y="0"/>
                </a:lnTo>
                <a:lnTo>
                  <a:pt x="934" y="88"/>
                </a:lnTo>
                <a:lnTo>
                  <a:pt x="650" y="196"/>
                </a:lnTo>
                <a:lnTo>
                  <a:pt x="430" y="268"/>
                </a:lnTo>
                <a:lnTo>
                  <a:pt x="162" y="340"/>
                </a:lnTo>
                <a:lnTo>
                  <a:pt x="0" y="381"/>
                </a:lnTo>
                <a:lnTo>
                  <a:pt x="4" y="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2987640" y="2548080"/>
            <a:ext cx="1774800" cy="1463400"/>
          </a:xfrm>
          <a:custGeom>
            <a:avLst/>
            <a:gdLst/>
            <a:ahLst/>
            <a:rect l="l" t="t" r="r" b="b"/>
            <a:pathLst>
              <a:path w="1118" h="922">
                <a:moveTo>
                  <a:pt x="2" y="0"/>
                </a:moveTo>
                <a:lnTo>
                  <a:pt x="163" y="168"/>
                </a:lnTo>
                <a:lnTo>
                  <a:pt x="353" y="360"/>
                </a:lnTo>
                <a:lnTo>
                  <a:pt x="584" y="555"/>
                </a:lnTo>
                <a:lnTo>
                  <a:pt x="842" y="729"/>
                </a:lnTo>
                <a:lnTo>
                  <a:pt x="1028" y="855"/>
                </a:lnTo>
                <a:lnTo>
                  <a:pt x="1118" y="922"/>
                </a:lnTo>
                <a:lnTo>
                  <a:pt x="0" y="922"/>
                </a:lnTo>
                <a:lnTo>
                  <a:pt x="2" y="0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2976480" y="4272120"/>
            <a:ext cx="1185840" cy="352440"/>
          </a:xfrm>
          <a:custGeom>
            <a:avLst/>
            <a:gdLst/>
            <a:ahLst/>
            <a:rect l="l" t="t" r="r" b="b"/>
            <a:pathLst>
              <a:path w="747" h="222">
                <a:moveTo>
                  <a:pt x="747" y="0"/>
                </a:moveTo>
                <a:lnTo>
                  <a:pt x="345" y="135"/>
                </a:lnTo>
                <a:lnTo>
                  <a:pt x="0" y="222"/>
                </a:lnTo>
                <a:lnTo>
                  <a:pt x="3" y="0"/>
                </a:lnTo>
                <a:lnTo>
                  <a:pt x="747" y="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2981160" y="2523960"/>
            <a:ext cx="1152720" cy="1062360"/>
          </a:xfrm>
          <a:custGeom>
            <a:avLst/>
            <a:gdLst/>
            <a:ahLst/>
            <a:rect l="l" t="t" r="r" b="b"/>
            <a:pathLst>
              <a:path w="726" h="669">
                <a:moveTo>
                  <a:pt x="3" y="0"/>
                </a:moveTo>
                <a:lnTo>
                  <a:pt x="117" y="129"/>
                </a:lnTo>
                <a:lnTo>
                  <a:pt x="315" y="336"/>
                </a:lnTo>
                <a:lnTo>
                  <a:pt x="546" y="537"/>
                </a:lnTo>
                <a:lnTo>
                  <a:pt x="726" y="669"/>
                </a:lnTo>
                <a:lnTo>
                  <a:pt x="0" y="669"/>
                </a:lnTo>
                <a:lnTo>
                  <a:pt x="3" y="0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2668320" y="913680"/>
            <a:ext cx="375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Efeito da Tribut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 flipV="1">
            <a:off x="2987640" y="2077560"/>
            <a:ext cx="0" cy="3333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2755800" y="5210280"/>
            <a:ext cx="376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3002040" y="2540160"/>
            <a:ext cx="3159000" cy="2106360"/>
          </a:xfrm>
          <a:custGeom>
            <a:avLst/>
            <a:gdLst/>
            <a:ahLst/>
            <a:rect l="l" t="t" r="r" b="b"/>
            <a:pathLst>
              <a:path w="1627" h="1427">
                <a:moveTo>
                  <a:pt x="0" y="0"/>
                </a:moveTo>
                <a:cubicBezTo>
                  <a:pt x="134" y="197"/>
                  <a:pt x="268" y="394"/>
                  <a:pt x="463" y="591"/>
                </a:cubicBezTo>
                <a:cubicBezTo>
                  <a:pt x="658" y="788"/>
                  <a:pt x="978" y="1043"/>
                  <a:pt x="1172" y="1182"/>
                </a:cubicBezTo>
                <a:cubicBezTo>
                  <a:pt x="1366" y="1321"/>
                  <a:pt x="1551" y="1386"/>
                  <a:pt x="1627" y="1427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6187680" y="449208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6153840" y="307728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 rot="16200000">
            <a:off x="2218320" y="228204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5742000" y="536040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4762440" y="4027320"/>
            <a:ext cx="0" cy="119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 flipH="1">
            <a:off x="2987640" y="4011480"/>
            <a:ext cx="1774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4629240" y="52286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2637000" y="38142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3009960" y="2579760"/>
            <a:ext cx="3116160" cy="1339920"/>
          </a:xfrm>
          <a:custGeom>
            <a:avLst/>
            <a:gdLst/>
            <a:ahLst/>
            <a:rect l="l" t="t" r="r" b="b"/>
            <a:pathLst>
              <a:path w="1963" h="663">
                <a:moveTo>
                  <a:pt x="0" y="663"/>
                </a:moveTo>
                <a:cubicBezTo>
                  <a:pt x="220" y="621"/>
                  <a:pt x="441" y="580"/>
                  <a:pt x="682" y="509"/>
                </a:cubicBezTo>
                <a:cubicBezTo>
                  <a:pt x="923" y="438"/>
                  <a:pt x="1231" y="321"/>
                  <a:pt x="1445" y="236"/>
                </a:cubicBezTo>
                <a:cubicBezTo>
                  <a:pt x="1659" y="151"/>
                  <a:pt x="1877" y="39"/>
                  <a:pt x="1963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5973840" y="2684520"/>
            <a:ext cx="0" cy="663480"/>
          </a:xfrm>
          <a:prstGeom prst="line">
            <a:avLst/>
          </a:prstGeom>
          <a:ln w="28440">
            <a:solidFill>
              <a:srgbClr val="99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6000120" y="2804400"/>
            <a:ext cx="11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993300"/>
                </a:solidFill>
                <a:latin typeface="Lucida Casual"/>
              </a:rPr>
              <a:t>Imp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4141800" y="3651120"/>
            <a:ext cx="0" cy="1559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 flipH="1">
            <a:off x="2987280" y="3579840"/>
            <a:ext cx="1111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4002120" y="52365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2644920" y="337428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 flipV="1">
            <a:off x="2496960" y="3579480"/>
            <a:ext cx="0" cy="447480"/>
          </a:xfrm>
          <a:prstGeom prst="line">
            <a:avLst/>
          </a:prstGeom>
          <a:ln w="2844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 flipH="1">
            <a:off x="4127400" y="5729400"/>
            <a:ext cx="649440" cy="0"/>
          </a:xfrm>
          <a:prstGeom prst="line">
            <a:avLst/>
          </a:prstGeom>
          <a:ln w="2844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4064040" y="3516480"/>
            <a:ext cx="144360" cy="12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3011400" y="3273480"/>
            <a:ext cx="3116520" cy="1339920"/>
          </a:xfrm>
          <a:custGeom>
            <a:avLst/>
            <a:gdLst/>
            <a:ahLst/>
            <a:rect l="l" t="t" r="r" b="b"/>
            <a:pathLst>
              <a:path w="1963" h="663">
                <a:moveTo>
                  <a:pt x="0" y="663"/>
                </a:moveTo>
                <a:cubicBezTo>
                  <a:pt x="220" y="621"/>
                  <a:pt x="441" y="580"/>
                  <a:pt x="682" y="509"/>
                </a:cubicBezTo>
                <a:cubicBezTo>
                  <a:pt x="923" y="438"/>
                  <a:pt x="1231" y="321"/>
                  <a:pt x="1445" y="236"/>
                </a:cubicBezTo>
                <a:cubicBezTo>
                  <a:pt x="1659" y="151"/>
                  <a:pt x="1877" y="39"/>
                  <a:pt x="1963" y="0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4691160" y="3954600"/>
            <a:ext cx="144360" cy="1299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 flipH="1">
            <a:off x="2987640" y="4272120"/>
            <a:ext cx="1168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3009960" y="3083040"/>
            <a:ext cx="4536360" cy="1994760"/>
            <a:chOff x="3009960" y="3083040"/>
            <a:chExt cx="4536360" cy="1994760"/>
          </a:xfrm>
        </p:grpSpPr>
        <p:sp>
          <p:nvSpPr>
            <p:cNvPr id="92" name=""/>
            <p:cNvSpPr/>
            <p:nvPr/>
          </p:nvSpPr>
          <p:spPr>
            <a:xfrm>
              <a:off x="3009960" y="3083040"/>
              <a:ext cx="2481120" cy="1658880"/>
            </a:xfrm>
            <a:custGeom>
              <a:avLst/>
              <a:gdLst/>
              <a:ahLst/>
              <a:rect l="l" t="t" r="r" b="b"/>
              <a:pathLst>
                <a:path w="1627" h="1427">
                  <a:moveTo>
                    <a:pt x="0" y="0"/>
                  </a:moveTo>
                  <a:cubicBezTo>
                    <a:pt x="134" y="197"/>
                    <a:pt x="268" y="394"/>
                    <a:pt x="463" y="591"/>
                  </a:cubicBezTo>
                  <a:cubicBezTo>
                    <a:pt x="658" y="788"/>
                    <a:pt x="978" y="1043"/>
                    <a:pt x="1172" y="1182"/>
                  </a:cubicBezTo>
                  <a:cubicBezTo>
                    <a:pt x="1366" y="1321"/>
                    <a:pt x="1551" y="1386"/>
                    <a:pt x="1627" y="1427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622120" y="4709520"/>
              <a:ext cx="192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0000"/>
                  </a:solidFill>
                  <a:latin typeface="Lucida Casual"/>
                </a:rPr>
                <a:t>D: Renda Mai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987640" y="2077560"/>
            <a:ext cx="0" cy="3333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755800" y="5210280"/>
            <a:ext cx="376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30480" y="3263760"/>
            <a:ext cx="3116160" cy="1339920"/>
          </a:xfrm>
          <a:custGeom>
            <a:avLst/>
            <a:gdLst/>
            <a:ahLst/>
            <a:rect l="l" t="t" r="r" b="b"/>
            <a:pathLst>
              <a:path w="1963" h="663">
                <a:moveTo>
                  <a:pt x="0" y="663"/>
                </a:moveTo>
                <a:cubicBezTo>
                  <a:pt x="220" y="621"/>
                  <a:pt x="441" y="580"/>
                  <a:pt x="682" y="509"/>
                </a:cubicBezTo>
                <a:cubicBezTo>
                  <a:pt x="923" y="438"/>
                  <a:pt x="1231" y="321"/>
                  <a:pt x="1445" y="236"/>
                </a:cubicBezTo>
                <a:cubicBezTo>
                  <a:pt x="1659" y="151"/>
                  <a:pt x="1877" y="39"/>
                  <a:pt x="1963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02040" y="2540160"/>
            <a:ext cx="3159000" cy="2106360"/>
          </a:xfrm>
          <a:custGeom>
            <a:avLst/>
            <a:gdLst/>
            <a:ahLst/>
            <a:rect l="l" t="t" r="r" b="b"/>
            <a:pathLst>
              <a:path w="1627" h="1427">
                <a:moveTo>
                  <a:pt x="0" y="0"/>
                </a:moveTo>
                <a:cubicBezTo>
                  <a:pt x="134" y="197"/>
                  <a:pt x="268" y="394"/>
                  <a:pt x="463" y="591"/>
                </a:cubicBezTo>
                <a:cubicBezTo>
                  <a:pt x="658" y="788"/>
                  <a:pt x="978" y="1043"/>
                  <a:pt x="1172" y="1182"/>
                </a:cubicBezTo>
                <a:cubicBezTo>
                  <a:pt x="1366" y="1321"/>
                  <a:pt x="1551" y="1386"/>
                  <a:pt x="1627" y="1427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53840" y="307728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2218320" y="228204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42000" y="536040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762440" y="4027320"/>
            <a:ext cx="0" cy="119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987640" y="4011480"/>
            <a:ext cx="177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91160" y="3954600"/>
            <a:ext cx="144360" cy="1299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629240" y="52286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7000" y="38142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017880" y="4135320"/>
            <a:ext cx="1407960" cy="1046160"/>
            <a:chOff x="3017880" y="4135320"/>
            <a:chExt cx="1407960" cy="1046160"/>
          </a:xfrm>
        </p:grpSpPr>
        <p:sp>
          <p:nvSpPr>
            <p:cNvPr id="110" name=""/>
            <p:cNvSpPr/>
            <p:nvPr/>
          </p:nvSpPr>
          <p:spPr>
            <a:xfrm>
              <a:off x="4357800" y="4214880"/>
              <a:ext cx="0" cy="96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3017880" y="4200480"/>
              <a:ext cx="131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281480" y="4135320"/>
              <a:ext cx="144360" cy="130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3564000" y="2063880"/>
            <a:ext cx="2314440" cy="1546200"/>
            <a:chOff x="3564000" y="2063880"/>
            <a:chExt cx="2314440" cy="1546200"/>
          </a:xfrm>
        </p:grpSpPr>
        <p:sp>
          <p:nvSpPr>
            <p:cNvPr id="114" name=""/>
            <p:cNvSpPr/>
            <p:nvPr/>
          </p:nvSpPr>
          <p:spPr>
            <a:xfrm flipH="1">
              <a:off x="3564000" y="3610080"/>
              <a:ext cx="4903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983040" y="2063880"/>
              <a:ext cx="1895400" cy="536400"/>
            </a:xfrm>
            <a:prstGeom prst="wedgeRoundRectCallout">
              <a:avLst>
                <a:gd name="adj1" fmla="val -58375"/>
                <a:gd name="adj2" fmla="val 239939"/>
                <a:gd name="adj3" fmla="val 16667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0000"/>
                  </a:solidFill>
                  <a:latin typeface="Lucida Casual"/>
                </a:rPr>
                <a:t>Bens Inferio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134000" y="913680"/>
            <a:ext cx="68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Efeito da Renda sobre Bens Inferi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"/>
          <p:cNvSpPr/>
          <p:nvPr/>
        </p:nvSpPr>
        <p:spPr>
          <a:xfrm>
            <a:off x="4140360" y="3587760"/>
            <a:ext cx="641160" cy="698400"/>
          </a:xfrm>
          <a:custGeom>
            <a:avLst/>
            <a:gdLst/>
            <a:ahLst/>
            <a:rect l="l" t="t" r="r" b="b"/>
            <a:pathLst>
              <a:path w="404" h="440">
                <a:moveTo>
                  <a:pt x="0" y="0"/>
                </a:moveTo>
                <a:lnTo>
                  <a:pt x="184" y="124"/>
                </a:lnTo>
                <a:lnTo>
                  <a:pt x="404" y="264"/>
                </a:lnTo>
                <a:lnTo>
                  <a:pt x="4" y="440"/>
                </a:lnTo>
                <a:lnTo>
                  <a:pt x="0" y="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2987640" y="3579840"/>
            <a:ext cx="1154160" cy="69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2976480" y="4272120"/>
            <a:ext cx="1185840" cy="352440"/>
          </a:xfrm>
          <a:custGeom>
            <a:avLst/>
            <a:gdLst/>
            <a:ahLst/>
            <a:rect l="l" t="t" r="r" b="b"/>
            <a:pathLst>
              <a:path w="747" h="222">
                <a:moveTo>
                  <a:pt x="747" y="0"/>
                </a:moveTo>
                <a:lnTo>
                  <a:pt x="345" y="135"/>
                </a:lnTo>
                <a:lnTo>
                  <a:pt x="0" y="222"/>
                </a:lnTo>
                <a:lnTo>
                  <a:pt x="3" y="0"/>
                </a:lnTo>
                <a:lnTo>
                  <a:pt x="747" y="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2981160" y="2523960"/>
            <a:ext cx="1152720" cy="1062360"/>
          </a:xfrm>
          <a:custGeom>
            <a:avLst/>
            <a:gdLst/>
            <a:ahLst/>
            <a:rect l="l" t="t" r="r" b="b"/>
            <a:pathLst>
              <a:path w="726" h="669">
                <a:moveTo>
                  <a:pt x="3" y="0"/>
                </a:moveTo>
                <a:lnTo>
                  <a:pt x="117" y="129"/>
                </a:lnTo>
                <a:lnTo>
                  <a:pt x="315" y="336"/>
                </a:lnTo>
                <a:lnTo>
                  <a:pt x="546" y="537"/>
                </a:lnTo>
                <a:lnTo>
                  <a:pt x="726" y="669"/>
                </a:lnTo>
                <a:lnTo>
                  <a:pt x="0" y="669"/>
                </a:lnTo>
                <a:lnTo>
                  <a:pt x="3" y="0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2668320" y="913680"/>
            <a:ext cx="375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Efeito da Tribut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 flipV="1">
            <a:off x="2987640" y="2077560"/>
            <a:ext cx="0" cy="3333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2755800" y="5210280"/>
            <a:ext cx="376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3002040" y="2540160"/>
            <a:ext cx="3159000" cy="2106360"/>
          </a:xfrm>
          <a:custGeom>
            <a:avLst/>
            <a:gdLst/>
            <a:ahLst/>
            <a:rect l="l" t="t" r="r" b="b"/>
            <a:pathLst>
              <a:path w="1627" h="1427">
                <a:moveTo>
                  <a:pt x="0" y="0"/>
                </a:moveTo>
                <a:cubicBezTo>
                  <a:pt x="134" y="197"/>
                  <a:pt x="268" y="394"/>
                  <a:pt x="463" y="591"/>
                </a:cubicBezTo>
                <a:cubicBezTo>
                  <a:pt x="658" y="788"/>
                  <a:pt x="978" y="1043"/>
                  <a:pt x="1172" y="1182"/>
                </a:cubicBezTo>
                <a:cubicBezTo>
                  <a:pt x="1366" y="1321"/>
                  <a:pt x="1551" y="1386"/>
                  <a:pt x="1627" y="1427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6187680" y="449208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6153840" y="307728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 rot="16200000">
            <a:off x="2218320" y="228204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5742000" y="536040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4762440" y="4027320"/>
            <a:ext cx="0" cy="119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 flipH="1">
            <a:off x="2987640" y="4011480"/>
            <a:ext cx="1774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4629240" y="52286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2637000" y="38142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3009960" y="2579760"/>
            <a:ext cx="3116160" cy="1339920"/>
          </a:xfrm>
          <a:custGeom>
            <a:avLst/>
            <a:gdLst/>
            <a:ahLst/>
            <a:rect l="l" t="t" r="r" b="b"/>
            <a:pathLst>
              <a:path w="1963" h="663">
                <a:moveTo>
                  <a:pt x="0" y="663"/>
                </a:moveTo>
                <a:cubicBezTo>
                  <a:pt x="220" y="621"/>
                  <a:pt x="441" y="580"/>
                  <a:pt x="682" y="509"/>
                </a:cubicBezTo>
                <a:cubicBezTo>
                  <a:pt x="923" y="438"/>
                  <a:pt x="1231" y="321"/>
                  <a:pt x="1445" y="236"/>
                </a:cubicBezTo>
                <a:cubicBezTo>
                  <a:pt x="1659" y="151"/>
                  <a:pt x="1877" y="39"/>
                  <a:pt x="1963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5973840" y="2684520"/>
            <a:ext cx="0" cy="663480"/>
          </a:xfrm>
          <a:prstGeom prst="line">
            <a:avLst/>
          </a:prstGeom>
          <a:ln w="28440">
            <a:solidFill>
              <a:srgbClr val="99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6000120" y="2804400"/>
            <a:ext cx="11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993300"/>
                </a:solidFill>
                <a:latin typeface="Lucida Casual"/>
              </a:rPr>
              <a:t>Imp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4141800" y="3651120"/>
            <a:ext cx="0" cy="1559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 flipH="1">
            <a:off x="2987280" y="3579840"/>
            <a:ext cx="1111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4002120" y="52365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2644920" y="337428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 flipV="1">
            <a:off x="2496960" y="3579480"/>
            <a:ext cx="0" cy="447480"/>
          </a:xfrm>
          <a:prstGeom prst="line">
            <a:avLst/>
          </a:prstGeom>
          <a:ln w="2844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 flipH="1">
            <a:off x="4127400" y="5729400"/>
            <a:ext cx="649440" cy="0"/>
          </a:xfrm>
          <a:prstGeom prst="line">
            <a:avLst/>
          </a:prstGeom>
          <a:ln w="2844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4064040" y="3516480"/>
            <a:ext cx="144360" cy="12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3011400" y="3273480"/>
            <a:ext cx="3116520" cy="1339920"/>
          </a:xfrm>
          <a:custGeom>
            <a:avLst/>
            <a:gdLst/>
            <a:ahLst/>
            <a:rect l="l" t="t" r="r" b="b"/>
            <a:pathLst>
              <a:path w="1963" h="663">
                <a:moveTo>
                  <a:pt x="0" y="663"/>
                </a:moveTo>
                <a:cubicBezTo>
                  <a:pt x="220" y="621"/>
                  <a:pt x="441" y="580"/>
                  <a:pt x="682" y="509"/>
                </a:cubicBezTo>
                <a:cubicBezTo>
                  <a:pt x="923" y="438"/>
                  <a:pt x="1231" y="321"/>
                  <a:pt x="1445" y="236"/>
                </a:cubicBezTo>
                <a:cubicBezTo>
                  <a:pt x="1659" y="151"/>
                  <a:pt x="1877" y="39"/>
                  <a:pt x="1963" y="0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4691160" y="3954600"/>
            <a:ext cx="144360" cy="1299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 flipH="1">
            <a:off x="2987640" y="4272120"/>
            <a:ext cx="1168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880920" y="2614680"/>
            <a:ext cx="1435320" cy="609480"/>
          </a:xfrm>
          <a:prstGeom prst="wedgeRoundRectCallout">
            <a:avLst>
              <a:gd name="adj1" fmla="val 112833"/>
              <a:gd name="adj2" fmla="val 22134"/>
              <a:gd name="adj3" fmla="val 1666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Consumi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903240" y="4684680"/>
            <a:ext cx="1435320" cy="609480"/>
          </a:xfrm>
          <a:prstGeom prst="wedgeRoundRectCallout">
            <a:avLst>
              <a:gd name="adj1" fmla="val 115930"/>
              <a:gd name="adj2" fmla="val -102865"/>
              <a:gd name="adj3" fmla="val 1666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993300"/>
                </a:solidFill>
                <a:latin typeface="Lucida Casual"/>
              </a:rPr>
              <a:t>Produ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3341520" y="1555920"/>
            <a:ext cx="1160640" cy="609480"/>
          </a:xfrm>
          <a:prstGeom prst="wedgeRoundRectCallout">
            <a:avLst>
              <a:gd name="adj1" fmla="val -48768"/>
              <a:gd name="adj2" fmla="val 301300"/>
              <a:gd name="adj3" fmla="val 1666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Gover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4560840" y="2370240"/>
            <a:ext cx="641520" cy="609480"/>
          </a:xfrm>
          <a:prstGeom prst="wedgeRoundRectCallout">
            <a:avLst>
              <a:gd name="adj1" fmla="val -81435"/>
              <a:gd name="adj2" fmla="val 202342"/>
              <a:gd name="adj3" fmla="val 1666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Lucida Casu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"/>
          <p:cNvSpPr/>
          <p:nvPr/>
        </p:nvSpPr>
        <p:spPr>
          <a:xfrm>
            <a:off x="4140360" y="3587760"/>
            <a:ext cx="641160" cy="698400"/>
          </a:xfrm>
          <a:custGeom>
            <a:avLst/>
            <a:gdLst/>
            <a:ahLst/>
            <a:rect l="l" t="t" r="r" b="b"/>
            <a:pathLst>
              <a:path w="404" h="440">
                <a:moveTo>
                  <a:pt x="0" y="0"/>
                </a:moveTo>
                <a:lnTo>
                  <a:pt x="184" y="124"/>
                </a:lnTo>
                <a:lnTo>
                  <a:pt x="404" y="264"/>
                </a:lnTo>
                <a:lnTo>
                  <a:pt x="4" y="440"/>
                </a:lnTo>
                <a:lnTo>
                  <a:pt x="0" y="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2668320" y="913680"/>
            <a:ext cx="375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Efeito da Tribut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 flipV="1">
            <a:off x="2987640" y="2077560"/>
            <a:ext cx="0" cy="3333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2755800" y="5210280"/>
            <a:ext cx="376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3002040" y="2540160"/>
            <a:ext cx="3159000" cy="2106360"/>
          </a:xfrm>
          <a:custGeom>
            <a:avLst/>
            <a:gdLst/>
            <a:ahLst/>
            <a:rect l="l" t="t" r="r" b="b"/>
            <a:pathLst>
              <a:path w="1627" h="1427">
                <a:moveTo>
                  <a:pt x="0" y="0"/>
                </a:moveTo>
                <a:cubicBezTo>
                  <a:pt x="134" y="197"/>
                  <a:pt x="268" y="394"/>
                  <a:pt x="463" y="591"/>
                </a:cubicBezTo>
                <a:cubicBezTo>
                  <a:pt x="658" y="788"/>
                  <a:pt x="978" y="1043"/>
                  <a:pt x="1172" y="1182"/>
                </a:cubicBezTo>
                <a:cubicBezTo>
                  <a:pt x="1366" y="1321"/>
                  <a:pt x="1551" y="1386"/>
                  <a:pt x="1627" y="1427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6187680" y="449208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6153840" y="307728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 rot="16200000">
            <a:off x="2218320" y="228204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5742000" y="536040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4762440" y="4027320"/>
            <a:ext cx="0" cy="119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 flipH="1">
            <a:off x="2987640" y="4011480"/>
            <a:ext cx="1774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4629240" y="52286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2637000" y="38142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3009960" y="2579760"/>
            <a:ext cx="3116160" cy="1339920"/>
          </a:xfrm>
          <a:custGeom>
            <a:avLst/>
            <a:gdLst/>
            <a:ahLst/>
            <a:rect l="l" t="t" r="r" b="b"/>
            <a:pathLst>
              <a:path w="1963" h="663">
                <a:moveTo>
                  <a:pt x="0" y="663"/>
                </a:moveTo>
                <a:cubicBezTo>
                  <a:pt x="220" y="621"/>
                  <a:pt x="441" y="580"/>
                  <a:pt x="682" y="509"/>
                </a:cubicBezTo>
                <a:cubicBezTo>
                  <a:pt x="923" y="438"/>
                  <a:pt x="1231" y="321"/>
                  <a:pt x="1445" y="236"/>
                </a:cubicBezTo>
                <a:cubicBezTo>
                  <a:pt x="1659" y="151"/>
                  <a:pt x="1877" y="39"/>
                  <a:pt x="1963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5973840" y="2684520"/>
            <a:ext cx="0" cy="663480"/>
          </a:xfrm>
          <a:prstGeom prst="line">
            <a:avLst/>
          </a:prstGeom>
          <a:ln w="28440">
            <a:solidFill>
              <a:srgbClr val="99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6000120" y="2804400"/>
            <a:ext cx="11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993300"/>
                </a:solidFill>
                <a:latin typeface="Lucida Casual"/>
              </a:rPr>
              <a:t>Imp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4141800" y="3651120"/>
            <a:ext cx="0" cy="1559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 flipH="1">
            <a:off x="2987280" y="3579840"/>
            <a:ext cx="1111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4002120" y="52365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2644920" y="337428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 flipV="1">
            <a:off x="2496960" y="3579480"/>
            <a:ext cx="0" cy="447480"/>
          </a:xfrm>
          <a:prstGeom prst="line">
            <a:avLst/>
          </a:prstGeom>
          <a:ln w="2844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 flipH="1">
            <a:off x="4127400" y="5729400"/>
            <a:ext cx="649440" cy="0"/>
          </a:xfrm>
          <a:prstGeom prst="line">
            <a:avLst/>
          </a:prstGeom>
          <a:ln w="2844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4064040" y="3516480"/>
            <a:ext cx="144360" cy="12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3011400" y="3273480"/>
            <a:ext cx="3116520" cy="1339920"/>
          </a:xfrm>
          <a:custGeom>
            <a:avLst/>
            <a:gdLst/>
            <a:ahLst/>
            <a:rect l="l" t="t" r="r" b="b"/>
            <a:pathLst>
              <a:path w="1963" h="663">
                <a:moveTo>
                  <a:pt x="0" y="663"/>
                </a:moveTo>
                <a:cubicBezTo>
                  <a:pt x="220" y="621"/>
                  <a:pt x="441" y="580"/>
                  <a:pt x="682" y="509"/>
                </a:cubicBezTo>
                <a:cubicBezTo>
                  <a:pt x="923" y="438"/>
                  <a:pt x="1231" y="321"/>
                  <a:pt x="1445" y="236"/>
                </a:cubicBezTo>
                <a:cubicBezTo>
                  <a:pt x="1659" y="151"/>
                  <a:pt x="1877" y="39"/>
                  <a:pt x="1963" y="0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4691160" y="3954600"/>
            <a:ext cx="144360" cy="1299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 flipH="1">
            <a:off x="2987640" y="4272120"/>
            <a:ext cx="1168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3970440" y="1692360"/>
            <a:ext cx="2489040" cy="609480"/>
          </a:xfrm>
          <a:prstGeom prst="wedgeRoundRectCallout">
            <a:avLst>
              <a:gd name="adj1" fmla="val -34949"/>
              <a:gd name="adj2" fmla="val 318231"/>
              <a:gd name="adj3" fmla="val 1666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Lucida Casual"/>
              </a:rPr>
              <a:t>Deadweight L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253520" y="1803240"/>
            <a:ext cx="359892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0000"/>
                </a:solidFill>
                <a:latin typeface="Lucida Casual"/>
              </a:rPr>
              <a:t>Recapitul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Bens Substitu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Bens Complement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Bens Inferi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Reções do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Elastic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Tribut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3327120" y="969120"/>
            <a:ext cx="237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Exercício 5.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301680" y="1562760"/>
            <a:ext cx="8564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Lucida Casual"/>
              </a:rPr>
              <a:t>Considerando que o custo de produção de um produto pura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Lucida Casual"/>
              </a:rPr>
              <a:t>digital é baixo (propriedade de reprodutibilidade), a curva 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93300"/>
                </a:solidFill>
                <a:latin typeface="Lucida Casual"/>
              </a:rPr>
              <a:t>oferta</a:t>
            </a:r>
            <a:r>
              <a:rPr b="1" lang="pt-BR" sz="2000" spc="-1" strike="noStrike">
                <a:solidFill>
                  <a:srgbClr val="0000ff"/>
                </a:solidFill>
                <a:latin typeface="Lucida Casual"/>
              </a:rPr>
              <a:t> é bastante plana. Calcule a variação na receita quando 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Lucida Casual"/>
              </a:rPr>
              <a:t>acrescenta 20% de imposto (pode ser por método gráfico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 flipV="1">
            <a:off x="2317680" y="3123720"/>
            <a:ext cx="0" cy="30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2119320" y="5943600"/>
            <a:ext cx="469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6865920" y="5486040"/>
            <a:ext cx="12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Númer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de Cóp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 flipV="1">
            <a:off x="2333520" y="3992400"/>
            <a:ext cx="3840120" cy="44136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2328840" y="3767040"/>
            <a:ext cx="3824280" cy="439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 flipV="1">
            <a:off x="2301840" y="3639600"/>
            <a:ext cx="3900600" cy="55260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2257560" y="4098960"/>
            <a:ext cx="3047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1749600" y="2940840"/>
            <a:ext cx="46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R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1427040" y="4264560"/>
            <a:ext cx="74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100,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1441080" y="3947040"/>
            <a:ext cx="74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125,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1427040" y="3610440"/>
            <a:ext cx="74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150,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 flipV="1">
            <a:off x="5222880" y="3746520"/>
            <a:ext cx="0" cy="23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2255760" y="3763800"/>
            <a:ext cx="295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5162400" y="4040280"/>
            <a:ext cx="122400" cy="122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6143400" y="3838320"/>
            <a:ext cx="149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00"/>
                </a:solidFill>
                <a:latin typeface="Lucida Casual"/>
              </a:rPr>
              <a:t>Sem impos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6102360" y="3409560"/>
            <a:ext cx="151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00"/>
                </a:solidFill>
                <a:latin typeface="Lucida Casual"/>
              </a:rPr>
              <a:t>Com impos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5871960" y="4204800"/>
            <a:ext cx="115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Lucida Casual"/>
              </a:rPr>
              <a:t>Deman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4984920" y="60789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2257560" y="4433760"/>
            <a:ext cx="2971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2358720" y="60631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 flipV="1">
            <a:off x="3733920" y="3763440"/>
            <a:ext cx="0" cy="227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3543120" y="606492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"/>
          <p:cNvSpPr/>
          <p:nvPr/>
        </p:nvSpPr>
        <p:spPr>
          <a:xfrm>
            <a:off x="2324160" y="4248000"/>
            <a:ext cx="1657440" cy="1695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2319480" y="3943440"/>
            <a:ext cx="16621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 flipH="1">
            <a:off x="1238400" y="42480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3327120" y="969120"/>
            <a:ext cx="237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Exercício 5.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282600" y="1581480"/>
            <a:ext cx="8564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Lucida Casual"/>
              </a:rPr>
              <a:t>Considerando que o custo de produção de um produto pura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Lucida Casual"/>
              </a:rPr>
              <a:t>digital é baixo (propriedade de reprodutibilidade), a curva 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93300"/>
                </a:solidFill>
                <a:latin typeface="Lucida Casual"/>
              </a:rPr>
              <a:t>oferta</a:t>
            </a:r>
            <a:r>
              <a:rPr b="1" lang="pt-BR" sz="2000" spc="-1" strike="noStrike">
                <a:solidFill>
                  <a:srgbClr val="0000ff"/>
                </a:solidFill>
                <a:latin typeface="Lucida Casual"/>
              </a:rPr>
              <a:t> é bastante plana. Calcule a variação na receita quando 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Lucida Casual"/>
              </a:rPr>
              <a:t>acrescenta 20% de imposto (pode ser por método gráfico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 flipV="1">
            <a:off x="2317680" y="3123720"/>
            <a:ext cx="0" cy="30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2119320" y="5943600"/>
            <a:ext cx="469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6865920" y="5486040"/>
            <a:ext cx="12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Lucida Casual"/>
              </a:rPr>
              <a:t>Númer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Lucida Casual"/>
              </a:rPr>
              <a:t>de Cóp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 flipV="1">
            <a:off x="2333520" y="3992400"/>
            <a:ext cx="3840120" cy="441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2328840" y="3767040"/>
            <a:ext cx="3824280" cy="4399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 flipV="1">
            <a:off x="2301840" y="3639600"/>
            <a:ext cx="3900600" cy="5526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2257560" y="4098960"/>
            <a:ext cx="304776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1749600" y="2940840"/>
            <a:ext cx="46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Lucida Casual"/>
              </a:rPr>
              <a:t>R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1427040" y="4264560"/>
            <a:ext cx="74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Lucida Casual"/>
              </a:rPr>
              <a:t>100,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1441080" y="3947040"/>
            <a:ext cx="74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Lucida Casual"/>
              </a:rPr>
              <a:t>125,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1427040" y="3610440"/>
            <a:ext cx="74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Lucida Casual"/>
              </a:rPr>
              <a:t>150,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 flipV="1">
            <a:off x="5222880" y="4157640"/>
            <a:ext cx="0" cy="1892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1289160" y="3946680"/>
            <a:ext cx="2657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5162400" y="4040280"/>
            <a:ext cx="122400" cy="1220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6143400" y="3838320"/>
            <a:ext cx="149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Lucida Casual"/>
              </a:rPr>
              <a:t>Sem impos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6102360" y="3409560"/>
            <a:ext cx="151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Lucida Casual"/>
              </a:rPr>
              <a:t>Com impos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5871960" y="4204800"/>
            <a:ext cx="115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Lucida Casual"/>
              </a:rPr>
              <a:t>Deman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4984920" y="60789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Lucida Casu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2358720" y="60631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Lucida Casu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 flipV="1">
            <a:off x="3979800" y="39636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3543120" y="606492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Lucida Casual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3913200" y="3887640"/>
            <a:ext cx="122400" cy="1224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5289480" y="4844880"/>
            <a:ext cx="2987640" cy="533520"/>
          </a:xfrm>
          <a:prstGeom prst="wedgeRoundRectCallout">
            <a:avLst>
              <a:gd name="adj1" fmla="val -51166"/>
              <a:gd name="adj2" fmla="val -183930"/>
              <a:gd name="adj3" fmla="val 1666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Lucida Casual"/>
              </a:rPr>
              <a:t>p x q = R$ 12.500,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898560" y="4861080"/>
            <a:ext cx="2881440" cy="533160"/>
          </a:xfrm>
          <a:prstGeom prst="wedgeRoundRectCallout">
            <a:avLst>
              <a:gd name="adj1" fmla="val 56388"/>
              <a:gd name="adj2" fmla="val -162796"/>
              <a:gd name="adj3" fmla="val 1666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Lucida Casual"/>
              </a:rPr>
              <a:t>p x q 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</a:t>
            </a:r>
            <a:r>
              <a:rPr b="1" lang="en-US" sz="1800" spc="-1" strike="noStrike">
                <a:solidFill>
                  <a:srgbClr val="ff0000"/>
                </a:solidFill>
                <a:latin typeface="Lucida Casual"/>
              </a:rPr>
              <a:t> R$ 6.160,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 flipV="1">
            <a:off x="3733920" y="5867280"/>
            <a:ext cx="0" cy="16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3870360" y="4890960"/>
            <a:ext cx="1297080" cy="486000"/>
          </a:xfrm>
          <a:prstGeom prst="leftArrow">
            <a:avLst>
              <a:gd name="adj1" fmla="val 50000"/>
              <a:gd name="adj2" fmla="val 66722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Lucida Casual"/>
              </a:rPr>
              <a:t>- 5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3956040" y="61617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Lucida Casual"/>
              </a:rPr>
              <a:t>5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3913200" y="4179960"/>
            <a:ext cx="122400" cy="1220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249120" y="4104360"/>
            <a:ext cx="100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Lucida Casual"/>
              </a:rPr>
              <a:t>R$ 113,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249120" y="3786840"/>
            <a:ext cx="100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Lucida Casual"/>
              </a:rPr>
              <a:t>R$ 136,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3983040" y="5961240"/>
            <a:ext cx="0" cy="331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2934000" y="2946960"/>
            <a:ext cx="375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Lucida Casual"/>
              </a:rPr>
              <a:t>Obrigado Pela Atençã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2336760" y="2251080"/>
            <a:ext cx="4978440" cy="1976400"/>
          </a:xfrm>
          <a:prstGeom prst="cloudCallout">
            <a:avLst>
              <a:gd name="adj1" fmla="val -58865"/>
              <a:gd name="adj2" fmla="val 1376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2735280" y="2521080"/>
            <a:ext cx="5727600" cy="1947600"/>
            <a:chOff x="2735280" y="2521080"/>
            <a:chExt cx="5727600" cy="1947600"/>
          </a:xfrm>
        </p:grpSpPr>
        <p:sp>
          <p:nvSpPr>
            <p:cNvPr id="118" name=""/>
            <p:cNvSpPr/>
            <p:nvPr/>
          </p:nvSpPr>
          <p:spPr>
            <a:xfrm>
              <a:off x="2735280" y="2521080"/>
              <a:ext cx="3159000" cy="1947600"/>
            </a:xfrm>
            <a:custGeom>
              <a:avLst/>
              <a:gdLst/>
              <a:ahLst/>
              <a:rect l="l" t="t" r="r" b="b"/>
              <a:pathLst>
                <a:path w="1627" h="1427">
                  <a:moveTo>
                    <a:pt x="0" y="0"/>
                  </a:moveTo>
                  <a:cubicBezTo>
                    <a:pt x="134" y="197"/>
                    <a:pt x="268" y="394"/>
                    <a:pt x="463" y="591"/>
                  </a:cubicBezTo>
                  <a:cubicBezTo>
                    <a:pt x="658" y="788"/>
                    <a:pt x="978" y="1043"/>
                    <a:pt x="1172" y="1182"/>
                  </a:cubicBezTo>
                  <a:cubicBezTo>
                    <a:pt x="1366" y="1321"/>
                    <a:pt x="1551" y="1386"/>
                    <a:pt x="1627" y="1427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536000" y="3517200"/>
              <a:ext cx="39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0000"/>
                  </a:solidFill>
                  <a:latin typeface="Lucida Casual"/>
                </a:rPr>
                <a:t>D: Popularização do Computad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468160" y="913680"/>
            <a:ext cx="417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Bens Complement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2165400" y="2107800"/>
            <a:ext cx="0" cy="3333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33560" y="5240160"/>
            <a:ext cx="3767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79800" y="2570040"/>
            <a:ext cx="3159000" cy="2106720"/>
          </a:xfrm>
          <a:custGeom>
            <a:avLst/>
            <a:gdLst/>
            <a:ahLst/>
            <a:rect l="l" t="t" r="r" b="b"/>
            <a:pathLst>
              <a:path w="1627" h="1427">
                <a:moveTo>
                  <a:pt x="0" y="0"/>
                </a:moveTo>
                <a:cubicBezTo>
                  <a:pt x="134" y="197"/>
                  <a:pt x="268" y="394"/>
                  <a:pt x="463" y="591"/>
                </a:cubicBezTo>
                <a:cubicBezTo>
                  <a:pt x="658" y="788"/>
                  <a:pt x="978" y="1043"/>
                  <a:pt x="1172" y="1182"/>
                </a:cubicBezTo>
                <a:cubicBezTo>
                  <a:pt x="1366" y="1321"/>
                  <a:pt x="1551" y="1386"/>
                  <a:pt x="1627" y="1427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16200000">
            <a:off x="-194400" y="3444840"/>
            <a:ext cx="35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reço de Sistema Oper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93960" y="5512680"/>
            <a:ext cx="429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 de Sistema Oper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914560" y="3278160"/>
            <a:ext cx="592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146400" y="1744560"/>
            <a:ext cx="3481560" cy="735120"/>
          </a:xfrm>
          <a:prstGeom prst="wedgeRoundRectCallout">
            <a:avLst>
              <a:gd name="adj1" fmla="val -50000"/>
              <a:gd name="adj2" fmla="val 154101"/>
              <a:gd name="adj3" fmla="val 1666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O.S. acompanham as ven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de comput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482440" y="4583880"/>
            <a:ext cx="11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Lucida Casual"/>
              </a:rPr>
              <a:t>D: 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26360" y="913680"/>
            <a:ext cx="347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Bens Substitu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2987640" y="2077560"/>
            <a:ext cx="0" cy="3333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755800" y="5210280"/>
            <a:ext cx="376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02040" y="2540160"/>
            <a:ext cx="3200400" cy="2031840"/>
          </a:xfrm>
          <a:custGeom>
            <a:avLst/>
            <a:gdLst/>
            <a:ahLst/>
            <a:rect l="l" t="t" r="r" b="b"/>
            <a:pathLst>
              <a:path w="2016" h="1280">
                <a:moveTo>
                  <a:pt x="0" y="0"/>
                </a:moveTo>
                <a:cubicBezTo>
                  <a:pt x="164" y="183"/>
                  <a:pt x="329" y="372"/>
                  <a:pt x="566" y="550"/>
                </a:cubicBezTo>
                <a:cubicBezTo>
                  <a:pt x="803" y="728"/>
                  <a:pt x="1179" y="947"/>
                  <a:pt x="1421" y="1069"/>
                </a:cubicBezTo>
                <a:cubicBezTo>
                  <a:pt x="1663" y="1191"/>
                  <a:pt x="1892" y="1236"/>
                  <a:pt x="2016" y="1280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16200000">
            <a:off x="704520" y="3459240"/>
            <a:ext cx="351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reço de Aparelhos Mini-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82080" y="5558760"/>
            <a:ext cx="42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 de Aparelhos Mini-Dis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3564000" y="3610080"/>
            <a:ext cx="5968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770280" y="1911240"/>
            <a:ext cx="3084480" cy="797040"/>
          </a:xfrm>
          <a:prstGeom prst="wedgeRoundRectCallout">
            <a:avLst>
              <a:gd name="adj1" fmla="val -48250"/>
              <a:gd name="adj2" fmla="val 164342"/>
              <a:gd name="adj3" fmla="val 1666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Parcialmente substituíd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por mp3 play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009960" y="3083040"/>
            <a:ext cx="5577840" cy="1978920"/>
            <a:chOff x="3009960" y="3083040"/>
            <a:chExt cx="5577840" cy="1978920"/>
          </a:xfrm>
        </p:grpSpPr>
        <p:sp>
          <p:nvSpPr>
            <p:cNvPr id="144" name=""/>
            <p:cNvSpPr/>
            <p:nvPr/>
          </p:nvSpPr>
          <p:spPr>
            <a:xfrm>
              <a:off x="3009960" y="3083040"/>
              <a:ext cx="2481120" cy="1658880"/>
            </a:xfrm>
            <a:custGeom>
              <a:avLst/>
              <a:gdLst/>
              <a:ahLst/>
              <a:rect l="l" t="t" r="r" b="b"/>
              <a:pathLst>
                <a:path w="1627" h="1427">
                  <a:moveTo>
                    <a:pt x="0" y="0"/>
                  </a:moveTo>
                  <a:cubicBezTo>
                    <a:pt x="134" y="197"/>
                    <a:pt x="268" y="394"/>
                    <a:pt x="463" y="591"/>
                  </a:cubicBezTo>
                  <a:cubicBezTo>
                    <a:pt x="658" y="788"/>
                    <a:pt x="978" y="1043"/>
                    <a:pt x="1172" y="1182"/>
                  </a:cubicBezTo>
                  <a:cubicBezTo>
                    <a:pt x="1366" y="1321"/>
                    <a:pt x="1551" y="1386"/>
                    <a:pt x="1627" y="1427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03040" y="4693680"/>
              <a:ext cx="298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0000"/>
                  </a:solidFill>
                  <a:latin typeface="Lucida Casual"/>
                </a:rPr>
                <a:t>D: Popularização de mp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6236640" y="4372920"/>
            <a:ext cx="11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Lucida Casual"/>
              </a:rPr>
              <a:t>D: 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48520" y="1371600"/>
            <a:ext cx="7524360" cy="23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Lucida Casual"/>
              </a:rPr>
              <a:t>De modo ger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Simplificação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análise de preços e quant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demais variáveis assumidas fixas (condição </a:t>
            </a:r>
            <a:r>
              <a:rPr b="1" i="1" lang="pt-BR" sz="1800" spc="-1" strike="noStrike">
                <a:solidFill>
                  <a:srgbClr val="808080"/>
                </a:solidFill>
                <a:latin typeface="Lucida Casual"/>
              </a:rPr>
              <a:t>ceteris paribus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Mas, na realidad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demanda = função(preços, renda, prestígio, preferências,..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9120" y="4244400"/>
            <a:ext cx="3616200" cy="916920"/>
          </a:xfrm>
          <a:solidFill>
            <a:srgbClr val="ffcc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Renda Aumenta -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Bens normais vendem ma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Bens inferiores retra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48520" y="1371600"/>
            <a:ext cx="7524360" cy="23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Lucida Casual"/>
              </a:rPr>
              <a:t>De modo ger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Simplificaçã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análise de preços e quant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demais variáveis assumidas fixas (condição </a:t>
            </a:r>
            <a:r>
              <a:rPr b="1" i="1" lang="pt-BR" sz="1800" spc="-1" strike="noStrike">
                <a:solidFill>
                  <a:srgbClr val="808080"/>
                </a:solidFill>
                <a:latin typeface="Lucida Casual"/>
              </a:rPr>
              <a:t>ceteris paribus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Mas, na realidad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demanda = função(preços, renda, prestígio, preferências,..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68400" y="4102920"/>
            <a:ext cx="4148280" cy="642600"/>
          </a:xfrm>
          <a:solidFill>
            <a:srgbClr val="ffcc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Prestígio Maior e Preço Mant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 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-&gt; Aumenta Deman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4T11:01:38Z</dcterms:created>
  <dc:creator>Takashi Yoneyama</dc:creator>
  <dc:description/>
  <dc:language>en-US</dc:language>
  <cp:lastModifiedBy>Takashi Yoneyama</cp:lastModifiedBy>
  <cp:lastPrinted>2000-05-03T14:19:10Z</cp:lastPrinted>
  <dcterms:modified xsi:type="dcterms:W3CDTF">2000-09-19T07:29:32Z</dcterms:modified>
  <cp:revision>131</cp:revision>
  <dc:subject/>
  <dc:title>Alteraçoes PE</dc:title>
</cp:coreProperties>
</file>