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2585-31A1-4530-A292-21C88376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0E1A-7457-4B0B-A819-84E55CBC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018-733B-4F0C-8FC2-9A8A5025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4678-5147-45B1-969A-BD948D05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71B9-66BE-42FA-B8FC-662B70B7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212E-9E46-49AE-945E-788091B6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2A5D-FC0E-4390-B5FE-0A4F706E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7ED6-B75F-4F92-87F8-FC318DA0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BB2F-25D2-4F6F-9537-A6E5E7A7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D191-A159-4178-A325-021BE380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130-AA6D-446F-9230-28F294DA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278C-5B7A-4744-981E-40277BCB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0B7C-2DA5-4115-A39D-25BA02FBF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46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84680" y="654120"/>
            <a:ext cx="84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asual"/>
              </a:rPr>
              <a:t>Aula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asual"/>
              </a:rPr>
              <a:t>Ofe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14680" y="2673360"/>
          <a:ext cx="5010120" cy="390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2673360"/>
                    <a:ext cx="501012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801360" y="1371600"/>
            <a:ext cx="7392240" cy="13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Variando-se o preço, como é alterada a quantidade de um b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ue é ofertado no merca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30960" y="1371600"/>
            <a:ext cx="748044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Simplificaçã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nálise de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 preços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e 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uant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emais variáveis assumidas 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fixas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(condição </a:t>
            </a:r>
            <a:r>
              <a:rPr b="1" i="1" lang="pt-BR" sz="1800" spc="-1" strike="noStrike">
                <a:solidFill>
                  <a:srgbClr val="ff0000"/>
                </a:solidFill>
                <a:latin typeface="Lucida Casual"/>
              </a:rPr>
              <a:t>ceteris paribus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as, na realida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ferta = função(preços, tecnologia, clima, normas,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mo a quantidade ofertada varia quando há alterações 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emais variávei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0200" y="325908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4000" y="913680"/>
            <a:ext cx="37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feito da Tecn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60080" y="30488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570400" y="3317400"/>
            <a:ext cx="3697200" cy="337320"/>
            <a:chOff x="2570400" y="3317400"/>
            <a:chExt cx="3697200" cy="337320"/>
          </a:xfrm>
        </p:grpSpPr>
        <p:sp>
          <p:nvSpPr>
            <p:cNvPr id="126" name=""/>
            <p:cNvSpPr/>
            <p:nvPr/>
          </p:nvSpPr>
          <p:spPr>
            <a:xfrm flipH="1">
              <a:off x="3000240" y="3533760"/>
              <a:ext cx="326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70400" y="33174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Lucida Casu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5676840" y="3409920"/>
            <a:ext cx="0" cy="188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429000"/>
            <a:ext cx="0" cy="188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024360" y="3263760"/>
            <a:ext cx="3651120" cy="1652760"/>
            <a:chOff x="3024360" y="3263760"/>
            <a:chExt cx="3651120" cy="1652760"/>
          </a:xfrm>
        </p:grpSpPr>
        <p:sp>
          <p:nvSpPr>
            <p:cNvPr id="131" name=""/>
            <p:cNvSpPr/>
            <p:nvPr/>
          </p:nvSpPr>
          <p:spPr>
            <a:xfrm>
              <a:off x="3030480" y="3263760"/>
              <a:ext cx="3116160" cy="1339920"/>
            </a:xfrm>
            <a:custGeom>
              <a:avLst/>
              <a:gdLst/>
              <a:ahLst/>
              <a:rect l="l" t="t" r="r" b="b"/>
              <a:pathLst>
                <a:path w="1963" h="663">
                  <a:moveTo>
                    <a:pt x="0" y="663"/>
                  </a:moveTo>
                  <a:cubicBezTo>
                    <a:pt x="220" y="621"/>
                    <a:pt x="441" y="580"/>
                    <a:pt x="682" y="509"/>
                  </a:cubicBezTo>
                  <a:cubicBezTo>
                    <a:pt x="923" y="438"/>
                    <a:pt x="1231" y="321"/>
                    <a:pt x="1445" y="236"/>
                  </a:cubicBezTo>
                  <a:cubicBezTo>
                    <a:pt x="1659" y="151"/>
                    <a:pt x="1877" y="39"/>
                    <a:pt x="1963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24360" y="3287880"/>
              <a:ext cx="3651120" cy="1628640"/>
            </a:xfrm>
            <a:custGeom>
              <a:avLst/>
              <a:gdLst/>
              <a:ahLst/>
              <a:rect l="l" t="t" r="r" b="b"/>
              <a:pathLst>
                <a:path w="1963" h="663">
                  <a:moveTo>
                    <a:pt x="0" y="663"/>
                  </a:moveTo>
                  <a:cubicBezTo>
                    <a:pt x="220" y="621"/>
                    <a:pt x="441" y="580"/>
                    <a:pt x="682" y="509"/>
                  </a:cubicBezTo>
                  <a:cubicBezTo>
                    <a:pt x="923" y="438"/>
                    <a:pt x="1231" y="321"/>
                    <a:pt x="1445" y="236"/>
                  </a:cubicBezTo>
                  <a:cubicBezTo>
                    <a:pt x="1659" y="151"/>
                    <a:pt x="1877" y="39"/>
                    <a:pt x="1963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65680" y="1587600"/>
            <a:ext cx="2396880" cy="1947600"/>
            <a:chOff x="3865680" y="1587600"/>
            <a:chExt cx="2396880" cy="1947600"/>
          </a:xfrm>
        </p:grpSpPr>
        <p:sp>
          <p:nvSpPr>
            <p:cNvPr id="134" name=""/>
            <p:cNvSpPr/>
            <p:nvPr/>
          </p:nvSpPr>
          <p:spPr>
            <a:xfrm>
              <a:off x="5700600" y="3535200"/>
              <a:ext cx="56196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65680" y="1587600"/>
              <a:ext cx="2385720" cy="1171440"/>
            </a:xfrm>
            <a:prstGeom prst="wedgeRoundRectCallout">
              <a:avLst>
                <a:gd name="adj1" fmla="val 37027"/>
                <a:gd name="adj2" fmla="val 113416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Baratea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da produção </a:t>
              </a:r>
              <a:r>
                <a:rPr b="1" lang="pt-BR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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Maior oferta pa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mesmo preç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85680" y="9136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feito da Elevação de Preço dos Fa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68080" y="26679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360880" y="3222360"/>
            <a:ext cx="3697200" cy="337320"/>
            <a:chOff x="2360880" y="3222360"/>
            <a:chExt cx="3697200" cy="337320"/>
          </a:xfrm>
        </p:grpSpPr>
        <p:sp>
          <p:nvSpPr>
            <p:cNvPr id="146" name=""/>
            <p:cNvSpPr/>
            <p:nvPr/>
          </p:nvSpPr>
          <p:spPr>
            <a:xfrm flipH="1">
              <a:off x="2790720" y="3438720"/>
              <a:ext cx="326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60880" y="322236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Lucida Casu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857920" y="3362400"/>
            <a:ext cx="0" cy="19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3390840"/>
            <a:ext cx="0" cy="19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0200" y="325908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994120" y="2967120"/>
            <a:ext cx="3152520" cy="1636560"/>
            <a:chOff x="2994120" y="2967120"/>
            <a:chExt cx="3152520" cy="1636560"/>
          </a:xfrm>
        </p:grpSpPr>
        <p:sp>
          <p:nvSpPr>
            <p:cNvPr id="152" name=""/>
            <p:cNvSpPr/>
            <p:nvPr/>
          </p:nvSpPr>
          <p:spPr>
            <a:xfrm>
              <a:off x="3030480" y="3263760"/>
              <a:ext cx="3116160" cy="1339920"/>
            </a:xfrm>
            <a:custGeom>
              <a:avLst/>
              <a:gdLst/>
              <a:ahLst/>
              <a:rect l="l" t="t" r="r" b="b"/>
              <a:pathLst>
                <a:path w="1963" h="663">
                  <a:moveTo>
                    <a:pt x="0" y="663"/>
                  </a:moveTo>
                  <a:cubicBezTo>
                    <a:pt x="220" y="621"/>
                    <a:pt x="441" y="580"/>
                    <a:pt x="682" y="509"/>
                  </a:cubicBezTo>
                  <a:cubicBezTo>
                    <a:pt x="923" y="438"/>
                    <a:pt x="1231" y="321"/>
                    <a:pt x="1445" y="236"/>
                  </a:cubicBezTo>
                  <a:cubicBezTo>
                    <a:pt x="1659" y="151"/>
                    <a:pt x="1877" y="39"/>
                    <a:pt x="1963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94120" y="2967120"/>
              <a:ext cx="2935080" cy="1325520"/>
            </a:xfrm>
            <a:custGeom>
              <a:avLst/>
              <a:gdLst/>
              <a:ahLst/>
              <a:rect l="l" t="t" r="r" b="b"/>
              <a:pathLst>
                <a:path w="1963" h="663">
                  <a:moveTo>
                    <a:pt x="0" y="663"/>
                  </a:moveTo>
                  <a:cubicBezTo>
                    <a:pt x="220" y="621"/>
                    <a:pt x="441" y="580"/>
                    <a:pt x="682" y="509"/>
                  </a:cubicBezTo>
                  <a:cubicBezTo>
                    <a:pt x="923" y="438"/>
                    <a:pt x="1231" y="321"/>
                    <a:pt x="1445" y="236"/>
                  </a:cubicBezTo>
                  <a:cubicBezTo>
                    <a:pt x="1659" y="151"/>
                    <a:pt x="1877" y="39"/>
                    <a:pt x="1963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422520" y="1693800"/>
            <a:ext cx="2386080" cy="1749600"/>
            <a:chOff x="3422520" y="1693800"/>
            <a:chExt cx="2386080" cy="1749600"/>
          </a:xfrm>
        </p:grpSpPr>
        <p:sp>
          <p:nvSpPr>
            <p:cNvPr id="155" name=""/>
            <p:cNvSpPr/>
            <p:nvPr/>
          </p:nvSpPr>
          <p:spPr>
            <a:xfrm flipH="1">
              <a:off x="5229000" y="3443400"/>
              <a:ext cx="56196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22520" y="1693800"/>
              <a:ext cx="2386080" cy="1171800"/>
            </a:xfrm>
            <a:prstGeom prst="wedgeRoundRectCallout">
              <a:avLst>
                <a:gd name="adj1" fmla="val 40884"/>
                <a:gd name="adj2" fmla="val 96476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Aumento no Cus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de produção </a:t>
              </a:r>
              <a:r>
                <a:rPr b="1" lang="pt-BR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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Menor oferta pa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mesmo preç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85680" y="9136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feito da Elevação de Preço dos Fa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30480" y="3263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68080" y="26679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94120" y="2967120"/>
            <a:ext cx="2935080" cy="13255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710240" y="3638160"/>
            <a:ext cx="0" cy="390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99320" y="3541680"/>
            <a:ext cx="2690640" cy="1171440"/>
          </a:xfrm>
          <a:prstGeom prst="wedgeRoundRectCallout">
            <a:avLst>
              <a:gd name="adj1" fmla="val -94013"/>
              <a:gd name="adj2" fmla="val -23847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Aumento no Cu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e produção </a:t>
            </a:r>
            <a:r>
              <a:rPr b="1" lang="pt-BR" sz="1800" spc="-1" strike="noStrike">
                <a:solidFill>
                  <a:srgbClr val="008000"/>
                </a:solidFill>
                <a:latin typeface="Symbol"/>
                <a:ea typeface="Symbol"/>
              </a:rPr>
              <a:t>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Maior Preço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mesma 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05200" y="4038480"/>
            <a:ext cx="0" cy="11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65640" y="80892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4.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" y="1586520"/>
            <a:ext cx="816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Considere a curva de oferta de um produto digi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Indique, para cada modificação nas condições de mercado,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a curva de oferta se desloca para </a:t>
            </a: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E (esquerda/cima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D (direita/baixo), I (indiferente) ou N (nada pode ser afirmado)</a:t>
            </a: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5600" y="3227400"/>
            <a:ext cx="7728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Nova lei trabalhista reduzindo a jornada semanal para 36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Instalação de links de dados com maior veloc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Queda no preço de computadores pesso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Criação de subsídios para o setor de infor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Inflação acentu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Aumento na taxa de juros dos emprést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Queda de R$ perante US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Proliferação de concorrentes com práticas desle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179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65640" y="80892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4.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5840" y="3227400"/>
            <a:ext cx="867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Nova lei trabalhista reduzindo a jornada semanal para 36h </a:t>
            </a:r>
            <a:r>
              <a:rPr b="1" lang="en-US" sz="2000" spc="-1" strike="noStrike">
                <a:solidFill>
                  <a:srgbClr val="ff3300"/>
                </a:solidFill>
                <a:latin typeface="Lucida Casu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Instalação de links de dados com maior velocidade </a:t>
            </a:r>
            <a:r>
              <a:rPr b="1" lang="en-US" sz="2000" spc="-1" strike="noStrike">
                <a:solidFill>
                  <a:srgbClr val="ff3300"/>
                </a:solidFill>
                <a:latin typeface="Lucida Casu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Queda no preço de computadores pessoais </a:t>
            </a:r>
            <a:r>
              <a:rPr b="1" lang="en-US" sz="2000" spc="-1" strike="noStrike">
                <a:solidFill>
                  <a:srgbClr val="ff3300"/>
                </a:solidFill>
                <a:latin typeface="Lucida Casu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Criação de subsídios para o setor de informática </a:t>
            </a:r>
            <a:r>
              <a:rPr b="1" lang="en-US" sz="2000" spc="-1" strike="noStrike">
                <a:solidFill>
                  <a:srgbClr val="ff3300"/>
                </a:solidFill>
                <a:latin typeface="Lucida Casu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Inflação acentuada </a:t>
            </a:r>
            <a:r>
              <a:rPr b="1" lang="en-US" sz="2000" spc="-1" strike="noStrike">
                <a:solidFill>
                  <a:srgbClr val="ff3300"/>
                </a:solidFill>
                <a:latin typeface="Lucida Casu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Aumento na taxa de juros dos empréstimos </a:t>
            </a:r>
            <a:r>
              <a:rPr b="1" lang="en-US" sz="2000" spc="-1" strike="noStrike">
                <a:solidFill>
                  <a:srgbClr val="ff3300"/>
                </a:solidFill>
                <a:latin typeface="Lucida Casu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Queda de R$ perante US$ </a:t>
            </a:r>
            <a:r>
              <a:rPr b="1" lang="en-US" sz="2000" spc="-1" strike="noStrike">
                <a:solidFill>
                  <a:srgbClr val="ff3300"/>
                </a:solidFill>
                <a:latin typeface="Lucida Casu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Proliferação de concorrentes com práticas desleais </a:t>
            </a:r>
            <a:r>
              <a:rPr b="1" lang="en-US" sz="2000" spc="-1" strike="noStrike">
                <a:solidFill>
                  <a:srgbClr val="ff3300"/>
                </a:solidFill>
                <a:latin typeface="Lucida Casu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" y="1586520"/>
            <a:ext cx="816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Considere a curva de oferta de um produto digi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Indique, para cada modificação nas condições de mercado,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a curva de oferta se desloca para </a:t>
            </a: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E (esquerda/cima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D (direita/baixo), I (indiferente) ou N (nada pode ser afirmado)</a:t>
            </a: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3600" y="1447920"/>
            <a:ext cx="806580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À luz das informações sobre os desejos do consumidor e do produto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mo seria a interação esperada entre estas part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371600" y="1676520"/>
          <a:ext cx="6543720" cy="474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54372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103640" y="3714840"/>
            <a:ext cx="17784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98680" y="2538360"/>
            <a:ext cx="168480" cy="1792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45240" y="4311720"/>
            <a:ext cx="166680" cy="179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96760" y="902520"/>
            <a:ext cx="40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quilíbrio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382920" y="4044600"/>
            <a:ext cx="816120" cy="24588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199040" y="3540240"/>
            <a:ext cx="815760" cy="5047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014800" y="2543040"/>
            <a:ext cx="814680" cy="9972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95800" y="4191120"/>
            <a:ext cx="171360" cy="17136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1560" y="3965400"/>
            <a:ext cx="171360" cy="171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24440" y="3467160"/>
            <a:ext cx="162000" cy="1620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95920" y="2523960"/>
            <a:ext cx="171360" cy="15264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3200400"/>
            <a:ext cx="1219320" cy="609480"/>
          </a:xfrm>
          <a:prstGeom prst="wedgeRoundRectCallout">
            <a:avLst>
              <a:gd name="adj1" fmla="val -132814"/>
              <a:gd name="adj2" fmla="val 110675"/>
              <a:gd name="adj3" fmla="val 16667"/>
            </a:avLst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2019240"/>
            <a:ext cx="914400" cy="609840"/>
          </a:xfrm>
          <a:prstGeom prst="wedgeRoundRectCallout">
            <a:avLst>
              <a:gd name="adj1" fmla="val 87500"/>
              <a:gd name="adj2" fmla="val 123175"/>
              <a:gd name="adj3" fmla="val 16667"/>
            </a:avLst>
          </a:prstGeom>
          <a:solidFill>
            <a:srgbClr val="ffcc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36800" y="1752480"/>
            <a:ext cx="54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OFERTA DE PRODU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DIGITAIS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EQUILÍBRIO DE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23520" y="502920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Arnoldo Souza Ca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Takashi Yoney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962520" y="3809880"/>
            <a:ext cx="1304640" cy="916920"/>
            <a:chOff x="3962520" y="3809880"/>
            <a:chExt cx="1304640" cy="916920"/>
          </a:xfrm>
        </p:grpSpPr>
        <p:sp>
          <p:nvSpPr>
            <p:cNvPr id="55" name=""/>
            <p:cNvSpPr/>
            <p:nvPr/>
          </p:nvSpPr>
          <p:spPr>
            <a:xfrm>
              <a:off x="4290480" y="380988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59320" y="40514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62520" y="392580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390840" y="2666880"/>
            <a:ext cx="2419560" cy="1600200"/>
          </a:xfrm>
          <a:custGeom>
            <a:avLst/>
            <a:gdLst/>
            <a:ahLst/>
            <a:rect l="l" t="t" r="r" b="b"/>
            <a:pathLst>
              <a:path w="1524" h="1008">
                <a:moveTo>
                  <a:pt x="0" y="1008"/>
                </a:moveTo>
                <a:cubicBezTo>
                  <a:pt x="299" y="930"/>
                  <a:pt x="598" y="852"/>
                  <a:pt x="852" y="684"/>
                </a:cubicBezTo>
                <a:cubicBezTo>
                  <a:pt x="1106" y="516"/>
                  <a:pt x="1315" y="258"/>
                  <a:pt x="152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60680" y="2130480"/>
            <a:ext cx="1440" cy="28940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84360" y="50245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84360" y="453564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84360" y="406548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84360" y="357660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84360" y="308916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84360" y="26179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84360" y="213048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60680" y="5024520"/>
            <a:ext cx="49737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5606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38472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22424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0482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87052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71040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53444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06520" y="48895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06520" y="44020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06520" y="39304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06520" y="3443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06520" y="2954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81960" y="24843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81960" y="19954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5096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7500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5044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744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9816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3660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602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93040" y="5746680"/>
            <a:ext cx="2858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Quantidade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912240" y="3282480"/>
            <a:ext cx="19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Preço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96760" y="902520"/>
            <a:ext cx="40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quilíbrio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90840" y="2647800"/>
            <a:ext cx="2533680" cy="1733760"/>
          </a:xfrm>
          <a:custGeom>
            <a:avLst/>
            <a:gdLst/>
            <a:ahLst/>
            <a:rect l="l" t="t" r="r" b="b"/>
            <a:pathLst>
              <a:path w="1596" h="1092">
                <a:moveTo>
                  <a:pt x="0" y="0"/>
                </a:moveTo>
                <a:cubicBezTo>
                  <a:pt x="107" y="245"/>
                  <a:pt x="214" y="490"/>
                  <a:pt x="480" y="672"/>
                </a:cubicBezTo>
                <a:cubicBezTo>
                  <a:pt x="746" y="854"/>
                  <a:pt x="1410" y="1022"/>
                  <a:pt x="1596" y="109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2400480"/>
            <a:ext cx="1219320" cy="609480"/>
          </a:xfrm>
          <a:prstGeom prst="wedgeRoundRectCallout">
            <a:avLst>
              <a:gd name="adj1" fmla="val -125000"/>
              <a:gd name="adj2" fmla="val 270050"/>
              <a:gd name="adj3" fmla="val 16667"/>
            </a:avLst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81560" y="1676520"/>
            <a:ext cx="914400" cy="609480"/>
          </a:xfrm>
          <a:prstGeom prst="wedgeRoundRectCallout">
            <a:avLst>
              <a:gd name="adj1" fmla="val 87500"/>
              <a:gd name="adj2" fmla="val 123175"/>
              <a:gd name="adj3" fmla="val 16667"/>
            </a:avLst>
          </a:prstGeom>
          <a:solidFill>
            <a:srgbClr val="ffcc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96760" y="902520"/>
            <a:ext cx="40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quilíbrio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90840" y="2666880"/>
            <a:ext cx="2419560" cy="1600200"/>
          </a:xfrm>
          <a:custGeom>
            <a:avLst/>
            <a:gdLst/>
            <a:ahLst/>
            <a:rect l="l" t="t" r="r" b="b"/>
            <a:pathLst>
              <a:path w="1524" h="1008">
                <a:moveTo>
                  <a:pt x="0" y="1008"/>
                </a:moveTo>
                <a:cubicBezTo>
                  <a:pt x="299" y="930"/>
                  <a:pt x="598" y="852"/>
                  <a:pt x="852" y="684"/>
                </a:cubicBezTo>
                <a:cubicBezTo>
                  <a:pt x="1106" y="516"/>
                  <a:pt x="1315" y="258"/>
                  <a:pt x="152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60680" y="2130480"/>
            <a:ext cx="1440" cy="28940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84360" y="50245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84360" y="453564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84360" y="406548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84360" y="357660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84360" y="308916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84360" y="26179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84360" y="213048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60680" y="5024520"/>
            <a:ext cx="49737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5606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38472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22424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0482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87052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671040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753444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55400" y="48895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55400" y="44020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55400" y="39304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55400" y="3443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55400" y="2954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3000" y="24843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33000" y="19954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9984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2352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014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2516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4920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5872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41132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74880" y="5746680"/>
            <a:ext cx="2858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Quantidade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912240" y="3456720"/>
            <a:ext cx="19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Preço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90840" y="2647800"/>
            <a:ext cx="2533680" cy="1733760"/>
          </a:xfrm>
          <a:custGeom>
            <a:avLst/>
            <a:gdLst/>
            <a:ahLst/>
            <a:rect l="l" t="t" r="r" b="b"/>
            <a:pathLst>
              <a:path w="1596" h="1092">
                <a:moveTo>
                  <a:pt x="0" y="0"/>
                </a:moveTo>
                <a:cubicBezTo>
                  <a:pt x="107" y="245"/>
                  <a:pt x="214" y="490"/>
                  <a:pt x="480" y="672"/>
                </a:cubicBezTo>
                <a:cubicBezTo>
                  <a:pt x="746" y="854"/>
                  <a:pt x="1410" y="1022"/>
                  <a:pt x="1596" y="109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2400480"/>
            <a:ext cx="1219320" cy="609480"/>
          </a:xfrm>
          <a:prstGeom prst="wedgeRoundRectCallout">
            <a:avLst>
              <a:gd name="adj1" fmla="val -125000"/>
              <a:gd name="adj2" fmla="val 270050"/>
              <a:gd name="adj3" fmla="val 16667"/>
            </a:avLst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81560" y="1676520"/>
            <a:ext cx="914400" cy="609480"/>
          </a:xfrm>
          <a:prstGeom prst="wedgeRoundRectCallout">
            <a:avLst>
              <a:gd name="adj1" fmla="val 87500"/>
              <a:gd name="adj2" fmla="val 123175"/>
              <a:gd name="adj3" fmla="val 16667"/>
            </a:avLst>
          </a:prstGeom>
          <a:solidFill>
            <a:srgbClr val="ffcc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00640" y="3828960"/>
            <a:ext cx="15228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76600" y="3962520"/>
            <a:ext cx="0" cy="10760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538360" y="3898800"/>
            <a:ext cx="1919520" cy="64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96760" y="902520"/>
            <a:ext cx="40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quilíbrio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14880" y="2666880"/>
            <a:ext cx="2495520" cy="1906560"/>
          </a:xfrm>
          <a:custGeom>
            <a:avLst/>
            <a:gdLst/>
            <a:ahLst/>
            <a:rect l="l" t="t" r="r" b="b"/>
            <a:pathLst>
              <a:path w="1524" h="1008">
                <a:moveTo>
                  <a:pt x="0" y="1008"/>
                </a:moveTo>
                <a:cubicBezTo>
                  <a:pt x="299" y="930"/>
                  <a:pt x="598" y="852"/>
                  <a:pt x="852" y="684"/>
                </a:cubicBezTo>
                <a:cubicBezTo>
                  <a:pt x="1106" y="516"/>
                  <a:pt x="1315" y="258"/>
                  <a:pt x="152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60680" y="2130480"/>
            <a:ext cx="1440" cy="28940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84360" y="50245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84360" y="453564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84360" y="406548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84360" y="357660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84360" y="308916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84360" y="26179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84360" y="213048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60680" y="5024520"/>
            <a:ext cx="49737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25606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38472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2424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0482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87052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71040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53444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55400" y="48895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55400" y="44020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55400" y="39304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55400" y="3443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55400" y="2954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133000" y="24843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133000" y="19954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9984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2352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014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2516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74920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872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41132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74880" y="5746680"/>
            <a:ext cx="2858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Quantidade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912240" y="3456720"/>
            <a:ext cx="19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Preço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36920" y="2481120"/>
            <a:ext cx="2533680" cy="2006640"/>
          </a:xfrm>
          <a:custGeom>
            <a:avLst/>
            <a:gdLst/>
            <a:ahLst/>
            <a:rect l="l" t="t" r="r" b="b"/>
            <a:pathLst>
              <a:path w="1596" h="1092">
                <a:moveTo>
                  <a:pt x="0" y="0"/>
                </a:moveTo>
                <a:cubicBezTo>
                  <a:pt x="107" y="245"/>
                  <a:pt x="214" y="490"/>
                  <a:pt x="480" y="672"/>
                </a:cubicBezTo>
                <a:cubicBezTo>
                  <a:pt x="746" y="854"/>
                  <a:pt x="1410" y="1022"/>
                  <a:pt x="1596" y="109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81680" y="2400480"/>
            <a:ext cx="1219320" cy="609480"/>
          </a:xfrm>
          <a:prstGeom prst="wedgeRoundRectCallout">
            <a:avLst>
              <a:gd name="adj1" fmla="val -125000"/>
              <a:gd name="adj2" fmla="val 270050"/>
              <a:gd name="adj3" fmla="val 16667"/>
            </a:avLst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81560" y="1676520"/>
            <a:ext cx="914400" cy="609480"/>
          </a:xfrm>
          <a:prstGeom prst="wedgeRoundRectCallout">
            <a:avLst>
              <a:gd name="adj1" fmla="val 87500"/>
              <a:gd name="adj2" fmla="val 123175"/>
              <a:gd name="adj3" fmla="val 16667"/>
            </a:avLst>
          </a:prstGeom>
          <a:solidFill>
            <a:srgbClr val="ffcc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89640" y="3914640"/>
            <a:ext cx="152280" cy="142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75080" y="3098880"/>
            <a:ext cx="292392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10160" y="3098880"/>
            <a:ext cx="0" cy="12189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108320" y="4314960"/>
            <a:ext cx="137808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103640" y="3661920"/>
            <a:ext cx="0" cy="6303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14800" y="3649680"/>
            <a:ext cx="909720" cy="46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033880" y="3666960"/>
            <a:ext cx="0" cy="4590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4410000" y="4145040"/>
            <a:ext cx="58896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413240" y="3874680"/>
            <a:ext cx="0" cy="2602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3600" y="1447920"/>
            <a:ext cx="806580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À luz das informações sobre os desejos do consumidor e do produto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como seria a interação esperada entre estas part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19880" y="5989680"/>
            <a:ext cx="182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onsole"/>
              </a:rPr>
              <a:t>Quantidade de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1623240" y="4229640"/>
            <a:ext cx="122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onsole"/>
              </a:rPr>
              <a:t>Preço de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89680" y="3341520"/>
            <a:ext cx="1135080" cy="746280"/>
          </a:xfrm>
          <a:prstGeom prst="wedgeRoundRectCallout">
            <a:avLst>
              <a:gd name="adj1" fmla="val -105662"/>
              <a:gd name="adj2" fmla="val 143828"/>
              <a:gd name="adj3" fmla="val 16667"/>
            </a:avLst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08400" y="2800440"/>
            <a:ext cx="955800" cy="557280"/>
          </a:xfrm>
          <a:prstGeom prst="wedgeRoundRectCallout">
            <a:avLst>
              <a:gd name="adj1" fmla="val 51828"/>
              <a:gd name="adj2" fmla="val 105555"/>
              <a:gd name="adj3" fmla="val 16667"/>
            </a:avLst>
          </a:prstGeom>
          <a:solidFill>
            <a:srgbClr val="ffcc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467800" y="2908440"/>
            <a:ext cx="4370400" cy="2926080"/>
            <a:chOff x="2467800" y="2908440"/>
            <a:chExt cx="4370400" cy="2926080"/>
          </a:xfrm>
        </p:grpSpPr>
        <p:sp>
          <p:nvSpPr>
            <p:cNvPr id="352" name=""/>
            <p:cNvSpPr/>
            <p:nvPr/>
          </p:nvSpPr>
          <p:spPr>
            <a:xfrm>
              <a:off x="3441600" y="3445920"/>
              <a:ext cx="1873440" cy="1284120"/>
            </a:xfrm>
            <a:custGeom>
              <a:avLst/>
              <a:gdLst/>
              <a:ahLst/>
              <a:rect l="l" t="t" r="r" b="b"/>
              <a:pathLst>
                <a:path w="1524" h="1008">
                  <a:moveTo>
                    <a:pt x="0" y="1008"/>
                  </a:moveTo>
                  <a:cubicBezTo>
                    <a:pt x="299" y="930"/>
                    <a:pt x="598" y="852"/>
                    <a:pt x="852" y="684"/>
                  </a:cubicBezTo>
                  <a:cubicBezTo>
                    <a:pt x="1106" y="516"/>
                    <a:pt x="1315" y="258"/>
                    <a:pt x="1524" y="0"/>
                  </a:cubicBezTo>
                </a:path>
              </a:pathLst>
            </a:cu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98640" y="3016440"/>
              <a:ext cx="1800" cy="2323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39960" y="5339880"/>
              <a:ext cx="586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39960" y="4947480"/>
              <a:ext cx="586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39960" y="4569120"/>
              <a:ext cx="5868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39960" y="4176360"/>
              <a:ext cx="586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39960" y="3785400"/>
              <a:ext cx="5868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39960" y="3407400"/>
              <a:ext cx="586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739960" y="3016440"/>
              <a:ext cx="586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98640" y="5339880"/>
              <a:ext cx="384984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798640" y="5339520"/>
              <a:ext cx="1800" cy="68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3436920" y="5339520"/>
              <a:ext cx="1440" cy="68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4086360" y="5339520"/>
              <a:ext cx="1440" cy="68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724280" y="5339520"/>
              <a:ext cx="1800" cy="68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5361120" y="5339520"/>
              <a:ext cx="1440" cy="68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012000" y="5339520"/>
              <a:ext cx="0" cy="68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648480" y="5339520"/>
              <a:ext cx="1440" cy="68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561760" y="5230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61760" y="4840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561760" y="44607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61760" y="40716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61760" y="36770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67800" y="33008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67800" y="2908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752200" y="55292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88680" y="55292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91680" y="5529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28520" y="5529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66440" y="5529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15880" y="5529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54160" y="5529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41600" y="3431160"/>
              <a:ext cx="1960560" cy="1391400"/>
            </a:xfrm>
            <a:custGeom>
              <a:avLst/>
              <a:gdLst/>
              <a:ahLst/>
              <a:rect l="l" t="t" r="r" b="b"/>
              <a:pathLst>
                <a:path w="1596" h="1092">
                  <a:moveTo>
                    <a:pt x="0" y="0"/>
                  </a:moveTo>
                  <a:cubicBezTo>
                    <a:pt x="107" y="245"/>
                    <a:pt x="214" y="490"/>
                    <a:pt x="480" y="672"/>
                  </a:cubicBezTo>
                  <a:cubicBezTo>
                    <a:pt x="746" y="854"/>
                    <a:pt x="1410" y="1022"/>
                    <a:pt x="1596" y="1092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22800" y="4380120"/>
              <a:ext cx="119160" cy="1137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81480" y="4486680"/>
              <a:ext cx="0" cy="8643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770200" y="4440960"/>
              <a:ext cx="1496880" cy="684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69600" y="80892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4.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1440" y="1423080"/>
            <a:ext cx="85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Observe as duas situações, proponha um exemplo concreto 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podem ocorrer os deslocamentos indicados das curvas e co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as diferenç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46280" y="2604960"/>
            <a:ext cx="0" cy="2835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7560" y="528804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82720" y="3382920"/>
            <a:ext cx="2378160" cy="1403280"/>
          </a:xfrm>
          <a:custGeom>
            <a:avLst/>
            <a:gdLst/>
            <a:ahLst/>
            <a:rect l="l" t="t" r="r" b="b"/>
            <a:pathLst>
              <a:path w="1498" h="884">
                <a:moveTo>
                  <a:pt x="0" y="884"/>
                </a:moveTo>
                <a:cubicBezTo>
                  <a:pt x="93" y="860"/>
                  <a:pt x="376" y="817"/>
                  <a:pt x="557" y="740"/>
                </a:cubicBezTo>
                <a:cubicBezTo>
                  <a:pt x="738" y="663"/>
                  <a:pt x="928" y="546"/>
                  <a:pt x="1085" y="423"/>
                </a:cubicBezTo>
                <a:cubicBezTo>
                  <a:pt x="1242" y="300"/>
                  <a:pt x="1412" y="88"/>
                  <a:pt x="1498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52480" y="3367080"/>
            <a:ext cx="2424240" cy="1616040"/>
          </a:xfrm>
          <a:custGeom>
            <a:avLst/>
            <a:gdLst/>
            <a:ahLst/>
            <a:rect l="l" t="t" r="r" b="b"/>
            <a:pathLst>
              <a:path w="1527" h="1018">
                <a:moveTo>
                  <a:pt x="0" y="0"/>
                </a:moveTo>
                <a:cubicBezTo>
                  <a:pt x="77" y="80"/>
                  <a:pt x="296" y="347"/>
                  <a:pt x="461" y="480"/>
                </a:cubicBezTo>
                <a:cubicBezTo>
                  <a:pt x="626" y="613"/>
                  <a:pt x="811" y="707"/>
                  <a:pt x="989" y="797"/>
                </a:cubicBezTo>
                <a:cubicBezTo>
                  <a:pt x="1167" y="887"/>
                  <a:pt x="1415" y="972"/>
                  <a:pt x="1527" y="1018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41280" y="3222720"/>
            <a:ext cx="2133720" cy="1417680"/>
          </a:xfrm>
          <a:custGeom>
            <a:avLst/>
            <a:gdLst/>
            <a:ahLst/>
            <a:rect l="l" t="t" r="r" b="b"/>
            <a:pathLst>
              <a:path w="1344" h="893">
                <a:moveTo>
                  <a:pt x="0" y="0"/>
                </a:moveTo>
                <a:cubicBezTo>
                  <a:pt x="64" y="62"/>
                  <a:pt x="247" y="262"/>
                  <a:pt x="384" y="374"/>
                </a:cubicBezTo>
                <a:cubicBezTo>
                  <a:pt x="521" y="486"/>
                  <a:pt x="661" y="586"/>
                  <a:pt x="821" y="672"/>
                </a:cubicBezTo>
                <a:cubicBezTo>
                  <a:pt x="981" y="758"/>
                  <a:pt x="1235" y="847"/>
                  <a:pt x="1344" y="893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95720" y="3274560"/>
            <a:ext cx="34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Lucida Casu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9720" y="2437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495600" y="5425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47840" y="4022640"/>
            <a:ext cx="145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Nova Cur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de Dem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86720" y="4694040"/>
            <a:ext cx="14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Lucida Casual"/>
              </a:rPr>
              <a:t>Curva Anti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35320" y="414504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69920" y="436716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141880" y="2589120"/>
            <a:ext cx="0" cy="2835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43520" y="527220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78320" y="3367080"/>
            <a:ext cx="2378160" cy="1403280"/>
          </a:xfrm>
          <a:custGeom>
            <a:avLst/>
            <a:gdLst/>
            <a:ahLst/>
            <a:rect l="l" t="t" r="r" b="b"/>
            <a:pathLst>
              <a:path w="1498" h="884">
                <a:moveTo>
                  <a:pt x="0" y="884"/>
                </a:moveTo>
                <a:cubicBezTo>
                  <a:pt x="93" y="860"/>
                  <a:pt x="376" y="817"/>
                  <a:pt x="557" y="740"/>
                </a:cubicBezTo>
                <a:cubicBezTo>
                  <a:pt x="738" y="663"/>
                  <a:pt x="928" y="546"/>
                  <a:pt x="1085" y="423"/>
                </a:cubicBezTo>
                <a:cubicBezTo>
                  <a:pt x="1242" y="300"/>
                  <a:pt x="1412" y="88"/>
                  <a:pt x="1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248440" y="3351240"/>
            <a:ext cx="2423880" cy="1616040"/>
          </a:xfrm>
          <a:custGeom>
            <a:avLst/>
            <a:gdLst/>
            <a:ahLst/>
            <a:rect l="l" t="t" r="r" b="b"/>
            <a:pathLst>
              <a:path w="1527" h="1018">
                <a:moveTo>
                  <a:pt x="0" y="0"/>
                </a:moveTo>
                <a:cubicBezTo>
                  <a:pt x="77" y="80"/>
                  <a:pt x="296" y="347"/>
                  <a:pt x="461" y="480"/>
                </a:cubicBezTo>
                <a:cubicBezTo>
                  <a:pt x="626" y="613"/>
                  <a:pt x="811" y="707"/>
                  <a:pt x="989" y="797"/>
                </a:cubicBezTo>
                <a:cubicBezTo>
                  <a:pt x="1167" y="887"/>
                  <a:pt x="1415" y="972"/>
                  <a:pt x="1527" y="101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675320" y="2421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891560" y="5409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413480" y="4111560"/>
            <a:ext cx="13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Lucida Casual"/>
              </a:rPr>
              <a:t>Nova Cur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Lucida Casual"/>
              </a:rPr>
              <a:t>de Ofe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64800" y="2987280"/>
            <a:ext cx="14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Lucida Casual"/>
              </a:rPr>
              <a:t>Curva Anti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65880" y="435132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75240" y="3475080"/>
            <a:ext cx="2606760" cy="1585800"/>
          </a:xfrm>
          <a:custGeom>
            <a:avLst/>
            <a:gdLst/>
            <a:ahLst/>
            <a:rect l="l" t="t" r="r" b="b"/>
            <a:pathLst>
              <a:path w="1498" h="884">
                <a:moveTo>
                  <a:pt x="0" y="884"/>
                </a:moveTo>
                <a:cubicBezTo>
                  <a:pt x="93" y="860"/>
                  <a:pt x="376" y="817"/>
                  <a:pt x="557" y="740"/>
                </a:cubicBezTo>
                <a:cubicBezTo>
                  <a:pt x="738" y="663"/>
                  <a:pt x="928" y="546"/>
                  <a:pt x="1085" y="423"/>
                </a:cubicBezTo>
                <a:cubicBezTo>
                  <a:pt x="1242" y="300"/>
                  <a:pt x="1412" y="88"/>
                  <a:pt x="1498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48560" y="455616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84920" y="484452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50840" y="3565440"/>
            <a:ext cx="4888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345440" y="3749760"/>
            <a:ext cx="4888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365480" y="573012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Situaçã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830920" y="571392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Situaçã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09720" y="2482920"/>
            <a:ext cx="523800" cy="609480"/>
          </a:xfrm>
          <a:prstGeom prst="wedgeRoundRectCallout">
            <a:avLst>
              <a:gd name="adj1" fmla="val -3032"/>
              <a:gd name="adj2" fmla="val 119532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00"/>
                </a:solidFill>
                <a:latin typeface="Lucida Casu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9760" y="2533680"/>
            <a:ext cx="523800" cy="609480"/>
          </a:xfrm>
          <a:prstGeom prst="wedgeRoundRectCallout">
            <a:avLst>
              <a:gd name="adj1" fmla="val -173333"/>
              <a:gd name="adj2" fmla="val 143231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00"/>
                </a:solidFill>
                <a:latin typeface="Lucida Casu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424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69600" y="80892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4.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1440" y="1423080"/>
            <a:ext cx="85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Observe as duas situações, proponha um exemplo concreto 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podem ocorrer os deslocamentos indicados das curvas e co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as diferenç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884160" y="2727360"/>
            <a:ext cx="0" cy="2835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54100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020600" y="3505320"/>
            <a:ext cx="2378160" cy="1403280"/>
          </a:xfrm>
          <a:custGeom>
            <a:avLst/>
            <a:gdLst/>
            <a:ahLst/>
            <a:rect l="l" t="t" r="r" b="b"/>
            <a:pathLst>
              <a:path w="1498" h="884">
                <a:moveTo>
                  <a:pt x="0" y="884"/>
                </a:moveTo>
                <a:cubicBezTo>
                  <a:pt x="93" y="860"/>
                  <a:pt x="376" y="817"/>
                  <a:pt x="557" y="740"/>
                </a:cubicBezTo>
                <a:cubicBezTo>
                  <a:pt x="738" y="663"/>
                  <a:pt x="928" y="546"/>
                  <a:pt x="1085" y="423"/>
                </a:cubicBezTo>
                <a:cubicBezTo>
                  <a:pt x="1242" y="300"/>
                  <a:pt x="1412" y="88"/>
                  <a:pt x="1498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90720" y="3489480"/>
            <a:ext cx="2423880" cy="1616040"/>
          </a:xfrm>
          <a:custGeom>
            <a:avLst/>
            <a:gdLst/>
            <a:ahLst/>
            <a:rect l="l" t="t" r="r" b="b"/>
            <a:pathLst>
              <a:path w="1527" h="1018">
                <a:moveTo>
                  <a:pt x="0" y="0"/>
                </a:moveTo>
                <a:cubicBezTo>
                  <a:pt x="77" y="80"/>
                  <a:pt x="296" y="347"/>
                  <a:pt x="461" y="480"/>
                </a:cubicBezTo>
                <a:cubicBezTo>
                  <a:pt x="626" y="613"/>
                  <a:pt x="811" y="707"/>
                  <a:pt x="989" y="797"/>
                </a:cubicBezTo>
                <a:cubicBezTo>
                  <a:pt x="1167" y="887"/>
                  <a:pt x="1415" y="972"/>
                  <a:pt x="1527" y="1018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79520" y="3344760"/>
            <a:ext cx="2133720" cy="1417680"/>
          </a:xfrm>
          <a:custGeom>
            <a:avLst/>
            <a:gdLst/>
            <a:ahLst/>
            <a:rect l="l" t="t" r="r" b="b"/>
            <a:pathLst>
              <a:path w="1344" h="893">
                <a:moveTo>
                  <a:pt x="0" y="0"/>
                </a:moveTo>
                <a:cubicBezTo>
                  <a:pt x="64" y="62"/>
                  <a:pt x="247" y="262"/>
                  <a:pt x="384" y="374"/>
                </a:cubicBezTo>
                <a:cubicBezTo>
                  <a:pt x="521" y="486"/>
                  <a:pt x="661" y="586"/>
                  <a:pt x="821" y="672"/>
                </a:cubicBezTo>
                <a:cubicBezTo>
                  <a:pt x="981" y="758"/>
                  <a:pt x="1235" y="847"/>
                  <a:pt x="1344" y="893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33960" y="3396960"/>
            <a:ext cx="34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Lucida Casu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7600" y="25599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33840" y="5547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16400" y="4343040"/>
            <a:ext cx="7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Lucida Casual"/>
              </a:rPr>
              <a:t>No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50600" y="487800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Lucida Casual"/>
              </a:rPr>
              <a:t>Anti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73200" y="426708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108160" y="448956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5280120" y="2711520"/>
            <a:ext cx="0" cy="2835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81760" y="539424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416560" y="3489480"/>
            <a:ext cx="2378160" cy="1403280"/>
          </a:xfrm>
          <a:custGeom>
            <a:avLst/>
            <a:gdLst/>
            <a:ahLst/>
            <a:rect l="l" t="t" r="r" b="b"/>
            <a:pathLst>
              <a:path w="1498" h="884">
                <a:moveTo>
                  <a:pt x="0" y="884"/>
                </a:moveTo>
                <a:cubicBezTo>
                  <a:pt x="93" y="860"/>
                  <a:pt x="376" y="817"/>
                  <a:pt x="557" y="740"/>
                </a:cubicBezTo>
                <a:cubicBezTo>
                  <a:pt x="738" y="663"/>
                  <a:pt x="928" y="546"/>
                  <a:pt x="1085" y="423"/>
                </a:cubicBezTo>
                <a:cubicBezTo>
                  <a:pt x="1242" y="300"/>
                  <a:pt x="1412" y="88"/>
                  <a:pt x="1498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86320" y="3473280"/>
            <a:ext cx="2424240" cy="1616400"/>
          </a:xfrm>
          <a:custGeom>
            <a:avLst/>
            <a:gdLst/>
            <a:ahLst/>
            <a:rect l="l" t="t" r="r" b="b"/>
            <a:pathLst>
              <a:path w="1527" h="1018">
                <a:moveTo>
                  <a:pt x="0" y="0"/>
                </a:moveTo>
                <a:cubicBezTo>
                  <a:pt x="77" y="80"/>
                  <a:pt x="296" y="347"/>
                  <a:pt x="461" y="480"/>
                </a:cubicBezTo>
                <a:cubicBezTo>
                  <a:pt x="626" y="613"/>
                  <a:pt x="811" y="707"/>
                  <a:pt x="989" y="797"/>
                </a:cubicBezTo>
                <a:cubicBezTo>
                  <a:pt x="1167" y="887"/>
                  <a:pt x="1415" y="972"/>
                  <a:pt x="1527" y="1018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13560" y="2544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029800" y="5531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056800" y="3182400"/>
            <a:ext cx="7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Lucida Casual"/>
              </a:rPr>
              <a:t>No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008120" y="310968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Lucida Casual"/>
              </a:rPr>
              <a:t>Anti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04120" y="447372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613480" y="3597120"/>
            <a:ext cx="2606760" cy="1586160"/>
          </a:xfrm>
          <a:custGeom>
            <a:avLst/>
            <a:gdLst/>
            <a:ahLst/>
            <a:rect l="l" t="t" r="r" b="b"/>
            <a:pathLst>
              <a:path w="1498" h="884">
                <a:moveTo>
                  <a:pt x="0" y="884"/>
                </a:moveTo>
                <a:cubicBezTo>
                  <a:pt x="93" y="860"/>
                  <a:pt x="376" y="817"/>
                  <a:pt x="557" y="740"/>
                </a:cubicBezTo>
                <a:cubicBezTo>
                  <a:pt x="738" y="663"/>
                  <a:pt x="928" y="546"/>
                  <a:pt x="1085" y="423"/>
                </a:cubicBezTo>
                <a:cubicBezTo>
                  <a:pt x="1242" y="300"/>
                  <a:pt x="1412" y="88"/>
                  <a:pt x="1498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86440" y="467820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823160" y="496692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Lucida Casu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189080" y="3687840"/>
            <a:ext cx="48888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483320" y="3871800"/>
            <a:ext cx="48924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503720" y="585216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Situaçã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69160" y="583632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Situaçã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610920" y="4329000"/>
            <a:ext cx="18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610920" y="4541760"/>
            <a:ext cx="149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488880" y="4160520"/>
            <a:ext cx="0" cy="563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516040" y="4389480"/>
            <a:ext cx="0" cy="11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65400" y="46022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27160" y="5638680"/>
            <a:ext cx="6415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173320" y="4329000"/>
            <a:ext cx="342720" cy="2224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5121360" y="4525920"/>
            <a:ext cx="140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5137200" y="4740120"/>
            <a:ext cx="175248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554880" y="45878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93576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46880" y="5638680"/>
            <a:ext cx="6411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4389480"/>
            <a:ext cx="0" cy="563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562800" y="4505400"/>
            <a:ext cx="358560" cy="218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390840" y="2666880"/>
            <a:ext cx="2419560" cy="1600200"/>
          </a:xfrm>
          <a:custGeom>
            <a:avLst/>
            <a:gdLst/>
            <a:ahLst/>
            <a:rect l="l" t="t" r="r" b="b"/>
            <a:pathLst>
              <a:path w="1524" h="1008">
                <a:moveTo>
                  <a:pt x="0" y="1008"/>
                </a:moveTo>
                <a:cubicBezTo>
                  <a:pt x="299" y="930"/>
                  <a:pt x="598" y="852"/>
                  <a:pt x="852" y="684"/>
                </a:cubicBezTo>
                <a:cubicBezTo>
                  <a:pt x="1106" y="516"/>
                  <a:pt x="1315" y="258"/>
                  <a:pt x="152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60680" y="2130480"/>
            <a:ext cx="1440" cy="28940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484360" y="50245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484360" y="453564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84360" y="406548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84360" y="357660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84360" y="308916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84360" y="26179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484360" y="213048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60680" y="5024520"/>
            <a:ext cx="49737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5606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38472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422424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50482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87052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671040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753444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306520" y="48895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06520" y="44020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306520" y="39304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306520" y="3443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306520" y="2954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181960" y="24843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181960" y="19954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55096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7500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5044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744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9816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63660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4602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93040" y="5746680"/>
            <a:ext cx="2858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Quantidade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6200000">
            <a:off x="912240" y="3282480"/>
            <a:ext cx="19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Preço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126160" y="902520"/>
            <a:ext cx="52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eço Baixo: Fixação de T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390840" y="2647800"/>
            <a:ext cx="2533680" cy="1733760"/>
          </a:xfrm>
          <a:custGeom>
            <a:avLst/>
            <a:gdLst/>
            <a:ahLst/>
            <a:rect l="l" t="t" r="r" b="b"/>
            <a:pathLst>
              <a:path w="1596" h="1092">
                <a:moveTo>
                  <a:pt x="0" y="0"/>
                </a:moveTo>
                <a:cubicBezTo>
                  <a:pt x="107" y="245"/>
                  <a:pt x="214" y="490"/>
                  <a:pt x="480" y="672"/>
                </a:cubicBezTo>
                <a:cubicBezTo>
                  <a:pt x="746" y="854"/>
                  <a:pt x="1410" y="1022"/>
                  <a:pt x="1596" y="109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781680" y="2400480"/>
            <a:ext cx="1219320" cy="609480"/>
          </a:xfrm>
          <a:prstGeom prst="wedgeRoundRectCallout">
            <a:avLst>
              <a:gd name="adj1" fmla="val -125000"/>
              <a:gd name="adj2" fmla="val 270050"/>
              <a:gd name="adj3" fmla="val 16667"/>
            </a:avLst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81560" y="1676520"/>
            <a:ext cx="914400" cy="609480"/>
          </a:xfrm>
          <a:prstGeom prst="wedgeRoundRectCallout">
            <a:avLst>
              <a:gd name="adj1" fmla="val 87500"/>
              <a:gd name="adj2" fmla="val 123175"/>
              <a:gd name="adj3" fmla="val 16667"/>
            </a:avLst>
          </a:prstGeom>
          <a:solidFill>
            <a:srgbClr val="ffcc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010120" y="4048200"/>
            <a:ext cx="15228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52760" y="4133880"/>
            <a:ext cx="25146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19600" y="4048200"/>
            <a:ext cx="15228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79720" y="45316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9900"/>
                </a:solidFill>
                <a:latin typeface="Lucida Casual"/>
              </a:rPr>
              <a:t>Car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86200" y="4248000"/>
            <a:ext cx="0" cy="400320"/>
          </a:xfrm>
          <a:prstGeom prst="line">
            <a:avLst/>
          </a:prstGeom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095800" y="4238640"/>
            <a:ext cx="0" cy="399960"/>
          </a:xfrm>
          <a:prstGeom prst="line">
            <a:avLst/>
          </a:prstGeom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95560" y="4514760"/>
            <a:ext cx="1190880" cy="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390840" y="2666880"/>
            <a:ext cx="2419560" cy="1600200"/>
          </a:xfrm>
          <a:custGeom>
            <a:avLst/>
            <a:gdLst/>
            <a:ahLst/>
            <a:rect l="l" t="t" r="r" b="b"/>
            <a:pathLst>
              <a:path w="1524" h="1008">
                <a:moveTo>
                  <a:pt x="0" y="1008"/>
                </a:moveTo>
                <a:cubicBezTo>
                  <a:pt x="299" y="930"/>
                  <a:pt x="598" y="852"/>
                  <a:pt x="852" y="684"/>
                </a:cubicBezTo>
                <a:cubicBezTo>
                  <a:pt x="1106" y="516"/>
                  <a:pt x="1315" y="258"/>
                  <a:pt x="152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560680" y="2130480"/>
            <a:ext cx="1440" cy="28940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84360" y="50245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484360" y="453564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84360" y="406548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84360" y="357660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484360" y="308916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84360" y="26179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484360" y="213048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560680" y="5024520"/>
            <a:ext cx="49737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5606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338472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422424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50482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87052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671040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753444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06520" y="48895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06520" y="44020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306520" y="39304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306520" y="3443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06520" y="2954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81960" y="24843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81960" y="19954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5096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7500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5044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9744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79816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63660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4602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93040" y="5746680"/>
            <a:ext cx="2858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Quantidade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rot="16200000">
            <a:off x="912240" y="3282480"/>
            <a:ext cx="19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Preço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126160" y="902520"/>
            <a:ext cx="52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eço Baixo: Fixação de T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390840" y="2647800"/>
            <a:ext cx="2533680" cy="1733760"/>
          </a:xfrm>
          <a:custGeom>
            <a:avLst/>
            <a:gdLst/>
            <a:ahLst/>
            <a:rect l="l" t="t" r="r" b="b"/>
            <a:pathLst>
              <a:path w="1596" h="1092">
                <a:moveTo>
                  <a:pt x="0" y="0"/>
                </a:moveTo>
                <a:cubicBezTo>
                  <a:pt x="107" y="245"/>
                  <a:pt x="214" y="490"/>
                  <a:pt x="480" y="672"/>
                </a:cubicBezTo>
                <a:cubicBezTo>
                  <a:pt x="746" y="854"/>
                  <a:pt x="1410" y="1022"/>
                  <a:pt x="1596" y="109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10120" y="4048200"/>
            <a:ext cx="15228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52760" y="4133880"/>
            <a:ext cx="25146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19600" y="4048200"/>
            <a:ext cx="15228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79720" y="45316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9900"/>
                </a:solidFill>
                <a:latin typeface="Lucida Casual"/>
              </a:rPr>
              <a:t>Car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886200" y="4248000"/>
            <a:ext cx="0" cy="400320"/>
          </a:xfrm>
          <a:prstGeom prst="line">
            <a:avLst/>
          </a:prstGeom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95800" y="4238640"/>
            <a:ext cx="0" cy="399960"/>
          </a:xfrm>
          <a:prstGeom prst="line">
            <a:avLst/>
          </a:prstGeom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895560" y="4514760"/>
            <a:ext cx="1190880" cy="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608880" y="2819880"/>
            <a:ext cx="203364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Efei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Fi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Mercado Neg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3390840" y="2666880"/>
            <a:ext cx="2419560" cy="1600200"/>
          </a:xfrm>
          <a:custGeom>
            <a:avLst/>
            <a:gdLst/>
            <a:ahLst/>
            <a:rect l="l" t="t" r="r" b="b"/>
            <a:pathLst>
              <a:path w="1524" h="1008">
                <a:moveTo>
                  <a:pt x="0" y="1008"/>
                </a:moveTo>
                <a:cubicBezTo>
                  <a:pt x="299" y="930"/>
                  <a:pt x="598" y="852"/>
                  <a:pt x="852" y="684"/>
                </a:cubicBezTo>
                <a:cubicBezTo>
                  <a:pt x="1106" y="516"/>
                  <a:pt x="1315" y="258"/>
                  <a:pt x="152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560680" y="2130480"/>
            <a:ext cx="1440" cy="28940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484360" y="50245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484360" y="453564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84360" y="406548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84360" y="357660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84360" y="308916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84360" y="26179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84360" y="213048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60680" y="5024520"/>
            <a:ext cx="49737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5606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38472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422424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482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587052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671040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53444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306520" y="48895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306520" y="44020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306520" y="39304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306520" y="3443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06520" y="2954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181960" y="24843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181960" y="19954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5096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37500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5044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744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9816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63660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4602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93040" y="5746680"/>
            <a:ext cx="2858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Quantidade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rot="16200000">
            <a:off x="912240" y="3282480"/>
            <a:ext cx="19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Preço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90320" y="90252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eço Alto: Fixação de P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390840" y="2647800"/>
            <a:ext cx="2533680" cy="1733760"/>
          </a:xfrm>
          <a:custGeom>
            <a:avLst/>
            <a:gdLst/>
            <a:ahLst/>
            <a:rect l="l" t="t" r="r" b="b"/>
            <a:pathLst>
              <a:path w="1596" h="1092">
                <a:moveTo>
                  <a:pt x="0" y="0"/>
                </a:moveTo>
                <a:cubicBezTo>
                  <a:pt x="107" y="245"/>
                  <a:pt x="214" y="490"/>
                  <a:pt x="480" y="672"/>
                </a:cubicBezTo>
                <a:cubicBezTo>
                  <a:pt x="746" y="854"/>
                  <a:pt x="1410" y="1022"/>
                  <a:pt x="1596" y="109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781680" y="2400480"/>
            <a:ext cx="1219320" cy="609480"/>
          </a:xfrm>
          <a:prstGeom prst="wedgeRoundRectCallout">
            <a:avLst>
              <a:gd name="adj1" fmla="val -125000"/>
              <a:gd name="adj2" fmla="val 270050"/>
              <a:gd name="adj3" fmla="val 16667"/>
            </a:avLst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381560" y="1676520"/>
            <a:ext cx="914400" cy="609480"/>
          </a:xfrm>
          <a:prstGeom prst="wedgeRoundRectCallout">
            <a:avLst>
              <a:gd name="adj1" fmla="val 87500"/>
              <a:gd name="adj2" fmla="val 123175"/>
              <a:gd name="adj3" fmla="val 16667"/>
            </a:avLst>
          </a:prstGeom>
          <a:solidFill>
            <a:srgbClr val="ffcc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038560" y="3362400"/>
            <a:ext cx="15264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71840" y="3429000"/>
            <a:ext cx="25146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53000" y="3352680"/>
            <a:ext cx="15228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939840" y="258840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9900"/>
                </a:solidFill>
                <a:latin typeface="Lucida Casual"/>
              </a:rPr>
              <a:t>Ex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28960" y="2905200"/>
            <a:ext cx="0" cy="399960"/>
          </a:xfrm>
          <a:prstGeom prst="line">
            <a:avLst/>
          </a:prstGeom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114880" y="2924280"/>
            <a:ext cx="0" cy="399960"/>
          </a:xfrm>
          <a:prstGeom prst="line">
            <a:avLst/>
          </a:prstGeom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3838680" y="3048120"/>
            <a:ext cx="1257120" cy="936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600" y="1676520"/>
            <a:ext cx="7460640" cy="34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ompreender o comportamento expresso pela Curva de 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Estudar o conceito de Equilíbrio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aracterizar os conceito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quilíbrio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Intervenções no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390840" y="2666880"/>
            <a:ext cx="2419560" cy="1600200"/>
          </a:xfrm>
          <a:custGeom>
            <a:avLst/>
            <a:gdLst/>
            <a:ahLst/>
            <a:rect l="l" t="t" r="r" b="b"/>
            <a:pathLst>
              <a:path w="1524" h="1008">
                <a:moveTo>
                  <a:pt x="0" y="1008"/>
                </a:moveTo>
                <a:cubicBezTo>
                  <a:pt x="299" y="930"/>
                  <a:pt x="598" y="852"/>
                  <a:pt x="852" y="684"/>
                </a:cubicBezTo>
                <a:cubicBezTo>
                  <a:pt x="1106" y="516"/>
                  <a:pt x="1315" y="258"/>
                  <a:pt x="152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60680" y="2130480"/>
            <a:ext cx="1440" cy="28940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484360" y="50245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484360" y="453564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484360" y="406548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484360" y="357660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484360" y="308916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484360" y="26179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84360" y="213048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60680" y="5024520"/>
            <a:ext cx="49737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25606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38472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422424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50482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587052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671040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753444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306520" y="48895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306520" y="44020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306520" y="39304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306520" y="3443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306520" y="2954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181960" y="24843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181960" y="19954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55096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37500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15044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744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9816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3660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4602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93040" y="5746680"/>
            <a:ext cx="2858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Quantidade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16200000">
            <a:off x="912240" y="3282480"/>
            <a:ext cx="19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Preço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90320" y="90252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eço Alto: Fixação de P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390840" y="2647800"/>
            <a:ext cx="2533680" cy="1733760"/>
          </a:xfrm>
          <a:custGeom>
            <a:avLst/>
            <a:gdLst/>
            <a:ahLst/>
            <a:rect l="l" t="t" r="r" b="b"/>
            <a:pathLst>
              <a:path w="1596" h="1092">
                <a:moveTo>
                  <a:pt x="0" y="0"/>
                </a:moveTo>
                <a:cubicBezTo>
                  <a:pt x="107" y="245"/>
                  <a:pt x="214" y="490"/>
                  <a:pt x="480" y="672"/>
                </a:cubicBezTo>
                <a:cubicBezTo>
                  <a:pt x="746" y="854"/>
                  <a:pt x="1410" y="1022"/>
                  <a:pt x="1596" y="109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038560" y="3362400"/>
            <a:ext cx="15264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571840" y="3429000"/>
            <a:ext cx="25146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753000" y="3352680"/>
            <a:ext cx="15228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939840" y="258840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9900"/>
                </a:solidFill>
                <a:latin typeface="Lucida Casual"/>
              </a:rPr>
              <a:t>Ex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28960" y="2905200"/>
            <a:ext cx="0" cy="399960"/>
          </a:xfrm>
          <a:prstGeom prst="line">
            <a:avLst/>
          </a:prstGeom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14880" y="2924280"/>
            <a:ext cx="0" cy="399960"/>
          </a:xfrm>
          <a:prstGeom prst="line">
            <a:avLst/>
          </a:prstGeom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838680" y="3048120"/>
            <a:ext cx="1257120" cy="936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658200" y="2611440"/>
            <a:ext cx="182052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Medid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Subsíd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  </a:t>
            </a: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pelo Gov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3390840" y="2666880"/>
            <a:ext cx="2419560" cy="1600200"/>
          </a:xfrm>
          <a:custGeom>
            <a:avLst/>
            <a:gdLst/>
            <a:ahLst/>
            <a:rect l="l" t="t" r="r" b="b"/>
            <a:pathLst>
              <a:path w="1524" h="1008">
                <a:moveTo>
                  <a:pt x="0" y="1008"/>
                </a:moveTo>
                <a:cubicBezTo>
                  <a:pt x="299" y="930"/>
                  <a:pt x="598" y="852"/>
                  <a:pt x="852" y="684"/>
                </a:cubicBezTo>
                <a:cubicBezTo>
                  <a:pt x="1106" y="516"/>
                  <a:pt x="1315" y="258"/>
                  <a:pt x="152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60680" y="2130480"/>
            <a:ext cx="1440" cy="28940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484360" y="50245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84360" y="453564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484360" y="406548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484360" y="357660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484360" y="308916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484360" y="26179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484360" y="213048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60680" y="5024520"/>
            <a:ext cx="49737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25606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338472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422424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50482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587052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671040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753444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06520" y="48895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06520" y="44020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306520" y="39304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306520" y="3443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306520" y="2954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181960" y="24843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181960" y="19954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55096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37500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5044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744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79816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63660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4602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93040" y="5746680"/>
            <a:ext cx="2858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Quantidade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16200000">
            <a:off x="912240" y="3282480"/>
            <a:ext cx="19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Preço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725560" y="902520"/>
            <a:ext cx="40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ferta Limitada: Co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390840" y="2647800"/>
            <a:ext cx="2533680" cy="1733760"/>
          </a:xfrm>
          <a:custGeom>
            <a:avLst/>
            <a:gdLst/>
            <a:ahLst/>
            <a:rect l="l" t="t" r="r" b="b"/>
            <a:pathLst>
              <a:path w="1596" h="1092">
                <a:moveTo>
                  <a:pt x="0" y="0"/>
                </a:moveTo>
                <a:cubicBezTo>
                  <a:pt x="107" y="245"/>
                  <a:pt x="214" y="490"/>
                  <a:pt x="480" y="672"/>
                </a:cubicBezTo>
                <a:cubicBezTo>
                  <a:pt x="746" y="854"/>
                  <a:pt x="1410" y="1022"/>
                  <a:pt x="1596" y="109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629400" y="3219480"/>
            <a:ext cx="1219320" cy="609480"/>
          </a:xfrm>
          <a:prstGeom prst="wedgeRoundRectCallout">
            <a:avLst>
              <a:gd name="adj1" fmla="val -135939"/>
              <a:gd name="adj2" fmla="val 120050"/>
              <a:gd name="adj3" fmla="val 16667"/>
            </a:avLst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724800" y="1771560"/>
            <a:ext cx="914400" cy="609840"/>
          </a:xfrm>
          <a:prstGeom prst="wedgeRoundRectCallout">
            <a:avLst>
              <a:gd name="adj1" fmla="val -168750"/>
              <a:gd name="adj2" fmla="val 138800"/>
              <a:gd name="adj3" fmla="val 16667"/>
            </a:avLst>
          </a:prstGeom>
          <a:solidFill>
            <a:srgbClr val="ffcc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00640" y="3819600"/>
            <a:ext cx="15228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 flipV="1">
            <a:off x="3827520" y="3457080"/>
            <a:ext cx="1440" cy="15433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753000" y="3352680"/>
            <a:ext cx="15228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2967120" y="3423600"/>
            <a:ext cx="750960" cy="11160"/>
          </a:xfrm>
          <a:prstGeom prst="line">
            <a:avLst/>
          </a:prstGeom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119400" y="3901320"/>
            <a:ext cx="0" cy="69228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128000" y="3760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173400" y="19123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9900"/>
                </a:solidFill>
                <a:latin typeface="Lucida Casual"/>
              </a:rPr>
              <a:t>Sobre-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3017520" y="3890880"/>
            <a:ext cx="1374840" cy="0"/>
          </a:xfrm>
          <a:prstGeom prst="line">
            <a:avLst/>
          </a:prstGeom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19400" y="1931400"/>
            <a:ext cx="0" cy="14922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746520" y="4078440"/>
            <a:ext cx="152280" cy="142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66160" y="1619280"/>
            <a:ext cx="462924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Lucida Casual"/>
              </a:rPr>
              <a:t>Recapit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Equilíbrio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Intervenções no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376440" y="85500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4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5040" y="1911240"/>
            <a:ext cx="7950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Faça um texto de 100 a 150 palavras que tenta expl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a um aluno do segundo grau que, enquanto o surgiment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novas tecnologias</a:t>
            </a: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, a consolidação da </a:t>
            </a: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imagem da qualidade</a:t>
            </a: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de um produto ou a promoção da </a:t>
            </a: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educação em massa</a:t>
            </a: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 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medidas ‘bem vistas’ pelos economistas, o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tabelamento</a:t>
            </a: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preços e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fixação de cotas</a:t>
            </a: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 levam, em geral, a controvérs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934000" y="294696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Obrigado Pela Atençã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336760" y="2251080"/>
            <a:ext cx="4978440" cy="1976400"/>
          </a:xfrm>
          <a:prstGeom prst="cloudCallout">
            <a:avLst>
              <a:gd name="adj1" fmla="val -58865"/>
              <a:gd name="adj2" fmla="val 137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1360" y="1371600"/>
            <a:ext cx="7392240" cy="13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Variando-se o preço, como é alterada a quantidade de um b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ue é ofertado no merca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133720" y="1638360"/>
          <a:ext cx="5029200" cy="499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38360"/>
                    <a:ext cx="502920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053360" y="106560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Quantidades produzidas em função do pre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80880" y="1752480"/>
          <a:ext cx="6686640" cy="49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6686640" cy="49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053360" y="106560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Quantidades produzidas em função do pre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53360" y="106560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Quantidades produzidas em função do pre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0880" y="1752480"/>
          <a:ext cx="6686640" cy="493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6686640" cy="49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53360" y="106560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Quantidades produzidas em função do pre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58000" y="2286000"/>
          <a:ext cx="200016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286000"/>
                    <a:ext cx="2000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80880" y="1752480"/>
          <a:ext cx="6686640" cy="4937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752480"/>
                    <a:ext cx="6686640" cy="49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1143000"/>
          <a:ext cx="6629400" cy="517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662940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438280" y="4191120"/>
            <a:ext cx="152640" cy="15228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400068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10040" y="3571920"/>
            <a:ext cx="152280" cy="152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9960" y="2771640"/>
            <a:ext cx="152640" cy="15264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0" y="2286000"/>
          <a:ext cx="2000160" cy="1905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2286000"/>
                    <a:ext cx="2000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TAKASHI</cp:lastModifiedBy>
  <cp:lastPrinted>2000-05-03T14:19:10Z</cp:lastPrinted>
  <dcterms:modified xsi:type="dcterms:W3CDTF">2000-08-23T18:14:58Z</dcterms:modified>
  <cp:revision>136</cp:revision>
  <dc:subject/>
  <dc:title>Oferta</dc:title>
</cp:coreProperties>
</file>