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8B3-4F95-442B-BF58-C326CBC4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46B-9BA8-4713-B08D-1E2B70D9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3F6-BFC9-4B72-B57D-2068A152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7BF-32E8-4A87-9BE2-AC8FC54F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AB7-B08D-4CE0-A883-8BE7571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A4E-3962-45E9-852C-7C3CFED6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7D5-353F-4536-9885-8918B74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3E1-01B1-4867-8843-BCC95B1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3A7-E915-4FD7-99A2-D67B36A5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030-F9C1-475A-98A6-ED3DC51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C24-6136-4021-A3E1-474C4BD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6F5-DFA7-4EDA-93AC-1460BE3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81E0-A93A-48F6-8F57-205C1DA9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46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71080" y="59652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art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spectos So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181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4876920" y="2286000"/>
            <a:ext cx="2133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010280" y="22860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590920"/>
            <a:ext cx="2743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28960" y="25905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Rend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49760" y="19047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36040" y="1904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048120" y="3715920"/>
            <a:ext cx="1836720" cy="184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43200" y="4038480"/>
            <a:ext cx="1752120" cy="1919520"/>
            <a:chOff x="2743200" y="4038480"/>
            <a:chExt cx="1752120" cy="1919520"/>
          </a:xfrm>
        </p:grpSpPr>
        <p:sp>
          <p:nvSpPr>
            <p:cNvPr id="193" name=""/>
            <p:cNvSpPr/>
            <p:nvPr/>
          </p:nvSpPr>
          <p:spPr>
            <a:xfrm flipH="1">
              <a:off x="3047760" y="59580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3200" y="4038480"/>
              <a:ext cx="0" cy="1447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4495680" y="4114800"/>
            <a:ext cx="0" cy="1447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1148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76560" y="2971800"/>
            <a:ext cx="2743560" cy="413280"/>
            <a:chOff x="4876560" y="2971800"/>
            <a:chExt cx="2743560" cy="413280"/>
          </a:xfrm>
        </p:grpSpPr>
        <p:sp>
          <p:nvSpPr>
            <p:cNvPr id="199" name=""/>
            <p:cNvSpPr/>
            <p:nvPr/>
          </p:nvSpPr>
          <p:spPr>
            <a:xfrm flipH="1">
              <a:off x="4876560" y="2971800"/>
              <a:ext cx="1384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248520" y="2971800"/>
              <a:ext cx="13716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5200" y="304776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asual"/>
                </a:rPr>
                <a:t>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55160" y="30477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Po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H="1" flipV="1">
            <a:off x="4572000" y="4190760"/>
            <a:ext cx="53352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7920" y="3503520"/>
            <a:ext cx="2592360" cy="1432080"/>
          </a:xfrm>
          <a:prstGeom prst="wedgeRoundRectCallout">
            <a:avLst>
              <a:gd name="adj1" fmla="val -87171"/>
              <a:gd name="adj2" fmla="val 1829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ibutaçã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ssistência soc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les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218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H="1">
            <a:off x="4876920" y="2286000"/>
            <a:ext cx="2133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10280" y="22860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2096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25909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8960" y="25905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end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49760" y="19047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36040" y="1904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048120" y="3715920"/>
            <a:ext cx="1836720" cy="184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743200" y="4495680"/>
            <a:ext cx="1752120" cy="1462320"/>
            <a:chOff x="2743200" y="4495680"/>
            <a:chExt cx="1752120" cy="1462320"/>
          </a:xfrm>
        </p:grpSpPr>
        <p:sp>
          <p:nvSpPr>
            <p:cNvPr id="230" name=""/>
            <p:cNvSpPr/>
            <p:nvPr/>
          </p:nvSpPr>
          <p:spPr>
            <a:xfrm flipH="1">
              <a:off x="3047760" y="59580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743200" y="44956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4495680" y="4572000"/>
            <a:ext cx="0" cy="990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45720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876560" y="2967120"/>
            <a:ext cx="1390680" cy="4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876920" y="3352680"/>
            <a:ext cx="2223720" cy="413280"/>
            <a:chOff x="4876920" y="3352680"/>
            <a:chExt cx="2223720" cy="413280"/>
          </a:xfrm>
        </p:grpSpPr>
        <p:sp>
          <p:nvSpPr>
            <p:cNvPr id="238" name=""/>
            <p:cNvSpPr/>
            <p:nvPr/>
          </p:nvSpPr>
          <p:spPr>
            <a:xfrm flipH="1">
              <a:off x="6248520" y="3352680"/>
              <a:ext cx="7617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45200" y="342864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asual"/>
                </a:rPr>
                <a:t>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26560" y="342864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Po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876920" y="3352680"/>
              <a:ext cx="1380960" cy="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572000" y="4586040"/>
            <a:ext cx="533520" cy="261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00600" y="4155480"/>
            <a:ext cx="2851200" cy="916920"/>
          </a:xfrm>
          <a:solidFill>
            <a:srgbClr val="ffcc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evido à tributaçã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nvestiment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isco recu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259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H="1">
            <a:off x="4876920" y="2286000"/>
            <a:ext cx="2133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010280" y="22860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22096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25909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28960" y="25905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end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49760" y="19047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36040" y="1904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3715920"/>
            <a:ext cx="1836720" cy="184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43200" y="4495680"/>
            <a:ext cx="1752120" cy="1462320"/>
            <a:chOff x="2743200" y="4495680"/>
            <a:chExt cx="1752120" cy="1462320"/>
          </a:xfrm>
        </p:grpSpPr>
        <p:sp>
          <p:nvSpPr>
            <p:cNvPr id="271" name=""/>
            <p:cNvSpPr/>
            <p:nvPr/>
          </p:nvSpPr>
          <p:spPr>
            <a:xfrm flipH="1">
              <a:off x="3047760" y="59580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43200" y="44956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V="1">
            <a:off x="4495680" y="4572000"/>
            <a:ext cx="0" cy="990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45720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876920" y="2971800"/>
            <a:ext cx="13716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248520" y="3352680"/>
            <a:ext cx="76176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45200" y="342864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26560" y="342864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876560" y="3352680"/>
            <a:ext cx="1361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4572000" y="4586040"/>
            <a:ext cx="533520" cy="261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35560" y="4141800"/>
            <a:ext cx="2506680" cy="1303200"/>
          </a:xfrm>
          <a:prstGeom prst="wedgeRoundRectCallout">
            <a:avLst>
              <a:gd name="adj1" fmla="val -8009"/>
              <a:gd name="adj2" fmla="val -106759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O aumento da r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os pobres é men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e a redução 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enda dos 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2280" y="97632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3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2880" y="1881720"/>
            <a:ext cx="826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mbora o Brasil necessite buscar maior igualdade social, a simp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transferência de renda dos mais ricos para os mais pobres atrav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 tributação e assistencialismo pode reduzir a capacidade do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de gerar riquez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a) Neste contexto, que medidas seriam apropriadas, na sua opiniã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ara que o Brasil caminhe no sentido de minorar as diferenças socia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b) Porque este tipo de consideração seria relevante no contex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omércio eletrôn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293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17240" y="59652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art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(continu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4838760" y="2578680"/>
            <a:ext cx="3432240" cy="3610080"/>
            <a:chOff x="4838760" y="2578680"/>
            <a:chExt cx="3432240" cy="3610080"/>
          </a:xfrm>
        </p:grpSpPr>
        <p:sp>
          <p:nvSpPr>
            <p:cNvPr id="299" name=""/>
            <p:cNvSpPr/>
            <p:nvPr/>
          </p:nvSpPr>
          <p:spPr>
            <a:xfrm flipH="1">
              <a:off x="5089680" y="477036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65920" y="2578680"/>
              <a:ext cx="284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demand-pull” 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inflação de dema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68720" y="5775480"/>
              <a:ext cx="312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197320" y="3457080"/>
              <a:ext cx="0" cy="263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229360" y="3703680"/>
              <a:ext cx="2468520" cy="1582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3520" y="4405320"/>
              <a:ext cx="2651040" cy="111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04080" y="4708440"/>
              <a:ext cx="107640" cy="10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45560" y="58204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38760" y="3215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94200" y="93024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f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19240" y="1845360"/>
            <a:ext cx="72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flação = aumento continuado do nível geral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70960" y="255960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ost-push” 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flação de 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576108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523880" y="3443400"/>
            <a:ext cx="0" cy="2636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555920" y="4844880"/>
            <a:ext cx="2422440" cy="70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9720" y="3962520"/>
            <a:ext cx="23464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08240" y="5029200"/>
            <a:ext cx="108000" cy="10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431720" y="508464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41880" y="5820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35080" y="3199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249200" y="4389480"/>
            <a:ext cx="0" cy="79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26680" y="4313160"/>
            <a:ext cx="2551680" cy="959040"/>
            <a:chOff x="1426680" y="4313160"/>
            <a:chExt cx="2551680" cy="959040"/>
          </a:xfrm>
        </p:grpSpPr>
        <p:sp>
          <p:nvSpPr>
            <p:cNvPr id="324" name=""/>
            <p:cNvSpPr/>
            <p:nvPr/>
          </p:nvSpPr>
          <p:spPr>
            <a:xfrm flipV="1">
              <a:off x="1555920" y="4313160"/>
              <a:ext cx="2422440" cy="959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06840" y="4749840"/>
              <a:ext cx="10764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426680" y="4800600"/>
              <a:ext cx="12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673440" y="4465800"/>
              <a:ext cx="0" cy="411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432080" y="3780000"/>
            <a:ext cx="2469960" cy="1203120"/>
            <a:chOff x="1432080" y="3780000"/>
            <a:chExt cx="2469960" cy="1203120"/>
          </a:xfrm>
        </p:grpSpPr>
        <p:sp>
          <p:nvSpPr>
            <p:cNvPr id="329" name=""/>
            <p:cNvSpPr/>
            <p:nvPr/>
          </p:nvSpPr>
          <p:spPr>
            <a:xfrm flipH="1">
              <a:off x="1432080" y="456084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555920" y="3780000"/>
              <a:ext cx="2346120" cy="1203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46480" y="4505400"/>
              <a:ext cx="10764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73440" y="3948120"/>
              <a:ext cx="0" cy="411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089680" y="4175280"/>
            <a:ext cx="2743200" cy="1234800"/>
            <a:chOff x="5089680" y="4175280"/>
            <a:chExt cx="2743200" cy="1234800"/>
          </a:xfrm>
        </p:grpSpPr>
        <p:sp>
          <p:nvSpPr>
            <p:cNvPr id="334" name=""/>
            <p:cNvSpPr/>
            <p:nvPr/>
          </p:nvSpPr>
          <p:spPr>
            <a:xfrm>
              <a:off x="5213520" y="4175280"/>
              <a:ext cx="261936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8640" y="4502160"/>
              <a:ext cx="10800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089680" y="4556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620120" y="4998960"/>
              <a:ext cx="0" cy="411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 flipV="1">
            <a:off x="4937040" y="4160880"/>
            <a:ext cx="0" cy="79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160" y="3948120"/>
            <a:ext cx="2713320" cy="1020600"/>
            <a:chOff x="5105160" y="3948120"/>
            <a:chExt cx="2713320" cy="1020600"/>
          </a:xfrm>
        </p:grpSpPr>
        <p:sp>
          <p:nvSpPr>
            <p:cNvPr id="340" name=""/>
            <p:cNvSpPr/>
            <p:nvPr/>
          </p:nvSpPr>
          <p:spPr>
            <a:xfrm>
              <a:off x="5213520" y="3948120"/>
              <a:ext cx="2604960" cy="66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59640" y="4281480"/>
              <a:ext cx="10800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105160" y="4341960"/>
              <a:ext cx="153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4280" y="4557600"/>
              <a:ext cx="0" cy="411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1052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844640" y="1859040"/>
          <a:ext cx="5715000" cy="27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1859040"/>
                    <a:ext cx="571500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"/>
          <p:cNvGrpSpPr/>
          <p:nvPr/>
        </p:nvGrpSpPr>
        <p:grpSpPr>
          <a:xfrm>
            <a:off x="967680" y="4450680"/>
            <a:ext cx="7454160" cy="718920"/>
            <a:chOff x="967680" y="4450680"/>
            <a:chExt cx="7454160" cy="718920"/>
          </a:xfrm>
        </p:grpSpPr>
        <p:sp>
          <p:nvSpPr>
            <p:cNvPr id="351" name=""/>
            <p:cNvSpPr/>
            <p:nvPr/>
          </p:nvSpPr>
          <p:spPr>
            <a:xfrm>
              <a:off x="967680" y="4584240"/>
              <a:ext cx="78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ma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24040" y="4800600"/>
              <a:ext cx="334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37000" y="4450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52840" y="4801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77920" y="4588560"/>
              <a:ext cx="63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,01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1,02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990099"/>
                  </a:solidFill>
                  <a:latin typeface="Arial"/>
                </a:rPr>
                <a:t>1,04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1,08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,28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) = 1,345 (ou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4,5%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870200" y="5254560"/>
            <a:ext cx="5984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m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0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5 +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,0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5 +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1,0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 +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,08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05 +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,2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05 = 1,1275 (ou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75%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44640" y="5245200"/>
            <a:ext cx="6066000" cy="73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144680" y="4493880"/>
            <a:ext cx="1646640" cy="611640"/>
            <a:chOff x="4144680" y="4493880"/>
            <a:chExt cx="1646640" cy="611640"/>
          </a:xfrm>
        </p:grpSpPr>
        <p:sp>
          <p:nvSpPr>
            <p:cNvPr id="359" name=""/>
            <p:cNvSpPr/>
            <p:nvPr/>
          </p:nvSpPr>
          <p:spPr>
            <a:xfrm flipV="1">
              <a:off x="4160880" y="4495680"/>
              <a:ext cx="163044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4144680" y="4493880"/>
              <a:ext cx="1630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1052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5800" y="1752480"/>
          <a:ext cx="8458200" cy="30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4582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00640" y="4804200"/>
            <a:ext cx="2156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aspeyr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00840" y="470484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22440" y="5105520"/>
            <a:ext cx="335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90040" y="51480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56000" y="46332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41600" y="50601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92600" y="51206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046320" y="4647600"/>
            <a:ext cx="1265400" cy="904320"/>
            <a:chOff x="3046320" y="4647600"/>
            <a:chExt cx="1265400" cy="904320"/>
          </a:xfrm>
        </p:grpSpPr>
        <p:sp>
          <p:nvSpPr>
            <p:cNvPr id="375" name=""/>
            <p:cNvSpPr/>
            <p:nvPr/>
          </p:nvSpPr>
          <p:spPr>
            <a:xfrm>
              <a:off x="3046320" y="5103720"/>
              <a:ext cx="1265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64760" y="515052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(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67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082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915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344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4872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006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8388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354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14320" y="4617360"/>
            <a:ext cx="1648080" cy="934560"/>
            <a:chOff x="4414320" y="4617360"/>
            <a:chExt cx="1648080" cy="934560"/>
          </a:xfrm>
        </p:grpSpPr>
        <p:sp>
          <p:nvSpPr>
            <p:cNvPr id="386" name=""/>
            <p:cNvSpPr/>
            <p:nvPr/>
          </p:nvSpPr>
          <p:spPr>
            <a:xfrm>
              <a:off x="4797360" y="5103720"/>
              <a:ext cx="1265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1760" y="5150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077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932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25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944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93560" y="47091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18560" y="470520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11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44360" y="4705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959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14320" y="4920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808920" y="4201560"/>
            <a:ext cx="61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m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01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25 + ... +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,2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05 = 1,1275 (ou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75%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987440" y="5591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2,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13000" y="559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x1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71000" y="595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1052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1752480"/>
          <a:ext cx="8458200" cy="30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4582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00640" y="4804200"/>
            <a:ext cx="2156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aspeyr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00840" y="470484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22440" y="5105520"/>
            <a:ext cx="335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90040" y="51480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56000" y="46332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1600" y="50601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92600" y="51206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6320" y="4647600"/>
            <a:ext cx="1265400" cy="904320"/>
            <a:chOff x="3046320" y="4647600"/>
            <a:chExt cx="1265400" cy="904320"/>
          </a:xfrm>
        </p:grpSpPr>
        <p:sp>
          <p:nvSpPr>
            <p:cNvPr id="416" name=""/>
            <p:cNvSpPr/>
            <p:nvPr/>
          </p:nvSpPr>
          <p:spPr>
            <a:xfrm>
              <a:off x="3046320" y="5103720"/>
              <a:ext cx="1265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64760" y="515052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(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567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82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15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4344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872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006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8388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54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623240" y="5760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414320" y="4617360"/>
            <a:ext cx="1648080" cy="934560"/>
            <a:chOff x="4414320" y="4617360"/>
            <a:chExt cx="1648080" cy="934560"/>
          </a:xfrm>
        </p:grpSpPr>
        <p:sp>
          <p:nvSpPr>
            <p:cNvPr id="428" name=""/>
            <p:cNvSpPr/>
            <p:nvPr/>
          </p:nvSpPr>
          <p:spPr>
            <a:xfrm>
              <a:off x="4797360" y="5103720"/>
              <a:ext cx="1265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91760" y="5150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077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5932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425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944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93560" y="47091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18560" y="470520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611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44360" y="4705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959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4320" y="4920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2011320" y="5959440"/>
            <a:ext cx="716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71000" y="5591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33560" y="5959440"/>
            <a:ext cx="106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559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x5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49040" y="5958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00760" y="577620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+ ...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47080" y="4201560"/>
            <a:ext cx="60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m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01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25 + ... +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,2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05 = 1,1275 (ou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75%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87440" y="595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7760" y="5959440"/>
            <a:ext cx="7156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50000" y="5959440"/>
            <a:ext cx="10652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5120" y="5958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16800" y="96048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incipais Índices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3400" y="26856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IBGE: IPCA - Índice de Preços ao Consumidor A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11 regiões do país, 1-40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560" y="347760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FIPE: IPC - Índice de Preços ao Consumidor A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Município de São Paulo, 1-20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" y="4254120"/>
            <a:ext cx="51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DIEESE: ICV - Índice de Cus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Região Metropolitana de São Paulo, 1-30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960" y="195192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IBGE: INPC - Índice Nacional de Preços a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11 regiões do país, 1-8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2400" y="5074560"/>
            <a:ext cx="71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FGV: IGP-M - Índice Geral de Preços d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RJ + SP + 10 regiões, 1-33 SM, inclui construção civil e ata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9880" y="1828800"/>
            <a:ext cx="472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ASPEC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SÓCIO-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520" y="50292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Arnoldo Souza Ca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62520" y="3809880"/>
            <a:ext cx="1304640" cy="916920"/>
            <a:chOff x="3962520" y="3809880"/>
            <a:chExt cx="1304640" cy="916920"/>
          </a:xfrm>
        </p:grpSpPr>
        <p:sp>
          <p:nvSpPr>
            <p:cNvPr id="55" name=""/>
            <p:cNvSpPr/>
            <p:nvPr/>
          </p:nvSpPr>
          <p:spPr>
            <a:xfrm>
              <a:off x="4290480" y="380988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9320" y="4051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392580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27920" y="11415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posição do IPC-F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484360" y="2362320"/>
          <a:ext cx="463248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62320"/>
                    <a:ext cx="463248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28160" y="91440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alári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57200" y="51195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509840" y="214776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3840" y="52268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96480" y="255996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Cus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94000" y="2651040"/>
            <a:ext cx="2590560" cy="1951200"/>
          </a:xfrm>
          <a:custGeom>
            <a:avLst/>
            <a:gdLst/>
            <a:ahLst/>
            <a:rect l="l" t="t" r="r" b="b"/>
            <a:pathLst>
              <a:path w="1632" h="1229">
                <a:moveTo>
                  <a:pt x="0" y="1229"/>
                </a:moveTo>
                <a:cubicBezTo>
                  <a:pt x="189" y="1152"/>
                  <a:pt x="378" y="1075"/>
                  <a:pt x="557" y="970"/>
                </a:cubicBezTo>
                <a:cubicBezTo>
                  <a:pt x="736" y="865"/>
                  <a:pt x="896" y="758"/>
                  <a:pt x="1075" y="596"/>
                </a:cubicBezTo>
                <a:cubicBezTo>
                  <a:pt x="1254" y="434"/>
                  <a:pt x="1443" y="217"/>
                  <a:pt x="1632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346480" y="2682360"/>
            <a:ext cx="1690560" cy="1919520"/>
            <a:chOff x="2346480" y="2682360"/>
            <a:chExt cx="1690560" cy="1919520"/>
          </a:xfrm>
        </p:grpSpPr>
        <p:sp>
          <p:nvSpPr>
            <p:cNvPr id="476" name=""/>
            <p:cNvSpPr/>
            <p:nvPr/>
          </p:nvSpPr>
          <p:spPr>
            <a:xfrm flipV="1">
              <a:off x="2346480" y="4220640"/>
              <a:ext cx="0" cy="3812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200400" y="3629160"/>
              <a:ext cx="0" cy="591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037040" y="2682360"/>
              <a:ext cx="0" cy="930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138480" y="2895480"/>
            <a:ext cx="214200" cy="5176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508040" y="3554280"/>
            <a:ext cx="2590920" cy="1524960"/>
            <a:chOff x="1508040" y="3554280"/>
            <a:chExt cx="2590920" cy="1524960"/>
          </a:xfrm>
        </p:grpSpPr>
        <p:sp>
          <p:nvSpPr>
            <p:cNvPr id="481" name=""/>
            <p:cNvSpPr/>
            <p:nvPr/>
          </p:nvSpPr>
          <p:spPr>
            <a:xfrm>
              <a:off x="1508040" y="458784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0520" y="42228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4800" y="362736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12160" y="471096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2820600" y="4251240"/>
              <a:ext cx="19692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54320" y="4516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06800" y="415116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6680" y="35542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016720" y="164700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Inflação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62280" y="566820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Salário Real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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816440" y="1631160"/>
            <a:ext cx="3217320" cy="4435920"/>
            <a:chOff x="4816440" y="1631160"/>
            <a:chExt cx="3217320" cy="4435920"/>
          </a:xfrm>
        </p:grpSpPr>
        <p:sp>
          <p:nvSpPr>
            <p:cNvPr id="492" name=""/>
            <p:cNvSpPr/>
            <p:nvPr/>
          </p:nvSpPr>
          <p:spPr>
            <a:xfrm>
              <a:off x="4816440" y="51195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968720" y="214776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38920" y="52128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9760" y="163116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Lucida Casual"/>
                </a:rPr>
                <a:t>Inflação Baix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97520" y="4649760"/>
              <a:ext cx="838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835600" y="4432320"/>
              <a:ext cx="1800" cy="231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689880" y="4074840"/>
              <a:ext cx="1440" cy="36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03920" y="4070520"/>
              <a:ext cx="838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83120" y="3475080"/>
              <a:ext cx="2590920" cy="1189080"/>
            </a:xfrm>
            <a:custGeom>
              <a:avLst/>
              <a:gdLst/>
              <a:ahLst/>
              <a:rect l="l" t="t" r="r" b="b"/>
              <a:pathLst>
                <a:path w="1632" h="1229">
                  <a:moveTo>
                    <a:pt x="0" y="1229"/>
                  </a:moveTo>
                  <a:cubicBezTo>
                    <a:pt x="189" y="1152"/>
                    <a:pt x="378" y="1075"/>
                    <a:pt x="557" y="970"/>
                  </a:cubicBezTo>
                  <a:cubicBezTo>
                    <a:pt x="736" y="865"/>
                    <a:pt x="896" y="758"/>
                    <a:pt x="1075" y="596"/>
                  </a:cubicBezTo>
                  <a:cubicBezTo>
                    <a:pt x="1254" y="434"/>
                    <a:pt x="1443" y="217"/>
                    <a:pt x="163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540560" y="3489480"/>
              <a:ext cx="1800" cy="5666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51440" y="4437000"/>
              <a:ext cx="83844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08000" y="300276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Custo de V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50000" y="3338640"/>
              <a:ext cx="214200" cy="5173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63560" y="454104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7240320" y="4051080"/>
              <a:ext cx="19692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3440" y="566820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Salário Real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59280" y="4592520"/>
              <a:ext cx="15264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97720" y="436392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1640" y="399888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31680" y="9144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5181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819520" y="22096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68560" y="2056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81320" y="5180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2971800" cy="1981080"/>
          </a:xfrm>
          <a:custGeom>
            <a:avLst/>
            <a:gdLst/>
            <a:ahLst/>
            <a:rect l="l" t="t" r="r" b="b"/>
            <a:pathLst>
              <a:path w="2026" h="1258">
                <a:moveTo>
                  <a:pt x="0" y="1258"/>
                </a:moveTo>
                <a:cubicBezTo>
                  <a:pt x="138" y="1220"/>
                  <a:pt x="567" y="1138"/>
                  <a:pt x="826" y="1028"/>
                </a:cubicBezTo>
                <a:cubicBezTo>
                  <a:pt x="1085" y="918"/>
                  <a:pt x="1355" y="767"/>
                  <a:pt x="1555" y="596"/>
                </a:cubicBezTo>
                <a:cubicBezTo>
                  <a:pt x="1755" y="425"/>
                  <a:pt x="1928" y="124"/>
                  <a:pt x="2026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76720" y="2743200"/>
            <a:ext cx="2987640" cy="1981080"/>
          </a:xfrm>
          <a:custGeom>
            <a:avLst/>
            <a:gdLst/>
            <a:ahLst/>
            <a:rect l="l" t="t" r="r" b="b"/>
            <a:pathLst>
              <a:path w="1882" h="1248">
                <a:moveTo>
                  <a:pt x="0" y="0"/>
                </a:moveTo>
                <a:cubicBezTo>
                  <a:pt x="80" y="29"/>
                  <a:pt x="301" y="91"/>
                  <a:pt x="479" y="176"/>
                </a:cubicBezTo>
                <a:cubicBezTo>
                  <a:pt x="656" y="261"/>
                  <a:pt x="880" y="378"/>
                  <a:pt x="1066" y="510"/>
                </a:cubicBezTo>
                <a:cubicBezTo>
                  <a:pt x="1252" y="641"/>
                  <a:pt x="1459" y="841"/>
                  <a:pt x="1595" y="964"/>
                </a:cubicBezTo>
                <a:cubicBezTo>
                  <a:pt x="1731" y="1087"/>
                  <a:pt x="1822" y="1189"/>
                  <a:pt x="1882" y="1248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35400" y="367812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758680" y="37497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11720" y="3825720"/>
            <a:ext cx="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483560" y="3123720"/>
            <a:ext cx="4353840" cy="734760"/>
            <a:chOff x="1483560" y="3123720"/>
            <a:chExt cx="4353840" cy="734760"/>
          </a:xfrm>
        </p:grpSpPr>
        <p:sp>
          <p:nvSpPr>
            <p:cNvPr id="525" name=""/>
            <p:cNvSpPr/>
            <p:nvPr/>
          </p:nvSpPr>
          <p:spPr>
            <a:xfrm>
              <a:off x="2759040" y="3292560"/>
              <a:ext cx="307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2530440" y="3123720"/>
              <a:ext cx="0" cy="731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83560" y="3215880"/>
              <a:ext cx="9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Re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310280" y="2285280"/>
            <a:ext cx="1630080" cy="854640"/>
            <a:chOff x="4310280" y="2285280"/>
            <a:chExt cx="1630080" cy="854640"/>
          </a:xfrm>
        </p:grpSpPr>
        <p:sp>
          <p:nvSpPr>
            <p:cNvPr id="529" name=""/>
            <p:cNvSpPr/>
            <p:nvPr/>
          </p:nvSpPr>
          <p:spPr>
            <a:xfrm flipV="1">
              <a:off x="4541760" y="271296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700600" y="271296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56160" y="2895480"/>
              <a:ext cx="1143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10280" y="228528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Desempr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6144120" y="22996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56080" y="4647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471920" y="3218040"/>
            <a:ext cx="1314360" cy="155520"/>
            <a:chOff x="4471920" y="3218040"/>
            <a:chExt cx="1314360" cy="155520"/>
          </a:xfrm>
        </p:grpSpPr>
        <p:sp>
          <p:nvSpPr>
            <p:cNvPr id="536" name=""/>
            <p:cNvSpPr/>
            <p:nvPr/>
          </p:nvSpPr>
          <p:spPr>
            <a:xfrm>
              <a:off x="5634000" y="322092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71920" y="321804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012680" y="847800"/>
          <a:ext cx="7185240" cy="49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47800"/>
                    <a:ext cx="71852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393120" y="5713560"/>
            <a:ext cx="676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Obs: Dados da DI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Expurgados os pontos correspondentes a ‘planos econômic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46440" y="1603440"/>
            <a:ext cx="576864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81120" y="929160"/>
            <a:ext cx="45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Desenvolvimento Econô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2320" y="5181480"/>
            <a:ext cx="8391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Economia capitalista não promove automaticamente o pleno empr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Governos, através de instrumentos de política  econômica, dev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direcionar a economia para o total uso dos recu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28640" y="2915640"/>
            <a:ext cx="1715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Laissez-fai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Reces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Desempr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Inf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29560" y="1518840"/>
            <a:ext cx="49719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Ide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Crescimento econômico com 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Pleno emprego dos fatores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Estabilidade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357800" y="4282920"/>
            <a:ext cx="2229480" cy="809640"/>
            <a:chOff x="4357800" y="4282920"/>
            <a:chExt cx="2229480" cy="809640"/>
          </a:xfrm>
        </p:grpSpPr>
        <p:sp>
          <p:nvSpPr>
            <p:cNvPr id="553" name=""/>
            <p:cNvSpPr/>
            <p:nvPr/>
          </p:nvSpPr>
          <p:spPr>
            <a:xfrm>
              <a:off x="4357800" y="4282920"/>
              <a:ext cx="485640" cy="809640"/>
            </a:xfrm>
            <a:prstGeom prst="downArrow">
              <a:avLst>
                <a:gd name="adj1" fmla="val 50000"/>
                <a:gd name="adj2" fmla="val 41679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8840" y="4466520"/>
              <a:ext cx="164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Keynes, 19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05600" y="100656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3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90760" y="1968840"/>
            <a:ext cx="794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Apresente exemplos de atividades baseadas em Internet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odem prosperar nas seguintes situa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a) a inflação é elevada, mas o desemprego é ba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b) o desemprego é grande, mas a inflação é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c) tanto a inflação quanto o desemprego são bai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62120" y="990720"/>
            <a:ext cx="1304640" cy="916920"/>
            <a:chOff x="762120" y="990720"/>
            <a:chExt cx="1304640" cy="916920"/>
          </a:xfrm>
        </p:grpSpPr>
        <p:sp>
          <p:nvSpPr>
            <p:cNvPr id="562" name=""/>
            <p:cNvSpPr/>
            <p:nvPr/>
          </p:nvSpPr>
          <p:spPr>
            <a:xfrm>
              <a:off x="1090080" y="990720"/>
              <a:ext cx="61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6600"/>
                  </a:solidFill>
                  <a:latin typeface="Lucida Casu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58920" y="1232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6600"/>
                  </a:solidFill>
                  <a:latin typeface="Lucida Casu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2120" y="1106640"/>
              <a:ext cx="1304640" cy="61920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774000" y="380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02840" y="550440"/>
            <a:ext cx="162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art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Perspec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572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4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336840" y="3322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62400" y="402372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Cru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960" y="4350240"/>
            <a:ext cx="670644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Cru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Salário reajustado por mecanismo de gatilho (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ongelamento de Preços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explosão de consumo C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e S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axa de câmbio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ORTN substituído por OTN, congelado por 12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ablita para contratos prefixados com redução 0.45%/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Expansão exagerada da moeda M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e r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591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3763800" y="3322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2720" y="4007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Morat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6280" y="4511520"/>
            <a:ext cx="73389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Morat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emor de descongelamento 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C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importação ( M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21 nov 86 (após eleições)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aumento de tarifas e impostos ( T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ongelamento prolongado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desestruturação da ofer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610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2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854520" y="33098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16360" y="3977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Bre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8680" y="4290120"/>
            <a:ext cx="663012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Bre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ongelamento de preços e salários por 3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Desvalorização camb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ablita para contratos prefixados com redução 15%/mê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riação da URP para correção de sal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axa de juros elevados para inibir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0880" y="1676520"/>
            <a:ext cx="782784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Avaliar os benefícios auferidos pela sociedade como um todo,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à existência do mercado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m-estar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semprego x Inf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erspectivas Econômicas d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629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1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4373640" y="3322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88840" y="40093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Ver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600" y="4304160"/>
            <a:ext cx="376992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Ver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Diminuição dos gasto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Elevação das taxas de j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ongelamento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abl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Subindexação do sal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Desvalo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648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0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770360" y="3322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8280" y="40078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Col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48000" y="4318560"/>
            <a:ext cx="800172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Col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Bloqueio dos depósitos ( M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Suspensão de subsídios e ampliação da base tribu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IOF extraordin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Fim do anonimato fiscal (proibição de cheques ao port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ongelamento de preços e sal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Liberalização do comércio exterior (tarifa de importação 40%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667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9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5121360" y="33066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32520" y="39934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Collor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720" y="4802040"/>
            <a:ext cx="6430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Collor II (Plano N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Abertura financeira e grande afluxo de capital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Impeachment do Presidente Col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25520" y="1476360"/>
            <a:ext cx="8415360" cy="2408040"/>
            <a:chOff x="425520" y="1476360"/>
            <a:chExt cx="8415360" cy="2408040"/>
          </a:xfrm>
        </p:grpSpPr>
        <p:graphicFrame>
          <p:nvGraphicFramePr>
            <p:cNvPr id="686" name=""/>
            <p:cNvGraphicFramePr/>
            <p:nvPr/>
          </p:nvGraphicFramePr>
          <p:xfrm>
            <a:off x="425520" y="1476360"/>
            <a:ext cx="8415360" cy="240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5520" y="1476360"/>
                      <a:ext cx="8415360" cy="24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8" name=""/>
            <p:cNvSpPr/>
            <p:nvPr/>
          </p:nvSpPr>
          <p:spPr>
            <a:xfrm>
              <a:off x="77976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01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0388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27960" y="331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88000" y="3327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5160" y="331128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596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01080" y="3513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126640" y="35182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6356520" y="33066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630760" y="39618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" y="4294440"/>
            <a:ext cx="809316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Plan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riação do IPMF (imposto do cheque) e FES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T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Redução dos gastos públicos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G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Transição URV para Real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eliminação da inflação inercial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W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, C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Juros elevados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em princípio M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, mas houve aquecimento do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Âncora cambial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valorização do real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 Importações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Expectativas em relação a reformas tributária e previdenciári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92280" y="99072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erspectivas Econômicas d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5320" y="1652760"/>
            <a:ext cx="803520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Expectativa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Metas ger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Redução da inflação (6% a.a. com tolerância de 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rescimento do PIB (4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Melhoria no balanço de pagamentos (redução para US$ 23 b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Aporte de investimentos estrangeiros (US$ 30 b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Reservas internacionais (equivalente a 6 meses de importaçõ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Superávit primário do setor público (3.25% do PI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Privatizações (BEA, BEG, BEP, BEC, BANESTADO, BANES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Política monetária: através da taxa de juros (SELIC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Coordenação de política junto ao Merco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Reforma fiscal ? Choque do Petróle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6400" y="5776920"/>
            <a:ext cx="49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Pedro Sampaio Malan e Armínio Fraga Net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asual"/>
              </a:rPr>
              <a:t>Memorandum of Economic Policies</a:t>
            </a: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, 20 abr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58400" y="95652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MBA Executivo em Comércio Eletrô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905120"/>
            <a:ext cx="8001000" cy="53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02920" y="19803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Formação em Negó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" y="3962520"/>
            <a:ext cx="8001000" cy="53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486400" y="2438280"/>
            <a:ext cx="1600200" cy="3429000"/>
            <a:chOff x="5486400" y="2438280"/>
            <a:chExt cx="1600200" cy="3429000"/>
          </a:xfrm>
        </p:grpSpPr>
        <p:sp>
          <p:nvSpPr>
            <p:cNvPr id="714" name=""/>
            <p:cNvSpPr/>
            <p:nvPr/>
          </p:nvSpPr>
          <p:spPr>
            <a:xfrm>
              <a:off x="54864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864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12920" y="2513520"/>
              <a:ext cx="94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F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Hum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864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864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33000" y="4570920"/>
              <a:ext cx="111204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Worksh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e Cri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086600" y="2438280"/>
            <a:ext cx="1600200" cy="3429000"/>
            <a:chOff x="7086600" y="2438280"/>
            <a:chExt cx="1600200" cy="3429000"/>
          </a:xfrm>
        </p:grpSpPr>
        <p:sp>
          <p:nvSpPr>
            <p:cNvPr id="721" name=""/>
            <p:cNvSpPr/>
            <p:nvPr/>
          </p:nvSpPr>
          <p:spPr>
            <a:xfrm>
              <a:off x="7086600" y="2438280"/>
              <a:ext cx="1600200" cy="1371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76240" y="2741760"/>
              <a:ext cx="142596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Planej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o Negó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86600" y="4495680"/>
              <a:ext cx="1600200" cy="137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76240" y="4799160"/>
              <a:ext cx="1425960" cy="733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Planej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o Comér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letrô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2335320" y="403776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Especialização em Comérc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886200" y="2438280"/>
            <a:ext cx="1600200" cy="3429000"/>
            <a:chOff x="3886200" y="2438280"/>
            <a:chExt cx="1600200" cy="3429000"/>
          </a:xfrm>
        </p:grpSpPr>
        <p:sp>
          <p:nvSpPr>
            <p:cNvPr id="727" name=""/>
            <p:cNvSpPr/>
            <p:nvPr/>
          </p:nvSpPr>
          <p:spPr>
            <a:xfrm>
              <a:off x="38862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862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91760" y="2513520"/>
              <a:ext cx="112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Oper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Logís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862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62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099680" y="4570920"/>
              <a:ext cx="111636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igi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62160" y="5256720"/>
              <a:ext cx="141660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éto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Quantita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50360" y="3199320"/>
              <a:ext cx="12369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Gerênci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Negó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85800" y="2438280"/>
            <a:ext cx="1600200" cy="3429000"/>
            <a:chOff x="685800" y="2438280"/>
            <a:chExt cx="1600200" cy="3429000"/>
          </a:xfrm>
        </p:grpSpPr>
        <p:sp>
          <p:nvSpPr>
            <p:cNvPr id="736" name=""/>
            <p:cNvSpPr/>
            <p:nvPr/>
          </p:nvSpPr>
          <p:spPr>
            <a:xfrm>
              <a:off x="685800" y="24382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5800" y="3124080"/>
              <a:ext cx="1600200" cy="685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94240" y="2513520"/>
              <a:ext cx="126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Amb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e Negó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44956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" y="5181480"/>
              <a:ext cx="1600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88560" y="4570920"/>
              <a:ext cx="95040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Desig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 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73720" y="3199320"/>
              <a:ext cx="11880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2120" y="5256720"/>
              <a:ext cx="151452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asual"/>
                </a:rPr>
                <a:t>Internet como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2286000" y="2438280"/>
            <a:ext cx="16002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86000" y="3124080"/>
            <a:ext cx="16002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42160" y="2513520"/>
            <a:ext cx="1486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Tecn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da Info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4495680"/>
            <a:ext cx="16002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5181480"/>
            <a:ext cx="16002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30440" y="4677120"/>
            <a:ext cx="111960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E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49880" y="3199320"/>
            <a:ext cx="1035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Finanç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Aplic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86000" y="5181480"/>
            <a:ext cx="16002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7440" y="5183280"/>
            <a:ext cx="16002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4560" y="5264640"/>
            <a:ext cx="159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Dinâmicas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Mercado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611600" y="4272120"/>
            <a:ext cx="1011240" cy="860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576680" y="3924360"/>
            <a:ext cx="2184480" cy="357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602240" y="2628720"/>
            <a:ext cx="1692360" cy="1649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48240" y="3379680"/>
            <a:ext cx="2193840" cy="338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592520" y="2629080"/>
            <a:ext cx="1096920" cy="744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05480" y="3386160"/>
            <a:ext cx="1755720" cy="174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02080" y="3005280"/>
            <a:ext cx="1990440" cy="750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602080" y="3881520"/>
            <a:ext cx="2022480" cy="812880"/>
            <a:chOff x="2602080" y="3881520"/>
            <a:chExt cx="2022480" cy="812880"/>
          </a:xfrm>
        </p:grpSpPr>
        <p:sp>
          <p:nvSpPr>
            <p:cNvPr id="765" name=""/>
            <p:cNvSpPr/>
            <p:nvPr/>
          </p:nvSpPr>
          <p:spPr>
            <a:xfrm>
              <a:off x="2602080" y="3881520"/>
              <a:ext cx="1989000" cy="812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20800" y="3954600"/>
              <a:ext cx="200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inâmicas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Mercado 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762120" y="1709640"/>
            <a:ext cx="2495520" cy="91944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71840" y="185112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sign e Gestã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érc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22240" y="5070600"/>
            <a:ext cx="2451240" cy="976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38360" y="5094360"/>
            <a:ext cx="25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Internet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latafor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érc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89720" y="3200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-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21240" y="5132520"/>
            <a:ext cx="1879560" cy="814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66040" y="5181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rke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54640" y="1814400"/>
            <a:ext cx="1879560" cy="814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21240" y="190512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t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764400" y="3443400"/>
            <a:ext cx="1812960" cy="812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76280" y="35053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04000" y="2190600"/>
            <a:ext cx="1800" cy="1252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4200" y="2190600"/>
            <a:ext cx="4698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7704000" y="4255920"/>
            <a:ext cx="1800" cy="1252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7300800" y="5508720"/>
            <a:ext cx="40320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3480" y="5634000"/>
            <a:ext cx="2151000" cy="1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73480" y="2065320"/>
            <a:ext cx="2081160" cy="1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676680" y="2441520"/>
            <a:ext cx="1440" cy="5637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73480" y="2441520"/>
            <a:ext cx="4032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666960" y="4703400"/>
            <a:ext cx="0" cy="560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273480" y="5257800"/>
            <a:ext cx="40320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73480" y="2316240"/>
            <a:ext cx="40320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76680" y="2316240"/>
            <a:ext cx="3065400" cy="1195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273480" y="5383080"/>
            <a:ext cx="4032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3676680" y="4168440"/>
            <a:ext cx="3084480" cy="1214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01920" y="4549680"/>
            <a:ext cx="1109520" cy="6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78040" y="3173400"/>
            <a:ext cx="8334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73480" y="5508720"/>
            <a:ext cx="120816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81640" y="2628720"/>
            <a:ext cx="2484360" cy="28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81640" y="2190600"/>
            <a:ext cx="2550960" cy="2941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73480" y="2190600"/>
            <a:ext cx="120816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98360" y="956520"/>
            <a:ext cx="70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specialização em Comércio Eletrô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97000" y="3578400"/>
            <a:ext cx="495360" cy="46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01680" y="4030560"/>
            <a:ext cx="4906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14640" y="3576600"/>
            <a:ext cx="0" cy="438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85960" y="3162240"/>
            <a:ext cx="0" cy="1909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14520" y="2629080"/>
            <a:ext cx="0" cy="192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241280" y="2641680"/>
            <a:ext cx="0" cy="24238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593800" y="3889440"/>
            <a:ext cx="2008080" cy="812520"/>
            <a:chOff x="2593800" y="3889440"/>
            <a:chExt cx="2008080" cy="812520"/>
          </a:xfrm>
        </p:grpSpPr>
        <p:sp>
          <p:nvSpPr>
            <p:cNvPr id="806" name=""/>
            <p:cNvSpPr/>
            <p:nvPr/>
          </p:nvSpPr>
          <p:spPr>
            <a:xfrm>
              <a:off x="2593800" y="3889440"/>
              <a:ext cx="1989000" cy="812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98480" y="3992400"/>
              <a:ext cx="200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inâmicas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Mercado 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065600" y="90000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Casual"/>
              </a:rPr>
              <a:t>DINÂMICAS do MER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1400" y="1689120"/>
            <a:ext cx="75708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Apresentação do Programa, Mecanismo de Avaliação,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2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Produt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3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Comportamento do Consumidor de Produt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4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Oferta de Produtos Digitais e Equilíbrio de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5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Alterações no Equilíbrio de Mercad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6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Custos e Preços na Concorrência Perfe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7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Concorrência Perfeita x Imperfeita em Mercados Dig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8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Influência dos Órgãos Reguladores e Fiscaliz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9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Aspectos Econômicos da Infra-Estrutura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0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Importância da Qualidade + Fenômeno do Aprision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1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Produtos Digitais Custom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2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Impactos Macroeconômicos no Mercado Digital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3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Aspectos Sócio-Econômicos do Mercado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4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Apresentação dos Trabal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ula 15.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Pr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7000" y="2157480"/>
            <a:ext cx="781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hapiro, C. e Varian, H.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 Tecnologia da Informação está avançando de manei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parentemente caótica, o que torna difícil discernir padr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ara orientar as decisões empresariais. Mas há uma or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o caos: uns poucos 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onceitos econômicos básicos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aju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 explicar a evolução dos setores de atividade atuai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92080" y="1447920"/>
            <a:ext cx="59518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505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Bem-estar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esemprego x Inf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erspectivas Econômicas d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1600" y="91584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cadores Soci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8200" y="1747800"/>
            <a:ext cx="8306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Expectativa de vida ao nas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Mortalidade neon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Mortalidade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Mortalidade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orcentagem de crianças P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anos de escol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pobreza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pessoas por cômodo (excluindo cozinha e banhei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Acesso a água pot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Acesso a sani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Valor da cesta de ali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Renda per ca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Renda famil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desempr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26480" y="176832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Exercício 13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06280" y="3151080"/>
            <a:ext cx="70707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Expressar, usando entre 100 a 150 palavras, qual a s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visão atual sobr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‘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erspectivas Econômicas do Comércio Eletrônic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934000" y="2946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Obrigado Pela Aten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36760" y="2251080"/>
            <a:ext cx="4978440" cy="1976400"/>
          </a:xfrm>
          <a:prstGeom prst="cloudCallout">
            <a:avLst>
              <a:gd name="adj1" fmla="val -58865"/>
              <a:gd name="adj2" fmla="val 13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7080" y="988920"/>
            <a:ext cx="54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cadores Sociai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3720" y="1858680"/>
            <a:ext cx="66758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alfabet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crimin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articipação econômica do setor 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ercentual da população com direito de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exclusã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acidentes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médicos por habi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ercentual da população servida por coleta de l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Gastos com assistên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18400" y="1888920"/>
            <a:ext cx="4241160" cy="4088880"/>
            <a:chOff x="518400" y="1888920"/>
            <a:chExt cx="4241160" cy="4088880"/>
          </a:xfrm>
        </p:grpSpPr>
        <p:sp>
          <p:nvSpPr>
            <p:cNvPr id="75" name=""/>
            <p:cNvSpPr/>
            <p:nvPr/>
          </p:nvSpPr>
          <p:spPr>
            <a:xfrm>
              <a:off x="1433520" y="2059200"/>
              <a:ext cx="3031920" cy="30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294920" y="26528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294920" y="32641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293480" y="38736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294920" y="44830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7680" y="497844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47800" y="498960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59080" y="49831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71800" y="498960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433520" y="2057400"/>
              <a:ext cx="3031920" cy="303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4160" y="560952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popu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52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6240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718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6732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31440" y="51955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5200" y="5179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0400" y="4873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480" y="18889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39960" y="2466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9960" y="30762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4120" y="3701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0880" y="43113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142560" y="33800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re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63760" y="91368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G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2080" y="2057400"/>
            <a:ext cx="3019320" cy="3032280"/>
          </a:xfrm>
          <a:custGeom>
            <a:avLst/>
            <a:gdLst/>
            <a:ahLst/>
            <a:rect l="l" t="t" r="r" b="b"/>
            <a:pathLst>
              <a:path w="1902" h="1910">
                <a:moveTo>
                  <a:pt x="0" y="1910"/>
                </a:moveTo>
                <a:cubicBezTo>
                  <a:pt x="310" y="1775"/>
                  <a:pt x="615" y="1647"/>
                  <a:pt x="874" y="1498"/>
                </a:cubicBezTo>
                <a:cubicBezTo>
                  <a:pt x="1133" y="1349"/>
                  <a:pt x="1394" y="1200"/>
                  <a:pt x="1556" y="1018"/>
                </a:cubicBezTo>
                <a:cubicBezTo>
                  <a:pt x="1718" y="836"/>
                  <a:pt x="1786" y="573"/>
                  <a:pt x="1844" y="403"/>
                </a:cubicBezTo>
                <a:cubicBezTo>
                  <a:pt x="1902" y="233"/>
                  <a:pt x="1889" y="84"/>
                  <a:pt x="190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35400" y="4983120"/>
            <a:ext cx="2041560" cy="609480"/>
          </a:xfrm>
          <a:prstGeom prst="wedgeRoundRectCallout">
            <a:avLst>
              <a:gd name="adj1" fmla="val -118819"/>
              <a:gd name="adj2" fmla="val -23750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Curva de Lore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18400" y="1888920"/>
            <a:ext cx="4241160" cy="4088880"/>
            <a:chOff x="518400" y="1888920"/>
            <a:chExt cx="4241160" cy="4088880"/>
          </a:xfrm>
        </p:grpSpPr>
        <p:sp>
          <p:nvSpPr>
            <p:cNvPr id="106" name=""/>
            <p:cNvSpPr/>
            <p:nvPr/>
          </p:nvSpPr>
          <p:spPr>
            <a:xfrm>
              <a:off x="1433520" y="2059200"/>
              <a:ext cx="3031920" cy="30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94920" y="26528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294920" y="32641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93480" y="38736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94920" y="44830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7680" y="497844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47800" y="498960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59080" y="49831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71800" y="498960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433520" y="2057400"/>
              <a:ext cx="3031920" cy="303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160" y="560952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popu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352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6240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18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6732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1440" y="51955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85200" y="5179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0400" y="4873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4480" y="18889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9960" y="2466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39960" y="30762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24120" y="3701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0880" y="43113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42560" y="33800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re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3760" y="91368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G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3520" y="2057400"/>
            <a:ext cx="3033720" cy="3032280"/>
          </a:xfrm>
          <a:custGeom>
            <a:avLst/>
            <a:gdLst/>
            <a:ahLst/>
            <a:rect l="l" t="t" r="r" b="b"/>
            <a:pathLst>
              <a:path w="1911" h="1910">
                <a:moveTo>
                  <a:pt x="1911" y="0"/>
                </a:moveTo>
                <a:lnTo>
                  <a:pt x="1911" y="1910"/>
                </a:lnTo>
                <a:lnTo>
                  <a:pt x="0" y="1910"/>
                </a:lnTo>
                <a:lnTo>
                  <a:pt x="1911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1040" y="2147760"/>
            <a:ext cx="2925720" cy="2925720"/>
          </a:xfrm>
          <a:custGeom>
            <a:avLst/>
            <a:gdLst/>
            <a:ahLst/>
            <a:rect l="l" t="t" r="r" b="b"/>
            <a:pathLst>
              <a:path w="1902" h="1910">
                <a:moveTo>
                  <a:pt x="0" y="1910"/>
                </a:moveTo>
                <a:cubicBezTo>
                  <a:pt x="310" y="1775"/>
                  <a:pt x="615" y="1647"/>
                  <a:pt x="874" y="1498"/>
                </a:cubicBezTo>
                <a:cubicBezTo>
                  <a:pt x="1133" y="1349"/>
                  <a:pt x="1394" y="1200"/>
                  <a:pt x="1556" y="1018"/>
                </a:cubicBezTo>
                <a:cubicBezTo>
                  <a:pt x="1718" y="836"/>
                  <a:pt x="1786" y="573"/>
                  <a:pt x="1844" y="403"/>
                </a:cubicBezTo>
                <a:cubicBezTo>
                  <a:pt x="1902" y="233"/>
                  <a:pt x="1889" y="84"/>
                  <a:pt x="1901" y="0"/>
                </a:cubicBezTo>
                <a:lnTo>
                  <a:pt x="0" y="191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2080" y="2057400"/>
            <a:ext cx="3019320" cy="3032280"/>
          </a:xfrm>
          <a:custGeom>
            <a:avLst/>
            <a:gdLst/>
            <a:ahLst/>
            <a:rect l="l" t="t" r="r" b="b"/>
            <a:pathLst>
              <a:path w="1902" h="1910">
                <a:moveTo>
                  <a:pt x="0" y="1910"/>
                </a:moveTo>
                <a:cubicBezTo>
                  <a:pt x="310" y="1775"/>
                  <a:pt x="615" y="1647"/>
                  <a:pt x="874" y="1498"/>
                </a:cubicBezTo>
                <a:cubicBezTo>
                  <a:pt x="1133" y="1349"/>
                  <a:pt x="1394" y="1200"/>
                  <a:pt x="1556" y="1018"/>
                </a:cubicBezTo>
                <a:cubicBezTo>
                  <a:pt x="1718" y="836"/>
                  <a:pt x="1786" y="573"/>
                  <a:pt x="1844" y="403"/>
                </a:cubicBezTo>
                <a:cubicBezTo>
                  <a:pt x="1902" y="233"/>
                  <a:pt x="1889" y="84"/>
                  <a:pt x="190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30320" y="1932120"/>
            <a:ext cx="2500920" cy="2226960"/>
            <a:chOff x="5530320" y="1932120"/>
            <a:chExt cx="2500920" cy="2226960"/>
          </a:xfrm>
        </p:grpSpPr>
        <p:sp>
          <p:nvSpPr>
            <p:cNvPr id="138" name=""/>
            <p:cNvSpPr/>
            <p:nvPr/>
          </p:nvSpPr>
          <p:spPr>
            <a:xfrm>
              <a:off x="6800760" y="1932120"/>
              <a:ext cx="1008000" cy="1004760"/>
            </a:xfrm>
            <a:custGeom>
              <a:avLst/>
              <a:gdLst/>
              <a:ahLst/>
              <a:rect l="l" t="t" r="r" b="b"/>
              <a:pathLst>
                <a:path w="1902" h="1910">
                  <a:moveTo>
                    <a:pt x="0" y="1910"/>
                  </a:moveTo>
                  <a:cubicBezTo>
                    <a:pt x="310" y="1775"/>
                    <a:pt x="615" y="1647"/>
                    <a:pt x="874" y="1498"/>
                  </a:cubicBezTo>
                  <a:cubicBezTo>
                    <a:pt x="1133" y="1349"/>
                    <a:pt x="1394" y="1200"/>
                    <a:pt x="1556" y="1018"/>
                  </a:cubicBezTo>
                  <a:cubicBezTo>
                    <a:pt x="1718" y="836"/>
                    <a:pt x="1786" y="573"/>
                    <a:pt x="1844" y="403"/>
                  </a:cubicBezTo>
                  <a:cubicBezTo>
                    <a:pt x="1902" y="233"/>
                    <a:pt x="1889" y="84"/>
                    <a:pt x="1901" y="0"/>
                  </a:cubicBezTo>
                  <a:lnTo>
                    <a:pt x="0" y="191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9320" y="3168720"/>
              <a:ext cx="992160" cy="990360"/>
            </a:xfrm>
            <a:custGeom>
              <a:avLst/>
              <a:gdLst/>
              <a:ahLst/>
              <a:rect l="l" t="t" r="r" b="b"/>
              <a:pathLst>
                <a:path w="1911" h="1910">
                  <a:moveTo>
                    <a:pt x="1911" y="0"/>
                  </a:moveTo>
                  <a:lnTo>
                    <a:pt x="1911" y="1910"/>
                  </a:lnTo>
                  <a:lnTo>
                    <a:pt x="0" y="1910"/>
                  </a:lnTo>
                  <a:lnTo>
                    <a:pt x="1911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30320" y="280908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Lucida Casual"/>
                </a:rPr>
                <a:t>Gini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su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07000" y="3062160"/>
              <a:ext cx="1524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05440" y="4471200"/>
            <a:ext cx="181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  i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Lucida Casual"/>
              </a:rPr>
              <a:t>Gini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ma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157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1904760"/>
            <a:ext cx="2833200" cy="1023120"/>
            <a:chOff x="4876920" y="1904760"/>
            <a:chExt cx="2833200" cy="1023120"/>
          </a:xfrm>
        </p:grpSpPr>
        <p:sp>
          <p:nvSpPr>
            <p:cNvPr id="160" name=""/>
            <p:cNvSpPr/>
            <p:nvPr/>
          </p:nvSpPr>
          <p:spPr>
            <a:xfrm flipH="1">
              <a:off x="4876920" y="2286000"/>
              <a:ext cx="213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010280" y="2286000"/>
              <a:ext cx="6098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2012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2590920"/>
              <a:ext cx="2743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28960" y="259056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Renda 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49760" y="190476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asual"/>
                </a:rPr>
                <a:t>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36040" y="19047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Po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4-24T23:52:31Z</dcterms:modified>
  <cp:revision>154</cp:revision>
  <dc:subject/>
  <dc:title>Beneficios socio-economicos</dc:title>
</cp:coreProperties>
</file>