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1CC-F735-4331-8863-B74D1198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6DED-02B1-4070-8277-74E65BC2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89A-C729-4E35-BE73-5D33C6B4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6228-68A0-407D-8339-E0F043F2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EE5D-364B-4060-80EF-47E364D8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038D-D2B1-427C-9682-79A43540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E749-0459-4F67-A851-5F52EB1C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8FC-088B-4417-83C4-FA843059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BBB8-7889-4FB2-BC25-E88904FD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6C19-7C1A-4348-82CF-D6949D82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3FD-EE84-4108-B8D9-EA9D57B0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67F-E608-44C3-9BEC-216A1C3A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D298-7004-4C88-862F-A9C87D52E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46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76520" y="686520"/>
            <a:ext cx="122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asual"/>
              </a:rPr>
              <a:t>Aula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asual"/>
              </a:rPr>
              <a:t>Parte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asual"/>
              </a:rPr>
              <a:t>Qua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5240" y="913680"/>
            <a:ext cx="72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mplo Ilustrativo: Mercado de Lim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8200" y="1785600"/>
            <a:ext cx="8355600" cy="20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Consumidores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2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... 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00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agaria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R$ 100,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por uma boa jo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agaria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R$ 20,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por uma biju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Se os consumidores sabem que C vende produtos com qu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inferior, quem quer uma boa joia compra d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40960" y="4037760"/>
            <a:ext cx="29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B: R$ 80,00 &lt; R$ 1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9520" y="449496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C: R$ 30,00 &gt; R$ 2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4952880"/>
            <a:ext cx="3276720" cy="1067040"/>
          </a:xfrm>
          <a:prstGeom prst="wedgeRoundRectCallout">
            <a:avLst>
              <a:gd name="adj1" fmla="val -88953"/>
              <a:gd name="adj2" fmla="val -76041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esmo quem proc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ijuterias não compra d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5240" y="913680"/>
            <a:ext cx="72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mplo Ilustrativo: Mercado de Lim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5480" y="1666800"/>
            <a:ext cx="7463880" cy="27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Consumidores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2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... 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00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agaria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R$ 100,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por uma boa jo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agaria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R$ 20,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por uma biju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2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... 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0000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 não sabem que B e C vendem produ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de qualidades muito di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Na Média, Consumidores Pagariam:  (100+20)/2 = R$ 6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6280" y="472356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B: R$ 80,00 &gt; R$ 6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5029200"/>
            <a:ext cx="3581640" cy="1066680"/>
          </a:xfrm>
          <a:prstGeom prst="wedgeRoundRectCallout">
            <a:avLst>
              <a:gd name="adj1" fmla="val -72870"/>
              <a:gd name="adj2" fmla="val -61754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O preço de R$ 60,00 fix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elo mercado não 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viável para manter a 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95240" y="913680"/>
            <a:ext cx="72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mplo Ilustrativo: Mercado de Lim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5480" y="1666800"/>
            <a:ext cx="7463880" cy="27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Consumidores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2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... 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00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agaria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R$ 100,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por uma boa jo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agaria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R$ 20,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por uma biju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2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... 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0000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 não sabem que B e C vendem produ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de qualidades muito di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Na Média, Consumidores Pagariam:  (100+20)/2 = R$ 6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6280" y="472356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B: R$ 80,00 &gt; R$ 6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9520" y="518076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C: R$ 30,00 &lt; R$ 6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29200" y="5105520"/>
            <a:ext cx="3581280" cy="914400"/>
          </a:xfrm>
          <a:prstGeom prst="wedgeRoundRectCallout">
            <a:avLst>
              <a:gd name="adj1" fmla="val -77657"/>
              <a:gd name="adj2" fmla="val -17879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 vende, por algum temp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ijuterias por R$ 60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5240" y="913680"/>
            <a:ext cx="72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mplo Ilustrativo: Mercado de Lim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5480" y="1666800"/>
            <a:ext cx="7463880" cy="27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Consumidores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2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... 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00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agaria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R$ 100,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por uma boa jo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agaria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R$ 20,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por uma biju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2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... 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0000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 não sabem que B e C vendem produ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de qualidades muito di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Na Média, Consumidores Pagariam:  (100+20)/2 = R$ 6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6280" y="472356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B: R$ 80,00 &gt; R$ 6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9520" y="518076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C: R$ 30,00 &lt; R$ 6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5029200"/>
            <a:ext cx="2819160" cy="1066680"/>
          </a:xfrm>
          <a:prstGeom prst="wedgeRoundRectCallout">
            <a:avLst>
              <a:gd name="adj1" fmla="val -99157"/>
              <a:gd name="adj2" fmla="val -18152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Cl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Descon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14880" y="913680"/>
            <a:ext cx="40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Fontes de Infor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1600" y="1767960"/>
            <a:ext cx="71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ontes Tradicion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Jornais, Revistas, Rádio, Televisão, Outdoors, Exposiçõ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Folhetos, Telemarketting, 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0600" y="2971800"/>
            <a:ext cx="776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ontes baseadas em Intern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Transferências de Arquivos -&gt; WWW, FTP, Tel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Broadcasting e Troca de Informações -&gt; UseNet, Mailing 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Interações em Tempo Real -&gt; Talk, I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ineradores de 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14880" y="913680"/>
            <a:ext cx="40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Fontes de Infor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1800" y="188964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Filtragem e Seleção de Informaçõ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8280" y="2970720"/>
            <a:ext cx="78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Materiais Indecentes -&gt; Cyberpatrol, NetNanny, Cybers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1200" y="342792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Sp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5135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Volume de Inform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4760" y="3885120"/>
            <a:ext cx="25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Bloqueio de ‘site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920" y="4342320"/>
            <a:ext cx="409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Intermediários de inform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56760" y="91368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inalização de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98000" y="1677240"/>
            <a:ext cx="4757040" cy="47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Reputação -&gt; Marca, Port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Shareware e D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Órgãos de Proteção ao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Órgãos Certificadores -&gt; Se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Garantias e Reembol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Depoimentos de Outros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rtigos em Revistas de Prestíg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Localização da Se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Disponibilização de Balanc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1720" y="913680"/>
            <a:ext cx="38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Fidelidade do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9000" y="1710000"/>
            <a:ext cx="659052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orque se perdem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1% mor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3% mudam de endereç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5% acham outro fornecedor mais conven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9% acham outro fornecedor mais ba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14% pela qualidade dos produtos e servi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68% pelo mau atendimento rece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4920" y="6018840"/>
            <a:ext cx="809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Araújo, MG. e D’Ávila, F.H. - Comércio Eletrônico: Mercado de Oportunidade, SEBRAE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11720" y="913680"/>
            <a:ext cx="38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Fidelidade do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3400" y="1618200"/>
            <a:ext cx="659052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orque se perdem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1% mor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3% mudam de endereç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5% acham outro fornecedor mais conven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9% acham outro fornecedor mais ba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14% pela qualidade dos produtos e servi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68% pelo mau atendimento rece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7880" y="4008960"/>
            <a:ext cx="758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e mai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... custa 5 vezes mais conseguir um novo cliente,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manter um ant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... cada cliente satisfeito gera mais 1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... cada cliente insatisfeito gera a perda de 13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4920" y="6018840"/>
            <a:ext cx="809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Araújo, MG. e D’Ávila, F.H. - Comércio Eletrônico: Mercado de Oportunidade, SEBRAE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82800" y="974880"/>
            <a:ext cx="55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Indiferença Preço x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879640" y="2270160"/>
            <a:ext cx="0" cy="30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11520" y="5103720"/>
            <a:ext cx="3537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62160" y="2651040"/>
            <a:ext cx="2239920" cy="144792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58560" y="536652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u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2078640" y="35517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04080" y="2303640"/>
            <a:ext cx="1860480" cy="577800"/>
          </a:xfrm>
          <a:prstGeom prst="wedgeRoundRectCallout">
            <a:avLst>
              <a:gd name="adj1" fmla="val -81398"/>
              <a:gd name="adj2" fmla="val 12912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Satisfei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382920" y="3048120"/>
            <a:ext cx="4575240" cy="1447560"/>
            <a:chOff x="3382920" y="3048120"/>
            <a:chExt cx="4575240" cy="1447560"/>
          </a:xfrm>
        </p:grpSpPr>
        <p:sp>
          <p:nvSpPr>
            <p:cNvPr id="218" name=""/>
            <p:cNvSpPr/>
            <p:nvPr/>
          </p:nvSpPr>
          <p:spPr>
            <a:xfrm>
              <a:off x="3382920" y="3048120"/>
              <a:ext cx="2239920" cy="1447560"/>
            </a:xfrm>
            <a:custGeom>
              <a:avLst/>
              <a:gdLst/>
              <a:ahLst/>
              <a:rect l="l" t="t" r="r" b="b"/>
              <a:pathLst>
                <a:path w="1411" h="912">
                  <a:moveTo>
                    <a:pt x="0" y="912"/>
                  </a:moveTo>
                  <a:cubicBezTo>
                    <a:pt x="130" y="745"/>
                    <a:pt x="261" y="578"/>
                    <a:pt x="413" y="452"/>
                  </a:cubicBezTo>
                  <a:cubicBezTo>
                    <a:pt x="565" y="326"/>
                    <a:pt x="746" y="229"/>
                    <a:pt x="912" y="154"/>
                  </a:cubicBezTo>
                  <a:cubicBezTo>
                    <a:pt x="1078" y="79"/>
                    <a:pt x="1328" y="26"/>
                    <a:pt x="1411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45040" y="3462480"/>
              <a:ext cx="2013120" cy="637920"/>
            </a:xfrm>
            <a:prstGeom prst="wedgeRoundRectCallout">
              <a:avLst>
                <a:gd name="adj1" fmla="val -61828"/>
                <a:gd name="adj2" fmla="val -112935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Mais Satisfei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28000" y="1752480"/>
            <a:ext cx="399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IMPORTÂNCIA 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QUALIDADE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MERCADO 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23520" y="495288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Arnoldo Souza Ca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Takashi Yoney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962520" y="3733920"/>
            <a:ext cx="1304640" cy="916920"/>
            <a:chOff x="3962520" y="3733920"/>
            <a:chExt cx="1304640" cy="916920"/>
          </a:xfrm>
        </p:grpSpPr>
        <p:sp>
          <p:nvSpPr>
            <p:cNvPr id="55" name=""/>
            <p:cNvSpPr/>
            <p:nvPr/>
          </p:nvSpPr>
          <p:spPr>
            <a:xfrm>
              <a:off x="4290480" y="37339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59320" y="39754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62520" y="38498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82800" y="974880"/>
            <a:ext cx="55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Indiferença Preço x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879640" y="2270160"/>
            <a:ext cx="0" cy="30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11520" y="5103720"/>
            <a:ext cx="3537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62160" y="2651040"/>
            <a:ext cx="2239920" cy="144792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8560" y="536652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u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2078640" y="35517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82920" y="3048120"/>
            <a:ext cx="2239920" cy="144756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63800" y="3382920"/>
            <a:ext cx="2240280" cy="144792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154320" y="1890720"/>
            <a:ext cx="5060880" cy="2390760"/>
            <a:chOff x="3154320" y="1890720"/>
            <a:chExt cx="5060880" cy="2390760"/>
          </a:xfrm>
        </p:grpSpPr>
        <p:sp>
          <p:nvSpPr>
            <p:cNvPr id="232" name=""/>
            <p:cNvSpPr/>
            <p:nvPr/>
          </p:nvSpPr>
          <p:spPr>
            <a:xfrm>
              <a:off x="3154320" y="2651040"/>
              <a:ext cx="2576520" cy="1630440"/>
            </a:xfrm>
            <a:custGeom>
              <a:avLst/>
              <a:gdLst/>
              <a:ahLst/>
              <a:rect l="l" t="t" r="r" b="b"/>
              <a:pathLst>
                <a:path w="1623" h="1027">
                  <a:moveTo>
                    <a:pt x="0" y="1027"/>
                  </a:moveTo>
                  <a:cubicBezTo>
                    <a:pt x="345" y="992"/>
                    <a:pt x="690" y="958"/>
                    <a:pt x="960" y="787"/>
                  </a:cubicBezTo>
                  <a:cubicBezTo>
                    <a:pt x="1230" y="616"/>
                    <a:pt x="1513" y="131"/>
                    <a:pt x="1623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94600" y="1890720"/>
              <a:ext cx="1920600" cy="990720"/>
            </a:xfrm>
            <a:prstGeom prst="wedgeRoundRectCallout">
              <a:avLst>
                <a:gd name="adj1" fmla="val -75703"/>
                <a:gd name="adj2" fmla="val 25319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Fronteira 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Eficiênci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roduçã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587840" y="3871800"/>
            <a:ext cx="3259080" cy="700200"/>
            <a:chOff x="4587840" y="3871800"/>
            <a:chExt cx="3259080" cy="700200"/>
          </a:xfrm>
        </p:grpSpPr>
        <p:sp>
          <p:nvSpPr>
            <p:cNvPr id="235" name=""/>
            <p:cNvSpPr/>
            <p:nvPr/>
          </p:nvSpPr>
          <p:spPr>
            <a:xfrm>
              <a:off x="4587840" y="3871800"/>
              <a:ext cx="136440" cy="12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40320" y="3978360"/>
              <a:ext cx="2406600" cy="593640"/>
            </a:xfrm>
            <a:prstGeom prst="wedgeRoundRectCallout">
              <a:avLst>
                <a:gd name="adj1" fmla="val -78101"/>
                <a:gd name="adj2" fmla="val -55078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Máxima Satisfaçã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82800" y="974880"/>
            <a:ext cx="55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Indiferença Preço x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879640" y="2270160"/>
            <a:ext cx="0" cy="30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11520" y="5103720"/>
            <a:ext cx="3537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62160" y="2651040"/>
            <a:ext cx="2239920" cy="144792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58560" y="536652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u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2078640" y="35517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82920" y="3048120"/>
            <a:ext cx="2239920" cy="144756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63800" y="3382920"/>
            <a:ext cx="2240280" cy="144792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41560" y="2209680"/>
            <a:ext cx="2576520" cy="1630440"/>
          </a:xfrm>
          <a:custGeom>
            <a:avLst/>
            <a:gdLst/>
            <a:ahLst/>
            <a:rect l="l" t="t" r="r" b="b"/>
            <a:pathLst>
              <a:path w="1623" h="1027">
                <a:moveTo>
                  <a:pt x="0" y="1027"/>
                </a:moveTo>
                <a:cubicBezTo>
                  <a:pt x="345" y="992"/>
                  <a:pt x="690" y="958"/>
                  <a:pt x="960" y="787"/>
                </a:cubicBezTo>
                <a:cubicBezTo>
                  <a:pt x="1230" y="616"/>
                  <a:pt x="1513" y="131"/>
                  <a:pt x="1623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21160" y="1616040"/>
            <a:ext cx="1523880" cy="747720"/>
          </a:xfrm>
          <a:prstGeom prst="wedgeRoundRectCallout">
            <a:avLst>
              <a:gd name="adj1" fmla="val 63541"/>
              <a:gd name="adj2" fmla="val 68046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Situ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ni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27560" y="3449520"/>
            <a:ext cx="136440" cy="1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82800" y="974880"/>
            <a:ext cx="55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Indiferença Preço x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879640" y="2270160"/>
            <a:ext cx="0" cy="30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11520" y="5103720"/>
            <a:ext cx="3537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62160" y="2651040"/>
            <a:ext cx="2239920" cy="144792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58560" y="536652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u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2078640" y="35517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82920" y="3048120"/>
            <a:ext cx="2239920" cy="144756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63800" y="3382920"/>
            <a:ext cx="2240280" cy="144792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941560" y="2209680"/>
            <a:ext cx="2576520" cy="1630440"/>
          </a:xfrm>
          <a:custGeom>
            <a:avLst/>
            <a:gdLst/>
            <a:ahLst/>
            <a:rect l="l" t="t" r="r" b="b"/>
            <a:pathLst>
              <a:path w="1623" h="1027">
                <a:moveTo>
                  <a:pt x="0" y="1027"/>
                </a:moveTo>
                <a:cubicBezTo>
                  <a:pt x="345" y="992"/>
                  <a:pt x="690" y="958"/>
                  <a:pt x="960" y="787"/>
                </a:cubicBezTo>
                <a:cubicBezTo>
                  <a:pt x="1230" y="616"/>
                  <a:pt x="1513" y="131"/>
                  <a:pt x="162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21160" y="1616040"/>
            <a:ext cx="1523880" cy="747720"/>
          </a:xfrm>
          <a:prstGeom prst="wedgeRoundRectCallout">
            <a:avLst>
              <a:gd name="adj1" fmla="val 63541"/>
              <a:gd name="adj2" fmla="val 68046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Situ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Ini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27560" y="3449520"/>
            <a:ext cx="136440" cy="136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308400" y="1677960"/>
            <a:ext cx="4327560" cy="2527200"/>
            <a:chOff x="3308400" y="1677960"/>
            <a:chExt cx="4327560" cy="2527200"/>
          </a:xfrm>
        </p:grpSpPr>
        <p:sp>
          <p:nvSpPr>
            <p:cNvPr id="266" name=""/>
            <p:cNvSpPr/>
            <p:nvPr/>
          </p:nvSpPr>
          <p:spPr>
            <a:xfrm>
              <a:off x="3308400" y="2575080"/>
              <a:ext cx="2576520" cy="1630080"/>
            </a:xfrm>
            <a:custGeom>
              <a:avLst/>
              <a:gdLst/>
              <a:ahLst/>
              <a:rect l="l" t="t" r="r" b="b"/>
              <a:pathLst>
                <a:path w="1623" h="1027">
                  <a:moveTo>
                    <a:pt x="0" y="1027"/>
                  </a:moveTo>
                  <a:cubicBezTo>
                    <a:pt x="345" y="992"/>
                    <a:pt x="690" y="958"/>
                    <a:pt x="960" y="787"/>
                  </a:cubicBezTo>
                  <a:cubicBezTo>
                    <a:pt x="1230" y="616"/>
                    <a:pt x="1513" y="131"/>
                    <a:pt x="1623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5440320" y="1677960"/>
              <a:ext cx="2195640" cy="976320"/>
              <a:chOff x="5440320" y="1677960"/>
              <a:chExt cx="2195640" cy="976320"/>
            </a:xfrm>
          </p:grpSpPr>
          <p:sp>
            <p:nvSpPr>
              <p:cNvPr id="268" name=""/>
              <p:cNvSpPr/>
              <p:nvPr/>
            </p:nvSpPr>
            <p:spPr>
              <a:xfrm>
                <a:off x="5440320" y="2347920"/>
                <a:ext cx="365040" cy="3063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308640" y="1677960"/>
                <a:ext cx="1327320" cy="595440"/>
              </a:xfrm>
              <a:prstGeom prst="wedgeRoundRectCallout">
                <a:avLst>
                  <a:gd name="adj1" fmla="val -106699"/>
                  <a:gd name="adj2" fmla="val 72666"/>
                  <a:gd name="adj3" fmla="val 16667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Lucida Casual"/>
                  </a:rPr>
                  <a:t>Inova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"/>
          <p:cNvGrpSpPr/>
          <p:nvPr/>
        </p:nvGrpSpPr>
        <p:grpSpPr>
          <a:xfrm>
            <a:off x="4738680" y="3784680"/>
            <a:ext cx="3257640" cy="1122120"/>
            <a:chOff x="4738680" y="3784680"/>
            <a:chExt cx="3257640" cy="1122120"/>
          </a:xfrm>
        </p:grpSpPr>
        <p:sp>
          <p:nvSpPr>
            <p:cNvPr id="271" name=""/>
            <p:cNvSpPr/>
            <p:nvPr/>
          </p:nvSpPr>
          <p:spPr>
            <a:xfrm>
              <a:off x="5240160" y="4206960"/>
              <a:ext cx="2756160" cy="699840"/>
            </a:xfrm>
            <a:prstGeom prst="wedgeRoundRectCallout">
              <a:avLst>
                <a:gd name="adj1" fmla="val -61810"/>
                <a:gd name="adj2" fmla="val -99888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Vantagem Competi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Qualidade</a:t>
              </a: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</a:t>
              </a: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 Preço</a:t>
              </a: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</a:t>
              </a: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38680" y="3784680"/>
              <a:ext cx="136440" cy="136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82800" y="974880"/>
            <a:ext cx="55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Indiferença Preço x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879640" y="2270160"/>
            <a:ext cx="0" cy="30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11520" y="5103720"/>
            <a:ext cx="3537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62160" y="2651040"/>
            <a:ext cx="2239920" cy="144792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58560" y="536652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u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2078640" y="35517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82920" y="3048120"/>
            <a:ext cx="2239920" cy="144756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63800" y="3382920"/>
            <a:ext cx="2240280" cy="144792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41560" y="2209680"/>
            <a:ext cx="2576520" cy="1630440"/>
          </a:xfrm>
          <a:custGeom>
            <a:avLst/>
            <a:gdLst/>
            <a:ahLst/>
            <a:rect l="l" t="t" r="r" b="b"/>
            <a:pathLst>
              <a:path w="1623" h="1027">
                <a:moveTo>
                  <a:pt x="0" y="1027"/>
                </a:moveTo>
                <a:cubicBezTo>
                  <a:pt x="345" y="992"/>
                  <a:pt x="690" y="958"/>
                  <a:pt x="960" y="787"/>
                </a:cubicBezTo>
                <a:cubicBezTo>
                  <a:pt x="1230" y="616"/>
                  <a:pt x="1513" y="131"/>
                  <a:pt x="162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27560" y="3449520"/>
            <a:ext cx="136440" cy="136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08400" y="2575080"/>
            <a:ext cx="2576520" cy="1630080"/>
          </a:xfrm>
          <a:custGeom>
            <a:avLst/>
            <a:gdLst/>
            <a:ahLst/>
            <a:rect l="l" t="t" r="r" b="b"/>
            <a:pathLst>
              <a:path w="1623" h="1027">
                <a:moveTo>
                  <a:pt x="0" y="1027"/>
                </a:moveTo>
                <a:cubicBezTo>
                  <a:pt x="345" y="992"/>
                  <a:pt x="690" y="958"/>
                  <a:pt x="960" y="787"/>
                </a:cubicBezTo>
                <a:cubicBezTo>
                  <a:pt x="1230" y="616"/>
                  <a:pt x="1513" y="131"/>
                  <a:pt x="162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40320" y="2347920"/>
            <a:ext cx="365040" cy="306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08640" y="1677960"/>
            <a:ext cx="1327320" cy="595440"/>
          </a:xfrm>
          <a:prstGeom prst="wedgeRoundRectCallout">
            <a:avLst>
              <a:gd name="adj1" fmla="val -106699"/>
              <a:gd name="adj2" fmla="val 72666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Inov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38680" y="3784680"/>
            <a:ext cx="136440" cy="136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433760" y="3565440"/>
            <a:ext cx="3135600" cy="1341360"/>
            <a:chOff x="4433760" y="3565440"/>
            <a:chExt cx="3135600" cy="1341360"/>
          </a:xfrm>
        </p:grpSpPr>
        <p:sp>
          <p:nvSpPr>
            <p:cNvPr id="291" name=""/>
            <p:cNvSpPr/>
            <p:nvPr/>
          </p:nvSpPr>
          <p:spPr>
            <a:xfrm>
              <a:off x="5681520" y="3565440"/>
              <a:ext cx="1887840" cy="1341360"/>
            </a:xfrm>
            <a:prstGeom prst="wedgeRoundRectCallout">
              <a:avLst>
                <a:gd name="adj1" fmla="val -98694"/>
                <a:gd name="adj2" fmla="val -1004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Imitado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Qualidade </a:t>
              </a: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Preço</a:t>
              </a: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</a:t>
              </a: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65600" y="4211640"/>
              <a:ext cx="136440" cy="1364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33760" y="3583080"/>
              <a:ext cx="258840" cy="639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82800" y="974880"/>
            <a:ext cx="55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Indiferença Preço x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879640" y="2270160"/>
            <a:ext cx="0" cy="30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11520" y="5103720"/>
            <a:ext cx="3537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62160" y="2651040"/>
            <a:ext cx="2239920" cy="144792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58560" y="536652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u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2078640" y="35517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82920" y="3048120"/>
            <a:ext cx="2239920" cy="144756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63800" y="3382920"/>
            <a:ext cx="2240280" cy="144792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41560" y="2209680"/>
            <a:ext cx="2576520" cy="1630440"/>
          </a:xfrm>
          <a:custGeom>
            <a:avLst/>
            <a:gdLst/>
            <a:ahLst/>
            <a:rect l="l" t="t" r="r" b="b"/>
            <a:pathLst>
              <a:path w="1623" h="1027">
                <a:moveTo>
                  <a:pt x="0" y="1027"/>
                </a:moveTo>
                <a:cubicBezTo>
                  <a:pt x="345" y="992"/>
                  <a:pt x="690" y="958"/>
                  <a:pt x="960" y="787"/>
                </a:cubicBezTo>
                <a:cubicBezTo>
                  <a:pt x="1230" y="616"/>
                  <a:pt x="1513" y="131"/>
                  <a:pt x="162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27560" y="3449520"/>
            <a:ext cx="136440" cy="136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08400" y="2575080"/>
            <a:ext cx="2576520" cy="1630080"/>
          </a:xfrm>
          <a:custGeom>
            <a:avLst/>
            <a:gdLst/>
            <a:ahLst/>
            <a:rect l="l" t="t" r="r" b="b"/>
            <a:pathLst>
              <a:path w="1623" h="1027">
                <a:moveTo>
                  <a:pt x="0" y="1027"/>
                </a:moveTo>
                <a:cubicBezTo>
                  <a:pt x="345" y="992"/>
                  <a:pt x="690" y="958"/>
                  <a:pt x="960" y="787"/>
                </a:cubicBezTo>
                <a:cubicBezTo>
                  <a:pt x="1230" y="616"/>
                  <a:pt x="1513" y="131"/>
                  <a:pt x="162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91320" y="2714760"/>
            <a:ext cx="487080" cy="3967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19760" y="1906560"/>
            <a:ext cx="1555920" cy="749160"/>
          </a:xfrm>
          <a:prstGeom prst="wedgeRoundRectCallout">
            <a:avLst>
              <a:gd name="adj1" fmla="val -96430"/>
              <a:gd name="adj2" fmla="val 73939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Vant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Sustent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38680" y="3784680"/>
            <a:ext cx="136440" cy="1364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81440" y="3017880"/>
            <a:ext cx="2576520" cy="1630440"/>
          </a:xfrm>
          <a:custGeom>
            <a:avLst/>
            <a:gdLst/>
            <a:ahLst/>
            <a:rect l="l" t="t" r="r" b="b"/>
            <a:pathLst>
              <a:path w="1623" h="1027">
                <a:moveTo>
                  <a:pt x="0" y="1027"/>
                </a:moveTo>
                <a:cubicBezTo>
                  <a:pt x="345" y="992"/>
                  <a:pt x="690" y="958"/>
                  <a:pt x="960" y="787"/>
                </a:cubicBezTo>
                <a:cubicBezTo>
                  <a:pt x="1230" y="616"/>
                  <a:pt x="1513" y="131"/>
                  <a:pt x="1623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86400" y="3978360"/>
            <a:ext cx="1568160" cy="92844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95880" y="4227480"/>
            <a:ext cx="136440" cy="136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65600" y="4211640"/>
            <a:ext cx="136440" cy="136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33760" y="3583080"/>
            <a:ext cx="258840" cy="639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327560" y="3597120"/>
            <a:ext cx="304560" cy="273240"/>
            <a:chOff x="4327560" y="3597120"/>
            <a:chExt cx="304560" cy="273240"/>
          </a:xfrm>
        </p:grpSpPr>
        <p:sp>
          <p:nvSpPr>
            <p:cNvPr id="317" name=""/>
            <p:cNvSpPr/>
            <p:nvPr/>
          </p:nvSpPr>
          <p:spPr>
            <a:xfrm flipH="1">
              <a:off x="4389120" y="3597120"/>
              <a:ext cx="198360" cy="27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27560" y="3659040"/>
              <a:ext cx="304560" cy="19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02320" y="1724040"/>
            <a:ext cx="534852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Lucida Casual"/>
              </a:rPr>
              <a:t>Recapitulação Part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Informações sobre Prod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Sinalização de Qua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Fontes de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Indiferença Preço x Qua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85160" y="93240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Exercício 10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289880" y="3017520"/>
            <a:ext cx="5779440" cy="3037680"/>
            <a:chOff x="1289880" y="3017520"/>
            <a:chExt cx="5779440" cy="3037680"/>
          </a:xfrm>
        </p:grpSpPr>
        <p:sp>
          <p:nvSpPr>
            <p:cNvPr id="328" name=""/>
            <p:cNvSpPr/>
            <p:nvPr/>
          </p:nvSpPr>
          <p:spPr>
            <a:xfrm>
              <a:off x="1318680" y="3017520"/>
              <a:ext cx="5750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Lucida Casual"/>
                </a:rPr>
                <a:t>Consumidores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Lucida Casu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Lucida Casual"/>
                </a:rPr>
                <a:t>Procuram Imagens Digitalizadas na 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Lucida Casu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Lucida Casual"/>
                </a:rPr>
                <a:t>Pagariam R$ 10,00 por uma imagem de alta qual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Lucida Casu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Lucida Casual"/>
                </a:rPr>
                <a:t>Pagariam R$ 2,00 por uma imagem de baixa qual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39560" y="4208760"/>
              <a:ext cx="4328640" cy="6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Lucida Casual"/>
                </a:rPr>
                <a:t>O site Oranges.com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3333cc"/>
                </a:buClr>
                <a:buFont typeface="Lucida Casu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Lucida Casual"/>
                </a:rPr>
                <a:t>Vende imagens de qualidade por R$ 8,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20120" y="4913640"/>
              <a:ext cx="5296680" cy="6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Lucida Casual"/>
                </a:rPr>
                <a:t>O site Lemons.com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3333cc"/>
                </a:buClr>
                <a:buFont typeface="Lucida Casu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Lucida Casual"/>
                </a:rPr>
                <a:t>Vende imagens de qualidade duvidosa por R$ 3,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89880" y="5717880"/>
              <a:ext cx="553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Lucida Casual"/>
                </a:rPr>
                <a:t>A home-page da Orange é parecida com a da Lem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89520" y="1576080"/>
            <a:ext cx="85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m um mercado com informação incompleta sobre os produtos, 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agentes econômicos podem experimentar efeitos temporários neg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 positivos. Com base nisto, examine e conclua sobre as decisões des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agentes no exemplo abaix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2760" y="1676520"/>
            <a:ext cx="639216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Investigar o impacto da qualidade no mercado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aracterizar os conceito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Informações sobre Prod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Sinalização de Qu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ontes de In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Indiferença Preço x Qu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0640" y="2132640"/>
            <a:ext cx="57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orque não voltaria a comprar na Interne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2280" y="2725560"/>
            <a:ext cx="445680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Receio de falta de segura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xperiência anterior 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fere fazer compras pessoal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uer ver ou experimentar 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Receio de atraso ou erro na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Não quer pagar o f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2895480"/>
            <a:ext cx="228600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3276720"/>
            <a:ext cx="129564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3657600"/>
            <a:ext cx="53352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4038480"/>
            <a:ext cx="30492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4419720"/>
            <a:ext cx="30492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4800600"/>
            <a:ext cx="30492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803360" y="28947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66,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12640" y="3276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27,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50880" y="36568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11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17960" y="403776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5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17960" y="441900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5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11480" y="479988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5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15200" y="913680"/>
            <a:ext cx="687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Qualidade dos Produtos ou do Serviç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9520" y="6094800"/>
            <a:ext cx="56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Fonte: Júlio Lobos Consultores Associados, Exame - 19 abr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0280" y="2132640"/>
            <a:ext cx="57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orque não voltaria a comprar na Interne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2280" y="2725560"/>
            <a:ext cx="445680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eceio de falta de segura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xperiência anterior 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refere fazer compras pessoal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uer ver ou experimentar 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Receio de atraso ou erro na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Não quer pagar o f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2895480"/>
            <a:ext cx="2286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3276720"/>
            <a:ext cx="129564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3657600"/>
            <a:ext cx="5335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40384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44197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4800600"/>
            <a:ext cx="304920" cy="30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03360" y="28947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66,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12640" y="3276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27,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50880" y="36568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11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17960" y="403776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5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7960" y="441900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5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11480" y="479988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5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15200" y="913680"/>
            <a:ext cx="687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Qualidade dos Produtos ou do Serviç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9520" y="6094800"/>
            <a:ext cx="56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Fonte: Júlio Lobos Consultores Associados, Exame - 19 abr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5480" y="2056320"/>
            <a:ext cx="412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Que tipo de problema ocorre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" y="2649240"/>
            <a:ext cx="518508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traso na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brança diferente da contrat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oduto em desacordo com o pe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Não recebimento do pe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Recebimento de produto danifi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ificuldade em obter orientação pós v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80040" y="2743200"/>
            <a:ext cx="192096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0040" y="3124080"/>
            <a:ext cx="100656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80040" y="3505320"/>
            <a:ext cx="39708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0040" y="3886200"/>
            <a:ext cx="39708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80040" y="4267080"/>
            <a:ext cx="39708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80040" y="4648320"/>
            <a:ext cx="24444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108280" y="2742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62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93880" y="31233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25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79720" y="350460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8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79720" y="388548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8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79720" y="426636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8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81440" y="464760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4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15200" y="913680"/>
            <a:ext cx="687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Qualidade dos Produtos ou do Serviç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9520" y="6094800"/>
            <a:ext cx="56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Fonte: Júlio Lobos Consultores Associados, Exame - 19 abr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5240" y="913680"/>
            <a:ext cx="72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mplo Ilustrativo: Mercado de Lim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82600" y="1904040"/>
            <a:ext cx="47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li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ocura 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agaria R$ 100,00 por uma boa jo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agaria R$ 20,00 por uma biju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62080" y="3427920"/>
            <a:ext cx="512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Benedit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ossui loja 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Vende anéis de qualidade por R$ 8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85120" y="4647240"/>
            <a:ext cx="68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arl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ossui loja 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Vende anéis de qualidade duvidosa por R$ 3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 home-page da Carla é parecida com o do Bened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5240" y="913680"/>
            <a:ext cx="72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mplo Ilustrativo: Mercado de Lim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98440" y="1904040"/>
            <a:ext cx="518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A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li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ocura 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agaria até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R$ 100,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por uma boa jo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agaria até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R$ 20,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por uma biju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09160" y="3427920"/>
            <a:ext cx="763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B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enedit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ossui loja 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Vende anéis de qualidade com custo de produção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R$ 8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85120" y="4647240"/>
            <a:ext cx="68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C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rl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ossui loja 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Vende bijuterias com custo de produção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R$ 3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 home-page da Carla é parecida com o do Bened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5240" y="913680"/>
            <a:ext cx="72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mplo Ilustrativo: Mercado de Lim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8200" y="1785600"/>
            <a:ext cx="8355600" cy="20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Consumidores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2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... 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00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agariam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R$ 100,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por uma boa jo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agariam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R$ 20,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por uma biju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Se os consumidores sabem que C vende produtos com qu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inferior, quem quer uma boa joia compra d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0960" y="4037760"/>
            <a:ext cx="29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B: R$ 80,00 &lt; R$ 1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4800600"/>
            <a:ext cx="2133360" cy="609480"/>
          </a:xfrm>
          <a:prstGeom prst="wedgeRoundRectCallout">
            <a:avLst>
              <a:gd name="adj1" fmla="val -108930"/>
              <a:gd name="adj2" fmla="val -142449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 prosp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Elena Yoshie Sato Yoneyama</cp:lastModifiedBy>
  <cp:lastPrinted>2000-05-03T14:19:10Z</cp:lastPrinted>
  <dcterms:modified xsi:type="dcterms:W3CDTF">2003-03-28T23:16:30Z</dcterms:modified>
  <cp:revision>136</cp:revision>
  <dc:subject/>
  <dc:title>Qualidade</dc:title>
</cp:coreProperties>
</file>