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EEE3-75B5-4ACB-9E9A-70F93655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FFA5-6A4B-4633-8816-CB42EB98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BC7-C6BC-40C6-914C-FAB34CA2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F9AF-AC35-4D9D-BA60-4CF59E82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B9F-5125-47D9-B43B-D76B83BB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E43B-FC0B-478E-957E-00F00E99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A86-4D3F-44A0-8CE9-4751CE42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25CC-5848-436C-A53E-CE9A5333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240E-C2D2-43BC-849E-A094011A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3910-F46E-41F5-AF6F-8305C44C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8518-D8C8-4337-B1A3-5C691C5E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3675-A3FC-42DB-A643-593DC733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5974-D4C4-4C0F-8E7F-188E1E1E3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46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76280" y="54720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Teoria do 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6040" y="6233400"/>
            <a:ext cx="49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onsole"/>
              </a:rPr>
              <a:t>http://www.ele.ita.cta.br/~takash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00200" y="838080"/>
          <a:ext cx="6154560" cy="525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838080"/>
                    <a:ext cx="615456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981080" y="380880"/>
          <a:ext cx="6154920" cy="5354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80880"/>
                    <a:ext cx="615492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523880" y="990720"/>
          <a:ext cx="6154920" cy="52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615492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53080" y="3828960"/>
            <a:ext cx="914400" cy="609840"/>
          </a:xfrm>
          <a:prstGeom prst="wedgeRoundRectCallout">
            <a:avLst>
              <a:gd name="adj1" fmla="val -83333"/>
              <a:gd name="adj2" fmla="val 140365"/>
              <a:gd name="adj3" fmla="val 16667"/>
            </a:avLst>
          </a:prstGeom>
          <a:solidFill>
            <a:srgbClr val="ffcc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ff"/>
                </a:solidFill>
                <a:latin typeface="Lucida Casual"/>
              </a:rPr>
              <a:t>U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14640" y="3095640"/>
            <a:ext cx="914400" cy="609480"/>
          </a:xfrm>
          <a:prstGeom prst="wedgeRoundRectCallout">
            <a:avLst>
              <a:gd name="adj1" fmla="val -71875"/>
              <a:gd name="adj2" fmla="val 135675"/>
              <a:gd name="adj3" fmla="val 16667"/>
            </a:avLst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U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43480" y="105480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3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5840" y="2025720"/>
            <a:ext cx="810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Existem vários formatos para músicas digitais que podem ser obt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via Internet (*.mp3, *.ra, *.avi, *.mid, etc…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) Esboçar as Curvas de Indiferença de uma dada comunida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3080" y="3305160"/>
            <a:ext cx="60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.1) horas de música *.mp3 x horas de música *.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.2) horas de música *.mp3 x horas de música *.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179880" y="4037040"/>
          <a:ext cx="1736640" cy="147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9880" y="4037040"/>
                    <a:ext cx="173664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708440" y="4040280"/>
          <a:ext cx="1736640" cy="147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8440" y="4040280"/>
                    <a:ext cx="173664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488520" y="5529240"/>
            <a:ext cx="84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i) O que pode ser dito sobre a preferência desta comunidade em rel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a músicas mp3 x midi e mp3 x real_audi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124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5040" y="1054800"/>
            <a:ext cx="46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rreção do Exercício 3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16120" y="3014640"/>
          <a:ext cx="1736640" cy="147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3014640"/>
                    <a:ext cx="1736640" cy="14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 flipV="1">
            <a:off x="5440320" y="1828440"/>
            <a:ext cx="0" cy="391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5532480"/>
            <a:ext cx="3063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821200" y="3825720"/>
            <a:ext cx="0" cy="17971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198840" y="4541400"/>
            <a:ext cx="3240" cy="10810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613560" y="4915080"/>
            <a:ext cx="6480" cy="7077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7389360" y="5181480"/>
            <a:ext cx="3240" cy="4255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3855960"/>
            <a:ext cx="48708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4541760"/>
            <a:ext cx="8683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49960" y="4878360"/>
            <a:ext cx="129528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48160" y="5199120"/>
            <a:ext cx="20574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29480" y="3844800"/>
            <a:ext cx="1577880" cy="1352520"/>
          </a:xfrm>
          <a:custGeom>
            <a:avLst/>
            <a:gdLst/>
            <a:ahLst/>
            <a:rect l="l" t="t" r="r" b="b"/>
            <a:pathLst>
              <a:path w="994" h="852">
                <a:moveTo>
                  <a:pt x="0" y="0"/>
                </a:moveTo>
                <a:cubicBezTo>
                  <a:pt x="38" y="72"/>
                  <a:pt x="144" y="319"/>
                  <a:pt x="226" y="429"/>
                </a:cubicBezTo>
                <a:cubicBezTo>
                  <a:pt x="308" y="539"/>
                  <a:pt x="366" y="590"/>
                  <a:pt x="494" y="660"/>
                </a:cubicBezTo>
                <a:cubicBezTo>
                  <a:pt x="622" y="730"/>
                  <a:pt x="914" y="820"/>
                  <a:pt x="994" y="85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92040" y="3672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onsole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07880" y="434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onsole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92040" y="466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onsole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92040" y="5012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onsole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26000" y="1689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onsole"/>
              </a:rPr>
              <a:t>*.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97800" y="5072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*.m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09880" y="560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05160" y="5608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17720" y="5593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78040" y="5579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5040" y="1054800"/>
            <a:ext cx="46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rreção do Exercício 3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889280" y="1828440"/>
            <a:ext cx="0" cy="391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30440" y="5532480"/>
            <a:ext cx="3063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270160" y="2774520"/>
            <a:ext cx="1440" cy="28479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651040" y="3978360"/>
            <a:ext cx="3240" cy="16444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052800" y="4708440"/>
            <a:ext cx="9360" cy="9144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471480" y="5191200"/>
            <a:ext cx="4680" cy="4348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4400" y="2741760"/>
            <a:ext cx="487440" cy="28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3976560"/>
            <a:ext cx="868320" cy="32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82720" y="4694400"/>
            <a:ext cx="1295280" cy="28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97120" y="5197320"/>
            <a:ext cx="1690560" cy="32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70160" y="2711520"/>
            <a:ext cx="1219320" cy="2485800"/>
          </a:xfrm>
          <a:custGeom>
            <a:avLst/>
            <a:gdLst/>
            <a:ahLst/>
            <a:rect l="l" t="t" r="r" b="b"/>
            <a:pathLst>
              <a:path w="768" h="1566">
                <a:moveTo>
                  <a:pt x="0" y="0"/>
                </a:moveTo>
                <a:cubicBezTo>
                  <a:pt x="40" y="134"/>
                  <a:pt x="158" y="599"/>
                  <a:pt x="240" y="807"/>
                </a:cubicBezTo>
                <a:cubicBezTo>
                  <a:pt x="322" y="1015"/>
                  <a:pt x="402" y="1123"/>
                  <a:pt x="490" y="1249"/>
                </a:cubicBezTo>
                <a:cubicBezTo>
                  <a:pt x="578" y="1375"/>
                  <a:pt x="710" y="1500"/>
                  <a:pt x="768" y="156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58200" y="2544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onsole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56840" y="3793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onsole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55040" y="4523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onsole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41000" y="5012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onsole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67400" y="1675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onsole"/>
              </a:rPr>
              <a:t>*.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46400" y="5072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*.m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8480" y="560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53760" y="5608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6680" y="560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91840" y="5608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668920" y="2822400"/>
          <a:ext cx="1736640" cy="147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8920" y="2822400"/>
                    <a:ext cx="1736640" cy="14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5040" y="1054800"/>
            <a:ext cx="46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rreção do Exercício 3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889280" y="1828440"/>
            <a:ext cx="0" cy="391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30440" y="5532480"/>
            <a:ext cx="3063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270160" y="2774520"/>
            <a:ext cx="1440" cy="28479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651040" y="3978360"/>
            <a:ext cx="3240" cy="16444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3052800" y="4708440"/>
            <a:ext cx="9360" cy="9144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471480" y="5191200"/>
            <a:ext cx="4680" cy="4348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14400" y="2741760"/>
            <a:ext cx="487440" cy="28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3976560"/>
            <a:ext cx="868320" cy="32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82720" y="4694400"/>
            <a:ext cx="1295280" cy="28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97120" y="5197320"/>
            <a:ext cx="1690560" cy="32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70160" y="2711520"/>
            <a:ext cx="1219320" cy="2485800"/>
          </a:xfrm>
          <a:custGeom>
            <a:avLst/>
            <a:gdLst/>
            <a:ahLst/>
            <a:rect l="l" t="t" r="r" b="b"/>
            <a:pathLst>
              <a:path w="768" h="1566">
                <a:moveTo>
                  <a:pt x="0" y="0"/>
                </a:moveTo>
                <a:cubicBezTo>
                  <a:pt x="40" y="134"/>
                  <a:pt x="158" y="599"/>
                  <a:pt x="240" y="807"/>
                </a:cubicBezTo>
                <a:cubicBezTo>
                  <a:pt x="322" y="1015"/>
                  <a:pt x="402" y="1123"/>
                  <a:pt x="490" y="1249"/>
                </a:cubicBezTo>
                <a:cubicBezTo>
                  <a:pt x="578" y="1375"/>
                  <a:pt x="710" y="1500"/>
                  <a:pt x="768" y="156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58200" y="2544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onsole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56840" y="3793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onsole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55040" y="4523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onsole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41000" y="5012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onsole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67400" y="1675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onsole"/>
              </a:rPr>
              <a:t>*.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46400" y="5072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*.m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8480" y="560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53760" y="5608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66680" y="560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91840" y="5608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440320" y="1828440"/>
            <a:ext cx="0" cy="391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5532480"/>
            <a:ext cx="3063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821200" y="3825720"/>
            <a:ext cx="0" cy="17971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6198840" y="4541400"/>
            <a:ext cx="3240" cy="10810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613560" y="4915080"/>
            <a:ext cx="6480" cy="7077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7389360" y="5181480"/>
            <a:ext cx="3240" cy="4255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3855960"/>
            <a:ext cx="48708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4541760"/>
            <a:ext cx="8683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49960" y="4878360"/>
            <a:ext cx="129528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48160" y="5199120"/>
            <a:ext cx="20574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29480" y="3844800"/>
            <a:ext cx="1577880" cy="1352520"/>
          </a:xfrm>
          <a:custGeom>
            <a:avLst/>
            <a:gdLst/>
            <a:ahLst/>
            <a:rect l="l" t="t" r="r" b="b"/>
            <a:pathLst>
              <a:path w="994" h="852">
                <a:moveTo>
                  <a:pt x="0" y="0"/>
                </a:moveTo>
                <a:cubicBezTo>
                  <a:pt x="38" y="72"/>
                  <a:pt x="144" y="319"/>
                  <a:pt x="226" y="429"/>
                </a:cubicBezTo>
                <a:cubicBezTo>
                  <a:pt x="308" y="539"/>
                  <a:pt x="366" y="590"/>
                  <a:pt x="494" y="660"/>
                </a:cubicBezTo>
                <a:cubicBezTo>
                  <a:pt x="622" y="730"/>
                  <a:pt x="914" y="820"/>
                  <a:pt x="994" y="85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92040" y="3672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onsole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07880" y="434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onsole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92040" y="466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onsole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92040" y="5012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onsole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26000" y="1689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onsole"/>
              </a:rPr>
              <a:t>*.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97800" y="5072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*.m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09880" y="560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05160" y="5608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17720" y="5593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78040" y="5579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2960" y="1371600"/>
            <a:ext cx="71622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PROBL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omo medir a satisfação de uma pessoa em possuir um c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em ou receber um determinado serviç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8640" y="2932200"/>
            <a:ext cx="7453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PROBLEM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ual a proporção de bens e serviços desejados pelo 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uando este é informado sobre o preç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0" y="914400"/>
          <a:ext cx="6154560" cy="52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615456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390680" y="3295800"/>
            <a:ext cx="3562200" cy="1914480"/>
            <a:chOff x="1390680" y="3295800"/>
            <a:chExt cx="3562200" cy="1914480"/>
          </a:xfrm>
        </p:grpSpPr>
        <p:sp>
          <p:nvSpPr>
            <p:cNvPr id="239" name=""/>
            <p:cNvSpPr/>
            <p:nvPr/>
          </p:nvSpPr>
          <p:spPr>
            <a:xfrm>
              <a:off x="1390680" y="3772080"/>
              <a:ext cx="2247840" cy="1438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00080" y="3295800"/>
              <a:ext cx="2152800" cy="533520"/>
            </a:xfrm>
            <a:prstGeom prst="wedgeRoundRectCallout">
              <a:avLst>
                <a:gd name="adj1" fmla="val -32745"/>
                <a:gd name="adj2" fmla="val 255060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B=p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L</a:t>
              </a: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L</a:t>
              </a: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+p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J</a:t>
              </a: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93400" y="105480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rçamento limi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0" y="914400"/>
          <a:ext cx="6154560" cy="52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615456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390680" y="3295800"/>
            <a:ext cx="3562200" cy="1914480"/>
            <a:chOff x="1390680" y="3295800"/>
            <a:chExt cx="3562200" cy="1914480"/>
          </a:xfrm>
        </p:grpSpPr>
        <p:sp>
          <p:nvSpPr>
            <p:cNvPr id="248" name=""/>
            <p:cNvSpPr/>
            <p:nvPr/>
          </p:nvSpPr>
          <p:spPr>
            <a:xfrm>
              <a:off x="1390680" y="3772080"/>
              <a:ext cx="2247840" cy="1438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00080" y="3295800"/>
              <a:ext cx="2152800" cy="533520"/>
            </a:xfrm>
            <a:prstGeom prst="wedgeRoundRectCallout">
              <a:avLst>
                <a:gd name="adj1" fmla="val -32745"/>
                <a:gd name="adj2" fmla="val 255060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B=p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L</a:t>
              </a: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L</a:t>
              </a: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+p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J</a:t>
              </a: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93400" y="105480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rçamento limi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64360" y="1654920"/>
            <a:ext cx="158724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Ex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= R$ 100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= R$ 2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= R$ 5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55040" y="1752480"/>
            <a:ext cx="474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COMPORTAMENTO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CONSUMIDOR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PRODUTOS DIGI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23520" y="502920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Arnoldo Souza Ca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akashi Yoney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962520" y="3809880"/>
            <a:ext cx="1304640" cy="916920"/>
            <a:chOff x="3962520" y="3809880"/>
            <a:chExt cx="1304640" cy="916920"/>
          </a:xfrm>
        </p:grpSpPr>
        <p:sp>
          <p:nvSpPr>
            <p:cNvPr id="56" name=""/>
            <p:cNvSpPr/>
            <p:nvPr/>
          </p:nvSpPr>
          <p:spPr>
            <a:xfrm>
              <a:off x="4290480" y="380988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59320" y="40514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392580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0" y="914400"/>
          <a:ext cx="6154560" cy="52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615456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390680" y="3295800"/>
            <a:ext cx="3562200" cy="1914480"/>
            <a:chOff x="1390680" y="3295800"/>
            <a:chExt cx="3562200" cy="1914480"/>
          </a:xfrm>
        </p:grpSpPr>
        <p:sp>
          <p:nvSpPr>
            <p:cNvPr id="258" name=""/>
            <p:cNvSpPr/>
            <p:nvPr/>
          </p:nvSpPr>
          <p:spPr>
            <a:xfrm>
              <a:off x="1390680" y="3772080"/>
              <a:ext cx="2247840" cy="1438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00080" y="3295800"/>
              <a:ext cx="2152800" cy="533520"/>
            </a:xfrm>
            <a:prstGeom prst="wedgeRoundRectCallout">
              <a:avLst>
                <a:gd name="adj1" fmla="val -32745"/>
                <a:gd name="adj2" fmla="val 255060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B=p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L</a:t>
              </a: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L</a:t>
              </a: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+p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J</a:t>
              </a: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93400" y="105480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rçamento limi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58600" y="1654920"/>
            <a:ext cx="158724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Ex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= R$ 100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= R$ 2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= R$ 5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66960" y="3830760"/>
            <a:ext cx="197748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Possi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 = 0 -&gt; q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 =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ff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ff00ff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ff00ff"/>
                </a:solidFill>
                <a:latin typeface="Lucida Casual"/>
              </a:rPr>
              <a:t> = 20 -&gt; q</a:t>
            </a:r>
            <a:r>
              <a:rPr b="1" lang="pt-BR" sz="1800" spc="-1" strike="noStrike" baseline="-25000">
                <a:solidFill>
                  <a:srgbClr val="ff00ff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ff00ff"/>
                </a:solidFill>
                <a:latin typeface="Lucida Casu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= 10 -&gt; q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=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66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cc66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cc6600"/>
                </a:solidFill>
                <a:latin typeface="Lucida Casual"/>
              </a:rPr>
              <a:t> = 15 -&gt; q</a:t>
            </a:r>
            <a:r>
              <a:rPr b="1" lang="pt-BR" sz="1800" spc="-1" strike="noStrike" baseline="-25000">
                <a:solidFill>
                  <a:srgbClr val="cc66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cc6600"/>
                </a:solidFill>
                <a:latin typeface="Lucida Casual"/>
              </a:rPr>
              <a:t> =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14680" y="5114880"/>
            <a:ext cx="15228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3695760"/>
            <a:ext cx="152640" cy="133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90760" y="4390920"/>
            <a:ext cx="142920" cy="133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4038480"/>
            <a:ext cx="142920" cy="1429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304920" y="1047600"/>
          <a:ext cx="6154560" cy="525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47600"/>
                    <a:ext cx="615456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1676520" y="3429000"/>
            <a:ext cx="1695240" cy="1905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95520" y="4352760"/>
            <a:ext cx="133560" cy="133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38400" y="4971960"/>
            <a:ext cx="133560" cy="133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28960" y="3838680"/>
            <a:ext cx="133200" cy="13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6212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Ót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800" y="9788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43520" y="3000240"/>
            <a:ext cx="914400" cy="609840"/>
          </a:xfrm>
          <a:prstGeom prst="wedgeRoundRectCallout">
            <a:avLst>
              <a:gd name="adj1" fmla="val -167708"/>
              <a:gd name="adj2" fmla="val 257550"/>
              <a:gd name="adj3" fmla="val 16667"/>
            </a:avLst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U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62600" y="3943440"/>
            <a:ext cx="914400" cy="609480"/>
          </a:xfrm>
          <a:prstGeom prst="wedgeRoundRectCallout">
            <a:avLst>
              <a:gd name="adj1" fmla="val -100000"/>
              <a:gd name="adj2" fmla="val 143490"/>
              <a:gd name="adj3" fmla="val 16667"/>
            </a:avLst>
          </a:prstGeom>
          <a:solidFill>
            <a:srgbClr val="ffcc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ff"/>
                </a:solidFill>
                <a:latin typeface="Lucida Casual"/>
              </a:rPr>
              <a:t>U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304920" y="1047600"/>
          <a:ext cx="6154560" cy="525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47600"/>
                    <a:ext cx="615456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76520" y="3429000"/>
            <a:ext cx="1695240" cy="1905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95520" y="4352760"/>
            <a:ext cx="133560" cy="133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0800" y="9788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86440" y="1600200"/>
            <a:ext cx="3752640" cy="1257480"/>
          </a:xfrm>
          <a:prstGeom prst="wedgeRoundRectCallout">
            <a:avLst>
              <a:gd name="adj1" fmla="val -114467"/>
              <a:gd name="adj2" fmla="val 170328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Haverá alguma rel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entre quantidades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preços no ponto de ótim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304920" y="1047600"/>
          <a:ext cx="6154560" cy="525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47600"/>
                    <a:ext cx="615456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76520" y="3429000"/>
            <a:ext cx="1695240" cy="1905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95520" y="4352760"/>
            <a:ext cx="133560" cy="133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0800" y="9788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6160" y="1663560"/>
            <a:ext cx="153252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Sim, p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304920" y="1047600"/>
          <a:ext cx="6154560" cy="525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47600"/>
                    <a:ext cx="615456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6520" y="3429000"/>
            <a:ext cx="1695240" cy="1905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95520" y="4352760"/>
            <a:ext cx="133560" cy="133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0800" y="9788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31880" y="1663560"/>
            <a:ext cx="34444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Sim, p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+</a:t>
            </a:r>
            <a:r>
              <a:rPr b="1" lang="pt-BR" sz="18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B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=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)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)</a:t>
            </a:r>
            <a:r>
              <a:rPr b="1" lang="pt-BR" sz="24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2558160" y="4425840"/>
            <a:ext cx="698760" cy="787680"/>
          </a:xfrm>
          <a:prstGeom prst="rtTriangl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81920" y="3888360"/>
            <a:ext cx="81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328560" y="4564800"/>
            <a:ext cx="77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304920" y="1047600"/>
          <a:ext cx="6154560" cy="525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47600"/>
                    <a:ext cx="615456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3429000"/>
            <a:ext cx="1695240" cy="1905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495520" y="4352760"/>
            <a:ext cx="133560" cy="133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0800" y="9788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31880" y="1663560"/>
            <a:ext cx="34444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Sim, p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24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2558160" y="4425840"/>
            <a:ext cx="698760" cy="787680"/>
          </a:xfrm>
          <a:prstGeom prst="rtTriangl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81920" y="3888360"/>
            <a:ext cx="81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28560" y="4564800"/>
            <a:ext cx="77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304920" y="1047600"/>
          <a:ext cx="6154560" cy="525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47600"/>
                    <a:ext cx="615456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6520" y="3429000"/>
            <a:ext cx="1695240" cy="1905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95520" y="4352760"/>
            <a:ext cx="133560" cy="133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800" y="9788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89680" y="1663560"/>
            <a:ext cx="380196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Sim, p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24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/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=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2558160" y="4425840"/>
            <a:ext cx="698760" cy="787680"/>
          </a:xfrm>
          <a:prstGeom prst="rtTriangl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81920" y="3888360"/>
            <a:ext cx="81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28560" y="4564800"/>
            <a:ext cx="77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"/>
          <p:cNvGraphicFramePr/>
          <p:nvPr/>
        </p:nvGraphicFramePr>
        <p:xfrm>
          <a:off x="304920" y="1047600"/>
          <a:ext cx="6154560" cy="525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47600"/>
                    <a:ext cx="615456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76520" y="3429000"/>
            <a:ext cx="1695240" cy="1905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95520" y="4352760"/>
            <a:ext cx="133560" cy="133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800" y="9788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89680" y="1663560"/>
            <a:ext cx="380196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Sim, p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24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0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= 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2558160" y="4425840"/>
            <a:ext cx="698760" cy="787680"/>
          </a:xfrm>
          <a:prstGeom prst="rtTriangl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81920" y="3888360"/>
            <a:ext cx="81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28560" y="4564800"/>
            <a:ext cx="77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97040" y="2635200"/>
            <a:ext cx="2289240" cy="860400"/>
          </a:xfrm>
          <a:prstGeom prst="wedgeRoundRectCallout">
            <a:avLst>
              <a:gd name="adj1" fmla="val 62898"/>
              <a:gd name="adj2" fmla="val 143356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ff3300"/>
                </a:solidFill>
                <a:latin typeface="Lucida Console"/>
              </a:rPr>
              <a:t>B = 0, pois 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onsole"/>
              </a:rPr>
              <a:t>assumido que 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onsole"/>
              </a:rPr>
              <a:t>orçamento é fix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6429240" y="3706920"/>
            <a:ext cx="927360" cy="382320"/>
            <a:chOff x="6429240" y="3706920"/>
            <a:chExt cx="927360" cy="382320"/>
          </a:xfrm>
        </p:grpSpPr>
        <p:sp>
          <p:nvSpPr>
            <p:cNvPr id="348" name=""/>
            <p:cNvSpPr/>
            <p:nvPr/>
          </p:nvSpPr>
          <p:spPr>
            <a:xfrm>
              <a:off x="6429240" y="3706920"/>
              <a:ext cx="42876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27840" y="3708360"/>
              <a:ext cx="42876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304920" y="1047600"/>
          <a:ext cx="6154560" cy="525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47600"/>
                    <a:ext cx="615456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76520" y="3429000"/>
            <a:ext cx="1695240" cy="1905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95520" y="4352760"/>
            <a:ext cx="133560" cy="133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0800" y="9788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89680" y="1663560"/>
            <a:ext cx="380196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Sim, p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24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0= 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2558160" y="4425840"/>
            <a:ext cx="698760" cy="787680"/>
          </a:xfrm>
          <a:prstGeom prst="rtTriangl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81920" y="3888360"/>
            <a:ext cx="81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28560" y="4564800"/>
            <a:ext cx="77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234040" y="4690440"/>
            <a:ext cx="2606760" cy="1411560"/>
            <a:chOff x="5234040" y="4690440"/>
            <a:chExt cx="2606760" cy="1411560"/>
          </a:xfrm>
        </p:grpSpPr>
        <p:grpSp>
          <p:nvGrpSpPr>
            <p:cNvPr id="363" name=""/>
            <p:cNvGrpSpPr/>
            <p:nvPr/>
          </p:nvGrpSpPr>
          <p:grpSpPr>
            <a:xfrm>
              <a:off x="5875560" y="5077440"/>
              <a:ext cx="1965240" cy="1024560"/>
              <a:chOff x="5875560" y="5077440"/>
              <a:chExt cx="1965240" cy="1024560"/>
            </a:xfrm>
          </p:grpSpPr>
          <p:sp>
            <p:nvSpPr>
              <p:cNvPr id="364" name=""/>
              <p:cNvSpPr/>
              <p:nvPr/>
            </p:nvSpPr>
            <p:spPr>
              <a:xfrm>
                <a:off x="6185520" y="5591880"/>
                <a:ext cx="813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</a:t>
                </a:r>
                <a:r>
                  <a:rPr b="1" lang="pt-BR" sz="2400" spc="-1" strike="noStrike">
                    <a:solidFill>
                      <a:srgbClr val="3333cc"/>
                    </a:solidFill>
                    <a:latin typeface="Lucida Casual"/>
                  </a:rPr>
                  <a:t>q</a:t>
                </a:r>
                <a:r>
                  <a:rPr b="1" lang="pt-BR" sz="2400" spc="-1" strike="noStrike" baseline="-25000">
                    <a:solidFill>
                      <a:srgbClr val="3333cc"/>
                    </a:solidFill>
                    <a:latin typeface="Lucida Casual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214680" y="5077440"/>
                <a:ext cx="770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</a:t>
                </a:r>
                <a:r>
                  <a:rPr b="1" lang="pt-BR" sz="2400" spc="-1" strike="noStrike">
                    <a:solidFill>
                      <a:srgbClr val="3333cc"/>
                    </a:solidFill>
                    <a:latin typeface="Lucida Casual"/>
                  </a:rPr>
                  <a:t>q</a:t>
                </a:r>
                <a:r>
                  <a:rPr b="1" lang="pt-BR" sz="2400" spc="-1" strike="noStrike" baseline="-25000">
                    <a:solidFill>
                      <a:srgbClr val="3333cc"/>
                    </a:solidFill>
                    <a:latin typeface="Lucida Casual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75560" y="53064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3333cc"/>
                    </a:solidFill>
                    <a:latin typeface="Arial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10360" y="5608800"/>
                <a:ext cx="772920" cy="14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346520" y="5553720"/>
                <a:ext cx="432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3333cc"/>
                    </a:solidFill>
                    <a:latin typeface="Lucida Casual"/>
                  </a:rPr>
                  <a:t>p</a:t>
                </a:r>
                <a:r>
                  <a:rPr b="1" lang="pt-BR" sz="2400" spc="-1" strike="noStrike" baseline="-25000">
                    <a:solidFill>
                      <a:srgbClr val="3333cc"/>
                    </a:solidFill>
                    <a:latin typeface="Lucida Casual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14480" y="5096520"/>
                <a:ext cx="474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3333cc"/>
                    </a:solidFill>
                    <a:latin typeface="Lucida Casual"/>
                  </a:rPr>
                  <a:t>p</a:t>
                </a:r>
                <a:r>
                  <a:rPr b="1" lang="pt-BR" sz="2400" spc="-1" strike="noStrike" baseline="-25000">
                    <a:solidFill>
                      <a:srgbClr val="3333cc"/>
                    </a:solidFill>
                    <a:latin typeface="Lucida Casual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288200" y="5618160"/>
                <a:ext cx="5526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994080" y="53694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3333cc"/>
                    </a:solidFill>
                    <a:latin typeface="Lucida Casu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5234040" y="4690440"/>
              <a:ext cx="109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Ou seja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304920" y="1047600"/>
          <a:ext cx="6154560" cy="525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47600"/>
                    <a:ext cx="615456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76520" y="3429000"/>
            <a:ext cx="1695240" cy="1905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5520" y="4352760"/>
            <a:ext cx="133560" cy="133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0800" y="9788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086440" y="1600200"/>
            <a:ext cx="3752640" cy="1257480"/>
          </a:xfrm>
          <a:prstGeom prst="wedgeRoundRectCallout">
            <a:avLst>
              <a:gd name="adj1" fmla="val -114467"/>
              <a:gd name="adj2" fmla="val 170328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Haverá alguma rel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entre quantidades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preços no ponto de ótim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26680" y="382176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Sim. A relação 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24800" y="3162240"/>
            <a:ext cx="485640" cy="538200"/>
          </a:xfrm>
          <a:prstGeom prst="downArrow">
            <a:avLst>
              <a:gd name="adj1" fmla="val 50000"/>
              <a:gd name="adj2" fmla="val 2770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997960" y="4482000"/>
            <a:ext cx="1964520" cy="1024200"/>
            <a:chOff x="5997960" y="4482000"/>
            <a:chExt cx="1964520" cy="1024200"/>
          </a:xfrm>
        </p:grpSpPr>
        <p:sp>
          <p:nvSpPr>
            <p:cNvPr id="385" name=""/>
            <p:cNvSpPr/>
            <p:nvPr/>
          </p:nvSpPr>
          <p:spPr>
            <a:xfrm>
              <a:off x="6307560" y="4996080"/>
              <a:ext cx="81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</a:t>
              </a: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36720" y="4482000"/>
              <a:ext cx="77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</a:t>
              </a: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97960" y="4710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Arial"/>
                </a:rPr>
                <a:t>_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32400" y="5013360"/>
              <a:ext cx="772560" cy="1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468560" y="4957920"/>
              <a:ext cx="43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p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36160" y="4500720"/>
              <a:ext cx="47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p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410240" y="5022720"/>
              <a:ext cx="5522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16120" y="4773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3160" y="1676520"/>
            <a:ext cx="8272800" cy="35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ominar os conceitos fundamentais da Teoria Econômica que perm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  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analisar o comportamento do consumidor de forma 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aracterizar os conceito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unção de Ut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urva de Indifere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Restrição de Orç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1143000" y="304920"/>
          <a:ext cx="7648560" cy="62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764856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 flipH="1">
            <a:off x="2819160" y="4932360"/>
            <a:ext cx="1407960" cy="14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2841120" y="3692160"/>
            <a:ext cx="685800" cy="32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3561840" y="3676680"/>
            <a:ext cx="9720" cy="16732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4224240" y="4937040"/>
            <a:ext cx="0" cy="4255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3540960" y="3699000"/>
            <a:ext cx="685800" cy="1247760"/>
          </a:xfrm>
          <a:prstGeom prst="rtTriangl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476520" y="362916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24760" y="3193200"/>
            <a:ext cx="81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252680" y="3964680"/>
            <a:ext cx="77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80200" y="916560"/>
            <a:ext cx="62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Outra forma de expressar a otim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1143000" y="304920"/>
          <a:ext cx="7648560" cy="62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764856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"/>
          <p:cNvSpPr/>
          <p:nvPr/>
        </p:nvSpPr>
        <p:spPr>
          <a:xfrm flipH="1">
            <a:off x="2840040" y="4791240"/>
            <a:ext cx="19620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02040" y="4780080"/>
            <a:ext cx="0" cy="5666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4848120" y="4791240"/>
            <a:ext cx="1524240" cy="380880"/>
          </a:xfrm>
          <a:prstGeom prst="rtTriangl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4000" y="470520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286960" y="4250520"/>
            <a:ext cx="81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414840" y="4717080"/>
            <a:ext cx="77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02040" y="4791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2876400" y="5184720"/>
            <a:ext cx="3463920" cy="1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375240" y="5175360"/>
            <a:ext cx="3240" cy="1555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780200" y="916560"/>
            <a:ext cx="62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Outra forma de expressar a otim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 flipH="1">
            <a:off x="2819520" y="3886200"/>
            <a:ext cx="76176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41760" y="3932280"/>
            <a:ext cx="15840" cy="14176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123920" y="324000"/>
          <a:ext cx="7648560" cy="62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324000"/>
                    <a:ext cx="764856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 flipH="1" flipV="1">
            <a:off x="3656880" y="3885480"/>
            <a:ext cx="685800" cy="1143000"/>
          </a:xfrm>
          <a:prstGeom prst="rtTriangl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1280" y="3809880"/>
            <a:ext cx="15264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72640" y="3326400"/>
            <a:ext cx="81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59680" y="194364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Defini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55600" y="3060000"/>
            <a:ext cx="81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584760" y="2545560"/>
            <a:ext cx="77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63480" y="283752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TMgS =</a:t>
            </a: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591240" y="3067200"/>
            <a:ext cx="762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76520" y="4145760"/>
            <a:ext cx="77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07360" y="885240"/>
            <a:ext cx="55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Taxa Marginal de Substit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2835360" y="4997160"/>
            <a:ext cx="1488960" cy="32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327560" y="4998960"/>
            <a:ext cx="0" cy="3812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304920" y="1047600"/>
          <a:ext cx="6154560" cy="525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47600"/>
                    <a:ext cx="615456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3429000"/>
            <a:ext cx="1695240" cy="1905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495520" y="4352760"/>
            <a:ext cx="133560" cy="133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0800" y="9788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89680" y="1663560"/>
            <a:ext cx="380196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Sim, p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24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0= 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= 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-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M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2558160" y="4425840"/>
            <a:ext cx="698760" cy="787680"/>
          </a:xfrm>
          <a:prstGeom prst="rtTriangl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81920" y="3888360"/>
            <a:ext cx="81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68440" y="4350600"/>
            <a:ext cx="77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6203880" y="4491000"/>
            <a:ext cx="943200" cy="1101600"/>
            <a:chOff x="6203880" y="4491000"/>
            <a:chExt cx="943200" cy="1101600"/>
          </a:xfrm>
        </p:grpSpPr>
        <p:sp>
          <p:nvSpPr>
            <p:cNvPr id="454" name=""/>
            <p:cNvSpPr/>
            <p:nvPr/>
          </p:nvSpPr>
          <p:spPr>
            <a:xfrm>
              <a:off x="6222960" y="4491000"/>
              <a:ext cx="0" cy="141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6203880" y="4638600"/>
              <a:ext cx="943200" cy="954000"/>
              <a:chOff x="6203880" y="4638600"/>
              <a:chExt cx="943200" cy="954000"/>
            </a:xfrm>
          </p:grpSpPr>
          <p:sp>
            <p:nvSpPr>
              <p:cNvPr id="456" name=""/>
              <p:cNvSpPr/>
              <p:nvPr/>
            </p:nvSpPr>
            <p:spPr>
              <a:xfrm>
                <a:off x="6203880" y="4678200"/>
                <a:ext cx="925560" cy="914400"/>
              </a:xfrm>
              <a:prstGeom prst="upArrowCallout">
                <a:avLst>
                  <a:gd name="adj1" fmla="val 25307"/>
                  <a:gd name="adj2" fmla="val 25305"/>
                  <a:gd name="adj3" fmla="val 16667"/>
                  <a:gd name="adj4" fmla="val 66660"/>
                </a:avLst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3333cc"/>
                    </a:solidFill>
                    <a:latin typeface="Lucida Casual"/>
                  </a:rPr>
                  <a:t>-TMg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218280" y="4638600"/>
                <a:ext cx="9288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 flipV="1">
              <a:off x="7147080" y="4500360"/>
              <a:ext cx="0" cy="137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304920" y="1047600"/>
          <a:ext cx="6154560" cy="525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47600"/>
                    <a:ext cx="615456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76520" y="3429000"/>
            <a:ext cx="1695240" cy="1905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495520" y="4352760"/>
            <a:ext cx="133560" cy="133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0800" y="9788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89680" y="1663560"/>
            <a:ext cx="380196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Sim, p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24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0= 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= 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-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TM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2558160" y="4425840"/>
            <a:ext cx="698760" cy="787680"/>
          </a:xfrm>
          <a:prstGeom prst="rtTriangl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81920" y="3888360"/>
            <a:ext cx="81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328560" y="4564800"/>
            <a:ext cx="77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5536440" y="4755240"/>
            <a:ext cx="3036240" cy="1024560"/>
            <a:chOff x="5536440" y="4755240"/>
            <a:chExt cx="3036240" cy="1024560"/>
          </a:xfrm>
        </p:grpSpPr>
        <p:sp>
          <p:nvSpPr>
            <p:cNvPr id="471" name=""/>
            <p:cNvSpPr/>
            <p:nvPr/>
          </p:nvSpPr>
          <p:spPr>
            <a:xfrm>
              <a:off x="6917400" y="5269680"/>
              <a:ext cx="81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</a:t>
              </a: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946560" y="4755240"/>
              <a:ext cx="77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</a:t>
              </a: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36440" y="502812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TMgS =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953400" y="5276880"/>
              <a:ext cx="7617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078400" y="5231520"/>
              <a:ext cx="43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p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46360" y="4774320"/>
              <a:ext cx="47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p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020080" y="5295960"/>
              <a:ext cx="5526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725960" y="5047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304920" y="1047600"/>
          <a:ext cx="6154560" cy="525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47600"/>
                    <a:ext cx="615456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76520" y="3429000"/>
            <a:ext cx="1695240" cy="1905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5520" y="4352760"/>
            <a:ext cx="133560" cy="133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0800" y="9788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086440" y="1600200"/>
            <a:ext cx="3752640" cy="1257480"/>
          </a:xfrm>
          <a:prstGeom prst="wedgeRoundRectCallout">
            <a:avLst>
              <a:gd name="adj1" fmla="val -114467"/>
              <a:gd name="adj2" fmla="val 170328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Haverá alguma rel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entre quantidades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preços no ponto de ótim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926680" y="382176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Sim. A relação 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24800" y="3162240"/>
            <a:ext cx="485640" cy="538200"/>
          </a:xfrm>
          <a:prstGeom prst="downArrow">
            <a:avLst>
              <a:gd name="adj1" fmla="val 50000"/>
              <a:gd name="adj2" fmla="val 2770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574240" y="4545720"/>
            <a:ext cx="3035880" cy="1024560"/>
            <a:chOff x="5574240" y="4545720"/>
            <a:chExt cx="3035880" cy="1024560"/>
          </a:xfrm>
        </p:grpSpPr>
        <p:sp>
          <p:nvSpPr>
            <p:cNvPr id="491" name=""/>
            <p:cNvSpPr/>
            <p:nvPr/>
          </p:nvSpPr>
          <p:spPr>
            <a:xfrm>
              <a:off x="6954840" y="5060160"/>
              <a:ext cx="81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</a:t>
              </a: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84360" y="4545720"/>
              <a:ext cx="77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</a:t>
              </a: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74240" y="48186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TMgS =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91200" y="5067360"/>
              <a:ext cx="7614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116200" y="5022000"/>
              <a:ext cx="43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p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83800" y="4564800"/>
              <a:ext cx="47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p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057880" y="5086440"/>
              <a:ext cx="5522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63760" y="4837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17560" y="1054800"/>
            <a:ext cx="42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Interpretação de TM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51800" y="317052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As variações nas quantidades demand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são 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inversamente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 proporcionais aos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3231360" y="1840680"/>
            <a:ext cx="3036240" cy="1024560"/>
            <a:chOff x="3231360" y="1840680"/>
            <a:chExt cx="3036240" cy="1024560"/>
          </a:xfrm>
        </p:grpSpPr>
        <p:sp>
          <p:nvSpPr>
            <p:cNvPr id="505" name=""/>
            <p:cNvSpPr/>
            <p:nvPr/>
          </p:nvSpPr>
          <p:spPr>
            <a:xfrm>
              <a:off x="4612320" y="2355120"/>
              <a:ext cx="81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</a:t>
              </a: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41480" y="1840680"/>
              <a:ext cx="77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</a:t>
              </a: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31360" y="211356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TMgS =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48320" y="2362320"/>
              <a:ext cx="7617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73320" y="2316960"/>
              <a:ext cx="43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p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41280" y="1859760"/>
              <a:ext cx="47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p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15000" y="2381400"/>
              <a:ext cx="5526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20880" y="2132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617560" y="1054800"/>
            <a:ext cx="42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Interpretação de TM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351800" y="317052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As variações nas quantidades demand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são inversamente proporcionais aos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320120" y="4140360"/>
            <a:ext cx="3190680" cy="19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= R$ 2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= R$ 5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MgS=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oporção de 2 q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para 1 q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091840" y="4159080"/>
            <a:ext cx="3190680" cy="19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= R$ 5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= R$ 5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MgS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oporção de 1 q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para 1 q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3231360" y="1840680"/>
            <a:ext cx="3036240" cy="1024560"/>
            <a:chOff x="3231360" y="1840680"/>
            <a:chExt cx="3036240" cy="1024560"/>
          </a:xfrm>
        </p:grpSpPr>
        <p:sp>
          <p:nvSpPr>
            <p:cNvPr id="521" name=""/>
            <p:cNvSpPr/>
            <p:nvPr/>
          </p:nvSpPr>
          <p:spPr>
            <a:xfrm>
              <a:off x="4612320" y="2355120"/>
              <a:ext cx="81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</a:t>
              </a:r>
              <a:r>
                <a:rPr b="1" lang="pt-BR" sz="2400" spc="-1" strike="noStrike">
                  <a:solidFill>
                    <a:srgbClr val="808080"/>
                  </a:solidFill>
                  <a:latin typeface="Lucida Casual"/>
                </a:rPr>
                <a:t>q</a:t>
              </a:r>
              <a:r>
                <a:rPr b="1" lang="pt-BR" sz="2400" spc="-1" strike="noStrike" baseline="-25000">
                  <a:solidFill>
                    <a:srgbClr val="808080"/>
                  </a:solidFill>
                  <a:latin typeface="Lucida Casu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41480" y="1840680"/>
              <a:ext cx="77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</a:t>
              </a:r>
              <a:r>
                <a:rPr b="1" lang="pt-BR" sz="2400" spc="-1" strike="noStrike">
                  <a:solidFill>
                    <a:srgbClr val="808080"/>
                  </a:solidFill>
                  <a:latin typeface="Lucida Casual"/>
                </a:rPr>
                <a:t>q</a:t>
              </a:r>
              <a:r>
                <a:rPr b="1" lang="pt-BR" sz="2400" spc="-1" strike="noStrike" baseline="-25000">
                  <a:solidFill>
                    <a:srgbClr val="808080"/>
                  </a:solidFill>
                  <a:latin typeface="Lucida Casu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231360" y="211356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808080"/>
                  </a:solidFill>
                  <a:latin typeface="Lucida Casual"/>
                </a:rPr>
                <a:t>TMgS =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48320" y="2362320"/>
              <a:ext cx="7617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73320" y="2316960"/>
              <a:ext cx="43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808080"/>
                  </a:solidFill>
                  <a:latin typeface="Lucida Casual"/>
                </a:rPr>
                <a:t>p</a:t>
              </a:r>
              <a:r>
                <a:rPr b="1" lang="pt-BR" sz="2400" spc="-1" strike="noStrike" baseline="-25000">
                  <a:solidFill>
                    <a:srgbClr val="808080"/>
                  </a:solidFill>
                  <a:latin typeface="Lucida Casu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41280" y="1859760"/>
              <a:ext cx="47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808080"/>
                  </a:solidFill>
                  <a:latin typeface="Lucida Casual"/>
                </a:rPr>
                <a:t>p</a:t>
              </a:r>
              <a:r>
                <a:rPr b="1" lang="pt-BR" sz="2400" spc="-1" strike="noStrike" baseline="-25000">
                  <a:solidFill>
                    <a:srgbClr val="808080"/>
                  </a:solidFill>
                  <a:latin typeface="Lucida Casu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15000" y="2381400"/>
              <a:ext cx="5526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20880" y="2132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808080"/>
                  </a:solidFill>
                  <a:latin typeface="Lucida Casu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547080" y="105480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3.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38160" y="2041560"/>
            <a:ext cx="7529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As escolas E1 e E2 já possuem 100 jogos interativos e 100 livr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eletrônicos cada um. As TMgS em torno deste ponto s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TMgS de E1 = -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TMgS de E2 = -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a) Qual das escolas E1 e E2 dá 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mais valor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 ao livro do que ao jog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b) Se uma empresa oferece trocar 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8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jogos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 por 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6 livros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, algu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escola vai aceitar tal proposta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537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2960" y="1371600"/>
            <a:ext cx="71622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PROBL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o medir a satisfação de uma pessoa em possuir um c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m ou receber um determinado serviç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5951520" y="2370240"/>
            <a:ext cx="1806480" cy="2398680"/>
          </a:xfrm>
          <a:custGeom>
            <a:avLst/>
            <a:gdLst/>
            <a:ahLst/>
            <a:rect l="l" t="t" r="r" b="b"/>
            <a:pathLst>
              <a:path w="1138" h="1511">
                <a:moveTo>
                  <a:pt x="0" y="0"/>
                </a:moveTo>
                <a:cubicBezTo>
                  <a:pt x="58" y="171"/>
                  <a:pt x="116" y="343"/>
                  <a:pt x="177" y="485"/>
                </a:cubicBezTo>
                <a:cubicBezTo>
                  <a:pt x="238" y="627"/>
                  <a:pt x="301" y="744"/>
                  <a:pt x="365" y="849"/>
                </a:cubicBezTo>
                <a:cubicBezTo>
                  <a:pt x="429" y="954"/>
                  <a:pt x="488" y="1037"/>
                  <a:pt x="563" y="1118"/>
                </a:cubicBezTo>
                <a:cubicBezTo>
                  <a:pt x="638" y="1199"/>
                  <a:pt x="722" y="1271"/>
                  <a:pt x="818" y="1336"/>
                </a:cubicBezTo>
                <a:cubicBezTo>
                  <a:pt x="914" y="1401"/>
                  <a:pt x="1071" y="1475"/>
                  <a:pt x="1138" y="1511"/>
                </a:cubicBezTo>
              </a:path>
            </a:pathLst>
          </a:cu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42080" y="916920"/>
            <a:ext cx="46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rreção do Exercício 3.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4297320" y="2104920"/>
            <a:ext cx="0" cy="31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08600" y="4998240"/>
            <a:ext cx="39924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59080" y="3139920"/>
            <a:ext cx="208944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6230520" y="3149640"/>
            <a:ext cx="9720" cy="18525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13960" y="2956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onsole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8320" y="1888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536000" y="20422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j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763040" y="50299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912080" y="51840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liv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64360" y="3170160"/>
            <a:ext cx="547560" cy="54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86600" y="3108240"/>
            <a:ext cx="91800" cy="92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64360" y="3200400"/>
            <a:ext cx="25884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4175280" y="3703680"/>
            <a:ext cx="2606400" cy="14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58680" y="3521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onsole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6513120" y="3700440"/>
            <a:ext cx="1800" cy="12891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6802560" y="3713040"/>
            <a:ext cx="1440" cy="12733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600520" y="4998960"/>
            <a:ext cx="631800" cy="2682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00880" y="5272200"/>
            <a:ext cx="1440" cy="1378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11920" y="5013360"/>
            <a:ext cx="417600" cy="280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7214760" y="5278320"/>
            <a:ext cx="1800" cy="1382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20440" y="5387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onsole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868000" y="5379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onsole"/>
              </a:rPr>
              <a:t>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936480" y="5373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onsole"/>
              </a:rPr>
              <a:t>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89680" y="2857680"/>
            <a:ext cx="479520" cy="365040"/>
          </a:xfrm>
          <a:prstGeom prst="wedgeRoundRectCallout">
            <a:avLst>
              <a:gd name="adj1" fmla="val -110263"/>
              <a:gd name="adj2" fmla="val 121305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onsole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03880" y="3914640"/>
            <a:ext cx="479520" cy="365400"/>
          </a:xfrm>
          <a:prstGeom prst="wedgeRoundRectCallout">
            <a:avLst>
              <a:gd name="adj1" fmla="val 182120"/>
              <a:gd name="adj2" fmla="val -164347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onsole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608880" y="3664080"/>
            <a:ext cx="75960" cy="777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691240" y="2367000"/>
            <a:ext cx="2181240" cy="1940040"/>
          </a:xfrm>
          <a:custGeom>
            <a:avLst/>
            <a:gdLst/>
            <a:ahLst/>
            <a:rect l="l" t="t" r="r" b="b"/>
            <a:pathLst>
              <a:path w="1374" h="1222">
                <a:moveTo>
                  <a:pt x="0" y="0"/>
                </a:moveTo>
                <a:cubicBezTo>
                  <a:pt x="57" y="80"/>
                  <a:pt x="225" y="344"/>
                  <a:pt x="342" y="487"/>
                </a:cubicBezTo>
                <a:cubicBezTo>
                  <a:pt x="459" y="630"/>
                  <a:pt x="611" y="770"/>
                  <a:pt x="705" y="858"/>
                </a:cubicBezTo>
                <a:cubicBezTo>
                  <a:pt x="799" y="946"/>
                  <a:pt x="830" y="967"/>
                  <a:pt x="909" y="1018"/>
                </a:cubicBezTo>
                <a:cubicBezTo>
                  <a:pt x="988" y="1069"/>
                  <a:pt x="1100" y="1130"/>
                  <a:pt x="1178" y="1164"/>
                </a:cubicBezTo>
                <a:cubicBezTo>
                  <a:pt x="1256" y="1198"/>
                  <a:pt x="1333" y="1210"/>
                  <a:pt x="1374" y="1222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6651720" y="3738600"/>
            <a:ext cx="1440" cy="163188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6126120" y="4998960"/>
            <a:ext cx="380880" cy="2509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26120" y="5264280"/>
            <a:ext cx="1800" cy="1378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381000" y="5366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1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17680" y="1981080"/>
            <a:ext cx="2546280" cy="1706760"/>
            <a:chOff x="517680" y="1981080"/>
            <a:chExt cx="2546280" cy="1706760"/>
          </a:xfrm>
        </p:grpSpPr>
        <p:sp>
          <p:nvSpPr>
            <p:cNvPr id="578" name=""/>
            <p:cNvSpPr/>
            <p:nvPr/>
          </p:nvSpPr>
          <p:spPr>
            <a:xfrm>
              <a:off x="517680" y="1981080"/>
              <a:ext cx="2546280" cy="17067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096280" y="3042360"/>
              <a:ext cx="81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</a:t>
              </a:r>
              <a:r>
                <a:rPr b="1" lang="pt-BR" sz="2400" spc="-1" strike="noStrike">
                  <a:solidFill>
                    <a:srgbClr val="008000"/>
                  </a:solidFill>
                  <a:latin typeface="Lucida Casual"/>
                </a:rPr>
                <a:t>q</a:t>
              </a:r>
              <a:r>
                <a:rPr b="1" lang="pt-BR" sz="2400" spc="-1" strike="noStrike" baseline="-25000">
                  <a:solidFill>
                    <a:srgbClr val="008000"/>
                  </a:solidFill>
                  <a:latin typeface="Lucida Casu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125440" y="2527920"/>
              <a:ext cx="77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</a:t>
              </a:r>
              <a:r>
                <a:rPr b="1" lang="pt-BR" sz="2400" spc="-1" strike="noStrike">
                  <a:solidFill>
                    <a:srgbClr val="008000"/>
                  </a:solidFill>
                  <a:latin typeface="Lucida Casual"/>
                </a:rPr>
                <a:t>q</a:t>
              </a:r>
              <a:r>
                <a:rPr b="1" lang="pt-BR" sz="2400" spc="-1" strike="noStrike" baseline="-25000">
                  <a:solidFill>
                    <a:srgbClr val="008000"/>
                  </a:solidFill>
                  <a:latin typeface="Lucida Casu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15320" y="28008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8000"/>
                  </a:solidFill>
                  <a:latin typeface="Lucida Casual"/>
                </a:rPr>
                <a:t>TMgS =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31920" y="3049560"/>
              <a:ext cx="7621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45720" y="21024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Lucida Casual"/>
                </a:rPr>
                <a:t>Utiliz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32960" y="1371600"/>
            <a:ext cx="71622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PROBL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omo medir a satisfação de uma pessoa em possuir um c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em ou receber um determinado serviç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15320" y="4479840"/>
            <a:ext cx="7841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PROBLEMA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Variando o preço de um dado bem, como se alteraria a quantid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ste bem que a massa de consumidores desejaria compr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8640" y="2932200"/>
            <a:ext cx="7453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PROBLEM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ual a proporção de bens e serviços desejados pelo 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uando este é informado sobre o preç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0" name=""/>
          <p:cNvGraphicFramePr/>
          <p:nvPr/>
        </p:nvGraphicFramePr>
        <p:xfrm>
          <a:off x="0" y="914400"/>
          <a:ext cx="6154560" cy="52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615456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390680" y="3772080"/>
            <a:ext cx="2247840" cy="1438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001680" y="92160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feito do Preç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276600" y="1617480"/>
            <a:ext cx="145008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Origi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= R$ 2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= R$ 5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=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=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400480" y="4400640"/>
            <a:ext cx="152280" cy="142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9" name=""/>
          <p:cNvGraphicFramePr/>
          <p:nvPr/>
        </p:nvGraphicFramePr>
        <p:xfrm>
          <a:off x="0" y="914400"/>
          <a:ext cx="6154560" cy="52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615456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90680" y="3772080"/>
            <a:ext cx="2247840" cy="1438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001680" y="92160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feito do Preç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258960" y="1617480"/>
            <a:ext cx="145008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Origi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 = R$ 2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= R$ 5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=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=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54920" y="3830760"/>
            <a:ext cx="204768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umento de p</a:t>
            </a:r>
            <a:r>
              <a:rPr b="1" lang="pt-BR" sz="20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 = R$ 5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= R$ 5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=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=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redução de 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00480" y="4400640"/>
            <a:ext cx="152280" cy="142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3772080"/>
            <a:ext cx="1104840" cy="1390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895400" y="4457880"/>
            <a:ext cx="16200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1" name=""/>
          <p:cNvGraphicFramePr/>
          <p:nvPr/>
        </p:nvGraphicFramePr>
        <p:xfrm>
          <a:off x="2322360" y="3919680"/>
          <a:ext cx="3892680" cy="268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2360" y="3919680"/>
                    <a:ext cx="38926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3" name=""/>
          <p:cNvGrpSpPr/>
          <p:nvPr/>
        </p:nvGrpSpPr>
        <p:grpSpPr>
          <a:xfrm>
            <a:off x="2451240" y="3770280"/>
            <a:ext cx="2485800" cy="1338120"/>
            <a:chOff x="2451240" y="3770280"/>
            <a:chExt cx="2485800" cy="1338120"/>
          </a:xfrm>
        </p:grpSpPr>
        <p:sp>
          <p:nvSpPr>
            <p:cNvPr id="614" name=""/>
            <p:cNvSpPr/>
            <p:nvPr/>
          </p:nvSpPr>
          <p:spPr>
            <a:xfrm>
              <a:off x="4937040" y="3770280"/>
              <a:ext cx="0" cy="2937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477880" y="4064040"/>
              <a:ext cx="24397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78240" y="4041720"/>
              <a:ext cx="0" cy="10587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51240" y="5108400"/>
              <a:ext cx="14824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2468520" y="3770280"/>
            <a:ext cx="4363920" cy="1725480"/>
            <a:chOff x="2468520" y="3770280"/>
            <a:chExt cx="4363920" cy="1725480"/>
          </a:xfrm>
        </p:grpSpPr>
        <p:sp>
          <p:nvSpPr>
            <p:cNvPr id="619" name=""/>
            <p:cNvSpPr/>
            <p:nvPr/>
          </p:nvSpPr>
          <p:spPr>
            <a:xfrm>
              <a:off x="6811920" y="3770280"/>
              <a:ext cx="0" cy="2937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2484360" y="4064040"/>
              <a:ext cx="43480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2476440" y="4041720"/>
              <a:ext cx="7920" cy="14540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2468520" y="5473440"/>
              <a:ext cx="2441520" cy="6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3" name=""/>
          <p:cNvGraphicFramePr/>
          <p:nvPr/>
        </p:nvGraphicFramePr>
        <p:xfrm>
          <a:off x="1620720" y="1166760"/>
          <a:ext cx="645012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0720" y="1166760"/>
                    <a:ext cx="645012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29040" y="2322360"/>
            <a:ext cx="928440" cy="14065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41640" y="2305080"/>
            <a:ext cx="1893960" cy="14446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029040" y="2322360"/>
            <a:ext cx="3798720" cy="1433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921120" y="5046840"/>
            <a:ext cx="101520" cy="101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29000" y="4378320"/>
            <a:ext cx="101520" cy="101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96000" y="5411880"/>
            <a:ext cx="101520" cy="101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911760" y="2952720"/>
            <a:ext cx="101520" cy="101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424320" y="2944800"/>
            <a:ext cx="101520" cy="101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869000" y="2979720"/>
            <a:ext cx="101520" cy="101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991200" y="4248000"/>
            <a:ext cx="914400" cy="609840"/>
          </a:xfrm>
          <a:prstGeom prst="wedgeRoundRectCallout">
            <a:avLst>
              <a:gd name="adj1" fmla="val -70833"/>
              <a:gd name="adj2" fmla="val -126824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B/p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756480" y="3706920"/>
            <a:ext cx="101520" cy="101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37240" y="90252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648400" y="1924200"/>
            <a:ext cx="914400" cy="609480"/>
          </a:xfrm>
          <a:prstGeom prst="wedgeRoundRectCallout">
            <a:avLst>
              <a:gd name="adj1" fmla="val -120833"/>
              <a:gd name="adj2" fmla="val 123175"/>
              <a:gd name="adj3" fmla="val 16667"/>
            </a:avLst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Ót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3475080" y="3048120"/>
            <a:ext cx="1469880" cy="2369520"/>
            <a:chOff x="3475080" y="3048120"/>
            <a:chExt cx="1469880" cy="2369520"/>
          </a:xfrm>
        </p:grpSpPr>
        <p:sp>
          <p:nvSpPr>
            <p:cNvPr id="642" name=""/>
            <p:cNvSpPr/>
            <p:nvPr/>
          </p:nvSpPr>
          <p:spPr>
            <a:xfrm>
              <a:off x="3475080" y="3048120"/>
              <a:ext cx="0" cy="1342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62520" y="3048120"/>
              <a:ext cx="0" cy="1992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929120" y="3093480"/>
              <a:ext cx="15840" cy="2324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2469960" y="3770280"/>
            <a:ext cx="1492200" cy="704880"/>
            <a:chOff x="2469960" y="3770280"/>
            <a:chExt cx="1492200" cy="704880"/>
          </a:xfrm>
        </p:grpSpPr>
        <p:sp>
          <p:nvSpPr>
            <p:cNvPr id="646" name=""/>
            <p:cNvSpPr/>
            <p:nvPr/>
          </p:nvSpPr>
          <p:spPr>
            <a:xfrm>
              <a:off x="3957480" y="3770280"/>
              <a:ext cx="0" cy="2937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2469960" y="4029120"/>
              <a:ext cx="1492200" cy="126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70320" y="4019400"/>
              <a:ext cx="0" cy="4557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481120" y="4444920"/>
              <a:ext cx="91296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64480" y="1111320"/>
            <a:ext cx="7841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PROBLEMA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Variando o preço de um dado bem, como se alteraria a quantid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este bem que a massa de consumidores desejaria compr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103560" y="3274920"/>
            <a:ext cx="1440" cy="233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046320" y="5610240"/>
            <a:ext cx="5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046320" y="5216400"/>
            <a:ext cx="57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046320" y="4835520"/>
            <a:ext cx="57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046320" y="4441680"/>
            <a:ext cx="57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46320" y="4049640"/>
            <a:ext cx="57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046320" y="3668760"/>
            <a:ext cx="57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046320" y="3274920"/>
            <a:ext cx="57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03560" y="5610240"/>
            <a:ext cx="3727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3103560" y="5609880"/>
            <a:ext cx="144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720960" y="5609880"/>
            <a:ext cx="180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4351320" y="5609880"/>
            <a:ext cx="144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4968720" y="5609880"/>
            <a:ext cx="180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5584680" y="5609880"/>
            <a:ext cx="180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6213600" y="5609880"/>
            <a:ext cx="144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6831000" y="5609880"/>
            <a:ext cx="144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73160" y="5500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73160" y="5106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873160" y="4727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873160" y="4334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873160" y="3940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84240" y="35607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784240" y="31669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058920" y="5799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76320" y="5799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258800" y="5799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876560" y="5799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493960" y="5799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125760" y="5799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740280" y="5799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940560" y="6059520"/>
            <a:ext cx="182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onsole"/>
              </a:rPr>
              <a:t>Quantidade d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rot="16200000">
            <a:off x="1910520" y="4197960"/>
            <a:ext cx="122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onsole"/>
              </a:rPr>
              <a:t>Preço d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181320" y="26740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onsole"/>
              </a:rPr>
              <a:t>Curva de Demanda (de 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448080" y="3409920"/>
            <a:ext cx="2990880" cy="1866960"/>
          </a:xfrm>
          <a:custGeom>
            <a:avLst/>
            <a:gdLst/>
            <a:ahLst/>
            <a:rect l="l" t="t" r="r" b="b"/>
            <a:pathLst>
              <a:path w="1884" h="1176">
                <a:moveTo>
                  <a:pt x="0" y="0"/>
                </a:moveTo>
                <a:cubicBezTo>
                  <a:pt x="113" y="268"/>
                  <a:pt x="226" y="536"/>
                  <a:pt x="540" y="732"/>
                </a:cubicBezTo>
                <a:cubicBezTo>
                  <a:pt x="854" y="928"/>
                  <a:pt x="1660" y="1102"/>
                  <a:pt x="1884" y="117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49960" y="1695600"/>
            <a:ext cx="380592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Lucida Casual"/>
              </a:rPr>
              <a:t>Recapit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Função de Ut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urva de Indiferen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estrição de Orç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Deman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54280" y="105480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3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02080" y="1692360"/>
            <a:ext cx="73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Esboçar a curva de demanda por 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livros eletrônicos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, sabendo-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que: Preço_Jogo = R$ 1,00 e Orçamento = R$ 120,00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1662120" y="24840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432080" y="573084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39720" y="312408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38880" y="29408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onsole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5608800" y="3230640"/>
          <a:ext cx="2315880" cy="147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8800" y="3230640"/>
                    <a:ext cx="23158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"/>
          <p:cNvSpPr/>
          <p:nvPr/>
        </p:nvSpPr>
        <p:spPr>
          <a:xfrm>
            <a:off x="1815480" y="24076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onsole"/>
              </a:rPr>
              <a:t>Qtd_J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808880" y="5228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Qtd_Liv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17600" y="56768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789280" y="56768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44760" y="56768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02040" y="56768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457880" y="568476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05920" y="5798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682440" y="5798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141000" y="5792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38280" y="5798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63200" y="5798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onsole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970360" y="3765600"/>
            <a:ext cx="1465200" cy="1355760"/>
          </a:xfrm>
          <a:custGeom>
            <a:avLst/>
            <a:gdLst/>
            <a:ahLst/>
            <a:rect l="l" t="t" r="r" b="b"/>
            <a:pathLst>
              <a:path w="923" h="854">
                <a:moveTo>
                  <a:pt x="0" y="0"/>
                </a:moveTo>
                <a:cubicBezTo>
                  <a:pt x="26" y="69"/>
                  <a:pt x="88" y="307"/>
                  <a:pt x="154" y="422"/>
                </a:cubicBezTo>
                <a:cubicBezTo>
                  <a:pt x="220" y="537"/>
                  <a:pt x="266" y="619"/>
                  <a:pt x="394" y="691"/>
                </a:cubicBezTo>
                <a:cubicBezTo>
                  <a:pt x="522" y="763"/>
                  <a:pt x="813" y="820"/>
                  <a:pt x="923" y="8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712960" y="3946680"/>
            <a:ext cx="1417680" cy="1311120"/>
          </a:xfrm>
          <a:custGeom>
            <a:avLst/>
            <a:gdLst/>
            <a:ahLst/>
            <a:rect l="l" t="t" r="r" b="b"/>
            <a:pathLst>
              <a:path w="893" h="826">
                <a:moveTo>
                  <a:pt x="0" y="0"/>
                </a:moveTo>
                <a:cubicBezTo>
                  <a:pt x="22" y="59"/>
                  <a:pt x="66" y="249"/>
                  <a:pt x="125" y="356"/>
                </a:cubicBezTo>
                <a:cubicBezTo>
                  <a:pt x="184" y="463"/>
                  <a:pt x="227" y="566"/>
                  <a:pt x="355" y="644"/>
                </a:cubicBezTo>
                <a:cubicBezTo>
                  <a:pt x="483" y="722"/>
                  <a:pt x="781" y="788"/>
                  <a:pt x="893" y="8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84360" y="4175280"/>
            <a:ext cx="1478160" cy="1265040"/>
          </a:xfrm>
          <a:custGeom>
            <a:avLst/>
            <a:gdLst/>
            <a:ahLst/>
            <a:rect l="l" t="t" r="r" b="b"/>
            <a:pathLst>
              <a:path w="931" h="797">
                <a:moveTo>
                  <a:pt x="0" y="0"/>
                </a:moveTo>
                <a:cubicBezTo>
                  <a:pt x="29" y="64"/>
                  <a:pt x="94" y="278"/>
                  <a:pt x="164" y="385"/>
                </a:cubicBezTo>
                <a:cubicBezTo>
                  <a:pt x="234" y="492"/>
                  <a:pt x="294" y="575"/>
                  <a:pt x="422" y="644"/>
                </a:cubicBezTo>
                <a:cubicBezTo>
                  <a:pt x="550" y="713"/>
                  <a:pt x="825" y="765"/>
                  <a:pt x="931" y="7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39920" y="4343400"/>
            <a:ext cx="1447920" cy="1249200"/>
          </a:xfrm>
          <a:custGeom>
            <a:avLst/>
            <a:gdLst/>
            <a:ahLst/>
            <a:rect l="l" t="t" r="r" b="b"/>
            <a:pathLst>
              <a:path w="912" h="787">
                <a:moveTo>
                  <a:pt x="0" y="0"/>
                </a:moveTo>
                <a:cubicBezTo>
                  <a:pt x="22" y="61"/>
                  <a:pt x="65" y="259"/>
                  <a:pt x="126" y="365"/>
                </a:cubicBezTo>
                <a:cubicBezTo>
                  <a:pt x="187" y="471"/>
                  <a:pt x="235" y="564"/>
                  <a:pt x="366" y="634"/>
                </a:cubicBezTo>
                <a:cubicBezTo>
                  <a:pt x="497" y="704"/>
                  <a:pt x="798" y="755"/>
                  <a:pt x="912" y="7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292560" y="2863800"/>
            <a:ext cx="1904760" cy="671400"/>
          </a:xfrm>
          <a:prstGeom prst="wedgeRoundRectCallout">
            <a:avLst>
              <a:gd name="adj1" fmla="val -59833"/>
              <a:gd name="adj2" fmla="val 138416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onsole"/>
              </a:rPr>
              <a:t>Curva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onsole"/>
              </a:rPr>
              <a:t>Indifere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934000" y="294696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Obrigado Pela Atençã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336760" y="2251080"/>
            <a:ext cx="4978440" cy="1976400"/>
          </a:xfrm>
          <a:prstGeom prst="cloudCallout">
            <a:avLst>
              <a:gd name="adj1" fmla="val -58865"/>
              <a:gd name="adj2" fmla="val 137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880" y="1371600"/>
            <a:ext cx="72979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omo medir a satisfação de uma pessoa em possuir uma c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ercadoria ou receber um determinado serviç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3680" y="2666880"/>
            <a:ext cx="787860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9900"/>
                </a:solidFill>
                <a:latin typeface="Lucida Casu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Viajar de Férias ou Renovar os Móveis da Cas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Escolher Linux ou Window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omprar Jogo Eletrônico ou Raquete de Têni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Assinar Jornal Eletrônico ou Jornal de Pap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Ir até a Livraria ou Procurar na Amazon.c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omprar um Computador ou Depositar na Caderneta de Poupanç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1880" y="1371600"/>
            <a:ext cx="72979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omo medir a satisfação de uma pessoa em possuir uma c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ercadoria ou receber um determinado serviç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7200" y="2666880"/>
            <a:ext cx="768348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Viajar de Férias ou Renovar os Móveis da Cas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scolher Linux ou Window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omprar Jogo Eletrônico ou Raquete de Têni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Assinar Jornal Eletrônico ou Jornal de Pap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Ir até a Livraria ou Procurar na Amazon.c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Telefonar para o Astrólogo ou Puxar um Programa de Horóscop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2160" y="5105520"/>
            <a:ext cx="665136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Detal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inheiro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empo, Espaço, Energia, Paciência 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Limi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5480" y="3258000"/>
            <a:ext cx="78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Comparação: </a:t>
            </a:r>
            <a:r>
              <a:rPr b="1" lang="pt-BR" sz="2400" spc="-1" strike="noStrike">
                <a:solidFill>
                  <a:srgbClr val="0000ff"/>
                </a:solidFill>
                <a:latin typeface="Lucida Casual"/>
              </a:rPr>
              <a:t>Livros Eletrônicos x Jogos Inte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905120" y="1676520"/>
          <a:ext cx="5600520" cy="48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76520"/>
                    <a:ext cx="5600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586080" y="1065600"/>
            <a:ext cx="78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Comparação: Livros Eletrônicos x Jogos Inte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905120"/>
          <a:ext cx="2419200" cy="369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241920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989440" y="914400"/>
          <a:ext cx="6154560" cy="5259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9440" y="914400"/>
                    <a:ext cx="615456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Elena Yoshie Sato Yoneyama</cp:lastModifiedBy>
  <cp:lastPrinted>2000-05-03T14:19:10Z</cp:lastPrinted>
  <dcterms:modified xsi:type="dcterms:W3CDTF">2003-03-28T23:15:21Z</dcterms:modified>
  <cp:revision>140</cp:revision>
  <dc:subject/>
  <dc:title>Consumidor</dc:title>
</cp:coreProperties>
</file>