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F0CD-C62E-4261-A078-1B857D27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6C58-8B30-4657-AFF5-2A8A1CBE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091C-DFDC-45D0-A6EC-B60B1448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0F1C-978C-4483-93CF-0BD9EAB7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0826-FA64-4CA4-AA9E-E9B4E1DF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8500-F9E6-49D9-8A5E-75686868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5F42-C525-485F-9D16-B25BFCC1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1FC3-F208-41D6-A569-C3D707BC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536D-96A2-4324-9A72-0D87BDDC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AE3E-78AE-4FE5-A55D-4C1FA762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F89F-3DA8-4E35-800D-0BC8855D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7DEF-5C44-400A-84EE-6BD3C265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3437-6D0F-47ED-A399-78AD4B699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46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22720" y="533160"/>
            <a:ext cx="175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ula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Diferenci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de Prod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ODUTOS CUSTOMIZ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9080" y="1905120"/>
            <a:ext cx="794664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reço dependente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atualidade (cotação da bolsa, informes meteorológ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opcionais (fontes kangi, corretor ortográfico para rus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detalhe (embrulho para presente, encadern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tempo de resposta (FedEx, UPS, Surface Mai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qualidade (256 cores x 16 milhões de c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certificação (especificação militar, selo ver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nível de garantia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transporte, manutenção, patch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ODUTOS CUSTOMIZ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9080" y="1905120"/>
            <a:ext cx="79466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reço dependente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atualidade (cotação da bolsa, informes meteorológ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opcionais (fontes kangi, corretor ortográfico para rus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detalhe (embrulho para presente, encadern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tempo de resposta (FedEx, UPS, Surface Mai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qualidade (256 cores x 16 milhões de c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certificação (especificação militar, selo ver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nível de garantia (transporte, manutenção, patch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ompatibilidade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multiplatafo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ODUTOS CUSTOMIZ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9080" y="1905120"/>
            <a:ext cx="79466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reço dependente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atualidade (cotação da bolsa, informes meteorológ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opcionais (fontes kangi, corretor ortográfico para rus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detalhe (embrulho para presente, encadern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tempo de resposta (FedEx, UPS, Surface Mai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qualidade (256 cores x 16 milhões de c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certificação (especificação militar, selo ver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nível de garantia (transporte, manutenção, patch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compatibilidade (multiplatafo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fidelidade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consumidor antig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5000" y="540936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ONSEQUÊNCIAS DA CUSTOM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9360" y="2057400"/>
            <a:ext cx="781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Maior satisfação d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produtos talhados de acordo com a preferência individual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 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e não para um perfil méd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ONSEQUÊNCIAS DA CUSTOM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8600" y="2057400"/>
            <a:ext cx="8454240" cy="18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Maior satisfação d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(produtos talhados de acordo com a preferência individual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e não para um perfil méd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Redução da reprodução e distribuição não-autor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produto adaptado a um consumidor específ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ONSEQUÊNCIAS DA CUSTOM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8600" y="2057400"/>
            <a:ext cx="8454240" cy="27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Maior satisfação d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(produtos talhados de acordo com a preferência individual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e não para um perfil méd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Redução da reprodução e distribuição não-autor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(produto adaptado a um consumidor específ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Redução do desperdí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poupa-se o material não desejado pelo consumi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ONSEQUÊNCIAS DA CUSTOM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8600" y="2057400"/>
            <a:ext cx="845424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Maior satisfação d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(produtos talhados de acordo com a preferência individual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e não para um perfil méd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Redução da reprodução e distribuição não-autor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(produto adaptado a um consumidor específ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Redução do desperdí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(poupa-se o material não desejado pelo consumi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Diferenciação de Pre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preços individualizados, baseados no valor perce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pelo consumi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01840" y="882720"/>
            <a:ext cx="62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Preço de Produtos Custom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13880" y="1768320"/>
            <a:ext cx="23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Lucida Casual"/>
              </a:rPr>
              <a:t>Custom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73560" y="3033720"/>
            <a:ext cx="42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Lucida Casual"/>
              </a:rPr>
              <a:t>Competição Monopol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96040" y="43120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Lucida Casual"/>
              </a:rPr>
              <a:t>RMg = C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5640" y="3687840"/>
            <a:ext cx="549360" cy="595080"/>
          </a:xfrm>
          <a:prstGeom prst="downArrow">
            <a:avLst>
              <a:gd name="adj1" fmla="val 50000"/>
              <a:gd name="adj2" fmla="val 27081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2347920"/>
            <a:ext cx="549360" cy="595440"/>
          </a:xfrm>
          <a:prstGeom prst="downArrow">
            <a:avLst>
              <a:gd name="adj1" fmla="val 50000"/>
              <a:gd name="adj2" fmla="val 2709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2600" y="55170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Lucida Casual"/>
              </a:rPr>
              <a:t>Mark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65640" y="4861080"/>
            <a:ext cx="549360" cy="595080"/>
          </a:xfrm>
          <a:prstGeom prst="downArrow">
            <a:avLst>
              <a:gd name="adj1" fmla="val 50000"/>
              <a:gd name="adj2" fmla="val 27081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40920" y="499824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Lucida Casual"/>
              </a:rPr>
              <a:t>Método Simplifi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10320" y="374724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Lucida Casual"/>
              </a:rPr>
              <a:t>Maximização de Luc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Fixação Simplificada de Preços: Mark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990720" y="2179440"/>
            <a:ext cx="0" cy="2803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7960" y="4784760"/>
            <a:ext cx="3278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371600" y="3122640"/>
            <a:ext cx="1935000" cy="1084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22400" y="2879640"/>
            <a:ext cx="2270160" cy="118908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2879640"/>
            <a:ext cx="2361960" cy="2760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48000" y="2956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C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76440" y="39315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87600" y="548568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R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2040" y="1918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86120" y="4328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295520" y="2606040"/>
            <a:ext cx="4053960" cy="918720"/>
            <a:chOff x="4295520" y="2606040"/>
            <a:chExt cx="4053960" cy="918720"/>
          </a:xfrm>
        </p:grpSpPr>
        <p:sp>
          <p:nvSpPr>
            <p:cNvPr id="158" name=""/>
            <p:cNvSpPr/>
            <p:nvPr/>
          </p:nvSpPr>
          <p:spPr>
            <a:xfrm>
              <a:off x="4295520" y="2606040"/>
              <a:ext cx="104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Donde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5295960" y="2774160"/>
              <a:ext cx="3053520" cy="750600"/>
              <a:chOff x="5295960" y="2774160"/>
              <a:chExt cx="3053520" cy="75060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5881320" y="2791440"/>
                <a:ext cx="1063080" cy="733320"/>
                <a:chOff x="5881320" y="2791440"/>
                <a:chExt cx="1063080" cy="7333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5920920" y="2791440"/>
                  <a:ext cx="1023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Lucida Casual"/>
                    </a:rPr>
                    <a:t>p - CM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881320" y="3141360"/>
                  <a:ext cx="103644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042600" y="3156480"/>
                  <a:ext cx="68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Lucida Casual"/>
                    </a:rPr>
                    <a:t>CM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7284600" y="2774160"/>
                <a:ext cx="1064880" cy="733320"/>
                <a:chOff x="7284600" y="2774160"/>
                <a:chExt cx="1064880" cy="7333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7321320" y="2774160"/>
                  <a:ext cx="1028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Lucida Casual"/>
                    </a:rPr>
                    <a:t>p - RM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284600" y="3124080"/>
                  <a:ext cx="103644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446240" y="3139200"/>
                  <a:ext cx="68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Lucida Casual"/>
                    </a:rPr>
                    <a:t>CM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5295960" y="2956680"/>
                <a:ext cx="654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6600"/>
                    </a:solidFill>
                    <a:latin typeface="Lucida Casual"/>
                  </a:rPr>
                  <a:t>m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 =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962040" y="29584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4336920" y="3413880"/>
            <a:ext cx="4120920" cy="1385640"/>
            <a:chOff x="4336920" y="3413880"/>
            <a:chExt cx="4120920" cy="1385640"/>
          </a:xfrm>
        </p:grpSpPr>
        <p:sp>
          <p:nvSpPr>
            <p:cNvPr id="171" name=""/>
            <p:cNvSpPr/>
            <p:nvPr/>
          </p:nvSpPr>
          <p:spPr>
            <a:xfrm>
              <a:off x="4336920" y="3413880"/>
              <a:ext cx="77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Mas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261040" y="3580560"/>
              <a:ext cx="3196800" cy="1218960"/>
              <a:chOff x="5261040" y="3580560"/>
              <a:chExt cx="3196800" cy="12189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6088680" y="3580560"/>
                <a:ext cx="499680" cy="671400"/>
                <a:chOff x="6088680" y="3580560"/>
                <a:chExt cx="499680" cy="6714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6088680" y="3580560"/>
                  <a:ext cx="47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n-US" sz="1800" spc="-1" strike="noStrike">
                      <a:solidFill>
                        <a:srgbClr val="0000ff"/>
                      </a:solidFill>
                      <a:latin typeface="Lucida Casual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122880" y="3883680"/>
                  <a:ext cx="465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n-US" sz="1800" spc="-1" strike="noStrike">
                      <a:solidFill>
                        <a:srgbClr val="0000ff"/>
                      </a:solidFill>
                      <a:latin typeface="Lucida Casual"/>
                    </a:rPr>
                    <a:t>q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157800" y="391608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064200" y="4128120"/>
                <a:ext cx="2393640" cy="671400"/>
                <a:chOff x="6064200" y="4128120"/>
                <a:chExt cx="2393640" cy="67140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6760800" y="4128120"/>
                  <a:ext cx="495720" cy="671400"/>
                  <a:chOff x="6760800" y="4128120"/>
                  <a:chExt cx="495720" cy="67140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6760800" y="4128120"/>
                    <a:ext cx="465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ff"/>
                        </a:solidFill>
                        <a:latin typeface="Symbol"/>
                        <a:ea typeface="Symbol"/>
                      </a:rPr>
                      <a:t></a:t>
                    </a:r>
                    <a:r>
                      <a:rPr b="1" lang="en-US" sz="1800" spc="-1" strike="noStrike">
                        <a:solidFill>
                          <a:srgbClr val="0000ff"/>
                        </a:solidFill>
                        <a:latin typeface="Lucida Casual"/>
                      </a:rPr>
                      <a:t>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6791040" y="4431240"/>
                    <a:ext cx="465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ff"/>
                        </a:solidFill>
                        <a:latin typeface="Symbol"/>
                        <a:ea typeface="Symbol"/>
                      </a:rPr>
                      <a:t></a:t>
                    </a:r>
                    <a:r>
                      <a:rPr b="1" lang="en-US" sz="1800" spc="-1" strike="noStrike">
                        <a:solidFill>
                          <a:srgbClr val="0000ff"/>
                        </a:solidFill>
                        <a:latin typeface="Lucida Casual"/>
                      </a:rPr>
                      <a:t>q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6825960" y="446364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6064200" y="4280400"/>
                  <a:ext cx="239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Lucida Casual"/>
                    </a:rPr>
                    <a:t>= p + q      = p(1 + e</a:t>
                  </a:r>
                  <a:r>
                    <a:rPr b="1" lang="en-US" sz="1800" spc="-1" strike="noStrike" baseline="30000">
                      <a:solidFill>
                        <a:srgbClr val="0000ff"/>
                      </a:solidFill>
                      <a:latin typeface="Lucida Casual"/>
                    </a:rPr>
                    <a:t>-1</a:t>
                  </a:r>
                  <a:r>
                    <a:rPr b="1" lang="en-US" sz="1800" spc="-1" strike="noStrike">
                      <a:solidFill>
                        <a:srgbClr val="0000ff"/>
                      </a:solidFill>
                      <a:latin typeface="Lucida Casual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5261040" y="3731400"/>
                <a:ext cx="941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RMg =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4338360" y="4693680"/>
            <a:ext cx="3175200" cy="1618920"/>
            <a:chOff x="4338360" y="4693680"/>
            <a:chExt cx="3175200" cy="1618920"/>
          </a:xfrm>
        </p:grpSpPr>
        <p:sp>
          <p:nvSpPr>
            <p:cNvPr id="185" name=""/>
            <p:cNvSpPr/>
            <p:nvPr/>
          </p:nvSpPr>
          <p:spPr>
            <a:xfrm>
              <a:off x="4338360" y="4693680"/>
              <a:ext cx="126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Portanto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79920" y="5180760"/>
              <a:ext cx="65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00"/>
                  </a:solidFill>
                  <a:latin typeface="Lucida Casual"/>
                </a:rPr>
                <a:t>m</a:t>
              </a: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 =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66000" y="5012640"/>
              <a:ext cx="1447560" cy="689040"/>
              <a:chOff x="6066000" y="5012640"/>
              <a:chExt cx="1447560" cy="689040"/>
            </a:xfrm>
          </p:grpSpPr>
          <p:sp>
            <p:nvSpPr>
              <p:cNvPr id="188" name=""/>
              <p:cNvSpPr/>
              <p:nvPr/>
            </p:nvSpPr>
            <p:spPr>
              <a:xfrm>
                <a:off x="6189480" y="5012640"/>
                <a:ext cx="125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p - p - pe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Lucida Casu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195960" y="5333400"/>
                <a:ext cx="11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p(1 + e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Lucida Casual"/>
                  </a:rPr>
                  <a:t>-1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066000" y="5348160"/>
                <a:ext cx="14475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5814000" y="574452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= -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6295680" y="5625360"/>
              <a:ext cx="713160" cy="687240"/>
              <a:chOff x="6295680" y="5625360"/>
              <a:chExt cx="713160" cy="687240"/>
            </a:xfrm>
          </p:grpSpPr>
          <p:sp>
            <p:nvSpPr>
              <p:cNvPr id="193" name=""/>
              <p:cNvSpPr/>
              <p:nvPr/>
            </p:nvSpPr>
            <p:spPr>
              <a:xfrm>
                <a:off x="6489360" y="56253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295680" y="5944320"/>
                <a:ext cx="69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1 + 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323040" y="5959440"/>
                <a:ext cx="6858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"/>
          <p:cNvGrpSpPr/>
          <p:nvPr/>
        </p:nvGrpSpPr>
        <p:grpSpPr>
          <a:xfrm>
            <a:off x="1827360" y="1767600"/>
            <a:ext cx="5017320" cy="2395800"/>
            <a:chOff x="1827360" y="1767600"/>
            <a:chExt cx="5017320" cy="2395800"/>
          </a:xfrm>
        </p:grpSpPr>
        <p:sp>
          <p:nvSpPr>
            <p:cNvPr id="197" name=""/>
            <p:cNvSpPr/>
            <p:nvPr/>
          </p:nvSpPr>
          <p:spPr>
            <a:xfrm>
              <a:off x="4318560" y="1767600"/>
              <a:ext cx="252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Ponto A:</a:t>
              </a: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  RMg = CM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09880" y="379512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27360" y="3854520"/>
              <a:ext cx="106200" cy="108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999720" y="2164680"/>
            <a:ext cx="6660720" cy="1686600"/>
            <a:chOff x="999720" y="2164680"/>
            <a:chExt cx="6660720" cy="1686600"/>
          </a:xfrm>
        </p:grpSpPr>
        <p:sp>
          <p:nvSpPr>
            <p:cNvPr id="201" name=""/>
            <p:cNvSpPr/>
            <p:nvPr/>
          </p:nvSpPr>
          <p:spPr>
            <a:xfrm>
              <a:off x="4385160" y="2164680"/>
              <a:ext cx="32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Ponto B:</a:t>
              </a:r>
              <a:r>
                <a:rPr b="1" lang="en-US" sz="1800" spc="-1" strike="noStrike">
                  <a:solidFill>
                    <a:srgbClr val="ffff00"/>
                  </a:solidFill>
                  <a:latin typeface="Lucida Casual"/>
                </a:rPr>
                <a:t>  </a:t>
              </a: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p = </a:t>
              </a: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CMg</a:t>
              </a: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</a:t>
              </a: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 (1 + </a:t>
              </a:r>
              <a:r>
                <a:rPr b="1" lang="en-US" sz="1800" spc="-1" strike="noStrike">
                  <a:solidFill>
                    <a:srgbClr val="336600"/>
                  </a:solidFill>
                  <a:latin typeface="Lucida Casual"/>
                </a:rPr>
                <a:t>m</a:t>
              </a: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)</a:t>
              </a:r>
              <a:r>
                <a:rPr b="1" lang="en-US" sz="1800" spc="-1" strike="noStrike">
                  <a:solidFill>
                    <a:srgbClr val="ffff00"/>
                  </a:solidFill>
                  <a:latin typeface="Lucida Casu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06480" y="3274920"/>
              <a:ext cx="106560" cy="100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859040" y="33940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53280" y="295668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00"/>
                  </a:solidFill>
                  <a:latin typeface="Lucida Casu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999720" y="3322800"/>
              <a:ext cx="801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mplos de Mark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57480" y="1755000"/>
            <a:ext cx="1451160" cy="687240"/>
            <a:chOff x="3957480" y="1755000"/>
            <a:chExt cx="1451160" cy="687240"/>
          </a:xfrm>
        </p:grpSpPr>
        <p:sp>
          <p:nvSpPr>
            <p:cNvPr id="211" name=""/>
            <p:cNvSpPr/>
            <p:nvPr/>
          </p:nvSpPr>
          <p:spPr>
            <a:xfrm>
              <a:off x="3957480" y="188532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m = -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4695480" y="1755000"/>
              <a:ext cx="713160" cy="687240"/>
              <a:chOff x="4695480" y="1755000"/>
              <a:chExt cx="713160" cy="687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889160" y="17550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95480" y="2073960"/>
                <a:ext cx="69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1 + 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722840" y="2089080"/>
                <a:ext cx="6858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6" name=""/>
          <p:cNvSpPr/>
          <p:nvPr/>
        </p:nvSpPr>
        <p:spPr>
          <a:xfrm>
            <a:off x="768600" y="23900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133640" y="2576160"/>
            <a:ext cx="0" cy="1949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990720" y="4398480"/>
            <a:ext cx="1795320" cy="11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41680" y="39808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47720" y="3002040"/>
            <a:ext cx="273240" cy="517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058760" y="300204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38360" y="3003480"/>
            <a:ext cx="0" cy="147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19160" y="3517920"/>
            <a:ext cx="0" cy="974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1050840" y="3521160"/>
            <a:ext cx="868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4000" y="28645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1120" y="3383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48560" y="49330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e = -1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71200" y="4442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49000" y="4450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79360" y="33598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00720" y="23806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965400" y="2566800"/>
            <a:ext cx="0" cy="1949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822840" y="4389120"/>
            <a:ext cx="1795320" cy="11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73800" y="3971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79840" y="2992320"/>
            <a:ext cx="273240" cy="274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890880" y="299232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70480" y="2994120"/>
            <a:ext cx="0" cy="1477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51280" y="3278160"/>
            <a:ext cx="0" cy="12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3870360" y="3268800"/>
            <a:ext cx="868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15760" y="28548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17560" y="31327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59160" y="49348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e = -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03320" y="44326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281120" y="444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65400" y="314244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99200" y="2382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6564240" y="2568240"/>
            <a:ext cx="0" cy="1949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421320" y="4390560"/>
            <a:ext cx="1795680" cy="11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2640" y="39729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78680" y="2994120"/>
            <a:ext cx="285840" cy="125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489720" y="299412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68960" y="2995560"/>
            <a:ext cx="0" cy="147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50120" y="3117960"/>
            <a:ext cx="0" cy="136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6481800" y="3131640"/>
            <a:ext cx="8683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14600" y="2834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6400" y="2996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19560" y="494748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E = -7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02160" y="4434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79960" y="4442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440480" y="294732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55040" y="534924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m = 4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31440" y="53269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m = 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45760" y="534132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m = 0.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640" y="2057400"/>
            <a:ext cx="434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PRODUTOS DIGIT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CUSTOMIZ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23520" y="480060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Arnoldo Souza Ca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Takashi Yoney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962520" y="3581280"/>
            <a:ext cx="1304640" cy="916920"/>
            <a:chOff x="3962520" y="3581280"/>
            <a:chExt cx="1304640" cy="916920"/>
          </a:xfrm>
        </p:grpSpPr>
        <p:sp>
          <p:nvSpPr>
            <p:cNvPr id="55" name=""/>
            <p:cNvSpPr/>
            <p:nvPr/>
          </p:nvSpPr>
          <p:spPr>
            <a:xfrm>
              <a:off x="4290480" y="358128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59320" y="38228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62520" y="369720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88040" y="1010520"/>
            <a:ext cx="25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11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19280" y="2028960"/>
            <a:ext cx="7459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Como foi mostrado, existe uma relação formal entre o mark-u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e a elasticidade preço da deman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Calcule o mark-up para os seguintes produ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a) Sistemas Operacionais, elasticidade estimada de -1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b) Jogos Eletrônicos, elasticidade estimada de -5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271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21337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Lucida Casual"/>
              </a:rPr>
              <a:t>Problem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1520" y="2742120"/>
            <a:ext cx="53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Lucida Casual"/>
              </a:rPr>
              <a:t>Obter o perfil de cada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21337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77777"/>
                </a:solidFill>
                <a:latin typeface="Lucida Casual"/>
              </a:rPr>
              <a:t>Problem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91200" y="3962520"/>
            <a:ext cx="4649040" cy="1068120"/>
            <a:chOff x="691200" y="3962520"/>
            <a:chExt cx="4649040" cy="1068120"/>
          </a:xfrm>
        </p:grpSpPr>
        <p:sp>
          <p:nvSpPr>
            <p:cNvPr id="285" name=""/>
            <p:cNvSpPr/>
            <p:nvPr/>
          </p:nvSpPr>
          <p:spPr>
            <a:xfrm>
              <a:off x="762120" y="3962520"/>
              <a:ext cx="236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3333cc"/>
                  </a:solidFill>
                  <a:latin typeface="Lucida Casual"/>
                </a:rPr>
                <a:t>Problema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1200" y="4570920"/>
              <a:ext cx="464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0000"/>
                  </a:solidFill>
                  <a:latin typeface="Lucida Casual"/>
                </a:rPr>
                <a:t>Evitar invasão da privacida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31520" y="2742120"/>
            <a:ext cx="53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77777"/>
                </a:solidFill>
                <a:latin typeface="Lucida Casual"/>
              </a:rPr>
              <a:t>Obter o perfil de cada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17524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Lucida Casual"/>
              </a:rPr>
              <a:t>Informações primá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59600" y="2207880"/>
            <a:ext cx="74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Lucida Casual"/>
              </a:rPr>
              <a:t>Aquelas coletadas durante as trans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(nome, CPF, RG, endereço, estado civil, telefo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E-mail, número do cartão de crédito,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31520" y="3855960"/>
            <a:ext cx="7625520" cy="2088360"/>
            <a:chOff x="731520" y="3855960"/>
            <a:chExt cx="7625520" cy="2088360"/>
          </a:xfrm>
        </p:grpSpPr>
        <p:sp>
          <p:nvSpPr>
            <p:cNvPr id="294" name=""/>
            <p:cNvSpPr/>
            <p:nvPr/>
          </p:nvSpPr>
          <p:spPr>
            <a:xfrm>
              <a:off x="777960" y="3855960"/>
              <a:ext cx="487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3300"/>
                  </a:solidFill>
                  <a:latin typeface="Lucida Casual"/>
                </a:rPr>
                <a:t>Informações secundári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" y="4387320"/>
              <a:ext cx="7625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ff"/>
                  </a:solidFill>
                  <a:latin typeface="Lucida Casual"/>
                </a:rPr>
                <a:t>Aquelas obtidas por cruzamento de d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8000"/>
                  </a:solidFill>
                  <a:latin typeface="Lucida Casual"/>
                </a:rPr>
                <a:t>(SPC, pendências jurídicas, registros imobiliários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8000"/>
                  </a:solidFill>
                  <a:latin typeface="Lucida Casual"/>
                </a:rPr>
                <a:t>multas, dados empregatícios,..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2440" y="2209680"/>
            <a:ext cx="78112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Envio de junk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Recusa na concessão de créd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Recusa em admitir associado para seguro méd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Screening de empregados, alunos, polí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Chant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2120" y="9907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mplos negativos de utilização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erfil do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13320" y="4951800"/>
            <a:ext cx="48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OBS: Anonimato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 privac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88040" y="1010520"/>
            <a:ext cx="25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11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98560" y="2122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12680" y="2255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98240" y="1922040"/>
            <a:ext cx="799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Cite 3 exemplos de customização de produtos digitais que pod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ser efetivados através de perfís simples do consumidor que inclu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(idade, sexo, estado civil, renda mensal, religião, escolarida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endereço residencial, ocupaçã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311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4640" y="2209680"/>
            <a:ext cx="8415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Primeiro Gr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   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eço diferente para cada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Segundo Gr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   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onsumidores divididos em grupos segundo volume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e forma de utilização dos 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Terceiro Gr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   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Mercado segmentado segundo características de elastic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da demanda ou características demográf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Diferenciação de Pre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2209680"/>
            <a:ext cx="8072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A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lberto possui uma loja virtual que vende CDs (custo R$ 12,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Várias pessoas desejam comprar o CD “4 Estações” do Vival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e, em particular, gostam da combinação maestro + solis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B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ianca pagaria até R$ 2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C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rlos até R$ 1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D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niela até R$ 25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E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rnesto até R$ 3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Z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enilda até R$ 15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990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Exemplo utilização do perfil do consumidor para diferenciação preços de primeiro g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8280" y="4152960"/>
            <a:ext cx="3339000" cy="2133720"/>
            <a:chOff x="5048280" y="4152960"/>
            <a:chExt cx="3339000" cy="2133720"/>
          </a:xfrm>
        </p:grpSpPr>
        <p:sp>
          <p:nvSpPr>
            <p:cNvPr id="326" name=""/>
            <p:cNvSpPr/>
            <p:nvPr/>
          </p:nvSpPr>
          <p:spPr>
            <a:xfrm>
              <a:off x="5269680" y="4806000"/>
              <a:ext cx="3117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3300"/>
                  </a:solidFill>
                  <a:latin typeface="Lucida Casual"/>
                </a:rPr>
                <a:t>Na média, consumido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3300"/>
                  </a:solidFill>
                  <a:latin typeface="Lucida Casual"/>
                </a:rPr>
                <a:t>pagaria R$ 22,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48280" y="4152960"/>
              <a:ext cx="0" cy="21337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7600" y="1523880"/>
            <a:ext cx="7611480" cy="41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Apresentar aspectos relevantes da customização dos produtos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questões envolvidas na obtenção do perfil do consumi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aracterizar os conceito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ustomização de Prod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erfil do 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ivac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iferenciação de Pre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mpetição Monopol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86240" y="2209680"/>
            <a:ext cx="7698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A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lberto </a:t>
            </a:r>
            <a:r>
              <a:rPr b="1" lang="pt-BR" sz="2000" spc="-1" strike="noStrike" u="sng">
                <a:solidFill>
                  <a:srgbClr val="336600"/>
                </a:solidFill>
                <a:uFillTx/>
                <a:latin typeface="Lucida Casual"/>
              </a:rPr>
              <a:t>não possui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 perfil de cada um e fixa o preço R$ 22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B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ianca pagaria até R$ 20,00 -&gt; Não Compr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C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rlos até R$ 10,00 -&gt; Não Compr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D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niela até R$ 25,00 -&gt; Compr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E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rnesto até R$ 30,00 -&gt; Compr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Z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enilda até R$ 15,00 -&gt; Compr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2120" y="990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Exemplo utilização do perfil do consumidor para diferenciação preços de primeiro g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2480" y="2209680"/>
            <a:ext cx="8096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A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lberto </a:t>
            </a:r>
            <a:r>
              <a:rPr b="1" lang="pt-BR" sz="2000" spc="-1" strike="noStrike" u="sng">
                <a:solidFill>
                  <a:srgbClr val="336600"/>
                </a:solidFill>
                <a:uFillTx/>
                <a:latin typeface="Lucida Casual"/>
              </a:rPr>
              <a:t>possui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 perfil de cada um e usa diferenciação de preç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B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ianca pagaria até R$ 20,00 -&gt; Vende por R$ 2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C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rlos até R$ 10,00 -&gt; Não vende, pois R$ 10,00 &lt; R$ 12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D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niela até R$ 25,00 -&gt; Vende por R$ 25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E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rnesto até R$ 30,00 -&gt; Vende por R$ 3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Z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enilda até R$ 15,00 -&gt; Vende por R$ 15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2120" y="990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Exemplo utilização do perfil do consumidor para diferenciação preços de primeiro g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784600" y="5513400"/>
            <a:ext cx="3116160" cy="7588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07080" y="2043000"/>
            <a:ext cx="135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Regiã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7720" y="9000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mplo de Diferenciação de Pre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Terceiro Gra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1874880" y="2394000"/>
            <a:ext cx="0" cy="1644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08200" y="3825720"/>
            <a:ext cx="2041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74880" y="2682720"/>
            <a:ext cx="1341360" cy="914400"/>
          </a:xfrm>
          <a:custGeom>
            <a:avLst/>
            <a:gdLst/>
            <a:ahLst/>
            <a:rect l="l" t="t" r="r" b="b"/>
            <a:pathLst>
              <a:path w="845" h="576">
                <a:moveTo>
                  <a:pt x="0" y="0"/>
                </a:moveTo>
                <a:cubicBezTo>
                  <a:pt x="67" y="62"/>
                  <a:pt x="253" y="278"/>
                  <a:pt x="394" y="374"/>
                </a:cubicBezTo>
                <a:cubicBezTo>
                  <a:pt x="535" y="470"/>
                  <a:pt x="751" y="534"/>
                  <a:pt x="845" y="57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26040" y="3350880"/>
            <a:ext cx="42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D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345400" y="380628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16960" y="306036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16040" y="3841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5548320" y="2378160"/>
            <a:ext cx="0" cy="1644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381640" y="3809880"/>
            <a:ext cx="2041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548320" y="3156120"/>
            <a:ext cx="1479600" cy="485640"/>
          </a:xfrm>
          <a:custGeom>
            <a:avLst/>
            <a:gdLst/>
            <a:ahLst/>
            <a:rect l="l" t="t" r="r" b="b"/>
            <a:pathLst>
              <a:path w="932" h="306">
                <a:moveTo>
                  <a:pt x="0" y="0"/>
                </a:moveTo>
                <a:cubicBezTo>
                  <a:pt x="77" y="34"/>
                  <a:pt x="306" y="150"/>
                  <a:pt x="461" y="201"/>
                </a:cubicBezTo>
                <a:cubicBezTo>
                  <a:pt x="616" y="252"/>
                  <a:pt x="834" y="284"/>
                  <a:pt x="932" y="30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044120" y="3319200"/>
            <a:ext cx="42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D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88800" y="380484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34680" y="313668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89840" y="382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840640" y="2027160"/>
            <a:ext cx="135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Regiã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92440" y="4219200"/>
            <a:ext cx="1947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R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 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 = 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 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514600" y="3292200"/>
            <a:ext cx="0" cy="59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782360" y="329256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87960" y="2226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14520" y="2286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87760" y="38552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275600" y="3825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973840" y="3368520"/>
            <a:ext cx="0" cy="50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5562720" y="3352680"/>
            <a:ext cx="41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56240" y="4203360"/>
            <a:ext cx="1947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R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 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 = 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 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557720" y="4750920"/>
            <a:ext cx="404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L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,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 = R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 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+ R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 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 - CT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 + 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61880" y="5101920"/>
            <a:ext cx="378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= 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 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 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+ 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 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 - CT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 + 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949320" y="5541120"/>
            <a:ext cx="7382520" cy="750600"/>
            <a:chOff x="949320" y="5541120"/>
            <a:chExt cx="7382520" cy="750600"/>
          </a:xfrm>
        </p:grpSpPr>
        <p:sp>
          <p:nvSpPr>
            <p:cNvPr id="372" name=""/>
            <p:cNvSpPr/>
            <p:nvPr/>
          </p:nvSpPr>
          <p:spPr>
            <a:xfrm>
              <a:off x="949320" y="5636160"/>
              <a:ext cx="189396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Lucida Casual"/>
                </a:rPr>
                <a:t>max L(q</a:t>
              </a:r>
              <a:r>
                <a:rPr b="1" lang="en-US" sz="1800" spc="-1" strike="noStrike" baseline="-25000">
                  <a:solidFill>
                    <a:srgbClr val="009900"/>
                  </a:solidFill>
                  <a:latin typeface="Lucida Casual"/>
                </a:rPr>
                <a:t>1</a:t>
              </a:r>
              <a:r>
                <a:rPr b="1" lang="en-US" sz="1800" spc="-1" strike="noStrike">
                  <a:solidFill>
                    <a:srgbClr val="009900"/>
                  </a:solidFill>
                  <a:latin typeface="Lucida Casual"/>
                </a:rPr>
                <a:t>,q</a:t>
              </a:r>
              <a:r>
                <a:rPr b="1" lang="en-US" sz="1800" spc="-1" strike="noStrike" baseline="-25000">
                  <a:solidFill>
                    <a:srgbClr val="009900"/>
                  </a:solidFill>
                  <a:latin typeface="Lucida Casual"/>
                </a:rPr>
                <a:t>2</a:t>
              </a:r>
              <a:r>
                <a:rPr b="1" lang="en-US" sz="1800" spc="-1" strike="noStrike">
                  <a:solidFill>
                    <a:srgbClr val="009900"/>
                  </a:solidFill>
                  <a:latin typeface="Lucida Casual"/>
                </a:rPr>
                <a:t>) </a:t>
              </a:r>
              <a:r>
                <a:rPr b="1" lang="en-US" sz="2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009900"/>
                  </a:solidFill>
                  <a:latin typeface="Lucida Casu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04560" y="5704920"/>
              <a:ext cx="532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p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Lucida Casual"/>
                </a:rPr>
                <a:t>i</a:t>
              </a: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 = CMg(1+m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Lucida Casual"/>
                </a:rPr>
                <a:t>i</a:t>
              </a: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) , m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Lucida Casual"/>
                </a:rPr>
                <a:t>i </a:t>
              </a: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=         e RMg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Lucida Casual"/>
                </a:rPr>
                <a:t>1</a:t>
              </a: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(q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Lucida Casual"/>
                </a:rPr>
                <a:t>1</a:t>
              </a: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) = RMg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Lucida Casual"/>
                </a:rPr>
                <a:t>2</a:t>
              </a: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(q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Lucida Casual"/>
                </a:rPr>
                <a:t>2</a:t>
              </a: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5269320" y="5541120"/>
              <a:ext cx="619560" cy="750600"/>
              <a:chOff x="5269320" y="5541120"/>
              <a:chExt cx="619560" cy="750600"/>
            </a:xfrm>
          </p:grpSpPr>
          <p:sp>
            <p:nvSpPr>
              <p:cNvPr id="375" name=""/>
              <p:cNvSpPr/>
              <p:nvPr/>
            </p:nvSpPr>
            <p:spPr>
              <a:xfrm>
                <a:off x="5295600" y="5541120"/>
                <a:ext cx="38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Lucida Casu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319720" y="5891040"/>
                <a:ext cx="441360" cy="15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269320" y="5886000"/>
                <a:ext cx="619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Lucida Casual"/>
                  </a:rPr>
                  <a:t>1+e</a:t>
                </a:r>
                <a:r>
                  <a:rPr b="1" lang="en-US" sz="1800" spc="-1" strike="noStrike" baseline="-25000">
                    <a:solidFill>
                      <a:srgbClr val="ff3300"/>
                    </a:solidFill>
                    <a:latin typeface="Lucida Casu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16120" y="2075040"/>
            <a:ext cx="11178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Regiã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1736640" y="2515680"/>
            <a:ext cx="0" cy="1644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569960" y="3948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929320" y="3443040"/>
            <a:ext cx="42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D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07520" y="392868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78720" y="318240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78160" y="39639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4327560" y="2514600"/>
            <a:ext cx="0" cy="1644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160880" y="3946680"/>
            <a:ext cx="1235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031000" y="3471480"/>
            <a:ext cx="42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D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68040" y="394128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13920" y="3273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96872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214880" y="2087640"/>
            <a:ext cx="11178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Regiã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556640" y="4341600"/>
            <a:ext cx="190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 = 3 - 0.1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376360" y="3414600"/>
            <a:ext cx="0" cy="59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1644120" y="341460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967200" y="23630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76640" y="2409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129120" y="3931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08560" y="3917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4753080" y="3504960"/>
            <a:ext cx="0" cy="50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341960" y="3489480"/>
            <a:ext cx="41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751040" y="3078000"/>
            <a:ext cx="1112760" cy="5810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341960" y="2895480"/>
            <a:ext cx="625320" cy="882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55240" y="4325400"/>
            <a:ext cx="190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 = 6 - 0.5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765840" y="2514600"/>
            <a:ext cx="0" cy="1644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599160" y="3946680"/>
            <a:ext cx="1600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40736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097840" y="3917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6794640" y="2881440"/>
            <a:ext cx="1112760" cy="71568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25600" y="23313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Lucida Casu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590520" y="43282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CT(q) = 1 + 2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128320" y="5038920"/>
            <a:ext cx="2973600" cy="882000"/>
            <a:chOff x="2128320" y="5038920"/>
            <a:chExt cx="2973600" cy="882000"/>
          </a:xfrm>
        </p:grpSpPr>
        <p:sp>
          <p:nvSpPr>
            <p:cNvPr id="415" name=""/>
            <p:cNvSpPr/>
            <p:nvPr/>
          </p:nvSpPr>
          <p:spPr>
            <a:xfrm>
              <a:off x="2136960" y="5038920"/>
              <a:ext cx="296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Lucida Casual"/>
                </a:rPr>
                <a:t>e</a:t>
              </a:r>
              <a:r>
                <a:rPr b="1" lang="en-US" sz="2000" spc="-1" strike="noStrike" baseline="-25000">
                  <a:solidFill>
                    <a:srgbClr val="009900"/>
                  </a:solidFill>
                  <a:latin typeface="Lucida Casual"/>
                </a:rPr>
                <a:t>1</a:t>
              </a:r>
              <a:r>
                <a:rPr b="1" lang="en-US" sz="2000" spc="-1" strike="noStrike">
                  <a:solidFill>
                    <a:srgbClr val="009900"/>
                  </a:solidFill>
                  <a:latin typeface="Lucida Casual"/>
                </a:rPr>
                <a:t> = -5</a:t>
              </a:r>
              <a:r>
                <a:rPr b="1" lang="en-US" sz="2000" spc="-1" strike="noStrike">
                  <a:solidFill>
                    <a:srgbClr val="ff3300"/>
                  </a:solidFill>
                  <a:latin typeface="Lucida Casual"/>
                </a:rPr>
                <a:t>, q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Lucida Casual"/>
                </a:rPr>
                <a:t>1</a:t>
              </a:r>
              <a:r>
                <a:rPr b="1" lang="en-US" sz="2000" spc="-1" strike="noStrike">
                  <a:solidFill>
                    <a:srgbClr val="ff3300"/>
                  </a:solidFill>
                  <a:latin typeface="Lucida Casual"/>
                </a:rPr>
                <a:t> = 5 e </a:t>
              </a:r>
              <a:r>
                <a:rPr b="1" lang="en-US" sz="2000" spc="-1" strike="noStrike">
                  <a:solidFill>
                    <a:srgbClr val="993300"/>
                  </a:solidFill>
                  <a:latin typeface="Lucida Casual"/>
                </a:rPr>
                <a:t>p</a:t>
              </a:r>
              <a:r>
                <a:rPr b="1" lang="en-US" sz="2000" spc="-1" strike="noStrike" baseline="-25000">
                  <a:solidFill>
                    <a:srgbClr val="993300"/>
                  </a:solidFill>
                  <a:latin typeface="Lucida Casual"/>
                </a:rPr>
                <a:t>1</a:t>
              </a:r>
              <a:r>
                <a:rPr b="1" lang="en-US" sz="2000" spc="-1" strike="noStrike">
                  <a:solidFill>
                    <a:srgbClr val="993300"/>
                  </a:solidFill>
                  <a:latin typeface="Lucida Casual"/>
                </a:rPr>
                <a:t> = 2.5</a:t>
              </a:r>
              <a:r>
                <a:rPr b="1" lang="en-US" sz="2000" spc="-1" strike="noStrike">
                  <a:solidFill>
                    <a:srgbClr val="ff3300"/>
                  </a:solidFill>
                  <a:latin typeface="Lucida Casu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28320" y="5480280"/>
              <a:ext cx="2745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Lucida Casual"/>
                </a:rPr>
                <a:t>e</a:t>
              </a:r>
              <a:r>
                <a:rPr b="1" lang="en-US" sz="2000" spc="-1" strike="noStrike" baseline="-25000">
                  <a:solidFill>
                    <a:srgbClr val="009900"/>
                  </a:solidFill>
                  <a:latin typeface="Lucida Casual"/>
                </a:rPr>
                <a:t>2</a:t>
              </a:r>
              <a:r>
                <a:rPr b="1" lang="en-US" sz="2000" spc="-1" strike="noStrike">
                  <a:solidFill>
                    <a:srgbClr val="009900"/>
                  </a:solidFill>
                  <a:latin typeface="Lucida Casual"/>
                </a:rPr>
                <a:t> = -2</a:t>
              </a:r>
              <a:r>
                <a:rPr b="1" lang="en-US" sz="2000" spc="-1" strike="noStrike">
                  <a:solidFill>
                    <a:srgbClr val="ff3300"/>
                  </a:solidFill>
                  <a:latin typeface="Lucida Casual"/>
                </a:rPr>
                <a:t>, q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Lucida Casual"/>
                </a:rPr>
                <a:t>2</a:t>
              </a:r>
              <a:r>
                <a:rPr b="1" lang="en-US" sz="2000" spc="-1" strike="noStrike">
                  <a:solidFill>
                    <a:srgbClr val="ff3300"/>
                  </a:solidFill>
                  <a:latin typeface="Lucida Casual"/>
                </a:rPr>
                <a:t> = 4 e </a:t>
              </a:r>
              <a:r>
                <a:rPr b="1" lang="en-US" sz="2000" spc="-1" strike="noStrike">
                  <a:solidFill>
                    <a:srgbClr val="993300"/>
                  </a:solidFill>
                  <a:latin typeface="Lucida Casual"/>
                </a:rPr>
                <a:t>p</a:t>
              </a:r>
              <a:r>
                <a:rPr b="1" lang="en-US" sz="2000" spc="-1" strike="noStrike" baseline="-25000">
                  <a:solidFill>
                    <a:srgbClr val="993300"/>
                  </a:solidFill>
                  <a:latin typeface="Lucida Casual"/>
                </a:rPr>
                <a:t>2</a:t>
              </a:r>
              <a:r>
                <a:rPr b="1" lang="en-US" sz="2000" spc="-1" strike="noStrike">
                  <a:solidFill>
                    <a:srgbClr val="993300"/>
                  </a:solidFill>
                  <a:latin typeface="Lucida Casual"/>
                </a:rPr>
                <a:t> = 4</a:t>
              </a:r>
              <a:r>
                <a:rPr b="1" lang="en-US" sz="2000" spc="-1" strike="noStrike">
                  <a:solidFill>
                    <a:srgbClr val="ff3300"/>
                  </a:solidFill>
                  <a:latin typeface="Lucida Casu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5972040" y="4875120"/>
            <a:ext cx="1738440" cy="609840"/>
          </a:xfrm>
          <a:prstGeom prst="wedgeRoundRectCallout">
            <a:avLst>
              <a:gd name="adj1" fmla="val -83333"/>
              <a:gd name="adj2" fmla="val 12500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|e|</a:t>
            </a:r>
            <a:r>
              <a:rPr b="1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669900"/>
                </a:solidFill>
                <a:latin typeface="Lucida Casual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669900"/>
                </a:solidFill>
                <a:latin typeface="Lucida Casual"/>
              </a:rPr>
              <a:t>  </a:t>
            </a: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p</a:t>
            </a:r>
            <a:r>
              <a:rPr b="1" lang="en-US" sz="1800" spc="-1" strike="noStrike">
                <a:solidFill>
                  <a:srgbClr val="993300"/>
                </a:solidFill>
                <a:latin typeface="Symbol"/>
                <a:ea typeface="Symbol"/>
              </a:rPr>
              <a:t></a:t>
            </a:r>
            <a:r>
              <a:rPr b="1" lang="en-US" sz="1800" spc="-1" strike="noStrike">
                <a:solidFill>
                  <a:srgbClr val="669900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47720" y="9000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mplo de Diferenciação de Pre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Terceiro Gra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970600" y="5576760"/>
            <a:ext cx="1738440" cy="609840"/>
          </a:xfrm>
          <a:prstGeom prst="wedgeRoundRectCallout">
            <a:avLst>
              <a:gd name="adj1" fmla="val -83333"/>
              <a:gd name="adj2" fmla="val -29685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|e|</a:t>
            </a:r>
            <a:r>
              <a:rPr b="1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</a:t>
            </a:r>
            <a:r>
              <a:rPr b="1" lang="en-US" sz="1800" spc="-1" strike="noStrike">
                <a:solidFill>
                  <a:srgbClr val="669900"/>
                </a:solidFill>
                <a:latin typeface="Lucida Casual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</a:t>
            </a:r>
            <a:r>
              <a:rPr b="1" lang="en-US" sz="1800" spc="-1" strike="noStrike">
                <a:solidFill>
                  <a:srgbClr val="669900"/>
                </a:solidFill>
                <a:latin typeface="Lucida Casual"/>
              </a:rPr>
              <a:t>  </a:t>
            </a: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p</a:t>
            </a:r>
            <a:r>
              <a:rPr b="1" lang="en-US" sz="1800" spc="-1" strike="noStrike">
                <a:solidFill>
                  <a:srgbClr val="993300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669900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090440" y="1890720"/>
            <a:ext cx="11178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Regiã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1111320" y="2332080"/>
            <a:ext cx="0" cy="1644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44640" y="3763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03640" y="3258720"/>
            <a:ext cx="42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D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581840" y="374436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3400" y="299844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752480" y="3780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701880" y="2329920"/>
            <a:ext cx="0" cy="1644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35200" y="3762360"/>
            <a:ext cx="1235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05680" y="3287160"/>
            <a:ext cx="42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D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991680" y="373356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88600" y="308880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343400" y="3778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89200" y="1903320"/>
            <a:ext cx="11178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Regiã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75520" y="4203360"/>
            <a:ext cx="190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 = 3 - 0.1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1751040" y="3230280"/>
            <a:ext cx="0" cy="59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1018800" y="323064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41880" y="21790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50960" y="22248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03440" y="37472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83240" y="3733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4127400" y="3321000"/>
            <a:ext cx="0" cy="50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3716280" y="3305160"/>
            <a:ext cx="41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25360" y="2894040"/>
            <a:ext cx="1113120" cy="5810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16280" y="2711520"/>
            <a:ext cx="625680" cy="882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393360" y="4198680"/>
            <a:ext cx="190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 = 6 - 0.5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6140520" y="2329920"/>
            <a:ext cx="0" cy="1644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973840" y="3762360"/>
            <a:ext cx="2138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781680" y="3778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82000" y="37029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04200" y="21628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7720" y="9000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mplo de Diferenciação de Pre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Terceiro Gra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743200" y="2965320"/>
            <a:ext cx="404640" cy="401760"/>
          </a:xfrm>
          <a:prstGeom prst="plus">
            <a:avLst>
              <a:gd name="adj" fmla="val 4323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5086440" y="3079800"/>
            <a:ext cx="336240" cy="203040"/>
            <a:chOff x="5086440" y="3079800"/>
            <a:chExt cx="336240" cy="203040"/>
          </a:xfrm>
        </p:grpSpPr>
        <p:sp>
          <p:nvSpPr>
            <p:cNvPr id="457" name=""/>
            <p:cNvSpPr/>
            <p:nvPr/>
          </p:nvSpPr>
          <p:spPr>
            <a:xfrm>
              <a:off x="5086440" y="3079800"/>
              <a:ext cx="336240" cy="74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86440" y="3208320"/>
              <a:ext cx="336240" cy="74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6149880" y="2700360"/>
            <a:ext cx="1527120" cy="822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989680" y="4251240"/>
            <a:ext cx="2774880" cy="609840"/>
          </a:xfrm>
          <a:prstGeom prst="wedgeRoundRectCallout">
            <a:avLst>
              <a:gd name="adj1" fmla="val -5662"/>
              <a:gd name="adj2" fmla="val -207550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p(q) = 3.5 - 0.083q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95800" y="33519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090440" y="1890720"/>
            <a:ext cx="11178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Regiã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111320" y="2332080"/>
            <a:ext cx="0" cy="1644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44640" y="3763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303640" y="3258720"/>
            <a:ext cx="42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D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581840" y="374436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53400" y="299844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52480" y="3780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3701880" y="2329920"/>
            <a:ext cx="0" cy="1644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535200" y="3762360"/>
            <a:ext cx="1235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05680" y="3287160"/>
            <a:ext cx="42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D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91680" y="373356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288600" y="308880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343400" y="3778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589200" y="1903320"/>
            <a:ext cx="11178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Regiã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75520" y="4203360"/>
            <a:ext cx="190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 = 3 - 0.1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1751040" y="3230280"/>
            <a:ext cx="0" cy="59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018800" y="323064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341880" y="21790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50960" y="22248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503440" y="37472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83240" y="3733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4127400" y="3321000"/>
            <a:ext cx="0" cy="50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3716280" y="3305160"/>
            <a:ext cx="41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125360" y="2894040"/>
            <a:ext cx="1113120" cy="5810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716280" y="2711520"/>
            <a:ext cx="625680" cy="882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393360" y="4198680"/>
            <a:ext cx="190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 = 6 - 0.5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6140520" y="2329920"/>
            <a:ext cx="0" cy="1644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3840" y="3762360"/>
            <a:ext cx="2138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781680" y="3778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082000" y="37029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04200" y="21628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47720" y="9000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mplo de Diferenciação de Pre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Terceiro Gra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43200" y="2965320"/>
            <a:ext cx="404640" cy="401760"/>
          </a:xfrm>
          <a:prstGeom prst="plus">
            <a:avLst>
              <a:gd name="adj" fmla="val 4323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5086440" y="3079800"/>
            <a:ext cx="336240" cy="203040"/>
            <a:chOff x="5086440" y="3079800"/>
            <a:chExt cx="336240" cy="203040"/>
          </a:xfrm>
        </p:grpSpPr>
        <p:sp>
          <p:nvSpPr>
            <p:cNvPr id="499" name=""/>
            <p:cNvSpPr/>
            <p:nvPr/>
          </p:nvSpPr>
          <p:spPr>
            <a:xfrm>
              <a:off x="5086440" y="3079800"/>
              <a:ext cx="336240" cy="74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086440" y="3208320"/>
              <a:ext cx="336240" cy="74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6149880" y="2700360"/>
            <a:ext cx="1527120" cy="822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89680" y="4084560"/>
            <a:ext cx="2774880" cy="609840"/>
          </a:xfrm>
          <a:prstGeom prst="wedgeRoundRectCallout">
            <a:avLst>
              <a:gd name="adj1" fmla="val -5662"/>
              <a:gd name="adj2" fmla="val -180208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p(q) = 3.5 - 0.083q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704000" y="3428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6168960" y="3367080"/>
            <a:ext cx="1995480" cy="144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81600" y="3001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C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140520" y="3122640"/>
            <a:ext cx="1143000" cy="79524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289640" y="385704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R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6513480" y="2955960"/>
            <a:ext cx="0" cy="80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6146640" y="2903040"/>
            <a:ext cx="306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332040" y="36716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9900ff"/>
                </a:solidFill>
                <a:latin typeface="Lucida Casu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736960" y="26618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9900ff"/>
                </a:solidFill>
                <a:latin typeface="Lucida Casu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61280" y="2849400"/>
            <a:ext cx="106200" cy="106560"/>
          </a:xfrm>
          <a:prstGeom prst="ellipse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068840" y="4720680"/>
            <a:ext cx="3529440" cy="737640"/>
            <a:chOff x="1068840" y="4720680"/>
            <a:chExt cx="3529440" cy="737640"/>
          </a:xfrm>
        </p:grpSpPr>
        <p:grpSp>
          <p:nvGrpSpPr>
            <p:cNvPr id="514" name=""/>
            <p:cNvGrpSpPr/>
            <p:nvPr/>
          </p:nvGrpSpPr>
          <p:grpSpPr>
            <a:xfrm>
              <a:off x="3442680" y="4720680"/>
              <a:ext cx="1155600" cy="737640"/>
              <a:chOff x="3442680" y="4720680"/>
              <a:chExt cx="1155600" cy="737640"/>
            </a:xfrm>
          </p:grpSpPr>
          <p:sp>
            <p:nvSpPr>
              <p:cNvPr id="515" name=""/>
              <p:cNvSpPr/>
              <p:nvPr/>
            </p:nvSpPr>
            <p:spPr>
              <a:xfrm>
                <a:off x="3442680" y="4720680"/>
                <a:ext cx="793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00ff"/>
                    </a:solidFill>
                    <a:latin typeface="Lucida Casual"/>
                  </a:rPr>
                  <a:t>q</a:t>
                </a:r>
                <a:r>
                  <a:rPr b="1" lang="en-US" sz="1800" spc="-1" strike="noStrike" baseline="-25000">
                    <a:solidFill>
                      <a:srgbClr val="9900ff"/>
                    </a:solidFill>
                    <a:latin typeface="Lucida Casual"/>
                  </a:rPr>
                  <a:t>n</a:t>
                </a:r>
                <a:r>
                  <a:rPr b="1" lang="en-US" sz="1800" spc="-1" strike="noStrike">
                    <a:solidFill>
                      <a:srgbClr val="9900ff"/>
                    </a:solidFill>
                    <a:latin typeface="Lucida Casual"/>
                  </a:rPr>
                  <a:t> = 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477240" y="5052600"/>
                <a:ext cx="1121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00ff"/>
                    </a:solidFill>
                    <a:latin typeface="Lucida Casual"/>
                  </a:rPr>
                  <a:t>p</a:t>
                </a:r>
                <a:r>
                  <a:rPr b="1" lang="en-US" sz="1800" spc="-1" strike="noStrike" baseline="-25000">
                    <a:solidFill>
                      <a:srgbClr val="9900ff"/>
                    </a:solidFill>
                    <a:latin typeface="Lucida Casual"/>
                  </a:rPr>
                  <a:t>n</a:t>
                </a:r>
                <a:r>
                  <a:rPr b="1" lang="en-US" sz="1800" spc="-1" strike="noStrike">
                    <a:solidFill>
                      <a:srgbClr val="9900ff"/>
                    </a:solidFill>
                    <a:latin typeface="Lucida Casual"/>
                  </a:rPr>
                  <a:t> = 2.7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1068840" y="4753800"/>
              <a:ext cx="240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ff"/>
                  </a:solidFill>
                  <a:latin typeface="Lucida Casual"/>
                </a:rPr>
                <a:t>Não Diferenciação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5151600" y="4816440"/>
            <a:ext cx="2978280" cy="485640"/>
            <a:chOff x="5151600" y="4816440"/>
            <a:chExt cx="2978280" cy="485640"/>
          </a:xfrm>
        </p:grpSpPr>
        <p:sp>
          <p:nvSpPr>
            <p:cNvPr id="519" name=""/>
            <p:cNvSpPr/>
            <p:nvPr/>
          </p:nvSpPr>
          <p:spPr>
            <a:xfrm>
              <a:off x="5151600" y="481644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597360" y="487440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ff"/>
                  </a:solidFill>
                  <a:latin typeface="Lucida Casual"/>
                </a:rPr>
                <a:t>Lucro = 5.7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1119600" y="5574960"/>
            <a:ext cx="3825000" cy="726480"/>
            <a:chOff x="1119600" y="5574960"/>
            <a:chExt cx="3825000" cy="726480"/>
          </a:xfrm>
        </p:grpSpPr>
        <p:sp>
          <p:nvSpPr>
            <p:cNvPr id="522" name=""/>
            <p:cNvSpPr/>
            <p:nvPr/>
          </p:nvSpPr>
          <p:spPr>
            <a:xfrm>
              <a:off x="1119600" y="5593680"/>
              <a:ext cx="188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Diferenciação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08960" y="5574960"/>
              <a:ext cx="183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q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Lucida Casual"/>
                </a:rPr>
                <a:t>1</a:t>
              </a: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 = 5 e p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Lucida Casual"/>
                </a:rPr>
                <a:t>1</a:t>
              </a: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 = 2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084840" y="5895720"/>
              <a:ext cx="1639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q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Lucida Casual"/>
                </a:rPr>
                <a:t>2</a:t>
              </a: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 = 4 e p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Lucida Casual"/>
                </a:rPr>
                <a:t>2</a:t>
              </a: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 =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5180040" y="5730840"/>
            <a:ext cx="2808000" cy="485640"/>
            <a:chOff x="5180040" y="5730840"/>
            <a:chExt cx="2808000" cy="485640"/>
          </a:xfrm>
        </p:grpSpPr>
        <p:sp>
          <p:nvSpPr>
            <p:cNvPr id="526" name=""/>
            <p:cNvSpPr/>
            <p:nvPr/>
          </p:nvSpPr>
          <p:spPr>
            <a:xfrm>
              <a:off x="5180040" y="573084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586560" y="5774760"/>
              <a:ext cx="14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Lucro = 9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98200" y="3200400"/>
            <a:ext cx="72597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(E.U.A.) Lei Robinson-Patman de 1936: </a:t>
            </a:r>
            <a:r>
              <a:rPr b="1" i="1" lang="pt-BR" sz="1800" spc="-1" strike="noStrike">
                <a:solidFill>
                  <a:srgbClr val="008000"/>
                </a:solidFill>
                <a:latin typeface="Lucida Casual"/>
              </a:rPr>
              <a:t>Proibição de cobr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8000"/>
                </a:solidFill>
                <a:latin typeface="Lucida Casual"/>
              </a:rPr>
              <a:t>preços diferentes de diferentes consumidores por bens que 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8000"/>
                </a:solidFill>
                <a:latin typeface="Lucida Casual"/>
              </a:rPr>
              <a:t>essencialmente similares, quando houver redução da competi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8000"/>
                </a:solidFill>
                <a:latin typeface="Lucida Casual"/>
              </a:rPr>
              <a:t>e tendência ao monopól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2120" y="11430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Restrição à Diferenciação de Pre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2789280" y="3978360"/>
            <a:ext cx="2041560" cy="1600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95256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cedente do Consumidor com Diferenciação de Pre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2789280" y="2147400"/>
            <a:ext cx="0" cy="3886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608200" y="5575320"/>
            <a:ext cx="44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525360" y="29710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546600" y="46918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60960" y="1886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926400" y="55918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830840" y="4038480"/>
            <a:ext cx="0" cy="16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712600" y="3978360"/>
            <a:ext cx="204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345760" y="375876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2789280" y="3978360"/>
            <a:ext cx="13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697120" y="3230640"/>
            <a:ext cx="9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77480" y="560196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820960" y="2847960"/>
            <a:ext cx="3687840" cy="205740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2805120" y="3198600"/>
            <a:ext cx="3657600" cy="17240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757760" y="3898800"/>
            <a:ext cx="152280" cy="1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789280" y="2147400"/>
            <a:ext cx="0" cy="3886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608200" y="5575320"/>
            <a:ext cx="44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525360" y="29710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546600" y="46918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460960" y="1886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926400" y="55918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489480" y="5578560"/>
            <a:ext cx="0" cy="2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175280" y="5578560"/>
            <a:ext cx="0" cy="2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2348640" y="3014280"/>
            <a:ext cx="1142280" cy="3132720"/>
            <a:chOff x="2348640" y="3014280"/>
            <a:chExt cx="1142280" cy="3132720"/>
          </a:xfrm>
        </p:grpSpPr>
        <p:grpSp>
          <p:nvGrpSpPr>
            <p:cNvPr id="565" name=""/>
            <p:cNvGrpSpPr/>
            <p:nvPr/>
          </p:nvGrpSpPr>
          <p:grpSpPr>
            <a:xfrm>
              <a:off x="2348640" y="3014280"/>
              <a:ext cx="1142280" cy="3132720"/>
              <a:chOff x="2348640" y="3014280"/>
              <a:chExt cx="1142280" cy="3132720"/>
            </a:xfrm>
          </p:grpSpPr>
          <p:sp>
            <p:nvSpPr>
              <p:cNvPr id="566" name=""/>
              <p:cNvSpPr/>
              <p:nvPr/>
            </p:nvSpPr>
            <p:spPr>
              <a:xfrm>
                <a:off x="2958120" y="5741280"/>
                <a:ext cx="401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Casual"/>
                  </a:rPr>
                  <a:t>q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Lucida Casu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790720" y="3232080"/>
                <a:ext cx="700200" cy="234792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348640" y="3014280"/>
                <a:ext cx="401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Casual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Lucida Casu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790720" y="5792760"/>
                <a:ext cx="7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2732040" y="3230640"/>
              <a:ext cx="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2347200" y="3362040"/>
            <a:ext cx="1828080" cy="2783520"/>
            <a:chOff x="2347200" y="3362040"/>
            <a:chExt cx="1828080" cy="2783520"/>
          </a:xfrm>
        </p:grpSpPr>
        <p:sp>
          <p:nvSpPr>
            <p:cNvPr id="572" name=""/>
            <p:cNvSpPr/>
            <p:nvPr/>
          </p:nvSpPr>
          <p:spPr>
            <a:xfrm>
              <a:off x="3489480" y="3611520"/>
              <a:ext cx="685800" cy="196704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2712600" y="3611520"/>
              <a:ext cx="776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347200" y="336204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Lucida Casu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521160" y="5791320"/>
              <a:ext cx="6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642480" y="573984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q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Lucida Casu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2347200" y="3744360"/>
            <a:ext cx="2483640" cy="2401200"/>
            <a:chOff x="2347200" y="3744360"/>
            <a:chExt cx="2483640" cy="2401200"/>
          </a:xfrm>
        </p:grpSpPr>
        <p:grpSp>
          <p:nvGrpSpPr>
            <p:cNvPr id="578" name=""/>
            <p:cNvGrpSpPr/>
            <p:nvPr/>
          </p:nvGrpSpPr>
          <p:grpSpPr>
            <a:xfrm>
              <a:off x="2347200" y="3744360"/>
              <a:ext cx="2483640" cy="2401200"/>
              <a:chOff x="2347200" y="3744360"/>
              <a:chExt cx="2483640" cy="2401200"/>
            </a:xfrm>
          </p:grpSpPr>
          <p:sp>
            <p:nvSpPr>
              <p:cNvPr id="579" name=""/>
              <p:cNvSpPr/>
              <p:nvPr/>
            </p:nvSpPr>
            <p:spPr>
              <a:xfrm>
                <a:off x="2347200" y="3744360"/>
                <a:ext cx="401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Casual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Lucida Casu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175280" y="3978360"/>
                <a:ext cx="655560" cy="160020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1" name=""/>
              <p:cNvGrpSpPr/>
              <p:nvPr/>
            </p:nvGrpSpPr>
            <p:grpSpPr>
              <a:xfrm>
                <a:off x="4221000" y="4038480"/>
                <a:ext cx="609840" cy="2107080"/>
                <a:chOff x="4221000" y="4038480"/>
                <a:chExt cx="609840" cy="21070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4830840" y="4038480"/>
                  <a:ext cx="0" cy="178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4221000" y="5791320"/>
                  <a:ext cx="608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330080" y="5739840"/>
                  <a:ext cx="4017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Casual"/>
                    </a:rPr>
                    <a:t>q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Lucida Casu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5" name=""/>
              <p:cNvSpPr/>
              <p:nvPr/>
            </p:nvSpPr>
            <p:spPr>
              <a:xfrm flipH="1">
                <a:off x="2759040" y="3976560"/>
                <a:ext cx="13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 flipH="1">
              <a:off x="2712600" y="397836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2790720" y="2828880"/>
            <a:ext cx="2057400" cy="1143000"/>
          </a:xfrm>
          <a:custGeom>
            <a:avLst/>
            <a:gdLst/>
            <a:ahLst/>
            <a:rect l="l" t="t" r="r" b="b"/>
            <a:pathLst>
              <a:path w="1296" h="720">
                <a:moveTo>
                  <a:pt x="0" y="720"/>
                </a:moveTo>
                <a:lnTo>
                  <a:pt x="1296" y="720"/>
                </a:lnTo>
                <a:lnTo>
                  <a:pt x="0" y="0"/>
                </a:lnTo>
                <a:lnTo>
                  <a:pt x="0" y="72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826160" y="557856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820960" y="2847960"/>
            <a:ext cx="3687840" cy="205740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2805120" y="3198600"/>
            <a:ext cx="3657600" cy="17240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757760" y="3898800"/>
            <a:ext cx="152280" cy="1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62120" y="95256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cedente do Consumidor com Diferenciação de Pre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2789280" y="3978360"/>
            <a:ext cx="2041560" cy="16002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789280" y="2835360"/>
            <a:ext cx="2057400" cy="1143000"/>
          </a:xfrm>
          <a:custGeom>
            <a:avLst/>
            <a:gdLst/>
            <a:ahLst/>
            <a:rect l="l" t="t" r="r" b="b"/>
            <a:pathLst>
              <a:path w="1296" h="720">
                <a:moveTo>
                  <a:pt x="0" y="720"/>
                </a:moveTo>
                <a:lnTo>
                  <a:pt x="1296" y="720"/>
                </a:lnTo>
                <a:lnTo>
                  <a:pt x="0" y="0"/>
                </a:lnTo>
                <a:lnTo>
                  <a:pt x="0" y="72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2789280" y="2147400"/>
            <a:ext cx="0" cy="3886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608200" y="5575320"/>
            <a:ext cx="44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525360" y="29710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546600" y="46918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460960" y="1886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926400" y="55918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830840" y="4038480"/>
            <a:ext cx="0" cy="17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712600" y="3978360"/>
            <a:ext cx="204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956680" y="573984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89280" y="3230640"/>
            <a:ext cx="700200" cy="23479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47200" y="375876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89480" y="3611520"/>
            <a:ext cx="685800" cy="19670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2789280" y="3978360"/>
            <a:ext cx="13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2712600" y="3611520"/>
            <a:ext cx="7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347200" y="336204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347200" y="299664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697120" y="3230640"/>
            <a:ext cx="9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489480" y="5578560"/>
            <a:ext cx="0" cy="2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175280" y="5578560"/>
            <a:ext cx="0" cy="2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89280" y="5791320"/>
            <a:ext cx="7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521160" y="5791320"/>
            <a:ext cx="654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221000" y="579132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330080" y="573984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642480" y="573984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820960" y="2847960"/>
            <a:ext cx="3687840" cy="205740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805120" y="3198600"/>
            <a:ext cx="3657600" cy="17240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757760" y="3898800"/>
            <a:ext cx="152280" cy="1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2120" y="95256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cedente do Consumidor com Diferenciação de Pre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ODUTOS CUSTOMIZ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000" y="1905120"/>
            <a:ext cx="7852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reço dependente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tualidade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cotação da bolsa, informes meteorológicos)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06240" y="2209680"/>
            <a:ext cx="155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Ski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6212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stratégias de Fixação de Pre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2440" y="2209680"/>
            <a:ext cx="682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Ski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eços de lançamento para penetração no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212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stratégias de Fixação de Pre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32440" y="2209680"/>
            <a:ext cx="682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Ski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lançamento para penetração no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eços diferenciados por linhas de 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12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stratégias de Fixação de Pre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2440" y="2209680"/>
            <a:ext cx="6825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Ski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lançamento para penetração no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iferenciados por linhas de 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eços de produtos c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stratégias de Fixação de Pre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32440" y="2209680"/>
            <a:ext cx="682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Ski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lançamento para penetração no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iferenciados por linhas de 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produtos c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eços de sub-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6212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stratégias de Fixação de Pre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32440" y="2209680"/>
            <a:ext cx="6825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Ski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lançamento para penetração no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iferenciados por linhas de 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produtos c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sub-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eços de bund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6212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stratégias de Fixação de Pre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32440" y="2209680"/>
            <a:ext cx="6825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Ski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lançamento para penetração no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iferenciados por linhas de 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produtos c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sub-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bund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eços segmentados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localidade, classe econôm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6212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stratégias de Fixação de Pre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3600" y="2209680"/>
            <a:ext cx="682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Ski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lançamento para penetração no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iferenciados por linhas de 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produtos c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sub-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bund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segmentados (localidade, classe econôm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eços promocionais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preço isca, bônus, descon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6212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stratégias de Fixação de Pre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91480" y="2209680"/>
            <a:ext cx="706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Ski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lançamento para penetração no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iferenciados por linhas de 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produtos c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sub-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bund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segmentados (localidade, classe econôm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promocionais (preço isca, bônus, descon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eços internacionais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 (FOB, zoneamento, ponto-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12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stratégias de Fixação de Pre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1480" y="2209680"/>
            <a:ext cx="7064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Ski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lançamento para penetração no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iferenciados por linhas de 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produtos c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sub-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bund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segmentados (localidade, classe econôm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promocionais (preço isca, bônus, descon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internacionais (FOB, zoneamento, ponto-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Preços de produtos com prestíg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6212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stratégias de Fixação de Pre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ODUTOS CUSTOMIZ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9080" y="1905120"/>
            <a:ext cx="79466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reço dependente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atualidade (cotação da bolsa, informes meteorológ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opcionais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fontes kangi, corretor ortográfico para russo)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91480" y="2209680"/>
            <a:ext cx="7064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Ski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lançamento para penetração no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iferenciados por linhas de 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produtos c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sub-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bund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segmentados (localidade, classe econôm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promocionais (preço isca, bônus, descon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internacionais (FOB, zoneamento, ponto-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produtos com prestíg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Preços fixados pelo consumidor (lan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6212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stratégias de Fixação de Pre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6212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rva de Aprend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3886200" y="190476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733920" y="37339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872080" y="167580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cu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92200" y="32760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886200" y="2286000"/>
            <a:ext cx="2819520" cy="1295280"/>
          </a:xfrm>
          <a:custGeom>
            <a:avLst/>
            <a:gdLst/>
            <a:ahLst/>
            <a:rect l="l" t="t" r="r" b="b"/>
            <a:pathLst>
              <a:path w="2304" h="1056">
                <a:moveTo>
                  <a:pt x="0" y="0"/>
                </a:moveTo>
                <a:cubicBezTo>
                  <a:pt x="156" y="188"/>
                  <a:pt x="312" y="376"/>
                  <a:pt x="528" y="528"/>
                </a:cubicBezTo>
                <a:cubicBezTo>
                  <a:pt x="744" y="680"/>
                  <a:pt x="1000" y="824"/>
                  <a:pt x="1296" y="912"/>
                </a:cubicBezTo>
                <a:cubicBezTo>
                  <a:pt x="1592" y="1000"/>
                  <a:pt x="2136" y="1032"/>
                  <a:pt x="2304" y="1056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417920" y="2876400"/>
            <a:ext cx="0" cy="844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200320" y="3809880"/>
            <a:ext cx="4133880" cy="2361960"/>
            <a:chOff x="2200320" y="3809880"/>
            <a:chExt cx="4133880" cy="2361960"/>
          </a:xfrm>
        </p:grpSpPr>
        <p:sp>
          <p:nvSpPr>
            <p:cNvPr id="692" name=""/>
            <p:cNvSpPr/>
            <p:nvPr/>
          </p:nvSpPr>
          <p:spPr>
            <a:xfrm>
              <a:off x="4419720" y="3809880"/>
              <a:ext cx="0" cy="83844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2200320" y="3961800"/>
              <a:ext cx="4133880" cy="2210040"/>
              <a:chOff x="2200320" y="3961800"/>
              <a:chExt cx="4133880" cy="2210040"/>
            </a:xfrm>
          </p:grpSpPr>
          <p:sp>
            <p:nvSpPr>
              <p:cNvPr id="694" name=""/>
              <p:cNvSpPr/>
              <p:nvPr/>
            </p:nvSpPr>
            <p:spPr>
              <a:xfrm flipV="1">
                <a:off x="2590920" y="4190760"/>
                <a:ext cx="0" cy="19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438280" y="6019920"/>
                <a:ext cx="350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590920" y="4572000"/>
                <a:ext cx="2819160" cy="1295280"/>
              </a:xfrm>
              <a:custGeom>
                <a:avLst/>
                <a:gdLst/>
                <a:ahLst/>
                <a:rect l="l" t="t" r="r" b="b"/>
                <a:pathLst>
                  <a:path w="2304" h="816">
                    <a:moveTo>
                      <a:pt x="0" y="0"/>
                    </a:moveTo>
                    <a:cubicBezTo>
                      <a:pt x="130" y="74"/>
                      <a:pt x="522" y="325"/>
                      <a:pt x="778" y="442"/>
                    </a:cubicBezTo>
                    <a:cubicBezTo>
                      <a:pt x="1034" y="559"/>
                      <a:pt x="1282" y="639"/>
                      <a:pt x="1536" y="701"/>
                    </a:cubicBezTo>
                    <a:cubicBezTo>
                      <a:pt x="1790" y="763"/>
                      <a:pt x="2144" y="792"/>
                      <a:pt x="2304" y="816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200320" y="396180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Casu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008760" y="579060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Casu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743200" y="4724280"/>
                <a:ext cx="1676520" cy="1067040"/>
              </a:xfrm>
              <a:custGeom>
                <a:avLst/>
                <a:gdLst/>
                <a:ahLst/>
                <a:rect l="l" t="t" r="r" b="b"/>
                <a:pathLst>
                  <a:path w="1056" h="672">
                    <a:moveTo>
                      <a:pt x="0" y="672"/>
                    </a:moveTo>
                    <a:cubicBezTo>
                      <a:pt x="176" y="608"/>
                      <a:pt x="352" y="544"/>
                      <a:pt x="528" y="432"/>
                    </a:cubicBezTo>
                    <a:cubicBezTo>
                      <a:pt x="704" y="320"/>
                      <a:pt x="968" y="72"/>
                      <a:pt x="1056" y="0"/>
                    </a:cubicBez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619440" y="5318280"/>
                <a:ext cx="92160" cy="856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2575080" y="5357880"/>
                <a:ext cx="104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659040" y="5403960"/>
                <a:ext cx="0" cy="60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212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rva de Aprend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3886200" y="190476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733920" y="37339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872080" y="167580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cu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92200" y="32760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86200" y="2286000"/>
            <a:ext cx="2819520" cy="1295280"/>
          </a:xfrm>
          <a:custGeom>
            <a:avLst/>
            <a:gdLst/>
            <a:ahLst/>
            <a:rect l="l" t="t" r="r" b="b"/>
            <a:pathLst>
              <a:path w="2304" h="1056">
                <a:moveTo>
                  <a:pt x="0" y="0"/>
                </a:moveTo>
                <a:cubicBezTo>
                  <a:pt x="156" y="188"/>
                  <a:pt x="312" y="376"/>
                  <a:pt x="528" y="528"/>
                </a:cubicBezTo>
                <a:cubicBezTo>
                  <a:pt x="744" y="680"/>
                  <a:pt x="1000" y="824"/>
                  <a:pt x="1296" y="912"/>
                </a:cubicBezTo>
                <a:cubicBezTo>
                  <a:pt x="1592" y="1000"/>
                  <a:pt x="2136" y="1032"/>
                  <a:pt x="2304" y="1056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590920" y="419076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438280" y="6019920"/>
            <a:ext cx="3505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90920" y="4572000"/>
            <a:ext cx="2819160" cy="1295280"/>
          </a:xfrm>
          <a:custGeom>
            <a:avLst/>
            <a:gdLst/>
            <a:ahLst/>
            <a:rect l="l" t="t" r="r" b="b"/>
            <a:pathLst>
              <a:path w="2304" h="816">
                <a:moveTo>
                  <a:pt x="0" y="0"/>
                </a:moveTo>
                <a:cubicBezTo>
                  <a:pt x="130" y="74"/>
                  <a:pt x="522" y="325"/>
                  <a:pt x="778" y="442"/>
                </a:cubicBezTo>
                <a:cubicBezTo>
                  <a:pt x="1034" y="559"/>
                  <a:pt x="1282" y="639"/>
                  <a:pt x="1536" y="701"/>
                </a:cubicBezTo>
                <a:cubicBezTo>
                  <a:pt x="1790" y="763"/>
                  <a:pt x="2144" y="792"/>
                  <a:pt x="2304" y="816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00320" y="39618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008760" y="5790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743200" y="4724280"/>
            <a:ext cx="1676520" cy="1067040"/>
          </a:xfrm>
          <a:custGeom>
            <a:avLst/>
            <a:gdLst/>
            <a:ahLst/>
            <a:rect l="l" t="t" r="r" b="b"/>
            <a:pathLst>
              <a:path w="1056" h="672">
                <a:moveTo>
                  <a:pt x="0" y="672"/>
                </a:moveTo>
                <a:cubicBezTo>
                  <a:pt x="176" y="608"/>
                  <a:pt x="352" y="544"/>
                  <a:pt x="528" y="432"/>
                </a:cubicBezTo>
                <a:cubicBezTo>
                  <a:pt x="704" y="320"/>
                  <a:pt x="968" y="72"/>
                  <a:pt x="1056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419720" y="3809880"/>
            <a:ext cx="0" cy="8384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417920" y="2876400"/>
            <a:ext cx="0" cy="844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5025960" y="3242880"/>
            <a:ext cx="0" cy="48276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619440" y="5318280"/>
            <a:ext cx="92160" cy="856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2585880" y="3809880"/>
            <a:ext cx="2443320" cy="2205000"/>
            <a:chOff x="2585880" y="3809880"/>
            <a:chExt cx="2443320" cy="2205000"/>
          </a:xfrm>
        </p:grpSpPr>
        <p:sp>
          <p:nvSpPr>
            <p:cNvPr id="723" name=""/>
            <p:cNvSpPr/>
            <p:nvPr/>
          </p:nvSpPr>
          <p:spPr>
            <a:xfrm>
              <a:off x="4075200" y="55767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2585880" y="5553000"/>
              <a:ext cx="147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52680" y="480060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176" y="608"/>
                    <a:pt x="352" y="544"/>
                    <a:pt x="528" y="432"/>
                  </a:cubicBezTo>
                  <a:cubicBezTo>
                    <a:pt x="704" y="320"/>
                    <a:pt x="968" y="72"/>
                    <a:pt x="1056" y="0"/>
                  </a:cubicBezTo>
                </a:path>
              </a:pathLst>
            </a:custGeom>
            <a:noFill/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029200" y="3809880"/>
              <a:ext cx="0" cy="9144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037040" y="5504040"/>
              <a:ext cx="92160" cy="85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 flipH="1">
            <a:off x="2575080" y="5357880"/>
            <a:ext cx="1049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659040" y="5403960"/>
            <a:ext cx="0" cy="600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6212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rva de Aprend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3886200" y="190476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733920" y="37339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872080" y="167580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cu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92200" y="32760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886200" y="2286000"/>
            <a:ext cx="2819520" cy="1295280"/>
          </a:xfrm>
          <a:custGeom>
            <a:avLst/>
            <a:gdLst/>
            <a:ahLst/>
            <a:rect l="l" t="t" r="r" b="b"/>
            <a:pathLst>
              <a:path w="2304" h="1056">
                <a:moveTo>
                  <a:pt x="0" y="0"/>
                </a:moveTo>
                <a:cubicBezTo>
                  <a:pt x="156" y="188"/>
                  <a:pt x="312" y="376"/>
                  <a:pt x="528" y="528"/>
                </a:cubicBezTo>
                <a:cubicBezTo>
                  <a:pt x="744" y="680"/>
                  <a:pt x="1000" y="824"/>
                  <a:pt x="1296" y="912"/>
                </a:cubicBezTo>
                <a:cubicBezTo>
                  <a:pt x="1592" y="1000"/>
                  <a:pt x="2136" y="1032"/>
                  <a:pt x="2304" y="1056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2590920" y="419076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438280" y="6019920"/>
            <a:ext cx="3505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590920" y="4572000"/>
            <a:ext cx="2819160" cy="1295280"/>
          </a:xfrm>
          <a:custGeom>
            <a:avLst/>
            <a:gdLst/>
            <a:ahLst/>
            <a:rect l="l" t="t" r="r" b="b"/>
            <a:pathLst>
              <a:path w="2304" h="816">
                <a:moveTo>
                  <a:pt x="0" y="0"/>
                </a:moveTo>
                <a:cubicBezTo>
                  <a:pt x="130" y="74"/>
                  <a:pt x="522" y="325"/>
                  <a:pt x="778" y="442"/>
                </a:cubicBezTo>
                <a:cubicBezTo>
                  <a:pt x="1034" y="559"/>
                  <a:pt x="1282" y="639"/>
                  <a:pt x="1536" y="701"/>
                </a:cubicBezTo>
                <a:cubicBezTo>
                  <a:pt x="1790" y="763"/>
                  <a:pt x="2144" y="792"/>
                  <a:pt x="2304" y="816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200320" y="39618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08760" y="5790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743200" y="4724280"/>
            <a:ext cx="1676520" cy="1067040"/>
          </a:xfrm>
          <a:custGeom>
            <a:avLst/>
            <a:gdLst/>
            <a:ahLst/>
            <a:rect l="l" t="t" r="r" b="b"/>
            <a:pathLst>
              <a:path w="1056" h="672">
                <a:moveTo>
                  <a:pt x="0" y="672"/>
                </a:moveTo>
                <a:cubicBezTo>
                  <a:pt x="176" y="608"/>
                  <a:pt x="352" y="544"/>
                  <a:pt x="528" y="432"/>
                </a:cubicBezTo>
                <a:cubicBezTo>
                  <a:pt x="704" y="320"/>
                  <a:pt x="968" y="72"/>
                  <a:pt x="1056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352680" y="4800600"/>
            <a:ext cx="1676520" cy="1066680"/>
          </a:xfrm>
          <a:custGeom>
            <a:avLst/>
            <a:gdLst/>
            <a:ahLst/>
            <a:rect l="l" t="t" r="r" b="b"/>
            <a:pathLst>
              <a:path w="1056" h="672">
                <a:moveTo>
                  <a:pt x="0" y="672"/>
                </a:moveTo>
                <a:cubicBezTo>
                  <a:pt x="176" y="608"/>
                  <a:pt x="352" y="544"/>
                  <a:pt x="528" y="432"/>
                </a:cubicBezTo>
                <a:cubicBezTo>
                  <a:pt x="704" y="320"/>
                  <a:pt x="968" y="72"/>
                  <a:pt x="1056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5025960" y="3242880"/>
            <a:ext cx="0" cy="4827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5638680" y="3428640"/>
            <a:ext cx="0" cy="304920"/>
          </a:xfrm>
          <a:prstGeom prst="line">
            <a:avLst/>
          </a:prstGeom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419720" y="3809880"/>
            <a:ext cx="0" cy="8384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3809880"/>
            <a:ext cx="0" cy="914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417920" y="2876400"/>
            <a:ext cx="0" cy="844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75200" y="557676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2585880" y="5553000"/>
            <a:ext cx="1478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619440" y="5318280"/>
            <a:ext cx="92160" cy="856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037040" y="5504040"/>
            <a:ext cx="92160" cy="856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2575080" y="5357880"/>
            <a:ext cx="1049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659040" y="5403960"/>
            <a:ext cx="0" cy="600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2585520" y="3809880"/>
            <a:ext cx="3053160" cy="2205000"/>
            <a:chOff x="2585520" y="3809880"/>
            <a:chExt cx="3053160" cy="2205000"/>
          </a:xfrm>
        </p:grpSpPr>
        <p:sp>
          <p:nvSpPr>
            <p:cNvPr id="758" name=""/>
            <p:cNvSpPr/>
            <p:nvPr/>
          </p:nvSpPr>
          <p:spPr>
            <a:xfrm>
              <a:off x="3962520" y="4876920"/>
              <a:ext cx="167616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176" y="608"/>
                    <a:pt x="352" y="544"/>
                    <a:pt x="528" y="432"/>
                  </a:cubicBezTo>
                  <a:cubicBezTo>
                    <a:pt x="704" y="320"/>
                    <a:pt x="968" y="72"/>
                    <a:pt x="1056" y="0"/>
                  </a:cubicBezTo>
                </a:path>
              </a:pathLst>
            </a:custGeom>
            <a:noFill/>
            <a:ln w="38160">
              <a:solidFill>
                <a:srgbClr val="99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638680" y="3809880"/>
              <a:ext cx="0" cy="990720"/>
            </a:xfrm>
            <a:prstGeom prst="line">
              <a:avLst/>
            </a:prstGeom>
            <a:ln w="9360">
              <a:solidFill>
                <a:srgbClr val="99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491000" y="5667480"/>
              <a:ext cx="92160" cy="85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2585520" y="5703840"/>
              <a:ext cx="189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537080" y="573876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2360520" y="5197320"/>
            <a:ext cx="2333880" cy="1020960"/>
            <a:chOff x="2360520" y="5197320"/>
            <a:chExt cx="2333880" cy="1020960"/>
          </a:xfrm>
        </p:grpSpPr>
        <p:sp>
          <p:nvSpPr>
            <p:cNvPr id="764" name=""/>
            <p:cNvSpPr/>
            <p:nvPr/>
          </p:nvSpPr>
          <p:spPr>
            <a:xfrm>
              <a:off x="3551400" y="6218280"/>
              <a:ext cx="11430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360520" y="5197320"/>
              <a:ext cx="0" cy="6541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971640" y="1905120"/>
            <a:ext cx="410328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Lucida Casual"/>
              </a:rPr>
              <a:t>Recapitu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ustomização de 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erfil do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ivac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Diferenciação de Preç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ompetição Monopol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488040" y="1010520"/>
            <a:ext cx="25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11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84080" y="23702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03800" y="1852200"/>
            <a:ext cx="76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Havia sido visto no módulo de 6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pt-BR" sz="1800" spc="-1" strike="noStrike">
                <a:solidFill>
                  <a:srgbClr val="0000ff"/>
                </a:solidFill>
                <a:latin typeface="Arial"/>
              </a:rPr>
              <a:t>Custos e Preços na Concorrênc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ff"/>
                </a:solidFill>
                <a:latin typeface="Arial"/>
              </a:rPr>
              <a:t>Perfeita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que o preço ótimo para o produtor é dado pela fórm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690720" y="27122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p = C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18840" y="3456360"/>
            <a:ext cx="771696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Neste contexto,  analise a razão da existência de outros critério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como </a:t>
            </a: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Skimming, Preços de lançamento para penetração 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mercado, Preços de produtos cativos, Preços segment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(localidade, classe econômica), Preços promocionais (preç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isca, bônus, descontos), Preços de produtos com prestígi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Preços fixados pelo consumidor (lanc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934000" y="294696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Obrigado Pela Atençã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336760" y="2251080"/>
            <a:ext cx="4978440" cy="1976400"/>
          </a:xfrm>
          <a:prstGeom prst="cloudCallout">
            <a:avLst>
              <a:gd name="adj1" fmla="val -58865"/>
              <a:gd name="adj2" fmla="val 1376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ODUTOS CUSTOMIZ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9080" y="1905120"/>
            <a:ext cx="794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reço dependente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atualidade (cotação da bolsa, informes meteorológ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opcionais (fontes kangi, corretor ortográfico para rus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detalhe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embrulho para presente, encadern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ODUTOS CUSTOMIZ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9080" y="1905120"/>
            <a:ext cx="794664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reço dependente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atualidade (cotação da bolsa, informes meteorológ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opcionais (fontes kangi, corretor ortográfico para rus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detalhe (embrulho para presente, encadern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tempo de resposta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FedEx, UPS, Surface Mai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ODUTOS CUSTOMIZ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9080" y="1905120"/>
            <a:ext cx="794664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reço dependente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atualidade (cotação da bolsa, informes meteorológ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opcionais (fontes kangi, corretor ortográfico para rus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detalhe (embrulho para presente, encadern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tempo de resposta (FedEx, UPS, Surface Mai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qualidade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256 cores x 16 milhões de c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ODUTOS CUSTOMIZ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9080" y="1905120"/>
            <a:ext cx="79466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reço dependente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atualidade (cotação da bolsa, informes meteorológ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opcionais (fontes kangi, corretor ortográfico para rus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detalhe (embrulho para presente, encadern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tempo de resposta (FedEx, UPS, Surface Mai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qualidade (256 cores x 16 milhões de c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ertificação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especificação militar, selo ver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Elena Yoshie Sato Yoneyama</cp:lastModifiedBy>
  <cp:lastPrinted>2000-05-03T14:19:10Z</cp:lastPrinted>
  <dcterms:modified xsi:type="dcterms:W3CDTF">2003-03-28T23:15:50Z</dcterms:modified>
  <cp:revision>147</cp:revision>
  <dc:subject/>
  <dc:title>Customizados</dc:title>
</cp:coreProperties>
</file>