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9DC-73A5-406F-8140-B2B97542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CB8-EBCB-4416-A94A-62F933CF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A2B-D7A8-4CD7-8C33-8F004C57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FAA-6984-4BFC-9216-BED3B5EC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AE9-B63C-4545-97A1-D2A1FC64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EB1-072E-498E-BFB0-99FB6A8A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248-59A2-4F33-881D-51FD4728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E24-9210-434E-AEFE-71F1F1F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1F6-0A3C-49EE-869E-BFC4A269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A9A-C0A7-41C5-8DCE-4E74196C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66C-B2AA-435D-A886-A56F0C94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3F7-242D-4A46-9D7C-DB14E32F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3BE2-1BD3-440F-B39B-F96748E2E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9880" y="59472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Cu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99160" y="591264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993960" y="365436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47840" y="3078000"/>
            <a:ext cx="3283200" cy="246096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4184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16600" y="25423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44040" y="40237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76520" y="17679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527364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1600" y="5623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452160" y="336384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00280" y="2789280"/>
            <a:ext cx="3282840" cy="246060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4184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88600" y="2634840"/>
            <a:ext cx="40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16120" y="2071800"/>
            <a:ext cx="3282840" cy="316224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74560" y="1856880"/>
            <a:ext cx="40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221000" y="1966680"/>
            <a:ext cx="0" cy="32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221000" y="2423880"/>
            <a:ext cx="0" cy="6238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30840" y="3351240"/>
            <a:ext cx="3475080" cy="1693800"/>
          </a:xfrm>
          <a:prstGeom prst="wedgeRoundRectCallout">
            <a:avLst>
              <a:gd name="adj1" fmla="val -65439"/>
              <a:gd name="adj2" fmla="val -8580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om maior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(p.ex. máquinas melh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obtem-se maior volum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rodução com a me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quantidade de mão de o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4184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94560" y="28774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286000"/>
            <a:ext cx="2666880" cy="3276720"/>
            <a:chOff x="3505320" y="2286000"/>
            <a:chExt cx="2666880" cy="3276720"/>
          </a:xfrm>
        </p:grpSpPr>
        <p:sp>
          <p:nvSpPr>
            <p:cNvPr id="168" name=""/>
            <p:cNvSpPr/>
            <p:nvPr/>
          </p:nvSpPr>
          <p:spPr>
            <a:xfrm>
              <a:off x="3505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6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67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1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72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133800" y="3063960"/>
            <a:ext cx="3282840" cy="246060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5380200"/>
            <a:ext cx="0" cy="182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513240" y="5211720"/>
            <a:ext cx="380880" cy="176400"/>
            <a:chOff x="3513240" y="5211720"/>
            <a:chExt cx="380880" cy="176400"/>
          </a:xfrm>
        </p:grpSpPr>
        <p:sp>
          <p:nvSpPr>
            <p:cNvPr id="179" name=""/>
            <p:cNvSpPr/>
            <p:nvPr/>
          </p:nvSpPr>
          <p:spPr>
            <a:xfrm>
              <a:off x="3894120" y="5211720"/>
              <a:ext cx="0" cy="174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3240" y="538812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894120" y="4967280"/>
            <a:ext cx="372960" cy="249120"/>
            <a:chOff x="3894120" y="4967280"/>
            <a:chExt cx="372960" cy="249120"/>
          </a:xfrm>
        </p:grpSpPr>
        <p:sp>
          <p:nvSpPr>
            <p:cNvPr id="182" name=""/>
            <p:cNvSpPr/>
            <p:nvPr/>
          </p:nvSpPr>
          <p:spPr>
            <a:xfrm>
              <a:off x="4267080" y="4967280"/>
              <a:ext cx="0" cy="249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94120" y="521172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259160" y="4457880"/>
            <a:ext cx="389160" cy="495000"/>
            <a:chOff x="4259160" y="4457880"/>
            <a:chExt cx="389160" cy="495000"/>
          </a:xfrm>
        </p:grpSpPr>
        <p:sp>
          <p:nvSpPr>
            <p:cNvPr id="185" name=""/>
            <p:cNvSpPr/>
            <p:nvPr/>
          </p:nvSpPr>
          <p:spPr>
            <a:xfrm>
              <a:off x="4648320" y="4457880"/>
              <a:ext cx="0" cy="493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59160" y="495288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648320" y="3138480"/>
            <a:ext cx="1523880" cy="1324080"/>
            <a:chOff x="4648320" y="3138480"/>
            <a:chExt cx="1523880" cy="1324080"/>
          </a:xfrm>
        </p:grpSpPr>
        <p:sp>
          <p:nvSpPr>
            <p:cNvPr id="188" name=""/>
            <p:cNvSpPr/>
            <p:nvPr/>
          </p:nvSpPr>
          <p:spPr>
            <a:xfrm>
              <a:off x="4648320" y="4457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29200" y="3970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350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91320" y="3276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21280" y="3968640"/>
              <a:ext cx="0" cy="493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3503520"/>
              <a:ext cx="0" cy="463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83400" y="3282840"/>
              <a:ext cx="0" cy="219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2200" y="3138480"/>
              <a:ext cx="0" cy="136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1035000" y="359388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4184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5380200"/>
            <a:ext cx="0" cy="182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4120" y="5211720"/>
            <a:ext cx="0" cy="184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4951440"/>
            <a:ext cx="0" cy="264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4457880"/>
            <a:ext cx="0" cy="493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3240" y="538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94120" y="521172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9160" y="495288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648320" y="4455720"/>
            <a:ext cx="36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2200" y="397044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1280" y="3968640"/>
            <a:ext cx="0" cy="493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3503520"/>
            <a:ext cx="0" cy="463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83400" y="3273480"/>
            <a:ext cx="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3138480"/>
            <a:ext cx="0" cy="136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1035000" y="359388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4184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5450040"/>
            <a:ext cx="0" cy="112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2960" y="5373720"/>
            <a:ext cx="0" cy="183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5251320"/>
            <a:ext cx="0" cy="324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37160" y="5057640"/>
            <a:ext cx="0" cy="493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97520" y="5019840"/>
            <a:ext cx="0" cy="550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75160" y="5095800"/>
            <a:ext cx="0" cy="463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37320" y="5318280"/>
            <a:ext cx="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67440" y="5437080"/>
            <a:ext cx="0" cy="136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1095840" y="36032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td p/ Mão de Obr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/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4184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05320"/>
            <a:ext cx="0" cy="246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4905360"/>
            <a:ext cx="0" cy="662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4335480"/>
            <a:ext cx="0" cy="1239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37160" y="3693960"/>
            <a:ext cx="0" cy="1871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97520" y="3506760"/>
            <a:ext cx="0" cy="20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75160" y="3790800"/>
            <a:ext cx="0" cy="1760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37320" y="4618080"/>
            <a:ext cx="0" cy="931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67440" y="5129280"/>
            <a:ext cx="0" cy="439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1095840" y="36032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td p/ Mão de Obr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/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151080" y="3483000"/>
            <a:ext cx="3471120" cy="2070000"/>
            <a:chOff x="3151080" y="3483000"/>
            <a:chExt cx="3471120" cy="2070000"/>
          </a:xfrm>
        </p:grpSpPr>
        <p:sp>
          <p:nvSpPr>
            <p:cNvPr id="257" name=""/>
            <p:cNvSpPr/>
            <p:nvPr/>
          </p:nvSpPr>
          <p:spPr>
            <a:xfrm>
              <a:off x="3151080" y="3483000"/>
              <a:ext cx="2932200" cy="2070000"/>
            </a:xfrm>
            <a:custGeom>
              <a:avLst/>
              <a:gdLst/>
              <a:ahLst/>
              <a:rect l="l" t="t" r="r" b="b"/>
              <a:pathLst>
                <a:path w="1847" h="1304">
                  <a:moveTo>
                    <a:pt x="0" y="1304"/>
                  </a:moveTo>
                  <a:cubicBezTo>
                    <a:pt x="38" y="1277"/>
                    <a:pt x="148" y="1213"/>
                    <a:pt x="226" y="1144"/>
                  </a:cubicBezTo>
                  <a:cubicBezTo>
                    <a:pt x="304" y="1075"/>
                    <a:pt x="389" y="989"/>
                    <a:pt x="466" y="890"/>
                  </a:cubicBezTo>
                  <a:cubicBezTo>
                    <a:pt x="543" y="791"/>
                    <a:pt x="614" y="674"/>
                    <a:pt x="691" y="548"/>
                  </a:cubicBezTo>
                  <a:cubicBezTo>
                    <a:pt x="768" y="422"/>
                    <a:pt x="852" y="223"/>
                    <a:pt x="931" y="133"/>
                  </a:cubicBezTo>
                  <a:cubicBezTo>
                    <a:pt x="1010" y="43"/>
                    <a:pt x="1084" y="0"/>
                    <a:pt x="1164" y="10"/>
                  </a:cubicBezTo>
                  <a:cubicBezTo>
                    <a:pt x="1244" y="20"/>
                    <a:pt x="1332" y="77"/>
                    <a:pt x="1411" y="192"/>
                  </a:cubicBezTo>
                  <a:cubicBezTo>
                    <a:pt x="1490" y="307"/>
                    <a:pt x="1563" y="559"/>
                    <a:pt x="1636" y="701"/>
                  </a:cubicBezTo>
                  <a:cubicBezTo>
                    <a:pt x="1709" y="843"/>
                    <a:pt x="1803" y="972"/>
                    <a:pt x="1847" y="104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38560" y="431244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PM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468520" y="2041560"/>
            <a:ext cx="366840" cy="34448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850320" y="361836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odutividade Marginal (P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184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151080" y="2128680"/>
            <a:ext cx="5364360" cy="3424320"/>
            <a:chOff x="3151080" y="2128680"/>
            <a:chExt cx="5364360" cy="3424320"/>
          </a:xfrm>
        </p:grpSpPr>
        <p:grpSp>
          <p:nvGrpSpPr>
            <p:cNvPr id="270" name=""/>
            <p:cNvGrpSpPr/>
            <p:nvPr/>
          </p:nvGrpSpPr>
          <p:grpSpPr>
            <a:xfrm>
              <a:off x="3151080" y="2128680"/>
              <a:ext cx="5364360" cy="3424320"/>
              <a:chOff x="3151080" y="2128680"/>
              <a:chExt cx="5364360" cy="3424320"/>
            </a:xfrm>
          </p:grpSpPr>
          <p:sp>
            <p:nvSpPr>
              <p:cNvPr id="271" name=""/>
              <p:cNvSpPr/>
              <p:nvPr/>
            </p:nvSpPr>
            <p:spPr>
              <a:xfrm>
                <a:off x="3151080" y="3483000"/>
                <a:ext cx="2932200" cy="2070000"/>
              </a:xfrm>
              <a:custGeom>
                <a:avLst/>
                <a:gdLst/>
                <a:ahLst/>
                <a:rect l="l" t="t" r="r" b="b"/>
                <a:pathLst>
                  <a:path w="1847" h="1304">
                    <a:moveTo>
                      <a:pt x="0" y="1304"/>
                    </a:moveTo>
                    <a:cubicBezTo>
                      <a:pt x="38" y="1277"/>
                      <a:pt x="148" y="1213"/>
                      <a:pt x="226" y="1144"/>
                    </a:cubicBezTo>
                    <a:cubicBezTo>
                      <a:pt x="304" y="1075"/>
                      <a:pt x="389" y="989"/>
                      <a:pt x="466" y="890"/>
                    </a:cubicBezTo>
                    <a:cubicBezTo>
                      <a:pt x="543" y="791"/>
                      <a:pt x="614" y="674"/>
                      <a:pt x="691" y="548"/>
                    </a:cubicBezTo>
                    <a:cubicBezTo>
                      <a:pt x="768" y="422"/>
                      <a:pt x="852" y="223"/>
                      <a:pt x="931" y="133"/>
                    </a:cubicBezTo>
                    <a:cubicBezTo>
                      <a:pt x="1010" y="43"/>
                      <a:pt x="1084" y="0"/>
                      <a:pt x="1164" y="10"/>
                    </a:cubicBezTo>
                    <a:cubicBezTo>
                      <a:pt x="1244" y="20"/>
                      <a:pt x="1332" y="77"/>
                      <a:pt x="1411" y="192"/>
                    </a:cubicBezTo>
                    <a:cubicBezTo>
                      <a:pt x="1490" y="307"/>
                      <a:pt x="1563" y="559"/>
                      <a:pt x="1636" y="701"/>
                    </a:cubicBezTo>
                    <a:cubicBezTo>
                      <a:pt x="1709" y="843"/>
                      <a:pt x="1803" y="972"/>
                      <a:pt x="1847" y="104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246640" y="2128680"/>
                <a:ext cx="3268800" cy="981360"/>
              </a:xfrm>
              <a:prstGeom prst="wedgeRoundRectCallout">
                <a:avLst>
                  <a:gd name="adj1" fmla="val -42472"/>
                  <a:gd name="adj2" fmla="val 122166"/>
                  <a:gd name="adj3" fmla="val 16667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Lucida Casual"/>
                  </a:rPr>
                  <a:t>A Produtividade aumenta c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Lucida Casual"/>
                  </a:rPr>
                  <a:t>a mão de obra, mas sòm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Lucida Casual"/>
                  </a:rPr>
                  <a:t>até um certo po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938560" y="431244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PM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5840" y="9136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02400" y="20995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05320" y="2286000"/>
            <a:ext cx="2666880" cy="3276720"/>
            <a:chOff x="3505320" y="2286000"/>
            <a:chExt cx="2666880" cy="3276720"/>
          </a:xfrm>
        </p:grpSpPr>
        <p:sp>
          <p:nvSpPr>
            <p:cNvPr id="283" name=""/>
            <p:cNvSpPr/>
            <p:nvPr/>
          </p:nvSpPr>
          <p:spPr>
            <a:xfrm>
              <a:off x="3505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6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29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10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91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2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133800" y="2408400"/>
            <a:ext cx="3038400" cy="3130560"/>
          </a:xfrm>
          <a:custGeom>
            <a:avLst/>
            <a:gdLst/>
            <a:ahLst/>
            <a:rect l="l" t="t" r="r" b="b"/>
            <a:pathLst>
              <a:path w="1914" h="1972">
                <a:moveTo>
                  <a:pt x="0" y="1972"/>
                </a:moveTo>
                <a:cubicBezTo>
                  <a:pt x="39" y="1960"/>
                  <a:pt x="155" y="1936"/>
                  <a:pt x="234" y="1897"/>
                </a:cubicBezTo>
                <a:cubicBezTo>
                  <a:pt x="313" y="1858"/>
                  <a:pt x="395" y="1804"/>
                  <a:pt x="474" y="1737"/>
                </a:cubicBezTo>
                <a:cubicBezTo>
                  <a:pt x="553" y="1670"/>
                  <a:pt x="629" y="1615"/>
                  <a:pt x="708" y="1495"/>
                </a:cubicBezTo>
                <a:cubicBezTo>
                  <a:pt x="787" y="1375"/>
                  <a:pt x="867" y="1175"/>
                  <a:pt x="948" y="1015"/>
                </a:cubicBezTo>
                <a:cubicBezTo>
                  <a:pt x="1029" y="855"/>
                  <a:pt x="1113" y="676"/>
                  <a:pt x="1194" y="535"/>
                </a:cubicBezTo>
                <a:cubicBezTo>
                  <a:pt x="1275" y="394"/>
                  <a:pt x="1354" y="250"/>
                  <a:pt x="1434" y="169"/>
                </a:cubicBezTo>
                <a:cubicBezTo>
                  <a:pt x="1514" y="88"/>
                  <a:pt x="1594" y="76"/>
                  <a:pt x="1674" y="48"/>
                </a:cubicBezTo>
                <a:cubicBezTo>
                  <a:pt x="1754" y="20"/>
                  <a:pt x="1864" y="10"/>
                  <a:pt x="191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139920" y="2500200"/>
            <a:ext cx="3276720" cy="2666880"/>
            <a:chOff x="3139920" y="2500200"/>
            <a:chExt cx="3276720" cy="2666880"/>
          </a:xfrm>
        </p:grpSpPr>
        <p:sp>
          <p:nvSpPr>
            <p:cNvPr id="293" name=""/>
            <p:cNvSpPr/>
            <p:nvPr/>
          </p:nvSpPr>
          <p:spPr>
            <a:xfrm>
              <a:off x="3139920" y="516708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39920" y="478620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9920" y="440532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9920" y="402408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39920" y="364320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9920" y="326232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39920" y="288108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39920" y="250020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74472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064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3836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48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46320" y="4716720"/>
            <a:ext cx="86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n</a:t>
            </a:r>
            <a:r>
              <a:rPr b="1" lang="en-US" sz="1400" spc="-1" strike="noStrike" baseline="30000">
                <a:solidFill>
                  <a:srgbClr val="000000"/>
                </a:solidFill>
                <a:latin typeface="Lucida Casu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ar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(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34920" y="5012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34920" y="4631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20520" y="42519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50760" y="3854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34920" y="3504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50760" y="3123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34920" y="2740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34920" y="2375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4000" y="152316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boçar a curva de produtividade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89360" y="19872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Númer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Imagens (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318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25840" y="9136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02400" y="20995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505320" y="2286000"/>
            <a:ext cx="2666880" cy="3276720"/>
            <a:chOff x="3505320" y="2286000"/>
            <a:chExt cx="2666880" cy="3276720"/>
          </a:xfrm>
        </p:grpSpPr>
        <p:sp>
          <p:nvSpPr>
            <p:cNvPr id="331" name=""/>
            <p:cNvSpPr/>
            <p:nvPr/>
          </p:nvSpPr>
          <p:spPr>
            <a:xfrm>
              <a:off x="3505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86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67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48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29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0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91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2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133800" y="2408400"/>
            <a:ext cx="3038400" cy="3130560"/>
          </a:xfrm>
          <a:custGeom>
            <a:avLst/>
            <a:gdLst/>
            <a:ahLst/>
            <a:rect l="l" t="t" r="r" b="b"/>
            <a:pathLst>
              <a:path w="1914" h="1972">
                <a:moveTo>
                  <a:pt x="0" y="1972"/>
                </a:moveTo>
                <a:cubicBezTo>
                  <a:pt x="39" y="1960"/>
                  <a:pt x="155" y="1936"/>
                  <a:pt x="234" y="1897"/>
                </a:cubicBezTo>
                <a:cubicBezTo>
                  <a:pt x="313" y="1858"/>
                  <a:pt x="395" y="1804"/>
                  <a:pt x="474" y="1737"/>
                </a:cubicBezTo>
                <a:cubicBezTo>
                  <a:pt x="553" y="1670"/>
                  <a:pt x="629" y="1615"/>
                  <a:pt x="708" y="1495"/>
                </a:cubicBezTo>
                <a:cubicBezTo>
                  <a:pt x="787" y="1375"/>
                  <a:pt x="867" y="1175"/>
                  <a:pt x="948" y="1015"/>
                </a:cubicBezTo>
                <a:cubicBezTo>
                  <a:pt x="1029" y="855"/>
                  <a:pt x="1113" y="676"/>
                  <a:pt x="1194" y="535"/>
                </a:cubicBezTo>
                <a:cubicBezTo>
                  <a:pt x="1275" y="394"/>
                  <a:pt x="1354" y="250"/>
                  <a:pt x="1434" y="169"/>
                </a:cubicBezTo>
                <a:cubicBezTo>
                  <a:pt x="1514" y="88"/>
                  <a:pt x="1594" y="76"/>
                  <a:pt x="1674" y="48"/>
                </a:cubicBezTo>
                <a:cubicBezTo>
                  <a:pt x="1754" y="20"/>
                  <a:pt x="1864" y="10"/>
                  <a:pt x="191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139920" y="2500200"/>
            <a:ext cx="3276720" cy="2666880"/>
            <a:chOff x="3139920" y="2500200"/>
            <a:chExt cx="3276720" cy="2666880"/>
          </a:xfrm>
        </p:grpSpPr>
        <p:sp>
          <p:nvSpPr>
            <p:cNvPr id="341" name=""/>
            <p:cNvSpPr/>
            <p:nvPr/>
          </p:nvSpPr>
          <p:spPr>
            <a:xfrm>
              <a:off x="3139920" y="516708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39920" y="478620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39920" y="440532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39920" y="402408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39920" y="364320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39920" y="326232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39920" y="288108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39920" y="2500200"/>
              <a:ext cx="327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4472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064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3836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48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34920" y="5012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34920" y="4631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20520" y="42519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50760" y="3854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4920" y="3504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0760" y="3123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34920" y="2740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34920" y="2375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4000" y="152316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boçar a curva de produtividade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5421240"/>
            <a:ext cx="0" cy="128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5165640"/>
            <a:ext cx="0" cy="25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5425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25920" y="268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7080" y="4789440"/>
            <a:ext cx="0" cy="376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402264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29200" y="3260880"/>
            <a:ext cx="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594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484360"/>
            <a:ext cx="0" cy="19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2408400"/>
            <a:ext cx="0" cy="9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878280" y="5149440"/>
            <a:ext cx="4046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82920" y="478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64160" y="4006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33880" y="324468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6000" y="24829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46320" y="4716720"/>
            <a:ext cx="86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n</a:t>
            </a:r>
            <a:r>
              <a:rPr b="1" lang="en-US" sz="1400" spc="-1" strike="noStrike" baseline="30000">
                <a:solidFill>
                  <a:srgbClr val="000000"/>
                </a:solidFill>
                <a:latin typeface="Lucida Casu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ar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(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89360" y="19872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Númer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Imagens (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17360" y="2057400"/>
            <a:ext cx="545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CUSTOS E PREÇOS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CONCORRÊNCIA PERFE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520" y="472428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62520" y="3505320"/>
            <a:ext cx="1304640" cy="916920"/>
            <a:chOff x="3962520" y="3505320"/>
            <a:chExt cx="1304640" cy="916920"/>
          </a:xfrm>
        </p:grpSpPr>
        <p:sp>
          <p:nvSpPr>
            <p:cNvPr id="55" name=""/>
            <p:cNvSpPr/>
            <p:nvPr/>
          </p:nvSpPr>
          <p:spPr>
            <a:xfrm>
              <a:off x="4290480" y="35053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9320" y="37468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36212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25840" y="9136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02400" y="20995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33800" y="2408400"/>
            <a:ext cx="3038400" cy="3130560"/>
          </a:xfrm>
          <a:custGeom>
            <a:avLst/>
            <a:gdLst/>
            <a:ahLst/>
            <a:rect l="l" t="t" r="r" b="b"/>
            <a:pathLst>
              <a:path w="1914" h="1972">
                <a:moveTo>
                  <a:pt x="0" y="1972"/>
                </a:moveTo>
                <a:cubicBezTo>
                  <a:pt x="39" y="1960"/>
                  <a:pt x="155" y="1936"/>
                  <a:pt x="234" y="1897"/>
                </a:cubicBezTo>
                <a:cubicBezTo>
                  <a:pt x="313" y="1858"/>
                  <a:pt x="395" y="1804"/>
                  <a:pt x="474" y="1737"/>
                </a:cubicBezTo>
                <a:cubicBezTo>
                  <a:pt x="553" y="1670"/>
                  <a:pt x="629" y="1615"/>
                  <a:pt x="708" y="1495"/>
                </a:cubicBezTo>
                <a:cubicBezTo>
                  <a:pt x="787" y="1375"/>
                  <a:pt x="867" y="1175"/>
                  <a:pt x="948" y="1015"/>
                </a:cubicBezTo>
                <a:cubicBezTo>
                  <a:pt x="1029" y="855"/>
                  <a:pt x="1113" y="676"/>
                  <a:pt x="1194" y="535"/>
                </a:cubicBezTo>
                <a:cubicBezTo>
                  <a:pt x="1275" y="394"/>
                  <a:pt x="1354" y="250"/>
                  <a:pt x="1434" y="169"/>
                </a:cubicBezTo>
                <a:cubicBezTo>
                  <a:pt x="1514" y="88"/>
                  <a:pt x="1594" y="76"/>
                  <a:pt x="1674" y="48"/>
                </a:cubicBezTo>
                <a:cubicBezTo>
                  <a:pt x="1754" y="20"/>
                  <a:pt x="1864" y="10"/>
                  <a:pt x="191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4472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064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3836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48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34920" y="5012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34920" y="4631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20520" y="42519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0760" y="3854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34920" y="3504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0760" y="3123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34920" y="2740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34920" y="2375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4000" y="152316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boçar a curva de produtividade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5421240"/>
            <a:ext cx="0" cy="128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5165640"/>
            <a:ext cx="0" cy="25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05320" y="5425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25920" y="268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67080" y="4789440"/>
            <a:ext cx="0" cy="376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402264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3260880"/>
            <a:ext cx="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10080" y="2666880"/>
            <a:ext cx="0" cy="594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2484360"/>
            <a:ext cx="0" cy="19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2408400"/>
            <a:ext cx="0" cy="9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878280" y="5149440"/>
            <a:ext cx="4046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82920" y="478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64160" y="4006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33880" y="324468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6000" y="24829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6320" y="4716720"/>
            <a:ext cx="86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n</a:t>
            </a:r>
            <a:r>
              <a:rPr b="1" lang="en-US" sz="1400" spc="-1" strike="noStrike" baseline="30000">
                <a:solidFill>
                  <a:srgbClr val="000000"/>
                </a:solidFill>
                <a:latin typeface="Lucida Casu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ar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(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89360" y="19872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Númer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Imagens (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25840" y="9136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2400" y="20995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4472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064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3836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148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34920" y="5012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34920" y="4631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20520" y="42519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50760" y="3854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34920" y="3504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50760" y="3123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34920" y="2740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34920" y="2375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4000" y="152316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boçar a curva de produtividade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5421240"/>
            <a:ext cx="0" cy="128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5165640"/>
            <a:ext cx="0" cy="25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05320" y="5425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25920" y="268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7080" y="4789440"/>
            <a:ext cx="0" cy="376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8320" y="402264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260880"/>
            <a:ext cx="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10080" y="2666880"/>
            <a:ext cx="0" cy="594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2484360"/>
            <a:ext cx="0" cy="19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2200" y="2408400"/>
            <a:ext cx="0" cy="9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878280" y="5149440"/>
            <a:ext cx="4046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82920" y="478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64160" y="4006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33880" y="324468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96000" y="24829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46320" y="4716720"/>
            <a:ext cx="86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n</a:t>
            </a:r>
            <a:r>
              <a:rPr b="1" lang="en-US" sz="1400" spc="-1" strike="noStrike" baseline="30000">
                <a:solidFill>
                  <a:srgbClr val="000000"/>
                </a:solidFill>
                <a:latin typeface="Lucida Casu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ar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(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89360" y="19872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Númer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Imagens (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25840" y="9136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4472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064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3836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148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34920" y="5012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34920" y="4631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20520" y="42519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50760" y="3854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34920" y="3504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50760" y="3123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34920" y="2740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34920" y="2375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4000" y="152316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boçar a curva de produtividade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421240"/>
            <a:ext cx="0" cy="128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5165640"/>
            <a:ext cx="0" cy="25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789440"/>
            <a:ext cx="0" cy="376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48320" y="402264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3260880"/>
            <a:ext cx="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10080" y="2666880"/>
            <a:ext cx="0" cy="594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1320" y="2484360"/>
            <a:ext cx="0" cy="19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72200" y="2408400"/>
            <a:ext cx="0" cy="9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46320" y="4716720"/>
            <a:ext cx="86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n</a:t>
            </a:r>
            <a:r>
              <a:rPr b="1" lang="en-US" sz="1400" spc="-1" strike="noStrike" baseline="30000">
                <a:solidFill>
                  <a:srgbClr val="000000"/>
                </a:solidFill>
                <a:latin typeface="Lucida Casu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ar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(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89360" y="19872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Númer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Imagens (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25840" y="9136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4472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064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3836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48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49560" y="462636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n</a:t>
            </a:r>
            <a:r>
              <a:rPr b="1" lang="en-US" sz="1400" spc="-1" strike="noStrike" baseline="30000">
                <a:solidFill>
                  <a:srgbClr val="000000"/>
                </a:solidFill>
                <a:latin typeface="Lucida Casu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ar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34920" y="5012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34920" y="4631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20520" y="42519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50760" y="3854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34920" y="3504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50760" y="3123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34920" y="2740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34920" y="2375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4000" y="152316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boçar a curva de produtividade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5320" y="5421240"/>
            <a:ext cx="0" cy="128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5326200"/>
            <a:ext cx="0" cy="25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54480" y="5146560"/>
            <a:ext cx="0" cy="435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4795920"/>
            <a:ext cx="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94280" y="479736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75160" y="4975200"/>
            <a:ext cx="0" cy="593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56400" y="5359320"/>
            <a:ext cx="0" cy="19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49880" y="5478480"/>
            <a:ext cx="0" cy="9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49120" y="198828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41560" y="227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(q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09760" y="505872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(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25840" y="9136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4472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064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3836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4880" y="559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49560" y="462636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n</a:t>
            </a:r>
            <a:r>
              <a:rPr b="1" lang="en-US" sz="1400" spc="-1" strike="noStrike" baseline="30000">
                <a:solidFill>
                  <a:srgbClr val="000000"/>
                </a:solidFill>
                <a:latin typeface="Lucida Casu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ar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34920" y="5012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34920" y="4631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20520" y="42519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50760" y="3854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34920" y="3504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50760" y="3123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34920" y="2740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34920" y="2375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4000" y="152316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boçar a curva de produtividade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5421240"/>
            <a:ext cx="0" cy="128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86200" y="5326200"/>
            <a:ext cx="0" cy="25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4480" y="5146560"/>
            <a:ext cx="0" cy="435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48320" y="4748040"/>
            <a:ext cx="0" cy="809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94280" y="479736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5160" y="5041800"/>
            <a:ext cx="0" cy="52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56400" y="5359320"/>
            <a:ext cx="0" cy="19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149880" y="5478480"/>
            <a:ext cx="0" cy="9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49120" y="198828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41560" y="227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(q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09760" y="505872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(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9120" y="4664160"/>
            <a:ext cx="3035160" cy="888840"/>
          </a:xfrm>
          <a:custGeom>
            <a:avLst/>
            <a:gdLst/>
            <a:ahLst/>
            <a:rect l="l" t="t" r="r" b="b"/>
            <a:pathLst>
              <a:path w="1912" h="560">
                <a:moveTo>
                  <a:pt x="0" y="560"/>
                </a:moveTo>
                <a:cubicBezTo>
                  <a:pt x="80" y="536"/>
                  <a:pt x="160" y="513"/>
                  <a:pt x="240" y="488"/>
                </a:cubicBezTo>
                <a:cubicBezTo>
                  <a:pt x="320" y="463"/>
                  <a:pt x="400" y="438"/>
                  <a:pt x="480" y="408"/>
                </a:cubicBezTo>
                <a:cubicBezTo>
                  <a:pt x="560" y="378"/>
                  <a:pt x="641" y="368"/>
                  <a:pt x="720" y="306"/>
                </a:cubicBezTo>
                <a:cubicBezTo>
                  <a:pt x="799" y="244"/>
                  <a:pt x="882" y="76"/>
                  <a:pt x="957" y="38"/>
                </a:cubicBezTo>
                <a:cubicBezTo>
                  <a:pt x="1032" y="0"/>
                  <a:pt x="1095" y="50"/>
                  <a:pt x="1170" y="80"/>
                </a:cubicBezTo>
                <a:cubicBezTo>
                  <a:pt x="1245" y="110"/>
                  <a:pt x="1326" y="160"/>
                  <a:pt x="1407" y="218"/>
                </a:cubicBezTo>
                <a:cubicBezTo>
                  <a:pt x="1488" y="276"/>
                  <a:pt x="1574" y="380"/>
                  <a:pt x="1658" y="430"/>
                </a:cubicBezTo>
                <a:cubicBezTo>
                  <a:pt x="1742" y="480"/>
                  <a:pt x="1871" y="503"/>
                  <a:pt x="1912" y="51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219200" y="4695480"/>
            <a:ext cx="1072080" cy="1654920"/>
            <a:chOff x="4219200" y="4695480"/>
            <a:chExt cx="1072080" cy="1654920"/>
          </a:xfrm>
        </p:grpSpPr>
        <p:sp>
          <p:nvSpPr>
            <p:cNvPr id="550" name=""/>
            <p:cNvSpPr/>
            <p:nvPr/>
          </p:nvSpPr>
          <p:spPr>
            <a:xfrm flipV="1">
              <a:off x="4734000" y="4695480"/>
              <a:ext cx="0" cy="12956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19200" y="6013080"/>
              <a:ext cx="107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N</a:t>
              </a:r>
              <a:r>
                <a:rPr b="1" lang="pt-BR" sz="1600" spc="-1" strike="noStrike" baseline="30000">
                  <a:solidFill>
                    <a:srgbClr val="008000"/>
                  </a:solidFill>
                  <a:latin typeface="Lucida Casual"/>
                </a:rPr>
                <a:t>o</a:t>
              </a: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 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206760" y="228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4724280"/>
            <a:ext cx="3200400" cy="609840"/>
          </a:xfrm>
          <a:prstGeom prst="wedgeRoundRectCallout">
            <a:avLst>
              <a:gd name="adj1" fmla="val -52976"/>
              <a:gd name="adj2" fmla="val -8307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ndimentos Cres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 E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6760" y="228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4724280"/>
            <a:ext cx="3200400" cy="609840"/>
          </a:xfrm>
          <a:prstGeom prst="wedgeRoundRectCallout">
            <a:avLst>
              <a:gd name="adj1" fmla="val 23810"/>
              <a:gd name="adj2" fmla="val -29869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ndimentos Decres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 E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06760" y="228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124080" y="236232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4952880"/>
            <a:ext cx="259092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10080" y="3581280"/>
            <a:ext cx="0" cy="1371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4952880"/>
            <a:ext cx="0" cy="60984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74000" y="4419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 Vari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75400" y="50284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usto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3581280"/>
            <a:ext cx="160020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88320" y="4419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us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60800" y="167544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CT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)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CF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)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+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V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46640" y="5562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206760" y="228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97320" y="2329560"/>
            <a:ext cx="55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vidindo-se por q, obtém-se os custos méd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43760" y="3534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180960" y="2802960"/>
            <a:ext cx="1983600" cy="825120"/>
            <a:chOff x="3180960" y="2802960"/>
            <a:chExt cx="1983600" cy="825120"/>
          </a:xfrm>
        </p:grpSpPr>
        <p:sp>
          <p:nvSpPr>
            <p:cNvPr id="611" name=""/>
            <p:cNvSpPr/>
            <p:nvPr/>
          </p:nvSpPr>
          <p:spPr>
            <a:xfrm>
              <a:off x="3180960" y="307728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CTM(</a:t>
              </a: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)</a:t>
              </a: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04600" y="280296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CT(</a:t>
              </a: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16640" y="32598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98840" y="32605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059000" y="3717360"/>
            <a:ext cx="2215080" cy="825480"/>
            <a:chOff x="4059000" y="3717360"/>
            <a:chExt cx="2215080" cy="825480"/>
          </a:xfrm>
        </p:grpSpPr>
        <p:sp>
          <p:nvSpPr>
            <p:cNvPr id="616" name=""/>
            <p:cNvSpPr/>
            <p:nvPr/>
          </p:nvSpPr>
          <p:spPr>
            <a:xfrm>
              <a:off x="4444560" y="3717360"/>
              <a:ext cx="7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CF(</a:t>
              </a: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51560" y="4174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33760" y="4175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97560" y="371736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CV(</a:t>
              </a: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8240" y="4174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00800" y="4175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25680" y="3945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59000" y="3945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099680" y="4784040"/>
            <a:ext cx="22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=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FM(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)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+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VM(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60800" y="167544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CT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)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CF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)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+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V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83000" y="542232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Importante memorizar: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T(q) = CTM(q) x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4480" y="1676520"/>
            <a:ext cx="692856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reender as relações existentes entre Custos 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reender o mecanismo de Concorrência Perfe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 de Oport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s Total, Fixo, Variável e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 na Concorrência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nálise break-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55560" y="91368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s Mé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2286000"/>
            <a:ext cx="3333960" cy="12859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46400" y="2438280"/>
            <a:ext cx="3292560" cy="1812960"/>
          </a:xfrm>
          <a:custGeom>
            <a:avLst/>
            <a:gdLst/>
            <a:ahLst/>
            <a:rect l="l" t="t" r="r" b="b"/>
            <a:pathLst>
              <a:path w="2074" h="1142">
                <a:moveTo>
                  <a:pt x="0" y="464"/>
                </a:moveTo>
                <a:cubicBezTo>
                  <a:pt x="24" y="514"/>
                  <a:pt x="77" y="666"/>
                  <a:pt x="145" y="764"/>
                </a:cubicBezTo>
                <a:cubicBezTo>
                  <a:pt x="213" y="862"/>
                  <a:pt x="303" y="996"/>
                  <a:pt x="409" y="1055"/>
                </a:cubicBezTo>
                <a:cubicBezTo>
                  <a:pt x="515" y="1114"/>
                  <a:pt x="639" y="1142"/>
                  <a:pt x="778" y="1116"/>
                </a:cubicBezTo>
                <a:cubicBezTo>
                  <a:pt x="917" y="1090"/>
                  <a:pt x="1106" y="992"/>
                  <a:pt x="1246" y="900"/>
                </a:cubicBezTo>
                <a:cubicBezTo>
                  <a:pt x="1386" y="808"/>
                  <a:pt x="1480" y="714"/>
                  <a:pt x="1618" y="564"/>
                </a:cubicBezTo>
                <a:cubicBezTo>
                  <a:pt x="1756" y="414"/>
                  <a:pt x="1979" y="118"/>
                  <a:pt x="207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29800" y="2221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237000" y="27298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8160" y="4731480"/>
            <a:ext cx="31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(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)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FM(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)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+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VM(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44360" y="3543480"/>
            <a:ext cx="700560" cy="622080"/>
            <a:chOff x="3744360" y="3543480"/>
            <a:chExt cx="700560" cy="622080"/>
          </a:xfrm>
        </p:grpSpPr>
        <p:sp>
          <p:nvSpPr>
            <p:cNvPr id="641" name=""/>
            <p:cNvSpPr/>
            <p:nvPr/>
          </p:nvSpPr>
          <p:spPr>
            <a:xfrm>
              <a:off x="4444920" y="3543480"/>
              <a:ext cx="0" cy="622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44360" y="36774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CF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124080" y="3200400"/>
            <a:ext cx="2133720" cy="2362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34800" y="91368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Total Mé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2286000"/>
            <a:ext cx="3333960" cy="12859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86080" y="55472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44280" y="297072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353760" y="419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Área = c x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867280" y="3505320"/>
            <a:ext cx="1828800" cy="1523880"/>
          </a:xfrm>
          <a:prstGeom prst="wedgeRoundRectCallout">
            <a:avLst>
              <a:gd name="adj1" fmla="val -81597"/>
              <a:gd name="adj2" fmla="val 93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pres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 Cus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 Produz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29800" y="2221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124080" y="3200400"/>
            <a:ext cx="2133720" cy="2362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34800" y="91368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Total Mé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2286000"/>
            <a:ext cx="3333960" cy="12859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86080" y="55472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4280" y="297072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353760" y="419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Área = c x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67280" y="3611520"/>
            <a:ext cx="2362320" cy="852480"/>
          </a:xfrm>
          <a:prstGeom prst="wedgeRoundRectCallout">
            <a:avLst>
              <a:gd name="adj1" fmla="val -74462"/>
              <a:gd name="adj2" fmla="val 28583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Lembr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T(q) = CTM(q) x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29800" y="2221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3505320" y="2286000"/>
            <a:ext cx="2666880" cy="3276720"/>
            <a:chOff x="3505320" y="2286000"/>
            <a:chExt cx="2666880" cy="3276720"/>
          </a:xfrm>
        </p:grpSpPr>
        <p:sp>
          <p:nvSpPr>
            <p:cNvPr id="683" name=""/>
            <p:cNvSpPr/>
            <p:nvPr/>
          </p:nvSpPr>
          <p:spPr>
            <a:xfrm>
              <a:off x="3505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86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67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48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29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10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91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3124080" y="3327480"/>
            <a:ext cx="3060720" cy="1625400"/>
            <a:chOff x="3124080" y="3327480"/>
            <a:chExt cx="3060720" cy="1625400"/>
          </a:xfrm>
        </p:grpSpPr>
        <p:sp>
          <p:nvSpPr>
            <p:cNvPr id="692" name=""/>
            <p:cNvSpPr/>
            <p:nvPr/>
          </p:nvSpPr>
          <p:spPr>
            <a:xfrm>
              <a:off x="3124080" y="4952880"/>
              <a:ext cx="3812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5320" y="4444920"/>
              <a:ext cx="3808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98800" y="4165560"/>
              <a:ext cx="3812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54480" y="4013280"/>
              <a:ext cx="3938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8320" y="3873600"/>
              <a:ext cx="3808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41800" y="3746520"/>
              <a:ext cx="3938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410080" y="3581280"/>
              <a:ext cx="3812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78360" y="3327480"/>
              <a:ext cx="4064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505320" y="4444920"/>
            <a:ext cx="0" cy="507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886200" y="2946240"/>
            <a:ext cx="2298600" cy="1498680"/>
            <a:chOff x="3886200" y="2946240"/>
            <a:chExt cx="2298600" cy="1498680"/>
          </a:xfrm>
        </p:grpSpPr>
        <p:sp>
          <p:nvSpPr>
            <p:cNvPr id="702" name=""/>
            <p:cNvSpPr/>
            <p:nvPr/>
          </p:nvSpPr>
          <p:spPr>
            <a:xfrm>
              <a:off x="3886200" y="4165560"/>
              <a:ext cx="0" cy="279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67080" y="4000680"/>
              <a:ext cx="0" cy="164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60920" y="3873600"/>
              <a:ext cx="0" cy="127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29200" y="3733920"/>
              <a:ext cx="0" cy="126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10080" y="3581280"/>
              <a:ext cx="0" cy="165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803920" y="3340080"/>
              <a:ext cx="0" cy="241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84800" y="2946240"/>
              <a:ext cx="0" cy="38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2361600" y="2057040"/>
            <a:ext cx="4039200" cy="3886200"/>
            <a:chOff x="2361600" y="2057040"/>
            <a:chExt cx="4039200" cy="3886200"/>
          </a:xfrm>
        </p:grpSpPr>
        <p:sp>
          <p:nvSpPr>
            <p:cNvPr id="716" name=""/>
            <p:cNvSpPr/>
            <p:nvPr/>
          </p:nvSpPr>
          <p:spPr>
            <a:xfrm flipV="1">
              <a:off x="3124080" y="2057040"/>
              <a:ext cx="0" cy="3886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1388520" y="366372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8080"/>
                  </a:solidFill>
                  <a:latin typeface="Lucida Casual"/>
                </a:rPr>
                <a:t>Custo de Prod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24080" y="2666880"/>
              <a:ext cx="3276720" cy="2286000"/>
            </a:xfrm>
            <a:custGeom>
              <a:avLst/>
              <a:gdLst/>
              <a:ahLst/>
              <a:rect l="l" t="t" r="r" b="b"/>
              <a:pathLst>
                <a:path w="2064" h="1296">
                  <a:moveTo>
                    <a:pt x="0" y="1296"/>
                  </a:moveTo>
                  <a:cubicBezTo>
                    <a:pt x="70" y="1226"/>
                    <a:pt x="168" y="1012"/>
                    <a:pt x="420" y="876"/>
                  </a:cubicBezTo>
                  <a:cubicBezTo>
                    <a:pt x="672" y="740"/>
                    <a:pt x="1238" y="626"/>
                    <a:pt x="1512" y="480"/>
                  </a:cubicBezTo>
                  <a:cubicBezTo>
                    <a:pt x="1786" y="334"/>
                    <a:pt x="1949" y="100"/>
                    <a:pt x="206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3505320" y="2286000"/>
              <a:ext cx="2666880" cy="3276720"/>
              <a:chOff x="3505320" y="2286000"/>
              <a:chExt cx="2666880" cy="3276720"/>
            </a:xfrm>
          </p:grpSpPr>
          <p:sp>
            <p:nvSpPr>
              <p:cNvPr id="720" name=""/>
              <p:cNvSpPr/>
              <p:nvPr/>
            </p:nvSpPr>
            <p:spPr>
              <a:xfrm>
                <a:off x="350532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8620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26708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64832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02920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1008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79132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7220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3124080" y="3327480"/>
              <a:ext cx="3060720" cy="1625400"/>
              <a:chOff x="3124080" y="3327480"/>
              <a:chExt cx="3060720" cy="1625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124080" y="4952880"/>
                <a:ext cx="3812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505320" y="4444920"/>
                <a:ext cx="380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898800" y="4165560"/>
                <a:ext cx="3812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254480" y="4013280"/>
                <a:ext cx="3938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648320" y="3873600"/>
                <a:ext cx="380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041800" y="3746520"/>
                <a:ext cx="3938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10080" y="3581280"/>
                <a:ext cx="3812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778360" y="3327480"/>
                <a:ext cx="4064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7" name=""/>
          <p:cNvSpPr/>
          <p:nvPr/>
        </p:nvSpPr>
        <p:spPr>
          <a:xfrm>
            <a:off x="3505320" y="4444920"/>
            <a:ext cx="0" cy="507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886200" y="2946240"/>
            <a:ext cx="2298600" cy="1498680"/>
            <a:chOff x="3886200" y="2946240"/>
            <a:chExt cx="2298600" cy="1498680"/>
          </a:xfrm>
        </p:grpSpPr>
        <p:sp>
          <p:nvSpPr>
            <p:cNvPr id="739" name=""/>
            <p:cNvSpPr/>
            <p:nvPr/>
          </p:nvSpPr>
          <p:spPr>
            <a:xfrm>
              <a:off x="3886200" y="4165560"/>
              <a:ext cx="0" cy="279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67080" y="4000680"/>
              <a:ext cx="0" cy="164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60920" y="3873600"/>
              <a:ext cx="0" cy="127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29200" y="3733920"/>
              <a:ext cx="0" cy="126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10080" y="3581280"/>
              <a:ext cx="0" cy="165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03920" y="3340080"/>
              <a:ext cx="0" cy="241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84800" y="2946240"/>
              <a:ext cx="0" cy="38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80680" y="91368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30520" y="5041800"/>
            <a:ext cx="0" cy="507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62440" y="5256360"/>
            <a:ext cx="0" cy="295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27480" y="5386320"/>
            <a:ext cx="0" cy="165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97560" y="5423040"/>
            <a:ext cx="0" cy="12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971960" y="5430960"/>
            <a:ext cx="0" cy="12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21160" y="5383080"/>
            <a:ext cx="0" cy="165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21480" y="5308560"/>
            <a:ext cx="0" cy="241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83280" y="516888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3189240" y="4719600"/>
            <a:ext cx="0" cy="10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57160" y="55382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80680" y="91368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544920" y="3346560"/>
            <a:ext cx="0" cy="1847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68560" y="4186080"/>
            <a:ext cx="0" cy="1016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30720" y="4589640"/>
            <a:ext cx="0" cy="599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11600" y="4740120"/>
            <a:ext cx="0" cy="447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4726080"/>
            <a:ext cx="0" cy="461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35560" y="4589640"/>
            <a:ext cx="0" cy="599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35520" y="4309920"/>
            <a:ext cx="0" cy="878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7680" y="3808440"/>
            <a:ext cx="0" cy="138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3203640" y="2136600"/>
            <a:ext cx="0" cy="337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833560" y="520236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786680" y="35254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37000" y="3333600"/>
            <a:ext cx="2581200" cy="1438560"/>
          </a:xfrm>
          <a:custGeom>
            <a:avLst/>
            <a:gdLst/>
            <a:ahLst/>
            <a:rect l="l" t="t" r="r" b="b"/>
            <a:pathLst>
              <a:path w="1626" h="906">
                <a:moveTo>
                  <a:pt x="0" y="0"/>
                </a:moveTo>
                <a:cubicBezTo>
                  <a:pt x="36" y="87"/>
                  <a:pt x="145" y="394"/>
                  <a:pt x="217" y="527"/>
                </a:cubicBezTo>
                <a:cubicBezTo>
                  <a:pt x="289" y="660"/>
                  <a:pt x="354" y="739"/>
                  <a:pt x="432" y="800"/>
                </a:cubicBezTo>
                <a:cubicBezTo>
                  <a:pt x="510" y="861"/>
                  <a:pt x="607" y="878"/>
                  <a:pt x="688" y="892"/>
                </a:cubicBezTo>
                <a:cubicBezTo>
                  <a:pt x="769" y="906"/>
                  <a:pt x="843" y="897"/>
                  <a:pt x="917" y="882"/>
                </a:cubicBezTo>
                <a:cubicBezTo>
                  <a:pt x="991" y="867"/>
                  <a:pt x="1059" y="841"/>
                  <a:pt x="1135" y="800"/>
                </a:cubicBezTo>
                <a:cubicBezTo>
                  <a:pt x="1211" y="759"/>
                  <a:pt x="1290" y="719"/>
                  <a:pt x="1372" y="637"/>
                </a:cubicBezTo>
                <a:cubicBezTo>
                  <a:pt x="1454" y="555"/>
                  <a:pt x="1573" y="377"/>
                  <a:pt x="1626" y="3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557160" y="55382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80680" y="91368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3203640" y="2136600"/>
            <a:ext cx="0" cy="337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833560" y="520236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16200000">
            <a:off x="1786680" y="35254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37000" y="3333600"/>
            <a:ext cx="2581200" cy="1438560"/>
          </a:xfrm>
          <a:custGeom>
            <a:avLst/>
            <a:gdLst/>
            <a:ahLst/>
            <a:rect l="l" t="t" r="r" b="b"/>
            <a:pathLst>
              <a:path w="1626" h="906">
                <a:moveTo>
                  <a:pt x="0" y="0"/>
                </a:moveTo>
                <a:cubicBezTo>
                  <a:pt x="36" y="87"/>
                  <a:pt x="145" y="394"/>
                  <a:pt x="217" y="527"/>
                </a:cubicBezTo>
                <a:cubicBezTo>
                  <a:pt x="289" y="660"/>
                  <a:pt x="354" y="739"/>
                  <a:pt x="432" y="800"/>
                </a:cubicBezTo>
                <a:cubicBezTo>
                  <a:pt x="510" y="861"/>
                  <a:pt x="607" y="878"/>
                  <a:pt x="688" y="892"/>
                </a:cubicBezTo>
                <a:cubicBezTo>
                  <a:pt x="769" y="906"/>
                  <a:pt x="843" y="897"/>
                  <a:pt x="917" y="882"/>
                </a:cubicBezTo>
                <a:cubicBezTo>
                  <a:pt x="991" y="867"/>
                  <a:pt x="1059" y="841"/>
                  <a:pt x="1135" y="800"/>
                </a:cubicBezTo>
                <a:cubicBezTo>
                  <a:pt x="1211" y="759"/>
                  <a:pt x="1290" y="719"/>
                  <a:pt x="1372" y="637"/>
                </a:cubicBezTo>
                <a:cubicBezTo>
                  <a:pt x="1454" y="555"/>
                  <a:pt x="1573" y="377"/>
                  <a:pt x="1626" y="3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87720" y="3382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1520" y="3073320"/>
            <a:ext cx="895320" cy="895320"/>
          </a:xfrm>
          <a:prstGeom prst="flowChartConnector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24080" y="2286000"/>
            <a:ext cx="3333960" cy="12859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46400" y="2666880"/>
            <a:ext cx="1349280" cy="2097360"/>
          </a:xfrm>
          <a:custGeom>
            <a:avLst/>
            <a:gdLst/>
            <a:ahLst/>
            <a:rect l="l" t="t" r="r" b="b"/>
            <a:pathLst>
              <a:path w="850" h="1430">
                <a:moveTo>
                  <a:pt x="850" y="0"/>
                </a:moveTo>
                <a:cubicBezTo>
                  <a:pt x="814" y="179"/>
                  <a:pt x="720" y="850"/>
                  <a:pt x="636" y="1075"/>
                </a:cubicBezTo>
                <a:cubicBezTo>
                  <a:pt x="552" y="1300"/>
                  <a:pt x="451" y="1430"/>
                  <a:pt x="345" y="1347"/>
                </a:cubicBezTo>
                <a:cubicBezTo>
                  <a:pt x="239" y="1264"/>
                  <a:pt x="72" y="736"/>
                  <a:pt x="0" y="57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87520" y="227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45800" y="2069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21200" y="1947960"/>
            <a:ext cx="3043080" cy="3065400"/>
          </a:xfrm>
          <a:prstGeom prst="flowChartConnector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16160" y="3319560"/>
            <a:ext cx="1819440" cy="2236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17960" y="3664080"/>
            <a:ext cx="1803240" cy="1882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765520" y="3094920"/>
            <a:ext cx="2170080" cy="368280"/>
            <a:chOff x="2765520" y="3094920"/>
            <a:chExt cx="2170080" cy="368280"/>
          </a:xfrm>
        </p:grpSpPr>
        <p:sp>
          <p:nvSpPr>
            <p:cNvPr id="815" name=""/>
            <p:cNvSpPr/>
            <p:nvPr/>
          </p:nvSpPr>
          <p:spPr>
            <a:xfrm>
              <a:off x="2765520" y="30949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132000" y="3319200"/>
              <a:ext cx="1803600" cy="14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759200" y="3333600"/>
            <a:ext cx="325440" cy="2552040"/>
            <a:chOff x="4759200" y="3333600"/>
            <a:chExt cx="325440" cy="2552040"/>
          </a:xfrm>
        </p:grpSpPr>
        <p:sp>
          <p:nvSpPr>
            <p:cNvPr id="818" name=""/>
            <p:cNvSpPr/>
            <p:nvPr/>
          </p:nvSpPr>
          <p:spPr>
            <a:xfrm>
              <a:off x="4759200" y="5517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35600" y="3333600"/>
              <a:ext cx="0" cy="223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122640" y="3314880"/>
            <a:ext cx="1808280" cy="3459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440" y="1066680"/>
            <a:ext cx="7246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QUESTÃO FUND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o tomar decisões quando há diversas alternativ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143160" y="3317760"/>
            <a:ext cx="2235240" cy="2233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33800" y="3427560"/>
            <a:ext cx="2246400" cy="2141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65520" y="3094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46400" y="3319560"/>
            <a:ext cx="17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759200" y="551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197320" y="5490720"/>
            <a:ext cx="46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43160" y="3305160"/>
            <a:ext cx="2246400" cy="119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944960" y="3270240"/>
            <a:ext cx="480960" cy="2293920"/>
            <a:chOff x="4944960" y="3270240"/>
            <a:chExt cx="480960" cy="2293920"/>
          </a:xfrm>
        </p:grpSpPr>
        <p:sp>
          <p:nvSpPr>
            <p:cNvPr id="841" name=""/>
            <p:cNvSpPr/>
            <p:nvPr/>
          </p:nvSpPr>
          <p:spPr>
            <a:xfrm>
              <a:off x="4944960" y="3308400"/>
              <a:ext cx="455400" cy="7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95680" y="3316320"/>
              <a:ext cx="0" cy="22478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38440" y="3270240"/>
              <a:ext cx="87480" cy="87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4935600" y="3333600"/>
            <a:ext cx="0" cy="223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62400" y="1631880"/>
            <a:ext cx="2270160" cy="638280"/>
          </a:xfrm>
          <a:prstGeom prst="wedgeRoundRectCallout">
            <a:avLst>
              <a:gd name="adj1" fmla="val -7412"/>
              <a:gd name="adj2" fmla="val 2069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ução 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argem de Lu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2640" y="3314880"/>
            <a:ext cx="1811160" cy="3459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130560" y="3330720"/>
            <a:ext cx="2813040" cy="2209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5880" y="2911320"/>
            <a:ext cx="2822400" cy="2632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25880" y="2914560"/>
            <a:ext cx="2819160" cy="39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765520" y="3094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146400" y="3319560"/>
            <a:ext cx="17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759200" y="551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35600" y="3333600"/>
            <a:ext cx="0" cy="223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938840" y="3274920"/>
            <a:ext cx="1276200" cy="2635920"/>
            <a:chOff x="4938840" y="3274920"/>
            <a:chExt cx="1276200" cy="2635920"/>
          </a:xfrm>
        </p:grpSpPr>
        <p:grpSp>
          <p:nvGrpSpPr>
            <p:cNvPr id="869" name=""/>
            <p:cNvGrpSpPr/>
            <p:nvPr/>
          </p:nvGrpSpPr>
          <p:grpSpPr>
            <a:xfrm>
              <a:off x="4938840" y="3321000"/>
              <a:ext cx="1276200" cy="2589840"/>
              <a:chOff x="4938840" y="3321000"/>
              <a:chExt cx="1276200" cy="2589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938840" y="3321000"/>
                <a:ext cx="10094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43600" y="3335400"/>
                <a:ext cx="0" cy="2247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751360" y="5505120"/>
                <a:ext cx="463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3300"/>
                    </a:solidFill>
                    <a:latin typeface="Lucida Casual"/>
                  </a:rPr>
                  <a:t>q</a:t>
                </a:r>
                <a:r>
                  <a:rPr b="1" lang="pt-BR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5886360" y="3274920"/>
              <a:ext cx="87480" cy="87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3505320" y="1746360"/>
            <a:ext cx="1231920" cy="609480"/>
          </a:xfrm>
          <a:prstGeom prst="wedgeRoundRectCallout">
            <a:avLst>
              <a:gd name="adj1" fmla="val 36726"/>
              <a:gd name="adj2" fmla="val 13645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juí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894280" y="2873520"/>
            <a:ext cx="2030400" cy="1271520"/>
            <a:chOff x="5894280" y="2873520"/>
            <a:chExt cx="2030400" cy="1271520"/>
          </a:xfrm>
        </p:grpSpPr>
        <p:sp>
          <p:nvSpPr>
            <p:cNvPr id="876" name=""/>
            <p:cNvSpPr/>
            <p:nvPr/>
          </p:nvSpPr>
          <p:spPr>
            <a:xfrm>
              <a:off x="6629400" y="3535200"/>
              <a:ext cx="1295280" cy="609840"/>
            </a:xfrm>
            <a:prstGeom prst="wedgeRoundRectCallout">
              <a:avLst>
                <a:gd name="adj1" fmla="val -102083"/>
                <a:gd name="adj2" fmla="val -149740"/>
                <a:gd name="adj3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CTM &gt;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94280" y="2873520"/>
              <a:ext cx="90720" cy="87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3138480" y="3328920"/>
            <a:ext cx="1077840" cy="2222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124080" y="3513240"/>
            <a:ext cx="1092240" cy="2030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765520" y="3094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146400" y="3319560"/>
            <a:ext cx="17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759200" y="551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30560" y="3328920"/>
            <a:ext cx="108900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4019400" y="3270240"/>
            <a:ext cx="463680" cy="2611800"/>
            <a:chOff x="4019400" y="3270240"/>
            <a:chExt cx="463680" cy="2611800"/>
          </a:xfrm>
        </p:grpSpPr>
        <p:sp>
          <p:nvSpPr>
            <p:cNvPr id="895" name=""/>
            <p:cNvSpPr/>
            <p:nvPr/>
          </p:nvSpPr>
          <p:spPr>
            <a:xfrm>
              <a:off x="4211640" y="3306600"/>
              <a:ext cx="0" cy="2248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19400" y="5476320"/>
              <a:ext cx="46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164120" y="3270240"/>
              <a:ext cx="87120" cy="87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935600" y="3333600"/>
            <a:ext cx="0" cy="223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62400" y="1631880"/>
            <a:ext cx="2270160" cy="638280"/>
          </a:xfrm>
          <a:prstGeom prst="wedgeRoundRectCallout">
            <a:avLst>
              <a:gd name="adj1" fmla="val -43777"/>
              <a:gd name="adj2" fmla="val 2149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ução 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argem de Lu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3123720" y="3683160"/>
            <a:ext cx="181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22640" y="3314880"/>
            <a:ext cx="1811160" cy="3459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765520" y="3094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124080" y="3319560"/>
            <a:ext cx="181152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59200" y="551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35600" y="3333600"/>
            <a:ext cx="0" cy="223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13960" y="85176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5958000" y="2763720"/>
            <a:ext cx="0" cy="281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5840280" y="5290920"/>
            <a:ext cx="2451240" cy="14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940520" y="4512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ff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828560" y="2890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66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175440" y="57096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031800" y="26838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77080" y="3417840"/>
            <a:ext cx="2135160" cy="1486080"/>
          </a:xfrm>
          <a:custGeom>
            <a:avLst/>
            <a:gdLst/>
            <a:ahLst/>
            <a:rect l="l" t="t" r="r" b="b"/>
            <a:pathLst>
              <a:path w="1345" h="936">
                <a:moveTo>
                  <a:pt x="0" y="0"/>
                </a:moveTo>
                <a:cubicBezTo>
                  <a:pt x="62" y="79"/>
                  <a:pt x="226" y="340"/>
                  <a:pt x="373" y="472"/>
                </a:cubicBezTo>
                <a:cubicBezTo>
                  <a:pt x="520" y="604"/>
                  <a:pt x="720" y="714"/>
                  <a:pt x="882" y="791"/>
                </a:cubicBezTo>
                <a:cubicBezTo>
                  <a:pt x="1044" y="868"/>
                  <a:pt x="1249" y="906"/>
                  <a:pt x="1345" y="936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34240" y="3184560"/>
            <a:ext cx="2063520" cy="1487520"/>
          </a:xfrm>
          <a:custGeom>
            <a:avLst/>
            <a:gdLst/>
            <a:ahLst/>
            <a:rect l="l" t="t" r="r" b="b"/>
            <a:pathLst>
              <a:path w="1300" h="937">
                <a:moveTo>
                  <a:pt x="0" y="937"/>
                </a:moveTo>
                <a:cubicBezTo>
                  <a:pt x="139" y="887"/>
                  <a:pt x="279" y="838"/>
                  <a:pt x="427" y="755"/>
                </a:cubicBezTo>
                <a:cubicBezTo>
                  <a:pt x="575" y="672"/>
                  <a:pt x="745" y="563"/>
                  <a:pt x="891" y="437"/>
                </a:cubicBezTo>
                <a:cubicBezTo>
                  <a:pt x="1037" y="311"/>
                  <a:pt x="1232" y="73"/>
                  <a:pt x="1300" y="0"/>
                </a:cubicBezTo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570720" y="5277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11120" y="4311720"/>
            <a:ext cx="54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742080" y="4325760"/>
            <a:ext cx="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82760" y="57506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16200000">
            <a:off x="-91080" y="39812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441440" y="2774520"/>
            <a:ext cx="0" cy="2817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24080" y="5316480"/>
            <a:ext cx="1555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71680" y="3186000"/>
            <a:ext cx="1414440" cy="93348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433520" y="3473280"/>
            <a:ext cx="750960" cy="1181160"/>
          </a:xfrm>
          <a:custGeom>
            <a:avLst/>
            <a:gdLst/>
            <a:ahLst/>
            <a:rect l="l" t="t" r="r" b="b"/>
            <a:pathLst>
              <a:path w="473" h="744">
                <a:moveTo>
                  <a:pt x="473" y="0"/>
                </a:moveTo>
                <a:cubicBezTo>
                  <a:pt x="443" y="97"/>
                  <a:pt x="340" y="464"/>
                  <a:pt x="282" y="582"/>
                </a:cubicBezTo>
                <a:cubicBezTo>
                  <a:pt x="224" y="700"/>
                  <a:pt x="174" y="744"/>
                  <a:pt x="127" y="709"/>
                </a:cubicBezTo>
                <a:cubicBezTo>
                  <a:pt x="80" y="674"/>
                  <a:pt x="26" y="443"/>
                  <a:pt x="0" y="37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768320" y="3025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480400" y="278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728880" y="57445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787920" y="2768400"/>
            <a:ext cx="0" cy="2817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670200" y="531036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787920" y="3611520"/>
            <a:ext cx="1284120" cy="93348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01960" y="3603600"/>
            <a:ext cx="706680" cy="1273320"/>
          </a:xfrm>
          <a:custGeom>
            <a:avLst/>
            <a:gdLst/>
            <a:ahLst/>
            <a:rect l="l" t="t" r="r" b="b"/>
            <a:pathLst>
              <a:path w="445" h="802">
                <a:moveTo>
                  <a:pt x="445" y="0"/>
                </a:moveTo>
                <a:cubicBezTo>
                  <a:pt x="410" y="114"/>
                  <a:pt x="295" y="562"/>
                  <a:pt x="236" y="682"/>
                </a:cubicBezTo>
                <a:cubicBezTo>
                  <a:pt x="177" y="802"/>
                  <a:pt x="130" y="744"/>
                  <a:pt x="91" y="718"/>
                </a:cubicBezTo>
                <a:cubicBezTo>
                  <a:pt x="52" y="692"/>
                  <a:pt x="19" y="567"/>
                  <a:pt x="0" y="527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071600" y="2886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796640" y="3212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761120" y="52639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924200" y="4295880"/>
            <a:ext cx="0" cy="10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173120" y="5249520"/>
            <a:ext cx="41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307040" y="4281480"/>
            <a:ext cx="0" cy="10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581840" y="2307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duto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87640" y="2313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dut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477480" y="22759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683400" y="4241880"/>
            <a:ext cx="12852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16000" y="3991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6840" y="152568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onsiderando que o preço p já foi fixado pelo mercado, qual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os produtores A e B está em melhor situação? Porq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962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13960" y="85176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5958000" y="2763720"/>
            <a:ext cx="0" cy="281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5840280" y="5290920"/>
            <a:ext cx="2451240" cy="14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940520" y="4512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ff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828560" y="2890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66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175440" y="57096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1800" y="26838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977080" y="3417840"/>
            <a:ext cx="2135160" cy="1486080"/>
          </a:xfrm>
          <a:custGeom>
            <a:avLst/>
            <a:gdLst/>
            <a:ahLst/>
            <a:rect l="l" t="t" r="r" b="b"/>
            <a:pathLst>
              <a:path w="1345" h="936">
                <a:moveTo>
                  <a:pt x="0" y="0"/>
                </a:moveTo>
                <a:cubicBezTo>
                  <a:pt x="62" y="79"/>
                  <a:pt x="226" y="340"/>
                  <a:pt x="373" y="472"/>
                </a:cubicBezTo>
                <a:cubicBezTo>
                  <a:pt x="520" y="604"/>
                  <a:pt x="720" y="714"/>
                  <a:pt x="882" y="791"/>
                </a:cubicBezTo>
                <a:cubicBezTo>
                  <a:pt x="1044" y="868"/>
                  <a:pt x="1249" y="906"/>
                  <a:pt x="1345" y="936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934240" y="3184560"/>
            <a:ext cx="2063520" cy="1487520"/>
          </a:xfrm>
          <a:custGeom>
            <a:avLst/>
            <a:gdLst/>
            <a:ahLst/>
            <a:rect l="l" t="t" r="r" b="b"/>
            <a:pathLst>
              <a:path w="1300" h="937">
                <a:moveTo>
                  <a:pt x="0" y="937"/>
                </a:moveTo>
                <a:cubicBezTo>
                  <a:pt x="139" y="887"/>
                  <a:pt x="279" y="838"/>
                  <a:pt x="427" y="755"/>
                </a:cubicBezTo>
                <a:cubicBezTo>
                  <a:pt x="575" y="672"/>
                  <a:pt x="745" y="563"/>
                  <a:pt x="891" y="437"/>
                </a:cubicBezTo>
                <a:cubicBezTo>
                  <a:pt x="1037" y="311"/>
                  <a:pt x="1232" y="73"/>
                  <a:pt x="1300" y="0"/>
                </a:cubicBezTo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570720" y="5277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311120" y="4311720"/>
            <a:ext cx="54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42080" y="4325760"/>
            <a:ext cx="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16200000">
            <a:off x="-91080" y="39812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1441440" y="2774520"/>
            <a:ext cx="0" cy="2817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324080" y="5316480"/>
            <a:ext cx="2027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71680" y="3186000"/>
            <a:ext cx="1414440" cy="93348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33520" y="3473280"/>
            <a:ext cx="750960" cy="1181160"/>
          </a:xfrm>
          <a:custGeom>
            <a:avLst/>
            <a:gdLst/>
            <a:ahLst/>
            <a:rect l="l" t="t" r="r" b="b"/>
            <a:pathLst>
              <a:path w="473" h="744">
                <a:moveTo>
                  <a:pt x="473" y="0"/>
                </a:moveTo>
                <a:cubicBezTo>
                  <a:pt x="443" y="97"/>
                  <a:pt x="340" y="464"/>
                  <a:pt x="282" y="582"/>
                </a:cubicBezTo>
                <a:cubicBezTo>
                  <a:pt x="224" y="700"/>
                  <a:pt x="174" y="744"/>
                  <a:pt x="127" y="709"/>
                </a:cubicBezTo>
                <a:cubicBezTo>
                  <a:pt x="80" y="674"/>
                  <a:pt x="26" y="443"/>
                  <a:pt x="0" y="37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768320" y="3025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80400" y="278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3787920" y="2768400"/>
            <a:ext cx="0" cy="2817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670200" y="5310360"/>
            <a:ext cx="15559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87920" y="3611520"/>
            <a:ext cx="1284120" cy="93348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01960" y="3603600"/>
            <a:ext cx="706680" cy="1273320"/>
          </a:xfrm>
          <a:custGeom>
            <a:avLst/>
            <a:gdLst/>
            <a:ahLst/>
            <a:rect l="l" t="t" r="r" b="b"/>
            <a:pathLst>
              <a:path w="445" h="802">
                <a:moveTo>
                  <a:pt x="445" y="0"/>
                </a:moveTo>
                <a:cubicBezTo>
                  <a:pt x="410" y="114"/>
                  <a:pt x="295" y="562"/>
                  <a:pt x="236" y="682"/>
                </a:cubicBezTo>
                <a:cubicBezTo>
                  <a:pt x="177" y="802"/>
                  <a:pt x="130" y="744"/>
                  <a:pt x="91" y="718"/>
                </a:cubicBezTo>
                <a:cubicBezTo>
                  <a:pt x="52" y="692"/>
                  <a:pt x="19" y="567"/>
                  <a:pt x="0" y="5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071600" y="2886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796640" y="3212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761120" y="52639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24200" y="4295880"/>
            <a:ext cx="0" cy="10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173120" y="5249520"/>
            <a:ext cx="41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07040" y="4281480"/>
            <a:ext cx="0" cy="101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81840" y="2307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duto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87640" y="2313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dut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477480" y="22759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83400" y="4241880"/>
            <a:ext cx="12852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616000" y="3991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36840" y="152568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onsiderando que o preço p já foi fixado pelo mercado, qual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os produtores A e B está em melhor situação? Porq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388040" y="478548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O.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488960" y="3444840"/>
            <a:ext cx="1376640" cy="1069920"/>
          </a:xfrm>
          <a:custGeom>
            <a:avLst/>
            <a:gdLst/>
            <a:ahLst/>
            <a:rect l="l" t="t" r="r" b="b"/>
            <a:pathLst>
              <a:path w="867" h="674">
                <a:moveTo>
                  <a:pt x="0" y="295"/>
                </a:moveTo>
                <a:cubicBezTo>
                  <a:pt x="10" y="337"/>
                  <a:pt x="22" y="485"/>
                  <a:pt x="61" y="546"/>
                </a:cubicBezTo>
                <a:cubicBezTo>
                  <a:pt x="100" y="607"/>
                  <a:pt x="156" y="674"/>
                  <a:pt x="234" y="661"/>
                </a:cubicBezTo>
                <a:cubicBezTo>
                  <a:pt x="312" y="648"/>
                  <a:pt x="426" y="579"/>
                  <a:pt x="531" y="469"/>
                </a:cubicBezTo>
                <a:cubicBezTo>
                  <a:pt x="636" y="359"/>
                  <a:pt x="797" y="98"/>
                  <a:pt x="86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69920" y="31075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303640" y="5651640"/>
            <a:ext cx="2468520" cy="685800"/>
          </a:xfrm>
          <a:prstGeom prst="wedgeRoundRectCallout">
            <a:avLst>
              <a:gd name="adj1" fmla="val -66203"/>
              <a:gd name="adj2" fmla="val -243055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Ainda  recup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arte do custo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13960" y="85176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958000" y="2763720"/>
            <a:ext cx="0" cy="281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840280" y="5290920"/>
            <a:ext cx="2451240" cy="14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40520" y="4512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ff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828560" y="2890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66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175440" y="57096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31800" y="26838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977080" y="3417840"/>
            <a:ext cx="2135160" cy="1486080"/>
          </a:xfrm>
          <a:custGeom>
            <a:avLst/>
            <a:gdLst/>
            <a:ahLst/>
            <a:rect l="l" t="t" r="r" b="b"/>
            <a:pathLst>
              <a:path w="1345" h="936">
                <a:moveTo>
                  <a:pt x="0" y="0"/>
                </a:moveTo>
                <a:cubicBezTo>
                  <a:pt x="62" y="79"/>
                  <a:pt x="226" y="340"/>
                  <a:pt x="373" y="472"/>
                </a:cubicBezTo>
                <a:cubicBezTo>
                  <a:pt x="520" y="604"/>
                  <a:pt x="720" y="714"/>
                  <a:pt x="882" y="791"/>
                </a:cubicBezTo>
                <a:cubicBezTo>
                  <a:pt x="1044" y="868"/>
                  <a:pt x="1249" y="906"/>
                  <a:pt x="1345" y="936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34240" y="3184560"/>
            <a:ext cx="2063520" cy="1487520"/>
          </a:xfrm>
          <a:custGeom>
            <a:avLst/>
            <a:gdLst/>
            <a:ahLst/>
            <a:rect l="l" t="t" r="r" b="b"/>
            <a:pathLst>
              <a:path w="1300" h="937">
                <a:moveTo>
                  <a:pt x="0" y="937"/>
                </a:moveTo>
                <a:cubicBezTo>
                  <a:pt x="139" y="887"/>
                  <a:pt x="279" y="838"/>
                  <a:pt x="427" y="755"/>
                </a:cubicBezTo>
                <a:cubicBezTo>
                  <a:pt x="575" y="672"/>
                  <a:pt x="745" y="563"/>
                  <a:pt x="891" y="437"/>
                </a:cubicBezTo>
                <a:cubicBezTo>
                  <a:pt x="1037" y="311"/>
                  <a:pt x="1232" y="73"/>
                  <a:pt x="1300" y="0"/>
                </a:cubicBezTo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570720" y="5277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311120" y="4311720"/>
            <a:ext cx="54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742080" y="4325760"/>
            <a:ext cx="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16200000">
            <a:off x="-91080" y="39812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1441440" y="2774520"/>
            <a:ext cx="0" cy="2817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324080" y="5316480"/>
            <a:ext cx="2027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86080" y="3156120"/>
            <a:ext cx="1414440" cy="9331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433520" y="3473280"/>
            <a:ext cx="750960" cy="1181160"/>
          </a:xfrm>
          <a:custGeom>
            <a:avLst/>
            <a:gdLst/>
            <a:ahLst/>
            <a:rect l="l" t="t" r="r" b="b"/>
            <a:pathLst>
              <a:path w="473" h="744">
                <a:moveTo>
                  <a:pt x="473" y="0"/>
                </a:moveTo>
                <a:cubicBezTo>
                  <a:pt x="443" y="97"/>
                  <a:pt x="340" y="464"/>
                  <a:pt x="282" y="582"/>
                </a:cubicBezTo>
                <a:cubicBezTo>
                  <a:pt x="224" y="700"/>
                  <a:pt x="174" y="744"/>
                  <a:pt x="127" y="709"/>
                </a:cubicBezTo>
                <a:cubicBezTo>
                  <a:pt x="80" y="674"/>
                  <a:pt x="26" y="443"/>
                  <a:pt x="0" y="37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768320" y="3025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480400" y="278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787920" y="2768400"/>
            <a:ext cx="0" cy="2817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670200" y="5310360"/>
            <a:ext cx="15559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87920" y="3611520"/>
            <a:ext cx="1284120" cy="93348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01960" y="3603600"/>
            <a:ext cx="706680" cy="1273320"/>
          </a:xfrm>
          <a:custGeom>
            <a:avLst/>
            <a:gdLst/>
            <a:ahLst/>
            <a:rect l="l" t="t" r="r" b="b"/>
            <a:pathLst>
              <a:path w="445" h="802">
                <a:moveTo>
                  <a:pt x="445" y="0"/>
                </a:moveTo>
                <a:cubicBezTo>
                  <a:pt x="410" y="114"/>
                  <a:pt x="295" y="562"/>
                  <a:pt x="236" y="682"/>
                </a:cubicBezTo>
                <a:cubicBezTo>
                  <a:pt x="177" y="802"/>
                  <a:pt x="130" y="744"/>
                  <a:pt x="91" y="718"/>
                </a:cubicBezTo>
                <a:cubicBezTo>
                  <a:pt x="52" y="692"/>
                  <a:pt x="19" y="567"/>
                  <a:pt x="0" y="5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71600" y="2886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796640" y="3212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761120" y="52639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24200" y="4295880"/>
            <a:ext cx="0" cy="10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73120" y="5249520"/>
            <a:ext cx="41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07040" y="4281480"/>
            <a:ext cx="0" cy="101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81840" y="2307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duto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87640" y="2313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dut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477480" y="22759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83400" y="4241880"/>
            <a:ext cx="12852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616000" y="3991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36840" y="152568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onsiderando que o preço p já foi fixado pelo mercado, qual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os produtores A e B está em melhor situação? Porq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388040" y="478548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O.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508040" y="3306600"/>
            <a:ext cx="1386000" cy="903600"/>
          </a:xfrm>
          <a:custGeom>
            <a:avLst/>
            <a:gdLst/>
            <a:ahLst/>
            <a:rect l="l" t="t" r="r" b="b"/>
            <a:pathLst>
              <a:path w="873" h="569">
                <a:moveTo>
                  <a:pt x="0" y="259"/>
                </a:moveTo>
                <a:cubicBezTo>
                  <a:pt x="18" y="292"/>
                  <a:pt x="51" y="400"/>
                  <a:pt x="96" y="451"/>
                </a:cubicBezTo>
                <a:cubicBezTo>
                  <a:pt x="141" y="502"/>
                  <a:pt x="194" y="569"/>
                  <a:pt x="269" y="566"/>
                </a:cubicBezTo>
                <a:cubicBezTo>
                  <a:pt x="344" y="563"/>
                  <a:pt x="446" y="526"/>
                  <a:pt x="547" y="432"/>
                </a:cubicBezTo>
                <a:cubicBezTo>
                  <a:pt x="648" y="338"/>
                  <a:pt x="805" y="90"/>
                  <a:pt x="87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854080" y="31680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5681520"/>
            <a:ext cx="2468520" cy="655920"/>
          </a:xfrm>
          <a:prstGeom prst="wedgeRoundRectCallout">
            <a:avLst>
              <a:gd name="adj1" fmla="val -65564"/>
              <a:gd name="adj2" fmla="val -256537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Interromp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849760" y="91368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proximação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06760" y="228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124080" y="2637000"/>
            <a:ext cx="3200400" cy="1309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08240" y="3962520"/>
            <a:ext cx="3246480" cy="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5807160" y="3962160"/>
            <a:ext cx="0" cy="1569960"/>
          </a:xfrm>
          <a:prstGeom prst="line">
            <a:avLst/>
          </a:prstGeom>
          <a:ln w="126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875560" y="45871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Custo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807160" y="2865240"/>
            <a:ext cx="0" cy="10969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858280" y="32918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Custo Vari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626640" y="59126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rot="16200000">
            <a:off x="1499760" y="366300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ou 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849760" y="91368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proximação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821200" y="22676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 Total (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3124080" y="2637000"/>
            <a:ext cx="3200400" cy="1309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08240" y="3962520"/>
            <a:ext cx="3246480" cy="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3124080" y="2193840"/>
            <a:ext cx="2210040" cy="3368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87920" y="18439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eceita 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072480" y="18295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= p x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440" y="1066680"/>
            <a:ext cx="7246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QUESTÃO FUND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mo tomar decisões quando há diversas alternativ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5840" y="2668680"/>
            <a:ext cx="50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Basear-se nos custos de oportun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849760" y="91368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proximação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821200" y="22676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 Total (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3124080" y="2637000"/>
            <a:ext cx="3200400" cy="1309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108240" y="3962520"/>
            <a:ext cx="3246480" cy="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3124080" y="2193840"/>
            <a:ext cx="2210040" cy="3368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687920" y="18439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eceita 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749760" y="3703680"/>
            <a:ext cx="0" cy="960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375080" y="4417920"/>
            <a:ext cx="3613320" cy="792360"/>
          </a:xfrm>
          <a:prstGeom prst="wedgeRoundRectCallout">
            <a:avLst>
              <a:gd name="adj1" fmla="val -65731"/>
              <a:gd name="adj2" fmla="val -94087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Lucro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eceita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us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&lt; 0 (ou seja, prejuíz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33920" y="4648320"/>
            <a:ext cx="0" cy="9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71920" y="5547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626640" y="59126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16200000">
            <a:off x="1499760" y="366300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ou 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49760" y="91368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proximação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821200" y="22676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 Total (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3124080" y="2637000"/>
            <a:ext cx="3200400" cy="1309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108240" y="3962520"/>
            <a:ext cx="3246480" cy="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3124080" y="2193840"/>
            <a:ext cx="2210040" cy="3368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87920" y="18439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eceita 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5180040" y="2484360"/>
            <a:ext cx="0" cy="625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564160" y="3473280"/>
            <a:ext cx="2790720" cy="882720"/>
          </a:xfrm>
          <a:prstGeom prst="wedgeRoundRectCallout">
            <a:avLst>
              <a:gd name="adj1" fmla="val -63199"/>
              <a:gd name="adj2" fmla="val -11888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Lucro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eceita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us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165640" y="31082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004000" y="5577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626640" y="59126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499760" y="366300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ou 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849760" y="91368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proximação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821200" y="22676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 Total (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3124080" y="2637000"/>
            <a:ext cx="3200400" cy="1309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08240" y="3962520"/>
            <a:ext cx="3246480" cy="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124080" y="2193840"/>
            <a:ext cx="2210040" cy="3368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687920" y="18439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eceita 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4800" y="4221000"/>
            <a:ext cx="2014560" cy="622440"/>
          </a:xfrm>
          <a:prstGeom prst="wedgeRoundRectCallout">
            <a:avLst>
              <a:gd name="adj1" fmla="val -68282"/>
              <a:gd name="adj2" fmla="val -18954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Break-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602240" y="3352680"/>
            <a:ext cx="0" cy="23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44480" y="5571720"/>
            <a:ext cx="48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626640" y="597456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16200000">
            <a:off x="1499760" y="366300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ou 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41760" y="3260880"/>
            <a:ext cx="122400" cy="122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1157400" y="19807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52480" y="548640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30840" y="913680"/>
            <a:ext cx="70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Determinação do Ponto de Break-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363560" y="2235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157400" y="2560680"/>
            <a:ext cx="3200400" cy="1309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141560" y="3886200"/>
            <a:ext cx="3246120" cy="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1157400" y="2117520"/>
            <a:ext cx="2209680" cy="3368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250440" y="176760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635200" y="3276720"/>
            <a:ext cx="0" cy="23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377440" y="5495400"/>
            <a:ext cx="48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59600" y="58986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16200000">
            <a:off x="-465480" y="35852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ou 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575080" y="3184560"/>
            <a:ext cx="122040" cy="122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170320" y="1707480"/>
            <a:ext cx="34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Lucro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eceita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us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977800" y="210600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 x q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(CF + C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5069160" y="2513880"/>
            <a:ext cx="3449160" cy="993600"/>
            <a:chOff x="5069160" y="2513880"/>
            <a:chExt cx="3449160" cy="993600"/>
          </a:xfrm>
        </p:grpSpPr>
        <p:sp>
          <p:nvSpPr>
            <p:cNvPr id="1149" name=""/>
            <p:cNvSpPr/>
            <p:nvPr/>
          </p:nvSpPr>
          <p:spPr>
            <a:xfrm>
              <a:off x="5069160" y="251388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Com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5750280" y="2710800"/>
              <a:ext cx="2768040" cy="796680"/>
              <a:chOff x="5750280" y="2710800"/>
              <a:chExt cx="2768040" cy="796680"/>
            </a:xfrm>
          </p:grpSpPr>
          <p:sp>
            <p:nvSpPr>
              <p:cNvPr id="1151" name=""/>
              <p:cNvSpPr/>
              <p:nvPr/>
            </p:nvSpPr>
            <p:spPr>
              <a:xfrm>
                <a:off x="5750280" y="2926440"/>
                <a:ext cx="72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CV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6920" y="2710800"/>
                <a:ext cx="47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C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497640" y="31392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416640" y="3093840"/>
                <a:ext cx="473040" cy="140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0760" y="2896200"/>
                <a:ext cx="108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CVM x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35760" y="2910600"/>
                <a:ext cx="51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q 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7" name=""/>
          <p:cNvGrpSpPr/>
          <p:nvPr/>
        </p:nvGrpSpPr>
        <p:grpSpPr>
          <a:xfrm>
            <a:off x="5139720" y="3413880"/>
            <a:ext cx="3375720" cy="797040"/>
            <a:chOff x="5139720" y="3413880"/>
            <a:chExt cx="3375720" cy="797040"/>
          </a:xfrm>
        </p:grpSpPr>
        <p:sp>
          <p:nvSpPr>
            <p:cNvPr id="1158" name=""/>
            <p:cNvSpPr/>
            <p:nvPr/>
          </p:nvSpPr>
          <p:spPr>
            <a:xfrm>
              <a:off x="5139720" y="341388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Tem-s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38800" y="3842640"/>
              <a:ext cx="317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Lucro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 =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p x q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-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CF - CVM x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174280" y="4342680"/>
            <a:ext cx="3772800" cy="861840"/>
            <a:chOff x="5174280" y="4342680"/>
            <a:chExt cx="3772800" cy="861840"/>
          </a:xfrm>
        </p:grpSpPr>
        <p:sp>
          <p:nvSpPr>
            <p:cNvPr id="1161" name=""/>
            <p:cNvSpPr/>
            <p:nvPr/>
          </p:nvSpPr>
          <p:spPr>
            <a:xfrm>
              <a:off x="5174280" y="4342680"/>
              <a:ext cx="36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No break-even 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Lucro = 0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, log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41960" y="4798800"/>
              <a:ext cx="37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 =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p x q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Lucida Casual"/>
                </a:rPr>
                <a:t>be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-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CF - CVM x q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Lucida Casu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5153040" y="5271480"/>
            <a:ext cx="2451960" cy="1025280"/>
            <a:chOff x="5153040" y="5271480"/>
            <a:chExt cx="2451960" cy="1025280"/>
          </a:xfrm>
        </p:grpSpPr>
        <p:sp>
          <p:nvSpPr>
            <p:cNvPr id="1164" name=""/>
            <p:cNvSpPr/>
            <p:nvPr/>
          </p:nvSpPr>
          <p:spPr>
            <a:xfrm>
              <a:off x="5153040" y="527148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Ou sej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729040" y="5711400"/>
              <a:ext cx="73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be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53960" y="55620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421680" y="5928480"/>
              <a:ext cx="118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(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p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 - C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16640" y="5911920"/>
              <a:ext cx="11271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157400" y="19807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52480" y="548640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30840" y="913680"/>
            <a:ext cx="70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Determinação do Ponto de Break-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363560" y="2235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1157400" y="2560680"/>
            <a:ext cx="3200400" cy="1309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41560" y="3886200"/>
            <a:ext cx="3246120" cy="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1157400" y="2117520"/>
            <a:ext cx="2209680" cy="3368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250440" y="176760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35200" y="3276720"/>
            <a:ext cx="0" cy="23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377440" y="5495400"/>
            <a:ext cx="48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659600" y="58986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16200000">
            <a:off x="-465480" y="35852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ou 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75080" y="3184560"/>
            <a:ext cx="122040" cy="122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170320" y="1707480"/>
            <a:ext cx="34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Lucro = Receita - Cus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977800" y="210600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= p x q - (CF +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V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069160" y="25138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750280" y="2926800"/>
            <a:ext cx="7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V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406920" y="271080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497640" y="3139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416640" y="3094200"/>
            <a:ext cx="473040" cy="14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430760" y="28965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CVM x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935760" y="291060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5139720" y="3413880"/>
            <a:ext cx="3375720" cy="797040"/>
            <a:chOff x="5139720" y="3413880"/>
            <a:chExt cx="3375720" cy="797040"/>
          </a:xfrm>
        </p:grpSpPr>
        <p:sp>
          <p:nvSpPr>
            <p:cNvPr id="1195" name=""/>
            <p:cNvSpPr/>
            <p:nvPr/>
          </p:nvSpPr>
          <p:spPr>
            <a:xfrm>
              <a:off x="5139720" y="341388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Lucida Casual"/>
                </a:rPr>
                <a:t>Tem-s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338440" y="3842640"/>
              <a:ext cx="31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Lucida Casual"/>
                </a:rPr>
                <a:t>Lucro = p x q - CF - CVM x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5174280" y="4342680"/>
            <a:ext cx="3772800" cy="861840"/>
            <a:chOff x="5174280" y="4342680"/>
            <a:chExt cx="3772800" cy="861840"/>
          </a:xfrm>
        </p:grpSpPr>
        <p:sp>
          <p:nvSpPr>
            <p:cNvPr id="1198" name=""/>
            <p:cNvSpPr/>
            <p:nvPr/>
          </p:nvSpPr>
          <p:spPr>
            <a:xfrm>
              <a:off x="5174280" y="4342680"/>
              <a:ext cx="36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Lucida Casual"/>
                </a:rPr>
                <a:t>No break-even Lucro = 0, log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41960" y="4798800"/>
              <a:ext cx="37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0</a:t>
              </a:r>
              <a:r>
                <a:rPr b="1" lang="en-US" sz="1800" spc="-1" strike="noStrike">
                  <a:solidFill>
                    <a:srgbClr val="808080"/>
                  </a:solidFill>
                  <a:latin typeface="Lucida Casual"/>
                </a:rPr>
                <a:t> = p x q</a:t>
              </a:r>
              <a:r>
                <a:rPr b="1" lang="en-US" sz="1800" spc="-1" strike="noStrike" baseline="-25000">
                  <a:solidFill>
                    <a:srgbClr val="808080"/>
                  </a:solidFill>
                  <a:latin typeface="Lucida Casual"/>
                </a:rPr>
                <a:t>be</a:t>
              </a:r>
              <a:r>
                <a:rPr b="1" lang="en-US" sz="1800" spc="-1" strike="noStrike">
                  <a:solidFill>
                    <a:srgbClr val="808080"/>
                  </a:solidFill>
                  <a:latin typeface="Lucida Casual"/>
                </a:rPr>
                <a:t> - CF - CVM x q</a:t>
              </a:r>
              <a:r>
                <a:rPr b="1" lang="en-US" sz="1800" spc="-1" strike="noStrike" baseline="-25000">
                  <a:solidFill>
                    <a:srgbClr val="808080"/>
                  </a:solidFill>
                  <a:latin typeface="Lucida Casu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5153040" y="52714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Ou se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729040" y="5711400"/>
            <a:ext cx="7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808080"/>
                </a:solidFill>
                <a:latin typeface="Lucida Casual"/>
              </a:rPr>
              <a:t>be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753960" y="55620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21680" y="59284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(p - CV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16640" y="5911920"/>
            <a:ext cx="11271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2742840" y="3322800"/>
            <a:ext cx="2590920" cy="1645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943600" y="2454120"/>
            <a:ext cx="1859040" cy="441360"/>
          </a:xfrm>
          <a:custGeom>
            <a:avLst/>
            <a:gdLst/>
            <a:ahLst/>
            <a:rect l="l" t="t" r="r" b="b"/>
            <a:pathLst>
              <a:path w="1171" h="278">
                <a:moveTo>
                  <a:pt x="0" y="278"/>
                </a:moveTo>
                <a:cubicBezTo>
                  <a:pt x="40" y="252"/>
                  <a:pt x="80" y="153"/>
                  <a:pt x="240" y="124"/>
                </a:cubicBezTo>
                <a:cubicBezTo>
                  <a:pt x="400" y="95"/>
                  <a:pt x="805" y="126"/>
                  <a:pt x="960" y="105"/>
                </a:cubicBezTo>
                <a:cubicBezTo>
                  <a:pt x="1115" y="84"/>
                  <a:pt x="1127" y="22"/>
                  <a:pt x="1171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062880" y="147708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nálise Break-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3762000" y="2361600"/>
            <a:ext cx="1875960" cy="735120"/>
            <a:chOff x="3762000" y="2361600"/>
            <a:chExt cx="1875960" cy="735120"/>
          </a:xfrm>
        </p:grpSpPr>
        <p:sp>
          <p:nvSpPr>
            <p:cNvPr id="1212" name=""/>
            <p:cNvSpPr/>
            <p:nvPr/>
          </p:nvSpPr>
          <p:spPr>
            <a:xfrm>
              <a:off x="3762000" y="2511000"/>
              <a:ext cx="73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Lucida Casual"/>
                </a:rPr>
                <a:t>be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786920" y="23616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454280" y="272844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(p - C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449600" y="2711520"/>
              <a:ext cx="11268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834480" y="3538440"/>
            <a:ext cx="742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Quanto maior o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usto Fixo (CF)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, deve-se vender mais para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atingir o ponto de break-ev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Quanto maior o termo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(p - CVM)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, denominado de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Margem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Contribuição Unitária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, mais rapidamnte o ponto de break-ev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é ating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219760" y="1064520"/>
            <a:ext cx="48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lavancagem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031840" y="2015280"/>
            <a:ext cx="50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Relação entre os custos fixo e vari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282920" y="26845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767600" y="3689640"/>
            <a:ext cx="5613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Mais custo fixo em relação ao variável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Maior o Grau de Alavancagem 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Maior o Risco e Maior a Recompe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478160" y="106452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Grau de Alavancagem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892120" y="1905480"/>
            <a:ext cx="2265840" cy="870480"/>
            <a:chOff x="5892120" y="1905480"/>
            <a:chExt cx="2265840" cy="870480"/>
          </a:xfrm>
        </p:grpSpPr>
        <p:sp>
          <p:nvSpPr>
            <p:cNvPr id="1229" name=""/>
            <p:cNvSpPr/>
            <p:nvPr/>
          </p:nvSpPr>
          <p:spPr>
            <a:xfrm>
              <a:off x="5892120" y="2103840"/>
              <a:ext cx="102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GAO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842160" y="2315880"/>
              <a:ext cx="1174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814800" y="1905480"/>
              <a:ext cx="11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% Luc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56480" y="2377080"/>
              <a:ext cx="140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% Ven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026360" y="2118240"/>
            <a:ext cx="18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Por defin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68720" y="207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78160" y="106452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Grau de Alavancagem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5892120" y="1905480"/>
            <a:ext cx="2265840" cy="870480"/>
            <a:chOff x="5892120" y="1905480"/>
            <a:chExt cx="2265840" cy="870480"/>
          </a:xfrm>
        </p:grpSpPr>
        <p:sp>
          <p:nvSpPr>
            <p:cNvPr id="1240" name=""/>
            <p:cNvSpPr/>
            <p:nvPr/>
          </p:nvSpPr>
          <p:spPr>
            <a:xfrm>
              <a:off x="5892120" y="2103840"/>
              <a:ext cx="102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GAO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842160" y="2315880"/>
              <a:ext cx="1174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14800" y="1905480"/>
              <a:ext cx="11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% Luc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756480" y="2377080"/>
              <a:ext cx="140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% Ven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7210440" y="3110040"/>
            <a:ext cx="985320" cy="1143000"/>
            <a:chOff x="7210440" y="3110040"/>
            <a:chExt cx="985320" cy="1143000"/>
          </a:xfrm>
        </p:grpSpPr>
        <p:sp>
          <p:nvSpPr>
            <p:cNvPr id="1245" name=""/>
            <p:cNvSpPr/>
            <p:nvPr/>
          </p:nvSpPr>
          <p:spPr>
            <a:xfrm>
              <a:off x="7210440" y="3611520"/>
              <a:ext cx="0" cy="6256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64800" y="3714480"/>
              <a:ext cx="386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L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772400" y="3110040"/>
              <a:ext cx="0" cy="114300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809120" y="3503160"/>
              <a:ext cx="386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L</a:t>
              </a:r>
              <a:r>
                <a:rPr b="1" lang="en-US" sz="1800" spc="-1" strike="noStrike" baseline="-25000">
                  <a:solidFill>
                    <a:srgbClr val="9933ff"/>
                  </a:solidFill>
                  <a:latin typeface="Lucida Casu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715000" y="3124080"/>
            <a:ext cx="2454120" cy="1143000"/>
            <a:chOff x="5715000" y="3124080"/>
            <a:chExt cx="2454120" cy="1143000"/>
          </a:xfrm>
        </p:grpSpPr>
        <p:sp>
          <p:nvSpPr>
            <p:cNvPr id="1250" name=""/>
            <p:cNvSpPr/>
            <p:nvPr/>
          </p:nvSpPr>
          <p:spPr>
            <a:xfrm>
              <a:off x="5730840" y="42670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715000" y="3124080"/>
              <a:ext cx="23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730480" y="3627360"/>
              <a:ext cx="16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019920" y="312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054840" y="321552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5510880" y="4541040"/>
            <a:ext cx="2064600" cy="1633680"/>
            <a:chOff x="5510880" y="4541040"/>
            <a:chExt cx="2064600" cy="1633680"/>
          </a:xfrm>
        </p:grpSpPr>
        <p:sp>
          <p:nvSpPr>
            <p:cNvPr id="1256" name=""/>
            <p:cNvSpPr/>
            <p:nvPr/>
          </p:nvSpPr>
          <p:spPr>
            <a:xfrm>
              <a:off x="5510880" y="454104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Log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846040" y="5212440"/>
              <a:ext cx="102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GAO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26320" y="5424480"/>
              <a:ext cx="7491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924600" y="467748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918480" y="5059440"/>
              <a:ext cx="564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018200" y="50601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14880" y="5393520"/>
              <a:ext cx="49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50160" y="5807160"/>
              <a:ext cx="5652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24320" y="57758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 flipV="1">
            <a:off x="1079640" y="1979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74720" y="548496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81840" y="583488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16200000">
            <a:off x="-541440" y="358200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ou 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163400" y="2785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1093680" y="3124080"/>
            <a:ext cx="3110040" cy="138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079640" y="2100240"/>
            <a:ext cx="2528640" cy="338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660120" y="18424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193840" y="402264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010600" y="5466960"/>
            <a:ext cx="48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2732040" y="3063960"/>
            <a:ext cx="325440" cy="2805840"/>
            <a:chOff x="2732040" y="3063960"/>
            <a:chExt cx="325440" cy="2805840"/>
          </a:xfrm>
        </p:grpSpPr>
        <p:sp>
          <p:nvSpPr>
            <p:cNvPr id="1276" name=""/>
            <p:cNvSpPr/>
            <p:nvPr/>
          </p:nvSpPr>
          <p:spPr>
            <a:xfrm>
              <a:off x="2894040" y="3063960"/>
              <a:ext cx="0" cy="2498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732040" y="5501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3134520" y="2287440"/>
            <a:ext cx="741240" cy="3596760"/>
            <a:chOff x="3134520" y="2287440"/>
            <a:chExt cx="741240" cy="3596760"/>
          </a:xfrm>
        </p:grpSpPr>
        <p:sp>
          <p:nvSpPr>
            <p:cNvPr id="1279" name=""/>
            <p:cNvSpPr/>
            <p:nvPr/>
          </p:nvSpPr>
          <p:spPr>
            <a:xfrm>
              <a:off x="3473640" y="2287440"/>
              <a:ext cx="2880" cy="3305160"/>
            </a:xfrm>
            <a:prstGeom prst="line">
              <a:avLst/>
            </a:prstGeom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134520" y="55159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q+</a:t>
              </a:r>
              <a:r>
                <a:rPr b="1" lang="en-US" sz="1800" spc="-1" strike="noStrike">
                  <a:solidFill>
                    <a:srgbClr val="9933ff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2894040" y="3078000"/>
            <a:ext cx="471240" cy="625680"/>
            <a:chOff x="2894040" y="3078000"/>
            <a:chExt cx="471240" cy="625680"/>
          </a:xfrm>
        </p:grpSpPr>
        <p:sp>
          <p:nvSpPr>
            <p:cNvPr id="1282" name=""/>
            <p:cNvSpPr/>
            <p:nvPr/>
          </p:nvSpPr>
          <p:spPr>
            <a:xfrm>
              <a:off x="2894040" y="3078000"/>
              <a:ext cx="0" cy="6256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78640" y="3136680"/>
              <a:ext cx="386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L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3473280" y="2286000"/>
            <a:ext cx="423360" cy="1143000"/>
            <a:chOff x="3473280" y="2286000"/>
            <a:chExt cx="423360" cy="1143000"/>
          </a:xfrm>
        </p:grpSpPr>
        <p:sp>
          <p:nvSpPr>
            <p:cNvPr id="1285" name=""/>
            <p:cNvSpPr/>
            <p:nvPr/>
          </p:nvSpPr>
          <p:spPr>
            <a:xfrm>
              <a:off x="3473280" y="2286000"/>
              <a:ext cx="0" cy="114300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10000" y="2679480"/>
              <a:ext cx="386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L</a:t>
              </a:r>
              <a:r>
                <a:rPr b="1" lang="en-US" sz="1800" spc="-1" strike="noStrike" baseline="-25000">
                  <a:solidFill>
                    <a:srgbClr val="9933ff"/>
                  </a:solidFill>
                  <a:latin typeface="Lucida Casu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2894040" y="4739400"/>
            <a:ext cx="579240" cy="398880"/>
            <a:chOff x="2894040" y="4739400"/>
            <a:chExt cx="579240" cy="398880"/>
          </a:xfrm>
        </p:grpSpPr>
        <p:sp>
          <p:nvSpPr>
            <p:cNvPr id="1288" name=""/>
            <p:cNvSpPr/>
            <p:nvPr/>
          </p:nvSpPr>
          <p:spPr>
            <a:xfrm>
              <a:off x="2894040" y="5089680"/>
              <a:ext cx="5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934360" y="4739400"/>
              <a:ext cx="49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7577280" y="4996440"/>
            <a:ext cx="1321560" cy="794160"/>
            <a:chOff x="7577280" y="4996440"/>
            <a:chExt cx="1321560" cy="794160"/>
          </a:xfrm>
        </p:grpSpPr>
        <p:grpSp>
          <p:nvGrpSpPr>
            <p:cNvPr id="1291" name=""/>
            <p:cNvGrpSpPr/>
            <p:nvPr/>
          </p:nvGrpSpPr>
          <p:grpSpPr>
            <a:xfrm>
              <a:off x="7900920" y="4996440"/>
              <a:ext cx="997920" cy="794160"/>
              <a:chOff x="7900920" y="4996440"/>
              <a:chExt cx="997920" cy="794160"/>
            </a:xfrm>
          </p:grpSpPr>
          <p:sp>
            <p:nvSpPr>
              <p:cNvPr id="1292" name=""/>
              <p:cNvSpPr/>
              <p:nvPr/>
            </p:nvSpPr>
            <p:spPr>
              <a:xfrm>
                <a:off x="8361360" y="5391720"/>
                <a:ext cx="53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Lucida Casual"/>
                  </a:rPr>
                  <a:t>x 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905240" y="5391720"/>
                <a:ext cx="49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Lucida Casu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7953480" y="5410080"/>
                <a:ext cx="931680" cy="14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900920" y="5026680"/>
                <a:ext cx="47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Lucida Casu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335800" y="499644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Lucida Casual"/>
                  </a:rPr>
                  <a:t>x 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7577280" y="5212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7034400" y="197856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x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618880" y="17978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GAO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578280" y="1978560"/>
            <a:ext cx="4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478160" y="106452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Grau de Alavancagem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1079640" y="1979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74720" y="5484960"/>
            <a:ext cx="37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581840" y="583488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-541440" y="358200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ou 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889080" y="3241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1093680" y="3124080"/>
            <a:ext cx="3110040" cy="138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079640" y="2100240"/>
            <a:ext cx="2528640" cy="338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660120" y="18424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193840" y="402264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010600" y="5466960"/>
            <a:ext cx="48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2732040" y="3063960"/>
            <a:ext cx="325440" cy="2805840"/>
            <a:chOff x="2732040" y="3063960"/>
            <a:chExt cx="325440" cy="2805840"/>
          </a:xfrm>
        </p:grpSpPr>
        <p:sp>
          <p:nvSpPr>
            <p:cNvPr id="1316" name=""/>
            <p:cNvSpPr/>
            <p:nvPr/>
          </p:nvSpPr>
          <p:spPr>
            <a:xfrm>
              <a:off x="2894040" y="3063960"/>
              <a:ext cx="0" cy="2498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732040" y="5501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134520" y="2287440"/>
            <a:ext cx="741240" cy="3596760"/>
            <a:chOff x="3134520" y="2287440"/>
            <a:chExt cx="741240" cy="3596760"/>
          </a:xfrm>
        </p:grpSpPr>
        <p:sp>
          <p:nvSpPr>
            <p:cNvPr id="1319" name=""/>
            <p:cNvSpPr/>
            <p:nvPr/>
          </p:nvSpPr>
          <p:spPr>
            <a:xfrm>
              <a:off x="3473640" y="2287440"/>
              <a:ext cx="2880" cy="3305160"/>
            </a:xfrm>
            <a:prstGeom prst="line">
              <a:avLst/>
            </a:prstGeom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134520" y="55159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q+</a:t>
              </a:r>
              <a:r>
                <a:rPr b="1" lang="en-US" sz="1800" spc="-1" strike="noStrike">
                  <a:solidFill>
                    <a:srgbClr val="9933ff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2894040" y="3078000"/>
            <a:ext cx="471240" cy="625680"/>
            <a:chOff x="2894040" y="3078000"/>
            <a:chExt cx="471240" cy="625680"/>
          </a:xfrm>
        </p:grpSpPr>
        <p:sp>
          <p:nvSpPr>
            <p:cNvPr id="1322" name=""/>
            <p:cNvSpPr/>
            <p:nvPr/>
          </p:nvSpPr>
          <p:spPr>
            <a:xfrm>
              <a:off x="2894040" y="3078000"/>
              <a:ext cx="0" cy="6256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78640" y="3136680"/>
              <a:ext cx="386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L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3473280" y="2286000"/>
            <a:ext cx="423360" cy="1143000"/>
            <a:chOff x="3473280" y="2286000"/>
            <a:chExt cx="423360" cy="1143000"/>
          </a:xfrm>
        </p:grpSpPr>
        <p:sp>
          <p:nvSpPr>
            <p:cNvPr id="1325" name=""/>
            <p:cNvSpPr/>
            <p:nvPr/>
          </p:nvSpPr>
          <p:spPr>
            <a:xfrm>
              <a:off x="3473280" y="2286000"/>
              <a:ext cx="0" cy="114300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10000" y="2679480"/>
              <a:ext cx="386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L</a:t>
              </a:r>
              <a:r>
                <a:rPr b="1" lang="en-US" sz="1800" spc="-1" strike="noStrike" baseline="-25000">
                  <a:solidFill>
                    <a:srgbClr val="9933ff"/>
                  </a:solidFill>
                  <a:latin typeface="Lucida Casu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2894040" y="4739400"/>
            <a:ext cx="579240" cy="398880"/>
            <a:chOff x="2894040" y="4739400"/>
            <a:chExt cx="579240" cy="398880"/>
          </a:xfrm>
        </p:grpSpPr>
        <p:sp>
          <p:nvSpPr>
            <p:cNvPr id="1328" name=""/>
            <p:cNvSpPr/>
            <p:nvPr/>
          </p:nvSpPr>
          <p:spPr>
            <a:xfrm>
              <a:off x="2894040" y="5089680"/>
              <a:ext cx="5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34360" y="4739400"/>
              <a:ext cx="49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4918320" y="2450880"/>
            <a:ext cx="273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L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 = p x q - CF - CVM x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50720" y="2800080"/>
            <a:ext cx="394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Lucida Casual"/>
              </a:rPr>
              <a:t>L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9933ff"/>
                </a:solidFill>
                <a:latin typeface="Lucida Casual"/>
              </a:rPr>
              <a:t> = p x (q+</a:t>
            </a:r>
            <a:r>
              <a:rPr b="1" lang="en-US" sz="1800" spc="-1" strike="noStrike">
                <a:solidFill>
                  <a:srgbClr val="9933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9933ff"/>
                </a:solidFill>
                <a:latin typeface="Lucida Casual"/>
              </a:rPr>
              <a:t>q) - CF - CVM x (q+</a:t>
            </a:r>
            <a:r>
              <a:rPr b="1" lang="en-US" sz="1800" spc="-1" strike="noStrike">
                <a:solidFill>
                  <a:srgbClr val="9933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9933ff"/>
                </a:solidFill>
                <a:latin typeface="Lucida Casual"/>
              </a:rPr>
              <a:t>q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4734360" y="3353760"/>
            <a:ext cx="3615120" cy="942840"/>
            <a:chOff x="4734360" y="3353760"/>
            <a:chExt cx="3615120" cy="942840"/>
          </a:xfrm>
        </p:grpSpPr>
        <p:sp>
          <p:nvSpPr>
            <p:cNvPr id="1333" name=""/>
            <p:cNvSpPr/>
            <p:nvPr/>
          </p:nvSpPr>
          <p:spPr>
            <a:xfrm>
              <a:off x="4734360" y="335376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Log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687640" y="3561840"/>
              <a:ext cx="1338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L =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L</a:t>
              </a:r>
              <a:r>
                <a:rPr b="1" lang="en-US" sz="1800" spc="-1" strike="noStrike" baseline="-25000">
                  <a:solidFill>
                    <a:srgbClr val="9933ff"/>
                  </a:solidFill>
                  <a:latin typeface="Lucida Casual"/>
                </a:rPr>
                <a:t>2 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-</a:t>
              </a: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L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r>
                <a:rPr b="1" lang="en-US" sz="1800" spc="-1" strike="noStrike">
                  <a:solidFill>
                    <a:srgbClr val="9933ff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058440" y="3928320"/>
              <a:ext cx="229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= p x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 - CVM x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 flipV="1">
            <a:off x="6626160" y="1996920"/>
            <a:ext cx="932040" cy="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73960" y="16135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008840" y="158328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x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4771440" y="4282200"/>
            <a:ext cx="2811600" cy="1017720"/>
            <a:chOff x="4771440" y="4282200"/>
            <a:chExt cx="2811600" cy="1017720"/>
          </a:xfrm>
        </p:grpSpPr>
        <p:sp>
          <p:nvSpPr>
            <p:cNvPr id="1340" name=""/>
            <p:cNvSpPr/>
            <p:nvPr/>
          </p:nvSpPr>
          <p:spPr>
            <a:xfrm>
              <a:off x="4771440" y="428220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Ou sej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627160" y="4617360"/>
              <a:ext cx="4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611680" y="4931640"/>
              <a:ext cx="4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62720" y="4952880"/>
              <a:ext cx="549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08920" y="476820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= (p - C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4763520" y="5287320"/>
            <a:ext cx="3907080" cy="1098720"/>
            <a:chOff x="4763520" y="5287320"/>
            <a:chExt cx="3907080" cy="1098720"/>
          </a:xfrm>
        </p:grpSpPr>
        <p:sp>
          <p:nvSpPr>
            <p:cNvPr id="1346" name=""/>
            <p:cNvSpPr/>
            <p:nvPr/>
          </p:nvSpPr>
          <p:spPr>
            <a:xfrm>
              <a:off x="4763520" y="528732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Dond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5444640" y="5623920"/>
              <a:ext cx="3225960" cy="762120"/>
              <a:chOff x="5444640" y="5623920"/>
              <a:chExt cx="3225960" cy="762120"/>
            </a:xfrm>
          </p:grpSpPr>
          <p:sp>
            <p:nvSpPr>
              <p:cNvPr id="1348" name=""/>
              <p:cNvSpPr/>
              <p:nvPr/>
            </p:nvSpPr>
            <p:spPr>
              <a:xfrm>
                <a:off x="5444640" y="5638320"/>
                <a:ext cx="84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L x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482800" y="5998680"/>
                <a:ext cx="84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L x 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484600" y="5989680"/>
                <a:ext cx="793800" cy="14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849000" y="5623920"/>
                <a:ext cx="15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(p - CVM) x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6615000" y="5988240"/>
                <a:ext cx="2055600" cy="15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604560" y="6017760"/>
                <a:ext cx="20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Lucida Casual"/>
                  </a:rPr>
                  <a:t>q x (p - CVM) - C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252840" y="5790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Lucida Casu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440" y="1066680"/>
            <a:ext cx="7246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QUESTÃO FUND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mo tomar decisões quando há diversas alternativ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5840" y="2668680"/>
            <a:ext cx="50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asear-se nos custos de oportun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0120" y="3339720"/>
            <a:ext cx="72154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Custo de Oportunida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“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erhaps the most fundamental concept in economics,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oportunity cost on an action is the value of the foreg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alternative action” (The MIT Dictionary of Modern Econom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38640" y="89784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Grau de Alavancagem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505520" y="1526400"/>
            <a:ext cx="6604560" cy="912960"/>
            <a:chOff x="1505520" y="1526400"/>
            <a:chExt cx="6604560" cy="912960"/>
          </a:xfrm>
        </p:grpSpPr>
        <p:grpSp>
          <p:nvGrpSpPr>
            <p:cNvPr id="1360" name=""/>
            <p:cNvGrpSpPr/>
            <p:nvPr/>
          </p:nvGrpSpPr>
          <p:grpSpPr>
            <a:xfrm>
              <a:off x="1505520" y="1568880"/>
              <a:ext cx="2265840" cy="870480"/>
              <a:chOff x="1505520" y="1568880"/>
              <a:chExt cx="2265840" cy="870480"/>
            </a:xfrm>
          </p:grpSpPr>
          <p:sp>
            <p:nvSpPr>
              <p:cNvPr id="1361" name=""/>
              <p:cNvSpPr/>
              <p:nvPr/>
            </p:nvSpPr>
            <p:spPr>
              <a:xfrm>
                <a:off x="1505520" y="1767240"/>
                <a:ext cx="102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Lucida Casual"/>
                  </a:rPr>
                  <a:t>GAO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455560" y="1979280"/>
                <a:ext cx="11743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28200" y="1568880"/>
                <a:ext cx="118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Lucida Casual"/>
                  </a:rPr>
                  <a:t>% Lucr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369880" y="2040480"/>
                <a:ext cx="140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Lucida Casual"/>
                  </a:rPr>
                  <a:t>% Vend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4083840" y="1570680"/>
              <a:ext cx="9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L x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061520" y="1991520"/>
              <a:ext cx="92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L x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055760" y="1967040"/>
              <a:ext cx="960120" cy="14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874120" y="1526400"/>
              <a:ext cx="17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(p - CVM) x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5429160" y="1965240"/>
              <a:ext cx="2680920" cy="15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65680" y="2026440"/>
              <a:ext cx="22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q x (p - CVM) - C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66640" y="1767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677760" y="1767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352080" y="2483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su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025640" y="2881440"/>
            <a:ext cx="237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Empres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F = R$ 10.0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VM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q = 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056280" y="2822400"/>
            <a:ext cx="23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Empres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F = R$ 3.0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VM = R$ 4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q = 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523440" y="4649040"/>
            <a:ext cx="3787920" cy="734760"/>
            <a:chOff x="523440" y="4649040"/>
            <a:chExt cx="3787920" cy="734760"/>
          </a:xfrm>
        </p:grpSpPr>
        <p:sp>
          <p:nvSpPr>
            <p:cNvPr id="1377" name=""/>
            <p:cNvSpPr/>
            <p:nvPr/>
          </p:nvSpPr>
          <p:spPr>
            <a:xfrm>
              <a:off x="523440" y="4798440"/>
              <a:ext cx="968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GAO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A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091600" y="4649040"/>
              <a:ext cx="16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(5-2,5) x 5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37920" y="5014800"/>
              <a:ext cx="2773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666440" y="5015520"/>
              <a:ext cx="24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(5-2,5) x 5000 - 1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1241280" y="5484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5020200" y="4649040"/>
            <a:ext cx="3787200" cy="734760"/>
            <a:chOff x="5020200" y="4649040"/>
            <a:chExt cx="3787200" cy="734760"/>
          </a:xfrm>
        </p:grpSpPr>
        <p:sp>
          <p:nvSpPr>
            <p:cNvPr id="1383" name=""/>
            <p:cNvSpPr/>
            <p:nvPr/>
          </p:nvSpPr>
          <p:spPr>
            <a:xfrm>
              <a:off x="5020200" y="4798440"/>
              <a:ext cx="96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GAO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B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85920" y="464904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(5-4) x 5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33960" y="5014800"/>
              <a:ext cx="2773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26280" y="5015520"/>
              <a:ext cx="216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(5-4) x 5000 - 3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5760720" y="5406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= 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538640" y="89784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Grau de Alavancagem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505880" y="176760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GAO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455920" y="1979640"/>
            <a:ext cx="1174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428560" y="156924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% Lu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370240" y="204048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% V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084200" y="157068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L x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061880" y="1991520"/>
            <a:ext cx="9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L x 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056120" y="1967040"/>
            <a:ext cx="960480" cy="140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874480" y="152640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(p - CVM) x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5429160" y="1965240"/>
            <a:ext cx="2681280" cy="158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666040" y="2026440"/>
            <a:ext cx="22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q x (p - CVM) - 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067360" y="1767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678120" y="1767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52080" y="2483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025640" y="2881440"/>
            <a:ext cx="237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Empresa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CF = R$ 10.0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CVM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 = 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56280" y="2822400"/>
            <a:ext cx="23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Empresa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CF = R$ 3.0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CVM = R$ 4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 = 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23800" y="4798800"/>
            <a:ext cx="96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GAO</a:t>
            </a:r>
            <a:r>
              <a:rPr b="1" lang="en-US" sz="1800" spc="-1" strike="noStrike" baseline="-25000">
                <a:solidFill>
                  <a:srgbClr val="808080"/>
                </a:solidFill>
                <a:latin typeface="Lucida Casual"/>
              </a:rPr>
              <a:t>A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91960" y="464904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(5-2,5) x 5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538280" y="5014800"/>
            <a:ext cx="2773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66440" y="501588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(5-2,5) x 5000 - 1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41280" y="5484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020200" y="4798800"/>
            <a:ext cx="96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GAO</a:t>
            </a:r>
            <a:r>
              <a:rPr b="1" lang="en-US" sz="1800" spc="-1" strike="noStrike" baseline="-25000">
                <a:solidFill>
                  <a:srgbClr val="808080"/>
                </a:solidFill>
                <a:latin typeface="Lucida Casual"/>
              </a:rPr>
              <a:t>B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685920" y="46490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(5-4) x 5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33960" y="5014800"/>
            <a:ext cx="2773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326280" y="50158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(5-4) x 5000 - 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760720" y="5454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= 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85720" y="594288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+ 1% de vendas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 + 5% no lu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77640" y="5927040"/>
            <a:ext cx="39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+ 1% de vendas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 + 2.5% no lu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1574640" y="5889600"/>
            <a:ext cx="2005200" cy="405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033000" y="1939320"/>
            <a:ext cx="36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rejuízo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usto Total -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116960" y="245844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(CF + CV) -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 x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538640" y="89784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Grau de Alavancagem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026520" y="1506240"/>
            <a:ext cx="120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Se q &lt; 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504720" y="2724840"/>
            <a:ext cx="7715520" cy="2432520"/>
            <a:chOff x="504720" y="2724840"/>
            <a:chExt cx="7715520" cy="2432520"/>
          </a:xfrm>
        </p:grpSpPr>
        <p:sp>
          <p:nvSpPr>
            <p:cNvPr id="1428" name=""/>
            <p:cNvSpPr/>
            <p:nvPr/>
          </p:nvSpPr>
          <p:spPr>
            <a:xfrm>
              <a:off x="504720" y="272484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asual"/>
                </a:rPr>
                <a:t>Exempl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406520" y="3105720"/>
              <a:ext cx="237816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Empres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CF = R$ 10.000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CVM = R$ 2,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p = R$ 5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Lucida Casual"/>
                </a:rPr>
                <a:t>be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 = 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 = 1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42080" y="3093120"/>
              <a:ext cx="237816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Empresa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CF = R$ 3.000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CVM = R$ 4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p = R$ 5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Lucida Casual"/>
                </a:rPr>
                <a:t>be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 = 3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 = 1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682200" y="5169600"/>
            <a:ext cx="8035200" cy="1148040"/>
            <a:chOff x="682200" y="5169600"/>
            <a:chExt cx="8035200" cy="1148040"/>
          </a:xfrm>
        </p:grpSpPr>
        <p:sp>
          <p:nvSpPr>
            <p:cNvPr id="1432" name=""/>
            <p:cNvSpPr/>
            <p:nvPr/>
          </p:nvSpPr>
          <p:spPr>
            <a:xfrm>
              <a:off x="682200" y="5169600"/>
              <a:ext cx="380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Prejuízo = 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(10000+2500)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 -5 x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687680" y="553788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= R$ 7.500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045040" y="5171400"/>
              <a:ext cx="367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Prejuízo = 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(3000+4000) 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-5 x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059880" y="552528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= R$ 2.000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35200" y="5918760"/>
              <a:ext cx="172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Risco Maior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092240" y="1590840"/>
            <a:ext cx="54673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ust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ustos Fixo e 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usto Mar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usto de Oportun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na Concorrência Perfe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325680" y="101124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6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48560" y="1783800"/>
            <a:ext cx="81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tima-se que em um determinado mercado há uma demand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5.000 unidades de um dado produto digital ao preço de R$ 40,00 c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9440" y="2625840"/>
            <a:ext cx="779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onsidere duas alternativas para atender a esta dema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a) Comprar um workstation no estado da arte acompanh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e software de ponta (CF = R$ 30.000,00 e CVM = 20,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b) Comprar um micro-computador e um software mai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(CF = R$ 5.000,00  CVM = 30,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78280" y="4955760"/>
            <a:ext cx="865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Qual a melhor opção se a estimativa da demanda é de alta confiabilidad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Que acontece se, de fato, a demanda foi de 1.000 uni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Que acontece se, de fato, a demanda foi de 10.000 uni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3533400" y="2117160"/>
            <a:ext cx="1875960" cy="735120"/>
            <a:chOff x="3533400" y="2117160"/>
            <a:chExt cx="1875960" cy="735120"/>
          </a:xfrm>
        </p:grpSpPr>
        <p:sp>
          <p:nvSpPr>
            <p:cNvPr id="1452" name=""/>
            <p:cNvSpPr/>
            <p:nvPr/>
          </p:nvSpPr>
          <p:spPr>
            <a:xfrm>
              <a:off x="3533400" y="2266560"/>
              <a:ext cx="73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Lucida Casual"/>
                </a:rPr>
                <a:t>be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558320" y="211716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225680" y="24840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(p - C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221000" y="2467080"/>
              <a:ext cx="11268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6" name=""/>
          <p:cNvSpPr/>
          <p:nvPr/>
        </p:nvSpPr>
        <p:spPr>
          <a:xfrm>
            <a:off x="3204360" y="352368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L = p x q - CF - CVM x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2904480" y="4737960"/>
            <a:ext cx="3129480" cy="762120"/>
            <a:chOff x="2904480" y="4737960"/>
            <a:chExt cx="3129480" cy="762120"/>
          </a:xfrm>
        </p:grpSpPr>
        <p:sp>
          <p:nvSpPr>
            <p:cNvPr id="1458" name=""/>
            <p:cNvSpPr/>
            <p:nvPr/>
          </p:nvSpPr>
          <p:spPr>
            <a:xfrm>
              <a:off x="2904480" y="4934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GA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212000" y="4737960"/>
              <a:ext cx="15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(p - CVM) x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3978000" y="5102280"/>
              <a:ext cx="2055960" cy="15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967920" y="513180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q x (p - CVM) - C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616200" y="4904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Lucida Casu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1915560" y="97524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Fórmulas úteis para o Exercício 6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91040" y="1705680"/>
            <a:ext cx="69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ntidade de vendas necessárias para atingir break-ev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5440" y="3107520"/>
            <a:ext cx="62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Lucro auferido ao vender uma quantidade q de be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14440" y="431244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Grau de Alavancagem Opera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440" y="1066680"/>
            <a:ext cx="7246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QUESTÃO FUND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mo tomar decisões quando há diversas alternativ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5840" y="2668680"/>
            <a:ext cx="50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asear-se nos custos de oportun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0120" y="3339720"/>
            <a:ext cx="72154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Custo de Oportunida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“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erhaps the most fundamental concept in economics,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oportunity cost on an action is the value of the foreg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alternative action” (The MIT Dictionary of Modern Econom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076360"/>
            <a:ext cx="77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“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Custo de Oportunidade mede o valor das oportunidades 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em decorrência da escolha de uma alternativa de produção 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lugar de uma outra também possível”. (Manual de Economia, U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5440" y="1409760"/>
            <a:ext cx="7892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o avaliar o custo de oportunidade associada a um determ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ivel de produção, quando o mercado 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fixa o preço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71680" y="2031840"/>
            <a:ext cx="2367000" cy="702000"/>
          </a:xfrm>
          <a:custGeom>
            <a:avLst/>
            <a:gdLst/>
            <a:ahLst/>
            <a:rect l="l" t="t" r="r" b="b"/>
            <a:pathLst>
              <a:path w="1491" h="442">
                <a:moveTo>
                  <a:pt x="0" y="442"/>
                </a:moveTo>
                <a:cubicBezTo>
                  <a:pt x="64" y="439"/>
                  <a:pt x="128" y="437"/>
                  <a:pt x="282" y="404"/>
                </a:cubicBezTo>
                <a:cubicBezTo>
                  <a:pt x="436" y="371"/>
                  <a:pt x="721" y="311"/>
                  <a:pt x="922" y="244"/>
                </a:cubicBezTo>
                <a:cubicBezTo>
                  <a:pt x="1123" y="177"/>
                  <a:pt x="1396" y="41"/>
                  <a:pt x="149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60880" y="1767960"/>
            <a:ext cx="0" cy="16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32280" y="33084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0880" y="21654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4360" y="3459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5400" y="34599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2440" y="34599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27560" y="3156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4240" y="3156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92920" y="338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20800" y="17074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8800" y="2589120"/>
            <a:ext cx="96840" cy="47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37760" y="2872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 (Mercado T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619000" y="4083840"/>
            <a:ext cx="3775320" cy="2106720"/>
            <a:chOff x="2619000" y="4083840"/>
            <a:chExt cx="3775320" cy="2106720"/>
          </a:xfrm>
        </p:grpSpPr>
        <p:sp>
          <p:nvSpPr>
            <p:cNvPr id="107" name=""/>
            <p:cNvSpPr/>
            <p:nvPr/>
          </p:nvSpPr>
          <p:spPr>
            <a:xfrm flipV="1">
              <a:off x="3260880" y="4084200"/>
              <a:ext cx="1440" cy="17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2280" y="5670720"/>
              <a:ext cx="3352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14360" y="5822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96440" y="5822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63480" y="5822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27560" y="5518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94240" y="5518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68880" y="5745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19000" y="4083840"/>
              <a:ext cx="55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$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05440" y="914760"/>
            <a:ext cx="82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Fixação do Preço pelo Mercado (Competição Perfe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36880" y="2404440"/>
            <a:ext cx="995040" cy="368280"/>
            <a:chOff x="2936880" y="2404440"/>
            <a:chExt cx="995040" cy="368280"/>
          </a:xfrm>
        </p:grpSpPr>
        <p:sp>
          <p:nvSpPr>
            <p:cNvPr id="118" name=""/>
            <p:cNvSpPr/>
            <p:nvPr/>
          </p:nvSpPr>
          <p:spPr>
            <a:xfrm flipH="1">
              <a:off x="3271320" y="2620800"/>
              <a:ext cx="66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36880" y="2404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0880" y="4908600"/>
            <a:ext cx="2133360" cy="76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918160" y="4763520"/>
            <a:ext cx="1339200" cy="368280"/>
            <a:chOff x="2918160" y="4763520"/>
            <a:chExt cx="1339200" cy="368280"/>
          </a:xfrm>
        </p:grpSpPr>
        <p:sp>
          <p:nvSpPr>
            <p:cNvPr id="122" name=""/>
            <p:cNvSpPr/>
            <p:nvPr/>
          </p:nvSpPr>
          <p:spPr>
            <a:xfrm flipH="1">
              <a:off x="3271320" y="4957920"/>
              <a:ext cx="9860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8160" y="4763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737680" y="1791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76920" y="3968640"/>
            <a:ext cx="2400120" cy="1014480"/>
          </a:xfrm>
          <a:prstGeom prst="wedgeRoundRectCallout">
            <a:avLst>
              <a:gd name="adj1" fmla="val -68916"/>
              <a:gd name="adj2" fmla="val 46245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Demanda vista p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produtor com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de particip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60520" y="2546280"/>
            <a:ext cx="2165400" cy="3138480"/>
            <a:chOff x="3260520" y="2546280"/>
            <a:chExt cx="2165400" cy="3138480"/>
          </a:xfrm>
        </p:grpSpPr>
        <p:sp>
          <p:nvSpPr>
            <p:cNvPr id="127" name=""/>
            <p:cNvSpPr/>
            <p:nvPr/>
          </p:nvSpPr>
          <p:spPr>
            <a:xfrm>
              <a:off x="3900600" y="2546280"/>
              <a:ext cx="0" cy="144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260520" y="3948120"/>
              <a:ext cx="641160" cy="5634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92400" y="2546280"/>
              <a:ext cx="0" cy="144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76560" y="3949560"/>
              <a:ext cx="1449360" cy="54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6720" y="4449600"/>
              <a:ext cx="0" cy="1204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040" y="4479840"/>
              <a:ext cx="0" cy="1204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TAKASHI</cp:lastModifiedBy>
  <cp:lastPrinted>2000-05-03T14:19:10Z</cp:lastPrinted>
  <dcterms:modified xsi:type="dcterms:W3CDTF">2000-10-04T15:36:40Z</dcterms:modified>
  <cp:revision>133</cp:revision>
  <dc:subject/>
  <dc:title>Custos</dc:title>
</cp:coreProperties>
</file>