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561-EEDF-484E-A8D7-E6E78EDE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375-DF9C-4C3B-870B-1924F38F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CB1-66D8-4399-B853-01DCC62F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DD0-5702-44DB-AB9C-1D4E3F00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308-3B42-44EB-BA37-9E928563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455-EDE1-48BD-A9C4-AE40D39F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8E7-272B-4929-A587-186047B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AE2-808E-4C90-BE53-67F95C6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607-7779-4C76-B5C8-7ED60A2B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E57-90C9-4384-8FCB-8F03FA5F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323-279E-49B4-9833-E90F866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524-E592-469B-801B-88BB301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695-7272-4C68-91D9-15C09C3BD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72240" y="606600"/>
            <a:ext cx="1998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ercado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2880" y="2225520"/>
            <a:ext cx="530388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Método de Avali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50%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50%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4280" y="1508040"/>
            <a:ext cx="6988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Média de 10 Notas de Exercícios (Selecionados entre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Nota da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T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Nota do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ta Final do Produto =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(M + P + T)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1040" y="1508040"/>
            <a:ext cx="698832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 = Média de 10 Notas de Exercícios (Selecionados entre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 = Nota da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 = Nota do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Nota Final do Produto = (M + P + T)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s aulas estão, na maioria, estruturadas no 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30 min de exposição e 20 de exercí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último exercício da noite será recolhido para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1040" y="1508040"/>
            <a:ext cx="69883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 = Média de 10 Notas de Exercícios (Selecionados entre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 = Nota da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 = Nota do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Nota Final do Produto = (M + P + T)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s aulas estão, na maioria, estruturadas no 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30 min de exposição e 20 de exercí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 último exercício da noite será recolhido para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o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rá realizada uma prova de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00min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na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5</a:t>
            </a:r>
            <a:r>
              <a:rPr b="1" lang="pt-BR" sz="1800" spc="-1" strike="noStrike" baseline="30000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8800" y="129528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DINÂMICAS</a:t>
            </a: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0120" y="2696400"/>
            <a:ext cx="832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urélio B. H. Ferreira,</a:t>
            </a:r>
            <a:r>
              <a:rPr b="1" i="1" lang="pt-BR" sz="1800" spc="-1" strike="noStrike">
                <a:solidFill>
                  <a:srgbClr val="000000"/>
                </a:solidFill>
                <a:latin typeface="Lucida Casual"/>
              </a:rPr>
              <a:t>Novo Dicionário da Língua Portugues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 27</a:t>
            </a:r>
            <a:r>
              <a:rPr b="1" lang="pt-BR" sz="1800" spc="-1" strike="noStrike" baseline="30000">
                <a:solidFill>
                  <a:srgbClr val="000000"/>
                </a:solidFill>
                <a:latin typeface="Lucida Casu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d, 8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nâmica, [feminino substantivado do adjetivo dinâmic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nâmico, [do grego dinamikós], Adj.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 Respeitante ao movimento e às forças ou ao organismo em 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. Ativo ou diligente em alto gr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9160" y="1295280"/>
            <a:ext cx="70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</a:t>
            </a: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MERCADO</a:t>
            </a: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5680" y="2279160"/>
            <a:ext cx="8703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urélio B. H. Ferreira,</a:t>
            </a:r>
            <a:r>
              <a:rPr b="1" i="1" lang="pt-BR" sz="1800" spc="-1" strike="noStrike">
                <a:solidFill>
                  <a:srgbClr val="000000"/>
                </a:solidFill>
                <a:latin typeface="Lucida Casual"/>
              </a:rPr>
              <a:t>Novo Dicionário da Língua Portugues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 27</a:t>
            </a:r>
            <a:r>
              <a:rPr b="1" lang="pt-BR" sz="1800" spc="-1" strike="noStrike" baseline="30000">
                <a:solidFill>
                  <a:srgbClr val="000000"/>
                </a:solidFill>
                <a:latin typeface="Lucida Casu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d, 8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ercado, [do latim mercatu] S.m.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 Lugar onde se comerciam gêneros alimentícios e outras mercad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. Permutação ou troca de produtos ou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. Relação estabelecida entre oferta e procura de bens, serviços 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4. Conjunto de Pessoas ou empresas que, oferecendo ou procurando be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serviços ou capital determinam o surgimento desta re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8800" y="129528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MERCADO </a:t>
            </a: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480" y="1960200"/>
            <a:ext cx="87332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urélio B. H. Ferreira,</a:t>
            </a:r>
            <a:r>
              <a:rPr b="1" i="1" lang="pt-BR" sz="1800" spc="-1" strike="noStrike">
                <a:solidFill>
                  <a:srgbClr val="000000"/>
                </a:solidFill>
                <a:latin typeface="Lucida Casual"/>
              </a:rPr>
              <a:t>Novo Dicionário da Língua Portugues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 27</a:t>
            </a:r>
            <a:r>
              <a:rPr b="1" lang="pt-BR" sz="1800" spc="-1" strike="noStrike" baseline="30000">
                <a:solidFill>
                  <a:srgbClr val="000000"/>
                </a:solidFill>
                <a:latin typeface="Lucida Casu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d, 8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gital, [do latim digitale] Ad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 Relativo a díg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gito, [do latim digitu] S.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 Qualquer dos algarismos arábicos de 0 a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. Elemento de um conjunto de caracteres determinados que se u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o coeficientes de potências da raiz na notação posicional de nú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. Dígito Binário = Qualquer dos caracteres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8800" y="129528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DINÂMICAS</a:t>
            </a: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5400" y="2785320"/>
            <a:ext cx="81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speitante ao movimento e às forças ou ao organismo em 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9160" y="1295280"/>
            <a:ext cx="70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</a:t>
            </a: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MERCADO</a:t>
            </a: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5400" y="2785320"/>
            <a:ext cx="81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speitante ao movimento e às forças ou ao organismo em 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0840" y="3350520"/>
            <a:ext cx="82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lação estabelecida entre oferta e procura de bens, serviços 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8800" y="129528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MERCADO </a:t>
            </a:r>
            <a:r>
              <a:rPr b="1" lang="pt-BR" sz="3200" spc="-1" strike="noStrike">
                <a:solidFill>
                  <a:srgbClr val="ff3300"/>
                </a:solidFill>
                <a:latin typeface="Lucida Casual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2785320"/>
            <a:ext cx="81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speitante ao movimento e às forças ou ao organismo em 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0840" y="3350520"/>
            <a:ext cx="82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lação estabelecida entre oferta e procura de bens, serviços 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0200" y="3938040"/>
            <a:ext cx="56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ígito Binário = Qualquer dos caracteres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6560" y="2286000"/>
            <a:ext cx="399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8006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581280"/>
            <a:ext cx="1304640" cy="916920"/>
            <a:chOff x="3962520" y="35812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5812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82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6972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8800" y="129528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400" y="2785320"/>
            <a:ext cx="81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speitante ao movimento e às forças ou ao organismo em 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0840" y="3350520"/>
            <a:ext cx="82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lação estabelecida entre oferta e procura de bens, serviços 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0200" y="3938040"/>
            <a:ext cx="56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ígito Binário = Qualquer dos caracteres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14800" y="1295280"/>
            <a:ext cx="62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Elementos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7560" y="2200320"/>
            <a:ext cx="73159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Qual o objeto de troca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ens? Serviços? Capit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Oferta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m oferece tais objetos de tro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emanda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m está procurando tais objetos de troca?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gital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Onde foi utilizada a tecnologia digital?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nâmica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 faz o mercado ser dinâm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nfra-estrutura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 recursos físicos são requeri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layers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m mais participa ativamente do merc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rocessos: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Que mecanismos são usados na tro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7400" y="9691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200" y="1697760"/>
            <a:ext cx="72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m cada um dos seguintes sites de comércio eletrônic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xemplificar os elementos de mer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49560" y="2559240"/>
            <a:ext cx="2273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Objeto de tro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Oferta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onsumid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git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nâm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nfra-estrutu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lay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rocess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25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280" y="1219320"/>
            <a:ext cx="76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mplos de crescimento do comérc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3800" y="213660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Vendas da Cisco Systems n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51800" y="2590920"/>
            <a:ext cx="31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$ 100 milhões, em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$ 3,2 bilhões, em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9720" y="385596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Vendas da Dell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54680" y="4343400"/>
            <a:ext cx="50281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$ 1 milhão / dia, em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$ 6 milhões / dia, em dezembro de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S$ 18 milhões / dia, em abril de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50760" y="99072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Produtos on-line vendidos no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0440" y="586620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OECD, 1998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www.oecd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2920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209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5200" y="17694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55920" y="1769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%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25909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9718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9400" y="231588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5440" y="265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Liv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42040" y="29714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42400" y="33681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Mú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18640" y="373356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Eletrodomé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71560" y="403812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Víd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52120" y="434304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Serviços de Vi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6640" y="4647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Rou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81280" y="495252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Tickets de 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52480" y="52398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Ou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4080" y="2241360"/>
            <a:ext cx="7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6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65880" y="26064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4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65880" y="29570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3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65880" y="336672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59480" y="3703320"/>
            <a:ext cx="6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6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4008240"/>
            <a:ext cx="6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5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59480" y="4312800"/>
            <a:ext cx="6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5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59480" y="4617720"/>
            <a:ext cx="6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59480" y="4922640"/>
            <a:ext cx="6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4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18800" y="5254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37339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4343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4952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52578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1676520"/>
            <a:ext cx="4267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038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32720" y="91440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Usuários da Internet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1000" y="6094800"/>
            <a:ext cx="50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enasoft  / Simonsen Associados in Exame ed. 700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1752480"/>
            <a:ext cx="2971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2286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33080" y="1856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65280" y="18565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73320" y="2285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an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73320" y="2666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an 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3320" y="3047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an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7520" y="34282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ul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15120" y="22852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15120" y="2666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7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7560" y="30474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4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17560" y="3428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.8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3809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56760" y="380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Dez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3160" y="3809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.93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1752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417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69720" y="41871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un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24040" y="41886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.3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71160" y="45237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Dez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25480" y="45237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.3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4540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77280" y="4876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Fev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7560" y="48762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752480"/>
            <a:ext cx="19810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1752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stribuiçã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Usu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2743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272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362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46160" y="23616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8360" y="23616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[%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50560" y="27424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/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02320" y="274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81600" y="312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57400" y="35046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D/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3123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350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37040" y="396216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Fev de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9920" y="579024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IBOPE, Veja, 5/04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33200" y="914400"/>
            <a:ext cx="49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Serviços utilizados vi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2960" y="6094800"/>
            <a:ext cx="41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Fenasoft  / Simonsen Associado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2133720"/>
            <a:ext cx="5486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638680" y="2133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2666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3048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3429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3809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40640" y="22280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3560" y="22503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artici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75960" y="26661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Nav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52280" y="3047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52200" y="344412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ransferência de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92520" y="380916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-commerce e banc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7800" y="268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58600" y="3047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6040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86040" y="3855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4191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10520" y="4266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u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71560" y="4266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72040" y="91440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stimativas  para e-commerce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15080" y="19368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US$ 2,3 bilhões, 8ª economia mundial, em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9280" y="233964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Fonte: Booz Allen,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89880" y="287352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US$ 4 bilhões, em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87960" y="3276360"/>
            <a:ext cx="46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Fonte: Forrester Research Veja, 26/01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44240" y="3841920"/>
            <a:ext cx="60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US$ 140 milhões, em 1999, US$ 1,9 bilhões em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1720" y="4244760"/>
            <a:ext cx="29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Fonte: IDC, OESP, 7/2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8600" y="4832280"/>
            <a:ext cx="50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US$ 8 bilhões, em 2003, na América L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05880" y="5235120"/>
            <a:ext cx="29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Fonte: IDC, OESP, 7/2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01960" y="106668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O Comércio Eletrônico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360" y="1828800"/>
            <a:ext cx="83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 O Brasil, segundo Paulo Bastos Tigre, conta com uma comunidade </a:t>
            </a:r>
            <a:r>
              <a:rPr b="1" i="1" lang="pt-BR" sz="1800" spc="-1" strike="noStrike">
                <a:solidFill>
                  <a:srgbClr val="3333cc"/>
                </a:solidFill>
                <a:latin typeface="Lucida Casu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i="1" lang="pt-BR" sz="1800" spc="-1" strike="noStrike">
                <a:solidFill>
                  <a:srgbClr val="3333cc"/>
                </a:solidFill>
                <a:latin typeface="Lucida Casual"/>
              </a:rPr>
              <a:t>line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capaz de proporcionar um </a:t>
            </a: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mercado atraente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e uma </a:t>
            </a: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força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par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envolv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8640" y="3124080"/>
            <a:ext cx="81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94% das médias e grandes empresas brasileiras possuem h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87720" y="4038480"/>
            <a:ext cx="43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0,17% do valor total das trans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87720" y="4952880"/>
            <a:ext cx="43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- 0,05% do valor total das trans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0120" y="3657600"/>
            <a:ext cx="7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B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2280" y="4495680"/>
            <a:ext cx="7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B2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82800" y="556164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FGV/SP, OESP, 17/04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000" y="4038480"/>
            <a:ext cx="7221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Takashi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genheiro, Doutor em Modelagem e Otimização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-mail: takashi@ele.ita.cta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6280" y="2057400"/>
            <a:ext cx="6703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Arnoldo Souza 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Ca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conomista, Doutor em Gestão Estratégica de Tecn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-mail: cabral@mec.ita.cta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4760" y="99072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Visões sobre a Nova 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2286000"/>
            <a:ext cx="771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... (só agora)  “o impacto verdadeiramente revolucionário 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volução da Informação começa a ser sentido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... (o comércio eletrônico)  “é totalmente novo, totalmente s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cedentes, e totalmente imprevisível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82520" y="3809880"/>
            <a:ext cx="51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Peter Drucker, OESP, 21/11/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464832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66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“</a:t>
            </a:r>
            <a:r>
              <a:rPr b="1" lang="pt-BR" sz="1800" spc="-1" strike="noStrike">
                <a:solidFill>
                  <a:srgbClr val="993366"/>
                </a:solidFill>
                <a:latin typeface="Lucida Casual"/>
              </a:rPr>
              <a:t>A nova economia não é a montanha russa da Nasdaq, mas uma  revolução cultural pelo aumento da produtividade no paí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28880" y="53895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(Boris Tabacof, FIESP, FSP, 21/04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4880" y="168264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16720" y="2583000"/>
            <a:ext cx="55357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étodo de Aval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 de Mercado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lementos do Mercado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novação Tecnológica x Teoria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21720" y="21121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30320" y="3305160"/>
            <a:ext cx="70707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xpressar, usando entre 100 a 150 palavras, qual a s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visão atual sobr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‘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erspectivas Econômicas do Comércio Eletrônic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1800" y="2286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uto-Apres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9920" y="430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6840" y="3122640"/>
            <a:ext cx="2856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Nome de 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ormação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unção 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8120" y="141300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4440" y="2705040"/>
            <a:ext cx="8137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ituar a Matéria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Dinâmicas do Mercado Digital)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no contexto do Curs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mércio Eletrôn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presentar o Método de Aval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uar o Mercado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dentificar elementos que participam do Mercado Dib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xplorar a relação Inovação Tecnológica x Teoria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8400" y="95652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BA Executivo em Comércio Eletrô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8001000" cy="53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2920" y="19803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Formação em Negó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962520"/>
            <a:ext cx="8001000" cy="53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486400" y="2438280"/>
            <a:ext cx="1600200" cy="3429000"/>
            <a:chOff x="5486400" y="2438280"/>
            <a:chExt cx="1600200" cy="3429000"/>
          </a:xfrm>
        </p:grpSpPr>
        <p:sp>
          <p:nvSpPr>
            <p:cNvPr id="84" name=""/>
            <p:cNvSpPr/>
            <p:nvPr/>
          </p:nvSpPr>
          <p:spPr>
            <a:xfrm>
              <a:off x="54864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864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2920" y="2513520"/>
              <a:ext cx="94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F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Hum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64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33000" y="4570920"/>
              <a:ext cx="111204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Work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 Cri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086600" y="2438280"/>
            <a:ext cx="1600200" cy="3429000"/>
            <a:chOff x="7086600" y="2438280"/>
            <a:chExt cx="1600200" cy="3429000"/>
          </a:xfrm>
        </p:grpSpPr>
        <p:sp>
          <p:nvSpPr>
            <p:cNvPr id="91" name=""/>
            <p:cNvSpPr/>
            <p:nvPr/>
          </p:nvSpPr>
          <p:spPr>
            <a:xfrm>
              <a:off x="7086600" y="2438280"/>
              <a:ext cx="160020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76240" y="2741760"/>
              <a:ext cx="142596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Planej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o Negó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4495680"/>
              <a:ext cx="1600200" cy="137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6240" y="4799160"/>
              <a:ext cx="1425960" cy="733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Planej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o Comér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letrô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35320" y="403776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pecialização em 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86200" y="2438280"/>
            <a:ext cx="1600200" cy="3429000"/>
            <a:chOff x="3886200" y="2438280"/>
            <a:chExt cx="1600200" cy="3429000"/>
          </a:xfrm>
        </p:grpSpPr>
        <p:sp>
          <p:nvSpPr>
            <p:cNvPr id="97" name=""/>
            <p:cNvSpPr/>
            <p:nvPr/>
          </p:nvSpPr>
          <p:spPr>
            <a:xfrm>
              <a:off x="38862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91760" y="2513520"/>
              <a:ext cx="112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Oper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Logís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62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9680" y="4570920"/>
              <a:ext cx="11163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igi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160" y="5256720"/>
              <a:ext cx="141660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éto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Quantita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50360" y="3199320"/>
              <a:ext cx="12369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Gerênci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Negó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5800" y="2438280"/>
            <a:ext cx="1600200" cy="3429000"/>
            <a:chOff x="685800" y="2438280"/>
            <a:chExt cx="1600200" cy="3429000"/>
          </a:xfrm>
        </p:grpSpPr>
        <p:sp>
          <p:nvSpPr>
            <p:cNvPr id="106" name=""/>
            <p:cNvSpPr/>
            <p:nvPr/>
          </p:nvSpPr>
          <p:spPr>
            <a:xfrm>
              <a:off x="6858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4240" y="2513520"/>
              <a:ext cx="126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Amb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 Negó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8560" y="4570920"/>
              <a:ext cx="95040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sig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 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3720" y="3199320"/>
              <a:ext cx="11880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256720"/>
              <a:ext cx="151452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Internet como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71240" y="2438280"/>
            <a:ext cx="1614960" cy="3429000"/>
            <a:chOff x="2271240" y="2438280"/>
            <a:chExt cx="1614960" cy="3429000"/>
          </a:xfrm>
        </p:grpSpPr>
        <p:sp>
          <p:nvSpPr>
            <p:cNvPr id="115" name=""/>
            <p:cNvSpPr/>
            <p:nvPr/>
          </p:nvSpPr>
          <p:spPr>
            <a:xfrm>
              <a:off x="22860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2160" y="2513520"/>
              <a:ext cx="14868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Tecnolo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a Inform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0440" y="4677120"/>
              <a:ext cx="111960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-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9880" y="3199320"/>
              <a:ext cx="103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Finanç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Aplic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1240" y="5256720"/>
              <a:ext cx="159804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inâmicas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ercado Digi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11600" y="4272120"/>
            <a:ext cx="1011240" cy="860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6680" y="3924360"/>
            <a:ext cx="2184480" cy="357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602240" y="2628720"/>
            <a:ext cx="1692360" cy="1649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48240" y="3379680"/>
            <a:ext cx="2193840" cy="338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92520" y="2629080"/>
            <a:ext cx="1096920" cy="744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05480" y="3386160"/>
            <a:ext cx="1755720" cy="174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080" y="3005280"/>
            <a:ext cx="1990440" cy="750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02080" y="3881520"/>
            <a:ext cx="2022480" cy="812880"/>
            <a:chOff x="2602080" y="3881520"/>
            <a:chExt cx="2022480" cy="812880"/>
          </a:xfrm>
        </p:grpSpPr>
        <p:sp>
          <p:nvSpPr>
            <p:cNvPr id="134" name=""/>
            <p:cNvSpPr/>
            <p:nvPr/>
          </p:nvSpPr>
          <p:spPr>
            <a:xfrm>
              <a:off x="2602080" y="3881520"/>
              <a:ext cx="1989000" cy="812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0800" y="3954600"/>
              <a:ext cx="200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inâmic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Mercado 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1709640"/>
            <a:ext cx="2495520" cy="91944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0200" y="183204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ign e Gestã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240" y="5070600"/>
            <a:ext cx="2451240" cy="976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8360" y="5094360"/>
            <a:ext cx="25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Internet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latafor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89720" y="3200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-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21240" y="5132520"/>
            <a:ext cx="1879560" cy="814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65320" y="5181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4640" y="1814400"/>
            <a:ext cx="1879560" cy="814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186696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0" y="3443400"/>
            <a:ext cx="1812960" cy="812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6280" y="35053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04000" y="2190600"/>
            <a:ext cx="1800" cy="1252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4200" y="2190600"/>
            <a:ext cx="4698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704000" y="4255920"/>
            <a:ext cx="1800" cy="1252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300800" y="550872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3480" y="5634000"/>
            <a:ext cx="2151000" cy="1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3480" y="2065320"/>
            <a:ext cx="2081160" cy="1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76680" y="2441520"/>
            <a:ext cx="1440" cy="5637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3480" y="2441520"/>
            <a:ext cx="4032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676680" y="4694040"/>
            <a:ext cx="1440" cy="563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3480" y="525780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3480" y="231624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76680" y="2316240"/>
            <a:ext cx="3065400" cy="1195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3480" y="5383080"/>
            <a:ext cx="4032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676680" y="4168440"/>
            <a:ext cx="3084480" cy="1214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549680"/>
            <a:ext cx="1109520" cy="6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8040" y="3173400"/>
            <a:ext cx="8334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3480" y="5508720"/>
            <a:ext cx="120816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81640" y="2628720"/>
            <a:ext cx="2484360" cy="28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1640" y="2190600"/>
            <a:ext cx="2550960" cy="2941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3480" y="2190600"/>
            <a:ext cx="120816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8360" y="956520"/>
            <a:ext cx="70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pecialização em Comércio Eletrô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7000" y="3578400"/>
            <a:ext cx="495360" cy="4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01680" y="4030560"/>
            <a:ext cx="4906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14640" y="3576600"/>
            <a:ext cx="0" cy="438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5960" y="3162240"/>
            <a:ext cx="0" cy="1909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14520" y="2629080"/>
            <a:ext cx="0" cy="19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41280" y="2641680"/>
            <a:ext cx="0" cy="24238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93800" y="3889440"/>
            <a:ext cx="2008080" cy="812520"/>
            <a:chOff x="2593800" y="3889440"/>
            <a:chExt cx="2008080" cy="812520"/>
          </a:xfrm>
        </p:grpSpPr>
        <p:sp>
          <p:nvSpPr>
            <p:cNvPr id="175" name=""/>
            <p:cNvSpPr/>
            <p:nvPr/>
          </p:nvSpPr>
          <p:spPr>
            <a:xfrm>
              <a:off x="2593800" y="3889440"/>
              <a:ext cx="1989000" cy="812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8480" y="3992400"/>
              <a:ext cx="200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inâmic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Mercado 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5600" y="90000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160" y="1689120"/>
            <a:ext cx="75708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presentação do Programa, Mecanismo de Avaliação,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2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Produt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3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Comportamento do Consumidor de Produt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4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Oferta de Produtos Digitais e Equilíbrio de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5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lterações no Equilíbrio de Mercad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6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Custos e Preços na Concorrência Perfe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7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Concorrência Perfeita x Imperfeita em Mercad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8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Influência dos Órgãos Reguladores e Fiscaliz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9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spectos Econômicos da Infra-Estrutura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0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Importância da Qualidade no Mercado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1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Fenômeno do Aprision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2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Produtos Digitais Custom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3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Impactos Macroeconômicos no Mercado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4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Benefícios Sócio-Econômicos do Mercado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5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Pr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1560" y="2355840"/>
            <a:ext cx="704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hapiro, C. e Varian, H.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“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Tecnologia da Informação está avançando de manei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parentemente caótica, o que torna difícil discernir padr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ara orientar as decisões empresariais. Mas há uma or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 caos: uns poucos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nceitos econômicos básico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ajud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explicar a evolução dos setores de atividade atuai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7-03T14:27:54Z</cp:lastPrinted>
  <dcterms:modified xsi:type="dcterms:W3CDTF">2003-04-24T23:53:14Z</dcterms:modified>
  <cp:revision>143</cp:revision>
  <dc:subject/>
  <dc:title>Mercados Digitais</dc:title>
</cp:coreProperties>
</file>