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wmf" ContentType="image/x-wmf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619-52D6-493D-A663-B567EF64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997-D1D6-420C-BFA3-3B72A57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FB3-2F0B-44AA-AE57-7D0F4D6F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880-D24C-4385-9711-40AF3F21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8E2-068D-41B6-AA8E-322B6D7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30B-54BC-4277-B05B-D484C1A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D80-D740-41EC-9ABA-D38E035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B06-544E-4763-A5B1-A3DBBC1F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C26-2355-4766-AA4A-8F2DC2C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A5F-65E1-4153-9CA9-FBB21F4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2A6-4903-423B-9619-4CF4D19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85F-8871-4B69-A86E-E919C47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4C0B-E94A-47C2-B61C-76A3E5014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240" y="352440"/>
            <a:ext cx="146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A / 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7 mai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ALISA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48960" y="34624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imização de Cartei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127320" y="122076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oria de Markow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68160" y="1946160"/>
            <a:ext cx="69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owitz, H. - Portofolio Selection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Journal of Financ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7:77-91, 195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1080" y="5762520"/>
                <a:ext cx="290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4533840" y="4495680"/>
            <a:ext cx="2303640" cy="1105200"/>
            <a:chOff x="4533840" y="4495680"/>
            <a:chExt cx="2303640" cy="110520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729320" y="4695840"/>
                  <a:ext cx="21081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533840" y="4495680"/>
              <a:ext cx="0" cy="1105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68880" y="5149800"/>
                  <a:ext cx="9684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0,1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0" name="mertonn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61960" y="1298520"/>
            <a:ext cx="8380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154160" y="2638440"/>
            <a:ext cx="7130880" cy="1733400"/>
            <a:chOff x="1154160" y="2638440"/>
            <a:chExt cx="7130880" cy="1733400"/>
          </a:xfrm>
        </p:grpSpPr>
        <p:sp>
          <p:nvSpPr>
            <p:cNvPr id="132" name=""/>
            <p:cNvSpPr/>
            <p:nvPr/>
          </p:nvSpPr>
          <p:spPr>
            <a:xfrm>
              <a:off x="1889280" y="29368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0320" y="2638440"/>
              <a:ext cx="698472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E[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]            E[r]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      Volatilidade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60960" y="3016080"/>
                  <a:ext cx="14032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336760" y="3073320"/>
                  <a:ext cx="6606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892680" y="3054240"/>
                  <a:ext cx="6778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5176800" y="3683160"/>
                  <a:ext cx="1370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2344680" y="3740040"/>
                  <a:ext cx="6447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902040" y="3720960"/>
                  <a:ext cx="6588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7321680" y="3054240"/>
                  <a:ext cx="3427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7311960" y="3701880"/>
                  <a:ext cx="322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54160" y="2987640"/>
              <a:ext cx="7101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63760" y="1752480"/>
                <a:ext cx="6369120" cy="294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523880" y="5214960"/>
                <a:ext cx="49975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139160" y="4098960"/>
            <a:ext cx="739440" cy="620640"/>
          </a:xfrm>
          <a:custGeom>
            <a:avLst/>
            <a:gdLst/>
            <a:ahLst/>
            <a:rect l="l" t="t" r="r" b="b"/>
            <a:pathLst>
              <a:path w="466" h="391">
                <a:moveTo>
                  <a:pt x="466" y="0"/>
                </a:moveTo>
                <a:cubicBezTo>
                  <a:pt x="183" y="82"/>
                  <a:pt x="36" y="193"/>
                  <a:pt x="21" y="241"/>
                </a:cubicBezTo>
                <a:cubicBezTo>
                  <a:pt x="6" y="289"/>
                  <a:pt x="0" y="358"/>
                  <a:pt x="93" y="39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1520" y="4113360"/>
            <a:ext cx="1255680" cy="374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1520" y="4487760"/>
            <a:ext cx="649080" cy="246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573200" y="4070520"/>
            <a:ext cx="606600" cy="620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933480" y="36385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280" y="5391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33240" y="39099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3240" y="4529160"/>
                <a:ext cx="235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006640" y="5435640"/>
                <a:ext cx="342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87440" y="542592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33480" y="407664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1240" y="407664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348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1120" y="469584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14640" y="401940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14520" y="4638600"/>
            <a:ext cx="114120" cy="114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44960" y="3822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(x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20840" y="475452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 (x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95560" y="1295280"/>
            <a:ext cx="4895640" cy="1238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30680" y="1774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24160" y="2149560"/>
                <a:ext cx="4468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320280" y="13510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teira = (1-x) A+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28840" y="3111480"/>
                <a:ext cx="774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281480" y="3092400"/>
                <a:ext cx="936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989760" y="3073320"/>
                <a:ext cx="817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flipV="1">
            <a:off x="3884760" y="36604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5413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4520" y="393228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84520" y="455148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884760" y="409896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32520" y="409896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471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32400" y="47181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5560" y="40417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65800" y="4660920"/>
            <a:ext cx="114120" cy="11412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94080" y="384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3080" y="4730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56400" y="36604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23200" y="54133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356520" y="3932280"/>
                <a:ext cx="2538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356520" y="4551480"/>
                <a:ext cx="2347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656400" y="409896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4160" y="409896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6400" y="471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04040" y="47181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37560" y="404172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7440" y="4660920"/>
            <a:ext cx="114120" cy="11412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6080" y="384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85080" y="4730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752560" y="5143680"/>
                <a:ext cx="22248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90480" y="351324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02400" y="5122800"/>
                <a:ext cx="223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41760" y="349236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443800" y="5108400"/>
                <a:ext cx="22392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383160" y="3478320"/>
                <a:ext cx="15588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00760" y="5457960"/>
                <a:ext cx="342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81560" y="544824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772400" y="544356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53200" y="543384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mlabpot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639160" y="111924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são de Ativos sem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9840" y="3697200"/>
            <a:ext cx="0" cy="1104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57960" y="4294080"/>
                <a:ext cx="968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,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05320" y="4919760"/>
                <a:ext cx="18669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486160" y="5335560"/>
                <a:ext cx="41511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717080" y="386712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teira = (1-x) A+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303720" y="2182680"/>
            <a:ext cx="3936960" cy="1347840"/>
            <a:chOff x="3303720" y="2182680"/>
            <a:chExt cx="3936960" cy="1347840"/>
          </a:xfrm>
        </p:grpSpPr>
        <p:sp>
          <p:nvSpPr>
            <p:cNvPr id="221" name=""/>
            <p:cNvSpPr/>
            <p:nvPr/>
          </p:nvSpPr>
          <p:spPr>
            <a:xfrm>
              <a:off x="3892680" y="2481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03720" y="2182680"/>
              <a:ext cx="393696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[r]     Volatilidade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305320" y="2617560"/>
                  <a:ext cx="3430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4392720" y="2700360"/>
                  <a:ext cx="24264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4383000" y="3176280"/>
                  <a:ext cx="22392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285160" y="3162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4600" y="3309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86240" y="581184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6560" y="362268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60520" y="45194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x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0480" y="3571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x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V="1">
            <a:off x="3289320" y="4068720"/>
            <a:ext cx="725400" cy="154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05160" y="3579840"/>
            <a:ext cx="1154160" cy="63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30480" y="4006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0520" y="5484960"/>
            <a:ext cx="3592440" cy="21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2360" y="2016000"/>
            <a:ext cx="543384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odos Quantitativos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e do Mercado Financ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ES - Departamento de Sistemas e 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ashi@ele.i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tyoneyama.hpg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30480" y="3211560"/>
            <a:ext cx="1649520" cy="1197000"/>
          </a:xfrm>
          <a:custGeom>
            <a:avLst/>
            <a:gdLst/>
            <a:ahLst/>
            <a:rect l="l" t="t" r="r" b="b"/>
            <a:pathLst>
              <a:path w="1039" h="754">
                <a:moveTo>
                  <a:pt x="1039" y="0"/>
                </a:moveTo>
                <a:cubicBezTo>
                  <a:pt x="480" y="125"/>
                  <a:pt x="104" y="353"/>
                  <a:pt x="52" y="449"/>
                </a:cubicBezTo>
                <a:cubicBezTo>
                  <a:pt x="0" y="545"/>
                  <a:pt x="36" y="685"/>
                  <a:pt x="231" y="754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05160" y="2722320"/>
            <a:ext cx="2763720" cy="1492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711600" y="145080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71800" y="1792440"/>
                <a:ext cx="1386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V="1">
            <a:off x="330660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17880" y="5748480"/>
            <a:ext cx="357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1800" y="3159000"/>
            <a:ext cx="11412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89400" y="43750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09960" y="2962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50088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05604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971800" y="337176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955960" y="4005360"/>
                <a:ext cx="235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292560" y="356868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50676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6160" y="3525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3676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25680" y="425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2200" y="4226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81560" y="2550960"/>
            <a:ext cx="1458720" cy="7970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323960" y="3247920"/>
            <a:ext cx="133560" cy="238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5680" y="2374920"/>
            <a:ext cx="1512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X &l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Toma Emprés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mlabris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074400" y="340524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valiação de 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96960" y="4005360"/>
                <a:ext cx="2174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mlabmerc" descr=""/>
          <p:cNvPicPr/>
          <p:nvPr/>
        </p:nvPicPr>
        <p:blipFill>
          <a:blip r:embed="rId2"/>
          <a:stretch/>
        </p:blipFill>
        <p:spPr>
          <a:xfrm>
            <a:off x="4805280" y="2268360"/>
            <a:ext cx="4008600" cy="3649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560" y="380988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037880" y="381960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709640" y="376236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692280" y="3637080"/>
                <a:ext cx="252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141960" y="1790640"/>
                <a:ext cx="1430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924520" y="3005280"/>
                <a:ext cx="18669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6819840" y="236844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919840" y="4435560"/>
                <a:ext cx="184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6819840" y="368928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71560" y="380988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037880" y="381960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1709640" y="376236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92280" y="3637080"/>
                <a:ext cx="252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41960" y="1790640"/>
                <a:ext cx="1430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924520" y="3005280"/>
                <a:ext cx="18669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6819840" y="236844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19840" y="4435560"/>
                <a:ext cx="184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6819840" y="368928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08200" y="39974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84280" y="404496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7600" y="40417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7360" y="3898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4640" y="38718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927760" y="5530680"/>
                <a:ext cx="1893960" cy="9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827760" y="4822920"/>
            <a:ext cx="0" cy="63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38240" y="3305160"/>
            <a:ext cx="1714320" cy="924120"/>
          </a:xfrm>
          <a:custGeom>
            <a:avLst/>
            <a:gdLst/>
            <a:ahLst/>
            <a:rect l="l" t="t" r="r" b="b"/>
            <a:pathLst>
              <a:path w="1080" h="582">
                <a:moveTo>
                  <a:pt x="1080" y="582"/>
                </a:moveTo>
                <a:lnTo>
                  <a:pt x="0" y="582"/>
                </a:lnTo>
                <a:lnTo>
                  <a:pt x="1080" y="0"/>
                </a:lnTo>
                <a:lnTo>
                  <a:pt x="1080" y="5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38240" y="422928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71560" y="4113360"/>
            <a:ext cx="0" cy="16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2560" y="329580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03480" y="2981160"/>
            <a:ext cx="1930320" cy="1668600"/>
          </a:xfrm>
          <a:custGeom>
            <a:avLst/>
            <a:gdLst/>
            <a:ahLst/>
            <a:rect l="l" t="t" r="r" b="b"/>
            <a:pathLst>
              <a:path w="1216" h="1051">
                <a:moveTo>
                  <a:pt x="1216" y="0"/>
                </a:moveTo>
                <a:cubicBezTo>
                  <a:pt x="400" y="85"/>
                  <a:pt x="90" y="343"/>
                  <a:pt x="45" y="560"/>
                </a:cubicBezTo>
                <a:cubicBezTo>
                  <a:pt x="0" y="778"/>
                  <a:pt x="236" y="999"/>
                  <a:pt x="567" y="1051"/>
                </a:cubicBezTo>
                <a:cubicBezTo>
                  <a:pt x="467" y="942"/>
                  <a:pt x="450" y="849"/>
                  <a:pt x="749" y="781"/>
                </a:cubicBezTo>
                <a:cubicBezTo>
                  <a:pt x="556" y="680"/>
                  <a:pt x="565" y="577"/>
                  <a:pt x="1001" y="486"/>
                </a:cubicBezTo>
                <a:cubicBezTo>
                  <a:pt x="847" y="422"/>
                  <a:pt x="692" y="322"/>
                  <a:pt x="1069" y="238"/>
                </a:cubicBezTo>
                <a:cubicBezTo>
                  <a:pt x="943" y="186"/>
                  <a:pt x="975" y="66"/>
                  <a:pt x="1216" y="0"/>
                </a:cubicBez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038240" y="3271680"/>
            <a:ext cx="1724040" cy="943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V="1">
            <a:off x="1039680" y="2364840"/>
            <a:ext cx="0" cy="36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9120" y="572940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4233960" y="5413320"/>
                <a:ext cx="22392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89120" y="228132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90480" y="3141720"/>
                <a:ext cx="254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96960" y="4076640"/>
                <a:ext cx="2174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1039680" y="3294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93880" y="3232080"/>
            <a:ext cx="114480" cy="114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9840" y="4159080"/>
            <a:ext cx="114480" cy="114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17160" y="112536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M - Capital Asset Pri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11760" y="324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595600" y="5780160"/>
                <a:ext cx="342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43040" y="5792760"/>
                <a:ext cx="34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32" name=""/>
          <p:cNvGrpSpPr/>
          <p:nvPr/>
        </p:nvGrpSpPr>
        <p:grpSpPr>
          <a:xfrm>
            <a:off x="5025960" y="3433680"/>
            <a:ext cx="3343320" cy="1476360"/>
            <a:chOff x="5025960" y="3433680"/>
            <a:chExt cx="3343320" cy="1476360"/>
          </a:xfrm>
        </p:grpSpPr>
        <p:sp>
          <p:nvSpPr>
            <p:cNvPr id="433" name=""/>
            <p:cNvSpPr/>
            <p:nvPr/>
          </p:nvSpPr>
          <p:spPr>
            <a:xfrm>
              <a:off x="5041800" y="3433680"/>
              <a:ext cx="100332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100480" y="3448080"/>
                  <a:ext cx="8697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"/>
            <p:cNvSpPr/>
            <p:nvPr/>
          </p:nvSpPr>
          <p:spPr>
            <a:xfrm>
              <a:off x="5025960" y="4186080"/>
              <a:ext cx="1269720" cy="72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5132160" y="4238640"/>
                  <a:ext cx="10620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6423480" y="353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5080" y="4167000"/>
              <a:ext cx="1924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torno Ad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obre 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708200" y="39974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4280" y="404496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7600" y="40417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7360" y="3898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4640" y="38718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879480" y="4155840"/>
            <a:ext cx="4414680" cy="432000"/>
            <a:chOff x="879480" y="4155840"/>
            <a:chExt cx="4414680" cy="432000"/>
          </a:xfrm>
        </p:grpSpPr>
        <p:sp>
          <p:nvSpPr>
            <p:cNvPr id="445" name=""/>
            <p:cNvSpPr/>
            <p:nvPr/>
          </p:nvSpPr>
          <p:spPr>
            <a:xfrm>
              <a:off x="3189240" y="4359240"/>
              <a:ext cx="1486080" cy="2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9480" y="4587840"/>
              <a:ext cx="44146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005440" y="4155840"/>
              <a:ext cx="0" cy="4316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281040" y="112536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colha dos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045800" y="2860560"/>
            <a:ext cx="3327840" cy="2498040"/>
            <a:chOff x="1045800" y="2860560"/>
            <a:chExt cx="3327840" cy="2498040"/>
          </a:xfrm>
        </p:grpSpPr>
        <p:sp>
          <p:nvSpPr>
            <p:cNvPr id="453" name=""/>
            <p:cNvSpPr/>
            <p:nvPr/>
          </p:nvSpPr>
          <p:spPr>
            <a:xfrm>
              <a:off x="1045800" y="28954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020680" y="2916000"/>
                  <a:ext cx="1638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2716200" y="2914560"/>
                  <a:ext cx="223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398760" y="2860560"/>
                  <a:ext cx="2620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4162320" y="2916000"/>
                  <a:ext cx="2113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8" name=""/>
            <p:cNvSpPr/>
            <p:nvPr/>
          </p:nvSpPr>
          <p:spPr>
            <a:xfrm>
              <a:off x="1303920" y="3317760"/>
              <a:ext cx="26053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         15         1         10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         17         1.5       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3         12         1          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4         17         2          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5         11         1          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6         11         1.5       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7         11         2          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8           7         0.8        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122480" y="2001960"/>
                <a:ext cx="6094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96160" y="3421080"/>
                <a:ext cx="18684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3948480" y="3319560"/>
            <a:ext cx="57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81000" y="3262320"/>
            <a:ext cx="3795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396880" y="11764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Índices para Avaliação de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6440" y="1857240"/>
            <a:ext cx="27118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fa de Jens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Shar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Treyn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Índice de Modiglia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079800" y="2131920"/>
                <a:ext cx="884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086360" y="3005280"/>
                <a:ext cx="1803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365720" y="4276800"/>
                <a:ext cx="985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410000" y="5002200"/>
                <a:ext cx="970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586400" y="5697360"/>
                <a:ext cx="2236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1120" y="319572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gem e Pred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 Séries Tempo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45720" y="34052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SALM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BOVESP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649760" y="2593800"/>
            <a:ext cx="3878640" cy="1798920"/>
            <a:chOff x="4649760" y="2593800"/>
            <a:chExt cx="3878640" cy="1798920"/>
          </a:xfrm>
        </p:grpSpPr>
        <p:sp>
          <p:nvSpPr>
            <p:cNvPr id="487" name=""/>
            <p:cNvSpPr/>
            <p:nvPr/>
          </p:nvSpPr>
          <p:spPr>
            <a:xfrm>
              <a:off x="5363640" y="2593800"/>
              <a:ext cx="31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1: Igual à semana anterior, 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49760" y="4316400"/>
              <a:ext cx="295200" cy="76320"/>
              <a:chOff x="4649760" y="4316400"/>
              <a:chExt cx="295200" cy="763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49760" y="4354560"/>
                <a:ext cx="2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69000" y="43164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ASA_CO13" descr=""/>
          <p:cNvPicPr/>
          <p:nvPr/>
        </p:nvPicPr>
        <p:blipFill>
          <a:blip r:embed="rId3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63640" y="2593800"/>
            <a:ext cx="31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67200" y="4081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552840" y="412416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ASA_CO13" descr=""/>
          <p:cNvPicPr/>
          <p:nvPr/>
        </p:nvPicPr>
        <p:blipFill>
          <a:blip r:embed="rId3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62200" y="2593800"/>
            <a:ext cx="32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33560" y="3905280"/>
            <a:ext cx="205920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4416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57520" y="3662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19600" y="422424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57600" y="353376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19320" y="431496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86080" y="415296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ASA_CO13" descr=""/>
          <p:cNvPicPr/>
          <p:nvPr/>
        </p:nvPicPr>
        <p:blipFill>
          <a:blip r:embed="rId3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62200" y="2593800"/>
            <a:ext cx="32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28680" y="360360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90760" y="3584520"/>
            <a:ext cx="1152720" cy="111132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4348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95840" y="3594240"/>
            <a:ext cx="1152360" cy="1110960"/>
          </a:xfrm>
          <a:custGeom>
            <a:avLst/>
            <a:gdLst/>
            <a:ahLst/>
            <a:rect l="l" t="t" r="r" b="b"/>
            <a:pathLst>
              <a:path w="726" h="700">
                <a:moveTo>
                  <a:pt x="0" y="374"/>
                </a:moveTo>
                <a:cubicBezTo>
                  <a:pt x="7" y="370"/>
                  <a:pt x="86" y="0"/>
                  <a:pt x="180" y="0"/>
                </a:cubicBezTo>
                <a:cubicBezTo>
                  <a:pt x="274" y="0"/>
                  <a:pt x="348" y="350"/>
                  <a:pt x="352" y="364"/>
                </a:cubicBezTo>
                <a:cubicBezTo>
                  <a:pt x="356" y="378"/>
                  <a:pt x="460" y="700"/>
                  <a:pt x="548" y="698"/>
                </a:cubicBezTo>
                <a:cubicBezTo>
                  <a:pt x="636" y="696"/>
                  <a:pt x="726" y="372"/>
                  <a:pt x="726" y="36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48120" y="3625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ASA_CO13" descr=""/>
          <p:cNvPicPr/>
          <p:nvPr/>
        </p:nvPicPr>
        <p:blipFill>
          <a:blip r:embed="rId3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62200" y="2593800"/>
            <a:ext cx="328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8040" y="4165560"/>
            <a:ext cx="774720" cy="542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76920" y="46911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39672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348080" y="4510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10160" y="430992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231840" y="2519280"/>
          <a:ext cx="49575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19280"/>
                    <a:ext cx="4957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ASA_CO13" descr=""/>
          <p:cNvPicPr/>
          <p:nvPr/>
        </p:nvPicPr>
        <p:blipFill>
          <a:blip r:embed="rId3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129840" y="10843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a do El Fa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6960" y="1851120"/>
            <a:ext cx="58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os frequentadores são esperados para a semana 15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62200" y="2593800"/>
            <a:ext cx="3288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: Igual à semana anterior,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: Média de 5 semanas, 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: Tendência de 8 semanas,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: Sazonal de 5 semanas,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: Tendência de 3 semanas,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6: Média de R1 a R5,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75120" y="4222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017880" y="11034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étodos para Proj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88400" y="1924200"/>
            <a:ext cx="287928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ojeção de Preç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onenc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édia Móvel (M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o-Regressivo (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A Não-Lin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45640" y="4610160"/>
            <a:ext cx="259020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ojeção da Volatilid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W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305080" y="2489040"/>
                <a:ext cx="1431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995560" y="2868480"/>
                <a:ext cx="1690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390840" y="3287880"/>
                <a:ext cx="4137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691080" y="3718080"/>
                <a:ext cx="44146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444840" y="4137120"/>
                <a:ext cx="4257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416320" y="5154480"/>
                <a:ext cx="20872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554200" y="5573880"/>
                <a:ext cx="3260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00200" y="5992920"/>
                <a:ext cx="3062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mlabreg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23200" y="118728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 Introdutóri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4600" y="2295360"/>
            <a:ext cx="74959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iv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Quantidade     Total        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Tx Re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6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(8-5)/5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9             (9-6)/6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23840" y="3763800"/>
            <a:ext cx="7189920" cy="2665440"/>
            <a:chOff x="1023840" y="3763800"/>
            <a:chExt cx="7189920" cy="26654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4676760" y="3776760"/>
              <a:ext cx="3537000" cy="26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1023840" y="3763800"/>
              <a:ext cx="348768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86080" y="4667400"/>
              <a:ext cx="2705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43680" y="4495680"/>
              <a:ext cx="2705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9000" y="44290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52960" y="49719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0000" y="5164200"/>
              <a:ext cx="75960" cy="7596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94360" y="5013360"/>
              <a:ext cx="75960" cy="7632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17520" y="2698920"/>
            <a:ext cx="7300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481880" y="2295360"/>
            <a:ext cx="1401840" cy="1164600"/>
            <a:chOff x="7481880" y="2295360"/>
            <a:chExt cx="1401840" cy="1164600"/>
          </a:xfrm>
        </p:grpSpPr>
        <p:sp>
          <p:nvSpPr>
            <p:cNvPr id="68" name=""/>
            <p:cNvSpPr/>
            <p:nvPr/>
          </p:nvSpPr>
          <p:spPr>
            <a:xfrm>
              <a:off x="7508880" y="2295360"/>
              <a:ext cx="1374840" cy="11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Volat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1880" y="2698920"/>
              <a:ext cx="13604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mlabgar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324600" y="351000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álise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409560" y="1073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80360" y="1754280"/>
            <a:ext cx="69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incípio Básic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 histórico dos preços das ações refletem  todas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s subjacentes que afetam a sua oferta ou a proc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30680" y="2373480"/>
            <a:ext cx="0" cy="439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91160" y="2868480"/>
            <a:ext cx="549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o de gráficos para estudo das tendências e padrõ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apligraf" descr=""/>
          <p:cNvPicPr/>
          <p:nvPr/>
        </p:nvPicPr>
        <p:blipFill>
          <a:blip r:embed="rId2"/>
          <a:stretch/>
        </p:blipFill>
        <p:spPr>
          <a:xfrm>
            <a:off x="2211480" y="3287880"/>
            <a:ext cx="4952880" cy="32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mlabcand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mlabbo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87720" y="348156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mlabopt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simuativ" descr=""/>
          <p:cNvPicPr/>
          <p:nvPr/>
        </p:nvPicPr>
        <p:blipFill>
          <a:blip r:embed="rId1"/>
          <a:stretch/>
        </p:blipFill>
        <p:spPr>
          <a:xfrm>
            <a:off x="1541520" y="228600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ASA_CO13" descr=""/>
          <p:cNvPicPr/>
          <p:nvPr/>
        </p:nvPicPr>
        <p:blipFill>
          <a:blip r:embed="rId2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920960" y="338616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916680" y="188100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669000" y="338580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662880" y="2331720"/>
            <a:ext cx="106668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19040" y="108576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ra de uma Opção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78720" y="30765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91920" y="1727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6800" y="5016600"/>
            <a:ext cx="109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3720" y="46767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ço A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4960" y="3387600"/>
            <a:ext cx="109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1840" y="30384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ço Exercí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pic>
        <p:nvPicPr>
          <p:cNvPr id="612" name="black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98920" y="1735200"/>
            <a:ext cx="842760" cy="1116000"/>
          </a:xfrm>
          <a:prstGeom prst="rect">
            <a:avLst/>
          </a:prstGeom>
          <a:ln w="0">
            <a:noFill/>
          </a:ln>
        </p:spPr>
      </p:pic>
      <p:pic>
        <p:nvPicPr>
          <p:cNvPr id="613" name="scholes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255920" y="1733400"/>
            <a:ext cx="852480" cy="1114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827440" y="11224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órmula de Black-Sc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mertonn" descr=""/>
          <p:cNvPicPr/>
          <p:nvPr/>
        </p:nvPicPr>
        <p:blipFill>
          <a:blip r:embed="rId4">
            <a:grayscl/>
            <a:lum bright="6000"/>
          </a:blip>
          <a:stretch/>
        </p:blipFill>
        <p:spPr>
          <a:xfrm>
            <a:off x="5818320" y="1730520"/>
            <a:ext cx="838080" cy="11188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574360" y="2922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her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86720" y="290988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yron Sc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62800" y="2916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bert M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368960" y="3619440"/>
                <a:ext cx="296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5080" y="5326200"/>
                <a:ext cx="4065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990440" y="36036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ivo Livre de Risco 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07000" y="396540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ivo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34080" y="44956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529000" y="3357720"/>
                <a:ext cx="433836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ik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rik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695760" y="1325520"/>
                <a:ext cx="1822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4591080" y="1809720"/>
            <a:ext cx="0" cy="1276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60080" y="20415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óte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Artibr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55360" y="558468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dos requerid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673520" y="5591160"/>
                <a:ext cx="1709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23200" y="118728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 Introdutór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560" y="2009880"/>
            <a:ext cx="399996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iv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ç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Retorn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10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$1900   Prob=0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10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$2         Prob=0.99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477040" y="2981160"/>
            <a:ext cx="3131640" cy="3366360"/>
            <a:chOff x="5477040" y="2981160"/>
            <a:chExt cx="3131640" cy="3366360"/>
          </a:xfrm>
        </p:grpSpPr>
        <p:grpSp>
          <p:nvGrpSpPr>
            <p:cNvPr id="76" name=""/>
            <p:cNvGrpSpPr/>
            <p:nvPr/>
          </p:nvGrpSpPr>
          <p:grpSpPr>
            <a:xfrm>
              <a:off x="5477040" y="3168720"/>
              <a:ext cx="2380680" cy="3028320"/>
              <a:chOff x="5477040" y="3168720"/>
              <a:chExt cx="2380680" cy="30283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933880" y="3987720"/>
                <a:ext cx="742680" cy="1390320"/>
                <a:chOff x="5933880" y="3987720"/>
                <a:chExt cx="742680" cy="1390320"/>
              </a:xfrm>
            </p:grpSpPr>
            <p:sp>
              <p:nvSpPr>
                <p:cNvPr id="78" name=""/>
                <p:cNvSpPr/>
                <p:nvPr/>
              </p:nvSpPr>
              <p:spPr>
                <a:xfrm flipV="1">
                  <a:off x="5933880" y="3987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933880" y="480024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5477040" y="4406760"/>
                <a:ext cx="495000" cy="49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95480" y="44863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19680" y="3625920"/>
                <a:ext cx="495000" cy="49500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38480" y="37051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57840" y="5226120"/>
                <a:ext cx="495000" cy="49500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76640" y="53053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7076880" y="3168720"/>
                <a:ext cx="742680" cy="1389960"/>
                <a:chOff x="7076880" y="3168720"/>
                <a:chExt cx="742680" cy="1389960"/>
              </a:xfrm>
            </p:grpSpPr>
            <p:sp>
              <p:nvSpPr>
                <p:cNvPr id="87" name=""/>
                <p:cNvSpPr/>
                <p:nvPr/>
              </p:nvSpPr>
              <p:spPr>
                <a:xfrm flipV="1">
                  <a:off x="7076880" y="3168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76880" y="398088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7115040" y="4806720"/>
                <a:ext cx="742680" cy="1390320"/>
                <a:chOff x="7115040" y="4806720"/>
                <a:chExt cx="742680" cy="1390320"/>
              </a:xfrm>
            </p:grpSpPr>
            <p:sp>
              <p:nvSpPr>
                <p:cNvPr id="90" name=""/>
                <p:cNvSpPr/>
                <p:nvPr/>
              </p:nvSpPr>
              <p:spPr>
                <a:xfrm flipV="1">
                  <a:off x="7115040" y="4806720"/>
                  <a:ext cx="742680" cy="57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115040" y="5619240"/>
                  <a:ext cx="742680" cy="577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6014880" y="3971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33960" y="5076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05920" y="3419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05920" y="39718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49040" y="5153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0.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9040" y="5591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76880" y="2981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8000"/>
                  </a:solidFill>
                  <a:latin typeface="Arial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81840" y="43340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39080" y="4695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81840" y="60102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529520" y="3324240"/>
            <a:ext cx="2349720" cy="2756520"/>
            <a:chOff x="4529520" y="3324240"/>
            <a:chExt cx="2349720" cy="2756520"/>
          </a:xfrm>
        </p:grpSpPr>
        <p:sp>
          <p:nvSpPr>
            <p:cNvPr id="103" name=""/>
            <p:cNvSpPr/>
            <p:nvPr/>
          </p:nvSpPr>
          <p:spPr>
            <a:xfrm>
              <a:off x="4529520" y="332424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00x0.1–100x0.9=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06200" y="5743440"/>
              <a:ext cx="22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x0.99–100x0.01=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2200" y="2409840"/>
            <a:ext cx="3952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0160" y="2019240"/>
            <a:ext cx="0" cy="1154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4920" y="2027160"/>
            <a:ext cx="0" cy="1154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pic>
        <p:nvPicPr>
          <p:cNvPr id="636" name="optionEXCEL" descr=""/>
          <p:cNvPicPr/>
          <p:nvPr/>
        </p:nvPicPr>
        <p:blipFill>
          <a:blip r:embed="rId2"/>
          <a:stretch/>
        </p:blipFill>
        <p:spPr>
          <a:xfrm>
            <a:off x="1857240" y="1681200"/>
            <a:ext cx="5695920" cy="49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7440" y="11224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órmula de Black-Sc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4085280" y="12477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38560" y="2189160"/>
            <a:ext cx="307296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ga (não é letra greg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ô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79640" y="2446200"/>
                <a:ext cx="1716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733840" y="3156120"/>
                <a:ext cx="4333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903400" y="3884760"/>
                <a:ext cx="2306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600440" y="4586400"/>
                <a:ext cx="2826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g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2360" y="5292720"/>
                <a:ext cx="2583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ção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rike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27080" y="2678040"/>
            <a:ext cx="128448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90680" y="2664000"/>
            <a:ext cx="99396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81960" y="2592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98640" y="1743120"/>
            <a:ext cx="2104920" cy="209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93920" y="240984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977760" y="2242800"/>
            <a:ext cx="1311480" cy="13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290680" y="2246040"/>
            <a:ext cx="129852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5160" y="3637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4040" y="1611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89680" y="3286080"/>
            <a:ext cx="128412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381720" y="2297160"/>
            <a:ext cx="99396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73000" y="2600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75280" y="1852560"/>
            <a:ext cx="2104920" cy="209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384960" y="266400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97600" y="2092320"/>
            <a:ext cx="1311120" cy="13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80280" y="3379680"/>
            <a:ext cx="129852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45000" y="19861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66240" y="3770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9160" y="34941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04160" y="2319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979560" y="4217760"/>
            <a:ext cx="0" cy="24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90680" y="5772240"/>
            <a:ext cx="130032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85680" y="4464000"/>
            <a:ext cx="1311480" cy="131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7840" y="41860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75480" y="51166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27120" y="549540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977760" y="4383000"/>
            <a:ext cx="2249640" cy="22370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7440" y="493380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297160" y="4697280"/>
            <a:ext cx="936720" cy="936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001880" y="5637240"/>
            <a:ext cx="129852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61520" y="5772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72040" y="4005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70600" y="4168800"/>
            <a:ext cx="0" cy="24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97560" y="5175360"/>
            <a:ext cx="1284480" cy="61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094360" y="5168520"/>
            <a:ext cx="1280880" cy="1282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27560" y="41511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0640" y="55864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8160" y="5506920"/>
            <a:ext cx="36367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68800" y="4376880"/>
            <a:ext cx="2249640" cy="22366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92880" y="502920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89640" y="5281560"/>
            <a:ext cx="936720" cy="936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45040" y="5297400"/>
            <a:ext cx="135576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006680" y="4856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 op 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75680" y="6350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92680" y="60181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26480" y="46562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84240" y="2678040"/>
            <a:ext cx="177480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22680" y="2665440"/>
            <a:ext cx="993600" cy="993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1960" y="2592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27360" y="207792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855800" y="2214360"/>
            <a:ext cx="878040" cy="86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722680" y="2203200"/>
            <a:ext cx="99684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41440" y="35654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d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92120" y="16844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2160" y="3357720"/>
            <a:ext cx="895320" cy="6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851120" y="1922400"/>
            <a:ext cx="1411200" cy="14414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201440" y="30337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446600" y="19432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36920" y="35226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5800" y="24177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0280" y="3516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000080" y="306864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091120" y="2476440"/>
            <a:ext cx="85104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62680" y="2484360"/>
            <a:ext cx="1295280" cy="13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34240" y="220032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62680" y="2711520"/>
            <a:ext cx="892080" cy="895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859440" y="358128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48320" y="37306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d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099040" y="3197160"/>
            <a:ext cx="1762200" cy="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851520" y="2203200"/>
            <a:ext cx="979560" cy="99540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94840" y="18716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62680" y="22226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07440" y="1890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91120" y="2716200"/>
            <a:ext cx="88092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979560" y="424188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857240" y="5695920"/>
            <a:ext cx="186084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4867200"/>
            <a:ext cx="806400" cy="806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50840" y="41814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5480" y="514044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120" y="55227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20880" y="462600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49320" y="5078520"/>
            <a:ext cx="892440" cy="89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746440" y="5095800"/>
            <a:ext cx="99684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4960" y="611352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26680" y="46069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070600" y="419220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60840" y="4906800"/>
            <a:ext cx="96660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295280" y="4903920"/>
            <a:ext cx="1411560" cy="14414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54560" y="414504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6520" y="5148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718160" y="5527800"/>
            <a:ext cx="36655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30800" y="60706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49320" y="496584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03800" y="60642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77760" y="597528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88360" y="4419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15160" y="6086520"/>
            <a:ext cx="1038240" cy="9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76720" y="4384800"/>
            <a:ext cx="1728720" cy="1744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97520" y="4734000"/>
            <a:ext cx="0" cy="150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11920" y="4795920"/>
            <a:ext cx="919080" cy="911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808680" y="568152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82880" y="609300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8000" y="5087880"/>
            <a:ext cx="196200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070600" y="5098680"/>
            <a:ext cx="849240" cy="893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35880" y="61516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11920" y="4684680"/>
            <a:ext cx="0" cy="147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66400" y="61437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84640" y="4799160"/>
            <a:ext cx="8524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76400" y="47736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 op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3768480" y="10429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85680" y="169380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82800" y="3097080"/>
            <a:ext cx="177480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736720" y="2204640"/>
            <a:ext cx="892440" cy="878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57320" y="16336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96000" y="29955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33240" y="2971440"/>
            <a:ext cx="3637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27360" y="29005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738520" y="2545920"/>
            <a:ext cx="892080" cy="89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04760" y="2585880"/>
            <a:ext cx="866880" cy="858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68360" y="32637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92120" y="185724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076720" y="164412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3080" y="3271680"/>
            <a:ext cx="190692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84240" y="2371680"/>
            <a:ext cx="892080" cy="922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61040" y="15969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29800" y="30211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4280" y="29829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22880" y="251316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855800" y="2865600"/>
            <a:ext cx="0" cy="70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7440" y="25052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79560" y="3444840"/>
            <a:ext cx="88128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418440" y="3327120"/>
            <a:ext cx="1198440" cy="6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97600" y="2008080"/>
            <a:ext cx="1295280" cy="1324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0800" y="2690640"/>
            <a:ext cx="0" cy="114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83200" y="2205000"/>
            <a:ext cx="1339920" cy="134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5099040" y="3168720"/>
            <a:ext cx="132876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6418440" y="1987200"/>
            <a:ext cx="1166760" cy="1182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47000" y="231948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979560" y="4241880"/>
            <a:ext cx="0" cy="23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50840" y="41814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75480" y="51973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27120" y="5522760"/>
            <a:ext cx="36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070600" y="4192200"/>
            <a:ext cx="0" cy="23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54560" y="414504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66520" y="514836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718160" y="5527800"/>
            <a:ext cx="36655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34600" y="609300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9933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97600" y="4802040"/>
            <a:ext cx="1441440" cy="9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19960" y="4822920"/>
            <a:ext cx="806400" cy="12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510240" y="466092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18160" y="5025960"/>
            <a:ext cx="571680" cy="563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7095960" y="5594400"/>
            <a:ext cx="997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52640" y="594684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 x ve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48280" y="5954760"/>
            <a:ext cx="865080" cy="6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950080" y="4449600"/>
            <a:ext cx="1469880" cy="1486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79000" y="610704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11920" y="5419800"/>
            <a:ext cx="0" cy="73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91720" y="60991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84640" y="5592600"/>
            <a:ext cx="852480" cy="8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448040" y="42973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030800" y="33433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99000" y="17478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404040" y="2198520"/>
            <a:ext cx="1349280" cy="134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7400" y="5983200"/>
            <a:ext cx="1212840" cy="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06560" y="4657680"/>
            <a:ext cx="1295280" cy="1324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53402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92160" y="4854600"/>
            <a:ext cx="1316160" cy="13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79560" y="5816520"/>
            <a:ext cx="1357200" cy="1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327400" y="4478040"/>
            <a:ext cx="1166760" cy="1182600"/>
          </a:xfrm>
          <a:prstGeom prst="line">
            <a:avLst/>
          </a:prstGeom>
          <a:ln cap="rnd" w="1908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56320" y="4968720"/>
            <a:ext cx="57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39760" y="5992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 op v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298600" y="4471920"/>
            <a:ext cx="835200" cy="1704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2320920" y="4355640"/>
            <a:ext cx="676440" cy="144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97000" y="41022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 x 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1920" y="546264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72040" y="5803920"/>
            <a:ext cx="2005200" cy="4680"/>
          </a:xfrm>
          <a:prstGeom prst="line">
            <a:avLst/>
          </a:prstGeom>
          <a:ln w="1908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083360" y="4890600"/>
            <a:ext cx="849240" cy="893880"/>
          </a:xfrm>
          <a:prstGeom prst="line">
            <a:avLst/>
          </a:prstGeom>
          <a:ln w="1908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929200" y="5006520"/>
            <a:ext cx="57636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43520" y="4638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964800" y="5676840"/>
            <a:ext cx="1327320" cy="0"/>
          </a:xfrm>
          <a:prstGeom prst="line">
            <a:avLst/>
          </a:prstGeom>
          <a:ln cap="rnd" w="1908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12880" y="43419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co op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simuativ" descr=""/>
          <p:cNvPicPr/>
          <p:nvPr/>
        </p:nvPicPr>
        <p:blipFill>
          <a:blip r:embed="rId1"/>
          <a:stretch/>
        </p:blipFill>
        <p:spPr>
          <a:xfrm>
            <a:off x="1122480" y="221292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ASA_CO13" descr=""/>
          <p:cNvPicPr/>
          <p:nvPr/>
        </p:nvPicPr>
        <p:blipFill>
          <a:blip r:embed="rId2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1501920" y="331308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497640" y="2182320"/>
            <a:ext cx="0" cy="22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6380280" y="361620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6372360" y="3313080"/>
            <a:ext cx="707760" cy="30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79440" y="1098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59680" y="30034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86920" y="19432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73800" y="268596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65880" y="3016080"/>
            <a:ext cx="708120" cy="30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17280" y="3073320"/>
            <a:ext cx="47912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1802880" y="3546360"/>
            <a:ext cx="4797720" cy="6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simuativ" descr=""/>
          <p:cNvPicPr/>
          <p:nvPr/>
        </p:nvPicPr>
        <p:blipFill>
          <a:blip r:embed="rId1"/>
          <a:stretch/>
        </p:blipFill>
        <p:spPr>
          <a:xfrm>
            <a:off x="1122480" y="2212920"/>
            <a:ext cx="5335560" cy="40006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ASA_CO13" descr=""/>
          <p:cNvPicPr/>
          <p:nvPr/>
        </p:nvPicPr>
        <p:blipFill>
          <a:blip r:embed="rId2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1487520" y="3443400"/>
            <a:ext cx="653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6483240" y="2312640"/>
            <a:ext cx="0" cy="22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365880" y="3732120"/>
            <a:ext cx="0" cy="354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357960" y="3038040"/>
            <a:ext cx="693720" cy="70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79440" y="1098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45280" y="3133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/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72880" y="207324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ture Asset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37280" y="2700360"/>
            <a:ext cx="0" cy="353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789200" y="3605040"/>
            <a:ext cx="4797360" cy="6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863440" y="36133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itura Recomend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3852720" y="11034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740240" y="1987560"/>
            <a:ext cx="5991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AF NETO, A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ercado Financeir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Editora, 4</a:t>
            </a:r>
            <a:r>
              <a:rPr b="1" lang="en-GB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LLAGI FILHO, A. e ISHIKAWA, S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ercado Financei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 de Capita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Atla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MGRUBER, E.F.; SILVA, A.L.C.; LEAL,R.P.C.; CO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r., N.C.A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Gestão  de Risco e de Derivativ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Atlas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RION, P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Value at Risk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McGraw Hill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LL, J. - Introdução aos Mercados Futuros e de Opçõ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Cultura Editores Associados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TON, E.J. e GRUBER, M.J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dern Portolio The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nd Investment  Analy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John Wiley, 5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MOT, P.; HOWISON, S.; DEWYNNE, J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e Mathe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f Financial Derivativ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Cambridge University Press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ASSAF" descr=""/>
          <p:cNvPicPr/>
          <p:nvPr/>
        </p:nvPicPr>
        <p:blipFill>
          <a:blip r:embed="rId2"/>
          <a:stretch/>
        </p:blipFill>
        <p:spPr>
          <a:xfrm>
            <a:off x="380880" y="1136520"/>
            <a:ext cx="962280" cy="1320840"/>
          </a:xfrm>
          <a:prstGeom prst="rect">
            <a:avLst/>
          </a:prstGeom>
          <a:ln w="0">
            <a:noFill/>
          </a:ln>
        </p:spPr>
      </p:pic>
      <p:pic>
        <p:nvPicPr>
          <p:cNvPr id="890" name="MELLAGI" descr=""/>
          <p:cNvPicPr/>
          <p:nvPr/>
        </p:nvPicPr>
        <p:blipFill>
          <a:blip r:embed="rId3"/>
          <a:stretch/>
        </p:blipFill>
        <p:spPr>
          <a:xfrm>
            <a:off x="7915320" y="2000160"/>
            <a:ext cx="981000" cy="1295640"/>
          </a:xfrm>
          <a:prstGeom prst="rect">
            <a:avLst/>
          </a:prstGeom>
          <a:ln w="0">
            <a:noFill/>
          </a:ln>
        </p:spPr>
      </p:pic>
      <p:pic>
        <p:nvPicPr>
          <p:cNvPr id="891" name="lemgruber" descr=""/>
          <p:cNvPicPr/>
          <p:nvPr/>
        </p:nvPicPr>
        <p:blipFill>
          <a:blip r:embed="rId4"/>
          <a:stretch/>
        </p:blipFill>
        <p:spPr>
          <a:xfrm>
            <a:off x="371520" y="2557440"/>
            <a:ext cx="1000080" cy="1324080"/>
          </a:xfrm>
          <a:prstGeom prst="rect">
            <a:avLst/>
          </a:prstGeom>
          <a:ln w="0">
            <a:noFill/>
          </a:ln>
        </p:spPr>
      </p:pic>
      <p:pic>
        <p:nvPicPr>
          <p:cNvPr id="892" name="HULL" descr=""/>
          <p:cNvPicPr/>
          <p:nvPr/>
        </p:nvPicPr>
        <p:blipFill>
          <a:blip r:embed="rId5"/>
          <a:stretch/>
        </p:blipFill>
        <p:spPr>
          <a:xfrm>
            <a:off x="361800" y="3973680"/>
            <a:ext cx="990720" cy="1357200"/>
          </a:xfrm>
          <a:prstGeom prst="rect">
            <a:avLst/>
          </a:prstGeom>
          <a:ln w="0">
            <a:noFill/>
          </a:ln>
        </p:spPr>
      </p:pic>
      <p:pic>
        <p:nvPicPr>
          <p:cNvPr id="893" name="WILMOTT" descr=""/>
          <p:cNvPicPr/>
          <p:nvPr/>
        </p:nvPicPr>
        <p:blipFill>
          <a:blip r:embed="rId6"/>
          <a:stretch/>
        </p:blipFill>
        <p:spPr>
          <a:xfrm>
            <a:off x="380880" y="5432400"/>
            <a:ext cx="962280" cy="1311480"/>
          </a:xfrm>
          <a:prstGeom prst="rect">
            <a:avLst/>
          </a:prstGeom>
          <a:ln w="0">
            <a:noFill/>
          </a:ln>
        </p:spPr>
      </p:pic>
      <p:pic>
        <p:nvPicPr>
          <p:cNvPr id="894" name="JORION" descr=""/>
          <p:cNvPicPr/>
          <p:nvPr/>
        </p:nvPicPr>
        <p:blipFill>
          <a:blip r:embed="rId7"/>
          <a:stretch/>
        </p:blipFill>
        <p:spPr>
          <a:xfrm>
            <a:off x="7926480" y="3422520"/>
            <a:ext cx="950760" cy="12639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390680" y="1695600"/>
            <a:ext cx="34272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390680" y="3200400"/>
            <a:ext cx="3427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371600" y="4590720"/>
            <a:ext cx="399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52520" y="6039000"/>
            <a:ext cx="419040" cy="5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7505640" y="26096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496200" y="3962520"/>
            <a:ext cx="13906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GRUBER" descr=""/>
          <p:cNvPicPr/>
          <p:nvPr/>
        </p:nvPicPr>
        <p:blipFill>
          <a:blip r:embed="rId8"/>
          <a:stretch/>
        </p:blipFill>
        <p:spPr>
          <a:xfrm>
            <a:off x="7912080" y="4818240"/>
            <a:ext cx="988920" cy="1296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7124760" y="5391000"/>
            <a:ext cx="7430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823840" y="1515960"/>
            <a:ext cx="46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NTHER, M. -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 Axiomas de Zuriqu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itora Record, RJ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8200" y="2787480"/>
            <a:ext cx="811476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RISC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Preocupação não é doença, mas sinal de saú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 você não está preocupado, não está arriscando o bas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Só aposte o que valer a pe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Resista à tentação das diversifica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GANÂNCI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Realize o lucro sempre cedo dem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Entre no negócio sabendo quanto quer gnhar e, quando che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á, caia fo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ESPERANÇA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Quando o barco começar a afundar, n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ze. Abandone-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Aceite as pequenas perdas com um sorriso, como fatos da v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e incorrer em várias, enquanto espera um grande gan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S PREVISÕES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 comportamento do ser humano não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visível. Desconfio de quem afirmar que conhece uma nesga que seja do futu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ZURIQUE" descr=""/>
          <p:cNvPicPr/>
          <p:nvPr/>
        </p:nvPicPr>
        <p:blipFill>
          <a:blip r:embed="rId2"/>
          <a:stretch/>
        </p:blipFill>
        <p:spPr>
          <a:xfrm>
            <a:off x="1582560" y="1243080"/>
            <a:ext cx="98604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97160" y="365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511920" y="1500120"/>
            <a:ext cx="82231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S PADRÕ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Até começar a parecer ordem, o caos não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g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armadilha do histori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Cuidado com a ilusão do grafis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ilusão de correlação e a ilusão de causalid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Cuidado com a falácia do jog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MOBILIDAD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Evite lançar raízes. Tolhem seus movi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Numa operação que não deu certo, não se deixe apanhar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ntimentos como lealdade ou saud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Jamais hesite em sair de um negócio se algo mais atra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arecer à sua fr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 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INTUIÇÃ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Só se pode confiar num palpite que po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 expli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1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confunda palpite com esperanç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RELIGIÃO E DO OCULTISM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É improvável que entre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ígnios de Deus para o Universo se inclua o de fazer você ficar 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Se astrologia funcionasse, todos os astrólogos seriam r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3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Não é necessário exorcizar uma supertição. Podemos curti-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de que ela conheça o seu lug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95720" y="1442880"/>
            <a:ext cx="82746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OTIMISMO E DO PESSIMISM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Otimismo significa esp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 melhor, mas confiança significa sber como se lidará com o pior. Jamais faça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gada por otimismo ape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CONSENS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Fuja da opinião da maioria. Provave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tá er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4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embarque nas especulações da moda. Com freqü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melhor hora de se comprar alguma coisa é quando ninguém a qu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 TEIMOSI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Se não deu certo da primeira vez, esqueç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5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xioma Menor: Jamais tente salvar um mau investimento fazendo preço mé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Grande Axioma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O PLANEJAMENT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Planejamentos a longo prazo gera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gosa crença de que o futuro está sob controle. É importante jamais levar m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sério os seus planos a longo prazo, nem os de quem quer que sej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1400" spc="-1" strike="noStrike" baseline="30000">
                <a:solidFill>
                  <a:srgbClr val="008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oma Menor: Fuja de investimentos a longo pr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2933640" y="365616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investsh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infomone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investop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104940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28920" y="195120"/>
            <a:ext cx="4662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stituto Tecnológico de Aeroná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7 mai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ASA_CO13" descr=""/>
          <p:cNvPicPr/>
          <p:nvPr/>
        </p:nvPicPr>
        <p:blipFill>
          <a:blip r:embed="rId1"/>
          <a:stretch/>
        </p:blipFill>
        <p:spPr>
          <a:xfrm>
            <a:off x="563400" y="231840"/>
            <a:ext cx="1382760" cy="55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ISKTE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is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IS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Otto Gottlieb</cp:lastModifiedBy>
  <dcterms:modified xsi:type="dcterms:W3CDTF">2003-06-02T20:02:58Z</dcterms:modified>
  <cp:revision>108</cp:revision>
  <dc:subject/>
  <dc:title>No Slide Title</dc:title>
</cp:coreProperties>
</file>