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61.wmf" ContentType="image/x-wmf"/>
  <Override PartName="/ppt/media/image96.wmf" ContentType="image/x-wmf"/>
  <Override PartName="/ppt/media/image72.wmf" ContentType="image/x-wmf"/>
  <Override PartName="/ppt/media/image23.wmf" ContentType="image/x-wmf"/>
  <Override PartName="/ppt/media/image60.wmf" ContentType="image/x-wmf"/>
  <Override PartName="/ppt/media/image95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82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2495-58EA-4295-9852-BDE16CEA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E58-E0F5-4E53-A09C-37F236D5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DCDC-4883-41E3-9E6F-DF0DE673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A943-45A5-472D-9EB1-34AD7A0C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A04F-164E-4C1C-84CE-801230C0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AA1B-5935-47CB-A9C9-8EE9920A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7A84-A37A-4749-844B-FCE69F9A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B5E5-34D3-4B93-91B8-93680D53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0E66-AA85-43A6-9670-4B4D544A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1FE0-C027-4BF2-AC98-BC39436D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B56-D764-49D6-9BBC-4BA08F8B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370C-9D21-4F4C-939C-EDEB261A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F7E3-7709-44CA-85C8-0DBF56E70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47.wmf"/><Relationship Id="rId5" Type="http://schemas.openxmlformats.org/officeDocument/2006/relationships/image" Target="../media/image55.wmf"/><Relationship Id="rId6" Type="http://schemas.openxmlformats.org/officeDocument/2006/relationships/image" Target="../media/image56.wmf"/><Relationship Id="rId7" Type="http://schemas.openxmlformats.org/officeDocument/2006/relationships/image" Target="../media/image57.wmf"/><Relationship Id="rId8" Type="http://schemas.openxmlformats.org/officeDocument/2006/relationships/image" Target="../media/image58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image" Target="../media/image64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65.wmf"/><Relationship Id="rId5" Type="http://schemas.openxmlformats.org/officeDocument/2006/relationships/image" Target="../media/image66.wmf"/><Relationship Id="rId6" Type="http://schemas.openxmlformats.org/officeDocument/2006/relationships/image" Target="../media/image1.wmf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image" Target="../media/image67.wmf"/><Relationship Id="rId10" Type="http://schemas.openxmlformats.org/officeDocument/2006/relationships/image" Target="../media/image68.wm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image" Target="../media/image73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image" Target="../media/image75.wmf"/><Relationship Id="rId3" Type="http://schemas.openxmlformats.org/officeDocument/2006/relationships/image" Target="../media/image76.wmf"/><Relationship Id="rId4" Type="http://schemas.openxmlformats.org/officeDocument/2006/relationships/image" Target="../media/image77.wmf"/><Relationship Id="rId5" Type="http://schemas.openxmlformats.org/officeDocument/2006/relationships/image" Target="../media/image78.wm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3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wmf"/><Relationship Id="rId3" Type="http://schemas.openxmlformats.org/officeDocument/2006/relationships/image" Target="../media/image86.wmf"/><Relationship Id="rId4" Type="http://schemas.openxmlformats.org/officeDocument/2006/relationships/image" Target="../media/image87.wmf"/><Relationship Id="rId5" Type="http://schemas.openxmlformats.org/officeDocument/2006/relationships/image" Target="../media/image88.wmf"/><Relationship Id="rId6" Type="http://schemas.openxmlformats.org/officeDocument/2006/relationships/image" Target="../media/image89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image" Target="../media/image91.wmf"/><Relationship Id="rId3" Type="http://schemas.openxmlformats.org/officeDocument/2006/relationships/image" Target="../media/image92.wmf"/><Relationship Id="rId4" Type="http://schemas.openxmlformats.org/officeDocument/2006/relationships/image" Target="../media/image93.wmf"/><Relationship Id="rId5" Type="http://schemas.openxmlformats.org/officeDocument/2006/relationships/image" Target="../media/image9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2800" y="4395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210360" y="1276200"/>
            <a:ext cx="762120" cy="60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15040" y="1276200"/>
            <a:ext cx="761760" cy="60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66680" y="641520"/>
            <a:ext cx="33598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stimação Pon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362320" y="1397160"/>
            <a:ext cx="4533840" cy="330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419720" y="2314440"/>
            <a:ext cx="3454200" cy="419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H="1">
            <a:off x="5281200" y="1876320"/>
            <a:ext cx="389160" cy="3891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31120" y="1884240"/>
            <a:ext cx="388800" cy="38916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79480" y="2738520"/>
            <a:ext cx="7048440" cy="3597120"/>
            <a:chOff x="879480" y="2738520"/>
            <a:chExt cx="7048440" cy="3597120"/>
          </a:xfrm>
        </p:grpSpPr>
        <p:sp>
          <p:nvSpPr>
            <p:cNvPr id="189" name=""/>
            <p:cNvSpPr/>
            <p:nvPr/>
          </p:nvSpPr>
          <p:spPr>
            <a:xfrm>
              <a:off x="879480" y="3954600"/>
              <a:ext cx="762120" cy="609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4080" y="5672160"/>
              <a:ext cx="761760" cy="6094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941400" y="2738520"/>
              <a:ext cx="6986520" cy="3597120"/>
              <a:chOff x="941400" y="2738520"/>
              <a:chExt cx="6986520" cy="3597120"/>
            </a:xfrm>
          </p:grpSpPr>
          <p:pic>
            <p:nvPicPr>
              <p:cNvPr id="19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55800" y="4070520"/>
                <a:ext cx="6972120" cy="204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941400" y="2738520"/>
                <a:ext cx="2768760" cy="12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 flipV="1">
                <a:off x="2714760" y="4905000"/>
                <a:ext cx="476280" cy="405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4511520" y="4900680"/>
                <a:ext cx="476280" cy="404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876320" y="6107040"/>
                <a:ext cx="317520" cy="228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66680" y="641520"/>
            <a:ext cx="33598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stimação Pon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99400" y="2195640"/>
            <a:ext cx="1657080" cy="857160"/>
          </a:xfrm>
          <a:prstGeom prst="wedgeRectCallout">
            <a:avLst>
              <a:gd name="adj1" fmla="val -86782"/>
              <a:gd name="adj2" fmla="val -20185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riz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F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2040" y="146844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. Limitante Inferior de Cramér-Ra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876920" y="1444680"/>
            <a:ext cx="2133360" cy="368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915480" y="188136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092320" y="2149560"/>
            <a:ext cx="4038480" cy="74916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966960" y="3297240"/>
            <a:ext cx="3673440" cy="2784600"/>
            <a:chOff x="966960" y="3297240"/>
            <a:chExt cx="3673440" cy="2784600"/>
          </a:xfrm>
        </p:grpSpPr>
        <p:pic>
          <p:nvPicPr>
            <p:cNvPr id="208" name="" descr=""/>
            <p:cNvPicPr/>
            <p:nvPr/>
          </p:nvPicPr>
          <p:blipFill>
            <a:blip r:embed="rId3"/>
            <a:stretch/>
          </p:blipFill>
          <p:spPr>
            <a:xfrm>
              <a:off x="1000080" y="3297240"/>
              <a:ext cx="293364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4"/>
            <a:stretch/>
          </p:blipFill>
          <p:spPr>
            <a:xfrm>
              <a:off x="966960" y="4710240"/>
              <a:ext cx="3114360" cy="62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5"/>
            <a:stretch/>
          </p:blipFill>
          <p:spPr>
            <a:xfrm>
              <a:off x="3268800" y="5433840"/>
              <a:ext cx="1371600" cy="64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66680" y="641520"/>
            <a:ext cx="33598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stimação Pon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109520" y="1393920"/>
            <a:ext cx="3619800" cy="184140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857160" y="3405240"/>
            <a:ext cx="3489480" cy="2746440"/>
            <a:chOff x="857160" y="3405240"/>
            <a:chExt cx="3489480" cy="2746440"/>
          </a:xfrm>
        </p:grpSpPr>
        <p:pic>
          <p:nvPicPr>
            <p:cNvPr id="218" name="" descr=""/>
            <p:cNvPicPr/>
            <p:nvPr/>
          </p:nvPicPr>
          <p:blipFill>
            <a:blip r:embed="rId2"/>
            <a:stretch/>
          </p:blipFill>
          <p:spPr>
            <a:xfrm>
              <a:off x="1108080" y="3903840"/>
              <a:ext cx="3238560" cy="22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857160" y="3405240"/>
              <a:ext cx="18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Por outro lado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66680" y="641520"/>
            <a:ext cx="33598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stimação Pon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603440" y="2760840"/>
            <a:ext cx="5773680" cy="140940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690840" y="1276200"/>
            <a:ext cx="3719520" cy="1384560"/>
            <a:chOff x="690840" y="1276200"/>
            <a:chExt cx="3719520" cy="1384560"/>
          </a:xfrm>
        </p:grpSpPr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1260720" y="1276200"/>
              <a:ext cx="207612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90840" y="17589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56080" y="175104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então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523880" y="4335480"/>
            <a:ext cx="3390840" cy="2122200"/>
            <a:chOff x="1523880" y="4335480"/>
            <a:chExt cx="3390840" cy="2122200"/>
          </a:xfrm>
        </p:grpSpPr>
        <p:sp>
          <p:nvSpPr>
            <p:cNvPr id="231" name=""/>
            <p:cNvSpPr/>
            <p:nvPr/>
          </p:nvSpPr>
          <p:spPr>
            <a:xfrm>
              <a:off x="1523880" y="6057720"/>
              <a:ext cx="1466640" cy="399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3"/>
            <a:stretch/>
          </p:blipFill>
          <p:spPr>
            <a:xfrm>
              <a:off x="1638000" y="4335480"/>
              <a:ext cx="3276720" cy="2109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66680" y="641520"/>
            <a:ext cx="33598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stimação Pon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81200" y="1430280"/>
            <a:ext cx="6662160" cy="387360"/>
            <a:chOff x="781200" y="1430280"/>
            <a:chExt cx="6662160" cy="387360"/>
          </a:xfrm>
        </p:grpSpPr>
        <p:sp>
          <p:nvSpPr>
            <p:cNvPr id="239" name=""/>
            <p:cNvSpPr/>
            <p:nvPr/>
          </p:nvSpPr>
          <p:spPr>
            <a:xfrm>
              <a:off x="781200" y="1449360"/>
              <a:ext cx="45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5. Eficiência: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(y) é dito ser eficiente se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5310000" y="1430280"/>
              <a:ext cx="2133360" cy="36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1" name=""/>
          <p:cNvGrpSpPr/>
          <p:nvPr/>
        </p:nvGrpSpPr>
        <p:grpSpPr>
          <a:xfrm>
            <a:off x="795240" y="2009880"/>
            <a:ext cx="4946760" cy="439560"/>
            <a:chOff x="795240" y="2009880"/>
            <a:chExt cx="4946760" cy="439560"/>
          </a:xfrm>
        </p:grpSpPr>
        <p:sp>
          <p:nvSpPr>
            <p:cNvPr id="242" name=""/>
            <p:cNvSpPr/>
            <p:nvPr/>
          </p:nvSpPr>
          <p:spPr>
            <a:xfrm>
              <a:off x="795240" y="20811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6. Teorema: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2274840" y="2009880"/>
              <a:ext cx="346716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4" name=""/>
          <p:cNvGrpSpPr/>
          <p:nvPr/>
        </p:nvGrpSpPr>
        <p:grpSpPr>
          <a:xfrm>
            <a:off x="1057320" y="2679840"/>
            <a:ext cx="4562280" cy="3181320"/>
            <a:chOff x="1057320" y="2679840"/>
            <a:chExt cx="4562280" cy="318132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1147680" y="2679840"/>
              <a:ext cx="162900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4"/>
            <a:stretch/>
          </p:blipFill>
          <p:spPr>
            <a:xfrm>
              <a:off x="1147680" y="3403440"/>
              <a:ext cx="441000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5"/>
            <a:stretch/>
          </p:blipFill>
          <p:spPr>
            <a:xfrm>
              <a:off x="1123920" y="4121280"/>
              <a:ext cx="449568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6"/>
            <a:stretch/>
          </p:blipFill>
          <p:spPr>
            <a:xfrm>
              <a:off x="1057320" y="4883040"/>
              <a:ext cx="3638520" cy="97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"/>
          <p:cNvGrpSpPr/>
          <p:nvPr/>
        </p:nvGrpSpPr>
        <p:grpSpPr>
          <a:xfrm>
            <a:off x="3257640" y="2876040"/>
            <a:ext cx="4535280" cy="2800800"/>
            <a:chOff x="3257640" y="2876040"/>
            <a:chExt cx="4535280" cy="2800800"/>
          </a:xfrm>
        </p:grpSpPr>
        <p:sp>
          <p:nvSpPr>
            <p:cNvPr id="250" name=""/>
            <p:cNvSpPr/>
            <p:nvPr/>
          </p:nvSpPr>
          <p:spPr>
            <a:xfrm>
              <a:off x="6435720" y="4011480"/>
              <a:ext cx="1357200" cy="462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57640" y="2876400"/>
              <a:ext cx="3062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38520" y="5676840"/>
              <a:ext cx="26859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6305400" y="2876040"/>
              <a:ext cx="0" cy="2800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7"/>
            <a:stretch/>
          </p:blipFill>
          <p:spPr>
            <a:xfrm>
              <a:off x="6516720" y="4056120"/>
              <a:ext cx="1219320" cy="368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66680" y="641520"/>
            <a:ext cx="33598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stimação Pon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3480" y="14320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. Propriedades do LSE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668600" y="1951200"/>
            <a:ext cx="5421960" cy="436320"/>
            <a:chOff x="1668600" y="1951200"/>
            <a:chExt cx="5421960" cy="436320"/>
          </a:xfrm>
        </p:grpSpPr>
        <p:pic>
          <p:nvPicPr>
            <p:cNvPr id="262" name="" descr=""/>
            <p:cNvPicPr/>
            <p:nvPr/>
          </p:nvPicPr>
          <p:blipFill>
            <a:blip r:embed="rId1"/>
            <a:stretch/>
          </p:blipFill>
          <p:spPr>
            <a:xfrm>
              <a:off x="1668600" y="1951200"/>
              <a:ext cx="346680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5103720" y="2019240"/>
              <a:ext cx="198684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 não polariz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365120" y="5994360"/>
            <a:ext cx="6753240" cy="368280"/>
            <a:chOff x="1365120" y="5994360"/>
            <a:chExt cx="6753240" cy="368280"/>
          </a:xfrm>
        </p:grpSpPr>
        <p:sp>
          <p:nvSpPr>
            <p:cNvPr id="265" name=""/>
            <p:cNvSpPr/>
            <p:nvPr/>
          </p:nvSpPr>
          <p:spPr>
            <a:xfrm>
              <a:off x="1365120" y="6045120"/>
              <a:ext cx="6753240" cy="30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56720" y="5994360"/>
              <a:ext cx="616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     =                                 A                                        +    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2"/>
            <a:stretch/>
          </p:blipFill>
          <p:spPr>
            <a:xfrm>
              <a:off x="6715080" y="6073920"/>
              <a:ext cx="15228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8" name=""/>
          <p:cNvGrpSpPr/>
          <p:nvPr/>
        </p:nvGrpSpPr>
        <p:grpSpPr>
          <a:xfrm>
            <a:off x="671400" y="2682720"/>
            <a:ext cx="7272360" cy="3330720"/>
            <a:chOff x="671400" y="2682720"/>
            <a:chExt cx="7272360" cy="3330720"/>
          </a:xfrm>
        </p:grpSpPr>
        <p:sp>
          <p:nvSpPr>
            <p:cNvPr id="269" name=""/>
            <p:cNvSpPr/>
            <p:nvPr/>
          </p:nvSpPr>
          <p:spPr>
            <a:xfrm>
              <a:off x="671400" y="2682720"/>
              <a:ext cx="42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8. Identificação de Modelos ARMAX: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3"/>
            <a:stretch/>
          </p:blipFill>
          <p:spPr>
            <a:xfrm>
              <a:off x="1657440" y="3276720"/>
              <a:ext cx="52959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4"/>
            <a:stretch/>
          </p:blipFill>
          <p:spPr>
            <a:xfrm>
              <a:off x="1647720" y="3657600"/>
              <a:ext cx="54295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5"/>
            <a:stretch/>
          </p:blipFill>
          <p:spPr>
            <a:xfrm>
              <a:off x="1504800" y="3968640"/>
              <a:ext cx="6438960" cy="2044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981080" y="2457360"/>
            <a:ext cx="6324840" cy="266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45760" y="473040"/>
            <a:ext cx="277776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gram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0720" y="106992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6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90800" y="1069920"/>
            <a:ext cx="550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Simulação de Sist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abilidades e Processos Estocás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o Efeito de Ruído em Sistemas Line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39800" y="21747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7 set 02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09520" y="2174760"/>
            <a:ext cx="580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Estimação Pontual, LSE, Cramér-Ra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. (P)  LSE Batelada + Identificação Não-Param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stimação Recursiva, Regiões de Confiança, Or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Identificação Recur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6800" y="329868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8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37960" y="3298680"/>
            <a:ext cx="539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Filtragem. Projeção Ortogonal. Filtro de Kal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Filtro de Kalman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Filtro de Kalman Estendido. Diverg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e Métodos de Combate à Diverg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6800" y="44226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9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35440" y="4422600"/>
            <a:ext cx="575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Ótimo. Problema L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Realimentação Ótima de Es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lema LQG. Separação e Equivalência à Cert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Simulação de Malha Fechada LQ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5880" y="55404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0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56320" y="5540400"/>
            <a:ext cx="570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Adaptativo.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xame: Parte Teó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xame: Parte Pr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94720" y="1101600"/>
            <a:ext cx="257508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ática: 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70960" y="2436840"/>
            <a:ext cx="613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mular um sistema de segundo grau sem ruíd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stimar os parâmetros pelo Método dos Míni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dos e comparar com os valores verdadei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mular o mesmo sistema mas com rúido de med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stimar os parâmetros e compa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533680" y="3714840"/>
            <a:ext cx="838080" cy="85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4600" y="5334120"/>
            <a:ext cx="838080" cy="85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33680" y="2076480"/>
            <a:ext cx="838080" cy="85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51960" y="473040"/>
            <a:ext cx="257508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ática: 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41000" y="1371600"/>
            <a:ext cx="31982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ta Estim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tachap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64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-0.78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.07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.06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ta Verdadei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tatrue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64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-0.78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.07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.06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ta Estimado com Ruido de Med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tanoise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47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-0.61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.06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.08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38520" y="201780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ção de Míni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dos sem Ruí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33920" y="535140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ção de Míni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dos com Ruí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16640" y="384660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âmetros Verdadei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95720" y="1809720"/>
            <a:ext cx="133560" cy="1104840"/>
          </a:xfrm>
          <a:custGeom>
            <a:avLst/>
            <a:gdLst>
              <a:gd name="textAreaLeft" fmla="*/ 0 w 133560"/>
              <a:gd name="textAreaRight" fmla="*/ 48240 w 133560"/>
              <a:gd name="textAreaTop" fmla="*/ 28800 h 1104840"/>
              <a:gd name="textAreaBottom" fmla="*/ 1076040 h 11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14800" y="5105520"/>
            <a:ext cx="133200" cy="1104840"/>
          </a:xfrm>
          <a:custGeom>
            <a:avLst/>
            <a:gdLst>
              <a:gd name="textAreaLeft" fmla="*/ 0 w 133200"/>
              <a:gd name="textAreaRight" fmla="*/ 47880 w 133200"/>
              <a:gd name="textAreaTop" fmla="*/ 28800 h 1104840"/>
              <a:gd name="textAreaBottom" fmla="*/ 1076040 h 11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14800" y="3505320"/>
            <a:ext cx="133200" cy="1104840"/>
          </a:xfrm>
          <a:custGeom>
            <a:avLst/>
            <a:gdLst>
              <a:gd name="textAreaLeft" fmla="*/ 0 w 133200"/>
              <a:gd name="textAreaRight" fmla="*/ 47880 w 133200"/>
              <a:gd name="textAreaTop" fmla="*/ 28800 h 1104840"/>
              <a:gd name="textAreaBottom" fmla="*/ 1076040 h 11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2800" y="4395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6400" y="2489040"/>
            <a:ext cx="6103080" cy="131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dentificação, Estim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 Controle Estocást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94640" y="4307040"/>
            <a:ext cx="4844160" cy="106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akashi Yoney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TA - Divisão de Engenharia Eletrô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6 a 20 jun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68000" y="5402160"/>
            <a:ext cx="303660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ttp://www.ele.ita.cta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962000" y="2705040"/>
            <a:ext cx="6324840" cy="266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45760" y="473040"/>
            <a:ext cx="277776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gram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0720" y="106992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6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90800" y="1069920"/>
            <a:ext cx="550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Simulação de Sist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abilidades e Processos Estocás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o Efeito de Ruído em Sistemas Line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39800" y="21747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7 set 02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09520" y="2174760"/>
            <a:ext cx="580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Estimação Pontual, LSE, Cramér-Ra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LSE Batelada + Identificação Não-Param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3. (T)  Estimação Recursiva, Regiões de Confiança, Or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Identificação Recur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6800" y="329868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8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37960" y="3298680"/>
            <a:ext cx="539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Filtragem. Projeção Ortogonal. Filtro de Kal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Filtro de Kalman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Filtro de Kalman Estendido. Diverg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e Métodos de Combate à Diverg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6800" y="44226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9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35440" y="4422600"/>
            <a:ext cx="575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Ótimo. Problema L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Realimentação Ótima de Es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lema LQG. Separação e Equivalência à Cert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Simulação de Malha Fechada LQ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85880" y="55404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0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56320" y="5540400"/>
            <a:ext cx="570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Adaptativo.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xame: Parte Teó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xame: Parte Pr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106720" y="1962000"/>
            <a:ext cx="1198440" cy="56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72640" y="641520"/>
            <a:ext cx="37591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stimação Recur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6480" y="1517760"/>
            <a:ext cx="38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Lema de Inversão de Matrizes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171880" y="2038320"/>
            <a:ext cx="4495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336" name=""/>
          <p:cNvGrpSpPr/>
          <p:nvPr/>
        </p:nvGrpSpPr>
        <p:grpSpPr>
          <a:xfrm>
            <a:off x="694800" y="2665440"/>
            <a:ext cx="7175880" cy="3887640"/>
            <a:chOff x="694800" y="2665440"/>
            <a:chExt cx="7175880" cy="3887640"/>
          </a:xfrm>
        </p:grpSpPr>
        <p:sp>
          <p:nvSpPr>
            <p:cNvPr id="337" name=""/>
            <p:cNvSpPr/>
            <p:nvPr/>
          </p:nvSpPr>
          <p:spPr>
            <a:xfrm>
              <a:off x="694800" y="2665440"/>
              <a:ext cx="293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2. Estimação Recursiva: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8" name="" descr=""/>
            <p:cNvPicPr/>
            <p:nvPr/>
          </p:nvPicPr>
          <p:blipFill>
            <a:blip r:embed="rId2"/>
            <a:stretch/>
          </p:blipFill>
          <p:spPr>
            <a:xfrm>
              <a:off x="1433520" y="3606840"/>
              <a:ext cx="4371840" cy="6732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3146400" y="4308480"/>
                  <a:ext cx="406404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m>
                                        <m:m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A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N</m:t>
                                                </m:r>
                                              </m:sub>
                                            </m:sSub>
                                          </m:e>
                                        </m:mr>
                                        <m:mr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a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N</m:t>
                                                </m:r>
                                                <m:r>
                                                  <m:t xml:space="preserve">+</m:t>
                                                </m:r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</m:e>
                                        </m:mr>
                                      </m:m>
                                    </m:e>
                                  </m:d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  <m:mr>
                                      <m:e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bSup>
                                      </m:e>
                                    </m:mr>
                                  </m:m>
                                </m:e>
                              </m:d>
                            </m:e>
                          </m:d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sSup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e>
                                </m:mr>
                              </m:m>
                            </m:e>
                          </m:d>
                        </m:e>
                        <m:sup>
                          <m:r>
                            <m:t xml:space="preserve">T</m:t>
                          </m:r>
                        </m:sup>
                      </m:sSup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pic>
          <p:nvPicPr>
            <p:cNvPr id="340" name="" descr=""/>
            <p:cNvPicPr/>
            <p:nvPr/>
          </p:nvPicPr>
          <p:blipFill>
            <a:blip r:embed="rId3"/>
            <a:stretch/>
          </p:blipFill>
          <p:spPr>
            <a:xfrm>
              <a:off x="3156120" y="5176800"/>
              <a:ext cx="4714560" cy="76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1" name=""/>
            <p:cNvGrpSpPr/>
            <p:nvPr/>
          </p:nvGrpSpPr>
          <p:grpSpPr>
            <a:xfrm>
              <a:off x="3129120" y="5975280"/>
              <a:ext cx="4562280" cy="577800"/>
              <a:chOff x="3129120" y="5975280"/>
              <a:chExt cx="4562280" cy="577800"/>
            </a:xfrm>
          </p:grpSpPr>
          <p:sp>
            <p:nvSpPr>
              <p:cNvPr id="342" name=""/>
              <p:cNvSpPr/>
              <p:nvPr/>
            </p:nvSpPr>
            <p:spPr>
              <a:xfrm>
                <a:off x="3795840" y="5975280"/>
                <a:ext cx="2077920" cy="5778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29120" y="6018120"/>
                <a:ext cx="456228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44" name="" descr=""/>
            <p:cNvPicPr/>
            <p:nvPr/>
          </p:nvPicPr>
          <p:blipFill>
            <a:blip r:embed="rId5"/>
            <a:stretch/>
          </p:blipFill>
          <p:spPr>
            <a:xfrm>
              <a:off x="1428840" y="3193920"/>
              <a:ext cx="5162400" cy="368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72640" y="641520"/>
            <a:ext cx="37591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stimação Recur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604800" y="1301760"/>
            <a:ext cx="1438200" cy="4316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2467080" y="1266840"/>
            <a:ext cx="1438200" cy="673200"/>
          </a:xfrm>
          <a:prstGeom prst="rect">
            <a:avLst/>
          </a:prstGeom>
          <a:ln w="0">
            <a:noFill/>
          </a:ln>
        </p:spPr>
      </p:pic>
      <p:grpSp>
        <p:nvGrpSpPr>
          <p:cNvPr id="352" name=""/>
          <p:cNvGrpSpPr/>
          <p:nvPr/>
        </p:nvGrpSpPr>
        <p:grpSpPr>
          <a:xfrm>
            <a:off x="595440" y="1781280"/>
            <a:ext cx="6462720" cy="1257120"/>
            <a:chOff x="595440" y="1781280"/>
            <a:chExt cx="6462720" cy="1257120"/>
          </a:xfrm>
        </p:grpSpPr>
        <p:sp>
          <p:nvSpPr>
            <p:cNvPr id="353" name=""/>
            <p:cNvSpPr/>
            <p:nvPr/>
          </p:nvSpPr>
          <p:spPr>
            <a:xfrm>
              <a:off x="4979880" y="1904760"/>
              <a:ext cx="2078280" cy="591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4" name="" descr=""/>
            <p:cNvPicPr/>
            <p:nvPr/>
          </p:nvPicPr>
          <p:blipFill>
            <a:blip r:embed="rId3"/>
            <a:stretch/>
          </p:blipFill>
          <p:spPr>
            <a:xfrm>
              <a:off x="595440" y="1781280"/>
              <a:ext cx="6429240" cy="12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5" name=""/>
          <p:cNvGrpSpPr/>
          <p:nvPr/>
        </p:nvGrpSpPr>
        <p:grpSpPr>
          <a:xfrm>
            <a:off x="2527200" y="2741760"/>
            <a:ext cx="4632480" cy="793440"/>
            <a:chOff x="2527200" y="2741760"/>
            <a:chExt cx="4632480" cy="793440"/>
          </a:xfrm>
        </p:grpSpPr>
        <p:pic>
          <p:nvPicPr>
            <p:cNvPr id="356" name="" descr=""/>
            <p:cNvPicPr/>
            <p:nvPr/>
          </p:nvPicPr>
          <p:blipFill>
            <a:blip r:embed="rId4"/>
            <a:stretch/>
          </p:blipFill>
          <p:spPr>
            <a:xfrm>
              <a:off x="2664000" y="2890800"/>
              <a:ext cx="44956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2527200" y="2741760"/>
              <a:ext cx="0" cy="793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19200" y="3621240"/>
            <a:ext cx="4714560" cy="1041120"/>
            <a:chOff x="619200" y="3621240"/>
            <a:chExt cx="4714560" cy="1041120"/>
          </a:xfrm>
        </p:grpSpPr>
        <p:sp>
          <p:nvSpPr>
            <p:cNvPr id="359" name=""/>
            <p:cNvSpPr/>
            <p:nvPr/>
          </p:nvSpPr>
          <p:spPr>
            <a:xfrm>
              <a:off x="1774800" y="4141800"/>
              <a:ext cx="24526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619200" y="3621240"/>
              <a:ext cx="4714560" cy="966600"/>
              <a:chOff x="619200" y="3621240"/>
              <a:chExt cx="4714560" cy="966600"/>
            </a:xfrm>
          </p:grpSpPr>
          <p:pic>
            <p:nvPicPr>
              <p:cNvPr id="36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19200" y="3621240"/>
                <a:ext cx="47145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2760" y="4156200"/>
                <a:ext cx="3809880" cy="43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63" name=""/>
          <p:cNvGrpSpPr/>
          <p:nvPr/>
        </p:nvGrpSpPr>
        <p:grpSpPr>
          <a:xfrm>
            <a:off x="2492280" y="4748040"/>
            <a:ext cx="3251160" cy="800280"/>
            <a:chOff x="2492280" y="4748040"/>
            <a:chExt cx="3251160" cy="800280"/>
          </a:xfrm>
        </p:grpSpPr>
        <p:sp>
          <p:nvSpPr>
            <p:cNvPr id="364" name=""/>
            <p:cNvSpPr/>
            <p:nvPr/>
          </p:nvSpPr>
          <p:spPr>
            <a:xfrm>
              <a:off x="3419640" y="4748040"/>
              <a:ext cx="2323800" cy="7509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92280" y="4754520"/>
              <a:ext cx="0" cy="793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6" name="" descr=""/>
            <p:cNvPicPr/>
            <p:nvPr/>
          </p:nvPicPr>
          <p:blipFill>
            <a:blip r:embed="rId7"/>
            <a:stretch/>
          </p:blipFill>
          <p:spPr>
            <a:xfrm>
              <a:off x="2732040" y="4784760"/>
              <a:ext cx="2933640" cy="64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7" name="" descr=""/>
          <p:cNvPicPr/>
          <p:nvPr/>
        </p:nvPicPr>
        <p:blipFill>
          <a:blip r:embed="rId8"/>
          <a:stretch/>
        </p:blipFill>
        <p:spPr>
          <a:xfrm>
            <a:off x="1415880" y="5661000"/>
            <a:ext cx="2362320" cy="368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72640" y="641520"/>
            <a:ext cx="37591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stimação Recur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028880" y="1576440"/>
            <a:ext cx="4565160" cy="1036440"/>
            <a:chOff x="1028880" y="1576440"/>
            <a:chExt cx="4565160" cy="1036440"/>
          </a:xfrm>
        </p:grpSpPr>
        <p:grpSp>
          <p:nvGrpSpPr>
            <p:cNvPr id="374" name=""/>
            <p:cNvGrpSpPr/>
            <p:nvPr/>
          </p:nvGrpSpPr>
          <p:grpSpPr>
            <a:xfrm>
              <a:off x="1031760" y="1576440"/>
              <a:ext cx="4562280" cy="577800"/>
              <a:chOff x="1031760" y="1576440"/>
              <a:chExt cx="4562280" cy="577800"/>
            </a:xfrm>
          </p:grpSpPr>
          <p:sp>
            <p:nvSpPr>
              <p:cNvPr id="375" name=""/>
              <p:cNvSpPr/>
              <p:nvPr/>
            </p:nvSpPr>
            <p:spPr>
              <a:xfrm>
                <a:off x="1698480" y="1576440"/>
                <a:ext cx="2077920" cy="5778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31760" y="1619280"/>
                <a:ext cx="456228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1028880" y="2181240"/>
              <a:ext cx="3009600" cy="4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8" name=""/>
          <p:cNvGrpSpPr/>
          <p:nvPr/>
        </p:nvGrpSpPr>
        <p:grpSpPr>
          <a:xfrm>
            <a:off x="2489040" y="2765520"/>
            <a:ext cx="4464360" cy="793800"/>
            <a:chOff x="2489040" y="2765520"/>
            <a:chExt cx="4464360" cy="793800"/>
          </a:xfrm>
        </p:grpSpPr>
        <p:sp>
          <p:nvSpPr>
            <p:cNvPr id="379" name=""/>
            <p:cNvSpPr/>
            <p:nvPr/>
          </p:nvSpPr>
          <p:spPr>
            <a:xfrm>
              <a:off x="2489040" y="2765520"/>
              <a:ext cx="0" cy="793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0" name="" descr=""/>
            <p:cNvPicPr/>
            <p:nvPr/>
          </p:nvPicPr>
          <p:blipFill>
            <a:blip r:embed="rId3"/>
            <a:stretch/>
          </p:blipFill>
          <p:spPr>
            <a:xfrm>
              <a:off x="2647800" y="2889360"/>
              <a:ext cx="4305600" cy="4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1" name=""/>
          <p:cNvGrpSpPr/>
          <p:nvPr/>
        </p:nvGrpSpPr>
        <p:grpSpPr>
          <a:xfrm>
            <a:off x="1036800" y="3605040"/>
            <a:ext cx="6314760" cy="936720"/>
            <a:chOff x="1036800" y="3605040"/>
            <a:chExt cx="6314760" cy="936720"/>
          </a:xfrm>
        </p:grpSpPr>
        <p:sp>
          <p:nvSpPr>
            <p:cNvPr id="382" name=""/>
            <p:cNvSpPr/>
            <p:nvPr/>
          </p:nvSpPr>
          <p:spPr>
            <a:xfrm>
              <a:off x="3220920" y="4108320"/>
              <a:ext cx="2511720" cy="4334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51120" y="3611520"/>
              <a:ext cx="2511360" cy="4460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675400" y="3662280"/>
              <a:ext cx="850680" cy="390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12880" y="3668760"/>
              <a:ext cx="851040" cy="390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6" name="" descr=""/>
            <p:cNvPicPr/>
            <p:nvPr/>
          </p:nvPicPr>
          <p:blipFill>
            <a:blip r:embed="rId4"/>
            <a:stretch/>
          </p:blipFill>
          <p:spPr>
            <a:xfrm>
              <a:off x="1036800" y="3605040"/>
              <a:ext cx="6314760" cy="93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7" name=""/>
          <p:cNvGrpSpPr/>
          <p:nvPr/>
        </p:nvGrpSpPr>
        <p:grpSpPr>
          <a:xfrm>
            <a:off x="2496960" y="4678200"/>
            <a:ext cx="4756320" cy="793800"/>
            <a:chOff x="2496960" y="4678200"/>
            <a:chExt cx="4756320" cy="793800"/>
          </a:xfrm>
        </p:grpSpPr>
        <p:sp>
          <p:nvSpPr>
            <p:cNvPr id="388" name=""/>
            <p:cNvSpPr/>
            <p:nvPr/>
          </p:nvSpPr>
          <p:spPr>
            <a:xfrm>
              <a:off x="5016600" y="4737240"/>
              <a:ext cx="2236680" cy="7063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98960" y="4794120"/>
              <a:ext cx="880920" cy="4194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96960" y="4678200"/>
              <a:ext cx="0" cy="793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1" name="" descr=""/>
            <p:cNvPicPr/>
            <p:nvPr/>
          </p:nvPicPr>
          <p:blipFill>
            <a:blip r:embed="rId5"/>
            <a:stretch/>
          </p:blipFill>
          <p:spPr>
            <a:xfrm>
              <a:off x="2657520" y="4811760"/>
              <a:ext cx="13716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6"/>
            <a:stretch/>
          </p:blipFill>
          <p:spPr>
            <a:xfrm>
              <a:off x="4300560" y="4757760"/>
              <a:ext cx="2933640" cy="64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3" name="" descr=""/>
          <p:cNvPicPr/>
          <p:nvPr/>
        </p:nvPicPr>
        <p:blipFill>
          <a:blip r:embed="rId7"/>
          <a:stretch/>
        </p:blipFill>
        <p:spPr>
          <a:xfrm>
            <a:off x="1089000" y="5591160"/>
            <a:ext cx="3181320" cy="368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211560" y="1981080"/>
            <a:ext cx="5576760" cy="766800"/>
          </a:xfrm>
          <a:prstGeom prst="wedgeRectCallout">
            <a:avLst>
              <a:gd name="adj1" fmla="val -42087"/>
              <a:gd name="adj2" fmla="val 107351"/>
            </a:avLst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98720" y="219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291280" y="3719520"/>
            <a:ext cx="3406680" cy="1833480"/>
            <a:chOff x="5291280" y="3719520"/>
            <a:chExt cx="3406680" cy="1833480"/>
          </a:xfrm>
        </p:grpSpPr>
        <p:sp>
          <p:nvSpPr>
            <p:cNvPr id="401" name=""/>
            <p:cNvSpPr/>
            <p:nvPr/>
          </p:nvSpPr>
          <p:spPr>
            <a:xfrm>
              <a:off x="5291280" y="3719520"/>
              <a:ext cx="3406680" cy="1833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5400720" y="3811680"/>
              <a:ext cx="3181320" cy="1608120"/>
              <a:chOff x="5400720" y="3811680"/>
              <a:chExt cx="3181320" cy="1608120"/>
            </a:xfrm>
          </p:grpSpPr>
          <p:pic>
            <p:nvPicPr>
              <p:cNvPr id="40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400720" y="3811680"/>
                <a:ext cx="3181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27720" y="4333680"/>
                <a:ext cx="2933640" cy="64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426280" y="5051520"/>
                <a:ext cx="2362320" cy="3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06" name=""/>
          <p:cNvSpPr/>
          <p:nvPr/>
        </p:nvSpPr>
        <p:spPr>
          <a:xfrm>
            <a:off x="2672640" y="603360"/>
            <a:ext cx="37591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stimação Recur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4"/>
          <a:stretch/>
        </p:blipFill>
        <p:spPr>
          <a:xfrm>
            <a:off x="3638520" y="2297160"/>
            <a:ext cx="4511880" cy="3636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5"/>
          <a:stretch/>
        </p:blipFill>
        <p:spPr>
          <a:xfrm>
            <a:off x="3338640" y="2031840"/>
            <a:ext cx="5286240" cy="292320"/>
          </a:xfrm>
          <a:prstGeom prst="rect">
            <a:avLst/>
          </a:prstGeom>
          <a:ln w="0">
            <a:noFill/>
          </a:ln>
        </p:spPr>
      </p:pic>
      <p:grpSp>
        <p:nvGrpSpPr>
          <p:cNvPr id="409" name=""/>
          <p:cNvGrpSpPr/>
          <p:nvPr/>
        </p:nvGrpSpPr>
        <p:grpSpPr>
          <a:xfrm>
            <a:off x="324000" y="2895480"/>
            <a:ext cx="4572000" cy="3660840"/>
            <a:chOff x="324000" y="2895480"/>
            <a:chExt cx="4572000" cy="3660840"/>
          </a:xfrm>
        </p:grpSpPr>
        <p:sp>
          <p:nvSpPr>
            <p:cNvPr id="410" name=""/>
            <p:cNvSpPr/>
            <p:nvPr/>
          </p:nvSpPr>
          <p:spPr>
            <a:xfrm>
              <a:off x="1619280" y="5180040"/>
              <a:ext cx="1981080" cy="7621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55720" y="5560920"/>
              <a:ext cx="76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36280" y="5332320"/>
              <a:ext cx="17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dentific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3600000" y="5560920"/>
              <a:ext cx="76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855720" y="3848040"/>
              <a:ext cx="3508200" cy="1724040"/>
              <a:chOff x="855720" y="3848040"/>
              <a:chExt cx="3508200" cy="1724040"/>
            </a:xfrm>
          </p:grpSpPr>
          <p:sp>
            <p:nvSpPr>
              <p:cNvPr id="415" name=""/>
              <p:cNvSpPr/>
              <p:nvPr/>
            </p:nvSpPr>
            <p:spPr>
              <a:xfrm>
                <a:off x="855720" y="3848040"/>
                <a:ext cx="0" cy="172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63920" y="3848040"/>
                <a:ext cx="0" cy="172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2610000" y="5942160"/>
              <a:ext cx="0" cy="55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4320" y="38070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25760" y="3808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0" name="" descr=""/>
            <p:cNvPicPr/>
            <p:nvPr/>
          </p:nvPicPr>
          <p:blipFill>
            <a:blip r:embed="rId6"/>
            <a:stretch/>
          </p:blipFill>
          <p:spPr>
            <a:xfrm>
              <a:off x="2754360" y="6188040"/>
              <a:ext cx="147312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1638360" y="2952720"/>
              <a:ext cx="1981080" cy="123840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74800" y="3059280"/>
              <a:ext cx="1764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rcial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heci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4000" y="384804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19440" y="3848040"/>
              <a:ext cx="1276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5" name="" descr=""/>
            <p:cNvPicPr/>
            <p:nvPr/>
          </p:nvPicPr>
          <p:blipFill>
            <a:blip r:embed="rId7"/>
            <a:stretch/>
          </p:blipFill>
          <p:spPr>
            <a:xfrm>
              <a:off x="328680" y="3505320"/>
              <a:ext cx="46980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8"/>
            <a:stretch/>
          </p:blipFill>
          <p:spPr>
            <a:xfrm>
              <a:off x="4210200" y="3467160"/>
              <a:ext cx="4824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343080" y="323856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8" name="" descr=""/>
            <p:cNvPicPr/>
            <p:nvPr/>
          </p:nvPicPr>
          <p:blipFill>
            <a:blip r:embed="rId9"/>
            <a:stretch/>
          </p:blipFill>
          <p:spPr>
            <a:xfrm>
              <a:off x="333360" y="2895480"/>
              <a:ext cx="4762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 flipV="1">
              <a:off x="2610000" y="4191120"/>
              <a:ext cx="0" cy="49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0" name="" descr=""/>
            <p:cNvPicPr/>
            <p:nvPr/>
          </p:nvPicPr>
          <p:blipFill>
            <a:blip r:embed="rId10"/>
            <a:stretch/>
          </p:blipFill>
          <p:spPr>
            <a:xfrm>
              <a:off x="1104840" y="4616280"/>
              <a:ext cx="3162240" cy="36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1" name=""/>
          <p:cNvSpPr/>
          <p:nvPr/>
        </p:nvSpPr>
        <p:spPr>
          <a:xfrm>
            <a:off x="361800" y="1327320"/>
            <a:ext cx="39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. Identificação de Modelos ARX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4248000" y="5086440"/>
            <a:ext cx="3029040" cy="32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616120" y="641520"/>
            <a:ext cx="38930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giões de Confia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34680" y="1434960"/>
            <a:ext cx="70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. Região de Confiança quando e ~ N(0 ,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) e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é conhecido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3346560" y="3111480"/>
            <a:ext cx="1574640" cy="3682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3143160" y="2089080"/>
            <a:ext cx="2095560" cy="3556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4114800" y="2438280"/>
            <a:ext cx="0" cy="5716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3384720" y="4324320"/>
            <a:ext cx="1688760" cy="6858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4114800" y="3562200"/>
            <a:ext cx="0" cy="5716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5010120"/>
            <a:ext cx="0" cy="628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4"/>
          <a:stretch/>
        </p:blipFill>
        <p:spPr>
          <a:xfrm>
            <a:off x="4305240" y="5105520"/>
            <a:ext cx="2933640" cy="30456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5"/>
          <a:stretch/>
        </p:blipFill>
        <p:spPr>
          <a:xfrm>
            <a:off x="1574640" y="5746680"/>
            <a:ext cx="5689800" cy="35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4400640" y="5315040"/>
            <a:ext cx="3181320" cy="342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16120" y="641520"/>
            <a:ext cx="38930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giões de Confia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4680" y="1434960"/>
            <a:ext cx="744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. Região de Confiança quando e ~ N(0 ,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) e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é desconhecido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581280" y="1955880"/>
            <a:ext cx="1562400" cy="3556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4286160" y="2381400"/>
            <a:ext cx="0" cy="495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3378240" y="2971800"/>
            <a:ext cx="1968480" cy="6094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267080" y="3695760"/>
            <a:ext cx="0" cy="495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3390840" y="4286160"/>
            <a:ext cx="1905120" cy="95256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4267080" y="5257800"/>
            <a:ext cx="0" cy="552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4"/>
          <a:stretch/>
        </p:blipFill>
        <p:spPr>
          <a:xfrm>
            <a:off x="1689120" y="5861160"/>
            <a:ext cx="5689440" cy="3553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5"/>
          <a:stretch/>
        </p:blipFill>
        <p:spPr>
          <a:xfrm>
            <a:off x="4457880" y="5353200"/>
            <a:ext cx="312408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929320" y="641520"/>
            <a:ext cx="32821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leção da Ord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0000" y="132732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. Teste de Hipóteses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401840" y="2228760"/>
            <a:ext cx="1042920" cy="2286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 flipV="1">
            <a:off x="2552760" y="2152440"/>
            <a:ext cx="780840" cy="19044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71840" y="2343240"/>
            <a:ext cx="780840" cy="19044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4019400" y="2857680"/>
            <a:ext cx="3029040" cy="1104840"/>
            <a:chOff x="4019400" y="2857680"/>
            <a:chExt cx="3029040" cy="1104840"/>
          </a:xfrm>
        </p:grpSpPr>
        <p:sp>
          <p:nvSpPr>
            <p:cNvPr id="472" name=""/>
            <p:cNvSpPr/>
            <p:nvPr/>
          </p:nvSpPr>
          <p:spPr>
            <a:xfrm>
              <a:off x="4229280" y="2971800"/>
              <a:ext cx="2819160" cy="781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19400" y="2857680"/>
              <a:ext cx="0" cy="1104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4" name="" descr=""/>
            <p:cNvPicPr/>
            <p:nvPr/>
          </p:nvPicPr>
          <p:blipFill>
            <a:blip r:embed="rId2"/>
            <a:stretch/>
          </p:blipFill>
          <p:spPr>
            <a:xfrm>
              <a:off x="4286160" y="3022560"/>
              <a:ext cx="2705040" cy="6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5" name=""/>
          <p:cNvGrpSpPr/>
          <p:nvPr/>
        </p:nvGrpSpPr>
        <p:grpSpPr>
          <a:xfrm>
            <a:off x="1758960" y="4043520"/>
            <a:ext cx="5335200" cy="2268360"/>
            <a:chOff x="1758960" y="4043520"/>
            <a:chExt cx="5335200" cy="2268360"/>
          </a:xfrm>
        </p:grpSpPr>
        <p:pic>
          <p:nvPicPr>
            <p:cNvPr id="476" name="" descr=""/>
            <p:cNvPicPr/>
            <p:nvPr/>
          </p:nvPicPr>
          <p:blipFill>
            <a:blip r:embed="rId3"/>
            <a:stretch/>
          </p:blipFill>
          <p:spPr>
            <a:xfrm>
              <a:off x="2603520" y="4584600"/>
              <a:ext cx="3975120" cy="172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7" name=""/>
            <p:cNvGrpSpPr/>
            <p:nvPr/>
          </p:nvGrpSpPr>
          <p:grpSpPr>
            <a:xfrm>
              <a:off x="1758960" y="4043520"/>
              <a:ext cx="5335200" cy="395280"/>
              <a:chOff x="1758960" y="4043520"/>
              <a:chExt cx="5335200" cy="395280"/>
            </a:xfrm>
          </p:grpSpPr>
          <p:sp>
            <p:nvSpPr>
              <p:cNvPr id="478" name=""/>
              <p:cNvSpPr/>
              <p:nvPr/>
            </p:nvSpPr>
            <p:spPr>
              <a:xfrm>
                <a:off x="4817880" y="4043520"/>
                <a:ext cx="227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é verdadeiro, entã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7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758960" y="4096080"/>
                <a:ext cx="3035160" cy="342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80" name="" descr=""/>
          <p:cNvPicPr/>
          <p:nvPr/>
        </p:nvPicPr>
        <p:blipFill>
          <a:blip r:embed="rId5"/>
          <a:stretch/>
        </p:blipFill>
        <p:spPr>
          <a:xfrm>
            <a:off x="3486240" y="2006640"/>
            <a:ext cx="4572000" cy="749160"/>
          </a:xfrm>
          <a:prstGeom prst="rect">
            <a:avLst/>
          </a:prstGeom>
          <a:ln w="0">
            <a:noFill/>
          </a:ln>
        </p:spPr>
      </p:pic>
      <p:grpSp>
        <p:nvGrpSpPr>
          <p:cNvPr id="481" name=""/>
          <p:cNvGrpSpPr/>
          <p:nvPr/>
        </p:nvGrpSpPr>
        <p:grpSpPr>
          <a:xfrm>
            <a:off x="4610160" y="4991040"/>
            <a:ext cx="1343880" cy="1276560"/>
            <a:chOff x="4610160" y="4991040"/>
            <a:chExt cx="1343880" cy="1276560"/>
          </a:xfrm>
        </p:grpSpPr>
        <p:sp>
          <p:nvSpPr>
            <p:cNvPr id="482" name=""/>
            <p:cNvSpPr/>
            <p:nvPr/>
          </p:nvSpPr>
          <p:spPr>
            <a:xfrm>
              <a:off x="5181480" y="5429160"/>
              <a:ext cx="762120" cy="381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10160" y="4991040"/>
              <a:ext cx="476280" cy="1276560"/>
            </a:xfrm>
            <a:custGeom>
              <a:avLst/>
              <a:gdLst>
                <a:gd name="textAreaLeft" fmla="*/ 0 w 476280"/>
                <a:gd name="textAreaRight" fmla="*/ 172080 w 476280"/>
                <a:gd name="textAreaTop" fmla="*/ 33120 h 1276560"/>
                <a:gd name="textAreaBottom" fmla="*/ 1243440 h 127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46920" y="5398920"/>
              <a:ext cx="80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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=  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29320" y="641520"/>
            <a:ext cx="32821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leção da Ord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2335320" y="1428840"/>
            <a:ext cx="4014720" cy="647640"/>
          </a:xfrm>
          <a:prstGeom prst="rect">
            <a:avLst/>
          </a:prstGeom>
          <a:ln w="0">
            <a:noFill/>
          </a:ln>
        </p:spPr>
      </p:pic>
      <p:grpSp>
        <p:nvGrpSpPr>
          <p:cNvPr id="491" name=""/>
          <p:cNvGrpSpPr/>
          <p:nvPr/>
        </p:nvGrpSpPr>
        <p:grpSpPr>
          <a:xfrm>
            <a:off x="4324320" y="2114640"/>
            <a:ext cx="3009960" cy="1066680"/>
            <a:chOff x="4324320" y="2114640"/>
            <a:chExt cx="3009960" cy="1066680"/>
          </a:xfrm>
        </p:grpSpPr>
        <p:sp>
          <p:nvSpPr>
            <p:cNvPr id="492" name=""/>
            <p:cNvSpPr/>
            <p:nvPr/>
          </p:nvSpPr>
          <p:spPr>
            <a:xfrm>
              <a:off x="4572000" y="2228760"/>
              <a:ext cx="2762280" cy="857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24320" y="2114640"/>
              <a:ext cx="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4667400" y="2273400"/>
              <a:ext cx="2597040" cy="749160"/>
              <a:chOff x="4667400" y="2273400"/>
              <a:chExt cx="2597040" cy="749160"/>
            </a:xfrm>
          </p:grpSpPr>
          <p:pic>
            <p:nvPicPr>
              <p:cNvPr id="49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67400" y="2273400"/>
                <a:ext cx="914400" cy="74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651640" y="2362320"/>
                <a:ext cx="1612800" cy="571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3295800" y="3327480"/>
            <a:ext cx="2514600" cy="130788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4324320" y="4686480"/>
            <a:ext cx="2552760" cy="1066680"/>
            <a:chOff x="4324320" y="4686480"/>
            <a:chExt cx="2552760" cy="1066680"/>
          </a:xfrm>
        </p:grpSpPr>
        <p:sp>
          <p:nvSpPr>
            <p:cNvPr id="499" name=""/>
            <p:cNvSpPr/>
            <p:nvPr/>
          </p:nvSpPr>
          <p:spPr>
            <a:xfrm>
              <a:off x="4572000" y="4686480"/>
              <a:ext cx="2305080" cy="10094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324320" y="4686480"/>
              <a:ext cx="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4595040" y="4703760"/>
              <a:ext cx="2180520" cy="954000"/>
              <a:chOff x="4595040" y="4703760"/>
              <a:chExt cx="2180520" cy="954000"/>
            </a:xfrm>
          </p:grpSpPr>
          <p:pic>
            <p:nvPicPr>
              <p:cNvPr id="50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692600" y="5048280"/>
                <a:ext cx="208296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>
                <a:off x="4595040" y="4703760"/>
                <a:ext cx="204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 N - q é gran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3092400" y="5823000"/>
            <a:ext cx="2730600" cy="660240"/>
            <a:chOff x="3092400" y="5823000"/>
            <a:chExt cx="2730600" cy="660240"/>
          </a:xfrm>
        </p:grpSpPr>
        <p:pic>
          <p:nvPicPr>
            <p:cNvPr id="505" name="" descr=""/>
            <p:cNvPicPr/>
            <p:nvPr/>
          </p:nvPicPr>
          <p:blipFill>
            <a:blip r:embed="rId6"/>
            <a:stretch/>
          </p:blipFill>
          <p:spPr>
            <a:xfrm>
              <a:off x="3092400" y="5823000"/>
              <a:ext cx="273060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 flipV="1">
              <a:off x="4334040" y="6200640"/>
              <a:ext cx="250560" cy="254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968720" y="6200640"/>
              <a:ext cx="250920" cy="254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929320" y="641520"/>
            <a:ext cx="32821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leção da Ord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06680" y="1427040"/>
            <a:ext cx="70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p =1,     (p) possui valor crítico de 4 para significância 9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1943280" y="1403280"/>
            <a:ext cx="266400" cy="35568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705960" y="199872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anto,              é rejeitado 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959120" y="2057400"/>
            <a:ext cx="634680" cy="34308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3059280" y="2489040"/>
            <a:ext cx="2185920" cy="69876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5924520" y="2057400"/>
            <a:ext cx="362160" cy="1104840"/>
          </a:xfrm>
          <a:custGeom>
            <a:avLst/>
            <a:gdLst>
              <a:gd name="textAreaLeft" fmla="*/ 0 w 362160"/>
              <a:gd name="textAreaRight" fmla="*/ 130680 w 362160"/>
              <a:gd name="textAreaTop" fmla="*/ 28800 h 1104840"/>
              <a:gd name="textAreaBottom" fmla="*/ 1076040 h 11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6496200" y="2279520"/>
            <a:ext cx="2095200" cy="698760"/>
          </a:xfrm>
          <a:prstGeom prst="rect">
            <a:avLst/>
          </a:prstGeom>
          <a:ln w="0">
            <a:noFill/>
          </a:ln>
        </p:spPr>
      </p:pic>
      <p:grpSp>
        <p:nvGrpSpPr>
          <p:cNvPr id="520" name=""/>
          <p:cNvGrpSpPr/>
          <p:nvPr/>
        </p:nvGrpSpPr>
        <p:grpSpPr>
          <a:xfrm>
            <a:off x="979920" y="3408480"/>
            <a:ext cx="7021080" cy="2516040"/>
            <a:chOff x="979920" y="3408480"/>
            <a:chExt cx="7021080" cy="2516040"/>
          </a:xfrm>
        </p:grpSpPr>
        <p:grpSp>
          <p:nvGrpSpPr>
            <p:cNvPr id="521" name=""/>
            <p:cNvGrpSpPr/>
            <p:nvPr/>
          </p:nvGrpSpPr>
          <p:grpSpPr>
            <a:xfrm>
              <a:off x="1181160" y="3638520"/>
              <a:ext cx="3352680" cy="2286000"/>
              <a:chOff x="1181160" y="3638520"/>
              <a:chExt cx="3352680" cy="2286000"/>
            </a:xfrm>
          </p:grpSpPr>
          <p:sp>
            <p:nvSpPr>
              <p:cNvPr id="522" name=""/>
              <p:cNvSpPr/>
              <p:nvPr/>
            </p:nvSpPr>
            <p:spPr>
              <a:xfrm flipV="1">
                <a:off x="1428840" y="3638520"/>
                <a:ext cx="0" cy="228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181160" y="5753160"/>
                <a:ext cx="3352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1928880" y="5643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43320" y="5643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76480" y="5643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90920" y="5643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79920" y="3408480"/>
              <a:ext cx="38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48440" y="527544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1930320" y="4133520"/>
              <a:ext cx="0" cy="1606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873080" y="4064040"/>
              <a:ext cx="1144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2444760" y="4749840"/>
              <a:ext cx="0" cy="984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87520" y="4680000"/>
              <a:ext cx="1144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2978280" y="5060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21040" y="4991040"/>
              <a:ext cx="114120" cy="1144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3492360" y="5187600"/>
              <a:ext cx="0" cy="552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35480" y="5137200"/>
              <a:ext cx="114120" cy="114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5010120" y="4038480"/>
              <a:ext cx="2990880" cy="1409760"/>
              <a:chOff x="5010120" y="4038480"/>
              <a:chExt cx="2990880" cy="1409760"/>
            </a:xfrm>
          </p:grpSpPr>
          <p:sp>
            <p:nvSpPr>
              <p:cNvPr id="539" name=""/>
              <p:cNvSpPr/>
              <p:nvPr/>
            </p:nvSpPr>
            <p:spPr>
              <a:xfrm>
                <a:off x="5010120" y="4038480"/>
                <a:ext cx="2990880" cy="1409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0" name=""/>
              <p:cNvGrpSpPr/>
              <p:nvPr/>
            </p:nvGrpSpPr>
            <p:grpSpPr>
              <a:xfrm>
                <a:off x="5110200" y="4159080"/>
                <a:ext cx="2751120" cy="1236600"/>
                <a:chOff x="5110200" y="4159080"/>
                <a:chExt cx="2751120" cy="1236600"/>
              </a:xfrm>
            </p:grpSpPr>
            <p:pic>
              <p:nvPicPr>
                <p:cNvPr id="54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740200" y="4159080"/>
                  <a:ext cx="2121120" cy="67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5110200" y="4322520"/>
                  <a:ext cx="459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128920" y="5027400"/>
                  <a:ext cx="21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Então a ordem é 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81080" y="2209680"/>
            <a:ext cx="6324840" cy="266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5760" y="473040"/>
            <a:ext cx="277776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gram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0720" y="106992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6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90800" y="1069920"/>
            <a:ext cx="550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Simulação de Sist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abilidades e Processos Estocás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o Efeito de Ruído em Sistemas Line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9800" y="21747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7 set 02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09520" y="2174760"/>
            <a:ext cx="580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. (T)  Estimação Pontual, LSE, Cramér-Ra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LSE Batelada + Identificação Não-Param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stimação Recursiva, Regiões de Confiança, Or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Identificação Recur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6800" y="329868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8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37960" y="3298680"/>
            <a:ext cx="539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Filtragem. Projeção Ortogonal. Filtro de Kal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Filtro de Kalman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Filtro de Kalman Estendido. Diverg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e Métodos de Combate à Diverg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6800" y="44226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9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35440" y="4422600"/>
            <a:ext cx="575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Ótimo. Problema L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Realimentação Ótima de Es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lema LQG. Separação e Equivalência à Cert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Simulação de Malha Fechada LQ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5880" y="55404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0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6320" y="5540400"/>
            <a:ext cx="570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Adaptativo.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xame: Parte Teó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xame: Parte Pr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2000160" y="2952720"/>
            <a:ext cx="6324840" cy="266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45760" y="473040"/>
            <a:ext cx="277776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gram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20720" y="106992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6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990800" y="1069920"/>
            <a:ext cx="550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Simulação de Sist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abilidades e Processos Estocás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o Efeito de Ruído em Sistemas Line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9800" y="21747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7 set 02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09520" y="2174760"/>
            <a:ext cx="580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Estimação Pontual, LSE, Cramér-Ra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LSE Batelada + Identificação Não-Param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stimação Recursiva, Regiões de Confiança, Or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4. (P)  Identificação Recur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66800" y="329868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8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037960" y="3298680"/>
            <a:ext cx="539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Filtragem. Projeção Ortogonal. Filtro de Kal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Filtro de Kalman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Filtro de Kalman Estendido. Diverg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e Métodos de Combate à Diverg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66800" y="44226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9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35440" y="4422600"/>
            <a:ext cx="575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Ótimo. Problema L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Realimentação Ótima de Es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lema LQG. Separação e Equivalência à Cert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Simulação de Malha Fechada LQ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85880" y="55404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0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056320" y="5540400"/>
            <a:ext cx="570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Adaptativo.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xame: Parte Teó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xame: Parte Pr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805760" y="1131840"/>
            <a:ext cx="55605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ática: Identificação Recur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98160" y="3218040"/>
            <a:ext cx="677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mplementar o Método dos Mínimos Quadrados Recurs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studar o método para escolha da ordem do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63000" y="522360"/>
            <a:ext cx="55605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ática: Identificação Recur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987480" y="1179360"/>
            <a:ext cx="7284960" cy="544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863000" y="522360"/>
            <a:ext cx="55605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ática: Identificação Recur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184400" y="1433520"/>
            <a:ext cx="6713280" cy="5022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18280" y="2813040"/>
            <a:ext cx="3928320" cy="131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uito Obrig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ela Aten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41280" y="143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44760" y="541440"/>
            <a:ext cx="23554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entif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776680" y="2625840"/>
            <a:ext cx="3587760" cy="3487680"/>
            <a:chOff x="2776680" y="2625840"/>
            <a:chExt cx="3587760" cy="3487680"/>
          </a:xfrm>
        </p:grpSpPr>
        <p:sp>
          <p:nvSpPr>
            <p:cNvPr id="73" name=""/>
            <p:cNvSpPr/>
            <p:nvPr/>
          </p:nvSpPr>
          <p:spPr>
            <a:xfrm>
              <a:off x="3581280" y="4610160"/>
              <a:ext cx="1981440" cy="7621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17720" y="2666880"/>
              <a:ext cx="0" cy="232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17720" y="4991040"/>
              <a:ext cx="76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98280" y="4762440"/>
              <a:ext cx="17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dentific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5562360" y="4991040"/>
              <a:ext cx="76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26280" y="2666880"/>
              <a:ext cx="0" cy="232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0" y="5372280"/>
              <a:ext cx="0" cy="55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76680" y="26258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88120" y="2627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4803840" y="5745240"/>
              <a:ext cx="147312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"/>
          <p:cNvSpPr/>
          <p:nvPr/>
        </p:nvSpPr>
        <p:spPr>
          <a:xfrm>
            <a:off x="3581280" y="2019240"/>
            <a:ext cx="1981440" cy="12956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99000" y="2144880"/>
            <a:ext cx="17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ci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he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26668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2666880"/>
            <a:ext cx="1276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347920" y="2286000"/>
            <a:ext cx="46980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172200" y="2286000"/>
            <a:ext cx="482760" cy="304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124160" y="1467000"/>
            <a:ext cx="0" cy="55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581280" y="3467160"/>
            <a:ext cx="215928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581280" y="3772080"/>
            <a:ext cx="1600200" cy="304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4194000" y="1289160"/>
            <a:ext cx="152640" cy="228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5111640" y="1246320"/>
            <a:ext cx="507960" cy="30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997520" y="1467000"/>
            <a:ext cx="0" cy="55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64880" y="612720"/>
            <a:ext cx="33598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stimação Pon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4960" y="17208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d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57480" y="1704960"/>
            <a:ext cx="1733400" cy="406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52800" y="2141640"/>
            <a:ext cx="2552400" cy="304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19360" y="2654280"/>
            <a:ext cx="64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ter:         um estimador g, tal que g( y ) se aproxime 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142040" y="2706840"/>
            <a:ext cx="279360" cy="304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7560" y="125100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Estimad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830160" y="3322800"/>
            <a:ext cx="7375680" cy="3068280"/>
            <a:chOff x="830160" y="3322800"/>
            <a:chExt cx="7375680" cy="3068280"/>
          </a:xfrm>
        </p:grpSpPr>
        <p:sp>
          <p:nvSpPr>
            <p:cNvPr id="107" name=""/>
            <p:cNvSpPr/>
            <p:nvPr/>
          </p:nvSpPr>
          <p:spPr>
            <a:xfrm>
              <a:off x="1168560" y="5743440"/>
              <a:ext cx="4919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398600" y="3881520"/>
              <a:ext cx="0" cy="209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1622520" y="4586400"/>
              <a:ext cx="2747520" cy="1127160"/>
              <a:chOff x="1622520" y="4586400"/>
              <a:chExt cx="2747520" cy="1127160"/>
            </a:xfrm>
          </p:grpSpPr>
          <p:sp>
            <p:nvSpPr>
              <p:cNvPr id="110" name=""/>
              <p:cNvSpPr/>
              <p:nvPr/>
            </p:nvSpPr>
            <p:spPr>
              <a:xfrm>
                <a:off x="2987640" y="4586400"/>
                <a:ext cx="1382400" cy="1125360"/>
              </a:xfrm>
              <a:custGeom>
                <a:avLst/>
                <a:gdLst/>
                <a:ahLst/>
                <a:rect l="l" t="t" r="r" b="b"/>
                <a:pathLst>
                  <a:path w="871" h="709">
                    <a:moveTo>
                      <a:pt x="871" y="700"/>
                    </a:moveTo>
                    <a:cubicBezTo>
                      <a:pt x="804" y="701"/>
                      <a:pt x="625" y="709"/>
                      <a:pt x="516" y="609"/>
                    </a:cubicBezTo>
                    <a:cubicBezTo>
                      <a:pt x="407" y="509"/>
                      <a:pt x="306" y="202"/>
                      <a:pt x="220" y="101"/>
                    </a:cubicBezTo>
                    <a:cubicBezTo>
                      <a:pt x="134" y="0"/>
                      <a:pt x="76" y="3"/>
                      <a:pt x="0" y="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1622520" y="4587840"/>
                <a:ext cx="1382400" cy="1125720"/>
              </a:xfrm>
              <a:custGeom>
                <a:avLst/>
                <a:gdLst/>
                <a:ahLst/>
                <a:rect l="l" t="t" r="r" b="b"/>
                <a:pathLst>
                  <a:path w="871" h="709">
                    <a:moveTo>
                      <a:pt x="871" y="700"/>
                    </a:moveTo>
                    <a:cubicBezTo>
                      <a:pt x="804" y="701"/>
                      <a:pt x="625" y="709"/>
                      <a:pt x="516" y="609"/>
                    </a:cubicBezTo>
                    <a:cubicBezTo>
                      <a:pt x="407" y="509"/>
                      <a:pt x="306" y="202"/>
                      <a:pt x="220" y="101"/>
                    </a:cubicBezTo>
                    <a:cubicBezTo>
                      <a:pt x="134" y="0"/>
                      <a:pt x="76" y="3"/>
                      <a:pt x="0" y="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495520" y="4586400"/>
              <a:ext cx="2747520" cy="1127160"/>
              <a:chOff x="2495520" y="4586400"/>
              <a:chExt cx="2747520" cy="1127160"/>
            </a:xfrm>
          </p:grpSpPr>
          <p:sp>
            <p:nvSpPr>
              <p:cNvPr id="113" name=""/>
              <p:cNvSpPr/>
              <p:nvPr/>
            </p:nvSpPr>
            <p:spPr>
              <a:xfrm>
                <a:off x="3860640" y="4586400"/>
                <a:ext cx="1382400" cy="1125360"/>
              </a:xfrm>
              <a:custGeom>
                <a:avLst/>
                <a:gdLst/>
                <a:ahLst/>
                <a:rect l="l" t="t" r="r" b="b"/>
                <a:pathLst>
                  <a:path w="871" h="709">
                    <a:moveTo>
                      <a:pt x="871" y="700"/>
                    </a:moveTo>
                    <a:cubicBezTo>
                      <a:pt x="804" y="701"/>
                      <a:pt x="625" y="709"/>
                      <a:pt x="516" y="609"/>
                    </a:cubicBezTo>
                    <a:cubicBezTo>
                      <a:pt x="407" y="509"/>
                      <a:pt x="306" y="202"/>
                      <a:pt x="220" y="101"/>
                    </a:cubicBezTo>
                    <a:cubicBezTo>
                      <a:pt x="134" y="0"/>
                      <a:pt x="76" y="3"/>
                      <a:pt x="0" y="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2495520" y="4587840"/>
                <a:ext cx="1382400" cy="1125720"/>
              </a:xfrm>
              <a:custGeom>
                <a:avLst/>
                <a:gdLst/>
                <a:ahLst/>
                <a:rect l="l" t="t" r="r" b="b"/>
                <a:pathLst>
                  <a:path w="871" h="709">
                    <a:moveTo>
                      <a:pt x="871" y="700"/>
                    </a:moveTo>
                    <a:cubicBezTo>
                      <a:pt x="804" y="701"/>
                      <a:pt x="625" y="709"/>
                      <a:pt x="516" y="609"/>
                    </a:cubicBezTo>
                    <a:cubicBezTo>
                      <a:pt x="407" y="509"/>
                      <a:pt x="306" y="202"/>
                      <a:pt x="220" y="101"/>
                    </a:cubicBezTo>
                    <a:cubicBezTo>
                      <a:pt x="134" y="0"/>
                      <a:pt x="76" y="3"/>
                      <a:pt x="0" y="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1747800" y="4373640"/>
              <a:ext cx="91440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5"/>
            <a:stretch/>
          </p:blipFill>
          <p:spPr>
            <a:xfrm>
              <a:off x="4338720" y="4344840"/>
              <a:ext cx="9270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6"/>
            <a:stretch/>
          </p:blipFill>
          <p:spPr>
            <a:xfrm>
              <a:off x="5934240" y="5410080"/>
              <a:ext cx="16488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678120" y="4459320"/>
              <a:ext cx="0" cy="1530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30880" y="6022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678120" y="575604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41760" y="5356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38520" y="45864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0160" y="3322800"/>
              <a:ext cx="12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Exemplo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40160" y="3949560"/>
              <a:ext cx="0" cy="1862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00840" y="5764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7"/>
            <a:stretch/>
          </p:blipFill>
          <p:spPr>
            <a:xfrm>
              <a:off x="6338880" y="4513320"/>
              <a:ext cx="1866960" cy="673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2705040" y="5353200"/>
            <a:ext cx="5334120" cy="1257120"/>
            <a:chOff x="2705040" y="5353200"/>
            <a:chExt cx="5334120" cy="1257120"/>
          </a:xfrm>
        </p:grpSpPr>
        <p:sp>
          <p:nvSpPr>
            <p:cNvPr id="128" name=""/>
            <p:cNvSpPr/>
            <p:nvPr/>
          </p:nvSpPr>
          <p:spPr>
            <a:xfrm>
              <a:off x="2705040" y="6114960"/>
              <a:ext cx="2076480" cy="49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77080" y="5353200"/>
              <a:ext cx="1162080" cy="704880"/>
            </a:xfrm>
            <a:prstGeom prst="wedgeRectCallout">
              <a:avLst>
                <a:gd name="adj1" fmla="val -230055"/>
                <a:gd name="adj2" fmla="val 90541"/>
              </a:avLst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66680" y="641520"/>
            <a:ext cx="33598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stimação Pon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6840" y="1220760"/>
            <a:ext cx="34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 Estimador Não-Polarizad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08200" y="1774800"/>
            <a:ext cx="3124440" cy="36828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782640" y="2370240"/>
            <a:ext cx="5908680" cy="4128840"/>
            <a:chOff x="782640" y="2370240"/>
            <a:chExt cx="5908680" cy="4128840"/>
          </a:xfrm>
        </p:grpSpPr>
        <p:sp>
          <p:nvSpPr>
            <p:cNvPr id="138" name=""/>
            <p:cNvSpPr/>
            <p:nvPr/>
          </p:nvSpPr>
          <p:spPr>
            <a:xfrm>
              <a:off x="782640" y="2370240"/>
              <a:ext cx="180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Exemplo: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ja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2556000" y="2424240"/>
                  <a:ext cx="10285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Aθ</m:t>
                          </m:r>
                          <m:r>
                            <m:t xml:space="preserve">+</m:t>
                          </m:r>
                          <m:r>
                            <m:t xml:space="preserve">e</m:t>
                          </m:r>
                        </m:e>
                        <m:e>
                          <m:r>
                            <m:t xml:space="preserve">e</m:t>
                          </m:r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40" name=""/>
            <p:cNvGrpSpPr/>
            <p:nvPr/>
          </p:nvGrpSpPr>
          <p:grpSpPr>
            <a:xfrm>
              <a:off x="1901880" y="3089160"/>
              <a:ext cx="4789440" cy="482760"/>
              <a:chOff x="1901880" y="3089160"/>
              <a:chExt cx="4789440" cy="482760"/>
            </a:xfrm>
          </p:grpSpPr>
          <p:pic>
            <p:nvPicPr>
              <p:cNvPr id="14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652840" y="3089160"/>
                <a:ext cx="4038480" cy="48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1901880" y="3143160"/>
                <a:ext cx="79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b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2859120" y="3692520"/>
              <a:ext cx="3137040" cy="2806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66680" y="641520"/>
            <a:ext cx="33598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stimação Pon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311560" y="1523880"/>
            <a:ext cx="4406760" cy="240048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720000" y="4211640"/>
            <a:ext cx="7619760" cy="1763640"/>
            <a:chOff x="720000" y="4211640"/>
            <a:chExt cx="7619760" cy="1763640"/>
          </a:xfrm>
        </p:grpSpPr>
        <p:sp>
          <p:nvSpPr>
            <p:cNvPr id="151" name=""/>
            <p:cNvSpPr/>
            <p:nvPr/>
          </p:nvSpPr>
          <p:spPr>
            <a:xfrm>
              <a:off x="720000" y="4211640"/>
              <a:ext cx="349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3. Teorema de Gauss-Markov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1440" y="4703760"/>
              <a:ext cx="707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SE é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ótim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na classe de estimadores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linear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não-polariz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2495520" y="5645160"/>
              <a:ext cx="4533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 flipH="1">
              <a:off x="3029040" y="5029200"/>
              <a:ext cx="2876400" cy="628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591080" y="5029200"/>
              <a:ext cx="2610000" cy="59040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5029200"/>
              <a:ext cx="3390840" cy="5904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210360" y="1295280"/>
            <a:ext cx="762120" cy="60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66680" y="641520"/>
            <a:ext cx="33598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stimação Pon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362320" y="1397160"/>
            <a:ext cx="4533840" cy="3301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2076480" y="2222640"/>
            <a:ext cx="4870440" cy="4051080"/>
            <a:chOff x="2076480" y="2222640"/>
            <a:chExt cx="4870440" cy="4051080"/>
          </a:xfrm>
        </p:grpSpPr>
        <p:sp>
          <p:nvSpPr>
            <p:cNvPr id="165" name=""/>
            <p:cNvSpPr/>
            <p:nvPr/>
          </p:nvSpPr>
          <p:spPr>
            <a:xfrm>
              <a:off x="2076480" y="4229280"/>
              <a:ext cx="762120" cy="609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2158920" y="2222640"/>
              <a:ext cx="4788000" cy="4051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15040" y="1276200"/>
            <a:ext cx="761760" cy="60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66680" y="641520"/>
            <a:ext cx="33598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stimação Pon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362320" y="1397160"/>
            <a:ext cx="4533840" cy="33012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2629080" y="2133720"/>
            <a:ext cx="3898800" cy="3581280"/>
            <a:chOff x="2629080" y="2133720"/>
            <a:chExt cx="3898800" cy="3581280"/>
          </a:xfrm>
        </p:grpSpPr>
        <p:sp>
          <p:nvSpPr>
            <p:cNvPr id="175" name=""/>
            <p:cNvSpPr/>
            <p:nvPr/>
          </p:nvSpPr>
          <p:spPr>
            <a:xfrm>
              <a:off x="2629080" y="3619440"/>
              <a:ext cx="761760" cy="6098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2692440" y="2133720"/>
              <a:ext cx="3835440" cy="358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2:52:48Z</dcterms:created>
  <dc:creator>Takashi Yoneyama</dc:creator>
  <dc:description/>
  <dc:language>en-US</dc:language>
  <cp:lastModifiedBy>Takashi Yoneyama</cp:lastModifiedBy>
  <dcterms:modified xsi:type="dcterms:W3CDTF">2002-09-12T12:46:10Z</dcterms:modified>
  <cp:revision>43</cp:revision>
  <dc:subject/>
  <dc:title>No Slide Title</dc:title>
</cp:coreProperties>
</file>