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2.wmf" ContentType="image/x-wmf"/>
  <Override PartName="/ppt/media/image59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4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23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651-1F8B-4A1A-96EE-F0ABE92A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8E6-27AE-44E2-A667-16B72629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D41-E8DA-4373-B1BC-C8AB1035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8E8-4879-49B8-8363-CBF2F718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42C-160C-4614-9165-09E53CA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A32-0047-4D30-9BF9-6DA0C46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730-0CA4-41AA-915C-9746683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D1F-C2F8-440B-8322-92A4565F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8A0-0609-47B9-B239-CC880743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567-1F8C-4D6A-8585-429CF0D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84B-F900-42F6-A445-7848378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4FA-44CE-4566-AD17-89F41351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242-3D6A-413A-B2FE-D7386292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4.wmf"/><Relationship Id="rId5" Type="http://schemas.openxmlformats.org/officeDocument/2006/relationships/image" Target="../media/image32.wmf"/><Relationship Id="rId6" Type="http://schemas.openxmlformats.org/officeDocument/2006/relationships/image" Target="../media/image34.wmf"/><Relationship Id="rId7" Type="http://schemas.openxmlformats.org/officeDocument/2006/relationships/image" Target="../media/image40.wmf"/><Relationship Id="rId8" Type="http://schemas.openxmlformats.org/officeDocument/2006/relationships/image" Target="../media/image34.wmf"/><Relationship Id="rId9" Type="http://schemas.openxmlformats.org/officeDocument/2006/relationships/image" Target="../media/image34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2.wmf"/><Relationship Id="rId5" Type="http://schemas.openxmlformats.org/officeDocument/2006/relationships/image" Target="../media/image39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39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46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3160" y="473040"/>
            <a:ext cx="42667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9040" y="1460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Fórmula de Recursão para Projeções Ortog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5600" y="2222640"/>
            <a:ext cx="657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nha que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. ,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jam dados seqüencialmente e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68760" y="2876400"/>
            <a:ext cx="334008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67320" y="368928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blem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l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00400" y="4286160"/>
            <a:ext cx="2171880" cy="3049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986040" y="4965840"/>
            <a:ext cx="4557600" cy="1035000"/>
            <a:chOff x="986040" y="4965840"/>
            <a:chExt cx="4557600" cy="1035000"/>
          </a:xfrm>
        </p:grpSpPr>
        <p:sp>
          <p:nvSpPr>
            <p:cNvPr id="185" name=""/>
            <p:cNvSpPr/>
            <p:nvPr/>
          </p:nvSpPr>
          <p:spPr>
            <a:xfrm>
              <a:off x="3105000" y="5619600"/>
              <a:ext cx="2438640" cy="38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986040" y="4965840"/>
              <a:ext cx="4468680" cy="996840"/>
              <a:chOff x="986040" y="4965840"/>
              <a:chExt cx="4468680" cy="996840"/>
            </a:xfrm>
          </p:grpSpPr>
          <p:sp>
            <p:nvSpPr>
              <p:cNvPr id="187" name=""/>
              <p:cNvSpPr/>
              <p:nvPr/>
            </p:nvSpPr>
            <p:spPr>
              <a:xfrm>
                <a:off x="986040" y="4965840"/>
                <a:ext cx="12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Propost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93920" y="5657760"/>
                <a:ext cx="226080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3160" y="473040"/>
            <a:ext cx="42667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17600" y="1312920"/>
            <a:ext cx="255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span {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. 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57520" y="1312920"/>
            <a:ext cx="256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subespaço de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56680" y="4714920"/>
            <a:ext cx="4920120" cy="1876320"/>
            <a:chOff x="1156680" y="4714920"/>
            <a:chExt cx="4920120" cy="1876320"/>
          </a:xfrm>
        </p:grpSpPr>
        <p:sp>
          <p:nvSpPr>
            <p:cNvPr id="197" name=""/>
            <p:cNvSpPr/>
            <p:nvPr/>
          </p:nvSpPr>
          <p:spPr>
            <a:xfrm>
              <a:off x="1156680" y="4714920"/>
              <a:ext cx="293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a um z genérico em L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06360" y="5218200"/>
              <a:ext cx="119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 = 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3686040" y="5997600"/>
              <a:ext cx="628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5095800" y="5977080"/>
              <a:ext cx="9810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flipH="1">
              <a:off x="4101840" y="5587920"/>
              <a:ext cx="331560" cy="374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9520" y="5595840"/>
              <a:ext cx="331920" cy="374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5286240" y="6286680"/>
              <a:ext cx="6667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2170080" y="1752480"/>
            <a:ext cx="5925960" cy="2801520"/>
            <a:chOff x="2170080" y="1752480"/>
            <a:chExt cx="5925960" cy="2801520"/>
          </a:xfrm>
        </p:grpSpPr>
        <p:grpSp>
          <p:nvGrpSpPr>
            <p:cNvPr id="205" name=""/>
            <p:cNvGrpSpPr/>
            <p:nvPr/>
          </p:nvGrpSpPr>
          <p:grpSpPr>
            <a:xfrm>
              <a:off x="3448080" y="1752480"/>
              <a:ext cx="1923840" cy="1181160"/>
              <a:chOff x="3448080" y="1752480"/>
              <a:chExt cx="1923840" cy="1181160"/>
            </a:xfrm>
          </p:grpSpPr>
          <p:sp>
            <p:nvSpPr>
              <p:cNvPr id="206" name=""/>
              <p:cNvSpPr/>
              <p:nvPr/>
            </p:nvSpPr>
            <p:spPr>
              <a:xfrm>
                <a:off x="3448080" y="1771560"/>
                <a:ext cx="971640" cy="41904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4400280" y="1752480"/>
                <a:ext cx="971640" cy="41904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00640" y="2171520"/>
                <a:ext cx="0" cy="762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665600" y="2360520"/>
              <a:ext cx="3430440" cy="405720"/>
              <a:chOff x="4665600" y="2360520"/>
              <a:chExt cx="3430440" cy="405720"/>
            </a:xfrm>
          </p:grpSpPr>
          <p:sp>
            <p:nvSpPr>
              <p:cNvPr id="210" name=""/>
              <p:cNvSpPr/>
              <p:nvPr/>
            </p:nvSpPr>
            <p:spPr>
              <a:xfrm>
                <a:off x="5528880" y="2360520"/>
                <a:ext cx="2567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projetado sobre L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k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65600" y="2406600"/>
                <a:ext cx="876240" cy="34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2170080" y="3032280"/>
              <a:ext cx="4913280" cy="1521720"/>
              <a:chOff x="2170080" y="3032280"/>
              <a:chExt cx="4913280" cy="15217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170080" y="3032280"/>
                <a:ext cx="4913280" cy="1521720"/>
                <a:chOff x="2170080" y="3032280"/>
                <a:chExt cx="4913280" cy="15217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170080" y="3390840"/>
                  <a:ext cx="3595680" cy="111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572080" y="4148280"/>
                  <a:ext cx="511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k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065400" y="3429000"/>
                  <a:ext cx="2057400" cy="247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084480" y="3676680"/>
                  <a:ext cx="1781280" cy="5428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856040" y="3429000"/>
                  <a:ext cx="247680" cy="790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528800" y="303228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98960" y="4137120"/>
                  <a:ext cx="62208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140440" y="3619440"/>
                  <a:ext cx="194292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2" name=""/>
              <p:cNvSpPr/>
              <p:nvPr/>
            </p:nvSpPr>
            <p:spPr>
              <a:xfrm>
                <a:off x="4943520" y="4000680"/>
                <a:ext cx="22860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108400" y="4067280"/>
                <a:ext cx="66960" cy="23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97440" y="38941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3160" y="473040"/>
            <a:ext cx="42667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0200" y="1407960"/>
            <a:ext cx="119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= 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39880" y="2187720"/>
            <a:ext cx="628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1255680" y="1778040"/>
            <a:ext cx="331920" cy="3747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1785960"/>
            <a:ext cx="331920" cy="3747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81320" y="1293840"/>
            <a:ext cx="4465080" cy="501120"/>
            <a:chOff x="3181320" y="1293840"/>
            <a:chExt cx="4465080" cy="501120"/>
          </a:xfrm>
        </p:grpSpPr>
        <p:grpSp>
          <p:nvGrpSpPr>
            <p:cNvPr id="235" name=""/>
            <p:cNvGrpSpPr/>
            <p:nvPr/>
          </p:nvGrpSpPr>
          <p:grpSpPr>
            <a:xfrm>
              <a:off x="3207600" y="1293840"/>
              <a:ext cx="2620080" cy="368280"/>
              <a:chOff x="3207600" y="1293840"/>
              <a:chExt cx="2620080" cy="368280"/>
            </a:xfrm>
          </p:grpSpPr>
          <p:sp>
            <p:nvSpPr>
              <p:cNvPr id="236" name=""/>
              <p:cNvSpPr/>
              <p:nvPr/>
            </p:nvSpPr>
            <p:spPr>
              <a:xfrm>
                <a:off x="3207600" y="1293840"/>
                <a:ext cx="246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m particular, se z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60920" y="1347840"/>
                <a:ext cx="2667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"/>
            <p:cNvSpPr/>
            <p:nvPr/>
          </p:nvSpPr>
          <p:spPr>
            <a:xfrm>
              <a:off x="3181320" y="1790640"/>
              <a:ext cx="283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353280" y="1389240"/>
              <a:ext cx="1293120" cy="405720"/>
              <a:chOff x="6353280" y="1389240"/>
              <a:chExt cx="1293120" cy="40572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53280" y="1438200"/>
                <a:ext cx="2667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374520" y="1389240"/>
                <a:ext cx="1271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z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+ z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200320" y="2209680"/>
            <a:ext cx="6667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499680" y="2874960"/>
            <a:ext cx="4462920" cy="1087560"/>
            <a:chOff x="499680" y="2874960"/>
            <a:chExt cx="4462920" cy="108756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2325600" y="3654360"/>
              <a:ext cx="628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flipH="1">
              <a:off x="2741400" y="3244680"/>
              <a:ext cx="331560" cy="374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19480" y="3233880"/>
              <a:ext cx="331920" cy="37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4295880" y="3657600"/>
              <a:ext cx="666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9680" y="287496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nt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7"/>
            <a:stretch/>
          </p:blipFill>
          <p:spPr>
            <a:xfrm>
              <a:off x="1714680" y="291456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flipH="1">
              <a:off x="3555720" y="3233880"/>
              <a:ext cx="11160" cy="412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8"/>
            <a:stretch/>
          </p:blipFill>
          <p:spPr>
            <a:xfrm>
              <a:off x="3343320" y="3657600"/>
              <a:ext cx="6667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"/>
          <p:cNvGrpSpPr/>
          <p:nvPr/>
        </p:nvGrpSpPr>
        <p:grpSpPr>
          <a:xfrm>
            <a:off x="3314880" y="4019400"/>
            <a:ext cx="1771560" cy="723960"/>
            <a:chOff x="3314880" y="4019400"/>
            <a:chExt cx="1771560" cy="723960"/>
          </a:xfrm>
        </p:grpSpPr>
        <p:sp>
          <p:nvSpPr>
            <p:cNvPr id="253" name=""/>
            <p:cNvSpPr/>
            <p:nvPr/>
          </p:nvSpPr>
          <p:spPr>
            <a:xfrm rot="16200000">
              <a:off x="4019400" y="3314520"/>
              <a:ext cx="362160" cy="1771560"/>
            </a:xfrm>
            <a:custGeom>
              <a:avLst/>
              <a:gdLst>
                <a:gd name="textAreaLeft" fmla="*/ 231480 w 362160"/>
                <a:gd name="textAreaRight" fmla="*/ 362160 w 362160"/>
                <a:gd name="textAreaTop" fmla="*/ 46080 h 1771560"/>
                <a:gd name="textAreaBottom" fmla="*/ 1725480 h 177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3914640" y="4438800"/>
              <a:ext cx="6667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2152800" y="4896000"/>
            <a:ext cx="3124080" cy="1123920"/>
            <a:chOff x="2152800" y="4896000"/>
            <a:chExt cx="3124080" cy="1123920"/>
          </a:xfrm>
        </p:grpSpPr>
        <p:sp>
          <p:nvSpPr>
            <p:cNvPr id="256" name=""/>
            <p:cNvSpPr/>
            <p:nvPr/>
          </p:nvSpPr>
          <p:spPr>
            <a:xfrm rot="16200000">
              <a:off x="3543480" y="3505320"/>
              <a:ext cx="342720" cy="312408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81360 h 3124080"/>
                <a:gd name="textAreaBottom" fmla="*/ 304272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3057480" y="5372280"/>
              <a:ext cx="1505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1"/>
            <a:stretch/>
          </p:blipFill>
          <p:spPr>
            <a:xfrm>
              <a:off x="3352680" y="5715000"/>
              <a:ext cx="91440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5334120" y="2819520"/>
            <a:ext cx="3591720" cy="3540240"/>
            <a:chOff x="5334120" y="2819520"/>
            <a:chExt cx="3591720" cy="3540240"/>
          </a:xfrm>
        </p:grpSpPr>
        <p:sp>
          <p:nvSpPr>
            <p:cNvPr id="260" name=""/>
            <p:cNvSpPr/>
            <p:nvPr/>
          </p:nvSpPr>
          <p:spPr>
            <a:xfrm rot="1165200">
              <a:off x="5552640" y="4033800"/>
              <a:ext cx="3154320" cy="1854360"/>
            </a:xfrm>
            <a:prstGeom prst="parallelogram">
              <a:avLst>
                <a:gd name="adj" fmla="val 5152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72200" y="4648320"/>
              <a:ext cx="1409760" cy="100944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19880" y="4800600"/>
              <a:ext cx="72396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143840" y="4914720"/>
              <a:ext cx="68580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38960" y="4800600"/>
              <a:ext cx="1371600" cy="11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829640" y="2895480"/>
              <a:ext cx="0" cy="2019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438960" y="2819520"/>
              <a:ext cx="1390680" cy="200016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96600" y="3294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06280" y="49705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20680" y="50655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2"/>
            <a:stretch/>
          </p:blipFill>
          <p:spPr>
            <a:xfrm>
              <a:off x="6962760" y="4514760"/>
              <a:ext cx="628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3"/>
            <a:stretch/>
          </p:blipFill>
          <p:spPr>
            <a:xfrm>
              <a:off x="7943760" y="3695760"/>
              <a:ext cx="2667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086600" y="5465880"/>
              <a:ext cx="51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993300"/>
                  </a:solidFill>
                  <a:latin typeface="Arial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39680" y="44942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896000" y="4915080"/>
            <a:ext cx="2533680" cy="1485720"/>
            <a:chOff x="4896000" y="4915080"/>
            <a:chExt cx="2533680" cy="1485720"/>
          </a:xfrm>
        </p:grpSpPr>
        <p:sp>
          <p:nvSpPr>
            <p:cNvPr id="275" name=""/>
            <p:cNvSpPr/>
            <p:nvPr/>
          </p:nvSpPr>
          <p:spPr>
            <a:xfrm>
              <a:off x="4896000" y="6019920"/>
              <a:ext cx="1371600" cy="38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4915080"/>
              <a:ext cx="1638360" cy="590400"/>
            </a:xfrm>
            <a:prstGeom prst="wedgeRectCallout">
              <a:avLst>
                <a:gd name="adj1" fmla="val -54361"/>
                <a:gd name="adj2" fmla="val 159138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ova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3160" y="473040"/>
            <a:ext cx="42667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stimação Recur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63640" y="1257480"/>
            <a:ext cx="2539800" cy="34272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5201280" y="1371600"/>
            <a:ext cx="3591360" cy="3521160"/>
            <a:chOff x="5201280" y="1371600"/>
            <a:chExt cx="3591360" cy="3521160"/>
          </a:xfrm>
        </p:grpSpPr>
        <p:sp>
          <p:nvSpPr>
            <p:cNvPr id="284" name=""/>
            <p:cNvSpPr/>
            <p:nvPr/>
          </p:nvSpPr>
          <p:spPr>
            <a:xfrm rot="1165200">
              <a:off x="5419440" y="2567160"/>
              <a:ext cx="3154320" cy="1854000"/>
            </a:xfrm>
            <a:prstGeom prst="parallelogram">
              <a:avLst>
                <a:gd name="adj" fmla="val 5153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9000" y="3181680"/>
              <a:ext cx="1409760" cy="100944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86680" y="3333960"/>
              <a:ext cx="72360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05760" y="3333960"/>
              <a:ext cx="1371600" cy="114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696080" y="1390320"/>
              <a:ext cx="0" cy="2057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305760" y="1447920"/>
              <a:ext cx="1352520" cy="19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63040" y="182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3080" y="35038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87480" y="35989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53400" y="3999240"/>
              <a:ext cx="51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993300"/>
                  </a:solidFill>
                  <a:latin typeface="Arial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06480" y="3027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886360" y="2705040"/>
              <a:ext cx="1447920" cy="8953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324480" y="2914560"/>
              <a:ext cx="68580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991560" y="3467160"/>
              <a:ext cx="685800" cy="40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972480" y="1390680"/>
              <a:ext cx="704880" cy="15433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53400" y="2895840"/>
              <a:ext cx="742680" cy="5331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010280" y="1371600"/>
              <a:ext cx="704880" cy="2495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114640" y="1657440"/>
            <a:ext cx="2598840" cy="1676160"/>
            <a:chOff x="2114640" y="1657440"/>
            <a:chExt cx="2598840" cy="1676160"/>
          </a:xfrm>
        </p:grpSpPr>
        <p:sp>
          <p:nvSpPr>
            <p:cNvPr id="302" name=""/>
            <p:cNvSpPr/>
            <p:nvPr/>
          </p:nvSpPr>
          <p:spPr>
            <a:xfrm>
              <a:off x="2114640" y="1657440"/>
              <a:ext cx="0" cy="16761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71240" y="1846440"/>
              <a:ext cx="244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órmula de Proje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x sobre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2495520" y="2593800"/>
              <a:ext cx="1943280" cy="41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04880" y="3587760"/>
            <a:ext cx="4114800" cy="40644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698400" y="4114800"/>
            <a:ext cx="5499360" cy="2279520"/>
            <a:chOff x="698400" y="4114800"/>
            <a:chExt cx="5499360" cy="2279520"/>
          </a:xfrm>
        </p:grpSpPr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2343240" y="4686480"/>
              <a:ext cx="914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095560" y="4114800"/>
              <a:ext cx="0" cy="12574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333520" y="4303800"/>
              <a:ext cx="1293120" cy="405720"/>
              <a:chOff x="2333520" y="4303800"/>
              <a:chExt cx="1293120" cy="405720"/>
            </a:xfrm>
          </p:grpSpPr>
          <p:pic>
            <p:nvPicPr>
              <p:cNvPr id="3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3520" y="4352760"/>
                <a:ext cx="2667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2354760" y="4303800"/>
                <a:ext cx="1271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z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+ z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704880" y="5549760"/>
              <a:ext cx="4838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698400" y="5987880"/>
              <a:ext cx="5499360" cy="406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3160" y="1407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8680" y="146052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Filtro de Ka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95840" y="2009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ado um sist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50880" y="2428920"/>
            <a:ext cx="2573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C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G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60960" y="374328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617840" y="4183200"/>
            <a:ext cx="850680" cy="304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2881440" y="2449440"/>
            <a:ext cx="32364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57400" y="5473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697040" y="5918040"/>
            <a:ext cx="2723760" cy="405720"/>
            <a:chOff x="1697040" y="5918040"/>
            <a:chExt cx="2723760" cy="405720"/>
          </a:xfrm>
        </p:grpSpPr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1697040" y="5967360"/>
              <a:ext cx="2664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919160" y="5918040"/>
              <a:ext cx="250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partir de {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,...,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560840" y="2281320"/>
            <a:ext cx="2201760" cy="1395360"/>
            <a:chOff x="4560840" y="2281320"/>
            <a:chExt cx="2201760" cy="1395360"/>
          </a:xfrm>
        </p:grpSpPr>
        <p:sp>
          <p:nvSpPr>
            <p:cNvPr id="331" name=""/>
            <p:cNvSpPr/>
            <p:nvPr/>
          </p:nvSpPr>
          <p:spPr>
            <a:xfrm>
              <a:off x="4560840" y="2281320"/>
              <a:ext cx="2193840" cy="635040"/>
            </a:xfrm>
            <a:prstGeom prst="wedgeRectCallout">
              <a:avLst>
                <a:gd name="adj1" fmla="val -76629"/>
                <a:gd name="adj2" fmla="val 3749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ído de Es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68760" y="3041640"/>
              <a:ext cx="2193840" cy="635040"/>
            </a:xfrm>
            <a:prstGeom prst="wedgeRectCallout">
              <a:avLst>
                <a:gd name="adj1" fmla="val -106875"/>
                <a:gd name="adj2" fmla="val -4175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ído de Med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1609560" y="4952880"/>
            <a:ext cx="1422720" cy="36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1636560" y="4505400"/>
            <a:ext cx="1282680" cy="368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558800" y="3351240"/>
            <a:ext cx="13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N(m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65840" y="4932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70440" y="4513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22360" y="1987560"/>
            <a:ext cx="5918400" cy="406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56280" y="1389240"/>
            <a:ext cx="588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revend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lugar 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 fórmula da proje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89760" y="2743200"/>
            <a:ext cx="2764800" cy="441360"/>
            <a:chOff x="689760" y="2743200"/>
            <a:chExt cx="2764800" cy="441360"/>
          </a:xfrm>
        </p:grpSpPr>
        <p:sp>
          <p:nvSpPr>
            <p:cNvPr id="346" name=""/>
            <p:cNvSpPr/>
            <p:nvPr/>
          </p:nvSpPr>
          <p:spPr>
            <a:xfrm>
              <a:off x="689760" y="277956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lcu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2070000" y="2743200"/>
              <a:ext cx="138456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"/>
          <p:cNvGrpSpPr/>
          <p:nvPr/>
        </p:nvGrpSpPr>
        <p:grpSpPr>
          <a:xfrm>
            <a:off x="704880" y="3413160"/>
            <a:ext cx="2928960" cy="2274840"/>
            <a:chOff x="704880" y="3413160"/>
            <a:chExt cx="2928960" cy="2274840"/>
          </a:xfrm>
        </p:grpSpPr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704880" y="5018040"/>
              <a:ext cx="259092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709560" y="3413160"/>
              <a:ext cx="2924280" cy="13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3924360" y="3395520"/>
            <a:ext cx="4632120" cy="2205360"/>
            <a:chOff x="3924360" y="3395520"/>
            <a:chExt cx="4632120" cy="2205360"/>
          </a:xfrm>
        </p:grpSpPr>
        <p:sp>
          <p:nvSpPr>
            <p:cNvPr id="352" name=""/>
            <p:cNvSpPr/>
            <p:nvPr/>
          </p:nvSpPr>
          <p:spPr>
            <a:xfrm>
              <a:off x="5867280" y="5143680"/>
              <a:ext cx="666720" cy="45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5"/>
            <a:stretch/>
          </p:blipFill>
          <p:spPr>
            <a:xfrm>
              <a:off x="4533840" y="3395520"/>
              <a:ext cx="402264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924360" y="4552920"/>
              <a:ext cx="47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22360" y="1987560"/>
            <a:ext cx="5918400" cy="406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56280" y="1389240"/>
            <a:ext cx="588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revend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lugar 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 fórmula da proje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4880" y="3413160"/>
            <a:ext cx="2928960" cy="2274840"/>
            <a:chOff x="704880" y="3413160"/>
            <a:chExt cx="2928960" cy="227484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704880" y="5018040"/>
              <a:ext cx="259092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709560" y="3413160"/>
              <a:ext cx="2924280" cy="13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689760" y="2743200"/>
            <a:ext cx="3196440" cy="495360"/>
            <a:chOff x="689760" y="2743200"/>
            <a:chExt cx="3196440" cy="495360"/>
          </a:xfrm>
        </p:grpSpPr>
        <p:sp>
          <p:nvSpPr>
            <p:cNvPr id="366" name=""/>
            <p:cNvSpPr/>
            <p:nvPr/>
          </p:nvSpPr>
          <p:spPr>
            <a:xfrm>
              <a:off x="2057400" y="2743200"/>
              <a:ext cx="182880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9760" y="277956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lcu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2124000" y="2754360"/>
              <a:ext cx="1654200" cy="4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3924360" y="3625920"/>
            <a:ext cx="4503600" cy="1727280"/>
            <a:chOff x="3924360" y="3625920"/>
            <a:chExt cx="4503600" cy="1727280"/>
          </a:xfrm>
        </p:grpSpPr>
        <p:sp>
          <p:nvSpPr>
            <p:cNvPr id="370" name=""/>
            <p:cNvSpPr/>
            <p:nvPr/>
          </p:nvSpPr>
          <p:spPr>
            <a:xfrm>
              <a:off x="4952880" y="4933800"/>
              <a:ext cx="1638360" cy="419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24360" y="4552920"/>
              <a:ext cx="47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4843440" y="3625920"/>
              <a:ext cx="3584520" cy="168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1640" y="1484280"/>
            <a:ext cx="2219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outro la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C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219320" y="2533680"/>
            <a:ext cx="2209680" cy="34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3448080"/>
            <a:ext cx="1581120" cy="495360"/>
          </a:xfrm>
          <a:prstGeom prst="wedgeRectCallout">
            <a:avLst>
              <a:gd name="adj1" fmla="val 51407"/>
              <a:gd name="adj2" fmla="val -17916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á calc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76200" y="2895480"/>
            <a:ext cx="4496040" cy="2165400"/>
            <a:chOff x="1276200" y="2895480"/>
            <a:chExt cx="4496040" cy="2165400"/>
          </a:xfrm>
        </p:grpSpPr>
        <p:sp>
          <p:nvSpPr>
            <p:cNvPr id="382" name=""/>
            <p:cNvSpPr/>
            <p:nvPr/>
          </p:nvSpPr>
          <p:spPr>
            <a:xfrm>
              <a:off x="3257640" y="3124080"/>
              <a:ext cx="2514600" cy="1238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05000" y="2895480"/>
              <a:ext cx="0" cy="1676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80680" y="3141720"/>
              <a:ext cx="244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órmula de Proje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x sobre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2"/>
            <a:stretch/>
          </p:blipFill>
          <p:spPr>
            <a:xfrm>
              <a:off x="3505320" y="3889440"/>
              <a:ext cx="19429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3"/>
            <a:stretch/>
          </p:blipFill>
          <p:spPr>
            <a:xfrm>
              <a:off x="1276200" y="4654440"/>
              <a:ext cx="434340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"/>
          <p:cNvSpPr/>
          <p:nvPr/>
        </p:nvSpPr>
        <p:spPr>
          <a:xfrm>
            <a:off x="3886200" y="5638680"/>
            <a:ext cx="1581120" cy="495360"/>
          </a:xfrm>
          <a:prstGeom prst="wedgeRectCallout">
            <a:avLst>
              <a:gd name="adj1" fmla="val -43773"/>
              <a:gd name="adj2" fmla="val -167629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á calc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51600" y="1276200"/>
            <a:ext cx="2898000" cy="444600"/>
            <a:chOff x="651600" y="1276200"/>
            <a:chExt cx="2898000" cy="444600"/>
          </a:xfrm>
        </p:grpSpPr>
        <p:sp>
          <p:nvSpPr>
            <p:cNvPr id="394" name=""/>
            <p:cNvSpPr/>
            <p:nvPr/>
          </p:nvSpPr>
          <p:spPr>
            <a:xfrm>
              <a:off x="1981080" y="1295280"/>
              <a:ext cx="1524240" cy="400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1600" y="131292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lcu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2028960" y="1276200"/>
              <a:ext cx="1520640" cy="4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271520" y="1905120"/>
            <a:ext cx="3983040" cy="119988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670680" y="3313080"/>
            <a:ext cx="6598440" cy="1963800"/>
            <a:chOff x="670680" y="3313080"/>
            <a:chExt cx="6598440" cy="1963800"/>
          </a:xfrm>
        </p:grpSpPr>
        <p:pic>
          <p:nvPicPr>
            <p:cNvPr id="399" name="" descr=""/>
            <p:cNvPicPr/>
            <p:nvPr/>
          </p:nvPicPr>
          <p:blipFill>
            <a:blip r:embed="rId3"/>
            <a:stretch/>
          </p:blipFill>
          <p:spPr>
            <a:xfrm>
              <a:off x="1228680" y="3943440"/>
              <a:ext cx="604044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70680" y="3313080"/>
              <a:ext cx="27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órmula para o estad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009960" y="3867120"/>
              <a:ext cx="361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247840" y="5372280"/>
            <a:ext cx="4876920" cy="1123920"/>
            <a:chOff x="2247840" y="5372280"/>
            <a:chExt cx="4876920" cy="1123920"/>
          </a:xfrm>
        </p:grpSpPr>
        <p:sp>
          <p:nvSpPr>
            <p:cNvPr id="403" name=""/>
            <p:cNvSpPr/>
            <p:nvPr/>
          </p:nvSpPr>
          <p:spPr>
            <a:xfrm>
              <a:off x="2247840" y="6134040"/>
              <a:ext cx="3562560" cy="362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19400" y="5467320"/>
              <a:ext cx="3105360" cy="38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24360" y="5372280"/>
              <a:ext cx="0" cy="70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4102200" y="5423040"/>
                  <a:ext cx="28828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sSup>
                        <m:e>
                          <m:r>
                            <m:t xml:space="preserve">H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P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RG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2281320" y="6159600"/>
              <a:ext cx="3476520" cy="32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019240" y="1428840"/>
            <a:ext cx="2343240" cy="41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9760" y="1465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066760" y="1434960"/>
            <a:ext cx="2190960" cy="406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647720" y="2050920"/>
            <a:ext cx="5048280" cy="22989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1704960" y="4464000"/>
            <a:ext cx="5962680" cy="173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6400" y="2489040"/>
            <a:ext cx="610308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dentificação, Estim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 Controle Estocá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4640" y="4307040"/>
            <a:ext cx="484416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A - Divisão de Engenharia Eletrô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6 a 20 j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8000" y="5402160"/>
            <a:ext cx="3036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ttp://www.ele.ita.ct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0360" y="473040"/>
            <a:ext cx="3364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57320" y="2952720"/>
            <a:ext cx="2084400" cy="514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104840" y="3583080"/>
            <a:ext cx="5365800" cy="5126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1038240" y="2247840"/>
            <a:ext cx="4606920" cy="5144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085760" y="1449360"/>
            <a:ext cx="4442040" cy="622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781680" y="1790640"/>
            <a:ext cx="1752840" cy="628560"/>
          </a:xfrm>
          <a:prstGeom prst="wedgeRectCallout">
            <a:avLst>
              <a:gd name="adj1" fmla="val -98912"/>
              <a:gd name="adj2" fmla="val 5429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00760" y="2743200"/>
            <a:ext cx="1752840" cy="628560"/>
          </a:xfrm>
          <a:prstGeom prst="wedgeRectCallout">
            <a:avLst>
              <a:gd name="adj1" fmla="val -247824"/>
              <a:gd name="adj2" fmla="val 2095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238400" y="4227480"/>
            <a:ext cx="6667200" cy="2329920"/>
            <a:chOff x="1238400" y="4227480"/>
            <a:chExt cx="6667200" cy="2329920"/>
          </a:xfrm>
        </p:grpSpPr>
        <p:sp>
          <p:nvSpPr>
            <p:cNvPr id="430" name=""/>
            <p:cNvSpPr/>
            <p:nvPr/>
          </p:nvSpPr>
          <p:spPr>
            <a:xfrm>
              <a:off x="3657600" y="4705200"/>
              <a:ext cx="1447920" cy="38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400" y="5581800"/>
              <a:ext cx="666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49480" y="54291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46640" y="54291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67560" y="54291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89520" y="4646520"/>
              <a:ext cx="72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|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32360" y="4646520"/>
              <a:ext cx="72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|k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53280" y="4665600"/>
              <a:ext cx="48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|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04760" y="4665600"/>
              <a:ext cx="60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9900"/>
                  </a:solidFill>
                  <a:latin typeface="Arial"/>
                </a:rPr>
                <a:t>k|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84920" y="4684680"/>
              <a:ext cx="79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|k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16960" y="4684680"/>
              <a:ext cx="640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+1|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057400" y="5772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05480" y="6132600"/>
              <a:ext cx="49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343400" y="5772240"/>
              <a:ext cx="0" cy="342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82840" y="61326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667560" y="57913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17800" y="6151680"/>
              <a:ext cx="53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1733040" y="5047920"/>
              <a:ext cx="266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6343200" y="5047920"/>
              <a:ext cx="266760" cy="47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4019040" y="5028840"/>
              <a:ext cx="266760" cy="476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095560" y="5047920"/>
              <a:ext cx="266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724800" y="5047920"/>
              <a:ext cx="2664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400640" y="5028840"/>
              <a:ext cx="266760" cy="47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44680" y="42465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99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41480" y="4227480"/>
              <a:ext cx="56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9160" y="4246560"/>
              <a:ext cx="53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5581800"/>
              <a:ext cx="2076480" cy="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962000" y="3581280"/>
            <a:ext cx="632484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64320" y="1120680"/>
            <a:ext cx="49676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ática: 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45600" y="2665440"/>
            <a:ext cx="685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r um Filtro de Kalman para o sistema exe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segunda or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arar as estimativas com os valores reais dos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64320" y="473040"/>
            <a:ext cx="49676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ática: Filtro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55800" y="1120680"/>
            <a:ext cx="7184880" cy="537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1080" y="3828960"/>
            <a:ext cx="632484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83880" y="682560"/>
            <a:ext cx="5441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 Esten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6120" y="157464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Filtro de Kalman Linear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308240" y="2038320"/>
            <a:ext cx="2260440" cy="6476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301760" y="2762280"/>
            <a:ext cx="3340080" cy="30492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743040" y="3193920"/>
            <a:ext cx="3454200" cy="1117800"/>
            <a:chOff x="743040" y="3193920"/>
            <a:chExt cx="3454200" cy="1117800"/>
          </a:xfrm>
        </p:grpSpPr>
        <p:sp>
          <p:nvSpPr>
            <p:cNvPr id="512" name=""/>
            <p:cNvSpPr/>
            <p:nvPr/>
          </p:nvSpPr>
          <p:spPr>
            <a:xfrm>
              <a:off x="743040" y="3193920"/>
              <a:ext cx="109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do 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3"/>
            <a:stretch/>
          </p:blipFill>
          <p:spPr>
            <a:xfrm>
              <a:off x="2279520" y="3537000"/>
              <a:ext cx="1917720" cy="7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"/>
          <p:cNvGrpSpPr/>
          <p:nvPr/>
        </p:nvGrpSpPr>
        <p:grpSpPr>
          <a:xfrm>
            <a:off x="1301760" y="4324320"/>
            <a:ext cx="5479920" cy="1778040"/>
            <a:chOff x="1301760" y="4324320"/>
            <a:chExt cx="5479920" cy="1778040"/>
          </a:xfrm>
        </p:grpSpPr>
        <p:pic>
          <p:nvPicPr>
            <p:cNvPr id="515" name="" descr=""/>
            <p:cNvPicPr/>
            <p:nvPr/>
          </p:nvPicPr>
          <p:blipFill>
            <a:blip r:embed="rId4"/>
            <a:stretch/>
          </p:blipFill>
          <p:spPr>
            <a:xfrm>
              <a:off x="3276720" y="4521240"/>
              <a:ext cx="35049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3067200" y="4324320"/>
              <a:ext cx="0" cy="80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5"/>
            <a:stretch/>
          </p:blipFill>
          <p:spPr>
            <a:xfrm>
              <a:off x="1301760" y="5327640"/>
              <a:ext cx="4330800" cy="77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3880" y="682560"/>
            <a:ext cx="5441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 Esten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1680" y="15368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se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041480" y="2165400"/>
            <a:ext cx="4622760" cy="77472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1467000" y="3067200"/>
            <a:ext cx="7200720" cy="2635200"/>
            <a:chOff x="1467000" y="3067200"/>
            <a:chExt cx="7200720" cy="2635200"/>
          </a:xfrm>
        </p:grpSpPr>
        <p:sp>
          <p:nvSpPr>
            <p:cNvPr id="526" name=""/>
            <p:cNvSpPr/>
            <p:nvPr/>
          </p:nvSpPr>
          <p:spPr>
            <a:xfrm>
              <a:off x="3067200" y="3200400"/>
              <a:ext cx="5600520" cy="1276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2"/>
            <a:stretch/>
          </p:blipFill>
          <p:spPr>
            <a:xfrm>
              <a:off x="3213000" y="3575160"/>
              <a:ext cx="5346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28400" y="3218040"/>
              <a:ext cx="22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órmula de Taylo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76400" y="3067200"/>
              <a:ext cx="0" cy="171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1467000" y="4927680"/>
              <a:ext cx="3200400" cy="77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83880" y="682560"/>
            <a:ext cx="5441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o de Kalman Esten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5760" y="157464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Filtro de Kalman Est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2933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566640" y="3308400"/>
            <a:ext cx="6718680" cy="1588320"/>
            <a:chOff x="566640" y="3308400"/>
            <a:chExt cx="6718680" cy="1588320"/>
          </a:xfrm>
        </p:grpSpPr>
        <p:sp>
          <p:nvSpPr>
            <p:cNvPr id="539" name=""/>
            <p:cNvSpPr/>
            <p:nvPr/>
          </p:nvSpPr>
          <p:spPr>
            <a:xfrm>
              <a:off x="566640" y="3308400"/>
              <a:ext cx="26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. Filtros Não-Line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28200" y="3979800"/>
              <a:ext cx="5757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um modo geral, são de dimensão infinita, po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passagem de um sinal gaussiano por um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ão linear pode produzir um sinal não gaussia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12560" y="682560"/>
            <a:ext cx="65923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vergência de Filtros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8320" y="170820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Mecanização do Filtro de Kalm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60480" y="2467080"/>
            <a:ext cx="2573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C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70560" y="378144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27080" y="4221000"/>
            <a:ext cx="85104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1019160" y="4991040"/>
            <a:ext cx="1422360" cy="368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1046160" y="4543560"/>
            <a:ext cx="1282680" cy="368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968400" y="3389400"/>
            <a:ext cx="13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N(m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98760" y="4989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03720" y="45705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676320" y="2284560"/>
            <a:ext cx="3562560" cy="3182760"/>
            <a:chOff x="3676320" y="2284560"/>
            <a:chExt cx="3562560" cy="3182760"/>
          </a:xfrm>
        </p:grpSpPr>
        <p:sp>
          <p:nvSpPr>
            <p:cNvPr id="556" name=""/>
            <p:cNvSpPr/>
            <p:nvPr/>
          </p:nvSpPr>
          <p:spPr>
            <a:xfrm flipH="1">
              <a:off x="3675960" y="2438280"/>
              <a:ext cx="361800" cy="3029040"/>
            </a:xfrm>
            <a:custGeom>
              <a:avLst/>
              <a:gdLst>
                <a:gd name="textAreaLeft" fmla="*/ 230760 w 361800"/>
                <a:gd name="textAreaRight" fmla="*/ 361800 w 361800"/>
                <a:gd name="textAreaTop" fmla="*/ 78840 h 3029040"/>
                <a:gd name="textAreaBottom" fmla="*/ 2950200 h 30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4"/>
            <a:stretch/>
          </p:blipFill>
          <p:spPr>
            <a:xfrm>
              <a:off x="4915080" y="2813040"/>
              <a:ext cx="23238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519440" y="228456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opagaçã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519440" y="3808440"/>
            <a:ext cx="2992680" cy="1703520"/>
            <a:chOff x="4519440" y="3808440"/>
            <a:chExt cx="2992680" cy="1703520"/>
          </a:xfrm>
        </p:grpSpPr>
        <p:sp>
          <p:nvSpPr>
            <p:cNvPr id="560" name=""/>
            <p:cNvSpPr/>
            <p:nvPr/>
          </p:nvSpPr>
          <p:spPr>
            <a:xfrm>
              <a:off x="4519440" y="380844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tualizaçã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5"/>
            <a:stretch/>
          </p:blipFill>
          <p:spPr>
            <a:xfrm>
              <a:off x="4869000" y="4241880"/>
              <a:ext cx="2643120" cy="127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43280" y="333360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371600" y="2571840"/>
            <a:ext cx="2000160" cy="47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12560" y="682560"/>
            <a:ext cx="65923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vergência de Filtros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480" y="170820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Problemas Numér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511280" y="2616120"/>
            <a:ext cx="1739880" cy="368280"/>
          </a:xfrm>
          <a:prstGeom prst="rect">
            <a:avLst/>
          </a:prstGeom>
          <a:ln w="0">
            <a:noFill/>
          </a:ln>
        </p:spPr>
      </p:pic>
      <p:grpSp>
        <p:nvGrpSpPr>
          <p:cNvPr id="570" name=""/>
          <p:cNvGrpSpPr/>
          <p:nvPr/>
        </p:nvGrpSpPr>
        <p:grpSpPr>
          <a:xfrm>
            <a:off x="3695760" y="2265480"/>
            <a:ext cx="2910960" cy="1244520"/>
            <a:chOff x="3695760" y="2265480"/>
            <a:chExt cx="2910960" cy="1244520"/>
          </a:xfrm>
        </p:grpSpPr>
        <p:sp>
          <p:nvSpPr>
            <p:cNvPr id="571" name=""/>
            <p:cNvSpPr/>
            <p:nvPr/>
          </p:nvSpPr>
          <p:spPr>
            <a:xfrm flipV="1">
              <a:off x="3695760" y="2437920"/>
              <a:ext cx="666720" cy="419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33920" y="2857680"/>
              <a:ext cx="6667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57960" y="22654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imét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56160" y="3141720"/>
              <a:ext cx="20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ositivo Defi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7760" y="3727440"/>
            <a:ext cx="6996960" cy="2406600"/>
            <a:chOff x="527760" y="3727440"/>
            <a:chExt cx="6996960" cy="2406600"/>
          </a:xfrm>
        </p:grpSpPr>
        <p:sp>
          <p:nvSpPr>
            <p:cNvPr id="576" name=""/>
            <p:cNvSpPr/>
            <p:nvPr/>
          </p:nvSpPr>
          <p:spPr>
            <a:xfrm>
              <a:off x="1295280" y="5753160"/>
              <a:ext cx="4229280" cy="38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7760" y="3727440"/>
              <a:ext cx="26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. Fórmula de Joseph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1428840" y="4311720"/>
              <a:ext cx="25905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1434960" y="4768920"/>
              <a:ext cx="26164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1467000" y="5232240"/>
              <a:ext cx="6057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1467000" y="5738760"/>
              <a:ext cx="4284360" cy="39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029040" y="3009960"/>
            <a:ext cx="5181480" cy="97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12560" y="682560"/>
            <a:ext cx="65923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vergência de Filtros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0840" y="17082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Covariança Invers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930320" y="5740560"/>
            <a:ext cx="1739880" cy="368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1454040" y="2286000"/>
            <a:ext cx="3073680" cy="6843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3072600" y="30844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a de Inversão de Matriz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135240" y="3479760"/>
            <a:ext cx="4929120" cy="3556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705040" y="2933640"/>
            <a:ext cx="0" cy="120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1282680" y="4300560"/>
            <a:ext cx="3697200" cy="447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685960" y="4876920"/>
            <a:ext cx="0" cy="780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982960" y="5003640"/>
            <a:ext cx="2643120" cy="4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12560" y="682560"/>
            <a:ext cx="65923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vergência de Filtros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9040" y="170820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Fatorização da Matriz 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15160" y="25131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S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7360" y="33894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[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47120" y="337032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[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/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171520" y="2876400"/>
            <a:ext cx="228600" cy="476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81320" y="2876400"/>
            <a:ext cx="228600" cy="476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2362320"/>
            <a:ext cx="419040" cy="1371600"/>
          </a:xfrm>
          <a:custGeom>
            <a:avLst/>
            <a:gdLst>
              <a:gd name="textAreaLeft" fmla="*/ 0 w 419040"/>
              <a:gd name="textAreaRight" fmla="*/ 151200 w 4190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89960" y="276084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ltro Raiz Q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 Po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109600" y="4362480"/>
            <a:ext cx="5404680" cy="1371600"/>
            <a:chOff x="2109600" y="4362480"/>
            <a:chExt cx="5404680" cy="1371600"/>
          </a:xfrm>
        </p:grpSpPr>
        <p:sp>
          <p:nvSpPr>
            <p:cNvPr id="611" name=""/>
            <p:cNvSpPr/>
            <p:nvPr/>
          </p:nvSpPr>
          <p:spPr>
            <a:xfrm>
              <a:off x="2109600" y="4627440"/>
              <a:ext cx="176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U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U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U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U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76880" y="4362480"/>
              <a:ext cx="419040" cy="1371600"/>
            </a:xfrm>
            <a:custGeom>
              <a:avLst/>
              <a:gdLst>
                <a:gd name="textAreaLeft" fmla="*/ 0 w 419040"/>
                <a:gd name="textAreaRight" fmla="*/ 151200 w 4190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60520" y="4761000"/>
              <a:ext cx="155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Filtro U-D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Bier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12560" y="682560"/>
            <a:ext cx="65923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vergência de Filtros de Ka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9040" y="170820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Erros de Modelam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89880" y="310356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033880" y="31035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e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29000" y="2552400"/>
            <a:ext cx="304920" cy="723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6200000">
            <a:off x="5391000" y="2190600"/>
            <a:ext cx="247680" cy="1428840"/>
          </a:xfrm>
          <a:custGeom>
            <a:avLst/>
            <a:gdLst>
              <a:gd name="textAreaLeft" fmla="*/ 158400 w 247680"/>
              <a:gd name="textAreaRight" fmla="*/ 248040 w 247680"/>
              <a:gd name="textAreaTop" fmla="*/ 37080 h 1428840"/>
              <a:gd name="textAreaBottom" fmla="*/ 139176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59"/>
                </a:lnTo>
                <a:cubicBezTo>
                  <a:pt x="10800" y="9859"/>
                  <a:pt x="5400" y="10759"/>
                  <a:pt x="0" y="10759"/>
                </a:cubicBezTo>
                <a:cubicBezTo>
                  <a:pt x="5400" y="10759"/>
                  <a:pt x="10800" y="11659"/>
                  <a:pt x="10800" y="1255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063880" y="3772080"/>
            <a:ext cx="5575320" cy="2184120"/>
            <a:chOff x="2063880" y="3772080"/>
            <a:chExt cx="5575320" cy="2184120"/>
          </a:xfrm>
        </p:grpSpPr>
        <p:sp>
          <p:nvSpPr>
            <p:cNvPr id="625" name=""/>
            <p:cNvSpPr/>
            <p:nvPr/>
          </p:nvSpPr>
          <p:spPr>
            <a:xfrm>
              <a:off x="4781520" y="3772080"/>
              <a:ext cx="2857680" cy="1333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4906800" y="4184640"/>
              <a:ext cx="268128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"/>
            <a:stretch/>
          </p:blipFill>
          <p:spPr>
            <a:xfrm>
              <a:off x="4915080" y="3816360"/>
              <a:ext cx="2323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3"/>
            <a:stretch/>
          </p:blipFill>
          <p:spPr>
            <a:xfrm>
              <a:off x="2063880" y="5530680"/>
              <a:ext cx="469404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4876920" y="4654440"/>
              <a:ext cx="25905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733920" y="3809880"/>
              <a:ext cx="723960" cy="1314720"/>
            </a:xfrm>
            <a:prstGeom prst="downArrow">
              <a:avLst>
                <a:gd name="adj1" fmla="val 50000"/>
                <a:gd name="adj2" fmla="val 45400"/>
              </a:avLst>
            </a:prstGeom>
            <a:solidFill>
              <a:srgbClr val="ffff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2349360" y="2254320"/>
            <a:ext cx="3827520" cy="48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905120" y="407664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8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14200" y="1341360"/>
            <a:ext cx="6999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Divergência de Filtro de Ka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74840" y="2913120"/>
            <a:ext cx="63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ifique, experimentalmente, que acontece quand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utilizado Filtro de Kalman é incorr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ifique os efeitos de Q e 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52360" y="579600"/>
            <a:ext cx="6999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Divergência de Filtro de Ka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192320" y="1314360"/>
            <a:ext cx="6770520" cy="506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18280" y="2813040"/>
            <a:ext cx="39283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uito Obrig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ela Aten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50880" y="473040"/>
            <a:ext cx="4379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tragem Estocá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7560" y="1720800"/>
            <a:ext cx="508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      {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 .,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correlacionados com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4080" y="2139840"/>
            <a:ext cx="68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r:         uma estimativa de x a partir de {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 .,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560" y="1251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462040" y="2647800"/>
            <a:ext cx="2994480" cy="1067040"/>
            <a:chOff x="2462040" y="2647800"/>
            <a:chExt cx="2994480" cy="1067040"/>
          </a:xfrm>
        </p:grpSpPr>
        <p:sp>
          <p:nvSpPr>
            <p:cNvPr id="75" name=""/>
            <p:cNvSpPr/>
            <p:nvPr/>
          </p:nvSpPr>
          <p:spPr>
            <a:xfrm>
              <a:off x="3738240" y="269244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imador g(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00360" y="2647800"/>
              <a:ext cx="0" cy="552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462040" y="3409920"/>
              <a:ext cx="25052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623880" y="3917880"/>
            <a:ext cx="4548240" cy="2463840"/>
            <a:chOff x="623880" y="3917880"/>
            <a:chExt cx="4548240" cy="2463840"/>
          </a:xfrm>
        </p:grpSpPr>
        <p:sp>
          <p:nvSpPr>
            <p:cNvPr id="79" name=""/>
            <p:cNvSpPr/>
            <p:nvPr/>
          </p:nvSpPr>
          <p:spPr>
            <a:xfrm>
              <a:off x="623880" y="391788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. Exemplo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486160" y="4133880"/>
              <a:ext cx="2685960" cy="2247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7240" y="473040"/>
            <a:ext cx="3952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jeção Ort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3160" y="175896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ar g(.) de modo que se minim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6840" y="12891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Critério para determinação do g(.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156280" y="1727280"/>
                <a:ext cx="2450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5410080" y="2874960"/>
            <a:ext cx="2286000" cy="1568520"/>
            <a:chOff x="5410080" y="2874960"/>
            <a:chExt cx="2286000" cy="1568520"/>
          </a:xfrm>
        </p:grpSpPr>
        <p:sp>
          <p:nvSpPr>
            <p:cNvPr id="90" name=""/>
            <p:cNvSpPr/>
            <p:nvPr/>
          </p:nvSpPr>
          <p:spPr>
            <a:xfrm flipV="1">
              <a:off x="5410080" y="3638520"/>
              <a:ext cx="228600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848200" y="3980880"/>
              <a:ext cx="83844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810040" y="3047760"/>
              <a:ext cx="1086120" cy="1200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58440" y="287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9960" y="4075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46480" y="2527200"/>
            <a:ext cx="3730320" cy="2228760"/>
            <a:chOff x="546480" y="2527200"/>
            <a:chExt cx="3730320" cy="2228760"/>
          </a:xfrm>
        </p:grpSpPr>
        <p:sp>
          <p:nvSpPr>
            <p:cNvPr id="96" name=""/>
            <p:cNvSpPr/>
            <p:nvPr/>
          </p:nvSpPr>
          <p:spPr>
            <a:xfrm>
              <a:off x="546480" y="2527200"/>
              <a:ext cx="263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. Projeção Ortogona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861120" y="3016080"/>
              <a:ext cx="3415680" cy="1739880"/>
              <a:chOff x="861120" y="3016080"/>
              <a:chExt cx="3415680" cy="1739880"/>
            </a:xfrm>
          </p:grpSpPr>
          <p:sp>
            <p:nvSpPr>
              <p:cNvPr id="98" name=""/>
              <p:cNvSpPr/>
              <p:nvPr/>
            </p:nvSpPr>
            <p:spPr>
              <a:xfrm>
                <a:off x="861120" y="3016080"/>
                <a:ext cx="2544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ja g(y) = K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char K de modo q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inimiza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19280" y="3587400"/>
                <a:ext cx="8575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14640" y="4057560"/>
                <a:ext cx="1218960" cy="41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443320" y="4965840"/>
            <a:ext cx="4181400" cy="115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9200" y="1359000"/>
            <a:ext cx="2419200" cy="63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33720" y="1390680"/>
            <a:ext cx="4743720" cy="4190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2405160" y="1886040"/>
            <a:ext cx="4105080" cy="1270080"/>
            <a:chOff x="2405160" y="1886040"/>
            <a:chExt cx="4105080" cy="127008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2405160" y="2521080"/>
              <a:ext cx="41050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952720" y="1886040"/>
              <a:ext cx="838080" cy="66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219280" y="1886040"/>
              <a:ext cx="838440" cy="66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67120" y="3067200"/>
            <a:ext cx="1219320" cy="1180800"/>
            <a:chOff x="3867120" y="3067200"/>
            <a:chExt cx="1219320" cy="1180800"/>
          </a:xfrm>
        </p:grpSpPr>
        <p:sp>
          <p:nvSpPr>
            <p:cNvPr id="113" name=""/>
            <p:cNvSpPr/>
            <p:nvPr/>
          </p:nvSpPr>
          <p:spPr>
            <a:xfrm>
              <a:off x="4495680" y="3067200"/>
              <a:ext cx="0" cy="495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867120" y="3638520"/>
              <a:ext cx="12193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74640" y="4362480"/>
            <a:ext cx="3435480" cy="2152800"/>
            <a:chOff x="674640" y="4362480"/>
            <a:chExt cx="3435480" cy="215280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674640" y="4362480"/>
              <a:ext cx="25732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2062080" y="5156280"/>
              <a:ext cx="2048040" cy="13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5219640" y="4437000"/>
            <a:ext cx="3062520" cy="1682640"/>
            <a:chOff x="5219640" y="4437000"/>
            <a:chExt cx="3062520" cy="1682640"/>
          </a:xfrm>
        </p:grpSpPr>
        <p:sp>
          <p:nvSpPr>
            <p:cNvPr id="119" name=""/>
            <p:cNvSpPr/>
            <p:nvPr/>
          </p:nvSpPr>
          <p:spPr>
            <a:xfrm flipV="1">
              <a:off x="5219640" y="5315040"/>
              <a:ext cx="228600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619600" y="4724280"/>
              <a:ext cx="1086120" cy="1200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952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9520" y="575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96000" y="4724280"/>
              <a:ext cx="26352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676840" y="5549760"/>
              <a:ext cx="129852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657760" y="5657400"/>
              <a:ext cx="83844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7032600" y="5600880"/>
              <a:ext cx="185760" cy="24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V="1">
              <a:off x="6902280" y="5254200"/>
              <a:ext cx="1778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3360" y="5257800"/>
              <a:ext cx="6660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06960" y="51260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8"/>
            <a:stretch/>
          </p:blipFill>
          <p:spPr>
            <a:xfrm>
              <a:off x="6919920" y="4883040"/>
              <a:ext cx="136224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2667240" y="473040"/>
            <a:ext cx="3952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jeção Ort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6840" y="12891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blema 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505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3129120" y="2724120"/>
            <a:ext cx="2390760" cy="1104840"/>
            <a:chOff x="3129120" y="2724120"/>
            <a:chExt cx="2390760" cy="11048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129120" y="3524400"/>
              <a:ext cx="2390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114800" y="2724120"/>
              <a:ext cx="0" cy="72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667240" y="473040"/>
            <a:ext cx="3952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jeção Ort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05080" y="3848040"/>
            <a:ext cx="3150360" cy="2203560"/>
            <a:chOff x="3205080" y="3848040"/>
            <a:chExt cx="3150360" cy="220356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3205080" y="5035680"/>
              <a:ext cx="22766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133880" y="3848040"/>
              <a:ext cx="0" cy="106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0000" y="401472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, b ~ N(0,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 a | b &gt; = E [ a b 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14440" y="3867120"/>
            <a:ext cx="4224240" cy="1866960"/>
            <a:chOff x="1414440" y="3867120"/>
            <a:chExt cx="4224240" cy="18669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414440" y="3867120"/>
              <a:ext cx="34196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2209680" y="4305240"/>
              <a:ext cx="34290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276640" y="4705200"/>
              <a:ext cx="264780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516600" y="1359000"/>
            <a:ext cx="2980440" cy="368280"/>
            <a:chOff x="516600" y="1359000"/>
            <a:chExt cx="2980440" cy="368280"/>
          </a:xfrm>
        </p:grpSpPr>
        <p:sp>
          <p:nvSpPr>
            <p:cNvPr id="155" name=""/>
            <p:cNvSpPr/>
            <p:nvPr/>
          </p:nvSpPr>
          <p:spPr>
            <a:xfrm>
              <a:off x="516600" y="1359000"/>
              <a:ext cx="29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pressão para               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385720" y="1409400"/>
              <a:ext cx="8665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1414440" y="2228760"/>
            <a:ext cx="6916680" cy="1352520"/>
            <a:chOff x="1414440" y="2228760"/>
            <a:chExt cx="6916680" cy="1352520"/>
          </a:xfrm>
        </p:grpSpPr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1414440" y="2228760"/>
              <a:ext cx="4676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4257720" y="2552760"/>
              <a:ext cx="19620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6337440" y="2852640"/>
              <a:ext cx="199368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2667240" y="473040"/>
            <a:ext cx="3952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jeção Ort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73160" y="1671480"/>
            <a:ext cx="6819840" cy="1071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832120" y="1295280"/>
            <a:ext cx="19177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139840" y="2514600"/>
            <a:ext cx="5207040" cy="2403360"/>
            <a:chOff x="2139840" y="2514600"/>
            <a:chExt cx="5207040" cy="240336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3949560" y="3063960"/>
              <a:ext cx="274968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828960" y="2514600"/>
              <a:ext cx="0" cy="18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2139840" y="4492800"/>
              <a:ext cx="5207040" cy="42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047600" y="5219640"/>
            <a:ext cx="4419720" cy="129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7240" y="473040"/>
            <a:ext cx="3952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jeção Ort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52:48Z</dcterms:created>
  <dc:creator>Takashi Yoneyama</dc:creator>
  <dc:description/>
  <dc:language>en-US</dc:language>
  <cp:lastModifiedBy>Otto Gottlieb</cp:lastModifiedBy>
  <dcterms:modified xsi:type="dcterms:W3CDTF">2002-09-13T00:29:46Z</dcterms:modified>
  <cp:revision>33</cp:revision>
  <dc:subject/>
  <dc:title>No Slide Title</dc:title>
</cp:coreProperties>
</file>