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604-E6BF-4C5C-9807-B3FE5250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F86-0335-4D65-A24F-3F33EC3D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2F1-55CD-41FE-B49B-2F6F663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D1C-F276-4CA4-AFAA-103DFD24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89C-66A4-424B-B972-5E057E9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8D1-5B21-4E55-BE53-CDD7B7E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C81-C823-4D12-B476-3A2C498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890-D9C9-4BF1-B315-22D9825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F29-805C-47C8-90F0-D28B577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481-9AD8-4BD4-8B8C-359B5D93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E91-5E1D-4985-8066-A095DA4A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BA8-2C45-4630-B4A4-0C04380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A2C-F6B0-492B-8000-60194A93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2800" y="43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200560" y="2324160"/>
            <a:ext cx="1143000" cy="34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3360" y="1327320"/>
            <a:ext cx="6794280" cy="74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28560" y="2297160"/>
            <a:ext cx="6801120" cy="76680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635040" y="3257640"/>
            <a:ext cx="8031240" cy="3162240"/>
            <a:chOff x="635040" y="3257640"/>
            <a:chExt cx="8031240" cy="3162240"/>
          </a:xfrm>
        </p:grpSpPr>
        <p:sp>
          <p:nvSpPr>
            <p:cNvPr id="206" name=""/>
            <p:cNvSpPr/>
            <p:nvPr/>
          </p:nvSpPr>
          <p:spPr>
            <a:xfrm>
              <a:off x="5295960" y="5676840"/>
              <a:ext cx="1866960" cy="743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14600" y="3753000"/>
              <a:ext cx="971640" cy="34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3257640"/>
              <a:ext cx="0" cy="11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0920" y="3370320"/>
              <a:ext cx="34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+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20720" y="3732120"/>
              <a:ext cx="33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– 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635040" y="4611600"/>
              <a:ext cx="80312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flipH="1" rot="5400000">
              <a:off x="6095160" y="3180600"/>
              <a:ext cx="266760" cy="4591080"/>
            </a:xfrm>
            <a:custGeom>
              <a:avLst/>
              <a:gdLst>
                <a:gd name="textAreaLeft" fmla="*/ 170640 w 266760"/>
                <a:gd name="textAreaRight" fmla="*/ 266760 w 266760"/>
                <a:gd name="textAreaTop" fmla="*/ 119520 h 4591080"/>
                <a:gd name="textAreaBottom" fmla="*/ 4471560 h 459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5416560" y="5702400"/>
              <a:ext cx="1663560" cy="71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6680" y="2165400"/>
            <a:ext cx="5038560" cy="71748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295360" y="2867040"/>
            <a:ext cx="1124280" cy="1076400"/>
            <a:chOff x="2295360" y="2867040"/>
            <a:chExt cx="1124280" cy="1076400"/>
          </a:xfrm>
        </p:grpSpPr>
        <p:sp>
          <p:nvSpPr>
            <p:cNvPr id="221" name=""/>
            <p:cNvSpPr/>
            <p:nvPr/>
          </p:nvSpPr>
          <p:spPr>
            <a:xfrm rot="16200000">
              <a:off x="2695320" y="2466720"/>
              <a:ext cx="324000" cy="112428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29160 h 1124280"/>
                <a:gd name="textAreaBottom" fmla="*/ 1095120 h 11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28480" y="33130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uturo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724120" y="3638520"/>
              <a:ext cx="2667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610080" y="2905200"/>
            <a:ext cx="4035600" cy="2232000"/>
            <a:chOff x="3610080" y="2905200"/>
            <a:chExt cx="4035600" cy="2232000"/>
          </a:xfrm>
        </p:grpSpPr>
        <p:sp>
          <p:nvSpPr>
            <p:cNvPr id="225" name=""/>
            <p:cNvSpPr/>
            <p:nvPr/>
          </p:nvSpPr>
          <p:spPr>
            <a:xfrm rot="16200000">
              <a:off x="4952880" y="1562040"/>
              <a:ext cx="380880" cy="30668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9920 h 3066840"/>
                <a:gd name="textAreaBottom" fmla="*/ 2986920 h 30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3680" y="33908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4038480" y="4425840"/>
              <a:ext cx="232416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244480" y="3465360"/>
              <a:ext cx="24012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scolher u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nular estes ter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9760" y="1465200"/>
            <a:ext cx="36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Controle de Variança Míni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320" y="146520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Regulador Auto-Sintoniz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09760" y="3981600"/>
            <a:ext cx="3524040" cy="1790640"/>
            <a:chOff x="1409760" y="3981600"/>
            <a:chExt cx="3524040" cy="1790640"/>
          </a:xfrm>
        </p:grpSpPr>
        <p:sp>
          <p:nvSpPr>
            <p:cNvPr id="237" name=""/>
            <p:cNvSpPr/>
            <p:nvPr/>
          </p:nvSpPr>
          <p:spPr>
            <a:xfrm>
              <a:off x="1409760" y="3981600"/>
              <a:ext cx="3524040" cy="179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71760" y="4078440"/>
              <a:ext cx="3181320" cy="1608120"/>
              <a:chOff x="1571760" y="4078440"/>
              <a:chExt cx="3181320" cy="1608120"/>
            </a:xfrm>
          </p:grpSpPr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71760" y="4078440"/>
                <a:ext cx="3181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8760" y="4600440"/>
                <a:ext cx="29336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97320" y="5318280"/>
                <a:ext cx="236232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62040" y="2635200"/>
            <a:ext cx="4572000" cy="36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585800" y="2266920"/>
            <a:ext cx="551520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562040" y="3130560"/>
            <a:ext cx="316224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476440" y="5353200"/>
            <a:ext cx="261000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24200" y="2933640"/>
            <a:ext cx="363852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47800" y="1886040"/>
            <a:ext cx="2171880" cy="79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7960" y="127476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Regulador Auto-Sintonizado ( caso C=1 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24000" y="3068640"/>
            <a:ext cx="3181320" cy="1608120"/>
            <a:chOff x="2124000" y="3068640"/>
            <a:chExt cx="3181320" cy="16081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2124000" y="3068640"/>
              <a:ext cx="31813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2151000" y="3590640"/>
              <a:ext cx="2933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2149560" y="4308480"/>
              <a:ext cx="236232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924280" y="2101680"/>
            <a:ext cx="1581120" cy="368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19320" y="228600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19680" y="2286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78200" y="184644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22800" y="1827360"/>
            <a:ext cx="68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580760" y="392436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581120" y="22669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81800" y="392436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924520" y="22669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48387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3848040" y="4971960"/>
            <a:ext cx="457200" cy="343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629080" y="5473800"/>
            <a:ext cx="2323800" cy="711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238400" y="228600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38400" y="5848200"/>
            <a:ext cx="123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24600" y="5848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2305080"/>
            <a:ext cx="0" cy="35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43400" y="4800600"/>
            <a:ext cx="4286160" cy="743040"/>
            <a:chOff x="4343400" y="4800600"/>
            <a:chExt cx="4286160" cy="743040"/>
          </a:xfrm>
        </p:grpSpPr>
        <p:grpSp>
          <p:nvGrpSpPr>
            <p:cNvPr id="275" name=""/>
            <p:cNvGrpSpPr/>
            <p:nvPr/>
          </p:nvGrpSpPr>
          <p:grpSpPr>
            <a:xfrm>
              <a:off x="4343400" y="4800600"/>
              <a:ext cx="4286160" cy="743040"/>
              <a:chOff x="4343400" y="4800600"/>
              <a:chExt cx="4286160" cy="743040"/>
            </a:xfrm>
          </p:grpSpPr>
          <p:sp>
            <p:nvSpPr>
              <p:cNvPr id="276" name=""/>
              <p:cNvSpPr/>
              <p:nvPr/>
            </p:nvSpPr>
            <p:spPr>
              <a:xfrm>
                <a:off x="6877080" y="4800600"/>
                <a:ext cx="1752480" cy="7430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4343400" y="5086440"/>
                <a:ext cx="2495520" cy="0"/>
              </a:xfrm>
              <a:prstGeom prst="line">
                <a:avLst/>
              </a:prstGeom>
              <a:ln w="9360">
                <a:solidFill>
                  <a:srgbClr val="3333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7111440" y="498960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Sepa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05160" y="5657760"/>
            <a:ext cx="3524400" cy="743040"/>
            <a:chOff x="5105160" y="5657760"/>
            <a:chExt cx="3524400" cy="743040"/>
          </a:xfrm>
        </p:grpSpPr>
        <p:sp>
          <p:nvSpPr>
            <p:cNvPr id="280" name=""/>
            <p:cNvSpPr/>
            <p:nvPr/>
          </p:nvSpPr>
          <p:spPr>
            <a:xfrm>
              <a:off x="6877080" y="5657760"/>
              <a:ext cx="1752480" cy="743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76440" y="5713560"/>
              <a:ext cx="164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quivalênc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à Certe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105160" y="613404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880240" y="2249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10360" y="2249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42960" y="224964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62000" y="5829480"/>
            <a:ext cx="6324840" cy="26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85640" y="1360440"/>
            <a:ext cx="6378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gulador Auto-Sinton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9040" y="3160800"/>
            <a:ext cx="587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e o controlador de mínima vari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bine o controlador de mínima variança com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dor de mínimos quadrados e construa 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dor auto-sintoni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1960" y="674640"/>
            <a:ext cx="6378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gulador Auto-Sinton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084320" y="1319040"/>
            <a:ext cx="6891120" cy="515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61960" y="522360"/>
            <a:ext cx="6378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ática: Regulador Auto-Sinton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46000" y="990720"/>
            <a:ext cx="7461360" cy="55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962000" y="6058080"/>
            <a:ext cx="632484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 (T)  Exame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 (P)  Exame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18280" y="2813040"/>
            <a:ext cx="39283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ito Obrig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ela Ate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6400" y="2489040"/>
            <a:ext cx="610308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dentificação, Esti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 Controle Estocá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4640" y="4307040"/>
            <a:ext cx="484416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A - Divisão de Engenharia Eletr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6 a 20 j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8000" y="5402160"/>
            <a:ext cx="303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ttp://www.ele.ita.ct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24200" y="5581800"/>
            <a:ext cx="6324480" cy="26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5760" y="473040"/>
            <a:ext cx="277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06992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6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0800" y="1069920"/>
            <a:ext cx="550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Simulação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abilidades e Processos Estocá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o Efeito de Ruído em Sistemas Line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2174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7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9520" y="2174760"/>
            <a:ext cx="58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Estimação Pontual, LSE, Cramér-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LSE Batelada + Identificação Não-Param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stimação Recursiva, Regiões de Confiança,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Identificação Recur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3298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8 set 0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7960" y="3298680"/>
            <a:ext cx="539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Filtragem. Projeção Ortogonal. Filtro de Ka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Filtro de Kalman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Filtro de Kalman Estendido. Diverg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studo de Métodos de Combate à Dive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44226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9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5440" y="4422600"/>
            <a:ext cx="57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(T)  Controle Ótimo. Problema L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Realimentação Ótima de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Problema LQG. Separação e Equivalência à Cer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Simulação de Malha Fechada LQ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5880" y="554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 set 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6320" y="5540400"/>
            <a:ext cx="570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 (T)  Controle Adaptativo.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(P)  Implementação de um Regulador Auto-Sint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(T)  Exame: Parte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(P)  Exame: Parte Pr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200" y="1312920"/>
            <a:ext cx="42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Forma Preditora de Modelos 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120" y="2055960"/>
            <a:ext cx="3291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1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...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1 +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... +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2640" y="2082960"/>
            <a:ext cx="774720" cy="71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1981080"/>
            <a:ext cx="1085760" cy="93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2520" y="24382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2240" y="24382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9400" y="20178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3920" y="2017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93600" y="3236760"/>
            <a:ext cx="7635960" cy="3087720"/>
            <a:chOff x="993600" y="3236760"/>
            <a:chExt cx="7635960" cy="3087720"/>
          </a:xfrm>
        </p:grpSpPr>
        <p:sp>
          <p:nvSpPr>
            <p:cNvPr id="80" name=""/>
            <p:cNvSpPr/>
            <p:nvPr/>
          </p:nvSpPr>
          <p:spPr>
            <a:xfrm>
              <a:off x="993600" y="3236760"/>
              <a:ext cx="683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oblema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ados                ,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~ N(0,1), estimar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3022560" y="3295800"/>
              <a:ext cx="8892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6661080" y="3314880"/>
              <a:ext cx="546120" cy="2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92760" y="3713040"/>
              <a:ext cx="31464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G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7520" y="4494240"/>
              <a:ext cx="7412040" cy="12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-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...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3762000" y="3457440"/>
              <a:ext cx="362160" cy="4019400"/>
            </a:xfrm>
            <a:custGeom>
              <a:avLst/>
              <a:gdLst>
                <a:gd name="textAreaLeft" fmla="*/ 231480 w 362160"/>
                <a:gd name="textAreaRight" fmla="*/ 362160 w 362160"/>
                <a:gd name="textAreaTop" fmla="*/ 104760 h 4019400"/>
                <a:gd name="textAreaBottom" fmla="*/ 3914640 h 40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71480" y="56944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uturo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7086240" y="4400280"/>
              <a:ext cx="362160" cy="2133720"/>
            </a:xfrm>
            <a:custGeom>
              <a:avLst/>
              <a:gdLst>
                <a:gd name="textAreaLeft" fmla="*/ 231480 w 362160"/>
                <a:gd name="textAreaRight" fmla="*/ 362160 w 3621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7040" y="5694480"/>
              <a:ext cx="15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onhecido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3867120" y="6019920"/>
              <a:ext cx="2667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7201080" y="6000840"/>
              <a:ext cx="2664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9000" y="1295280"/>
            <a:ext cx="1447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1200" y="1866960"/>
            <a:ext cx="240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89760" y="2817720"/>
            <a:ext cx="4664880" cy="1887480"/>
            <a:chOff x="689760" y="2817720"/>
            <a:chExt cx="4664880" cy="1887480"/>
          </a:xfrm>
        </p:grpSpPr>
        <p:grpSp>
          <p:nvGrpSpPr>
            <p:cNvPr id="99" name=""/>
            <p:cNvGrpSpPr/>
            <p:nvPr/>
          </p:nvGrpSpPr>
          <p:grpSpPr>
            <a:xfrm>
              <a:off x="689760" y="2817720"/>
              <a:ext cx="4664880" cy="392040"/>
              <a:chOff x="689760" y="2817720"/>
              <a:chExt cx="4664880" cy="392040"/>
            </a:xfrm>
          </p:grpSpPr>
          <p:sp>
            <p:nvSpPr>
              <p:cNvPr id="100" name=""/>
              <p:cNvSpPr/>
              <p:nvPr/>
            </p:nvSpPr>
            <p:spPr>
              <a:xfrm>
                <a:off x="689760" y="2817720"/>
                <a:ext cx="382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ja z uma combinação linear d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5800" y="2867040"/>
                <a:ext cx="8888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"/>
            <p:cNvSpPr/>
            <p:nvPr/>
          </p:nvSpPr>
          <p:spPr>
            <a:xfrm>
              <a:off x="728280" y="317988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ã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825480" y="3638520"/>
              <a:ext cx="2120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787320" y="4057560"/>
              <a:ext cx="448308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3962520" y="2038320"/>
            <a:ext cx="4766760" cy="3661560"/>
            <a:chOff x="3962520" y="2038320"/>
            <a:chExt cx="4766760" cy="3661560"/>
          </a:xfrm>
        </p:grpSpPr>
        <p:grpSp>
          <p:nvGrpSpPr>
            <p:cNvPr id="106" name=""/>
            <p:cNvGrpSpPr/>
            <p:nvPr/>
          </p:nvGrpSpPr>
          <p:grpSpPr>
            <a:xfrm>
              <a:off x="3962520" y="2038320"/>
              <a:ext cx="2781360" cy="3200400"/>
              <a:chOff x="3962520" y="2038320"/>
              <a:chExt cx="2781360" cy="32004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62520" y="2038320"/>
                <a:ext cx="2023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61200" y="4552920"/>
                <a:ext cx="509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0960" y="205740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86440" y="3295440"/>
                <a:ext cx="757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43880" y="3295440"/>
                <a:ext cx="0" cy="19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819680" y="5294160"/>
              <a:ext cx="3909600" cy="405720"/>
              <a:chOff x="4819680" y="5294160"/>
              <a:chExt cx="3909600" cy="405720"/>
            </a:xfrm>
          </p:grpSpPr>
          <p:pic>
            <p:nvPicPr>
              <p:cNvPr id="1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19680" y="5352840"/>
                <a:ext cx="26676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066280" y="5294160"/>
                <a:ext cx="3663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é o melhor preditor linear de y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k+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8040" y="1351080"/>
            <a:ext cx="7421400" cy="1995480"/>
            <a:chOff x="608040" y="1351080"/>
            <a:chExt cx="7421400" cy="1995480"/>
          </a:xfrm>
        </p:grpSpPr>
        <p:sp>
          <p:nvSpPr>
            <p:cNvPr id="121" name=""/>
            <p:cNvSpPr/>
            <p:nvPr/>
          </p:nvSpPr>
          <p:spPr>
            <a:xfrm>
              <a:off x="608040" y="1351080"/>
              <a:ext cx="741204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a representar      em termos de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 não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-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...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3457440" y="409320"/>
              <a:ext cx="361800" cy="4019400"/>
            </a:xfrm>
            <a:custGeom>
              <a:avLst/>
              <a:gdLst>
                <a:gd name="textAreaLeft" fmla="*/ 231120 w 361800"/>
                <a:gd name="textAreaRight" fmla="*/ 362160 w 361800"/>
                <a:gd name="textAreaTop" fmla="*/ 104760 h 4019400"/>
                <a:gd name="textAreaBottom" fmla="*/ 3914640 h 40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6781680" y="1352160"/>
              <a:ext cx="361800" cy="2133720"/>
            </a:xfrm>
            <a:custGeom>
              <a:avLst/>
              <a:gdLst>
                <a:gd name="textAreaLeft" fmla="*/ 231120 w 361800"/>
                <a:gd name="textAreaRight" fmla="*/ 362160 w 3618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2590560" y="1504800"/>
              <a:ext cx="266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65560" y="2684520"/>
              <a:ext cx="111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508440" y="2635200"/>
              <a:ext cx="1079640" cy="7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1927080" y="3219480"/>
            <a:ext cx="5840640" cy="1458720"/>
            <a:chOff x="1927080" y="3219480"/>
            <a:chExt cx="5840640" cy="1458720"/>
          </a:xfrm>
        </p:grpSpPr>
        <p:sp>
          <p:nvSpPr>
            <p:cNvPr id="128" name=""/>
            <p:cNvSpPr/>
            <p:nvPr/>
          </p:nvSpPr>
          <p:spPr>
            <a:xfrm>
              <a:off x="1927080" y="3960720"/>
              <a:ext cx="58406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3219480"/>
              <a:ext cx="0" cy="628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2560" y="3313080"/>
              <a:ext cx="93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36880" y="4724280"/>
            <a:ext cx="4286880" cy="1204200"/>
            <a:chOff x="2936880" y="4724280"/>
            <a:chExt cx="4286880" cy="1204200"/>
          </a:xfrm>
        </p:grpSpPr>
        <p:sp>
          <p:nvSpPr>
            <p:cNvPr id="132" name=""/>
            <p:cNvSpPr/>
            <p:nvPr/>
          </p:nvSpPr>
          <p:spPr>
            <a:xfrm>
              <a:off x="4552920" y="4724280"/>
              <a:ext cx="0" cy="62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93760" y="4818240"/>
              <a:ext cx="243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36880" y="5522760"/>
              <a:ext cx="418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+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08120" y="1390680"/>
            <a:ext cx="7169040" cy="2434680"/>
            <a:chOff x="708120" y="1390680"/>
            <a:chExt cx="7169040" cy="2434680"/>
          </a:xfrm>
        </p:grpSpPr>
        <p:sp>
          <p:nvSpPr>
            <p:cNvPr id="141" name=""/>
            <p:cNvSpPr/>
            <p:nvPr/>
          </p:nvSpPr>
          <p:spPr>
            <a:xfrm>
              <a:off x="708120" y="2322720"/>
              <a:ext cx="41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+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60440" y="1398600"/>
              <a:ext cx="2916720" cy="24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-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... +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= 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24320" y="1390680"/>
              <a:ext cx="380880" cy="22860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46280" y="4254480"/>
            <a:ext cx="4388040" cy="1606680"/>
            <a:chOff x="2546280" y="4254480"/>
            <a:chExt cx="4388040" cy="1606680"/>
          </a:xfrm>
        </p:grpSpPr>
        <p:sp>
          <p:nvSpPr>
            <p:cNvPr id="145" name=""/>
            <p:cNvSpPr/>
            <p:nvPr/>
          </p:nvSpPr>
          <p:spPr>
            <a:xfrm>
              <a:off x="5200560" y="4629240"/>
              <a:ext cx="1733760" cy="87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565360" y="4254480"/>
              <a:ext cx="15750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2546280" y="5149800"/>
              <a:ext cx="1575000" cy="71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4286160" y="4610160"/>
              <a:ext cx="723960" cy="895320"/>
              <a:chOff x="4286160" y="4610160"/>
              <a:chExt cx="723960" cy="895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305240" y="4610160"/>
                <a:ext cx="704880" cy="44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4286160" y="5058000"/>
                <a:ext cx="70488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307120" y="4692600"/>
              <a:ext cx="1500120" cy="711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200" y="131292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Forma Preditora de Modelos AR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99200" y="2379600"/>
            <a:ext cx="3290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1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...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1 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... 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1 +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... +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46320" y="3187800"/>
            <a:ext cx="774720" cy="711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76200" y="356220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1320" y="356220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53080" y="31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96960" y="26082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81080" y="2057400"/>
            <a:ext cx="1180800" cy="1980720"/>
            <a:chOff x="1981080" y="2057400"/>
            <a:chExt cx="1180800" cy="1980720"/>
          </a:xfrm>
        </p:grpSpPr>
        <p:sp>
          <p:nvSpPr>
            <p:cNvPr id="165" name=""/>
            <p:cNvSpPr/>
            <p:nvPr/>
          </p:nvSpPr>
          <p:spPr>
            <a:xfrm>
              <a:off x="1981080" y="3105000"/>
              <a:ext cx="1180800" cy="933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2057400"/>
              <a:ext cx="1180800" cy="933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276200" y="251460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81320" y="251460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3080" y="2093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76680" y="2800440"/>
            <a:ext cx="444600" cy="469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5280" y="25146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8800" y="32828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019240" y="2197080"/>
            <a:ext cx="1104840" cy="711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09600" y="2398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09600" y="3294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048120"/>
            <a:ext cx="476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0960" y="4189320"/>
            <a:ext cx="355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C(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62920" y="4761000"/>
            <a:ext cx="5132160" cy="958680"/>
            <a:chOff x="862920" y="4761000"/>
            <a:chExt cx="5132160" cy="958680"/>
          </a:xfrm>
        </p:grpSpPr>
        <p:sp>
          <p:nvSpPr>
            <p:cNvPr id="179" name=""/>
            <p:cNvSpPr/>
            <p:nvPr/>
          </p:nvSpPr>
          <p:spPr>
            <a:xfrm>
              <a:off x="862920" y="4761000"/>
              <a:ext cx="513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ogamente ao caso anterior (ARMA), sej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00720" y="5351400"/>
              <a:ext cx="34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+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SPE - 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23160" y="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06840" y="473040"/>
            <a:ext cx="5670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ulador Auto-Sint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1800" y="1244520"/>
            <a:ext cx="3225600" cy="711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914400" y="1981080"/>
            <a:ext cx="5240880" cy="2489400"/>
            <a:chOff x="914400" y="1981080"/>
            <a:chExt cx="5240880" cy="2489400"/>
          </a:xfrm>
        </p:grpSpPr>
        <p:sp>
          <p:nvSpPr>
            <p:cNvPr id="188" name=""/>
            <p:cNvSpPr/>
            <p:nvPr/>
          </p:nvSpPr>
          <p:spPr>
            <a:xfrm>
              <a:off x="2748600" y="2208240"/>
              <a:ext cx="34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= 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F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+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1981080"/>
              <a:ext cx="0" cy="89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914400" y="2921040"/>
              <a:ext cx="5105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939960" y="3759120"/>
              <a:ext cx="4406760" cy="7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888840" y="4495680"/>
            <a:ext cx="6794640" cy="2095560"/>
            <a:chOff x="888840" y="4495680"/>
            <a:chExt cx="6794640" cy="2095560"/>
          </a:xfrm>
        </p:grpSpPr>
        <p:sp>
          <p:nvSpPr>
            <p:cNvPr id="193" name=""/>
            <p:cNvSpPr/>
            <p:nvPr/>
          </p:nvSpPr>
          <p:spPr>
            <a:xfrm>
              <a:off x="2590920" y="4495680"/>
              <a:ext cx="0" cy="127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7000" y="4646520"/>
              <a:ext cx="355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C(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2844720" y="4978440"/>
              <a:ext cx="3035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888840" y="5842080"/>
              <a:ext cx="6794640" cy="74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52:48Z</dcterms:created>
  <dc:creator>Takashi Yoneyama</dc:creator>
  <dc:description/>
  <dc:language>en-US</dc:language>
  <cp:lastModifiedBy>Otto Gottlieb</cp:lastModifiedBy>
  <dcterms:modified xsi:type="dcterms:W3CDTF">2002-09-13T00:34:40Z</dcterms:modified>
  <cp:revision>33</cp:revision>
  <dc:subject/>
  <dc:title>No Slide Title</dc:title>
</cp:coreProperties>
</file>