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61.wmf" ContentType="image/x-wmf"/>
  <Override PartName="/ppt/media/image96.wmf" ContentType="image/x-wmf"/>
  <Override PartName="/ppt/media/image72.wmf" ContentType="image/x-wmf"/>
  <Override PartName="/ppt/media/image23.wmf" ContentType="image/x-wmf"/>
  <Override PartName="/ppt/media/image60.wmf" ContentType="image/x-wmf"/>
  <Override PartName="/ppt/media/image95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4.wmf" ContentType="image/x-wmf"/>
  <Override PartName="/ppt/media/image73.wmf" ContentType="image/x-wmf"/>
  <Override PartName="/ppt/media/image20.wmf" ContentType="image/x-wmf"/>
  <Override PartName="/ppt/media/image57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82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24D7-6B29-4E34-83A3-97357086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DFE5-DAF9-4B04-B3D2-2D4874D9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6710-6FFF-43F1-8335-B0DADF71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E19D-78F0-4753-90AD-B227D0BB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6833-1DE2-4D38-9618-FFC1C4A7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6BDB-FBD9-447A-A1A7-9BDE633C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D172-083C-4E1E-9E08-3144516D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1B50-201F-4641-84BC-DAE4016F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C51E-79D5-4B4E-8134-12603E0E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A800-2AEE-4F34-99A6-D90BB8A4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AC13-FAEC-4230-8241-383B78A0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904D-1212-4F76-A809-C7A9BD01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C5F4-6C39-4ED9-8B8A-CA7F382AB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wmf"/><Relationship Id="rId3" Type="http://schemas.openxmlformats.org/officeDocument/2006/relationships/image" Target="../media/image7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26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26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40.wmf"/><Relationship Id="rId7" Type="http://schemas.openxmlformats.org/officeDocument/2006/relationships/image" Target="../media/image41.wmf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image" Target="../media/image51.wmf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26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53.wmf"/><Relationship Id="rId6" Type="http://schemas.openxmlformats.org/officeDocument/2006/relationships/image" Target="../media/image54.wmf"/><Relationship Id="rId7" Type="http://schemas.openxmlformats.org/officeDocument/2006/relationships/image" Target="../media/image55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26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56.wmf"/><Relationship Id="rId6" Type="http://schemas.openxmlformats.org/officeDocument/2006/relationships/image" Target="../media/image57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34.wmf"/><Relationship Id="rId3" Type="http://schemas.openxmlformats.org/officeDocument/2006/relationships/image" Target="../media/image56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51.wmf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34.wmf"/><Relationship Id="rId3" Type="http://schemas.openxmlformats.org/officeDocument/2006/relationships/image" Target="../media/image56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51.wmf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53.wmf"/><Relationship Id="rId5" Type="http://schemas.openxmlformats.org/officeDocument/2006/relationships/image" Target="../media/image61.wmf"/><Relationship Id="rId6" Type="http://schemas.openxmlformats.org/officeDocument/2006/relationships/image" Target="../media/image62.wmf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image" Target="../media/image66.wmf"/><Relationship Id="rId5" Type="http://schemas.openxmlformats.org/officeDocument/2006/relationships/image" Target="../media/image67.wmf"/><Relationship Id="rId6" Type="http://schemas.openxmlformats.org/officeDocument/2006/relationships/image" Target="../media/image68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53.wmf"/><Relationship Id="rId5" Type="http://schemas.openxmlformats.org/officeDocument/2006/relationships/image" Target="../media/image69.wmf"/><Relationship Id="rId6" Type="http://schemas.openxmlformats.org/officeDocument/2006/relationships/image" Target="../media/image70.wmf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image" Target="../media/image78.wmf"/><Relationship Id="rId5" Type="http://schemas.openxmlformats.org/officeDocument/2006/relationships/image" Target="../media/image7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image" Target="../media/image83.wmf"/><Relationship Id="rId3" Type="http://schemas.openxmlformats.org/officeDocument/2006/relationships/image" Target="../media/image84.wmf"/><Relationship Id="rId4" Type="http://schemas.openxmlformats.org/officeDocument/2006/relationships/image" Target="../media/image85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6.wmf"/><Relationship Id="rId2" Type="http://schemas.openxmlformats.org/officeDocument/2006/relationships/image" Target="../media/image87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image" Target="../media/image89.wmf"/><Relationship Id="rId3" Type="http://schemas.openxmlformats.org/officeDocument/2006/relationships/image" Target="../media/image90.wmf"/><Relationship Id="rId4" Type="http://schemas.openxmlformats.org/officeDocument/2006/relationships/image" Target="../media/image91.wmf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5.wmf"/><Relationship Id="rId3" Type="http://schemas.openxmlformats.org/officeDocument/2006/relationships/image" Target="../media/image96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2800" y="4395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886040" y="1104840"/>
            <a:ext cx="6324480" cy="266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08840" y="522360"/>
            <a:ext cx="24516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gra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106992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6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90800" y="1069920"/>
            <a:ext cx="5504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. (T) 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Simulação de Sist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abilidades e Processos Estocás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o Efeito de Ruído em Sistemas Line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800" y="217476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7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09520" y="2174760"/>
            <a:ext cx="580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Estimação Pontual, LSE, Cramér-Ra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LSE Batelada + Identificação Não-Param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stimação Recursiva, Regiões de Confiança, Or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Identificação Recurs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6800" y="329868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8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37960" y="3298680"/>
            <a:ext cx="5391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Filtragem. Projeção Ortogonal. Filtro de Kal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Filtro de Kalman Si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Filtro de Kalman Estendido. Divergê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e Métodos de Combate à Diverg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6800" y="44226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9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35440" y="4422600"/>
            <a:ext cx="575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Ótimo. Problema L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Realimentação Ótima de Es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lema LQG. Separação e Equivalência à Certe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Simulação de Malha Fechada LQ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85880" y="55404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0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6320" y="5540400"/>
            <a:ext cx="570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Adaptativo.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xame: Parte Teó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xame: Parte Pr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41280" y="143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44760" y="541440"/>
            <a:ext cx="23554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dentific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776680" y="2625840"/>
            <a:ext cx="3587760" cy="3487680"/>
            <a:chOff x="2776680" y="2625840"/>
            <a:chExt cx="3587760" cy="3487680"/>
          </a:xfrm>
        </p:grpSpPr>
        <p:sp>
          <p:nvSpPr>
            <p:cNvPr id="146" name=""/>
            <p:cNvSpPr/>
            <p:nvPr/>
          </p:nvSpPr>
          <p:spPr>
            <a:xfrm>
              <a:off x="3581280" y="4610160"/>
              <a:ext cx="1981440" cy="76212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17720" y="2666880"/>
              <a:ext cx="0" cy="232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17720" y="4991040"/>
              <a:ext cx="76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98280" y="4762440"/>
              <a:ext cx="17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dentific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562360" y="4991040"/>
              <a:ext cx="76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26280" y="2666880"/>
              <a:ext cx="0" cy="232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0" y="5372280"/>
              <a:ext cx="0" cy="55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76680" y="26258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88120" y="2627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4803840" y="5745240"/>
              <a:ext cx="147312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"/>
          <p:cNvSpPr/>
          <p:nvPr/>
        </p:nvSpPr>
        <p:spPr>
          <a:xfrm>
            <a:off x="3581280" y="2019240"/>
            <a:ext cx="1981440" cy="12956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99000" y="2144880"/>
            <a:ext cx="17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ci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he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26668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2666880"/>
            <a:ext cx="1276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347920" y="2286000"/>
            <a:ext cx="469800" cy="304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172200" y="2286000"/>
            <a:ext cx="482760" cy="304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124160" y="1467000"/>
            <a:ext cx="0" cy="55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3581280" y="3467160"/>
            <a:ext cx="2159280" cy="304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3581280" y="3772080"/>
            <a:ext cx="1600200" cy="3045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4194000" y="1289160"/>
            <a:ext cx="152640" cy="22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5111640" y="1246320"/>
            <a:ext cx="507960" cy="304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997520" y="1467000"/>
            <a:ext cx="0" cy="55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41280" y="143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50960" y="541440"/>
            <a:ext cx="39542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stimação de Es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2019240"/>
            <a:ext cx="1981440" cy="12956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50920" y="2316240"/>
            <a:ext cx="149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he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26668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62720" y="2666880"/>
            <a:ext cx="1276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347920" y="2286000"/>
            <a:ext cx="469800" cy="304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172200" y="2286000"/>
            <a:ext cx="482760" cy="304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338640" y="3762360"/>
            <a:ext cx="16002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2776680" y="2625840"/>
            <a:ext cx="3681360" cy="3413160"/>
            <a:chOff x="2776680" y="2625840"/>
            <a:chExt cx="3681360" cy="3413160"/>
          </a:xfrm>
        </p:grpSpPr>
        <p:sp>
          <p:nvSpPr>
            <p:cNvPr id="182" name=""/>
            <p:cNvSpPr/>
            <p:nvPr/>
          </p:nvSpPr>
          <p:spPr>
            <a:xfrm>
              <a:off x="6326280" y="2666880"/>
              <a:ext cx="0" cy="232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776680" y="2625840"/>
              <a:ext cx="3681360" cy="3413160"/>
              <a:chOff x="2776680" y="2625840"/>
              <a:chExt cx="3681360" cy="3413160"/>
            </a:xfrm>
          </p:grpSpPr>
          <p:sp>
            <p:nvSpPr>
              <p:cNvPr id="184" name=""/>
              <p:cNvSpPr/>
              <p:nvPr/>
            </p:nvSpPr>
            <p:spPr>
              <a:xfrm>
                <a:off x="3581280" y="4610160"/>
                <a:ext cx="1981440" cy="76212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817720" y="2666880"/>
                <a:ext cx="0" cy="2324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817720" y="4991040"/>
                <a:ext cx="763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43960" y="4800600"/>
                <a:ext cx="816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Filtr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5562360" y="4991040"/>
                <a:ext cx="763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572000" y="5372280"/>
                <a:ext cx="0" cy="552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776680" y="26258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288120" y="2627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705200" y="5695920"/>
                <a:ext cx="1752840" cy="343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3340080" y="3471840"/>
            <a:ext cx="2540160" cy="304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4635360" y="1274760"/>
            <a:ext cx="508320" cy="304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535640" y="1481040"/>
            <a:ext cx="0" cy="552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8840" y="1243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05640" y="541440"/>
            <a:ext cx="48610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trole Ótimo Estocá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98840" y="1830240"/>
            <a:ext cx="1981440" cy="12956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68480" y="2127240"/>
            <a:ext cx="149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he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78000" y="2478240"/>
            <a:ext cx="1320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80280" y="2478240"/>
            <a:ext cx="1811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165480" y="2097000"/>
            <a:ext cx="469800" cy="304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157640" y="3282840"/>
            <a:ext cx="2540160" cy="304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5452920" y="1085760"/>
            <a:ext cx="508320" cy="304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353200" y="1292400"/>
            <a:ext cx="0" cy="55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7736040" y="2097000"/>
            <a:ext cx="444240" cy="30492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095480" y="2111400"/>
            <a:ext cx="6454800" cy="3941640"/>
            <a:chOff x="1095480" y="2111400"/>
            <a:chExt cx="6454800" cy="3941640"/>
          </a:xfrm>
        </p:grpSpPr>
        <p:sp>
          <p:nvSpPr>
            <p:cNvPr id="212" name=""/>
            <p:cNvSpPr/>
            <p:nvPr/>
          </p:nvSpPr>
          <p:spPr>
            <a:xfrm>
              <a:off x="1095480" y="2111400"/>
              <a:ext cx="1981080" cy="76212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75120" y="2273400"/>
              <a:ext cx="163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ol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736720" y="5727600"/>
              <a:ext cx="2616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2736720" y="3125520"/>
              <a:ext cx="0" cy="260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79840" y="3017880"/>
              <a:ext cx="114120" cy="1141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2787480" y="2568600"/>
              <a:ext cx="454320" cy="46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12120" y="2500200"/>
              <a:ext cx="0" cy="355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549080" y="6053040"/>
              <a:ext cx="5962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1562040" y="2858760"/>
              <a:ext cx="0" cy="3179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3960" y="2438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594240" y="2436840"/>
            <a:ext cx="3584520" cy="3394080"/>
            <a:chOff x="3594240" y="2436840"/>
            <a:chExt cx="3584520" cy="3394080"/>
          </a:xfrm>
        </p:grpSpPr>
        <p:sp>
          <p:nvSpPr>
            <p:cNvPr id="223" name=""/>
            <p:cNvSpPr/>
            <p:nvPr/>
          </p:nvSpPr>
          <p:spPr>
            <a:xfrm flipH="1">
              <a:off x="3634920" y="2481120"/>
              <a:ext cx="1800" cy="232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35280" y="4802040"/>
              <a:ext cx="76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379920" y="4802040"/>
              <a:ext cx="76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43840" y="2478240"/>
              <a:ext cx="0" cy="232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94240" y="24368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02440" y="2438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92720" y="4162320"/>
              <a:ext cx="1981080" cy="129564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77200" y="4443480"/>
              <a:ext cx="127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un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 Cus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53200" y="5457960"/>
              <a:ext cx="0" cy="26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5"/>
            <a:stretch/>
          </p:blipFill>
          <p:spPr>
            <a:xfrm>
              <a:off x="5424480" y="5538960"/>
              <a:ext cx="635040" cy="291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1040" y="541440"/>
            <a:ext cx="35762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trole Adap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75160" y="1990800"/>
            <a:ext cx="1981080" cy="12952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92520" y="2116080"/>
            <a:ext cx="17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ci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he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79880" y="263844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241800" y="2257560"/>
            <a:ext cx="469800" cy="3045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7713720" y="2257560"/>
            <a:ext cx="482400" cy="3045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018040" y="1438200"/>
            <a:ext cx="0" cy="552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4475160" y="3438360"/>
            <a:ext cx="2158920" cy="304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4475160" y="3743280"/>
            <a:ext cx="1600200" cy="3049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5087880" y="1260360"/>
            <a:ext cx="152280" cy="2286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6005520" y="1217520"/>
            <a:ext cx="507960" cy="304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891040" y="1438200"/>
            <a:ext cx="0" cy="552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65960" y="2637000"/>
            <a:ext cx="1811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670200" y="2597040"/>
            <a:ext cx="3587760" cy="3184560"/>
            <a:chOff x="3670200" y="2597040"/>
            <a:chExt cx="3587760" cy="3184560"/>
          </a:xfrm>
        </p:grpSpPr>
        <p:sp>
          <p:nvSpPr>
            <p:cNvPr id="251" name=""/>
            <p:cNvSpPr/>
            <p:nvPr/>
          </p:nvSpPr>
          <p:spPr>
            <a:xfrm>
              <a:off x="4475160" y="4581360"/>
              <a:ext cx="1981080" cy="76212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11600" y="2638440"/>
              <a:ext cx="0" cy="232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711600" y="4962600"/>
              <a:ext cx="76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92160" y="4734000"/>
              <a:ext cx="17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dentific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6455880" y="4962600"/>
              <a:ext cx="76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19800" y="2638440"/>
              <a:ext cx="0" cy="232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70200" y="25970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82000" y="25988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7"/>
            <a:stretch/>
          </p:blipFill>
          <p:spPr>
            <a:xfrm>
              <a:off x="5567400" y="5413320"/>
              <a:ext cx="147312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468760" y="5357880"/>
              <a:ext cx="0" cy="26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193760" y="2013120"/>
            <a:ext cx="6442200" cy="3997080"/>
            <a:chOff x="1193760" y="2013120"/>
            <a:chExt cx="6442200" cy="3997080"/>
          </a:xfrm>
        </p:grpSpPr>
        <p:sp>
          <p:nvSpPr>
            <p:cNvPr id="262" name=""/>
            <p:cNvSpPr/>
            <p:nvPr/>
          </p:nvSpPr>
          <p:spPr>
            <a:xfrm>
              <a:off x="1193760" y="2013120"/>
              <a:ext cx="1981080" cy="129528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15360" y="2128680"/>
              <a:ext cx="1935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ol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Ótim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rametriz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97200" y="3365640"/>
              <a:ext cx="114120" cy="1141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2905200" y="2916360"/>
              <a:ext cx="453960" cy="46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597800" y="2658960"/>
              <a:ext cx="0" cy="334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1634760" y="6010200"/>
              <a:ext cx="5962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1647720" y="3321000"/>
              <a:ext cx="0" cy="268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59640" y="25970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852280" y="5627520"/>
              <a:ext cx="2616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852640" y="3463920"/>
              <a:ext cx="0" cy="216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924200" y="1352520"/>
            <a:ext cx="6324480" cy="266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08840" y="522360"/>
            <a:ext cx="24516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gra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0720" y="106992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6 set 02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90800" y="1069920"/>
            <a:ext cx="5504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. (P)  Simulação de Sist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abilidades e Processos Estocás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o Efeito de Ruído em Sistemas Line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9800" y="217476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7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09520" y="2174760"/>
            <a:ext cx="580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Estimação Pontual, LSE, Cramér-Ra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LSE Batelada + Identificação Não-Param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stimação Recursiva, Regiões de Confiança, Or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Identificação Recurs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6800" y="329868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8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37960" y="3298680"/>
            <a:ext cx="5391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Filtragem. Projeção Ortogonal. Filtro de Kal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Filtro de Kalman Si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Filtro de Kalman Estendido. Divergê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e Métodos de Combate à Diverg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6800" y="44226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9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35440" y="4422600"/>
            <a:ext cx="575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Ótimo. Problema L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Realimentação Ótima de Es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lema LQG. Separação e Equivalência à Certe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Simulação de Malha Fechada LQ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5880" y="55404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0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6320" y="5540400"/>
            <a:ext cx="570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Adaptativo.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xame: Parte Teó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xame: Parte Pr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45280" y="941400"/>
            <a:ext cx="55375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ática: Simulação de Sist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48800" y="2322360"/>
            <a:ext cx="7303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bter resposta degrau do Navion utilizando o modelo contínu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erificar a Controlabilidade e a Observabi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bter o modelo discretiz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sposta degrau do modelo discretiz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mular o sistema para entradas ruid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83080" y="541440"/>
            <a:ext cx="55375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ática: Simulação de Sist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aviao" descr=""/>
          <p:cNvPicPr/>
          <p:nvPr/>
        </p:nvPicPr>
        <p:blipFill>
          <a:blip r:embed="rId1"/>
          <a:stretch/>
        </p:blipFill>
        <p:spPr>
          <a:xfrm>
            <a:off x="1638360" y="1257480"/>
            <a:ext cx="6172200" cy="36525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1181160" y="5086440"/>
            <a:ext cx="6896160" cy="1333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83080" y="541440"/>
            <a:ext cx="55375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ática: Simulação de Sist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467480" cy="5588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2800" y="4395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6400" y="2489040"/>
            <a:ext cx="6103080" cy="131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Identificação, Estim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 Controle Estocást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94640" y="4307040"/>
            <a:ext cx="4844160" cy="106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akashi Yoney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TA - Divisão de Engenharia Eletrô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6 a 20 jun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68000" y="5402160"/>
            <a:ext cx="303660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ttp://www.ele.ita.cta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828800" y="1600200"/>
            <a:ext cx="6324480" cy="266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08840" y="522360"/>
            <a:ext cx="24516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gra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20720" y="106992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6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90800" y="1069920"/>
            <a:ext cx="5504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Simulação de Sist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3. (T)  Probabilidades e Processos Estocás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o Efeito de Ruído em Sistemas Line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39800" y="217476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7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09520" y="2174760"/>
            <a:ext cx="580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Estimação Pontual, LSE, Cramér-Ra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LSE Batelada + Identificação Não-Param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stimação Recursiva, Regiões de Confiança, Or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Identificação Recurs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6800" y="329868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8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037960" y="3298680"/>
            <a:ext cx="5391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Filtragem. Projeção Ortogonal. Filtro de Kal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Filtro de Kalman Si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Filtro de Kalman Estendido. Divergê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e Métodos de Combate à Diverg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6800" y="44226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9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35440" y="4422600"/>
            <a:ext cx="575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Ótimo. Problema L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Realimentação Ótima de Es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lema LQG. Separação e Equivalência à Certe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Simulação de Malha Fechada LQ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85880" y="55404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0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056320" y="5540400"/>
            <a:ext cx="570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Adaptativo.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xame: Parte Teó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xame: Parte Pr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28960" y="541440"/>
            <a:ext cx="68162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ementos da Teoria de Probabi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4840" y="1292400"/>
            <a:ext cx="49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. Espaço de Probabilidades: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 uma Trip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5281560" y="1343160"/>
            <a:ext cx="838080" cy="2919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92760" y="1749600"/>
            <a:ext cx="66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2. Espaço Amostral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 o conjunto dos resultados possív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97800" y="2249640"/>
            <a:ext cx="8215200" cy="2251080"/>
            <a:chOff x="397800" y="2249640"/>
            <a:chExt cx="8215200" cy="2251080"/>
          </a:xfrm>
        </p:grpSpPr>
        <p:sp>
          <p:nvSpPr>
            <p:cNvPr id="334" name=""/>
            <p:cNvSpPr/>
            <p:nvPr/>
          </p:nvSpPr>
          <p:spPr>
            <a:xfrm>
              <a:off x="397800" y="2249640"/>
              <a:ext cx="82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3. Classe de Eventos: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É a classe      de sub-conjuntos  de      que satisfaz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2"/>
            <a:stretch/>
          </p:blipFill>
          <p:spPr>
            <a:xfrm>
              <a:off x="4160880" y="2333520"/>
              <a:ext cx="2160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3"/>
            <a:stretch/>
          </p:blipFill>
          <p:spPr>
            <a:xfrm>
              <a:off x="6846840" y="2330280"/>
              <a:ext cx="2034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4"/>
            <a:stretch/>
          </p:blipFill>
          <p:spPr>
            <a:xfrm>
              <a:off x="1228680" y="2724120"/>
              <a:ext cx="201924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5"/>
            <a:stretch/>
          </p:blipFill>
          <p:spPr>
            <a:xfrm>
              <a:off x="1208160" y="3174840"/>
              <a:ext cx="323856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6"/>
            <a:stretch/>
          </p:blipFill>
          <p:spPr>
            <a:xfrm>
              <a:off x="1190520" y="3840120"/>
              <a:ext cx="3302280" cy="6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"/>
          <p:cNvGrpSpPr/>
          <p:nvPr/>
        </p:nvGrpSpPr>
        <p:grpSpPr>
          <a:xfrm>
            <a:off x="453960" y="4746600"/>
            <a:ext cx="8177400" cy="1521000"/>
            <a:chOff x="453960" y="4746600"/>
            <a:chExt cx="8177400" cy="1521000"/>
          </a:xfrm>
        </p:grpSpPr>
        <p:sp>
          <p:nvSpPr>
            <p:cNvPr id="341" name=""/>
            <p:cNvSpPr/>
            <p:nvPr/>
          </p:nvSpPr>
          <p:spPr>
            <a:xfrm>
              <a:off x="453960" y="4746600"/>
              <a:ext cx="75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4. Medida de Probabilidade: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É uma função P:                  tal que, pa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2" name="" descr=""/>
            <p:cNvPicPr/>
            <p:nvPr/>
          </p:nvPicPr>
          <p:blipFill>
            <a:blip r:embed="rId7"/>
            <a:stretch/>
          </p:blipFill>
          <p:spPr>
            <a:xfrm>
              <a:off x="5460840" y="4799160"/>
              <a:ext cx="9273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8"/>
            <a:stretch/>
          </p:blipFill>
          <p:spPr>
            <a:xfrm>
              <a:off x="8021520" y="4826160"/>
              <a:ext cx="60984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9"/>
            <a:stretch/>
          </p:blipFill>
          <p:spPr>
            <a:xfrm>
              <a:off x="1179360" y="5276880"/>
              <a:ext cx="4737240" cy="990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28960" y="541440"/>
            <a:ext cx="68162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ementos da Teoria de Probabi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22360" y="1389240"/>
            <a:ext cx="34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5. Probabilidade Condiciona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4059360" y="1295280"/>
            <a:ext cx="1866600" cy="6098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2955960" y="2106720"/>
            <a:ext cx="3274920" cy="206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94120" y="2873520"/>
            <a:ext cx="1889280" cy="10238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73560" y="2338560"/>
            <a:ext cx="1485720" cy="106812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94120" y="2873520"/>
            <a:ext cx="966960" cy="5331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5360" y="2344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91360" y="3508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4100400" y="3052800"/>
            <a:ext cx="622440" cy="2160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5911920" y="2214720"/>
            <a:ext cx="203040" cy="215640"/>
          </a:xfrm>
          <a:prstGeom prst="rect">
            <a:avLst/>
          </a:prstGeom>
          <a:ln w="0">
            <a:noFill/>
          </a:ln>
        </p:spPr>
      </p:pic>
      <p:grpSp>
        <p:nvGrpSpPr>
          <p:cNvPr id="360" name=""/>
          <p:cNvGrpSpPr/>
          <p:nvPr/>
        </p:nvGrpSpPr>
        <p:grpSpPr>
          <a:xfrm>
            <a:off x="806400" y="4427640"/>
            <a:ext cx="6732720" cy="2009520"/>
            <a:chOff x="806400" y="4427640"/>
            <a:chExt cx="6732720" cy="2009520"/>
          </a:xfrm>
        </p:grpSpPr>
        <p:sp>
          <p:nvSpPr>
            <p:cNvPr id="361" name=""/>
            <p:cNvSpPr/>
            <p:nvPr/>
          </p:nvSpPr>
          <p:spPr>
            <a:xfrm>
              <a:off x="806400" y="442764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Exemplo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2" name="" descr=""/>
            <p:cNvPicPr/>
            <p:nvPr/>
          </p:nvPicPr>
          <p:blipFill>
            <a:blip r:embed="rId4"/>
            <a:stretch/>
          </p:blipFill>
          <p:spPr>
            <a:xfrm>
              <a:off x="4376880" y="4875120"/>
              <a:ext cx="31622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5"/>
            <a:stretch/>
          </p:blipFill>
          <p:spPr>
            <a:xfrm>
              <a:off x="1635120" y="4903920"/>
              <a:ext cx="2095560" cy="901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28960" y="541440"/>
            <a:ext cx="68162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ementos da Teoria de Probabi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2360" y="1389240"/>
            <a:ext cx="34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5. Probabilidade Condiciona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059360" y="1295280"/>
            <a:ext cx="1866600" cy="6098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2955960" y="2106720"/>
            <a:ext cx="3274920" cy="206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94120" y="2873520"/>
            <a:ext cx="1889280" cy="10238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373560" y="2338560"/>
            <a:ext cx="1485720" cy="106812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94120" y="2873520"/>
            <a:ext cx="966960" cy="5331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75360" y="2344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91360" y="3508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4100400" y="3052800"/>
            <a:ext cx="622440" cy="2160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5911920" y="2214720"/>
            <a:ext cx="203040" cy="215640"/>
          </a:xfrm>
          <a:prstGeom prst="rect">
            <a:avLst/>
          </a:prstGeom>
          <a:ln w="0">
            <a:noFill/>
          </a:ln>
        </p:spPr>
      </p:pic>
      <p:grpSp>
        <p:nvGrpSpPr>
          <p:cNvPr id="379" name=""/>
          <p:cNvGrpSpPr/>
          <p:nvPr/>
        </p:nvGrpSpPr>
        <p:grpSpPr>
          <a:xfrm>
            <a:off x="590400" y="4354560"/>
            <a:ext cx="7167600" cy="1817640"/>
            <a:chOff x="590400" y="4354560"/>
            <a:chExt cx="7167600" cy="1817640"/>
          </a:xfrm>
        </p:grpSpPr>
        <p:sp>
          <p:nvSpPr>
            <p:cNvPr id="380" name=""/>
            <p:cNvSpPr/>
            <p:nvPr/>
          </p:nvSpPr>
          <p:spPr>
            <a:xfrm>
              <a:off x="590400" y="4354560"/>
              <a:ext cx="25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6. Fórmula de Bayes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1" name="" descr=""/>
            <p:cNvPicPr/>
            <p:nvPr/>
          </p:nvPicPr>
          <p:blipFill>
            <a:blip r:embed="rId4"/>
            <a:stretch/>
          </p:blipFill>
          <p:spPr>
            <a:xfrm>
              <a:off x="1962000" y="4915080"/>
              <a:ext cx="1879920" cy="12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5"/>
            <a:stretch/>
          </p:blipFill>
          <p:spPr>
            <a:xfrm>
              <a:off x="5572080" y="5232240"/>
              <a:ext cx="218592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4343400" y="5541840"/>
              <a:ext cx="90972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28960" y="541440"/>
            <a:ext cx="68162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ementos da Teoria de Probabi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24160" y="1389240"/>
            <a:ext cx="21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7. Independênci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830240" y="1914480"/>
            <a:ext cx="863640" cy="2667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1825560" y="2247840"/>
            <a:ext cx="5004000" cy="292320"/>
          </a:xfrm>
          <a:prstGeom prst="rect">
            <a:avLst/>
          </a:prstGeom>
          <a:ln w="0">
            <a:noFill/>
          </a:ln>
        </p:spPr>
      </p:pic>
      <p:grpSp>
        <p:nvGrpSpPr>
          <p:cNvPr id="392" name=""/>
          <p:cNvGrpSpPr/>
          <p:nvPr/>
        </p:nvGrpSpPr>
        <p:grpSpPr>
          <a:xfrm>
            <a:off x="547200" y="2970360"/>
            <a:ext cx="6696000" cy="2976480"/>
            <a:chOff x="547200" y="2970360"/>
            <a:chExt cx="6696000" cy="2976480"/>
          </a:xfrm>
        </p:grpSpPr>
        <p:sp>
          <p:nvSpPr>
            <p:cNvPr id="393" name=""/>
            <p:cNvSpPr/>
            <p:nvPr/>
          </p:nvSpPr>
          <p:spPr>
            <a:xfrm>
              <a:off x="547200" y="2970360"/>
              <a:ext cx="274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8. Variáveis Aleatórias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4" name="" descr=""/>
            <p:cNvPicPr/>
            <p:nvPr/>
          </p:nvPicPr>
          <p:blipFill>
            <a:blip r:embed="rId3"/>
            <a:stretch/>
          </p:blipFill>
          <p:spPr>
            <a:xfrm>
              <a:off x="3274920" y="3046320"/>
              <a:ext cx="97812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2452680" y="3564000"/>
              <a:ext cx="4241880" cy="982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64000" y="41180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897960" y="5086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tretch/>
          </p:blipFill>
          <p:spPr>
            <a:xfrm>
              <a:off x="2552760" y="3657600"/>
              <a:ext cx="203040" cy="2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2140200" y="5578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0" name="" descr=""/>
            <p:cNvPicPr/>
            <p:nvPr/>
          </p:nvPicPr>
          <p:blipFill>
            <a:blip r:embed="rId5"/>
            <a:stretch/>
          </p:blipFill>
          <p:spPr>
            <a:xfrm>
              <a:off x="3343320" y="409428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/>
            <p:cNvPicPr/>
            <p:nvPr/>
          </p:nvPicPr>
          <p:blipFill>
            <a:blip r:embed="rId6"/>
            <a:stretch/>
          </p:blipFill>
          <p:spPr>
            <a:xfrm>
              <a:off x="3389400" y="5548320"/>
              <a:ext cx="45720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2133720" y="5499000"/>
              <a:ext cx="509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606840" y="4170240"/>
              <a:ext cx="0" cy="13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2265480" y="5392440"/>
              <a:ext cx="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28960" y="541440"/>
            <a:ext cx="68162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ementos da Teoria de Probabi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25240" y="138924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xempl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075040" y="3102120"/>
            <a:ext cx="5094000" cy="2395440"/>
            <a:chOff x="2075040" y="3102120"/>
            <a:chExt cx="5094000" cy="2395440"/>
          </a:xfrm>
        </p:grpSpPr>
        <p:sp>
          <p:nvSpPr>
            <p:cNvPr id="412" name=""/>
            <p:cNvSpPr/>
            <p:nvPr/>
          </p:nvSpPr>
          <p:spPr>
            <a:xfrm>
              <a:off x="2394000" y="3102120"/>
              <a:ext cx="4241880" cy="982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58360" y="4624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"/>
            <a:stretch/>
          </p:blipFill>
          <p:spPr>
            <a:xfrm>
              <a:off x="2494080" y="3195720"/>
              <a:ext cx="203040" cy="2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345200" y="5116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5668920" y="4265640"/>
              <a:ext cx="45720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2075040" y="5037120"/>
              <a:ext cx="509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475160" y="4922640"/>
              <a:ext cx="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3336840" y="3443400"/>
              <a:ext cx="2419200" cy="368280"/>
              <a:chOff x="3336840" y="3443400"/>
              <a:chExt cx="2419200" cy="368280"/>
            </a:xfrm>
          </p:grpSpPr>
          <p:grpSp>
            <p:nvGrpSpPr>
              <p:cNvPr id="420" name=""/>
              <p:cNvGrpSpPr/>
              <p:nvPr/>
            </p:nvGrpSpPr>
            <p:grpSpPr>
              <a:xfrm>
                <a:off x="5405400" y="3443400"/>
                <a:ext cx="350640" cy="365400"/>
                <a:chOff x="5405400" y="3443400"/>
                <a:chExt cx="350640" cy="36540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405400" y="3443400"/>
                  <a:ext cx="350640" cy="36540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556600" y="3503880"/>
                  <a:ext cx="51840" cy="55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452200" y="3505320"/>
                  <a:ext cx="51840" cy="55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658840" y="3503160"/>
                  <a:ext cx="51840" cy="55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5452200" y="3682800"/>
                  <a:ext cx="51840" cy="55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558040" y="3685680"/>
                  <a:ext cx="51840" cy="55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657400" y="3688200"/>
                  <a:ext cx="51840" cy="55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4573440" y="3446640"/>
                <a:ext cx="350640" cy="365040"/>
                <a:chOff x="4573440" y="3446640"/>
                <a:chExt cx="350640" cy="36504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4573440" y="3446640"/>
                  <a:ext cx="350640" cy="3650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636800" y="3508560"/>
                  <a:ext cx="52200" cy="55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814640" y="3506760"/>
                  <a:ext cx="52200" cy="55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636800" y="3692520"/>
                  <a:ext cx="52200" cy="55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809960" y="3694320"/>
                  <a:ext cx="52200" cy="55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3746160" y="3446640"/>
                <a:ext cx="350640" cy="365040"/>
                <a:chOff x="3746160" y="3446640"/>
                <a:chExt cx="350640" cy="36504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3746160" y="3446640"/>
                  <a:ext cx="350640" cy="3650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816000" y="3689640"/>
                  <a:ext cx="52200" cy="55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979440" y="3516480"/>
                  <a:ext cx="52200" cy="55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3336840" y="3446640"/>
                <a:ext cx="350640" cy="365040"/>
                <a:chOff x="3336840" y="3446640"/>
                <a:chExt cx="350640" cy="36504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3336840" y="3446640"/>
                  <a:ext cx="350640" cy="3650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489120" y="3605400"/>
                  <a:ext cx="51840" cy="55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4989240" y="3446640"/>
                <a:ext cx="351000" cy="365040"/>
                <a:chOff x="4989240" y="3446640"/>
                <a:chExt cx="351000" cy="36504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4989240" y="3446640"/>
                  <a:ext cx="351000" cy="3650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052960" y="3508560"/>
                  <a:ext cx="52200" cy="55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230440" y="3506760"/>
                  <a:ext cx="52560" cy="55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052960" y="3692520"/>
                  <a:ext cx="52200" cy="55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5225760" y="3693960"/>
                  <a:ext cx="52560" cy="55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5136840" y="3598920"/>
                  <a:ext cx="52560" cy="55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4155840" y="3446640"/>
                <a:ext cx="350640" cy="365040"/>
                <a:chOff x="4155840" y="3446640"/>
                <a:chExt cx="350640" cy="36504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4155840" y="3446640"/>
                  <a:ext cx="350640" cy="3650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397040" y="3507120"/>
                  <a:ext cx="52200" cy="55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219200" y="3692880"/>
                  <a:ext cx="52560" cy="55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4303440" y="3598920"/>
                  <a:ext cx="52200" cy="55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3" name=""/>
            <p:cNvSpPr/>
            <p:nvPr/>
          </p:nvSpPr>
          <p:spPr>
            <a:xfrm flipV="1">
              <a:off x="5621400" y="4924080"/>
              <a:ext cx="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3749760" y="4924080"/>
              <a:ext cx="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96320" y="512928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357880" y="5129280"/>
              <a:ext cx="5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3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924360" y="3809880"/>
              <a:ext cx="1674720" cy="118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46600" y="3809880"/>
              <a:ext cx="85428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84680" y="3809880"/>
              <a:ext cx="28800" cy="10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521160" y="3824280"/>
              <a:ext cx="215640" cy="11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3750840" y="3809880"/>
              <a:ext cx="577800" cy="11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3794040" y="3809880"/>
              <a:ext cx="1386000" cy="11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2000160" y="1868400"/>
            <a:ext cx="2260800" cy="64764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4"/>
          <a:stretch/>
        </p:blipFill>
        <p:spPr>
          <a:xfrm>
            <a:off x="1984320" y="1425600"/>
            <a:ext cx="1625760" cy="291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128960" y="541440"/>
            <a:ext cx="68162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ementos da Teoria de Probabi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22720" y="1389240"/>
            <a:ext cx="46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9. Função Distribuição de Probabilidad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509920" y="2394000"/>
            <a:ext cx="4241880" cy="982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97960" y="5086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441880" y="560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133720" y="5499000"/>
            <a:ext cx="509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711520" y="3762360"/>
            <a:ext cx="0" cy="18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5234040" y="1414440"/>
            <a:ext cx="2057400" cy="3430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4692600" y="5668920"/>
            <a:ext cx="139680" cy="26676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4721040" y="5354640"/>
            <a:ext cx="90360" cy="282600"/>
            <a:chOff x="4721040" y="5354640"/>
            <a:chExt cx="90360" cy="282600"/>
          </a:xfrm>
        </p:grpSpPr>
        <p:sp>
          <p:nvSpPr>
            <p:cNvPr id="479" name=""/>
            <p:cNvSpPr/>
            <p:nvPr/>
          </p:nvSpPr>
          <p:spPr>
            <a:xfrm>
              <a:off x="4808520" y="5354640"/>
              <a:ext cx="0" cy="28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4721040" y="5368680"/>
              <a:ext cx="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4721040" y="5622840"/>
              <a:ext cx="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2120760" y="5442120"/>
            <a:ext cx="2670480" cy="114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805280" y="2279160"/>
            <a:ext cx="0" cy="3117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527200" y="2409840"/>
            <a:ext cx="2279880" cy="96660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2610000" y="2487600"/>
            <a:ext cx="203040" cy="2160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621240" y="29480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4"/>
          <a:stretch/>
        </p:blipFill>
        <p:spPr>
          <a:xfrm>
            <a:off x="3400560" y="2924280"/>
            <a:ext cx="177840" cy="17784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5"/>
          <a:stretch/>
        </p:blipFill>
        <p:spPr>
          <a:xfrm>
            <a:off x="3448080" y="5619600"/>
            <a:ext cx="457200" cy="29232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3665520" y="29876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6"/>
          <a:stretch/>
        </p:blipFill>
        <p:spPr>
          <a:xfrm>
            <a:off x="2374920" y="3657600"/>
            <a:ext cx="241200" cy="30492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7"/>
          <a:stretch/>
        </p:blipFill>
        <p:spPr>
          <a:xfrm>
            <a:off x="1200240" y="4302000"/>
            <a:ext cx="1320840" cy="3430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2655720" y="4473720"/>
            <a:ext cx="226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61000" y="44290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28960" y="541440"/>
            <a:ext cx="68162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ementos da Teoria de Probabi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22720" y="1389240"/>
            <a:ext cx="46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9. Função Distribuição de Probabilidad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5234040" y="1414440"/>
            <a:ext cx="2057400" cy="34308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517680" y="1946160"/>
            <a:ext cx="47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0. Propriedades da Função Distribuiçã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2585880" y="2631960"/>
            <a:ext cx="3772080" cy="1778040"/>
          </a:xfrm>
          <a:prstGeom prst="rect">
            <a:avLst/>
          </a:prstGeom>
          <a:ln w="0">
            <a:noFill/>
          </a:ln>
        </p:spPr>
      </p:pic>
      <p:grpSp>
        <p:nvGrpSpPr>
          <p:cNvPr id="503" name=""/>
          <p:cNvGrpSpPr/>
          <p:nvPr/>
        </p:nvGrpSpPr>
        <p:grpSpPr>
          <a:xfrm>
            <a:off x="661680" y="4818240"/>
            <a:ext cx="4642920" cy="1214280"/>
            <a:chOff x="661680" y="4818240"/>
            <a:chExt cx="4642920" cy="1214280"/>
          </a:xfrm>
        </p:grpSpPr>
        <p:sp>
          <p:nvSpPr>
            <p:cNvPr id="504" name=""/>
            <p:cNvSpPr/>
            <p:nvPr/>
          </p:nvSpPr>
          <p:spPr>
            <a:xfrm>
              <a:off x="661680" y="4818240"/>
              <a:ext cx="464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11. Função Densidade de Probabilidade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3097080" y="5423040"/>
              <a:ext cx="142236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128960" y="541440"/>
            <a:ext cx="68162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ementos da Teoria de Probabi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95080" y="1287360"/>
            <a:ext cx="53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2. Distribuição Condicional de Probabilidad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5102280" y="1825560"/>
            <a:ext cx="2120760" cy="64764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2362320" y="1976400"/>
            <a:ext cx="2717640" cy="343080"/>
          </a:xfrm>
          <a:prstGeom prst="rect">
            <a:avLst/>
          </a:prstGeom>
          <a:ln w="0">
            <a:noFill/>
          </a:ln>
        </p:spPr>
      </p:pic>
      <p:grpSp>
        <p:nvGrpSpPr>
          <p:cNvPr id="514" name=""/>
          <p:cNvGrpSpPr/>
          <p:nvPr/>
        </p:nvGrpSpPr>
        <p:grpSpPr>
          <a:xfrm>
            <a:off x="1011240" y="2797200"/>
            <a:ext cx="7397640" cy="3840120"/>
            <a:chOff x="1011240" y="2797200"/>
            <a:chExt cx="7397640" cy="3840120"/>
          </a:xfrm>
        </p:grpSpPr>
        <p:sp>
          <p:nvSpPr>
            <p:cNvPr id="515" name=""/>
            <p:cNvSpPr/>
            <p:nvPr/>
          </p:nvSpPr>
          <p:spPr>
            <a:xfrm>
              <a:off x="1011240" y="29242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Exemplo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6" name="" descr=""/>
            <p:cNvPicPr/>
            <p:nvPr/>
          </p:nvPicPr>
          <p:blipFill>
            <a:blip r:embed="rId3"/>
            <a:stretch/>
          </p:blipFill>
          <p:spPr>
            <a:xfrm>
              <a:off x="2263680" y="2944800"/>
              <a:ext cx="16192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" descr=""/>
            <p:cNvPicPr/>
            <p:nvPr/>
          </p:nvPicPr>
          <p:blipFill>
            <a:blip r:embed="rId4"/>
            <a:stretch/>
          </p:blipFill>
          <p:spPr>
            <a:xfrm>
              <a:off x="1494000" y="3654360"/>
              <a:ext cx="6476760" cy="10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" descr=""/>
            <p:cNvPicPr/>
            <p:nvPr/>
          </p:nvPicPr>
          <p:blipFill>
            <a:blip r:embed="rId5"/>
            <a:stretch/>
          </p:blipFill>
          <p:spPr>
            <a:xfrm>
              <a:off x="4141800" y="2797200"/>
              <a:ext cx="42670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 flipV="1">
              <a:off x="3535200" y="4747680"/>
              <a:ext cx="0" cy="155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146400" y="6205680"/>
              <a:ext cx="344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33680" y="5138640"/>
              <a:ext cx="2843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150000" y="4941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569400" y="461016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535200" y="5153040"/>
              <a:ext cx="2583000" cy="1052640"/>
            </a:xfrm>
            <a:custGeom>
              <a:avLst/>
              <a:gdLst/>
              <a:ahLst/>
              <a:rect l="l" t="t" r="r" b="b"/>
              <a:pathLst>
                <a:path w="1627" h="663">
                  <a:moveTo>
                    <a:pt x="0" y="663"/>
                  </a:moveTo>
                  <a:cubicBezTo>
                    <a:pt x="91" y="650"/>
                    <a:pt x="401" y="635"/>
                    <a:pt x="545" y="582"/>
                  </a:cubicBezTo>
                  <a:cubicBezTo>
                    <a:pt x="689" y="529"/>
                    <a:pt x="763" y="428"/>
                    <a:pt x="864" y="345"/>
                  </a:cubicBezTo>
                  <a:cubicBezTo>
                    <a:pt x="965" y="262"/>
                    <a:pt x="1076" y="136"/>
                    <a:pt x="1154" y="82"/>
                  </a:cubicBezTo>
                  <a:cubicBezTo>
                    <a:pt x="1232" y="28"/>
                    <a:pt x="1257" y="32"/>
                    <a:pt x="1336" y="18"/>
                  </a:cubicBezTo>
                  <a:cubicBezTo>
                    <a:pt x="1415" y="4"/>
                    <a:pt x="1567" y="4"/>
                    <a:pt x="1627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3592440" y="5122800"/>
              <a:ext cx="2092320" cy="1068480"/>
              <a:chOff x="3592440" y="5122800"/>
              <a:chExt cx="2092320" cy="1068480"/>
            </a:xfrm>
          </p:grpSpPr>
          <p:sp>
            <p:nvSpPr>
              <p:cNvPr id="526" name=""/>
              <p:cNvSpPr/>
              <p:nvPr/>
            </p:nvSpPr>
            <p:spPr>
              <a:xfrm>
                <a:off x="3592440" y="5122800"/>
                <a:ext cx="1386000" cy="1068480"/>
              </a:xfrm>
              <a:custGeom>
                <a:avLst/>
                <a:gdLst/>
                <a:ahLst/>
                <a:rect l="l" t="t" r="r" b="b"/>
                <a:pathLst>
                  <a:path w="855" h="654">
                    <a:moveTo>
                      <a:pt x="0" y="654"/>
                    </a:moveTo>
                    <a:cubicBezTo>
                      <a:pt x="79" y="627"/>
                      <a:pt x="331" y="600"/>
                      <a:pt x="473" y="491"/>
                    </a:cubicBezTo>
                    <a:cubicBezTo>
                      <a:pt x="615" y="382"/>
                      <a:pt x="776" y="102"/>
                      <a:pt x="855" y="0"/>
                    </a:cubicBezTo>
                  </a:path>
                </a:pathLst>
              </a:custGeom>
              <a:noFill/>
              <a:ln w="1908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964040" y="5138640"/>
                <a:ext cx="720720" cy="0"/>
              </a:xfrm>
              <a:prstGeom prst="line">
                <a:avLst/>
              </a:prstGeom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4950000" y="5008680"/>
              <a:ext cx="0" cy="1341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9" name="" descr=""/>
            <p:cNvPicPr/>
            <p:nvPr/>
          </p:nvPicPr>
          <p:blipFill>
            <a:blip r:embed="rId6"/>
            <a:stretch/>
          </p:blipFill>
          <p:spPr>
            <a:xfrm>
              <a:off x="1468440" y="5303880"/>
              <a:ext cx="1590840" cy="30492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sp>
          <p:nvSpPr>
            <p:cNvPr id="530" name=""/>
            <p:cNvSpPr/>
            <p:nvPr/>
          </p:nvSpPr>
          <p:spPr>
            <a:xfrm>
              <a:off x="3059280" y="5456160"/>
              <a:ext cx="1442880" cy="31752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1" name="" descr=""/>
            <p:cNvPicPr/>
            <p:nvPr/>
          </p:nvPicPr>
          <p:blipFill>
            <a:blip r:embed="rId7"/>
            <a:stretch/>
          </p:blipFill>
          <p:spPr>
            <a:xfrm>
              <a:off x="5668920" y="5649840"/>
              <a:ext cx="523800" cy="30492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532" name=""/>
            <p:cNvSpPr/>
            <p:nvPr/>
          </p:nvSpPr>
          <p:spPr>
            <a:xfrm flipH="1" flipV="1">
              <a:off x="5194080" y="5470200"/>
              <a:ext cx="461880" cy="3459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812120" y="6269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4" name="" descr=""/>
            <p:cNvPicPr/>
            <p:nvPr/>
          </p:nvPicPr>
          <p:blipFill>
            <a:blip r:embed="rId8"/>
            <a:stretch/>
          </p:blipFill>
          <p:spPr>
            <a:xfrm>
              <a:off x="6521400" y="5913360"/>
              <a:ext cx="142920" cy="266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128960" y="541440"/>
            <a:ext cx="68162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ementos da Teoria de Probabi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13080" y="1690560"/>
            <a:ext cx="442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3. Funções de uma variável aleatóri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3176640" y="2378160"/>
            <a:ext cx="2390760" cy="291960"/>
          </a:xfrm>
          <a:prstGeom prst="rect">
            <a:avLst/>
          </a:prstGeom>
          <a:ln w="0">
            <a:noFill/>
          </a:ln>
        </p:spPr>
      </p:pic>
      <p:grpSp>
        <p:nvGrpSpPr>
          <p:cNvPr id="542" name=""/>
          <p:cNvGrpSpPr/>
          <p:nvPr/>
        </p:nvGrpSpPr>
        <p:grpSpPr>
          <a:xfrm>
            <a:off x="2352600" y="3065400"/>
            <a:ext cx="4816440" cy="2732040"/>
            <a:chOff x="2352600" y="3065400"/>
            <a:chExt cx="4816440" cy="2732040"/>
          </a:xfrm>
        </p:grpSpPr>
        <p:sp>
          <p:nvSpPr>
            <p:cNvPr id="543" name=""/>
            <p:cNvSpPr/>
            <p:nvPr/>
          </p:nvSpPr>
          <p:spPr>
            <a:xfrm>
              <a:off x="2352600" y="3421080"/>
              <a:ext cx="749520" cy="1284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4529160" y="3200400"/>
              <a:ext cx="0" cy="18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5" name="" descr=""/>
            <p:cNvPicPr/>
            <p:nvPr/>
          </p:nvPicPr>
          <p:blipFill>
            <a:blip r:embed="rId2"/>
            <a:stretch/>
          </p:blipFill>
          <p:spPr>
            <a:xfrm>
              <a:off x="2451240" y="3470400"/>
              <a:ext cx="203040" cy="2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2870280" y="40734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7" name="" descr=""/>
            <p:cNvPicPr/>
            <p:nvPr/>
          </p:nvPicPr>
          <p:blipFill>
            <a:blip r:embed="rId3"/>
            <a:stretch/>
          </p:blipFill>
          <p:spPr>
            <a:xfrm>
              <a:off x="2649600" y="404964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" descr=""/>
            <p:cNvPicPr/>
            <p:nvPr/>
          </p:nvPicPr>
          <p:blipFill>
            <a:blip r:embed="rId4"/>
            <a:stretch/>
          </p:blipFill>
          <p:spPr>
            <a:xfrm>
              <a:off x="3478320" y="3787920"/>
              <a:ext cx="45720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 flipV="1">
              <a:off x="6615000" y="3182400"/>
              <a:ext cx="0" cy="183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900520" y="4113360"/>
              <a:ext cx="163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30600" y="411336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64360" y="3065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556520" y="3073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4" name="" descr=""/>
            <p:cNvPicPr/>
            <p:nvPr/>
          </p:nvPicPr>
          <p:blipFill>
            <a:blip r:embed="rId5"/>
            <a:stretch/>
          </p:blipFill>
          <p:spPr>
            <a:xfrm>
              <a:off x="6711840" y="3965400"/>
              <a:ext cx="45720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" descr=""/>
            <p:cNvPicPr/>
            <p:nvPr/>
          </p:nvPicPr>
          <p:blipFill>
            <a:blip r:embed="rId6"/>
            <a:stretch/>
          </p:blipFill>
          <p:spPr>
            <a:xfrm>
              <a:off x="4667400" y="3763800"/>
              <a:ext cx="171432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" descr=""/>
            <p:cNvPicPr/>
            <p:nvPr/>
          </p:nvPicPr>
          <p:blipFill>
            <a:blip r:embed="rId7"/>
            <a:stretch/>
          </p:blipFill>
          <p:spPr>
            <a:xfrm>
              <a:off x="3444840" y="5454720"/>
              <a:ext cx="2116080" cy="342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08840" y="522360"/>
            <a:ext cx="24516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gra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20720" y="1069920"/>
            <a:ext cx="6774120" cy="1067400"/>
            <a:chOff x="720720" y="1069920"/>
            <a:chExt cx="6774120" cy="1067400"/>
          </a:xfrm>
        </p:grpSpPr>
        <p:sp>
          <p:nvSpPr>
            <p:cNvPr id="56" name=""/>
            <p:cNvSpPr/>
            <p:nvPr/>
          </p:nvSpPr>
          <p:spPr>
            <a:xfrm>
              <a:off x="720720" y="1069920"/>
              <a:ext cx="1093680" cy="337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16 set 02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90800" y="1069920"/>
              <a:ext cx="5504040" cy="10674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1. (T)  Introdu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2. (P)  Simulação de Sistem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3. (T)  Probabilidades e Processos Estocástic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4. (P)  Estudo do Efeito de Ruído em Sistemas Linea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128960" y="541440"/>
            <a:ext cx="68162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ementos da Teoria de Probabi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5240" y="138924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4. Médi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509920" y="2394000"/>
            <a:ext cx="4241880" cy="982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441880" y="560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133720" y="5499000"/>
            <a:ext cx="509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2711520" y="3762360"/>
            <a:ext cx="0" cy="18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6943680" y="5149800"/>
            <a:ext cx="139680" cy="26676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3494160" y="2409840"/>
            <a:ext cx="360360" cy="966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2610000" y="2487600"/>
            <a:ext cx="203040" cy="21600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3621240" y="29480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3"/>
          <a:stretch/>
        </p:blipFill>
        <p:spPr>
          <a:xfrm>
            <a:off x="3573360" y="2693880"/>
            <a:ext cx="177840" cy="17784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4"/>
          <a:stretch/>
        </p:blipFill>
        <p:spPr>
          <a:xfrm>
            <a:off x="3440160" y="5692680"/>
            <a:ext cx="457200" cy="29232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3665520" y="2987640"/>
            <a:ext cx="0" cy="248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5"/>
          <a:stretch/>
        </p:blipFill>
        <p:spPr>
          <a:xfrm>
            <a:off x="1870200" y="1363680"/>
            <a:ext cx="3962160" cy="4446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 flipV="1">
            <a:off x="3852720" y="2368080"/>
            <a:ext cx="0" cy="3117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3494160" y="2373480"/>
            <a:ext cx="0" cy="311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304360" y="3556080"/>
            <a:ext cx="33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3490920" y="5416560"/>
            <a:ext cx="369360" cy="177480"/>
            <a:chOff x="3490920" y="5416560"/>
            <a:chExt cx="369360" cy="177480"/>
          </a:xfrm>
        </p:grpSpPr>
        <p:grpSp>
          <p:nvGrpSpPr>
            <p:cNvPr id="579" name=""/>
            <p:cNvGrpSpPr/>
            <p:nvPr/>
          </p:nvGrpSpPr>
          <p:grpSpPr>
            <a:xfrm>
              <a:off x="3785760" y="5417640"/>
              <a:ext cx="74520" cy="176400"/>
              <a:chOff x="3785760" y="5417640"/>
              <a:chExt cx="74520" cy="176400"/>
            </a:xfrm>
          </p:grpSpPr>
          <p:sp>
            <p:nvSpPr>
              <p:cNvPr id="580" name=""/>
              <p:cNvSpPr/>
              <p:nvPr/>
            </p:nvSpPr>
            <p:spPr>
              <a:xfrm>
                <a:off x="3857760" y="5417640"/>
                <a:ext cx="0" cy="17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3785760" y="5426280"/>
                <a:ext cx="74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3785760" y="5585040"/>
                <a:ext cx="74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3490920" y="5416560"/>
              <a:ext cx="74520" cy="176760"/>
              <a:chOff x="3490920" y="5416560"/>
              <a:chExt cx="74520" cy="176760"/>
            </a:xfrm>
          </p:grpSpPr>
          <p:sp>
            <p:nvSpPr>
              <p:cNvPr id="584" name=""/>
              <p:cNvSpPr/>
              <p:nvPr/>
            </p:nvSpPr>
            <p:spPr>
              <a:xfrm>
                <a:off x="3493440" y="5416560"/>
                <a:ext cx="0" cy="17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490920" y="5425200"/>
                <a:ext cx="74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490920" y="5584320"/>
                <a:ext cx="74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87" name="" descr=""/>
          <p:cNvPicPr/>
          <p:nvPr/>
        </p:nvPicPr>
        <p:blipFill>
          <a:blip r:embed="rId6"/>
          <a:stretch/>
        </p:blipFill>
        <p:spPr>
          <a:xfrm>
            <a:off x="3502080" y="2120760"/>
            <a:ext cx="32364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3492360" y="4503600"/>
            <a:ext cx="360360" cy="995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28960" y="541440"/>
            <a:ext cx="68162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ementos da Teoria de Probabi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25240" y="138924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4. Médi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09920" y="2394000"/>
            <a:ext cx="4241880" cy="982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441880" y="560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133720" y="5499000"/>
            <a:ext cx="509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2711520" y="3762360"/>
            <a:ext cx="0" cy="18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94160" y="2409840"/>
            <a:ext cx="360360" cy="966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2610000" y="2487600"/>
            <a:ext cx="203040" cy="21600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3621240" y="29480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3573360" y="2693880"/>
            <a:ext cx="177840" cy="17784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3665520" y="2987640"/>
            <a:ext cx="0" cy="248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3"/>
          <a:stretch/>
        </p:blipFill>
        <p:spPr>
          <a:xfrm>
            <a:off x="1870200" y="1363680"/>
            <a:ext cx="3962160" cy="4446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 flipV="1">
            <a:off x="3852720" y="2368080"/>
            <a:ext cx="0" cy="3117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494160" y="2373480"/>
            <a:ext cx="0" cy="311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304360" y="3556080"/>
            <a:ext cx="33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3490920" y="5416560"/>
            <a:ext cx="369360" cy="177480"/>
            <a:chOff x="3490920" y="5416560"/>
            <a:chExt cx="369360" cy="177480"/>
          </a:xfrm>
        </p:grpSpPr>
        <p:grpSp>
          <p:nvGrpSpPr>
            <p:cNvPr id="609" name=""/>
            <p:cNvGrpSpPr/>
            <p:nvPr/>
          </p:nvGrpSpPr>
          <p:grpSpPr>
            <a:xfrm>
              <a:off x="3785760" y="5417640"/>
              <a:ext cx="74520" cy="176400"/>
              <a:chOff x="3785760" y="5417640"/>
              <a:chExt cx="74520" cy="176400"/>
            </a:xfrm>
          </p:grpSpPr>
          <p:sp>
            <p:nvSpPr>
              <p:cNvPr id="610" name=""/>
              <p:cNvSpPr/>
              <p:nvPr/>
            </p:nvSpPr>
            <p:spPr>
              <a:xfrm>
                <a:off x="3857760" y="5417640"/>
                <a:ext cx="0" cy="17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3785760" y="5426280"/>
                <a:ext cx="74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3785760" y="5585040"/>
                <a:ext cx="74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3490920" y="5416560"/>
              <a:ext cx="74520" cy="176760"/>
              <a:chOff x="3490920" y="5416560"/>
              <a:chExt cx="74520" cy="176760"/>
            </a:xfrm>
          </p:grpSpPr>
          <p:sp>
            <p:nvSpPr>
              <p:cNvPr id="614" name=""/>
              <p:cNvSpPr/>
              <p:nvPr/>
            </p:nvSpPr>
            <p:spPr>
              <a:xfrm>
                <a:off x="3493440" y="5416560"/>
                <a:ext cx="0" cy="17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490920" y="5425200"/>
                <a:ext cx="74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490920" y="5584320"/>
                <a:ext cx="74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17" name="" descr=""/>
          <p:cNvPicPr/>
          <p:nvPr/>
        </p:nvPicPr>
        <p:blipFill>
          <a:blip r:embed="rId4"/>
          <a:stretch/>
        </p:blipFill>
        <p:spPr>
          <a:xfrm>
            <a:off x="3365640" y="2031840"/>
            <a:ext cx="599760" cy="29232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 flipH="1">
            <a:off x="2625840" y="4503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5"/>
          <a:stretch/>
        </p:blipFill>
        <p:spPr>
          <a:xfrm>
            <a:off x="2146320" y="4370400"/>
            <a:ext cx="380880" cy="29196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6928200" y="5011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6"/>
          <a:stretch/>
        </p:blipFill>
        <p:spPr>
          <a:xfrm>
            <a:off x="3944880" y="3995640"/>
            <a:ext cx="362160" cy="29232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7"/>
          <a:stretch/>
        </p:blipFill>
        <p:spPr>
          <a:xfrm>
            <a:off x="3592440" y="5638680"/>
            <a:ext cx="142920" cy="266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3102120" y="4800600"/>
            <a:ext cx="398160" cy="69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64120" y="4395960"/>
            <a:ext cx="419040" cy="1110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46600" y="4267080"/>
            <a:ext cx="374400" cy="122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492360" y="4503600"/>
            <a:ext cx="360360" cy="995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128960" y="541440"/>
            <a:ext cx="68162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ementos da Teoria de Probabi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25240" y="138924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4. Médi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509920" y="2394000"/>
            <a:ext cx="4241880" cy="982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441880" y="560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133720" y="5499000"/>
            <a:ext cx="509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2711520" y="3762360"/>
            <a:ext cx="0" cy="18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17960" y="2409840"/>
            <a:ext cx="2670120" cy="966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2610000" y="2487600"/>
            <a:ext cx="203040" cy="21600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3621240" y="29480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3573360" y="2693880"/>
            <a:ext cx="177840" cy="17784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3665520" y="2987640"/>
            <a:ext cx="0" cy="248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3"/>
          <a:stretch/>
        </p:blipFill>
        <p:spPr>
          <a:xfrm>
            <a:off x="1870200" y="1363680"/>
            <a:ext cx="3962160" cy="44460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 flipV="1">
            <a:off x="3852720" y="2368080"/>
            <a:ext cx="0" cy="3117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3494160" y="2373480"/>
            <a:ext cx="0" cy="311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304360" y="3556080"/>
            <a:ext cx="33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3490920" y="5416560"/>
            <a:ext cx="369360" cy="177480"/>
            <a:chOff x="3490920" y="5416560"/>
            <a:chExt cx="369360" cy="177480"/>
          </a:xfrm>
        </p:grpSpPr>
        <p:grpSp>
          <p:nvGrpSpPr>
            <p:cNvPr id="647" name=""/>
            <p:cNvGrpSpPr/>
            <p:nvPr/>
          </p:nvGrpSpPr>
          <p:grpSpPr>
            <a:xfrm>
              <a:off x="3785760" y="5417640"/>
              <a:ext cx="74520" cy="176400"/>
              <a:chOff x="3785760" y="5417640"/>
              <a:chExt cx="74520" cy="176400"/>
            </a:xfrm>
          </p:grpSpPr>
          <p:sp>
            <p:nvSpPr>
              <p:cNvPr id="648" name=""/>
              <p:cNvSpPr/>
              <p:nvPr/>
            </p:nvSpPr>
            <p:spPr>
              <a:xfrm>
                <a:off x="3857760" y="5417640"/>
                <a:ext cx="0" cy="17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3785760" y="5426280"/>
                <a:ext cx="74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3785760" y="5585040"/>
                <a:ext cx="74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3490920" y="5416560"/>
              <a:ext cx="74520" cy="176760"/>
              <a:chOff x="3490920" y="5416560"/>
              <a:chExt cx="74520" cy="176760"/>
            </a:xfrm>
          </p:grpSpPr>
          <p:sp>
            <p:nvSpPr>
              <p:cNvPr id="652" name=""/>
              <p:cNvSpPr/>
              <p:nvPr/>
            </p:nvSpPr>
            <p:spPr>
              <a:xfrm>
                <a:off x="3493440" y="5416560"/>
                <a:ext cx="0" cy="17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490920" y="5425200"/>
                <a:ext cx="74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490920" y="5584320"/>
                <a:ext cx="74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55" name="" descr=""/>
          <p:cNvPicPr/>
          <p:nvPr/>
        </p:nvPicPr>
        <p:blipFill>
          <a:blip r:embed="rId4"/>
          <a:stretch/>
        </p:blipFill>
        <p:spPr>
          <a:xfrm>
            <a:off x="3365640" y="2031840"/>
            <a:ext cx="599760" cy="29232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 flipH="1">
            <a:off x="2625840" y="4503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5"/>
          <a:stretch/>
        </p:blipFill>
        <p:spPr>
          <a:xfrm>
            <a:off x="2146320" y="4370400"/>
            <a:ext cx="380880" cy="29196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6928200" y="5011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6"/>
          <a:stretch/>
        </p:blipFill>
        <p:spPr>
          <a:xfrm>
            <a:off x="3871800" y="3562200"/>
            <a:ext cx="362160" cy="29232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7"/>
          <a:stretch/>
        </p:blipFill>
        <p:spPr>
          <a:xfrm>
            <a:off x="3592440" y="5638680"/>
            <a:ext cx="142920" cy="26676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 flipV="1">
            <a:off x="4222800" y="2366640"/>
            <a:ext cx="0" cy="3117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3103560" y="2400480"/>
            <a:ext cx="0" cy="311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38520" y="4786200"/>
            <a:ext cx="427320" cy="706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871880" y="5087880"/>
            <a:ext cx="490680" cy="405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303880" y="5321160"/>
            <a:ext cx="476280" cy="171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4583160" y="2362320"/>
            <a:ext cx="0" cy="311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4965840" y="2370240"/>
            <a:ext cx="0" cy="311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5362560" y="2378160"/>
            <a:ext cx="0" cy="311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781600" y="2363400"/>
            <a:ext cx="0" cy="3117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02120" y="4805280"/>
            <a:ext cx="404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4221000" y="4392360"/>
            <a:ext cx="35244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576680" y="4792680"/>
            <a:ext cx="38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9360" y="5089680"/>
            <a:ext cx="404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84880" y="5329080"/>
            <a:ext cx="404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59200" y="4265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494160" y="4503600"/>
            <a:ext cx="34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28960" y="541440"/>
            <a:ext cx="68162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ementos da Teoria de Probabi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25960" y="1389240"/>
            <a:ext cx="59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5. Estatística conjunta de duas variáveis aleatória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038240" y="2224080"/>
            <a:ext cx="749160" cy="1284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1136520" y="2273400"/>
            <a:ext cx="203400" cy="21564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1555920" y="2876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1335240" y="2852640"/>
            <a:ext cx="177480" cy="17784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3"/>
          <a:stretch/>
        </p:blipFill>
        <p:spPr>
          <a:xfrm>
            <a:off x="1946160" y="3846600"/>
            <a:ext cx="457200" cy="29196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1585800" y="2916360"/>
            <a:ext cx="1630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601640" y="2930400"/>
            <a:ext cx="2424240" cy="1168560"/>
          </a:xfrm>
          <a:custGeom>
            <a:avLst/>
            <a:gdLst/>
            <a:ahLst/>
            <a:rect l="l" t="t" r="r" b="b"/>
            <a:pathLst>
              <a:path w="1527" h="736">
                <a:moveTo>
                  <a:pt x="0" y="0"/>
                </a:moveTo>
                <a:cubicBezTo>
                  <a:pt x="45" y="62"/>
                  <a:pt x="129" y="259"/>
                  <a:pt x="273" y="373"/>
                </a:cubicBezTo>
                <a:cubicBezTo>
                  <a:pt x="417" y="487"/>
                  <a:pt x="682" y="628"/>
                  <a:pt x="864" y="682"/>
                </a:cubicBezTo>
                <a:cubicBezTo>
                  <a:pt x="1046" y="736"/>
                  <a:pt x="1253" y="726"/>
                  <a:pt x="1363" y="700"/>
                </a:cubicBezTo>
                <a:cubicBezTo>
                  <a:pt x="1473" y="674"/>
                  <a:pt x="1493" y="563"/>
                  <a:pt x="1527" y="52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4"/>
          <a:stretch/>
        </p:blipFill>
        <p:spPr>
          <a:xfrm>
            <a:off x="2093760" y="2567160"/>
            <a:ext cx="457200" cy="291960"/>
          </a:xfrm>
          <a:prstGeom prst="rect">
            <a:avLst/>
          </a:prstGeom>
          <a:ln w="0">
            <a:noFill/>
          </a:ln>
        </p:spPr>
      </p:pic>
      <p:grpSp>
        <p:nvGrpSpPr>
          <p:cNvPr id="691" name=""/>
          <p:cNvGrpSpPr/>
          <p:nvPr/>
        </p:nvGrpSpPr>
        <p:grpSpPr>
          <a:xfrm>
            <a:off x="2903760" y="1811160"/>
            <a:ext cx="2131920" cy="2028600"/>
            <a:chOff x="2903760" y="1811160"/>
            <a:chExt cx="2131920" cy="2028600"/>
          </a:xfrm>
        </p:grpSpPr>
        <p:sp>
          <p:nvSpPr>
            <p:cNvPr id="692" name=""/>
            <p:cNvSpPr/>
            <p:nvPr/>
          </p:nvSpPr>
          <p:spPr>
            <a:xfrm flipV="1">
              <a:off x="3214800" y="2003040"/>
              <a:ext cx="0" cy="18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16160" y="3723840"/>
              <a:ext cx="1919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03760" y="1811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78560" y="333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03640" y="2916000"/>
              <a:ext cx="981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4025880" y="2800080"/>
              <a:ext cx="0" cy="923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989520" y="28810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9" name="" descr=""/>
          <p:cNvPicPr/>
          <p:nvPr/>
        </p:nvPicPr>
        <p:blipFill>
          <a:blip r:embed="rId5"/>
          <a:stretch/>
        </p:blipFill>
        <p:spPr>
          <a:xfrm>
            <a:off x="5151600" y="2944800"/>
            <a:ext cx="3342960" cy="343080"/>
          </a:xfrm>
          <a:prstGeom prst="rect">
            <a:avLst/>
          </a:prstGeom>
          <a:ln w="0">
            <a:noFill/>
          </a:ln>
        </p:spPr>
      </p:pic>
      <p:grpSp>
        <p:nvGrpSpPr>
          <p:cNvPr id="700" name=""/>
          <p:cNvGrpSpPr/>
          <p:nvPr/>
        </p:nvGrpSpPr>
        <p:grpSpPr>
          <a:xfrm>
            <a:off x="633240" y="4427640"/>
            <a:ext cx="5713560" cy="2085840"/>
            <a:chOff x="633240" y="4427640"/>
            <a:chExt cx="5713560" cy="2085840"/>
          </a:xfrm>
        </p:grpSpPr>
        <p:sp>
          <p:nvSpPr>
            <p:cNvPr id="701" name=""/>
            <p:cNvSpPr/>
            <p:nvPr/>
          </p:nvSpPr>
          <p:spPr>
            <a:xfrm>
              <a:off x="633240" y="4427640"/>
              <a:ext cx="292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16. Propriedades de F</a:t>
              </a:r>
              <a:r>
                <a:rPr b="1" lang="en-US" sz="1800" spc="-1" strike="noStrike" baseline="-25000">
                  <a:solidFill>
                    <a:srgbClr val="3333cc"/>
                  </a:solidFill>
                  <a:latin typeface="Arial"/>
                </a:rPr>
                <a:t>x,y</a:t>
              </a: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2" name="" descr=""/>
            <p:cNvPicPr/>
            <p:nvPr/>
          </p:nvPicPr>
          <p:blipFill>
            <a:blip r:embed="rId6"/>
            <a:stretch/>
          </p:blipFill>
          <p:spPr>
            <a:xfrm>
              <a:off x="1098720" y="5002200"/>
              <a:ext cx="524808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128960" y="541440"/>
            <a:ext cx="68162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ementos da Teoria de Probabi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4520" y="1389240"/>
            <a:ext cx="30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7. Distribuição Margina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3768840" y="1455840"/>
            <a:ext cx="1809720" cy="723960"/>
          </a:xfrm>
          <a:prstGeom prst="rect">
            <a:avLst/>
          </a:prstGeom>
          <a:ln w="0">
            <a:noFill/>
          </a:ln>
        </p:spPr>
      </p:pic>
      <p:grpSp>
        <p:nvGrpSpPr>
          <p:cNvPr id="710" name=""/>
          <p:cNvGrpSpPr/>
          <p:nvPr/>
        </p:nvGrpSpPr>
        <p:grpSpPr>
          <a:xfrm>
            <a:off x="533160" y="2320920"/>
            <a:ext cx="7986600" cy="1677960"/>
            <a:chOff x="533160" y="2320920"/>
            <a:chExt cx="7986600" cy="1677960"/>
          </a:xfrm>
        </p:grpSpPr>
        <p:sp>
          <p:nvSpPr>
            <p:cNvPr id="711" name=""/>
            <p:cNvSpPr/>
            <p:nvPr/>
          </p:nvSpPr>
          <p:spPr>
            <a:xfrm>
              <a:off x="533160" y="2320920"/>
              <a:ext cx="486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18. Independência de Variáveis Aleatórias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" name=""/>
            <p:cNvGrpSpPr/>
            <p:nvPr/>
          </p:nvGrpSpPr>
          <p:grpSpPr>
            <a:xfrm>
              <a:off x="935280" y="2805120"/>
              <a:ext cx="7584480" cy="697320"/>
              <a:chOff x="935280" y="2805120"/>
              <a:chExt cx="7584480" cy="697320"/>
            </a:xfrm>
          </p:grpSpPr>
          <p:sp>
            <p:nvSpPr>
              <p:cNvPr id="713" name=""/>
              <p:cNvSpPr/>
              <p:nvPr/>
            </p:nvSpPr>
            <p:spPr>
              <a:xfrm>
                <a:off x="935280" y="2805120"/>
                <a:ext cx="7584480" cy="6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s variáveis aleatórias x e y são ditas independentes se, para     A,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                                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ão independentes, ou seja,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840800" y="2879640"/>
                <a:ext cx="190440" cy="21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009800" y="3157560"/>
                <a:ext cx="2801880" cy="291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16" name="" descr=""/>
            <p:cNvPicPr/>
            <p:nvPr/>
          </p:nvPicPr>
          <p:blipFill>
            <a:blip r:embed="rId4"/>
            <a:stretch/>
          </p:blipFill>
          <p:spPr>
            <a:xfrm>
              <a:off x="1978200" y="3706920"/>
              <a:ext cx="5105160" cy="29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7" name=""/>
          <p:cNvGrpSpPr/>
          <p:nvPr/>
        </p:nvGrpSpPr>
        <p:grpSpPr>
          <a:xfrm>
            <a:off x="3487680" y="4170240"/>
            <a:ext cx="2575080" cy="2079720"/>
            <a:chOff x="3487680" y="4170240"/>
            <a:chExt cx="2575080" cy="2079720"/>
          </a:xfrm>
        </p:grpSpPr>
        <p:pic>
          <p:nvPicPr>
            <p:cNvPr id="718" name="" descr=""/>
            <p:cNvPicPr/>
            <p:nvPr/>
          </p:nvPicPr>
          <p:blipFill>
            <a:blip r:embed="rId5"/>
            <a:stretch/>
          </p:blipFill>
          <p:spPr>
            <a:xfrm>
              <a:off x="4672080" y="4449600"/>
              <a:ext cx="139068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" descr=""/>
            <p:cNvPicPr/>
            <p:nvPr/>
          </p:nvPicPr>
          <p:blipFill>
            <a:blip r:embed="rId6"/>
            <a:stretch/>
          </p:blipFill>
          <p:spPr>
            <a:xfrm>
              <a:off x="3487680" y="5526000"/>
              <a:ext cx="211608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4487760" y="4170240"/>
              <a:ext cx="0" cy="1197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4010040" y="3062160"/>
            <a:ext cx="708120" cy="4320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398600" y="2571840"/>
            <a:ext cx="749160" cy="1284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28640" y="3060720"/>
            <a:ext cx="462240" cy="54756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28960" y="541440"/>
            <a:ext cx="68162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ementos da Teoria de Probabi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25600" y="1389240"/>
            <a:ext cx="46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9. Função de duas variáveis aleatória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1496880" y="2620800"/>
            <a:ext cx="203400" cy="21600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1916280" y="32241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2"/>
          <a:stretch/>
        </p:blipFill>
        <p:spPr>
          <a:xfrm>
            <a:off x="1695600" y="3200400"/>
            <a:ext cx="177480" cy="17784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3"/>
          <a:stretch/>
        </p:blipFill>
        <p:spPr>
          <a:xfrm>
            <a:off x="2306520" y="4194000"/>
            <a:ext cx="457200" cy="29232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1946160" y="3263760"/>
            <a:ext cx="1630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962000" y="3278160"/>
            <a:ext cx="2424240" cy="1168560"/>
          </a:xfrm>
          <a:custGeom>
            <a:avLst/>
            <a:gdLst/>
            <a:ahLst/>
            <a:rect l="l" t="t" r="r" b="b"/>
            <a:pathLst>
              <a:path w="1527" h="736">
                <a:moveTo>
                  <a:pt x="0" y="0"/>
                </a:moveTo>
                <a:cubicBezTo>
                  <a:pt x="45" y="62"/>
                  <a:pt x="129" y="259"/>
                  <a:pt x="273" y="373"/>
                </a:cubicBezTo>
                <a:cubicBezTo>
                  <a:pt x="417" y="487"/>
                  <a:pt x="682" y="628"/>
                  <a:pt x="864" y="682"/>
                </a:cubicBezTo>
                <a:cubicBezTo>
                  <a:pt x="1046" y="736"/>
                  <a:pt x="1253" y="726"/>
                  <a:pt x="1363" y="700"/>
                </a:cubicBezTo>
                <a:cubicBezTo>
                  <a:pt x="1473" y="674"/>
                  <a:pt x="1493" y="563"/>
                  <a:pt x="1527" y="52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4"/>
          <a:stretch/>
        </p:blipFill>
        <p:spPr>
          <a:xfrm>
            <a:off x="2454120" y="2914560"/>
            <a:ext cx="457200" cy="292320"/>
          </a:xfrm>
          <a:prstGeom prst="rect">
            <a:avLst/>
          </a:prstGeom>
          <a:ln w="0">
            <a:noFill/>
          </a:ln>
        </p:spPr>
      </p:pic>
      <p:grpSp>
        <p:nvGrpSpPr>
          <p:cNvPr id="737" name=""/>
          <p:cNvGrpSpPr/>
          <p:nvPr/>
        </p:nvGrpSpPr>
        <p:grpSpPr>
          <a:xfrm>
            <a:off x="3264120" y="2158920"/>
            <a:ext cx="2131920" cy="2028600"/>
            <a:chOff x="3264120" y="2158920"/>
            <a:chExt cx="2131920" cy="2028600"/>
          </a:xfrm>
        </p:grpSpPr>
        <p:sp>
          <p:nvSpPr>
            <p:cNvPr id="738" name=""/>
            <p:cNvSpPr/>
            <p:nvPr/>
          </p:nvSpPr>
          <p:spPr>
            <a:xfrm flipV="1">
              <a:off x="3575160" y="2350800"/>
              <a:ext cx="0" cy="18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476520" y="4071600"/>
              <a:ext cx="1919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264120" y="2158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038920" y="3687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564000" y="3263760"/>
              <a:ext cx="981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4386240" y="3147840"/>
              <a:ext cx="0" cy="923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349880" y="32288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 flipV="1">
            <a:off x="7184880" y="1892160"/>
            <a:ext cx="0" cy="24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14680" y="2989440"/>
            <a:ext cx="2713320" cy="288720"/>
          </a:xfrm>
          <a:custGeom>
            <a:avLst/>
            <a:gdLst/>
            <a:ahLst/>
            <a:rect l="l" t="t" r="r" b="b"/>
            <a:pathLst>
              <a:path w="1709" h="182">
                <a:moveTo>
                  <a:pt x="0" y="182"/>
                </a:moveTo>
                <a:cubicBezTo>
                  <a:pt x="207" y="128"/>
                  <a:pt x="415" y="75"/>
                  <a:pt x="700" y="45"/>
                </a:cubicBezTo>
                <a:cubicBezTo>
                  <a:pt x="985" y="15"/>
                  <a:pt x="1541" y="7"/>
                  <a:pt x="170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140360" y="2598840"/>
            <a:ext cx="2987640" cy="504720"/>
          </a:xfrm>
          <a:custGeom>
            <a:avLst/>
            <a:gdLst/>
            <a:ahLst/>
            <a:rect l="l" t="t" r="r" b="b"/>
            <a:pathLst>
              <a:path w="1782" h="291">
                <a:moveTo>
                  <a:pt x="0" y="291"/>
                </a:moveTo>
                <a:cubicBezTo>
                  <a:pt x="224" y="197"/>
                  <a:pt x="449" y="103"/>
                  <a:pt x="746" y="55"/>
                </a:cubicBezTo>
                <a:cubicBezTo>
                  <a:pt x="1043" y="7"/>
                  <a:pt x="1609" y="9"/>
                  <a:pt x="178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471920" y="3341520"/>
            <a:ext cx="2656080" cy="138240"/>
          </a:xfrm>
          <a:custGeom>
            <a:avLst/>
            <a:gdLst/>
            <a:ahLst/>
            <a:rect l="l" t="t" r="r" b="b"/>
            <a:pathLst>
              <a:path w="1673" h="87">
                <a:moveTo>
                  <a:pt x="0" y="87"/>
                </a:moveTo>
                <a:cubicBezTo>
                  <a:pt x="147" y="57"/>
                  <a:pt x="294" y="28"/>
                  <a:pt x="573" y="14"/>
                </a:cubicBezTo>
                <a:cubicBezTo>
                  <a:pt x="852" y="0"/>
                  <a:pt x="1490" y="6"/>
                  <a:pt x="1673" y="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142040" y="2583000"/>
            <a:ext cx="103320" cy="765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240320" y="1825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626800" y="269244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(.,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224840" y="2806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(x,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130000" y="139212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 = g(x,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398600" y="2571840"/>
            <a:ext cx="749160" cy="1284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14440" y="3059280"/>
            <a:ext cx="735120" cy="79344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578400" y="3117960"/>
            <a:ext cx="1025280" cy="95256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128960" y="541440"/>
            <a:ext cx="68162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ementos da Teoria de Probabi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25600" y="1389240"/>
            <a:ext cx="46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9. Função de duas variáveis aleatória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1496880" y="2620800"/>
            <a:ext cx="203400" cy="21600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1916280" y="32241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1695600" y="3200400"/>
            <a:ext cx="177480" cy="17784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3"/>
          <a:stretch/>
        </p:blipFill>
        <p:spPr>
          <a:xfrm>
            <a:off x="2306520" y="4194000"/>
            <a:ext cx="457200" cy="29232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1946160" y="3263760"/>
            <a:ext cx="1630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62000" y="3278160"/>
            <a:ext cx="2424240" cy="1168560"/>
          </a:xfrm>
          <a:custGeom>
            <a:avLst/>
            <a:gdLst/>
            <a:ahLst/>
            <a:rect l="l" t="t" r="r" b="b"/>
            <a:pathLst>
              <a:path w="1527" h="736">
                <a:moveTo>
                  <a:pt x="0" y="0"/>
                </a:moveTo>
                <a:cubicBezTo>
                  <a:pt x="45" y="62"/>
                  <a:pt x="129" y="259"/>
                  <a:pt x="273" y="373"/>
                </a:cubicBezTo>
                <a:cubicBezTo>
                  <a:pt x="417" y="487"/>
                  <a:pt x="682" y="628"/>
                  <a:pt x="864" y="682"/>
                </a:cubicBezTo>
                <a:cubicBezTo>
                  <a:pt x="1046" y="736"/>
                  <a:pt x="1253" y="726"/>
                  <a:pt x="1363" y="700"/>
                </a:cubicBezTo>
                <a:cubicBezTo>
                  <a:pt x="1473" y="674"/>
                  <a:pt x="1493" y="563"/>
                  <a:pt x="1527" y="52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4"/>
          <a:stretch/>
        </p:blipFill>
        <p:spPr>
          <a:xfrm>
            <a:off x="2454120" y="2914560"/>
            <a:ext cx="457200" cy="292320"/>
          </a:xfrm>
          <a:prstGeom prst="rect">
            <a:avLst/>
          </a:prstGeom>
          <a:ln w="0">
            <a:noFill/>
          </a:ln>
        </p:spPr>
      </p:pic>
      <p:grpSp>
        <p:nvGrpSpPr>
          <p:cNvPr id="770" name=""/>
          <p:cNvGrpSpPr/>
          <p:nvPr/>
        </p:nvGrpSpPr>
        <p:grpSpPr>
          <a:xfrm>
            <a:off x="3264120" y="2158920"/>
            <a:ext cx="2131920" cy="2028600"/>
            <a:chOff x="3264120" y="2158920"/>
            <a:chExt cx="2131920" cy="2028600"/>
          </a:xfrm>
        </p:grpSpPr>
        <p:sp>
          <p:nvSpPr>
            <p:cNvPr id="771" name=""/>
            <p:cNvSpPr/>
            <p:nvPr/>
          </p:nvSpPr>
          <p:spPr>
            <a:xfrm flipV="1">
              <a:off x="3575160" y="2350800"/>
              <a:ext cx="0" cy="18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76520" y="4071600"/>
              <a:ext cx="1919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264120" y="2158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038920" y="3687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564000" y="3263760"/>
              <a:ext cx="981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4386240" y="3147840"/>
              <a:ext cx="0" cy="923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349880" y="32288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 flipV="1">
            <a:off x="7184880" y="1892160"/>
            <a:ext cx="0" cy="24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414680" y="2989440"/>
            <a:ext cx="2713320" cy="288720"/>
          </a:xfrm>
          <a:custGeom>
            <a:avLst/>
            <a:gdLst/>
            <a:ahLst/>
            <a:rect l="l" t="t" r="r" b="b"/>
            <a:pathLst>
              <a:path w="1709" h="182">
                <a:moveTo>
                  <a:pt x="0" y="182"/>
                </a:moveTo>
                <a:cubicBezTo>
                  <a:pt x="207" y="128"/>
                  <a:pt x="415" y="75"/>
                  <a:pt x="700" y="45"/>
                </a:cubicBezTo>
                <a:cubicBezTo>
                  <a:pt x="985" y="15"/>
                  <a:pt x="1541" y="7"/>
                  <a:pt x="170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592440" y="2598840"/>
            <a:ext cx="3524400" cy="519120"/>
          </a:xfrm>
          <a:custGeom>
            <a:avLst/>
            <a:gdLst/>
            <a:ahLst/>
            <a:rect l="l" t="t" r="r" b="b"/>
            <a:pathLst>
              <a:path w="2220" h="327">
                <a:moveTo>
                  <a:pt x="0" y="327"/>
                </a:moveTo>
                <a:cubicBezTo>
                  <a:pt x="151" y="285"/>
                  <a:pt x="539" y="127"/>
                  <a:pt x="909" y="72"/>
                </a:cubicBezTo>
                <a:cubicBezTo>
                  <a:pt x="1279" y="17"/>
                  <a:pt x="1947" y="15"/>
                  <a:pt x="222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156440" y="2583000"/>
            <a:ext cx="103320" cy="171756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240320" y="1825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626800" y="269244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(.,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224840" y="2806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(x,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130000" y="139212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 = g(x,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7137360" y="2577960"/>
            <a:ext cx="118800" cy="56880"/>
            <a:chOff x="7137360" y="2577960"/>
            <a:chExt cx="118800" cy="56880"/>
          </a:xfrm>
        </p:grpSpPr>
        <p:sp>
          <p:nvSpPr>
            <p:cNvPr id="787" name=""/>
            <p:cNvSpPr/>
            <p:nvPr/>
          </p:nvSpPr>
          <p:spPr>
            <a:xfrm flipV="1">
              <a:off x="7137360" y="2580840"/>
              <a:ext cx="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137360" y="2577960"/>
              <a:ext cx="11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7254360" y="2580840"/>
              <a:ext cx="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3891240" y="339552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5"/>
          <a:stretch/>
        </p:blipFill>
        <p:spPr>
          <a:xfrm>
            <a:off x="3530520" y="5592600"/>
            <a:ext cx="1857600" cy="55908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6"/>
          <a:stretch/>
        </p:blipFill>
        <p:spPr>
          <a:xfrm>
            <a:off x="2984400" y="4898880"/>
            <a:ext cx="2971800" cy="64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128960" y="541440"/>
            <a:ext cx="68162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ementos da Teoria de Probabi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26320" y="138924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20. Covarianç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1"/>
          <a:stretch/>
        </p:blipFill>
        <p:spPr>
          <a:xfrm>
            <a:off x="2503440" y="1447920"/>
            <a:ext cx="4457880" cy="825480"/>
          </a:xfrm>
          <a:prstGeom prst="rect">
            <a:avLst/>
          </a:prstGeom>
          <a:ln w="0">
            <a:noFill/>
          </a:ln>
        </p:spPr>
      </p:pic>
      <p:grpSp>
        <p:nvGrpSpPr>
          <p:cNvPr id="800" name=""/>
          <p:cNvGrpSpPr/>
          <p:nvPr/>
        </p:nvGrpSpPr>
        <p:grpSpPr>
          <a:xfrm>
            <a:off x="560520" y="2805120"/>
            <a:ext cx="6279840" cy="1311120"/>
            <a:chOff x="560520" y="2805120"/>
            <a:chExt cx="6279840" cy="1311120"/>
          </a:xfrm>
        </p:grpSpPr>
        <p:pic>
          <p:nvPicPr>
            <p:cNvPr id="801" name="" descr=""/>
            <p:cNvPicPr/>
            <p:nvPr/>
          </p:nvPicPr>
          <p:blipFill>
            <a:blip r:embed="rId2"/>
            <a:stretch/>
          </p:blipFill>
          <p:spPr>
            <a:xfrm>
              <a:off x="2103480" y="3443400"/>
              <a:ext cx="4736880" cy="672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2" name=""/>
            <p:cNvGrpSpPr/>
            <p:nvPr/>
          </p:nvGrpSpPr>
          <p:grpSpPr>
            <a:xfrm>
              <a:off x="560520" y="2805120"/>
              <a:ext cx="4705200" cy="374760"/>
              <a:chOff x="560520" y="2805120"/>
              <a:chExt cx="4705200" cy="374760"/>
            </a:xfrm>
          </p:grpSpPr>
          <p:sp>
            <p:nvSpPr>
              <p:cNvPr id="803" name=""/>
              <p:cNvSpPr/>
              <p:nvPr/>
            </p:nvSpPr>
            <p:spPr>
              <a:xfrm>
                <a:off x="560520" y="2811600"/>
                <a:ext cx="415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Arial"/>
                  </a:rPr>
                  <a:t>21. Distribuição Normal: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 ~ N(m,Q),</a:t>
                </a:r>
                <a:r>
                  <a:rPr b="1" lang="en-US" sz="1800" spc="-1" strike="noStrike">
                    <a:solidFill>
                      <a:srgbClr val="3333cc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05480" y="2805120"/>
                <a:ext cx="660240" cy="304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211760" y="541440"/>
            <a:ext cx="668196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ementos de Processos Estocás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79520" y="1311120"/>
            <a:ext cx="32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22. Processos Estocástic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875880" y="1866960"/>
            <a:ext cx="7335720" cy="368280"/>
            <a:chOff x="875880" y="1866960"/>
            <a:chExt cx="7335720" cy="368280"/>
          </a:xfrm>
        </p:grpSpPr>
        <p:sp>
          <p:nvSpPr>
            <p:cNvPr id="812" name=""/>
            <p:cNvSpPr/>
            <p:nvPr/>
          </p:nvSpPr>
          <p:spPr>
            <a:xfrm>
              <a:off x="875880" y="1866960"/>
              <a:ext cx="656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leção de variáveis aleatórias indexadas por parâmetro 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3" name="" descr=""/>
            <p:cNvPicPr/>
            <p:nvPr/>
          </p:nvPicPr>
          <p:blipFill>
            <a:blip r:embed="rId1"/>
            <a:stretch/>
          </p:blipFill>
          <p:spPr>
            <a:xfrm>
              <a:off x="7335360" y="1946160"/>
              <a:ext cx="876240" cy="26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4" name="" descr=""/>
          <p:cNvPicPr/>
          <p:nvPr/>
        </p:nvPicPr>
        <p:blipFill>
          <a:blip r:embed="rId2"/>
          <a:stretch/>
        </p:blipFill>
        <p:spPr>
          <a:xfrm>
            <a:off x="1708200" y="2360520"/>
            <a:ext cx="5792760" cy="4334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28120" y="1389240"/>
            <a:ext cx="53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23. Caracterização de Processos Estocástic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5875200" y="1447920"/>
            <a:ext cx="571680" cy="304560"/>
          </a:xfrm>
          <a:prstGeom prst="rect">
            <a:avLst/>
          </a:prstGeom>
          <a:ln w="0">
            <a:noFill/>
          </a:ln>
        </p:spPr>
      </p:pic>
      <p:grpSp>
        <p:nvGrpSpPr>
          <p:cNvPr id="821" name=""/>
          <p:cNvGrpSpPr/>
          <p:nvPr/>
        </p:nvGrpSpPr>
        <p:grpSpPr>
          <a:xfrm>
            <a:off x="731880" y="1930320"/>
            <a:ext cx="7918200" cy="642600"/>
            <a:chOff x="731880" y="1930320"/>
            <a:chExt cx="7918200" cy="642600"/>
          </a:xfrm>
        </p:grpSpPr>
        <p:sp>
          <p:nvSpPr>
            <p:cNvPr id="822" name=""/>
            <p:cNvSpPr/>
            <p:nvPr/>
          </p:nvSpPr>
          <p:spPr>
            <a:xfrm>
              <a:off x="731880" y="1930320"/>
              <a:ext cx="791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ra cada t fixo,            é uma variável aleatória. Logo, para caracteriz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 coleção de variáveis aleatórias, necessita-se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3" name="" descr=""/>
            <p:cNvPicPr/>
            <p:nvPr/>
          </p:nvPicPr>
          <p:blipFill>
            <a:blip r:embed="rId2"/>
            <a:stretch/>
          </p:blipFill>
          <p:spPr>
            <a:xfrm>
              <a:off x="2670120" y="1981080"/>
              <a:ext cx="571320" cy="3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4" name="" descr=""/>
          <p:cNvPicPr/>
          <p:nvPr/>
        </p:nvPicPr>
        <p:blipFill>
          <a:blip r:embed="rId3"/>
          <a:stretch/>
        </p:blipFill>
        <p:spPr>
          <a:xfrm>
            <a:off x="3106800" y="2809800"/>
            <a:ext cx="2730600" cy="1536840"/>
          </a:xfrm>
          <a:prstGeom prst="rect">
            <a:avLst/>
          </a:prstGeom>
          <a:ln w="0">
            <a:noFill/>
          </a:ln>
        </p:spPr>
      </p:pic>
      <p:grpSp>
        <p:nvGrpSpPr>
          <p:cNvPr id="825" name=""/>
          <p:cNvGrpSpPr/>
          <p:nvPr/>
        </p:nvGrpSpPr>
        <p:grpSpPr>
          <a:xfrm>
            <a:off x="652680" y="4549680"/>
            <a:ext cx="7359480" cy="1428840"/>
            <a:chOff x="652680" y="4549680"/>
            <a:chExt cx="7359480" cy="1428840"/>
          </a:xfrm>
        </p:grpSpPr>
        <p:sp>
          <p:nvSpPr>
            <p:cNvPr id="826" name=""/>
            <p:cNvSpPr/>
            <p:nvPr/>
          </p:nvSpPr>
          <p:spPr>
            <a:xfrm>
              <a:off x="652680" y="4549680"/>
              <a:ext cx="552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24. Processos Estacionários (no Sentido Estrito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987120" y="5029200"/>
              <a:ext cx="7025040" cy="405720"/>
              <a:chOff x="987120" y="5029200"/>
              <a:chExt cx="7025040" cy="405720"/>
            </a:xfrm>
          </p:grpSpPr>
          <p:sp>
            <p:nvSpPr>
              <p:cNvPr id="828" name=""/>
              <p:cNvSpPr/>
              <p:nvPr/>
            </p:nvSpPr>
            <p:spPr>
              <a:xfrm>
                <a:off x="987120" y="5029200"/>
                <a:ext cx="50137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Um processo x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.) é dito ser estacionário se,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2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904000" y="5079960"/>
                <a:ext cx="210816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30" name="" descr=""/>
            <p:cNvPicPr/>
            <p:nvPr/>
          </p:nvPicPr>
          <p:blipFill>
            <a:blip r:embed="rId5"/>
            <a:stretch/>
          </p:blipFill>
          <p:spPr>
            <a:xfrm>
              <a:off x="2351160" y="5597640"/>
              <a:ext cx="455940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"/>
          <p:cNvSpPr/>
          <p:nvPr/>
        </p:nvSpPr>
        <p:spPr>
          <a:xfrm>
            <a:off x="1211760" y="541440"/>
            <a:ext cx="668196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ementos de Processos Estocás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08840" y="522360"/>
            <a:ext cx="24516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gra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0720" y="106992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6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90800" y="1069920"/>
            <a:ext cx="5504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Simulação de Sist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abilidades e Processos Estocás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o Efeito de Ruído em Sistemas Line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800" y="2174760"/>
            <a:ext cx="1093680" cy="3373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7 set 0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09520" y="2174760"/>
            <a:ext cx="5808960" cy="1067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. (T)  Estimação Pontual, LSE, Cramér-Ra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. (P)  LSE Batelada + Identificação Não-Param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3. (T)  Estimação Recursiva, Regiões de Confiança, Or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4. (P)  Identificação Recurs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25240" y="138924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xempl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211760" y="541440"/>
            <a:ext cx="668196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ementos de Processos Estocás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3238560" y="2166840"/>
            <a:ext cx="2765520" cy="4214880"/>
            <a:chOff x="3238560" y="2166840"/>
            <a:chExt cx="2765520" cy="4214880"/>
          </a:xfrm>
        </p:grpSpPr>
        <p:sp>
          <p:nvSpPr>
            <p:cNvPr id="839" name=""/>
            <p:cNvSpPr/>
            <p:nvPr/>
          </p:nvSpPr>
          <p:spPr>
            <a:xfrm>
              <a:off x="5224680" y="2166840"/>
              <a:ext cx="765360" cy="32907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254760" y="2173320"/>
              <a:ext cx="765000" cy="3290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238560" y="5535360"/>
              <a:ext cx="0" cy="824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997440" y="5557680"/>
              <a:ext cx="0" cy="824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981760" y="5551560"/>
              <a:ext cx="0" cy="823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226120" y="5529240"/>
              <a:ext cx="0" cy="823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238560" y="6200640"/>
              <a:ext cx="7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239080" y="6180120"/>
              <a:ext cx="76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7" name="" descr=""/>
            <p:cNvPicPr/>
            <p:nvPr/>
          </p:nvPicPr>
          <p:blipFill>
            <a:blip r:embed="rId1"/>
            <a:stretch/>
          </p:blipFill>
          <p:spPr>
            <a:xfrm>
              <a:off x="3486240" y="5933880"/>
              <a:ext cx="2541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" descr=""/>
            <p:cNvPicPr/>
            <p:nvPr/>
          </p:nvPicPr>
          <p:blipFill>
            <a:blip r:embed="rId2"/>
            <a:stretch/>
          </p:blipFill>
          <p:spPr>
            <a:xfrm>
              <a:off x="5499360" y="5925960"/>
              <a:ext cx="25380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9" name=""/>
          <p:cNvGrpSpPr/>
          <p:nvPr/>
        </p:nvGrpSpPr>
        <p:grpSpPr>
          <a:xfrm>
            <a:off x="2278080" y="1951200"/>
            <a:ext cx="4606200" cy="3832920"/>
            <a:chOff x="2278080" y="1951200"/>
            <a:chExt cx="4606200" cy="3832920"/>
          </a:xfrm>
        </p:grpSpPr>
        <p:sp>
          <p:nvSpPr>
            <p:cNvPr id="850" name=""/>
            <p:cNvSpPr/>
            <p:nvPr/>
          </p:nvSpPr>
          <p:spPr>
            <a:xfrm>
              <a:off x="2616480" y="2171160"/>
              <a:ext cx="4128840" cy="32594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616480" y="2171160"/>
              <a:ext cx="4128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616480" y="2171160"/>
              <a:ext cx="4128840" cy="325944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2616480" y="2171160"/>
              <a:ext cx="1440" cy="325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616480" y="5430600"/>
              <a:ext cx="4128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2616480" y="2171160"/>
              <a:ext cx="1440" cy="325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2616480" y="5392080"/>
              <a:ext cx="144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616480" y="217116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614320" y="5468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3025800" y="5392080"/>
              <a:ext cx="180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025800" y="217116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984040" y="5468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3444840" y="5392080"/>
              <a:ext cx="180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44840" y="217116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403080" y="5468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3854520" y="5392080"/>
              <a:ext cx="180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854520" y="217116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812760" y="5468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4265640" y="5392080"/>
              <a:ext cx="180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265640" y="217116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23880" y="5468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4684680" y="5392080"/>
              <a:ext cx="180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684680" y="217116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612680" y="54687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5094360" y="5392080"/>
              <a:ext cx="180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094360" y="217116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022360" y="54687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5505480" y="5392080"/>
              <a:ext cx="180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505480" y="217116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433480" y="54687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5915160" y="5392080"/>
              <a:ext cx="144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915160" y="217116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843160" y="54687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6334200" y="5392080"/>
              <a:ext cx="180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334200" y="217116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62200" y="54687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6745320" y="5392080"/>
              <a:ext cx="180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745320" y="217116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673320" y="54687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616480" y="5430600"/>
              <a:ext cx="37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6707160" y="543060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495520" y="535428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616480" y="5020560"/>
              <a:ext cx="37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6707160" y="502056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495520" y="49442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616480" y="4618440"/>
              <a:ext cx="37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6707160" y="461844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95520" y="45417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616480" y="4206960"/>
              <a:ext cx="37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6707160" y="420696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495520" y="41306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616480" y="3806280"/>
              <a:ext cx="37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6707160" y="380628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536560" y="3729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616480" y="3394800"/>
              <a:ext cx="37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6707160" y="33948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536560" y="3318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616480" y="2983320"/>
              <a:ext cx="37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6707160" y="298332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536560" y="2906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616480" y="2581200"/>
              <a:ext cx="37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6707160" y="25812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536560" y="2505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616480" y="2171160"/>
              <a:ext cx="37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6707160" y="217116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536560" y="209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616480" y="2171160"/>
              <a:ext cx="4128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616480" y="2171160"/>
              <a:ext cx="4128840" cy="325944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2616480" y="2171160"/>
              <a:ext cx="1440" cy="325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635200" y="2505960"/>
              <a:ext cx="4110120" cy="2638800"/>
            </a:xfrm>
            <a:custGeom>
              <a:avLst/>
              <a:gdLst/>
              <a:ahLst/>
              <a:rect l="l" t="t" r="r" b="b"/>
              <a:pathLst>
                <a:path w="2589" h="1654">
                  <a:moveTo>
                    <a:pt x="0" y="868"/>
                  </a:moveTo>
                  <a:lnTo>
                    <a:pt x="12" y="1024"/>
                  </a:lnTo>
                  <a:lnTo>
                    <a:pt x="24" y="797"/>
                  </a:lnTo>
                  <a:lnTo>
                    <a:pt x="42" y="773"/>
                  </a:lnTo>
                  <a:lnTo>
                    <a:pt x="54" y="958"/>
                  </a:lnTo>
                  <a:lnTo>
                    <a:pt x="66" y="659"/>
                  </a:lnTo>
                  <a:lnTo>
                    <a:pt x="78" y="659"/>
                  </a:lnTo>
                  <a:lnTo>
                    <a:pt x="90" y="815"/>
                  </a:lnTo>
                  <a:lnTo>
                    <a:pt x="102" y="773"/>
                  </a:lnTo>
                  <a:lnTo>
                    <a:pt x="120" y="791"/>
                  </a:lnTo>
                  <a:lnTo>
                    <a:pt x="132" y="833"/>
                  </a:lnTo>
                  <a:lnTo>
                    <a:pt x="144" y="719"/>
                  </a:lnTo>
                  <a:lnTo>
                    <a:pt x="156" y="886"/>
                  </a:lnTo>
                  <a:lnTo>
                    <a:pt x="168" y="533"/>
                  </a:lnTo>
                  <a:lnTo>
                    <a:pt x="180" y="827"/>
                  </a:lnTo>
                  <a:lnTo>
                    <a:pt x="198" y="797"/>
                  </a:lnTo>
                  <a:lnTo>
                    <a:pt x="210" y="677"/>
                  </a:lnTo>
                  <a:lnTo>
                    <a:pt x="222" y="803"/>
                  </a:lnTo>
                  <a:lnTo>
                    <a:pt x="234" y="827"/>
                  </a:lnTo>
                  <a:lnTo>
                    <a:pt x="246" y="916"/>
                  </a:lnTo>
                  <a:lnTo>
                    <a:pt x="258" y="773"/>
                  </a:lnTo>
                  <a:lnTo>
                    <a:pt x="276" y="982"/>
                  </a:lnTo>
                  <a:lnTo>
                    <a:pt x="288" y="719"/>
                  </a:lnTo>
                  <a:lnTo>
                    <a:pt x="300" y="605"/>
                  </a:lnTo>
                  <a:lnTo>
                    <a:pt x="312" y="898"/>
                  </a:lnTo>
                  <a:lnTo>
                    <a:pt x="324" y="701"/>
                  </a:lnTo>
                  <a:lnTo>
                    <a:pt x="336" y="653"/>
                  </a:lnTo>
                  <a:lnTo>
                    <a:pt x="354" y="1012"/>
                  </a:lnTo>
                  <a:lnTo>
                    <a:pt x="366" y="994"/>
                  </a:lnTo>
                  <a:lnTo>
                    <a:pt x="378" y="737"/>
                  </a:lnTo>
                  <a:lnTo>
                    <a:pt x="390" y="862"/>
                  </a:lnTo>
                  <a:lnTo>
                    <a:pt x="402" y="725"/>
                  </a:lnTo>
                  <a:lnTo>
                    <a:pt x="414" y="707"/>
                  </a:lnTo>
                  <a:lnTo>
                    <a:pt x="432" y="719"/>
                  </a:lnTo>
                  <a:lnTo>
                    <a:pt x="444" y="647"/>
                  </a:lnTo>
                  <a:lnTo>
                    <a:pt x="456" y="725"/>
                  </a:lnTo>
                  <a:lnTo>
                    <a:pt x="468" y="659"/>
                  </a:lnTo>
                  <a:lnTo>
                    <a:pt x="480" y="964"/>
                  </a:lnTo>
                  <a:lnTo>
                    <a:pt x="492" y="815"/>
                  </a:lnTo>
                  <a:lnTo>
                    <a:pt x="510" y="833"/>
                  </a:lnTo>
                  <a:lnTo>
                    <a:pt x="522" y="1018"/>
                  </a:lnTo>
                  <a:lnTo>
                    <a:pt x="534" y="779"/>
                  </a:lnTo>
                  <a:lnTo>
                    <a:pt x="546" y="946"/>
                  </a:lnTo>
                  <a:lnTo>
                    <a:pt x="558" y="629"/>
                  </a:lnTo>
                  <a:lnTo>
                    <a:pt x="570" y="916"/>
                  </a:lnTo>
                  <a:lnTo>
                    <a:pt x="588" y="743"/>
                  </a:lnTo>
                  <a:lnTo>
                    <a:pt x="600" y="785"/>
                  </a:lnTo>
                  <a:lnTo>
                    <a:pt x="612" y="928"/>
                  </a:lnTo>
                  <a:lnTo>
                    <a:pt x="624" y="1090"/>
                  </a:lnTo>
                  <a:lnTo>
                    <a:pt x="636" y="821"/>
                  </a:lnTo>
                  <a:lnTo>
                    <a:pt x="648" y="940"/>
                  </a:lnTo>
                  <a:lnTo>
                    <a:pt x="666" y="731"/>
                  </a:lnTo>
                  <a:lnTo>
                    <a:pt x="678" y="749"/>
                  </a:lnTo>
                  <a:lnTo>
                    <a:pt x="690" y="593"/>
                  </a:lnTo>
                  <a:lnTo>
                    <a:pt x="702" y="737"/>
                  </a:lnTo>
                  <a:lnTo>
                    <a:pt x="714" y="892"/>
                  </a:lnTo>
                  <a:lnTo>
                    <a:pt x="726" y="761"/>
                  </a:lnTo>
                  <a:lnTo>
                    <a:pt x="744" y="940"/>
                  </a:lnTo>
                  <a:lnTo>
                    <a:pt x="756" y="815"/>
                  </a:lnTo>
                  <a:lnTo>
                    <a:pt x="768" y="821"/>
                  </a:lnTo>
                  <a:lnTo>
                    <a:pt x="780" y="809"/>
                  </a:lnTo>
                  <a:lnTo>
                    <a:pt x="792" y="851"/>
                  </a:lnTo>
                  <a:lnTo>
                    <a:pt x="804" y="671"/>
                  </a:lnTo>
                  <a:lnTo>
                    <a:pt x="823" y="1048"/>
                  </a:lnTo>
                  <a:lnTo>
                    <a:pt x="835" y="755"/>
                  </a:lnTo>
                  <a:lnTo>
                    <a:pt x="847" y="695"/>
                  </a:lnTo>
                  <a:lnTo>
                    <a:pt x="859" y="719"/>
                  </a:lnTo>
                  <a:lnTo>
                    <a:pt x="871" y="737"/>
                  </a:lnTo>
                  <a:lnTo>
                    <a:pt x="883" y="809"/>
                  </a:lnTo>
                  <a:lnTo>
                    <a:pt x="901" y="725"/>
                  </a:lnTo>
                  <a:lnTo>
                    <a:pt x="913" y="737"/>
                  </a:lnTo>
                  <a:lnTo>
                    <a:pt x="925" y="845"/>
                  </a:lnTo>
                  <a:lnTo>
                    <a:pt x="937" y="862"/>
                  </a:lnTo>
                  <a:lnTo>
                    <a:pt x="949" y="851"/>
                  </a:lnTo>
                  <a:lnTo>
                    <a:pt x="961" y="1000"/>
                  </a:lnTo>
                  <a:lnTo>
                    <a:pt x="979" y="839"/>
                  </a:lnTo>
                  <a:lnTo>
                    <a:pt x="991" y="797"/>
                  </a:lnTo>
                  <a:lnTo>
                    <a:pt x="1003" y="773"/>
                  </a:lnTo>
                  <a:lnTo>
                    <a:pt x="1015" y="629"/>
                  </a:lnTo>
                  <a:lnTo>
                    <a:pt x="1027" y="857"/>
                  </a:lnTo>
                  <a:lnTo>
                    <a:pt x="1039" y="731"/>
                  </a:lnTo>
                  <a:lnTo>
                    <a:pt x="1057" y="707"/>
                  </a:lnTo>
                  <a:lnTo>
                    <a:pt x="1069" y="689"/>
                  </a:lnTo>
                  <a:lnTo>
                    <a:pt x="1081" y="940"/>
                  </a:lnTo>
                  <a:lnTo>
                    <a:pt x="1093" y="785"/>
                  </a:lnTo>
                  <a:lnTo>
                    <a:pt x="1105" y="779"/>
                  </a:lnTo>
                  <a:lnTo>
                    <a:pt x="1117" y="940"/>
                  </a:lnTo>
                  <a:lnTo>
                    <a:pt x="1135" y="904"/>
                  </a:lnTo>
                  <a:lnTo>
                    <a:pt x="1147" y="671"/>
                  </a:lnTo>
                  <a:lnTo>
                    <a:pt x="1159" y="827"/>
                  </a:lnTo>
                  <a:lnTo>
                    <a:pt x="1171" y="761"/>
                  </a:lnTo>
                  <a:lnTo>
                    <a:pt x="1183" y="803"/>
                  </a:lnTo>
                  <a:lnTo>
                    <a:pt x="1195" y="892"/>
                  </a:lnTo>
                  <a:lnTo>
                    <a:pt x="1213" y="880"/>
                  </a:lnTo>
                  <a:lnTo>
                    <a:pt x="1225" y="755"/>
                  </a:lnTo>
                  <a:lnTo>
                    <a:pt x="1237" y="934"/>
                  </a:lnTo>
                  <a:lnTo>
                    <a:pt x="1249" y="713"/>
                  </a:lnTo>
                  <a:lnTo>
                    <a:pt x="1261" y="737"/>
                  </a:lnTo>
                  <a:lnTo>
                    <a:pt x="1273" y="916"/>
                  </a:lnTo>
                  <a:lnTo>
                    <a:pt x="1291" y="845"/>
                  </a:lnTo>
                  <a:lnTo>
                    <a:pt x="1303" y="1264"/>
                  </a:lnTo>
                  <a:lnTo>
                    <a:pt x="1315" y="1654"/>
                  </a:lnTo>
                  <a:lnTo>
                    <a:pt x="1327" y="431"/>
                  </a:lnTo>
                  <a:lnTo>
                    <a:pt x="1339" y="1012"/>
                  </a:lnTo>
                  <a:lnTo>
                    <a:pt x="1351" y="689"/>
                  </a:lnTo>
                  <a:lnTo>
                    <a:pt x="1363" y="725"/>
                  </a:lnTo>
                  <a:lnTo>
                    <a:pt x="1381" y="803"/>
                  </a:lnTo>
                  <a:lnTo>
                    <a:pt x="1393" y="1198"/>
                  </a:lnTo>
                  <a:lnTo>
                    <a:pt x="1405" y="1174"/>
                  </a:lnTo>
                  <a:lnTo>
                    <a:pt x="1417" y="952"/>
                  </a:lnTo>
                  <a:lnTo>
                    <a:pt x="1429" y="1264"/>
                  </a:lnTo>
                  <a:lnTo>
                    <a:pt x="1441" y="1216"/>
                  </a:lnTo>
                  <a:lnTo>
                    <a:pt x="1459" y="245"/>
                  </a:lnTo>
                  <a:lnTo>
                    <a:pt x="1471" y="791"/>
                  </a:lnTo>
                  <a:lnTo>
                    <a:pt x="1483" y="1276"/>
                  </a:lnTo>
                  <a:lnTo>
                    <a:pt x="1495" y="827"/>
                  </a:lnTo>
                  <a:lnTo>
                    <a:pt x="1507" y="1246"/>
                  </a:lnTo>
                  <a:lnTo>
                    <a:pt x="1519" y="1330"/>
                  </a:lnTo>
                  <a:lnTo>
                    <a:pt x="1537" y="910"/>
                  </a:lnTo>
                  <a:lnTo>
                    <a:pt x="1549" y="449"/>
                  </a:lnTo>
                  <a:lnTo>
                    <a:pt x="1561" y="761"/>
                  </a:lnTo>
                  <a:lnTo>
                    <a:pt x="1573" y="563"/>
                  </a:lnTo>
                  <a:lnTo>
                    <a:pt x="1585" y="1258"/>
                  </a:lnTo>
                  <a:lnTo>
                    <a:pt x="1597" y="988"/>
                  </a:lnTo>
                  <a:lnTo>
                    <a:pt x="1615" y="910"/>
                  </a:lnTo>
                  <a:lnTo>
                    <a:pt x="1627" y="1276"/>
                  </a:lnTo>
                  <a:lnTo>
                    <a:pt x="1639" y="1318"/>
                  </a:lnTo>
                  <a:lnTo>
                    <a:pt x="1652" y="455"/>
                  </a:lnTo>
                  <a:lnTo>
                    <a:pt x="1664" y="809"/>
                  </a:lnTo>
                  <a:lnTo>
                    <a:pt x="1676" y="1060"/>
                  </a:lnTo>
                  <a:lnTo>
                    <a:pt x="1694" y="503"/>
                  </a:lnTo>
                  <a:lnTo>
                    <a:pt x="1706" y="725"/>
                  </a:lnTo>
                  <a:lnTo>
                    <a:pt x="1718" y="1192"/>
                  </a:lnTo>
                  <a:lnTo>
                    <a:pt x="1730" y="299"/>
                  </a:lnTo>
                  <a:lnTo>
                    <a:pt x="1742" y="701"/>
                  </a:lnTo>
                  <a:lnTo>
                    <a:pt x="1754" y="245"/>
                  </a:lnTo>
                  <a:lnTo>
                    <a:pt x="1772" y="377"/>
                  </a:lnTo>
                  <a:lnTo>
                    <a:pt x="1784" y="1072"/>
                  </a:lnTo>
                  <a:lnTo>
                    <a:pt x="1796" y="1306"/>
                  </a:lnTo>
                  <a:lnTo>
                    <a:pt x="1808" y="839"/>
                  </a:lnTo>
                  <a:lnTo>
                    <a:pt x="1820" y="940"/>
                  </a:lnTo>
                  <a:lnTo>
                    <a:pt x="1832" y="1132"/>
                  </a:lnTo>
                  <a:lnTo>
                    <a:pt x="1850" y="623"/>
                  </a:lnTo>
                  <a:lnTo>
                    <a:pt x="1862" y="239"/>
                  </a:lnTo>
                  <a:lnTo>
                    <a:pt x="1874" y="1018"/>
                  </a:lnTo>
                  <a:lnTo>
                    <a:pt x="1886" y="1138"/>
                  </a:lnTo>
                  <a:lnTo>
                    <a:pt x="1898" y="904"/>
                  </a:lnTo>
                  <a:lnTo>
                    <a:pt x="1910" y="557"/>
                  </a:lnTo>
                  <a:lnTo>
                    <a:pt x="1928" y="1138"/>
                  </a:lnTo>
                  <a:lnTo>
                    <a:pt x="1940" y="1270"/>
                  </a:lnTo>
                  <a:lnTo>
                    <a:pt x="1952" y="857"/>
                  </a:lnTo>
                  <a:lnTo>
                    <a:pt x="1964" y="839"/>
                  </a:lnTo>
                  <a:lnTo>
                    <a:pt x="1976" y="623"/>
                  </a:lnTo>
                  <a:lnTo>
                    <a:pt x="1988" y="1042"/>
                  </a:lnTo>
                  <a:lnTo>
                    <a:pt x="2006" y="868"/>
                  </a:lnTo>
                  <a:lnTo>
                    <a:pt x="2018" y="976"/>
                  </a:lnTo>
                  <a:lnTo>
                    <a:pt x="2030" y="845"/>
                  </a:lnTo>
                  <a:lnTo>
                    <a:pt x="2042" y="221"/>
                  </a:lnTo>
                  <a:lnTo>
                    <a:pt x="2054" y="1042"/>
                  </a:lnTo>
                  <a:lnTo>
                    <a:pt x="2066" y="1330"/>
                  </a:lnTo>
                  <a:lnTo>
                    <a:pt x="2084" y="629"/>
                  </a:lnTo>
                  <a:lnTo>
                    <a:pt x="2096" y="1156"/>
                  </a:lnTo>
                  <a:lnTo>
                    <a:pt x="2108" y="797"/>
                  </a:lnTo>
                  <a:lnTo>
                    <a:pt x="2120" y="1054"/>
                  </a:lnTo>
                  <a:lnTo>
                    <a:pt x="2132" y="605"/>
                  </a:lnTo>
                  <a:lnTo>
                    <a:pt x="2144" y="599"/>
                  </a:lnTo>
                  <a:lnTo>
                    <a:pt x="2162" y="892"/>
                  </a:lnTo>
                  <a:lnTo>
                    <a:pt x="2174" y="1600"/>
                  </a:lnTo>
                  <a:lnTo>
                    <a:pt x="2186" y="761"/>
                  </a:lnTo>
                  <a:lnTo>
                    <a:pt x="2198" y="203"/>
                  </a:lnTo>
                  <a:lnTo>
                    <a:pt x="2210" y="419"/>
                  </a:lnTo>
                  <a:lnTo>
                    <a:pt x="2222" y="1420"/>
                  </a:lnTo>
                  <a:lnTo>
                    <a:pt x="2240" y="845"/>
                  </a:lnTo>
                  <a:lnTo>
                    <a:pt x="2252" y="1072"/>
                  </a:lnTo>
                  <a:lnTo>
                    <a:pt x="2264" y="1204"/>
                  </a:lnTo>
                  <a:lnTo>
                    <a:pt x="2276" y="1282"/>
                  </a:lnTo>
                  <a:lnTo>
                    <a:pt x="2288" y="701"/>
                  </a:lnTo>
                  <a:lnTo>
                    <a:pt x="2300" y="976"/>
                  </a:lnTo>
                  <a:lnTo>
                    <a:pt x="2318" y="791"/>
                  </a:lnTo>
                  <a:lnTo>
                    <a:pt x="2330" y="952"/>
                  </a:lnTo>
                  <a:lnTo>
                    <a:pt x="2342" y="988"/>
                  </a:lnTo>
                  <a:lnTo>
                    <a:pt x="2354" y="671"/>
                  </a:lnTo>
                  <a:lnTo>
                    <a:pt x="2366" y="533"/>
                  </a:lnTo>
                  <a:lnTo>
                    <a:pt x="2378" y="0"/>
                  </a:lnTo>
                  <a:lnTo>
                    <a:pt x="2396" y="1330"/>
                  </a:lnTo>
                  <a:lnTo>
                    <a:pt x="2408" y="1204"/>
                  </a:lnTo>
                  <a:lnTo>
                    <a:pt x="2420" y="413"/>
                  </a:lnTo>
                  <a:lnTo>
                    <a:pt x="2432" y="958"/>
                  </a:lnTo>
                  <a:lnTo>
                    <a:pt x="2444" y="1342"/>
                  </a:lnTo>
                  <a:lnTo>
                    <a:pt x="2456" y="689"/>
                  </a:lnTo>
                  <a:lnTo>
                    <a:pt x="2474" y="215"/>
                  </a:lnTo>
                  <a:lnTo>
                    <a:pt x="2486" y="539"/>
                  </a:lnTo>
                  <a:lnTo>
                    <a:pt x="2499" y="59"/>
                  </a:lnTo>
                  <a:lnTo>
                    <a:pt x="2511" y="617"/>
                  </a:lnTo>
                  <a:lnTo>
                    <a:pt x="2523" y="95"/>
                  </a:lnTo>
                  <a:lnTo>
                    <a:pt x="2535" y="940"/>
                  </a:lnTo>
                  <a:lnTo>
                    <a:pt x="2553" y="1246"/>
                  </a:lnTo>
                  <a:lnTo>
                    <a:pt x="2565" y="892"/>
                  </a:lnTo>
                  <a:lnTo>
                    <a:pt x="2577" y="353"/>
                  </a:lnTo>
                  <a:lnTo>
                    <a:pt x="2589" y="124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937680" y="1951200"/>
              <a:ext cx="1533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cesso Não-Estacionár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28080" y="563148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rot="16200000">
              <a:off x="2322000" y="3712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25240" y="138924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xempl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211760" y="541440"/>
            <a:ext cx="668196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ementos de Processos Estocás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2227320" y="1965240"/>
            <a:ext cx="4604760" cy="4420800"/>
            <a:chOff x="2227320" y="1965240"/>
            <a:chExt cx="4604760" cy="4420800"/>
          </a:xfrm>
        </p:grpSpPr>
        <p:grpSp>
          <p:nvGrpSpPr>
            <p:cNvPr id="930" name=""/>
            <p:cNvGrpSpPr/>
            <p:nvPr/>
          </p:nvGrpSpPr>
          <p:grpSpPr>
            <a:xfrm>
              <a:off x="3262320" y="2171880"/>
              <a:ext cx="2765520" cy="4214160"/>
              <a:chOff x="3262320" y="2171880"/>
              <a:chExt cx="2765520" cy="4214160"/>
            </a:xfrm>
          </p:grpSpPr>
          <p:sp>
            <p:nvSpPr>
              <p:cNvPr id="931" name=""/>
              <p:cNvSpPr/>
              <p:nvPr/>
            </p:nvSpPr>
            <p:spPr>
              <a:xfrm>
                <a:off x="5248440" y="2171880"/>
                <a:ext cx="765360" cy="3290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278520" y="2178000"/>
                <a:ext cx="765000" cy="32904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262320" y="5540040"/>
                <a:ext cx="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021200" y="5562360"/>
                <a:ext cx="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005520" y="5556240"/>
                <a:ext cx="0" cy="82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249880" y="5533920"/>
                <a:ext cx="0" cy="82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262320" y="6205320"/>
                <a:ext cx="76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262840" y="6184800"/>
                <a:ext cx="76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510000" y="5938560"/>
                <a:ext cx="25416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523120" y="5930640"/>
                <a:ext cx="25380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41" name=""/>
            <p:cNvGrpSpPr/>
            <p:nvPr/>
          </p:nvGrpSpPr>
          <p:grpSpPr>
            <a:xfrm>
              <a:off x="2227320" y="1965240"/>
              <a:ext cx="4604760" cy="3838320"/>
              <a:chOff x="2227320" y="1965240"/>
              <a:chExt cx="4604760" cy="3838320"/>
            </a:xfrm>
          </p:grpSpPr>
          <p:sp>
            <p:nvSpPr>
              <p:cNvPr id="942" name=""/>
              <p:cNvSpPr/>
              <p:nvPr/>
            </p:nvSpPr>
            <p:spPr>
              <a:xfrm>
                <a:off x="2590920" y="2184120"/>
                <a:ext cx="4103640" cy="326556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590920" y="2184120"/>
                <a:ext cx="4103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590920" y="2184120"/>
                <a:ext cx="4103640" cy="3265560"/>
              </a:xfrm>
              <a:custGeom>
                <a:avLst/>
                <a:gdLst/>
                <a:ahLst/>
                <a:rect l="l" t="t" r="r" b="b"/>
                <a:pathLst>
                  <a:path w="433" h="341">
                    <a:moveTo>
                      <a:pt x="0" y="341"/>
                    </a:moveTo>
                    <a:lnTo>
                      <a:pt x="433" y="341"/>
                    </a:lnTo>
                    <a:lnTo>
                      <a:pt x="4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V="1">
                <a:off x="2590920" y="2183760"/>
                <a:ext cx="1440" cy="326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590920" y="5449680"/>
                <a:ext cx="4103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V="1">
                <a:off x="2590920" y="2183760"/>
                <a:ext cx="1440" cy="326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V="1">
                <a:off x="2590920" y="5410800"/>
                <a:ext cx="1440" cy="38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590920" y="2184120"/>
                <a:ext cx="1440" cy="38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588760" y="548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2997360" y="5410800"/>
                <a:ext cx="1440" cy="38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997360" y="2184120"/>
                <a:ext cx="1440" cy="38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955600" y="54882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V="1">
                <a:off x="3414600" y="5410800"/>
                <a:ext cx="1800" cy="38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414600" y="2184120"/>
                <a:ext cx="1800" cy="38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371400" y="54882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V="1">
                <a:off x="3822840" y="5410800"/>
                <a:ext cx="1440" cy="38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822840" y="2184120"/>
                <a:ext cx="1440" cy="38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779280" y="54882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V="1">
                <a:off x="4230720" y="5410800"/>
                <a:ext cx="1440" cy="38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230720" y="2184120"/>
                <a:ext cx="1440" cy="38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187520" y="54882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4646520" y="5410800"/>
                <a:ext cx="1800" cy="38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646520" y="2184120"/>
                <a:ext cx="1800" cy="38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574520" y="5488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V="1">
                <a:off x="5054760" y="5410800"/>
                <a:ext cx="1440" cy="38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054760" y="2184120"/>
                <a:ext cx="1440" cy="38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980960" y="5488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V="1">
                <a:off x="5462640" y="5410800"/>
                <a:ext cx="1440" cy="38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462640" y="2184120"/>
                <a:ext cx="1440" cy="38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389200" y="5488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4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V="1">
                <a:off x="5869080" y="5410800"/>
                <a:ext cx="1440" cy="38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869080" y="2184120"/>
                <a:ext cx="1440" cy="38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797080" y="5488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6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6286680" y="5410800"/>
                <a:ext cx="1440" cy="38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286680" y="2184120"/>
                <a:ext cx="1440" cy="38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212880" y="5488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8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V="1">
                <a:off x="6694560" y="5410800"/>
                <a:ext cx="1440" cy="38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694560" y="2184120"/>
                <a:ext cx="1440" cy="38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621120" y="5488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590920" y="54496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6656400" y="54496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471400" y="5374080"/>
                <a:ext cx="113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590920" y="498132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6656400" y="498132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471400" y="4904280"/>
                <a:ext cx="113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590920" y="45212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>
                <a:off x="6656400" y="45212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512800" y="4444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590920" y="4051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H="1">
                <a:off x="6656400" y="4051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512800" y="39758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590920" y="358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6656400" y="358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512800" y="3506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590920" y="31140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6656400" y="31140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512800" y="3036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590920" y="26535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>
                <a:off x="6656400" y="26535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512800" y="2577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590920" y="21841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6656400" y="21841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442600" y="21085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590920" y="2184120"/>
                <a:ext cx="4103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590920" y="2184120"/>
                <a:ext cx="4103640" cy="3265560"/>
              </a:xfrm>
              <a:custGeom>
                <a:avLst/>
                <a:gdLst/>
                <a:ahLst/>
                <a:rect l="l" t="t" r="r" b="b"/>
                <a:pathLst>
                  <a:path w="433" h="341">
                    <a:moveTo>
                      <a:pt x="0" y="341"/>
                    </a:moveTo>
                    <a:lnTo>
                      <a:pt x="433" y="341"/>
                    </a:lnTo>
                    <a:lnTo>
                      <a:pt x="4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V="1">
                <a:off x="2590920" y="2183760"/>
                <a:ext cx="1440" cy="326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610000" y="2212920"/>
                <a:ext cx="4084560" cy="2834640"/>
              </a:xfrm>
              <a:custGeom>
                <a:avLst/>
                <a:gdLst/>
                <a:ahLst/>
                <a:rect l="l" t="t" r="r" b="b"/>
                <a:pathLst>
                  <a:path w="2573" h="1762">
                    <a:moveTo>
                      <a:pt x="0" y="1441"/>
                    </a:moveTo>
                    <a:lnTo>
                      <a:pt x="12" y="1393"/>
                    </a:lnTo>
                    <a:lnTo>
                      <a:pt x="24" y="1232"/>
                    </a:lnTo>
                    <a:lnTo>
                      <a:pt x="42" y="1405"/>
                    </a:lnTo>
                    <a:lnTo>
                      <a:pt x="53" y="1512"/>
                    </a:lnTo>
                    <a:lnTo>
                      <a:pt x="65" y="1197"/>
                    </a:lnTo>
                    <a:lnTo>
                      <a:pt x="77" y="1310"/>
                    </a:lnTo>
                    <a:lnTo>
                      <a:pt x="89" y="1399"/>
                    </a:lnTo>
                    <a:lnTo>
                      <a:pt x="101" y="1334"/>
                    </a:lnTo>
                    <a:lnTo>
                      <a:pt x="119" y="1506"/>
                    </a:lnTo>
                    <a:lnTo>
                      <a:pt x="131" y="1310"/>
                    </a:lnTo>
                    <a:lnTo>
                      <a:pt x="143" y="1393"/>
                    </a:lnTo>
                    <a:lnTo>
                      <a:pt x="155" y="1340"/>
                    </a:lnTo>
                    <a:lnTo>
                      <a:pt x="167" y="1584"/>
                    </a:lnTo>
                    <a:lnTo>
                      <a:pt x="179" y="1209"/>
                    </a:lnTo>
                    <a:lnTo>
                      <a:pt x="197" y="1369"/>
                    </a:lnTo>
                    <a:lnTo>
                      <a:pt x="209" y="1709"/>
                    </a:lnTo>
                    <a:lnTo>
                      <a:pt x="221" y="1363"/>
                    </a:lnTo>
                    <a:lnTo>
                      <a:pt x="233" y="1244"/>
                    </a:lnTo>
                    <a:lnTo>
                      <a:pt x="244" y="1340"/>
                    </a:lnTo>
                    <a:lnTo>
                      <a:pt x="256" y="1232"/>
                    </a:lnTo>
                    <a:lnTo>
                      <a:pt x="274" y="1238"/>
                    </a:lnTo>
                    <a:lnTo>
                      <a:pt x="286" y="1560"/>
                    </a:lnTo>
                    <a:lnTo>
                      <a:pt x="298" y="1762"/>
                    </a:lnTo>
                    <a:lnTo>
                      <a:pt x="310" y="1173"/>
                    </a:lnTo>
                    <a:lnTo>
                      <a:pt x="322" y="1375"/>
                    </a:lnTo>
                    <a:lnTo>
                      <a:pt x="334" y="1429"/>
                    </a:lnTo>
                    <a:lnTo>
                      <a:pt x="352" y="1488"/>
                    </a:lnTo>
                    <a:lnTo>
                      <a:pt x="364" y="1649"/>
                    </a:lnTo>
                    <a:lnTo>
                      <a:pt x="376" y="1399"/>
                    </a:lnTo>
                    <a:lnTo>
                      <a:pt x="388" y="1625"/>
                    </a:lnTo>
                    <a:lnTo>
                      <a:pt x="400" y="1548"/>
                    </a:lnTo>
                    <a:lnTo>
                      <a:pt x="412" y="1459"/>
                    </a:lnTo>
                    <a:lnTo>
                      <a:pt x="430" y="1316"/>
                    </a:lnTo>
                    <a:lnTo>
                      <a:pt x="441" y="1369"/>
                    </a:lnTo>
                    <a:lnTo>
                      <a:pt x="453" y="1619"/>
                    </a:lnTo>
                    <a:lnTo>
                      <a:pt x="465" y="1209"/>
                    </a:lnTo>
                    <a:lnTo>
                      <a:pt x="477" y="1417"/>
                    </a:lnTo>
                    <a:lnTo>
                      <a:pt x="489" y="1155"/>
                    </a:lnTo>
                    <a:lnTo>
                      <a:pt x="507" y="1596"/>
                    </a:lnTo>
                    <a:lnTo>
                      <a:pt x="519" y="1536"/>
                    </a:lnTo>
                    <a:lnTo>
                      <a:pt x="531" y="1530"/>
                    </a:lnTo>
                    <a:lnTo>
                      <a:pt x="543" y="1435"/>
                    </a:lnTo>
                    <a:lnTo>
                      <a:pt x="555" y="1560"/>
                    </a:lnTo>
                    <a:lnTo>
                      <a:pt x="567" y="1560"/>
                    </a:lnTo>
                    <a:lnTo>
                      <a:pt x="585" y="1762"/>
                    </a:lnTo>
                    <a:lnTo>
                      <a:pt x="597" y="1536"/>
                    </a:lnTo>
                    <a:lnTo>
                      <a:pt x="609" y="1381"/>
                    </a:lnTo>
                    <a:lnTo>
                      <a:pt x="621" y="1441"/>
                    </a:lnTo>
                    <a:lnTo>
                      <a:pt x="633" y="1441"/>
                    </a:lnTo>
                    <a:lnTo>
                      <a:pt x="644" y="1429"/>
                    </a:lnTo>
                    <a:lnTo>
                      <a:pt x="662" y="1387"/>
                    </a:lnTo>
                    <a:lnTo>
                      <a:pt x="674" y="1482"/>
                    </a:lnTo>
                    <a:lnTo>
                      <a:pt x="686" y="1512"/>
                    </a:lnTo>
                    <a:lnTo>
                      <a:pt x="698" y="1334"/>
                    </a:lnTo>
                    <a:lnTo>
                      <a:pt x="710" y="1471"/>
                    </a:lnTo>
                    <a:lnTo>
                      <a:pt x="722" y="1369"/>
                    </a:lnTo>
                    <a:lnTo>
                      <a:pt x="740" y="1542"/>
                    </a:lnTo>
                    <a:lnTo>
                      <a:pt x="752" y="1423"/>
                    </a:lnTo>
                    <a:lnTo>
                      <a:pt x="764" y="1292"/>
                    </a:lnTo>
                    <a:lnTo>
                      <a:pt x="776" y="1530"/>
                    </a:lnTo>
                    <a:lnTo>
                      <a:pt x="788" y="1375"/>
                    </a:lnTo>
                    <a:lnTo>
                      <a:pt x="800" y="1429"/>
                    </a:lnTo>
                    <a:lnTo>
                      <a:pt x="818" y="1405"/>
                    </a:lnTo>
                    <a:lnTo>
                      <a:pt x="830" y="1447"/>
                    </a:lnTo>
                    <a:lnTo>
                      <a:pt x="841" y="1691"/>
                    </a:lnTo>
                    <a:lnTo>
                      <a:pt x="853" y="1411"/>
                    </a:lnTo>
                    <a:lnTo>
                      <a:pt x="865" y="1185"/>
                    </a:lnTo>
                    <a:lnTo>
                      <a:pt x="877" y="1292"/>
                    </a:lnTo>
                    <a:lnTo>
                      <a:pt x="895" y="1435"/>
                    </a:lnTo>
                    <a:lnTo>
                      <a:pt x="907" y="1477"/>
                    </a:lnTo>
                    <a:lnTo>
                      <a:pt x="919" y="1340"/>
                    </a:lnTo>
                    <a:lnTo>
                      <a:pt x="931" y="1429"/>
                    </a:lnTo>
                    <a:lnTo>
                      <a:pt x="943" y="1453"/>
                    </a:lnTo>
                    <a:lnTo>
                      <a:pt x="955" y="1363"/>
                    </a:lnTo>
                    <a:lnTo>
                      <a:pt x="973" y="1185"/>
                    </a:lnTo>
                    <a:lnTo>
                      <a:pt x="985" y="1732"/>
                    </a:lnTo>
                    <a:lnTo>
                      <a:pt x="997" y="1280"/>
                    </a:lnTo>
                    <a:lnTo>
                      <a:pt x="1009" y="1506"/>
                    </a:lnTo>
                    <a:lnTo>
                      <a:pt x="1021" y="1221"/>
                    </a:lnTo>
                    <a:lnTo>
                      <a:pt x="1032" y="1709"/>
                    </a:lnTo>
                    <a:lnTo>
                      <a:pt x="1050" y="1387"/>
                    </a:lnTo>
                    <a:lnTo>
                      <a:pt x="1062" y="1340"/>
                    </a:lnTo>
                    <a:lnTo>
                      <a:pt x="1074" y="1405"/>
                    </a:lnTo>
                    <a:lnTo>
                      <a:pt x="1086" y="1375"/>
                    </a:lnTo>
                    <a:lnTo>
                      <a:pt x="1098" y="1560"/>
                    </a:lnTo>
                    <a:lnTo>
                      <a:pt x="1110" y="1500"/>
                    </a:lnTo>
                    <a:lnTo>
                      <a:pt x="1128" y="1453"/>
                    </a:lnTo>
                    <a:lnTo>
                      <a:pt x="1140" y="1274"/>
                    </a:lnTo>
                    <a:lnTo>
                      <a:pt x="1152" y="1411"/>
                    </a:lnTo>
                    <a:lnTo>
                      <a:pt x="1164" y="1102"/>
                    </a:lnTo>
                    <a:lnTo>
                      <a:pt x="1176" y="1298"/>
                    </a:lnTo>
                    <a:lnTo>
                      <a:pt x="1188" y="1584"/>
                    </a:lnTo>
                    <a:lnTo>
                      <a:pt x="1206" y="1375"/>
                    </a:lnTo>
                    <a:lnTo>
                      <a:pt x="1218" y="1405"/>
                    </a:lnTo>
                    <a:lnTo>
                      <a:pt x="1229" y="1292"/>
                    </a:lnTo>
                    <a:lnTo>
                      <a:pt x="1241" y="1334"/>
                    </a:lnTo>
                    <a:lnTo>
                      <a:pt x="1253" y="1334"/>
                    </a:lnTo>
                    <a:lnTo>
                      <a:pt x="1265" y="1399"/>
                    </a:lnTo>
                    <a:lnTo>
                      <a:pt x="1283" y="1298"/>
                    </a:lnTo>
                    <a:lnTo>
                      <a:pt x="1295" y="1494"/>
                    </a:lnTo>
                    <a:lnTo>
                      <a:pt x="1307" y="1191"/>
                    </a:lnTo>
                    <a:lnTo>
                      <a:pt x="1319" y="1465"/>
                    </a:lnTo>
                    <a:lnTo>
                      <a:pt x="1331" y="1363"/>
                    </a:lnTo>
                    <a:lnTo>
                      <a:pt x="1343" y="1286"/>
                    </a:lnTo>
                    <a:lnTo>
                      <a:pt x="1355" y="1227"/>
                    </a:lnTo>
                    <a:lnTo>
                      <a:pt x="1373" y="1268"/>
                    </a:lnTo>
                    <a:lnTo>
                      <a:pt x="1385" y="1000"/>
                    </a:lnTo>
                    <a:lnTo>
                      <a:pt x="1397" y="1012"/>
                    </a:lnTo>
                    <a:lnTo>
                      <a:pt x="1409" y="1149"/>
                    </a:lnTo>
                    <a:lnTo>
                      <a:pt x="1420" y="1221"/>
                    </a:lnTo>
                    <a:lnTo>
                      <a:pt x="1432" y="1346"/>
                    </a:lnTo>
                    <a:lnTo>
                      <a:pt x="1450" y="1292"/>
                    </a:lnTo>
                    <a:lnTo>
                      <a:pt x="1462" y="1423"/>
                    </a:lnTo>
                    <a:lnTo>
                      <a:pt x="1474" y="1268"/>
                    </a:lnTo>
                    <a:lnTo>
                      <a:pt x="1486" y="1274"/>
                    </a:lnTo>
                    <a:lnTo>
                      <a:pt x="1498" y="947"/>
                    </a:lnTo>
                    <a:lnTo>
                      <a:pt x="1510" y="1084"/>
                    </a:lnTo>
                    <a:lnTo>
                      <a:pt x="1528" y="1179"/>
                    </a:lnTo>
                    <a:lnTo>
                      <a:pt x="1540" y="1227"/>
                    </a:lnTo>
                    <a:lnTo>
                      <a:pt x="1552" y="1161"/>
                    </a:lnTo>
                    <a:lnTo>
                      <a:pt x="1564" y="1060"/>
                    </a:lnTo>
                    <a:lnTo>
                      <a:pt x="1576" y="840"/>
                    </a:lnTo>
                    <a:lnTo>
                      <a:pt x="1588" y="1107"/>
                    </a:lnTo>
                    <a:lnTo>
                      <a:pt x="1606" y="1024"/>
                    </a:lnTo>
                    <a:lnTo>
                      <a:pt x="1617" y="1042"/>
                    </a:lnTo>
                    <a:lnTo>
                      <a:pt x="1629" y="1054"/>
                    </a:lnTo>
                    <a:lnTo>
                      <a:pt x="1641" y="982"/>
                    </a:lnTo>
                    <a:lnTo>
                      <a:pt x="1653" y="941"/>
                    </a:lnTo>
                    <a:lnTo>
                      <a:pt x="1665" y="1107"/>
                    </a:lnTo>
                    <a:lnTo>
                      <a:pt x="1683" y="1149"/>
                    </a:lnTo>
                    <a:lnTo>
                      <a:pt x="1695" y="1066"/>
                    </a:lnTo>
                    <a:lnTo>
                      <a:pt x="1707" y="947"/>
                    </a:lnTo>
                    <a:lnTo>
                      <a:pt x="1719" y="905"/>
                    </a:lnTo>
                    <a:lnTo>
                      <a:pt x="1731" y="1155"/>
                    </a:lnTo>
                    <a:lnTo>
                      <a:pt x="1743" y="935"/>
                    </a:lnTo>
                    <a:lnTo>
                      <a:pt x="1761" y="1084"/>
                    </a:lnTo>
                    <a:lnTo>
                      <a:pt x="1773" y="1102"/>
                    </a:lnTo>
                    <a:lnTo>
                      <a:pt x="1785" y="965"/>
                    </a:lnTo>
                    <a:lnTo>
                      <a:pt x="1797" y="899"/>
                    </a:lnTo>
                    <a:lnTo>
                      <a:pt x="1809" y="1107"/>
                    </a:lnTo>
                    <a:lnTo>
                      <a:pt x="1820" y="1232"/>
                    </a:lnTo>
                    <a:lnTo>
                      <a:pt x="1838" y="1018"/>
                    </a:lnTo>
                    <a:lnTo>
                      <a:pt x="1850" y="917"/>
                    </a:lnTo>
                    <a:lnTo>
                      <a:pt x="1862" y="977"/>
                    </a:lnTo>
                    <a:lnTo>
                      <a:pt x="1874" y="750"/>
                    </a:lnTo>
                    <a:lnTo>
                      <a:pt x="1886" y="1018"/>
                    </a:lnTo>
                    <a:lnTo>
                      <a:pt x="1898" y="846"/>
                    </a:lnTo>
                    <a:lnTo>
                      <a:pt x="1916" y="1066"/>
                    </a:lnTo>
                    <a:lnTo>
                      <a:pt x="1928" y="1125"/>
                    </a:lnTo>
                    <a:lnTo>
                      <a:pt x="1940" y="834"/>
                    </a:lnTo>
                    <a:lnTo>
                      <a:pt x="1952" y="1125"/>
                    </a:lnTo>
                    <a:lnTo>
                      <a:pt x="1964" y="1102"/>
                    </a:lnTo>
                    <a:lnTo>
                      <a:pt x="1976" y="988"/>
                    </a:lnTo>
                    <a:lnTo>
                      <a:pt x="1994" y="1107"/>
                    </a:lnTo>
                    <a:lnTo>
                      <a:pt x="2006" y="798"/>
                    </a:lnTo>
                    <a:lnTo>
                      <a:pt x="2017" y="911"/>
                    </a:lnTo>
                    <a:lnTo>
                      <a:pt x="2029" y="1048"/>
                    </a:lnTo>
                    <a:lnTo>
                      <a:pt x="2041" y="977"/>
                    </a:lnTo>
                    <a:lnTo>
                      <a:pt x="2053" y="982"/>
                    </a:lnTo>
                    <a:lnTo>
                      <a:pt x="2071" y="840"/>
                    </a:lnTo>
                    <a:lnTo>
                      <a:pt x="2083" y="1167"/>
                    </a:lnTo>
                    <a:lnTo>
                      <a:pt x="2095" y="905"/>
                    </a:lnTo>
                    <a:lnTo>
                      <a:pt x="2107" y="994"/>
                    </a:lnTo>
                    <a:lnTo>
                      <a:pt x="2119" y="732"/>
                    </a:lnTo>
                    <a:lnTo>
                      <a:pt x="2131" y="685"/>
                    </a:lnTo>
                    <a:lnTo>
                      <a:pt x="2149" y="738"/>
                    </a:lnTo>
                    <a:lnTo>
                      <a:pt x="2161" y="762"/>
                    </a:lnTo>
                    <a:lnTo>
                      <a:pt x="2173" y="1113"/>
                    </a:lnTo>
                    <a:lnTo>
                      <a:pt x="2185" y="715"/>
                    </a:lnTo>
                    <a:lnTo>
                      <a:pt x="2197" y="834"/>
                    </a:lnTo>
                    <a:lnTo>
                      <a:pt x="2208" y="732"/>
                    </a:lnTo>
                    <a:lnTo>
                      <a:pt x="2226" y="727"/>
                    </a:lnTo>
                    <a:lnTo>
                      <a:pt x="2238" y="834"/>
                    </a:lnTo>
                    <a:lnTo>
                      <a:pt x="2250" y="572"/>
                    </a:lnTo>
                    <a:lnTo>
                      <a:pt x="2262" y="607"/>
                    </a:lnTo>
                    <a:lnTo>
                      <a:pt x="2274" y="679"/>
                    </a:lnTo>
                    <a:lnTo>
                      <a:pt x="2286" y="482"/>
                    </a:lnTo>
                    <a:lnTo>
                      <a:pt x="2304" y="369"/>
                    </a:lnTo>
                    <a:lnTo>
                      <a:pt x="2316" y="750"/>
                    </a:lnTo>
                    <a:lnTo>
                      <a:pt x="2328" y="578"/>
                    </a:lnTo>
                    <a:lnTo>
                      <a:pt x="2340" y="721"/>
                    </a:lnTo>
                    <a:lnTo>
                      <a:pt x="2352" y="435"/>
                    </a:lnTo>
                    <a:lnTo>
                      <a:pt x="2364" y="459"/>
                    </a:lnTo>
                    <a:lnTo>
                      <a:pt x="2382" y="590"/>
                    </a:lnTo>
                    <a:lnTo>
                      <a:pt x="2394" y="578"/>
                    </a:lnTo>
                    <a:lnTo>
                      <a:pt x="2405" y="596"/>
                    </a:lnTo>
                    <a:lnTo>
                      <a:pt x="2417" y="334"/>
                    </a:lnTo>
                    <a:lnTo>
                      <a:pt x="2429" y="488"/>
                    </a:lnTo>
                    <a:lnTo>
                      <a:pt x="2441" y="459"/>
                    </a:lnTo>
                    <a:lnTo>
                      <a:pt x="2459" y="607"/>
                    </a:lnTo>
                    <a:lnTo>
                      <a:pt x="2471" y="363"/>
                    </a:lnTo>
                    <a:lnTo>
                      <a:pt x="2483" y="0"/>
                    </a:lnTo>
                    <a:lnTo>
                      <a:pt x="2495" y="334"/>
                    </a:lnTo>
                    <a:lnTo>
                      <a:pt x="2507" y="566"/>
                    </a:lnTo>
                    <a:lnTo>
                      <a:pt x="2519" y="304"/>
                    </a:lnTo>
                    <a:lnTo>
                      <a:pt x="2537" y="530"/>
                    </a:lnTo>
                    <a:lnTo>
                      <a:pt x="2549" y="286"/>
                    </a:lnTo>
                    <a:lnTo>
                      <a:pt x="2561" y="536"/>
                    </a:lnTo>
                    <a:lnTo>
                      <a:pt x="2573" y="167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899520" y="1965240"/>
                <a:ext cx="1533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cesso Não-Estacionári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489920" y="5650920"/>
                <a:ext cx="351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mp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16200000">
                <a:off x="2271240" y="37267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09480" y="1405080"/>
            <a:ext cx="53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25. Processos Estacionários no Sentido Amp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956520" y="1969920"/>
            <a:ext cx="6973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 processo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.) é dito ser estacionário no sentido amplo s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8" name="" descr=""/>
          <p:cNvPicPr/>
          <p:nvPr/>
        </p:nvPicPr>
        <p:blipFill>
          <a:blip r:embed="rId1"/>
          <a:stretch/>
        </p:blipFill>
        <p:spPr>
          <a:xfrm>
            <a:off x="2871720" y="2513160"/>
            <a:ext cx="3111480" cy="774720"/>
          </a:xfrm>
          <a:prstGeom prst="rect">
            <a:avLst/>
          </a:prstGeom>
          <a:ln w="0">
            <a:noFill/>
          </a:ln>
        </p:spPr>
      </p:pic>
      <p:sp>
        <p:nvSpPr>
          <p:cNvPr id="1019" name=""/>
          <p:cNvSpPr/>
          <p:nvPr/>
        </p:nvSpPr>
        <p:spPr>
          <a:xfrm>
            <a:off x="2336760" y="3795840"/>
            <a:ext cx="4748400" cy="1904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435760" y="3897360"/>
            <a:ext cx="31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acionário no Sentido Amp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4502160" y="4718160"/>
            <a:ext cx="2104920" cy="765000"/>
            <a:chOff x="4502160" y="4718160"/>
            <a:chExt cx="2104920" cy="765000"/>
          </a:xfrm>
        </p:grpSpPr>
        <p:sp>
          <p:nvSpPr>
            <p:cNvPr id="1022" name=""/>
            <p:cNvSpPr/>
            <p:nvPr/>
          </p:nvSpPr>
          <p:spPr>
            <a:xfrm>
              <a:off x="4502160" y="4718160"/>
              <a:ext cx="2104920" cy="765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715640" y="4813200"/>
              <a:ext cx="1700280" cy="580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tacionário 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ntido Estri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4" name=""/>
          <p:cNvSpPr/>
          <p:nvPr/>
        </p:nvSpPr>
        <p:spPr>
          <a:xfrm>
            <a:off x="1211760" y="541440"/>
            <a:ext cx="668196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ementos de Processos Estocás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10560" y="1405080"/>
            <a:ext cx="362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26. Função de Auto-Correl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1"/>
          <a:stretch/>
        </p:blipFill>
        <p:spPr>
          <a:xfrm>
            <a:off x="3327480" y="1935000"/>
            <a:ext cx="2235240" cy="343080"/>
          </a:xfrm>
          <a:prstGeom prst="rect">
            <a:avLst/>
          </a:prstGeom>
          <a:ln w="0">
            <a:noFill/>
          </a:ln>
        </p:spPr>
      </p:pic>
      <p:grpSp>
        <p:nvGrpSpPr>
          <p:cNvPr id="1031" name=""/>
          <p:cNvGrpSpPr/>
          <p:nvPr/>
        </p:nvGrpSpPr>
        <p:grpSpPr>
          <a:xfrm>
            <a:off x="1009800" y="2401920"/>
            <a:ext cx="5924520" cy="852480"/>
            <a:chOff x="1009800" y="2401920"/>
            <a:chExt cx="5924520" cy="852480"/>
          </a:xfrm>
        </p:grpSpPr>
        <p:sp>
          <p:nvSpPr>
            <p:cNvPr id="1032" name=""/>
            <p:cNvSpPr/>
            <p:nvPr/>
          </p:nvSpPr>
          <p:spPr>
            <a:xfrm>
              <a:off x="1009800" y="2401920"/>
              <a:ext cx="592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 caso de processo estacionário no sentido amplo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3" name="" descr=""/>
            <p:cNvPicPr/>
            <p:nvPr/>
          </p:nvPicPr>
          <p:blipFill>
            <a:blip r:embed="rId2"/>
            <a:stretch/>
          </p:blipFill>
          <p:spPr>
            <a:xfrm>
              <a:off x="2990880" y="2949480"/>
              <a:ext cx="313704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4" name=""/>
          <p:cNvGrpSpPr/>
          <p:nvPr/>
        </p:nvGrpSpPr>
        <p:grpSpPr>
          <a:xfrm>
            <a:off x="675360" y="3592440"/>
            <a:ext cx="5677920" cy="893880"/>
            <a:chOff x="675360" y="3592440"/>
            <a:chExt cx="5677920" cy="893880"/>
          </a:xfrm>
        </p:grpSpPr>
        <p:sp>
          <p:nvSpPr>
            <p:cNvPr id="1035" name=""/>
            <p:cNvSpPr/>
            <p:nvPr/>
          </p:nvSpPr>
          <p:spPr>
            <a:xfrm>
              <a:off x="675360" y="3592440"/>
              <a:ext cx="21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27. Ruído Branc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6" name="" descr=""/>
            <p:cNvPicPr/>
            <p:nvPr/>
          </p:nvPicPr>
          <p:blipFill>
            <a:blip r:embed="rId3"/>
            <a:stretch/>
          </p:blipFill>
          <p:spPr>
            <a:xfrm>
              <a:off x="2795760" y="4143240"/>
              <a:ext cx="3557520" cy="34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7" name=""/>
          <p:cNvGrpSpPr/>
          <p:nvPr/>
        </p:nvGrpSpPr>
        <p:grpSpPr>
          <a:xfrm>
            <a:off x="668520" y="4726080"/>
            <a:ext cx="5786280" cy="987480"/>
            <a:chOff x="668520" y="4726080"/>
            <a:chExt cx="5786280" cy="987480"/>
          </a:xfrm>
        </p:grpSpPr>
        <p:sp>
          <p:nvSpPr>
            <p:cNvPr id="1038" name=""/>
            <p:cNvSpPr/>
            <p:nvPr/>
          </p:nvSpPr>
          <p:spPr>
            <a:xfrm>
              <a:off x="668520" y="4726080"/>
              <a:ext cx="250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28. Ruído Gaussian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9" name="" descr=""/>
            <p:cNvPicPr/>
            <p:nvPr/>
          </p:nvPicPr>
          <p:blipFill>
            <a:blip r:embed="rId4"/>
            <a:stretch/>
          </p:blipFill>
          <p:spPr>
            <a:xfrm>
              <a:off x="2606760" y="5370480"/>
              <a:ext cx="38480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0" name=""/>
          <p:cNvSpPr/>
          <p:nvPr/>
        </p:nvSpPr>
        <p:spPr>
          <a:xfrm>
            <a:off x="1211760" y="541440"/>
            <a:ext cx="668196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ementos de Processos Estocás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10200" y="1405080"/>
            <a:ext cx="32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26. Ruído Branco Gaussi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31160" y="1996920"/>
            <a:ext cx="76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x e y são variáveis aleatórias conjuntamente normais de média 0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1"/>
          <a:stretch/>
        </p:blipFill>
        <p:spPr>
          <a:xfrm>
            <a:off x="2790720" y="2581200"/>
            <a:ext cx="3365640" cy="292320"/>
          </a:xfrm>
          <a:prstGeom prst="rect">
            <a:avLst/>
          </a:prstGeom>
          <a:ln w="0">
            <a:noFill/>
          </a:ln>
        </p:spPr>
      </p:pic>
      <p:grpSp>
        <p:nvGrpSpPr>
          <p:cNvPr id="1048" name=""/>
          <p:cNvGrpSpPr/>
          <p:nvPr/>
        </p:nvGrpSpPr>
        <p:grpSpPr>
          <a:xfrm>
            <a:off x="735480" y="3168720"/>
            <a:ext cx="6092280" cy="895320"/>
            <a:chOff x="735480" y="3168720"/>
            <a:chExt cx="6092280" cy="895320"/>
          </a:xfrm>
        </p:grpSpPr>
        <p:pic>
          <p:nvPicPr>
            <p:cNvPr id="1049" name="" descr=""/>
            <p:cNvPicPr/>
            <p:nvPr/>
          </p:nvPicPr>
          <p:blipFill>
            <a:blip r:embed="rId2"/>
            <a:stretch/>
          </p:blipFill>
          <p:spPr>
            <a:xfrm>
              <a:off x="3741840" y="3759120"/>
              <a:ext cx="11430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0" name=""/>
            <p:cNvSpPr/>
            <p:nvPr/>
          </p:nvSpPr>
          <p:spPr>
            <a:xfrm>
              <a:off x="735480" y="3168720"/>
              <a:ext cx="609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rtanto, no caso do Ruído Branco Gaussiano Padr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704160" y="4738680"/>
            <a:ext cx="5591520" cy="1117440"/>
            <a:chOff x="704160" y="4738680"/>
            <a:chExt cx="5591520" cy="1117440"/>
          </a:xfrm>
        </p:grpSpPr>
        <p:sp>
          <p:nvSpPr>
            <p:cNvPr id="1052" name=""/>
            <p:cNvSpPr/>
            <p:nvPr/>
          </p:nvSpPr>
          <p:spPr>
            <a:xfrm>
              <a:off x="704160" y="4738680"/>
              <a:ext cx="156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Observação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3" name=""/>
            <p:cNvGrpSpPr/>
            <p:nvPr/>
          </p:nvGrpSpPr>
          <p:grpSpPr>
            <a:xfrm>
              <a:off x="2565720" y="5213520"/>
              <a:ext cx="3729960" cy="642600"/>
              <a:chOff x="2565720" y="5213520"/>
              <a:chExt cx="3729960" cy="642600"/>
            </a:xfrm>
          </p:grpSpPr>
          <p:sp>
            <p:nvSpPr>
              <p:cNvPr id="1054" name=""/>
              <p:cNvSpPr/>
              <p:nvPr/>
            </p:nvSpPr>
            <p:spPr>
              <a:xfrm>
                <a:off x="2565720" y="5213520"/>
                <a:ext cx="3729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ndependência </a:t>
                </a:r>
                <a:r>
                  <a:rPr b="1" lang="en-US" sz="1800" spc="-1" strike="noStrike">
                    <a:solidFill>
                      <a:srgbClr val="009900"/>
                    </a:solidFill>
                    <a:latin typeface="Symbol"/>
                    <a:ea typeface="Symbol"/>
                  </a:rPr>
                  <a:t>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não-correlaçã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não-correlação </a:t>
                </a:r>
                <a:r>
                  <a:rPr b="1" lang="en-US" sz="18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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independênc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373640" y="5576760"/>
                <a:ext cx="114120" cy="255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6" name=""/>
          <p:cNvSpPr/>
          <p:nvPr/>
        </p:nvSpPr>
        <p:spPr>
          <a:xfrm>
            <a:off x="1211760" y="541440"/>
            <a:ext cx="668196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lementos de Processos Estocás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1943280" y="1847880"/>
            <a:ext cx="6324480" cy="266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408840" y="522360"/>
            <a:ext cx="24516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gra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20720" y="106992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6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990800" y="1069920"/>
            <a:ext cx="5504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Simulação de Sist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abilidades e Processos Estocás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4. (P)  Estudo do Efeito de Ruído em Sistemas Line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39800" y="217476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7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009520" y="2174760"/>
            <a:ext cx="580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Estimação Pontual, LSE, Cramér-Ra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LSE Batelada + Identificação Não-Param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stimação Recursiva, Regiões de Confiança, Or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Identificação Recurs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66800" y="329868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8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037960" y="3298680"/>
            <a:ext cx="5391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Filtragem. Projeção Ortogonal. Filtro de Kal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Filtro de Kalman Si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Filtro de Kalman Estendido. Divergê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e Métodos de Combate à Diverg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6800" y="44226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9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035440" y="4422600"/>
            <a:ext cx="575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Ótimo. Problema L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Realimentação Ótima de Es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lema LQG. Separação e Equivalência à Certe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Simulação de Malha Fechada LQ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85880" y="55404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0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056320" y="5540400"/>
            <a:ext cx="570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Adaptativo.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xame: Parte Teó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xame: Parte Pr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347840" y="1211400"/>
            <a:ext cx="64260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ática: Ruído em Sistemas Lin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731600" y="2478240"/>
            <a:ext cx="5604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rar um ruído branco gaussiano e verificar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 da sua função de autocorrel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bter a resposta de um sistema linear a u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da do tipo ruído bran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lcular a correlação cruzada entre a entrada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aída para obter a resposta impulso do sist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bter um modelo para o aeroplano Nav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ilizando identification toolbox do MATLA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>
            <a:off x="3962520" y="1447920"/>
            <a:ext cx="990360" cy="6858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347840" y="541440"/>
            <a:ext cx="64260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ática: Ruído em Sistemas Lin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274280" y="160020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743200" y="175248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952880" y="175248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902680" y="129528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493960" y="12952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0" name="" descr=""/>
          <p:cNvPicPr/>
          <p:nvPr/>
        </p:nvPicPr>
        <p:blipFill>
          <a:blip r:embed="rId1"/>
          <a:stretch/>
        </p:blipFill>
        <p:spPr>
          <a:xfrm>
            <a:off x="3809880" y="2209680"/>
            <a:ext cx="1324080" cy="622440"/>
          </a:xfrm>
          <a:prstGeom prst="rect">
            <a:avLst/>
          </a:prstGeom>
          <a:ln w="0">
            <a:noFill/>
          </a:ln>
        </p:spPr>
      </p:pic>
      <p:pic>
        <p:nvPicPr>
          <p:cNvPr id="1091" name="" descr=""/>
          <p:cNvPicPr/>
          <p:nvPr/>
        </p:nvPicPr>
        <p:blipFill>
          <a:blip r:embed="rId2"/>
          <a:stretch/>
        </p:blipFill>
        <p:spPr>
          <a:xfrm>
            <a:off x="1619280" y="3009960"/>
            <a:ext cx="2610000" cy="2374920"/>
          </a:xfrm>
          <a:prstGeom prst="rect">
            <a:avLst/>
          </a:prstGeom>
          <a:ln w="0">
            <a:noFill/>
          </a:ln>
        </p:spPr>
      </p:pic>
      <p:pic>
        <p:nvPicPr>
          <p:cNvPr id="1092" name="" descr=""/>
          <p:cNvPicPr/>
          <p:nvPr/>
        </p:nvPicPr>
        <p:blipFill>
          <a:blip r:embed="rId3"/>
          <a:stretch/>
        </p:blipFill>
        <p:spPr>
          <a:xfrm>
            <a:off x="1695600" y="5753160"/>
            <a:ext cx="1323720" cy="330120"/>
          </a:xfrm>
          <a:prstGeom prst="rect">
            <a:avLst/>
          </a:prstGeom>
          <a:ln w="0">
            <a:noFill/>
          </a:ln>
        </p:spPr>
      </p:pic>
      <p:grpSp>
        <p:nvGrpSpPr>
          <p:cNvPr id="1093" name=""/>
          <p:cNvGrpSpPr/>
          <p:nvPr/>
        </p:nvGrpSpPr>
        <p:grpSpPr>
          <a:xfrm>
            <a:off x="3419640" y="5138640"/>
            <a:ext cx="4419000" cy="781200"/>
            <a:chOff x="3419640" y="5138640"/>
            <a:chExt cx="4419000" cy="781200"/>
          </a:xfrm>
        </p:grpSpPr>
        <p:sp>
          <p:nvSpPr>
            <p:cNvPr id="1094" name=""/>
            <p:cNvSpPr/>
            <p:nvPr/>
          </p:nvSpPr>
          <p:spPr>
            <a:xfrm>
              <a:off x="7308720" y="5310000"/>
              <a:ext cx="456840" cy="381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5" name=""/>
            <p:cNvGrpSpPr/>
            <p:nvPr/>
          </p:nvGrpSpPr>
          <p:grpSpPr>
            <a:xfrm>
              <a:off x="3419640" y="5138640"/>
              <a:ext cx="4419000" cy="781200"/>
              <a:chOff x="3419640" y="5138640"/>
              <a:chExt cx="4419000" cy="781200"/>
            </a:xfrm>
          </p:grpSpPr>
          <p:grpSp>
            <p:nvGrpSpPr>
              <p:cNvPr id="1096" name=""/>
              <p:cNvGrpSpPr/>
              <p:nvPr/>
            </p:nvGrpSpPr>
            <p:grpSpPr>
              <a:xfrm>
                <a:off x="3419640" y="5138640"/>
                <a:ext cx="1447200" cy="781200"/>
                <a:chOff x="3419640" y="5138640"/>
                <a:chExt cx="1447200" cy="781200"/>
              </a:xfrm>
            </p:grpSpPr>
            <p:sp>
              <p:nvSpPr>
                <p:cNvPr id="1097" name=""/>
                <p:cNvSpPr/>
                <p:nvPr/>
              </p:nvSpPr>
              <p:spPr>
                <a:xfrm>
                  <a:off x="3419640" y="5919840"/>
                  <a:ext cx="83772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 flipV="1">
                  <a:off x="4257360" y="5520600"/>
                  <a:ext cx="609480" cy="3988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4257360" y="5138640"/>
                  <a:ext cx="609480" cy="3988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10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057640" y="5208480"/>
                <a:ext cx="2781000" cy="622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3962520" y="1447920"/>
            <a:ext cx="990360" cy="6858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347840" y="541440"/>
            <a:ext cx="64260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ática: Ruído em Sistemas Lin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274280" y="160020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743200" y="175248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952880" y="175248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02680" y="129528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493960" y="12952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124080" y="2438280"/>
            <a:ext cx="628920" cy="5335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4229280" y="3333600"/>
            <a:ext cx="457200" cy="566640"/>
            <a:chOff x="4229280" y="3333600"/>
            <a:chExt cx="457200" cy="566640"/>
          </a:xfrm>
        </p:grpSpPr>
        <p:sp>
          <p:nvSpPr>
            <p:cNvPr id="1114" name=""/>
            <p:cNvSpPr/>
            <p:nvPr/>
          </p:nvSpPr>
          <p:spPr>
            <a:xfrm>
              <a:off x="4229280" y="3333600"/>
              <a:ext cx="457200" cy="457200"/>
            </a:xfrm>
            <a:prstGeom prst="ellips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317840" y="337968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6" name=""/>
          <p:cNvGrpSpPr/>
          <p:nvPr/>
        </p:nvGrpSpPr>
        <p:grpSpPr>
          <a:xfrm>
            <a:off x="4019400" y="4305240"/>
            <a:ext cx="914400" cy="628560"/>
            <a:chOff x="4019400" y="4305240"/>
            <a:chExt cx="914400" cy="628560"/>
          </a:xfrm>
        </p:grpSpPr>
        <p:sp>
          <p:nvSpPr>
            <p:cNvPr id="1117" name=""/>
            <p:cNvSpPr/>
            <p:nvPr/>
          </p:nvSpPr>
          <p:spPr>
            <a:xfrm>
              <a:off x="4019400" y="4305240"/>
              <a:ext cx="914400" cy="6285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188960" y="443700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 (.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>
            <a:off x="3429000" y="17524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3409920" y="3562200"/>
            <a:ext cx="819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3429000" y="2971800"/>
            <a:ext cx="0" cy="59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724280" y="3562200"/>
            <a:ext cx="819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5524560" y="1733400"/>
            <a:ext cx="0" cy="1810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457880" y="3790800"/>
            <a:ext cx="0" cy="514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457880" y="4952880"/>
            <a:ext cx="0" cy="514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298760" y="5541840"/>
            <a:ext cx="35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7" name="" descr=""/>
          <p:cNvPicPr/>
          <p:nvPr/>
        </p:nvPicPr>
        <p:blipFill>
          <a:blip r:embed="rId1"/>
          <a:stretch/>
        </p:blipFill>
        <p:spPr>
          <a:xfrm>
            <a:off x="3281400" y="2521080"/>
            <a:ext cx="295200" cy="330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347840" y="541440"/>
            <a:ext cx="64260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ática: Ruído em Sistemas Lin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3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400800" cy="4787640"/>
          </a:xfrm>
          <a:prstGeom prst="rect">
            <a:avLst/>
          </a:prstGeom>
          <a:ln w="0">
            <a:noFill/>
          </a:ln>
        </p:spPr>
      </p:pic>
      <p:pic>
        <p:nvPicPr>
          <p:cNvPr id="1134" name="" descr=""/>
          <p:cNvPicPr/>
          <p:nvPr/>
        </p:nvPicPr>
        <p:blipFill>
          <a:blip r:embed="rId2"/>
          <a:stretch/>
        </p:blipFill>
        <p:spPr>
          <a:xfrm>
            <a:off x="6572160" y="2705040"/>
            <a:ext cx="1324080" cy="330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8840" y="522360"/>
            <a:ext cx="24516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gra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0720" y="106992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6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90800" y="1069920"/>
            <a:ext cx="5504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Simulação de Sist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abilidades e Processos Estocás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o Efeito de Ruído em Sistemas Line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9800" y="217476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7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09520" y="2174760"/>
            <a:ext cx="580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Estimação Pontual, LSE, Cramér-Ra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LSE Batelada + Identificação Não-Param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stimação Recursiva, Regiões de Confiança, Or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Identificação Recurs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6800" y="3298680"/>
            <a:ext cx="1093680" cy="3373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8 set 0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37960" y="3298680"/>
            <a:ext cx="5391360" cy="1067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. (T)  Filtragem. Projeção Ortogonal. Filtro de Kal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. (P)  Implementação de um Filtro de Kalman Si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3. (T)  Filtro de Kalman Estendido. Divergê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4. (P)  Estudo de Métodos de Combate à Diverg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347840" y="541440"/>
            <a:ext cx="64260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ática: Ruído em Sistemas Lin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1066680" y="1295280"/>
            <a:ext cx="6858000" cy="5131080"/>
            <a:chOff x="1066680" y="1295280"/>
            <a:chExt cx="6858000" cy="5131080"/>
          </a:xfrm>
        </p:grpSpPr>
        <p:pic>
          <p:nvPicPr>
            <p:cNvPr id="1141" name="" descr=""/>
            <p:cNvPicPr/>
            <p:nvPr/>
          </p:nvPicPr>
          <p:blipFill>
            <a:blip r:embed="rId1"/>
            <a:stretch/>
          </p:blipFill>
          <p:spPr>
            <a:xfrm>
              <a:off x="1066680" y="1295280"/>
              <a:ext cx="6858000" cy="513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" descr=""/>
            <p:cNvPicPr/>
            <p:nvPr/>
          </p:nvPicPr>
          <p:blipFill>
            <a:blip r:embed="rId2"/>
            <a:stretch/>
          </p:blipFill>
          <p:spPr>
            <a:xfrm>
              <a:off x="4195800" y="3340080"/>
              <a:ext cx="269568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3" name="" descr=""/>
            <p:cNvPicPr/>
            <p:nvPr/>
          </p:nvPicPr>
          <p:blipFill>
            <a:blip r:embed="rId3"/>
            <a:stretch/>
          </p:blipFill>
          <p:spPr>
            <a:xfrm>
              <a:off x="4191120" y="1898640"/>
              <a:ext cx="2019240" cy="1308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618280" y="2813040"/>
            <a:ext cx="3928320" cy="131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uito Obrig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ela Aten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08840" y="522360"/>
            <a:ext cx="24516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gra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0720" y="106992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6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90800" y="1069920"/>
            <a:ext cx="5504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Simulação de Sist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abilidades e Processos Estocás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o Efeito de Ruído em Sistemas Line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9800" y="217476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7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09520" y="2174760"/>
            <a:ext cx="580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Estimação Pontual, LSE, Cramér-Ra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LSE Batelada + Identificação Não-Param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stimação Recursiva, Regiões de Confiança, Or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Identificação Recurs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6800" y="329868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8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37960" y="3298680"/>
            <a:ext cx="5391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Filtragem. Projeção Ortogonal. Filtro de Kal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Filtro de Kalman Si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Filtro de Kalman Estendido. Divergê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e Métodos de Combate à Diverg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6800" y="4422600"/>
            <a:ext cx="1093680" cy="3373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9 set 0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5440" y="4422600"/>
            <a:ext cx="5755680" cy="1067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. (T)  Controle Ótimo. Problema L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. (P)  Realimentação Ótima de Es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3. (T)  Problema LQG. Separação e Equivalência à Certe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4. (P)  Simulação de Malha Fechada LQ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08840" y="522360"/>
            <a:ext cx="24516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gra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0720" y="106992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6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90800" y="1069920"/>
            <a:ext cx="5504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Simulação de Sist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abilidades e Processos Estocás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o Efeito de Ruído em Sistemas Line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9800" y="217476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7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09520" y="2174760"/>
            <a:ext cx="580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Estimação Pontual, LSE, Cramér-Ra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LSE Batelada + Identificação Não-Param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stimação Recursiva, Regiões de Confiança, Or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Identificação Recurs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6800" y="329868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8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37960" y="3298680"/>
            <a:ext cx="5391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Filtragem. Projeção Ortogonal. Filtro de Kal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Filtro de Kalman Si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Filtro de Kalman Estendido. Divergê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e Métodos de Combate à Diverg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6800" y="44226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9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35440" y="4422600"/>
            <a:ext cx="575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Ótimo. Problema L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Realimentação Ótima de Es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lema LQG. Separação e Equivalência à Certe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Simulação de Malha Fechada LQ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5880" y="5540400"/>
            <a:ext cx="1093680" cy="3373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0 set 0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6320" y="5540400"/>
            <a:ext cx="5703840" cy="1067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. (T)  Controle Adaptativo.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. (P)  Implementação de um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3. (T)  Exame: Parte Teó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4. (P)  Exame: Parte Pr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40600" y="1227240"/>
            <a:ext cx="38185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istema de Avali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88240" y="3201840"/>
            <a:ext cx="26020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reqüência: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21840" y="3887640"/>
            <a:ext cx="30776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xame Escrito: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47000" y="522360"/>
            <a:ext cx="22946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ivros Tex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4040" y="990720"/>
            <a:ext cx="7552080" cy="115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ackgroun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poulis, A. –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robability, Random Variables and Stochastic Proces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McGraw Hill, 198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venport, W.B. e Root, W.L. –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n Introduction to the Theory of Random Signals and Noi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Graw Hill, 195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9080" y="1981080"/>
            <a:ext cx="7594920" cy="115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iltrage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zwinski, A.H. –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ochastic Processes and Filtering Theo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Academic Press, 197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beck, P.S. –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ochastic Models, Estimation and Contro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cademic Press, 197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own, R.G. e Hwang, P.Y.C. –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troduction to Random Signals and Applied Kalman Filter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Wiley, 199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6560" y="3124080"/>
            <a:ext cx="7511040" cy="115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dentificaçã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odwin, G.C. e Payne, R.L. –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ynamic System Identification: Experiment Design and Da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Academic Press, 197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sia, T.C. –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dentification: Least Squares Metho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Lexington Books, 197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jung, L. –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ystem Identification – Theory for the Us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Prentice Hall,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d., 1999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9080" y="4267080"/>
            <a:ext cx="7142400" cy="946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trole Ótim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yson Jr., A.E. e Ho, Y.C. –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pplied Optimal Contro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Taylor &amp; Francis, 197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vis, M.H.A. e Vinter, R.B. –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ochastic Modelling and Contro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Chapman &amp; Hall, 198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ngel, R.F. –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ochastic Optimal Control: Theory and Applic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John Wiley, 198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4760" y="5257800"/>
            <a:ext cx="7171200" cy="137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trole Adaptativ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Åström, K.J. e Wittenmark, B. –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daptive Contro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Addison Wesley,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d, 199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umar, P.R. e Varaiya, P. –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ochastic Systems: Estimation, Identification and Adapti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Prentice Hall, 198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lstead, P.E. e Zarrop, M.B. –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elf-Tuning Systems, Control and Signal Process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Wiley, 199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2:52:48Z</dcterms:created>
  <dc:creator>Takashi Yoneyama</dc:creator>
  <dc:description/>
  <dc:language>en-US</dc:language>
  <cp:lastModifiedBy>Takashi Yoneyama</cp:lastModifiedBy>
  <dcterms:modified xsi:type="dcterms:W3CDTF">2002-09-12T18:12:04Z</dcterms:modified>
  <cp:revision>58</cp:revision>
  <dc:subject/>
  <dc:title>No Slide Title</dc:title>
</cp:coreProperties>
</file>