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0.wmf" ContentType="image/x-wmf"/>
  <Override PartName="/ppt/media/image29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3.wmf" ContentType="image/x-wmf"/>
  <Override PartName="/ppt/media/image8.wmf" ContentType="image/x-wmf"/>
  <Override PartName="/ppt/media/image38.wmf" ContentType="image/x-wmf"/>
  <Override PartName="/ppt/media/image9.wmf" ContentType="image/x-wmf"/>
  <Override PartName="/ppt/media/image30.wmf" ContentType="image/x-wmf"/>
  <Override PartName="/ppt/media/image28.wmf" ContentType="image/x-wmf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28DDE-7FB4-48FA-8431-35AA216C8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34D10-EC56-4E7C-A06F-CE7029319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1F1D9-8CE0-44FC-BACC-565B4E5B4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65019-E36A-4898-8ABE-1490588DE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81B48-9B30-4F80-AE4F-FBA4B1FC4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94252-74E4-4426-A5A3-970E1036E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09E7E-FD98-4501-924C-AB5E596D5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4ADD1-0E33-427F-9769-408AFAD24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B1FF4-45A2-4933-8C3E-EC26787BE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41B20-39E8-4DE7-9867-5F2AA769F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04979-CDE0-4B92-B3F9-CA06C9AEC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D2D92-F7AA-4E0B-954F-F0565A036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26D6E-8DC5-4A3F-BE08-D09FC002B2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23.wmf"/><Relationship Id="rId3" Type="http://schemas.openxmlformats.org/officeDocument/2006/relationships/image" Target="../media/image24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wmf"/><Relationship Id="rId3" Type="http://schemas.openxmlformats.org/officeDocument/2006/relationships/image" Target="../media/image29.wmf"/><Relationship Id="rId4" Type="http://schemas.openxmlformats.org/officeDocument/2006/relationships/image" Target="../media/image30.wmf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image" Target="../media/image32.wmf"/><Relationship Id="rId3" Type="http://schemas.openxmlformats.org/officeDocument/2006/relationships/image" Target="../media/image33.wmf"/><Relationship Id="rId4" Type="http://schemas.openxmlformats.org/officeDocument/2006/relationships/image" Target="../media/image34.wmf"/><Relationship Id="rId5" Type="http://schemas.openxmlformats.org/officeDocument/2006/relationships/image" Target="../media/image35.wmf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4.wmf"/><Relationship Id="rId3" Type="http://schemas.openxmlformats.org/officeDocument/2006/relationships/image" Target="../media/image37.wmf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32800" y="439560"/>
            <a:ext cx="99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ES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0" y="0"/>
            <a:ext cx="9144000" cy="4762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50000">
                <a:srgbClr val="ffff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80880" y="0"/>
            <a:ext cx="19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ESPE - I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823160" y="0"/>
            <a:ext cx="107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20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0" y="438120"/>
            <a:ext cx="9144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732040" y="473040"/>
            <a:ext cx="3818520" cy="581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Controle Ótimo L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1187280" y="1968480"/>
            <a:ext cx="2070360" cy="26676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861120" y="1414440"/>
            <a:ext cx="163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finindo-se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78760" y="2452680"/>
            <a:ext cx="604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ulta que as expressões anteriores correspondem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938880" y="4280040"/>
            <a:ext cx="5770800" cy="958680"/>
            <a:chOff x="938880" y="4280040"/>
            <a:chExt cx="5770800" cy="958680"/>
          </a:xfrm>
        </p:grpSpPr>
        <p:sp>
          <p:nvSpPr>
            <p:cNvPr id="198" name=""/>
            <p:cNvSpPr/>
            <p:nvPr/>
          </p:nvSpPr>
          <p:spPr>
            <a:xfrm>
              <a:off x="1085760" y="4762440"/>
              <a:ext cx="2476440" cy="47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938880" y="4280040"/>
              <a:ext cx="5770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ortanto, a condição </a:t>
              </a:r>
              <a:r>
                <a:rPr b="1" lang="en-US" sz="1800" spc="-1" strike="noStrike">
                  <a:solidFill>
                    <a:srgbClr val="009900"/>
                  </a:solidFill>
                  <a:latin typeface="Arial"/>
                </a:rPr>
                <a:t>(necessária)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de otimalidade é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00" name="" descr=""/>
            <p:cNvPicPr/>
            <p:nvPr/>
          </p:nvPicPr>
          <p:blipFill>
            <a:blip r:embed="rId2"/>
            <a:stretch/>
          </p:blipFill>
          <p:spPr>
            <a:xfrm>
              <a:off x="1185840" y="4815000"/>
              <a:ext cx="2197080" cy="3553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01" name="" descr=""/>
          <p:cNvPicPr/>
          <p:nvPr/>
        </p:nvPicPr>
        <p:blipFill>
          <a:blip r:embed="rId3"/>
          <a:stretch/>
        </p:blipFill>
        <p:spPr>
          <a:xfrm>
            <a:off x="1157400" y="3032280"/>
            <a:ext cx="2476440" cy="64764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4324320" y="1352520"/>
            <a:ext cx="2038320" cy="609480"/>
          </a:xfrm>
          <a:prstGeom prst="wedgeRectCallout">
            <a:avLst>
              <a:gd name="adj1" fmla="val -89254"/>
              <a:gd name="adj2" fmla="val 70050"/>
            </a:avLst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Hamiltonia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0" y="0"/>
            <a:ext cx="9144000" cy="4762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50000">
                <a:srgbClr val="ffff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80880" y="0"/>
            <a:ext cx="19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ESPE - I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823160" y="0"/>
            <a:ext cx="107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20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438120"/>
            <a:ext cx="9144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732040" y="473040"/>
            <a:ext cx="3818520" cy="581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Controle Ótimo L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1136520" y="1257480"/>
            <a:ext cx="2718000" cy="2400120"/>
          </a:xfrm>
          <a:prstGeom prst="rect">
            <a:avLst/>
          </a:prstGeom>
          <a:ln w="0">
            <a:noFill/>
          </a:ln>
        </p:spPr>
      </p:pic>
      <p:grpSp>
        <p:nvGrpSpPr>
          <p:cNvPr id="209" name=""/>
          <p:cNvGrpSpPr/>
          <p:nvPr/>
        </p:nvGrpSpPr>
        <p:grpSpPr>
          <a:xfrm>
            <a:off x="1187280" y="3867120"/>
            <a:ext cx="6864480" cy="2394000"/>
            <a:chOff x="1187280" y="3867120"/>
            <a:chExt cx="6864480" cy="2394000"/>
          </a:xfrm>
        </p:grpSpPr>
        <p:pic>
          <p:nvPicPr>
            <p:cNvPr id="210" name="" descr=""/>
            <p:cNvPicPr/>
            <p:nvPr/>
          </p:nvPicPr>
          <p:blipFill>
            <a:blip r:embed="rId2"/>
            <a:stretch/>
          </p:blipFill>
          <p:spPr>
            <a:xfrm>
              <a:off x="1930320" y="4032360"/>
              <a:ext cx="6121440" cy="66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>
              <a:off x="1809720" y="3867120"/>
              <a:ext cx="0" cy="10666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12" name="" descr=""/>
            <p:cNvPicPr/>
            <p:nvPr/>
          </p:nvPicPr>
          <p:blipFill>
            <a:blip r:embed="rId3"/>
            <a:stretch/>
          </p:blipFill>
          <p:spPr>
            <a:xfrm>
              <a:off x="1187280" y="5130720"/>
              <a:ext cx="3416400" cy="11304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800280" y="1695600"/>
            <a:ext cx="2114280" cy="12380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0" y="0"/>
            <a:ext cx="9144000" cy="4762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50000">
                <a:srgbClr val="ffff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80880" y="0"/>
            <a:ext cx="19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ESPE - I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823160" y="0"/>
            <a:ext cx="107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20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438120"/>
            <a:ext cx="9144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732040" y="473040"/>
            <a:ext cx="3818520" cy="581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Controle Ótimo L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990720" y="1758960"/>
            <a:ext cx="2019240" cy="1130400"/>
          </a:xfrm>
          <a:prstGeom prst="rect">
            <a:avLst/>
          </a:prstGeom>
          <a:ln w="0">
            <a:noFill/>
          </a:ln>
        </p:spPr>
      </p:pic>
      <p:grpSp>
        <p:nvGrpSpPr>
          <p:cNvPr id="220" name=""/>
          <p:cNvGrpSpPr/>
          <p:nvPr/>
        </p:nvGrpSpPr>
        <p:grpSpPr>
          <a:xfrm>
            <a:off x="2690280" y="2762280"/>
            <a:ext cx="2331360" cy="1954080"/>
            <a:chOff x="2690280" y="2762280"/>
            <a:chExt cx="2331360" cy="1954080"/>
          </a:xfrm>
        </p:grpSpPr>
        <p:sp>
          <p:nvSpPr>
            <p:cNvPr id="221" name=""/>
            <p:cNvSpPr/>
            <p:nvPr/>
          </p:nvSpPr>
          <p:spPr>
            <a:xfrm>
              <a:off x="2952720" y="2762280"/>
              <a:ext cx="81936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772080" y="2762280"/>
              <a:ext cx="0" cy="85716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23" name="" descr=""/>
            <p:cNvPicPr/>
            <p:nvPr/>
          </p:nvPicPr>
          <p:blipFill>
            <a:blip r:embed="rId2"/>
            <a:stretch/>
          </p:blipFill>
          <p:spPr>
            <a:xfrm>
              <a:off x="2990880" y="3733920"/>
              <a:ext cx="18288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4" name=""/>
            <p:cNvSpPr/>
            <p:nvPr/>
          </p:nvSpPr>
          <p:spPr>
            <a:xfrm>
              <a:off x="2690280" y="3998880"/>
              <a:ext cx="233136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as x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N+1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não afeta J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logo, u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= 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2952720" y="2362320"/>
            <a:ext cx="3365640" cy="2971800"/>
            <a:chOff x="2952720" y="2362320"/>
            <a:chExt cx="3365640" cy="2971800"/>
          </a:xfrm>
        </p:grpSpPr>
        <p:sp>
          <p:nvSpPr>
            <p:cNvPr id="226" name=""/>
            <p:cNvSpPr/>
            <p:nvPr/>
          </p:nvSpPr>
          <p:spPr>
            <a:xfrm>
              <a:off x="2952720" y="2362320"/>
              <a:ext cx="3124080" cy="0"/>
            </a:xfrm>
            <a:prstGeom prst="line">
              <a:avLst/>
            </a:prstGeom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076800" y="2362320"/>
              <a:ext cx="0" cy="2457360"/>
            </a:xfrm>
            <a:prstGeom prst="line">
              <a:avLst/>
            </a:prstGeom>
            <a:ln w="93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724280" y="4476600"/>
              <a:ext cx="952560" cy="0"/>
            </a:xfrm>
            <a:prstGeom prst="line">
              <a:avLst/>
            </a:prstGeom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657760" y="4476600"/>
              <a:ext cx="0" cy="343080"/>
            </a:xfrm>
            <a:prstGeom prst="line">
              <a:avLst/>
            </a:prstGeom>
            <a:ln w="93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30" name="" descr=""/>
            <p:cNvPicPr/>
            <p:nvPr/>
          </p:nvPicPr>
          <p:blipFill>
            <a:blip r:embed="rId3"/>
            <a:stretch/>
          </p:blipFill>
          <p:spPr>
            <a:xfrm>
              <a:off x="5454720" y="5029200"/>
              <a:ext cx="863640" cy="304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31" name=""/>
          <p:cNvGrpSpPr/>
          <p:nvPr/>
        </p:nvGrpSpPr>
        <p:grpSpPr>
          <a:xfrm>
            <a:off x="2971800" y="1943280"/>
            <a:ext cx="5137200" cy="4019400"/>
            <a:chOff x="2971800" y="1943280"/>
            <a:chExt cx="5137200" cy="4019400"/>
          </a:xfrm>
        </p:grpSpPr>
        <p:sp>
          <p:nvSpPr>
            <p:cNvPr id="232" name=""/>
            <p:cNvSpPr/>
            <p:nvPr/>
          </p:nvSpPr>
          <p:spPr>
            <a:xfrm>
              <a:off x="6458040" y="5143680"/>
              <a:ext cx="952560" cy="0"/>
            </a:xfrm>
            <a:prstGeom prst="line">
              <a:avLst/>
            </a:prstGeom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391520" y="5143680"/>
              <a:ext cx="0" cy="361800"/>
            </a:xfrm>
            <a:prstGeom prst="line">
              <a:avLst/>
            </a:prstGeom>
            <a:ln w="93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971800" y="1962000"/>
              <a:ext cx="4819680" cy="0"/>
            </a:xfrm>
            <a:prstGeom prst="line">
              <a:avLst/>
            </a:prstGeom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7772400" y="1943280"/>
              <a:ext cx="0" cy="3562200"/>
            </a:xfrm>
            <a:prstGeom prst="line">
              <a:avLst/>
            </a:prstGeom>
            <a:ln w="93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36" name="" descr=""/>
            <p:cNvPicPr/>
            <p:nvPr/>
          </p:nvPicPr>
          <p:blipFill>
            <a:blip r:embed="rId4"/>
            <a:stretch/>
          </p:blipFill>
          <p:spPr>
            <a:xfrm>
              <a:off x="7130880" y="5657760"/>
              <a:ext cx="978120" cy="3049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0" y="0"/>
            <a:ext cx="9144000" cy="4762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50000">
                <a:srgbClr val="ffff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80880" y="0"/>
            <a:ext cx="19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ESPE - I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823160" y="0"/>
            <a:ext cx="107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20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0" y="438120"/>
            <a:ext cx="9144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732040" y="473040"/>
            <a:ext cx="3818520" cy="581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Controle Ótimo L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730080" y="1752480"/>
            <a:ext cx="978120" cy="304920"/>
          </a:xfrm>
          <a:prstGeom prst="rect">
            <a:avLst/>
          </a:prstGeom>
          <a:ln w="0">
            <a:noFill/>
          </a:ln>
        </p:spPr>
      </p:pic>
      <p:grpSp>
        <p:nvGrpSpPr>
          <p:cNvPr id="243" name=""/>
          <p:cNvGrpSpPr/>
          <p:nvPr/>
        </p:nvGrpSpPr>
        <p:grpSpPr>
          <a:xfrm>
            <a:off x="2652840" y="1712880"/>
            <a:ext cx="2496960" cy="368280"/>
            <a:chOff x="2652840" y="1712880"/>
            <a:chExt cx="2496960" cy="368280"/>
          </a:xfrm>
        </p:grpSpPr>
        <p:sp>
          <p:nvSpPr>
            <p:cNvPr id="244" name=""/>
            <p:cNvSpPr/>
            <p:nvPr/>
          </p:nvSpPr>
          <p:spPr>
            <a:xfrm>
              <a:off x="2652840" y="1712880"/>
              <a:ext cx="1514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onjectura: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45" name="" descr=""/>
            <p:cNvPicPr/>
            <p:nvPr/>
          </p:nvPicPr>
          <p:blipFill>
            <a:blip r:embed="rId2"/>
            <a:stretch/>
          </p:blipFill>
          <p:spPr>
            <a:xfrm>
              <a:off x="4106880" y="1752480"/>
              <a:ext cx="1042920" cy="304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6" name=""/>
          <p:cNvSpPr/>
          <p:nvPr/>
        </p:nvSpPr>
        <p:spPr>
          <a:xfrm>
            <a:off x="1981080" y="1905120"/>
            <a:ext cx="51444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3"/>
          <a:stretch/>
        </p:blipFill>
        <p:spPr>
          <a:xfrm>
            <a:off x="1211400" y="2870280"/>
            <a:ext cx="3557520" cy="23749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0" y="0"/>
            <a:ext cx="9144000" cy="4762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50000">
                <a:srgbClr val="ffff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80880" y="0"/>
            <a:ext cx="19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ESPE - I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7823160" y="0"/>
            <a:ext cx="107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20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0" y="438120"/>
            <a:ext cx="9144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732040" y="473040"/>
            <a:ext cx="3818520" cy="581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Controle Ótimo L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730080" y="1752480"/>
            <a:ext cx="978120" cy="304920"/>
          </a:xfrm>
          <a:prstGeom prst="rect">
            <a:avLst/>
          </a:prstGeom>
          <a:ln w="0">
            <a:noFill/>
          </a:ln>
        </p:spPr>
      </p:pic>
      <p:grpSp>
        <p:nvGrpSpPr>
          <p:cNvPr id="254" name=""/>
          <p:cNvGrpSpPr/>
          <p:nvPr/>
        </p:nvGrpSpPr>
        <p:grpSpPr>
          <a:xfrm>
            <a:off x="2652840" y="1712880"/>
            <a:ext cx="2496960" cy="368280"/>
            <a:chOff x="2652840" y="1712880"/>
            <a:chExt cx="2496960" cy="368280"/>
          </a:xfrm>
        </p:grpSpPr>
        <p:sp>
          <p:nvSpPr>
            <p:cNvPr id="255" name=""/>
            <p:cNvSpPr/>
            <p:nvPr/>
          </p:nvSpPr>
          <p:spPr>
            <a:xfrm>
              <a:off x="2652840" y="1712880"/>
              <a:ext cx="1514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onjectura: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56" name="" descr=""/>
            <p:cNvPicPr/>
            <p:nvPr/>
          </p:nvPicPr>
          <p:blipFill>
            <a:blip r:embed="rId2"/>
            <a:stretch/>
          </p:blipFill>
          <p:spPr>
            <a:xfrm>
              <a:off x="4106880" y="1752480"/>
              <a:ext cx="1042920" cy="304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7" name=""/>
          <p:cNvSpPr/>
          <p:nvPr/>
        </p:nvSpPr>
        <p:spPr>
          <a:xfrm>
            <a:off x="1981080" y="1905120"/>
            <a:ext cx="51444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1365120" y="2641680"/>
            <a:ext cx="6185160" cy="23367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0" y="0"/>
            <a:ext cx="9144000" cy="4762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50000">
                <a:srgbClr val="ffff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" y="0"/>
            <a:ext cx="19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ESPE - I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823160" y="0"/>
            <a:ext cx="107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20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0" y="438120"/>
            <a:ext cx="9144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732040" y="473040"/>
            <a:ext cx="3818520" cy="581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Controle Ótimo L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1079640" y="1314360"/>
            <a:ext cx="2717640" cy="1714680"/>
          </a:xfrm>
          <a:prstGeom prst="rect">
            <a:avLst/>
          </a:prstGeom>
          <a:ln w="0">
            <a:noFill/>
          </a:ln>
        </p:spPr>
      </p:pic>
      <p:grpSp>
        <p:nvGrpSpPr>
          <p:cNvPr id="265" name=""/>
          <p:cNvGrpSpPr/>
          <p:nvPr/>
        </p:nvGrpSpPr>
        <p:grpSpPr>
          <a:xfrm>
            <a:off x="1014480" y="3124080"/>
            <a:ext cx="5751360" cy="3029040"/>
            <a:chOff x="1014480" y="3124080"/>
            <a:chExt cx="5751360" cy="3029040"/>
          </a:xfrm>
        </p:grpSpPr>
        <p:pic>
          <p:nvPicPr>
            <p:cNvPr id="266" name="" descr=""/>
            <p:cNvPicPr/>
            <p:nvPr/>
          </p:nvPicPr>
          <p:blipFill>
            <a:blip r:embed="rId2"/>
            <a:stretch/>
          </p:blipFill>
          <p:spPr>
            <a:xfrm>
              <a:off x="1085760" y="4051440"/>
              <a:ext cx="3200400" cy="774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7" name="" descr=""/>
            <p:cNvPicPr/>
            <p:nvPr/>
          </p:nvPicPr>
          <p:blipFill>
            <a:blip r:embed="rId3"/>
            <a:stretch/>
          </p:blipFill>
          <p:spPr>
            <a:xfrm>
              <a:off x="1073160" y="5410080"/>
              <a:ext cx="5435640" cy="74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1014480" y="5046840"/>
              <a:ext cx="2276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Arial"/>
                </a:rPr>
                <a:t>Equação de Riccat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771560" y="3124080"/>
              <a:ext cx="0" cy="8002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908000" y="3294000"/>
              <a:ext cx="4857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Solução do tipo Realimentação de Estad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1924200" y="4686480"/>
            <a:ext cx="6324480" cy="2664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0" y="0"/>
            <a:ext cx="9144000" cy="4762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50000">
                <a:srgbClr val="ffff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0"/>
            <a:ext cx="19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ESPE - I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823160" y="0"/>
            <a:ext cx="107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20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0" y="438120"/>
            <a:ext cx="9144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245760" y="473040"/>
            <a:ext cx="2777760" cy="581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Programaçã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720720" y="1069920"/>
            <a:ext cx="109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16 set 0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990800" y="1069920"/>
            <a:ext cx="5504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1. (T)  Introduçã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2. (P)  Simulação de Sistem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3. (T)  Probabilidades e Processos Estocástic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4. (P)  Estudo do Efeito de Ruído em Sistemas Linea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39800" y="2174760"/>
            <a:ext cx="109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17 set 0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009520" y="2174760"/>
            <a:ext cx="58089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1. (T)  Estimação Pontual, LSE, Cramér-Ra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2. (P)  LSE Batelada + Identificação Não-Paramét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3. (T)  Estimação Recursiva, Regiões de Confiança, Ord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4. (P)  Identificação Recursiv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766800" y="3298680"/>
            <a:ext cx="109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18 set 02</a:t>
            </a: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037960" y="3298680"/>
            <a:ext cx="5391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1. (T)  Filtragem. Projeção Ortogonal. Filtro de Kal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2. (P)  Implementação de um Filtro de Kalman Simp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3. (T)  Filtro de Kalman Estendido. Divergênci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4. (P)  Estudo de Métodos de Combate à Divergên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766800" y="4422600"/>
            <a:ext cx="109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19 set 02</a:t>
            </a: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035440" y="4422600"/>
            <a:ext cx="57556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1. (T)  Controle Ótimo. Problema L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2. (P)  Realimentação Ótima de Estad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3. (T)  Problema LQG. Separação e Equivalência à Certez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4. (P)  Simulação de Malha Fechada LQ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785880" y="5540400"/>
            <a:ext cx="109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20 set 0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056320" y="5540400"/>
            <a:ext cx="57038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1. (T)  Controle Adaptativo. Regulador Auto-Sintoniz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2. (P)  Implementação de um Regulador Auto-Sintoniz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3. (T)  Exame: Parte Teó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4. (P)  Exame: Parte Prát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0" y="0"/>
            <a:ext cx="9144000" cy="4762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50000">
                <a:srgbClr val="ffff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80880" y="0"/>
            <a:ext cx="19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ESPE - I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7823160" y="0"/>
            <a:ext cx="107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20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0" y="438120"/>
            <a:ext cx="9144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048680" y="1246320"/>
            <a:ext cx="7197120" cy="520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Prática: Realimentação Ótima de Est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431720" y="2722680"/>
            <a:ext cx="6243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Verifique, inicialmente, que S(k) é um valor consta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uando N é muito gran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2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mplemente o controlador LQ e trace o gráfico 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onentes do estado versus temp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0" y="0"/>
            <a:ext cx="9144000" cy="4762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50000">
                <a:srgbClr val="ffff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80880" y="0"/>
            <a:ext cx="19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ESPE - I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823160" y="0"/>
            <a:ext cx="107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20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0" y="438120"/>
            <a:ext cx="9144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048680" y="522360"/>
            <a:ext cx="7197120" cy="520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Prática: Realimentação Ótima de Est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tretch/>
        </p:blipFill>
        <p:spPr>
          <a:xfrm>
            <a:off x="1031760" y="1200240"/>
            <a:ext cx="7129440" cy="53323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0" y="0"/>
            <a:ext cx="9144000" cy="4762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50000">
                <a:srgbClr val="ffff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80880" y="0"/>
            <a:ext cx="19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ESPE - I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7823160" y="0"/>
            <a:ext cx="107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20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0" y="438120"/>
            <a:ext cx="9144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048680" y="522360"/>
            <a:ext cx="7197120" cy="520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Prática: Realimentação Ótima de Est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1"/>
          <a:stretch/>
        </p:blipFill>
        <p:spPr>
          <a:xfrm>
            <a:off x="873000" y="1079640"/>
            <a:ext cx="7418520" cy="55497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4762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50000">
                <a:srgbClr val="ffff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0"/>
            <a:ext cx="19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ESPE - I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823160" y="0"/>
            <a:ext cx="107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20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438120"/>
            <a:ext cx="9144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616400" y="2489040"/>
            <a:ext cx="6103080" cy="1312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Identificação, Estimaçã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e Controle Estocástic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294640" y="4307040"/>
            <a:ext cx="4844160" cy="1069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Takashi Yoneya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ITA - Divisão de Engenharia Eletrôn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16 a 20 jun 20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168000" y="5402160"/>
            <a:ext cx="3036600" cy="398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http://www.ele.ita.cta.b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32800" y="439560"/>
            <a:ext cx="99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ES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1924200" y="4952880"/>
            <a:ext cx="6324480" cy="2667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0" y="0"/>
            <a:ext cx="9144000" cy="4762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50000">
                <a:srgbClr val="ffff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80880" y="0"/>
            <a:ext cx="19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ESPE - I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7823160" y="0"/>
            <a:ext cx="107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20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0" y="438120"/>
            <a:ext cx="9144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245760" y="473040"/>
            <a:ext cx="2777760" cy="581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Programaçã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20720" y="1069920"/>
            <a:ext cx="109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16 set 0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990800" y="1069920"/>
            <a:ext cx="5504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1. (T)  Introduçã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2. (P)  Simulação de Sistem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3. (T)  Probabilidades e Processos Estocástic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4. (P)  Estudo do Efeito de Ruído em Sistemas Linea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739800" y="2174760"/>
            <a:ext cx="109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17 set 0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009520" y="2174760"/>
            <a:ext cx="58089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1. (T)  Estimação Pontual, LSE, Cramér-Ra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2. (P)  LSE Batelada + Identificação Não-Paramét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3. (T)  Estimação Recursiva, Regiões de Confiança, Ord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4. (P)  Identificação Recursiv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66800" y="3298680"/>
            <a:ext cx="109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18 set 02</a:t>
            </a: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037960" y="3298680"/>
            <a:ext cx="5391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1. (T)  Filtragem. Projeção Ortogonal. Filtro de Kal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2. (P)  Implementação de um Filtro de Kalman Simp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3. (T)  Filtro de Kalman Estendido. Divergênci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4. (P)  Estudo de Métodos de Combate à Divergên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766800" y="4422600"/>
            <a:ext cx="109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19 set 02</a:t>
            </a: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035440" y="4422600"/>
            <a:ext cx="57556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1. (T)  Controle Ótimo. Problema L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2. (P)  Realimentação Ótima de Estad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3. (T)  Problema LQG. Separação e Equivalência à Certez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4. (P)  Simulação de Malha Fechada LQ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785880" y="5540400"/>
            <a:ext cx="109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20 set 0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056320" y="5540400"/>
            <a:ext cx="57038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1. (T)  Controle Adaptativo. Regulador Auto-Sintoniz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2. (P)  Implementação de um Regulador Auto-Sintoniz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3. (T)  Exame: Parte Teó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4. (P)  Exame: Parte Prát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0" y="0"/>
            <a:ext cx="9144000" cy="4762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50000">
                <a:srgbClr val="ffff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80880" y="0"/>
            <a:ext cx="19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ESPE - I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823160" y="0"/>
            <a:ext cx="107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20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0" y="438120"/>
            <a:ext cx="9144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246400" y="473040"/>
            <a:ext cx="4790880" cy="581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Controlador Ótimo LQ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12000" y="1389240"/>
            <a:ext cx="409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1. Problema de Controle Ótimo LQ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522800" y="4314960"/>
            <a:ext cx="741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0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0" name="" descr=""/>
          <p:cNvPicPr/>
          <p:nvPr/>
        </p:nvPicPr>
        <p:blipFill>
          <a:blip r:embed="rId1"/>
          <a:stretch/>
        </p:blipFill>
        <p:spPr>
          <a:xfrm>
            <a:off x="1579680" y="4754520"/>
            <a:ext cx="850680" cy="304920"/>
          </a:xfrm>
          <a:prstGeom prst="rect">
            <a:avLst/>
          </a:prstGeom>
          <a:ln w="0">
            <a:noFill/>
          </a:ln>
        </p:spPr>
      </p:pic>
      <p:pic>
        <p:nvPicPr>
          <p:cNvPr id="331" name="" descr=""/>
          <p:cNvPicPr/>
          <p:nvPr/>
        </p:nvPicPr>
        <p:blipFill>
          <a:blip r:embed="rId2"/>
          <a:stretch/>
        </p:blipFill>
        <p:spPr>
          <a:xfrm>
            <a:off x="1571760" y="5524560"/>
            <a:ext cx="1422360" cy="368280"/>
          </a:xfrm>
          <a:prstGeom prst="rect">
            <a:avLst/>
          </a:prstGeom>
          <a:ln w="0">
            <a:noFill/>
          </a:ln>
        </p:spPr>
      </p:pic>
      <p:pic>
        <p:nvPicPr>
          <p:cNvPr id="332" name="" descr=""/>
          <p:cNvPicPr/>
          <p:nvPr/>
        </p:nvPicPr>
        <p:blipFill>
          <a:blip r:embed="rId3"/>
          <a:stretch/>
        </p:blipFill>
        <p:spPr>
          <a:xfrm>
            <a:off x="1598760" y="5076720"/>
            <a:ext cx="1282680" cy="36828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/>
          <p:nvPr/>
        </p:nvSpPr>
        <p:spPr>
          <a:xfrm>
            <a:off x="1520640" y="3922560"/>
            <a:ext cx="1387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~N(m,P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127680" y="5504040"/>
            <a:ext cx="64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.i.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032280" y="5084640"/>
            <a:ext cx="64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.i.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6" name=""/>
          <p:cNvGrpSpPr/>
          <p:nvPr/>
        </p:nvGrpSpPr>
        <p:grpSpPr>
          <a:xfrm>
            <a:off x="1428840" y="2792520"/>
            <a:ext cx="2633040" cy="1040400"/>
            <a:chOff x="1428840" y="2792520"/>
            <a:chExt cx="2633040" cy="1040400"/>
          </a:xfrm>
        </p:grpSpPr>
        <p:sp>
          <p:nvSpPr>
            <p:cNvPr id="337" name=""/>
            <p:cNvSpPr/>
            <p:nvPr/>
          </p:nvSpPr>
          <p:spPr>
            <a:xfrm>
              <a:off x="1918080" y="3484440"/>
              <a:ext cx="1145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Arial"/>
                </a:rPr>
                <a:t>conhecid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616040" y="348444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949120" y="3135240"/>
              <a:ext cx="3056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Arial"/>
                </a:rPr>
                <a:t>Bu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325600" y="3135240"/>
              <a:ext cx="291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1616040" y="313524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1801440" y="2792520"/>
              <a:ext cx="77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1616040" y="27925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249000" y="32367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621880" y="32367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1751760" y="32367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1759680" y="358920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1978920" y="324000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1888200" y="2795400"/>
              <a:ext cx="58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743840" y="2795400"/>
              <a:ext cx="58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2786040" y="3111120"/>
              <a:ext cx="135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111400" y="3111120"/>
              <a:ext cx="182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868760" y="3219120"/>
              <a:ext cx="1044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267000" y="3065400"/>
              <a:ext cx="794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+ </a:t>
              </a: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Cw</a:t>
              </a:r>
              <a:r>
                <a:rPr b="1" lang="en-US" sz="1800" spc="-1" strike="noStrike" baseline="-25000">
                  <a:solidFill>
                    <a:srgbClr val="ff0000"/>
                  </a:solidFill>
                  <a:latin typeface="Arial"/>
                </a:rPr>
                <a:t>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428840" y="3466800"/>
              <a:ext cx="1809720" cy="323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563840" y="3427200"/>
              <a:ext cx="14680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= Hx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+ </a:t>
              </a: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v</a:t>
              </a:r>
              <a:r>
                <a:rPr b="1" lang="en-US" sz="1800" spc="-1" strike="noStrike" baseline="-25000">
                  <a:solidFill>
                    <a:srgbClr val="ff0000"/>
                  </a:solidFill>
                  <a:latin typeface="Arial"/>
                </a:rPr>
                <a:t>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7" name=""/>
          <p:cNvSpPr/>
          <p:nvPr/>
        </p:nvSpPr>
        <p:spPr>
          <a:xfrm>
            <a:off x="1428840" y="1809720"/>
            <a:ext cx="331452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4"/>
          <a:stretch/>
        </p:blipFill>
        <p:spPr>
          <a:xfrm>
            <a:off x="1619280" y="1879560"/>
            <a:ext cx="3085920" cy="6984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2076480" y="1847880"/>
            <a:ext cx="171360" cy="70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005200" y="19922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0000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/>
          <p:nvPr/>
        </p:nvSpPr>
        <p:spPr>
          <a:xfrm>
            <a:off x="0" y="0"/>
            <a:ext cx="9144000" cy="4762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50000">
                <a:srgbClr val="ffff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80880" y="0"/>
            <a:ext cx="19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ESPE - I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7823160" y="0"/>
            <a:ext cx="107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20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0" y="438120"/>
            <a:ext cx="9144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2246400" y="473040"/>
            <a:ext cx="4790880" cy="581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Controlador Ótimo LQ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94360" y="1293840"/>
            <a:ext cx="303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2. Princípio da Separaçã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1248840" y="1922400"/>
            <a:ext cx="33886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stema:         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k+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A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+ Bu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1"/>
          <a:stretch/>
        </p:blipFill>
        <p:spPr>
          <a:xfrm>
            <a:off x="2813040" y="2381400"/>
            <a:ext cx="3289320" cy="304560"/>
          </a:xfrm>
          <a:prstGeom prst="rect">
            <a:avLst/>
          </a:prstGeom>
          <a:ln w="0">
            <a:noFill/>
          </a:ln>
        </p:spPr>
      </p:pic>
      <p:sp>
        <p:nvSpPr>
          <p:cNvPr id="369" name=""/>
          <p:cNvSpPr/>
          <p:nvPr/>
        </p:nvSpPr>
        <p:spPr>
          <a:xfrm>
            <a:off x="1205640" y="2322360"/>
            <a:ext cx="15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bservador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962000" y="2933640"/>
            <a:ext cx="575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7815600" y="2573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2" name="" descr=""/>
          <p:cNvPicPr/>
          <p:nvPr/>
        </p:nvPicPr>
        <p:blipFill>
          <a:blip r:embed="rId2"/>
          <a:stretch/>
        </p:blipFill>
        <p:spPr>
          <a:xfrm>
            <a:off x="2203560" y="3067200"/>
            <a:ext cx="5232240" cy="304560"/>
          </a:xfrm>
          <a:prstGeom prst="rect">
            <a:avLst/>
          </a:prstGeom>
          <a:ln w="0">
            <a:noFill/>
          </a:ln>
        </p:spPr>
      </p:pic>
      <p:sp>
        <p:nvSpPr>
          <p:cNvPr id="373" name=""/>
          <p:cNvSpPr/>
          <p:nvPr/>
        </p:nvSpPr>
        <p:spPr>
          <a:xfrm>
            <a:off x="4552920" y="3486240"/>
            <a:ext cx="0" cy="990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 flipV="1">
            <a:off x="4896000" y="3028680"/>
            <a:ext cx="304560" cy="323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 flipV="1">
            <a:off x="5562720" y="3028680"/>
            <a:ext cx="304560" cy="323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6" name=""/>
          <p:cNvGrpSpPr/>
          <p:nvPr/>
        </p:nvGrpSpPr>
        <p:grpSpPr>
          <a:xfrm>
            <a:off x="4699080" y="3676680"/>
            <a:ext cx="1231920" cy="671040"/>
            <a:chOff x="4699080" y="3676680"/>
            <a:chExt cx="1231920" cy="671040"/>
          </a:xfrm>
        </p:grpSpPr>
        <p:pic>
          <p:nvPicPr>
            <p:cNvPr id="377" name="" descr=""/>
            <p:cNvPicPr/>
            <p:nvPr/>
          </p:nvPicPr>
          <p:blipFill>
            <a:blip r:embed="rId3"/>
            <a:stretch/>
          </p:blipFill>
          <p:spPr>
            <a:xfrm>
              <a:off x="4699080" y="3676680"/>
              <a:ext cx="123192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8" name=""/>
            <p:cNvSpPr/>
            <p:nvPr/>
          </p:nvSpPr>
          <p:spPr>
            <a:xfrm>
              <a:off x="4701960" y="3942000"/>
              <a:ext cx="10065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= Hx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79" name="" descr=""/>
          <p:cNvPicPr/>
          <p:nvPr/>
        </p:nvPicPr>
        <p:blipFill>
          <a:blip r:embed="rId4"/>
          <a:stretch/>
        </p:blipFill>
        <p:spPr>
          <a:xfrm>
            <a:off x="3683160" y="4629240"/>
            <a:ext cx="1892160" cy="304560"/>
          </a:xfrm>
          <a:prstGeom prst="rect">
            <a:avLst/>
          </a:prstGeom>
          <a:ln w="0">
            <a:noFill/>
          </a:ln>
        </p:spPr>
      </p:pic>
      <p:grpSp>
        <p:nvGrpSpPr>
          <p:cNvPr id="380" name=""/>
          <p:cNvGrpSpPr/>
          <p:nvPr/>
        </p:nvGrpSpPr>
        <p:grpSpPr>
          <a:xfrm>
            <a:off x="1223280" y="4932360"/>
            <a:ext cx="6644520" cy="1415880"/>
            <a:chOff x="1223280" y="4932360"/>
            <a:chExt cx="6644520" cy="1415880"/>
          </a:xfrm>
        </p:grpSpPr>
        <p:sp>
          <p:nvSpPr>
            <p:cNvPr id="381" name=""/>
            <p:cNvSpPr/>
            <p:nvPr/>
          </p:nvSpPr>
          <p:spPr>
            <a:xfrm>
              <a:off x="1223280" y="4932360"/>
              <a:ext cx="2049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8000"/>
                  </a:solidFill>
                  <a:latin typeface="Arial"/>
                </a:rPr>
                <a:t>Filtro de Kalman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82" name="" descr=""/>
            <p:cNvPicPr/>
            <p:nvPr/>
          </p:nvPicPr>
          <p:blipFill>
            <a:blip r:embed="rId5"/>
            <a:stretch/>
          </p:blipFill>
          <p:spPr>
            <a:xfrm>
              <a:off x="2343240" y="5316480"/>
              <a:ext cx="5524560" cy="45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3" name=""/>
            <p:cNvSpPr/>
            <p:nvPr/>
          </p:nvSpPr>
          <p:spPr>
            <a:xfrm rot="16200000">
              <a:off x="5153040" y="4695840"/>
              <a:ext cx="247680" cy="2381040"/>
            </a:xfrm>
            <a:custGeom>
              <a:avLst/>
              <a:gdLst>
                <a:gd name="textAreaLeft" fmla="*/ 158400 w 247680"/>
                <a:gd name="textAreaRight" fmla="*/ 248040 w 247680"/>
                <a:gd name="textAreaTop" fmla="*/ 61920 h 2381040"/>
                <a:gd name="textAreaBottom" fmla="*/ 2319120 h 2381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167080" y="597996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8000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3333600" y="1600200"/>
            <a:ext cx="304920" cy="324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0" y="0"/>
            <a:ext cx="9144000" cy="4762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50000">
                <a:srgbClr val="ffff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80880" y="0"/>
            <a:ext cx="19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ESPE - I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7823160" y="0"/>
            <a:ext cx="107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20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0" y="438120"/>
            <a:ext cx="9144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246400" y="473040"/>
            <a:ext cx="4790880" cy="581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Controlador Ótimo LQ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1879200" y="1560600"/>
            <a:ext cx="1797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k+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A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+ Bu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1899360" y="1943280"/>
            <a:ext cx="3396600" cy="1604160"/>
            <a:chOff x="1899360" y="1943280"/>
            <a:chExt cx="3396600" cy="1604160"/>
          </a:xfrm>
        </p:grpSpPr>
        <p:pic>
          <p:nvPicPr>
            <p:cNvPr id="393" name="" descr=""/>
            <p:cNvPicPr/>
            <p:nvPr/>
          </p:nvPicPr>
          <p:blipFill>
            <a:blip r:embed="rId1"/>
            <a:stretch/>
          </p:blipFill>
          <p:spPr>
            <a:xfrm>
              <a:off x="3619440" y="2152800"/>
              <a:ext cx="1676520" cy="64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4" name=""/>
            <p:cNvSpPr/>
            <p:nvPr/>
          </p:nvSpPr>
          <p:spPr>
            <a:xfrm>
              <a:off x="3505320" y="1943280"/>
              <a:ext cx="0" cy="11430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899360" y="3141720"/>
              <a:ext cx="25257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k+1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= (A – BK) x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- Be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6" name=""/>
          <p:cNvGrpSpPr/>
          <p:nvPr/>
        </p:nvGrpSpPr>
        <p:grpSpPr>
          <a:xfrm>
            <a:off x="3346560" y="3181320"/>
            <a:ext cx="4152960" cy="2508120"/>
            <a:chOff x="3346560" y="3181320"/>
            <a:chExt cx="4152960" cy="2508120"/>
          </a:xfrm>
        </p:grpSpPr>
        <p:pic>
          <p:nvPicPr>
            <p:cNvPr id="397" name="" descr=""/>
            <p:cNvPicPr/>
            <p:nvPr/>
          </p:nvPicPr>
          <p:blipFill>
            <a:blip r:embed="rId2"/>
            <a:stretch/>
          </p:blipFill>
          <p:spPr>
            <a:xfrm>
              <a:off x="5607000" y="3181320"/>
              <a:ext cx="1892520" cy="304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8" name=""/>
            <p:cNvGrpSpPr/>
            <p:nvPr/>
          </p:nvGrpSpPr>
          <p:grpSpPr>
            <a:xfrm>
              <a:off x="3543480" y="3581280"/>
              <a:ext cx="2800080" cy="1309680"/>
              <a:chOff x="3543480" y="3581280"/>
              <a:chExt cx="2800080" cy="1309680"/>
            </a:xfrm>
          </p:grpSpPr>
          <p:sp>
            <p:nvSpPr>
              <p:cNvPr id="399" name=""/>
              <p:cNvSpPr/>
              <p:nvPr/>
            </p:nvSpPr>
            <p:spPr>
              <a:xfrm>
                <a:off x="3543480" y="3581280"/>
                <a:ext cx="1409400" cy="8002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 flipH="1">
                <a:off x="4933800" y="3581280"/>
                <a:ext cx="1409760" cy="8002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 flipH="1">
                <a:off x="4944600" y="4381560"/>
                <a:ext cx="1800" cy="5094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2" name=""/>
            <p:cNvGrpSpPr/>
            <p:nvPr/>
          </p:nvGrpSpPr>
          <p:grpSpPr>
            <a:xfrm>
              <a:off x="3346560" y="5016600"/>
              <a:ext cx="3251160" cy="672840"/>
              <a:chOff x="3346560" y="5016600"/>
              <a:chExt cx="3251160" cy="672840"/>
            </a:xfrm>
          </p:grpSpPr>
          <p:sp>
            <p:nvSpPr>
              <p:cNvPr id="403" name=""/>
              <p:cNvSpPr/>
              <p:nvPr/>
            </p:nvSpPr>
            <p:spPr>
              <a:xfrm>
                <a:off x="4305240" y="5334120"/>
                <a:ext cx="895320" cy="32364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404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3346560" y="5016600"/>
                <a:ext cx="3251160" cy="6728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/>
          <p:nvPr/>
        </p:nvSpPr>
        <p:spPr>
          <a:xfrm>
            <a:off x="1924200" y="5200560"/>
            <a:ext cx="6324480" cy="2667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0" y="0"/>
            <a:ext cx="9144000" cy="4762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50000">
                <a:srgbClr val="ffff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80880" y="0"/>
            <a:ext cx="19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ESPE - I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7823160" y="0"/>
            <a:ext cx="107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20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0" y="438120"/>
            <a:ext cx="9144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245760" y="473040"/>
            <a:ext cx="2777760" cy="581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Programaçã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720720" y="1069920"/>
            <a:ext cx="109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16 set 0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1990800" y="1069920"/>
            <a:ext cx="5504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1. (T)  Introduçã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2. (P)  Simulação de Sistem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3. (T)  Probabilidades e Processos Estocástic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4. (P)  Estudo do Efeito de Ruído em Sistemas Linea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739800" y="2174760"/>
            <a:ext cx="109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17 set 0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2009520" y="2174760"/>
            <a:ext cx="58089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1. (T)  Estimação Pontual, LSE, Cramér-Ra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2. (P)  LSE Batelada + Identificação Não-Paramét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3. (T)  Estimação Recursiva, Regiões de Confiança, Ord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4. (P)  Identificação Recursiv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766800" y="3298680"/>
            <a:ext cx="109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18 set 02</a:t>
            </a: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2037960" y="3298680"/>
            <a:ext cx="5391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1. (T)  Filtragem. Projeção Ortogonal. Filtro de Kal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2. (P)  Implementação de um Filtro de Kalman Simp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3. (T)  Filtro de Kalman Estendido. Divergênci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4. (P)  Estudo de Métodos de Combate à Divergên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766800" y="4422600"/>
            <a:ext cx="109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19 set 02</a:t>
            </a: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2035440" y="4422600"/>
            <a:ext cx="57556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1. (T)  Controle Ótimo. Problema L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2. (P)  Realimentação Ótima de Estad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3. (T)  Problema LQG. Separação e Equivalência à Certez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4. (P)  Simulação de Malha Fechada LQ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85880" y="5540400"/>
            <a:ext cx="109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20 set 0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2056320" y="5540400"/>
            <a:ext cx="57038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1. (T)  Controle Adaptativo. Regulador Auto-Sintoniz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2. (P)  Implementação de um Regulador Auto-Sintoniz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3. (T)  Exame: Parte Teó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4. (P)  Exame: Parte Prát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/>
          <p:nvPr/>
        </p:nvSpPr>
        <p:spPr>
          <a:xfrm>
            <a:off x="0" y="0"/>
            <a:ext cx="9144000" cy="4762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50000">
                <a:srgbClr val="ffff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80880" y="0"/>
            <a:ext cx="19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ESPE - I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823160" y="0"/>
            <a:ext cx="107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20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0" y="438120"/>
            <a:ext cx="9144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200240" y="998640"/>
            <a:ext cx="6892560" cy="520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Prática: Simulação do Controlador LQ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523880" y="2665440"/>
            <a:ext cx="5880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mplemente o controlador LQG, utilizando o valo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 x estimado pelo Filtro de Kalman no lugar 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stado verdadeir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/>
          <p:nvPr/>
        </p:nvSpPr>
        <p:spPr>
          <a:xfrm>
            <a:off x="0" y="0"/>
            <a:ext cx="9144000" cy="4762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50000">
                <a:srgbClr val="ffff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80880" y="0"/>
            <a:ext cx="19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ESPE - I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7823160" y="0"/>
            <a:ext cx="107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20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0" y="438120"/>
            <a:ext cx="9144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1200240" y="522360"/>
            <a:ext cx="6892560" cy="520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Prática: Simulação do Controlador LQ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2" name="" descr=""/>
          <p:cNvPicPr/>
          <p:nvPr/>
        </p:nvPicPr>
        <p:blipFill>
          <a:blip r:embed="rId1"/>
          <a:stretch/>
        </p:blipFill>
        <p:spPr>
          <a:xfrm>
            <a:off x="911160" y="1239840"/>
            <a:ext cx="7510680" cy="56181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"/>
          <p:cNvSpPr/>
          <p:nvPr/>
        </p:nvSpPr>
        <p:spPr>
          <a:xfrm>
            <a:off x="0" y="0"/>
            <a:ext cx="9144000" cy="4762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50000">
                <a:srgbClr val="ffff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80880" y="0"/>
            <a:ext cx="19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ESPE - I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7823160" y="0"/>
            <a:ext cx="107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20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0" y="438120"/>
            <a:ext cx="9144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2618280" y="2813040"/>
            <a:ext cx="3928320" cy="1312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Muito Obrigad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pela Atençã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866960" y="4438800"/>
            <a:ext cx="6324480" cy="2664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144000" cy="4762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50000">
                <a:srgbClr val="ffff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0"/>
            <a:ext cx="19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ESPE - I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823160" y="0"/>
            <a:ext cx="107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20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438120"/>
            <a:ext cx="9144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245760" y="473040"/>
            <a:ext cx="2777760" cy="581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Programaçã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20720" y="1069920"/>
            <a:ext cx="109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16 set 0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990800" y="1069920"/>
            <a:ext cx="5504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1. (T)  Introduçã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2. (P)  Simulação de Sistem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3. (T)  Probabilidades e Processos Estocástic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4. (P)  Estudo do Efeito de Ruído em Sistemas Linea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9800" y="2174760"/>
            <a:ext cx="109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17 set 0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009520" y="2174760"/>
            <a:ext cx="58089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1. (T)  Estimação Pontual, LSE, Cramér-Ra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2. (P)  LSE Batelada + Identificação Não-Paramét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3. (T)  Estimação Recursiva, Regiões de Confiança, Ord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4. (P)  Identificação Recursiv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66800" y="3298680"/>
            <a:ext cx="109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18 set 02</a:t>
            </a: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037960" y="3298680"/>
            <a:ext cx="5391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1. (T)  Filtragem. Projeção Ortogonal. Filtro de Kal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2. (P)  Implementação de um Filtro de Kalman Simp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3. (T)  Filtro de Kalman Estendido. Divergênci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4. (P)  Estudo de Métodos de Combate à Divergên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6800" y="4422600"/>
            <a:ext cx="109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19 set 02</a:t>
            </a: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035440" y="4422600"/>
            <a:ext cx="57556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1. (T)  Controle Ótimo. Problema L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2. (P)  Realimentação Ótima de Estad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3. (T)  Problema LQG. Separação e Equivalência à Certez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4. (P)  Simulação de Malha Fechada LQ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85880" y="5540400"/>
            <a:ext cx="109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20 set 0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056320" y="5540400"/>
            <a:ext cx="57038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1. (T)  Controle Adaptativo. Regulador Auto-Sintoniz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2. (P)  Implementação de um Regulador Auto-Sintoniz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3. (T)  Exame: Parte Teó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4. (P)  Exame: Parte Prát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0" y="0"/>
            <a:ext cx="9144000" cy="4762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50000">
                <a:srgbClr val="ffff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0"/>
            <a:ext cx="19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ESPE - I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823160" y="0"/>
            <a:ext cx="107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20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438120"/>
            <a:ext cx="9144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732040" y="473040"/>
            <a:ext cx="3818520" cy="581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Controle Ótimo L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15960" y="1198440"/>
            <a:ext cx="463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1. Problema de Programação Matemát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1014120" y="3579840"/>
            <a:ext cx="2142000" cy="2795400"/>
            <a:chOff x="1014120" y="3579840"/>
            <a:chExt cx="2142000" cy="2795400"/>
          </a:xfrm>
        </p:grpSpPr>
        <p:sp>
          <p:nvSpPr>
            <p:cNvPr id="73" name=""/>
            <p:cNvSpPr/>
            <p:nvPr/>
          </p:nvSpPr>
          <p:spPr>
            <a:xfrm>
              <a:off x="1014120" y="3579840"/>
              <a:ext cx="120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xemplo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4" name="" descr=""/>
            <p:cNvPicPr/>
            <p:nvPr/>
          </p:nvPicPr>
          <p:blipFill>
            <a:blip r:embed="rId1"/>
            <a:stretch/>
          </p:blipFill>
          <p:spPr>
            <a:xfrm>
              <a:off x="1606680" y="4102200"/>
              <a:ext cx="1549440" cy="2273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5" name=""/>
          <p:cNvGrpSpPr/>
          <p:nvPr/>
        </p:nvGrpSpPr>
        <p:grpSpPr>
          <a:xfrm>
            <a:off x="4119120" y="2989440"/>
            <a:ext cx="4181760" cy="3334680"/>
            <a:chOff x="4119120" y="2989440"/>
            <a:chExt cx="4181760" cy="3334680"/>
          </a:xfrm>
        </p:grpSpPr>
        <p:sp>
          <p:nvSpPr>
            <p:cNvPr id="76" name=""/>
            <p:cNvSpPr/>
            <p:nvPr/>
          </p:nvSpPr>
          <p:spPr>
            <a:xfrm>
              <a:off x="4876920" y="4210200"/>
              <a:ext cx="1828800" cy="1828800"/>
            </a:xfrm>
            <a:prstGeom prst="ellipse">
              <a:avLst/>
            </a:prstGeom>
            <a:solidFill>
              <a:srgbClr val="ffff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514760" y="5124600"/>
              <a:ext cx="3448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V="1">
              <a:off x="5772240" y="3142800"/>
              <a:ext cx="0" cy="3181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729840" y="51037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44680" y="4684680"/>
              <a:ext cx="368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344200" y="2989440"/>
              <a:ext cx="368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86360" y="3467160"/>
              <a:ext cx="1695600" cy="1587600"/>
            </a:xfrm>
            <a:custGeom>
              <a:avLst/>
              <a:gdLst/>
              <a:ahLst/>
              <a:rect l="l" t="t" r="r" b="b"/>
              <a:pathLst>
                <a:path w="1068" h="1000">
                  <a:moveTo>
                    <a:pt x="0" y="0"/>
                  </a:moveTo>
                  <a:cubicBezTo>
                    <a:pt x="34" y="140"/>
                    <a:pt x="26" y="680"/>
                    <a:pt x="204" y="840"/>
                  </a:cubicBezTo>
                  <a:cubicBezTo>
                    <a:pt x="382" y="1000"/>
                    <a:pt x="888" y="935"/>
                    <a:pt x="1068" y="960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682320" y="3008160"/>
              <a:ext cx="1008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z</a:t>
              </a:r>
              <a:r>
                <a:rPr b="1" lang="en-US" sz="1800" spc="-1" strike="noStrike" baseline="-25000">
                  <a:solidFill>
                    <a:srgbClr val="ff0000"/>
                  </a:solidFill>
                  <a:latin typeface="Arial"/>
                </a:rPr>
                <a:t>1</a:t>
              </a: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 z</a:t>
              </a:r>
              <a:r>
                <a:rPr b="1" lang="en-US" sz="1800" spc="-1" strike="noStrike" baseline="-25000">
                  <a:solidFill>
                    <a:srgbClr val="ff0000"/>
                  </a:solidFill>
                  <a:latin typeface="Arial"/>
                </a:rPr>
                <a:t>2</a:t>
              </a: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 = 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772240" y="3638520"/>
              <a:ext cx="1447560" cy="1486080"/>
            </a:xfrm>
            <a:prstGeom prst="line">
              <a:avLst/>
            </a:prstGeom>
            <a:ln w="9360">
              <a:solidFill>
                <a:srgbClr val="008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72240" y="4000680"/>
              <a:ext cx="1047600" cy="1143000"/>
            </a:xfrm>
            <a:prstGeom prst="line">
              <a:avLst/>
            </a:prstGeom>
            <a:ln w="9360">
              <a:solidFill>
                <a:srgbClr val="008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772240" y="4362480"/>
              <a:ext cx="723960" cy="743040"/>
            </a:xfrm>
            <a:prstGeom prst="line">
              <a:avLst/>
            </a:prstGeom>
            <a:ln w="9360">
              <a:solidFill>
                <a:srgbClr val="008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119640" y="4705200"/>
              <a:ext cx="114480" cy="1144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891480" y="3960720"/>
              <a:ext cx="14094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8000"/>
                  </a:solidFill>
                  <a:latin typeface="Arial"/>
                </a:rPr>
                <a:t>z</a:t>
              </a:r>
              <a:r>
                <a:rPr b="1" lang="en-US" sz="1800" spc="-1" strike="noStrike" baseline="-25000">
                  <a:solidFill>
                    <a:srgbClr val="008000"/>
                  </a:solidFill>
                  <a:latin typeface="Arial"/>
                </a:rPr>
                <a:t>1</a:t>
              </a:r>
              <a:r>
                <a:rPr b="1" lang="en-US" sz="1800" spc="-1" strike="noStrike">
                  <a:solidFill>
                    <a:srgbClr val="008000"/>
                  </a:solidFill>
                  <a:latin typeface="Arial"/>
                </a:rPr>
                <a:t> + z</a:t>
              </a:r>
              <a:r>
                <a:rPr b="1" lang="en-US" sz="1800" spc="-1" strike="noStrike" baseline="-25000">
                  <a:solidFill>
                    <a:srgbClr val="008000"/>
                  </a:solidFill>
                  <a:latin typeface="Arial"/>
                </a:rPr>
                <a:t>2</a:t>
              </a:r>
              <a:r>
                <a:rPr b="1" lang="en-US" sz="1800" spc="-1" strike="noStrike">
                  <a:solidFill>
                    <a:srgbClr val="008000"/>
                  </a:solidFill>
                  <a:latin typeface="Arial"/>
                </a:rPr>
                <a:t> = c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>
              <a:off x="5943240" y="3276720"/>
              <a:ext cx="723960" cy="3808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>
              <a:off x="6533640" y="4229280"/>
              <a:ext cx="343080" cy="190440"/>
            </a:xfrm>
            <a:prstGeom prst="line">
              <a:avLst/>
            </a:prstGeom>
            <a:ln w="93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1" name="" descr=""/>
            <p:cNvPicPr/>
            <p:nvPr/>
          </p:nvPicPr>
          <p:blipFill>
            <a:blip r:embed="rId2"/>
            <a:stretch/>
          </p:blipFill>
          <p:spPr>
            <a:xfrm>
              <a:off x="6508800" y="5911920"/>
              <a:ext cx="1079280" cy="36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 flipH="1" flipV="1">
              <a:off x="6572160" y="5600520"/>
              <a:ext cx="2476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119120" y="4265640"/>
              <a:ext cx="80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Arial"/>
                </a:rPr>
                <a:t>ótim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971960" y="4514760"/>
              <a:ext cx="1104840" cy="22860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1568520" y="1689120"/>
            <a:ext cx="863640" cy="14605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0"/>
            <a:ext cx="9144000" cy="4762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50000">
                <a:srgbClr val="ffff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80880" y="0"/>
            <a:ext cx="19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ESPE - I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823160" y="0"/>
            <a:ext cx="107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20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438120"/>
            <a:ext cx="9144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732040" y="473040"/>
            <a:ext cx="3818520" cy="581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Controle Ótimo L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2360" y="1198440"/>
            <a:ext cx="39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2. Problema de Controle Ótimo L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1223280" y="3484440"/>
            <a:ext cx="3088440" cy="2859120"/>
            <a:chOff x="1223280" y="3484440"/>
            <a:chExt cx="3088440" cy="2859120"/>
          </a:xfrm>
        </p:grpSpPr>
        <p:sp>
          <p:nvSpPr>
            <p:cNvPr id="103" name=""/>
            <p:cNvSpPr/>
            <p:nvPr/>
          </p:nvSpPr>
          <p:spPr>
            <a:xfrm>
              <a:off x="1223280" y="3484440"/>
              <a:ext cx="461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u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4" name="" descr=""/>
            <p:cNvPicPr/>
            <p:nvPr/>
          </p:nvPicPr>
          <p:blipFill>
            <a:blip r:embed="rId1"/>
            <a:stretch/>
          </p:blipFill>
          <p:spPr>
            <a:xfrm>
              <a:off x="1593720" y="3943440"/>
              <a:ext cx="2718000" cy="24001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1631880" y="1733400"/>
            <a:ext cx="2718000" cy="1714680"/>
          </a:xfrm>
          <a:prstGeom prst="rect">
            <a:avLst/>
          </a:prstGeom>
          <a:ln w="0">
            <a:noFill/>
          </a:ln>
        </p:spPr>
      </p:pic>
      <p:grpSp>
        <p:nvGrpSpPr>
          <p:cNvPr id="106" name=""/>
          <p:cNvGrpSpPr/>
          <p:nvPr/>
        </p:nvGrpSpPr>
        <p:grpSpPr>
          <a:xfrm>
            <a:off x="4649760" y="3981600"/>
            <a:ext cx="3227400" cy="2457360"/>
            <a:chOff x="4649760" y="3981600"/>
            <a:chExt cx="3227400" cy="2457360"/>
          </a:xfrm>
        </p:grpSpPr>
        <p:sp>
          <p:nvSpPr>
            <p:cNvPr id="107" name=""/>
            <p:cNvSpPr/>
            <p:nvPr/>
          </p:nvSpPr>
          <p:spPr>
            <a:xfrm>
              <a:off x="4649760" y="3981600"/>
              <a:ext cx="246240" cy="2457360"/>
            </a:xfrm>
            <a:custGeom>
              <a:avLst/>
              <a:gdLst>
                <a:gd name="textAreaLeft" fmla="*/ 0 w 246240"/>
                <a:gd name="textAreaRight" fmla="*/ 88920 w 246240"/>
                <a:gd name="textAreaTop" fmla="*/ 64080 h 2457360"/>
                <a:gd name="textAreaBottom" fmla="*/ 2393280 h 2457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313600" y="4265640"/>
              <a:ext cx="25635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z = [ x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... x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N+1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u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... u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9" name="" descr=""/>
            <p:cNvPicPr/>
            <p:nvPr/>
          </p:nvPicPr>
          <p:blipFill>
            <a:blip r:embed="rId3"/>
            <a:stretch/>
          </p:blipFill>
          <p:spPr>
            <a:xfrm>
              <a:off x="5975280" y="4933800"/>
              <a:ext cx="927000" cy="11052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0"/>
            <a:ext cx="9144000" cy="4762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50000">
                <a:srgbClr val="ffff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80880" y="0"/>
            <a:ext cx="19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ESPE - I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823160" y="0"/>
            <a:ext cx="107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20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438120"/>
            <a:ext cx="9144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732040" y="473040"/>
            <a:ext cx="3818520" cy="581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Controle Ótimo L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13080" y="1198440"/>
            <a:ext cx="338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3. Condições de Otimalidad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974880" y="2932200"/>
            <a:ext cx="3368520" cy="15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(z+h) = J(z) + J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z)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 + 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&lt; J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z) | h &gt; ~ J(z+h) - J(z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1035000" y="4457880"/>
            <a:ext cx="6083280" cy="1714320"/>
            <a:chOff x="1035000" y="4457880"/>
            <a:chExt cx="6083280" cy="1714320"/>
          </a:xfrm>
        </p:grpSpPr>
        <p:sp>
          <p:nvSpPr>
            <p:cNvPr id="118" name=""/>
            <p:cNvSpPr/>
            <p:nvPr/>
          </p:nvSpPr>
          <p:spPr>
            <a:xfrm>
              <a:off x="2247840" y="4457880"/>
              <a:ext cx="0" cy="8762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9" name="" descr=""/>
            <p:cNvPicPr/>
            <p:nvPr/>
          </p:nvPicPr>
          <p:blipFill>
            <a:blip r:embed="rId1"/>
            <a:stretch/>
          </p:blipFill>
          <p:spPr>
            <a:xfrm>
              <a:off x="1035000" y="5524560"/>
              <a:ext cx="6083280" cy="64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" name="" descr=""/>
            <p:cNvPicPr/>
            <p:nvPr/>
          </p:nvPicPr>
          <p:blipFill>
            <a:blip r:embed="rId2"/>
            <a:stretch/>
          </p:blipFill>
          <p:spPr>
            <a:xfrm>
              <a:off x="2355840" y="4686480"/>
              <a:ext cx="3060720" cy="342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1" name=""/>
          <p:cNvGrpSpPr/>
          <p:nvPr/>
        </p:nvGrpSpPr>
        <p:grpSpPr>
          <a:xfrm>
            <a:off x="5200560" y="3040200"/>
            <a:ext cx="3355200" cy="2641320"/>
            <a:chOff x="5200560" y="3040200"/>
            <a:chExt cx="3355200" cy="2641320"/>
          </a:xfrm>
        </p:grpSpPr>
        <p:sp>
          <p:nvSpPr>
            <p:cNvPr id="122" name=""/>
            <p:cNvSpPr/>
            <p:nvPr/>
          </p:nvSpPr>
          <p:spPr>
            <a:xfrm>
              <a:off x="5200560" y="3790800"/>
              <a:ext cx="2590920" cy="1486080"/>
            </a:xfrm>
            <a:custGeom>
              <a:avLst/>
              <a:gdLst/>
              <a:ahLst/>
              <a:rect l="l" t="t" r="r" b="b"/>
              <a:pathLst>
                <a:path w="1632" h="936">
                  <a:moveTo>
                    <a:pt x="0" y="0"/>
                  </a:moveTo>
                  <a:cubicBezTo>
                    <a:pt x="422" y="84"/>
                    <a:pt x="844" y="168"/>
                    <a:pt x="1116" y="324"/>
                  </a:cubicBezTo>
                  <a:cubicBezTo>
                    <a:pt x="1388" y="480"/>
                    <a:pt x="1510" y="708"/>
                    <a:pt x="1632" y="936"/>
                  </a:cubicBezTo>
                </a:path>
              </a:pathLst>
            </a:custGeom>
            <a:noFill/>
            <a:ln w="9360">
              <a:solidFill>
                <a:srgbClr val="99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470640" y="4095720"/>
              <a:ext cx="482760" cy="19044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>
              <a:off x="6477120" y="3149280"/>
              <a:ext cx="307800" cy="9428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419880" y="4038480"/>
              <a:ext cx="114120" cy="1144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910480" y="4075200"/>
              <a:ext cx="573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Arial"/>
                </a:rPr>
                <a:t>J(z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051600" y="3040200"/>
              <a:ext cx="6408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J</a:t>
              </a:r>
              <a:r>
                <a:rPr b="1" lang="en-US" sz="1800" spc="-1" strike="noStrike" baseline="-25000">
                  <a:solidFill>
                    <a:srgbClr val="ff0000"/>
                  </a:solidFill>
                  <a:latin typeface="Arial"/>
                </a:rPr>
                <a:t>z</a:t>
              </a: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(z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927840" y="4254480"/>
              <a:ext cx="114480" cy="11448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052040" y="3979800"/>
              <a:ext cx="150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8000"/>
                  </a:solidFill>
                  <a:latin typeface="Arial"/>
                </a:rPr>
                <a:t>J(z+h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) ~ </a:t>
              </a:r>
              <a:r>
                <a:rPr b="1" lang="en-US" sz="1800" spc="-1" strike="noStrike">
                  <a:solidFill>
                    <a:srgbClr val="0000ff"/>
                  </a:solidFill>
                  <a:latin typeface="Arial"/>
                </a:rPr>
                <a:t>J(z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653160" y="380844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800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310440" y="5313240"/>
              <a:ext cx="170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990000"/>
                  </a:solidFill>
                  <a:latin typeface="Arial"/>
                </a:rPr>
                <a:t>curva de níve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V="1">
              <a:off x="7257960" y="4952880"/>
              <a:ext cx="304920" cy="3240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4222800" y="1276200"/>
            <a:ext cx="927000" cy="11052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3506760" y="3565440"/>
            <a:ext cx="2424240" cy="1038240"/>
          </a:xfrm>
          <a:custGeom>
            <a:avLst/>
            <a:gdLst/>
            <a:ahLst/>
            <a:rect l="l" t="t" r="r" b="b"/>
            <a:pathLst>
              <a:path w="1527" h="654">
                <a:moveTo>
                  <a:pt x="0" y="9"/>
                </a:moveTo>
                <a:cubicBezTo>
                  <a:pt x="309" y="0"/>
                  <a:pt x="609" y="54"/>
                  <a:pt x="891" y="163"/>
                </a:cubicBezTo>
                <a:cubicBezTo>
                  <a:pt x="1173" y="272"/>
                  <a:pt x="1363" y="445"/>
                  <a:pt x="1527" y="654"/>
                </a:cubicBezTo>
              </a:path>
            </a:pathLst>
          </a:custGeom>
          <a:noFill/>
          <a:ln w="936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4876920" y="2844720"/>
            <a:ext cx="307800" cy="943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0"/>
            <a:ext cx="9144000" cy="4762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50000">
                <a:srgbClr val="ffff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80880" y="0"/>
            <a:ext cx="19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ESPE - I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823160" y="0"/>
            <a:ext cx="107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20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438120"/>
            <a:ext cx="9144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32040" y="473040"/>
            <a:ext cx="3818520" cy="581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Controle Ótimo L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819680" y="3733920"/>
            <a:ext cx="114120" cy="1141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444920" y="2735280"/>
            <a:ext cx="743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Arial"/>
              </a:rPr>
              <a:t>z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(z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664880" y="4684680"/>
            <a:ext cx="245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h(z) =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curva de nível de h(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984240" y="1695600"/>
            <a:ext cx="927000" cy="110484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 flipV="1">
            <a:off x="2971800" y="1828440"/>
            <a:ext cx="0" cy="375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647800" y="5486400"/>
            <a:ext cx="5067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535160" y="4989600"/>
            <a:ext cx="368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096360" y="1503360"/>
            <a:ext cx="368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0"/>
            <a:ext cx="9144000" cy="4762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50000">
                <a:srgbClr val="ffff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80880" y="0"/>
            <a:ext cx="19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ESPE - I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823160" y="0"/>
            <a:ext cx="107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20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438120"/>
            <a:ext cx="9144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732040" y="473040"/>
            <a:ext cx="3818520" cy="581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Controle Ótimo L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984240" y="1695600"/>
            <a:ext cx="927000" cy="110484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 flipV="1">
            <a:off x="2971800" y="1828440"/>
            <a:ext cx="0" cy="375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647800" y="5486400"/>
            <a:ext cx="5067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535160" y="4989600"/>
            <a:ext cx="368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096360" y="1503360"/>
            <a:ext cx="368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651200" y="2811600"/>
            <a:ext cx="1295640" cy="7268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95960" y="2433600"/>
            <a:ext cx="1904760" cy="12574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103640" y="2066760"/>
            <a:ext cx="2552760" cy="1791000"/>
          </a:xfrm>
          <a:prstGeom prst="ellipse">
            <a:avLst/>
          </a:prstGeom>
          <a:noFill/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795840" y="1724040"/>
            <a:ext cx="3348000" cy="229536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559400" y="3795840"/>
            <a:ext cx="303120" cy="93816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503960" y="4667400"/>
            <a:ext cx="640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J</a:t>
            </a:r>
            <a:r>
              <a:rPr b="1" lang="en-US" sz="1800" spc="-1" strike="noStrike" baseline="-25000">
                <a:solidFill>
                  <a:srgbClr val="008000"/>
                </a:solidFill>
                <a:latin typeface="Arial"/>
              </a:rPr>
              <a:t>z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(z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819680" y="3733920"/>
            <a:ext cx="114120" cy="1141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679720" y="4205160"/>
            <a:ext cx="244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curva de nível de J(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H="1" flipV="1">
            <a:off x="6449760" y="3449160"/>
            <a:ext cx="376200" cy="82260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2987640" y="5918040"/>
            <a:ext cx="3159000" cy="4604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0"/>
            <a:ext cx="9144000" cy="4762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50000">
                <a:srgbClr val="ffff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80880" y="0"/>
            <a:ext cx="19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ESPE - I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823160" y="0"/>
            <a:ext cx="107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20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438120"/>
            <a:ext cx="9144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732040" y="473040"/>
            <a:ext cx="3818520" cy="581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Controle Ótimo L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984240" y="1695600"/>
            <a:ext cx="927000" cy="110484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 flipV="1">
            <a:off x="2971800" y="1828440"/>
            <a:ext cx="0" cy="375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647800" y="5486400"/>
            <a:ext cx="5067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535160" y="4989600"/>
            <a:ext cx="368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096360" y="1503360"/>
            <a:ext cx="368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103640" y="2066760"/>
            <a:ext cx="2552760" cy="1791000"/>
          </a:xfrm>
          <a:prstGeom prst="ellipse">
            <a:avLst/>
          </a:prstGeom>
          <a:noFill/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4559400" y="3795840"/>
            <a:ext cx="303120" cy="93816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503960" y="4667400"/>
            <a:ext cx="640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J</a:t>
            </a:r>
            <a:r>
              <a:rPr b="1" lang="en-US" sz="1800" spc="-1" strike="noStrike" baseline="-25000">
                <a:solidFill>
                  <a:srgbClr val="008000"/>
                </a:solidFill>
                <a:latin typeface="Arial"/>
              </a:rPr>
              <a:t>z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(z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819680" y="3733920"/>
            <a:ext cx="114120" cy="1141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506760" y="3565440"/>
            <a:ext cx="2424240" cy="1038240"/>
          </a:xfrm>
          <a:custGeom>
            <a:avLst/>
            <a:gdLst/>
            <a:ahLst/>
            <a:rect l="l" t="t" r="r" b="b"/>
            <a:pathLst>
              <a:path w="1527" h="654">
                <a:moveTo>
                  <a:pt x="0" y="9"/>
                </a:moveTo>
                <a:cubicBezTo>
                  <a:pt x="309" y="0"/>
                  <a:pt x="609" y="54"/>
                  <a:pt x="891" y="163"/>
                </a:cubicBezTo>
                <a:cubicBezTo>
                  <a:pt x="1173" y="272"/>
                  <a:pt x="1363" y="445"/>
                  <a:pt x="1527" y="654"/>
                </a:cubicBezTo>
              </a:path>
            </a:pathLst>
          </a:custGeom>
          <a:noFill/>
          <a:ln w="936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4876920" y="2844720"/>
            <a:ext cx="307800" cy="943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819680" y="3733920"/>
            <a:ext cx="114120" cy="1141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44920" y="2735280"/>
            <a:ext cx="743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Arial"/>
              </a:rPr>
              <a:t>z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(z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998600" y="3486240"/>
            <a:ext cx="65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z</a:t>
            </a:r>
            <a:r>
              <a:rPr b="1" lang="en-US" sz="1800" spc="-1" strike="noStrike" baseline="30000">
                <a:solidFill>
                  <a:srgbClr val="0000ff"/>
                </a:solidFill>
                <a:latin typeface="Arial"/>
              </a:rPr>
              <a:t>óti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3106800" y="5948280"/>
            <a:ext cx="2933640" cy="3682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29T22:52:48Z</dcterms:created>
  <dc:creator>Takashi Yoneyama</dc:creator>
  <dc:description/>
  <dc:language>en-US</dc:language>
  <cp:lastModifiedBy>Otto Gottlieb</cp:lastModifiedBy>
  <cp:lastPrinted>2002-09-12T14:10:44Z</cp:lastPrinted>
  <dcterms:modified xsi:type="dcterms:W3CDTF">2002-09-13T00:32:13Z</dcterms:modified>
  <cp:revision>33</cp:revision>
  <dc:subject/>
  <dc:title>No Slide Title</dc:title>
</cp:coreProperties>
</file>