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jpeg" ContentType="image/jpeg"/>
  <Override PartName="/ppt/media/image12.png" ContentType="image/png"/>
  <Override PartName="/ppt/media/image9.jpeg" ContentType="image/jpeg"/>
  <Override PartName="/ppt/media/image11.jpeg" ContentType="image/jpeg"/>
  <Override PartName="/ppt/media/image23.wmf" ContentType="image/x-wmf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0.wmf" ContentType="image/x-wmf"/>
  <Override PartName="/ppt/media/image26.jpeg" ContentType="image/jpeg"/>
  <Override PartName="/ppt/media/image24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17.wmf" ContentType="image/x-wmf"/>
  <Override PartName="/ppt/media/image16.png" ContentType="image/png"/>
  <Override PartName="/ppt/media/image1.jpeg" ContentType="image/jpeg"/>
  <Override PartName="/ppt/media/image15.wmf" ContentType="image/x-wmf"/>
  <Override PartName="/ppt/media/image14.png" ContentType="image/png"/>
  <Override PartName="/ppt/media/image25.wmf" ContentType="image/x-wmf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29D9-3539-46B1-8943-47BEE4D31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337A-CD74-49E2-B0E4-58E7F43D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F9333-F791-4576-A439-28AE20DE8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CD067-745F-4461-A774-2B3611C0CF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3C5E0-034F-4D42-9892-BFBF0A181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65D14-A6D4-437E-98C7-EF94A2D5C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D374F3-C808-4D33-BC5F-0D00F71BB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FE9E-CA1D-414D-B515-8F1ADA4D7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D93EE-43B2-4C6C-AFEA-C007B57E8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46B33-E91F-47C2-A5A4-0C1587A12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4A4D8-2C7A-4CAD-8AB6-4D506281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7B3C-A660-46D7-BDEA-26B7C0D25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BBAEC-0C46-485A-9FB4-590898C8B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17EC1-0C9D-4C45-A089-28ECF17A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7EC7A-48FD-4637-8F1D-972AFEB6C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FDEE-A5A3-4B61-822B-53693D5F0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0B465-CB24-4CA9-901F-BF312544C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601616-11A0-4FE5-B09E-7160F3B8C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4ECF6D-3528-40BE-A536-0E67AAC34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ECCC26-C316-41E2-AEE6-073FDC81C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1FEE3-8473-4D94-B934-B006EFA0C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03869-D342-45B3-9836-CCA1C35B2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94F5-127B-4E7C-A53A-208C1F6FA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65A06C-1A1C-4B81-9051-4D37EB5E9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8B7861-38E3-4D8D-835F-1863BC95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5B55DC-A65B-43F8-ACEC-A1081B25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58D8E-C2BB-4891-9089-C67EDAC4F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BFBAE-FBB8-413B-BC24-8974E128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5679B-7E7A-4D39-9B4D-37E7B5373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905DE-8B93-4179-B327-86FA400BF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0C2535-64AE-46B0-BEBF-263FD9552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DA0E3-BD73-4B36-B2E8-EBA496822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4A08F-5D77-4542-B809-1D38E8D2C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04B1-7E86-4907-9722-99481FB85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03FF5B-01DE-4FB1-8465-112118A87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2029A-BD9D-40F3-B79A-42B9D3359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6E9B2-D669-4E32-87D7-A5CBFD7F9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4D6684-6FB9-4622-B83D-E8A653FFA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6FC32-B522-4F97-97D2-45A72D65B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053CC-CE08-4DCB-9334-A814C8B50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6E0B1-5884-4FB7-AF16-379409BEC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766D3E-4D24-4BC1-8A36-F7F0F9F4A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B9B1DF-D775-4C6B-9F73-AC3BD1EF3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358B-6CB9-4092-8648-0E396C1A4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FBB9-0E51-4C31-8C02-DF4427F15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6E6A-3AE4-484A-8EC3-736B61E22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71F1-ADB6-40CE-B2E4-46D4CD8B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3AF1-2BB1-451B-875D-96B840E2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6772-C711-40B7-8745-9A230A2E3C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AE099-E333-4EB5-8B10-E19151B605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23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125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3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1350-50D5-4F5B-8473-BDFA27CBD3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179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191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9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00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201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B54E-0558-485B-BE24-4D303F8715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10</a:t>
            </a:r>
            <a:r>
              <a:rPr b="0" lang="en-GB" sz="3200" spc="-1" strike="noStrike" u="sng" baseline="30000">
                <a:solidFill>
                  <a:srgbClr val="ffffff"/>
                </a:solidFill>
                <a:uFillTx/>
                <a:latin typeface="Times New Roman"/>
              </a:rPr>
              <a:t>o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CIPELL, UFSC, 25 e 26/Ago/2004</a:t>
            </a:r>
            <a:br>
              <a:rPr sz="3200"/>
            </a:br>
            <a:br>
              <a:rPr sz="1800"/>
            </a:br>
            <a:r>
              <a:rPr b="1" lang="en-GB" sz="4400" spc="-1" strike="noStrike">
                <a:solidFill>
                  <a:srgbClr val="ffffff"/>
                </a:solidFill>
                <a:latin typeface="Times New Roman"/>
              </a:rPr>
              <a:t>Demonstração de Técnicas de Inteligência Artificia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440" y="3123720"/>
            <a:ext cx="80010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Prof. Dr. Cairo L. Nascimento Jr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visão de Engenharia Eletrôn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stituto Tecnológico de Aeronáutic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-mail: cairo@ita.b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ome Page: http://www.ele.ita.br/~cairo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Demonstração de Técnicas de IA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971280" y="1125000"/>
            <a:ext cx="6910200" cy="1016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Exemplos de desenvolvimento 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Equipamento Inteligente no I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611280" y="3321000"/>
            <a:ext cx="3960720" cy="297036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684360" y="2276640"/>
            <a:ext cx="7488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 Unicode MS"/>
              </a:rPr>
              <a:t>Romeo II: http://www.ele.ita.br/romeo/romeo2.mp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4859280" y="3338640"/>
            <a:ext cx="39607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5364000" y="2276640"/>
            <a:ext cx="2737080" cy="26622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1042920" y="2276640"/>
            <a:ext cx="3638520" cy="421632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763640" y="1341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Algoritmo A-estre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Demonstração de Técnicas de IA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0" y="2276640"/>
            <a:ext cx="9144000" cy="34290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1619280" y="1341360"/>
            <a:ext cx="604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Unicode MS"/>
              </a:rPr>
              <a:t>Algoritmo Minimax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Demonstração de Técnicas de IA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Demonstração de Técnicas de IA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8208720" cy="482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ferentes formas de representação. Exs.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delo paramétrico (função de transferência para sistemas LIT)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delo baseado em regras (fuzzy expert systems)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odelo neural, fuzzy-neur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quisição de modelos dinâmicos a partir de dados rea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Diferentes níveis de supervisã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Muito forte, forte, fraca, muito frac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Demonstração de Técnicas de IA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11280" y="1268280"/>
            <a:ext cx="8208720" cy="482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ervisão Muito Forte: o supervisor insere os parâmetros (ou as regras) no model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ervisão Forte: o supervisor fornece exemplos de entrada-saída (pares x,y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ervisão Fraca: o supervisor classifica apenas os casos típico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ervisão Muito Fraca: o supervisor classifica como SUCESSO ou FALHA um conjunto de ações sucessiva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Demonstração de Técnicas de IA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1197000"/>
            <a:ext cx="7772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Controlador Fuzz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1332000" y="1989000"/>
            <a:ext cx="6985080" cy="45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Demonstração de Técnicas de IA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85800" y="1197000"/>
            <a:ext cx="7772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Controlador Fuzz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1042920" y="1916280"/>
            <a:ext cx="6624720" cy="46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Demonstração de Técnicas de IA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0" y="2247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1258920" y="1889280"/>
            <a:ext cx="6624720" cy="49687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685800" y="1197000"/>
            <a:ext cx="77724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Controlador Fuzz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/>
          </p:nvPr>
        </p:nvSpPr>
        <p:spPr>
          <a:xfrm>
            <a:off x="685800" y="1196640"/>
            <a:ext cx="7772400" cy="1368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Supervisão For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Redes Neurais tipo feedforwar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Algoritmo Back-Propag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2050920" y="2600280"/>
            <a:ext cx="4726080" cy="425772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Demonstração de Técnicas de IA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Demonstração de Técnicas de IA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899640" y="1125000"/>
            <a:ext cx="705492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Reconhecimento de Caracter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Antes do treinam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>
            <a:off x="1476360" y="1996920"/>
            <a:ext cx="6480360" cy="48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67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r que desejamos máquinas inteligent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obrevivência x Comforto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ecessidades físicas (esforço físico e mental)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ecessidades emocionais (filmes Blade Runner e IA, Sony AIBO e QRIO, chatterbot ALICE http://www.alicebot.org/)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Demonstração de Técnicas de IA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39640" y="11970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 Unicode MS"/>
              </a:rPr>
              <a:t>Motivaçã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Demonstração de Técnicas de IA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899640" y="1125000"/>
            <a:ext cx="705492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Reconhecimento de Caracter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Após o treinam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1476360" y="2050920"/>
            <a:ext cx="640872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Demonstração de Técnicas de IA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99640" y="1125000"/>
            <a:ext cx="705492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Reconhecimento de Caracter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Teste estatíst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1332000" y="1952640"/>
            <a:ext cx="6192720" cy="46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Demonstração de Técnicas de IA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55640" y="1197000"/>
            <a:ext cx="748656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Supervisão Frac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Redes de Kohon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1547640" y="2100240"/>
            <a:ext cx="626436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Demonstração de Técnicas de IA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899640" y="1125000"/>
            <a:ext cx="705492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Reconhecimento de Caracter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Após o treinam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1258920" y="1943280"/>
            <a:ext cx="65516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Demonstração de Técnicas de IA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99640" y="1125000"/>
            <a:ext cx="705492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Reconhecimento de Caracter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Teste estatístic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1403280" y="2079720"/>
            <a:ext cx="6120000" cy="458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Demonstração de Técnicas de IA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11280" y="2565000"/>
            <a:ext cx="8208720" cy="352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Learn by doing it”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upervisor apenas classifica o resultado de uma série de ações em 2 categorias: SUCESSO, FRACAS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 cada estado (x), existem N ações (u) possívei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ara cada par (x,u) define-se P = probabilidade de suces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m geral P(x,u) não é conhecido e deve ser estimad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1197000"/>
            <a:ext cx="77724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Supervisão Muito Frac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Aprendizado por Reforç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Algoritmo Bootstrap Lear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Demonstração de Técnicas de IA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11280" y="2565000"/>
            <a:ext cx="8208720" cy="3527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Um conjunto de ações é escolhido usando o valor estimado de 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 resultado destas ações é avaliado pelo supervisor e usado para atualizar a estimativa de P(x,u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685800" y="1197000"/>
            <a:ext cx="77724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Supervisão Muito Fraca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Aprendizado por Reforç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 Unicode MS"/>
              </a:rPr>
              <a:t>Algoritmo Bootstrap Learn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Demonstração de Técnicas de IA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99640" y="1125000"/>
            <a:ext cx="705492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Problema do Labirin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Após o treinament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1"/>
          <a:stretch/>
        </p:blipFill>
        <p:spPr>
          <a:xfrm>
            <a:off x="1547640" y="1998720"/>
            <a:ext cx="648036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684360" y="126792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 Unicode MS"/>
              </a:rPr>
              <a:t>Conclusões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Aplicações extremamente práticas. Alguns exs.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classificação de empresas de telecomunicações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classificação de sinais eletrocardiográficos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temporarização de semafóros de tráfego urbano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otimização de sequências de montagens,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spcBef>
                <a:spcPts val="64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previsão de preços de produtos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imes New Roman"/>
              </a:rPr>
              <a:t>Grandes benefícios para a indústria nacional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Demonstração de Técnicas de IA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/>
          </p:nvPr>
        </p:nvSpPr>
        <p:spPr>
          <a:xfrm>
            <a:off x="685800" y="1268280"/>
            <a:ext cx="7772400" cy="482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Arial Unicode MS"/>
              </a:rPr>
              <a:t>Conclusões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8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Times New Roman"/>
              </a:rPr>
              <a:t>Estamos aumentando o nível de inteligência das nossas máquinas (lentamente ou rapidamente?)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8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Times New Roman"/>
              </a:rPr>
              <a:t>Área altamente multi-disciplinar e desafiadora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8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400" spc="-1" strike="noStrike">
                <a:solidFill>
                  <a:srgbClr val="ffffff"/>
                </a:solidFill>
                <a:latin typeface="Times New Roman"/>
              </a:rPr>
              <a:t>Muitas oportunidades para pesquisa teórica e aplicada.</a:t>
            </a: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Demonstração de Técnicas de IA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1066680" y="2276640"/>
            <a:ext cx="3505320" cy="350496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4800600" y="2276640"/>
            <a:ext cx="3516480" cy="35161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539640" y="1341360"/>
            <a:ext cx="822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 Unicode MS"/>
              </a:rPr>
              <a:t>Entertainment Robot AIBO (http://www.aibo.com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Demonstração de Técnicas de IA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Demonstração de Técnicas de IA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755640" y="1557360"/>
            <a:ext cx="7704000" cy="439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is alguns links interessant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RPA Grand Challen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http://www.tomshardware.com/game/20040312/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http://www.darpa.mil/grandchallenge/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Kohonen Network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http://www.cs.bham.ac.uk/resources/courses/SEM2A2/Web/Kohonen.ht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L: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Learning a motion to move to the fro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http://www.fe.dis.titech.ac.jp/~gen/robot/robodemo.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is dem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Unicode MS"/>
              </a:rPr>
              <a:t>http://www.cs.utexas.edu/users/kstanley/demos.htm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/>
          </p:nvPr>
        </p:nvSpPr>
        <p:spPr>
          <a:xfrm>
            <a:off x="685440" y="1197000"/>
            <a:ext cx="5715000" cy="3984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Para mais detalh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Livro “Inteligência Artificial em Controle e Automação”, 2000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(re-impressões em 2002 e 2004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Autores: Cairo L. Nascimento Jr. 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Takashi Yoneyama (ITA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Ed. Edgard Blücher e FAPES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6588000" y="1700280"/>
            <a:ext cx="2239920" cy="3200400"/>
          </a:xfrm>
          <a:prstGeom prst="rect">
            <a:avLst/>
          </a:prstGeom>
          <a:ln w="0">
            <a:noFill/>
          </a:ln>
        </p:spPr>
      </p:pic>
      <p:sp>
        <p:nvSpPr>
          <p:cNvPr id="342" name=""/>
          <p:cNvSpPr/>
          <p:nvPr/>
        </p:nvSpPr>
        <p:spPr>
          <a:xfrm>
            <a:off x="684360" y="5084640"/>
            <a:ext cx="784836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ourier New"/>
              </a:rPr>
              <a:t>http://www.ele.ita.br/ia_contaut/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Demonstração de Técnicas de IA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Demonstração de Técnicas de IA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55640" y="1844280"/>
            <a:ext cx="7704000" cy="2305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Unicode MS"/>
              </a:rPr>
              <a:t>Muito obrigado pela sua atenção!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Unicode MS"/>
              </a:rPr>
              <a:t>Cairo (cairo@ita.b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539640" y="126828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 Unicode MS"/>
              </a:rPr>
              <a:t>http://www.sony.net/ProductsServices/Robots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Demonstração de Técnicas de IA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435640" y="1989000"/>
            <a:ext cx="2502000" cy="4475160"/>
          </a:xfrm>
          <a:prstGeom prst="rect">
            <a:avLst/>
          </a:prstGeom>
          <a:ln w="0">
            <a:noFill/>
          </a:ln>
        </p:spPr>
      </p:pic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>
            <a:off x="1042920" y="1992240"/>
            <a:ext cx="403236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687240" y="2054160"/>
            <a:ext cx="7772400" cy="3679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Inteligência das máquinas atuai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Estudo da Inteligênci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ipos e Medição de Inteligência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Humana, Animal, das Máquinas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Extra-terrestre (</a:t>
            </a:r>
            <a:r>
              <a:rPr b="0" lang="pt-BR" sz="3200" spc="-1" strike="noStrike">
                <a:solidFill>
                  <a:srgbClr val="ffffff"/>
                </a:solidFill>
                <a:latin typeface="Times New Roman"/>
              </a:rPr>
              <a:t>SETI@home)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Demonstração de Técnicas de IA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39640" y="119700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 Unicode MS"/>
              </a:rPr>
              <a:t>Definição de Inteligên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755640" y="1844640"/>
            <a:ext cx="7772400" cy="446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mportamento Inteligente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mportante para Competição (Seleção Natural)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daptação (mudanças no meio-ambiente)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conhecimento de Padrões (visão, fala, diagnóstico de falhas/doenças, aplicações financeiras)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lanejamento (Modelos, Otimização) e Auxílio a Tomada de Decisões,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operação e Comunicação com outros indivídu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Demonstração de Técnicas de IA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11280" y="1125360"/>
            <a:ext cx="8229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 Unicode MS"/>
              </a:rPr>
              <a:t>Definição de Inteligênc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611280" y="11966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Exemplos de desenvolvimento 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Equipamento Inteligente no I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755640" y="2708280"/>
            <a:ext cx="4176720" cy="313380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5386320" y="2708280"/>
            <a:ext cx="2786040" cy="3402000"/>
          </a:xfrm>
          <a:prstGeom prst="rect">
            <a:avLst/>
          </a:prstGeom>
          <a:ln w="0">
            <a:noFill/>
          </a:ln>
        </p:spPr>
      </p:pic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Demonstração de Técnicas de IA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684360" y="98100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Exemplos de desenvolvimento 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Equipamento Inteligente no I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1619280" y="3029040"/>
            <a:ext cx="5832360" cy="34574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1332000" y="227664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 Unicode MS"/>
              </a:rPr>
              <a:t>http://www.ele.ita.br/~kawakami/barco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10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Demonstração de Técnicas de IA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</a:rPr>
              <a:t>Demonstração de Técnicas de IA</a:t>
            </a:r>
            <a:endParaRPr b="0" lang="en-US" sz="36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7848720" cy="11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Exemplos de desenvolvimento 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 Unicode MS"/>
              </a:rPr>
              <a:t>Equipamento Inteligente no IT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539640" y="3068640"/>
            <a:ext cx="4038840" cy="27716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755640" y="206064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Arial Unicode MS"/>
              </a:rPr>
              <a:t>Romeo I e Romeo II: http://www.ele.ita.br/romeo/romeo2.zi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4643280" y="3068640"/>
            <a:ext cx="4500720" cy="33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5T21:40:42Z</dcterms:created>
  <dc:creator>Cairo L. Nascimento Jr.</dc:creator>
  <dc:description/>
  <dc:language>en-US</dc:language>
  <cp:lastModifiedBy>Cairo L. Nascimento Jr.</cp:lastModifiedBy>
  <dcterms:modified xsi:type="dcterms:W3CDTF">2004-08-23T09:53:29Z</dcterms:modified>
  <cp:revision>41</cp:revision>
  <dc:subject>Como tornar uma máquina inteligente</dc:subject>
  <dc:title>Palestra Area 1 Salvador, 4 e 5 Nvo 2002</dc:title>
</cp:coreProperties>
</file>