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A3B-BAB5-4EBF-B55E-F81478CE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8E9-73EF-4DA6-A21E-2BDDD28E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A10-AC22-4A9F-A1A0-831BE2CE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681-DB03-4D9F-B853-A4094835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326-3BB9-41BA-924B-782DC5AD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7EA-0700-4978-A60B-EC4CE412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BBF-EB58-4FBF-8130-A50CD8B0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625-722E-429E-B5C1-5BABBAA8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41D-7A9C-4099-AAA4-6D6CAED3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835-D6F3-4287-B896-85568B6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2CE-17C5-4121-A96C-ECB17B9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B6C-07F5-4BB7-9EDB-B9A133F2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962A-D9CD-460A-9B10-A19E4F22E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9 fev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69040" y="134136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Problema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40320" y="3079800"/>
            <a:ext cx="53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Dado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Físico + Índice de Desempen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95800" y="4622760"/>
            <a:ext cx="61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Obte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melhor lei de controle, para o Sistema Físic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undo o Índice de Desempenho fornecedio a prio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0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514760" y="3619440"/>
            <a:ext cx="0" cy="857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11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1160" y="1490760"/>
            <a:ext cx="8501040" cy="480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1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0560" y="1457280"/>
            <a:ext cx="5200560" cy="2076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05200" y="3824280"/>
            <a:ext cx="3238560" cy="1841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33880" y="5934240"/>
            <a:ext cx="2049480" cy="43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2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424160"/>
            <a:ext cx="4876920" cy="3247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052880" y="3181320"/>
            <a:ext cx="4772160" cy="3390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191120" y="2174760"/>
            <a:ext cx="4152960" cy="84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33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95160" y="1476360"/>
            <a:ext cx="4589640" cy="2514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119480" y="4600440"/>
            <a:ext cx="4300560" cy="1971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300560" y="3809880"/>
            <a:ext cx="3209760" cy="68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41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3400" y="1752480"/>
            <a:ext cx="4619520" cy="1722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733920" y="4510080"/>
            <a:ext cx="449568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767040" y="3728880"/>
            <a:ext cx="2905200" cy="58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49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6280" y="1609560"/>
            <a:ext cx="5371920" cy="135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019400" y="3014640"/>
            <a:ext cx="4610160" cy="1895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04720" y="5067360"/>
            <a:ext cx="6153120" cy="137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5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28880" y="137304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Exemplos de Índic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90720" y="2273400"/>
                <a:ext cx="1503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022400" y="2978280"/>
                <a:ext cx="2394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4720" y="3778200"/>
                <a:ext cx="1280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31760" y="4654440"/>
                <a:ext cx="310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043600" y="2214720"/>
                <a:ext cx="113184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66680" y="5549760"/>
                <a:ext cx="1503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e>
                        </m:d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30640" y="3741840"/>
                <a:ext cx="22640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22720" y="2884320"/>
                <a:ext cx="170676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70280" y="5504040"/>
                <a:ext cx="4937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τ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Q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τ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τ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Ru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τ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56200" y="4543560"/>
                <a:ext cx="2633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ρ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73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71600" y="2000160"/>
            <a:ext cx="490536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43120" y="3710160"/>
            <a:ext cx="5657760" cy="2619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75440" y="131616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Mayer = Lagrange = Bol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81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62200" y="3652920"/>
            <a:ext cx="6019560" cy="2649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271600" y="2000160"/>
            <a:ext cx="490536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75440" y="131616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Mayer = Lagrange = Bol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5680" y="1925640"/>
            <a:ext cx="57906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Controle ó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Algumas Aplicações na Medic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ITA - Divisão de Engenharia Eletrô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Praça Mal. Eduardo Gomes, 50  Vila das Acá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12.228-900 São José dos Campos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takashi@ele.ita.cta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http://www.ele.ita.br/~takash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89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305080" y="1933560"/>
            <a:ext cx="2286000" cy="1467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062240" y="3610080"/>
            <a:ext cx="364824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666880" y="4400640"/>
            <a:ext cx="1676520" cy="495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905120" y="5305320"/>
            <a:ext cx="5681520" cy="1009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900520" y="12780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Existência de Solu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09920" y="3505320"/>
            <a:ext cx="0" cy="799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24200" y="5162400"/>
            <a:ext cx="5848200" cy="1295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01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845080" y="343368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6600"/>
                </a:solidFill>
                <a:latin typeface="Arial"/>
              </a:rPr>
              <a:t>Muito Obrigad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09960" y="5753160"/>
            <a:ext cx="3314520" cy="26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5680" y="1925640"/>
            <a:ext cx="57906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Controle ó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lgumas Aplicações na Medic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ITA - Divisão de Engenharia Eletrô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Praça Mal. Eduardo Gomes, 50  Vila das Acá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12.228-900 São José dos Campos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takashi@ele.ita.cta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://www.ele.ita.br/~takash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3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8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42880" y="1868400"/>
            <a:ext cx="80899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Horário: 13:30 - 15: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Program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9 fev 2004, segunda-feira: Introdução e Formulação Clás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0 fev 2004, terça-feira: Condições de Otim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1 fev 2004, quarta-feira: LQ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2 fev 2004, quinta-feira:  Métodos Dir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 fev 20043, sexta-feira: Tópicos Avanç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7160" y="14097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e Ótimo - Algumas Aplicações na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3600" y="1644480"/>
            <a:ext cx="807336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sachenkov, A.L. et al.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Disease Dynamic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 Birkhäuser, 199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ung, Y.C.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Introduction to Bioengineering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 World Scientific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nderle, J.D. et al.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Introduction to Biomedical Engineering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 Academic Press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erger, S.A. et al.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Introduction to Bioengineering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 Oxford University Press, 199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ronzino, J.D.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Biomedical Engineering Handbook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 CRC Press/IEEE Press,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Khoo, M.C.K.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Physiological Control System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 IEEE Press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ewis, F.K.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Optimal Control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. John Wiley, 19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ryson Jr., A.E. e Ho, Y.C.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Applied Optimal Control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. Hemisphere Publishing, 197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Young, L.C.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Optimal Control Theory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. AMS  Chesea Publishing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Vinter, R.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Optimal Control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. Birkhäuser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Gamkrelidze, R.V.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inciples of Optimal Control Theory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. Plenum Press. 197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Kirk, D.E. </a:t>
            </a: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Optimal Control Theory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, Prentice Hall, 197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366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6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11320" y="15159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82800" y="3271680"/>
            <a:ext cx="3765600" cy="119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7" y="2009"/>
                </a:moveTo>
                <a:lnTo>
                  <a:pt x="27346" y="2009"/>
                </a:lnTo>
                <a:lnTo>
                  <a:pt x="27346" y="-11526"/>
                </a:lnTo>
                <a:lnTo>
                  <a:pt x="15333" y="-26794"/>
                </a:lnTo>
              </a:path>
              <a:path w="21600" h="21600">
                <a:moveTo>
                  <a:pt x="22037" y="0"/>
                </a:moveTo>
                <a:lnTo>
                  <a:pt x="22037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ar = Atuar sobre u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Fís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de modo que o seu compotamento satisfaça as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specificações de Desempenho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95640" y="5135400"/>
            <a:ext cx="304308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41" y="2588"/>
                </a:moveTo>
                <a:lnTo>
                  <a:pt x="-8214" y="2588"/>
                </a:lnTo>
                <a:lnTo>
                  <a:pt x="-8214" y="-7044"/>
                </a:lnTo>
                <a:lnTo>
                  <a:pt x="-2274" y="-17989"/>
                </a:lnTo>
              </a:path>
              <a:path w="21600" h="21600">
                <a:moveTo>
                  <a:pt x="-541" y="0"/>
                </a:moveTo>
                <a:lnTo>
                  <a:pt x="-541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Fís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arte do Universo sobre a qual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a a aten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7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11320" y="15159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82800" y="3271680"/>
            <a:ext cx="3765600" cy="119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7" y="2009"/>
                </a:moveTo>
                <a:lnTo>
                  <a:pt x="27346" y="2009"/>
                </a:lnTo>
                <a:lnTo>
                  <a:pt x="27346" y="-11526"/>
                </a:lnTo>
                <a:lnTo>
                  <a:pt x="15333" y="-26794"/>
                </a:lnTo>
              </a:path>
              <a:path w="21600" h="21600">
                <a:moveTo>
                  <a:pt x="22037" y="0"/>
                </a:moveTo>
                <a:lnTo>
                  <a:pt x="22037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ar = Atuar sobre u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Fís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de modo que o seu compotamento satisfaça as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specificações de Desempenho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62160" y="5110200"/>
            <a:ext cx="510048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23" y="2588"/>
                </a:moveTo>
                <a:lnTo>
                  <a:pt x="-4739" y="2588"/>
                </a:lnTo>
                <a:lnTo>
                  <a:pt x="-4739" y="-6757"/>
                </a:lnTo>
                <a:lnTo>
                  <a:pt x="2595" y="-17378"/>
                </a:lnTo>
              </a:path>
              <a:path w="21600" h="21600">
                <a:moveTo>
                  <a:pt x="-323" y="0"/>
                </a:moveTo>
                <a:lnTo>
                  <a:pt x="-323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specificações de Desempen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Descr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a do comportamento desejado par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Fís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83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98880" y="15159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Ót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82800" y="3220920"/>
            <a:ext cx="376560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7" y="3634"/>
                </a:moveTo>
                <a:lnTo>
                  <a:pt x="24833" y="3634"/>
                </a:lnTo>
                <a:lnTo>
                  <a:pt x="24833" y="-20439"/>
                </a:lnTo>
                <a:lnTo>
                  <a:pt x="14788" y="-48824"/>
                </a:lnTo>
              </a:path>
              <a:path w="21600" h="21600">
                <a:moveTo>
                  <a:pt x="22037" y="0"/>
                </a:moveTo>
                <a:lnTo>
                  <a:pt x="22037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 melh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gundo um crité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m definido a prio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9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331800" y="15159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e Ót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82800" y="3246480"/>
            <a:ext cx="376560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7" y="2588"/>
                </a:moveTo>
                <a:lnTo>
                  <a:pt x="27346" y="2588"/>
                </a:lnTo>
                <a:lnTo>
                  <a:pt x="27346" y="-14843"/>
                </a:lnTo>
                <a:lnTo>
                  <a:pt x="18612" y="-34765"/>
                </a:lnTo>
              </a:path>
              <a:path w="21600" h="21600">
                <a:moveTo>
                  <a:pt x="22037" y="0"/>
                </a:moveTo>
                <a:lnTo>
                  <a:pt x="22037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uar sobre u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Fís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a melhor for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egundo 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ério bem definido a prio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9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Otto Gottlieb</cp:lastModifiedBy>
  <dcterms:modified xsi:type="dcterms:W3CDTF">2004-02-03T11:45:04Z</dcterms:modified>
  <cp:revision>47</cp:revision>
  <dc:subject/>
  <dc:title>No Slide Title</dc:title>
</cp:coreProperties>
</file>