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12.jpeg" ContentType="image/jpeg"/>
  <Override PartName="/ppt/media/image1.jpeg" ContentType="image/jpeg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13.jpeg" ContentType="image/jpeg"/>
  <Override PartName="/ppt/media/image20.wmf" ContentType="image/x-wmf"/>
  <Override PartName="/ppt/media/image18.wmf" ContentType="image/x-wmf"/>
  <Override PartName="/ppt/media/image15.png" ContentType="image/png"/>
  <Override PartName="/ppt/media/image14.png" ContentType="image/png"/>
  <Override PartName="/ppt/media/image2.wmf" ContentType="image/x-wmf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8268-F996-4AE0-BE6E-0F3812E26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8F73-E72A-408D-90AC-917098E8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9378-C746-49A6-BD2B-0C168E842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FDC7-5C0A-4346-9F92-2CAC39A13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8CD7-EB75-460F-9101-EE07679F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99E3-DD21-4CFF-B034-78BA854E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4AA1-9306-41BC-AEBD-3260ACE3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A53E-80D1-4BC9-BA03-CFBEAA8C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F9C4-836E-4C49-A25B-66B7F6D1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932F-50BC-45E3-A5C6-E15452C8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D43B-D8D2-4BA8-948C-C9414848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A11B-472D-40A2-9A70-BEEB4A5B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C582-79A5-4ECE-A885-006965554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17680" y="43956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N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63000" y="417600"/>
            <a:ext cx="139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0 fev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384880" y="3384720"/>
            <a:ext cx="425520" cy="349200"/>
          </a:xfrm>
          <a:custGeom>
            <a:avLst/>
            <a:gdLst/>
            <a:ahLst/>
            <a:rect l="l" t="t" r="r" b="b"/>
            <a:pathLst>
              <a:path w="232" h="192">
                <a:moveTo>
                  <a:pt x="0" y="192"/>
                </a:moveTo>
                <a:cubicBezTo>
                  <a:pt x="160" y="0"/>
                  <a:pt x="184" y="46"/>
                  <a:pt x="232" y="8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823000" y="3759120"/>
            <a:ext cx="330120" cy="127080"/>
          </a:xfrm>
          <a:custGeom>
            <a:avLst/>
            <a:gdLst/>
            <a:ahLst/>
            <a:rect l="l" t="t" r="r" b="b"/>
            <a:pathLst>
              <a:path w="208" h="80">
                <a:moveTo>
                  <a:pt x="0" y="72"/>
                </a:moveTo>
                <a:cubicBezTo>
                  <a:pt x="120" y="80"/>
                  <a:pt x="165" y="15"/>
                  <a:pt x="208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70640" y="3619440"/>
            <a:ext cx="406440" cy="203400"/>
          </a:xfrm>
          <a:custGeom>
            <a:avLst/>
            <a:gdLst/>
            <a:ahLst/>
            <a:rect l="l" t="t" r="r" b="b"/>
            <a:pathLst>
              <a:path w="256" h="128">
                <a:moveTo>
                  <a:pt x="0" y="0"/>
                </a:moveTo>
                <a:cubicBezTo>
                  <a:pt x="176" y="40"/>
                  <a:pt x="256" y="128"/>
                  <a:pt x="256" y="128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27800" y="3232080"/>
            <a:ext cx="349200" cy="266760"/>
          </a:xfrm>
          <a:custGeom>
            <a:avLst/>
            <a:gdLst/>
            <a:ahLst/>
            <a:rect l="l" t="t" r="r" b="b"/>
            <a:pathLst>
              <a:path w="176" h="168">
                <a:moveTo>
                  <a:pt x="0" y="168"/>
                </a:moveTo>
                <a:cubicBezTo>
                  <a:pt x="136" y="104"/>
                  <a:pt x="176" y="0"/>
                  <a:pt x="176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873920" y="3276720"/>
            <a:ext cx="393840" cy="393480"/>
          </a:xfrm>
          <a:custGeom>
            <a:avLst/>
            <a:gdLst/>
            <a:ahLst/>
            <a:rect l="l" t="t" r="r" b="b"/>
            <a:pathLst>
              <a:path w="248" h="248">
                <a:moveTo>
                  <a:pt x="0" y="248"/>
                </a:moveTo>
                <a:cubicBezTo>
                  <a:pt x="200" y="128"/>
                  <a:pt x="248" y="0"/>
                  <a:pt x="248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176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4129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8132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098720" y="1859040"/>
            <a:ext cx="1420200" cy="891720"/>
            <a:chOff x="1098720" y="1859040"/>
            <a:chExt cx="1420200" cy="891720"/>
          </a:xfrm>
        </p:grpSpPr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1098720" y="1859040"/>
                  <a:ext cx="1356480" cy="59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dy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t,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1164240" y="2477160"/>
                  <a:ext cx="1354680" cy="27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[</m:t>
                      </m:r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,y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5" name=""/>
          <p:cNvSpPr/>
          <p:nvPr/>
        </p:nvSpPr>
        <p:spPr>
          <a:xfrm>
            <a:off x="1961280" y="2854440"/>
            <a:ext cx="254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= t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t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&lt; …&lt; t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-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t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b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7208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955800" y="3494160"/>
                <a:ext cx="222696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;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r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y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;t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2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291924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5276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800280" y="5045040"/>
                <a:ext cx="2976480" cy="15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;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,Y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;t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,Y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;t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-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,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-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r</m:t>
                              </m:r>
                              <m:r>
                                <m:t xml:space="preserve">[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,</m:t>
                                  </m:r>
                                </m:sub>
                              </m:sSub>
                              <m:r>
                                <m:t xml:space="preserve">y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;t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,Y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t xml:space="preserve">]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2487960" y="1355760"/>
            <a:ext cx="41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Arial"/>
              </a:rPr>
              <a:t>Método dos Múltiplos Ti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63640" y="2827440"/>
            <a:ext cx="1800" cy="517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763640" y="4433760"/>
            <a:ext cx="1800" cy="568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5051520"/>
            <a:ext cx="3714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5108400" y="2220840"/>
            <a:ext cx="0" cy="3090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459480" y="2467080"/>
            <a:ext cx="0" cy="2657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899400" y="2446200"/>
            <a:ext cx="0" cy="2657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7331040" y="2467080"/>
            <a:ext cx="0" cy="2657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8278920" y="2432160"/>
            <a:ext cx="0" cy="2657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66080" y="511164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088120" y="5133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391000" y="2475000"/>
            <a:ext cx="0" cy="2657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94200" y="2476440"/>
            <a:ext cx="0" cy="2657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7881840" y="2438280"/>
            <a:ext cx="0" cy="2657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40240" y="368604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48480" y="383076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13400" y="357012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92880" y="345600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826400" y="361476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99200" y="50706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13440" y="54514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40320" y="5111640"/>
            <a:ext cx="39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Times New Roman"/>
              </a:rPr>
              <a:t>j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88160" y="5111640"/>
            <a:ext cx="279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236000" y="5111640"/>
            <a:ext cx="428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Times New Roman"/>
              </a:rPr>
              <a:t>j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96160" y="4048200"/>
            <a:ext cx="0" cy="99036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89680" y="4375080"/>
            <a:ext cx="633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42320" y="3889440"/>
            <a:ext cx="96012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900ff"/>
                </a:solidFill>
                <a:latin typeface="Times New Roman"/>
              </a:rPr>
              <a:t>y(t</a:t>
            </a:r>
            <a:r>
              <a:rPr b="0" lang="pt-BR" sz="1400" spc="-1" strike="noStrike" baseline="-25000">
                <a:solidFill>
                  <a:srgbClr val="9900ff"/>
                </a:solidFill>
                <a:latin typeface="Times New Roman"/>
              </a:rPr>
              <a:t>j+1</a:t>
            </a:r>
            <a:r>
              <a:rPr b="0" lang="pt-BR" sz="1400" spc="-1" strike="noStrike">
                <a:solidFill>
                  <a:srgbClr val="9900ff"/>
                </a:solidFill>
                <a:latin typeface="Times New Roman"/>
              </a:rPr>
              <a:t>;t</a:t>
            </a:r>
            <a:r>
              <a:rPr b="0" lang="pt-BR" sz="1400" spc="-1" strike="noStrike" baseline="-25000">
                <a:solidFill>
                  <a:srgbClr val="9900ff"/>
                </a:solidFill>
                <a:latin typeface="Times New Roman"/>
              </a:rPr>
              <a:t>j</a:t>
            </a:r>
            <a:r>
              <a:rPr b="0" lang="pt-BR" sz="1400" spc="-1" strike="noStrike">
                <a:solidFill>
                  <a:srgbClr val="9900ff"/>
                </a:solidFill>
                <a:latin typeface="Times New Roman"/>
              </a:rPr>
              <a:t>,Y</a:t>
            </a:r>
            <a:r>
              <a:rPr b="0" lang="pt-BR" sz="1400" spc="-1" strike="noStrike" baseline="-25000">
                <a:solidFill>
                  <a:srgbClr val="9900ff"/>
                </a:solidFill>
                <a:latin typeface="Times New Roman"/>
              </a:rPr>
              <a:t>j</a:t>
            </a:r>
            <a:r>
              <a:rPr b="0" lang="pt-BR" sz="1400" spc="-1" strike="noStrike">
                <a:solidFill>
                  <a:srgbClr val="9900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908760" y="3860640"/>
            <a:ext cx="419040" cy="152640"/>
          </a:xfrm>
          <a:custGeom>
            <a:avLst/>
            <a:gdLst/>
            <a:ahLst/>
            <a:rect l="l" t="t" r="r" b="b"/>
            <a:pathLst>
              <a:path w="264" h="96">
                <a:moveTo>
                  <a:pt x="0" y="96"/>
                </a:moveTo>
                <a:cubicBezTo>
                  <a:pt x="152" y="0"/>
                  <a:pt x="264" y="0"/>
                  <a:pt x="264" y="0"/>
                </a:cubicBezTo>
              </a:path>
            </a:pathLst>
          </a:custGeom>
          <a:noFill/>
          <a:ln w="19080">
            <a:solidFill>
              <a:srgbClr val="99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3320" y="397656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28960" y="2004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488800" y="469584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223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94796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747880" y="2193840"/>
          <a:ext cx="3724200" cy="195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7880" y="2193840"/>
                    <a:ext cx="3724200" cy="19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194796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728800" y="4460760"/>
          <a:ext cx="3740400" cy="1968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28800" y="4460760"/>
                    <a:ext cx="374040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2487960" y="1355760"/>
            <a:ext cx="41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Arial"/>
              </a:rPr>
              <a:t>Método dos Múltiplos Ti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485040" y="3511440"/>
            <a:ext cx="830160" cy="658800"/>
          </a:xfrm>
          <a:custGeom>
            <a:avLst/>
            <a:gdLst/>
            <a:ahLst/>
            <a:rect l="l" t="t" r="r" b="b"/>
            <a:pathLst>
              <a:path w="523" h="415">
                <a:moveTo>
                  <a:pt x="0" y="415"/>
                </a:moveTo>
                <a:cubicBezTo>
                  <a:pt x="111" y="412"/>
                  <a:pt x="171" y="216"/>
                  <a:pt x="231" y="136"/>
                </a:cubicBezTo>
                <a:cubicBezTo>
                  <a:pt x="291" y="56"/>
                  <a:pt x="419" y="4"/>
                  <a:pt x="523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236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4129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098720" y="1859040"/>
            <a:ext cx="1420200" cy="891720"/>
            <a:chOff x="1098720" y="1859040"/>
            <a:chExt cx="1420200" cy="891720"/>
          </a:xfrm>
        </p:grpSpPr>
        <mc:AlternateContent>
          <mc:Choice xmlns:a14="http://schemas.microsoft.com/office/drawing/2010/main" Requires="a14">
            <p:sp>
              <p:nvSpPr>
                <p:cNvPr id="242" name=""/>
                <p:cNvSpPr txBox="1"/>
                <p:nvPr/>
              </p:nvSpPr>
              <p:spPr>
                <a:xfrm>
                  <a:off x="1098720" y="1859040"/>
                  <a:ext cx="1356480" cy="59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dy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t,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1164240" y="2477160"/>
                  <a:ext cx="1354680" cy="27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[</m:t>
                      </m:r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,y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4" name=""/>
          <p:cNvSpPr/>
          <p:nvPr/>
        </p:nvSpPr>
        <p:spPr>
          <a:xfrm>
            <a:off x="1961280" y="3006720"/>
            <a:ext cx="254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= t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t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&lt; …&lt; t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-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t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b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77208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754200" y="3544920"/>
                <a:ext cx="3375000" cy="24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  <m:e>
                        <m:r>
                          <m:t xml:space="preserve">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tínu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m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291924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45276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908080" y="132228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Arial"/>
              </a:rPr>
              <a:t>Método da Coloc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725480" y="2960640"/>
            <a:ext cx="1800" cy="517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935600" y="5051520"/>
            <a:ext cx="3714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108400" y="2220840"/>
            <a:ext cx="0" cy="3090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459480" y="2467080"/>
            <a:ext cx="0" cy="2657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7331040" y="2467080"/>
            <a:ext cx="0" cy="2657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8278920" y="2432160"/>
            <a:ext cx="0" cy="2657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66080" y="511164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161200" y="5089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391000" y="2475000"/>
            <a:ext cx="0" cy="2657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13400" y="412128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292880" y="345600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299200" y="50706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13440" y="54514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338880" y="5111640"/>
            <a:ext cx="279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236000" y="5111640"/>
            <a:ext cx="428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Times New Roman"/>
              </a:rPr>
              <a:t>j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728960" y="2004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488800" y="469584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6888240" y="2459160"/>
            <a:ext cx="0" cy="2657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864040" y="3994200"/>
            <a:ext cx="515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(t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373880" y="3303720"/>
            <a:ext cx="677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(t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Times New Roman"/>
              </a:rPr>
              <a:t>j+1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427720" y="1900080"/>
            <a:ext cx="2279520" cy="363600"/>
          </a:xfrm>
          <a:prstGeom prst="wedgeRoundRectCallout">
            <a:avLst>
              <a:gd name="adj1" fmla="val 26671"/>
              <a:gd name="adj2" fmla="val 388865"/>
              <a:gd name="adj3" fmla="val 16667"/>
            </a:avLst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Times New Roman"/>
              </a:rPr>
              <a:t>S(t)=at</a:t>
            </a:r>
            <a:r>
              <a:rPr b="0" lang="pt-BR" sz="16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pt-BR" sz="1600" spc="-1" strike="noStrike">
                <a:solidFill>
                  <a:srgbClr val="ff0000"/>
                </a:solidFill>
                <a:latin typeface="Times New Roman"/>
              </a:rPr>
              <a:t>+bt</a:t>
            </a:r>
            <a:r>
              <a:rPr b="0" lang="pt-BR" sz="1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pt-BR" sz="1600" spc="-1" strike="noStrike">
                <a:solidFill>
                  <a:srgbClr val="ff0000"/>
                </a:solidFill>
                <a:latin typeface="Times New Roman"/>
              </a:rPr>
              <a:t>+ct +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08280" y="6224760"/>
            <a:ext cx="21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MATLAB: bvp4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894320" y="2133720"/>
            <a:ext cx="423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Princípio do Máximo de Pontryagu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99720" y="274320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2. Princípio da Otima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95760" y="3276720"/>
            <a:ext cx="43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Busca Direta por Soluções Sub-ót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451160" y="1411200"/>
            <a:ext cx="61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Solução de Problemas de Controle Ót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277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894320" y="2133720"/>
            <a:ext cx="423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Princípio do Máximo de Pontryagu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99720" y="274320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2. Princípio da Otima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51160" y="1411200"/>
            <a:ext cx="61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Solução de Problemas de Controle Ót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285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"/>
          <p:cNvGrpSpPr/>
          <p:nvPr/>
        </p:nvGrpSpPr>
        <p:grpSpPr>
          <a:xfrm>
            <a:off x="2752560" y="2269800"/>
            <a:ext cx="2666880" cy="3990600"/>
            <a:chOff x="2752560" y="2269800"/>
            <a:chExt cx="2666880" cy="3990600"/>
          </a:xfrm>
        </p:grpSpPr>
        <p:grpSp>
          <p:nvGrpSpPr>
            <p:cNvPr id="290" name=""/>
            <p:cNvGrpSpPr/>
            <p:nvPr/>
          </p:nvGrpSpPr>
          <p:grpSpPr>
            <a:xfrm>
              <a:off x="2752560" y="3600000"/>
              <a:ext cx="666720" cy="1330200"/>
              <a:chOff x="2752560" y="3600000"/>
              <a:chExt cx="666720" cy="1330200"/>
            </a:xfrm>
          </p:grpSpPr>
          <p:sp>
            <p:nvSpPr>
              <p:cNvPr id="291" name=""/>
              <p:cNvSpPr/>
              <p:nvPr/>
            </p:nvSpPr>
            <p:spPr>
              <a:xfrm flipV="1">
                <a:off x="2752560" y="3600000"/>
                <a:ext cx="666720" cy="66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752560" y="4265280"/>
                <a:ext cx="666720" cy="66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3419280" y="2934720"/>
              <a:ext cx="666360" cy="1330200"/>
              <a:chOff x="3419280" y="2934720"/>
              <a:chExt cx="666360" cy="1330200"/>
            </a:xfrm>
          </p:grpSpPr>
          <p:sp>
            <p:nvSpPr>
              <p:cNvPr id="294" name=""/>
              <p:cNvSpPr/>
              <p:nvPr/>
            </p:nvSpPr>
            <p:spPr>
              <a:xfrm flipV="1">
                <a:off x="3419280" y="2934720"/>
                <a:ext cx="666360" cy="66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419280" y="3600000"/>
                <a:ext cx="666360" cy="66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3419280" y="4265280"/>
              <a:ext cx="666360" cy="1330200"/>
              <a:chOff x="3419280" y="4265280"/>
              <a:chExt cx="666360" cy="1330200"/>
            </a:xfrm>
          </p:grpSpPr>
          <p:sp>
            <p:nvSpPr>
              <p:cNvPr id="297" name=""/>
              <p:cNvSpPr/>
              <p:nvPr/>
            </p:nvSpPr>
            <p:spPr>
              <a:xfrm flipV="1">
                <a:off x="3419280" y="4265280"/>
                <a:ext cx="666360" cy="66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419280" y="4930560"/>
                <a:ext cx="666360" cy="66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4086000" y="2269800"/>
              <a:ext cx="666360" cy="1330200"/>
              <a:chOff x="4086000" y="2269800"/>
              <a:chExt cx="666360" cy="1330200"/>
            </a:xfrm>
          </p:grpSpPr>
          <p:sp>
            <p:nvSpPr>
              <p:cNvPr id="300" name=""/>
              <p:cNvSpPr/>
              <p:nvPr/>
            </p:nvSpPr>
            <p:spPr>
              <a:xfrm flipV="1">
                <a:off x="4086000" y="2269800"/>
                <a:ext cx="666360" cy="66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086000" y="2935080"/>
                <a:ext cx="666360" cy="66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4086000" y="3600000"/>
              <a:ext cx="666360" cy="1330200"/>
              <a:chOff x="4086000" y="3600000"/>
              <a:chExt cx="666360" cy="1330200"/>
            </a:xfrm>
          </p:grpSpPr>
          <p:sp>
            <p:nvSpPr>
              <p:cNvPr id="303" name=""/>
              <p:cNvSpPr/>
              <p:nvPr/>
            </p:nvSpPr>
            <p:spPr>
              <a:xfrm flipV="1">
                <a:off x="4086000" y="3600000"/>
                <a:ext cx="666360" cy="66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086000" y="4265280"/>
                <a:ext cx="666360" cy="66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4086000" y="4930200"/>
              <a:ext cx="666360" cy="1330200"/>
              <a:chOff x="4086000" y="4930200"/>
              <a:chExt cx="666360" cy="1330200"/>
            </a:xfrm>
          </p:grpSpPr>
          <p:sp>
            <p:nvSpPr>
              <p:cNvPr id="306" name=""/>
              <p:cNvSpPr/>
              <p:nvPr/>
            </p:nvSpPr>
            <p:spPr>
              <a:xfrm flipV="1">
                <a:off x="4086000" y="4930200"/>
                <a:ext cx="666360" cy="66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086000" y="5595480"/>
                <a:ext cx="666360" cy="66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4752720" y="2269800"/>
              <a:ext cx="666720" cy="1330200"/>
              <a:chOff x="4752720" y="2269800"/>
              <a:chExt cx="666720" cy="1330200"/>
            </a:xfrm>
          </p:grpSpPr>
          <p:sp>
            <p:nvSpPr>
              <p:cNvPr id="309" name=""/>
              <p:cNvSpPr/>
              <p:nvPr/>
            </p:nvSpPr>
            <p:spPr>
              <a:xfrm flipH="1" flipV="1">
                <a:off x="4752720" y="2269800"/>
                <a:ext cx="666720" cy="66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4752720" y="2935080"/>
                <a:ext cx="666720" cy="66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4752720" y="3600000"/>
              <a:ext cx="666720" cy="1330200"/>
              <a:chOff x="4752720" y="3600000"/>
              <a:chExt cx="666720" cy="1330200"/>
            </a:xfrm>
          </p:grpSpPr>
          <p:sp>
            <p:nvSpPr>
              <p:cNvPr id="312" name=""/>
              <p:cNvSpPr/>
              <p:nvPr/>
            </p:nvSpPr>
            <p:spPr>
              <a:xfrm flipH="1" flipV="1">
                <a:off x="4752720" y="3600000"/>
                <a:ext cx="666720" cy="66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4752720" y="4265280"/>
                <a:ext cx="666720" cy="66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4752720" y="4930200"/>
              <a:ext cx="666720" cy="1330200"/>
              <a:chOff x="4752720" y="4930200"/>
              <a:chExt cx="666720" cy="1330200"/>
            </a:xfrm>
          </p:grpSpPr>
          <p:sp>
            <p:nvSpPr>
              <p:cNvPr id="315" name=""/>
              <p:cNvSpPr/>
              <p:nvPr/>
            </p:nvSpPr>
            <p:spPr>
              <a:xfrm flipH="1" flipV="1">
                <a:off x="4752720" y="4930200"/>
                <a:ext cx="666720" cy="66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4752720" y="5595480"/>
                <a:ext cx="666720" cy="66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7" name=""/>
          <p:cNvSpPr/>
          <p:nvPr/>
        </p:nvSpPr>
        <p:spPr>
          <a:xfrm>
            <a:off x="2670120" y="4194000"/>
            <a:ext cx="15228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340080" y="3513240"/>
            <a:ext cx="152280" cy="152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002120" y="2857680"/>
            <a:ext cx="152280" cy="152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680000" y="2190600"/>
            <a:ext cx="152280" cy="152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333600" y="4856040"/>
            <a:ext cx="152640" cy="152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005360" y="4194000"/>
            <a:ext cx="152280" cy="152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78200" y="3524400"/>
            <a:ext cx="152640" cy="152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70280" y="4856040"/>
            <a:ext cx="152640" cy="152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05360" y="5526000"/>
            <a:ext cx="152280" cy="152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675320" y="6184800"/>
            <a:ext cx="152280" cy="152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40240" y="551988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40240" y="420048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353200" y="28638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31040" y="41130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 Black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553000" y="54496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 Black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518440" y="27712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 Black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60880" y="23126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049720" y="32428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62320" y="4998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56200" y="58719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502080" y="38890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038920" y="2295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41800" y="49971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049720" y="36478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164120" y="4508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65920" y="58719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486240" y="5202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024520" y="45460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81400" y="32112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72040" y="36367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489480" y="29667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503520" y="43365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09800" y="45399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30680" y="36651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57960" y="1883880"/>
            <a:ext cx="474480" cy="665280"/>
            <a:chOff x="4557960" y="1883880"/>
            <a:chExt cx="474480" cy="665280"/>
          </a:xfrm>
        </p:grpSpPr>
        <p:sp>
          <p:nvSpPr>
            <p:cNvPr id="352" name=""/>
            <p:cNvSpPr/>
            <p:nvPr/>
          </p:nvSpPr>
          <p:spPr>
            <a:xfrm>
              <a:off x="4557960" y="188388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8000"/>
                  </a:solidFill>
                  <a:latin typeface="Arial Black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816440" y="2331720"/>
              <a:ext cx="216000" cy="217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2559240" y="3839760"/>
            <a:ext cx="474480" cy="711720"/>
            <a:chOff x="2559240" y="3839760"/>
            <a:chExt cx="474480" cy="711720"/>
          </a:xfrm>
        </p:grpSpPr>
        <p:sp>
          <p:nvSpPr>
            <p:cNvPr id="355" name=""/>
            <p:cNvSpPr/>
            <p:nvPr/>
          </p:nvSpPr>
          <p:spPr>
            <a:xfrm>
              <a:off x="2559240" y="383976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8000"/>
                  </a:solidFill>
                  <a:latin typeface="Arial Black"/>
                </a:rPr>
                <a:t>1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818080" y="4334040"/>
              <a:ext cx="215640" cy="217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4540320" y="3136680"/>
            <a:ext cx="491760" cy="744840"/>
            <a:chOff x="4540320" y="3136680"/>
            <a:chExt cx="491760" cy="744840"/>
          </a:xfrm>
        </p:grpSpPr>
        <p:sp>
          <p:nvSpPr>
            <p:cNvPr id="358" name=""/>
            <p:cNvSpPr/>
            <p:nvPr/>
          </p:nvSpPr>
          <p:spPr>
            <a:xfrm>
              <a:off x="4540320" y="313668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8000"/>
                  </a:solidFill>
                  <a:latin typeface="Arial Black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816080" y="3664080"/>
              <a:ext cx="216000" cy="217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3837240" y="2525400"/>
            <a:ext cx="523800" cy="350640"/>
            <a:chOff x="3837240" y="2525400"/>
            <a:chExt cx="523800" cy="350640"/>
          </a:xfrm>
        </p:grpSpPr>
        <p:sp>
          <p:nvSpPr>
            <p:cNvPr id="361" name=""/>
            <p:cNvSpPr/>
            <p:nvPr/>
          </p:nvSpPr>
          <p:spPr>
            <a:xfrm>
              <a:off x="3837240" y="252540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8000"/>
                  </a:solidFill>
                  <a:latin typeface="Arial Black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4145040" y="2658600"/>
              <a:ext cx="216000" cy="217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4546800" y="4457520"/>
            <a:ext cx="473040" cy="420840"/>
            <a:chOff x="4546800" y="4457520"/>
            <a:chExt cx="473040" cy="420840"/>
          </a:xfrm>
        </p:grpSpPr>
        <p:sp>
          <p:nvSpPr>
            <p:cNvPr id="364" name=""/>
            <p:cNvSpPr/>
            <p:nvPr/>
          </p:nvSpPr>
          <p:spPr>
            <a:xfrm>
              <a:off x="4546800" y="44575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8000"/>
                  </a:solidFill>
                  <a:latin typeface="Arial Black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4803840" y="4660920"/>
              <a:ext cx="216000" cy="217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4527720" y="5810040"/>
            <a:ext cx="504720" cy="400320"/>
            <a:chOff x="4527720" y="5810040"/>
            <a:chExt cx="504720" cy="400320"/>
          </a:xfrm>
        </p:grpSpPr>
        <p:sp>
          <p:nvSpPr>
            <p:cNvPr id="367" name=""/>
            <p:cNvSpPr/>
            <p:nvPr/>
          </p:nvSpPr>
          <p:spPr>
            <a:xfrm>
              <a:off x="4527720" y="581004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8000"/>
                  </a:solidFill>
                  <a:latin typeface="Arial Black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4816440" y="5992920"/>
              <a:ext cx="216000" cy="217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3202200" y="3198600"/>
            <a:ext cx="496800" cy="344880"/>
            <a:chOff x="3202200" y="3198600"/>
            <a:chExt cx="496800" cy="344880"/>
          </a:xfrm>
        </p:grpSpPr>
        <p:sp>
          <p:nvSpPr>
            <p:cNvPr id="370" name=""/>
            <p:cNvSpPr/>
            <p:nvPr/>
          </p:nvSpPr>
          <p:spPr>
            <a:xfrm flipV="1">
              <a:off x="3483000" y="3326040"/>
              <a:ext cx="216000" cy="217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202200" y="319860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8000"/>
                  </a:solidFill>
                  <a:latin typeface="Arial Black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3875400" y="5154120"/>
            <a:ext cx="482400" cy="727200"/>
            <a:chOff x="3875400" y="5154120"/>
            <a:chExt cx="482400" cy="727200"/>
          </a:xfrm>
        </p:grpSpPr>
        <p:sp>
          <p:nvSpPr>
            <p:cNvPr id="373" name=""/>
            <p:cNvSpPr/>
            <p:nvPr/>
          </p:nvSpPr>
          <p:spPr>
            <a:xfrm>
              <a:off x="4141800" y="5663880"/>
              <a:ext cx="216000" cy="217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75400" y="51541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8000"/>
                  </a:solidFill>
                  <a:latin typeface="Arial Black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3882960" y="3806640"/>
            <a:ext cx="480600" cy="741600"/>
            <a:chOff x="3882960" y="3806640"/>
            <a:chExt cx="480600" cy="741600"/>
          </a:xfrm>
        </p:grpSpPr>
        <p:sp>
          <p:nvSpPr>
            <p:cNvPr id="376" name=""/>
            <p:cNvSpPr/>
            <p:nvPr/>
          </p:nvSpPr>
          <p:spPr>
            <a:xfrm>
              <a:off x="3882960" y="380664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8000"/>
                  </a:solidFill>
                  <a:latin typeface="Arial Black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147920" y="4330800"/>
              <a:ext cx="215640" cy="217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3202200" y="4439880"/>
            <a:ext cx="485640" cy="438480"/>
            <a:chOff x="3202200" y="4439880"/>
            <a:chExt cx="485640" cy="438480"/>
          </a:xfrm>
        </p:grpSpPr>
        <p:sp>
          <p:nvSpPr>
            <p:cNvPr id="379" name=""/>
            <p:cNvSpPr/>
            <p:nvPr/>
          </p:nvSpPr>
          <p:spPr>
            <a:xfrm flipV="1">
              <a:off x="3471840" y="4660920"/>
              <a:ext cx="216000" cy="217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202200" y="443988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8000"/>
                  </a:solidFill>
                  <a:latin typeface="Arial Black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382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2660040" y="1361160"/>
            <a:ext cx="37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Arial"/>
              </a:rPr>
              <a:t>Princípio da Otima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"/>
          <p:cNvGrpSpPr/>
          <p:nvPr/>
        </p:nvGrpSpPr>
        <p:grpSpPr>
          <a:xfrm>
            <a:off x="2559240" y="1883880"/>
            <a:ext cx="3383640" cy="4453200"/>
            <a:chOff x="2559240" y="1883880"/>
            <a:chExt cx="3383640" cy="4453200"/>
          </a:xfrm>
        </p:grpSpPr>
        <p:sp>
          <p:nvSpPr>
            <p:cNvPr id="388" name=""/>
            <p:cNvSpPr/>
            <p:nvPr/>
          </p:nvSpPr>
          <p:spPr>
            <a:xfrm flipV="1">
              <a:off x="2752560" y="3600000"/>
              <a:ext cx="666360" cy="665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52560" y="4265280"/>
              <a:ext cx="666360" cy="66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3419280" y="2934720"/>
              <a:ext cx="666360" cy="66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419280" y="3600000"/>
              <a:ext cx="666360" cy="665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3419280" y="4265280"/>
              <a:ext cx="666360" cy="66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19280" y="4930560"/>
              <a:ext cx="666360" cy="66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4086000" y="2269800"/>
              <a:ext cx="666360" cy="665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086000" y="2935080"/>
              <a:ext cx="666360" cy="66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4086000" y="3600000"/>
              <a:ext cx="666360" cy="665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086000" y="4265280"/>
              <a:ext cx="666360" cy="66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4086000" y="4930200"/>
              <a:ext cx="666360" cy="66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086000" y="5595480"/>
              <a:ext cx="666360" cy="665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4752360" y="2269800"/>
              <a:ext cx="666360" cy="665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4752360" y="2935080"/>
              <a:ext cx="666360" cy="66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 flipV="1">
              <a:off x="4752360" y="3600000"/>
              <a:ext cx="666360" cy="665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4752360" y="4265280"/>
              <a:ext cx="666360" cy="66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 flipV="1">
              <a:off x="4752360" y="4930200"/>
              <a:ext cx="666360" cy="66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752360" y="5595480"/>
              <a:ext cx="666360" cy="665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669760" y="4194000"/>
              <a:ext cx="152280" cy="1522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339720" y="3512880"/>
              <a:ext cx="152280" cy="1522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001760" y="2857320"/>
              <a:ext cx="151920" cy="1522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679640" y="2190600"/>
              <a:ext cx="151920" cy="1522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333600" y="485604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05000" y="419400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78200" y="3524040"/>
              <a:ext cx="151920" cy="1522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670280" y="485604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005000" y="5525640"/>
              <a:ext cx="151920" cy="1526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674960" y="6184440"/>
              <a:ext cx="151920" cy="1526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340240" y="551952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40240" y="4200120"/>
              <a:ext cx="15192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352840" y="28634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530680" y="411264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Arial Black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552640" y="5449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Arial Black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517720" y="277128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Arial Black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60520" y="23122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ff"/>
                  </a:solidFill>
                  <a:latin typeface="Arial Black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049360" y="32425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ff"/>
                  </a:solidFill>
                  <a:latin typeface="Arial Black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161960" y="49982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ff"/>
                  </a:solidFill>
                  <a:latin typeface="Arial Black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155480" y="58716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ff"/>
                  </a:solidFill>
                  <a:latin typeface="Arial Black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01720" y="38887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ff"/>
                  </a:solidFill>
                  <a:latin typeface="Arial Black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038200" y="22950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ff"/>
                  </a:solidFill>
                  <a:latin typeface="Arial Black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041440" y="49968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ff"/>
                  </a:solidFill>
                  <a:latin typeface="Arial Black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049360" y="36475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ff"/>
                  </a:solidFill>
                  <a:latin typeface="Arial Black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163400" y="45079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ff"/>
                  </a:solidFill>
                  <a:latin typeface="Arial Black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065200" y="58716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ff"/>
                  </a:solidFill>
                  <a:latin typeface="Arial Black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485520" y="52016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ff"/>
                  </a:solidFill>
                  <a:latin typeface="Arial Black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24160" y="45460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ff"/>
                  </a:solidFill>
                  <a:latin typeface="Arial Black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181040" y="32108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ff"/>
                  </a:solidFill>
                  <a:latin typeface="Arial Black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171320" y="36363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ff"/>
                  </a:solidFill>
                  <a:latin typeface="Arial Black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488760" y="2966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ff"/>
                  </a:solidFill>
                  <a:latin typeface="Arial Black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503160" y="43365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ff"/>
                  </a:solidFill>
                  <a:latin typeface="Arial Black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809440" y="45396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ff"/>
                  </a:solidFill>
                  <a:latin typeface="Arial Black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29960" y="36648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ff"/>
                  </a:solidFill>
                  <a:latin typeface="Arial Black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57240" y="188388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8000"/>
                  </a:solidFill>
                  <a:latin typeface="Arial Black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559240" y="383940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8000"/>
                  </a:solidFill>
                  <a:latin typeface="Arial Black"/>
                </a:rPr>
                <a:t>1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36520" y="252504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8000"/>
                  </a:solidFill>
                  <a:latin typeface="Arial Black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527360" y="580968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8000"/>
                  </a:solidFill>
                  <a:latin typeface="Arial Black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546440" y="445716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8000"/>
                  </a:solidFill>
                  <a:latin typeface="Arial Black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539960" y="31363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8000"/>
                  </a:solidFill>
                  <a:latin typeface="Arial Black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482640" y="3325680"/>
              <a:ext cx="215640" cy="217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4803480" y="4660560"/>
              <a:ext cx="215640" cy="217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816080" y="2331720"/>
              <a:ext cx="215640" cy="217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141440" y="5663880"/>
              <a:ext cx="215640" cy="217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817720" y="4333680"/>
              <a:ext cx="215280" cy="217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16080" y="3663720"/>
              <a:ext cx="215640" cy="217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4144680" y="2658240"/>
              <a:ext cx="215640" cy="2178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4816080" y="5992560"/>
              <a:ext cx="215640" cy="217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201840" y="319824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8000"/>
                  </a:solidFill>
                  <a:latin typeface="Arial Black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874680" y="51541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8000"/>
                  </a:solidFill>
                  <a:latin typeface="Arial Black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882600" y="380628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8000"/>
                  </a:solidFill>
                  <a:latin typeface="Arial Black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147920" y="4330440"/>
              <a:ext cx="215640" cy="217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3471480" y="4660560"/>
              <a:ext cx="215640" cy="217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201840" y="44395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8000"/>
                  </a:solidFill>
                  <a:latin typeface="Arial Black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461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2660040" y="1361160"/>
            <a:ext cx="37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Arial"/>
              </a:rPr>
              <a:t>Princípio da Otima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467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2660040" y="1361160"/>
            <a:ext cx="37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Arial"/>
              </a:rPr>
              <a:t>Princípio da Otima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451240" y="3165480"/>
            <a:ext cx="4398840" cy="2104920"/>
          </a:xfrm>
          <a:custGeom>
            <a:avLst/>
            <a:gdLst/>
            <a:ahLst/>
            <a:rect l="l" t="t" r="r" b="b"/>
            <a:pathLst>
              <a:path w="2771" h="1326">
                <a:moveTo>
                  <a:pt x="0" y="0"/>
                </a:moveTo>
                <a:cubicBezTo>
                  <a:pt x="555" y="45"/>
                  <a:pt x="1111" y="90"/>
                  <a:pt x="1573" y="311"/>
                </a:cubicBezTo>
                <a:cubicBezTo>
                  <a:pt x="2035" y="532"/>
                  <a:pt x="2403" y="929"/>
                  <a:pt x="2771" y="132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238720" y="3817800"/>
            <a:ext cx="1611360" cy="1452600"/>
          </a:xfrm>
          <a:custGeom>
            <a:avLst/>
            <a:gdLst/>
            <a:ahLst/>
            <a:rect l="l" t="t" r="r" b="b"/>
            <a:pathLst>
              <a:path w="1015" h="915">
                <a:moveTo>
                  <a:pt x="0" y="0"/>
                </a:moveTo>
                <a:cubicBezTo>
                  <a:pt x="43" y="303"/>
                  <a:pt x="87" y="606"/>
                  <a:pt x="256" y="759"/>
                </a:cubicBezTo>
                <a:cubicBezTo>
                  <a:pt x="425" y="912"/>
                  <a:pt x="720" y="913"/>
                  <a:pt x="1015" y="91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78600" y="3759120"/>
            <a:ext cx="152280" cy="152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355840" y="3105000"/>
            <a:ext cx="152280" cy="152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759720" y="5202360"/>
            <a:ext cx="152280" cy="152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289240" y="2762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9900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905520" y="52135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9900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235480" y="3429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9900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469400" y="382104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(t,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1894320" y="2133720"/>
            <a:ext cx="423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1. Princípio do Máximo de Pontryagu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899720" y="274320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2. Princípio da Otima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280600" y="3200400"/>
            <a:ext cx="28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Definir o Hamiltonian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2971800" y="3657600"/>
          <a:ext cx="3606840" cy="36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3657600"/>
                    <a:ext cx="36068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6" name=""/>
          <p:cNvSpPr/>
          <p:nvPr/>
        </p:nvSpPr>
        <p:spPr>
          <a:xfrm>
            <a:off x="1451160" y="1411200"/>
            <a:ext cx="61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Solução de Problemas de Controle Ót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488" name="LogoLNCC" descr=""/>
            <p:cNvPicPr/>
            <p:nvPr/>
          </p:nvPicPr>
          <p:blipFill>
            <a:blip r:embed="rId3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1894320" y="2133720"/>
            <a:ext cx="423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1. Princípio do Máximo de Pontryagu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899720" y="274320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2. Princípio da Otima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2971800" y="4724280"/>
          <a:ext cx="294624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4724280"/>
                    <a:ext cx="294624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"/>
          <p:cNvSpPr/>
          <p:nvPr/>
        </p:nvSpPr>
        <p:spPr>
          <a:xfrm>
            <a:off x="2280600" y="3200400"/>
            <a:ext cx="28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Definir o Hamiltonian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2971800" y="3657600"/>
          <a:ext cx="3606840" cy="3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3657600"/>
                    <a:ext cx="36068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9" name=""/>
          <p:cNvSpPr/>
          <p:nvPr/>
        </p:nvSpPr>
        <p:spPr>
          <a:xfrm>
            <a:off x="2284200" y="419112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Resolver a EDP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6002280" y="4648320"/>
            <a:ext cx="2359080" cy="1649520"/>
            <a:chOff x="6002280" y="4648320"/>
            <a:chExt cx="2359080" cy="1649520"/>
          </a:xfrm>
        </p:grpSpPr>
        <p:sp>
          <p:nvSpPr>
            <p:cNvPr id="501" name=""/>
            <p:cNvSpPr/>
            <p:nvPr/>
          </p:nvSpPr>
          <p:spPr>
            <a:xfrm>
              <a:off x="6002280" y="4648320"/>
              <a:ext cx="239760" cy="914400"/>
            </a:xfrm>
            <a:custGeom>
              <a:avLst/>
              <a:gdLst>
                <a:gd name="textAreaLeft" fmla="*/ 0 w 239760"/>
                <a:gd name="textAreaRight" fmla="*/ 86400 w 2397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465960" y="5473800"/>
              <a:ext cx="1895400" cy="824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468" y="2891"/>
                  </a:moveTo>
                  <a:lnTo>
                    <a:pt x="24929" y="2891"/>
                  </a:lnTo>
                  <a:lnTo>
                    <a:pt x="24929" y="-9234"/>
                  </a:lnTo>
                  <a:lnTo>
                    <a:pt x="-2494" y="-9640"/>
                  </a:lnTo>
                </a:path>
                <a:path w="21600" h="21600">
                  <a:moveTo>
                    <a:pt x="22468" y="0"/>
                  </a:moveTo>
                  <a:lnTo>
                    <a:pt x="22468" y="2160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Galerk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Elementos Fini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Diferenças Finit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504" name="LogoLNCC" descr=""/>
            <p:cNvPicPr/>
            <p:nvPr/>
          </p:nvPicPr>
          <p:blipFill>
            <a:blip r:embed="rId5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1451160" y="1411200"/>
            <a:ext cx="61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Solução de Problemas de Controle Ót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45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542880" y="1868400"/>
            <a:ext cx="808992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Horário: 13:30 - 15:00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6600"/>
                </a:solidFill>
                <a:uFillTx/>
                <a:latin typeface="Arial"/>
              </a:rPr>
              <a:t>Programaçã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09 fev 2004, segunda-feira: Introdução e Formulação Cláss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 fev 2004, terça-feira: Condições de Otimal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1 fev 2004, quarta-feira: LQ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2 fev 2004, quinta-feira:  Métodos Dire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3 fev 20043, sexta-feira: Tópicos Avanç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57160" y="14097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Controle Ótimo - Algumas Aplicações na Medic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1894320" y="2133720"/>
            <a:ext cx="423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Princípio do Máximo de Pontryagu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899720" y="274320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Princípio da Otima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895760" y="3276720"/>
            <a:ext cx="43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3. Busca Direta por Soluções Sub-ót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513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4222800" y="3846600"/>
            <a:ext cx="0" cy="725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922040" y="4648320"/>
            <a:ext cx="477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Tópico a ser abordado na quinta-feira, 12 fev 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451160" y="1411200"/>
            <a:ext cx="61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Solução de Problemas de Controle Ót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"/>
          <p:cNvGrpSpPr/>
          <p:nvPr/>
        </p:nvGrpSpPr>
        <p:grpSpPr>
          <a:xfrm>
            <a:off x="2190600" y="1314360"/>
            <a:ext cx="5029200" cy="4829400"/>
            <a:chOff x="2190600" y="1314360"/>
            <a:chExt cx="5029200" cy="4829400"/>
          </a:xfrm>
        </p:grpSpPr>
        <p:pic>
          <p:nvPicPr>
            <p:cNvPr id="521" name="inactivated-HIV" descr=""/>
            <p:cNvPicPr/>
            <p:nvPr/>
          </p:nvPicPr>
          <p:blipFill>
            <a:blip r:embed="rId1"/>
            <a:stretch/>
          </p:blipFill>
          <p:spPr>
            <a:xfrm>
              <a:off x="2297160" y="1450800"/>
              <a:ext cx="4692600" cy="469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2190600" y="1314360"/>
              <a:ext cx="5029200" cy="93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4257720" y="13780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H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133720" y="5924520"/>
            <a:ext cx="5105160" cy="36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526" name="LogoLNCC" descr=""/>
            <p:cNvPicPr/>
            <p:nvPr/>
          </p:nvPicPr>
          <p:blipFill>
            <a:blip r:embed="rId2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"/>
          <p:cNvGrpSpPr/>
          <p:nvPr/>
        </p:nvGrpSpPr>
        <p:grpSpPr>
          <a:xfrm>
            <a:off x="1295280" y="2662200"/>
            <a:ext cx="6400800" cy="3738600"/>
            <a:chOff x="1295280" y="2662200"/>
            <a:chExt cx="6400800" cy="3738600"/>
          </a:xfrm>
        </p:grpSpPr>
        <p:pic>
          <p:nvPicPr>
            <p:cNvPr id="531" name="cd4t" descr=""/>
            <p:cNvPicPr/>
            <p:nvPr/>
          </p:nvPicPr>
          <p:blipFill>
            <a:blip r:embed="rId1"/>
            <a:stretch/>
          </p:blipFill>
          <p:spPr>
            <a:xfrm>
              <a:off x="1714680" y="2662200"/>
              <a:ext cx="5959440" cy="373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1295280" y="5943600"/>
              <a:ext cx="6400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3439080" y="133992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Células CD4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535" name="LogoLNCC" descr=""/>
            <p:cNvPicPr/>
            <p:nvPr/>
          </p:nvPicPr>
          <p:blipFill>
            <a:blip r:embed="rId2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microelectrhiv" descr=""/>
          <p:cNvPicPr/>
          <p:nvPr/>
        </p:nvPicPr>
        <p:blipFill>
          <a:blip r:embed="rId1"/>
          <a:stretch/>
        </p:blipFill>
        <p:spPr>
          <a:xfrm>
            <a:off x="1874880" y="1908000"/>
            <a:ext cx="5462640" cy="431028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2219040" y="1359000"/>
            <a:ext cx="473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HIV atacando uma célula CD4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542" name="LogoLNCC" descr=""/>
            <p:cNvPicPr/>
            <p:nvPr/>
          </p:nvPicPr>
          <p:blipFill>
            <a:blip r:embed="rId2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cycleHIV" descr=""/>
          <p:cNvPicPr/>
          <p:nvPr/>
        </p:nvPicPr>
        <p:blipFill>
          <a:blip r:embed="rId1"/>
          <a:stretch/>
        </p:blipFill>
        <p:spPr>
          <a:xfrm>
            <a:off x="1643040" y="1539720"/>
            <a:ext cx="6372360" cy="4891320"/>
          </a:xfrm>
          <a:prstGeom prst="rect">
            <a:avLst/>
          </a:prstGeom>
          <a:ln w="0">
            <a:noFill/>
          </a:ln>
        </p:spPr>
      </p:pic>
      <p:grpSp>
        <p:nvGrpSpPr>
          <p:cNvPr id="547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548" name="LogoLNCC" descr=""/>
            <p:cNvPicPr/>
            <p:nvPr/>
          </p:nvPicPr>
          <p:blipFill>
            <a:blip r:embed="rId2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"/>
          <p:cNvGrpSpPr/>
          <p:nvPr/>
        </p:nvGrpSpPr>
        <p:grpSpPr>
          <a:xfrm>
            <a:off x="615960" y="2397240"/>
            <a:ext cx="3090960" cy="3685680"/>
            <a:chOff x="615960" y="2397240"/>
            <a:chExt cx="3090960" cy="3685680"/>
          </a:xfrm>
        </p:grpSpPr>
        <mc:AlternateContent>
          <mc:Choice xmlns:a14="http://schemas.microsoft.com/office/drawing/2010/main" Requires="a14">
            <p:sp>
              <p:nvSpPr>
                <p:cNvPr id="553" name=""/>
                <p:cNvSpPr txBox="1"/>
                <p:nvPr/>
              </p:nvSpPr>
              <p:spPr>
                <a:xfrm>
                  <a:off x="626040" y="2397240"/>
                  <a:ext cx="2927520" cy="166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λ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d>
                            <m:dPr>
                              <m:begChr m:val="{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d>
                        </m:e>
                        <m:e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ω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d>
                            <m:dPr>
                              <m:begChr m:val="{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e>
                        <m:e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ω</m:t>
                          </m:r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Nμ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d>
                            <m:dPr>
                              <m:begChr m:val="{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v</m:t>
                                  </m:r>
                                </m:sub>
                              </m:sSub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4" name=""/>
                <p:cNvSpPr txBox="1"/>
                <p:nvPr/>
              </p:nvSpPr>
              <p:spPr>
                <a:xfrm>
                  <a:off x="615960" y="4152960"/>
                  <a:ext cx="3090960" cy="192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S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sθ</m:t>
                              </m:r>
                            </m:num>
                            <m:den>
                              <m:r>
                                <m:t xml:space="preserve">θ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r>
                            <m:t xml:space="preserve">λ</m:t>
                          </m:r>
                          <m:r>
                            <m:t xml:space="preserve">=</m:t>
                          </m:r>
                          <m:r>
                            <m:t xml:space="preserve">λ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ax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4276800" y="2276640"/>
            <a:ext cx="4357440" cy="282564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3437280" y="1339920"/>
            <a:ext cx="260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Software SIMH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558" name="LogoLNCC" descr=""/>
            <p:cNvPicPr/>
            <p:nvPr/>
          </p:nvPicPr>
          <p:blipFill>
            <a:blip r:embed="rId2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2" name=""/>
          <p:cNvGraphicFramePr/>
          <p:nvPr/>
        </p:nvGraphicFramePr>
        <p:xfrm>
          <a:off x="1841400" y="1522440"/>
          <a:ext cx="5643720" cy="498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1400" y="1522440"/>
                    <a:ext cx="5643720" cy="49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4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565" name="LogoLNCC" descr=""/>
            <p:cNvPicPr/>
            <p:nvPr/>
          </p:nvPicPr>
          <p:blipFill>
            <a:blip r:embed="rId3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570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graphicFrame>
        <p:nvGraphicFramePr>
          <p:cNvPr id="574" name=""/>
          <p:cNvGraphicFramePr/>
          <p:nvPr/>
        </p:nvGraphicFramePr>
        <p:xfrm>
          <a:off x="2049480" y="2644920"/>
          <a:ext cx="5157720" cy="3558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49480" y="2644920"/>
                    <a:ext cx="5157720" cy="35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6" name=""/>
          <p:cNvSpPr/>
          <p:nvPr/>
        </p:nvSpPr>
        <p:spPr>
          <a:xfrm>
            <a:off x="1397880" y="1360440"/>
            <a:ext cx="66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Comparação entre Esquemas de Tra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578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graphicFrame>
        <p:nvGraphicFramePr>
          <p:cNvPr id="582" name=""/>
          <p:cNvGraphicFramePr/>
          <p:nvPr/>
        </p:nvGraphicFramePr>
        <p:xfrm>
          <a:off x="1987560" y="2452680"/>
          <a:ext cx="5310000" cy="3973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7560" y="2452680"/>
                    <a:ext cx="5310000" cy="39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4" name=""/>
          <p:cNvSpPr/>
          <p:nvPr/>
        </p:nvSpPr>
        <p:spPr>
          <a:xfrm>
            <a:off x="1397880" y="1360440"/>
            <a:ext cx="66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Comparação entre Esquemas de Tra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586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graphicFrame>
        <p:nvGraphicFramePr>
          <p:cNvPr id="590" name=""/>
          <p:cNvGraphicFramePr/>
          <p:nvPr/>
        </p:nvGraphicFramePr>
        <p:xfrm>
          <a:off x="2023920" y="2441520"/>
          <a:ext cx="5297760" cy="3559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23920" y="2441520"/>
                    <a:ext cx="5297760" cy="35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2" name=""/>
          <p:cNvSpPr/>
          <p:nvPr/>
        </p:nvSpPr>
        <p:spPr>
          <a:xfrm>
            <a:off x="1397880" y="1360440"/>
            <a:ext cx="66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Comparação entre Esquemas de Tra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74760" y="1405080"/>
            <a:ext cx="34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a Simplifi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521000" y="3705120"/>
            <a:ext cx="3025440" cy="704880"/>
            <a:chOff x="1521000" y="3705120"/>
            <a:chExt cx="3025440" cy="704880"/>
          </a:xfrm>
        </p:grpSpPr>
        <p:grpSp>
          <p:nvGrpSpPr>
            <p:cNvPr id="53" name=""/>
            <p:cNvGrpSpPr/>
            <p:nvPr/>
          </p:nvGrpSpPr>
          <p:grpSpPr>
            <a:xfrm>
              <a:off x="2297160" y="3705120"/>
              <a:ext cx="1322280" cy="704880"/>
              <a:chOff x="2297160" y="3705120"/>
              <a:chExt cx="1322280" cy="704880"/>
            </a:xfrm>
          </p:grpSpPr>
          <p:sp>
            <p:nvSpPr>
              <p:cNvPr id="54" name=""/>
              <p:cNvSpPr/>
              <p:nvPr/>
            </p:nvSpPr>
            <p:spPr>
              <a:xfrm>
                <a:off x="2297160" y="3705120"/>
                <a:ext cx="1322280" cy="704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53760" y="3760920"/>
                <a:ext cx="10922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istem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inâmic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1521000" y="4039920"/>
              <a:ext cx="776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630600" y="4033800"/>
              <a:ext cx="915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500120" y="3666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7440" y="36608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855800" y="2090880"/>
            <a:ext cx="2119320" cy="1990080"/>
            <a:chOff x="1855800" y="2090880"/>
            <a:chExt cx="2119320" cy="1990080"/>
          </a:xfrm>
        </p:grpSpPr>
        <p:sp>
          <p:nvSpPr>
            <p:cNvPr id="61" name=""/>
            <p:cNvSpPr/>
            <p:nvPr/>
          </p:nvSpPr>
          <p:spPr>
            <a:xfrm>
              <a:off x="2616120" y="2090880"/>
              <a:ext cx="77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J[u,x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90680" y="2712960"/>
              <a:ext cx="1322640" cy="70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54040" y="2768400"/>
              <a:ext cx="1227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alculad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 Cus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1890720" y="3077640"/>
              <a:ext cx="0" cy="96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90720" y="3087360"/>
              <a:ext cx="40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19440" y="3087360"/>
              <a:ext cx="32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36960" y="3078000"/>
              <a:ext cx="0" cy="96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55800" y="40050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98800" y="3998880"/>
              <a:ext cx="76320" cy="75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2973240" y="2465280"/>
              <a:ext cx="0" cy="244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4957200" y="5430960"/>
            <a:ext cx="2048400" cy="876240"/>
            <a:chOff x="4957200" y="5430960"/>
            <a:chExt cx="2048400" cy="876240"/>
          </a:xfrm>
        </p:grpSpPr>
        <p:sp>
          <p:nvSpPr>
            <p:cNvPr id="72" name=""/>
            <p:cNvSpPr/>
            <p:nvPr/>
          </p:nvSpPr>
          <p:spPr>
            <a:xfrm>
              <a:off x="4957200" y="5430960"/>
              <a:ext cx="764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Obter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3" name=""/>
            <p:cNvGraphicFramePr/>
            <p:nvPr/>
          </p:nvGraphicFramePr>
          <p:xfrm>
            <a:off x="5241960" y="5880240"/>
            <a:ext cx="1763640" cy="426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41960" y="5880240"/>
                      <a:ext cx="1763640" cy="42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5" name=""/>
          <p:cNvGrpSpPr/>
          <p:nvPr/>
        </p:nvGrpSpPr>
        <p:grpSpPr>
          <a:xfrm>
            <a:off x="4920840" y="2112840"/>
            <a:ext cx="3232440" cy="2903400"/>
            <a:chOff x="4920840" y="2112840"/>
            <a:chExt cx="3232440" cy="2903400"/>
          </a:xfrm>
        </p:grpSpPr>
        <p:sp>
          <p:nvSpPr>
            <p:cNvPr id="76" name=""/>
            <p:cNvSpPr/>
            <p:nvPr/>
          </p:nvSpPr>
          <p:spPr>
            <a:xfrm>
              <a:off x="4920840" y="2112840"/>
              <a:ext cx="271044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Dado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) Um sistema dinâm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) Um índice de desempenho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7" name=""/>
            <p:cNvGraphicFramePr/>
            <p:nvPr/>
          </p:nvGraphicFramePr>
          <p:xfrm>
            <a:off x="5659560" y="3095640"/>
            <a:ext cx="1197000" cy="831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59560" y="3095640"/>
                      <a:ext cx="1197000" cy="83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79" name=""/>
                <p:cNvSpPr txBox="1"/>
                <p:nvPr/>
              </p:nvSpPr>
              <p:spPr>
                <a:xfrm>
                  <a:off x="5076720" y="4552920"/>
                  <a:ext cx="3076560" cy="46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[</m:t>
                      </m:r>
                      <m:r>
                        <m:t xml:space="preserve">u</m:t>
                      </m:r>
                      <m:r>
                        <m:t xml:space="preserve">,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u</m:t>
                          </m:r>
                        </m:sup>
                      </m:sSup>
                      <m:r>
                        <m:t xml:space="preserve">]</m:t>
                      </m:r>
                      <m:r>
                        <m:t xml:space="preserve">=</m:t>
                      </m:r>
                      <m:r>
                        <m:t xml:space="preserve">θ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u</m:t>
                          </m:r>
                        </m:sup>
                      </m:sSup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c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u</m:t>
                              </m:r>
                            </m:sup>
                          </m:sSup>
                          <m:r>
                            <m:t xml:space="preserve">,</m:t>
                          </m:r>
                          <m:r>
                            <m:t xml:space="preserve">u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0" name=""/>
          <p:cNvSpPr/>
          <p:nvPr/>
        </p:nvSpPr>
        <p:spPr>
          <a:xfrm>
            <a:off x="1581120" y="5459400"/>
            <a:ext cx="2590920" cy="838080"/>
          </a:xfrm>
          <a:prstGeom prst="wedgeRoundRectCallout">
            <a:avLst>
              <a:gd name="adj1" fmla="val 80884"/>
              <a:gd name="adj2" fmla="val -18333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timização 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spaço de Fun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82" name="LogoLNCC" descr=""/>
            <p:cNvPicPr/>
            <p:nvPr/>
          </p:nvPicPr>
          <p:blipFill>
            <a:blip r:embed="rId5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594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graphicFrame>
        <p:nvGraphicFramePr>
          <p:cNvPr id="598" name=""/>
          <p:cNvGraphicFramePr/>
          <p:nvPr/>
        </p:nvGraphicFramePr>
        <p:xfrm>
          <a:off x="1969920" y="2589120"/>
          <a:ext cx="5373720" cy="3559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69920" y="2589120"/>
                    <a:ext cx="5373720" cy="35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1397880" y="1360440"/>
            <a:ext cx="66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Comparação entre Esquemas de Tra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602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graphicFrame>
        <p:nvGraphicFramePr>
          <p:cNvPr id="606" name=""/>
          <p:cNvGraphicFramePr/>
          <p:nvPr/>
        </p:nvGraphicFramePr>
        <p:xfrm>
          <a:off x="2160720" y="2033640"/>
          <a:ext cx="4789440" cy="4290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720" y="2033640"/>
                    <a:ext cx="4789440" cy="42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8" name=""/>
          <p:cNvSpPr/>
          <p:nvPr/>
        </p:nvSpPr>
        <p:spPr>
          <a:xfrm>
            <a:off x="1724040" y="1346040"/>
            <a:ext cx="57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Sensibilidade Paamétrica (Sub-Óti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610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2845080" y="3433680"/>
            <a:ext cx="37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6600"/>
                </a:solidFill>
                <a:latin typeface="Arial"/>
              </a:rPr>
              <a:t>Muito Obrigado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51160" y="1411200"/>
            <a:ext cx="61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ção de Problemas de Controle Ót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94320" y="2133720"/>
            <a:ext cx="423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Princípio do Máximo de Pontryagu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99720" y="274320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Princípio da Otima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95760" y="3276720"/>
            <a:ext cx="43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Busca Direta por Soluções Sub-ót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91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894320" y="2133720"/>
            <a:ext cx="423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. Princípio do Máximo de Pontryagu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99720" y="274320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Princípio da Otima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95760" y="3276720"/>
            <a:ext cx="43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Busca Direta por Soluções Sub-ót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51160" y="1411200"/>
            <a:ext cx="61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ção de Problemas de Controle Ót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100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894320" y="2133720"/>
            <a:ext cx="423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. Princípio do Máximo de Pontryagu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354760" y="2600280"/>
            <a:ext cx="4255200" cy="662040"/>
            <a:chOff x="2354760" y="2600280"/>
            <a:chExt cx="4255200" cy="662040"/>
          </a:xfrm>
        </p:grpSpPr>
        <p:sp>
          <p:nvSpPr>
            <p:cNvPr id="106" name=""/>
            <p:cNvSpPr/>
            <p:nvPr/>
          </p:nvSpPr>
          <p:spPr>
            <a:xfrm>
              <a:off x="2354760" y="2600280"/>
              <a:ext cx="288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. Definir o Hamiltonian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7" name=""/>
            <p:cNvGraphicFramePr/>
            <p:nvPr/>
          </p:nvGraphicFramePr>
          <p:xfrm>
            <a:off x="3039120" y="2936880"/>
            <a:ext cx="3570840" cy="325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39120" y="2936880"/>
                      <a:ext cx="3570840" cy="32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9" name=""/>
          <p:cNvSpPr/>
          <p:nvPr/>
        </p:nvSpPr>
        <p:spPr>
          <a:xfrm>
            <a:off x="1451160" y="1411200"/>
            <a:ext cx="61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ção de Problemas de Controle Ót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111" name="LogoLNCC" descr=""/>
            <p:cNvPicPr/>
            <p:nvPr/>
          </p:nvPicPr>
          <p:blipFill>
            <a:blip r:embed="rId3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894320" y="2133720"/>
            <a:ext cx="423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. Princípio do Máximo de Pontryagu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354760" y="2600280"/>
            <a:ext cx="4255200" cy="662040"/>
            <a:chOff x="2354760" y="2600280"/>
            <a:chExt cx="4255200" cy="662040"/>
          </a:xfrm>
        </p:grpSpPr>
        <p:sp>
          <p:nvSpPr>
            <p:cNvPr id="117" name=""/>
            <p:cNvSpPr/>
            <p:nvPr/>
          </p:nvSpPr>
          <p:spPr>
            <a:xfrm>
              <a:off x="2354760" y="2600280"/>
              <a:ext cx="288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. Definir o Hamiltonian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8" name=""/>
            <p:cNvGraphicFramePr/>
            <p:nvPr/>
          </p:nvGraphicFramePr>
          <p:xfrm>
            <a:off x="3039120" y="2936880"/>
            <a:ext cx="3570840" cy="325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39120" y="2936880"/>
                      <a:ext cx="3570840" cy="32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0" name=""/>
          <p:cNvGrpSpPr/>
          <p:nvPr/>
        </p:nvGrpSpPr>
        <p:grpSpPr>
          <a:xfrm>
            <a:off x="2300400" y="3348000"/>
            <a:ext cx="6115320" cy="792000"/>
            <a:chOff x="2300400" y="3348000"/>
            <a:chExt cx="6115320" cy="792000"/>
          </a:xfrm>
        </p:grpSpPr>
        <p:sp>
          <p:nvSpPr>
            <p:cNvPr id="121" name=""/>
            <p:cNvSpPr/>
            <p:nvPr/>
          </p:nvSpPr>
          <p:spPr>
            <a:xfrm>
              <a:off x="2300400" y="3348000"/>
              <a:ext cx="611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. Obter a expressão de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 que maximiza o Hamiltonian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2" name=""/>
            <p:cNvGraphicFramePr/>
            <p:nvPr/>
          </p:nvGraphicFramePr>
          <p:xfrm>
            <a:off x="2909880" y="3686400"/>
            <a:ext cx="2207520" cy="453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09880" y="3686400"/>
                      <a:ext cx="2207520" cy="45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4" name=""/>
          <p:cNvGrpSpPr/>
          <p:nvPr/>
        </p:nvGrpSpPr>
        <p:grpSpPr>
          <a:xfrm>
            <a:off x="5398920" y="3726000"/>
            <a:ext cx="2630520" cy="349200"/>
            <a:chOff x="5398920" y="3726000"/>
            <a:chExt cx="2630520" cy="349200"/>
          </a:xfrm>
        </p:grpSpPr>
        <p:graphicFrame>
          <p:nvGraphicFramePr>
            <p:cNvPr id="125" name=""/>
            <p:cNvGraphicFramePr/>
            <p:nvPr/>
          </p:nvGraphicFramePr>
          <p:xfrm>
            <a:off x="5973840" y="3726000"/>
            <a:ext cx="2055600" cy="349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73840" y="3726000"/>
                      <a:ext cx="2055600" cy="34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7" name=""/>
            <p:cNvSpPr/>
            <p:nvPr/>
          </p:nvSpPr>
          <p:spPr>
            <a:xfrm>
              <a:off x="5398920" y="3882960"/>
              <a:ext cx="460440" cy="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1451160" y="1411200"/>
            <a:ext cx="61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ção de Problemas de Controle Ót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130" name="LogoLNCC" descr=""/>
            <p:cNvPicPr/>
            <p:nvPr/>
          </p:nvPicPr>
          <p:blipFill>
            <a:blip r:embed="rId7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894320" y="2133720"/>
            <a:ext cx="423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. Princípio do Máximo de Pontryagu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354760" y="2600280"/>
            <a:ext cx="4255200" cy="662040"/>
            <a:chOff x="2354760" y="2600280"/>
            <a:chExt cx="4255200" cy="662040"/>
          </a:xfrm>
        </p:grpSpPr>
        <p:sp>
          <p:nvSpPr>
            <p:cNvPr id="136" name=""/>
            <p:cNvSpPr/>
            <p:nvPr/>
          </p:nvSpPr>
          <p:spPr>
            <a:xfrm>
              <a:off x="2354760" y="2600280"/>
              <a:ext cx="288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. Definir o Hamiltonian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7" name=""/>
            <p:cNvGraphicFramePr/>
            <p:nvPr/>
          </p:nvGraphicFramePr>
          <p:xfrm>
            <a:off x="3039120" y="2936880"/>
            <a:ext cx="3570840" cy="325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39120" y="2936880"/>
                      <a:ext cx="3570840" cy="32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9" name=""/>
          <p:cNvGrpSpPr/>
          <p:nvPr/>
        </p:nvGrpSpPr>
        <p:grpSpPr>
          <a:xfrm>
            <a:off x="2300400" y="3348000"/>
            <a:ext cx="6115320" cy="792000"/>
            <a:chOff x="2300400" y="3348000"/>
            <a:chExt cx="6115320" cy="792000"/>
          </a:xfrm>
        </p:grpSpPr>
        <p:sp>
          <p:nvSpPr>
            <p:cNvPr id="140" name=""/>
            <p:cNvSpPr/>
            <p:nvPr/>
          </p:nvSpPr>
          <p:spPr>
            <a:xfrm>
              <a:off x="2300400" y="3348000"/>
              <a:ext cx="611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. Obter a expressão de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 que maximiza o Hamiltonian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1" name=""/>
            <p:cNvGraphicFramePr/>
            <p:nvPr/>
          </p:nvGraphicFramePr>
          <p:xfrm>
            <a:off x="2909880" y="3686400"/>
            <a:ext cx="2207520" cy="453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09880" y="3686400"/>
                      <a:ext cx="2207520" cy="45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3" name=""/>
          <p:cNvSpPr/>
          <p:nvPr/>
        </p:nvSpPr>
        <p:spPr>
          <a:xfrm>
            <a:off x="2360520" y="4129200"/>
            <a:ext cx="224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Calcula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 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398920" y="3726000"/>
            <a:ext cx="2630520" cy="349200"/>
            <a:chOff x="5398920" y="3726000"/>
            <a:chExt cx="2630520" cy="349200"/>
          </a:xfrm>
        </p:grpSpPr>
        <p:graphicFrame>
          <p:nvGraphicFramePr>
            <p:cNvPr id="145" name=""/>
            <p:cNvGraphicFramePr/>
            <p:nvPr/>
          </p:nvGraphicFramePr>
          <p:xfrm>
            <a:off x="5973840" y="3726000"/>
            <a:ext cx="2055600" cy="349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73840" y="3726000"/>
                      <a:ext cx="2055600" cy="34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7" name=""/>
            <p:cNvSpPr/>
            <p:nvPr/>
          </p:nvSpPr>
          <p:spPr>
            <a:xfrm>
              <a:off x="5398920" y="3882960"/>
              <a:ext cx="460440" cy="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421320" y="5013360"/>
            <a:ext cx="1704240" cy="1139760"/>
            <a:chOff x="6421320" y="5013360"/>
            <a:chExt cx="1704240" cy="1139760"/>
          </a:xfrm>
        </p:grpSpPr>
        <p:grpSp>
          <p:nvGrpSpPr>
            <p:cNvPr id="149" name=""/>
            <p:cNvGrpSpPr/>
            <p:nvPr/>
          </p:nvGrpSpPr>
          <p:grpSpPr>
            <a:xfrm>
              <a:off x="6421320" y="5013360"/>
              <a:ext cx="658440" cy="1139760"/>
              <a:chOff x="6421320" y="5013360"/>
              <a:chExt cx="658440" cy="1139760"/>
            </a:xfrm>
          </p:grpSpPr>
          <p:sp>
            <p:nvSpPr>
              <p:cNvPr id="150" name=""/>
              <p:cNvSpPr/>
              <p:nvPr/>
            </p:nvSpPr>
            <p:spPr>
              <a:xfrm flipH="1">
                <a:off x="6421320" y="6115320"/>
                <a:ext cx="620640" cy="0"/>
              </a:xfrm>
              <a:prstGeom prst="line">
                <a:avLst/>
              </a:prstGeom>
              <a:ln w="7632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6459120" y="5045040"/>
                <a:ext cx="620640" cy="0"/>
              </a:xfrm>
              <a:prstGeom prst="line">
                <a:avLst/>
              </a:prstGeom>
              <a:ln w="7632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41960" y="5013360"/>
                <a:ext cx="0" cy="1139760"/>
              </a:xfrm>
              <a:prstGeom prst="line">
                <a:avLst/>
              </a:prstGeom>
              <a:ln w="76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7111080" y="5367600"/>
              <a:ext cx="101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TPBV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495680" y="4191120"/>
                <a:ext cx="221004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dλ</m:t>
                                </m:r>
                              </m:e>
                              <m:sup/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/>
                        </m:sSup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/>
                        </m:sSup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λ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495680" y="5257800"/>
                <a:ext cx="221004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/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λ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/>
                        </m:sSup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/>
                        </m:sSup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1451160" y="1411200"/>
            <a:ext cx="61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ção de Problemas de Controle Ót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158" name="LogoLNCC" descr=""/>
            <p:cNvPicPr/>
            <p:nvPr/>
          </p:nvPicPr>
          <p:blipFill>
            <a:blip r:embed="rId7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894320" y="2133720"/>
            <a:ext cx="423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. Princípio do Máximo de Pontryagu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ONTRIAG" descr=""/>
          <p:cNvPicPr/>
          <p:nvPr/>
        </p:nvPicPr>
        <p:blipFill>
          <a:blip r:embed="rId1"/>
          <a:stretch/>
        </p:blipFill>
        <p:spPr>
          <a:xfrm>
            <a:off x="1784520" y="2716200"/>
            <a:ext cx="5762520" cy="34545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451160" y="1411200"/>
            <a:ext cx="61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ção de Problemas de Controle Ót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166" name="LogoLNCC" descr=""/>
            <p:cNvPicPr/>
            <p:nvPr/>
          </p:nvPicPr>
          <p:blipFill>
            <a:blip r:embed="rId2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20:50:31Z</dcterms:created>
  <dc:creator>Takashi Yoneyama</dc:creator>
  <dc:description/>
  <dc:language>en-US</dc:language>
  <cp:lastModifiedBy>Otto Gottlieb</cp:lastModifiedBy>
  <dcterms:modified xsi:type="dcterms:W3CDTF">2004-02-03T18:25:28Z</dcterms:modified>
  <cp:revision>41</cp:revision>
  <dc:subject/>
  <dc:title>No Slide Title</dc:title>
</cp:coreProperties>
</file>