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9.wmf" ContentType="image/x-wmf"/>
  <Override PartName="/ppt/media/image39.wmf" ContentType="image/x-wmf"/>
  <Override PartName="/ppt/media/image30.png" ContentType="image/png"/>
  <Override PartName="/ppt/media/image13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4D1-590E-49DE-ABAD-70BE2B8E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0B5-2978-426F-8C86-EE49055B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E5E-BB20-4EC1-A07F-37983EB3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3AE-C21B-4537-9492-9D66861C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308-30B9-45D0-82F5-EC0B856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287-9C43-4E64-B989-7ACF77B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AC4-E151-4C73-B320-189BA5C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DFF-11A8-49C9-84B0-FD3973FE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2C4-826C-43ED-8B0D-83B4278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C8C-B61C-4D29-8654-3C0A57D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B87-2C97-4444-82A9-EC4F881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91C-ECFD-4FF6-85B7-73F2EFB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FD2-BF2D-42C6-9B4C-BE4EF6E9E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1 fe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36520" y="1854360"/>
            <a:ext cx="2718000" cy="2400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930320" y="4425840"/>
            <a:ext cx="6121440" cy="660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809720" y="42609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1144440" y="5394240"/>
            <a:ext cx="3416400" cy="11304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90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459240" y="13003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00280" y="2203560"/>
            <a:ext cx="2114280" cy="123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90720" y="2266920"/>
            <a:ext cx="2019240" cy="113040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2690280" y="3270240"/>
            <a:ext cx="2331360" cy="1954080"/>
            <a:chOff x="2690280" y="3270240"/>
            <a:chExt cx="2331360" cy="1954080"/>
          </a:xfrm>
        </p:grpSpPr>
        <p:sp>
          <p:nvSpPr>
            <p:cNvPr id="298" name=""/>
            <p:cNvSpPr/>
            <p:nvPr/>
          </p:nvSpPr>
          <p:spPr>
            <a:xfrm>
              <a:off x="2952720" y="3270240"/>
              <a:ext cx="819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2080" y="3270240"/>
              <a:ext cx="0" cy="857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2990880" y="4241880"/>
              <a:ext cx="18288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690280" y="4506840"/>
              <a:ext cx="23313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ão afeta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o, 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952720" y="2870280"/>
            <a:ext cx="3365640" cy="2971800"/>
            <a:chOff x="2952720" y="2870280"/>
            <a:chExt cx="3365640" cy="2971800"/>
          </a:xfrm>
        </p:grpSpPr>
        <p:sp>
          <p:nvSpPr>
            <p:cNvPr id="303" name=""/>
            <p:cNvSpPr/>
            <p:nvPr/>
          </p:nvSpPr>
          <p:spPr>
            <a:xfrm>
              <a:off x="2952720" y="2870280"/>
              <a:ext cx="31240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6800" y="2870280"/>
              <a:ext cx="0" cy="2457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4280" y="4984560"/>
              <a:ext cx="9525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7760" y="4984560"/>
              <a:ext cx="0" cy="343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5454720" y="5537160"/>
              <a:ext cx="8636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2971800" y="2451240"/>
            <a:ext cx="5137200" cy="4019400"/>
            <a:chOff x="2971800" y="2451240"/>
            <a:chExt cx="5137200" cy="4019400"/>
          </a:xfrm>
        </p:grpSpPr>
        <p:sp>
          <p:nvSpPr>
            <p:cNvPr id="309" name=""/>
            <p:cNvSpPr/>
            <p:nvPr/>
          </p:nvSpPr>
          <p:spPr>
            <a:xfrm>
              <a:off x="6458040" y="5651640"/>
              <a:ext cx="9525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91520" y="5651640"/>
              <a:ext cx="0" cy="361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469960"/>
              <a:ext cx="48196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2400" y="2451240"/>
              <a:ext cx="0" cy="3562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7130880" y="6165720"/>
              <a:ext cx="9781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15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59240" y="13003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0320" y="2449440"/>
            <a:ext cx="9781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683080" y="2409840"/>
            <a:ext cx="2496960" cy="368280"/>
            <a:chOff x="2683080" y="2409840"/>
            <a:chExt cx="2496960" cy="368280"/>
          </a:xfrm>
        </p:grpSpPr>
        <p:sp>
          <p:nvSpPr>
            <p:cNvPr id="322" name=""/>
            <p:cNvSpPr/>
            <p:nvPr/>
          </p:nvSpPr>
          <p:spPr>
            <a:xfrm>
              <a:off x="2683080" y="24098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jectur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4137120" y="2449440"/>
              <a:ext cx="1042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2011320" y="2602080"/>
            <a:ext cx="514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241280" y="3567240"/>
            <a:ext cx="3557880" cy="237492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27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459240" y="13003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7320" y="2549520"/>
            <a:ext cx="9781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710080" y="2509920"/>
            <a:ext cx="2496960" cy="368280"/>
            <a:chOff x="2710080" y="2509920"/>
            <a:chExt cx="2496960" cy="368280"/>
          </a:xfrm>
        </p:grpSpPr>
        <p:sp>
          <p:nvSpPr>
            <p:cNvPr id="334" name=""/>
            <p:cNvSpPr/>
            <p:nvPr/>
          </p:nvSpPr>
          <p:spPr>
            <a:xfrm>
              <a:off x="2710080" y="250992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jectur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4164120" y="2549160"/>
              <a:ext cx="104292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2038320" y="2701800"/>
            <a:ext cx="514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422360" y="3438360"/>
            <a:ext cx="6184800" cy="233712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39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459240" y="13003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50920" y="1838160"/>
            <a:ext cx="2717640" cy="1714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1086120" y="3648240"/>
            <a:ext cx="5751360" cy="3028320"/>
            <a:chOff x="1086120" y="3648240"/>
            <a:chExt cx="5751360" cy="302832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157400" y="4575240"/>
              <a:ext cx="320040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1144800" y="5933880"/>
              <a:ext cx="54356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086120" y="5570640"/>
              <a:ext cx="22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quação de Ricc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3200" y="3648240"/>
              <a:ext cx="0" cy="79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79640" y="3817800"/>
              <a:ext cx="48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olução do tipo Realimentação de E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52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459240" y="13003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5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378600" y="1344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Contí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415880" y="3852720"/>
            <a:ext cx="5353200" cy="1038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3917880" y="4782960"/>
            <a:ext cx="2266920" cy="571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1492200" y="5565600"/>
            <a:ext cx="4067280" cy="895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5429160" y="5673600"/>
            <a:ext cx="1505160" cy="64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1233360" y="2003400"/>
            <a:ext cx="5153040" cy="1552320"/>
            <a:chOff x="1233360" y="2003400"/>
            <a:chExt cx="5153040" cy="1552320"/>
          </a:xfrm>
        </p:grpSpPr>
        <p:pic>
          <p:nvPicPr>
            <p:cNvPr id="368" name="" descr=""/>
            <p:cNvPicPr/>
            <p:nvPr/>
          </p:nvPicPr>
          <p:blipFill>
            <a:blip r:embed="rId6"/>
            <a:stretch/>
          </p:blipFill>
          <p:spPr>
            <a:xfrm>
              <a:off x="1312920" y="2006640"/>
              <a:ext cx="498168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1355760" y="2595600"/>
              <a:ext cx="19908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8"/>
            <a:stretch/>
          </p:blipFill>
          <p:spPr>
            <a:xfrm>
              <a:off x="1335240" y="3189240"/>
              <a:ext cx="11905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233360" y="2003400"/>
              <a:ext cx="5153040" cy="155232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919680" y="4789440"/>
            <a:ext cx="0" cy="66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08480" y="4008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H-J-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7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030400" y="1449360"/>
            <a:ext cx="4591080" cy="1552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20560" y="3498840"/>
            <a:ext cx="4562640" cy="676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84280" y="4056120"/>
            <a:ext cx="170496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4522680" y="4525920"/>
            <a:ext cx="4219560" cy="657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4438800" y="5160960"/>
            <a:ext cx="4505040" cy="571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4465800" y="5654520"/>
            <a:ext cx="1400040" cy="486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638280" y="5892840"/>
            <a:ext cx="1743120" cy="4096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700200" y="6183360"/>
            <a:ext cx="1704960" cy="438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6200000">
            <a:off x="4585320" y="1247040"/>
            <a:ext cx="292320" cy="3659040"/>
          </a:xfrm>
          <a:custGeom>
            <a:avLst/>
            <a:gdLst>
              <a:gd name="textAreaLeft" fmla="*/ 186840 w 292320"/>
              <a:gd name="textAreaRight" fmla="*/ 292680 w 292320"/>
              <a:gd name="textAreaTop" fmla="*/ 95400 h 3659040"/>
              <a:gd name="textAreaBottom" fmla="*/ 3563640 h 36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759120" y="3279600"/>
            <a:ext cx="928800" cy="23364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0080" y="1625760"/>
            <a:ext cx="262080" cy="1292040"/>
          </a:xfrm>
          <a:custGeom>
            <a:avLst/>
            <a:gdLst>
              <a:gd name="textAreaLeft" fmla="*/ 0 w 262080"/>
              <a:gd name="textAreaRight" fmla="*/ 94680 w 26208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84880" y="2293920"/>
            <a:ext cx="333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04200" y="2292480"/>
            <a:ext cx="0" cy="1960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17520" y="5138640"/>
            <a:ext cx="392040" cy="362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06520" y="4761000"/>
            <a:ext cx="0" cy="377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595160" y="5311800"/>
            <a:ext cx="2205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49640" y="4673520"/>
            <a:ext cx="276120" cy="1278000"/>
          </a:xfrm>
          <a:custGeom>
            <a:avLst/>
            <a:gdLst>
              <a:gd name="textAreaLeft" fmla="*/ 176400 w 276120"/>
              <a:gd name="textAreaRight" fmla="*/ 276480 w 276120"/>
              <a:gd name="textAreaTop" fmla="*/ 33120 h 1278000"/>
              <a:gd name="textAreaBottom" fmla="*/ 1244880 h 12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1305720" y="3772800"/>
            <a:ext cx="262080" cy="1581120"/>
          </a:xfrm>
          <a:custGeom>
            <a:avLst/>
            <a:gdLst>
              <a:gd name="textAreaLeft" fmla="*/ 167400 w 262080"/>
              <a:gd name="textAreaRight" fmla="*/ 262440 w 262080"/>
              <a:gd name="textAreaTop" fmla="*/ 41040 h 1581120"/>
              <a:gd name="textAreaBottom" fmla="*/ 1540080 h 15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27040" y="5522760"/>
            <a:ext cx="0" cy="37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11480" y="1268280"/>
            <a:ext cx="685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RATAMENTOS DE CURTO E LONGO PRAZO NA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24160" y="2743200"/>
                <a:ext cx="4356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404000" y="5791320"/>
            <a:ext cx="6563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infected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 cel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tent infected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ctive infected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 ce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ee viruses H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ibidor de transcriptase rever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ibidor de prot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01320" y="1828800"/>
            <a:ext cx="700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o da dinâmica da AIDS devido a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AN W. Y. e WU H. Stochastic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f the Dynamics of CD4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T-Cell Infection by HIV and Some Monte Carlo Stud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Mathematical Biosciences. v.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147, pp.173 – 205, 199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324160" y="419112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θ</m:t>
                        </m:r>
                      </m:num>
                      <m:den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324160" y="4648320"/>
                <a:ext cx="28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324160" y="525780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0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752480" y="2514600"/>
                <a:ext cx="6072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226160" y="1981080"/>
            <a:ext cx="35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e de Desempenho para Curto Praz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10400" y="3352680"/>
            <a:ext cx="600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s pontos de equilíbrio s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t-BR" sz="1600" spc="-1" strike="noStrike">
                <a:solidFill>
                  <a:srgbClr val="ff3300"/>
                </a:solidFill>
                <a:latin typeface="Times New Roman"/>
              </a:rPr>
              <a:t>(462.828; 0; 0; 0)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; (4.07; 13.1; 131.04; 107241) ; (-70.62; 0; 0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752480" y="5029200"/>
                <a:ext cx="3505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QΔ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m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RΔ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1301040" y="4572000"/>
            <a:ext cx="35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e de Desempenho para Longo Praz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1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311480" y="1268280"/>
            <a:ext cx="685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RATAMENTOS DE CURTO E LONGO PRAZO NA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2228760" y="2000160"/>
          <a:ext cx="515772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2000160"/>
                    <a:ext cx="51577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24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311480" y="1268280"/>
            <a:ext cx="685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RATAMENTOS DE CURTO E LONGO PRAZO NA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2880" y="1868400"/>
            <a:ext cx="8089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orário: 13:30 - 15: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Progra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09 fev 2004, segunda-feira: Introdução e Formulação Clás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fev 2004, terça-feira: Condições de Otim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 fev 2004, quarta-feira: LQ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2 fev 2004, quinta-feira:  Métodos Di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 fev 20043, sexta-feira: Tópicos Avanç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14097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 - Algumas Aplicações na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752480" y="1962000"/>
          <a:ext cx="632484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62000"/>
                    <a:ext cx="632484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32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311480" y="1268280"/>
            <a:ext cx="6855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RATAMENTOS DE CURTO E LONGO PRAZO NA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3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45080" y="34336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6600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23280" y="37749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03480" y="4460760"/>
            <a:ext cx="125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6080" y="4078440"/>
            <a:ext cx="168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44040" y="4078440"/>
            <a:ext cx="168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63720" y="61484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1920" y="55436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03080" y="5189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560" y="48466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7200" y="48466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1440" y="44928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56760" y="41720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1120" y="431496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24960" y="624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37320" y="5645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4000" y="5645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7400" y="5645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3160" y="5291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5960" y="5291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5320" y="5291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3240" y="4595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5200" y="4537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57800" y="612144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0800" y="6121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7240" y="6121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6160" y="551664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77760" y="5516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2000" y="55166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17320" y="51624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4760" y="5162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6400" y="5162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92640" y="42879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5160" y="62294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3360" y="457524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3000" y="4270320"/>
            <a:ext cx="1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81240" y="6246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6246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46160" y="6246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95440" y="414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94640" y="459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4413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98640" y="42544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0360" y="4413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6680" y="4413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0360" y="42544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80640" y="4413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88560" y="45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20080" y="4533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44800" y="6145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90320" y="61452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9520" y="61452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7360" y="5540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9600" y="55404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8400" y="55404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34360" y="518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04000" y="51865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8400" y="518652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0560" y="4843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5160" y="4843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14560" y="43117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53920" y="43117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2760" y="43117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6360" y="4311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1960" y="5807160"/>
            <a:ext cx="2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MT Extra"/>
                <a:ea typeface="MT Extra"/>
              </a:rPr>
              <a:t>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46280" y="1922400"/>
            <a:ext cx="271764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6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549960" y="13302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LQR Dis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74080" y="1314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4120" y="36957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01320" y="6194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480" y="5845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7800" y="5494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0320" y="51451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1160" y="47386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6800" y="47386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57080" y="42102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61480" y="6296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0320" y="5946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44080" y="5595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0320" y="5595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0120" y="5086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20120" y="5246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1480" y="5086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0320" y="5246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1000" y="4311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7040" y="4311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44160" y="4437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68400" y="4432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2080" y="44323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9640" y="452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04320" y="4522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5760" y="616752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9920" y="581832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81600" y="546732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4400" y="511812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9800" y="51181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60680" y="41832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28280" y="6191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8280" y="58420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0880" y="54910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28280" y="54910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280" y="51418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8280" y="51418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14040" y="4735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28640" y="473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8160" y="4206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95000" y="4206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0760" y="4424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07480" y="4429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19120" y="2989440"/>
            <a:ext cx="4181760" cy="3334680"/>
            <a:chOff x="4119120" y="2989440"/>
            <a:chExt cx="4181760" cy="3334680"/>
          </a:xfrm>
        </p:grpSpPr>
        <p:sp>
          <p:nvSpPr>
            <p:cNvPr id="164" name=""/>
            <p:cNvSpPr/>
            <p:nvPr/>
          </p:nvSpPr>
          <p:spPr>
            <a:xfrm>
              <a:off x="4876920" y="4210200"/>
              <a:ext cx="1828800" cy="182880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14760" y="5124600"/>
              <a:ext cx="344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772240" y="3142800"/>
              <a:ext cx="0" cy="318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29840" y="510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44680" y="46846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44200" y="298944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86360" y="3467160"/>
              <a:ext cx="1695600" cy="1587600"/>
            </a:xfrm>
            <a:custGeom>
              <a:avLst/>
              <a:gdLst/>
              <a:ahLst/>
              <a:rect l="l" t="t" r="r" b="b"/>
              <a:pathLst>
                <a:path w="1068" h="1000">
                  <a:moveTo>
                    <a:pt x="0" y="0"/>
                  </a:moveTo>
                  <a:cubicBezTo>
                    <a:pt x="34" y="140"/>
                    <a:pt x="26" y="680"/>
                    <a:pt x="204" y="840"/>
                  </a:cubicBezTo>
                  <a:cubicBezTo>
                    <a:pt x="382" y="1000"/>
                    <a:pt x="888" y="935"/>
                    <a:pt x="1068" y="96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82320" y="3008160"/>
              <a:ext cx="100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z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72240" y="3638520"/>
              <a:ext cx="1447560" cy="148608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72240" y="4000680"/>
              <a:ext cx="1047600" cy="114300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2240" y="4362480"/>
              <a:ext cx="723960" cy="743040"/>
            </a:xfrm>
            <a:prstGeom prst="line">
              <a:avLst/>
            </a:prstGeom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19640" y="47052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91480" y="3960720"/>
              <a:ext cx="140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z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+ z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= c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943240" y="3276720"/>
              <a:ext cx="72396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33640" y="4229280"/>
              <a:ext cx="343080" cy="190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508800" y="5911920"/>
              <a:ext cx="10792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H="1" flipV="1">
              <a:off x="6572160" y="5600520"/>
              <a:ext cx="247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9120" y="42656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ó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71960" y="4514760"/>
              <a:ext cx="11048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68520" y="2095560"/>
            <a:ext cx="863640" cy="14605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85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41520" y="12859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dições de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74880" y="3193920"/>
            <a:ext cx="33685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(z+h) = J(z) + 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+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) | h &gt; ~ J(z+h) - J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35000" y="4719600"/>
            <a:ext cx="6083280" cy="1714320"/>
            <a:chOff x="1035000" y="4719600"/>
            <a:chExt cx="6083280" cy="1714320"/>
          </a:xfrm>
        </p:grpSpPr>
        <p:sp>
          <p:nvSpPr>
            <p:cNvPr id="192" name=""/>
            <p:cNvSpPr/>
            <p:nvPr/>
          </p:nvSpPr>
          <p:spPr>
            <a:xfrm>
              <a:off x="2247840" y="4719600"/>
              <a:ext cx="0" cy="87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035000" y="5786280"/>
              <a:ext cx="6083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2355840" y="4948200"/>
              <a:ext cx="30607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5200560" y="3301920"/>
            <a:ext cx="3355200" cy="2641320"/>
            <a:chOff x="5200560" y="3301920"/>
            <a:chExt cx="3355200" cy="2641320"/>
          </a:xfrm>
        </p:grpSpPr>
        <p:sp>
          <p:nvSpPr>
            <p:cNvPr id="196" name=""/>
            <p:cNvSpPr/>
            <p:nvPr/>
          </p:nvSpPr>
          <p:spPr>
            <a:xfrm>
              <a:off x="5200560" y="4052520"/>
              <a:ext cx="2590920" cy="1486080"/>
            </a:xfrm>
            <a:custGeom>
              <a:avLst/>
              <a:gdLst/>
              <a:ahLst/>
              <a:rect l="l" t="t" r="r" b="b"/>
              <a:pathLst>
                <a:path w="1632" h="936">
                  <a:moveTo>
                    <a:pt x="0" y="0"/>
                  </a:moveTo>
                  <a:cubicBezTo>
                    <a:pt x="422" y="84"/>
                    <a:pt x="844" y="168"/>
                    <a:pt x="1116" y="324"/>
                  </a:cubicBezTo>
                  <a:cubicBezTo>
                    <a:pt x="1388" y="480"/>
                    <a:pt x="1510" y="708"/>
                    <a:pt x="1632" y="936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0640" y="4357440"/>
              <a:ext cx="482760" cy="190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7120" y="3411000"/>
              <a:ext cx="307800" cy="94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9880" y="43002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10480" y="43369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J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51600" y="3301920"/>
              <a:ext cx="64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27840" y="4516200"/>
              <a:ext cx="114480" cy="114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52040" y="424152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J(z+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~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J(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53160" y="40701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10440" y="557496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curva de ní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257960" y="5214600"/>
              <a:ext cx="304920" cy="324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87640" y="1814400"/>
            <a:ext cx="92736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09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622680" y="4146480"/>
            <a:ext cx="2424240" cy="1038240"/>
          </a:xfrm>
          <a:custGeom>
            <a:avLst/>
            <a:gdLst/>
            <a:ahLst/>
            <a:rect l="l" t="t" r="r" b="b"/>
            <a:pathLst>
              <a:path w="1527" h="654">
                <a:moveTo>
                  <a:pt x="0" y="9"/>
                </a:moveTo>
                <a:cubicBezTo>
                  <a:pt x="309" y="0"/>
                  <a:pt x="609" y="54"/>
                  <a:pt x="891" y="163"/>
                </a:cubicBezTo>
                <a:cubicBezTo>
                  <a:pt x="1173" y="272"/>
                  <a:pt x="1363" y="445"/>
                  <a:pt x="1527" y="6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992840" y="3425760"/>
            <a:ext cx="307800" cy="94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5600" y="43149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0840" y="3316320"/>
            <a:ext cx="7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0800" y="52657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(z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curva de nível de h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00160" y="227664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V="1">
            <a:off x="3087720" y="240948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63720" y="606744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51080" y="55706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12280" y="20844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24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441520" y="12859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dições de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30400" y="255276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V="1">
            <a:off x="3117960" y="268560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93960" y="634356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80960" y="5846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2520" y="23605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97360" y="3668760"/>
            <a:ext cx="1295640" cy="72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41760" y="3290760"/>
            <a:ext cx="1905120" cy="1257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49800" y="2924280"/>
            <a:ext cx="2552760" cy="179064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1640" y="2581200"/>
            <a:ext cx="3348000" cy="2295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704840" y="4653000"/>
            <a:ext cx="303480" cy="938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9760" y="5524560"/>
            <a:ext cx="64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65840" y="459108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25520" y="50626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rva de nível de J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595920" y="4307040"/>
            <a:ext cx="376560" cy="8222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44" name="LogoLNCC" descr=""/>
            <p:cNvPicPr/>
            <p:nvPr/>
          </p:nvPicPr>
          <p:blipFill>
            <a:blip r:embed="rId2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41520" y="12859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dições de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427720" y="5353200"/>
            <a:ext cx="3159000" cy="46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28880" y="2435400"/>
            <a:ext cx="927000" cy="1104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V="1">
            <a:off x="3016080" y="2568240"/>
            <a:ext cx="0" cy="375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2440" y="6226200"/>
            <a:ext cx="506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79440" y="57294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1000" y="2243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48280" y="2806560"/>
            <a:ext cx="2552400" cy="179100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603680" y="4535640"/>
            <a:ext cx="303120" cy="9381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48240" y="5407200"/>
            <a:ext cx="64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3960" y="447372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51400" y="4305240"/>
            <a:ext cx="2423880" cy="1038240"/>
          </a:xfrm>
          <a:custGeom>
            <a:avLst/>
            <a:gdLst/>
            <a:ahLst/>
            <a:rect l="l" t="t" r="r" b="b"/>
            <a:pathLst>
              <a:path w="1527" h="654">
                <a:moveTo>
                  <a:pt x="0" y="9"/>
                </a:moveTo>
                <a:cubicBezTo>
                  <a:pt x="309" y="0"/>
                  <a:pt x="609" y="54"/>
                  <a:pt x="891" y="163"/>
                </a:cubicBezTo>
                <a:cubicBezTo>
                  <a:pt x="1173" y="272"/>
                  <a:pt x="1363" y="445"/>
                  <a:pt x="1527" y="6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921200" y="3584520"/>
            <a:ext cx="308160" cy="94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447372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89560" y="3475080"/>
            <a:ext cx="74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42880" y="422604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546880" y="5383080"/>
            <a:ext cx="2933640" cy="3682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66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441520" y="12859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dições de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492200" y="2940120"/>
            <a:ext cx="2070000" cy="266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66040" y="23860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do-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3320" y="342432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 que as expressões anteriores corresponde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243800" y="5251320"/>
            <a:ext cx="5770800" cy="958680"/>
            <a:chOff x="1243800" y="5251320"/>
            <a:chExt cx="5770800" cy="958680"/>
          </a:xfrm>
        </p:grpSpPr>
        <p:sp>
          <p:nvSpPr>
            <p:cNvPr id="275" name=""/>
            <p:cNvSpPr/>
            <p:nvPr/>
          </p:nvSpPr>
          <p:spPr>
            <a:xfrm>
              <a:off x="1390680" y="5733720"/>
              <a:ext cx="2476440" cy="47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43800" y="5251320"/>
              <a:ext cx="57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nto, a condição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(necessária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e otimalidade é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1490760" y="5786280"/>
              <a:ext cx="219708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461960" y="4003560"/>
            <a:ext cx="2476800" cy="64764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80" name="LogoLNCC" descr=""/>
            <p:cNvPicPr/>
            <p:nvPr/>
          </p:nvPicPr>
          <p:blipFill>
            <a:blip r:embed="rId4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441520" y="128592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dições de Otim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Sato</cp:lastModifiedBy>
  <dcterms:modified xsi:type="dcterms:W3CDTF">2004-02-01T13:55:37Z</dcterms:modified>
  <cp:revision>41</cp:revision>
  <dc:subject/>
  <dc:title>No Slide Title</dc:title>
</cp:coreProperties>
</file>