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9.jpeg" ContentType="image/jpeg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7.jpeg" ContentType="image/jpeg"/>
  <Override PartName="/ppt/media/image10.png" ContentType="image/pn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3B8-AF11-4E90-8725-D4043BCC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44D-ED7E-4406-BD35-E6654ABA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B3E-DF54-47F1-8EAB-AD4BE5E3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D80-25AA-45C8-A40E-2293D1CC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F92-FA63-474C-9E87-2C466969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A8C-3CDD-4221-ABE3-2C1B01B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40F-32D5-48D1-A9E5-7A7704B8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720-D75B-462A-A45D-91CA047E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CAA-60C1-47DD-A7EC-B90AD41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6EC-2FA0-4D24-B786-883ED67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9EC-D2D2-4711-B993-F050EEE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406-62FE-426F-9FCB-81B14904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1860-1B3A-42D0-8613-A33BF6F60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2 fe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3733920"/>
            <a:ext cx="48769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xemplo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,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7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 0 1 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5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,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9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15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1 0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09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343400"/>
            <a:ext cx="48769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 0 1 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0 0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1 1 0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1 0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- -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N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 1 1 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 0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21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7600" y="4267080"/>
            <a:ext cx="674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dois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e gerar proles mediante permu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70680" y="4800600"/>
            <a:ext cx="32169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10,07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1 0 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0 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(05,09)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1 0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4800600"/>
            <a:ext cx="3696480" cy="870120"/>
            <a:chOff x="4876920" y="4800600"/>
            <a:chExt cx="3696480" cy="870120"/>
          </a:xfrm>
        </p:grpSpPr>
        <p:sp>
          <p:nvSpPr>
            <p:cNvPr id="234" name=""/>
            <p:cNvSpPr/>
            <p:nvPr/>
          </p:nvSpPr>
          <p:spPr>
            <a:xfrm>
              <a:off x="5385600" y="4800600"/>
              <a:ext cx="318780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1 0 1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1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1 0 0 1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11,0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 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0 0 1 1 1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04,07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5257800"/>
              <a:ext cx="46008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37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7600" y="4267080"/>
            <a:ext cx="674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dois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e gerar proles mediante permu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4360" y="4722840"/>
            <a:ext cx="37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roduzir mutação nos p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51680" y="5105520"/>
            <a:ext cx="3188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1 0 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0 1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11,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0 1 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|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0 0 1 1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(04,0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76920" y="5105520"/>
            <a:ext cx="3814920" cy="870120"/>
            <a:chOff x="4876920" y="5105520"/>
            <a:chExt cx="3814920" cy="870120"/>
          </a:xfrm>
        </p:grpSpPr>
        <p:sp>
          <p:nvSpPr>
            <p:cNvPr id="251" name=""/>
            <p:cNvSpPr/>
            <p:nvPr/>
          </p:nvSpPr>
          <p:spPr>
            <a:xfrm>
              <a:off x="5393880" y="5105520"/>
              <a:ext cx="329796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1m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1 0 1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1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1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 1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11,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2m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[ 0 1 0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|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 0 1 1</a:t>
              </a: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 0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]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 (04,06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6920" y="5562720"/>
              <a:ext cx="46008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54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676520" y="3119400"/>
            <a:ext cx="55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3557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7960" y="42721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7960" y="47228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3280" y="51814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lizar seleção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68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676520" y="3119400"/>
            <a:ext cx="55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3557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7960" y="42721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7960" y="47228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3280" y="51814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lizar seleção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2743200"/>
            <a:ext cx="342900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1 0 1 0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0 1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0 0 0 1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1 1 1 0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[ 0 1 0 1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1 0 0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- -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N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[ 0 1 1 1 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|  1 0 1 1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N+1: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[ 0 1 1 1 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|  1 0 1 1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J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N+1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N+2: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[ 0 1 1 1 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|  1 0 1 1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J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N+2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&lt; 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&lt; .... &lt; 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N+1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&lt; J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83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676520" y="3119400"/>
            <a:ext cx="55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present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3557520"/>
            <a:ext cx="647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população com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 representar na forma [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7600" y="4267080"/>
            <a:ext cx="674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dois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e gerar proles mediante permu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4360" y="4722840"/>
            <a:ext cx="37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roduzir mutação nos p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3280" y="51814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lizar seleção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3280" y="5638680"/>
            <a:ext cx="46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critério_de_parada = OK Então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Retornar ao Pass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98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32440" y="13273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êmpera Si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08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676520" y="3119400"/>
            <a:ext cx="55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zer k :=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3505320"/>
            <a:ext cx="5578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uma direção de decréscim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ritério_de_parada = OK, Então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62120" y="4176720"/>
            <a:ext cx="557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uma direção aleatória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62120" y="4557600"/>
            <a:ext cx="624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lcular V = J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- J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2120" y="4938840"/>
            <a:ext cx="6705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V &lt; 0 Entã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com probabilidade exp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62120" y="5589720"/>
            <a:ext cx="5578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imizar na direçã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k := k +1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ornar ao Passo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22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232440" y="13273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êmpera Simu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81960" y="13460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32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42880" y="1868400"/>
            <a:ext cx="80899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Horário: 13:30 - 15: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Program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09 fev 2004, segunda-feira: Introdução e Formulação Clás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0 fev 2004, terça-feira: Condições de Otim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1 fev 2004, quarta-feira: LQ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 fev 2004, quinta-feira:  Métodos Dir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 fev 20043, sexta-feira: Tópicos Avanç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7160" y="14097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 Ótimo - Algumas Aplicações na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4610520" y="3476520"/>
            <a:ext cx="3040920" cy="3015000"/>
            <a:chOff x="4610520" y="3476520"/>
            <a:chExt cx="3040920" cy="3015000"/>
          </a:xfrm>
        </p:grpSpPr>
        <p:sp>
          <p:nvSpPr>
            <p:cNvPr id="337" name=""/>
            <p:cNvSpPr/>
            <p:nvPr/>
          </p:nvSpPr>
          <p:spPr>
            <a:xfrm>
              <a:off x="5060880" y="3476520"/>
              <a:ext cx="2590560" cy="25905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83120" y="387180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472000" y="4253760"/>
              <a:ext cx="487080" cy="2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38680" y="397800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5040" y="518148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06800" y="480204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8040" y="454320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43560" y="536544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34120" y="367488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95680" y="443700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3120" y="4816080"/>
              <a:ext cx="120600" cy="120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08800" y="492264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87840" y="5854320"/>
              <a:ext cx="120600" cy="120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46680" y="509076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02440" y="573228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16440" y="592920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560" y="361296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21000" y="5181480"/>
              <a:ext cx="12060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24480" y="4008240"/>
              <a:ext cx="120240" cy="120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520" y="3673080"/>
              <a:ext cx="136440" cy="244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76800" y="5252760"/>
              <a:ext cx="50400" cy="46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5425920" y="5243400"/>
              <a:ext cx="66240" cy="19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776920" y="5563800"/>
              <a:ext cx="29520" cy="395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6203880" y="5776560"/>
              <a:ext cx="242640" cy="136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827760" y="5776560"/>
              <a:ext cx="366480" cy="18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11840" y="5162400"/>
              <a:ext cx="223560" cy="33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05520" y="5259240"/>
              <a:ext cx="396360" cy="6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5395320" y="4846320"/>
              <a:ext cx="477720" cy="2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54640" y="4609800"/>
              <a:ext cx="9000" cy="405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6691320" y="4511520"/>
              <a:ext cx="15192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71840" y="4998960"/>
              <a:ext cx="380520" cy="107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234120" y="4044600"/>
              <a:ext cx="353520" cy="254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949720" y="3627360"/>
              <a:ext cx="9360" cy="288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24480" y="3779640"/>
              <a:ext cx="25848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208280" y="4065480"/>
              <a:ext cx="75960" cy="538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10360" y="59814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10520" y="44272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59440" y="421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43240" y="17524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114640" y="227340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227340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8" name=""/>
          <p:cNvGrpSpPr/>
          <p:nvPr/>
        </p:nvGrpSpPr>
        <p:grpSpPr>
          <a:xfrm>
            <a:off x="1523880" y="2971800"/>
            <a:ext cx="6553080" cy="680040"/>
            <a:chOff x="1523880" y="2971800"/>
            <a:chExt cx="6553080" cy="680040"/>
          </a:xfrm>
        </p:grpSpPr>
        <p:sp>
          <p:nvSpPr>
            <p:cNvPr id="379" name=""/>
            <p:cNvSpPr/>
            <p:nvPr/>
          </p:nvSpPr>
          <p:spPr>
            <a:xfrm>
              <a:off x="1523880" y="2971800"/>
              <a:ext cx="55782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0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ar N partíc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de, J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re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J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4296960" y="3002040"/>
                  <a:ext cx="37800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82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081960" y="13460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43240" y="17524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114640" y="227340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227340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1523880" y="2971800"/>
            <a:ext cx="6553080" cy="680040"/>
            <a:chOff x="1523880" y="2971800"/>
            <a:chExt cx="6553080" cy="680040"/>
          </a:xfrm>
        </p:grpSpPr>
        <p:sp>
          <p:nvSpPr>
            <p:cNvPr id="391" name=""/>
            <p:cNvSpPr/>
            <p:nvPr/>
          </p:nvSpPr>
          <p:spPr>
            <a:xfrm>
              <a:off x="1523880" y="2971800"/>
              <a:ext cx="55782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0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ar N partíc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de, J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re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J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96960" y="3002040"/>
                  <a:ext cx="37800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3" name=""/>
          <p:cNvGrpSpPr/>
          <p:nvPr/>
        </p:nvGrpSpPr>
        <p:grpSpPr>
          <a:xfrm>
            <a:off x="1539720" y="4417920"/>
            <a:ext cx="5925960" cy="396720"/>
            <a:chOff x="1539720" y="4417920"/>
            <a:chExt cx="5925960" cy="396720"/>
          </a:xfrm>
        </p:grpSpPr>
        <p:sp>
          <p:nvSpPr>
            <p:cNvPr id="394" name=""/>
            <p:cNvSpPr/>
            <p:nvPr/>
          </p:nvSpPr>
          <p:spPr>
            <a:xfrm>
              <a:off x="1539720" y="4417920"/>
              <a:ext cx="557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2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Evoluir as partículas i = 1,...,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449680" y="4428720"/>
                  <a:ext cx="20160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: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1539720" y="3641760"/>
            <a:ext cx="5578560" cy="767880"/>
            <a:chOff x="1539720" y="3641760"/>
            <a:chExt cx="5578560" cy="767880"/>
          </a:xfrm>
        </p:grpSpPr>
        <p:sp>
          <p:nvSpPr>
            <p:cNvPr id="397" name=""/>
            <p:cNvSpPr/>
            <p:nvPr/>
          </p:nvSpPr>
          <p:spPr>
            <a:xfrm>
              <a:off x="1539720" y="3641760"/>
              <a:ext cx="557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1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Obter o melhor ponto global atual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2495160" y="4046400"/>
                  <a:ext cx="376416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q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)</m:t>
                      </m:r>
                      <m:r>
                        <m:t xml:space="preserve">≤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9" name=""/>
          <p:cNvGrpSpPr/>
          <p:nvPr/>
        </p:nvGrpSpPr>
        <p:grpSpPr>
          <a:xfrm>
            <a:off x="1555920" y="4861080"/>
            <a:ext cx="6248160" cy="370800"/>
            <a:chOff x="1555920" y="4861080"/>
            <a:chExt cx="6248160" cy="370800"/>
          </a:xfrm>
        </p:grpSpPr>
        <p:sp>
          <p:nvSpPr>
            <p:cNvPr id="400" name=""/>
            <p:cNvSpPr/>
            <p:nvPr/>
          </p:nvSpPr>
          <p:spPr>
            <a:xfrm>
              <a:off x="1555920" y="4861080"/>
              <a:ext cx="62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3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e                           Então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2778120" y="4883040"/>
                  <a:ext cx="144792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&lt;</m:t>
                      </m:r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4886280" y="4879800"/>
                  <a:ext cx="1449360" cy="34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3" name=""/>
          <p:cNvGrpSpPr/>
          <p:nvPr/>
        </p:nvGrpSpPr>
        <p:grpSpPr>
          <a:xfrm>
            <a:off x="1539720" y="5302080"/>
            <a:ext cx="5929200" cy="411120"/>
            <a:chOff x="1539720" y="5302080"/>
            <a:chExt cx="5929200" cy="411120"/>
          </a:xfrm>
        </p:grpSpPr>
        <p:sp>
          <p:nvSpPr>
            <p:cNvPr id="404" name=""/>
            <p:cNvSpPr/>
            <p:nvPr/>
          </p:nvSpPr>
          <p:spPr>
            <a:xfrm>
              <a:off x="1539720" y="5302080"/>
              <a:ext cx="557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sso 4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Atualizar a velocidad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657320" y="5327280"/>
                  <a:ext cx="28116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: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(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/>
                      </m:sSubSup>
                      <m:r>
                        <m:t xml:space="preserve">−</m:t>
                      </m:r>
                      <m:sSubSup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"/>
          <p:cNvSpPr/>
          <p:nvPr/>
        </p:nvSpPr>
        <p:spPr>
          <a:xfrm>
            <a:off x="1554120" y="57294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critério_de_parada = OK Então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Retornar ao Passo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08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081960" y="13460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941400" y="1692360"/>
            <a:ext cx="7731000" cy="487044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15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081960" y="13460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nxame de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38320" y="377496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Aplicada 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24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denguemap" descr=""/>
          <p:cNvPicPr/>
          <p:nvPr/>
        </p:nvPicPr>
        <p:blipFill>
          <a:blip r:embed="rId2"/>
          <a:stretch/>
        </p:blipFill>
        <p:spPr>
          <a:xfrm>
            <a:off x="1031760" y="1878120"/>
            <a:ext cx="7324920" cy="47178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497680" y="130320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ões afetadas pelo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33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735120" y="1343160"/>
            <a:ext cx="7813080" cy="5287320"/>
            <a:chOff x="735120" y="1343160"/>
            <a:chExt cx="7813080" cy="5287320"/>
          </a:xfrm>
        </p:grpSpPr>
        <p:pic>
          <p:nvPicPr>
            <p:cNvPr id="440" name="dengue2001" descr=""/>
            <p:cNvPicPr/>
            <p:nvPr/>
          </p:nvPicPr>
          <p:blipFill>
            <a:blip r:embed="rId2"/>
            <a:stretch/>
          </p:blipFill>
          <p:spPr>
            <a:xfrm>
              <a:off x="735120" y="1343160"/>
              <a:ext cx="7813080" cy="52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761040" y="1359360"/>
              <a:ext cx="7736760" cy="5229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43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Aedesaegypti" descr=""/>
          <p:cNvPicPr/>
          <p:nvPr/>
        </p:nvPicPr>
        <p:blipFill>
          <a:blip r:embed="rId2"/>
          <a:stretch/>
        </p:blipFill>
        <p:spPr>
          <a:xfrm>
            <a:off x="1271520" y="2006640"/>
            <a:ext cx="6797880" cy="43736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461400" y="1332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des aegyp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52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fumace" descr=""/>
          <p:cNvPicPr/>
          <p:nvPr/>
        </p:nvPicPr>
        <p:blipFill>
          <a:blip r:embed="rId2"/>
          <a:stretch/>
        </p:blipFill>
        <p:spPr>
          <a:xfrm>
            <a:off x="760320" y="1736640"/>
            <a:ext cx="4048200" cy="2784600"/>
          </a:xfrm>
          <a:prstGeom prst="rect">
            <a:avLst/>
          </a:prstGeom>
          <a:ln w="0">
            <a:noFill/>
          </a:ln>
        </p:spPr>
      </p:pic>
      <p:pic>
        <p:nvPicPr>
          <p:cNvPr id="459" name="dengue2" descr=""/>
          <p:cNvPicPr/>
          <p:nvPr/>
        </p:nvPicPr>
        <p:blipFill>
          <a:blip r:embed="rId3"/>
          <a:stretch/>
        </p:blipFill>
        <p:spPr>
          <a:xfrm>
            <a:off x="4289400" y="3711600"/>
            <a:ext cx="4127400" cy="27511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2403000" y="45324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umac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00760" y="34005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orra de caf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63" name="LogoLNCC" descr=""/>
            <p:cNvPicPr/>
            <p:nvPr/>
          </p:nvPicPr>
          <p:blipFill>
            <a:blip r:embed="rId4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024360" y="2251080"/>
                <a:ext cx="4038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68" name=""/>
          <p:cNvGraphicFramePr/>
          <p:nvPr/>
        </p:nvGraphicFramePr>
        <p:xfrm>
          <a:off x="2719440" y="2936880"/>
          <a:ext cx="48006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936880"/>
                    <a:ext cx="48006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881360" y="5427720"/>
          <a:ext cx="5105160" cy="1173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1360" y="5427720"/>
                    <a:ext cx="51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1810080" y="23274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83880" y="28605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67840" y="1314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LogoLNCC" descr=""/>
          <p:cNvPicPr/>
          <p:nvPr/>
        </p:nvPicPr>
        <p:blipFill>
          <a:blip r:embed="rId5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78" name="LogoLNCC" descr=""/>
            <p:cNvPicPr/>
            <p:nvPr/>
          </p:nvPicPr>
          <p:blipFill>
            <a:blip r:embed="rId6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566800" y="1295280"/>
            <a:ext cx="43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10000" y="5372280"/>
            <a:ext cx="4838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781360" y="2190600"/>
            <a:ext cx="0" cy="348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781000" y="2895120"/>
            <a:ext cx="4096080" cy="2486520"/>
            <a:chOff x="2781000" y="2895120"/>
            <a:chExt cx="4096080" cy="2486520"/>
          </a:xfrm>
        </p:grpSpPr>
        <p:sp>
          <p:nvSpPr>
            <p:cNvPr id="486" name=""/>
            <p:cNvSpPr/>
            <p:nvPr/>
          </p:nvSpPr>
          <p:spPr>
            <a:xfrm flipV="1">
              <a:off x="3352680" y="387108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3871440"/>
              <a:ext cx="41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72080" y="387360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4686480" y="4676760"/>
              <a:ext cx="0" cy="704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05200" y="4692240"/>
              <a:ext cx="609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95960" y="4707720"/>
              <a:ext cx="0" cy="668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286680" y="289512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86680" y="2895480"/>
              <a:ext cx="263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53080" y="289548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2781000" y="5374080"/>
              <a:ext cx="571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72080" y="53740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95960" y="5374080"/>
              <a:ext cx="97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53080" y="537408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 flipH="1">
            <a:off x="2685600" y="2895480"/>
            <a:ext cx="346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704680" y="38671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685600" y="4686480"/>
            <a:ext cx="188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3360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6884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648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8948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89560" y="5448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53080" y="5454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10120" y="188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24120" y="4822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54680" y="55022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54640" y="55022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32000" y="357840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50160" y="55022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89680" y="550224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60760" y="550224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23120" y="550224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12920" y="443556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51080" y="260676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2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6240" y="459432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crever u(t) como combinação linear truncada d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02960" y="5043600"/>
            <a:ext cx="297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1520" y="13176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133720" y="1981080"/>
          <a:ext cx="54864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81080"/>
                    <a:ext cx="5486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27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1752480" y="1828800"/>
          <a:ext cx="6330960" cy="47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63309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34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133720" y="1752480"/>
          <a:ext cx="58672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58672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41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2133720" y="1752480"/>
          <a:ext cx="5562360" cy="44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556236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48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2057400" y="1905120"/>
          <a:ext cx="552132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5521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55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981080" y="1828800"/>
          <a:ext cx="576756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7675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62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6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2845080" y="343368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6600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240" y="459432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crever u(t) como combinação linear truncada d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02960" y="5043600"/>
            <a:ext cx="297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57200" y="5851440"/>
            <a:ext cx="289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J[u,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57840" y="546876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onsiderar otimização n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74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811520" y="13176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92440" y="2511360"/>
            <a:ext cx="281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733920" y="1828440"/>
            <a:ext cx="288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73560" y="172404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4960" y="2085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733920" y="2057400"/>
            <a:ext cx="228600" cy="456840"/>
            <a:chOff x="3733920" y="2057400"/>
            <a:chExt cx="228600" cy="456840"/>
          </a:xfrm>
        </p:grpSpPr>
        <p:sp>
          <p:nvSpPr>
            <p:cNvPr id="84" name=""/>
            <p:cNvSpPr/>
            <p:nvPr/>
          </p:nvSpPr>
          <p:spPr>
            <a:xfrm>
              <a:off x="3733920" y="2057400"/>
              <a:ext cx="228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2057400"/>
              <a:ext cx="0" cy="45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6800" y="2059920"/>
              <a:ext cx="0" cy="45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V="1">
            <a:off x="3962520" y="2511000"/>
            <a:ext cx="1720800" cy="3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505320"/>
            <a:ext cx="281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736800" y="2854080"/>
            <a:ext cx="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05240" y="26766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4960" y="3060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0481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0481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505320"/>
            <a:ext cx="14572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5053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6320" y="4950000"/>
            <a:ext cx="281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30680" y="4289040"/>
            <a:ext cx="0" cy="83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67080" y="41734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08480" y="45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73720" y="4464000"/>
            <a:ext cx="244440" cy="484200"/>
            <a:chOff x="5373720" y="4464000"/>
            <a:chExt cx="244440" cy="484200"/>
          </a:xfrm>
        </p:grpSpPr>
        <p:sp>
          <p:nvSpPr>
            <p:cNvPr id="102" name=""/>
            <p:cNvSpPr/>
            <p:nvPr/>
          </p:nvSpPr>
          <p:spPr>
            <a:xfrm>
              <a:off x="5375520" y="4464000"/>
              <a:ext cx="242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18160" y="4464000"/>
              <a:ext cx="0" cy="480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73720" y="4467240"/>
              <a:ext cx="0" cy="480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33920" y="4948200"/>
            <a:ext cx="16383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3720" y="5114880"/>
            <a:ext cx="3007080" cy="1249200"/>
            <a:chOff x="3393720" y="5114880"/>
            <a:chExt cx="3007080" cy="1249200"/>
          </a:xfrm>
        </p:grpSpPr>
        <p:sp>
          <p:nvSpPr>
            <p:cNvPr id="107" name=""/>
            <p:cNvSpPr/>
            <p:nvPr/>
          </p:nvSpPr>
          <p:spPr>
            <a:xfrm>
              <a:off x="3586320" y="5924520"/>
              <a:ext cx="28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730680" y="529236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93720" y="5114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08480" y="54990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728880" y="5753160"/>
              <a:ext cx="2746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95640" y="5757840"/>
              <a:ext cx="0" cy="252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7080" y="6005520"/>
              <a:ext cx="0" cy="95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33840" y="5543640"/>
              <a:ext cx="0" cy="552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600" y="5548320"/>
              <a:ext cx="0" cy="157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533840" y="5548320"/>
              <a:ext cx="2746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95640" y="6005520"/>
              <a:ext cx="2746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262400" y="6095520"/>
              <a:ext cx="27468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805280" y="5695920"/>
              <a:ext cx="2746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075280" y="5629320"/>
              <a:ext cx="2746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354640" y="5829480"/>
              <a:ext cx="2746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072040" y="5624280"/>
              <a:ext cx="0" cy="75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57880" y="5624640"/>
              <a:ext cx="0" cy="209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50520" y="2021040"/>
            <a:ext cx="2998440" cy="3432960"/>
            <a:chOff x="2450520" y="2021040"/>
            <a:chExt cx="2998440" cy="3432960"/>
          </a:xfrm>
        </p:grpSpPr>
        <p:sp>
          <p:nvSpPr>
            <p:cNvPr id="125" name=""/>
            <p:cNvSpPr/>
            <p:nvPr/>
          </p:nvSpPr>
          <p:spPr>
            <a:xfrm>
              <a:off x="4542840" y="365760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 ...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14640" y="25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1000" y="499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50520" y="2021040"/>
              <a:ext cx="74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74280" y="2952720"/>
              <a:ext cx="74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0080" y="4424400"/>
              <a:ext cx="74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32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11520" y="13176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47840" y="138420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 Sub-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20840" y="2112840"/>
            <a:ext cx="2710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Um sistema dinâ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Um índice de desempenho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59560" y="3095640"/>
          <a:ext cx="119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9560" y="3095640"/>
                    <a:ext cx="119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957200" y="5477040"/>
            <a:ext cx="76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Ob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03120" y="4921200"/>
            <a:ext cx="17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16640" y="4033800"/>
            <a:ext cx="254160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896000" y="5916600"/>
          <a:ext cx="365256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5916600"/>
                    <a:ext cx="36525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161440" y="2114640"/>
            <a:ext cx="17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97160" y="3751200"/>
            <a:ext cx="1360080" cy="704880"/>
            <a:chOff x="2297160" y="3751200"/>
            <a:chExt cx="1360080" cy="704880"/>
          </a:xfrm>
        </p:grpSpPr>
        <p:sp>
          <p:nvSpPr>
            <p:cNvPr id="148" name=""/>
            <p:cNvSpPr/>
            <p:nvPr/>
          </p:nvSpPr>
          <p:spPr>
            <a:xfrm>
              <a:off x="2297160" y="3751200"/>
              <a:ext cx="1360080" cy="70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75000" y="3807000"/>
              <a:ext cx="109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stem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nâm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523880" y="4095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40957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0120" y="371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87440" y="37069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90680" y="2759040"/>
            <a:ext cx="136692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54040" y="28144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C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5120" y="31050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1050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3105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31050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160" y="40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4054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973240" y="2511000"/>
            <a:ext cx="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64" name="LogoLNCC" descr=""/>
            <p:cNvPicPr/>
            <p:nvPr/>
          </p:nvPicPr>
          <p:blipFill>
            <a:blip r:embed="rId5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05200" y="132732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Busca Aleatória no R</a:t>
            </a:r>
            <a:r>
              <a:rPr b="1" lang="en-US" sz="2400" spc="-1" strike="noStrike" baseline="30000">
                <a:solidFill>
                  <a:srgbClr val="cc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5320" y="197316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SA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Most Stupid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4800" y="257184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goritmo Genético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Genetic 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99120" y="3135240"/>
            <a:ext cx="59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êmpera Simulada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Simulated Anne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97680" y="371484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nxame de Partículas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(Particle Swa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9560" y="429732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ros métodos relacionados com comput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utiva, aproximação estocástica, dif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teriana, Monte Carlo, amostragem bayesi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upamento,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7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671480" y="312408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colher N e M inteiros positivos grandes, k :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3557520"/>
            <a:ext cx="60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N pare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onde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3000" y="4040280"/>
            <a:ext cx="599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lecionar o p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que resulta menor valor de J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86960" y="4954680"/>
            <a:ext cx="617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rar mais um pa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uniforme em (0,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9880" y="5411880"/>
            <a:ext cx="6240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5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 J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J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ão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k :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ão k := k+1 Retorne ao Passo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85520" y="4491000"/>
            <a:ext cx="480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o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 k := M Então Imprimir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89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153320" y="1327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95520" y="190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 o proble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66920" y="2425680"/>
          <a:ext cx="16635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425680"/>
                    <a:ext cx="1663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383200" y="13273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Algoritmo Genético Simpl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99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Sato</cp:lastModifiedBy>
  <dcterms:modified xsi:type="dcterms:W3CDTF">2004-02-01T13:30:06Z</dcterms:modified>
  <cp:revision>45</cp:revision>
  <dc:subject/>
  <dc:title>No Slide Title</dc:title>
</cp:coreProperties>
</file>