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0.wmf" ContentType="image/x-wmf"/>
  <Override PartName="/ppt/media/image29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424E-F6DB-4D57-86EA-50028072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C8F3-F93B-43EC-9AC2-9A6435B7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C75B-CC3F-47CD-8CDD-A075FC3B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926A-5A3C-4AEA-8C46-8DF33AD7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BD6D-8E69-452C-9733-35BC1C2A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4E98-7E60-4117-AE95-E862406A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049E-5D26-4715-808B-4EBAE78B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FE94-9D5C-4469-B7C9-8B925ED3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9C03-522D-419F-BCEE-BBA314EE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0363-4EEF-4DDD-B307-AEBCB42A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15BB-A8D3-41DC-B3DE-F6E2B4D0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F61A-E005-429C-A0AA-758C49A6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4846-4F5F-4972-AE03-35C54211A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32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7680" y="43956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N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63000" y="417600"/>
            <a:ext cx="139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3 fev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5257800" y="3390840"/>
            <a:ext cx="2362320" cy="2952720"/>
          </a:xfrm>
          <a:custGeom>
            <a:avLst/>
            <a:gdLst/>
            <a:ahLst/>
            <a:rect l="l" t="t" r="r" b="b"/>
            <a:pathLst>
              <a:path w="1488" h="1860">
                <a:moveTo>
                  <a:pt x="0" y="0"/>
                </a:moveTo>
                <a:cubicBezTo>
                  <a:pt x="156" y="1056"/>
                  <a:pt x="792" y="1284"/>
                  <a:pt x="1488" y="1392"/>
                </a:cubicBezTo>
                <a:cubicBezTo>
                  <a:pt x="1488" y="1860"/>
                  <a:pt x="1488" y="432"/>
                  <a:pt x="1488" y="0"/>
                </a:cubicBezTo>
                <a:cubicBezTo>
                  <a:pt x="1164" y="12"/>
                  <a:pt x="504" y="0"/>
                  <a:pt x="0" y="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81120" y="3486240"/>
            <a:ext cx="2286000" cy="226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274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725560" y="1392120"/>
            <a:ext cx="39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Arial"/>
              </a:rPr>
              <a:t>Otimização Multi-Crité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27200" y="2212920"/>
            <a:ext cx="6594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6600"/>
                </a:solidFill>
                <a:latin typeface="Arial"/>
              </a:rPr>
              <a:t>Obter valor de x que 'minimiza', simultaneamente,  J</a:t>
            </a:r>
            <a:r>
              <a:rPr b="1" lang="pt-BR" sz="1600" spc="-1" strike="noStrike" baseline="-25000">
                <a:solidFill>
                  <a:srgbClr val="cc6600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cc6600"/>
                </a:solidFill>
                <a:latin typeface="Arial"/>
              </a:rPr>
              <a:t>(x) e J</a:t>
            </a:r>
            <a:r>
              <a:rPr b="1" lang="pt-BR" sz="1600" spc="-1" strike="noStrike" baseline="-25000">
                <a:solidFill>
                  <a:srgbClr val="cc66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cc6600"/>
                </a:solidFill>
                <a:latin typeface="Arial"/>
              </a:rPr>
              <a:t>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57531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581120" y="3123720"/>
            <a:ext cx="0" cy="287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213080" y="5737320"/>
            <a:ext cx="43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03480" y="2917800"/>
            <a:ext cx="43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048280" y="3123720"/>
            <a:ext cx="0" cy="287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80240" y="5737320"/>
            <a:ext cx="43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70280" y="2917800"/>
            <a:ext cx="43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562880" y="5608800"/>
            <a:ext cx="9540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38760" y="57531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49880" y="3397320"/>
            <a:ext cx="2362320" cy="2209680"/>
          </a:xfrm>
          <a:custGeom>
            <a:avLst/>
            <a:gdLst/>
            <a:ahLst/>
            <a:rect l="l" t="t" r="r" b="b"/>
            <a:pathLst>
              <a:path w="1488" h="1392">
                <a:moveTo>
                  <a:pt x="0" y="0"/>
                </a:moveTo>
                <a:cubicBezTo>
                  <a:pt x="156" y="1056"/>
                  <a:pt x="792" y="1284"/>
                  <a:pt x="1488" y="13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04840" y="3903840"/>
            <a:ext cx="1839960" cy="1554120"/>
          </a:xfrm>
          <a:custGeom>
            <a:avLst/>
            <a:gdLst/>
            <a:ahLst/>
            <a:rect l="l" t="t" r="r" b="b"/>
            <a:pathLst>
              <a:path w="1159" h="979">
                <a:moveTo>
                  <a:pt x="72" y="0"/>
                </a:moveTo>
                <a:cubicBezTo>
                  <a:pt x="84" y="78"/>
                  <a:pt x="0" y="383"/>
                  <a:pt x="145" y="467"/>
                </a:cubicBezTo>
                <a:cubicBezTo>
                  <a:pt x="300" y="668"/>
                  <a:pt x="721" y="366"/>
                  <a:pt x="940" y="503"/>
                </a:cubicBezTo>
                <a:cubicBezTo>
                  <a:pt x="1159" y="640"/>
                  <a:pt x="969" y="880"/>
                  <a:pt x="977" y="97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81120" y="3932280"/>
            <a:ext cx="2889360" cy="784080"/>
          </a:xfrm>
          <a:custGeom>
            <a:avLst/>
            <a:gdLst/>
            <a:ahLst/>
            <a:rect l="l" t="t" r="r" b="b"/>
            <a:pathLst>
              <a:path w="1820" h="494">
                <a:moveTo>
                  <a:pt x="1820" y="92"/>
                </a:moveTo>
                <a:cubicBezTo>
                  <a:pt x="1581" y="93"/>
                  <a:pt x="768" y="0"/>
                  <a:pt x="384" y="101"/>
                </a:cubicBezTo>
                <a:cubicBezTo>
                  <a:pt x="0" y="202"/>
                  <a:pt x="124" y="412"/>
                  <a:pt x="55" y="494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25760" y="4716360"/>
            <a:ext cx="88920" cy="88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76960" y="4040280"/>
            <a:ext cx="88920" cy="88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85720" y="537048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0000"/>
                </a:solidFill>
                <a:latin typeface="Arial"/>
              </a:rPr>
              <a:t>Soluções de Pare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383640" y="137988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6600"/>
                </a:solidFill>
                <a:latin typeface="Arial Black"/>
              </a:rPr>
              <a:t>Teoria de J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9240" y="1795320"/>
            <a:ext cx="129780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Jogado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Min f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Jogado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Min f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98480" y="1639800"/>
            <a:ext cx="0" cy="4541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017800" y="56023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176560" y="2104560"/>
            <a:ext cx="0" cy="370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9320" y="24541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9320" y="39211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56240" y="51624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16160" y="194004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506680" y="3003120"/>
            <a:ext cx="3240360" cy="2804040"/>
            <a:chOff x="2506680" y="3003120"/>
            <a:chExt cx="3240360" cy="2804040"/>
          </a:xfrm>
        </p:grpSpPr>
        <p:sp>
          <p:nvSpPr>
            <p:cNvPr id="305" name=""/>
            <p:cNvSpPr/>
            <p:nvPr/>
          </p:nvSpPr>
          <p:spPr>
            <a:xfrm rot="20016600">
              <a:off x="3076200" y="3758760"/>
              <a:ext cx="2104920" cy="13064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20016600">
              <a:off x="3362040" y="4011120"/>
              <a:ext cx="1538280" cy="83340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0016600">
              <a:off x="3740040" y="4200480"/>
              <a:ext cx="782640" cy="4251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20016600">
              <a:off x="2757600" y="3519360"/>
              <a:ext cx="2738160" cy="17715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4756320" y="3065400"/>
            <a:ext cx="904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311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09240" y="1795320"/>
            <a:ext cx="129780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Jogado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Min f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Jogado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Min f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98480" y="1639800"/>
            <a:ext cx="0" cy="4541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017800" y="56023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176560" y="2104560"/>
            <a:ext cx="0" cy="370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56320" y="3065400"/>
            <a:ext cx="904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9320" y="24541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9320" y="39211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56240" y="51624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16160" y="194004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506680" y="3003120"/>
            <a:ext cx="3240360" cy="2804040"/>
            <a:chOff x="2506680" y="3003120"/>
            <a:chExt cx="3240360" cy="2804040"/>
          </a:xfrm>
        </p:grpSpPr>
        <p:sp>
          <p:nvSpPr>
            <p:cNvPr id="325" name=""/>
            <p:cNvSpPr/>
            <p:nvPr/>
          </p:nvSpPr>
          <p:spPr>
            <a:xfrm rot="20016600">
              <a:off x="3076200" y="3758760"/>
              <a:ext cx="2104920" cy="13064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20016600">
              <a:off x="3362040" y="4011120"/>
              <a:ext cx="1538280" cy="83340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20016600">
              <a:off x="3740040" y="4200480"/>
              <a:ext cx="782640" cy="4251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20016600">
              <a:off x="2757600" y="3519360"/>
              <a:ext cx="2738160" cy="17715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412720" y="1823400"/>
            <a:ext cx="2358000" cy="2934720"/>
            <a:chOff x="2412720" y="1823400"/>
            <a:chExt cx="2358000" cy="2934720"/>
          </a:xfrm>
        </p:grpSpPr>
        <p:sp>
          <p:nvSpPr>
            <p:cNvPr id="330" name=""/>
            <p:cNvSpPr/>
            <p:nvPr/>
          </p:nvSpPr>
          <p:spPr>
            <a:xfrm rot="17227200">
              <a:off x="2569320" y="2659320"/>
              <a:ext cx="2036520" cy="1285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7227200">
              <a:off x="2875680" y="2939400"/>
              <a:ext cx="1447920" cy="7761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7227200">
              <a:off x="3213720" y="3126600"/>
              <a:ext cx="782640" cy="4251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7227200">
              <a:off x="2315160" y="2449800"/>
              <a:ext cx="2552760" cy="1681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4343400" y="2043000"/>
            <a:ext cx="905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336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3383640" y="137988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6600"/>
                </a:solidFill>
                <a:latin typeface="Arial Black"/>
              </a:rPr>
              <a:t>Teoria de J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162160" y="3076560"/>
            <a:ext cx="2903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9240" y="1795320"/>
            <a:ext cx="129780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Jogado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Min f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Jogado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Min f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98480" y="1639800"/>
            <a:ext cx="0" cy="4541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17800" y="56023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176560" y="2104560"/>
            <a:ext cx="0" cy="370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56320" y="3065400"/>
            <a:ext cx="904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9320" y="24541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9320" y="39211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56240" y="51624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16160" y="194004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506680" y="3003120"/>
            <a:ext cx="3240360" cy="2804040"/>
            <a:chOff x="2506680" y="3003120"/>
            <a:chExt cx="3240360" cy="2804040"/>
          </a:xfrm>
        </p:grpSpPr>
        <p:sp>
          <p:nvSpPr>
            <p:cNvPr id="352" name=""/>
            <p:cNvSpPr/>
            <p:nvPr/>
          </p:nvSpPr>
          <p:spPr>
            <a:xfrm rot="20016600">
              <a:off x="3076200" y="3758760"/>
              <a:ext cx="2104920" cy="13064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20016600">
              <a:off x="3362040" y="4011120"/>
              <a:ext cx="1538280" cy="83340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20016600">
              <a:off x="3740040" y="4200480"/>
              <a:ext cx="782640" cy="4251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20016600">
              <a:off x="2757600" y="3519360"/>
              <a:ext cx="2738160" cy="17715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412720" y="1823400"/>
            <a:ext cx="2358000" cy="2934720"/>
            <a:chOff x="2412720" y="1823400"/>
            <a:chExt cx="2358000" cy="2934720"/>
          </a:xfrm>
        </p:grpSpPr>
        <p:sp>
          <p:nvSpPr>
            <p:cNvPr id="357" name=""/>
            <p:cNvSpPr/>
            <p:nvPr/>
          </p:nvSpPr>
          <p:spPr>
            <a:xfrm rot="17227200">
              <a:off x="2569320" y="2659320"/>
              <a:ext cx="2036520" cy="1285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7227200">
              <a:off x="2875680" y="2939400"/>
              <a:ext cx="1447920" cy="7761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7227200">
              <a:off x="3213720" y="3126600"/>
              <a:ext cx="782640" cy="4251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7227200">
              <a:off x="2315160" y="2449800"/>
              <a:ext cx="2552760" cy="1681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4343400" y="2043000"/>
            <a:ext cx="905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51680" y="1847880"/>
            <a:ext cx="25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Jogador 1 -&gt; escolh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151160" y="1873080"/>
            <a:ext cx="0" cy="37576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94200" y="5614920"/>
            <a:ext cx="4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402680" y="2308320"/>
            <a:ext cx="0" cy="522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61040" y="2973240"/>
            <a:ext cx="25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Jogador 2 -&gt; escolh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17227200">
            <a:off x="2757960" y="2831400"/>
            <a:ext cx="1690560" cy="98424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78440" y="3019320"/>
            <a:ext cx="11556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370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383640" y="137988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6600"/>
                </a:solidFill>
                <a:latin typeface="Arial Black"/>
              </a:rPr>
              <a:t>Teoria de J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2481120" y="2903400"/>
            <a:ext cx="2409840" cy="768600"/>
          </a:xfrm>
          <a:custGeom>
            <a:avLst/>
            <a:gdLst/>
            <a:ahLst/>
            <a:rect l="l" t="t" r="r" b="b"/>
            <a:pathLst>
              <a:path w="1518" h="484">
                <a:moveTo>
                  <a:pt x="0" y="484"/>
                </a:moveTo>
                <a:cubicBezTo>
                  <a:pt x="46" y="478"/>
                  <a:pt x="213" y="462"/>
                  <a:pt x="284" y="448"/>
                </a:cubicBezTo>
                <a:cubicBezTo>
                  <a:pt x="355" y="434"/>
                  <a:pt x="383" y="417"/>
                  <a:pt x="429" y="399"/>
                </a:cubicBezTo>
                <a:cubicBezTo>
                  <a:pt x="475" y="381"/>
                  <a:pt x="487" y="373"/>
                  <a:pt x="558" y="338"/>
                </a:cubicBezTo>
                <a:cubicBezTo>
                  <a:pt x="629" y="303"/>
                  <a:pt x="783" y="226"/>
                  <a:pt x="853" y="191"/>
                </a:cubicBezTo>
                <a:cubicBezTo>
                  <a:pt x="923" y="156"/>
                  <a:pt x="934" y="146"/>
                  <a:pt x="979" y="128"/>
                </a:cubicBezTo>
                <a:cubicBezTo>
                  <a:pt x="1024" y="110"/>
                  <a:pt x="1077" y="96"/>
                  <a:pt x="1125" y="82"/>
                </a:cubicBezTo>
                <a:cubicBezTo>
                  <a:pt x="1173" y="68"/>
                  <a:pt x="1200" y="57"/>
                  <a:pt x="1265" y="43"/>
                </a:cubicBezTo>
                <a:cubicBezTo>
                  <a:pt x="1330" y="29"/>
                  <a:pt x="1465" y="9"/>
                  <a:pt x="1518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9240" y="1795320"/>
            <a:ext cx="129780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Jogado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Min f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Jogado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Min f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698480" y="1639800"/>
            <a:ext cx="0" cy="4541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17800" y="56023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2176560" y="2104560"/>
            <a:ext cx="0" cy="370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56320" y="3065400"/>
            <a:ext cx="904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09320" y="24541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09320" y="39211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6240" y="51624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16160" y="194004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506680" y="3003120"/>
            <a:ext cx="3240360" cy="2804040"/>
            <a:chOff x="2506680" y="3003120"/>
            <a:chExt cx="3240360" cy="2804040"/>
          </a:xfrm>
        </p:grpSpPr>
        <p:sp>
          <p:nvSpPr>
            <p:cNvPr id="386" name=""/>
            <p:cNvSpPr/>
            <p:nvPr/>
          </p:nvSpPr>
          <p:spPr>
            <a:xfrm rot="20016600">
              <a:off x="3076200" y="3758760"/>
              <a:ext cx="2104920" cy="13064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20016600">
              <a:off x="3362040" y="4011120"/>
              <a:ext cx="1538280" cy="83340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20016600">
              <a:off x="3740040" y="4200480"/>
              <a:ext cx="782640" cy="4251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20016600">
              <a:off x="2757600" y="3519360"/>
              <a:ext cx="2738160" cy="17715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2412720" y="1823400"/>
            <a:ext cx="2358000" cy="2934720"/>
            <a:chOff x="2412720" y="1823400"/>
            <a:chExt cx="2358000" cy="2934720"/>
          </a:xfrm>
        </p:grpSpPr>
        <p:sp>
          <p:nvSpPr>
            <p:cNvPr id="391" name=""/>
            <p:cNvSpPr/>
            <p:nvPr/>
          </p:nvSpPr>
          <p:spPr>
            <a:xfrm rot="17227200">
              <a:off x="2569320" y="2659320"/>
              <a:ext cx="2036520" cy="1285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7227200">
              <a:off x="2875680" y="2939400"/>
              <a:ext cx="1447920" cy="7761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17227200">
              <a:off x="3213720" y="3126600"/>
              <a:ext cx="782640" cy="4251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17227200">
              <a:off x="2315160" y="2449800"/>
              <a:ext cx="2552760" cy="1681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4532400" y="2158920"/>
            <a:ext cx="904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3846600" y="1854000"/>
            <a:ext cx="0" cy="37573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84440" y="5992920"/>
            <a:ext cx="4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4032360" y="1839960"/>
            <a:ext cx="0" cy="37576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4273560" y="1841400"/>
            <a:ext cx="0" cy="37576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4483080" y="1847880"/>
            <a:ext cx="0" cy="37576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221000" y="296532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80000" y="3133800"/>
            <a:ext cx="11556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30880" y="2914560"/>
            <a:ext cx="11556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79800" y="304164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703600" y="1847880"/>
            <a:ext cx="0" cy="37576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903400" y="1833480"/>
            <a:ext cx="0" cy="37576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3164040" y="1834920"/>
            <a:ext cx="0" cy="37573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3373560" y="1841400"/>
            <a:ext cx="0" cy="37576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06800" y="3489480"/>
            <a:ext cx="115920" cy="115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655720" y="358128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316320" y="338616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55880" y="355608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151680" y="1847880"/>
            <a:ext cx="25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Jogador 1 -&gt; escolhe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402680" y="2308320"/>
            <a:ext cx="0" cy="522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3469320" y="4816800"/>
            <a:ext cx="320760" cy="2033640"/>
          </a:xfrm>
          <a:custGeom>
            <a:avLst/>
            <a:gdLst>
              <a:gd name="textAreaLeft" fmla="*/ 204840 w 320760"/>
              <a:gd name="textAreaRight" fmla="*/ 321120 w 320760"/>
              <a:gd name="textAreaTop" fmla="*/ 52920 h 2033640"/>
              <a:gd name="textAreaBottom" fmla="*/ 1980720 h 203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289560" y="2928960"/>
            <a:ext cx="24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L2 -&gt; respostas d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0920" y="2717640"/>
            <a:ext cx="4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419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3383640" y="137988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6600"/>
                </a:solidFill>
                <a:latin typeface="Arial Black"/>
              </a:rPr>
              <a:t>Teoria de J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657600" y="2752560"/>
            <a:ext cx="1009800" cy="2810160"/>
          </a:xfrm>
          <a:custGeom>
            <a:avLst/>
            <a:gdLst/>
            <a:ahLst/>
            <a:rect l="l" t="t" r="r" b="b"/>
            <a:pathLst>
              <a:path w="636" h="1770">
                <a:moveTo>
                  <a:pt x="0" y="1770"/>
                </a:moveTo>
                <a:cubicBezTo>
                  <a:pt x="3" y="1740"/>
                  <a:pt x="7" y="1711"/>
                  <a:pt x="18" y="1668"/>
                </a:cubicBezTo>
                <a:cubicBezTo>
                  <a:pt x="29" y="1625"/>
                  <a:pt x="49" y="1563"/>
                  <a:pt x="66" y="1512"/>
                </a:cubicBezTo>
                <a:cubicBezTo>
                  <a:pt x="83" y="1461"/>
                  <a:pt x="98" y="1414"/>
                  <a:pt x="120" y="1362"/>
                </a:cubicBezTo>
                <a:cubicBezTo>
                  <a:pt x="142" y="1310"/>
                  <a:pt x="149" y="1280"/>
                  <a:pt x="198" y="1200"/>
                </a:cubicBezTo>
                <a:cubicBezTo>
                  <a:pt x="247" y="1120"/>
                  <a:pt x="363" y="959"/>
                  <a:pt x="414" y="882"/>
                </a:cubicBezTo>
                <a:cubicBezTo>
                  <a:pt x="465" y="805"/>
                  <a:pt x="480" y="791"/>
                  <a:pt x="504" y="738"/>
                </a:cubicBezTo>
                <a:cubicBezTo>
                  <a:pt x="528" y="685"/>
                  <a:pt x="543" y="618"/>
                  <a:pt x="558" y="564"/>
                </a:cubicBezTo>
                <a:cubicBezTo>
                  <a:pt x="573" y="510"/>
                  <a:pt x="583" y="475"/>
                  <a:pt x="594" y="414"/>
                </a:cubicBezTo>
                <a:cubicBezTo>
                  <a:pt x="605" y="353"/>
                  <a:pt x="617" y="267"/>
                  <a:pt x="624" y="198"/>
                </a:cubicBezTo>
                <a:cubicBezTo>
                  <a:pt x="631" y="129"/>
                  <a:pt x="634" y="33"/>
                  <a:pt x="636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81120" y="2903400"/>
            <a:ext cx="2409840" cy="768600"/>
          </a:xfrm>
          <a:custGeom>
            <a:avLst/>
            <a:gdLst/>
            <a:ahLst/>
            <a:rect l="l" t="t" r="r" b="b"/>
            <a:pathLst>
              <a:path w="1518" h="484">
                <a:moveTo>
                  <a:pt x="0" y="484"/>
                </a:moveTo>
                <a:cubicBezTo>
                  <a:pt x="46" y="478"/>
                  <a:pt x="213" y="462"/>
                  <a:pt x="284" y="448"/>
                </a:cubicBezTo>
                <a:cubicBezTo>
                  <a:pt x="355" y="434"/>
                  <a:pt x="383" y="417"/>
                  <a:pt x="429" y="399"/>
                </a:cubicBezTo>
                <a:cubicBezTo>
                  <a:pt x="475" y="381"/>
                  <a:pt x="487" y="373"/>
                  <a:pt x="558" y="338"/>
                </a:cubicBezTo>
                <a:cubicBezTo>
                  <a:pt x="629" y="303"/>
                  <a:pt x="783" y="226"/>
                  <a:pt x="853" y="191"/>
                </a:cubicBezTo>
                <a:cubicBezTo>
                  <a:pt x="923" y="156"/>
                  <a:pt x="934" y="146"/>
                  <a:pt x="979" y="128"/>
                </a:cubicBezTo>
                <a:cubicBezTo>
                  <a:pt x="1024" y="110"/>
                  <a:pt x="1077" y="96"/>
                  <a:pt x="1125" y="82"/>
                </a:cubicBezTo>
                <a:cubicBezTo>
                  <a:pt x="1173" y="68"/>
                  <a:pt x="1200" y="57"/>
                  <a:pt x="1265" y="43"/>
                </a:cubicBezTo>
                <a:cubicBezTo>
                  <a:pt x="1330" y="29"/>
                  <a:pt x="1465" y="9"/>
                  <a:pt x="1518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09240" y="1795320"/>
            <a:ext cx="129780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Jogado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Min f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Jogado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Min f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98480" y="1639800"/>
            <a:ext cx="0" cy="4541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017800" y="56023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2176560" y="2104560"/>
            <a:ext cx="0" cy="370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756320" y="3065400"/>
            <a:ext cx="904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9320" y="24541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09320" y="39211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556240" y="51624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16160" y="194004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506680" y="3003120"/>
            <a:ext cx="3240360" cy="2804040"/>
            <a:chOff x="2506680" y="3003120"/>
            <a:chExt cx="3240360" cy="2804040"/>
          </a:xfrm>
        </p:grpSpPr>
        <p:sp>
          <p:nvSpPr>
            <p:cNvPr id="436" name=""/>
            <p:cNvSpPr/>
            <p:nvPr/>
          </p:nvSpPr>
          <p:spPr>
            <a:xfrm rot="20016600">
              <a:off x="3076200" y="3758760"/>
              <a:ext cx="2104920" cy="13064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20016600">
              <a:off x="3362040" y="4011120"/>
              <a:ext cx="1538280" cy="83340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20016600">
              <a:off x="3740040" y="4200480"/>
              <a:ext cx="782640" cy="4251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20016600">
              <a:off x="2757600" y="3519360"/>
              <a:ext cx="2738160" cy="17715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2412720" y="1823400"/>
            <a:ext cx="2358000" cy="2934720"/>
            <a:chOff x="2412720" y="1823400"/>
            <a:chExt cx="2358000" cy="2934720"/>
          </a:xfrm>
        </p:grpSpPr>
        <p:sp>
          <p:nvSpPr>
            <p:cNvPr id="441" name=""/>
            <p:cNvSpPr/>
            <p:nvPr/>
          </p:nvSpPr>
          <p:spPr>
            <a:xfrm rot="17227200">
              <a:off x="2569320" y="2659320"/>
              <a:ext cx="2036520" cy="1285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7227200">
              <a:off x="2875680" y="2939400"/>
              <a:ext cx="1447920" cy="7761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7227200">
              <a:off x="3213720" y="3126600"/>
              <a:ext cx="782640" cy="4251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7227200">
              <a:off x="2315160" y="2449800"/>
              <a:ext cx="2552760" cy="1681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4241880" y="1884240"/>
            <a:ext cx="904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56440" y="4233960"/>
            <a:ext cx="4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2181240" y="5416560"/>
            <a:ext cx="33703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2178000" y="5170320"/>
            <a:ext cx="33703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2185920" y="4156200"/>
            <a:ext cx="33703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2192400" y="3394080"/>
            <a:ext cx="33703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184480" y="4932360"/>
            <a:ext cx="33703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155680" y="4670280"/>
            <a:ext cx="33703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193840" y="3917880"/>
            <a:ext cx="33703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187360" y="3657600"/>
            <a:ext cx="336996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784680" y="487044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627360" y="534672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17880" y="461160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710160" y="5100480"/>
            <a:ext cx="11556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151680" y="1847880"/>
            <a:ext cx="25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Jogador 2 -&gt; escolhe 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402680" y="2308320"/>
            <a:ext cx="0" cy="522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89560" y="2928960"/>
            <a:ext cx="248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L1 -&gt; respostas d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930920" y="2717640"/>
            <a:ext cx="4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479840" y="359244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251240" y="410220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32400" y="334800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400640" y="386064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02160" y="2360520"/>
            <a:ext cx="4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0800000">
            <a:off x="5923080" y="3379320"/>
            <a:ext cx="320400" cy="2033640"/>
          </a:xfrm>
          <a:custGeom>
            <a:avLst/>
            <a:gdLst>
              <a:gd name="textAreaLeft" fmla="*/ 204840 w 320400"/>
              <a:gd name="textAreaRight" fmla="*/ 320760 w 320400"/>
              <a:gd name="textAreaTop" fmla="*/ 52920 h 2033640"/>
              <a:gd name="textAreaBottom" fmla="*/ 1980720 h 203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470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3383640" y="137988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6600"/>
                </a:solidFill>
                <a:latin typeface="Arial Black"/>
              </a:rPr>
              <a:t>Teoria de J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657600" y="2752560"/>
            <a:ext cx="1009800" cy="2810160"/>
          </a:xfrm>
          <a:custGeom>
            <a:avLst/>
            <a:gdLst/>
            <a:ahLst/>
            <a:rect l="l" t="t" r="r" b="b"/>
            <a:pathLst>
              <a:path w="636" h="1770">
                <a:moveTo>
                  <a:pt x="0" y="1770"/>
                </a:moveTo>
                <a:cubicBezTo>
                  <a:pt x="3" y="1740"/>
                  <a:pt x="7" y="1711"/>
                  <a:pt x="18" y="1668"/>
                </a:cubicBezTo>
                <a:cubicBezTo>
                  <a:pt x="29" y="1625"/>
                  <a:pt x="49" y="1563"/>
                  <a:pt x="66" y="1512"/>
                </a:cubicBezTo>
                <a:cubicBezTo>
                  <a:pt x="83" y="1461"/>
                  <a:pt x="98" y="1414"/>
                  <a:pt x="120" y="1362"/>
                </a:cubicBezTo>
                <a:cubicBezTo>
                  <a:pt x="142" y="1310"/>
                  <a:pt x="149" y="1280"/>
                  <a:pt x="198" y="1200"/>
                </a:cubicBezTo>
                <a:cubicBezTo>
                  <a:pt x="247" y="1120"/>
                  <a:pt x="362" y="961"/>
                  <a:pt x="414" y="882"/>
                </a:cubicBezTo>
                <a:cubicBezTo>
                  <a:pt x="465" y="805"/>
                  <a:pt x="484" y="779"/>
                  <a:pt x="508" y="726"/>
                </a:cubicBezTo>
                <a:cubicBezTo>
                  <a:pt x="532" y="673"/>
                  <a:pt x="549" y="624"/>
                  <a:pt x="564" y="570"/>
                </a:cubicBezTo>
                <a:cubicBezTo>
                  <a:pt x="579" y="516"/>
                  <a:pt x="589" y="471"/>
                  <a:pt x="600" y="410"/>
                </a:cubicBezTo>
                <a:cubicBezTo>
                  <a:pt x="611" y="349"/>
                  <a:pt x="617" y="267"/>
                  <a:pt x="624" y="198"/>
                </a:cubicBezTo>
                <a:cubicBezTo>
                  <a:pt x="631" y="129"/>
                  <a:pt x="634" y="33"/>
                  <a:pt x="636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481120" y="2903400"/>
            <a:ext cx="2409840" cy="768600"/>
          </a:xfrm>
          <a:custGeom>
            <a:avLst/>
            <a:gdLst/>
            <a:ahLst/>
            <a:rect l="l" t="t" r="r" b="b"/>
            <a:pathLst>
              <a:path w="1518" h="484">
                <a:moveTo>
                  <a:pt x="0" y="484"/>
                </a:moveTo>
                <a:cubicBezTo>
                  <a:pt x="46" y="478"/>
                  <a:pt x="213" y="462"/>
                  <a:pt x="284" y="448"/>
                </a:cubicBezTo>
                <a:cubicBezTo>
                  <a:pt x="355" y="434"/>
                  <a:pt x="383" y="417"/>
                  <a:pt x="429" y="399"/>
                </a:cubicBezTo>
                <a:cubicBezTo>
                  <a:pt x="475" y="381"/>
                  <a:pt x="487" y="373"/>
                  <a:pt x="558" y="338"/>
                </a:cubicBezTo>
                <a:cubicBezTo>
                  <a:pt x="629" y="303"/>
                  <a:pt x="783" y="226"/>
                  <a:pt x="853" y="191"/>
                </a:cubicBezTo>
                <a:cubicBezTo>
                  <a:pt x="923" y="156"/>
                  <a:pt x="934" y="146"/>
                  <a:pt x="979" y="128"/>
                </a:cubicBezTo>
                <a:cubicBezTo>
                  <a:pt x="1024" y="110"/>
                  <a:pt x="1077" y="96"/>
                  <a:pt x="1125" y="82"/>
                </a:cubicBezTo>
                <a:cubicBezTo>
                  <a:pt x="1173" y="68"/>
                  <a:pt x="1200" y="57"/>
                  <a:pt x="1265" y="43"/>
                </a:cubicBezTo>
                <a:cubicBezTo>
                  <a:pt x="1330" y="29"/>
                  <a:pt x="1465" y="9"/>
                  <a:pt x="1518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9240" y="1795320"/>
            <a:ext cx="129780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Jogado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Min f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Jogado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Min f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698480" y="1639800"/>
            <a:ext cx="0" cy="4541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17800" y="56023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2176560" y="2104560"/>
            <a:ext cx="0" cy="370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56320" y="3065400"/>
            <a:ext cx="904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09320" y="24541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09320" y="39211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556240" y="51624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16160" y="194004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2506680" y="3003120"/>
            <a:ext cx="3240360" cy="2804040"/>
            <a:chOff x="2506680" y="3003120"/>
            <a:chExt cx="3240360" cy="2804040"/>
          </a:xfrm>
        </p:grpSpPr>
        <p:sp>
          <p:nvSpPr>
            <p:cNvPr id="487" name=""/>
            <p:cNvSpPr/>
            <p:nvPr/>
          </p:nvSpPr>
          <p:spPr>
            <a:xfrm rot="20016600">
              <a:off x="3076200" y="3758760"/>
              <a:ext cx="2104920" cy="13064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016600">
              <a:off x="3362040" y="4011120"/>
              <a:ext cx="1538280" cy="83340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016600">
              <a:off x="3740040" y="4200480"/>
              <a:ext cx="782640" cy="4251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20016600">
              <a:off x="2757600" y="3519360"/>
              <a:ext cx="2738160" cy="17715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2412720" y="1823400"/>
            <a:ext cx="2358000" cy="2934720"/>
            <a:chOff x="2412720" y="1823400"/>
            <a:chExt cx="2358000" cy="2934720"/>
          </a:xfrm>
        </p:grpSpPr>
        <p:sp>
          <p:nvSpPr>
            <p:cNvPr id="492" name=""/>
            <p:cNvSpPr/>
            <p:nvPr/>
          </p:nvSpPr>
          <p:spPr>
            <a:xfrm rot="17227200">
              <a:off x="2569320" y="2659320"/>
              <a:ext cx="2036520" cy="1285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17227200">
              <a:off x="2875680" y="2939400"/>
              <a:ext cx="1447920" cy="7761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7227200">
              <a:off x="3213720" y="3126600"/>
              <a:ext cx="782640" cy="4251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17227200">
              <a:off x="2315160" y="2449800"/>
              <a:ext cx="2552760" cy="1681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4241880" y="1884240"/>
            <a:ext cx="904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600440" y="287820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45000" y="1627200"/>
            <a:ext cx="2178000" cy="507960"/>
          </a:xfrm>
          <a:prstGeom prst="wedgeRoundRectCallout">
            <a:avLst>
              <a:gd name="adj1" fmla="val -82069"/>
              <a:gd name="adj2" fmla="val 19937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Equilíbrio N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500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3383640" y="137988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6600"/>
                </a:solidFill>
                <a:latin typeface="Arial Black"/>
              </a:rPr>
              <a:t>Teoria de J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594240" y="3340080"/>
            <a:ext cx="546120" cy="1092240"/>
          </a:xfrm>
          <a:custGeom>
            <a:avLst/>
            <a:gdLst/>
            <a:ahLst/>
            <a:rect l="l" t="t" r="r" b="b"/>
            <a:pathLst>
              <a:path w="344" h="688">
                <a:moveTo>
                  <a:pt x="0" y="0"/>
                </a:moveTo>
                <a:cubicBezTo>
                  <a:pt x="0" y="80"/>
                  <a:pt x="0" y="160"/>
                  <a:pt x="8" y="224"/>
                </a:cubicBezTo>
                <a:cubicBezTo>
                  <a:pt x="16" y="288"/>
                  <a:pt x="28" y="337"/>
                  <a:pt x="48" y="384"/>
                </a:cubicBezTo>
                <a:cubicBezTo>
                  <a:pt x="68" y="431"/>
                  <a:pt x="99" y="467"/>
                  <a:pt x="128" y="504"/>
                </a:cubicBezTo>
                <a:cubicBezTo>
                  <a:pt x="157" y="541"/>
                  <a:pt x="184" y="573"/>
                  <a:pt x="220" y="604"/>
                </a:cubicBezTo>
                <a:cubicBezTo>
                  <a:pt x="256" y="635"/>
                  <a:pt x="318" y="671"/>
                  <a:pt x="344" y="68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09240" y="1795320"/>
            <a:ext cx="1297800" cy="28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ff"/>
                </a:solidFill>
                <a:latin typeface="Arial Black"/>
              </a:rPr>
              <a:t>Jogado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Min f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Jogado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Min f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98480" y="1639800"/>
            <a:ext cx="0" cy="4541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017800" y="56023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2176560" y="2104560"/>
            <a:ext cx="0" cy="370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56320" y="3065400"/>
            <a:ext cx="904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09320" y="24541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09320" y="392112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556240" y="516240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16160" y="1940040"/>
            <a:ext cx="3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2506680" y="3003120"/>
            <a:ext cx="3240360" cy="2804040"/>
            <a:chOff x="2506680" y="3003120"/>
            <a:chExt cx="3240360" cy="2804040"/>
          </a:xfrm>
        </p:grpSpPr>
        <p:sp>
          <p:nvSpPr>
            <p:cNvPr id="516" name=""/>
            <p:cNvSpPr/>
            <p:nvPr/>
          </p:nvSpPr>
          <p:spPr>
            <a:xfrm rot="20016600">
              <a:off x="3076200" y="3758760"/>
              <a:ext cx="2104920" cy="130644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016600">
              <a:off x="3362040" y="4011120"/>
              <a:ext cx="1538280" cy="83340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0016600">
              <a:off x="3740040" y="4200480"/>
              <a:ext cx="782640" cy="4251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20016600">
              <a:off x="2757600" y="3519360"/>
              <a:ext cx="2738160" cy="177156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2412720" y="1823400"/>
            <a:ext cx="2358000" cy="2934720"/>
            <a:chOff x="2412720" y="1823400"/>
            <a:chExt cx="2358000" cy="2934720"/>
          </a:xfrm>
        </p:grpSpPr>
        <p:sp>
          <p:nvSpPr>
            <p:cNvPr id="521" name=""/>
            <p:cNvSpPr/>
            <p:nvPr/>
          </p:nvSpPr>
          <p:spPr>
            <a:xfrm rot="17227200">
              <a:off x="2569320" y="2659320"/>
              <a:ext cx="2036520" cy="1285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7227200">
              <a:off x="2875680" y="2939400"/>
              <a:ext cx="1447920" cy="7761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17227200">
              <a:off x="3213720" y="3126600"/>
              <a:ext cx="782640" cy="4251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17227200">
              <a:off x="2315160" y="2449800"/>
              <a:ext cx="2552760" cy="1681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4241880" y="1884240"/>
            <a:ext cx="904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(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,x</a:t>
            </a:r>
            <a:r>
              <a:rPr b="1" lang="pt-BR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549600" y="363384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605040" y="3876840"/>
            <a:ext cx="115920" cy="115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735360" y="407520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82960" y="423864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540240" y="328140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060800" y="4368960"/>
            <a:ext cx="115920" cy="115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81760" y="4065480"/>
            <a:ext cx="2612880" cy="507960"/>
          </a:xfrm>
          <a:prstGeom prst="wedgeRoundRectCallout">
            <a:avLst>
              <a:gd name="adj1" fmla="val -136148"/>
              <a:gd name="adj2" fmla="val -5781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Soluções de Par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534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383640" y="1379880"/>
            <a:ext cx="23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6600"/>
                </a:solidFill>
                <a:latin typeface="Arial Black"/>
              </a:rPr>
              <a:t>Teoria de J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540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542880" y="2192400"/>
            <a:ext cx="8089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emplos de Dificuldad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Representação, com um só funcional, todos os objetivos desej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ncertezas e Sensibi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Caracterização Numérica x Lingu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Fenômenos Estocás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Tecnica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546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5481720" y="4487760"/>
            <a:ext cx="2955960" cy="1455840"/>
            <a:chOff x="5481720" y="4487760"/>
            <a:chExt cx="2955960" cy="1455840"/>
          </a:xfrm>
        </p:grpSpPr>
        <p:sp>
          <p:nvSpPr>
            <p:cNvPr id="551" name=""/>
            <p:cNvSpPr/>
            <p:nvPr/>
          </p:nvSpPr>
          <p:spPr>
            <a:xfrm>
              <a:off x="5481720" y="4487760"/>
              <a:ext cx="2955960" cy="14558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5576400" y="4560840"/>
              <a:ext cx="2760120" cy="1276560"/>
              <a:chOff x="5576400" y="4560840"/>
              <a:chExt cx="2760120" cy="1276560"/>
            </a:xfrm>
          </p:grpSpPr>
          <p:pic>
            <p:nvPicPr>
              <p:cNvPr id="55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576400" y="4560840"/>
                <a:ext cx="2760120" cy="29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599800" y="4975200"/>
                <a:ext cx="2545200" cy="514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98360" y="5545080"/>
                <a:ext cx="2049480" cy="292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56" name=""/>
          <p:cNvGrpSpPr/>
          <p:nvPr/>
        </p:nvGrpSpPr>
        <p:grpSpPr>
          <a:xfrm>
            <a:off x="3094200" y="2225520"/>
            <a:ext cx="5665680" cy="957240"/>
            <a:chOff x="3094200" y="2225520"/>
            <a:chExt cx="5665680" cy="957240"/>
          </a:xfrm>
        </p:grpSpPr>
        <p:sp>
          <p:nvSpPr>
            <p:cNvPr id="557" name=""/>
            <p:cNvSpPr/>
            <p:nvPr/>
          </p:nvSpPr>
          <p:spPr>
            <a:xfrm>
              <a:off x="3094200" y="2225520"/>
              <a:ext cx="5665680" cy="957240"/>
            </a:xfrm>
            <a:prstGeom prst="wedgeRectCallout">
              <a:avLst>
                <a:gd name="adj1" fmla="val -40643"/>
                <a:gd name="adj2" fmla="val 95935"/>
              </a:avLst>
            </a:prstGeom>
            <a:solidFill>
              <a:srgbClr val="cc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329520" y="2755800"/>
              <a:ext cx="1440" cy="231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35760" y="2714400"/>
              <a:ext cx="5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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076240" y="2743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837560" y="28288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607520" y="2828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550200" y="2828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098760" y="28288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872320" y="2828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631040" y="2828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715920" y="26715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708360" y="2828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478280" y="27273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421320" y="27273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749560" y="2727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509720" y="2727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82720" y="2727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755120" y="28112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97800" y="28112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019920" y="28112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78640" y="28112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834360" y="281124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592960" y="2705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53120" y="270504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070880" y="270504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027560" y="2705040"/>
              <a:ext cx="22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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08040" y="2705040"/>
              <a:ext cx="22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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776280" y="2832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57120" y="2832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938040" y="28321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428320" y="25016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28280" y="250164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705800" y="25016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439040" y="250164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399360" y="25016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759280" y="25016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538960" y="25016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10000" y="250164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49800" y="25016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408480" y="25016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307000" y="240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80160" y="24019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273360" y="24019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420880" y="240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130280" y="240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88960" y="24019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136360" y="237960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318440" y="237960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53560" y="237960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56840" y="237960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083280" y="2379600"/>
              <a:ext cx="9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918760" y="237960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167080" y="2379600"/>
              <a:ext cx="11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023080" y="2379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29240" y="2379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98800" y="2379600"/>
              <a:ext cx="11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791160" y="237960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573720" y="2379600"/>
              <a:ext cx="14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850520" y="2484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542280" y="2484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683320" y="2484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392720" y="24843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67000" y="2379600"/>
              <a:ext cx="22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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714560" y="2379600"/>
              <a:ext cx="22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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617520" y="2503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0280" y="2503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468320" y="2503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039560" y="2503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787320" y="3300480"/>
            <a:ext cx="3933720" cy="3153960"/>
            <a:chOff x="787320" y="3300480"/>
            <a:chExt cx="3933720" cy="3153960"/>
          </a:xfrm>
        </p:grpSpPr>
        <p:sp>
          <p:nvSpPr>
            <p:cNvPr id="626" name=""/>
            <p:cNvSpPr/>
            <p:nvPr/>
          </p:nvSpPr>
          <p:spPr>
            <a:xfrm>
              <a:off x="1901880" y="5268600"/>
              <a:ext cx="1704240" cy="65592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244520" y="5596920"/>
              <a:ext cx="65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039400" y="544644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dentifica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3606120" y="5596920"/>
              <a:ext cx="657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1244520" y="4120560"/>
              <a:ext cx="3018960" cy="1485000"/>
              <a:chOff x="1244520" y="4120560"/>
              <a:chExt cx="3018960" cy="1485000"/>
            </a:xfrm>
          </p:grpSpPr>
          <p:sp>
            <p:nvSpPr>
              <p:cNvPr id="631" name=""/>
              <p:cNvSpPr/>
              <p:nvPr/>
            </p:nvSpPr>
            <p:spPr>
              <a:xfrm>
                <a:off x="1244520" y="4120560"/>
                <a:ext cx="0" cy="148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263480" y="4120560"/>
                <a:ext cx="0" cy="148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2754720" y="5924880"/>
              <a:ext cx="0" cy="47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209600" y="4086000"/>
              <a:ext cx="64800" cy="64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30360" y="4087440"/>
              <a:ext cx="66600" cy="6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6" name="" descr=""/>
            <p:cNvPicPr/>
            <p:nvPr/>
          </p:nvPicPr>
          <p:blipFill>
            <a:blip r:embed="rId5"/>
            <a:stretch/>
          </p:blipFill>
          <p:spPr>
            <a:xfrm>
              <a:off x="2878920" y="6137280"/>
              <a:ext cx="1266480" cy="31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1918800" y="3350160"/>
              <a:ext cx="1704240" cy="106668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073600" y="3486960"/>
              <a:ext cx="1442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ste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rcialm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heci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87320" y="4120560"/>
              <a:ext cx="111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623040" y="4120560"/>
              <a:ext cx="109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6"/>
            <a:stretch/>
          </p:blipFill>
          <p:spPr>
            <a:xfrm>
              <a:off x="791640" y="3825360"/>
              <a:ext cx="404280" cy="26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7"/>
            <a:stretch/>
          </p:blipFill>
          <p:spPr>
            <a:xfrm>
              <a:off x="4130280" y="3792240"/>
              <a:ext cx="416160" cy="2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803520" y="3595320"/>
              <a:ext cx="111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8"/>
            <a:stretch/>
          </p:blipFill>
          <p:spPr>
            <a:xfrm>
              <a:off x="794520" y="3300480"/>
              <a:ext cx="410400" cy="2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 flipV="1">
              <a:off x="2754720" y="4416480"/>
              <a:ext cx="0" cy="42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907720" y="4868280"/>
              <a:ext cx="144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779840" y="47541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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981960" y="475416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054320" y="46760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822480" y="49302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707920" y="4930200"/>
              <a:ext cx="12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713040" y="482328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990520" y="4823280"/>
              <a:ext cx="111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80480" y="48232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830240" y="4823280"/>
              <a:ext cx="1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599480" y="4823280"/>
              <a:ext cx="16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474920" y="4823280"/>
              <a:ext cx="10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303000" y="4823280"/>
              <a:ext cx="25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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163960" y="4823280"/>
              <a:ext cx="25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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098160" y="4933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958040" y="493344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2408040" y="1316160"/>
            <a:ext cx="46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Identificação de Modelos AR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45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542880" y="1868400"/>
            <a:ext cx="808992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Horário: 13:30 - 15:00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6600"/>
                </a:solidFill>
                <a:uFillTx/>
                <a:latin typeface="Arial"/>
              </a:rPr>
              <a:t>Programa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09 fev 2004, segunda-feira: Introdução e Formulação Cláss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0 fev 2004, terça-feira: Condições de Otima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1 fev 2004, quarta-feira: LQ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2 fev 2004, quinta-feira:  Métodos Dire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3 fev 20043, sexta-feira: Tópicos Avanç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7160" y="14097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Controle Ótimo - Algumas Aplicações na Medic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664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4248000" y="5086440"/>
            <a:ext cx="3029040" cy="32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2"/>
          <a:stretch/>
        </p:blipFill>
        <p:spPr>
          <a:xfrm>
            <a:off x="3346560" y="3111480"/>
            <a:ext cx="1574640" cy="36828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3"/>
          <a:stretch/>
        </p:blipFill>
        <p:spPr>
          <a:xfrm>
            <a:off x="3143160" y="2089080"/>
            <a:ext cx="2095560" cy="35568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4114800" y="2438280"/>
            <a:ext cx="0" cy="5716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4"/>
          <a:stretch/>
        </p:blipFill>
        <p:spPr>
          <a:xfrm>
            <a:off x="3384720" y="4324320"/>
            <a:ext cx="1688760" cy="68580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4114800" y="3562200"/>
            <a:ext cx="0" cy="5716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114800" y="5010120"/>
            <a:ext cx="0" cy="628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4305240" y="5105520"/>
            <a:ext cx="2933640" cy="30456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6"/>
          <a:stretch/>
        </p:blipFill>
        <p:spPr>
          <a:xfrm>
            <a:off x="1574640" y="5746680"/>
            <a:ext cx="5689800" cy="35568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1158480" y="1317600"/>
            <a:ext cx="714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Região de Confiança para e ~ N(0 , </a:t>
            </a:r>
            <a:r>
              <a:rPr b="1" lang="en-US" sz="2000" spc="-1" strike="noStrike">
                <a:solidFill>
                  <a:srgbClr val="cc66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 baseline="30000">
                <a:solidFill>
                  <a:srgbClr val="cc66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I ) e </a:t>
            </a:r>
            <a:r>
              <a:rPr b="1" lang="en-US" sz="2000" spc="-1" strike="noStrike">
                <a:solidFill>
                  <a:srgbClr val="cc6600"/>
                </a:solidFill>
                <a:latin typeface="Symbol"/>
                <a:ea typeface="Symbol"/>
              </a:rPr>
              <a:t></a:t>
            </a: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 é conhecido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8" name=""/>
          <p:cNvGraphicFramePr/>
          <p:nvPr/>
        </p:nvGraphicFramePr>
        <p:xfrm>
          <a:off x="1719360" y="2162160"/>
          <a:ext cx="57672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9360" y="2162160"/>
                    <a:ext cx="57672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0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681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1532520" y="1351080"/>
            <a:ext cx="64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Sensibilidade do Controle Ótimo: Caso da Dengu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687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3305160" y="136512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</a:rPr>
              <a:t>Ótimo x Sub-Ótim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566720" y="5530680"/>
            <a:ext cx="6413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1886040" y="2525760"/>
            <a:ext cx="0" cy="322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278080" y="3208320"/>
            <a:ext cx="1835280" cy="1784520"/>
          </a:xfrm>
          <a:custGeom>
            <a:avLst/>
            <a:gdLst/>
            <a:ahLst/>
            <a:rect l="l" t="t" r="r" b="b"/>
            <a:pathLst>
              <a:path w="1156" h="1124">
                <a:moveTo>
                  <a:pt x="0" y="0"/>
                </a:moveTo>
                <a:cubicBezTo>
                  <a:pt x="302" y="173"/>
                  <a:pt x="354" y="1124"/>
                  <a:pt x="552" y="1124"/>
                </a:cubicBezTo>
                <a:cubicBezTo>
                  <a:pt x="750" y="1124"/>
                  <a:pt x="741" y="155"/>
                  <a:pt x="1156" y="155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106880" y="3449520"/>
            <a:ext cx="3135240" cy="1266840"/>
          </a:xfrm>
          <a:custGeom>
            <a:avLst/>
            <a:gdLst/>
            <a:ahLst/>
            <a:rect l="l" t="t" r="r" b="b"/>
            <a:pathLst>
              <a:path w="1975" h="798">
                <a:moveTo>
                  <a:pt x="0" y="0"/>
                </a:moveTo>
                <a:cubicBezTo>
                  <a:pt x="265" y="9"/>
                  <a:pt x="494" y="796"/>
                  <a:pt x="1137" y="795"/>
                </a:cubicBezTo>
                <a:cubicBezTo>
                  <a:pt x="1591" y="798"/>
                  <a:pt x="1720" y="500"/>
                  <a:pt x="1975" y="469"/>
                </a:cubicBezTo>
              </a:path>
            </a:pathLst>
          </a:custGeom>
          <a:noFill/>
          <a:ln w="284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3154320" y="341100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5934240" y="340308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853360" y="563076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8000"/>
                </a:solidFill>
                <a:latin typeface="Arial"/>
              </a:rPr>
              <a:t>ót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487840" y="563868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900ff"/>
                </a:solidFill>
                <a:latin typeface="Arial"/>
              </a:rPr>
              <a:t>sub-ót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810200" y="5173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945080" y="237348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J(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3411360" y="4136760"/>
            <a:ext cx="0" cy="15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2867040" y="4128840"/>
            <a:ext cx="0" cy="15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83000" y="4484520"/>
            <a:ext cx="16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576520" y="4998960"/>
            <a:ext cx="16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49640" y="4484520"/>
            <a:ext cx="0" cy="5083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6205680" y="4128840"/>
            <a:ext cx="0" cy="15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5661000" y="4120920"/>
            <a:ext cx="0" cy="15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464080" y="4680000"/>
            <a:ext cx="169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57960" y="4716360"/>
            <a:ext cx="16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7024680" y="4716360"/>
            <a:ext cx="0" cy="479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7024680" y="4411800"/>
            <a:ext cx="0" cy="2476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105000" y="5484960"/>
            <a:ext cx="88920" cy="88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888160" y="5483160"/>
            <a:ext cx="88920" cy="88920"/>
          </a:xfrm>
          <a:prstGeom prst="ellipse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716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542880" y="2192400"/>
            <a:ext cx="8089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emplos de Dificuldad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Representação, com um só funcional, todos os objetivos desej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Incertezas e Sensibi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aracterização Numérica x Lingu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Fenômenos Estocás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Tecnica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2416680" y="1349280"/>
            <a:ext cx="44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Conjuntos Nebulosos (Fuzz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1898640" y="2262240"/>
            <a:ext cx="6003720" cy="3954960"/>
            <a:chOff x="1898640" y="2262240"/>
            <a:chExt cx="6003720" cy="3954960"/>
          </a:xfrm>
        </p:grpSpPr>
        <p:sp>
          <p:nvSpPr>
            <p:cNvPr id="723" name=""/>
            <p:cNvSpPr/>
            <p:nvPr/>
          </p:nvSpPr>
          <p:spPr>
            <a:xfrm>
              <a:off x="1898640" y="5317200"/>
              <a:ext cx="6003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2115720" y="2503440"/>
              <a:ext cx="0" cy="310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130120" y="3460680"/>
              <a:ext cx="3690360" cy="1912320"/>
            </a:xfrm>
            <a:custGeom>
              <a:avLst/>
              <a:gdLst/>
              <a:ahLst/>
              <a:rect l="l" t="t" r="r" b="b"/>
              <a:pathLst>
                <a:path w="2037" h="1093">
                  <a:moveTo>
                    <a:pt x="0" y="1061"/>
                  </a:moveTo>
                  <a:cubicBezTo>
                    <a:pt x="124" y="1041"/>
                    <a:pt x="550" y="1093"/>
                    <a:pt x="744" y="941"/>
                  </a:cubicBezTo>
                  <a:cubicBezTo>
                    <a:pt x="938" y="789"/>
                    <a:pt x="949" y="302"/>
                    <a:pt x="1164" y="151"/>
                  </a:cubicBezTo>
                  <a:cubicBezTo>
                    <a:pt x="1379" y="0"/>
                    <a:pt x="1855" y="57"/>
                    <a:pt x="2037" y="3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11680" y="3973320"/>
              <a:ext cx="0" cy="1404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11680" y="5848920"/>
              <a:ext cx="11300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2681280" y="5848920"/>
              <a:ext cx="113040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985360" y="4821840"/>
              <a:ext cx="1791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Temperatura (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 Narrow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62560" y="5378400"/>
              <a:ext cx="38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30120" y="2262240"/>
              <a:ext cx="1016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Feb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14560" y="584892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Febr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925720" y="5848920"/>
              <a:ext cx="77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Afebr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735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562120" y="3603600"/>
            <a:ext cx="1957320" cy="14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357640" y="5149800"/>
            <a:ext cx="241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ador Nebulo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745880" y="3989520"/>
            <a:ext cx="436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306560" y="3983040"/>
            <a:ext cx="515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731920" y="350532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646280" y="4824360"/>
            <a:ext cx="9158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519440" y="4437000"/>
            <a:ext cx="9082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195640" y="4307040"/>
            <a:ext cx="3664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84280" y="3816360"/>
            <a:ext cx="181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2381400" y="3454200"/>
            <a:ext cx="0" cy="36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2378160" y="3449160"/>
            <a:ext cx="379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6170760" y="3454200"/>
            <a:ext cx="0" cy="6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195640" y="3332160"/>
            <a:ext cx="4279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2197080" y="3331800"/>
            <a:ext cx="0" cy="9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923800" y="36590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590880" y="352584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80960" y="36781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186680" y="4440240"/>
            <a:ext cx="831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746440" y="3759120"/>
            <a:ext cx="733320" cy="1095480"/>
          </a:xfrm>
          <a:custGeom>
            <a:avLst/>
            <a:gdLst/>
            <a:ahLst/>
            <a:rect l="l" t="t" r="r" b="b"/>
            <a:pathLst>
              <a:path w="924" h="1380">
                <a:moveTo>
                  <a:pt x="0" y="1380"/>
                </a:moveTo>
                <a:lnTo>
                  <a:pt x="462" y="0"/>
                </a:lnTo>
                <a:lnTo>
                  <a:pt x="924" y="1380"/>
                </a:lnTo>
                <a:lnTo>
                  <a:pt x="0" y="1380"/>
                </a:lnTo>
                <a:close/>
              </a:path>
            </a:pathLst>
          </a:custGeom>
          <a:noFill/>
          <a:ln w="1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173400" y="3759120"/>
            <a:ext cx="735120" cy="1095480"/>
          </a:xfrm>
          <a:custGeom>
            <a:avLst/>
            <a:gdLst/>
            <a:ahLst/>
            <a:rect l="l" t="t" r="r" b="b"/>
            <a:pathLst>
              <a:path w="924" h="1380">
                <a:moveTo>
                  <a:pt x="0" y="1380"/>
                </a:moveTo>
                <a:lnTo>
                  <a:pt x="462" y="0"/>
                </a:lnTo>
                <a:lnTo>
                  <a:pt x="924" y="1380"/>
                </a:lnTo>
                <a:lnTo>
                  <a:pt x="0" y="1380"/>
                </a:lnTo>
                <a:close/>
              </a:path>
            </a:pathLst>
          </a:custGeom>
          <a:noFill/>
          <a:ln w="1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602160" y="3759120"/>
            <a:ext cx="733320" cy="1095480"/>
          </a:xfrm>
          <a:custGeom>
            <a:avLst/>
            <a:gdLst/>
            <a:ahLst/>
            <a:rect l="l" t="t" r="r" b="b"/>
            <a:pathLst>
              <a:path w="925" h="1380">
                <a:moveTo>
                  <a:pt x="0" y="1380"/>
                </a:moveTo>
                <a:lnTo>
                  <a:pt x="462" y="0"/>
                </a:lnTo>
                <a:lnTo>
                  <a:pt x="925" y="1380"/>
                </a:lnTo>
                <a:lnTo>
                  <a:pt x="0" y="1380"/>
                </a:lnTo>
                <a:close/>
              </a:path>
            </a:pathLst>
          </a:custGeom>
          <a:noFill/>
          <a:ln w="1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467320" y="4089240"/>
            <a:ext cx="169560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538960" y="4384800"/>
            <a:ext cx="16984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700600" y="4068720"/>
            <a:ext cx="151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597640" y="4233960"/>
            <a:ext cx="14317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cess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478560" y="3335400"/>
            <a:ext cx="0" cy="74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562040" y="4336920"/>
            <a:ext cx="63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 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03160" y="455616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699280" y="1349280"/>
            <a:ext cx="39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Controladores Nebulo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769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"/>
          <p:cNvGrpSpPr/>
          <p:nvPr/>
        </p:nvGrpSpPr>
        <p:grpSpPr>
          <a:xfrm>
            <a:off x="1228680" y="2360520"/>
            <a:ext cx="6982560" cy="3601440"/>
            <a:chOff x="1228680" y="2360520"/>
            <a:chExt cx="6982560" cy="3601440"/>
          </a:xfrm>
        </p:grpSpPr>
        <p:sp>
          <p:nvSpPr>
            <p:cNvPr id="774" name=""/>
            <p:cNvSpPr/>
            <p:nvPr/>
          </p:nvSpPr>
          <p:spPr>
            <a:xfrm>
              <a:off x="1228680" y="5676480"/>
              <a:ext cx="6787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658640" y="5115600"/>
              <a:ext cx="55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er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515480" y="2360520"/>
              <a:ext cx="997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er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3604680" y="3658680"/>
              <a:ext cx="896400" cy="2001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4501080" y="3658680"/>
              <a:ext cx="896040" cy="200196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2694240" y="3674160"/>
              <a:ext cx="896040" cy="20023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 flipV="1">
              <a:off x="3590640" y="3674160"/>
              <a:ext cx="896400" cy="20023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4515480" y="3658680"/>
              <a:ext cx="896400" cy="2001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 flipV="1">
              <a:off x="5411880" y="3658680"/>
              <a:ext cx="896040" cy="2001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612800" y="3674160"/>
              <a:ext cx="109548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 flipV="1">
              <a:off x="2693880" y="3658680"/>
              <a:ext cx="896040" cy="20019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5397480" y="3674160"/>
              <a:ext cx="896400" cy="200232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6293880" y="3674160"/>
              <a:ext cx="1109880" cy="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32160" y="303984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N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009160" y="3039840"/>
              <a:ext cx="49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512960" y="3039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40880" y="3039840"/>
              <a:ext cx="45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377760" y="303984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P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4501440" y="2619360"/>
              <a:ext cx="0" cy="334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1890360" y="1349280"/>
            <a:ext cx="556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Exemplos de Funções de Pertin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795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2494080" y="2711520"/>
            <a:ext cx="168120" cy="19080"/>
          </a:xfrm>
          <a:custGeom>
            <a:avLst/>
            <a:gdLst/>
            <a:ahLst/>
            <a:rect l="l" t="t" r="r" b="b"/>
            <a:pathLst>
              <a:path w="212" h="24">
                <a:moveTo>
                  <a:pt x="191" y="6"/>
                </a:moveTo>
                <a:lnTo>
                  <a:pt x="201" y="0"/>
                </a:lnTo>
                <a:lnTo>
                  <a:pt x="0" y="1"/>
                </a:lnTo>
                <a:lnTo>
                  <a:pt x="0" y="24"/>
                </a:lnTo>
                <a:lnTo>
                  <a:pt x="201" y="23"/>
                </a:lnTo>
                <a:lnTo>
                  <a:pt x="212" y="16"/>
                </a:lnTo>
                <a:lnTo>
                  <a:pt x="201" y="23"/>
                </a:lnTo>
                <a:lnTo>
                  <a:pt x="208" y="21"/>
                </a:lnTo>
                <a:lnTo>
                  <a:pt x="212" y="16"/>
                </a:lnTo>
                <a:lnTo>
                  <a:pt x="191" y="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639880" y="2139840"/>
            <a:ext cx="279360" cy="584280"/>
          </a:xfrm>
          <a:custGeom>
            <a:avLst/>
            <a:gdLst/>
            <a:ahLst/>
            <a:rect l="l" t="t" r="r" b="b"/>
            <a:pathLst>
              <a:path w="351" h="735">
                <a:moveTo>
                  <a:pt x="341" y="0"/>
                </a:moveTo>
                <a:lnTo>
                  <a:pt x="331" y="6"/>
                </a:lnTo>
                <a:lnTo>
                  <a:pt x="0" y="725"/>
                </a:lnTo>
                <a:lnTo>
                  <a:pt x="21" y="735"/>
                </a:lnTo>
                <a:lnTo>
                  <a:pt x="351" y="16"/>
                </a:lnTo>
                <a:lnTo>
                  <a:pt x="341" y="22"/>
                </a:lnTo>
                <a:lnTo>
                  <a:pt x="341" y="0"/>
                </a:lnTo>
                <a:lnTo>
                  <a:pt x="334" y="0"/>
                </a:lnTo>
                <a:lnTo>
                  <a:pt x="331" y="6"/>
                </a:lnTo>
                <a:lnTo>
                  <a:pt x="34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909880" y="2139840"/>
            <a:ext cx="326880" cy="22320"/>
          </a:xfrm>
          <a:custGeom>
            <a:avLst/>
            <a:gdLst/>
            <a:ahLst/>
            <a:rect l="l" t="t" r="r" b="b"/>
            <a:pathLst>
              <a:path w="412" h="26">
                <a:moveTo>
                  <a:pt x="412" y="12"/>
                </a:moveTo>
                <a:lnTo>
                  <a:pt x="402" y="3"/>
                </a:lnTo>
                <a:lnTo>
                  <a:pt x="0" y="0"/>
                </a:lnTo>
                <a:lnTo>
                  <a:pt x="0" y="22"/>
                </a:lnTo>
                <a:lnTo>
                  <a:pt x="402" y="26"/>
                </a:lnTo>
                <a:lnTo>
                  <a:pt x="391" y="17"/>
                </a:lnTo>
                <a:lnTo>
                  <a:pt x="412" y="12"/>
                </a:lnTo>
                <a:lnTo>
                  <a:pt x="411" y="5"/>
                </a:lnTo>
                <a:lnTo>
                  <a:pt x="402" y="3"/>
                </a:lnTo>
                <a:lnTo>
                  <a:pt x="412" y="1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220920" y="2151000"/>
            <a:ext cx="160560" cy="577800"/>
          </a:xfrm>
          <a:custGeom>
            <a:avLst/>
            <a:gdLst/>
            <a:ahLst/>
            <a:rect l="l" t="t" r="r" b="b"/>
            <a:pathLst>
              <a:path w="202" h="730">
                <a:moveTo>
                  <a:pt x="192" y="707"/>
                </a:moveTo>
                <a:lnTo>
                  <a:pt x="202" y="716"/>
                </a:lnTo>
                <a:lnTo>
                  <a:pt x="21" y="0"/>
                </a:lnTo>
                <a:lnTo>
                  <a:pt x="0" y="5"/>
                </a:lnTo>
                <a:lnTo>
                  <a:pt x="182" y="721"/>
                </a:lnTo>
                <a:lnTo>
                  <a:pt x="192" y="730"/>
                </a:lnTo>
                <a:lnTo>
                  <a:pt x="182" y="721"/>
                </a:lnTo>
                <a:lnTo>
                  <a:pt x="183" y="730"/>
                </a:lnTo>
                <a:lnTo>
                  <a:pt x="192" y="730"/>
                </a:lnTo>
                <a:lnTo>
                  <a:pt x="192" y="70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370320" y="2711520"/>
            <a:ext cx="244440" cy="17280"/>
          </a:xfrm>
          <a:custGeom>
            <a:avLst/>
            <a:gdLst/>
            <a:ahLst/>
            <a:rect l="l" t="t" r="r" b="b"/>
            <a:pathLst>
              <a:path w="307" h="23">
                <a:moveTo>
                  <a:pt x="307" y="11"/>
                </a:moveTo>
                <a:lnTo>
                  <a:pt x="307" y="0"/>
                </a:lnTo>
                <a:lnTo>
                  <a:pt x="0" y="0"/>
                </a:lnTo>
                <a:lnTo>
                  <a:pt x="0" y="23"/>
                </a:lnTo>
                <a:lnTo>
                  <a:pt x="307" y="23"/>
                </a:lnTo>
                <a:lnTo>
                  <a:pt x="307" y="1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03480" y="2130480"/>
            <a:ext cx="117360" cy="9360"/>
          </a:xfrm>
          <a:custGeom>
            <a:avLst/>
            <a:gdLst/>
            <a:ahLst/>
            <a:rect l="l" t="t" r="r" b="b"/>
            <a:pathLst>
              <a:path w="148" h="13">
                <a:moveTo>
                  <a:pt x="148" y="6"/>
                </a:moveTo>
                <a:lnTo>
                  <a:pt x="148" y="0"/>
                </a:lnTo>
                <a:lnTo>
                  <a:pt x="0" y="0"/>
                </a:lnTo>
                <a:lnTo>
                  <a:pt x="0" y="13"/>
                </a:lnTo>
                <a:lnTo>
                  <a:pt x="148" y="13"/>
                </a:lnTo>
                <a:lnTo>
                  <a:pt x="148" y="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963800" y="2082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643120" y="1681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293920" y="191448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383920" y="191448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646440" y="2419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766680" y="24940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243160" y="3243240"/>
            <a:ext cx="136440" cy="590400"/>
          </a:xfrm>
          <a:custGeom>
            <a:avLst/>
            <a:gdLst/>
            <a:ahLst/>
            <a:rect l="l" t="t" r="r" b="b"/>
            <a:pathLst>
              <a:path w="171" h="744">
                <a:moveTo>
                  <a:pt x="161" y="2"/>
                </a:moveTo>
                <a:lnTo>
                  <a:pt x="150" y="9"/>
                </a:lnTo>
                <a:lnTo>
                  <a:pt x="0" y="739"/>
                </a:lnTo>
                <a:lnTo>
                  <a:pt x="20" y="744"/>
                </a:lnTo>
                <a:lnTo>
                  <a:pt x="171" y="14"/>
                </a:lnTo>
                <a:lnTo>
                  <a:pt x="161" y="22"/>
                </a:lnTo>
                <a:lnTo>
                  <a:pt x="161" y="0"/>
                </a:lnTo>
                <a:lnTo>
                  <a:pt x="152" y="0"/>
                </a:lnTo>
                <a:lnTo>
                  <a:pt x="150" y="9"/>
                </a:lnTo>
                <a:lnTo>
                  <a:pt x="161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371680" y="3241800"/>
            <a:ext cx="249120" cy="19080"/>
          </a:xfrm>
          <a:custGeom>
            <a:avLst/>
            <a:gdLst/>
            <a:ahLst/>
            <a:rect l="l" t="t" r="r" b="b"/>
            <a:pathLst>
              <a:path w="315" h="24">
                <a:moveTo>
                  <a:pt x="315" y="7"/>
                </a:moveTo>
                <a:lnTo>
                  <a:pt x="306" y="3"/>
                </a:lnTo>
                <a:lnTo>
                  <a:pt x="0" y="0"/>
                </a:lnTo>
                <a:lnTo>
                  <a:pt x="0" y="20"/>
                </a:lnTo>
                <a:lnTo>
                  <a:pt x="306" y="24"/>
                </a:lnTo>
                <a:lnTo>
                  <a:pt x="297" y="20"/>
                </a:lnTo>
                <a:lnTo>
                  <a:pt x="315" y="7"/>
                </a:lnTo>
                <a:lnTo>
                  <a:pt x="312" y="3"/>
                </a:lnTo>
                <a:lnTo>
                  <a:pt x="306" y="2"/>
                </a:lnTo>
                <a:lnTo>
                  <a:pt x="315" y="7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606760" y="3251160"/>
            <a:ext cx="377640" cy="588960"/>
          </a:xfrm>
          <a:custGeom>
            <a:avLst/>
            <a:gdLst/>
            <a:ahLst/>
            <a:rect l="l" t="t" r="r" b="b"/>
            <a:pathLst>
              <a:path w="474" h="744">
                <a:moveTo>
                  <a:pt x="465" y="721"/>
                </a:moveTo>
                <a:lnTo>
                  <a:pt x="474" y="726"/>
                </a:lnTo>
                <a:lnTo>
                  <a:pt x="18" y="0"/>
                </a:lnTo>
                <a:lnTo>
                  <a:pt x="0" y="13"/>
                </a:lnTo>
                <a:lnTo>
                  <a:pt x="456" y="739"/>
                </a:lnTo>
                <a:lnTo>
                  <a:pt x="465" y="744"/>
                </a:lnTo>
                <a:lnTo>
                  <a:pt x="456" y="739"/>
                </a:lnTo>
                <a:lnTo>
                  <a:pt x="459" y="742"/>
                </a:lnTo>
                <a:lnTo>
                  <a:pt x="465" y="744"/>
                </a:lnTo>
                <a:lnTo>
                  <a:pt x="465" y="72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976480" y="3822840"/>
            <a:ext cx="244440" cy="17280"/>
          </a:xfrm>
          <a:custGeom>
            <a:avLst/>
            <a:gdLst/>
            <a:ahLst/>
            <a:rect l="l" t="t" r="r" b="b"/>
            <a:pathLst>
              <a:path w="308" h="23">
                <a:moveTo>
                  <a:pt x="308" y="11"/>
                </a:moveTo>
                <a:lnTo>
                  <a:pt x="308" y="0"/>
                </a:lnTo>
                <a:lnTo>
                  <a:pt x="0" y="0"/>
                </a:lnTo>
                <a:lnTo>
                  <a:pt x="0" y="23"/>
                </a:lnTo>
                <a:lnTo>
                  <a:pt x="308" y="23"/>
                </a:lnTo>
                <a:lnTo>
                  <a:pt x="308" y="1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963800" y="32036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293920" y="30337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387520" y="30337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635280" y="3571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754080" y="36482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311720" y="2711520"/>
            <a:ext cx="168120" cy="19080"/>
          </a:xfrm>
          <a:custGeom>
            <a:avLst/>
            <a:gdLst/>
            <a:ahLst/>
            <a:rect l="l" t="t" r="r" b="b"/>
            <a:pathLst>
              <a:path w="211" h="24">
                <a:moveTo>
                  <a:pt x="191" y="6"/>
                </a:moveTo>
                <a:lnTo>
                  <a:pt x="201" y="0"/>
                </a:lnTo>
                <a:lnTo>
                  <a:pt x="0" y="1"/>
                </a:lnTo>
                <a:lnTo>
                  <a:pt x="0" y="24"/>
                </a:lnTo>
                <a:lnTo>
                  <a:pt x="201" y="23"/>
                </a:lnTo>
                <a:lnTo>
                  <a:pt x="211" y="16"/>
                </a:lnTo>
                <a:lnTo>
                  <a:pt x="201" y="23"/>
                </a:lnTo>
                <a:lnTo>
                  <a:pt x="208" y="21"/>
                </a:lnTo>
                <a:lnTo>
                  <a:pt x="211" y="16"/>
                </a:lnTo>
                <a:lnTo>
                  <a:pt x="191" y="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464000" y="2144880"/>
            <a:ext cx="281160" cy="579240"/>
          </a:xfrm>
          <a:custGeom>
            <a:avLst/>
            <a:gdLst/>
            <a:ahLst/>
            <a:rect l="l" t="t" r="r" b="b"/>
            <a:pathLst>
              <a:path w="353" h="730">
                <a:moveTo>
                  <a:pt x="332" y="12"/>
                </a:moveTo>
                <a:lnTo>
                  <a:pt x="330" y="1"/>
                </a:lnTo>
                <a:lnTo>
                  <a:pt x="0" y="720"/>
                </a:lnTo>
                <a:lnTo>
                  <a:pt x="20" y="730"/>
                </a:lnTo>
                <a:lnTo>
                  <a:pt x="351" y="11"/>
                </a:lnTo>
                <a:lnTo>
                  <a:pt x="349" y="0"/>
                </a:lnTo>
                <a:lnTo>
                  <a:pt x="351" y="11"/>
                </a:lnTo>
                <a:lnTo>
                  <a:pt x="353" y="5"/>
                </a:lnTo>
                <a:lnTo>
                  <a:pt x="349" y="0"/>
                </a:lnTo>
                <a:lnTo>
                  <a:pt x="332" y="1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727520" y="2143080"/>
            <a:ext cx="476280" cy="585720"/>
          </a:xfrm>
          <a:custGeom>
            <a:avLst/>
            <a:gdLst/>
            <a:ahLst/>
            <a:rect l="l" t="t" r="r" b="b"/>
            <a:pathLst>
              <a:path w="612" h="755">
                <a:moveTo>
                  <a:pt x="603" y="732"/>
                </a:moveTo>
                <a:lnTo>
                  <a:pt x="612" y="737"/>
                </a:lnTo>
                <a:lnTo>
                  <a:pt x="18" y="0"/>
                </a:lnTo>
                <a:lnTo>
                  <a:pt x="0" y="13"/>
                </a:lnTo>
                <a:lnTo>
                  <a:pt x="595" y="750"/>
                </a:lnTo>
                <a:lnTo>
                  <a:pt x="603" y="755"/>
                </a:lnTo>
                <a:lnTo>
                  <a:pt x="595" y="750"/>
                </a:lnTo>
                <a:lnTo>
                  <a:pt x="598" y="755"/>
                </a:lnTo>
                <a:lnTo>
                  <a:pt x="603" y="755"/>
                </a:lnTo>
                <a:lnTo>
                  <a:pt x="603" y="73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197320" y="2711520"/>
            <a:ext cx="243000" cy="17280"/>
          </a:xfrm>
          <a:custGeom>
            <a:avLst/>
            <a:gdLst/>
            <a:ahLst/>
            <a:rect l="l" t="t" r="r" b="b"/>
            <a:pathLst>
              <a:path w="308" h="23">
                <a:moveTo>
                  <a:pt x="308" y="11"/>
                </a:moveTo>
                <a:lnTo>
                  <a:pt x="308" y="0"/>
                </a:lnTo>
                <a:lnTo>
                  <a:pt x="0" y="0"/>
                </a:lnTo>
                <a:lnTo>
                  <a:pt x="0" y="23"/>
                </a:lnTo>
                <a:lnTo>
                  <a:pt x="308" y="23"/>
                </a:lnTo>
                <a:lnTo>
                  <a:pt x="308" y="1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008600" y="2130480"/>
            <a:ext cx="117360" cy="9360"/>
          </a:xfrm>
          <a:custGeom>
            <a:avLst/>
            <a:gdLst/>
            <a:ahLst/>
            <a:rect l="l" t="t" r="r" b="b"/>
            <a:pathLst>
              <a:path w="148" h="13">
                <a:moveTo>
                  <a:pt x="148" y="6"/>
                </a:moveTo>
                <a:lnTo>
                  <a:pt x="148" y="0"/>
                </a:lnTo>
                <a:lnTo>
                  <a:pt x="0" y="0"/>
                </a:lnTo>
                <a:lnTo>
                  <a:pt x="0" y="13"/>
                </a:lnTo>
                <a:lnTo>
                  <a:pt x="148" y="13"/>
                </a:lnTo>
                <a:lnTo>
                  <a:pt x="148" y="6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867120" y="2082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546440" y="1681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197240" y="191448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286520" y="191448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533920" y="24685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654160" y="2544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735440" y="3243240"/>
            <a:ext cx="325440" cy="600120"/>
          </a:xfrm>
          <a:custGeom>
            <a:avLst/>
            <a:gdLst/>
            <a:ahLst/>
            <a:rect l="l" t="t" r="r" b="b"/>
            <a:pathLst>
              <a:path w="408" h="756">
                <a:moveTo>
                  <a:pt x="398" y="0"/>
                </a:moveTo>
                <a:lnTo>
                  <a:pt x="388" y="7"/>
                </a:lnTo>
                <a:lnTo>
                  <a:pt x="0" y="746"/>
                </a:lnTo>
                <a:lnTo>
                  <a:pt x="20" y="756"/>
                </a:lnTo>
                <a:lnTo>
                  <a:pt x="408" y="17"/>
                </a:lnTo>
                <a:lnTo>
                  <a:pt x="398" y="23"/>
                </a:lnTo>
                <a:lnTo>
                  <a:pt x="398" y="0"/>
                </a:lnTo>
                <a:lnTo>
                  <a:pt x="391" y="2"/>
                </a:lnTo>
                <a:lnTo>
                  <a:pt x="388" y="7"/>
                </a:lnTo>
                <a:lnTo>
                  <a:pt x="398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051520" y="3243240"/>
            <a:ext cx="333360" cy="19080"/>
          </a:xfrm>
          <a:custGeom>
            <a:avLst/>
            <a:gdLst/>
            <a:ahLst/>
            <a:rect l="l" t="t" r="r" b="b"/>
            <a:pathLst>
              <a:path w="419" h="25">
                <a:moveTo>
                  <a:pt x="404" y="5"/>
                </a:moveTo>
                <a:lnTo>
                  <a:pt x="412" y="2"/>
                </a:lnTo>
                <a:lnTo>
                  <a:pt x="0" y="0"/>
                </a:lnTo>
                <a:lnTo>
                  <a:pt x="0" y="23"/>
                </a:lnTo>
                <a:lnTo>
                  <a:pt x="412" y="25"/>
                </a:lnTo>
                <a:lnTo>
                  <a:pt x="419" y="21"/>
                </a:lnTo>
                <a:lnTo>
                  <a:pt x="412" y="25"/>
                </a:lnTo>
                <a:lnTo>
                  <a:pt x="416" y="23"/>
                </a:lnTo>
                <a:lnTo>
                  <a:pt x="419" y="21"/>
                </a:lnTo>
                <a:lnTo>
                  <a:pt x="404" y="5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373720" y="3246480"/>
            <a:ext cx="12600" cy="126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7" y="15"/>
                </a:moveTo>
                <a:lnTo>
                  <a:pt x="1" y="0"/>
                </a:lnTo>
                <a:lnTo>
                  <a:pt x="0" y="1"/>
                </a:lnTo>
                <a:lnTo>
                  <a:pt x="15" y="17"/>
                </a:lnTo>
                <a:lnTo>
                  <a:pt x="17" y="15"/>
                </a:lnTo>
                <a:lnTo>
                  <a:pt x="1" y="0"/>
                </a:lnTo>
                <a:lnTo>
                  <a:pt x="17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373720" y="3246480"/>
            <a:ext cx="12600" cy="12600"/>
          </a:xfrm>
          <a:custGeom>
            <a:avLst/>
            <a:gdLst/>
            <a:ahLst/>
            <a:rect l="l" t="t" r="r" b="b"/>
            <a:pathLst>
              <a:path w="17" h="17">
                <a:moveTo>
                  <a:pt x="8" y="9"/>
                </a:moveTo>
                <a:lnTo>
                  <a:pt x="15" y="17"/>
                </a:lnTo>
                <a:lnTo>
                  <a:pt x="17" y="15"/>
                </a:lnTo>
                <a:lnTo>
                  <a:pt x="1" y="0"/>
                </a:lnTo>
                <a:lnTo>
                  <a:pt x="0" y="1"/>
                </a:lnTo>
                <a:lnTo>
                  <a:pt x="8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868560" y="32036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548240" y="28004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243320" y="307188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331880" y="307188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589720" y="35830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709960" y="3659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062080" y="4686480"/>
            <a:ext cx="1613160" cy="17280"/>
          </a:xfrm>
          <a:custGeom>
            <a:avLst/>
            <a:gdLst/>
            <a:ahLst/>
            <a:rect l="l" t="t" r="r" b="b"/>
            <a:pathLst>
              <a:path w="2032" h="23">
                <a:moveTo>
                  <a:pt x="2032" y="12"/>
                </a:moveTo>
                <a:lnTo>
                  <a:pt x="2032" y="0"/>
                </a:lnTo>
                <a:lnTo>
                  <a:pt x="0" y="0"/>
                </a:lnTo>
                <a:lnTo>
                  <a:pt x="0" y="23"/>
                </a:lnTo>
                <a:lnTo>
                  <a:pt x="2032" y="23"/>
                </a:lnTo>
                <a:lnTo>
                  <a:pt x="2032" y="1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668760" y="4638600"/>
            <a:ext cx="111240" cy="111240"/>
          </a:xfrm>
          <a:custGeom>
            <a:avLst/>
            <a:gdLst/>
            <a:ahLst/>
            <a:rect l="l" t="t" r="r" b="b"/>
            <a:pathLst>
              <a:path w="141" h="140">
                <a:moveTo>
                  <a:pt x="141" y="70"/>
                </a:moveTo>
                <a:lnTo>
                  <a:pt x="141" y="70"/>
                </a:lnTo>
                <a:lnTo>
                  <a:pt x="0" y="0"/>
                </a:lnTo>
                <a:lnTo>
                  <a:pt x="0" y="140"/>
                </a:lnTo>
                <a:lnTo>
                  <a:pt x="141" y="70"/>
                </a:lnTo>
                <a:lnTo>
                  <a:pt x="141" y="7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136600" y="4624560"/>
            <a:ext cx="17640" cy="126720"/>
          </a:xfrm>
          <a:custGeom>
            <a:avLst/>
            <a:gdLst/>
            <a:ahLst/>
            <a:rect l="l" t="t" r="r" b="b"/>
            <a:pathLst>
              <a:path w="23" h="159">
                <a:moveTo>
                  <a:pt x="12" y="159"/>
                </a:moveTo>
                <a:lnTo>
                  <a:pt x="23" y="159"/>
                </a:lnTo>
                <a:lnTo>
                  <a:pt x="23" y="0"/>
                </a:lnTo>
                <a:lnTo>
                  <a:pt x="0" y="0"/>
                </a:lnTo>
                <a:lnTo>
                  <a:pt x="0" y="159"/>
                </a:lnTo>
                <a:lnTo>
                  <a:pt x="12" y="1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111400" y="48340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776680" y="48276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842920" y="4910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83040" y="4686480"/>
            <a:ext cx="1612800" cy="17280"/>
          </a:xfrm>
          <a:custGeom>
            <a:avLst/>
            <a:gdLst/>
            <a:ahLst/>
            <a:rect l="l" t="t" r="r" b="b"/>
            <a:pathLst>
              <a:path w="2032" h="23">
                <a:moveTo>
                  <a:pt x="2032" y="12"/>
                </a:moveTo>
                <a:lnTo>
                  <a:pt x="2032" y="0"/>
                </a:lnTo>
                <a:lnTo>
                  <a:pt x="0" y="0"/>
                </a:lnTo>
                <a:lnTo>
                  <a:pt x="0" y="23"/>
                </a:lnTo>
                <a:lnTo>
                  <a:pt x="2032" y="23"/>
                </a:lnTo>
                <a:lnTo>
                  <a:pt x="2032" y="1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589720" y="4638600"/>
            <a:ext cx="110880" cy="111240"/>
          </a:xfrm>
          <a:custGeom>
            <a:avLst/>
            <a:gdLst/>
            <a:ahLst/>
            <a:rect l="l" t="t" r="r" b="b"/>
            <a:pathLst>
              <a:path w="141" h="140">
                <a:moveTo>
                  <a:pt x="141" y="70"/>
                </a:moveTo>
                <a:lnTo>
                  <a:pt x="141" y="70"/>
                </a:lnTo>
                <a:lnTo>
                  <a:pt x="0" y="0"/>
                </a:lnTo>
                <a:lnTo>
                  <a:pt x="0" y="140"/>
                </a:lnTo>
                <a:lnTo>
                  <a:pt x="141" y="70"/>
                </a:lnTo>
                <a:lnTo>
                  <a:pt x="141" y="7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057560" y="4624560"/>
            <a:ext cx="17640" cy="126720"/>
          </a:xfrm>
          <a:custGeom>
            <a:avLst/>
            <a:gdLst/>
            <a:ahLst/>
            <a:rect l="l" t="t" r="r" b="b"/>
            <a:pathLst>
              <a:path w="23" h="159">
                <a:moveTo>
                  <a:pt x="12" y="159"/>
                </a:moveTo>
                <a:lnTo>
                  <a:pt x="23" y="159"/>
                </a:lnTo>
                <a:lnTo>
                  <a:pt x="23" y="0"/>
                </a:lnTo>
                <a:lnTo>
                  <a:pt x="0" y="0"/>
                </a:lnTo>
                <a:lnTo>
                  <a:pt x="0" y="159"/>
                </a:lnTo>
                <a:lnTo>
                  <a:pt x="12" y="1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032360" y="48340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941720" y="48276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009760" y="4910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805120" y="4491000"/>
            <a:ext cx="28440" cy="198360"/>
          </a:xfrm>
          <a:custGeom>
            <a:avLst/>
            <a:gdLst/>
            <a:ahLst/>
            <a:rect l="l" t="t" r="r" b="b"/>
            <a:pathLst>
              <a:path w="36" h="249">
                <a:moveTo>
                  <a:pt x="18" y="0"/>
                </a:moveTo>
                <a:lnTo>
                  <a:pt x="0" y="0"/>
                </a:lnTo>
                <a:lnTo>
                  <a:pt x="0" y="249"/>
                </a:lnTo>
                <a:lnTo>
                  <a:pt x="36" y="249"/>
                </a:lnTo>
                <a:lnTo>
                  <a:pt x="36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735280" y="4462560"/>
            <a:ext cx="96840" cy="127080"/>
          </a:xfrm>
          <a:custGeom>
            <a:avLst/>
            <a:gdLst/>
            <a:ahLst/>
            <a:rect l="l" t="t" r="r" b="b"/>
            <a:pathLst>
              <a:path w="122" h="160">
                <a:moveTo>
                  <a:pt x="122" y="0"/>
                </a:moveTo>
                <a:lnTo>
                  <a:pt x="91" y="0"/>
                </a:lnTo>
                <a:lnTo>
                  <a:pt x="0" y="141"/>
                </a:lnTo>
                <a:lnTo>
                  <a:pt x="30" y="160"/>
                </a:lnTo>
                <a:lnTo>
                  <a:pt x="122" y="19"/>
                </a:lnTo>
                <a:lnTo>
                  <a:pt x="91" y="19"/>
                </a:lnTo>
                <a:lnTo>
                  <a:pt x="122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06560" y="4444920"/>
            <a:ext cx="25560" cy="17640"/>
          </a:xfrm>
          <a:custGeom>
            <a:avLst/>
            <a:gdLst/>
            <a:ahLst/>
            <a:rect l="l" t="t" r="r" b="b"/>
            <a:pathLst>
              <a:path w="31" h="22">
                <a:moveTo>
                  <a:pt x="31" y="22"/>
                </a:moveTo>
                <a:lnTo>
                  <a:pt x="15" y="0"/>
                </a:lnTo>
                <a:lnTo>
                  <a:pt x="0" y="22"/>
                </a:lnTo>
                <a:lnTo>
                  <a:pt x="31" y="2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806560" y="4462560"/>
            <a:ext cx="96840" cy="127080"/>
          </a:xfrm>
          <a:custGeom>
            <a:avLst/>
            <a:gdLst/>
            <a:ahLst/>
            <a:rect l="l" t="t" r="r" b="b"/>
            <a:pathLst>
              <a:path w="121" h="160">
                <a:moveTo>
                  <a:pt x="107" y="150"/>
                </a:moveTo>
                <a:lnTo>
                  <a:pt x="121" y="141"/>
                </a:lnTo>
                <a:lnTo>
                  <a:pt x="31" y="0"/>
                </a:lnTo>
                <a:lnTo>
                  <a:pt x="0" y="19"/>
                </a:lnTo>
                <a:lnTo>
                  <a:pt x="92" y="160"/>
                </a:lnTo>
                <a:lnTo>
                  <a:pt x="107" y="15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954680" y="4489560"/>
            <a:ext cx="27000" cy="198360"/>
          </a:xfrm>
          <a:custGeom>
            <a:avLst/>
            <a:gdLst/>
            <a:ahLst/>
            <a:rect l="l" t="t" r="r" b="b"/>
            <a:pathLst>
              <a:path w="36" h="250">
                <a:moveTo>
                  <a:pt x="18" y="0"/>
                </a:moveTo>
                <a:lnTo>
                  <a:pt x="0" y="0"/>
                </a:lnTo>
                <a:lnTo>
                  <a:pt x="0" y="250"/>
                </a:lnTo>
                <a:lnTo>
                  <a:pt x="36" y="250"/>
                </a:lnTo>
                <a:lnTo>
                  <a:pt x="36" y="0"/>
                </a:lnTo>
                <a:lnTo>
                  <a:pt x="18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884840" y="4459320"/>
            <a:ext cx="95040" cy="128520"/>
          </a:xfrm>
          <a:custGeom>
            <a:avLst/>
            <a:gdLst/>
            <a:ahLst/>
            <a:rect l="l" t="t" r="r" b="b"/>
            <a:pathLst>
              <a:path w="121" h="161">
                <a:moveTo>
                  <a:pt x="121" y="0"/>
                </a:moveTo>
                <a:lnTo>
                  <a:pt x="91" y="0"/>
                </a:lnTo>
                <a:lnTo>
                  <a:pt x="0" y="142"/>
                </a:lnTo>
                <a:lnTo>
                  <a:pt x="30" y="161"/>
                </a:lnTo>
                <a:lnTo>
                  <a:pt x="121" y="19"/>
                </a:lnTo>
                <a:lnTo>
                  <a:pt x="91" y="19"/>
                </a:lnTo>
                <a:lnTo>
                  <a:pt x="121" y="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956120" y="4443480"/>
            <a:ext cx="23760" cy="15840"/>
          </a:xfrm>
          <a:custGeom>
            <a:avLst/>
            <a:gdLst/>
            <a:ahLst/>
            <a:rect l="l" t="t" r="r" b="b"/>
            <a:pathLst>
              <a:path w="30" h="22">
                <a:moveTo>
                  <a:pt x="30" y="22"/>
                </a:moveTo>
                <a:lnTo>
                  <a:pt x="15" y="0"/>
                </a:lnTo>
                <a:lnTo>
                  <a:pt x="0" y="22"/>
                </a:lnTo>
                <a:lnTo>
                  <a:pt x="30" y="2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956120" y="4459320"/>
            <a:ext cx="95400" cy="128520"/>
          </a:xfrm>
          <a:custGeom>
            <a:avLst/>
            <a:gdLst/>
            <a:ahLst/>
            <a:rect l="l" t="t" r="r" b="b"/>
            <a:pathLst>
              <a:path w="121" h="161">
                <a:moveTo>
                  <a:pt x="107" y="150"/>
                </a:moveTo>
                <a:lnTo>
                  <a:pt x="121" y="142"/>
                </a:lnTo>
                <a:lnTo>
                  <a:pt x="30" y="0"/>
                </a:lnTo>
                <a:lnTo>
                  <a:pt x="0" y="19"/>
                </a:lnTo>
                <a:lnTo>
                  <a:pt x="92" y="161"/>
                </a:lnTo>
                <a:lnTo>
                  <a:pt x="107" y="15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351480" y="4686480"/>
            <a:ext cx="1613160" cy="17280"/>
          </a:xfrm>
          <a:custGeom>
            <a:avLst/>
            <a:gdLst/>
            <a:ahLst/>
            <a:rect l="l" t="t" r="r" b="b"/>
            <a:pathLst>
              <a:path w="2032" h="23">
                <a:moveTo>
                  <a:pt x="2032" y="12"/>
                </a:moveTo>
                <a:lnTo>
                  <a:pt x="2032" y="0"/>
                </a:lnTo>
                <a:lnTo>
                  <a:pt x="0" y="0"/>
                </a:lnTo>
                <a:lnTo>
                  <a:pt x="0" y="23"/>
                </a:lnTo>
                <a:lnTo>
                  <a:pt x="2032" y="23"/>
                </a:lnTo>
                <a:lnTo>
                  <a:pt x="2032" y="1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958160" y="4638600"/>
            <a:ext cx="111240" cy="111240"/>
          </a:xfrm>
          <a:custGeom>
            <a:avLst/>
            <a:gdLst/>
            <a:ahLst/>
            <a:rect l="l" t="t" r="r" b="b"/>
            <a:pathLst>
              <a:path w="140" h="140">
                <a:moveTo>
                  <a:pt x="140" y="70"/>
                </a:moveTo>
                <a:lnTo>
                  <a:pt x="140" y="70"/>
                </a:lnTo>
                <a:lnTo>
                  <a:pt x="0" y="0"/>
                </a:lnTo>
                <a:lnTo>
                  <a:pt x="0" y="140"/>
                </a:lnTo>
                <a:lnTo>
                  <a:pt x="140" y="70"/>
                </a:lnTo>
                <a:lnTo>
                  <a:pt x="140" y="7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424560" y="4624560"/>
            <a:ext cx="19080" cy="126720"/>
          </a:xfrm>
          <a:custGeom>
            <a:avLst/>
            <a:gdLst/>
            <a:ahLst/>
            <a:rect l="l" t="t" r="r" b="b"/>
            <a:pathLst>
              <a:path w="23" h="159">
                <a:moveTo>
                  <a:pt x="11" y="159"/>
                </a:moveTo>
                <a:lnTo>
                  <a:pt x="23" y="159"/>
                </a:lnTo>
                <a:lnTo>
                  <a:pt x="23" y="0"/>
                </a:lnTo>
                <a:lnTo>
                  <a:pt x="0" y="0"/>
                </a:lnTo>
                <a:lnTo>
                  <a:pt x="0" y="159"/>
                </a:lnTo>
                <a:lnTo>
                  <a:pt x="11" y="1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399360" y="48340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254720" y="4719600"/>
            <a:ext cx="28800" cy="198360"/>
          </a:xfrm>
          <a:custGeom>
            <a:avLst/>
            <a:gdLst/>
            <a:ahLst/>
            <a:rect l="l" t="t" r="r" b="b"/>
            <a:pathLst>
              <a:path w="36" h="250">
                <a:moveTo>
                  <a:pt x="18" y="250"/>
                </a:moveTo>
                <a:lnTo>
                  <a:pt x="36" y="250"/>
                </a:lnTo>
                <a:lnTo>
                  <a:pt x="36" y="0"/>
                </a:lnTo>
                <a:lnTo>
                  <a:pt x="0" y="0"/>
                </a:lnTo>
                <a:lnTo>
                  <a:pt x="0" y="250"/>
                </a:lnTo>
                <a:lnTo>
                  <a:pt x="18" y="250"/>
                </a:lnTo>
                <a:close/>
              </a:path>
            </a:pathLst>
          </a:custGeom>
          <a:solidFill>
            <a:srgbClr val="66ff33"/>
          </a:solidFill>
          <a:ln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257960" y="4819680"/>
            <a:ext cx="95400" cy="127080"/>
          </a:xfrm>
          <a:custGeom>
            <a:avLst/>
            <a:gdLst/>
            <a:ahLst/>
            <a:rect l="l" t="t" r="r" b="b"/>
            <a:pathLst>
              <a:path w="122" h="161">
                <a:moveTo>
                  <a:pt x="0" y="161"/>
                </a:moveTo>
                <a:lnTo>
                  <a:pt x="31" y="161"/>
                </a:lnTo>
                <a:lnTo>
                  <a:pt x="122" y="19"/>
                </a:lnTo>
                <a:lnTo>
                  <a:pt x="92" y="0"/>
                </a:lnTo>
                <a:lnTo>
                  <a:pt x="0" y="141"/>
                </a:lnTo>
                <a:lnTo>
                  <a:pt x="31" y="141"/>
                </a:lnTo>
                <a:lnTo>
                  <a:pt x="0" y="161"/>
                </a:lnTo>
                <a:close/>
              </a:path>
            </a:pathLst>
          </a:custGeom>
          <a:solidFill>
            <a:srgbClr val="66ff33"/>
          </a:solidFill>
          <a:ln w="1260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257960" y="4946760"/>
            <a:ext cx="23760" cy="17280"/>
          </a:xfrm>
          <a:custGeom>
            <a:avLst/>
            <a:gdLst/>
            <a:ahLst/>
            <a:rect l="l" t="t" r="r" b="b"/>
            <a:pathLst>
              <a:path w="31" h="21">
                <a:moveTo>
                  <a:pt x="0" y="0"/>
                </a:moveTo>
                <a:lnTo>
                  <a:pt x="16" y="21"/>
                </a:lnTo>
                <a:lnTo>
                  <a:pt x="31" y="0"/>
                </a:lnTo>
                <a:lnTo>
                  <a:pt x="0" y="0"/>
                </a:lnTo>
                <a:close/>
              </a:path>
            </a:pathLst>
          </a:custGeom>
          <a:solidFill>
            <a:srgbClr val="66ff33"/>
          </a:solidFill>
          <a:ln w="1260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178760" y="4819680"/>
            <a:ext cx="96840" cy="127080"/>
          </a:xfrm>
          <a:custGeom>
            <a:avLst/>
            <a:gdLst/>
            <a:ahLst/>
            <a:rect l="l" t="t" r="r" b="b"/>
            <a:pathLst>
              <a:path w="121" h="161">
                <a:moveTo>
                  <a:pt x="14" y="10"/>
                </a:moveTo>
                <a:lnTo>
                  <a:pt x="0" y="19"/>
                </a:lnTo>
                <a:lnTo>
                  <a:pt x="90" y="161"/>
                </a:lnTo>
                <a:lnTo>
                  <a:pt x="121" y="141"/>
                </a:lnTo>
                <a:lnTo>
                  <a:pt x="29" y="0"/>
                </a:lnTo>
                <a:lnTo>
                  <a:pt x="14" y="10"/>
                </a:lnTo>
                <a:close/>
              </a:path>
            </a:pathLst>
          </a:custGeom>
          <a:solidFill>
            <a:srgbClr val="66ff33"/>
          </a:solidFill>
          <a:ln w="1260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145360" y="45291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293840" y="242892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409760" y="2428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479600" y="2428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557360" y="242892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619280" y="2428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766880" y="2428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314360" y="354168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430280" y="35416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500120" y="35416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577880" y="35416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641600" y="35416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787400" y="35416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951520" y="1873080"/>
            <a:ext cx="111240" cy="111240"/>
          </a:xfrm>
          <a:custGeom>
            <a:avLst/>
            <a:gdLst/>
            <a:ahLst/>
            <a:rect l="l" t="t" r="r" b="b"/>
            <a:pathLst>
              <a:path w="140" h="140">
                <a:moveTo>
                  <a:pt x="70" y="0"/>
                </a:moveTo>
                <a:lnTo>
                  <a:pt x="70" y="0"/>
                </a:lnTo>
                <a:lnTo>
                  <a:pt x="0" y="140"/>
                </a:lnTo>
                <a:lnTo>
                  <a:pt x="140" y="140"/>
                </a:lnTo>
                <a:lnTo>
                  <a:pt x="70" y="0"/>
                </a:lnTo>
                <a:lnTo>
                  <a:pt x="7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970600" y="2692440"/>
            <a:ext cx="111240" cy="19080"/>
          </a:xfrm>
          <a:custGeom>
            <a:avLst/>
            <a:gdLst/>
            <a:ahLst/>
            <a:rect l="l" t="t" r="r" b="b"/>
            <a:pathLst>
              <a:path w="139" h="23">
                <a:moveTo>
                  <a:pt x="139" y="11"/>
                </a:moveTo>
                <a:lnTo>
                  <a:pt x="139" y="0"/>
                </a:lnTo>
                <a:lnTo>
                  <a:pt x="0" y="0"/>
                </a:lnTo>
                <a:lnTo>
                  <a:pt x="0" y="23"/>
                </a:lnTo>
                <a:lnTo>
                  <a:pt x="139" y="23"/>
                </a:lnTo>
                <a:lnTo>
                  <a:pt x="139" y="1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972040" y="2990880"/>
            <a:ext cx="111240" cy="112680"/>
          </a:xfrm>
          <a:custGeom>
            <a:avLst/>
            <a:gdLst/>
            <a:ahLst/>
            <a:rect l="l" t="t" r="r" b="b"/>
            <a:pathLst>
              <a:path w="140" h="140">
                <a:moveTo>
                  <a:pt x="70" y="0"/>
                </a:moveTo>
                <a:lnTo>
                  <a:pt x="70" y="0"/>
                </a:lnTo>
                <a:lnTo>
                  <a:pt x="0" y="140"/>
                </a:lnTo>
                <a:lnTo>
                  <a:pt x="140" y="140"/>
                </a:lnTo>
                <a:lnTo>
                  <a:pt x="70" y="0"/>
                </a:lnTo>
                <a:lnTo>
                  <a:pt x="7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977080" y="3811680"/>
            <a:ext cx="110880" cy="17280"/>
          </a:xfrm>
          <a:custGeom>
            <a:avLst/>
            <a:gdLst/>
            <a:ahLst/>
            <a:rect l="l" t="t" r="r" b="b"/>
            <a:pathLst>
              <a:path w="139" h="23">
                <a:moveTo>
                  <a:pt x="139" y="11"/>
                </a:moveTo>
                <a:lnTo>
                  <a:pt x="139" y="0"/>
                </a:lnTo>
                <a:lnTo>
                  <a:pt x="0" y="0"/>
                </a:lnTo>
                <a:lnTo>
                  <a:pt x="0" y="23"/>
                </a:lnTo>
                <a:lnTo>
                  <a:pt x="139" y="23"/>
                </a:lnTo>
                <a:lnTo>
                  <a:pt x="139" y="1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130800" y="23781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673760" y="2540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130800" y="34797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241680" y="3584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527880" y="24368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680160" y="2436840"/>
            <a:ext cx="96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808680" y="24368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956280" y="24368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094520" y="2436840"/>
            <a:ext cx="96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224840" y="24368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362720" y="24368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500960" y="2436840"/>
            <a:ext cx="96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631280" y="243684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225840" y="2473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297200" y="2541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022880" y="2533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875280" y="2533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617880" y="2530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440120" y="2541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724520" y="36417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578640" y="35384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729480" y="3538440"/>
            <a:ext cx="96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859440" y="35384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007400" y="35384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145280" y="3538440"/>
            <a:ext cx="96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75600" y="35384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413480" y="35384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551720" y="3538440"/>
            <a:ext cx="96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682040" y="353844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346520" y="36432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073640" y="3635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926040" y="3635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667200" y="3632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490880" y="3645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641720" y="4307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490880" y="43052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486200" y="45291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924600" y="42210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099200" y="42210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250040" y="4221000"/>
            <a:ext cx="96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380360" y="42210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553160" y="42210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189560" y="45212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181640" y="43052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033680" y="4307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083360" y="443232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256520" y="4432320"/>
            <a:ext cx="96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386480" y="443232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640560" y="43448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730920" y="4344840"/>
            <a:ext cx="96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97600" y="1951200"/>
            <a:ext cx="17280" cy="868320"/>
          </a:xfrm>
          <a:custGeom>
            <a:avLst/>
            <a:gdLst/>
            <a:ahLst/>
            <a:rect l="l" t="t" r="r" b="b"/>
            <a:pathLst>
              <a:path w="23" h="1094">
                <a:moveTo>
                  <a:pt x="12" y="0"/>
                </a:moveTo>
                <a:lnTo>
                  <a:pt x="0" y="0"/>
                </a:lnTo>
                <a:lnTo>
                  <a:pt x="0" y="1094"/>
                </a:lnTo>
                <a:lnTo>
                  <a:pt x="23" y="1094"/>
                </a:lnTo>
                <a:lnTo>
                  <a:pt x="23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13440" y="3076560"/>
            <a:ext cx="17640" cy="868320"/>
          </a:xfrm>
          <a:custGeom>
            <a:avLst/>
            <a:gdLst/>
            <a:ahLst/>
            <a:rect l="l" t="t" r="r" b="b"/>
            <a:pathLst>
              <a:path w="23" h="1094">
                <a:moveTo>
                  <a:pt x="12" y="0"/>
                </a:moveTo>
                <a:lnTo>
                  <a:pt x="0" y="0"/>
                </a:lnTo>
                <a:lnTo>
                  <a:pt x="0" y="1094"/>
                </a:lnTo>
                <a:lnTo>
                  <a:pt x="23" y="1094"/>
                </a:lnTo>
                <a:lnTo>
                  <a:pt x="23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872400" y="4443480"/>
            <a:ext cx="836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094120" y="1739880"/>
            <a:ext cx="2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011840" y="1739880"/>
            <a:ext cx="2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040280" y="2867040"/>
            <a:ext cx="2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569600" y="5484960"/>
            <a:ext cx="6091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gra 1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E 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Grande) E 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Médio) ENTÃO (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gra 2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E 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Pequeno) E 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Grande) ENTÃO (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2143080" y="2971440"/>
            <a:ext cx="0" cy="9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138400" y="2819520"/>
            <a:ext cx="29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4068720" y="2990880"/>
            <a:ext cx="3240" cy="95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2143080" y="1731600"/>
            <a:ext cx="0" cy="10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4057560" y="1776240"/>
            <a:ext cx="0" cy="10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062080" y="2730600"/>
            <a:ext cx="170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979800" y="2730600"/>
            <a:ext cx="170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919680" y="3849840"/>
            <a:ext cx="170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050920" y="3833640"/>
            <a:ext cx="170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2832120" y="1775880"/>
            <a:ext cx="11160" cy="2643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4968720" y="1739880"/>
            <a:ext cx="11160" cy="2643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884840" y="2468520"/>
            <a:ext cx="1171440" cy="0"/>
          </a:xfrm>
          <a:prstGeom prst="line">
            <a:avLst/>
          </a:prstGeom>
          <a:ln cap="rnd" w="93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668680" y="3571920"/>
            <a:ext cx="3421080" cy="0"/>
          </a:xfrm>
          <a:prstGeom prst="line">
            <a:avLst/>
          </a:prstGeom>
          <a:ln cap="rnd" w="93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735440" y="3402000"/>
            <a:ext cx="468360" cy="0"/>
          </a:xfrm>
          <a:prstGeom prst="line">
            <a:avLst/>
          </a:prstGeom>
          <a:ln cap="rnd" w="9360">
            <a:solidFill>
              <a:srgbClr val="33cc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620800" y="2281320"/>
            <a:ext cx="468360" cy="0"/>
          </a:xfrm>
          <a:prstGeom prst="line">
            <a:avLst/>
          </a:prstGeom>
          <a:ln cap="rnd" w="9360">
            <a:solidFill>
              <a:srgbClr val="33cc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002280" y="2462040"/>
            <a:ext cx="28800" cy="220680"/>
          </a:xfrm>
          <a:custGeom>
            <a:avLst/>
            <a:gdLst/>
            <a:ahLst/>
            <a:rect l="l" t="t" r="r" b="b"/>
            <a:pathLst>
              <a:path w="36" h="278">
                <a:moveTo>
                  <a:pt x="18" y="278"/>
                </a:moveTo>
                <a:lnTo>
                  <a:pt x="36" y="278"/>
                </a:lnTo>
                <a:lnTo>
                  <a:pt x="36" y="0"/>
                </a:lnTo>
                <a:lnTo>
                  <a:pt x="0" y="0"/>
                </a:lnTo>
                <a:lnTo>
                  <a:pt x="0" y="278"/>
                </a:lnTo>
                <a:lnTo>
                  <a:pt x="18" y="278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014880" y="3557520"/>
            <a:ext cx="28800" cy="268200"/>
          </a:xfrm>
          <a:custGeom>
            <a:avLst/>
            <a:gdLst/>
            <a:ahLst/>
            <a:rect l="l" t="t" r="r" b="b"/>
            <a:pathLst>
              <a:path w="36" h="337">
                <a:moveTo>
                  <a:pt x="18" y="337"/>
                </a:moveTo>
                <a:lnTo>
                  <a:pt x="36" y="337"/>
                </a:lnTo>
                <a:lnTo>
                  <a:pt x="36" y="0"/>
                </a:lnTo>
                <a:lnTo>
                  <a:pt x="0" y="0"/>
                </a:lnTo>
                <a:lnTo>
                  <a:pt x="0" y="337"/>
                </a:lnTo>
                <a:lnTo>
                  <a:pt x="18" y="337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4232160" y="3851280"/>
            <a:ext cx="517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 flipV="1">
            <a:off x="2168640" y="3835080"/>
            <a:ext cx="856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963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505320" y="3349800"/>
            <a:ext cx="1231920" cy="806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505320" y="4156200"/>
            <a:ext cx="1231920" cy="806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505320" y="4962600"/>
            <a:ext cx="1231920" cy="80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37240" y="3349800"/>
            <a:ext cx="1231920" cy="806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737240" y="4156200"/>
            <a:ext cx="1231920" cy="806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737240" y="4962600"/>
            <a:ext cx="1231920" cy="80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969160" y="3349800"/>
            <a:ext cx="1231920" cy="806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969160" y="4156200"/>
            <a:ext cx="1231920" cy="806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969160" y="4962600"/>
            <a:ext cx="1231920" cy="80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 flipV="1">
            <a:off x="2336760" y="2182680"/>
            <a:ext cx="1168560" cy="116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778200" y="2917800"/>
            <a:ext cx="62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143400" y="291780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659320" y="3594240"/>
            <a:ext cx="796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659320" y="4367160"/>
            <a:ext cx="52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658960" y="5275440"/>
            <a:ext cx="77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538440" y="2387520"/>
            <a:ext cx="1287720" cy="962280"/>
          </a:xfrm>
          <a:custGeom>
            <a:avLst/>
            <a:gdLst/>
            <a:ahLst/>
            <a:rect l="l" t="t" r="r" b="b"/>
            <a:pathLst>
              <a:path w="4143" h="3152">
                <a:moveTo>
                  <a:pt x="0" y="0"/>
                </a:moveTo>
                <a:lnTo>
                  <a:pt x="1788" y="0"/>
                </a:lnTo>
                <a:lnTo>
                  <a:pt x="4143" y="3152"/>
                </a:lnTo>
              </a:path>
            </a:pathLst>
          </a:custGeom>
          <a:noFill/>
          <a:ln w="64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124600" y="2916360"/>
            <a:ext cx="35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611600" y="2387520"/>
            <a:ext cx="1505160" cy="962280"/>
          </a:xfrm>
          <a:custGeom>
            <a:avLst/>
            <a:gdLst/>
            <a:ahLst/>
            <a:rect l="l" t="t" r="r" b="b"/>
            <a:pathLst>
              <a:path w="4814" h="3152">
                <a:moveTo>
                  <a:pt x="0" y="3029"/>
                </a:moveTo>
                <a:lnTo>
                  <a:pt x="2360" y="0"/>
                </a:lnTo>
                <a:lnTo>
                  <a:pt x="4814" y="3152"/>
                </a:lnTo>
              </a:path>
            </a:pathLst>
          </a:custGeom>
          <a:noFill/>
          <a:ln w="64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811840" y="2368440"/>
            <a:ext cx="1311120" cy="979560"/>
          </a:xfrm>
          <a:custGeom>
            <a:avLst/>
            <a:gdLst/>
            <a:ahLst/>
            <a:rect l="l" t="t" r="r" b="b"/>
            <a:pathLst>
              <a:path w="4142" h="3151">
                <a:moveTo>
                  <a:pt x="0" y="3151"/>
                </a:moveTo>
                <a:lnTo>
                  <a:pt x="2092" y="0"/>
                </a:lnTo>
                <a:lnTo>
                  <a:pt x="4142" y="0"/>
                </a:lnTo>
              </a:path>
            </a:pathLst>
          </a:custGeom>
          <a:noFill/>
          <a:ln w="648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176560" y="3341520"/>
            <a:ext cx="1331640" cy="874800"/>
          </a:xfrm>
          <a:custGeom>
            <a:avLst/>
            <a:gdLst/>
            <a:ahLst/>
            <a:rect l="l" t="t" r="r" b="b"/>
            <a:pathLst>
              <a:path w="4271" h="2753">
                <a:moveTo>
                  <a:pt x="0" y="0"/>
                </a:moveTo>
                <a:lnTo>
                  <a:pt x="0" y="1188"/>
                </a:lnTo>
                <a:lnTo>
                  <a:pt x="4271" y="2753"/>
                </a:lnTo>
              </a:path>
            </a:pathLst>
          </a:custGeom>
          <a:noFill/>
          <a:ln w="64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176560" y="4046400"/>
            <a:ext cx="1333440" cy="1020960"/>
          </a:xfrm>
          <a:custGeom>
            <a:avLst/>
            <a:gdLst/>
            <a:ahLst/>
            <a:rect l="l" t="t" r="r" b="b"/>
            <a:pathLst>
              <a:path w="4271" h="3198">
                <a:moveTo>
                  <a:pt x="4105" y="0"/>
                </a:moveTo>
                <a:lnTo>
                  <a:pt x="0" y="1566"/>
                </a:lnTo>
                <a:lnTo>
                  <a:pt x="4271" y="3198"/>
                </a:lnTo>
              </a:path>
            </a:pathLst>
          </a:custGeom>
          <a:noFill/>
          <a:ln w="64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151000" y="4853160"/>
            <a:ext cx="1355760" cy="873000"/>
          </a:xfrm>
          <a:custGeom>
            <a:avLst/>
            <a:gdLst/>
            <a:ahLst/>
            <a:rect l="l" t="t" r="r" b="b"/>
            <a:pathLst>
              <a:path w="4271" h="2751">
                <a:moveTo>
                  <a:pt x="4271" y="0"/>
                </a:moveTo>
                <a:lnTo>
                  <a:pt x="0" y="1390"/>
                </a:lnTo>
                <a:lnTo>
                  <a:pt x="0" y="2751"/>
                </a:lnTo>
              </a:path>
            </a:pathLst>
          </a:custGeom>
          <a:noFill/>
          <a:ln w="64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773800" y="2101680"/>
            <a:ext cx="459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940760" y="2397240"/>
            <a:ext cx="628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939680" y="2736720"/>
            <a:ext cx="425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202720" y="3568680"/>
            <a:ext cx="268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886040" y="2762280"/>
            <a:ext cx="70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64320" y="3587760"/>
            <a:ext cx="268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441120" y="3587760"/>
            <a:ext cx="268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4320" y="4387680"/>
            <a:ext cx="268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221800" y="4406760"/>
            <a:ext cx="268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441120" y="4387680"/>
            <a:ext cx="268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983400" y="5207040"/>
            <a:ext cx="268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202720" y="5187960"/>
            <a:ext cx="268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441120" y="5187960"/>
            <a:ext cx="26892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083120" y="13302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Reg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004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5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6609960" y="3173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234520" y="29005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390400" y="3040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218680" y="32479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391840" y="33703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175840" y="39369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350800" y="406080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938120" y="2246400"/>
            <a:ext cx="25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193720" y="2246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346360" y="22464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519160" y="22464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658840" y="2246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847840" y="2246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831840" y="33354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100040" y="33354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290840" y="33354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499640" y="333540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622400" y="33354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762080" y="33354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951080" y="33354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047560" y="3335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238360" y="33354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427360" y="33354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617440" y="333540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078080" y="364176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355640" y="36417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527360" y="36417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700160" y="36417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900320" y="364176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997160" y="36417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85800" y="36417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338440" y="36417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282840" y="2881440"/>
            <a:ext cx="2998800" cy="1519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611440" y="3141720"/>
            <a:ext cx="654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2612880" y="4165560"/>
            <a:ext cx="654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612880" y="3475080"/>
            <a:ext cx="654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318360" y="3648240"/>
            <a:ext cx="65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757760" y="2158920"/>
            <a:ext cx="0" cy="7336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392200" y="4516560"/>
            <a:ext cx="491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gr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),  x = [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043520" y="457056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1249920" y="5164200"/>
            <a:ext cx="6907680" cy="1250280"/>
            <a:chOff x="1249920" y="5164200"/>
            <a:chExt cx="6907680" cy="1250280"/>
          </a:xfrm>
        </p:grpSpPr>
        <p:sp>
          <p:nvSpPr>
            <p:cNvPr id="1049" name=""/>
            <p:cNvSpPr/>
            <p:nvPr/>
          </p:nvSpPr>
          <p:spPr>
            <a:xfrm>
              <a:off x="1249920" y="5164200"/>
              <a:ext cx="690768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Propriedade de Aproximação Universa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: Dada uma função g(x) sobre 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domínio X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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R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 Narrow"/>
                </a:rPr>
                <a:t>m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e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&gt; 0, é possível construir 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Narrow"/>
                </a:rPr>
                <a:t>Regra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(x) de modo que: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013200" y="5973840"/>
              <a:ext cx="3558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| g (x) - f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Narrow"/>
                </a:rPr>
                <a:t>Regra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(x) | &lt;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,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x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 X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3050640" y="1368360"/>
            <a:ext cx="33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Controlador Nebul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053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4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52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542880" y="2192400"/>
            <a:ext cx="8089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emplos de Dificuldad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Representação, com um só funcional, todos os objetivos desej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Incertezas e Sensibi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Caracterização Numérica x Lingu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Fenômenos Estocás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Tecnica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4473720" y="3449520"/>
            <a:ext cx="4082760" cy="183384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741240" y="2308320"/>
                <a:ext cx="3268800" cy="38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V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F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e</m:t>
                            </m:r>
                          </m:e>
                        </m:d>
                        <m:r>
                          <m:t xml:space="preserve">V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p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e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F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9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e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b>
                                </m:sSub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F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e>
                        </m:d>
                        <m:r>
                          <m:t xml:space="preserve">F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V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</m:e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b>
                        </m:sSub>
                        <m:r>
                          <m:t xml:space="preserve">u</m:t>
                        </m:r>
                      </m:e>
                      <m:e/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e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59" name=""/>
          <p:cNvGraphicFramePr/>
          <p:nvPr/>
        </p:nvGraphicFramePr>
        <p:xfrm>
          <a:off x="4594320" y="3610080"/>
          <a:ext cx="4046400" cy="172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94320" y="3610080"/>
                    <a:ext cx="404640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1" name=""/>
          <p:cNvSpPr/>
          <p:nvPr/>
        </p:nvSpPr>
        <p:spPr>
          <a:xfrm>
            <a:off x="2057760" y="1303200"/>
            <a:ext cx="57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Modelo de uma Infecção Viral Benig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063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385200" y="2090880"/>
            <a:ext cx="52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jetivo 1: O tempo de recuperação do paciente é peque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5873760" y="2068560"/>
                <a:ext cx="27194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λ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]</m:t>
                        </m:r>
                      </m:lim>
                    </m:limLow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69" name=""/>
          <p:cNvGrpSpPr/>
          <p:nvPr/>
        </p:nvGrpSpPr>
        <p:grpSpPr>
          <a:xfrm>
            <a:off x="388800" y="2629080"/>
            <a:ext cx="7585200" cy="480960"/>
            <a:chOff x="388800" y="2629080"/>
            <a:chExt cx="7585200" cy="480960"/>
          </a:xfrm>
        </p:grpSpPr>
        <p:sp>
          <p:nvSpPr>
            <p:cNvPr id="1070" name=""/>
            <p:cNvSpPr/>
            <p:nvPr/>
          </p:nvSpPr>
          <p:spPr>
            <a:xfrm>
              <a:off x="388800" y="2706840"/>
              <a:ext cx="560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bjetivo 2: A quantidade total de fármacos utilizados é peque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1" name=""/>
                <p:cNvSpPr txBox="1"/>
                <p:nvPr/>
              </p:nvSpPr>
              <p:spPr>
                <a:xfrm>
                  <a:off x="6161040" y="2629080"/>
                  <a:ext cx="181296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2" name=""/>
          <p:cNvGrpSpPr/>
          <p:nvPr/>
        </p:nvGrpSpPr>
        <p:grpSpPr>
          <a:xfrm>
            <a:off x="410760" y="3267000"/>
            <a:ext cx="4748400" cy="311040"/>
            <a:chOff x="410760" y="3267000"/>
            <a:chExt cx="4748400" cy="311040"/>
          </a:xfrm>
        </p:grpSpPr>
        <p:sp>
          <p:nvSpPr>
            <p:cNvPr id="1073" name=""/>
            <p:cNvSpPr/>
            <p:nvPr/>
          </p:nvSpPr>
          <p:spPr>
            <a:xfrm>
              <a:off x="410760" y="3267000"/>
              <a:ext cx="412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bjetivo 3: Es efeitos colaterais são pequen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4" name=""/>
                <p:cNvSpPr txBox="1"/>
                <p:nvPr/>
              </p:nvSpPr>
              <p:spPr>
                <a:xfrm>
                  <a:off x="4568400" y="3276360"/>
                  <a:ext cx="590760" cy="30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075" name=""/>
          <p:cNvGraphicFramePr/>
          <p:nvPr/>
        </p:nvGraphicFramePr>
        <p:xfrm>
          <a:off x="2357280" y="3641760"/>
          <a:ext cx="4578480" cy="297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641760"/>
                    <a:ext cx="4578480" cy="29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7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078" name="LogoLNCC" descr=""/>
            <p:cNvPicPr/>
            <p:nvPr/>
          </p:nvPicPr>
          <p:blipFill>
            <a:blip r:embed="rId3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9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1924560" y="1303200"/>
            <a:ext cx="57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Modelo de uma Infecção Viral Benig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3" name=""/>
          <p:cNvGraphicFramePr/>
          <p:nvPr/>
        </p:nvGraphicFramePr>
        <p:xfrm>
          <a:off x="606600" y="3044880"/>
          <a:ext cx="3727440" cy="339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3044880"/>
                    <a:ext cx="37274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5" name=""/>
          <p:cNvGraphicFramePr/>
          <p:nvPr/>
        </p:nvGraphicFramePr>
        <p:xfrm>
          <a:off x="4697280" y="3000240"/>
          <a:ext cx="3708360" cy="3457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97280" y="3000240"/>
                    <a:ext cx="3708360" cy="34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2046240" y="2065320"/>
                <a:ext cx="48085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s</m:t>
                    </m:r>
                    <m:r>
                      <m:t xml:space="preserve">,</m:t>
                    </m:r>
                    <m:r>
                      <m:t xml:space="preserve">w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88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089" name="LogoLNCC" descr=""/>
            <p:cNvPicPr/>
            <p:nvPr/>
          </p:nvPicPr>
          <p:blipFill>
            <a:blip r:embed="rId5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1093" name=""/>
          <p:cNvSpPr/>
          <p:nvPr/>
        </p:nvSpPr>
        <p:spPr>
          <a:xfrm>
            <a:off x="2057760" y="1303200"/>
            <a:ext cx="57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Modelo de uma Infecção Viral Benig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4" name=""/>
          <p:cNvGraphicFramePr/>
          <p:nvPr/>
        </p:nvGraphicFramePr>
        <p:xfrm>
          <a:off x="584280" y="2556000"/>
          <a:ext cx="3467160" cy="323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80" y="2556000"/>
                    <a:ext cx="3467160" cy="32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6" name=""/>
          <p:cNvGraphicFramePr/>
          <p:nvPr/>
        </p:nvGraphicFramePr>
        <p:xfrm>
          <a:off x="4537080" y="2521080"/>
          <a:ext cx="3654360" cy="3267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37080" y="2521080"/>
                    <a:ext cx="3654360" cy="32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98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099" name="LogoLNCC" descr=""/>
            <p:cNvPicPr/>
            <p:nvPr/>
          </p:nvPicPr>
          <p:blipFill>
            <a:blip r:embed="rId5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0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2057760" y="1303200"/>
            <a:ext cx="57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Modelo de uma Infecção Viral Benig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105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6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1109" name=""/>
          <p:cNvSpPr/>
          <p:nvPr/>
        </p:nvSpPr>
        <p:spPr>
          <a:xfrm>
            <a:off x="542880" y="2192400"/>
            <a:ext cx="8089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emplos de Dificuldad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Representação, com um só funcional, todos os objetivos desej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Incertezas e Sensibi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Caracterização Numérica x Lingu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Fenômenos Estocás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Tecnica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680280" y="1379520"/>
            <a:ext cx="23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Tecnic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112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3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1116" name=""/>
          <p:cNvSpPr/>
          <p:nvPr/>
        </p:nvSpPr>
        <p:spPr>
          <a:xfrm>
            <a:off x="2822040" y="137304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Controlador Ótimo LQ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351440" y="4734000"/>
            <a:ext cx="74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8" name="" descr=""/>
          <p:cNvPicPr/>
          <p:nvPr/>
        </p:nvPicPr>
        <p:blipFill>
          <a:blip r:embed="rId2"/>
          <a:stretch/>
        </p:blipFill>
        <p:spPr>
          <a:xfrm>
            <a:off x="1407960" y="5173560"/>
            <a:ext cx="851040" cy="304920"/>
          </a:xfrm>
          <a:prstGeom prst="rect">
            <a:avLst/>
          </a:prstGeom>
          <a:ln w="0">
            <a:noFill/>
          </a:ln>
        </p:spPr>
      </p:pic>
      <p:pic>
        <p:nvPicPr>
          <p:cNvPr id="1119" name="" descr=""/>
          <p:cNvPicPr/>
          <p:nvPr/>
        </p:nvPicPr>
        <p:blipFill>
          <a:blip r:embed="rId3"/>
          <a:stretch/>
        </p:blipFill>
        <p:spPr>
          <a:xfrm>
            <a:off x="1400040" y="5943600"/>
            <a:ext cx="1422360" cy="368280"/>
          </a:xfrm>
          <a:prstGeom prst="rect">
            <a:avLst/>
          </a:prstGeom>
          <a:ln w="0">
            <a:noFill/>
          </a:ln>
        </p:spPr>
      </p:pic>
      <p:pic>
        <p:nvPicPr>
          <p:cNvPr id="1120" name="" descr=""/>
          <p:cNvPicPr/>
          <p:nvPr/>
        </p:nvPicPr>
        <p:blipFill>
          <a:blip r:embed="rId4"/>
          <a:stretch/>
        </p:blipFill>
        <p:spPr>
          <a:xfrm>
            <a:off x="1427040" y="5495760"/>
            <a:ext cx="1282680" cy="36864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1349280" y="4341960"/>
            <a:ext cx="138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~N(m,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955960" y="59230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i.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860920" y="550404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i.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257480" y="3211560"/>
            <a:ext cx="2633040" cy="1040400"/>
            <a:chOff x="1257480" y="3211560"/>
            <a:chExt cx="2633040" cy="1040400"/>
          </a:xfrm>
        </p:grpSpPr>
        <p:sp>
          <p:nvSpPr>
            <p:cNvPr id="1125" name=""/>
            <p:cNvSpPr/>
            <p:nvPr/>
          </p:nvSpPr>
          <p:spPr>
            <a:xfrm>
              <a:off x="1746720" y="3903480"/>
              <a:ext cx="1145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onhec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444680" y="3903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777760" y="355428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B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154240" y="3554280"/>
              <a:ext cx="291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444680" y="355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630080" y="3211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444680" y="32115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077640" y="3655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450520" y="3655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580400" y="36558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588320" y="40082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807560" y="3659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716840" y="321444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572480" y="321444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614680" y="353016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940040" y="3530160"/>
              <a:ext cx="182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697400" y="3638160"/>
              <a:ext cx="10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095640" y="3484440"/>
              <a:ext cx="794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Cw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257480" y="3885840"/>
              <a:ext cx="180972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392480" y="3846240"/>
              <a:ext cx="1468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= H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5" name=""/>
          <p:cNvSpPr/>
          <p:nvPr/>
        </p:nvSpPr>
        <p:spPr>
          <a:xfrm>
            <a:off x="1257480" y="2228760"/>
            <a:ext cx="33145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6" name="" descr=""/>
          <p:cNvPicPr/>
          <p:nvPr/>
        </p:nvPicPr>
        <p:blipFill>
          <a:blip r:embed="rId5"/>
          <a:stretch/>
        </p:blipFill>
        <p:spPr>
          <a:xfrm>
            <a:off x="1447920" y="2298600"/>
            <a:ext cx="3085920" cy="698760"/>
          </a:xfrm>
          <a:prstGeom prst="rect">
            <a:avLst/>
          </a:prstGeom>
          <a:ln w="0">
            <a:noFill/>
          </a:ln>
        </p:spPr>
      </p:pic>
      <p:sp>
        <p:nvSpPr>
          <p:cNvPr id="1147" name=""/>
          <p:cNvSpPr/>
          <p:nvPr/>
        </p:nvSpPr>
        <p:spPr>
          <a:xfrm>
            <a:off x="1905120" y="2266920"/>
            <a:ext cx="1713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833840" y="2411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9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150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1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1057320" y="2116080"/>
            <a:ext cx="3736800" cy="1751040"/>
            <a:chOff x="1057320" y="2116080"/>
            <a:chExt cx="3736800" cy="1751040"/>
          </a:xfrm>
        </p:grpSpPr>
        <p:pic>
          <p:nvPicPr>
            <p:cNvPr id="1155" name="" descr=""/>
            <p:cNvPicPr/>
            <p:nvPr/>
          </p:nvPicPr>
          <p:blipFill>
            <a:blip r:embed="rId2"/>
            <a:stretch/>
          </p:blipFill>
          <p:spPr>
            <a:xfrm>
              <a:off x="1070280" y="3110760"/>
              <a:ext cx="1433520" cy="3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6" name="" descr=""/>
            <p:cNvPicPr/>
            <p:nvPr/>
          </p:nvPicPr>
          <p:blipFill>
            <a:blip r:embed="rId3"/>
            <a:stretch/>
          </p:blipFill>
          <p:spPr>
            <a:xfrm>
              <a:off x="1103040" y="3528000"/>
              <a:ext cx="3691080" cy="33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7" name="" descr=""/>
            <p:cNvPicPr/>
            <p:nvPr/>
          </p:nvPicPr>
          <p:blipFill>
            <a:blip r:embed="rId4"/>
            <a:stretch/>
          </p:blipFill>
          <p:spPr>
            <a:xfrm>
              <a:off x="1057320" y="2644200"/>
              <a:ext cx="3168720" cy="34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8" name="" descr=""/>
            <p:cNvPicPr/>
            <p:nvPr/>
          </p:nvPicPr>
          <p:blipFill>
            <a:blip r:embed="rId5"/>
            <a:stretch/>
          </p:blipFill>
          <p:spPr>
            <a:xfrm>
              <a:off x="1089720" y="2116080"/>
              <a:ext cx="3055320" cy="41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9" name=""/>
          <p:cNvSpPr/>
          <p:nvPr/>
        </p:nvSpPr>
        <p:spPr>
          <a:xfrm>
            <a:off x="6286680" y="2419200"/>
            <a:ext cx="1752480" cy="628920"/>
          </a:xfrm>
          <a:prstGeom prst="wedgeRectCallout">
            <a:avLst>
              <a:gd name="adj1" fmla="val -148912"/>
              <a:gd name="adj2" fmla="val 883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ualiz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305400" y="3200400"/>
            <a:ext cx="1752840" cy="628560"/>
          </a:xfrm>
          <a:prstGeom prst="wedgeRectCallout">
            <a:avLst>
              <a:gd name="adj1" fmla="val -251087"/>
              <a:gd name="adj2" fmla="val -45708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ag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1238400" y="4227480"/>
            <a:ext cx="6667200" cy="2329920"/>
            <a:chOff x="1238400" y="4227480"/>
            <a:chExt cx="6667200" cy="2329920"/>
          </a:xfrm>
        </p:grpSpPr>
        <p:sp>
          <p:nvSpPr>
            <p:cNvPr id="1162" name=""/>
            <p:cNvSpPr/>
            <p:nvPr/>
          </p:nvSpPr>
          <p:spPr>
            <a:xfrm>
              <a:off x="3657600" y="4705200"/>
              <a:ext cx="1447920" cy="381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238400" y="5581800"/>
              <a:ext cx="666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049480" y="5429160"/>
              <a:ext cx="0" cy="3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346640" y="5429160"/>
              <a:ext cx="0" cy="3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667560" y="5429160"/>
              <a:ext cx="0" cy="3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189520" y="4646520"/>
              <a:ext cx="724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-1|k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32360" y="4646520"/>
              <a:ext cx="724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-1|k-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553280" y="4665600"/>
              <a:ext cx="48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k|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704760" y="4665600"/>
              <a:ext cx="607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009900"/>
                  </a:solidFill>
                  <a:latin typeface="Arial"/>
                </a:rPr>
                <a:t>k|k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784920" y="4684680"/>
              <a:ext cx="791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|k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916960" y="4684680"/>
              <a:ext cx="640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k+1|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2057400" y="577224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905480" y="6132600"/>
              <a:ext cx="497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4343400" y="5772240"/>
              <a:ext cx="0" cy="3427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82840" y="613260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y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6667560" y="579132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517800" y="6151680"/>
              <a:ext cx="531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 flipV="1">
              <a:off x="1733040" y="5047920"/>
              <a:ext cx="266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 flipV="1">
              <a:off x="6343200" y="5047920"/>
              <a:ext cx="266760" cy="476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 flipV="1">
              <a:off x="4019040" y="5028840"/>
              <a:ext cx="266760" cy="476280"/>
            </a:xfrm>
            <a:prstGeom prst="line">
              <a:avLst/>
            </a:prstGeom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V="1">
              <a:off x="2095560" y="5047920"/>
              <a:ext cx="266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6724800" y="5047920"/>
              <a:ext cx="26640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4400640" y="5028840"/>
              <a:ext cx="266760" cy="476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44680" y="4246560"/>
              <a:ext cx="418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</a:rPr>
                <a:t>K</a:t>
              </a:r>
              <a:r>
                <a:rPr b="1" lang="en-US" sz="1800" spc="-1" strike="noStrike" baseline="-25000">
                  <a:solidFill>
                    <a:srgbClr val="99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441480" y="4227480"/>
              <a:ext cx="569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829160" y="4246560"/>
              <a:ext cx="53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-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419720" y="5581800"/>
              <a:ext cx="2076480" cy="0"/>
            </a:xfrm>
            <a:prstGeom prst="line">
              <a:avLst/>
            </a:prstGeom>
            <a:ln w="57240">
              <a:solidFill>
                <a:srgbClr val="cc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3362400" y="133524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Filtro de Kal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0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191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2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1195" name=""/>
          <p:cNvSpPr/>
          <p:nvPr/>
        </p:nvSpPr>
        <p:spPr>
          <a:xfrm>
            <a:off x="2766600" y="133524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Princípio da Sepa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48840" y="2170080"/>
            <a:ext cx="3388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a:         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A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" descr=""/>
          <p:cNvPicPr/>
          <p:nvPr/>
        </p:nvPicPr>
        <p:blipFill>
          <a:blip r:embed="rId2"/>
          <a:stretch/>
        </p:blipFill>
        <p:spPr>
          <a:xfrm>
            <a:off x="2813040" y="2629080"/>
            <a:ext cx="3289320" cy="304560"/>
          </a:xfrm>
          <a:prstGeom prst="rect">
            <a:avLst/>
          </a:prstGeom>
          <a:ln w="0">
            <a:noFill/>
          </a:ln>
        </p:spPr>
      </p:pic>
      <p:sp>
        <p:nvSpPr>
          <p:cNvPr id="1198" name=""/>
          <p:cNvSpPr/>
          <p:nvPr/>
        </p:nvSpPr>
        <p:spPr>
          <a:xfrm>
            <a:off x="1205640" y="25700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ad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1962000" y="3181320"/>
            <a:ext cx="575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815600" y="2820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3"/>
          <a:stretch/>
        </p:blipFill>
        <p:spPr>
          <a:xfrm>
            <a:off x="2203560" y="3314880"/>
            <a:ext cx="5232240" cy="304560"/>
          </a:xfrm>
          <a:prstGeom prst="rect">
            <a:avLst/>
          </a:prstGeom>
          <a:ln w="0">
            <a:noFill/>
          </a:ln>
        </p:spPr>
      </p:pic>
      <p:sp>
        <p:nvSpPr>
          <p:cNvPr id="1202" name=""/>
          <p:cNvSpPr/>
          <p:nvPr/>
        </p:nvSpPr>
        <p:spPr>
          <a:xfrm>
            <a:off x="4552920" y="373392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4896000" y="3276360"/>
            <a:ext cx="304560" cy="323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5562720" y="3276360"/>
            <a:ext cx="304560" cy="323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5" name=""/>
          <p:cNvGrpSpPr/>
          <p:nvPr/>
        </p:nvGrpSpPr>
        <p:grpSpPr>
          <a:xfrm>
            <a:off x="4699080" y="3924360"/>
            <a:ext cx="1231920" cy="671040"/>
            <a:chOff x="4699080" y="3924360"/>
            <a:chExt cx="1231920" cy="671040"/>
          </a:xfrm>
        </p:grpSpPr>
        <p:pic>
          <p:nvPicPr>
            <p:cNvPr id="1206" name="" descr=""/>
            <p:cNvPicPr/>
            <p:nvPr/>
          </p:nvPicPr>
          <p:blipFill>
            <a:blip r:embed="rId4"/>
            <a:stretch/>
          </p:blipFill>
          <p:spPr>
            <a:xfrm>
              <a:off x="4699080" y="3924360"/>
              <a:ext cx="12319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7" name=""/>
            <p:cNvSpPr/>
            <p:nvPr/>
          </p:nvSpPr>
          <p:spPr>
            <a:xfrm>
              <a:off x="4701960" y="4189680"/>
              <a:ext cx="1006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= H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8" name="" descr=""/>
          <p:cNvPicPr/>
          <p:nvPr/>
        </p:nvPicPr>
        <p:blipFill>
          <a:blip r:embed="rId5"/>
          <a:stretch/>
        </p:blipFill>
        <p:spPr>
          <a:xfrm>
            <a:off x="3683160" y="4876920"/>
            <a:ext cx="1892160" cy="304560"/>
          </a:xfrm>
          <a:prstGeom prst="rect">
            <a:avLst/>
          </a:prstGeom>
          <a:ln w="0">
            <a:noFill/>
          </a:ln>
        </p:spPr>
      </p:pic>
      <p:grpSp>
        <p:nvGrpSpPr>
          <p:cNvPr id="1209" name=""/>
          <p:cNvGrpSpPr/>
          <p:nvPr/>
        </p:nvGrpSpPr>
        <p:grpSpPr>
          <a:xfrm>
            <a:off x="1223280" y="5180040"/>
            <a:ext cx="6644520" cy="1415880"/>
            <a:chOff x="1223280" y="5180040"/>
            <a:chExt cx="6644520" cy="1415880"/>
          </a:xfrm>
        </p:grpSpPr>
        <p:sp>
          <p:nvSpPr>
            <p:cNvPr id="1210" name=""/>
            <p:cNvSpPr/>
            <p:nvPr/>
          </p:nvSpPr>
          <p:spPr>
            <a:xfrm>
              <a:off x="1223280" y="5180040"/>
              <a:ext cx="204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Filtro de Kalman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1" name="" descr=""/>
            <p:cNvPicPr/>
            <p:nvPr/>
          </p:nvPicPr>
          <p:blipFill>
            <a:blip r:embed="rId6"/>
            <a:stretch/>
          </p:blipFill>
          <p:spPr>
            <a:xfrm>
              <a:off x="2343240" y="5564160"/>
              <a:ext cx="5524560" cy="4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2" name=""/>
            <p:cNvSpPr/>
            <p:nvPr/>
          </p:nvSpPr>
          <p:spPr>
            <a:xfrm rot="16200000">
              <a:off x="5153040" y="4943520"/>
              <a:ext cx="247680" cy="2381040"/>
            </a:xfrm>
            <a:custGeom>
              <a:avLst/>
              <a:gdLst>
                <a:gd name="textAreaLeft" fmla="*/ 158400 w 247680"/>
                <a:gd name="textAreaRight" fmla="*/ 248040 w 247680"/>
                <a:gd name="textAreaTop" fmla="*/ 61920 h 2381040"/>
                <a:gd name="textAreaBottom" fmla="*/ 2319120 h 238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167080" y="62276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4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215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6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1219" name=""/>
          <p:cNvSpPr/>
          <p:nvPr/>
        </p:nvSpPr>
        <p:spPr>
          <a:xfrm>
            <a:off x="3333600" y="2209680"/>
            <a:ext cx="304920" cy="324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879200" y="2170080"/>
            <a:ext cx="179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A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B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1899360" y="2552760"/>
            <a:ext cx="3396600" cy="1604160"/>
            <a:chOff x="1899360" y="2552760"/>
            <a:chExt cx="3396600" cy="1604160"/>
          </a:xfrm>
        </p:grpSpPr>
        <p:pic>
          <p:nvPicPr>
            <p:cNvPr id="1222" name="" descr=""/>
            <p:cNvPicPr/>
            <p:nvPr/>
          </p:nvPicPr>
          <p:blipFill>
            <a:blip r:embed="rId2"/>
            <a:stretch/>
          </p:blipFill>
          <p:spPr>
            <a:xfrm>
              <a:off x="3619440" y="2762280"/>
              <a:ext cx="16765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3" name=""/>
            <p:cNvSpPr/>
            <p:nvPr/>
          </p:nvSpPr>
          <p:spPr>
            <a:xfrm>
              <a:off x="3505320" y="255276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899360" y="3751200"/>
              <a:ext cx="2525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= (A – BK) 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- B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3346560" y="3790800"/>
            <a:ext cx="4152960" cy="2508120"/>
            <a:chOff x="3346560" y="3790800"/>
            <a:chExt cx="4152960" cy="2508120"/>
          </a:xfrm>
        </p:grpSpPr>
        <p:pic>
          <p:nvPicPr>
            <p:cNvPr id="1226" name="" descr=""/>
            <p:cNvPicPr/>
            <p:nvPr/>
          </p:nvPicPr>
          <p:blipFill>
            <a:blip r:embed="rId3"/>
            <a:stretch/>
          </p:blipFill>
          <p:spPr>
            <a:xfrm>
              <a:off x="5607000" y="3790800"/>
              <a:ext cx="18925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27" name=""/>
            <p:cNvGrpSpPr/>
            <p:nvPr/>
          </p:nvGrpSpPr>
          <p:grpSpPr>
            <a:xfrm>
              <a:off x="3543480" y="4190760"/>
              <a:ext cx="2800080" cy="1309680"/>
              <a:chOff x="3543480" y="4190760"/>
              <a:chExt cx="2800080" cy="1309680"/>
            </a:xfrm>
          </p:grpSpPr>
          <p:sp>
            <p:nvSpPr>
              <p:cNvPr id="1228" name=""/>
              <p:cNvSpPr/>
              <p:nvPr/>
            </p:nvSpPr>
            <p:spPr>
              <a:xfrm>
                <a:off x="3543480" y="4190760"/>
                <a:ext cx="1409400" cy="800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flipH="1">
                <a:off x="4933800" y="4190760"/>
                <a:ext cx="1409760" cy="800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H="1">
                <a:off x="4944600" y="4991040"/>
                <a:ext cx="1800" cy="509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1" name=""/>
            <p:cNvGrpSpPr/>
            <p:nvPr/>
          </p:nvGrpSpPr>
          <p:grpSpPr>
            <a:xfrm>
              <a:off x="3346560" y="5626080"/>
              <a:ext cx="3251160" cy="672840"/>
              <a:chOff x="3346560" y="5626080"/>
              <a:chExt cx="3251160" cy="672840"/>
            </a:xfrm>
          </p:grpSpPr>
          <p:sp>
            <p:nvSpPr>
              <p:cNvPr id="1232" name=""/>
              <p:cNvSpPr/>
              <p:nvPr/>
            </p:nvSpPr>
            <p:spPr>
              <a:xfrm>
                <a:off x="4305240" y="5943600"/>
                <a:ext cx="895320" cy="3236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3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346560" y="5626080"/>
                <a:ext cx="3251160" cy="672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34" name=""/>
          <p:cNvSpPr/>
          <p:nvPr/>
        </p:nvSpPr>
        <p:spPr>
          <a:xfrm>
            <a:off x="2766600" y="133524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Princípio da Sepa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5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236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7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3362400" y="133524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Filtro de Kal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1" name="" descr=""/>
          <p:cNvPicPr/>
          <p:nvPr/>
        </p:nvPicPr>
        <p:blipFill>
          <a:blip r:embed="rId2"/>
          <a:stretch/>
        </p:blipFill>
        <p:spPr>
          <a:xfrm>
            <a:off x="1355760" y="1828800"/>
            <a:ext cx="6570720" cy="4915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58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42880" y="2192400"/>
            <a:ext cx="8089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emplos de Dificuldad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presentação, com um só funcional, todos os objetivos desej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Incertezas e Sensibi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Caracterização Numérica x Lingu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Fenômenos Estocás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Tecnica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2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243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4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1247" name=""/>
          <p:cNvSpPr/>
          <p:nvPr/>
        </p:nvSpPr>
        <p:spPr>
          <a:xfrm>
            <a:off x="542880" y="2192400"/>
            <a:ext cx="8089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emplos de Dificuldad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Representação, com um só funcional, todos os objetivos desej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Incertezas e Sensibi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Caracterização Numérica x Lingu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969696"/>
                </a:solidFill>
                <a:latin typeface="Arial"/>
              </a:rPr>
              <a:t>Fenômenos Estocás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lgumas Tecnica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/>
          <p:nvPr/>
        </p:nvSpPr>
        <p:spPr>
          <a:xfrm>
            <a:off x="3975120" y="3597120"/>
            <a:ext cx="2692440" cy="2054520"/>
          </a:xfrm>
          <a:custGeom>
            <a:avLst/>
            <a:gdLst/>
            <a:ahLst/>
            <a:rect l="l" t="t" r="r" b="b"/>
            <a:pathLst>
              <a:path w="1696" h="1294">
                <a:moveTo>
                  <a:pt x="0" y="0"/>
                </a:moveTo>
                <a:cubicBezTo>
                  <a:pt x="144" y="462"/>
                  <a:pt x="633" y="1274"/>
                  <a:pt x="916" y="1284"/>
                </a:cubicBezTo>
                <a:cubicBezTo>
                  <a:pt x="1199" y="1294"/>
                  <a:pt x="1576" y="377"/>
                  <a:pt x="1696" y="60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9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250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1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891000" y="1812960"/>
            <a:ext cx="507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cc6600"/>
                </a:solidFill>
                <a:uFillTx/>
                <a:latin typeface="Arial"/>
              </a:rPr>
              <a:t>Tecnicalidade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6600"/>
                </a:solidFill>
                <a:latin typeface="Arial"/>
              </a:rPr>
              <a:t>Não diferenciabilidade de alguns dos termos em J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2666880" y="3066840"/>
            <a:ext cx="0" cy="3066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286000" y="5829480"/>
            <a:ext cx="4705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048120" y="3505320"/>
            <a:ext cx="2495520" cy="1714320"/>
          </a:xfrm>
          <a:custGeom>
            <a:avLst/>
            <a:gdLst/>
            <a:ahLst/>
            <a:rect l="l" t="t" r="r" b="b"/>
            <a:pathLst>
              <a:path w="1572" h="1080">
                <a:moveTo>
                  <a:pt x="0" y="72"/>
                </a:moveTo>
                <a:cubicBezTo>
                  <a:pt x="144" y="504"/>
                  <a:pt x="384" y="1080"/>
                  <a:pt x="744" y="1080"/>
                </a:cubicBezTo>
                <a:cubicBezTo>
                  <a:pt x="1104" y="1080"/>
                  <a:pt x="1440" y="360"/>
                  <a:pt x="1572" y="0"/>
                </a:cubicBezTo>
              </a:path>
            </a:pathLst>
          </a:custGeom>
          <a:noFill/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975120" y="3505320"/>
            <a:ext cx="1562040" cy="1485720"/>
          </a:xfrm>
          <a:custGeom>
            <a:avLst/>
            <a:gdLst/>
            <a:ahLst/>
            <a:rect l="l" t="t" r="r" b="b"/>
            <a:pathLst>
              <a:path w="984" h="936">
                <a:moveTo>
                  <a:pt x="0" y="56"/>
                </a:moveTo>
                <a:cubicBezTo>
                  <a:pt x="64" y="272"/>
                  <a:pt x="268" y="688"/>
                  <a:pt x="452" y="936"/>
                </a:cubicBezTo>
                <a:cubicBezTo>
                  <a:pt x="590" y="826"/>
                  <a:pt x="880" y="336"/>
                  <a:pt x="98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843960" y="5394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044440" y="289872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J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687920" y="4964040"/>
            <a:ext cx="0" cy="95724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363200" y="589428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óti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554360" y="3135240"/>
            <a:ext cx="1819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00"/>
                </a:solidFill>
                <a:latin typeface="Arial"/>
              </a:rPr>
              <a:t>J(x)=max{f</a:t>
            </a:r>
            <a:r>
              <a:rPr b="1" lang="pt-BR" sz="1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pt-BR" sz="1400" spc="-1" strike="noStrike">
                <a:solidFill>
                  <a:srgbClr val="ff0000"/>
                </a:solidFill>
                <a:latin typeface="Arial"/>
              </a:rPr>
              <a:t>(x),f</a:t>
            </a:r>
            <a:r>
              <a:rPr b="1" lang="pt-BR" sz="1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1400" spc="-1" strike="noStrike">
                <a:solidFill>
                  <a:srgbClr val="ff0000"/>
                </a:solidFill>
                <a:latin typeface="Arial"/>
              </a:rPr>
              <a:t>(x)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407280" y="3375000"/>
            <a:ext cx="515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f</a:t>
            </a:r>
            <a:r>
              <a:rPr b="1" lang="pt-BR" sz="1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pt-BR" sz="1400" spc="-1" strike="noStrike">
                <a:solidFill>
                  <a:srgbClr val="3333cc"/>
                </a:solidFill>
                <a:latin typeface="Arial"/>
              </a:rPr>
              <a:t>(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801880" y="3265560"/>
            <a:ext cx="515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9900"/>
                </a:solidFill>
                <a:latin typeface="Arial"/>
              </a:rPr>
              <a:t>f</a:t>
            </a:r>
            <a:r>
              <a:rPr b="1" lang="pt-BR" sz="1400" spc="-1" strike="noStrike" baseline="-25000">
                <a:solidFill>
                  <a:srgbClr val="009900"/>
                </a:solidFill>
                <a:latin typeface="Arial"/>
              </a:rPr>
              <a:t>1</a:t>
            </a:r>
            <a:r>
              <a:rPr b="1" lang="pt-BR" sz="1400" spc="-1" strike="noStrike">
                <a:solidFill>
                  <a:srgbClr val="009900"/>
                </a:solidFill>
                <a:latin typeface="Arial"/>
              </a:rPr>
              <a:t>(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6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267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8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1271" name=""/>
          <p:cNvSpPr/>
          <p:nvPr/>
        </p:nvSpPr>
        <p:spPr>
          <a:xfrm>
            <a:off x="883800" y="1812960"/>
            <a:ext cx="175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cc6600"/>
                </a:solidFill>
                <a:uFillTx/>
                <a:latin typeface="Arial"/>
              </a:rPr>
              <a:t>Tecnicalidade 2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6600"/>
                </a:solidFill>
                <a:latin typeface="Arial"/>
              </a:rPr>
              <a:t>Cálculo de Itô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2" name=""/>
              <p:cNvSpPr txBox="1"/>
              <p:nvPr/>
            </p:nvSpPr>
            <p:spPr>
              <a:xfrm>
                <a:off x="1038240" y="3705120"/>
                <a:ext cx="30430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1079640" y="2833560"/>
                <a:ext cx="39052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τ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τ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τ</m:t>
                                </m:r>
                              </m:sub>
                            </m:sSub>
                          </m:e>
                        </m:d>
                        <m:r>
                          <m:t xml:space="preserve">dτ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τ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τ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1049400" y="4349880"/>
                <a:ext cx="5506920" cy="19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ϕ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</m:sSub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</m:sSub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5" name=""/>
          <p:cNvSpPr/>
          <p:nvPr/>
        </p:nvSpPr>
        <p:spPr>
          <a:xfrm>
            <a:off x="2641680" y="332424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647800" y="411624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7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278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9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1282" name=""/>
          <p:cNvSpPr/>
          <p:nvPr/>
        </p:nvSpPr>
        <p:spPr>
          <a:xfrm>
            <a:off x="893520" y="1812960"/>
            <a:ext cx="756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cc6600"/>
                </a:solidFill>
                <a:uFillTx/>
                <a:latin typeface="Arial"/>
              </a:rPr>
              <a:t>Tecnicalidade 3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6600"/>
                </a:solidFill>
                <a:latin typeface="Arial"/>
              </a:rPr>
              <a:t>Princípio do Máximo de Pontryaguin = Condição Necessária, Não Sufici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919080" y="3030480"/>
            <a:ext cx="494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cc6600"/>
                </a:solidFill>
                <a:uFillTx/>
                <a:latin typeface="Arial"/>
              </a:rPr>
              <a:t>Tecnicalidade 4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6600"/>
                </a:solidFill>
                <a:latin typeface="Arial"/>
              </a:rPr>
              <a:t>Solução da Equação de Hamilton-Jacobi-Bell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964800" y="548964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cc6600"/>
                </a:solidFill>
                <a:uFillTx/>
                <a:latin typeface="Arial"/>
              </a:rPr>
              <a:t>Tecnicalidade 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651320" y="4240080"/>
            <a:ext cx="23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6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287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8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1291" name=""/>
          <p:cNvSpPr/>
          <p:nvPr/>
        </p:nvSpPr>
        <p:spPr>
          <a:xfrm>
            <a:off x="2845080" y="3433680"/>
            <a:ext cx="37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6600"/>
                </a:solidFill>
                <a:latin typeface="Arial"/>
              </a:rPr>
              <a:t>Muito Obrigad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14600" y="4438800"/>
            <a:ext cx="2552760" cy="609480"/>
          </a:xfrm>
          <a:custGeom>
            <a:avLst/>
            <a:gdLst/>
            <a:ahLst/>
            <a:rect l="l" t="t" r="r" b="b"/>
            <a:pathLst>
              <a:path w="1608" h="384">
                <a:moveTo>
                  <a:pt x="0" y="384"/>
                </a:moveTo>
                <a:cubicBezTo>
                  <a:pt x="468" y="36"/>
                  <a:pt x="1608" y="0"/>
                  <a:pt x="1608" y="0"/>
                </a:cubicBezTo>
              </a:path>
            </a:pathLst>
          </a:custGeom>
          <a:noFill/>
          <a:ln w="19080">
            <a:solidFill>
              <a:srgbClr val="9933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52760" y="5086440"/>
            <a:ext cx="3924360" cy="1371600"/>
          </a:xfrm>
          <a:custGeom>
            <a:avLst/>
            <a:gdLst/>
            <a:ahLst/>
            <a:rect l="l" t="t" r="r" b="b"/>
            <a:pathLst>
              <a:path w="2472" h="864">
                <a:moveTo>
                  <a:pt x="2472" y="420"/>
                </a:moveTo>
                <a:cubicBezTo>
                  <a:pt x="2448" y="660"/>
                  <a:pt x="1884" y="864"/>
                  <a:pt x="1344" y="804"/>
                </a:cubicBezTo>
                <a:cubicBezTo>
                  <a:pt x="804" y="744"/>
                  <a:pt x="240" y="300"/>
                  <a:pt x="0" y="0"/>
                </a:cubicBezTo>
              </a:path>
            </a:pathLst>
          </a:custGeom>
          <a:noFill/>
          <a:ln w="28440">
            <a:solidFill>
              <a:srgbClr val="9933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66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725560" y="1392120"/>
            <a:ext cx="39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Arial"/>
              </a:rPr>
              <a:t>Otimização Multi-Crité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57531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581120" y="3123720"/>
            <a:ext cx="0" cy="287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13080" y="5737320"/>
            <a:ext cx="43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03480" y="2917800"/>
            <a:ext cx="43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76440" y="4991040"/>
            <a:ext cx="114480" cy="1144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38760" y="57531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048280" y="3123720"/>
            <a:ext cx="0" cy="287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80240" y="5737320"/>
            <a:ext cx="43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70280" y="2917800"/>
            <a:ext cx="43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952520" y="4438800"/>
            <a:ext cx="1505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58040" y="4381560"/>
            <a:ext cx="0" cy="150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00800" y="4381560"/>
            <a:ext cx="114480" cy="1141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7200" y="2212920"/>
            <a:ext cx="6594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6600"/>
                </a:solidFill>
                <a:latin typeface="Arial"/>
              </a:rPr>
              <a:t>Obter valor de x que 'minimiza', simultaneamente,  J</a:t>
            </a:r>
            <a:r>
              <a:rPr b="1" lang="pt-BR" sz="1600" spc="-1" strike="noStrike" baseline="-25000">
                <a:solidFill>
                  <a:srgbClr val="cc6600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cc6600"/>
                </a:solidFill>
                <a:latin typeface="Arial"/>
              </a:rPr>
              <a:t>(x) e J</a:t>
            </a:r>
            <a:r>
              <a:rPr b="1" lang="pt-BR" sz="1600" spc="-1" strike="noStrike" baseline="-25000">
                <a:solidFill>
                  <a:srgbClr val="cc66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cc6600"/>
                </a:solidFill>
                <a:latin typeface="Arial"/>
              </a:rPr>
              <a:t>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14600" y="4438800"/>
            <a:ext cx="2552760" cy="609480"/>
          </a:xfrm>
          <a:custGeom>
            <a:avLst/>
            <a:gdLst/>
            <a:ahLst/>
            <a:rect l="l" t="t" r="r" b="b"/>
            <a:pathLst>
              <a:path w="1608" h="384">
                <a:moveTo>
                  <a:pt x="0" y="384"/>
                </a:moveTo>
                <a:cubicBezTo>
                  <a:pt x="468" y="36"/>
                  <a:pt x="1608" y="0"/>
                  <a:pt x="1608" y="0"/>
                </a:cubicBezTo>
              </a:path>
            </a:pathLst>
          </a:custGeom>
          <a:noFill/>
          <a:ln w="19080">
            <a:solidFill>
              <a:srgbClr val="9933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52760" y="5086440"/>
            <a:ext cx="3924360" cy="1371600"/>
          </a:xfrm>
          <a:custGeom>
            <a:avLst/>
            <a:gdLst/>
            <a:ahLst/>
            <a:rect l="l" t="t" r="r" b="b"/>
            <a:pathLst>
              <a:path w="2472" h="864">
                <a:moveTo>
                  <a:pt x="2472" y="420"/>
                </a:moveTo>
                <a:cubicBezTo>
                  <a:pt x="2448" y="660"/>
                  <a:pt x="1884" y="864"/>
                  <a:pt x="1344" y="804"/>
                </a:cubicBezTo>
                <a:cubicBezTo>
                  <a:pt x="804" y="744"/>
                  <a:pt x="240" y="300"/>
                  <a:pt x="0" y="0"/>
                </a:cubicBezTo>
              </a:path>
            </a:pathLst>
          </a:custGeom>
          <a:noFill/>
          <a:ln w="28440">
            <a:solidFill>
              <a:srgbClr val="9933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87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2725560" y="1392120"/>
            <a:ext cx="39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Arial"/>
              </a:rPr>
              <a:t>Otimização Multi-Crité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57531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581120" y="3123720"/>
            <a:ext cx="0" cy="287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13080" y="5737320"/>
            <a:ext cx="43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03480" y="2917800"/>
            <a:ext cx="43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76440" y="4991040"/>
            <a:ext cx="114480" cy="11448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38760" y="57531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048280" y="3123720"/>
            <a:ext cx="0" cy="287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0240" y="5737320"/>
            <a:ext cx="43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70280" y="2917800"/>
            <a:ext cx="43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952520" y="4438800"/>
            <a:ext cx="1505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58040" y="4381560"/>
            <a:ext cx="0" cy="150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381560"/>
            <a:ext cx="114480" cy="1141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3772080"/>
            <a:ext cx="2933640" cy="609480"/>
          </a:xfrm>
          <a:custGeom>
            <a:avLst/>
            <a:gdLst/>
            <a:ahLst/>
            <a:rect l="l" t="t" r="r" b="b"/>
            <a:pathLst>
              <a:path w="1608" h="384">
                <a:moveTo>
                  <a:pt x="0" y="384"/>
                </a:moveTo>
                <a:cubicBezTo>
                  <a:pt x="468" y="36"/>
                  <a:pt x="1608" y="0"/>
                  <a:pt x="1608" y="0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95560" y="4419720"/>
            <a:ext cx="3905280" cy="2190600"/>
          </a:xfrm>
          <a:custGeom>
            <a:avLst/>
            <a:gdLst/>
            <a:ahLst/>
            <a:rect l="l" t="t" r="r" b="b"/>
            <a:pathLst>
              <a:path w="2460" h="1380">
                <a:moveTo>
                  <a:pt x="2460" y="876"/>
                </a:moveTo>
                <a:cubicBezTo>
                  <a:pt x="2436" y="1256"/>
                  <a:pt x="1224" y="1380"/>
                  <a:pt x="732" y="1104"/>
                </a:cubicBezTo>
                <a:cubicBezTo>
                  <a:pt x="240" y="828"/>
                  <a:pt x="132" y="516"/>
                  <a:pt x="0" y="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19240" y="4324320"/>
            <a:ext cx="114480" cy="1144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933800" y="3772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00840" y="37148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3714840"/>
            <a:ext cx="114480" cy="1141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27200" y="2212920"/>
            <a:ext cx="6594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6600"/>
                </a:solidFill>
                <a:latin typeface="Arial"/>
              </a:rPr>
              <a:t>Obter valor de x que 'minimiza', simultaneamente,  J</a:t>
            </a:r>
            <a:r>
              <a:rPr b="1" lang="pt-BR" sz="1600" spc="-1" strike="noStrike" baseline="-25000">
                <a:solidFill>
                  <a:srgbClr val="cc6600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cc6600"/>
                </a:solidFill>
                <a:latin typeface="Arial"/>
              </a:rPr>
              <a:t>(x) e J</a:t>
            </a:r>
            <a:r>
              <a:rPr b="1" lang="pt-BR" sz="1600" spc="-1" strike="noStrike" baseline="-25000">
                <a:solidFill>
                  <a:srgbClr val="cc66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cc6600"/>
                </a:solidFill>
                <a:latin typeface="Arial"/>
              </a:rPr>
              <a:t>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800720" y="3800520"/>
            <a:ext cx="1714320" cy="1694880"/>
            <a:chOff x="1800720" y="3800520"/>
            <a:chExt cx="1714320" cy="1694880"/>
          </a:xfrm>
        </p:grpSpPr>
        <p:sp>
          <p:nvSpPr>
            <p:cNvPr id="112" name=""/>
            <p:cNvSpPr/>
            <p:nvPr/>
          </p:nvSpPr>
          <p:spPr>
            <a:xfrm flipH="1" rot="10800000">
              <a:off x="2200320" y="4791240"/>
              <a:ext cx="114120" cy="11376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rot="10800000">
              <a:off x="3362400" y="5248440"/>
              <a:ext cx="114120" cy="11376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rot="10800000">
              <a:off x="2428920" y="5381280"/>
              <a:ext cx="114120" cy="114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rot="10800000">
              <a:off x="2714760" y="5096160"/>
              <a:ext cx="114120" cy="11376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rot="10800000">
              <a:off x="1895400" y="4486320"/>
              <a:ext cx="114480" cy="114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rot="10800000">
              <a:off x="3400560" y="4105440"/>
              <a:ext cx="114120" cy="11376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rot="10800000">
              <a:off x="2162160" y="3800520"/>
              <a:ext cx="114480" cy="114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rot="10800000">
              <a:off x="2962440" y="4467240"/>
              <a:ext cx="114120" cy="114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rot="10800000">
              <a:off x="2162160" y="4200840"/>
              <a:ext cx="114480" cy="11376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rot="10800000">
              <a:off x="2257560" y="4638960"/>
              <a:ext cx="114120" cy="11376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rot="10800000">
              <a:off x="1800360" y="5019840"/>
              <a:ext cx="114120" cy="11376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rot="10800000">
              <a:off x="2619360" y="3934080"/>
              <a:ext cx="114480" cy="11376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25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725560" y="1392120"/>
            <a:ext cx="39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Arial"/>
              </a:rPr>
              <a:t>Otimização Multi-Crité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57531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581120" y="3123720"/>
            <a:ext cx="0" cy="287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13080" y="5737320"/>
            <a:ext cx="43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03480" y="2917800"/>
            <a:ext cx="43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76440" y="4991040"/>
            <a:ext cx="11448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38760" y="57531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048280" y="3123720"/>
            <a:ext cx="0" cy="287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80240" y="5737320"/>
            <a:ext cx="43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70280" y="2917800"/>
            <a:ext cx="43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24200" y="3714840"/>
            <a:ext cx="11412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10000" y="4629240"/>
            <a:ext cx="11412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52760" y="4172040"/>
            <a:ext cx="11412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76400" y="5372280"/>
            <a:ext cx="11448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62240" y="3790800"/>
            <a:ext cx="11448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67160" y="5029200"/>
            <a:ext cx="11412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00440" y="4229280"/>
            <a:ext cx="11412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67200" y="5029200"/>
            <a:ext cx="11412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19520" y="4781520"/>
            <a:ext cx="11412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95560" y="5295960"/>
            <a:ext cx="11412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33600" y="4572000"/>
            <a:ext cx="11448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rot="10800000">
            <a:off x="6064920" y="4541760"/>
            <a:ext cx="11412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rot="10800000">
            <a:off x="7284960" y="5246640"/>
            <a:ext cx="11448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rot="10800000">
            <a:off x="6313320" y="5074920"/>
            <a:ext cx="11448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rot="10800000">
            <a:off x="6580080" y="5055840"/>
            <a:ext cx="11448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rot="10800000">
            <a:off x="5760000" y="4236840"/>
            <a:ext cx="11412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rot="10800000">
            <a:off x="7265880" y="3855960"/>
            <a:ext cx="11448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rot="10800000">
            <a:off x="5475240" y="3894120"/>
            <a:ext cx="11448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rot="10800000">
            <a:off x="6827760" y="4217760"/>
            <a:ext cx="11448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rot="10800000">
            <a:off x="6026760" y="3951000"/>
            <a:ext cx="11412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rot="10800000">
            <a:off x="6122880" y="4389120"/>
            <a:ext cx="11448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rot="10800000">
            <a:off x="5779080" y="4560840"/>
            <a:ext cx="11412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rot="10800000">
            <a:off x="6483960" y="3684240"/>
            <a:ext cx="11412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43560" y="4743360"/>
            <a:ext cx="11448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29160" y="3467160"/>
            <a:ext cx="11448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77120" y="4381560"/>
            <a:ext cx="11412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3581280"/>
            <a:ext cx="11448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62600" y="5219640"/>
            <a:ext cx="11448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29360" y="3543480"/>
            <a:ext cx="11448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34280" y="4781520"/>
            <a:ext cx="11412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67560" y="3981600"/>
            <a:ext cx="11412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34320" y="4781520"/>
            <a:ext cx="11412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86640" y="4533840"/>
            <a:ext cx="11412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58080" y="4857840"/>
            <a:ext cx="11412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01080" y="4324320"/>
            <a:ext cx="11412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7200" y="2212920"/>
            <a:ext cx="6594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6600"/>
                </a:solidFill>
                <a:latin typeface="Arial"/>
              </a:rPr>
              <a:t>Obter valor de x que 'minimiza', simultaneamente,  J</a:t>
            </a:r>
            <a:r>
              <a:rPr b="1" lang="pt-BR" sz="1600" spc="-1" strike="noStrike" baseline="-25000">
                <a:solidFill>
                  <a:srgbClr val="cc6600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cc6600"/>
                </a:solidFill>
                <a:latin typeface="Arial"/>
              </a:rPr>
              <a:t>(x) e J</a:t>
            </a:r>
            <a:r>
              <a:rPr b="1" lang="pt-BR" sz="1600" spc="-1" strike="noStrike" baseline="-25000">
                <a:solidFill>
                  <a:srgbClr val="cc66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cc6600"/>
                </a:solidFill>
                <a:latin typeface="Arial"/>
              </a:rPr>
              <a:t>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57800" y="3390840"/>
            <a:ext cx="2362320" cy="2952720"/>
          </a:xfrm>
          <a:custGeom>
            <a:avLst/>
            <a:gdLst/>
            <a:ahLst/>
            <a:rect l="l" t="t" r="r" b="b"/>
            <a:pathLst>
              <a:path w="1488" h="1860">
                <a:moveTo>
                  <a:pt x="0" y="0"/>
                </a:moveTo>
                <a:cubicBezTo>
                  <a:pt x="156" y="1056"/>
                  <a:pt x="792" y="1284"/>
                  <a:pt x="1488" y="1392"/>
                </a:cubicBezTo>
                <a:cubicBezTo>
                  <a:pt x="1488" y="1860"/>
                  <a:pt x="1488" y="432"/>
                  <a:pt x="1488" y="0"/>
                </a:cubicBezTo>
                <a:cubicBezTo>
                  <a:pt x="1164" y="12"/>
                  <a:pt x="504" y="0"/>
                  <a:pt x="0" y="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81120" y="3486240"/>
            <a:ext cx="2286000" cy="226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800720" y="3800520"/>
            <a:ext cx="1714320" cy="1694880"/>
            <a:chOff x="1800720" y="3800520"/>
            <a:chExt cx="1714320" cy="1694880"/>
          </a:xfrm>
        </p:grpSpPr>
        <p:sp>
          <p:nvSpPr>
            <p:cNvPr id="178" name=""/>
            <p:cNvSpPr/>
            <p:nvPr/>
          </p:nvSpPr>
          <p:spPr>
            <a:xfrm flipH="1" rot="10800000">
              <a:off x="2200320" y="4791240"/>
              <a:ext cx="114120" cy="11376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rot="10800000">
              <a:off x="3362400" y="5248440"/>
              <a:ext cx="114120" cy="11376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rot="10800000">
              <a:off x="2428920" y="5381280"/>
              <a:ext cx="114120" cy="114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rot="10800000">
              <a:off x="2714760" y="5096160"/>
              <a:ext cx="114120" cy="11376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rot="10800000">
              <a:off x="1895400" y="4486320"/>
              <a:ext cx="114480" cy="114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rot="10800000">
              <a:off x="3400560" y="4105440"/>
              <a:ext cx="114120" cy="11376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rot="10800000">
              <a:off x="2162160" y="3800520"/>
              <a:ext cx="114480" cy="114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rot="10800000">
              <a:off x="2962440" y="4467240"/>
              <a:ext cx="114120" cy="114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rot="10800000">
              <a:off x="2162160" y="4200840"/>
              <a:ext cx="114480" cy="11376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10800000">
              <a:off x="2257560" y="4638960"/>
              <a:ext cx="114120" cy="11376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10800000">
              <a:off x="1800360" y="5019840"/>
              <a:ext cx="114120" cy="11376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rot="10800000">
              <a:off x="2619360" y="3934080"/>
              <a:ext cx="114480" cy="11376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191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725560" y="1392120"/>
            <a:ext cx="39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Arial"/>
              </a:rPr>
              <a:t>Otimização Multi-Crité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7200" y="2212920"/>
            <a:ext cx="6594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6600"/>
                </a:solidFill>
                <a:latin typeface="Arial"/>
              </a:rPr>
              <a:t>Obter valor de x que 'minimiza', simultaneamente,  J</a:t>
            </a:r>
            <a:r>
              <a:rPr b="1" lang="pt-BR" sz="1600" spc="-1" strike="noStrike" baseline="-25000">
                <a:solidFill>
                  <a:srgbClr val="cc6600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cc6600"/>
                </a:solidFill>
                <a:latin typeface="Arial"/>
              </a:rPr>
              <a:t>(x) e J</a:t>
            </a:r>
            <a:r>
              <a:rPr b="1" lang="pt-BR" sz="1600" spc="-1" strike="noStrike" baseline="-25000">
                <a:solidFill>
                  <a:srgbClr val="cc66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cc6600"/>
                </a:solidFill>
                <a:latin typeface="Arial"/>
              </a:rPr>
              <a:t>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57531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581120" y="3123720"/>
            <a:ext cx="0" cy="287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13080" y="5737320"/>
            <a:ext cx="43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03480" y="2917800"/>
            <a:ext cx="43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76440" y="4991040"/>
            <a:ext cx="11448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048280" y="3123720"/>
            <a:ext cx="0" cy="287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80240" y="5737320"/>
            <a:ext cx="43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70280" y="2917800"/>
            <a:ext cx="43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24200" y="3714840"/>
            <a:ext cx="11412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10000" y="4629240"/>
            <a:ext cx="11412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52760" y="4172040"/>
            <a:ext cx="11412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76400" y="5372280"/>
            <a:ext cx="11448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62240" y="3790800"/>
            <a:ext cx="11448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67160" y="5029200"/>
            <a:ext cx="11412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00440" y="4229280"/>
            <a:ext cx="11412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67200" y="5029200"/>
            <a:ext cx="11412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4781520"/>
            <a:ext cx="11412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95560" y="5295960"/>
            <a:ext cx="11412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33600" y="4572000"/>
            <a:ext cx="11448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rot="10800000">
            <a:off x="6064920" y="4541760"/>
            <a:ext cx="11412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rot="10800000">
            <a:off x="7284960" y="5246640"/>
            <a:ext cx="11448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rot="10800000">
            <a:off x="6313320" y="5074920"/>
            <a:ext cx="11448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rot="10800000">
            <a:off x="6580080" y="5055840"/>
            <a:ext cx="11448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rot="10800000">
            <a:off x="5760000" y="4236840"/>
            <a:ext cx="11412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rot="10800000">
            <a:off x="7265880" y="3855960"/>
            <a:ext cx="11448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10800000">
            <a:off x="5475240" y="3894120"/>
            <a:ext cx="11448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rot="10800000">
            <a:off x="6827760" y="4217760"/>
            <a:ext cx="11448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rot="10800000">
            <a:off x="6026760" y="3951000"/>
            <a:ext cx="11412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rot="10800000">
            <a:off x="6122880" y="4389120"/>
            <a:ext cx="11448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rot="10800000">
            <a:off x="5779080" y="4560840"/>
            <a:ext cx="11412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rot="10800000">
            <a:off x="6483960" y="3684240"/>
            <a:ext cx="11412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43560" y="4743360"/>
            <a:ext cx="11448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29160" y="3467160"/>
            <a:ext cx="11448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77120" y="4381560"/>
            <a:ext cx="11412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5880" y="3581280"/>
            <a:ext cx="11448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62600" y="5219640"/>
            <a:ext cx="11448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29360" y="3543480"/>
            <a:ext cx="11448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34280" y="4781520"/>
            <a:ext cx="11412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67560" y="3981600"/>
            <a:ext cx="11412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934320" y="4781520"/>
            <a:ext cx="11412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86640" y="4533840"/>
            <a:ext cx="11412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58080" y="4857840"/>
            <a:ext cx="114120" cy="1141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01080" y="4324320"/>
            <a:ext cx="114120" cy="114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62880" y="5608800"/>
            <a:ext cx="9540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38760" y="57531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257800" y="3390840"/>
            <a:ext cx="2362320" cy="2952720"/>
          </a:xfrm>
          <a:custGeom>
            <a:avLst/>
            <a:gdLst/>
            <a:ahLst/>
            <a:rect l="l" t="t" r="r" b="b"/>
            <a:pathLst>
              <a:path w="1488" h="1860">
                <a:moveTo>
                  <a:pt x="0" y="0"/>
                </a:moveTo>
                <a:cubicBezTo>
                  <a:pt x="156" y="1056"/>
                  <a:pt x="792" y="1284"/>
                  <a:pt x="1488" y="1392"/>
                </a:cubicBezTo>
                <a:cubicBezTo>
                  <a:pt x="1488" y="1860"/>
                  <a:pt x="1488" y="432"/>
                  <a:pt x="1488" y="0"/>
                </a:cubicBezTo>
                <a:cubicBezTo>
                  <a:pt x="1164" y="12"/>
                  <a:pt x="504" y="0"/>
                  <a:pt x="0" y="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81120" y="3486240"/>
            <a:ext cx="2286000" cy="2266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0" y="230040"/>
            <a:ext cx="9144000" cy="1049400"/>
            <a:chOff x="0" y="230040"/>
            <a:chExt cx="9144000" cy="1049400"/>
          </a:xfrm>
        </p:grpSpPr>
        <p:pic>
          <p:nvPicPr>
            <p:cNvPr id="245" name="LogoLNCC" descr=""/>
            <p:cNvPicPr/>
            <p:nvPr/>
          </p:nvPicPr>
          <p:blipFill>
            <a:blip r:embed="rId1"/>
            <a:stretch/>
          </p:blipFill>
          <p:spPr>
            <a:xfrm>
              <a:off x="1305000" y="230040"/>
              <a:ext cx="6581880" cy="8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0" y="1279440"/>
              <a:ext cx="91440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62320" y="723960"/>
              <a:ext cx="529596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2495520" y="757080"/>
              <a:ext cx="5581800" cy="219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    </a:t>
              </a:r>
              <a:r>
                <a:rPr b="0" lang="en-US" sz="1800" spc="1" strike="noStrike">
                  <a:ln w="0">
                    <a:solidFill>
                      <a:srgbClr val="969696"/>
                    </a:solidFill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9e953"/>
                      </a:gs>
                    </a:gsLst>
                    <a:lin ang="108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Futura XBlk BT"/>
                </a:rPr>
                <a:t>09 a 13 de fevereiro de 2004          </a:t>
              </a:r>
              <a:endParaRPr b="0" lang="en-US" sz="1800" spc="1" strike="noStrike">
                <a:ln w="0">
                  <a:solidFill>
                    <a:srgbClr val="969696"/>
                  </a:solidFill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9e953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Futura XBlk BT"/>
                <a:ea typeface="Futura XBlk BT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725560" y="1392120"/>
            <a:ext cx="39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Arial"/>
              </a:rPr>
              <a:t>Otimização Multi-Crité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27200" y="2212920"/>
            <a:ext cx="6594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6600"/>
                </a:solidFill>
                <a:latin typeface="Arial"/>
              </a:rPr>
              <a:t>Obter valor de x que 'minimiza', simultaneamente,  J</a:t>
            </a:r>
            <a:r>
              <a:rPr b="1" lang="pt-BR" sz="1600" spc="-1" strike="noStrike" baseline="-25000">
                <a:solidFill>
                  <a:srgbClr val="cc6600"/>
                </a:solidFill>
                <a:latin typeface="Arial"/>
              </a:rPr>
              <a:t>1</a:t>
            </a:r>
            <a:r>
              <a:rPr b="1" lang="pt-BR" sz="1600" spc="-1" strike="noStrike">
                <a:solidFill>
                  <a:srgbClr val="cc6600"/>
                </a:solidFill>
                <a:latin typeface="Arial"/>
              </a:rPr>
              <a:t>(x) e J</a:t>
            </a:r>
            <a:r>
              <a:rPr b="1" lang="pt-BR" sz="1600" spc="-1" strike="noStrike" baseline="-25000">
                <a:solidFill>
                  <a:srgbClr val="cc6600"/>
                </a:solidFill>
                <a:latin typeface="Arial"/>
              </a:rPr>
              <a:t>2</a:t>
            </a:r>
            <a:r>
              <a:rPr b="1" lang="pt-BR" sz="1600" spc="-1" strike="noStrike">
                <a:solidFill>
                  <a:srgbClr val="cc6600"/>
                </a:solidFill>
                <a:latin typeface="Arial"/>
              </a:rPr>
              <a:t>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57531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581120" y="3123720"/>
            <a:ext cx="0" cy="287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13080" y="5737320"/>
            <a:ext cx="43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03480" y="2917800"/>
            <a:ext cx="43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048280" y="3123720"/>
            <a:ext cx="0" cy="287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80240" y="5737320"/>
            <a:ext cx="43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70280" y="2917800"/>
            <a:ext cx="43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62880" y="5608800"/>
            <a:ext cx="9540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38760" y="57531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281640" y="4062240"/>
            <a:ext cx="438120" cy="436680"/>
            <a:chOff x="6281640" y="4062240"/>
            <a:chExt cx="438120" cy="436680"/>
          </a:xfrm>
        </p:grpSpPr>
        <p:sp>
          <p:nvSpPr>
            <p:cNvPr id="261" name=""/>
            <p:cNvSpPr/>
            <p:nvPr/>
          </p:nvSpPr>
          <p:spPr>
            <a:xfrm>
              <a:off x="6281640" y="4384800"/>
              <a:ext cx="114480" cy="1141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6386400" y="4122720"/>
              <a:ext cx="276480" cy="2890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605640" y="4062240"/>
              <a:ext cx="114120" cy="1144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 flipH="1">
            <a:off x="7072200" y="518940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13720" y="4927680"/>
            <a:ext cx="276120" cy="288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742080" y="486720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519880" y="3866040"/>
            <a:ext cx="438120" cy="435960"/>
            <a:chOff x="5519880" y="3866040"/>
            <a:chExt cx="438120" cy="435960"/>
          </a:xfrm>
        </p:grpSpPr>
        <p:sp>
          <p:nvSpPr>
            <p:cNvPr id="268" name=""/>
            <p:cNvSpPr/>
            <p:nvPr/>
          </p:nvSpPr>
          <p:spPr>
            <a:xfrm flipV="1">
              <a:off x="5519880" y="3866040"/>
              <a:ext cx="114480" cy="113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5624640" y="3953160"/>
              <a:ext cx="276480" cy="288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843880" y="4187520"/>
              <a:ext cx="114120" cy="1141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20:50:31Z</dcterms:created>
  <dc:creator>Takashi Yoneyama</dc:creator>
  <dc:description/>
  <dc:language>en-US</dc:language>
  <cp:lastModifiedBy>Otto Gottlieb</cp:lastModifiedBy>
  <dcterms:modified xsi:type="dcterms:W3CDTF">2004-02-03T18:29:48Z</dcterms:modified>
  <cp:revision>46</cp:revision>
  <dc:subject/>
  <dc:title>No Slide Title</dc:title>
</cp:coreProperties>
</file>