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FCB-8F6A-4777-AFB8-9784A4E1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01C-0337-42C4-BBAA-FC337DF6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010-A5F2-4D11-837F-7EC391AF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499-7BDF-4F35-A5C0-8D11C710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78C-9670-4E4B-8AB3-C58D7346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59B-FBF5-4810-A941-CA8B2205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51E-22A0-4D9A-8B25-5A45BD51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7B9-B2AE-4ACD-9CDA-ADACFCEE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87A-A19D-4105-9A21-7CDC039A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751-269B-49C1-9E96-D89D4B5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D1A-93DB-4A7E-AB05-6DDD6F9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AC0C-F4F3-416C-B31C-43FFC70B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BE78-A2D7-447B-9A89-6685DBE9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7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2514600"/>
            <a:ext cx="12193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2509920"/>
            <a:ext cx="113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86000" y="2509920"/>
            <a:ext cx="5791320" cy="538200"/>
            <a:chOff x="2286000" y="2509920"/>
            <a:chExt cx="5791320" cy="538200"/>
          </a:xfrm>
        </p:grpSpPr>
        <p:sp>
          <p:nvSpPr>
            <p:cNvPr id="99" name=""/>
            <p:cNvSpPr/>
            <p:nvPr/>
          </p:nvSpPr>
          <p:spPr>
            <a:xfrm>
              <a:off x="2286000" y="2514600"/>
              <a:ext cx="579132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75800" y="2509920"/>
              <a:ext cx="538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2895480"/>
            <a:ext cx="1371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3600" y="2509920"/>
            <a:ext cx="13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75800" y="2509920"/>
            <a:ext cx="53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5800" y="2509920"/>
            <a:ext cx="53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8280" y="2509920"/>
            <a:ext cx="5639040" cy="919080"/>
            <a:chOff x="2438280" y="2509920"/>
            <a:chExt cx="5639040" cy="919080"/>
          </a:xfrm>
        </p:grpSpPr>
        <p:sp>
          <p:nvSpPr>
            <p:cNvPr id="109" name=""/>
            <p:cNvSpPr/>
            <p:nvPr/>
          </p:nvSpPr>
          <p:spPr>
            <a:xfrm>
              <a:off x="2438280" y="2895480"/>
              <a:ext cx="563904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75800" y="2509920"/>
              <a:ext cx="538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3276720"/>
            <a:ext cx="13716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3600" y="2509920"/>
            <a:ext cx="13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75800" y="2509920"/>
            <a:ext cx="53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2509920"/>
            <a:ext cx="5791320" cy="1299960"/>
            <a:chOff x="2438280" y="2509920"/>
            <a:chExt cx="5791320" cy="1299960"/>
          </a:xfrm>
        </p:grpSpPr>
        <p:sp>
          <p:nvSpPr>
            <p:cNvPr id="118" name=""/>
            <p:cNvSpPr/>
            <p:nvPr/>
          </p:nvSpPr>
          <p:spPr>
            <a:xfrm>
              <a:off x="2438280" y="3276720"/>
              <a:ext cx="5791320" cy="53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75800" y="2509920"/>
              <a:ext cx="5387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3657600"/>
            <a:ext cx="1676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1800" y="2509920"/>
            <a:ext cx="16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5800" y="2509920"/>
            <a:ext cx="53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575800" y="2509920"/>
            <a:ext cx="5653800" cy="1681200"/>
            <a:chOff x="2575800" y="2509920"/>
            <a:chExt cx="5653800" cy="1681200"/>
          </a:xfrm>
        </p:grpSpPr>
        <p:sp>
          <p:nvSpPr>
            <p:cNvPr id="127" name=""/>
            <p:cNvSpPr/>
            <p:nvPr/>
          </p:nvSpPr>
          <p:spPr>
            <a:xfrm>
              <a:off x="2743200" y="3657600"/>
              <a:ext cx="548640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5800" y="2509920"/>
              <a:ext cx="5387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Eficiência, Rapidez de Res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3962520"/>
            <a:ext cx="106704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1800" y="2509920"/>
            <a:ext cx="164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5800" y="2509920"/>
            <a:ext cx="538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ficiência, Rapidez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133720" y="2509920"/>
            <a:ext cx="6324480" cy="1985760"/>
            <a:chOff x="2133720" y="2509920"/>
            <a:chExt cx="6324480" cy="1985760"/>
          </a:xfrm>
        </p:grpSpPr>
        <p:sp>
          <p:nvSpPr>
            <p:cNvPr id="136" name=""/>
            <p:cNvSpPr/>
            <p:nvPr/>
          </p:nvSpPr>
          <p:spPr>
            <a:xfrm>
              <a:off x="2133720" y="3962520"/>
              <a:ext cx="6324480" cy="533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71840" y="2509920"/>
              <a:ext cx="572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ficiência, Rapidez de Res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implicidade, Mantenebilidade, Disponibi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66680" y="4343400"/>
            <a:ext cx="152424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81800" y="2509920"/>
            <a:ext cx="164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b2b2b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1840" y="2509920"/>
            <a:ext cx="572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ficiência, Rapidez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implicidade, Mantenebilidade, Disponi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71840" y="2509920"/>
            <a:ext cx="5810040" cy="2367000"/>
            <a:chOff x="2571840" y="2509920"/>
            <a:chExt cx="5810040" cy="2367000"/>
          </a:xfrm>
        </p:grpSpPr>
        <p:sp>
          <p:nvSpPr>
            <p:cNvPr id="145" name=""/>
            <p:cNvSpPr/>
            <p:nvPr/>
          </p:nvSpPr>
          <p:spPr>
            <a:xfrm>
              <a:off x="2590920" y="4343400"/>
              <a:ext cx="5790960" cy="533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71840" y="2509920"/>
              <a:ext cx="5722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Controles Ergonômicos , Auto-Sinto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stabilidade, Robustez, Vulnerabilida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Rejeição de Distúrbio, Linear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Eficiência, Rapidez de Respo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b2b2b2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b2b2b2"/>
                  </a:solidFill>
                  <a:latin typeface="Arial Narrow"/>
                </a:rPr>
                <a:t>Simplicidade, Mantenebilidade, Disponibilid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20000"/>
                </a:lnSpc>
                <a:buClr>
                  <a:srgbClr val="000000"/>
                </a:buClr>
                <a:buSzPct val="125000"/>
                <a:buFont typeface="Symbol" charset="2"/>
                <a:buChar char="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onhecimento sobre o 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2438280"/>
            <a:ext cx="1828800" cy="2819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81800" y="2509920"/>
            <a:ext cx="1646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Narrow"/>
              </a:rPr>
              <a:t>ou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1840" y="2509920"/>
            <a:ext cx="572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troles Ergonômicos , Auto-Sinto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stabilidade, Robustez, Vulnera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Rejeição de Distúrbio, Line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Eficiência, Rapidez de Re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Simplicidade, Mantenebilidade, Disponi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b2b2b2"/>
              </a:buClr>
              <a:buSzPct val="125000"/>
              <a:buFont typeface="Symbol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b2b2b2"/>
                </a:solidFill>
                <a:latin typeface="Arial Narrow"/>
              </a:rPr>
              <a:t>Conhecimento sobre o Pro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31400" y="1569960"/>
            <a:ext cx="55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ificações de Desempen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73280" y="2187720"/>
            <a:ext cx="11430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74800" y="130968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4360" y="2187720"/>
            <a:ext cx="59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d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istema Físico + Especif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1400" y="2873520"/>
            <a:ext cx="7762680" cy="1557000"/>
            <a:chOff x="761400" y="2873520"/>
            <a:chExt cx="7762680" cy="1557000"/>
          </a:xfrm>
        </p:grpSpPr>
        <p:sp>
          <p:nvSpPr>
            <p:cNvPr id="160" name=""/>
            <p:cNvSpPr/>
            <p:nvPr/>
          </p:nvSpPr>
          <p:spPr>
            <a:xfrm>
              <a:off x="773280" y="2873520"/>
              <a:ext cx="99072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400" y="2873520"/>
              <a:ext cx="7762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bte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 Um Dispositivo que atua sobre este Sistem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ísico,  de modo que o  seu  comportam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enda às  Especificações  de  Desempenho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ornecida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 priori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210200" y="4721400"/>
            <a:ext cx="914400" cy="975960"/>
          </a:xfrm>
          <a:prstGeom prst="downArrow">
            <a:avLst>
              <a:gd name="adj1" fmla="val 37500"/>
              <a:gd name="adj2" fmla="val 3713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13400" y="5964120"/>
            <a:ext cx="69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e Dispositivo será chamado d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tro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0800" y="4078440"/>
            <a:ext cx="5070240" cy="228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25" y="949"/>
                </a:moveTo>
                <a:lnTo>
                  <a:pt x="-1420" y="949"/>
                </a:lnTo>
                <a:lnTo>
                  <a:pt x="-1420" y="-3506"/>
                </a:lnTo>
                <a:lnTo>
                  <a:pt x="5788" y="-5850"/>
                </a:lnTo>
              </a:path>
              <a:path w="21600" h="21600">
                <a:moveTo>
                  <a:pt x="-325" y="0"/>
                </a:moveTo>
                <a:lnTo>
                  <a:pt x="-325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edical Sensors and 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signal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edical Systems Modelling and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materials and Tissue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Im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habilitation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6560" y="2870280"/>
            <a:ext cx="654228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52" y="2859"/>
                </a:moveTo>
                <a:lnTo>
                  <a:pt x="22732" y="2859"/>
                </a:lnTo>
                <a:lnTo>
                  <a:pt x="22732" y="-5043"/>
                </a:lnTo>
                <a:lnTo>
                  <a:pt x="14974" y="-12026"/>
                </a:lnTo>
              </a:path>
              <a:path w="21600" h="21600">
                <a:moveTo>
                  <a:pt x="21852" y="0"/>
                </a:moveTo>
                <a:lnTo>
                  <a:pt x="21852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erle, Blanchard e Bronzino: “...Involves applying the concepts, knowledge and approaches of virtually all engineering disciplines to solve health care-related problems..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07400" y="348624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20560" y="1925640"/>
            <a:ext cx="642312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C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cações da Teoria de Controle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ashi Yone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A - Divisão de Engenharia Eletrô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ça Mal. Eduardo Gomes, 50  Vila das Acá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228-900 São José dos Campos 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ashi@ele.ita.cta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le.ita.cta.br/~takash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79560" y="1333440"/>
            <a:ext cx="75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 em Malha Aberta x Malha Fech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4840" y="1998720"/>
            <a:ext cx="8381880" cy="1905120"/>
            <a:chOff x="474840" y="1998720"/>
            <a:chExt cx="8381880" cy="1905120"/>
          </a:xfrm>
        </p:grpSpPr>
        <p:sp>
          <p:nvSpPr>
            <p:cNvPr id="176" name=""/>
            <p:cNvSpPr/>
            <p:nvPr/>
          </p:nvSpPr>
          <p:spPr>
            <a:xfrm>
              <a:off x="474840" y="1998720"/>
              <a:ext cx="8381880" cy="1905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7720" y="2532240"/>
              <a:ext cx="1524240" cy="99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3040" y="2656080"/>
              <a:ext cx="115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í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5920" y="2532240"/>
              <a:ext cx="2210040" cy="99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53280" y="280836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46440" y="2989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65960" y="29894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51960" y="298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24560" y="24559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96000" y="2455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2360" y="2455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20" y="207504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lha Ab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57200" y="4062240"/>
            <a:ext cx="8381880" cy="2514600"/>
            <a:chOff x="457200" y="4062240"/>
            <a:chExt cx="8381880" cy="2514600"/>
          </a:xfrm>
        </p:grpSpPr>
        <p:sp>
          <p:nvSpPr>
            <p:cNvPr id="189" name=""/>
            <p:cNvSpPr/>
            <p:nvPr/>
          </p:nvSpPr>
          <p:spPr>
            <a:xfrm>
              <a:off x="457200" y="4062240"/>
              <a:ext cx="8381880" cy="2514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671720"/>
              <a:ext cx="1523880" cy="99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6280" y="4795560"/>
              <a:ext cx="115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í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671720"/>
              <a:ext cx="2209680" cy="99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16520" y="4948200"/>
              <a:ext cx="163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o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9680" y="5128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9200" y="5128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51289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7800" y="459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9240" y="4595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4200" y="459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4824360"/>
              <a:ext cx="609480" cy="60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5128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905120" y="54334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19160" y="6091200"/>
              <a:ext cx="579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696080" y="512892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2520" y="4595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69240" y="49226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3920" y="497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0120" y="5052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4960" y="413856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lha Fech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76520" y="49003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676520" y="49003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03520" y="3044880"/>
            <a:ext cx="5930640" cy="1515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6360" y="17366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antagens de Controle em Malha Fech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8040" y="2962440"/>
            <a:ext cx="57722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ez a Incertezas no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jeição de Distúr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ação das Características de Est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92520" y="134316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ustez a Incertezas no Mod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" y="1952640"/>
            <a:ext cx="8381880" cy="193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9640" y="2505240"/>
            <a:ext cx="13161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14760" y="2792520"/>
            <a:ext cx="10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10160" y="296244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454880" y="2978280"/>
            <a:ext cx="101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88280" y="242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00680" y="265752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90840" y="2962440"/>
            <a:ext cx="60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03800" y="328104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08480" y="3736800"/>
            <a:ext cx="2638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848720" y="2962080"/>
            <a:ext cx="1440" cy="7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92640" y="2428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69720" y="2755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400" y="28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70960" y="2900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4520" y="20019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76640" y="273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976640" y="273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4920" y="2543040"/>
            <a:ext cx="13161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00040" y="2830680"/>
            <a:ext cx="10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5440" y="30002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3560" y="24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6760" y="245268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05560" y="1981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Ab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52760" y="3036960"/>
            <a:ext cx="6094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4440" y="410364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3000" y="240336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8600" y="4497480"/>
            <a:ext cx="24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(A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840" y="4954680"/>
            <a:ext cx="22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Ae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33440" y="4487760"/>
            <a:ext cx="1681200" cy="874800"/>
            <a:chOff x="433440" y="4487760"/>
            <a:chExt cx="1681200" cy="874800"/>
          </a:xfrm>
        </p:grpSpPr>
        <p:sp>
          <p:nvSpPr>
            <p:cNvPr id="250" name=""/>
            <p:cNvSpPr/>
            <p:nvPr/>
          </p:nvSpPr>
          <p:spPr>
            <a:xfrm flipV="1">
              <a:off x="433440" y="4487760"/>
              <a:ext cx="46188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652760" y="4929120"/>
              <a:ext cx="46188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80600" y="5402160"/>
            <a:ext cx="12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0440" y="5800680"/>
            <a:ext cx="1320840" cy="711720"/>
            <a:chOff x="460440" y="5800680"/>
            <a:chExt cx="1320840" cy="711720"/>
          </a:xfrm>
        </p:grpSpPr>
        <p:sp>
          <p:nvSpPr>
            <p:cNvPr id="254" name=""/>
            <p:cNvSpPr/>
            <p:nvPr/>
          </p:nvSpPr>
          <p:spPr>
            <a:xfrm>
              <a:off x="460440" y="580068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8480" y="6113520"/>
              <a:ext cx="115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880" y="616284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63600" y="615636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40680" y="59896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990800" y="5902200"/>
            <a:ext cx="2050200" cy="398880"/>
            <a:chOff x="1990800" y="5902200"/>
            <a:chExt cx="2050200" cy="398880"/>
          </a:xfrm>
        </p:grpSpPr>
        <p:sp>
          <p:nvSpPr>
            <p:cNvPr id="260" name=""/>
            <p:cNvSpPr/>
            <p:nvPr/>
          </p:nvSpPr>
          <p:spPr>
            <a:xfrm>
              <a:off x="2415600" y="590220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y%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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90800" y="6119640"/>
              <a:ext cx="317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908960" y="3943440"/>
            <a:ext cx="1412280" cy="759240"/>
            <a:chOff x="4908960" y="3943440"/>
            <a:chExt cx="1412280" cy="759240"/>
          </a:xfrm>
        </p:grpSpPr>
        <p:sp>
          <p:nvSpPr>
            <p:cNvPr id="263" name=""/>
            <p:cNvSpPr/>
            <p:nvPr/>
          </p:nvSpPr>
          <p:spPr>
            <a:xfrm>
              <a:off x="4908960" y="408132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351400" y="3943440"/>
              <a:ext cx="726480" cy="759240"/>
              <a:chOff x="5351400" y="3943440"/>
              <a:chExt cx="726480" cy="759240"/>
            </a:xfrm>
          </p:grpSpPr>
          <p:sp>
            <p:nvSpPr>
              <p:cNvPr id="265" name=""/>
              <p:cNvSpPr/>
              <p:nvPr/>
            </p:nvSpPr>
            <p:spPr>
              <a:xfrm>
                <a:off x="5351400" y="430380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40040" y="3943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06840" y="429084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884120" y="4500720"/>
            <a:ext cx="2840040" cy="759240"/>
            <a:chOff x="4884120" y="4500720"/>
            <a:chExt cx="2840040" cy="759240"/>
          </a:xfrm>
        </p:grpSpPr>
        <p:sp>
          <p:nvSpPr>
            <p:cNvPr id="269" name=""/>
            <p:cNvSpPr/>
            <p:nvPr/>
          </p:nvSpPr>
          <p:spPr>
            <a:xfrm>
              <a:off x="4884120" y="4637160"/>
              <a:ext cx="284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+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           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6014880" y="4500720"/>
              <a:ext cx="1506960" cy="759240"/>
              <a:chOff x="6014880" y="4500720"/>
              <a:chExt cx="1506960" cy="759240"/>
            </a:xfrm>
          </p:grpSpPr>
          <p:sp>
            <p:nvSpPr>
              <p:cNvPr id="271" name=""/>
              <p:cNvSpPr/>
              <p:nvPr/>
            </p:nvSpPr>
            <p:spPr>
              <a:xfrm>
                <a:off x="6014880" y="4861080"/>
                <a:ext cx="150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+ 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203520" y="4500720"/>
                <a:ext cx="107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076800" y="4836960"/>
                <a:ext cx="132696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4932360" y="5176800"/>
            <a:ext cx="2953440" cy="1478880"/>
            <a:chOff x="4932360" y="5176800"/>
            <a:chExt cx="2953440" cy="1478880"/>
          </a:xfrm>
        </p:grpSpPr>
        <p:sp>
          <p:nvSpPr>
            <p:cNvPr id="275" name=""/>
            <p:cNvSpPr/>
            <p:nvPr/>
          </p:nvSpPr>
          <p:spPr>
            <a:xfrm>
              <a:off x="5559480" y="5342040"/>
              <a:ext cx="696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862600" y="5219640"/>
              <a:ext cx="1506960" cy="756000"/>
              <a:chOff x="5862600" y="5219640"/>
              <a:chExt cx="1506960" cy="756000"/>
            </a:xfrm>
          </p:grpSpPr>
          <p:sp>
            <p:nvSpPr>
              <p:cNvPr id="277" name=""/>
              <p:cNvSpPr/>
              <p:nvPr/>
            </p:nvSpPr>
            <p:spPr>
              <a:xfrm>
                <a:off x="5862600" y="5576760"/>
                <a:ext cx="150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+ 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057000" y="5219640"/>
                <a:ext cx="7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924520" y="5552640"/>
                <a:ext cx="132696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4932360" y="51768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43520" y="5551560"/>
              <a:ext cx="49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81800" y="558000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54440" y="51894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09880" y="556416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91040" y="5540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73680" y="5564160"/>
            <a:ext cx="3575160" cy="1774080"/>
            <a:chOff x="4873680" y="5564160"/>
            <a:chExt cx="3575160" cy="1774080"/>
          </a:xfrm>
        </p:grpSpPr>
        <p:sp>
          <p:nvSpPr>
            <p:cNvPr id="287" name=""/>
            <p:cNvSpPr/>
            <p:nvPr/>
          </p:nvSpPr>
          <p:spPr>
            <a:xfrm>
              <a:off x="5595840" y="6024600"/>
              <a:ext cx="696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898960" y="5902200"/>
              <a:ext cx="1506960" cy="756000"/>
              <a:chOff x="5898960" y="5902200"/>
              <a:chExt cx="1506960" cy="756000"/>
            </a:xfrm>
          </p:grpSpPr>
          <p:sp>
            <p:nvSpPr>
              <p:cNvPr id="289" name=""/>
              <p:cNvSpPr/>
              <p:nvPr/>
            </p:nvSpPr>
            <p:spPr>
              <a:xfrm>
                <a:off x="5898960" y="6259320"/>
                <a:ext cx="150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+ A +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093360" y="5902200"/>
                <a:ext cx="7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960880" y="6235200"/>
                <a:ext cx="132696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873680" y="6018120"/>
              <a:ext cx="322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y%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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31320" y="5564160"/>
              <a:ext cx="317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779200" y="130968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eição de Distúrb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040" y="2189160"/>
            <a:ext cx="8382240" cy="214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53440" y="3328920"/>
            <a:ext cx="990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75000" y="3143160"/>
            <a:ext cx="479160" cy="45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39760" y="3373560"/>
            <a:ext cx="436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103720" y="348912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2280" y="4148280"/>
            <a:ext cx="274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845480" y="3328560"/>
            <a:ext cx="0" cy="83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2760" y="27813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1440" y="31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32529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4160" y="222084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44840" y="3198960"/>
            <a:ext cx="35064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560680" y="3211560"/>
            <a:ext cx="3189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8080" y="2867040"/>
            <a:ext cx="6379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31800" y="3186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8240" y="3324240"/>
            <a:ext cx="6098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6360" y="27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02120" y="2230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Ab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160" y="306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4760" y="2633760"/>
            <a:ext cx="1440" cy="49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32040" y="2509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339084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70680" y="3108240"/>
            <a:ext cx="479520" cy="45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35800" y="3338640"/>
            <a:ext cx="436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27480" y="31543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0520" y="3164040"/>
            <a:ext cx="351000" cy="34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056000" y="3176640"/>
            <a:ext cx="31932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73760" y="2832120"/>
            <a:ext cx="6382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27480" y="3151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80200" y="3274920"/>
            <a:ext cx="49356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42400" y="27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71840" y="30290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10440" y="2598840"/>
            <a:ext cx="1440" cy="49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49920" y="3051000"/>
            <a:ext cx="479160" cy="451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4680" y="3281400"/>
            <a:ext cx="436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6360" y="3097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9760" y="3106800"/>
            <a:ext cx="35064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935600" y="3119400"/>
            <a:ext cx="31896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1800" y="3129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28080" y="2503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8720" y="451656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54240" y="287640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29560" y="2789280"/>
            <a:ext cx="9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3040" y="506736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Ae +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9080" y="562464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861440" y="4341960"/>
            <a:ext cx="1412280" cy="759240"/>
            <a:chOff x="4861440" y="4341960"/>
            <a:chExt cx="1412280" cy="759240"/>
          </a:xfrm>
        </p:grpSpPr>
        <p:sp>
          <p:nvSpPr>
            <p:cNvPr id="343" name=""/>
            <p:cNvSpPr/>
            <p:nvPr/>
          </p:nvSpPr>
          <p:spPr>
            <a:xfrm>
              <a:off x="4861440" y="4479840"/>
              <a:ext cx="14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303880" y="4341960"/>
              <a:ext cx="726480" cy="759240"/>
              <a:chOff x="5303880" y="4341960"/>
              <a:chExt cx="726480" cy="759240"/>
            </a:xfrm>
          </p:grpSpPr>
          <p:sp>
            <p:nvSpPr>
              <p:cNvPr id="345" name=""/>
              <p:cNvSpPr/>
              <p:nvPr/>
            </p:nvSpPr>
            <p:spPr>
              <a:xfrm>
                <a:off x="5303880" y="47023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492520" y="4341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59320" y="46893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851000" y="5013360"/>
            <a:ext cx="3215160" cy="767160"/>
            <a:chOff x="4851000" y="5013360"/>
            <a:chExt cx="3215160" cy="767160"/>
          </a:xfrm>
        </p:grpSpPr>
        <p:sp>
          <p:nvSpPr>
            <p:cNvPr id="349" name=""/>
            <p:cNvSpPr/>
            <p:nvPr/>
          </p:nvSpPr>
          <p:spPr>
            <a:xfrm>
              <a:off x="4851000" y="5133960"/>
              <a:ext cx="32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+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 =           r +           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889600" y="5013360"/>
              <a:ext cx="726480" cy="759240"/>
              <a:chOff x="5889600" y="5013360"/>
              <a:chExt cx="726480" cy="759240"/>
            </a:xfrm>
          </p:grpSpPr>
          <p:sp>
            <p:nvSpPr>
              <p:cNvPr id="351" name=""/>
              <p:cNvSpPr/>
              <p:nvPr/>
            </p:nvSpPr>
            <p:spPr>
              <a:xfrm>
                <a:off x="5889600" y="53737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78240" y="5013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45040" y="53607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035480" y="5021280"/>
              <a:ext cx="726480" cy="759240"/>
              <a:chOff x="7035480" y="5021280"/>
              <a:chExt cx="726480" cy="759240"/>
            </a:xfrm>
          </p:grpSpPr>
          <p:sp>
            <p:nvSpPr>
              <p:cNvPr id="355" name=""/>
              <p:cNvSpPr/>
              <p:nvPr/>
            </p:nvSpPr>
            <p:spPr>
              <a:xfrm>
                <a:off x="7035480" y="538164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224120" y="5021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90920" y="536868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4806000" y="5765760"/>
            <a:ext cx="1694160" cy="759240"/>
            <a:chOff x="4806000" y="5765760"/>
            <a:chExt cx="1694160" cy="759240"/>
          </a:xfrm>
        </p:grpSpPr>
        <p:sp>
          <p:nvSpPr>
            <p:cNvPr id="359" name=""/>
            <p:cNvSpPr/>
            <p:nvPr/>
          </p:nvSpPr>
          <p:spPr>
            <a:xfrm>
              <a:off x="4806000" y="586440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5500440" y="5765760"/>
              <a:ext cx="726480" cy="759240"/>
              <a:chOff x="5500440" y="5765760"/>
              <a:chExt cx="726480" cy="759240"/>
            </a:xfrm>
          </p:grpSpPr>
          <p:sp>
            <p:nvSpPr>
              <p:cNvPr id="361" name=""/>
              <p:cNvSpPr/>
              <p:nvPr/>
            </p:nvSpPr>
            <p:spPr>
              <a:xfrm>
                <a:off x="5500440" y="6126120"/>
                <a:ext cx="72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+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689080" y="57657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55880" y="6113160"/>
                <a:ext cx="635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847800" y="5117760"/>
            <a:ext cx="1422360" cy="382680"/>
            <a:chOff x="847800" y="5117760"/>
            <a:chExt cx="1422360" cy="382680"/>
          </a:xfrm>
        </p:grpSpPr>
        <p:sp>
          <p:nvSpPr>
            <p:cNvPr id="365" name=""/>
            <p:cNvSpPr/>
            <p:nvPr/>
          </p:nvSpPr>
          <p:spPr>
            <a:xfrm flipV="1">
              <a:off x="847800" y="5117760"/>
              <a:ext cx="31752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52640" y="5140080"/>
              <a:ext cx="31752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896000" y="5075280"/>
            <a:ext cx="1709640" cy="666720"/>
            <a:chOff x="4896000" y="5075280"/>
            <a:chExt cx="1709640" cy="666720"/>
          </a:xfrm>
        </p:grpSpPr>
        <p:sp>
          <p:nvSpPr>
            <p:cNvPr id="368" name=""/>
            <p:cNvSpPr/>
            <p:nvPr/>
          </p:nvSpPr>
          <p:spPr>
            <a:xfrm flipV="1">
              <a:off x="4896000" y="5154120"/>
              <a:ext cx="31752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072480" y="5075280"/>
              <a:ext cx="533160" cy="666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24680" y="1311120"/>
            <a:ext cx="78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ação das Características de Est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5000" y="2154240"/>
            <a:ext cx="7991640" cy="235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92680" y="327960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86440" y="3265560"/>
            <a:ext cx="99072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7080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25200" y="276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83200" y="297504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73720" y="3279600"/>
            <a:ext cx="609480" cy="1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389200" y="3584520"/>
            <a:ext cx="3240" cy="62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92800" y="4179600"/>
            <a:ext cx="188424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270920" y="3250800"/>
            <a:ext cx="2880" cy="93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75520" y="27464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52240" y="30733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36920" y="3127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91360" y="318924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86320" y="223056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Fech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59520" y="3051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159520" y="30510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79720" y="2903400"/>
            <a:ext cx="565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65760" y="31147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69880" y="3360600"/>
            <a:ext cx="609840" cy="1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48000" y="282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62720" y="284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70600" y="22525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lha Ab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76600" y="3411360"/>
            <a:ext cx="60948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88120" y="2840040"/>
            <a:ext cx="56520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59760" y="30369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950760" y="4811400"/>
            <a:ext cx="0" cy="142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6140520"/>
            <a:ext cx="151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65160" y="5418000"/>
            <a:ext cx="1125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73440" y="459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92320" y="5746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878200" y="4819320"/>
            <a:ext cx="0" cy="142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200" y="6148440"/>
            <a:ext cx="151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892600" y="5136840"/>
            <a:ext cx="1023840" cy="102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00520" y="46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19400" y="5754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210280" y="4822920"/>
            <a:ext cx="0" cy="142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1280" y="6151680"/>
            <a:ext cx="1515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224320" y="5429160"/>
            <a:ext cx="1125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97800" y="45925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51480" y="57578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137360" y="4830480"/>
            <a:ext cx="0" cy="142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48360" y="6159600"/>
            <a:ext cx="1516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0040" y="46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78560" y="5765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35920" y="5433840"/>
            <a:ext cx="1197000" cy="723960"/>
          </a:xfrm>
          <a:custGeom>
            <a:avLst/>
            <a:gdLst/>
            <a:ahLst/>
            <a:rect l="l" t="t" r="r" b="b"/>
            <a:pathLst>
              <a:path w="754" h="456">
                <a:moveTo>
                  <a:pt x="0" y="456"/>
                </a:moveTo>
                <a:cubicBezTo>
                  <a:pt x="36" y="392"/>
                  <a:pt x="92" y="148"/>
                  <a:pt x="218" y="74"/>
                </a:cubicBezTo>
                <a:cubicBezTo>
                  <a:pt x="344" y="0"/>
                  <a:pt x="642" y="23"/>
                  <a:pt x="754" y="1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27560" y="3292560"/>
            <a:ext cx="406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çã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s de 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43160" y="2604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87720" y="15048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1880" y="24638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f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Desempen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58240" y="14050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j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93320" y="30621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ális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86800" y="401472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(s) Lei(s)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32840" y="498312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92840" y="649116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ção e Manuten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07480" y="13478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93800" y="2205000"/>
            <a:ext cx="714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2480" y="15177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840" y="26748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79720" y="3068640"/>
            <a:ext cx="388800" cy="38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901840" y="3098880"/>
            <a:ext cx="389160" cy="38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97560" y="364500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8360" y="4624560"/>
            <a:ext cx="0" cy="441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95760" y="5318280"/>
            <a:ext cx="0" cy="441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8720" y="206532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67320" y="206064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74080" y="570060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es e Valid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08360" y="6064200"/>
            <a:ext cx="0" cy="441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23840" y="2681280"/>
            <a:ext cx="2433600" cy="26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080" y="2295360"/>
            <a:ext cx="8350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achenkov, A.L.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ease Dynam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Birkhäuser, 199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g, Y.C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roduction to Bio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orld Scientific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erle, J.D.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roduction to Biomedical 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Academic Pres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wan, H.P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ological 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McGraw Hill, 196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obson, B. e Webster, J.G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dicine and Clinical 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Prentice Hall, 197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rruault, Y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thematical Modelling in Biomedici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D. Reidel Publishing, 198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ger, S.A.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troduction to Bioenginee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University Press, 199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res, J.G. e Sneddon, I.N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Mathematics of Medicine and Biolo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Year Book, 196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nzino, J.D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omedical Engineering Handbo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CRC Press/IEEE Press,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oo, M.C.K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hysiological Control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IEEE Press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sum, J.H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iological Control System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McGraw Hill, 19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horn, H.T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Application of Control Theory to Physiological Syste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Saunders, 19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6920" y="1544760"/>
            <a:ext cx="21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18720" y="3486240"/>
            <a:ext cx="20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4840" y="325296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3959" y="2009"/>
                </a:lnTo>
                <a:lnTo>
                  <a:pt x="23959" y="-9098"/>
                </a:lnTo>
                <a:lnTo>
                  <a:pt x="13149" y="-21613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ontrolar = Atuar sobre 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, de modo que o seu compotamento satisfaça as Especificações de Desempen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38680" y="5021280"/>
            <a:ext cx="304308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1" y="2588"/>
                </a:moveTo>
                <a:lnTo>
                  <a:pt x="-3786" y="2588"/>
                </a:lnTo>
                <a:lnTo>
                  <a:pt x="-3786" y="-12040"/>
                </a:lnTo>
                <a:lnTo>
                  <a:pt x="3130" y="-28746"/>
                </a:lnTo>
              </a:path>
              <a:path w="21600" h="21600">
                <a:moveTo>
                  <a:pt x="-541" y="0"/>
                </a:moveTo>
                <a:lnTo>
                  <a:pt x="-541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Fís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arte do Universo sobre a qual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a a aten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2520" y="1668600"/>
            <a:ext cx="55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licações da Teoria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enharia Biomé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4840" y="3252960"/>
            <a:ext cx="3765600" cy="119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37" y="2009"/>
                </a:moveTo>
                <a:lnTo>
                  <a:pt x="23959" y="2009"/>
                </a:lnTo>
                <a:lnTo>
                  <a:pt x="23959" y="-9098"/>
                </a:lnTo>
                <a:lnTo>
                  <a:pt x="13149" y="-21613"/>
                </a:lnTo>
              </a:path>
              <a:path w="21600" h="21600">
                <a:moveTo>
                  <a:pt x="22037" y="0"/>
                </a:moveTo>
                <a:lnTo>
                  <a:pt x="22037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ontrolar = Atuar sobre 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Sistema Físico, de modo que o seu compotamento satisfaça 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pecificações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de Desempen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6240" y="3956040"/>
            <a:ext cx="2441520" cy="225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115" y="-1174"/>
                </a:moveTo>
                <a:lnTo>
                  <a:pt x="22274" y="1081"/>
                </a:lnTo>
              </a:path>
              <a:path w="21600" h="21600">
                <a:moveTo>
                  <a:pt x="22274" y="0"/>
                </a:moveTo>
                <a:lnTo>
                  <a:pt x="22274" y="21600"/>
                </a:lnTo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pecific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f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gu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Qu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t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prend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38200" y="13921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880" y="2220840"/>
            <a:ext cx="8001000" cy="398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3320" y="62326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65680" y="3421080"/>
            <a:ext cx="2286000" cy="1619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64080" y="232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59360" y="400356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0760" y="4202280"/>
            <a:ext cx="1143000" cy="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2600" y="303840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ariáveis Manipu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u Sinal de Cont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8800" y="4867200"/>
            <a:ext cx="31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Variáveis Não-Manipu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u Sinal de Perturb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ou Ruí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77400" y="361008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Sinal de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55920" y="4602240"/>
            <a:ext cx="13716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75000" y="3801960"/>
            <a:ext cx="13716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38200" y="13921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9880" y="2220840"/>
            <a:ext cx="8001000" cy="398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3320" y="62326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5680" y="3421080"/>
            <a:ext cx="2286000" cy="1619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64080" y="23274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202280"/>
            <a:ext cx="1143000" cy="0"/>
          </a:xfrm>
          <a:prstGeom prst="line">
            <a:avLst/>
          </a:prstGeom>
          <a:ln w="7632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55920" y="4602240"/>
            <a:ext cx="1371600" cy="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75000" y="3801960"/>
            <a:ext cx="13716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5280" y="32097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su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64320" y="480996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limentação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em Glic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7240" y="3610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Glice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56360" y="388764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b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Takashi Yoneyama</cp:lastModifiedBy>
  <dcterms:modified xsi:type="dcterms:W3CDTF">2003-02-07T15:36:28Z</dcterms:modified>
  <cp:revision>22</cp:revision>
  <dc:subject/>
  <dc:title>No Slide Title</dc:title>
</cp:coreProperties>
</file>