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B4F-3124-44B4-8307-601178BB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0E5-2ED2-4E95-8FD3-BBC620FF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F00-0771-405E-8701-CCD9125B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F84-4DA8-4DC0-8120-4F3AD822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525-FF5F-480E-9595-DA81E8B8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24C-C899-419E-8EA8-381744F4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E91-79AA-4B1F-B089-057B65C2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9C9-50FB-4EC4-A625-26D1CA41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20A-F8E5-4E7B-9CD1-1133794A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9B5-7474-480C-A083-CC51D397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E22-F73E-43FA-B8E6-38898960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44D-2D4B-471C-9CE4-F17A6107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16A9-AC03-48ED-9608-44D51D8D4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S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8 fe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280" y="1631880"/>
            <a:ext cx="556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aso de Sistemas Não-Lineares de Tempo Contínu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47800" y="3340080"/>
            <a:ext cx="1198800" cy="765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24280" y="2349360"/>
                <a:ext cx="13096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992840" y="3333600"/>
            <a:ext cx="1198440" cy="765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1640" y="4349880"/>
            <a:ext cx="279576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cação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-valores do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08600" y="4341960"/>
            <a:ext cx="328932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udo direto verific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a "energia" do sistema decai com o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140508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914480" y="2106720"/>
                <a:ext cx="10047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21480" y="2606760"/>
                <a:ext cx="414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064280" y="2481120"/>
                <a:ext cx="1370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135760" y="30020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consid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415200" y="3009960"/>
                <a:ext cx="1244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5125680" y="258300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ja           tal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368360" y="3290760"/>
                <a:ext cx="22068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ξ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9800" y="4444920"/>
                <a:ext cx="40165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Δ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e>
                    </m:d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625760" y="5686560"/>
                <a:ext cx="1598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Δ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e>
                    </m:d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395440" y="2727360"/>
            <a:ext cx="0" cy="5065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4920" y="3817800"/>
            <a:ext cx="0" cy="5065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0520" y="5030640"/>
            <a:ext cx="0" cy="5065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2489040" y="5866920"/>
            <a:ext cx="190440" cy="691920"/>
          </a:xfrm>
          <a:custGeom>
            <a:avLst/>
            <a:gdLst>
              <a:gd name="textAreaLeft" fmla="*/ 121680 w 190440"/>
              <a:gd name="textAreaRight" fmla="*/ 190800 w 190440"/>
              <a:gd name="textAreaTop" fmla="*/ 18000 h 691920"/>
              <a:gd name="textAreaBottom" fmla="*/ 673920 h 69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5"/>
                </a:lnTo>
                <a:cubicBezTo>
                  <a:pt x="10800" y="9925"/>
                  <a:pt x="5400" y="10825"/>
                  <a:pt x="0" y="10825"/>
                </a:cubicBezTo>
                <a:cubicBezTo>
                  <a:pt x="5400" y="10825"/>
                  <a:pt x="10800" y="11725"/>
                  <a:pt x="10800" y="126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21000" y="6335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385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y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25680" y="4041720"/>
            <a:ext cx="2452680" cy="0"/>
          </a:xfrm>
          <a:prstGeom prst="line">
            <a:avLst/>
          </a:prstGeom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3600" y="2894040"/>
            <a:ext cx="2452680" cy="0"/>
          </a:xfrm>
          <a:prstGeom prst="line">
            <a:avLst/>
          </a:prstGeom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2482920"/>
            <a:ext cx="3592440" cy="909720"/>
          </a:xfrm>
          <a:prstGeom prst="rect">
            <a:avLst/>
          </a:prstGeom>
          <a:noFill/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06800" y="3693960"/>
            <a:ext cx="1239840" cy="679680"/>
          </a:xfrm>
          <a:prstGeom prst="rect">
            <a:avLst/>
          </a:prstGeom>
          <a:noFill/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89680" y="140508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 Direto de Lyapun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46760" y="2170080"/>
            <a:ext cx="7801560" cy="898560"/>
            <a:chOff x="446760" y="2170080"/>
            <a:chExt cx="7801560" cy="89856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1941480" y="2170080"/>
                  <a:ext cx="95436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446760" y="235584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 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1560" y="2340000"/>
              <a:ext cx="220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 estável e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(0,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45560" y="2338200"/>
              <a:ext cx="30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 exist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: 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al 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30560" y="3379680"/>
            <a:ext cx="5071320" cy="1559160"/>
            <a:chOff x="430560" y="3379680"/>
            <a:chExt cx="5071320" cy="1559160"/>
          </a:xfrm>
        </p:grpSpPr>
        <p:sp>
          <p:nvSpPr>
            <p:cNvPr id="227" name=""/>
            <p:cNvSpPr/>
            <p:nvPr/>
          </p:nvSpPr>
          <p:spPr>
            <a:xfrm>
              <a:off x="430560" y="3379680"/>
              <a:ext cx="507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)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é positivo definida e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(0,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)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(x(t)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possui derivadas contínuas e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)               é negativo semi-definida e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(0,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52400" y="4373640"/>
                  <a:ext cx="83988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9" name="lyapu" descr=""/>
          <p:cNvPicPr/>
          <p:nvPr/>
        </p:nvPicPr>
        <p:blipFill>
          <a:blip r:embed="rId2"/>
          <a:stretch/>
        </p:blipFill>
        <p:spPr>
          <a:xfrm>
            <a:off x="5608800" y="3821040"/>
            <a:ext cx="3195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170760" y="3467160"/>
            <a:ext cx="249120" cy="376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0760" y="3114720"/>
            <a:ext cx="247680" cy="33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2762280"/>
            <a:ext cx="246240" cy="33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8680" y="2390760"/>
            <a:ext cx="239760" cy="35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14280" y="2247840"/>
            <a:ext cx="5608800" cy="39718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6192720" y="2413080"/>
            <a:ext cx="2560680" cy="3139560"/>
            <a:chOff x="6192720" y="2413080"/>
            <a:chExt cx="2560680" cy="3139560"/>
          </a:xfrm>
        </p:grpSpPr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6201000" y="2413080"/>
                  <a:ext cx="2425320" cy="14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6192720" y="3908520"/>
                  <a:ext cx="2560680" cy="164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sθ</m:t>
                              </m:r>
                            </m:num>
                            <m:den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λ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0" name=""/>
          <p:cNvSpPr/>
          <p:nvPr/>
        </p:nvSpPr>
        <p:spPr>
          <a:xfrm>
            <a:off x="4057560" y="3147840"/>
            <a:ext cx="3621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5960" y="3157560"/>
            <a:ext cx="362160" cy="405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33600" y="5059440"/>
            <a:ext cx="3744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4379760"/>
            <a:ext cx="36216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14680" y="1370160"/>
            <a:ext cx="39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o da Infecção por 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563920" y="1830240"/>
            <a:ext cx="4292640" cy="4082760"/>
            <a:chOff x="2563920" y="1830240"/>
            <a:chExt cx="4292640" cy="4082760"/>
          </a:xfrm>
        </p:grpSpPr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2592000" y="1830240"/>
                  <a:ext cx="4012200" cy="182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563920" y="3762000"/>
                  <a:ext cx="4292640" cy="21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sθ</m:t>
                              </m:r>
                            </m:num>
                            <m:den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λ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39880" y="2428920"/>
          <a:ext cx="7576920" cy="327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2428920"/>
                    <a:ext cx="7576920" cy="32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224160" y="173196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âmetros do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49640" y="5153040"/>
            <a:ext cx="4373280" cy="73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214720" y="2409840"/>
            <a:ext cx="5300640" cy="1701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76160" y="165564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tos de Equilíb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10840" y="5099040"/>
            <a:ext cx="422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62.828; 0; 0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.07; 13.1; 131.04; 1072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(-70.62; 0; 0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38800" y="4232160"/>
            <a:ext cx="0" cy="698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777000" y="5189400"/>
            <a:ext cx="662040" cy="23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33600" y="1644480"/>
            <a:ext cx="360360" cy="26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59600" y="5146560"/>
            <a:ext cx="14472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21200" y="1630440"/>
            <a:ext cx="6634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539720" y="2100240"/>
          <a:ext cx="5153040" cy="4548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9720" y="2100240"/>
                    <a:ext cx="51530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266160" y="5137200"/>
            <a:ext cx="199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= (462.828; 0; 0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26000" y="1609560"/>
            <a:ext cx="291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= (4.07; 13.1; 131.04; 10724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568600" y="1978200"/>
            <a:ext cx="620640" cy="518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772240" y="5383080"/>
            <a:ext cx="403200" cy="433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0080" y="5737320"/>
            <a:ext cx="36216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63720" y="1646280"/>
            <a:ext cx="37476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24080" y="3218040"/>
            <a:ext cx="5070240" cy="2882880"/>
            <a:chOff x="2224080" y="3218040"/>
            <a:chExt cx="5070240" cy="2882880"/>
          </a:xfrm>
        </p:grpSpPr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2224080" y="3218040"/>
              <a:ext cx="5070240" cy="14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2570040" y="4829400"/>
              <a:ext cx="4016160" cy="12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"/>
          <p:cNvGrpSpPr/>
          <p:nvPr/>
        </p:nvGrpSpPr>
        <p:grpSpPr>
          <a:xfrm>
            <a:off x="3700440" y="1414440"/>
            <a:ext cx="3500640" cy="1096920"/>
            <a:chOff x="3700440" y="1414440"/>
            <a:chExt cx="3500640" cy="1096920"/>
          </a:xfrm>
        </p:grpSpPr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3700440" y="1633680"/>
              <a:ext cx="318168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367600" y="1414440"/>
              <a:ext cx="183348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502160" y="2454120"/>
            <a:ext cx="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800680" y="3290760"/>
            <a:ext cx="1630440" cy="37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11480" y="2489040"/>
            <a:ext cx="23403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13 + 1.35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13 - 1.35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0.1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1240" y="4419720"/>
            <a:ext cx="26452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439 + 0.189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439 – 0.189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0.77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0.03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9200" y="3036960"/>
            <a:ext cx="28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62.828; 0; 0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960" y="4940280"/>
            <a:ext cx="42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.07; 13.1; 131.04; 1072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45920" y="1390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1880" y="2525760"/>
            <a:ext cx="374400" cy="1487520"/>
          </a:xfrm>
          <a:custGeom>
            <a:avLst/>
            <a:gdLst>
              <a:gd name="textAreaLeft" fmla="*/ 239400 w 374400"/>
              <a:gd name="textAreaRight" fmla="*/ 374760 w 374400"/>
              <a:gd name="textAreaTop" fmla="*/ 38520 h 1487520"/>
              <a:gd name="textAreaBottom" fmla="*/ 144900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9800" y="4497480"/>
            <a:ext cx="374400" cy="1487520"/>
          </a:xfrm>
          <a:custGeom>
            <a:avLst/>
            <a:gdLst>
              <a:gd name="textAreaLeft" fmla="*/ 239400 w 374400"/>
              <a:gd name="textAreaRight" fmla="*/ 374760 w 374400"/>
              <a:gd name="textAreaTop" fmla="*/ 38520 h 1487520"/>
              <a:gd name="textAreaBottom" fmla="*/ 144900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35600" y="5237280"/>
            <a:ext cx="374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03680" y="3282840"/>
            <a:ext cx="15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41600" y="378288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nst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2019240" y="211464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03320" y="3746520"/>
            <a:ext cx="2603520" cy="24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880" y="1582560"/>
            <a:ext cx="808992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fev 2003, segund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Modelagem e Sim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fev 2003, terç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Es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Ó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fev 2003, quin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Rob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Adap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 fev 2003, sex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Ne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Nebul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11640" y="1386000"/>
            <a:ext cx="61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ilidade no Projeto de Contro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scamf" descr=""/>
          <p:cNvPicPr/>
          <p:nvPr/>
        </p:nvPicPr>
        <p:blipFill>
          <a:blip r:embed="rId2"/>
          <a:stretch/>
        </p:blipFill>
        <p:spPr>
          <a:xfrm>
            <a:off x="2014560" y="2163600"/>
            <a:ext cx="4616280" cy="1111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951120" y="3522600"/>
            <a:ext cx="729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obt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 modo que a malha fechada seja est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37960" y="4799160"/>
            <a:ext cx="353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ulação de Routh-Hurwi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gar Geométrico das Raí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ério de Nyqu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ta de Nichols-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57880" y="3905280"/>
            <a:ext cx="0" cy="8380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3160" y="341784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4040" y="2027160"/>
            <a:ext cx="613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onto de Equilíbri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 dito ser ponto de equilíb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807000" y="2525760"/>
                <a:ext cx="12477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157640" y="3300480"/>
                <a:ext cx="166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612240" y="3292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6480" y="4013280"/>
            <a:ext cx="64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Estabilidad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nto de equilíbr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 dito ser estável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88840" y="4363920"/>
            <a:ext cx="32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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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967120" y="4816440"/>
                <a:ext cx="41194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8560" y="1631880"/>
            <a:ext cx="51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aso de Sistemas Lineares de Tempo Contínu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51320" y="4460760"/>
                <a:ext cx="1401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in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 flipV="1">
            <a:off x="3201840" y="3911400"/>
            <a:ext cx="73368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87640" y="3630600"/>
                <a:ext cx="525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1170000" y="6157800"/>
            <a:ext cx="2432880" cy="379080"/>
            <a:chOff x="1170000" y="6157800"/>
            <a:chExt cx="2432880" cy="379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170000" y="6214680"/>
                  <a:ext cx="12495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326320" y="615780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2085840" y="3917520"/>
            <a:ext cx="201600" cy="1040040"/>
          </a:xfrm>
          <a:custGeom>
            <a:avLst/>
            <a:gdLst>
              <a:gd name="textAreaLeft" fmla="*/ 128880 w 201600"/>
              <a:gd name="textAreaRight" fmla="*/ 201960 w 201600"/>
              <a:gd name="textAreaTop" fmla="*/ 27000 h 1040040"/>
              <a:gd name="textAreaBottom" fmla="*/ 1013040 h 104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93840" y="4589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87720" y="3311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81240" y="561348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09480" y="4776840"/>
            <a:ext cx="31734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762520" y="4156200"/>
                <a:ext cx="264312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627520" y="4084560"/>
            <a:ext cx="2872080" cy="14288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1720" y="3930480"/>
                <a:ext cx="380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B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V="1">
            <a:off x="3201840" y="3911400"/>
            <a:ext cx="73368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887640" y="3630600"/>
                <a:ext cx="525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 rot="16200000">
            <a:off x="2085840" y="3917520"/>
            <a:ext cx="201600" cy="1040040"/>
          </a:xfrm>
          <a:custGeom>
            <a:avLst/>
            <a:gdLst>
              <a:gd name="textAreaLeft" fmla="*/ 128880 w 201600"/>
              <a:gd name="textAreaRight" fmla="*/ 201960 w 201600"/>
              <a:gd name="textAreaTop" fmla="*/ 27000 h 1040040"/>
              <a:gd name="textAreaBottom" fmla="*/ 1013040 h 104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93840" y="4589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7720" y="3311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81240" y="561348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609560" y="2022480"/>
                <a:ext cx="13273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17720" y="5003640"/>
                <a:ext cx="2498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560" y="1631880"/>
            <a:ext cx="51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aso de Sistemas Lineares de Tempo Contínu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1720" y="3930480"/>
                <a:ext cx="380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B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V="1">
            <a:off x="3201840" y="3911400"/>
            <a:ext cx="73368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887640" y="3630600"/>
                <a:ext cx="525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" name=""/>
          <p:cNvGrpSpPr/>
          <p:nvPr/>
        </p:nvGrpSpPr>
        <p:grpSpPr>
          <a:xfrm>
            <a:off x="1054080" y="6305400"/>
            <a:ext cx="2432880" cy="379080"/>
            <a:chOff x="1054080" y="6305400"/>
            <a:chExt cx="2432880" cy="37908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054080" y="6362280"/>
                  <a:ext cx="12495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2210400" y="630540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16200000">
            <a:off x="2085840" y="3917520"/>
            <a:ext cx="201600" cy="1040040"/>
          </a:xfrm>
          <a:custGeom>
            <a:avLst/>
            <a:gdLst>
              <a:gd name="textAreaLeft" fmla="*/ 128880 w 201600"/>
              <a:gd name="textAreaRight" fmla="*/ 201960 w 201600"/>
              <a:gd name="textAreaTop" fmla="*/ 27000 h 1040040"/>
              <a:gd name="textAreaBottom" fmla="*/ 1013040 h 104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88920" y="4989600"/>
                <a:ext cx="2498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93840" y="4589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87720" y="3311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81240" y="561348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09560" y="2022480"/>
                <a:ext cx="13273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562720" y="2171880"/>
                <a:ext cx="247644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119560" y="2925720"/>
                <a:ext cx="3468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530680" y="3936960"/>
                <a:ext cx="2713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apla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222880" y="4964040"/>
                <a:ext cx="322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apla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301920" y="5632560"/>
                <a:ext cx="2210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apla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flipV="1">
            <a:off x="7353360" y="2881080"/>
            <a:ext cx="73332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39160" y="2600280"/>
                <a:ext cx="52524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319560" y="2309760"/>
            <a:ext cx="19908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99320" y="2438280"/>
            <a:ext cx="0" cy="4906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2840" y="3384720"/>
            <a:ext cx="0" cy="490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78800" y="4379760"/>
            <a:ext cx="0" cy="4906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16280" y="5319720"/>
            <a:ext cx="135576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1120" y="5830920"/>
            <a:ext cx="24955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14680" y="5354280"/>
            <a:ext cx="0" cy="274680"/>
          </a:xfrm>
          <a:prstGeom prst="line">
            <a:avLst/>
          </a:prstGeom>
          <a:ln w="1260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72400" y="4403880"/>
                <a:ext cx="14014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into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7840" y="1631880"/>
            <a:ext cx="50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aso de Sistemas Lineares de Tempo Discre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51320" y="4460760"/>
                <a:ext cx="1401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in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V="1">
            <a:off x="2741760" y="3738240"/>
            <a:ext cx="73332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484440" y="3500280"/>
                <a:ext cx="525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rot="16200000">
            <a:off x="2107440" y="3967560"/>
            <a:ext cx="157320" cy="577800"/>
          </a:xfrm>
          <a:custGeom>
            <a:avLst/>
            <a:gdLst>
              <a:gd name="textAreaLeft" fmla="*/ 100440 w 157320"/>
              <a:gd name="textAreaRight" fmla="*/ 157680 w 15732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93840" y="4502160"/>
            <a:ext cx="0" cy="4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1760" y="3182760"/>
            <a:ext cx="0" cy="4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1240" y="561348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09480" y="4776840"/>
            <a:ext cx="31734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762520" y="4156200"/>
                <a:ext cx="264312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627520" y="4084560"/>
            <a:ext cx="2872080" cy="14288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08040" y="3730680"/>
                <a:ext cx="2303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86080" y="5018040"/>
                <a:ext cx="1477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30" name=""/>
          <p:cNvGrpSpPr/>
          <p:nvPr/>
        </p:nvGrpSpPr>
        <p:grpSpPr>
          <a:xfrm>
            <a:off x="1484280" y="6172200"/>
            <a:ext cx="1932120" cy="398520"/>
            <a:chOff x="1484280" y="6172200"/>
            <a:chExt cx="1932120" cy="398520"/>
          </a:xfrm>
        </p:grpSpPr>
        <p:sp>
          <p:nvSpPr>
            <p:cNvPr id="131" name=""/>
            <p:cNvSpPr/>
            <p:nvPr/>
          </p:nvSpPr>
          <p:spPr>
            <a:xfrm>
              <a:off x="2139840" y="617220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484280" y="6197760"/>
                  <a:ext cx="6206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622520" y="2197080"/>
                <a:ext cx="14382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7840" y="1631880"/>
            <a:ext cx="50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aso de Sistemas Lineares de Tempo Discre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741760" y="3738240"/>
            <a:ext cx="73332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84440" y="3500280"/>
                <a:ext cx="525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 rot="16200000">
            <a:off x="2107440" y="3967560"/>
            <a:ext cx="157320" cy="577800"/>
          </a:xfrm>
          <a:custGeom>
            <a:avLst/>
            <a:gdLst>
              <a:gd name="textAreaLeft" fmla="*/ 100440 w 157320"/>
              <a:gd name="textAreaRight" fmla="*/ 157680 w 15732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3840" y="4502160"/>
            <a:ext cx="0" cy="4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1760" y="3182760"/>
            <a:ext cx="0" cy="4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81240" y="561348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08040" y="3730680"/>
                <a:ext cx="2303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86080" y="5018040"/>
                <a:ext cx="1477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1484280" y="6172200"/>
            <a:ext cx="1932120" cy="398520"/>
            <a:chOff x="1484280" y="6172200"/>
            <a:chExt cx="1932120" cy="398520"/>
          </a:xfrm>
        </p:grpSpPr>
        <p:sp>
          <p:nvSpPr>
            <p:cNvPr id="146" name=""/>
            <p:cNvSpPr/>
            <p:nvPr/>
          </p:nvSpPr>
          <p:spPr>
            <a:xfrm>
              <a:off x="2139840" y="617220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1484280" y="6197760"/>
                  <a:ext cx="6206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22520" y="2197080"/>
                <a:ext cx="14382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 flipV="1">
            <a:off x="3201840" y="3911400"/>
            <a:ext cx="73368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887640" y="3630600"/>
                <a:ext cx="525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519880" y="2171880"/>
                <a:ext cx="25621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84640" y="2925720"/>
                <a:ext cx="3540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853240" y="3936960"/>
                <a:ext cx="2066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38960" y="4964040"/>
                <a:ext cx="2595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595680" y="5632560"/>
                <a:ext cx="1620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flipV="1">
            <a:off x="7353360" y="2881080"/>
            <a:ext cx="73332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039160" y="2600280"/>
                <a:ext cx="52524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319560" y="2309760"/>
            <a:ext cx="19908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9320" y="2438280"/>
            <a:ext cx="0" cy="4906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2840" y="3384720"/>
            <a:ext cx="0" cy="490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78800" y="4379760"/>
            <a:ext cx="0" cy="4906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716280" y="5319720"/>
            <a:ext cx="135576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1120" y="5830920"/>
            <a:ext cx="24955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14680" y="5354280"/>
            <a:ext cx="0" cy="274680"/>
          </a:xfrm>
          <a:prstGeom prst="line">
            <a:avLst/>
          </a:prstGeom>
          <a:ln w="1260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900840" y="4417920"/>
                <a:ext cx="1401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into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511960" y="4141800"/>
            <a:ext cx="1326960" cy="13269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58880" y="3868560"/>
            <a:ext cx="1082880" cy="1890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4320" y="1542960"/>
            <a:ext cx="75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ilidade de Sistemas Lineares Invariantes no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4520" y="2475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Contí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27840" y="246708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iscr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48360" y="2968560"/>
            <a:ext cx="1931760" cy="398520"/>
            <a:chOff x="5148360" y="2968560"/>
            <a:chExt cx="1931760" cy="398520"/>
          </a:xfrm>
        </p:grpSpPr>
        <p:sp>
          <p:nvSpPr>
            <p:cNvPr id="174" name=""/>
            <p:cNvSpPr/>
            <p:nvPr/>
          </p:nvSpPr>
          <p:spPr>
            <a:xfrm>
              <a:off x="5803560" y="296856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5148360" y="2994120"/>
                  <a:ext cx="62028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6" name=""/>
          <p:cNvGrpSpPr/>
          <p:nvPr/>
        </p:nvGrpSpPr>
        <p:grpSpPr>
          <a:xfrm>
            <a:off x="1587600" y="2955960"/>
            <a:ext cx="2432880" cy="379080"/>
            <a:chOff x="1587600" y="2955960"/>
            <a:chExt cx="2432880" cy="37908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587600" y="3012840"/>
                  <a:ext cx="12495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2743920" y="295596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V="1">
            <a:off x="2741760" y="3636720"/>
            <a:ext cx="0" cy="22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2880" y="4791240"/>
            <a:ext cx="277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82960" y="4446720"/>
                <a:ext cx="4906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859120" y="3471840"/>
                <a:ext cx="480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 flipV="1">
            <a:off x="6168960" y="3659040"/>
            <a:ext cx="0" cy="222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0440" y="4813200"/>
            <a:ext cx="277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302600" y="4468680"/>
                <a:ext cx="5061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278400" y="3494160"/>
                <a:ext cx="4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821280" y="4505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Elena Yoshie Sato Yoneyama</cp:lastModifiedBy>
  <dcterms:modified xsi:type="dcterms:W3CDTF">2003-02-14T01:05:15Z</dcterms:modified>
  <cp:revision>21</cp:revision>
  <dc:subject/>
  <dc:title>No Slide Title</dc:title>
</cp:coreProperties>
</file>