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8.jpeg" ContentType="image/jpeg"/>
  <Override PartName="/ppt/media/image6.wmf" ContentType="image/x-wmf"/>
  <Override PartName="/ppt/media/image7.wmf" ContentType="image/x-wmf"/>
  <Override PartName="/ppt/media/image12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88C-9D88-4806-A875-FE5BA7F8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C91-B733-46D9-B4FB-5DA299F0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C5A-CF67-431D-9893-1723AF21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DB7-D815-4A7E-9487-F14B0111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FDC-AE16-4214-A893-1E34D01E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A37-BF9B-40A3-8E15-44AAA996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910-A9EA-42AA-8027-488413FA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BEC-B7D8-4F11-8C20-755313E1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B47-2773-4978-A2AB-5ABC2A89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FA0-30B1-4231-A5A2-AFB20FF5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FA6-0F89-4FA0-817E-3A22664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85D-7595-437D-B1B3-024C3DC1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3859-8630-49F6-81E8-DBACB1FDF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S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 fe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t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99960" y="2259000"/>
            <a:ext cx="2886120" cy="2529000"/>
            <a:chOff x="399960" y="2259000"/>
            <a:chExt cx="2886120" cy="2529000"/>
          </a:xfrm>
        </p:grpSpPr>
        <p:pic>
          <p:nvPicPr>
            <p:cNvPr id="153" name="detotot" descr=""/>
            <p:cNvPicPr/>
            <p:nvPr/>
          </p:nvPicPr>
          <p:blipFill>
            <a:blip r:embed="rId2"/>
            <a:stretch/>
          </p:blipFill>
          <p:spPr>
            <a:xfrm>
              <a:off x="399960" y="2259000"/>
              <a:ext cx="288612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282760" y="4394160"/>
              <a:ext cx="36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delbund" descr=""/>
          <p:cNvPicPr/>
          <p:nvPr/>
        </p:nvPicPr>
        <p:blipFill>
          <a:blip r:embed="rId3"/>
          <a:stretch/>
        </p:blipFill>
        <p:spPr>
          <a:xfrm>
            <a:off x="3684600" y="1763640"/>
            <a:ext cx="51246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kdel" descr=""/>
          <p:cNvPicPr/>
          <p:nvPr/>
        </p:nvPicPr>
        <p:blipFill>
          <a:blip r:embed="rId2"/>
          <a:stretch/>
        </p:blipFill>
        <p:spPr>
          <a:xfrm>
            <a:off x="5307120" y="4084560"/>
            <a:ext cx="2409840" cy="138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54640" y="3071880"/>
                <a:ext cx="2120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662360" y="3643200"/>
                <a:ext cx="34797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Δ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d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59320" y="5511960"/>
                <a:ext cx="1955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Z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705200" y="6095880"/>
                <a:ext cx="31878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ℓ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K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d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55640" y="5022720"/>
                <a:ext cx="2376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ℓ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  <m:r>
                      <m:t xml:space="preserve"> </m:t>
                    </m:r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399960" y="2259000"/>
            <a:ext cx="2886120" cy="2529000"/>
            <a:chOff x="399960" y="2259000"/>
            <a:chExt cx="2886120" cy="2529000"/>
          </a:xfrm>
        </p:grpSpPr>
        <p:pic>
          <p:nvPicPr>
            <p:cNvPr id="165" name="detotot" descr=""/>
            <p:cNvPicPr/>
            <p:nvPr/>
          </p:nvPicPr>
          <p:blipFill>
            <a:blip r:embed="rId3"/>
            <a:stretch/>
          </p:blipFill>
          <p:spPr>
            <a:xfrm>
              <a:off x="399960" y="2259000"/>
              <a:ext cx="288612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282760" y="4394160"/>
              <a:ext cx="36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rot="16200000">
            <a:off x="1911600" y="5086440"/>
            <a:ext cx="88560" cy="660240"/>
          </a:xfrm>
          <a:custGeom>
            <a:avLst/>
            <a:gdLst>
              <a:gd name="textAreaLeft" fmla="*/ 56520 w 88560"/>
              <a:gd name="textAreaRight" fmla="*/ 88920 w 8856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9600" y="54230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58000" y="5927760"/>
            <a:ext cx="2905920" cy="344520"/>
            <a:chOff x="558000" y="5927760"/>
            <a:chExt cx="2905920" cy="34452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406600" y="5927760"/>
                  <a:ext cx="10573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t xml:space="preserve">Δ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Δ</m:t>
                              </m:r>
                            </m:e>
                          </m:d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558000" y="5927760"/>
              <a:ext cx="179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ve ser Está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rot="16200000">
            <a:off x="1917360" y="5168880"/>
            <a:ext cx="190800" cy="1409400"/>
          </a:xfrm>
          <a:custGeom>
            <a:avLst/>
            <a:gdLst>
              <a:gd name="textAreaLeft" fmla="*/ 122040 w 190800"/>
              <a:gd name="textAreaRight" fmla="*/ 191160 w 190800"/>
              <a:gd name="textAreaTop" fmla="*/ 36720 h 1409400"/>
              <a:gd name="textAreaBottom" fmla="*/ 1372680 h 140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442880"/>
            <a:ext cx="0" cy="511020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272200" y="1479600"/>
            <a:ext cx="2460600" cy="1523880"/>
            <a:chOff x="5272200" y="1479600"/>
            <a:chExt cx="2460600" cy="1523880"/>
          </a:xfrm>
        </p:grpSpPr>
        <p:pic>
          <p:nvPicPr>
            <p:cNvPr id="175" name="ndelta" descr=""/>
            <p:cNvPicPr/>
            <p:nvPr/>
          </p:nvPicPr>
          <p:blipFill>
            <a:blip r:embed="rId4"/>
            <a:stretch/>
          </p:blipFill>
          <p:spPr>
            <a:xfrm>
              <a:off x="5272200" y="1479600"/>
              <a:ext cx="24606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357960" y="1647720"/>
              <a:ext cx="320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55640" y="5022720"/>
                <a:ext cx="2376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ℓ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  <m:r>
                      <m:t xml:space="preserve"> </m:t>
                    </m:r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99960" y="2259000"/>
            <a:ext cx="2886120" cy="2529000"/>
            <a:chOff x="399960" y="2259000"/>
            <a:chExt cx="2886120" cy="2529000"/>
          </a:xfrm>
        </p:grpSpPr>
        <p:pic>
          <p:nvPicPr>
            <p:cNvPr id="181" name="detotot" descr=""/>
            <p:cNvPicPr/>
            <p:nvPr/>
          </p:nvPicPr>
          <p:blipFill>
            <a:blip r:embed="rId2"/>
            <a:stretch/>
          </p:blipFill>
          <p:spPr>
            <a:xfrm>
              <a:off x="399960" y="2259000"/>
              <a:ext cx="288612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282760" y="4394160"/>
              <a:ext cx="36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 rot="16200000">
            <a:off x="1911600" y="5086440"/>
            <a:ext cx="88560" cy="660240"/>
          </a:xfrm>
          <a:custGeom>
            <a:avLst/>
            <a:gdLst>
              <a:gd name="textAreaLeft" fmla="*/ 56520 w 88560"/>
              <a:gd name="textAreaRight" fmla="*/ 88920 w 8856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49600" y="54230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58000" y="5927760"/>
            <a:ext cx="2905920" cy="344520"/>
            <a:chOff x="558000" y="5927760"/>
            <a:chExt cx="2905920" cy="34452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2406600" y="5927760"/>
                  <a:ext cx="10573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t xml:space="preserve">Δ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Δ</m:t>
                              </m:r>
                            </m:e>
                          </m:d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>
              <a:off x="558000" y="5927760"/>
              <a:ext cx="179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ve ser Está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rot="16200000">
            <a:off x="1917360" y="5168880"/>
            <a:ext cx="190800" cy="1409400"/>
          </a:xfrm>
          <a:custGeom>
            <a:avLst/>
            <a:gdLst>
              <a:gd name="textAreaLeft" fmla="*/ 122040 w 190800"/>
              <a:gd name="textAreaRight" fmla="*/ 191160 w 190800"/>
              <a:gd name="textAreaTop" fmla="*/ 36720 h 1409400"/>
              <a:gd name="textAreaBottom" fmla="*/ 1372680 h 140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57720" y="4286160"/>
            <a:ext cx="1860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84120" y="385596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42120" y="431784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©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7520" y="412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ancreas" descr=""/>
          <p:cNvPicPr/>
          <p:nvPr/>
        </p:nvPicPr>
        <p:blipFill>
          <a:blip r:embed="rId2"/>
          <a:stretch/>
        </p:blipFill>
        <p:spPr>
          <a:xfrm>
            <a:off x="1371600" y="17859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ilhota200x" descr=""/>
          <p:cNvPicPr/>
          <p:nvPr/>
        </p:nvPicPr>
        <p:blipFill>
          <a:blip r:embed="rId2"/>
          <a:stretch/>
        </p:blipFill>
        <p:spPr>
          <a:xfrm>
            <a:off x="1285920" y="1700280"/>
            <a:ext cx="6862680" cy="4535280"/>
          </a:xfrm>
          <a:prstGeom prst="rect">
            <a:avLst/>
          </a:prstGeom>
          <a:ln w="0">
            <a:noFill/>
          </a:ln>
        </p:spPr>
      </p:pic>
      <p:pic>
        <p:nvPicPr>
          <p:cNvPr id="199" name="isletlangerhan" descr=""/>
          <p:cNvPicPr/>
          <p:nvPr/>
        </p:nvPicPr>
        <p:blipFill>
          <a:blip r:embed="rId3"/>
          <a:stretch/>
        </p:blipFill>
        <p:spPr>
          <a:xfrm>
            <a:off x="5987880" y="1687680"/>
            <a:ext cx="2170440" cy="2307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46600" y="3579840"/>
            <a:ext cx="1357200" cy="1359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79960" y="1693800"/>
            <a:ext cx="2152800" cy="2292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Langbetacell" descr=""/>
          <p:cNvPicPr/>
          <p:nvPr/>
        </p:nvPicPr>
        <p:blipFill>
          <a:blip r:embed="rId2"/>
          <a:stretch/>
        </p:blipFill>
        <p:spPr>
          <a:xfrm>
            <a:off x="2279520" y="1989000"/>
            <a:ext cx="47214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diabetes" descr=""/>
          <p:cNvPicPr/>
          <p:nvPr/>
        </p:nvPicPr>
        <p:blipFill>
          <a:blip r:embed="rId2"/>
          <a:stretch/>
        </p:blipFill>
        <p:spPr>
          <a:xfrm>
            <a:off x="5310360" y="1860480"/>
            <a:ext cx="2779560" cy="4170600"/>
          </a:xfrm>
          <a:prstGeom prst="rect">
            <a:avLst/>
          </a:prstGeom>
          <a:ln w="0">
            <a:noFill/>
          </a:ln>
        </p:spPr>
      </p:pic>
      <p:pic>
        <p:nvPicPr>
          <p:cNvPr id="208" name="Diabetes-1" descr=""/>
          <p:cNvPicPr/>
          <p:nvPr/>
        </p:nvPicPr>
        <p:blipFill>
          <a:blip r:embed="rId3"/>
          <a:stretch/>
        </p:blipFill>
        <p:spPr>
          <a:xfrm>
            <a:off x="955800" y="1847880"/>
            <a:ext cx="38145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rototype-sensor" descr=""/>
          <p:cNvPicPr/>
          <p:nvPr/>
        </p:nvPicPr>
        <p:blipFill>
          <a:blip r:embed="rId2"/>
          <a:stretch/>
        </p:blipFill>
        <p:spPr>
          <a:xfrm>
            <a:off x="1450800" y="2457360"/>
            <a:ext cx="2399040" cy="2494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203560" y="50832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390920" y="2440080"/>
            <a:ext cx="3794400" cy="2796840"/>
            <a:chOff x="4390920" y="2440080"/>
            <a:chExt cx="3794400" cy="2796840"/>
          </a:xfrm>
        </p:grpSpPr>
        <p:pic>
          <p:nvPicPr>
            <p:cNvPr id="214" name="insulin-pumpe" descr=""/>
            <p:cNvPicPr/>
            <p:nvPr/>
          </p:nvPicPr>
          <p:blipFill>
            <a:blip r:embed="rId3"/>
            <a:stretch/>
          </p:blipFill>
          <p:spPr>
            <a:xfrm>
              <a:off x="4578120" y="2440080"/>
              <a:ext cx="3304440" cy="27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390920" y="4950000"/>
              <a:ext cx="379440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288040" y="507672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mba de Infu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395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81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24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865600" y="2328840"/>
            <a:ext cx="3620520" cy="2086920"/>
            <a:chOff x="2865600" y="2328840"/>
            <a:chExt cx="3620520" cy="2086920"/>
          </a:xfrm>
        </p:grpSpPr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2865600" y="2328840"/>
                  <a:ext cx="362052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G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β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γ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2865600" y="3057840"/>
                  <a:ext cx="273276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δ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ε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865600" y="3786840"/>
                  <a:ext cx="230076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λ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ρ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4" name=""/>
          <p:cNvSpPr/>
          <p:nvPr/>
        </p:nvSpPr>
        <p:spPr>
          <a:xfrm>
            <a:off x="1920960" y="4815000"/>
            <a:ext cx="5681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(t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icose plas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insulina plas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ucagon,  cortisol e catecolam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insulina exóg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(t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glicose absorvida por ingestão de aliment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5360" y="133668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Paciente Diab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604880" y="1873080"/>
            <a:ext cx="5999400" cy="4499280"/>
          </a:xfrm>
          <a:prstGeom prst="rect">
            <a:avLst/>
          </a:prstGeom>
          <a:ln w="0">
            <a:noFill/>
          </a:ln>
        </p:spPr>
      </p:pic>
      <p:pic>
        <p:nvPicPr>
          <p:cNvPr id="229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2720" y="17240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 de Perturbação (alimen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23840" y="4745160"/>
            <a:ext cx="3051360" cy="26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880" y="1582560"/>
            <a:ext cx="8089920" cy="47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 fev 2003, segund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Modelagem e Sim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fev 2003, terç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Es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Ó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fev 2003, quin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Rob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Adap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 fev 2003, sex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Ne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Nebul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Untitled-1 copy" descr=""/>
          <p:cNvPicPr/>
          <p:nvPr/>
        </p:nvPicPr>
        <p:blipFill>
          <a:blip r:embed="rId1"/>
          <a:stretch/>
        </p:blipFill>
        <p:spPr>
          <a:xfrm>
            <a:off x="1770120" y="1716120"/>
            <a:ext cx="5940360" cy="4457520"/>
          </a:xfrm>
          <a:prstGeom prst="rect">
            <a:avLst/>
          </a:prstGeom>
          <a:ln w="0">
            <a:noFill/>
          </a:ln>
        </p:spPr>
      </p:pic>
      <p:pic>
        <p:nvPicPr>
          <p:cNvPr id="233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ODBUND" descr=""/>
          <p:cNvPicPr/>
          <p:nvPr/>
        </p:nvPicPr>
        <p:blipFill>
          <a:blip r:embed="rId2"/>
          <a:stretch/>
        </p:blipFill>
        <p:spPr>
          <a:xfrm>
            <a:off x="4441680" y="2241720"/>
            <a:ext cx="4272120" cy="13474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07800" y="1582560"/>
            <a:ext cx="3635280" cy="1800000"/>
            <a:chOff x="307800" y="1582560"/>
            <a:chExt cx="3635280" cy="1800000"/>
          </a:xfrm>
        </p:grpSpPr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307800" y="1582560"/>
                  <a:ext cx="1365480" cy="43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limUpp>
                        <m:e>
                          <m:r>
                            <m:t xml:space="preserve">=</m:t>
                          </m:r>
                        </m:e>
                        <m:lim>
                          <m:r>
                            <m:t xml:space="preserve">Δ</m:t>
                          </m:r>
                        </m:lim>
                      </m:limUpp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317520" y="2184840"/>
                  <a:ext cx="3625560" cy="119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D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e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D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" name=""/>
          <p:cNvSpPr/>
          <p:nvPr/>
        </p:nvSpPr>
        <p:spPr>
          <a:xfrm rot="16200000">
            <a:off x="980280" y="3145680"/>
            <a:ext cx="230400" cy="635040"/>
          </a:xfrm>
          <a:custGeom>
            <a:avLst/>
            <a:gdLst>
              <a:gd name="textAreaLeft" fmla="*/ 147240 w 230400"/>
              <a:gd name="textAreaRight" fmla="*/ 230760 w 230400"/>
              <a:gd name="textAreaTop" fmla="*/ 16560 h 635040"/>
              <a:gd name="textAreaBottom" fmla="*/ 61848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137400" y="3153600"/>
            <a:ext cx="230400" cy="634680"/>
          </a:xfrm>
          <a:custGeom>
            <a:avLst/>
            <a:gdLst>
              <a:gd name="textAreaLeft" fmla="*/ 147240 w 230400"/>
              <a:gd name="textAreaRight" fmla="*/ 230760 w 230400"/>
              <a:gd name="textAreaTop" fmla="*/ 16560 h 634680"/>
              <a:gd name="textAreaBottom" fmla="*/ 618120 h 63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944640" y="3618000"/>
                <a:ext cx="379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57480" y="3610080"/>
                <a:ext cx="40500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19280" y="4187880"/>
                <a:ext cx="12301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 rot="16200000">
            <a:off x="2071440" y="2733480"/>
            <a:ext cx="230400" cy="2598840"/>
          </a:xfrm>
          <a:custGeom>
            <a:avLst/>
            <a:gdLst>
              <a:gd name="textAreaLeft" fmla="*/ 147240 w 230400"/>
              <a:gd name="textAreaRight" fmla="*/ 230760 w 230400"/>
              <a:gd name="textAreaTop" fmla="*/ 67680 h 2598840"/>
              <a:gd name="textAreaBottom" fmla="*/ 2531160 h 259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050840" y="4584600"/>
            <a:ext cx="7253280" cy="2032200"/>
            <a:chOff x="1050840" y="4584600"/>
            <a:chExt cx="7253280" cy="2032200"/>
          </a:xfrm>
        </p:grpSpPr>
        <p:sp>
          <p:nvSpPr>
            <p:cNvPr id="61" name=""/>
            <p:cNvSpPr/>
            <p:nvPr/>
          </p:nvSpPr>
          <p:spPr>
            <a:xfrm>
              <a:off x="7365960" y="5952960"/>
              <a:ext cx="938160" cy="54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91360" y="4603680"/>
              <a:ext cx="938160" cy="54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53360" y="4722840"/>
              <a:ext cx="32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streamento de Referência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4427640" y="4584600"/>
                  <a:ext cx="1231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R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 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5754960" y="47242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6338880" y="4721400"/>
                  <a:ext cx="888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↓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1050840" y="5454720"/>
              <a:ext cx="35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jeição de Distúrbios na Saída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57680" y="6097680"/>
              <a:ext cx="33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jeição do Ruído de Medida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4572000" y="5337000"/>
                  <a:ext cx="113040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D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 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4540320" y="5983200"/>
                  <a:ext cx="1179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 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6213600" y="6058080"/>
                  <a:ext cx="20746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↓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↑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5805720" y="5452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6389640" y="5450040"/>
                  <a:ext cx="8892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↓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5707440" y="603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ODBUND" descr=""/>
          <p:cNvPicPr/>
          <p:nvPr/>
        </p:nvPicPr>
        <p:blipFill>
          <a:blip r:embed="rId2"/>
          <a:stretch/>
        </p:blipFill>
        <p:spPr>
          <a:xfrm>
            <a:off x="4441680" y="2241720"/>
            <a:ext cx="4272120" cy="13474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07800" y="1582560"/>
            <a:ext cx="3635280" cy="1800000"/>
            <a:chOff x="307800" y="1582560"/>
            <a:chExt cx="3635280" cy="1800000"/>
          </a:xfrm>
        </p:grpSpPr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07800" y="1582560"/>
                  <a:ext cx="1365480" cy="43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limUpp>
                        <m:e>
                          <m:r>
                            <m:t xml:space="preserve">=</m:t>
                          </m:r>
                        </m:e>
                        <m:lim>
                          <m:r>
                            <m:t xml:space="preserve">Δ</m:t>
                          </m:r>
                        </m:lim>
                      </m:limUpp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317520" y="2184840"/>
                  <a:ext cx="3625560" cy="119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D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e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D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 rot="16200000">
            <a:off x="980280" y="3145680"/>
            <a:ext cx="230400" cy="635040"/>
          </a:xfrm>
          <a:custGeom>
            <a:avLst/>
            <a:gdLst>
              <a:gd name="textAreaLeft" fmla="*/ 147240 w 230400"/>
              <a:gd name="textAreaRight" fmla="*/ 230760 w 230400"/>
              <a:gd name="textAreaTop" fmla="*/ 16560 h 635040"/>
              <a:gd name="textAreaBottom" fmla="*/ 61848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3137400" y="3153600"/>
            <a:ext cx="230400" cy="634680"/>
          </a:xfrm>
          <a:custGeom>
            <a:avLst/>
            <a:gdLst>
              <a:gd name="textAreaLeft" fmla="*/ 147240 w 230400"/>
              <a:gd name="textAreaRight" fmla="*/ 230760 w 230400"/>
              <a:gd name="textAreaTop" fmla="*/ 16560 h 634680"/>
              <a:gd name="textAreaBottom" fmla="*/ 618120 h 63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44640" y="3618000"/>
                <a:ext cx="379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057480" y="3610080"/>
                <a:ext cx="40500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619280" y="4187880"/>
                <a:ext cx="12301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rot="16200000">
            <a:off x="2071440" y="2733480"/>
            <a:ext cx="230400" cy="2598840"/>
          </a:xfrm>
          <a:custGeom>
            <a:avLst/>
            <a:gdLst>
              <a:gd name="textAreaLeft" fmla="*/ 147240 w 230400"/>
              <a:gd name="textAreaRight" fmla="*/ 230760 w 230400"/>
              <a:gd name="textAreaTop" fmla="*/ 67680 h 2598840"/>
              <a:gd name="textAreaBottom" fmla="*/ 2531160 h 259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ncmli" descr=""/>
          <p:cNvPicPr/>
          <p:nvPr/>
        </p:nvPicPr>
        <p:blipFill>
          <a:blip r:embed="rId2"/>
          <a:stretch/>
        </p:blipFill>
        <p:spPr>
          <a:xfrm>
            <a:off x="2287440" y="1593720"/>
            <a:ext cx="46767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301920" y="3021120"/>
                <a:ext cx="270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1" name=""/>
          <p:cNvGrpSpPr/>
          <p:nvPr/>
        </p:nvGrpSpPr>
        <p:grpSpPr>
          <a:xfrm>
            <a:off x="977760" y="4248000"/>
            <a:ext cx="5933160" cy="2123640"/>
            <a:chOff x="977760" y="4248000"/>
            <a:chExt cx="5933160" cy="2123640"/>
          </a:xfrm>
        </p:grpSpPr>
        <p:sp>
          <p:nvSpPr>
            <p:cNvPr id="92" name=""/>
            <p:cNvSpPr/>
            <p:nvPr/>
          </p:nvSpPr>
          <p:spPr>
            <a:xfrm>
              <a:off x="2494080" y="4253040"/>
              <a:ext cx="4408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[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 e G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(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/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2870280" y="4281480"/>
                  <a:ext cx="58104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REAL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2499480" y="4857840"/>
              <a:ext cx="441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ão, fazendo 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( 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ax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/(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17760" y="5429160"/>
              <a:ext cx="13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m-se qu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708360" y="5318280"/>
                  <a:ext cx="298152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REAL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2436120" y="5965920"/>
              <a:ext cx="23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nde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varia de -1 a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77760" y="424800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xempl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021200" y="3662280"/>
                <a:ext cx="2421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 flipH="1" flipV="1" rot="5400000">
            <a:off x="5109120" y="2668320"/>
            <a:ext cx="173160" cy="1632240"/>
          </a:xfrm>
          <a:custGeom>
            <a:avLst/>
            <a:gdLst>
              <a:gd name="textAreaLeft" fmla="*/ 110520 w 173160"/>
              <a:gd name="textAreaRight" fmla="*/ 173520 w 173160"/>
              <a:gd name="textAreaTop" fmla="*/ 42480 h 1632240"/>
              <a:gd name="textAreaBottom" fmla="*/ 1589760 h 163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364440" y="6091200"/>
            <a:ext cx="1023840" cy="47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ncmli" descr=""/>
          <p:cNvPicPr/>
          <p:nvPr/>
        </p:nvPicPr>
        <p:blipFill>
          <a:blip r:embed="rId2"/>
          <a:stretch/>
        </p:blipFill>
        <p:spPr>
          <a:xfrm>
            <a:off x="2287440" y="1593720"/>
            <a:ext cx="46767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73480" y="2948040"/>
                <a:ext cx="270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992400" y="3530520"/>
                <a:ext cx="2421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 flipH="1" flipV="1" rot="5400000">
            <a:off x="5079600" y="2595600"/>
            <a:ext cx="173160" cy="1631880"/>
          </a:xfrm>
          <a:custGeom>
            <a:avLst/>
            <a:gdLst>
              <a:gd name="textAreaLeft" fmla="*/ 110520 w 173160"/>
              <a:gd name="textAreaRight" fmla="*/ 173520 w 173160"/>
              <a:gd name="textAreaTop" fmla="*/ 42480 h 1631880"/>
              <a:gd name="textAreaBottom" fmla="*/ 1589400 h 163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476520" y="4921200"/>
                <a:ext cx="2529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Δ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num>
                          <m:den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ΔG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397520" y="61531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mpenho Robusto a Incertezas no Model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438960" y="6149880"/>
                <a:ext cx="888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d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" name=""/>
          <p:cNvGrpSpPr/>
          <p:nvPr/>
        </p:nvGrpSpPr>
        <p:grpSpPr>
          <a:xfrm>
            <a:off x="855720" y="4141800"/>
            <a:ext cx="7040520" cy="649440"/>
            <a:chOff x="855720" y="4141800"/>
            <a:chExt cx="7040520" cy="64944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855720" y="4175280"/>
                  <a:ext cx="386892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Δ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acc>
                        <m:accPr>
                          <m:chr m:val="~"/>
                        </m:accPr>
                        <m:e>
                          <m:r>
                            <m:t xml:space="preserve">=</m:t>
                          </m:r>
                        </m:e>
                      </m:acc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ΔG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5857920" y="4141800"/>
                  <a:ext cx="203832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acc>
                        <m:accPr>
                          <m:chr m:val="~"/>
                        </m:accPr>
                        <m:e>
                          <m:r>
                            <m:t xml:space="preserve">=</m:t>
                          </m:r>
                        </m:e>
                      </m:acc>
                      <m:f>
                        <m:num>
                          <m:sSub>
                            <m:e>
                              <m:r>
                                <m:t xml:space="preserve">ΔG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4980240" y="4429080"/>
              <a:ext cx="5191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11560" y="4454640"/>
            <a:ext cx="416160" cy="8125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5280" y="6111720"/>
            <a:ext cx="2063520" cy="47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incmli" descr=""/>
          <p:cNvPicPr/>
          <p:nvPr/>
        </p:nvPicPr>
        <p:blipFill>
          <a:blip r:embed="rId2"/>
          <a:stretch/>
        </p:blipFill>
        <p:spPr>
          <a:xfrm>
            <a:off x="2287440" y="1593720"/>
            <a:ext cx="46767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273480" y="2948040"/>
                <a:ext cx="270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992400" y="3511440"/>
                <a:ext cx="24210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H="1" flipV="1" rot="5400000">
            <a:off x="5079600" y="2595600"/>
            <a:ext cx="173160" cy="1631880"/>
          </a:xfrm>
          <a:custGeom>
            <a:avLst/>
            <a:gdLst>
              <a:gd name="textAreaLeft" fmla="*/ 110520 w 173160"/>
              <a:gd name="textAreaRight" fmla="*/ 173520 w 173160"/>
              <a:gd name="textAreaTop" fmla="*/ 42480 h 1631880"/>
              <a:gd name="textAreaBottom" fmla="*/ 1589400 h 163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97520" y="6153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ilidade Robusta a Incertezas no Model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10840" y="406224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ério de Nyquis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330960" y="6186600"/>
                <a:ext cx="19144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d>
                    <m:r>
                      <m:t xml:space="preserve">↓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d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530600" y="4473720"/>
            <a:ext cx="237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377040" y="4041720"/>
            <a:ext cx="0" cy="178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0360" y="4473720"/>
            <a:ext cx="1052280" cy="1385640"/>
          </a:xfrm>
          <a:custGeom>
            <a:avLst/>
            <a:gdLst/>
            <a:ahLst/>
            <a:rect l="l" t="t" r="r" b="b"/>
            <a:pathLst>
              <a:path w="663" h="873">
                <a:moveTo>
                  <a:pt x="663" y="0"/>
                </a:moveTo>
                <a:cubicBezTo>
                  <a:pt x="621" y="11"/>
                  <a:pt x="497" y="6"/>
                  <a:pt x="409" y="64"/>
                </a:cubicBezTo>
                <a:cubicBezTo>
                  <a:pt x="321" y="122"/>
                  <a:pt x="204" y="211"/>
                  <a:pt x="136" y="346"/>
                </a:cubicBezTo>
                <a:cubicBezTo>
                  <a:pt x="68" y="481"/>
                  <a:pt x="28" y="763"/>
                  <a:pt x="0" y="8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78480" y="387504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(j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6240" y="428472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(j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49720" y="4892760"/>
            <a:ext cx="781200" cy="780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75200" y="443088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14280" y="4172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040" y="5237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371840" y="5283360"/>
            <a:ext cx="1054080" cy="27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365720" y="5387760"/>
            <a:ext cx="662040" cy="168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46960" y="555156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j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)L(j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02440" y="460548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+L(j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41600" y="4687920"/>
                <a:ext cx="23400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73280" y="5162400"/>
                <a:ext cx="15429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GRAFSENS" descr=""/>
          <p:cNvPicPr/>
          <p:nvPr/>
        </p:nvPicPr>
        <p:blipFill>
          <a:blip r:embed="rId2"/>
          <a:stretch/>
        </p:blipFill>
        <p:spPr>
          <a:xfrm>
            <a:off x="1612800" y="2055960"/>
            <a:ext cx="62373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MODBUND" descr=""/>
          <p:cNvPicPr/>
          <p:nvPr/>
        </p:nvPicPr>
        <p:blipFill>
          <a:blip r:embed="rId2"/>
          <a:stretch/>
        </p:blipFill>
        <p:spPr>
          <a:xfrm>
            <a:off x="457200" y="1494000"/>
            <a:ext cx="3625920" cy="1144440"/>
          </a:xfrm>
          <a:prstGeom prst="rect">
            <a:avLst/>
          </a:prstGeom>
          <a:ln w="0">
            <a:noFill/>
          </a:ln>
        </p:spPr>
      </p:pic>
      <p:pic>
        <p:nvPicPr>
          <p:cNvPr id="147" name="incmli" descr=""/>
          <p:cNvPicPr/>
          <p:nvPr/>
        </p:nvPicPr>
        <p:blipFill>
          <a:blip r:embed="rId3"/>
          <a:stretch/>
        </p:blipFill>
        <p:spPr>
          <a:xfrm>
            <a:off x="5062680" y="1536840"/>
            <a:ext cx="3408120" cy="901440"/>
          </a:xfrm>
          <a:prstGeom prst="rect">
            <a:avLst/>
          </a:prstGeom>
          <a:ln w="0">
            <a:noFill/>
          </a:ln>
        </p:spPr>
      </p:pic>
      <p:pic>
        <p:nvPicPr>
          <p:cNvPr id="148" name="delbund" descr=""/>
          <p:cNvPicPr/>
          <p:nvPr/>
        </p:nvPicPr>
        <p:blipFill>
          <a:blip r:embed="rId4"/>
          <a:stretch/>
        </p:blipFill>
        <p:spPr>
          <a:xfrm>
            <a:off x="2249640" y="3325680"/>
            <a:ext cx="5124240" cy="3246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6200000">
            <a:off x="4381200" y="-1200240"/>
            <a:ext cx="476280" cy="8229600"/>
          </a:xfrm>
          <a:custGeom>
            <a:avLst/>
            <a:gdLst>
              <a:gd name="textAreaLeft" fmla="*/ 304200 w 476280"/>
              <a:gd name="textAreaRight" fmla="*/ 476640 w 476280"/>
              <a:gd name="textAreaTop" fmla="*/ 214560 h 8229600"/>
              <a:gd name="textAreaBottom" fmla="*/ 8015040 h 822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Elena Yoshie Sato Yoneyama</cp:lastModifiedBy>
  <dcterms:modified xsi:type="dcterms:W3CDTF">2003-02-14T01:06:10Z</dcterms:modified>
  <cp:revision>21</cp:revision>
  <dc:subject/>
  <dc:title>No Slide Title</dc:title>
</cp:coreProperties>
</file>