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C36-04BD-45E7-90A4-8D007C06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E94-A06B-4318-AE9E-F0B39280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DE9-883A-4140-BB6F-E6D1270B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ECB-A8C6-432F-96E7-D3166E07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BFA-62FA-4ABC-A09C-2F328BD6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BCA-1184-41FB-9B48-553D4517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C0F-E0C2-43DF-A15D-83D6B290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B98-F30B-4D07-B8D5-49E1989E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088-4544-44D1-9EE4-9C6CDF41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6AB-9D77-49D7-B1EC-C6661095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7CF-9564-4C85-AFC2-721C4B83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BEF-2B5E-466E-82CF-D9A3619C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96B6-0354-44CF-81E4-312A4397E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S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 fe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te I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69960" y="1681200"/>
            <a:ext cx="6064200" cy="4548240"/>
          </a:xfrm>
          <a:prstGeom prst="rect">
            <a:avLst/>
          </a:prstGeom>
          <a:ln w="0">
            <a:noFill/>
          </a:ln>
        </p:spPr>
      </p:pic>
      <p:pic>
        <p:nvPicPr>
          <p:cNvPr id="134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33680" y="1604880"/>
            <a:ext cx="6110280" cy="4583160"/>
          </a:xfrm>
          <a:prstGeom prst="rect">
            <a:avLst/>
          </a:prstGeom>
          <a:ln w="0">
            <a:noFill/>
          </a:ln>
        </p:spPr>
      </p:pic>
      <p:pic>
        <p:nvPicPr>
          <p:cNvPr id="138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7840" y="1280880"/>
            <a:ext cx="20926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477800" y="2905200"/>
                <a:ext cx="5450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ℓ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ℓ</m:t>
                        </m:r>
                        <m:r>
                          <m:t xml:space="preserve">|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ℓ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44760" y="4219560"/>
                <a:ext cx="29001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3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1840" y="228744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05120" y="3629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29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1733400"/>
            <a:ext cx="5922720" cy="4442040"/>
          </a:xfrm>
          <a:prstGeom prst="rect">
            <a:avLst/>
          </a:prstGeom>
          <a:ln w="0">
            <a:noFill/>
          </a:ln>
        </p:spPr>
      </p:pic>
      <p:pic>
        <p:nvPicPr>
          <p:cNvPr id="151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529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39880" y="1762200"/>
            <a:ext cx="5875200" cy="4406760"/>
          </a:xfrm>
          <a:prstGeom prst="rect">
            <a:avLst/>
          </a:prstGeom>
          <a:ln w="0">
            <a:noFill/>
          </a:ln>
        </p:spPr>
      </p:pic>
      <p:pic>
        <p:nvPicPr>
          <p:cNvPr id="155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95280" y="1816200"/>
                <a:ext cx="807876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76280" y="4356000"/>
                <a:ext cx="23432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01480" y="5067360"/>
                <a:ext cx="3543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23880" y="2362320"/>
            <a:ext cx="0" cy="1809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81120" y="3162240"/>
            <a:ext cx="144792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990880" y="2552760"/>
            <a:ext cx="5562720" cy="1238040"/>
            <a:chOff x="2990880" y="2552760"/>
            <a:chExt cx="5562720" cy="1238040"/>
          </a:xfrm>
        </p:grpSpPr>
        <p:sp>
          <p:nvSpPr>
            <p:cNvPr id="165" name=""/>
            <p:cNvSpPr/>
            <p:nvPr/>
          </p:nvSpPr>
          <p:spPr>
            <a:xfrm>
              <a:off x="3181320" y="3371760"/>
              <a:ext cx="3048120" cy="324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241800" y="2660760"/>
                  <a:ext cx="512424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⋅</m:t>
                      </m:r>
                      <m:r>
                        <m:t xml:space="preserve">−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r>
                        <m:t xml:space="preserve">)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 u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−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−</m:t>
                      </m:r>
                      <m:r>
                        <m:t xml:space="preserve">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n+1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244680" y="2965320"/>
                  <a:ext cx="3510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3213000" y="3384720"/>
                  <a:ext cx="29368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Φx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Γw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2990880" y="2552760"/>
              <a:ext cx="5562720" cy="1238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35000" y="2260440"/>
          <a:ext cx="4864320" cy="3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5000" y="2260440"/>
                    <a:ext cx="486432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028880" y="2629080"/>
          <a:ext cx="4162320" cy="36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28880" y="2629080"/>
                    <a:ext cx="41623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003320" y="3029040"/>
          <a:ext cx="3638520" cy="361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3320" y="3029040"/>
                    <a:ext cx="36385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003320" y="4743360"/>
          <a:ext cx="3759120" cy="660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03320" y="4743360"/>
                    <a:ext cx="37591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009800" y="5607000"/>
          <a:ext cx="4732200" cy="309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09800" y="5607000"/>
                    <a:ext cx="47322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558360" y="167472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stimação dos Parâmetr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3640" y="405612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proximação da Função Objetiv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00280" y="1943280"/>
            <a:ext cx="2286000" cy="9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44640" y="2084400"/>
          <a:ext cx="2001600" cy="65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4640" y="2084400"/>
                    <a:ext cx="20016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879480" y="3390840"/>
          <a:ext cx="5591160" cy="6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9480" y="3390840"/>
                    <a:ext cx="55911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858960" y="4533840"/>
          <a:ext cx="3776400" cy="63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8960" y="4533840"/>
                    <a:ext cx="37764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873000" y="5111640"/>
          <a:ext cx="6810480" cy="652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73000" y="5111640"/>
                    <a:ext cx="681048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884160" y="3930480"/>
          <a:ext cx="3592440" cy="6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84160" y="3930480"/>
                    <a:ext cx="35924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859120" y="2104920"/>
          <a:ext cx="394488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9120" y="2104920"/>
                    <a:ext cx="39448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108080" y="3300480"/>
          <a:ext cx="7128000" cy="2921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08080" y="3300480"/>
                    <a:ext cx="712800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233360" y="1246320"/>
            <a:ext cx="7189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 da Pressão Arterial Mé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474920" y="3997440"/>
          <a:ext cx="6472080" cy="185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4920" y="3997440"/>
                    <a:ext cx="6472080" cy="18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225960" y="2354400"/>
                <a:ext cx="2682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14040" y="184788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Índice de Desempen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87480" y="4973760"/>
            <a:ext cx="3316320" cy="33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880" y="1582560"/>
            <a:ext cx="8089920" cy="47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 fev 2003, segund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Modelagem e Sim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fev 2003, terç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Es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Ó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fev 2003, quin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Rob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Adap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 fev 2003, sex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Ne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Nebul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87440" y="1682640"/>
          <a:ext cx="4637160" cy="2365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7440" y="1682640"/>
                    <a:ext cx="463716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292480" y="4062240"/>
          <a:ext cx="4662360" cy="2365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92480" y="4062240"/>
                    <a:ext cx="466236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104920" y="1511280"/>
          <a:ext cx="4687920" cy="2390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4920" y="1511280"/>
                    <a:ext cx="46879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135160" y="3900600"/>
          <a:ext cx="4624560" cy="2373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5160" y="3900600"/>
                    <a:ext cx="4624560" cy="23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05080" y="1619280"/>
          <a:ext cx="4637160" cy="23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5080" y="1619280"/>
                    <a:ext cx="4637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305080" y="4051440"/>
          <a:ext cx="4637160" cy="2387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05080" y="4051440"/>
                    <a:ext cx="4637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82160" y="131760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Ada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188720" y="1976400"/>
            <a:ext cx="6772680" cy="4379760"/>
            <a:chOff x="1188720" y="1976400"/>
            <a:chExt cx="6772680" cy="4379760"/>
          </a:xfrm>
        </p:grpSpPr>
        <p:sp>
          <p:nvSpPr>
            <p:cNvPr id="50" name=""/>
            <p:cNvSpPr/>
            <p:nvPr/>
          </p:nvSpPr>
          <p:spPr>
            <a:xfrm>
              <a:off x="4339080" y="2684160"/>
              <a:ext cx="1887120" cy="11854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09640" y="2798640"/>
              <a:ext cx="176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rci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hec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05000" y="3277080"/>
              <a:ext cx="123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3164040" y="2928240"/>
              <a:ext cx="447480" cy="27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7424640" y="2928240"/>
              <a:ext cx="459360" cy="2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856400" y="2178360"/>
              <a:ext cx="0" cy="50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4339080" y="4009320"/>
              <a:ext cx="20566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4339080" y="4288320"/>
              <a:ext cx="152424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4923000" y="2015280"/>
              <a:ext cx="144720" cy="2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5797080" y="1976400"/>
              <a:ext cx="483840" cy="27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688000" y="2178360"/>
              <a:ext cx="0" cy="50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35920" y="3275640"/>
              <a:ext cx="17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3572280" y="3238920"/>
              <a:ext cx="3417840" cy="2914560"/>
              <a:chOff x="3572280" y="3238920"/>
              <a:chExt cx="3417840" cy="2914560"/>
            </a:xfrm>
          </p:grpSpPr>
          <p:sp>
            <p:nvSpPr>
              <p:cNvPr id="63" name=""/>
              <p:cNvSpPr/>
              <p:nvPr/>
            </p:nvSpPr>
            <p:spPr>
              <a:xfrm>
                <a:off x="4339080" y="5055120"/>
                <a:ext cx="1887120" cy="6973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11520" y="3276720"/>
                <a:ext cx="0" cy="212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611520" y="5403960"/>
                <a:ext cx="72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08920" y="5194800"/>
                <a:ext cx="170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dentificad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6226200" y="5403960"/>
                <a:ext cx="72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953760" y="3276720"/>
                <a:ext cx="0" cy="212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572280" y="3238920"/>
                <a:ext cx="7236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917760" y="3240360"/>
                <a:ext cx="72360" cy="69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79480" y="5816520"/>
                <a:ext cx="1403280" cy="33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285520" y="5765760"/>
                <a:ext cx="0" cy="24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1212840" y="2704680"/>
              <a:ext cx="1887120" cy="11854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8720" y="2810160"/>
              <a:ext cx="1935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Óti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rametriz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40680" y="3942720"/>
              <a:ext cx="108720" cy="10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843280" y="3531240"/>
              <a:ext cx="43236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4120" y="3295800"/>
              <a:ext cx="0" cy="30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616760" y="6330240"/>
              <a:ext cx="568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645560" y="3901680"/>
              <a:ext cx="0" cy="245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77760" y="3238920"/>
              <a:ext cx="723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792880" y="6013440"/>
              <a:ext cx="249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793240" y="4032360"/>
              <a:ext cx="0" cy="198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LogoLNCC" descr=""/>
          <p:cNvPicPr/>
          <p:nvPr/>
        </p:nvPicPr>
        <p:blipFill>
          <a:blip r:embed="rId8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44440" y="3448080"/>
            <a:ext cx="489564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5120" y="2973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85120" y="2973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6684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ontrole%20MPC%201" descr=""/>
          <p:cNvPicPr/>
          <p:nvPr/>
        </p:nvPicPr>
        <p:blipFill>
          <a:blip r:embed="rId1"/>
          <a:stretch/>
        </p:blipFill>
        <p:spPr>
          <a:xfrm>
            <a:off x="1638360" y="1425600"/>
            <a:ext cx="5970600" cy="3270240"/>
          </a:xfrm>
          <a:prstGeom prst="rect">
            <a:avLst/>
          </a:prstGeom>
          <a:ln w="0">
            <a:noFill/>
          </a:ln>
        </p:spPr>
      </p:pic>
      <p:pic>
        <p:nvPicPr>
          <p:cNvPr id="92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69720" y="4924080"/>
            <a:ext cx="84600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cada instante t predizer o conjunto y(t+i) i=1,...,P de saídas futuras com base no modelo do sistema fís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lcular a seqüência de controle u(t+j) j=0, ..., M que minimiza a função cu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licar u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perar o próximo instante de amostragem e reiniciar o algorit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194600" y="34304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6684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97180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62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735200" y="2335320"/>
                <a:ext cx="5826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ℓ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ℓ</m:t>
                        </m:r>
                        <m:r>
                          <m:t xml:space="preserve">|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ℓ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7479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766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30440" y="4664160"/>
                <a:ext cx="1560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08120" y="3664080"/>
                <a:ext cx="3613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4560" y="1847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7480" y="31892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95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81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4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865600" y="2328840"/>
            <a:ext cx="3620520" cy="2086920"/>
            <a:chOff x="2865600" y="2328840"/>
            <a:chExt cx="3620520" cy="2086920"/>
          </a:xfrm>
        </p:grpSpPr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2865600" y="2328840"/>
                  <a:ext cx="362052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G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β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γ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865600" y="3057840"/>
                  <a:ext cx="273276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δ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ε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2865600" y="3786840"/>
                  <a:ext cx="230076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λ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ρ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" name=""/>
          <p:cNvSpPr/>
          <p:nvPr/>
        </p:nvSpPr>
        <p:spPr>
          <a:xfrm>
            <a:off x="1920960" y="4815000"/>
            <a:ext cx="5681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(t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icose plas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insulina plas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ucagon,  cortisol e catecolam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insulina exóg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icose absorvida por ingestão de aliment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95360" y="133668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Paciente Diab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395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81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4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955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23880" y="2757600"/>
                <a:ext cx="79232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27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4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0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8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129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9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1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9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3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3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5384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25680" y="4329000"/>
                <a:ext cx="33764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4880" y="1873080"/>
            <a:ext cx="5999400" cy="4499280"/>
          </a:xfrm>
          <a:prstGeom prst="rect">
            <a:avLst/>
          </a:prstGeom>
          <a:ln w="0">
            <a:noFill/>
          </a:ln>
        </p:spPr>
      </p:pic>
      <p:pic>
        <p:nvPicPr>
          <p:cNvPr id="130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2720" y="17240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 de Perturbação (alimen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03-02-13T23:44:48Z</dcterms:modified>
  <cp:revision>14</cp:revision>
  <dc:subject/>
  <dc:title>No Slide Title</dc:title>
</cp:coreProperties>
</file>