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E58-69CB-4288-9540-684178CA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8BC-C50C-4284-8EF9-FD93D9B5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2A8-D267-468A-B868-A834BB2D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5E1-4DEB-4BF2-A50D-A073BE2E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23D-7D07-4F55-B850-37B5D73E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EFC-E445-4E3E-A766-F28E50EE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218-E2A1-4E81-8471-529F32CC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D36-B7EF-44C4-B504-6056D0BB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DC6-8C9F-46DF-ADFE-DBC293A1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329-83A9-4949-AFA7-1AD09B5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4C7-66D3-4E6D-8D1C-AC23A282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389-96B7-4F9E-9DED-36A5012C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6C2C-1D59-423A-B782-6EB25B63D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S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1 fe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t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1880" y="1616040"/>
            <a:ext cx="51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ério 1: O tempo de recuperação do paciente é pequ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5120" y="2232000"/>
            <a:ext cx="553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ério 2: A quantidade total de fármacos utilizados é pequ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7440" y="2792520"/>
            <a:ext cx="40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ério 3: Es efeitos colaterais são peque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59360" y="1593720"/>
                <a:ext cx="2719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]</m:t>
                        </m:r>
                      </m:lim>
                    </m:limLow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146640" y="2154240"/>
                <a:ext cx="1812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554360" y="2801880"/>
                <a:ext cx="5907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0" name=""/>
          <p:cNvGraphicFramePr/>
          <p:nvPr/>
        </p:nvGraphicFramePr>
        <p:xfrm>
          <a:off x="2371680" y="3413160"/>
          <a:ext cx="4578480" cy="2970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1680" y="3413160"/>
                    <a:ext cx="457848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663480" y="2720880"/>
          <a:ext cx="3727440" cy="3392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3480" y="2720880"/>
                    <a:ext cx="3727440" cy="33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4754520" y="2676600"/>
          <a:ext cx="3708360" cy="3457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54520" y="2676600"/>
                    <a:ext cx="37083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103480" y="1741320"/>
                <a:ext cx="48085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84280" y="2556000"/>
          <a:ext cx="3467160" cy="3232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2556000"/>
                    <a:ext cx="346716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4537080" y="2521080"/>
          <a:ext cx="3654360" cy="3267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37080" y="2521080"/>
                    <a:ext cx="365436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93440" y="3524400"/>
            <a:ext cx="41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ospectiva Histó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332080" y="2473200"/>
            <a:ext cx="4606920" cy="4017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65000" y="136512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868: J. C. Maxwell apresenta a primeira análise matemática rigorosa do Governador de Watt (17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LogoLNCC" descr=""/>
          <p:cNvPicPr/>
          <p:nvPr/>
        </p:nvPicPr>
        <p:blipFill>
          <a:blip r:embed="rId2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703440" y="156348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10: Giroscópio (E. A. Sper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22: Controlador PID (N. Minorsk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íodo entre guerras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envolvimento de amplificadores para telefonia (Bode, Nyquist e Black - Bell Labs)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omínio da Freqüência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banda passante, margens de ganho e f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urante a 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uerra: Grande impulso motivado pela necessidade de controle de aeronaves, torres de metralhadoras e posicionadores de antenas de radar, entre outros 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48: W. R. Evans concebe a técnica do Lugar Geométrico das Raízes, que foi amplamente empregado na década de 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0: Sistema de navegação inercial baseado em giroscópios e acelerômetros (C. S. Dra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0: Regulador Linear-Quadrático e Filtro de Kalman (R. E. Kalman)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ontrole Multivariável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Dificuldade: Robustez a incertezas no mode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962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écada de 70: Grande desenvolvimento na área de Controle Digi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rdagens para tratar os problemas associados a incertezas nos modelos nominais da plan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role Robu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role Adap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 anos recentes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role empregando Inteligência 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Especi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ógica Fuz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des Ne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23840" y="6032520"/>
            <a:ext cx="3121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880" y="1582560"/>
            <a:ext cx="8089920" cy="47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 fev 2003, segund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Modelagem e Sim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fev 2003, terç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Es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Ó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fev 2003, quin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Rob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Adap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 fev 2003, sex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Ne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Nebul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52040" y="137808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JUNTOS NEBUL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898640" y="2262240"/>
            <a:ext cx="6003720" cy="3954960"/>
            <a:chOff x="1898640" y="2262240"/>
            <a:chExt cx="6003720" cy="3954960"/>
          </a:xfrm>
        </p:grpSpPr>
        <p:sp>
          <p:nvSpPr>
            <p:cNvPr id="50" name=""/>
            <p:cNvSpPr/>
            <p:nvPr/>
          </p:nvSpPr>
          <p:spPr>
            <a:xfrm>
              <a:off x="1898640" y="5317200"/>
              <a:ext cx="600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115720" y="2503440"/>
              <a:ext cx="0" cy="310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30120" y="3460680"/>
              <a:ext cx="3690360" cy="1912320"/>
            </a:xfrm>
            <a:custGeom>
              <a:avLst/>
              <a:gdLst/>
              <a:ahLst/>
              <a:rect l="l" t="t" r="r" b="b"/>
              <a:pathLst>
                <a:path w="2037" h="1093">
                  <a:moveTo>
                    <a:pt x="0" y="1061"/>
                  </a:moveTo>
                  <a:cubicBezTo>
                    <a:pt x="124" y="1041"/>
                    <a:pt x="550" y="1093"/>
                    <a:pt x="744" y="941"/>
                  </a:cubicBezTo>
                  <a:cubicBezTo>
                    <a:pt x="938" y="789"/>
                    <a:pt x="949" y="302"/>
                    <a:pt x="1164" y="151"/>
                  </a:cubicBezTo>
                  <a:cubicBezTo>
                    <a:pt x="1379" y="0"/>
                    <a:pt x="1855" y="57"/>
                    <a:pt x="2037" y="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11680" y="3973320"/>
              <a:ext cx="0" cy="140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11680" y="5848920"/>
              <a:ext cx="1130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681280" y="5848920"/>
              <a:ext cx="113040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85360" y="4821840"/>
              <a:ext cx="179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Temperatura (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62560" y="5378400"/>
              <a:ext cx="38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30120" y="2262240"/>
              <a:ext cx="101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Fe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14560" y="584892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Febr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25720" y="5848920"/>
              <a:ext cx="77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febr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71640" y="1298520"/>
            <a:ext cx="56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DOR NEBULOSO (FUZ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7440" y="3112920"/>
            <a:ext cx="1957680" cy="14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10240" y="4759200"/>
            <a:ext cx="267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dor Fuz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71200" y="3498840"/>
            <a:ext cx="43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31880" y="3492360"/>
            <a:ext cx="515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57600" y="301464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334040"/>
            <a:ext cx="915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45120" y="3946680"/>
            <a:ext cx="907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20960" y="3816360"/>
            <a:ext cx="366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9960" y="3325680"/>
            <a:ext cx="180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106720" y="2963880"/>
            <a:ext cx="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103480" y="2959200"/>
            <a:ext cx="379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896080" y="296352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20960" y="2841480"/>
            <a:ext cx="427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22400" y="28411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9120" y="31687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16200" y="3035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06280" y="318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12000" y="3949560"/>
            <a:ext cx="8319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71760" y="3268800"/>
            <a:ext cx="733320" cy="1095120"/>
          </a:xfrm>
          <a:custGeom>
            <a:avLst/>
            <a:gdLst/>
            <a:ahLst/>
            <a:rect l="l" t="t" r="r" b="b"/>
            <a:pathLst>
              <a:path w="924" h="1380">
                <a:moveTo>
                  <a:pt x="0" y="1380"/>
                </a:moveTo>
                <a:lnTo>
                  <a:pt x="462" y="0"/>
                </a:lnTo>
                <a:lnTo>
                  <a:pt x="924" y="1380"/>
                </a:lnTo>
                <a:lnTo>
                  <a:pt x="0" y="1380"/>
                </a:lnTo>
                <a:close/>
              </a:path>
            </a:pathLst>
          </a:custGeom>
          <a:noFill/>
          <a:ln w="1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8720" y="3268800"/>
            <a:ext cx="735120" cy="1095120"/>
          </a:xfrm>
          <a:custGeom>
            <a:avLst/>
            <a:gdLst/>
            <a:ahLst/>
            <a:rect l="l" t="t" r="r" b="b"/>
            <a:pathLst>
              <a:path w="924" h="1380">
                <a:moveTo>
                  <a:pt x="0" y="1380"/>
                </a:moveTo>
                <a:lnTo>
                  <a:pt x="462" y="0"/>
                </a:lnTo>
                <a:lnTo>
                  <a:pt x="924" y="1380"/>
                </a:lnTo>
                <a:lnTo>
                  <a:pt x="0" y="1380"/>
                </a:lnTo>
                <a:close/>
              </a:path>
            </a:pathLst>
          </a:custGeom>
          <a:noFill/>
          <a:ln w="1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27480" y="3268800"/>
            <a:ext cx="733320" cy="1095120"/>
          </a:xfrm>
          <a:custGeom>
            <a:avLst/>
            <a:gdLst/>
            <a:ahLst/>
            <a:rect l="l" t="t" r="r" b="b"/>
            <a:pathLst>
              <a:path w="925" h="1380">
                <a:moveTo>
                  <a:pt x="0" y="1380"/>
                </a:moveTo>
                <a:lnTo>
                  <a:pt x="462" y="0"/>
                </a:lnTo>
                <a:lnTo>
                  <a:pt x="925" y="1380"/>
                </a:lnTo>
                <a:lnTo>
                  <a:pt x="0" y="1380"/>
                </a:lnTo>
                <a:close/>
              </a:path>
            </a:pathLst>
          </a:custGeom>
          <a:noFill/>
          <a:ln w="1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92640" y="3598920"/>
            <a:ext cx="16956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64280" y="3894120"/>
            <a:ext cx="1698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25920" y="3578400"/>
            <a:ext cx="1516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22960" y="3743280"/>
            <a:ext cx="1431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03880" y="284472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87360" y="3846600"/>
            <a:ext cx="63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 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8480" y="4065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74000" y="13352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JUNTOS NEBUL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28680" y="2360520"/>
            <a:ext cx="6982560" cy="3601440"/>
            <a:chOff x="1228680" y="2360520"/>
            <a:chExt cx="6982560" cy="3601440"/>
          </a:xfrm>
        </p:grpSpPr>
        <p:sp>
          <p:nvSpPr>
            <p:cNvPr id="98" name=""/>
            <p:cNvSpPr/>
            <p:nvPr/>
          </p:nvSpPr>
          <p:spPr>
            <a:xfrm>
              <a:off x="1228680" y="5676480"/>
              <a:ext cx="678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8640" y="511560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er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15480" y="2360520"/>
              <a:ext cx="99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er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604680" y="3658680"/>
              <a:ext cx="896400" cy="2001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4501080" y="3658680"/>
              <a:ext cx="896040" cy="2001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694240" y="3674160"/>
              <a:ext cx="896040" cy="20023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3590640" y="3674160"/>
              <a:ext cx="896400" cy="20023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515480" y="3658680"/>
              <a:ext cx="896400" cy="2001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411880" y="3658680"/>
              <a:ext cx="896040" cy="2001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2800" y="3674160"/>
              <a:ext cx="10954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2693880" y="3658680"/>
              <a:ext cx="896040" cy="20019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397480" y="3674160"/>
              <a:ext cx="896400" cy="200232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293880" y="3674160"/>
              <a:ext cx="110988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32160" y="303984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09160" y="303984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12960" y="3039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40880" y="303984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77760" y="303984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501440" y="2619360"/>
              <a:ext cx="0" cy="334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17000" y="76212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ÊNCIA NEBUL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3160" y="2616120"/>
            <a:ext cx="168120" cy="19080"/>
          </a:xfrm>
          <a:custGeom>
            <a:avLst/>
            <a:gdLst/>
            <a:ahLst/>
            <a:rect l="l" t="t" r="r" b="b"/>
            <a:pathLst>
              <a:path w="212" h="24">
                <a:moveTo>
                  <a:pt x="191" y="6"/>
                </a:moveTo>
                <a:lnTo>
                  <a:pt x="201" y="0"/>
                </a:lnTo>
                <a:lnTo>
                  <a:pt x="0" y="1"/>
                </a:lnTo>
                <a:lnTo>
                  <a:pt x="0" y="24"/>
                </a:lnTo>
                <a:lnTo>
                  <a:pt x="201" y="23"/>
                </a:lnTo>
                <a:lnTo>
                  <a:pt x="212" y="16"/>
                </a:lnTo>
                <a:lnTo>
                  <a:pt x="201" y="23"/>
                </a:lnTo>
                <a:lnTo>
                  <a:pt x="208" y="21"/>
                </a:lnTo>
                <a:lnTo>
                  <a:pt x="212" y="16"/>
                </a:lnTo>
                <a:lnTo>
                  <a:pt x="191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58960" y="2044800"/>
            <a:ext cx="279360" cy="584280"/>
          </a:xfrm>
          <a:custGeom>
            <a:avLst/>
            <a:gdLst/>
            <a:ahLst/>
            <a:rect l="l" t="t" r="r" b="b"/>
            <a:pathLst>
              <a:path w="351" h="735">
                <a:moveTo>
                  <a:pt x="341" y="0"/>
                </a:moveTo>
                <a:lnTo>
                  <a:pt x="331" y="6"/>
                </a:lnTo>
                <a:lnTo>
                  <a:pt x="0" y="725"/>
                </a:lnTo>
                <a:lnTo>
                  <a:pt x="21" y="735"/>
                </a:lnTo>
                <a:lnTo>
                  <a:pt x="351" y="16"/>
                </a:lnTo>
                <a:lnTo>
                  <a:pt x="341" y="22"/>
                </a:lnTo>
                <a:lnTo>
                  <a:pt x="341" y="0"/>
                </a:lnTo>
                <a:lnTo>
                  <a:pt x="334" y="0"/>
                </a:lnTo>
                <a:lnTo>
                  <a:pt x="331" y="6"/>
                </a:lnTo>
                <a:lnTo>
                  <a:pt x="34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28960" y="2044800"/>
            <a:ext cx="326880" cy="21960"/>
          </a:xfrm>
          <a:custGeom>
            <a:avLst/>
            <a:gdLst/>
            <a:ahLst/>
            <a:rect l="l" t="t" r="r" b="b"/>
            <a:pathLst>
              <a:path w="412" h="26">
                <a:moveTo>
                  <a:pt x="412" y="12"/>
                </a:moveTo>
                <a:lnTo>
                  <a:pt x="402" y="3"/>
                </a:lnTo>
                <a:lnTo>
                  <a:pt x="0" y="0"/>
                </a:lnTo>
                <a:lnTo>
                  <a:pt x="0" y="22"/>
                </a:lnTo>
                <a:lnTo>
                  <a:pt x="402" y="26"/>
                </a:lnTo>
                <a:lnTo>
                  <a:pt x="391" y="17"/>
                </a:lnTo>
                <a:lnTo>
                  <a:pt x="412" y="12"/>
                </a:lnTo>
                <a:lnTo>
                  <a:pt x="411" y="5"/>
                </a:lnTo>
                <a:lnTo>
                  <a:pt x="402" y="3"/>
                </a:lnTo>
                <a:lnTo>
                  <a:pt x="41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0" y="2055960"/>
            <a:ext cx="160560" cy="577800"/>
          </a:xfrm>
          <a:custGeom>
            <a:avLst/>
            <a:gdLst/>
            <a:ahLst/>
            <a:rect l="l" t="t" r="r" b="b"/>
            <a:pathLst>
              <a:path w="202" h="730">
                <a:moveTo>
                  <a:pt x="192" y="707"/>
                </a:moveTo>
                <a:lnTo>
                  <a:pt x="202" y="716"/>
                </a:lnTo>
                <a:lnTo>
                  <a:pt x="21" y="0"/>
                </a:lnTo>
                <a:lnTo>
                  <a:pt x="0" y="5"/>
                </a:lnTo>
                <a:lnTo>
                  <a:pt x="182" y="721"/>
                </a:lnTo>
                <a:lnTo>
                  <a:pt x="192" y="730"/>
                </a:lnTo>
                <a:lnTo>
                  <a:pt x="182" y="721"/>
                </a:lnTo>
                <a:lnTo>
                  <a:pt x="183" y="730"/>
                </a:lnTo>
                <a:lnTo>
                  <a:pt x="192" y="730"/>
                </a:lnTo>
                <a:lnTo>
                  <a:pt x="192" y="70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89400" y="2616120"/>
            <a:ext cx="244440" cy="17640"/>
          </a:xfrm>
          <a:custGeom>
            <a:avLst/>
            <a:gdLst/>
            <a:ahLst/>
            <a:rect l="l" t="t" r="r" b="b"/>
            <a:pathLst>
              <a:path w="307" h="23">
                <a:moveTo>
                  <a:pt x="307" y="11"/>
                </a:moveTo>
                <a:lnTo>
                  <a:pt x="307" y="0"/>
                </a:lnTo>
                <a:lnTo>
                  <a:pt x="0" y="0"/>
                </a:lnTo>
                <a:lnTo>
                  <a:pt x="0" y="23"/>
                </a:lnTo>
                <a:lnTo>
                  <a:pt x="307" y="23"/>
                </a:lnTo>
                <a:lnTo>
                  <a:pt x="307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22560" y="2035080"/>
            <a:ext cx="117360" cy="9720"/>
          </a:xfrm>
          <a:custGeom>
            <a:avLst/>
            <a:gdLst/>
            <a:ahLst/>
            <a:rect l="l" t="t" r="r" b="b"/>
            <a:pathLst>
              <a:path w="148" h="13">
                <a:moveTo>
                  <a:pt x="148" y="6"/>
                </a:moveTo>
                <a:lnTo>
                  <a:pt x="148" y="0"/>
                </a:lnTo>
                <a:lnTo>
                  <a:pt x="0" y="0"/>
                </a:lnTo>
                <a:lnTo>
                  <a:pt x="0" y="13"/>
                </a:lnTo>
                <a:lnTo>
                  <a:pt x="148" y="13"/>
                </a:lnTo>
                <a:lnTo>
                  <a:pt x="148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2880" y="1987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43120" y="168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13000" y="18194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03000" y="181944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65520" y="2324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85760" y="2398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2240" y="3147840"/>
            <a:ext cx="136440" cy="590760"/>
          </a:xfrm>
          <a:custGeom>
            <a:avLst/>
            <a:gdLst/>
            <a:ahLst/>
            <a:rect l="l" t="t" r="r" b="b"/>
            <a:pathLst>
              <a:path w="171" h="744">
                <a:moveTo>
                  <a:pt x="161" y="2"/>
                </a:moveTo>
                <a:lnTo>
                  <a:pt x="150" y="9"/>
                </a:lnTo>
                <a:lnTo>
                  <a:pt x="0" y="739"/>
                </a:lnTo>
                <a:lnTo>
                  <a:pt x="20" y="744"/>
                </a:lnTo>
                <a:lnTo>
                  <a:pt x="171" y="14"/>
                </a:lnTo>
                <a:lnTo>
                  <a:pt x="161" y="22"/>
                </a:lnTo>
                <a:lnTo>
                  <a:pt x="161" y="0"/>
                </a:lnTo>
                <a:lnTo>
                  <a:pt x="152" y="0"/>
                </a:lnTo>
                <a:lnTo>
                  <a:pt x="150" y="9"/>
                </a:lnTo>
                <a:lnTo>
                  <a:pt x="161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90760" y="3146400"/>
            <a:ext cx="249120" cy="19080"/>
          </a:xfrm>
          <a:custGeom>
            <a:avLst/>
            <a:gdLst/>
            <a:ahLst/>
            <a:rect l="l" t="t" r="r" b="b"/>
            <a:pathLst>
              <a:path w="315" h="24">
                <a:moveTo>
                  <a:pt x="315" y="7"/>
                </a:moveTo>
                <a:lnTo>
                  <a:pt x="306" y="3"/>
                </a:lnTo>
                <a:lnTo>
                  <a:pt x="0" y="0"/>
                </a:lnTo>
                <a:lnTo>
                  <a:pt x="0" y="20"/>
                </a:lnTo>
                <a:lnTo>
                  <a:pt x="306" y="24"/>
                </a:lnTo>
                <a:lnTo>
                  <a:pt x="297" y="20"/>
                </a:lnTo>
                <a:lnTo>
                  <a:pt x="315" y="7"/>
                </a:lnTo>
                <a:lnTo>
                  <a:pt x="312" y="3"/>
                </a:lnTo>
                <a:lnTo>
                  <a:pt x="306" y="2"/>
                </a:lnTo>
                <a:lnTo>
                  <a:pt x="315" y="7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5840" y="3156120"/>
            <a:ext cx="377640" cy="588960"/>
          </a:xfrm>
          <a:custGeom>
            <a:avLst/>
            <a:gdLst/>
            <a:ahLst/>
            <a:rect l="l" t="t" r="r" b="b"/>
            <a:pathLst>
              <a:path w="474" h="744">
                <a:moveTo>
                  <a:pt x="465" y="721"/>
                </a:moveTo>
                <a:lnTo>
                  <a:pt x="474" y="726"/>
                </a:lnTo>
                <a:lnTo>
                  <a:pt x="18" y="0"/>
                </a:lnTo>
                <a:lnTo>
                  <a:pt x="0" y="13"/>
                </a:lnTo>
                <a:lnTo>
                  <a:pt x="456" y="739"/>
                </a:lnTo>
                <a:lnTo>
                  <a:pt x="465" y="744"/>
                </a:lnTo>
                <a:lnTo>
                  <a:pt x="456" y="739"/>
                </a:lnTo>
                <a:lnTo>
                  <a:pt x="459" y="742"/>
                </a:lnTo>
                <a:lnTo>
                  <a:pt x="465" y="744"/>
                </a:lnTo>
                <a:lnTo>
                  <a:pt x="465" y="7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5560" y="3727440"/>
            <a:ext cx="244440" cy="17640"/>
          </a:xfrm>
          <a:custGeom>
            <a:avLst/>
            <a:gdLst/>
            <a:ahLst/>
            <a:rect l="l" t="t" r="r" b="b"/>
            <a:pathLst>
              <a:path w="308" h="23">
                <a:moveTo>
                  <a:pt x="308" y="11"/>
                </a:moveTo>
                <a:lnTo>
                  <a:pt x="308" y="0"/>
                </a:lnTo>
                <a:lnTo>
                  <a:pt x="0" y="0"/>
                </a:lnTo>
                <a:lnTo>
                  <a:pt x="0" y="23"/>
                </a:lnTo>
                <a:lnTo>
                  <a:pt x="308" y="23"/>
                </a:lnTo>
                <a:lnTo>
                  <a:pt x="308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2880" y="3108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13000" y="29383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06600" y="29383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4360" y="3476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73160" y="355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30800" y="2616120"/>
            <a:ext cx="168120" cy="19080"/>
          </a:xfrm>
          <a:custGeom>
            <a:avLst/>
            <a:gdLst/>
            <a:ahLst/>
            <a:rect l="l" t="t" r="r" b="b"/>
            <a:pathLst>
              <a:path w="211" h="24">
                <a:moveTo>
                  <a:pt x="191" y="6"/>
                </a:moveTo>
                <a:lnTo>
                  <a:pt x="201" y="0"/>
                </a:lnTo>
                <a:lnTo>
                  <a:pt x="0" y="1"/>
                </a:lnTo>
                <a:lnTo>
                  <a:pt x="0" y="24"/>
                </a:lnTo>
                <a:lnTo>
                  <a:pt x="201" y="23"/>
                </a:lnTo>
                <a:lnTo>
                  <a:pt x="211" y="16"/>
                </a:lnTo>
                <a:lnTo>
                  <a:pt x="201" y="23"/>
                </a:lnTo>
                <a:lnTo>
                  <a:pt x="208" y="21"/>
                </a:lnTo>
                <a:lnTo>
                  <a:pt x="211" y="16"/>
                </a:lnTo>
                <a:lnTo>
                  <a:pt x="191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83080" y="2049480"/>
            <a:ext cx="281160" cy="579600"/>
          </a:xfrm>
          <a:custGeom>
            <a:avLst/>
            <a:gdLst/>
            <a:ahLst/>
            <a:rect l="l" t="t" r="r" b="b"/>
            <a:pathLst>
              <a:path w="353" h="730">
                <a:moveTo>
                  <a:pt x="332" y="12"/>
                </a:moveTo>
                <a:lnTo>
                  <a:pt x="330" y="1"/>
                </a:lnTo>
                <a:lnTo>
                  <a:pt x="0" y="720"/>
                </a:lnTo>
                <a:lnTo>
                  <a:pt x="20" y="730"/>
                </a:lnTo>
                <a:lnTo>
                  <a:pt x="351" y="11"/>
                </a:lnTo>
                <a:lnTo>
                  <a:pt x="349" y="0"/>
                </a:lnTo>
                <a:lnTo>
                  <a:pt x="351" y="11"/>
                </a:lnTo>
                <a:lnTo>
                  <a:pt x="353" y="5"/>
                </a:lnTo>
                <a:lnTo>
                  <a:pt x="349" y="0"/>
                </a:lnTo>
                <a:lnTo>
                  <a:pt x="3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46600" y="2048040"/>
            <a:ext cx="476280" cy="585720"/>
          </a:xfrm>
          <a:custGeom>
            <a:avLst/>
            <a:gdLst/>
            <a:ahLst/>
            <a:rect l="l" t="t" r="r" b="b"/>
            <a:pathLst>
              <a:path w="612" h="755">
                <a:moveTo>
                  <a:pt x="603" y="732"/>
                </a:moveTo>
                <a:lnTo>
                  <a:pt x="612" y="737"/>
                </a:lnTo>
                <a:lnTo>
                  <a:pt x="18" y="0"/>
                </a:lnTo>
                <a:lnTo>
                  <a:pt x="0" y="13"/>
                </a:lnTo>
                <a:lnTo>
                  <a:pt x="595" y="750"/>
                </a:lnTo>
                <a:lnTo>
                  <a:pt x="603" y="755"/>
                </a:lnTo>
                <a:lnTo>
                  <a:pt x="595" y="750"/>
                </a:lnTo>
                <a:lnTo>
                  <a:pt x="598" y="755"/>
                </a:lnTo>
                <a:lnTo>
                  <a:pt x="603" y="755"/>
                </a:lnTo>
                <a:lnTo>
                  <a:pt x="603" y="7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16400" y="2616120"/>
            <a:ext cx="243000" cy="17640"/>
          </a:xfrm>
          <a:custGeom>
            <a:avLst/>
            <a:gdLst/>
            <a:ahLst/>
            <a:rect l="l" t="t" r="r" b="b"/>
            <a:pathLst>
              <a:path w="308" h="23">
                <a:moveTo>
                  <a:pt x="308" y="11"/>
                </a:moveTo>
                <a:lnTo>
                  <a:pt x="308" y="0"/>
                </a:lnTo>
                <a:lnTo>
                  <a:pt x="0" y="0"/>
                </a:lnTo>
                <a:lnTo>
                  <a:pt x="0" y="23"/>
                </a:lnTo>
                <a:lnTo>
                  <a:pt x="308" y="23"/>
                </a:lnTo>
                <a:lnTo>
                  <a:pt x="308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27320" y="2035080"/>
            <a:ext cx="117720" cy="9720"/>
          </a:xfrm>
          <a:custGeom>
            <a:avLst/>
            <a:gdLst/>
            <a:ahLst/>
            <a:rect l="l" t="t" r="r" b="b"/>
            <a:pathLst>
              <a:path w="148" h="13">
                <a:moveTo>
                  <a:pt x="148" y="6"/>
                </a:moveTo>
                <a:lnTo>
                  <a:pt x="148" y="0"/>
                </a:lnTo>
                <a:lnTo>
                  <a:pt x="0" y="0"/>
                </a:lnTo>
                <a:lnTo>
                  <a:pt x="0" y="13"/>
                </a:lnTo>
                <a:lnTo>
                  <a:pt x="148" y="13"/>
                </a:lnTo>
                <a:lnTo>
                  <a:pt x="148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1987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168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16320" y="18194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05600" y="18194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53000" y="2373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73240" y="2449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54520" y="3147840"/>
            <a:ext cx="325440" cy="600120"/>
          </a:xfrm>
          <a:custGeom>
            <a:avLst/>
            <a:gdLst/>
            <a:ahLst/>
            <a:rect l="l" t="t" r="r" b="b"/>
            <a:pathLst>
              <a:path w="408" h="756">
                <a:moveTo>
                  <a:pt x="398" y="0"/>
                </a:moveTo>
                <a:lnTo>
                  <a:pt x="388" y="7"/>
                </a:lnTo>
                <a:lnTo>
                  <a:pt x="0" y="746"/>
                </a:lnTo>
                <a:lnTo>
                  <a:pt x="20" y="756"/>
                </a:lnTo>
                <a:lnTo>
                  <a:pt x="408" y="17"/>
                </a:lnTo>
                <a:lnTo>
                  <a:pt x="398" y="23"/>
                </a:lnTo>
                <a:lnTo>
                  <a:pt x="398" y="0"/>
                </a:lnTo>
                <a:lnTo>
                  <a:pt x="391" y="2"/>
                </a:lnTo>
                <a:lnTo>
                  <a:pt x="388" y="7"/>
                </a:lnTo>
                <a:lnTo>
                  <a:pt x="39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70600" y="3147840"/>
            <a:ext cx="333360" cy="19080"/>
          </a:xfrm>
          <a:custGeom>
            <a:avLst/>
            <a:gdLst/>
            <a:ahLst/>
            <a:rect l="l" t="t" r="r" b="b"/>
            <a:pathLst>
              <a:path w="419" h="25">
                <a:moveTo>
                  <a:pt x="404" y="5"/>
                </a:moveTo>
                <a:lnTo>
                  <a:pt x="412" y="2"/>
                </a:lnTo>
                <a:lnTo>
                  <a:pt x="0" y="0"/>
                </a:lnTo>
                <a:lnTo>
                  <a:pt x="0" y="23"/>
                </a:lnTo>
                <a:lnTo>
                  <a:pt x="412" y="25"/>
                </a:lnTo>
                <a:lnTo>
                  <a:pt x="419" y="21"/>
                </a:lnTo>
                <a:lnTo>
                  <a:pt x="412" y="25"/>
                </a:lnTo>
                <a:lnTo>
                  <a:pt x="416" y="23"/>
                </a:lnTo>
                <a:lnTo>
                  <a:pt x="419" y="21"/>
                </a:lnTo>
                <a:lnTo>
                  <a:pt x="404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2800" y="3151080"/>
            <a:ext cx="12600" cy="129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15"/>
                </a:moveTo>
                <a:lnTo>
                  <a:pt x="1" y="0"/>
                </a:lnTo>
                <a:lnTo>
                  <a:pt x="0" y="1"/>
                </a:lnTo>
                <a:lnTo>
                  <a:pt x="15" y="17"/>
                </a:lnTo>
                <a:lnTo>
                  <a:pt x="17" y="15"/>
                </a:lnTo>
                <a:lnTo>
                  <a:pt x="1" y="0"/>
                </a:lnTo>
                <a:lnTo>
                  <a:pt x="1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2800" y="3151080"/>
            <a:ext cx="12600" cy="1296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9"/>
                </a:moveTo>
                <a:lnTo>
                  <a:pt x="15" y="17"/>
                </a:lnTo>
                <a:lnTo>
                  <a:pt x="17" y="15"/>
                </a:lnTo>
                <a:lnTo>
                  <a:pt x="1" y="0"/>
                </a:lnTo>
                <a:lnTo>
                  <a:pt x="0" y="1"/>
                </a:lnTo>
                <a:lnTo>
                  <a:pt x="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7640" y="3108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48240" y="2800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2400" y="29764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50600" y="29764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08800" y="34876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29040" y="3564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81160" y="4591080"/>
            <a:ext cx="1612800" cy="17280"/>
          </a:xfrm>
          <a:custGeom>
            <a:avLst/>
            <a:gdLst/>
            <a:ahLst/>
            <a:rect l="l" t="t" r="r" b="b"/>
            <a:pathLst>
              <a:path w="2032" h="23">
                <a:moveTo>
                  <a:pt x="2032" y="12"/>
                </a:moveTo>
                <a:lnTo>
                  <a:pt x="2032" y="0"/>
                </a:lnTo>
                <a:lnTo>
                  <a:pt x="0" y="0"/>
                </a:lnTo>
                <a:lnTo>
                  <a:pt x="0" y="23"/>
                </a:lnTo>
                <a:lnTo>
                  <a:pt x="2032" y="23"/>
                </a:lnTo>
                <a:lnTo>
                  <a:pt x="20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4543560"/>
            <a:ext cx="110880" cy="110880"/>
          </a:xfrm>
          <a:custGeom>
            <a:avLst/>
            <a:gdLst/>
            <a:ahLst/>
            <a:rect l="l" t="t" r="r" b="b"/>
            <a:pathLst>
              <a:path w="141" h="140">
                <a:moveTo>
                  <a:pt x="141" y="70"/>
                </a:moveTo>
                <a:lnTo>
                  <a:pt x="141" y="70"/>
                </a:lnTo>
                <a:lnTo>
                  <a:pt x="0" y="0"/>
                </a:lnTo>
                <a:lnTo>
                  <a:pt x="0" y="140"/>
                </a:lnTo>
                <a:lnTo>
                  <a:pt x="141" y="70"/>
                </a:lnTo>
                <a:lnTo>
                  <a:pt x="141" y="7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55680" y="4529160"/>
            <a:ext cx="17640" cy="127080"/>
          </a:xfrm>
          <a:custGeom>
            <a:avLst/>
            <a:gdLst/>
            <a:ahLst/>
            <a:rect l="l" t="t" r="r" b="b"/>
            <a:pathLst>
              <a:path w="23" h="159">
                <a:moveTo>
                  <a:pt x="12" y="159"/>
                </a:moveTo>
                <a:lnTo>
                  <a:pt x="23" y="159"/>
                </a:lnTo>
                <a:lnTo>
                  <a:pt x="23" y="0"/>
                </a:lnTo>
                <a:lnTo>
                  <a:pt x="0" y="0"/>
                </a:lnTo>
                <a:lnTo>
                  <a:pt x="0" y="159"/>
                </a:lnTo>
                <a:lnTo>
                  <a:pt x="12" y="1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7386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95760" y="4732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62000" y="4815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02120" y="4591080"/>
            <a:ext cx="1612800" cy="17280"/>
          </a:xfrm>
          <a:custGeom>
            <a:avLst/>
            <a:gdLst/>
            <a:ahLst/>
            <a:rect l="l" t="t" r="r" b="b"/>
            <a:pathLst>
              <a:path w="2032" h="23">
                <a:moveTo>
                  <a:pt x="2032" y="12"/>
                </a:moveTo>
                <a:lnTo>
                  <a:pt x="2032" y="0"/>
                </a:lnTo>
                <a:lnTo>
                  <a:pt x="0" y="0"/>
                </a:lnTo>
                <a:lnTo>
                  <a:pt x="0" y="23"/>
                </a:lnTo>
                <a:lnTo>
                  <a:pt x="2032" y="23"/>
                </a:lnTo>
                <a:lnTo>
                  <a:pt x="20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08800" y="4543560"/>
            <a:ext cx="110880" cy="110880"/>
          </a:xfrm>
          <a:custGeom>
            <a:avLst/>
            <a:gdLst/>
            <a:ahLst/>
            <a:rect l="l" t="t" r="r" b="b"/>
            <a:pathLst>
              <a:path w="141" h="140">
                <a:moveTo>
                  <a:pt x="141" y="70"/>
                </a:moveTo>
                <a:lnTo>
                  <a:pt x="141" y="70"/>
                </a:lnTo>
                <a:lnTo>
                  <a:pt x="0" y="0"/>
                </a:lnTo>
                <a:lnTo>
                  <a:pt x="0" y="140"/>
                </a:lnTo>
                <a:lnTo>
                  <a:pt x="141" y="70"/>
                </a:lnTo>
                <a:lnTo>
                  <a:pt x="141" y="7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76640" y="4529160"/>
            <a:ext cx="17640" cy="127080"/>
          </a:xfrm>
          <a:custGeom>
            <a:avLst/>
            <a:gdLst/>
            <a:ahLst/>
            <a:rect l="l" t="t" r="r" b="b"/>
            <a:pathLst>
              <a:path w="23" h="159">
                <a:moveTo>
                  <a:pt x="12" y="159"/>
                </a:moveTo>
                <a:lnTo>
                  <a:pt x="23" y="159"/>
                </a:lnTo>
                <a:lnTo>
                  <a:pt x="23" y="0"/>
                </a:lnTo>
                <a:lnTo>
                  <a:pt x="0" y="0"/>
                </a:lnTo>
                <a:lnTo>
                  <a:pt x="0" y="159"/>
                </a:lnTo>
                <a:lnTo>
                  <a:pt x="12" y="1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51440" y="47386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60800" y="4732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8840" y="4815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4200" y="4395960"/>
            <a:ext cx="28440" cy="198360"/>
          </a:xfrm>
          <a:custGeom>
            <a:avLst/>
            <a:gdLst/>
            <a:ahLst/>
            <a:rect l="l" t="t" r="r" b="b"/>
            <a:pathLst>
              <a:path w="36" h="249">
                <a:moveTo>
                  <a:pt x="18" y="0"/>
                </a:moveTo>
                <a:lnTo>
                  <a:pt x="0" y="0"/>
                </a:lnTo>
                <a:lnTo>
                  <a:pt x="0" y="249"/>
                </a:lnTo>
                <a:lnTo>
                  <a:pt x="36" y="249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54360" y="4367160"/>
            <a:ext cx="96840" cy="127080"/>
          </a:xfrm>
          <a:custGeom>
            <a:avLst/>
            <a:gdLst/>
            <a:ahLst/>
            <a:rect l="l" t="t" r="r" b="b"/>
            <a:pathLst>
              <a:path w="122" h="160">
                <a:moveTo>
                  <a:pt x="122" y="0"/>
                </a:moveTo>
                <a:lnTo>
                  <a:pt x="91" y="0"/>
                </a:lnTo>
                <a:lnTo>
                  <a:pt x="0" y="141"/>
                </a:lnTo>
                <a:lnTo>
                  <a:pt x="30" y="160"/>
                </a:lnTo>
                <a:lnTo>
                  <a:pt x="122" y="19"/>
                </a:lnTo>
                <a:lnTo>
                  <a:pt x="91" y="19"/>
                </a:lnTo>
                <a:lnTo>
                  <a:pt x="122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25640" y="4349880"/>
            <a:ext cx="25560" cy="17280"/>
          </a:xfrm>
          <a:custGeom>
            <a:avLst/>
            <a:gdLst/>
            <a:ahLst/>
            <a:rect l="l" t="t" r="r" b="b"/>
            <a:pathLst>
              <a:path w="31" h="22">
                <a:moveTo>
                  <a:pt x="31" y="22"/>
                </a:moveTo>
                <a:lnTo>
                  <a:pt x="15" y="0"/>
                </a:lnTo>
                <a:lnTo>
                  <a:pt x="0" y="22"/>
                </a:lnTo>
                <a:lnTo>
                  <a:pt x="31" y="2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25640" y="4367160"/>
            <a:ext cx="96840" cy="127080"/>
          </a:xfrm>
          <a:custGeom>
            <a:avLst/>
            <a:gdLst/>
            <a:ahLst/>
            <a:rect l="l" t="t" r="r" b="b"/>
            <a:pathLst>
              <a:path w="121" h="160">
                <a:moveTo>
                  <a:pt x="107" y="150"/>
                </a:moveTo>
                <a:lnTo>
                  <a:pt x="121" y="141"/>
                </a:lnTo>
                <a:lnTo>
                  <a:pt x="31" y="0"/>
                </a:lnTo>
                <a:lnTo>
                  <a:pt x="0" y="19"/>
                </a:lnTo>
                <a:lnTo>
                  <a:pt x="92" y="160"/>
                </a:lnTo>
                <a:lnTo>
                  <a:pt x="107" y="15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73760" y="4394160"/>
            <a:ext cx="27000" cy="198360"/>
          </a:xfrm>
          <a:custGeom>
            <a:avLst/>
            <a:gdLst/>
            <a:ahLst/>
            <a:rect l="l" t="t" r="r" b="b"/>
            <a:pathLst>
              <a:path w="36" h="250">
                <a:moveTo>
                  <a:pt x="18" y="0"/>
                </a:moveTo>
                <a:lnTo>
                  <a:pt x="0" y="0"/>
                </a:lnTo>
                <a:lnTo>
                  <a:pt x="0" y="250"/>
                </a:lnTo>
                <a:lnTo>
                  <a:pt x="36" y="250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3920" y="4363920"/>
            <a:ext cx="95040" cy="128880"/>
          </a:xfrm>
          <a:custGeom>
            <a:avLst/>
            <a:gdLst/>
            <a:ahLst/>
            <a:rect l="l" t="t" r="r" b="b"/>
            <a:pathLst>
              <a:path w="121" h="161">
                <a:moveTo>
                  <a:pt x="121" y="0"/>
                </a:moveTo>
                <a:lnTo>
                  <a:pt x="91" y="0"/>
                </a:lnTo>
                <a:lnTo>
                  <a:pt x="0" y="142"/>
                </a:lnTo>
                <a:lnTo>
                  <a:pt x="30" y="161"/>
                </a:lnTo>
                <a:lnTo>
                  <a:pt x="121" y="19"/>
                </a:lnTo>
                <a:lnTo>
                  <a:pt x="91" y="19"/>
                </a:lnTo>
                <a:lnTo>
                  <a:pt x="121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75200" y="4348080"/>
            <a:ext cx="23760" cy="15840"/>
          </a:xfrm>
          <a:custGeom>
            <a:avLst/>
            <a:gdLst/>
            <a:ahLst/>
            <a:rect l="l" t="t" r="r" b="b"/>
            <a:pathLst>
              <a:path w="30" h="22">
                <a:moveTo>
                  <a:pt x="30" y="22"/>
                </a:moveTo>
                <a:lnTo>
                  <a:pt x="15" y="0"/>
                </a:lnTo>
                <a:lnTo>
                  <a:pt x="0" y="22"/>
                </a:lnTo>
                <a:lnTo>
                  <a:pt x="30" y="2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75200" y="4363920"/>
            <a:ext cx="95400" cy="128880"/>
          </a:xfrm>
          <a:custGeom>
            <a:avLst/>
            <a:gdLst/>
            <a:ahLst/>
            <a:rect l="l" t="t" r="r" b="b"/>
            <a:pathLst>
              <a:path w="121" h="161">
                <a:moveTo>
                  <a:pt x="107" y="150"/>
                </a:moveTo>
                <a:lnTo>
                  <a:pt x="121" y="142"/>
                </a:lnTo>
                <a:lnTo>
                  <a:pt x="30" y="0"/>
                </a:lnTo>
                <a:lnTo>
                  <a:pt x="0" y="19"/>
                </a:lnTo>
                <a:lnTo>
                  <a:pt x="92" y="161"/>
                </a:lnTo>
                <a:lnTo>
                  <a:pt x="107" y="15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70560" y="4591080"/>
            <a:ext cx="1612800" cy="17280"/>
          </a:xfrm>
          <a:custGeom>
            <a:avLst/>
            <a:gdLst/>
            <a:ahLst/>
            <a:rect l="l" t="t" r="r" b="b"/>
            <a:pathLst>
              <a:path w="2032" h="23">
                <a:moveTo>
                  <a:pt x="2032" y="12"/>
                </a:moveTo>
                <a:lnTo>
                  <a:pt x="2032" y="0"/>
                </a:lnTo>
                <a:lnTo>
                  <a:pt x="0" y="0"/>
                </a:lnTo>
                <a:lnTo>
                  <a:pt x="0" y="23"/>
                </a:lnTo>
                <a:lnTo>
                  <a:pt x="2032" y="23"/>
                </a:lnTo>
                <a:lnTo>
                  <a:pt x="20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77240" y="4543560"/>
            <a:ext cx="111240" cy="11088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140" y="70"/>
                </a:moveTo>
                <a:lnTo>
                  <a:pt x="140" y="70"/>
                </a:lnTo>
                <a:lnTo>
                  <a:pt x="0" y="0"/>
                </a:lnTo>
                <a:lnTo>
                  <a:pt x="0" y="140"/>
                </a:lnTo>
                <a:lnTo>
                  <a:pt x="140" y="70"/>
                </a:lnTo>
                <a:lnTo>
                  <a:pt x="140" y="7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4529160"/>
            <a:ext cx="19080" cy="127080"/>
          </a:xfrm>
          <a:custGeom>
            <a:avLst/>
            <a:gdLst/>
            <a:ahLst/>
            <a:rect l="l" t="t" r="r" b="b"/>
            <a:pathLst>
              <a:path w="23" h="159">
                <a:moveTo>
                  <a:pt x="11" y="159"/>
                </a:moveTo>
                <a:lnTo>
                  <a:pt x="23" y="159"/>
                </a:lnTo>
                <a:lnTo>
                  <a:pt x="23" y="0"/>
                </a:lnTo>
                <a:lnTo>
                  <a:pt x="0" y="0"/>
                </a:lnTo>
                <a:lnTo>
                  <a:pt x="0" y="159"/>
                </a:lnTo>
                <a:lnTo>
                  <a:pt x="11" y="1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18440" y="47386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73800" y="4624560"/>
            <a:ext cx="28800" cy="198360"/>
          </a:xfrm>
          <a:custGeom>
            <a:avLst/>
            <a:gdLst/>
            <a:ahLst/>
            <a:rect l="l" t="t" r="r" b="b"/>
            <a:pathLst>
              <a:path w="36" h="250">
                <a:moveTo>
                  <a:pt x="18" y="250"/>
                </a:moveTo>
                <a:lnTo>
                  <a:pt x="36" y="250"/>
                </a:lnTo>
                <a:lnTo>
                  <a:pt x="36" y="0"/>
                </a:lnTo>
                <a:lnTo>
                  <a:pt x="0" y="0"/>
                </a:lnTo>
                <a:lnTo>
                  <a:pt x="0" y="250"/>
                </a:lnTo>
                <a:lnTo>
                  <a:pt x="18" y="250"/>
                </a:lnTo>
                <a:close/>
              </a:path>
            </a:pathLst>
          </a:custGeom>
          <a:solidFill>
            <a:srgbClr val="66ff33"/>
          </a:solidFill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77040" y="4724280"/>
            <a:ext cx="95400" cy="127080"/>
          </a:xfrm>
          <a:custGeom>
            <a:avLst/>
            <a:gdLst/>
            <a:ahLst/>
            <a:rect l="l" t="t" r="r" b="b"/>
            <a:pathLst>
              <a:path w="122" h="161">
                <a:moveTo>
                  <a:pt x="0" y="161"/>
                </a:moveTo>
                <a:lnTo>
                  <a:pt x="31" y="161"/>
                </a:lnTo>
                <a:lnTo>
                  <a:pt x="122" y="19"/>
                </a:lnTo>
                <a:lnTo>
                  <a:pt x="92" y="0"/>
                </a:lnTo>
                <a:lnTo>
                  <a:pt x="0" y="141"/>
                </a:lnTo>
                <a:lnTo>
                  <a:pt x="31" y="141"/>
                </a:lnTo>
                <a:lnTo>
                  <a:pt x="0" y="161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77040" y="4851360"/>
            <a:ext cx="23760" cy="17640"/>
          </a:xfrm>
          <a:custGeom>
            <a:avLst/>
            <a:gdLst/>
            <a:ahLst/>
            <a:rect l="l" t="t" r="r" b="b"/>
            <a:pathLst>
              <a:path w="31" h="21">
                <a:moveTo>
                  <a:pt x="0" y="0"/>
                </a:moveTo>
                <a:lnTo>
                  <a:pt x="16" y="21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97840" y="4724280"/>
            <a:ext cx="96840" cy="127080"/>
          </a:xfrm>
          <a:custGeom>
            <a:avLst/>
            <a:gdLst/>
            <a:ahLst/>
            <a:rect l="l" t="t" r="r" b="b"/>
            <a:pathLst>
              <a:path w="121" h="161">
                <a:moveTo>
                  <a:pt x="14" y="10"/>
                </a:moveTo>
                <a:lnTo>
                  <a:pt x="0" y="19"/>
                </a:lnTo>
                <a:lnTo>
                  <a:pt x="90" y="161"/>
                </a:lnTo>
                <a:lnTo>
                  <a:pt x="121" y="141"/>
                </a:lnTo>
                <a:lnTo>
                  <a:pt x="29" y="0"/>
                </a:lnTo>
                <a:lnTo>
                  <a:pt x="14" y="1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64440" y="4433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12920" y="23335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28840" y="2333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98680" y="2333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76440" y="23335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38360" y="2333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85960" y="2333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33440" y="34466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9360" y="3446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19200" y="3446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960" y="34466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60680" y="3446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06480" y="3446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70600" y="1778040"/>
            <a:ext cx="111240" cy="1112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70" y="0"/>
                </a:moveTo>
                <a:lnTo>
                  <a:pt x="70" y="0"/>
                </a:lnTo>
                <a:lnTo>
                  <a:pt x="0" y="140"/>
                </a:lnTo>
                <a:lnTo>
                  <a:pt x="140" y="140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89680" y="2597040"/>
            <a:ext cx="111240" cy="19080"/>
          </a:xfrm>
          <a:custGeom>
            <a:avLst/>
            <a:gdLst/>
            <a:ahLst/>
            <a:rect l="l" t="t" r="r" b="b"/>
            <a:pathLst>
              <a:path w="139" h="23">
                <a:moveTo>
                  <a:pt x="139" y="11"/>
                </a:moveTo>
                <a:lnTo>
                  <a:pt x="139" y="0"/>
                </a:lnTo>
                <a:lnTo>
                  <a:pt x="0" y="0"/>
                </a:lnTo>
                <a:lnTo>
                  <a:pt x="0" y="23"/>
                </a:lnTo>
                <a:lnTo>
                  <a:pt x="139" y="23"/>
                </a:lnTo>
                <a:lnTo>
                  <a:pt x="139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91120" y="2895480"/>
            <a:ext cx="111240" cy="11268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70" y="0"/>
                </a:moveTo>
                <a:lnTo>
                  <a:pt x="70" y="0"/>
                </a:lnTo>
                <a:lnTo>
                  <a:pt x="0" y="140"/>
                </a:lnTo>
                <a:lnTo>
                  <a:pt x="140" y="140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96160" y="3716280"/>
            <a:ext cx="110880" cy="17640"/>
          </a:xfrm>
          <a:custGeom>
            <a:avLst/>
            <a:gdLst/>
            <a:ahLst/>
            <a:rect l="l" t="t" r="r" b="b"/>
            <a:pathLst>
              <a:path w="139" h="23">
                <a:moveTo>
                  <a:pt x="139" y="11"/>
                </a:moveTo>
                <a:lnTo>
                  <a:pt x="139" y="0"/>
                </a:lnTo>
                <a:lnTo>
                  <a:pt x="0" y="0"/>
                </a:lnTo>
                <a:lnTo>
                  <a:pt x="0" y="23"/>
                </a:lnTo>
                <a:lnTo>
                  <a:pt x="139" y="23"/>
                </a:lnTo>
                <a:lnTo>
                  <a:pt x="139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49880" y="2282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92840" y="2444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49880" y="33847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0760" y="3489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46960" y="2341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99240" y="234144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27760" y="2341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75360" y="2341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13600" y="234144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43920" y="2341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81800" y="2341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20040" y="234144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50000" y="2341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4920" y="2378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6280" y="2446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41960" y="2438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94000" y="2438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36960" y="2435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59200" y="2446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43600" y="3546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97720" y="3443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48560" y="34434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78520" y="3443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26120" y="3443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4360" y="34434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94680" y="3443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32560" y="3443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70800" y="34434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01120" y="34434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65600" y="3548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92720" y="3540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45120" y="3540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86280" y="3537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09960" y="3549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60800" y="42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09960" y="4210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05280" y="443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3680" y="4125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18280" y="4125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69120" y="412596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9080" y="4125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72240" y="4125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08640" y="4425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00720" y="4210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52760" y="42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02440" y="43369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75600" y="433692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05560" y="43369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42498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50000" y="42498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6680" y="1855800"/>
            <a:ext cx="17280" cy="868320"/>
          </a:xfrm>
          <a:custGeom>
            <a:avLst/>
            <a:gdLst/>
            <a:ahLst/>
            <a:rect l="l" t="t" r="r" b="b"/>
            <a:pathLst>
              <a:path w="23" h="1094">
                <a:moveTo>
                  <a:pt x="12" y="0"/>
                </a:moveTo>
                <a:lnTo>
                  <a:pt x="0" y="0"/>
                </a:lnTo>
                <a:lnTo>
                  <a:pt x="0" y="1094"/>
                </a:lnTo>
                <a:lnTo>
                  <a:pt x="23" y="1094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32520" y="2981160"/>
            <a:ext cx="17280" cy="868680"/>
          </a:xfrm>
          <a:custGeom>
            <a:avLst/>
            <a:gdLst/>
            <a:ahLst/>
            <a:rect l="l" t="t" r="r" b="b"/>
            <a:pathLst>
              <a:path w="23" h="1094">
                <a:moveTo>
                  <a:pt x="12" y="0"/>
                </a:moveTo>
                <a:lnTo>
                  <a:pt x="0" y="0"/>
                </a:lnTo>
                <a:lnTo>
                  <a:pt x="0" y="1094"/>
                </a:lnTo>
                <a:lnTo>
                  <a:pt x="23" y="1094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91480" y="4348080"/>
            <a:ext cx="83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13200" y="164448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0920" y="164448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59360" y="277164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88680" y="5389560"/>
            <a:ext cx="609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ra 1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E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Grande) E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édio) ENTÃO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ra 2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E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equeno) E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Grande) ENTÃO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162160" y="2876400"/>
            <a:ext cx="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57480" y="272412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087800" y="2895120"/>
            <a:ext cx="324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162160" y="163620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076640" y="1680840"/>
            <a:ext cx="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81160" y="263520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98880" y="263520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38760" y="375444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70000" y="373860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851200" y="1681200"/>
            <a:ext cx="11160" cy="2643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987800" y="1644120"/>
            <a:ext cx="11160" cy="2643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03920" y="2373480"/>
            <a:ext cx="1171440" cy="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87760" y="3476520"/>
            <a:ext cx="3421080" cy="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54520" y="3306600"/>
            <a:ext cx="468360" cy="0"/>
          </a:xfrm>
          <a:prstGeom prst="line">
            <a:avLst/>
          </a:prstGeom>
          <a:ln cap="rnd" w="9360">
            <a:solidFill>
              <a:srgbClr val="33cc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880" y="2185920"/>
            <a:ext cx="468360" cy="0"/>
          </a:xfrm>
          <a:prstGeom prst="line">
            <a:avLst/>
          </a:prstGeom>
          <a:ln cap="rnd" w="9360">
            <a:solidFill>
              <a:srgbClr val="33cc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1360" y="2367000"/>
            <a:ext cx="28440" cy="220680"/>
          </a:xfrm>
          <a:custGeom>
            <a:avLst/>
            <a:gdLst/>
            <a:ahLst/>
            <a:rect l="l" t="t" r="r" b="b"/>
            <a:pathLst>
              <a:path w="36" h="278">
                <a:moveTo>
                  <a:pt x="18" y="278"/>
                </a:moveTo>
                <a:lnTo>
                  <a:pt x="36" y="278"/>
                </a:lnTo>
                <a:lnTo>
                  <a:pt x="36" y="0"/>
                </a:lnTo>
                <a:lnTo>
                  <a:pt x="0" y="0"/>
                </a:lnTo>
                <a:lnTo>
                  <a:pt x="0" y="278"/>
                </a:lnTo>
                <a:lnTo>
                  <a:pt x="18" y="27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33960" y="3462480"/>
            <a:ext cx="28800" cy="268200"/>
          </a:xfrm>
          <a:custGeom>
            <a:avLst/>
            <a:gdLst/>
            <a:ahLst/>
            <a:rect l="l" t="t" r="r" b="b"/>
            <a:pathLst>
              <a:path w="36" h="337">
                <a:moveTo>
                  <a:pt x="18" y="337"/>
                </a:moveTo>
                <a:lnTo>
                  <a:pt x="36" y="337"/>
                </a:lnTo>
                <a:lnTo>
                  <a:pt x="36" y="0"/>
                </a:lnTo>
                <a:lnTo>
                  <a:pt x="0" y="0"/>
                </a:lnTo>
                <a:lnTo>
                  <a:pt x="0" y="337"/>
                </a:lnTo>
                <a:lnTo>
                  <a:pt x="18" y="33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251240" y="3755880"/>
            <a:ext cx="51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2187720" y="3739680"/>
            <a:ext cx="85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259000" y="928800"/>
            <a:ext cx="50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DAS REG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62200" y="3216240"/>
            <a:ext cx="1231920" cy="80640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62200" y="4022640"/>
            <a:ext cx="1231920" cy="80640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62200" y="4829040"/>
            <a:ext cx="1231920" cy="80496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94120" y="3216240"/>
            <a:ext cx="1231920" cy="80640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94120" y="4022640"/>
            <a:ext cx="1231920" cy="80640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94120" y="4829040"/>
            <a:ext cx="1231920" cy="80496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26040" y="3216240"/>
            <a:ext cx="1231920" cy="80640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26040" y="4022640"/>
            <a:ext cx="1231920" cy="80640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26040" y="4829040"/>
            <a:ext cx="1231920" cy="804960"/>
          </a:xfrm>
          <a:prstGeom prst="rect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393640" y="2049120"/>
            <a:ext cx="1168200" cy="116676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35440" y="2784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00640" y="27846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16560" y="3460680"/>
            <a:ext cx="79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16560" y="4233960"/>
            <a:ext cx="52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16200" y="5141880"/>
            <a:ext cx="77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95680" y="2254320"/>
            <a:ext cx="1316160" cy="1001520"/>
          </a:xfrm>
          <a:custGeom>
            <a:avLst/>
            <a:gdLst/>
            <a:ahLst/>
            <a:rect l="l" t="t" r="r" b="b"/>
            <a:pathLst>
              <a:path w="4143" h="3152">
                <a:moveTo>
                  <a:pt x="0" y="0"/>
                </a:moveTo>
                <a:lnTo>
                  <a:pt x="1788" y="0"/>
                </a:lnTo>
                <a:lnTo>
                  <a:pt x="4143" y="3152"/>
                </a:lnTo>
              </a:path>
            </a:pathLst>
          </a:custGeom>
          <a:noFill/>
          <a:ln w="64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782800"/>
            <a:ext cx="35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68840" y="2254320"/>
            <a:ext cx="1528920" cy="1001520"/>
          </a:xfrm>
          <a:custGeom>
            <a:avLst/>
            <a:gdLst/>
            <a:ahLst/>
            <a:rect l="l" t="t" r="r" b="b"/>
            <a:pathLst>
              <a:path w="4814" h="3152">
                <a:moveTo>
                  <a:pt x="0" y="3029"/>
                </a:moveTo>
                <a:lnTo>
                  <a:pt x="2360" y="0"/>
                </a:lnTo>
                <a:lnTo>
                  <a:pt x="4814" y="3152"/>
                </a:lnTo>
              </a:path>
            </a:pathLst>
          </a:custGeom>
          <a:noFill/>
          <a:ln w="64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65840" y="2235240"/>
            <a:ext cx="1314360" cy="1000080"/>
          </a:xfrm>
          <a:custGeom>
            <a:avLst/>
            <a:gdLst/>
            <a:ahLst/>
            <a:rect l="l" t="t" r="r" b="b"/>
            <a:pathLst>
              <a:path w="4142" h="3151">
                <a:moveTo>
                  <a:pt x="0" y="3151"/>
                </a:moveTo>
                <a:lnTo>
                  <a:pt x="2092" y="0"/>
                </a:lnTo>
                <a:lnTo>
                  <a:pt x="4142" y="0"/>
                </a:lnTo>
              </a:path>
            </a:pathLst>
          </a:custGeom>
          <a:noFill/>
          <a:ln w="64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33440" y="3208320"/>
            <a:ext cx="1355760" cy="874800"/>
          </a:xfrm>
          <a:custGeom>
            <a:avLst/>
            <a:gdLst/>
            <a:ahLst/>
            <a:rect l="l" t="t" r="r" b="b"/>
            <a:pathLst>
              <a:path w="4271" h="2753">
                <a:moveTo>
                  <a:pt x="0" y="0"/>
                </a:moveTo>
                <a:lnTo>
                  <a:pt x="0" y="1188"/>
                </a:lnTo>
                <a:lnTo>
                  <a:pt x="4271" y="2753"/>
                </a:lnTo>
              </a:path>
            </a:pathLst>
          </a:custGeom>
          <a:noFill/>
          <a:ln w="64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33440" y="3913200"/>
            <a:ext cx="1355760" cy="1015920"/>
          </a:xfrm>
          <a:custGeom>
            <a:avLst/>
            <a:gdLst/>
            <a:ahLst/>
            <a:rect l="l" t="t" r="r" b="b"/>
            <a:pathLst>
              <a:path w="4271" h="3198">
                <a:moveTo>
                  <a:pt x="4105" y="0"/>
                </a:moveTo>
                <a:lnTo>
                  <a:pt x="0" y="1566"/>
                </a:lnTo>
                <a:lnTo>
                  <a:pt x="4271" y="3198"/>
                </a:lnTo>
              </a:path>
            </a:pathLst>
          </a:custGeom>
          <a:noFill/>
          <a:ln w="64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08240" y="4719600"/>
            <a:ext cx="1355760" cy="873000"/>
          </a:xfrm>
          <a:custGeom>
            <a:avLst/>
            <a:gdLst/>
            <a:ahLst/>
            <a:rect l="l" t="t" r="r" b="b"/>
            <a:pathLst>
              <a:path w="4271" h="2751">
                <a:moveTo>
                  <a:pt x="4271" y="0"/>
                </a:moveTo>
                <a:lnTo>
                  <a:pt x="0" y="1390"/>
                </a:lnTo>
                <a:lnTo>
                  <a:pt x="0" y="2751"/>
                </a:lnTo>
              </a:path>
            </a:pathLst>
          </a:custGeom>
          <a:noFill/>
          <a:ln w="64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31040" y="1968480"/>
            <a:ext cx="45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98000" y="2263680"/>
            <a:ext cx="62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96920" y="2603520"/>
            <a:ext cx="42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9960" y="343548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43280" y="2629080"/>
            <a:ext cx="704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21560" y="345456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98000" y="345456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21560" y="425448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79040" y="427356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98000" y="425448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40640" y="507348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59960" y="505476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98000" y="505476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609960" y="317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34520" y="2900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90400" y="304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18680" y="3247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91840" y="3370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75840" y="39369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50800" y="406080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8120" y="224640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93720" y="2246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46360" y="2246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19160" y="2246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58840" y="2246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47840" y="2246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31840" y="33354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0004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9084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9640" y="33354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22400" y="3335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6208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1080" y="33354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47560" y="3335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3836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736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17440" y="3335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78080" y="36417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55640" y="3641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2736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0016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00320" y="36417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9716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5800" y="3641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3844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82840" y="2881440"/>
            <a:ext cx="2998800" cy="151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1440" y="314172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12880" y="416556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12880" y="347508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18360" y="364824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57760" y="2158920"/>
            <a:ext cx="0" cy="733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92200" y="4516560"/>
            <a:ext cx="491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g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,  x = [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43520" y="45705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249920" y="5164200"/>
            <a:ext cx="6907680" cy="1250280"/>
            <a:chOff x="1249920" y="5164200"/>
            <a:chExt cx="6907680" cy="1250280"/>
          </a:xfrm>
        </p:grpSpPr>
        <p:sp>
          <p:nvSpPr>
            <p:cNvPr id="362" name=""/>
            <p:cNvSpPr/>
            <p:nvPr/>
          </p:nvSpPr>
          <p:spPr>
            <a:xfrm>
              <a:off x="1249920" y="5164200"/>
              <a:ext cx="69076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Propriedade de Aproximação Univers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: Dada uma função g(x) sobre 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domínio 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R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e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&gt; 0, é possível construir 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Narrow"/>
                </a:rPr>
                <a:t>Regra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x) de modo que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13200" y="5973840"/>
              <a:ext cx="3558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| g (x) - 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Narrow"/>
                </a:rPr>
                <a:t>Regra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x) | &lt;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,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553120" y="13683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DOR NEBUL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741240" y="1671480"/>
                <a:ext cx="3268800" cy="384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e>
                        </m:d>
                        <m:r>
                          <m:t xml:space="preserve">V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</m:d>
                        <m:r>
                          <m:t xml:space="preserve">F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70" name=""/>
          <p:cNvGraphicFramePr/>
          <p:nvPr/>
        </p:nvGraphicFramePr>
        <p:xfrm>
          <a:off x="5097600" y="1674720"/>
          <a:ext cx="4046400" cy="172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97600" y="1674720"/>
                    <a:ext cx="40464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03-02-13T23:49:56Z</dcterms:modified>
  <cp:revision>14</cp:revision>
  <dc:subject/>
  <dc:title>No Slide Title</dc:title>
</cp:coreProperties>
</file>