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307-63F3-4AB1-BD43-E62A6B96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7A7-C788-4024-BF17-322728DA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DF0-D268-4CDF-92B6-3343934A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52AB-38B8-44BD-9B9C-63F30AE9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F5A-1692-430F-A2CF-CD5F0D2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6A1-13AA-4E82-AC05-97AE04D9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273-E3F8-4A5C-BB5B-D772E0A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60D-E726-4928-9C99-90F142D0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B57-82E4-42F0-B599-45B4F623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DC9-E2A8-40AE-8A7E-CF875CA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3BC-B495-493B-8D27-069933E2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072-E035-46B6-9C6F-EF700840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56F8-26C0-40D6-B093-E251BC5A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1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ecg-pqrst" descr=""/>
          <p:cNvPicPr/>
          <p:nvPr/>
        </p:nvPicPr>
        <p:blipFill>
          <a:blip r:embed="rId2"/>
          <a:stretch/>
        </p:blipFill>
        <p:spPr>
          <a:xfrm>
            <a:off x="1165320" y="1573200"/>
            <a:ext cx="73292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ecocard" descr=""/>
          <p:cNvPicPr/>
          <p:nvPr/>
        </p:nvPicPr>
        <p:blipFill>
          <a:blip r:embed="rId2"/>
          <a:stretch/>
        </p:blipFill>
        <p:spPr>
          <a:xfrm>
            <a:off x="3014640" y="1523880"/>
            <a:ext cx="5705640" cy="4851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04120" y="2641680"/>
            <a:ext cx="2459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M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álvula M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L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entrículo Esque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entrículo Dire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IV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pto Interventr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PW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arede Pos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ED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âmetro Diastólic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ES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âmetro Sistólic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BOTTERNN" descr=""/>
          <p:cNvPicPr/>
          <p:nvPr/>
        </p:nvPicPr>
        <p:blipFill>
          <a:blip r:embed="rId1"/>
          <a:stretch/>
        </p:blipFill>
        <p:spPr>
          <a:xfrm>
            <a:off x="2813040" y="1811160"/>
            <a:ext cx="4303800" cy="3957840"/>
          </a:xfrm>
          <a:prstGeom prst="rect">
            <a:avLst/>
          </a:prstGeom>
          <a:ln w="0">
            <a:noFill/>
          </a:ln>
        </p:spPr>
      </p:pic>
      <p:pic>
        <p:nvPicPr>
          <p:cNvPr id="233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646280" y="1857240"/>
          <a:ext cx="5919840" cy="46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857240"/>
                    <a:ext cx="591984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517760" y="1708200"/>
          <a:ext cx="611028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708200"/>
                    <a:ext cx="611028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35040" y="1847880"/>
          <a:ext cx="611028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847880"/>
                    <a:ext cx="611028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3840" y="5732640"/>
            <a:ext cx="3245040" cy="31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62800" y="160020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ITUAÇÃO DE INTELIGÊ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7160" y="2355840"/>
            <a:ext cx="65736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as faculdades mentais através do us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delos computacionais” (Charniak e McDermott,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e como fazer os computadores realiza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efas que, no momento, são feitas melhor por pesso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Rich, 198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estudo das idéias que permitem habilitar 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utadores a fazerem coisas que tornam as pesso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igentes” (Winston, 19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 é o campo de conhecimentos onde se estud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stemas capazes de reproduzir algumas das ativ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ntais do homem” (Nilsson, 198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96640" y="1442880"/>
            <a:ext cx="506052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vidades Psíqu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aim, 1986)(Ey, Bernard, Brisset, 1985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p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itu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í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ciocí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ci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etiv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gu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92880" y="13651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3440" y="3281400"/>
            <a:ext cx="1943280" cy="140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6600" y="4657680"/>
            <a:ext cx="2940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49200" y="4784760"/>
            <a:ext cx="277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70280" y="3556080"/>
            <a:ext cx="55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9840" y="3513240"/>
            <a:ext cx="421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65280" y="399564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51400" y="3618000"/>
            <a:ext cx="1695600" cy="70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51840" y="3494160"/>
            <a:ext cx="63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50760" y="3503520"/>
            <a:ext cx="497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(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6080" y="3179880"/>
            <a:ext cx="3254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25360" y="317988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7880" y="446580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0040" y="3968640"/>
            <a:ext cx="105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5160" y="396396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16240" y="3494160"/>
            <a:ext cx="17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319480" y="312876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19480" y="3127320"/>
            <a:ext cx="37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035760" y="3121200"/>
            <a:ext cx="1440" cy="47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6600" y="3016080"/>
            <a:ext cx="422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31920" y="3019320"/>
            <a:ext cx="0" cy="9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19760" y="3332160"/>
            <a:ext cx="233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19040" y="3332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35720" y="3181320"/>
            <a:ext cx="316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35000" y="318132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31120" y="3352680"/>
            <a:ext cx="244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06360" y="3341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47000" y="3929040"/>
            <a:ext cx="874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70520" y="3851280"/>
            <a:ext cx="212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25960" y="3373560"/>
            <a:ext cx="20304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14800" y="3832200"/>
            <a:ext cx="203040" cy="2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14800" y="4341960"/>
            <a:ext cx="203040" cy="26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3680" y="347508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3960" y="4452840"/>
            <a:ext cx="3996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3280" y="34956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7440" y="3963960"/>
            <a:ext cx="657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8600" y="4475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1080" y="3956040"/>
            <a:ext cx="64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73280" y="3498840"/>
            <a:ext cx="64152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68600" y="3502080"/>
            <a:ext cx="64620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56000" y="3495240"/>
            <a:ext cx="66996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556000" y="3495240"/>
            <a:ext cx="6699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8880" y="3976560"/>
            <a:ext cx="65592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431880" y="3514680"/>
            <a:ext cx="63828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19280" y="3963960"/>
            <a:ext cx="6397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62120" y="3963960"/>
            <a:ext cx="65268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4680" y="3597120"/>
            <a:ext cx="15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1720" y="3762360"/>
            <a:ext cx="143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50040" y="30290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4017960"/>
            <a:ext cx="63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52240" y="42195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394668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10520" y="13111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TIPO DE NEURÔ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6200" y="3630600"/>
            <a:ext cx="636480" cy="636480"/>
          </a:xfrm>
          <a:custGeom>
            <a:avLst/>
            <a:gdLst/>
            <a:ahLst/>
            <a:rect l="l" t="t" r="r" b="b"/>
            <a:pathLst>
              <a:path w="401" h="401">
                <a:moveTo>
                  <a:pt x="201" y="401"/>
                </a:moveTo>
                <a:lnTo>
                  <a:pt x="242" y="397"/>
                </a:lnTo>
                <a:lnTo>
                  <a:pt x="278" y="386"/>
                </a:lnTo>
                <a:lnTo>
                  <a:pt x="313" y="367"/>
                </a:lnTo>
                <a:lnTo>
                  <a:pt x="343" y="343"/>
                </a:lnTo>
                <a:lnTo>
                  <a:pt x="367" y="312"/>
                </a:lnTo>
                <a:lnTo>
                  <a:pt x="386" y="278"/>
                </a:lnTo>
                <a:lnTo>
                  <a:pt x="398" y="241"/>
                </a:lnTo>
                <a:lnTo>
                  <a:pt x="401" y="201"/>
                </a:lnTo>
                <a:lnTo>
                  <a:pt x="398" y="160"/>
                </a:lnTo>
                <a:lnTo>
                  <a:pt x="386" y="123"/>
                </a:lnTo>
                <a:lnTo>
                  <a:pt x="367" y="89"/>
                </a:lnTo>
                <a:lnTo>
                  <a:pt x="343" y="59"/>
                </a:lnTo>
                <a:lnTo>
                  <a:pt x="313" y="35"/>
                </a:lnTo>
                <a:lnTo>
                  <a:pt x="278" y="16"/>
                </a:lnTo>
                <a:lnTo>
                  <a:pt x="242" y="4"/>
                </a:lnTo>
                <a:lnTo>
                  <a:pt x="201" y="0"/>
                </a:lnTo>
                <a:lnTo>
                  <a:pt x="160" y="4"/>
                </a:lnTo>
                <a:lnTo>
                  <a:pt x="123" y="16"/>
                </a:lnTo>
                <a:lnTo>
                  <a:pt x="89" y="35"/>
                </a:lnTo>
                <a:lnTo>
                  <a:pt x="59" y="59"/>
                </a:lnTo>
                <a:lnTo>
                  <a:pt x="35" y="89"/>
                </a:lnTo>
                <a:lnTo>
                  <a:pt x="16" y="123"/>
                </a:lnTo>
                <a:lnTo>
                  <a:pt x="4" y="160"/>
                </a:lnTo>
                <a:lnTo>
                  <a:pt x="0" y="201"/>
                </a:lnTo>
                <a:lnTo>
                  <a:pt x="4" y="241"/>
                </a:lnTo>
                <a:lnTo>
                  <a:pt x="16" y="278"/>
                </a:lnTo>
                <a:lnTo>
                  <a:pt x="35" y="312"/>
                </a:lnTo>
                <a:lnTo>
                  <a:pt x="59" y="343"/>
                </a:lnTo>
                <a:lnTo>
                  <a:pt x="89" y="367"/>
                </a:lnTo>
                <a:lnTo>
                  <a:pt x="123" y="386"/>
                </a:lnTo>
                <a:lnTo>
                  <a:pt x="160" y="397"/>
                </a:lnTo>
                <a:lnTo>
                  <a:pt x="201" y="40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40120" y="226224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2446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323856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44600" y="3422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6080" y="458964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760" y="477504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6840" y="353520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55840" y="353520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0720" y="353052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0920" y="341640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01320" y="243036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8640" y="2573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52080" y="473868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0120" y="4881600"/>
            <a:ext cx="2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40920" y="336708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98240" y="3510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92720" y="3755880"/>
            <a:ext cx="203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828960"/>
            <a:ext cx="266760" cy="297000"/>
          </a:xfrm>
          <a:custGeom>
            <a:avLst/>
            <a:gdLst/>
            <a:ahLst/>
            <a:rect l="l" t="t" r="r" b="b"/>
            <a:pathLst>
              <a:path w="168" h="187">
                <a:moveTo>
                  <a:pt x="5" y="184"/>
                </a:moveTo>
                <a:lnTo>
                  <a:pt x="10" y="187"/>
                </a:lnTo>
                <a:lnTo>
                  <a:pt x="168" y="7"/>
                </a:lnTo>
                <a:lnTo>
                  <a:pt x="158" y="0"/>
                </a:lnTo>
                <a:lnTo>
                  <a:pt x="0" y="180"/>
                </a:lnTo>
                <a:lnTo>
                  <a:pt x="5" y="1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4440" y="5662440"/>
            <a:ext cx="210960" cy="20880"/>
          </a:xfrm>
          <a:custGeom>
            <a:avLst/>
            <a:gdLst/>
            <a:ahLst/>
            <a:rect l="l" t="t" r="r" b="b"/>
            <a:pathLst>
              <a:path w="133" h="13">
                <a:moveTo>
                  <a:pt x="120" y="7"/>
                </a:moveTo>
                <a:lnTo>
                  <a:pt x="127" y="0"/>
                </a:lnTo>
                <a:lnTo>
                  <a:pt x="0" y="0"/>
                </a:lnTo>
                <a:lnTo>
                  <a:pt x="0" y="13"/>
                </a:lnTo>
                <a:lnTo>
                  <a:pt x="127" y="13"/>
                </a:lnTo>
                <a:lnTo>
                  <a:pt x="133" y="7"/>
                </a:lnTo>
                <a:lnTo>
                  <a:pt x="127" y="13"/>
                </a:lnTo>
                <a:lnTo>
                  <a:pt x="133" y="13"/>
                </a:lnTo>
                <a:lnTo>
                  <a:pt x="133" y="7"/>
                </a:lnTo>
                <a:lnTo>
                  <a:pt x="12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4880" y="5359320"/>
            <a:ext cx="20520" cy="314280"/>
          </a:xfrm>
          <a:custGeom>
            <a:avLst/>
            <a:gdLst/>
            <a:ahLst/>
            <a:rect l="l" t="t" r="r" b="b"/>
            <a:pathLst>
              <a:path w="13" h="198">
                <a:moveTo>
                  <a:pt x="7" y="0"/>
                </a:moveTo>
                <a:lnTo>
                  <a:pt x="0" y="6"/>
                </a:lnTo>
                <a:lnTo>
                  <a:pt x="0" y="198"/>
                </a:lnTo>
                <a:lnTo>
                  <a:pt x="13" y="198"/>
                </a:lnTo>
                <a:lnTo>
                  <a:pt x="13" y="6"/>
                </a:lnTo>
                <a:lnTo>
                  <a:pt x="7" y="12"/>
                </a:lnTo>
                <a:lnTo>
                  <a:pt x="7" y="0"/>
                </a:lnTo>
                <a:lnTo>
                  <a:pt x="0" y="0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26040" y="5359320"/>
            <a:ext cx="201600" cy="19080"/>
          </a:xfrm>
          <a:custGeom>
            <a:avLst/>
            <a:gdLst/>
            <a:ahLst/>
            <a:rect l="l" t="t" r="r" b="b"/>
            <a:pathLst>
              <a:path w="127" h="12">
                <a:moveTo>
                  <a:pt x="127" y="6"/>
                </a:moveTo>
                <a:lnTo>
                  <a:pt x="127" y="0"/>
                </a:lnTo>
                <a:lnTo>
                  <a:pt x="0" y="0"/>
                </a:lnTo>
                <a:lnTo>
                  <a:pt x="0" y="12"/>
                </a:lnTo>
                <a:lnTo>
                  <a:pt x="127" y="12"/>
                </a:lnTo>
                <a:lnTo>
                  <a:pt x="127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91160" y="5937120"/>
            <a:ext cx="209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32000" y="593712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3680" y="593712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75080" y="310356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040" y="3103560"/>
            <a:ext cx="77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9360" y="310356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8360" y="310356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70240" y="310032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60680" y="309564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3960" y="5921280"/>
            <a:ext cx="229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7000" y="5921280"/>
            <a:ext cx="77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5592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11800" y="5921280"/>
            <a:ext cx="285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792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59280" y="5921280"/>
            <a:ext cx="77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080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2160" y="59212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5120" y="5522760"/>
            <a:ext cx="308160" cy="203400"/>
          </a:xfrm>
          <a:custGeom>
            <a:avLst/>
            <a:gdLst/>
            <a:ahLst/>
            <a:rect l="l" t="t" r="r" b="b"/>
            <a:pathLst>
              <a:path w="194" h="128">
                <a:moveTo>
                  <a:pt x="184" y="0"/>
                </a:moveTo>
                <a:lnTo>
                  <a:pt x="184" y="0"/>
                </a:lnTo>
                <a:lnTo>
                  <a:pt x="156" y="39"/>
                </a:lnTo>
                <a:lnTo>
                  <a:pt x="130" y="67"/>
                </a:lnTo>
                <a:lnTo>
                  <a:pt x="105" y="88"/>
                </a:lnTo>
                <a:lnTo>
                  <a:pt x="81" y="104"/>
                </a:lnTo>
                <a:lnTo>
                  <a:pt x="59" y="111"/>
                </a:lnTo>
                <a:lnTo>
                  <a:pt x="39" y="115"/>
                </a:lnTo>
                <a:lnTo>
                  <a:pt x="19" y="115"/>
                </a:lnTo>
                <a:lnTo>
                  <a:pt x="2" y="114"/>
                </a:lnTo>
                <a:lnTo>
                  <a:pt x="0" y="126"/>
                </a:lnTo>
                <a:lnTo>
                  <a:pt x="19" y="128"/>
                </a:lnTo>
                <a:lnTo>
                  <a:pt x="39" y="128"/>
                </a:lnTo>
                <a:lnTo>
                  <a:pt x="62" y="124"/>
                </a:lnTo>
                <a:lnTo>
                  <a:pt x="86" y="114"/>
                </a:lnTo>
                <a:lnTo>
                  <a:pt x="113" y="99"/>
                </a:lnTo>
                <a:lnTo>
                  <a:pt x="138" y="77"/>
                </a:lnTo>
                <a:lnTo>
                  <a:pt x="166" y="47"/>
                </a:lnTo>
                <a:lnTo>
                  <a:pt x="194" y="7"/>
                </a:lnTo>
                <a:lnTo>
                  <a:pt x="194" y="7"/>
                </a:lnTo>
                <a:lnTo>
                  <a:pt x="18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7440" y="5369040"/>
            <a:ext cx="325440" cy="164880"/>
          </a:xfrm>
          <a:custGeom>
            <a:avLst/>
            <a:gdLst/>
            <a:ahLst/>
            <a:rect l="l" t="t" r="r" b="b"/>
            <a:pathLst>
              <a:path w="205" h="104">
                <a:moveTo>
                  <a:pt x="205" y="3"/>
                </a:moveTo>
                <a:lnTo>
                  <a:pt x="196" y="1"/>
                </a:lnTo>
                <a:lnTo>
                  <a:pt x="179" y="0"/>
                </a:lnTo>
                <a:lnTo>
                  <a:pt x="156" y="0"/>
                </a:lnTo>
                <a:lnTo>
                  <a:pt x="127" y="4"/>
                </a:lnTo>
                <a:lnTo>
                  <a:pt x="95" y="13"/>
                </a:lnTo>
                <a:lnTo>
                  <a:pt x="62" y="32"/>
                </a:lnTo>
                <a:lnTo>
                  <a:pt x="29" y="59"/>
                </a:lnTo>
                <a:lnTo>
                  <a:pt x="0" y="97"/>
                </a:lnTo>
                <a:lnTo>
                  <a:pt x="10" y="104"/>
                </a:lnTo>
                <a:lnTo>
                  <a:pt x="39" y="66"/>
                </a:lnTo>
                <a:lnTo>
                  <a:pt x="69" y="42"/>
                </a:lnTo>
                <a:lnTo>
                  <a:pt x="100" y="26"/>
                </a:lnTo>
                <a:lnTo>
                  <a:pt x="129" y="17"/>
                </a:lnTo>
                <a:lnTo>
                  <a:pt x="156" y="13"/>
                </a:lnTo>
                <a:lnTo>
                  <a:pt x="179" y="13"/>
                </a:lnTo>
                <a:lnTo>
                  <a:pt x="196" y="14"/>
                </a:lnTo>
                <a:lnTo>
                  <a:pt x="205" y="15"/>
                </a:lnTo>
                <a:lnTo>
                  <a:pt x="205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51480" y="3630600"/>
            <a:ext cx="636480" cy="636480"/>
          </a:xfrm>
          <a:custGeom>
            <a:avLst/>
            <a:gdLst/>
            <a:ahLst/>
            <a:rect l="l" t="t" r="r" b="b"/>
            <a:pathLst>
              <a:path w="401" h="401">
                <a:moveTo>
                  <a:pt x="201" y="401"/>
                </a:moveTo>
                <a:lnTo>
                  <a:pt x="242" y="397"/>
                </a:lnTo>
                <a:lnTo>
                  <a:pt x="278" y="386"/>
                </a:lnTo>
                <a:lnTo>
                  <a:pt x="313" y="367"/>
                </a:lnTo>
                <a:lnTo>
                  <a:pt x="343" y="343"/>
                </a:lnTo>
                <a:lnTo>
                  <a:pt x="367" y="312"/>
                </a:lnTo>
                <a:lnTo>
                  <a:pt x="386" y="278"/>
                </a:lnTo>
                <a:lnTo>
                  <a:pt x="398" y="241"/>
                </a:lnTo>
                <a:lnTo>
                  <a:pt x="401" y="201"/>
                </a:lnTo>
                <a:lnTo>
                  <a:pt x="398" y="160"/>
                </a:lnTo>
                <a:lnTo>
                  <a:pt x="386" y="123"/>
                </a:lnTo>
                <a:lnTo>
                  <a:pt x="367" y="89"/>
                </a:lnTo>
                <a:lnTo>
                  <a:pt x="343" y="59"/>
                </a:lnTo>
                <a:lnTo>
                  <a:pt x="313" y="35"/>
                </a:lnTo>
                <a:lnTo>
                  <a:pt x="278" y="16"/>
                </a:lnTo>
                <a:lnTo>
                  <a:pt x="242" y="4"/>
                </a:lnTo>
                <a:lnTo>
                  <a:pt x="201" y="0"/>
                </a:lnTo>
                <a:lnTo>
                  <a:pt x="160" y="4"/>
                </a:lnTo>
                <a:lnTo>
                  <a:pt x="123" y="16"/>
                </a:lnTo>
                <a:lnTo>
                  <a:pt x="89" y="35"/>
                </a:lnTo>
                <a:lnTo>
                  <a:pt x="59" y="59"/>
                </a:lnTo>
                <a:lnTo>
                  <a:pt x="35" y="89"/>
                </a:lnTo>
                <a:lnTo>
                  <a:pt x="16" y="123"/>
                </a:lnTo>
                <a:lnTo>
                  <a:pt x="4" y="160"/>
                </a:lnTo>
                <a:lnTo>
                  <a:pt x="0" y="201"/>
                </a:lnTo>
                <a:lnTo>
                  <a:pt x="4" y="241"/>
                </a:lnTo>
                <a:lnTo>
                  <a:pt x="16" y="278"/>
                </a:lnTo>
                <a:lnTo>
                  <a:pt x="35" y="312"/>
                </a:lnTo>
                <a:lnTo>
                  <a:pt x="59" y="343"/>
                </a:lnTo>
                <a:lnTo>
                  <a:pt x="89" y="367"/>
                </a:lnTo>
                <a:lnTo>
                  <a:pt x="123" y="386"/>
                </a:lnTo>
                <a:lnTo>
                  <a:pt x="160" y="397"/>
                </a:lnTo>
                <a:lnTo>
                  <a:pt x="201" y="40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583000" y="2735280"/>
            <a:ext cx="380880" cy="380880"/>
            <a:chOff x="2583000" y="2735280"/>
            <a:chExt cx="380880" cy="380880"/>
          </a:xfrm>
        </p:grpSpPr>
        <p:sp>
          <p:nvSpPr>
            <p:cNvPr id="153" name=""/>
            <p:cNvSpPr/>
            <p:nvPr/>
          </p:nvSpPr>
          <p:spPr>
            <a:xfrm>
              <a:off x="2583000" y="273528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78040" y="2830320"/>
              <a:ext cx="195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673360" y="2830320"/>
              <a:ext cx="1951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633760" y="5084640"/>
            <a:ext cx="380880" cy="380880"/>
            <a:chOff x="2633760" y="5084640"/>
            <a:chExt cx="380880" cy="380880"/>
          </a:xfrm>
        </p:grpSpPr>
        <p:sp>
          <p:nvSpPr>
            <p:cNvPr id="157" name=""/>
            <p:cNvSpPr/>
            <p:nvPr/>
          </p:nvSpPr>
          <p:spPr>
            <a:xfrm>
              <a:off x="2633760" y="508464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28800" y="5179680"/>
              <a:ext cx="195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724120" y="5179680"/>
              <a:ext cx="1951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95600" y="3801960"/>
            <a:ext cx="380880" cy="380880"/>
            <a:chOff x="2595600" y="3801960"/>
            <a:chExt cx="380880" cy="380880"/>
          </a:xfrm>
        </p:grpSpPr>
        <p:sp>
          <p:nvSpPr>
            <p:cNvPr id="161" name=""/>
            <p:cNvSpPr/>
            <p:nvPr/>
          </p:nvSpPr>
          <p:spPr>
            <a:xfrm>
              <a:off x="2595600" y="380196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90640" y="3897000"/>
              <a:ext cx="195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685960" y="3897000"/>
              <a:ext cx="1951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989440" y="39639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11320" y="39895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5280" y="396396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00920" y="3951360"/>
            <a:ext cx="801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3440" y="3303720"/>
            <a:ext cx="0" cy="44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9480" y="527220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6120" y="2935440"/>
            <a:ext cx="57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4200" y="461160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3440" y="227484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6480" y="2935440"/>
            <a:ext cx="81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14640" y="5272200"/>
            <a:ext cx="81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1960" y="4255560"/>
            <a:ext cx="507960" cy="101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76760" y="2935440"/>
            <a:ext cx="50796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97600" y="4410000"/>
            <a:ext cx="371520" cy="79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97320" y="4438800"/>
            <a:ext cx="371520" cy="79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81800" y="132408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04920" y="2962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88880" y="201132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2200" y="312732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8104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6536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68040" y="3127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7200" y="31273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1932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03280" y="3127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6880" y="3127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8120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63720" y="3127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47680" y="312732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76800" y="3441600"/>
            <a:ext cx="100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90840" y="2662200"/>
            <a:ext cx="2897280" cy="155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3040" y="3449520"/>
            <a:ext cx="63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76840" y="1941480"/>
            <a:ext cx="1440" cy="684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16200" y="4373640"/>
            <a:ext cx="452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es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),  x = [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09920" y="467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61360" y="5130720"/>
            <a:ext cx="7387920" cy="1250280"/>
            <a:chOff x="1161360" y="5130720"/>
            <a:chExt cx="7387920" cy="1250280"/>
          </a:xfrm>
        </p:grpSpPr>
        <p:sp>
          <p:nvSpPr>
            <p:cNvPr id="203" name=""/>
            <p:cNvSpPr/>
            <p:nvPr/>
          </p:nvSpPr>
          <p:spPr>
            <a:xfrm>
              <a:off x="1161360" y="5130720"/>
              <a:ext cx="7387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Propriedade de Aproximação Universa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: Dada uma função g(x) sobre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mínio X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R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e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&gt; 0, é possível construir 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Peso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x) de modo que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38320" y="5940360"/>
              <a:ext cx="3558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| g (x) - f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Peso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x) | &lt;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,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x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328480" y="2700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4000" y="2840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12280" y="30481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5440" y="3170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9440" y="3736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4400" y="38606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9840" y="2874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6840" y="396540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06840" y="327492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176480"/>
            <a:ext cx="8061120" cy="5681160"/>
            <a:chOff x="0" y="1176480"/>
            <a:chExt cx="8061120" cy="5681160"/>
          </a:xfrm>
        </p:grpSpPr>
        <p:pic>
          <p:nvPicPr>
            <p:cNvPr id="216" name="ecg" descr=""/>
            <p:cNvPicPr/>
            <p:nvPr/>
          </p:nvPicPr>
          <p:blipFill>
            <a:blip r:embed="rId1"/>
            <a:stretch/>
          </p:blipFill>
          <p:spPr>
            <a:xfrm>
              <a:off x="103320" y="1302480"/>
              <a:ext cx="7861680" cy="54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1176480"/>
              <a:ext cx="1247400" cy="56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1280" y="6322320"/>
              <a:ext cx="7269840" cy="49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8920" y="1198440"/>
              <a:ext cx="7072200" cy="92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013-ECG-case-08" descr=""/>
          <p:cNvPicPr/>
          <p:nvPr/>
        </p:nvPicPr>
        <p:blipFill>
          <a:blip r:embed="rId2"/>
          <a:stretch/>
        </p:blipFill>
        <p:spPr>
          <a:xfrm>
            <a:off x="1380960" y="1792440"/>
            <a:ext cx="66265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2-08T22:02:48Z</dcterms:modified>
  <cp:revision>11</cp:revision>
  <dc:subject/>
  <dc:title>No Slide Title</dc:title>
</cp:coreProperties>
</file>