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AF50-706E-4537-87F4-689A34BD6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4FBE-A7A5-4D77-AC36-84C8D51D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054A-E230-454D-B64B-B2104D2A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C298-B7CF-4E3E-944C-E6BB6D412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A40E-95A9-4193-8BF9-5A68D127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9F2E-C5DB-4C0A-AC4E-D4A1FDDF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F74B-F2DB-45E9-BBA1-EBC00DC6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D9CC-14F7-4207-8991-E915FC9D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3656-48BD-4586-B0EF-62B72F34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3143-3CB1-4A59-AF48-835E54F5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0240-C702-406E-BC6F-B69C268F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5A5E-9531-4DEB-8F17-8702CA6C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052B-557F-4076-97AF-787BD8158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8160" y="53892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61400" y="552600"/>
            <a:ext cx="137412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Aula 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Introd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463760" y="2095560"/>
                <a:ext cx="6369120" cy="29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+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+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den>
                            </m:f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523880" y="5557680"/>
                <a:ext cx="499752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x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14360" y="985680"/>
            <a:ext cx="47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xemplo: Carteira com 2 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062840" y="4270320"/>
            <a:ext cx="739800" cy="620640"/>
          </a:xfrm>
          <a:custGeom>
            <a:avLst/>
            <a:gdLst/>
            <a:ahLst/>
            <a:rect l="l" t="t" r="r" b="b"/>
            <a:pathLst>
              <a:path w="466" h="391">
                <a:moveTo>
                  <a:pt x="466" y="0"/>
                </a:moveTo>
                <a:cubicBezTo>
                  <a:pt x="183" y="82"/>
                  <a:pt x="36" y="193"/>
                  <a:pt x="21" y="241"/>
                </a:cubicBezTo>
                <a:cubicBezTo>
                  <a:pt x="6" y="289"/>
                  <a:pt x="0" y="358"/>
                  <a:pt x="93" y="391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805200" y="4284720"/>
            <a:ext cx="1255680" cy="3747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5200" y="4659480"/>
            <a:ext cx="649440" cy="2458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496880" y="4241880"/>
            <a:ext cx="606600" cy="620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857160" y="38098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3960" y="556272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557280" y="4081320"/>
                <a:ext cx="25380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57280" y="4700520"/>
                <a:ext cx="2347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930320" y="5607000"/>
                <a:ext cx="3430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311120" y="5597640"/>
                <a:ext cx="3225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857160" y="4248000"/>
            <a:ext cx="123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04920" y="4248000"/>
            <a:ext cx="0" cy="131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57160" y="48672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04800" y="4867200"/>
            <a:ext cx="0" cy="704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38320" y="4191120"/>
            <a:ext cx="114480" cy="114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38200" y="4809960"/>
            <a:ext cx="114480" cy="11448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68640" y="3994200"/>
            <a:ext cx="86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 (x=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44520" y="4925880"/>
            <a:ext cx="86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 (x=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19240" y="1467000"/>
            <a:ext cx="4896000" cy="1238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654360" y="1946160"/>
                <a:ext cx="18669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247840" y="2320920"/>
                <a:ext cx="44690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x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3243960" y="152244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rteira = (1-x) A+x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352520" y="3282840"/>
                <a:ext cx="7747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205160" y="3263760"/>
                <a:ext cx="9367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913440" y="3244680"/>
                <a:ext cx="81756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 flipV="1">
            <a:off x="3808440" y="38322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75240" y="558468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508200" y="4103640"/>
                <a:ext cx="2541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508200" y="4722840"/>
                <a:ext cx="23508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808440" y="4270320"/>
            <a:ext cx="123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56200" y="4270320"/>
            <a:ext cx="0" cy="131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440" y="48895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56080" y="4889520"/>
            <a:ext cx="0" cy="704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89600" y="4213080"/>
            <a:ext cx="114120" cy="114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89480" y="4832280"/>
            <a:ext cx="114120" cy="11448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18120" y="40165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37120" y="4902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580080" y="38322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46880" y="558468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280200" y="4103640"/>
                <a:ext cx="25380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280200" y="4722840"/>
                <a:ext cx="23508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6580080" y="4270320"/>
            <a:ext cx="123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27840" y="4270320"/>
            <a:ext cx="0" cy="131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80080" y="48895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27720" y="4889520"/>
            <a:ext cx="0" cy="704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61240" y="4213080"/>
            <a:ext cx="114480" cy="114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61120" y="4832280"/>
            <a:ext cx="114480" cy="11448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89760" y="40165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08760" y="4902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676600" y="5315040"/>
                <a:ext cx="22212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14520" y="3684600"/>
                <a:ext cx="15552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626080" y="5294160"/>
                <a:ext cx="22392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565440" y="3664080"/>
                <a:ext cx="15552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367840" y="5280120"/>
                <a:ext cx="22356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6307200" y="3649680"/>
                <a:ext cx="15552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924440" y="5629320"/>
                <a:ext cx="3427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305240" y="5619600"/>
                <a:ext cx="3222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7696080" y="5614920"/>
                <a:ext cx="3430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077240" y="5605560"/>
                <a:ext cx="3222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mlabpotop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67880" y="1127160"/>
            <a:ext cx="40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Passos do Problem S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00400" y="1903320"/>
            <a:ext cx="4362480" cy="368280"/>
          </a:xfrm>
          <a:prstGeom prst="rect">
            <a:avLst/>
          </a:prstGeom>
          <a:solidFill>
            <a:srgbClr val="ffff66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Identificar e definir o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720800" y="2295360"/>
            <a:ext cx="5531040" cy="641520"/>
            <a:chOff x="1720800" y="2295360"/>
            <a:chExt cx="5531040" cy="641520"/>
          </a:xfrm>
        </p:grpSpPr>
        <p:sp>
          <p:nvSpPr>
            <p:cNvPr id="202" name=""/>
            <p:cNvSpPr/>
            <p:nvPr/>
          </p:nvSpPr>
          <p:spPr>
            <a:xfrm>
              <a:off x="1720800" y="2568600"/>
              <a:ext cx="5531040" cy="368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ff"/>
                  </a:solidFill>
                  <a:latin typeface="Arial Black"/>
                </a:rPr>
                <a:t>Determinar o conjunto de ações possíve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59320" y="2295360"/>
              <a:ext cx="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011320" y="2940120"/>
            <a:ext cx="4983120" cy="646200"/>
            <a:chOff x="2011320" y="2940120"/>
            <a:chExt cx="4983120" cy="646200"/>
          </a:xfrm>
        </p:grpSpPr>
        <p:sp>
          <p:nvSpPr>
            <p:cNvPr id="205" name=""/>
            <p:cNvSpPr/>
            <p:nvPr/>
          </p:nvSpPr>
          <p:spPr>
            <a:xfrm>
              <a:off x="2011320" y="3218040"/>
              <a:ext cx="4983120" cy="368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ff"/>
                  </a:solidFill>
                  <a:latin typeface="Arial Black"/>
                </a:rPr>
                <a:t>Propor critérios para avaliar as açõ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87760" y="2940120"/>
              <a:ext cx="0" cy="27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160800" y="3589200"/>
            <a:ext cx="2673360" cy="636840"/>
            <a:chOff x="3160800" y="3589200"/>
            <a:chExt cx="2673360" cy="636840"/>
          </a:xfrm>
        </p:grpSpPr>
        <p:sp>
          <p:nvSpPr>
            <p:cNvPr id="208" name=""/>
            <p:cNvSpPr/>
            <p:nvPr/>
          </p:nvSpPr>
          <p:spPr>
            <a:xfrm>
              <a:off x="3160800" y="3857760"/>
              <a:ext cx="2673360" cy="368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ff"/>
                  </a:solidFill>
                  <a:latin typeface="Arial Black"/>
                </a:rPr>
                <a:t>Escolher uma 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497480" y="3589200"/>
              <a:ext cx="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400480" y="4233960"/>
            <a:ext cx="4146480" cy="608040"/>
            <a:chOff x="2400480" y="4233960"/>
            <a:chExt cx="4146480" cy="608040"/>
          </a:xfrm>
        </p:grpSpPr>
        <p:sp>
          <p:nvSpPr>
            <p:cNvPr id="211" name=""/>
            <p:cNvSpPr/>
            <p:nvPr/>
          </p:nvSpPr>
          <p:spPr>
            <a:xfrm>
              <a:off x="2400480" y="4473720"/>
              <a:ext cx="4146480" cy="368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ff"/>
                  </a:solidFill>
                  <a:latin typeface="Arial Black"/>
                </a:rPr>
                <a:t>Implementar a ação escolh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02160" y="4233960"/>
              <a:ext cx="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435400" y="4854600"/>
            <a:ext cx="4128840" cy="1500120"/>
            <a:chOff x="2435400" y="4854600"/>
            <a:chExt cx="4128840" cy="1500120"/>
          </a:xfrm>
        </p:grpSpPr>
        <p:sp>
          <p:nvSpPr>
            <p:cNvPr id="214" name=""/>
            <p:cNvSpPr/>
            <p:nvPr/>
          </p:nvSpPr>
          <p:spPr>
            <a:xfrm>
              <a:off x="2435400" y="5140440"/>
              <a:ext cx="4128840" cy="1214280"/>
            </a:xfrm>
            <a:prstGeom prst="diamond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ff"/>
                  </a:solidFill>
                  <a:latin typeface="Arial Black"/>
                </a:rPr>
                <a:t>Avaliar os result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97480" y="4854600"/>
              <a:ext cx="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454440" y="5554800"/>
            <a:ext cx="2276640" cy="617760"/>
            <a:chOff x="6454440" y="5554800"/>
            <a:chExt cx="2276640" cy="617760"/>
          </a:xfrm>
        </p:grpSpPr>
        <p:sp>
          <p:nvSpPr>
            <p:cNvPr id="217" name=""/>
            <p:cNvSpPr/>
            <p:nvPr/>
          </p:nvSpPr>
          <p:spPr>
            <a:xfrm>
              <a:off x="6454440" y="583524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 Black"/>
                </a:rPr>
                <a:t>Satisfatór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54760" y="5554800"/>
              <a:ext cx="976320" cy="3682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ff"/>
                  </a:solidFill>
                  <a:latin typeface="Arial Black"/>
                </a:rPr>
                <a:t>FI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66040" y="5749920"/>
              <a:ext cx="11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874800" y="4040280"/>
            <a:ext cx="2286000" cy="2109960"/>
            <a:chOff x="874800" y="4040280"/>
            <a:chExt cx="2286000" cy="2109960"/>
          </a:xfrm>
        </p:grpSpPr>
        <p:sp>
          <p:nvSpPr>
            <p:cNvPr id="221" name=""/>
            <p:cNvSpPr/>
            <p:nvPr/>
          </p:nvSpPr>
          <p:spPr>
            <a:xfrm>
              <a:off x="874800" y="5812920"/>
              <a:ext cx="170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Não Satisfatór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999720" y="5741640"/>
              <a:ext cx="14382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995400" y="4041360"/>
              <a:ext cx="0" cy="170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95400" y="4040280"/>
              <a:ext cx="2165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67880" y="1127160"/>
            <a:ext cx="40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Passos do Problem S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00400" y="1903320"/>
            <a:ext cx="4362480" cy="368280"/>
          </a:xfrm>
          <a:prstGeom prst="rect">
            <a:avLst/>
          </a:prstGeom>
          <a:solidFill>
            <a:srgbClr val="ffff66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Identificar e definir o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60800" y="3857760"/>
            <a:ext cx="267336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Escolher uma 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20800" y="2568600"/>
            <a:ext cx="553104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Determinar o conjunto de ações possíve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11320" y="3218040"/>
            <a:ext cx="49831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por critérios para avaliar as 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00480" y="4473720"/>
            <a:ext cx="414648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Implementar a ação escolh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35400" y="5140440"/>
            <a:ext cx="4128840" cy="1214280"/>
          </a:xfrm>
          <a:prstGeom prst="diamond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Avaliar os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59320" y="2295360"/>
            <a:ext cx="0" cy="27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87760" y="2940120"/>
            <a:ext cx="0" cy="27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97480" y="3589200"/>
            <a:ext cx="0" cy="25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02160" y="4233960"/>
            <a:ext cx="0" cy="23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97480" y="4854600"/>
            <a:ext cx="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54440" y="5835240"/>
            <a:ext cx="126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Satisfató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74800" y="5812920"/>
            <a:ext cx="170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Não Satisfató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54760" y="5554800"/>
            <a:ext cx="976320" cy="3682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F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566040" y="5749920"/>
            <a:ext cx="1180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999720" y="5741640"/>
            <a:ext cx="14382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995400" y="4041360"/>
            <a:ext cx="0" cy="17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95400" y="4040280"/>
            <a:ext cx="2165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681960" y="1674720"/>
            <a:ext cx="1812600" cy="795600"/>
          </a:xfrm>
          <a:prstGeom prst="leftArrow">
            <a:avLst>
              <a:gd name="adj1" fmla="val 68065"/>
              <a:gd name="adj2" fmla="val 47876"/>
            </a:avLst>
          </a:prstGeom>
          <a:solidFill>
            <a:srgbClr val="ffcc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Incertez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07400" y="3011400"/>
            <a:ext cx="1958760" cy="750960"/>
          </a:xfrm>
          <a:prstGeom prst="leftArrow">
            <a:avLst>
              <a:gd name="adj1" fmla="val 68065"/>
              <a:gd name="adj2" fmla="val 54811"/>
            </a:avLst>
          </a:prstGeom>
          <a:solidFill>
            <a:srgbClr val="ffcc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Subjetiv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03120" y="1689120"/>
            <a:ext cx="8570880" cy="2625840"/>
          </a:xfrm>
          <a:prstGeom prst="rect">
            <a:avLst/>
          </a:pr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67880" y="1127160"/>
            <a:ext cx="40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Passos do Problem S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00400" y="1903320"/>
            <a:ext cx="43624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Identificar e definir o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60800" y="3857760"/>
            <a:ext cx="2673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Escolher uma 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20800" y="2568600"/>
            <a:ext cx="553104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Determinar o conjunto de ações possíve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11320" y="3218040"/>
            <a:ext cx="49831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por critérios para avaliar as 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400480" y="4473720"/>
            <a:ext cx="4146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 Black"/>
              </a:rPr>
              <a:t>Implementar a ação escolh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35400" y="5140440"/>
            <a:ext cx="4128840" cy="1214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 Black"/>
              </a:rPr>
              <a:t>Avaliar os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59320" y="2295360"/>
            <a:ext cx="0" cy="27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87760" y="2940120"/>
            <a:ext cx="0" cy="27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97480" y="3589200"/>
            <a:ext cx="0" cy="25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02160" y="4233960"/>
            <a:ext cx="0" cy="23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97480" y="4854600"/>
            <a:ext cx="0" cy="2937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54440" y="5835240"/>
            <a:ext cx="1265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Satisfató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74800" y="5812920"/>
            <a:ext cx="1709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Não Satisfató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54760" y="5554800"/>
            <a:ext cx="976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 Black"/>
              </a:rPr>
              <a:t>F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566040" y="5749920"/>
            <a:ext cx="11808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999720" y="5741640"/>
            <a:ext cx="143820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995400" y="4041360"/>
            <a:ext cx="0" cy="1701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95400" y="4040280"/>
            <a:ext cx="2165400" cy="14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71120" y="39297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Black"/>
              </a:rPr>
              <a:t>Tomada de Decis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89880" y="1127160"/>
            <a:ext cx="29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Tomada de Deci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00400" y="1903320"/>
            <a:ext cx="43624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Identificar e definir o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60800" y="3857760"/>
            <a:ext cx="2673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Escolher uma 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20800" y="2568600"/>
            <a:ext cx="553104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Determinar o conjunto de ações possíve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11320" y="3218040"/>
            <a:ext cx="49831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por critérios para avaliar as 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85600" y="19090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Modelo Matem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361560" y="25664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Variáveis de Deci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09360" y="32662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Funçã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275160" y="38887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Program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Mate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89880" y="1127160"/>
            <a:ext cx="29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Tomada de Deci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5640" y="1903320"/>
            <a:ext cx="43624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Identificar e definir o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16040" y="3857760"/>
            <a:ext cx="2673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Escolher uma 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6040" y="2568600"/>
            <a:ext cx="553104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Determinar o conjunto de ações possíve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6560" y="3218040"/>
            <a:ext cx="49834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por critérios para avaliar as 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45240" y="2092320"/>
            <a:ext cx="33156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51360" y="2735280"/>
            <a:ext cx="33192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59280" y="3422520"/>
            <a:ext cx="33192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26160" y="4108320"/>
            <a:ext cx="33192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73960" y="112716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1520" y="1736640"/>
            <a:ext cx="564192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Problem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Situação Atual: R$ 90.000,00 no Caix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Situação Desejada: R$ 90.000,00 bem apli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ções da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TeleMundo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custam R$ 50,00 e o ret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sperado é de R$ 6,00/a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ções da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CosmoFone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custam R$ 30,00 e o ret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sperado é de R$ 4,00/a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 Diretoria não quer que se aplique mai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$ 60.000,00 em ações de uma só companh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3200" y="5613840"/>
            <a:ext cx="3370320" cy="30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24" y="7624"/>
                </a:moveTo>
                <a:lnTo>
                  <a:pt x="30788" y="7624"/>
                </a:lnTo>
                <a:lnTo>
                  <a:pt x="30788" y="-127376"/>
                </a:lnTo>
                <a:lnTo>
                  <a:pt x="30258" y="-167843"/>
                </a:lnTo>
              </a:path>
            </a:pathLst>
          </a:cu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Número de Ações da TeleMundo = 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9400" y="5116680"/>
            <a:ext cx="3362760" cy="30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21" y="7624"/>
                </a:moveTo>
                <a:lnTo>
                  <a:pt x="29063" y="7624"/>
                </a:lnTo>
                <a:lnTo>
                  <a:pt x="29063" y="-72741"/>
                </a:lnTo>
                <a:lnTo>
                  <a:pt x="30301" y="-94494"/>
                </a:lnTo>
              </a:path>
            </a:pathLst>
          </a:cu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Número de Ações da CosmoFone = 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85600" y="19090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Modelo Matem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61560" y="25664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Variáveis de Deci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309360" y="32662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Funçã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5160" y="38887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Program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Mate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3640" y="5596200"/>
            <a:ext cx="4364280" cy="30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922" y="7855"/>
                </a:moveTo>
                <a:lnTo>
                  <a:pt x="24482" y="7855"/>
                </a:lnTo>
                <a:lnTo>
                  <a:pt x="24482" y="-124364"/>
                </a:lnTo>
                <a:lnTo>
                  <a:pt x="23499" y="-176948"/>
                </a:lnTo>
              </a:path>
            </a:pathLst>
          </a:cu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Custo de TM Ações da TeleMundo = R$ 50,00 x 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2960" y="5069160"/>
            <a:ext cx="4301640" cy="30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922" y="7855"/>
                </a:moveTo>
                <a:lnTo>
                  <a:pt x="23279" y="7855"/>
                </a:lnTo>
                <a:lnTo>
                  <a:pt x="23279" y="-70255"/>
                </a:lnTo>
                <a:lnTo>
                  <a:pt x="24131" y="-91231"/>
                </a:lnTo>
              </a:path>
            </a:pathLst>
          </a:cu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Custo de CF Ações da CosmoFone = R$ 30,00 x 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73960" y="112716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85600" y="19090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Modelo Matem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61560" y="25664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Variáveis de Deci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309360" y="32662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Funçã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75160" y="38887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Program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Mate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71520" y="1736640"/>
            <a:ext cx="564192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Problem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Situação Atual: R$ 90.000,00 no Caix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Situação Desejada: R$ 90.000,00 bem apli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ções da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TeleMundo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custam R$ 50,00 e o ret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sperado é de R$ 6,00/a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ções da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CosmoFone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custam R$ 30,00 e o ret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sperado é de R$ 4,00/a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 Diretoria não quer que se aplique mai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$ 60.000,00 em ações de uma só companh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88440" y="2922480"/>
            <a:ext cx="495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 Black"/>
              </a:rPr>
              <a:t>Métodos de Otimiz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03440" y="4299120"/>
            <a:ext cx="2346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Black"/>
              </a:rPr>
              <a:t>Equip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Black"/>
              </a:rPr>
              <a:t>Carlos Mu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Black"/>
              </a:rPr>
              <a:t>Carmen Belder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Black"/>
              </a:rPr>
              <a:t>Takashi Yoney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32960" y="4911840"/>
            <a:ext cx="2643840" cy="520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38" y="4684"/>
                </a:moveTo>
                <a:lnTo>
                  <a:pt x="33717" y="4684"/>
                </a:lnTo>
                <a:lnTo>
                  <a:pt x="33717" y="-11906"/>
                </a:lnTo>
                <a:lnTo>
                  <a:pt x="34445" y="-18687"/>
                </a:lnTo>
              </a:path>
            </a:pathLst>
          </a:cu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R$ 30,00 x CF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cc00ff"/>
                </a:solidFill>
                <a:latin typeface="Arial Black"/>
              </a:rPr>
              <a:t>R$ 6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R$ 50,00 x TM </a:t>
            </a: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cc00ff"/>
                </a:solidFill>
                <a:latin typeface="Arial Black"/>
              </a:rPr>
              <a:t>R$ 6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73960" y="112716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0" y="19090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Modelo Matem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61560" y="25664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Variáveis de Deci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09360" y="32662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Funçã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75160" y="38887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Program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Mate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1520" y="1736640"/>
            <a:ext cx="564192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Problem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Situação Atual: R$ 90.000,00 no Caix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Situação Desejada: R$ 90.000,00 bem apli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ções da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TeleMundo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custam R$ 50,00 e o ret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sperado é de R$ 6,00/a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ções da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CosmoFone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custam R$ 30,00 e o ret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sperado é de R$ 4,00/a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 Diretoria não quer que se aplique mai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ff"/>
                </a:solidFill>
                <a:latin typeface="Arial Black"/>
              </a:rPr>
              <a:t>R$ 60.000,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em ações de uma só companh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69760" y="5545440"/>
            <a:ext cx="3943800" cy="30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954" y="7624"/>
                </a:moveTo>
                <a:lnTo>
                  <a:pt x="24566" y="7624"/>
                </a:lnTo>
                <a:lnTo>
                  <a:pt x="24566" y="-181800"/>
                </a:lnTo>
                <a:lnTo>
                  <a:pt x="21022" y="-224852"/>
                </a:lnTo>
              </a:path>
            </a:pathLst>
          </a:cu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R$ 30,00 x CF +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R$ 50,00 x TM </a:t>
            </a: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996633"/>
                </a:solidFill>
                <a:latin typeface="Arial Black"/>
              </a:rPr>
              <a:t>R$ 9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73960" y="112716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85600" y="19090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Modelo Matem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361560" y="25664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Variáveis de Deci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309360" y="32662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Funçã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75160" y="38887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Program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Mate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32960" y="4911840"/>
            <a:ext cx="2643840" cy="520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38" y="4684"/>
                </a:moveTo>
                <a:lnTo>
                  <a:pt x="33717" y="4684"/>
                </a:lnTo>
                <a:lnTo>
                  <a:pt x="33717" y="-11906"/>
                </a:lnTo>
                <a:lnTo>
                  <a:pt x="34445" y="-18687"/>
                </a:lnTo>
              </a:path>
            </a:pathLst>
          </a:cu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R$ 30,00 x CF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cc00ff"/>
                </a:solidFill>
                <a:latin typeface="Arial Black"/>
              </a:rPr>
              <a:t>R$ 6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R$ 50,00 x TM </a:t>
            </a: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cc00ff"/>
                </a:solidFill>
                <a:latin typeface="Arial Black"/>
              </a:rPr>
              <a:t>R$ 6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1520" y="1736640"/>
            <a:ext cx="564192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Problem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Situação Atual: R$ 90.000,00 no Caix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Situação Desejada: R$ 90.000,00 bem apli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ções da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TeleMundo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custam R$ 50,00 e o ret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sperado é de R$ 6,00/a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ções da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CosmoFone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custam R$ 30,00 e o ret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sperado é de R$ 4,00/a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 Diretoria não quer que se aplique mai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ff"/>
                </a:solidFill>
                <a:latin typeface="Arial Black"/>
              </a:rPr>
              <a:t>R$ 60.000,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em ações de uma só companh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89480" y="5999400"/>
            <a:ext cx="2840040" cy="30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86" y="7855"/>
                </a:moveTo>
                <a:lnTo>
                  <a:pt x="35065" y="7855"/>
                </a:lnTo>
                <a:lnTo>
                  <a:pt x="35065" y="-200509"/>
                </a:lnTo>
                <a:lnTo>
                  <a:pt x="34763" y="-231656"/>
                </a:lnTo>
              </a:path>
            </a:pathLst>
          </a:custGeom>
          <a:solidFill>
            <a:srgbClr val="ffffff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 Black"/>
              </a:rPr>
              <a:t>Max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R$ 4,00 x CF +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R$ 6,00 x 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73960" y="112716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285600" y="19090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Modelo Matem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361560" y="25664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Variáveis de Deci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309360" y="32662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Funçã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75160" y="38887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Program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Mate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32960" y="4911840"/>
            <a:ext cx="2643840" cy="520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38" y="4684"/>
                </a:moveTo>
                <a:lnTo>
                  <a:pt x="33717" y="4684"/>
                </a:lnTo>
                <a:lnTo>
                  <a:pt x="33717" y="-11906"/>
                </a:lnTo>
                <a:lnTo>
                  <a:pt x="34445" y="-18687"/>
                </a:lnTo>
              </a:path>
            </a:pathLst>
          </a:cu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R$ 30,00 x CF </a:t>
            </a:r>
            <a:r>
              <a:rPr b="0" lang="en-US" sz="1400" spc="-1" strike="noStrike">
                <a:solidFill>
                  <a:srgbClr val="80808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R$ 6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R$ 50,00 x TM </a:t>
            </a:r>
            <a:r>
              <a:rPr b="0" lang="en-US" sz="1400" spc="-1" strike="noStrike">
                <a:solidFill>
                  <a:srgbClr val="80808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R$ 6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1520" y="1736640"/>
            <a:ext cx="564192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Problem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Situação Atual: R$ 90.000,00 no Caix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Situação Desejada: R$ 90.000,00 </a:t>
            </a:r>
            <a:r>
              <a:rPr b="0" lang="en-US" sz="1400" spc="-1" strike="noStrike">
                <a:solidFill>
                  <a:srgbClr val="ff9933"/>
                </a:solidFill>
                <a:latin typeface="Arial Black"/>
              </a:rPr>
              <a:t>bem apli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Ações da TeleMundo custam R$ 50,00 e o ret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esperado é de R$ 6,00/a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Ações da CosmoFone custam R$ 30,00 e o ret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esperado é de R$ 4,00/a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A Diretoria não quer que se aplique mai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R$ 60.000,00 em ações de uma só companh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69760" y="5545440"/>
            <a:ext cx="3943800" cy="30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954" y="7624"/>
                </a:moveTo>
                <a:lnTo>
                  <a:pt x="24566" y="7624"/>
                </a:lnTo>
                <a:lnTo>
                  <a:pt x="24566" y="-181800"/>
                </a:lnTo>
                <a:lnTo>
                  <a:pt x="21022" y="-224852"/>
                </a:lnTo>
              </a:path>
            </a:pathLst>
          </a:cu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R$ 30,00 x CF + R$ 50,00 x TM </a:t>
            </a:r>
            <a:r>
              <a:rPr b="0" lang="en-US" sz="1400" spc="-1" strike="noStrike">
                <a:solidFill>
                  <a:srgbClr val="80808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R$ 9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73960" y="112716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285600" y="19090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Modelo Matem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361560" y="25664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Variáveis de Deci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309360" y="32662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Funçã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275160" y="38887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Program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Mate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9480" y="5999400"/>
            <a:ext cx="2840040" cy="30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86" y="7855"/>
                </a:moveTo>
                <a:lnTo>
                  <a:pt x="35065" y="7855"/>
                </a:lnTo>
                <a:lnTo>
                  <a:pt x="35065" y="-200509"/>
                </a:lnTo>
                <a:lnTo>
                  <a:pt x="34763" y="-231656"/>
                </a:lnTo>
              </a:path>
            </a:pathLst>
          </a:cu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Max R$ 4,00 x CF + R$ 6,00 x 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2960" y="4911840"/>
            <a:ext cx="2643840" cy="520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38" y="4684"/>
                </a:moveTo>
                <a:lnTo>
                  <a:pt x="33717" y="4684"/>
                </a:lnTo>
                <a:lnTo>
                  <a:pt x="33717" y="-11906"/>
                </a:lnTo>
                <a:lnTo>
                  <a:pt x="34445" y="-18687"/>
                </a:lnTo>
              </a:path>
            </a:pathLst>
          </a:cu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$ 30,00 x CF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R$ 6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$ 50,00 x TM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R$ 6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71520" y="1736640"/>
            <a:ext cx="564192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Problem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Situação Atual: R$ 90.000,00 no Caix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Situação Desejada: R$ 90.000,00 bem apli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Ações da TeleMundo custam R$ 50,00 e o ret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esperado é de R$ 6,00/a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Ações da CosmoFone custam R$ 30,00 e o ret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esperado é de R$ 4,00/a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A Diretoria não quer que se aplique mai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R$ 60.000,00 em ações de uma só companh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69760" y="5545440"/>
            <a:ext cx="3943800" cy="30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954" y="7624"/>
                </a:moveTo>
                <a:lnTo>
                  <a:pt x="24566" y="7624"/>
                </a:lnTo>
                <a:lnTo>
                  <a:pt x="24566" y="-181800"/>
                </a:lnTo>
                <a:lnTo>
                  <a:pt x="21022" y="-224852"/>
                </a:lnTo>
              </a:path>
            </a:pathLst>
          </a:cu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$ 30,00 x CF + R$ 50,00 x TM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R$ 9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120" y="1981080"/>
            <a:ext cx="5035680" cy="20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Max R$ 4,00 x CF + R$ 6,00 x 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$ 30,00 x CF + R$ 50,00 x TM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R$ 9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$ 30,00 x CF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R$ 6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$ 50,00 x TM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R$ 6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73960" y="112716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285600" y="19090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Modelo Matem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361560" y="25664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Variáveis de Deci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309360" y="32662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Funçã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275160" y="38887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Program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Mate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563400" y="1963800"/>
            <a:ext cx="3405240" cy="34596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3120" y="1981080"/>
            <a:ext cx="5035680" cy="20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Max R$ 4,00 x CF + R$ 6,00 x 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$ 30,00 x CF + R$ 50,00 x TM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R$ 9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$ 30,00 x CF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R$ 6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$ 50,00 x TM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R$ 6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4054320" y="2165400"/>
            <a:ext cx="2136960" cy="1139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73960" y="112716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85600" y="19090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Modelo Matem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361560" y="25664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Variáveis de Deci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309360" y="32662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Funçã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75160" y="38887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Program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Mate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486240" y="1941480"/>
            <a:ext cx="388800" cy="374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35080" y="1947960"/>
            <a:ext cx="389160" cy="37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3120" y="1981080"/>
            <a:ext cx="5035680" cy="20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Max R$ 4,00 x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+ R$ 6,00 x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s.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R$ 30,00 x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+ R$ 50,00 x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80808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R$ 9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R$ 30,00 x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80808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R$ 6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R$ 50,00 x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80808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R$ 6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3940200" y="2238480"/>
            <a:ext cx="2076480" cy="503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2393640" y="2323800"/>
            <a:ext cx="3576600" cy="423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73960" y="112716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285600" y="19090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Modelo Matem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361560" y="25664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Variáveis de Deci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309360" y="32662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Funçã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275160" y="38887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Program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Mate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504720" y="2843280"/>
            <a:ext cx="4791240" cy="966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698920" y="4761720"/>
            <a:ext cx="27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Vínculos ou Restri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3736800" y="3854160"/>
            <a:ext cx="260640" cy="87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73960" y="112716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285600" y="19090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 Black"/>
              </a:rPr>
              <a:t>Modelo Matem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361560" y="25664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 Black"/>
              </a:rPr>
              <a:t>Variáveis de Deci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309360" y="32662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 Black"/>
              </a:rPr>
              <a:t>Funçã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275160" y="38887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 Black"/>
              </a:rPr>
              <a:t>Program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 Black"/>
              </a:rPr>
              <a:t>Mate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73120" y="1981080"/>
            <a:ext cx="5035680" cy="20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Max R$ 4,00 x CF + R$ 6,00 x 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$ 30,00 x CF + R$ 50,00 x TM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R$ 9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$ 30,00 x CF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R$ 6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$ 50,00 x TM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R$ 6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691640" y="1127160"/>
            <a:ext cx="57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Problema de Programação Mate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(Programação Lin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49240" y="2298600"/>
            <a:ext cx="2870280" cy="29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c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... + c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n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... + a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n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n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= b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2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... + a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2n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n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= b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m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... + a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mn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n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= b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691640" y="1127160"/>
            <a:ext cx="57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Problema de Programação Mate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(Programação Lin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691160" y="2298600"/>
            <a:ext cx="392436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4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6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30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50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9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30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50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49240" y="2298600"/>
            <a:ext cx="2870280" cy="29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c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... +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c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 Black"/>
              </a:rPr>
              <a:t>n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1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... +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1n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n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=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b</a:t>
            </a:r>
            <a:r>
              <a:rPr b="0" lang="en-US" sz="1600" spc="-1" strike="noStrike" baseline="-25000">
                <a:solidFill>
                  <a:srgbClr val="cc00ff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2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... +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2n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n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=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b</a:t>
            </a:r>
            <a:r>
              <a:rPr b="0" lang="en-US" sz="1600" spc="-1" strike="noStrike" baseline="-25000">
                <a:solidFill>
                  <a:srgbClr val="cc00ff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m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... +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mn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n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=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b</a:t>
            </a:r>
            <a:r>
              <a:rPr b="0" lang="en-US" sz="1600" spc="-1" strike="noStrike" baseline="-25000">
                <a:solidFill>
                  <a:srgbClr val="cc00ff"/>
                </a:solidFill>
                <a:latin typeface="Arial Black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02800" y="1127160"/>
            <a:ext cx="21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Apresen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83840" y="2033640"/>
            <a:ext cx="651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Takashi Yoney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Engenheiro de Eletrônica (1975), PhD (1983), Médico (199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fessor Titular do 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Vice-Presidente da S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esquisador Nível 1A do CNP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98680" y="4202280"/>
            <a:ext cx="4448160" cy="2040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ITA - Divisão de Engenharia Eletrôn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12.228-900 São José dos Campos 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Tel: (0xx12) 3947-5996 (Escritór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      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(0xx12) 3947-5878 (Secretar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E-mail: takashi@ita.cta.b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HP: www.ele.ita.cta.br/~takash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389760" y="112716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33360" y="1749600"/>
            <a:ext cx="392436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6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5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9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5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4762440" y="1876320"/>
            <a:ext cx="0" cy="386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2535120" y="3319560"/>
            <a:ext cx="1443240" cy="1791360"/>
            <a:chOff x="2535120" y="3319560"/>
            <a:chExt cx="1443240" cy="1791360"/>
          </a:xfrm>
        </p:grpSpPr>
        <p:sp>
          <p:nvSpPr>
            <p:cNvPr id="429" name=""/>
            <p:cNvSpPr/>
            <p:nvPr/>
          </p:nvSpPr>
          <p:spPr>
            <a:xfrm>
              <a:off x="2535120" y="4773600"/>
              <a:ext cx="144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CF </a:t>
              </a:r>
              <a:r>
                <a:rPr b="0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 2.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784600" y="3319560"/>
              <a:ext cx="376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160800" y="3333600"/>
              <a:ext cx="0" cy="1371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 flipV="1">
            <a:off x="5945040" y="53974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8217000" y="53928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7086600" y="53848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729480" y="554688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402760" y="504180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599080" y="556884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786800" y="554040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6825960" y="2279520"/>
            <a:ext cx="259200" cy="3205440"/>
            <a:chOff x="6825960" y="2279520"/>
            <a:chExt cx="259200" cy="3205440"/>
          </a:xfrm>
        </p:grpSpPr>
        <p:sp>
          <p:nvSpPr>
            <p:cNvPr id="442" name=""/>
            <p:cNvSpPr/>
            <p:nvPr/>
          </p:nvSpPr>
          <p:spPr>
            <a:xfrm flipV="1">
              <a:off x="7085160" y="2279520"/>
              <a:ext cx="0" cy="3205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6825960" y="2452680"/>
              <a:ext cx="2588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929040" y="2184480"/>
            <a:ext cx="14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921120" y="3780000"/>
            <a:ext cx="12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140360" y="17035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389760" y="112716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35120" y="5135400"/>
            <a:ext cx="14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TM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1.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33360" y="1749600"/>
            <a:ext cx="392436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6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5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9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50,00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4762440" y="1876320"/>
            <a:ext cx="0" cy="386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784600" y="3681360"/>
            <a:ext cx="3762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160800" y="3695760"/>
            <a:ext cx="0" cy="13716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5945040" y="53974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8217000" y="53928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7086600" y="53848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729480" y="554688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402760" y="504180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599080" y="556884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786800" y="554040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7085160" y="2279520"/>
            <a:ext cx="0" cy="320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6825960" y="2452680"/>
            <a:ext cx="258840" cy="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929040" y="2184480"/>
            <a:ext cx="14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921120" y="3780000"/>
            <a:ext cx="12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140360" y="17035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4762440" y="3651120"/>
            <a:ext cx="3405240" cy="267840"/>
            <a:chOff x="4762440" y="3651120"/>
            <a:chExt cx="3405240" cy="267840"/>
          </a:xfrm>
        </p:grpSpPr>
        <p:sp>
          <p:nvSpPr>
            <p:cNvPr id="474" name=""/>
            <p:cNvSpPr/>
            <p:nvPr/>
          </p:nvSpPr>
          <p:spPr>
            <a:xfrm>
              <a:off x="4762440" y="3651120"/>
              <a:ext cx="34052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8059320" y="3660120"/>
              <a:ext cx="1800" cy="2588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345960" y="2828880"/>
            <a:ext cx="3665520" cy="331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389760" y="112716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33360" y="1749600"/>
            <a:ext cx="392436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6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5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9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50,00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762440" y="1876320"/>
            <a:ext cx="0" cy="386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945040" y="53974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8217000" y="53928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7086600" y="53848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29480" y="554688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402760" y="504180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599080" y="556884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786800" y="554040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7085160" y="2279520"/>
            <a:ext cx="0" cy="320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 flipV="1">
            <a:off x="6825960" y="2452680"/>
            <a:ext cx="258840" cy="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929040" y="2184480"/>
            <a:ext cx="14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921120" y="3780000"/>
            <a:ext cx="12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140360" y="17035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762440" y="3651120"/>
            <a:ext cx="340524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8059320" y="3660120"/>
            <a:ext cx="1800" cy="25884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345960" y="2828880"/>
            <a:ext cx="3665520" cy="331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389760" y="112716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3360" y="1749600"/>
            <a:ext cx="392436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4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+ 6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s.t.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5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9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50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4762440" y="1876320"/>
            <a:ext cx="0" cy="386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5945040" y="53974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8217000" y="53928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7086600" y="53848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729480" y="554688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402760" y="504180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599080" y="556884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786800" y="554040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929040" y="2184480"/>
            <a:ext cx="14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921120" y="3780000"/>
            <a:ext cx="12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140360" y="17035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81160" y="4183200"/>
            <a:ext cx="392400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upor, inicialment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5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=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90.000,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7920" y="5027760"/>
            <a:ext cx="4473360" cy="10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Nestas condiçõe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e </a:t>
            </a:r>
            <a:r>
              <a:rPr b="0" lang="en-US" sz="1400" spc="-1" strike="noStrike">
                <a:solidFill>
                  <a:srgbClr val="cc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 = 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então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= 90.000,00/5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ou seja, </a:t>
            </a:r>
            <a:r>
              <a:rPr b="0" lang="en-US" sz="1400" spc="-1" strike="noStrike">
                <a:solidFill>
                  <a:srgbClr val="cc00ff"/>
                </a:solidFill>
                <a:latin typeface="Arial Black"/>
              </a:rPr>
              <a:t>TM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= 1.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689360" y="2530440"/>
            <a:ext cx="2571840" cy="337320"/>
            <a:chOff x="4689360" y="2530440"/>
            <a:chExt cx="2571840" cy="337320"/>
          </a:xfrm>
        </p:grpSpPr>
        <p:sp>
          <p:nvSpPr>
            <p:cNvPr id="523" name=""/>
            <p:cNvSpPr/>
            <p:nvPr/>
          </p:nvSpPr>
          <p:spPr>
            <a:xfrm>
              <a:off x="4927680" y="2530440"/>
              <a:ext cx="23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ff"/>
                  </a:solidFill>
                  <a:latin typeface="Arial Black"/>
                </a:rPr>
                <a:t>CF</a:t>
              </a:r>
              <a:r>
                <a:rPr b="0" lang="en-US" sz="1600" spc="-1" strike="noStrike">
                  <a:solidFill>
                    <a:srgbClr val="cc00ff"/>
                  </a:solidFill>
                  <a:latin typeface="Arial Black"/>
                </a:rPr>
                <a:t> = 0</a:t>
              </a:r>
              <a:r>
                <a:rPr b="0" lang="en-US" sz="1400" spc="-1" strike="noStrike">
                  <a:solidFill>
                    <a:srgbClr val="cc00ff"/>
                  </a:solidFill>
                  <a:latin typeface="Arial Black"/>
                </a:rPr>
                <a:t>, TM </a:t>
              </a:r>
              <a:r>
                <a:rPr b="0" lang="en-US" sz="1600" spc="-1" strike="noStrike">
                  <a:solidFill>
                    <a:srgbClr val="cc00ff"/>
                  </a:solidFill>
                  <a:latin typeface="Arial Black"/>
                </a:rPr>
                <a:t>= 1.8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689360" y="2611440"/>
              <a:ext cx="146160" cy="146160"/>
            </a:xfrm>
            <a:prstGeom prst="ellipse">
              <a:avLst/>
            </a:prstGeom>
            <a:solidFill>
              <a:srgbClr val="cc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345960" y="2828880"/>
            <a:ext cx="3665520" cy="331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389760" y="112716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33360" y="1749600"/>
            <a:ext cx="392436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4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+ 6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s.t.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5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9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50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4762440" y="1876320"/>
            <a:ext cx="0" cy="386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5945040" y="53974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8217000" y="53928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7086600" y="53848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729480" y="554688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402760" y="504180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599080" y="556884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786800" y="554040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29040" y="2184480"/>
            <a:ext cx="14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921120" y="3780000"/>
            <a:ext cx="12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40360" y="17035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81160" y="4183200"/>
            <a:ext cx="392400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upor, inicialment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5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=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90.000,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77920" y="5027760"/>
            <a:ext cx="4473360" cy="10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Nestas condiçõe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e </a:t>
            </a:r>
            <a:r>
              <a:rPr b="0" lang="en-US" sz="1400" spc="-1" strike="noStrike">
                <a:solidFill>
                  <a:srgbClr val="cc3300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cc3300"/>
                </a:solidFill>
                <a:latin typeface="Arial Black"/>
              </a:rPr>
              <a:t> = 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então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= 90.000,00/3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ou seja, </a:t>
            </a:r>
            <a:r>
              <a:rPr b="0" lang="en-US" sz="1400" spc="-1" strike="noStrike">
                <a:solidFill>
                  <a:srgbClr val="cc3300"/>
                </a:solidFill>
                <a:latin typeface="Arial Black"/>
              </a:rPr>
              <a:t>CF </a:t>
            </a:r>
            <a:r>
              <a:rPr b="0" lang="en-US" sz="1600" spc="-1" strike="noStrike">
                <a:solidFill>
                  <a:srgbClr val="cc3300"/>
                </a:solidFill>
                <a:latin typeface="Arial Black"/>
              </a:rPr>
              <a:t>= 3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927680" y="2530440"/>
            <a:ext cx="23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 = 0</a:t>
            </a:r>
            <a:r>
              <a:rPr b="0" lang="en-US" sz="1400" spc="-1" strike="noStrike">
                <a:solidFill>
                  <a:srgbClr val="cc00ff"/>
                </a:solidFill>
                <a:latin typeface="Arial Black"/>
              </a:rPr>
              <a:t>, TM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= 1.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689360" y="2611440"/>
            <a:ext cx="146160" cy="14616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6176880" y="4849920"/>
            <a:ext cx="2333880" cy="734760"/>
            <a:chOff x="6176880" y="4849920"/>
            <a:chExt cx="2333880" cy="734760"/>
          </a:xfrm>
        </p:grpSpPr>
        <p:sp>
          <p:nvSpPr>
            <p:cNvPr id="550" name=""/>
            <p:cNvSpPr/>
            <p:nvPr/>
          </p:nvSpPr>
          <p:spPr>
            <a:xfrm>
              <a:off x="8140680" y="5438880"/>
              <a:ext cx="146160" cy="1458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176880" y="4849920"/>
              <a:ext cx="233388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Arial Black"/>
                </a:rPr>
                <a:t>CF </a:t>
              </a:r>
              <a:r>
                <a:rPr b="0" lang="en-US" sz="1600" spc="-1" strike="noStrike">
                  <a:solidFill>
                    <a:srgbClr val="cc3300"/>
                  </a:solidFill>
                  <a:latin typeface="Arial Black"/>
                </a:rPr>
                <a:t>= 3.000</a:t>
              </a:r>
              <a:r>
                <a:rPr b="0" lang="en-US" sz="1400" spc="-1" strike="noStrike">
                  <a:solidFill>
                    <a:srgbClr val="cc3300"/>
                  </a:solidFill>
                  <a:latin typeface="Arial Black"/>
                </a:rPr>
                <a:t>, TM</a:t>
              </a:r>
              <a:r>
                <a:rPr b="0" lang="en-US" sz="1600" spc="-1" strike="noStrike">
                  <a:solidFill>
                    <a:srgbClr val="cc3300"/>
                  </a:solidFill>
                  <a:latin typeface="Arial Black"/>
                </a:rPr>
                <a:t> = 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"/>
          <p:cNvGrpSpPr/>
          <p:nvPr/>
        </p:nvGrpSpPr>
        <p:grpSpPr>
          <a:xfrm>
            <a:off x="4762440" y="2695680"/>
            <a:ext cx="3457800" cy="2809800"/>
            <a:chOff x="4762440" y="2695680"/>
            <a:chExt cx="3457800" cy="2809800"/>
          </a:xfrm>
        </p:grpSpPr>
        <p:sp>
          <p:nvSpPr>
            <p:cNvPr id="553" name=""/>
            <p:cNvSpPr/>
            <p:nvPr/>
          </p:nvSpPr>
          <p:spPr>
            <a:xfrm>
              <a:off x="4762440" y="2695680"/>
              <a:ext cx="3457800" cy="2809800"/>
            </a:xfrm>
            <a:custGeom>
              <a:avLst/>
              <a:gdLst/>
              <a:ahLst/>
              <a:rect l="l" t="t" r="r" b="b"/>
              <a:pathLst>
                <a:path w="2178" h="1770">
                  <a:moveTo>
                    <a:pt x="0" y="0"/>
                  </a:moveTo>
                  <a:lnTo>
                    <a:pt x="2178" y="1770"/>
                  </a:lnTo>
                  <a:lnTo>
                    <a:pt x="0" y="17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7441920" y="5015520"/>
              <a:ext cx="160200" cy="203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4762440" y="2684520"/>
            <a:ext cx="3448080" cy="28144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45960" y="2828880"/>
            <a:ext cx="3665520" cy="331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389760" y="112716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33360" y="1749600"/>
            <a:ext cx="392436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4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+ 6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s.t.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5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9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50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762440" y="1876320"/>
            <a:ext cx="0" cy="386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5945040" y="53974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8217000" y="53928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7086600" y="53848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729480" y="554688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402760" y="504180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599080" y="556884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786800" y="554040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29040" y="2184480"/>
            <a:ext cx="14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21120" y="3780000"/>
            <a:ext cx="12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140360" y="17035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81160" y="4183200"/>
            <a:ext cx="392400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A região de valores de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e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, tais qu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5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90.000,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é a que contém a origem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(0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689360" y="2611440"/>
            <a:ext cx="146160" cy="14616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140680" y="5438880"/>
            <a:ext cx="146160" cy="1458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686480" y="5427720"/>
            <a:ext cx="145800" cy="1461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81320" y="5527800"/>
            <a:ext cx="10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(0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4762440" y="3648240"/>
            <a:ext cx="2324160" cy="1847520"/>
          </a:xfrm>
          <a:custGeom>
            <a:avLst/>
            <a:gdLst/>
            <a:ahLst/>
            <a:rect l="l" t="t" r="r" b="b"/>
            <a:pathLst>
              <a:path w="1464" h="1164">
                <a:moveTo>
                  <a:pt x="0" y="0"/>
                </a:moveTo>
                <a:lnTo>
                  <a:pt x="744" y="0"/>
                </a:lnTo>
                <a:lnTo>
                  <a:pt x="1464" y="588"/>
                </a:lnTo>
                <a:lnTo>
                  <a:pt x="1464" y="1164"/>
                </a:lnTo>
                <a:lnTo>
                  <a:pt x="0" y="116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762440" y="2684520"/>
            <a:ext cx="3448080" cy="28144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389760" y="112716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3360" y="1749600"/>
            <a:ext cx="392436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4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+ 6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s.t.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5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9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50,00 </a:t>
            </a:r>
            <a:r>
              <a:rPr b="0" lang="en-US" sz="1400" spc="-1" strike="noStrike">
                <a:solidFill>
                  <a:srgbClr val="009900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4762440" y="1876320"/>
            <a:ext cx="0" cy="386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5945040" y="53974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8217000" y="53928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7086600" y="53848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29480" y="554688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402760" y="504180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599080" y="556884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86800" y="554040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929040" y="2184480"/>
            <a:ext cx="14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921120" y="3780000"/>
            <a:ext cx="12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140360" y="17035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7441920" y="5015520"/>
            <a:ext cx="160200" cy="2030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7085160" y="2279520"/>
            <a:ext cx="0" cy="320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6825960" y="2452680"/>
            <a:ext cx="258840" cy="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62440" y="3651120"/>
            <a:ext cx="340524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8059320" y="3660120"/>
            <a:ext cx="1800" cy="25884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205240" y="4386240"/>
            <a:ext cx="128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egião Viá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331920" y="1689120"/>
            <a:ext cx="2655720" cy="447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389760" y="112716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33360" y="1749600"/>
            <a:ext cx="392436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6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+ 50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9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50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4762440" y="1876320"/>
            <a:ext cx="0" cy="386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5945040" y="53974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8217000" y="53928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7086600" y="53848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729480" y="554688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402760" y="504180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599080" y="556884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786800" y="554040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929040" y="2184480"/>
            <a:ext cx="14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921120" y="3780000"/>
            <a:ext cx="12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40360" y="17035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26880" y="4095720"/>
            <a:ext cx="4241880" cy="13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Qual o retorno 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F = 1.500 e TM = 0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4,00 CF + 6,00 TM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4,00 x 1.500 + 6,00 x 0 = 6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76120" y="5632560"/>
            <a:ext cx="424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Que combinações (CF,TM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resultam no mesmo retorn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de R$ 6.000,00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389760" y="112716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4762440" y="1876320"/>
            <a:ext cx="0" cy="386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5945040" y="53974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8217000" y="53928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7086600" y="53848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729480" y="554688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402760" y="504180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599080" y="556884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786800" y="554040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9040" y="2184480"/>
            <a:ext cx="14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921120" y="3780000"/>
            <a:ext cx="12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140360" y="17035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47760" y="1720800"/>
            <a:ext cx="424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Que combinações (CF,TM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resultam no mesmo retorn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de R$ 6.000,00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6840" y="2736000"/>
            <a:ext cx="301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Ou sej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4,00 CF + 6,00 TM = 6.000,00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49080" y="3774960"/>
            <a:ext cx="3529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Novament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e CF = 0, então TM = 6.000,00/6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ou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TM = 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e TM = 0, então CF = 6.000,00/4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ou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CF = 1.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4686480" y="3871800"/>
            <a:ext cx="1901520" cy="1702080"/>
            <a:chOff x="4686480" y="3871800"/>
            <a:chExt cx="1901520" cy="1702080"/>
          </a:xfrm>
        </p:grpSpPr>
        <p:sp>
          <p:nvSpPr>
            <p:cNvPr id="656" name=""/>
            <p:cNvSpPr/>
            <p:nvPr/>
          </p:nvSpPr>
          <p:spPr>
            <a:xfrm>
              <a:off x="4748040" y="3954600"/>
              <a:ext cx="1775160" cy="1544400"/>
            </a:xfrm>
            <a:prstGeom prst="line">
              <a:avLst/>
            </a:prstGeom>
            <a:ln w="1908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442200" y="5427720"/>
              <a:ext cx="145800" cy="146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686480" y="3871800"/>
              <a:ext cx="145800" cy="146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5425920" y="1719360"/>
            <a:ext cx="3338640" cy="941400"/>
          </a:xfrm>
          <a:prstGeom prst="wedgeRectCallout">
            <a:avLst>
              <a:gd name="adj1" fmla="val -49143"/>
              <a:gd name="adj2" fmla="val 248652"/>
            </a:avLst>
          </a:prstGeom>
          <a:solidFill>
            <a:srgbClr val="ffff99"/>
          </a:solidFill>
          <a:ln w="1260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Qualquer combinação CF e T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ao longo desta reta produz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um retorno de R$ 6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389760" y="112716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4762440" y="1876320"/>
            <a:ext cx="0" cy="386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5945040" y="53974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8217000" y="53928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7086600" y="53848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729480" y="554688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402760" y="504180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599080" y="556884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786800" y="554040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929040" y="2184480"/>
            <a:ext cx="14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21120" y="3780000"/>
            <a:ext cx="12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140360" y="17035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47760" y="1720800"/>
            <a:ext cx="3679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Que combinações (CF,TM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resultam no mesmo retorn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de R$ 12.000,00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46200" y="2736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Ou sej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4,00 CF + 6,00 TM = 12.000,00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58800" y="3774960"/>
            <a:ext cx="3644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Novament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e CF = 0, então TM = 12.000,00/6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ou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TM = 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e TM = 0, então CF = 12.000,00/4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ou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CF = 3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4692600" y="2284560"/>
            <a:ext cx="3598920" cy="3289320"/>
            <a:chOff x="4692600" y="2284560"/>
            <a:chExt cx="3598920" cy="3289320"/>
          </a:xfrm>
        </p:grpSpPr>
        <p:sp>
          <p:nvSpPr>
            <p:cNvPr id="684" name=""/>
            <p:cNvSpPr/>
            <p:nvPr/>
          </p:nvSpPr>
          <p:spPr>
            <a:xfrm>
              <a:off x="4748040" y="2324160"/>
              <a:ext cx="3492720" cy="31748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145360" y="5427720"/>
              <a:ext cx="146160" cy="146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692600" y="2284560"/>
              <a:ext cx="146160" cy="14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>
            <a:off x="5425920" y="1719360"/>
            <a:ext cx="3338640" cy="941400"/>
          </a:xfrm>
          <a:prstGeom prst="wedgeRectCallout">
            <a:avLst>
              <a:gd name="adj1" fmla="val -32740"/>
              <a:gd name="adj2" fmla="val 133643"/>
            </a:avLst>
          </a:prstGeom>
          <a:solidFill>
            <a:srgbClr val="ffff99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Qualquer combinação CF e T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ao longo desta reta produz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um retorno de R$ 12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87200" y="3149640"/>
            <a:ext cx="8744040" cy="2525760"/>
            <a:chOff x="187200" y="3149640"/>
            <a:chExt cx="8744040" cy="2525760"/>
          </a:xfrm>
        </p:grpSpPr>
        <p:sp>
          <p:nvSpPr>
            <p:cNvPr id="59" name=""/>
            <p:cNvSpPr/>
            <p:nvPr/>
          </p:nvSpPr>
          <p:spPr>
            <a:xfrm>
              <a:off x="187200" y="3149640"/>
              <a:ext cx="8744040" cy="2525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536880" y="3205440"/>
              <a:ext cx="2064240" cy="368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 Black"/>
                </a:rPr>
                <a:t>WINQSB e LIN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50680" y="1127160"/>
            <a:ext cx="38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Programação e Conteú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8920" y="2000160"/>
            <a:ext cx="861912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6/09 - Introd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3/09 - FOL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/09 -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ção Gráfica de Problemas de P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/09 - Solução Numérica de Problemas de PL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4/10 - Análise da Sensibilidad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/10 - Programação Int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/10 - Programação M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/10 - Transporte, Transbordo e Atribui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/11 - Cobertura Mínima, Caminho Mínimo, Fluxo Máximo e Caixeiro Viaj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evisão Geral e Tópicos Suplement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8/11 - Pro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4748040" y="2324160"/>
            <a:ext cx="3492720" cy="31748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4762440" y="2557440"/>
            <a:ext cx="3917880" cy="2927520"/>
            <a:chOff x="4762440" y="2557440"/>
            <a:chExt cx="3917880" cy="2927520"/>
          </a:xfrm>
        </p:grpSpPr>
        <p:sp>
          <p:nvSpPr>
            <p:cNvPr id="690" name=""/>
            <p:cNvSpPr/>
            <p:nvPr/>
          </p:nvSpPr>
          <p:spPr>
            <a:xfrm flipH="1" flipV="1">
              <a:off x="4762440" y="3146400"/>
              <a:ext cx="2611440" cy="2338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74080" y="2557440"/>
              <a:ext cx="1506240" cy="392040"/>
            </a:xfrm>
            <a:prstGeom prst="wedgeRectCallout">
              <a:avLst>
                <a:gd name="adj1" fmla="val -162115"/>
                <a:gd name="adj2" fmla="val 258097"/>
              </a:avLst>
            </a:prstGeom>
            <a:solidFill>
              <a:srgbClr val="ffff99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 Black"/>
                </a:rPr>
                <a:t>R$ 9.000,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389760" y="112716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4762440" y="1876320"/>
            <a:ext cx="0" cy="386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5945040" y="53974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8217000" y="53928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7086600" y="53848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729480" y="554688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402760" y="504180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99080" y="556884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786800" y="554040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929040" y="2184480"/>
            <a:ext cx="14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921120" y="3780000"/>
            <a:ext cx="12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140360" y="17035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157880" y="1808280"/>
            <a:ext cx="1506600" cy="392040"/>
          </a:xfrm>
          <a:prstGeom prst="wedgeRectCallout">
            <a:avLst>
              <a:gd name="adj1" fmla="val -159273"/>
              <a:gd name="adj2" fmla="val 261337"/>
            </a:avLst>
          </a:prstGeom>
          <a:solidFill>
            <a:srgbClr val="ffff99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R$ 12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748040" y="3954600"/>
            <a:ext cx="1775160" cy="1544400"/>
          </a:xfrm>
          <a:prstGeom prst="line">
            <a:avLst/>
          </a:prstGeom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165800" y="3270240"/>
            <a:ext cx="1506600" cy="392040"/>
          </a:xfrm>
          <a:prstGeom prst="wedgeRectCallout">
            <a:avLst>
              <a:gd name="adj1" fmla="val -164962"/>
              <a:gd name="adj2" fmla="val 280365"/>
            </a:avLst>
          </a:prstGeom>
          <a:solidFill>
            <a:srgbClr val="ffff99"/>
          </a:solidFill>
          <a:ln w="1260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R$ 6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4757760" y="4000680"/>
            <a:ext cx="3936960" cy="1477800"/>
            <a:chOff x="4757760" y="4000680"/>
            <a:chExt cx="3936960" cy="1477800"/>
          </a:xfrm>
        </p:grpSpPr>
        <p:sp>
          <p:nvSpPr>
            <p:cNvPr id="716" name=""/>
            <p:cNvSpPr/>
            <p:nvPr/>
          </p:nvSpPr>
          <p:spPr>
            <a:xfrm>
              <a:off x="4757760" y="4741920"/>
              <a:ext cx="865080" cy="736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88120" y="4000680"/>
              <a:ext cx="1506600" cy="392040"/>
            </a:xfrm>
            <a:prstGeom prst="wedgeRectCallout">
              <a:avLst>
                <a:gd name="adj1" fmla="val -170652"/>
                <a:gd name="adj2" fmla="val 272671"/>
              </a:avLst>
            </a:prstGeom>
            <a:solidFill>
              <a:srgbClr val="ffff9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R$ 3.000,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5222160" y="2069280"/>
            <a:ext cx="636480" cy="716760"/>
            <a:chOff x="5222160" y="2069280"/>
            <a:chExt cx="636480" cy="716760"/>
          </a:xfrm>
        </p:grpSpPr>
        <p:sp>
          <p:nvSpPr>
            <p:cNvPr id="719" name=""/>
            <p:cNvSpPr/>
            <p:nvPr/>
          </p:nvSpPr>
          <p:spPr>
            <a:xfrm flipV="1">
              <a:off x="5253120" y="2381400"/>
              <a:ext cx="403200" cy="404640"/>
            </a:xfrm>
            <a:prstGeom prst="line">
              <a:avLst/>
            </a:prstGeom>
            <a:ln w="76320">
              <a:solidFill>
                <a:srgbClr val="99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222160" y="206928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ff"/>
                  </a:solidFill>
                  <a:latin typeface="Arial Black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566720" y="1630440"/>
            <a:ext cx="5981760" cy="490212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389760" y="112716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2787480" y="4686480"/>
            <a:ext cx="0" cy="475920"/>
          </a:xfrm>
          <a:prstGeom prst="line">
            <a:avLst/>
          </a:prstGeom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5118120" y="5352840"/>
            <a:ext cx="0" cy="438120"/>
          </a:xfrm>
          <a:prstGeom prst="line">
            <a:avLst/>
          </a:prstGeom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1473120" y="4692240"/>
            <a:ext cx="0" cy="476280"/>
          </a:xfrm>
          <a:prstGeom prst="line">
            <a:avLst/>
          </a:prstGeom>
          <a:ln w="9360">
            <a:solidFill>
              <a:srgbClr val="99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079960" y="5270400"/>
            <a:ext cx="101520" cy="101880"/>
          </a:xfrm>
          <a:prstGeom prst="ellipse">
            <a:avLst/>
          </a:pr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1352160" y="4686480"/>
            <a:ext cx="1397160" cy="0"/>
          </a:xfrm>
          <a:prstGeom prst="line">
            <a:avLst/>
          </a:prstGeom>
          <a:ln w="936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1390680" y="5156280"/>
            <a:ext cx="1396800" cy="0"/>
          </a:xfrm>
          <a:prstGeom prst="line">
            <a:avLst/>
          </a:prstGeom>
          <a:ln w="936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52720" y="4752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735280" y="4600440"/>
            <a:ext cx="101520" cy="101880"/>
          </a:xfrm>
          <a:prstGeom prst="ellipse">
            <a:avLst/>
          </a:pr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814480" y="4676760"/>
            <a:ext cx="2279880" cy="62064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793960" y="5146560"/>
            <a:ext cx="173160" cy="5724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446720" y="5589720"/>
            <a:ext cx="677880" cy="18720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" descr=""/>
          <p:cNvPicPr/>
          <p:nvPr/>
        </p:nvPicPr>
        <p:blipFill>
          <a:blip r:embed="rId1"/>
          <a:stretch/>
        </p:blipFill>
        <p:spPr>
          <a:xfrm>
            <a:off x="1566720" y="1630440"/>
            <a:ext cx="5981760" cy="490212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389760" y="112716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787480" y="4686480"/>
            <a:ext cx="0" cy="475920"/>
          </a:xfrm>
          <a:prstGeom prst="line">
            <a:avLst/>
          </a:prstGeom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5118120" y="5352840"/>
            <a:ext cx="0" cy="438120"/>
          </a:xfrm>
          <a:prstGeom prst="line">
            <a:avLst/>
          </a:prstGeom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079960" y="5270400"/>
            <a:ext cx="101520" cy="101880"/>
          </a:xfrm>
          <a:prstGeom prst="ellipse">
            <a:avLst/>
          </a:pr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35280" y="4600440"/>
            <a:ext cx="101520" cy="101880"/>
          </a:xfrm>
          <a:prstGeom prst="ellipse">
            <a:avLst/>
          </a:pr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793960" y="5146560"/>
            <a:ext cx="173160" cy="5724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446720" y="5589720"/>
            <a:ext cx="677880" cy="18720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2577960" y="4174920"/>
            <a:ext cx="0" cy="547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6051600" y="5002200"/>
            <a:ext cx="0" cy="682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1235160" y="4238280"/>
            <a:ext cx="0" cy="476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997600" y="4937040"/>
            <a:ext cx="101520" cy="101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1128240" y="4116240"/>
            <a:ext cx="139716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1136160" y="4716360"/>
            <a:ext cx="139716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116000" y="4225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540160" y="4073400"/>
            <a:ext cx="101520" cy="1018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570040" y="4721400"/>
            <a:ext cx="173160" cy="568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73760" y="5397480"/>
            <a:ext cx="1110960" cy="3016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1471680" y="4128840"/>
            <a:ext cx="0" cy="5634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571840" y="4119480"/>
            <a:ext cx="3449520" cy="8794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1566720" y="1630440"/>
            <a:ext cx="5981760" cy="490212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389760" y="112716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2787480" y="4686480"/>
            <a:ext cx="0" cy="475920"/>
          </a:xfrm>
          <a:prstGeom prst="line">
            <a:avLst/>
          </a:prstGeom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5118120" y="5352840"/>
            <a:ext cx="0" cy="438120"/>
          </a:xfrm>
          <a:prstGeom prst="line">
            <a:avLst/>
          </a:prstGeom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079960" y="5270400"/>
            <a:ext cx="101520" cy="101880"/>
          </a:xfrm>
          <a:prstGeom prst="ellipse">
            <a:avLst/>
          </a:pr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735280" y="4600440"/>
            <a:ext cx="101520" cy="101880"/>
          </a:xfrm>
          <a:prstGeom prst="ellipse">
            <a:avLst/>
          </a:pr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793960" y="5146560"/>
            <a:ext cx="173160" cy="5724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446720" y="5589720"/>
            <a:ext cx="677880" cy="18720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2577960" y="4174920"/>
            <a:ext cx="0" cy="547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6051600" y="5002200"/>
            <a:ext cx="0" cy="682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1235160" y="4238280"/>
            <a:ext cx="0" cy="476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997600" y="4917960"/>
            <a:ext cx="101520" cy="1018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883800" y="3481560"/>
            <a:ext cx="1397160" cy="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920880" y="4311720"/>
            <a:ext cx="1396800" cy="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800280" y="37350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540160" y="4073400"/>
            <a:ext cx="101520" cy="1018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570040" y="4721400"/>
            <a:ext cx="173160" cy="568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73760" y="5397480"/>
            <a:ext cx="1110960" cy="3016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1255680" y="3493800"/>
            <a:ext cx="0" cy="79380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370240" y="3508200"/>
            <a:ext cx="4545000" cy="12416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274840" y="3417840"/>
            <a:ext cx="101520" cy="1015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915240" y="4710240"/>
            <a:ext cx="101520" cy="1015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573880" y="5159520"/>
            <a:ext cx="1398600" cy="4172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6969240" y="4790880"/>
            <a:ext cx="0" cy="7794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 flipV="1">
            <a:off x="1582560" y="4249800"/>
            <a:ext cx="2395800" cy="952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389760" y="112716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4859280" y="2382840"/>
            <a:ext cx="3757320" cy="3263040"/>
            <a:chOff x="4859280" y="2382840"/>
            <a:chExt cx="3757320" cy="3263040"/>
          </a:xfrm>
        </p:grpSpPr>
        <p:sp>
          <p:nvSpPr>
            <p:cNvPr id="793" name=""/>
            <p:cNvSpPr/>
            <p:nvPr/>
          </p:nvSpPr>
          <p:spPr>
            <a:xfrm>
              <a:off x="5475600" y="2867040"/>
              <a:ext cx="2603160" cy="24768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4" name=""/>
            <p:cNvGrpSpPr/>
            <p:nvPr/>
          </p:nvGrpSpPr>
          <p:grpSpPr>
            <a:xfrm>
              <a:off x="5486040" y="3048840"/>
              <a:ext cx="2919600" cy="2283120"/>
              <a:chOff x="5486040" y="3048840"/>
              <a:chExt cx="2919600" cy="2283120"/>
            </a:xfrm>
          </p:grpSpPr>
          <p:sp>
            <p:nvSpPr>
              <p:cNvPr id="795" name=""/>
              <p:cNvSpPr/>
              <p:nvPr/>
            </p:nvSpPr>
            <p:spPr>
              <a:xfrm flipH="1" flipV="1">
                <a:off x="5486040" y="3507840"/>
                <a:ext cx="1946160" cy="18241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283160" y="3048840"/>
                <a:ext cx="1122480" cy="305640"/>
              </a:xfrm>
              <a:prstGeom prst="wedgeRectCallout">
                <a:avLst>
                  <a:gd name="adj1" fmla="val -162115"/>
                  <a:gd name="adj2" fmla="val 258097"/>
                </a:avLst>
              </a:prstGeom>
              <a:solidFill>
                <a:srgbClr val="ffff99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 Black"/>
                  </a:rPr>
                  <a:t>R$ 9.000,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>
              <a:off x="5334840" y="534384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5486040" y="2517480"/>
              <a:ext cx="0" cy="301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6367680" y="5264280"/>
              <a:ext cx="0" cy="14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5410440" y="4127760"/>
              <a:ext cx="12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8060760" y="5260680"/>
              <a:ext cx="0" cy="14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7218360" y="5254560"/>
              <a:ext cx="0" cy="14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5416560" y="2895120"/>
              <a:ext cx="12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950880" y="5382360"/>
              <a:ext cx="77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2.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199360" y="4988520"/>
              <a:ext cx="417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C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109560" y="5399640"/>
              <a:ext cx="77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1.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740360" y="5377320"/>
              <a:ext cx="77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3.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5410440" y="4127760"/>
              <a:ext cx="12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5416560" y="2895120"/>
              <a:ext cx="12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865040" y="2757960"/>
              <a:ext cx="107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2.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022360" y="2382840"/>
              <a:ext cx="417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271640" y="2464560"/>
              <a:ext cx="1122840" cy="305640"/>
            </a:xfrm>
            <a:prstGeom prst="wedgeRectCallout">
              <a:avLst>
                <a:gd name="adj1" fmla="val -159273"/>
                <a:gd name="adj2" fmla="val 261337"/>
              </a:avLst>
            </a:prstGeom>
            <a:solidFill>
              <a:srgbClr val="ff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8000"/>
                  </a:solidFill>
                  <a:latin typeface="Arial Black"/>
                </a:rPr>
                <a:t>R$ 12.000,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475600" y="4138920"/>
              <a:ext cx="1323000" cy="1204920"/>
            </a:xfrm>
            <a:prstGeom prst="line">
              <a:avLst/>
            </a:prstGeom>
            <a:ln w="2844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277400" y="3605040"/>
              <a:ext cx="1122840" cy="305640"/>
            </a:xfrm>
            <a:prstGeom prst="wedgeRectCallout">
              <a:avLst>
                <a:gd name="adj1" fmla="val -164962"/>
                <a:gd name="adj2" fmla="val 280365"/>
              </a:avLst>
            </a:prstGeom>
            <a:solidFill>
              <a:srgbClr val="ffff99"/>
            </a:solidFill>
            <a:ln w="1260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9900ff"/>
                  </a:solidFill>
                  <a:latin typeface="Arial Black"/>
                </a:rPr>
                <a:t>R$ 6.000,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5" name=""/>
            <p:cNvGrpSpPr/>
            <p:nvPr/>
          </p:nvGrpSpPr>
          <p:grpSpPr>
            <a:xfrm>
              <a:off x="5482800" y="4174920"/>
              <a:ext cx="2933640" cy="1152720"/>
              <a:chOff x="5482800" y="4174920"/>
              <a:chExt cx="2933640" cy="1152720"/>
            </a:xfrm>
          </p:grpSpPr>
          <p:sp>
            <p:nvSpPr>
              <p:cNvPr id="816" name=""/>
              <p:cNvSpPr/>
              <p:nvPr/>
            </p:nvSpPr>
            <p:spPr>
              <a:xfrm>
                <a:off x="5482800" y="4753080"/>
                <a:ext cx="644400" cy="5745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293960" y="4174920"/>
                <a:ext cx="1122480" cy="305640"/>
              </a:xfrm>
              <a:prstGeom prst="wedgeRectCallout">
                <a:avLst>
                  <a:gd name="adj1" fmla="val -170652"/>
                  <a:gd name="adj2" fmla="val 272671"/>
                </a:avLst>
              </a:prstGeom>
              <a:solidFill>
                <a:srgbClr val="ffff99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ff"/>
                    </a:solidFill>
                    <a:latin typeface="Arial Black"/>
                  </a:rPr>
                  <a:t>R$ 3.000,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5850000" y="2688120"/>
              <a:ext cx="433800" cy="538560"/>
              <a:chOff x="5850000" y="2688120"/>
              <a:chExt cx="433800" cy="538560"/>
            </a:xfrm>
          </p:grpSpPr>
          <p:sp>
            <p:nvSpPr>
              <p:cNvPr id="819" name=""/>
              <p:cNvSpPr/>
              <p:nvPr/>
            </p:nvSpPr>
            <p:spPr>
              <a:xfrm flipV="1">
                <a:off x="5851800" y="2911320"/>
                <a:ext cx="300240" cy="315360"/>
              </a:xfrm>
              <a:prstGeom prst="line">
                <a:avLst/>
              </a:prstGeom>
              <a:ln w="76320">
                <a:solidFill>
                  <a:srgbClr val="99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850000" y="2688120"/>
                <a:ext cx="43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9900ff"/>
                    </a:solidFill>
                    <a:latin typeface="Arial Black"/>
                  </a:rPr>
                  <a:t>Ma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1" name=""/>
            <p:cNvSpPr/>
            <p:nvPr/>
          </p:nvSpPr>
          <p:spPr>
            <a:xfrm>
              <a:off x="4859280" y="4002840"/>
              <a:ext cx="90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1.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2" name=""/>
          <p:cNvSpPr/>
          <p:nvPr/>
        </p:nvSpPr>
        <p:spPr>
          <a:xfrm flipV="1">
            <a:off x="1298520" y="4272120"/>
            <a:ext cx="6480" cy="325440"/>
          </a:xfrm>
          <a:prstGeom prst="line">
            <a:avLst/>
          </a:prstGeom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2797200" y="4734000"/>
            <a:ext cx="0" cy="317520"/>
          </a:xfrm>
          <a:prstGeom prst="line">
            <a:avLst/>
          </a:prstGeom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773440" y="4675320"/>
            <a:ext cx="65160" cy="72720"/>
          </a:xfrm>
          <a:prstGeom prst="ellipse">
            <a:avLst/>
          </a:pr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309680" y="4581360"/>
            <a:ext cx="1492200" cy="47016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1141560" y="3841920"/>
            <a:ext cx="0" cy="395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3392640" y="4481280"/>
            <a:ext cx="0" cy="4921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360600" y="4443480"/>
            <a:ext cx="6516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139760" y="4240080"/>
            <a:ext cx="2273400" cy="744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966960" y="3316320"/>
            <a:ext cx="63360" cy="73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943440" y="4219560"/>
            <a:ext cx="65160" cy="73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988920" y="3895560"/>
            <a:ext cx="2990880" cy="10004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3978360" y="4258800"/>
            <a:ext cx="1440" cy="63828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1549440" y="4849560"/>
            <a:ext cx="2824200" cy="35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 flipV="1">
            <a:off x="895320" y="3724200"/>
            <a:ext cx="736560" cy="15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992160" y="3323880"/>
            <a:ext cx="0" cy="5634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383000" y="4641120"/>
            <a:ext cx="3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C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80960" y="3671280"/>
            <a:ext cx="36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1601640" y="2554200"/>
            <a:ext cx="0" cy="27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691280" y="2388600"/>
            <a:ext cx="65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Reto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 flipV="1">
            <a:off x="995400" y="3377880"/>
            <a:ext cx="620640" cy="180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271520" y="4235400"/>
            <a:ext cx="65160" cy="73080"/>
          </a:xfrm>
          <a:prstGeom prst="ellipse">
            <a:avLst/>
          </a:pr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117440" y="3768840"/>
            <a:ext cx="6372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009800" y="3154320"/>
            <a:ext cx="2990880" cy="1092240"/>
          </a:xfrm>
          <a:custGeom>
            <a:avLst/>
            <a:gdLst/>
            <a:ahLst/>
            <a:rect l="l" t="t" r="r" b="b"/>
            <a:pathLst>
              <a:path w="1884" h="688">
                <a:moveTo>
                  <a:pt x="0" y="140"/>
                </a:moveTo>
                <a:cubicBezTo>
                  <a:pt x="110" y="125"/>
                  <a:pt x="420" y="0"/>
                  <a:pt x="660" y="48"/>
                </a:cubicBezTo>
                <a:cubicBezTo>
                  <a:pt x="900" y="96"/>
                  <a:pt x="969" y="326"/>
                  <a:pt x="1136" y="396"/>
                </a:cubicBezTo>
                <a:cubicBezTo>
                  <a:pt x="1317" y="466"/>
                  <a:pt x="1612" y="384"/>
                  <a:pt x="1748" y="468"/>
                </a:cubicBezTo>
                <a:cubicBezTo>
                  <a:pt x="1884" y="552"/>
                  <a:pt x="1849" y="644"/>
                  <a:pt x="1880" y="68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"/>
          <p:cNvGrpSpPr/>
          <p:nvPr/>
        </p:nvGrpSpPr>
        <p:grpSpPr>
          <a:xfrm>
            <a:off x="4762440" y="2279520"/>
            <a:ext cx="3448080" cy="3219480"/>
            <a:chOff x="4762440" y="2279520"/>
            <a:chExt cx="3448080" cy="3219480"/>
          </a:xfrm>
        </p:grpSpPr>
        <p:sp>
          <p:nvSpPr>
            <p:cNvPr id="846" name=""/>
            <p:cNvSpPr/>
            <p:nvPr/>
          </p:nvSpPr>
          <p:spPr>
            <a:xfrm>
              <a:off x="4762440" y="3648240"/>
              <a:ext cx="2324160" cy="1847520"/>
            </a:xfrm>
            <a:custGeom>
              <a:avLst/>
              <a:gdLst/>
              <a:ahLst/>
              <a:rect l="l" t="t" r="r" b="b"/>
              <a:pathLst>
                <a:path w="1464" h="1164">
                  <a:moveTo>
                    <a:pt x="0" y="0"/>
                  </a:moveTo>
                  <a:lnTo>
                    <a:pt x="744" y="0"/>
                  </a:lnTo>
                  <a:lnTo>
                    <a:pt x="1464" y="588"/>
                  </a:lnTo>
                  <a:lnTo>
                    <a:pt x="1464" y="1164"/>
                  </a:lnTo>
                  <a:lnTo>
                    <a:pt x="0" y="11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762440" y="2684520"/>
              <a:ext cx="3448080" cy="2814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085160" y="2279520"/>
              <a:ext cx="0" cy="3205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762440" y="3651120"/>
              <a:ext cx="340524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7441920" y="5015520"/>
              <a:ext cx="160200" cy="203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>
              <a:off x="6825960" y="2452680"/>
              <a:ext cx="2588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8059320" y="3660120"/>
              <a:ext cx="1800" cy="2588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3" name=""/>
          <p:cNvSpPr/>
          <p:nvPr/>
        </p:nvSpPr>
        <p:spPr>
          <a:xfrm flipH="1" flipV="1">
            <a:off x="4762440" y="3146400"/>
            <a:ext cx="2611440" cy="233856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748040" y="2324160"/>
            <a:ext cx="3492720" cy="317484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389760" y="112716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4762440" y="1876320"/>
            <a:ext cx="0" cy="386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5945040" y="53974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8217000" y="53928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7086600" y="53848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729480" y="554688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8402760" y="504180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599080" y="556884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786800" y="554040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929040" y="2184480"/>
            <a:ext cx="14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921120" y="3780000"/>
            <a:ext cx="12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140360" y="17035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748040" y="3954600"/>
            <a:ext cx="1775160" cy="154440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757760" y="4741920"/>
            <a:ext cx="865080" cy="73656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33360" y="174960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 4,00 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 + 6,00 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5253120" y="2381400"/>
            <a:ext cx="403200" cy="40464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222160" y="20692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41280" y="2335320"/>
            <a:ext cx="3924360" cy="18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.t.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5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9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50,00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4762440" y="3648240"/>
            <a:ext cx="2324160" cy="1847520"/>
          </a:xfrm>
          <a:custGeom>
            <a:avLst/>
            <a:gdLst/>
            <a:ahLst/>
            <a:rect l="l" t="t" r="r" b="b"/>
            <a:pathLst>
              <a:path w="1464" h="1164">
                <a:moveTo>
                  <a:pt x="0" y="0"/>
                </a:moveTo>
                <a:lnTo>
                  <a:pt x="744" y="0"/>
                </a:lnTo>
                <a:lnTo>
                  <a:pt x="1464" y="588"/>
                </a:lnTo>
                <a:lnTo>
                  <a:pt x="1464" y="1164"/>
                </a:lnTo>
                <a:lnTo>
                  <a:pt x="0" y="1164"/>
                </a:lnTo>
                <a:lnTo>
                  <a:pt x="0" y="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H="1" flipV="1">
            <a:off x="4762440" y="3146400"/>
            <a:ext cx="2611440" cy="233856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748040" y="2324160"/>
            <a:ext cx="3492720" cy="317484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89760" y="112716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4762440" y="1876320"/>
            <a:ext cx="0" cy="386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5945040" y="53974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8217000" y="53928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7086600" y="53848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729480" y="554688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402760" y="504180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599080" y="556884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786800" y="554040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929040" y="2184480"/>
            <a:ext cx="14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921120" y="3780000"/>
            <a:ext cx="12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140360" y="17035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748040" y="3954600"/>
            <a:ext cx="1775160" cy="154440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757760" y="4741920"/>
            <a:ext cx="865080" cy="73656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762440" y="2684520"/>
            <a:ext cx="3448080" cy="28144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7085160" y="2279520"/>
            <a:ext cx="0" cy="3205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762440" y="3651120"/>
            <a:ext cx="34052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7441920" y="5015520"/>
            <a:ext cx="160200" cy="2030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H="1" flipV="1">
            <a:off x="6825960" y="2452680"/>
            <a:ext cx="258840" cy="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8059320" y="3660120"/>
            <a:ext cx="1800" cy="25884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5253120" y="2381400"/>
            <a:ext cx="403200" cy="40464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222160" y="20692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7005600" y="4299120"/>
            <a:ext cx="1139760" cy="350640"/>
            <a:chOff x="7005600" y="4299120"/>
            <a:chExt cx="1139760" cy="350640"/>
          </a:xfrm>
        </p:grpSpPr>
        <p:sp>
          <p:nvSpPr>
            <p:cNvPr id="915" name=""/>
            <p:cNvSpPr/>
            <p:nvPr/>
          </p:nvSpPr>
          <p:spPr>
            <a:xfrm>
              <a:off x="7005600" y="4503600"/>
              <a:ext cx="146160" cy="146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194600" y="4299120"/>
              <a:ext cx="95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 Black"/>
                </a:rPr>
                <a:t>Ótim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7" name=""/>
          <p:cNvSpPr/>
          <p:nvPr/>
        </p:nvSpPr>
        <p:spPr>
          <a:xfrm>
            <a:off x="1123200" y="4458960"/>
            <a:ext cx="127944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Soluç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F = 2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M = 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33360" y="174960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 4,00 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 + 6,00 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41280" y="2335320"/>
            <a:ext cx="3924360" cy="18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.t.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5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9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50,00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87520" y="1547640"/>
            <a:ext cx="774828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Galaxy Industries (Seção 3.2,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Fabricante dos brinquedos: Space Ray e Zap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mbos os brinquedos são de plástico e, semanalmente, o fornecedor deste material prove 1.200 lb por semana. A Galaxy pode alocar até 40h (ou 40 x 60 = 2.400 min) de tempo de produção, por semana, para estes briqued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Por razões estratégicas, a produção total destes brinquedos não deve superar 800 dúzias por semana. Ainda, a produção de Space Rays não deve exceder a de Zappers por mais de 450 dúzias por seman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Os Space Rays dão um retorno estimado de R$ 8,00 por dúzia e os Zappers de R$ 5,00 por dúzi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Uma dúzia de Space Rays requer 2 lb de plástico e 3 min de tempo de produção. Uma dúzia de Zappers requer 1 lb de plástico e 4 minutos de tempo de produ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Problema: Quantas dúzias de Space Rays e Zappers a Galaxy Industries deve produzir por seman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873960" y="112716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87520" y="1547640"/>
            <a:ext cx="774828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Galaxy Industries (Seção 3.2,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Fabricante dos brinquedos: Space Ray e Zap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Ambos os brinquedos são de plástico e, semanalmente, o fornecedor deste material prove 1.200 lb por semana. A Galaxy pode alocar até 40h (ou 40 x 60 = 2.400 min) de tempo de produção, por semana, para estes briqued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Por razões estratégicas, a produção total destes brinquedos não deve superar 800 dúzias por semana. Ainda, a produção de Space Rays não deve exceder a de Zappers por mais de 450 dúzias por seman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Os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Space Rays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dão um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etorno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estimado de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R$ 8,00 por dúzia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e os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Zappers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de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R$ 5,00 por dúzia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Uma dúzia de Space Rays requer 2 lb de plástico e 3 min de tempo de produção. Uma dúzia de Zappers requer 1 lb de plástico e 4 minutos de tempo de produ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Problema: Quantas dúzias de Space Rays e Zappers a Galaxy Industries deve produzir por seman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873960" y="112716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87520" y="1547640"/>
            <a:ext cx="774828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Galaxy Industries (Seção 3.2,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Fabricante dos brinquedos: Space Ray e Zap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Ambos os brinquedos são de plástico e, semanalmente, o fornecedor deste material prove 1.200 lb por semana. A Galaxy pode alocar até 40h (ou 40 x 60 = 2.400 min) de tempo de produção, por semana, para estes briqued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Por razões estratégicas, a produção total destes brinquedos não deve superar 800 dúzias por semana. Ainda, a produção de Space Rays não deve exceder a de Zappers por mais de 450 dúzias por seman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Os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Space Rays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dão um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etorno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estimado de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R$ 8,00 por dúzia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e os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Zappers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de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R$ 5,00 por dúzia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Uma dúzia de Space Rays requer 2 lb de plástico e 3 min de tempo de produção. Uma dúzia de Zappers requer 1 lb de plástico e 4 minutos de tempo de produ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Problema: Quantas dúzias de Space Rays e Zappers a Galaxy Industries deve produzir por semana (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de modo que o retorno seja maximizado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)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873960" y="112716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22120" y="1127160"/>
            <a:ext cx="33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Métodos de Avali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44720" y="2062080"/>
            <a:ext cx="612288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dut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Exercíci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Prov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cess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Particip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Assidu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Pontua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 Black"/>
              </a:rPr>
              <a:t>Postura É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57320" y="1996920"/>
            <a:ext cx="612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Fórmula Básica: </a:t>
            </a:r>
            <a:r>
              <a:rPr b="0" lang="pt-BR" sz="1800" spc="-1" strike="noStrike">
                <a:solidFill>
                  <a:srgbClr val="ff3300"/>
                </a:solidFill>
                <a:latin typeface="Arial Black"/>
              </a:rPr>
              <a:t>50%</a:t>
            </a: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 Produto + </a:t>
            </a:r>
            <a:r>
              <a:rPr b="0" lang="pt-BR" sz="1800" spc="-1" strike="noStrike">
                <a:solidFill>
                  <a:srgbClr val="ff3300"/>
                </a:solidFill>
                <a:latin typeface="Arial Black"/>
              </a:rPr>
              <a:t>50%</a:t>
            </a: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 Proc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87520" y="1547640"/>
            <a:ext cx="774828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Galaxy Industries (Seção 3.2,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Fabricante dos brinquedos: Space Ray e Zap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Ambos os brinquedos são de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plástico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e, semanalmente, o fornecedor deste material prove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1.200 lb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por semana. A Galaxy pode alocar até 40h (ou 40 x 60 = 2.400 min) de tempo de produção, por semana, para estes briqued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Por razões estratégicas, a produção total destes brinquedos não deve superar 800 dúzias por semana. Ainda, a produção de Space Rays não deve exceder a de Zappers por mais de 450 dúzias por seman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Os Space Rays dão um retorno estimado de R$ 8,00 por dúzia e os Zappers de R$ 5,00 por dúzi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Uma dúzia de Space Rays requer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2 lb de plástico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e 3 min de tempo de produção. Uma dúzia de Zappers requer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1 lb de plástico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e 4 minutos de tempo de produ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Problema: Quantas dúzias de Space Rays e Zappers a Galaxy Industries deve produzir por seman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873960" y="112716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87520" y="1547640"/>
            <a:ext cx="774828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Galaxy Industries (Seção 3.2,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Fabricante dos brinquedos: Space Ray e Zap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Ambos os brinquedos são de plástico e, semanalmente, o fornecedor deste material prove 1.200 lb por semana. A Galaxy pode alocar até 40h (ou 40 x 60 =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2.400 min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) de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tempo de produção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, por semana, para estes briqued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Por razões estratégicas, a produção total destes brinquedos não deve superar 800 dúzias por semana. Ainda, a produção de Space Rays não deve exceder a de Zappers por mais de 450 dúzias por seman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Os Space Rays dão um retorno estimado de R$ 8,00 por dúzia e os Zappers de R$ 5,00 por dúzi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Uma dúzia de Space Rays requer 2 lb de plástico e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3 min de tempo de produção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. Uma dúzia de Zappers requer 1 lb de plástico e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4 minutos de tempo de produção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Problema: Quantas dúzias de Space Rays e Zappers a Galaxy Industries deve produzir por seman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873960" y="112716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87520" y="1547640"/>
            <a:ext cx="774828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Galaxy Industries (Seção 3.2,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Fabricante dos brinquedos: Space Ray e Zap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Ambos os brinquedos são de plástico e, semanalmente, o fornecedor deste material prove 1.200 lb por semana. A Galaxy pode alocar até 40h (ou 40 x 60 = 2.400 min) de tempo de produção, por semana, para estes briqued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Por razões estratégicas, a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produção total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destes brinquedos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não deve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superar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800 dúzias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por semana. Ainda, a produção de Space Rays não deve exceder a de Zappers por mais de 450 dúzias por seman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Os Space Rays dão um retorno estimado de R$ 8,00 por dúzia e os Zappers de R$ 5,00 por dúzi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Uma dúzia de Space Rays requer 2 lb de plástico e 3 min de tempo de produção. Uma dúzia de Zappers requer 1 lb de plástico e 4 minutos de tempo de produ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Problema: Quantas dúzias de Space Rays e Zappers a Galaxy Industries deve produzir por seman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873960" y="112716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87520" y="1547640"/>
            <a:ext cx="774828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Galaxy Industries (Seção 3.2,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Fabricante dos brinquedos: Space Ray e Zap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Ambos os brinquedos são de plástico e, semanalmente, o fornecedor deste material prove 1.200 lb por semana. A Galaxy pode alocar até 40h (ou 40 x 60 = 2.400 min) de tempo de produção, por semana, para estes briqued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Por razões estratégicas, a produção total destes brinquedos não deve superar 800 dúzias por semana. Ainda, a produção de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Space Rays não deve exceder a de Zappers por mais de 450 dúzias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por seman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Os Space Rays dão um retorno estimado de R$ 8,00 por dúzia e os Zappers de R$ 5,00 por dúzi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Uma dúzia de Space Rays requer 2 lb de plástico e 3 min de tempo de produção. Uma dúzia de Zappers requer 1 lb de plástico e 4 minutos de tempo de produ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Problema: Quantas dúzias de Space Rays e Zappers a Galaxy Industries deve produzir por seman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873960" y="112716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860280" y="112716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rcí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60320" y="2744640"/>
            <a:ext cx="7748640" cy="18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Navy Sea Rations (Seção 3.2,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1.  A turma tem 30 minutos para resolver o problema pelo método gráfic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2.O instrutor apresentará a solução na lousa após este temp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693880" y="2976480"/>
            <a:ext cx="378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Black"/>
              </a:rPr>
              <a:t>Muito Obrigad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787920" y="112716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rcí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17440" y="1127160"/>
            <a:ext cx="33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Livros Recomen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87480" y="2351160"/>
            <a:ext cx="7018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8000"/>
                </a:solidFill>
                <a:latin typeface="Arial Black"/>
              </a:rPr>
              <a:t>LAWRENCE, J.A. e PASTERNACK, B.A. - </a:t>
            </a:r>
            <a:r>
              <a:rPr b="0" i="1" lang="pt-BR" sz="1600" spc="-1" strike="noStrike">
                <a:solidFill>
                  <a:srgbClr val="008000"/>
                </a:solidFill>
                <a:latin typeface="Arial Black"/>
              </a:rPr>
              <a:t>Applied Management Science</a:t>
            </a:r>
            <a:r>
              <a:rPr b="0" lang="pt-BR" sz="1600" spc="-1" strike="noStrike">
                <a:solidFill>
                  <a:srgbClr val="008000"/>
                </a:solidFill>
                <a:latin typeface="Arial Black"/>
              </a:rPr>
              <a:t>, John Wiley, 199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ANDERSON, D.R.; SWEENEY, D.J.; WILLIAMS, T.A. - </a:t>
            </a:r>
            <a:r>
              <a:rPr b="0" i="1" lang="pt-BR" sz="1600" spc="-1" strike="noStrike">
                <a:solidFill>
                  <a:srgbClr val="0000ff"/>
                </a:solidFill>
                <a:latin typeface="Arial Black"/>
              </a:rPr>
              <a:t>Quantitative Methods for Business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, IE-Thomson, 200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WINSTON, W.L. - </a:t>
            </a:r>
            <a:r>
              <a:rPr b="0" i="1" lang="pt-BR" sz="1600" spc="-1" strike="noStrike">
                <a:solidFill>
                  <a:srgbClr val="0000ff"/>
                </a:solidFill>
                <a:latin typeface="Arial Black"/>
              </a:rPr>
              <a:t>Operations Research - Applications and Algorithms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, IE-Thomson, 1997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HILLIER, F.S. E LIEBERMAN, G.J. - </a:t>
            </a:r>
            <a:r>
              <a:rPr b="0" i="1" lang="pt-BR" sz="1600" spc="-1" strike="noStrike">
                <a:solidFill>
                  <a:srgbClr val="0000ff"/>
                </a:solidFill>
                <a:latin typeface="Arial Black"/>
              </a:rPr>
              <a:t>Introduction to Operations Research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, McGraw Hill, 200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36200" y="4663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87680" y="416808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8000"/>
                </a:solidFill>
                <a:latin typeface="Lucida Casu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16160" y="3753000"/>
            <a:ext cx="3073680" cy="2279520"/>
          </a:xfrm>
          <a:prstGeom prst="rightArrow">
            <a:avLst>
              <a:gd name="adj1" fmla="val 68574"/>
              <a:gd name="adj2" fmla="val 3239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Poupanç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Dó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Corrida de Cava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etc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19200" y="1127160"/>
            <a:ext cx="25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Problem S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73360" y="3309120"/>
            <a:ext cx="178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Black"/>
              </a:rPr>
              <a:t>Estado A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11880" y="327564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Black"/>
              </a:rPr>
              <a:t>Estado Desej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41320" y="1830240"/>
            <a:ext cx="75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Arial Black"/>
              </a:rPr>
              <a:t>“ </a:t>
            </a:r>
            <a:r>
              <a:rPr b="0" lang="pt-BR" sz="2000" spc="-1" strike="noStrike">
                <a:solidFill>
                  <a:srgbClr val="0000ff"/>
                </a:solidFill>
                <a:latin typeface="Arial Black"/>
              </a:rPr>
              <a:t>Conceber e realizar ações para eliminar a diferença entre o estado desejado e o estado atual. 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33440" y="966960"/>
            <a:ext cx="47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xemplo: Carteira com 2 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7360" y="2066760"/>
            <a:ext cx="7495920" cy="11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ivo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ço(t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Quantidade     Total        Preço(t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Tx Ret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$5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 6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   $30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$8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(8-5)/5 =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0.6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$6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 5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   $30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$9             (9-6)/6 =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66960" y="3535200"/>
            <a:ext cx="7189200" cy="2665440"/>
            <a:chOff x="966960" y="3535200"/>
            <a:chExt cx="7189200" cy="266544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4619520" y="3548160"/>
              <a:ext cx="3536640" cy="26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966960" y="3535200"/>
              <a:ext cx="3487320" cy="261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428840" y="4438800"/>
              <a:ext cx="2704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086440" y="4267080"/>
              <a:ext cx="2704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81760" y="420048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95720" y="474336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82760" y="4935600"/>
              <a:ext cx="75600" cy="75960"/>
            </a:xfrm>
            <a:prstGeom prst="ellipse">
              <a:avLst/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37120" y="4784760"/>
              <a:ext cx="75600" cy="76320"/>
            </a:xfrm>
            <a:prstGeom prst="ellipse">
              <a:avLst/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60280" y="2470320"/>
            <a:ext cx="73011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424640" y="2066760"/>
            <a:ext cx="1401840" cy="1164600"/>
            <a:chOff x="7424640" y="2066760"/>
            <a:chExt cx="1401840" cy="1164600"/>
          </a:xfrm>
        </p:grpSpPr>
        <p:sp>
          <p:nvSpPr>
            <p:cNvPr id="100" name=""/>
            <p:cNvSpPr/>
            <p:nvPr/>
          </p:nvSpPr>
          <p:spPr>
            <a:xfrm>
              <a:off x="7451640" y="2066760"/>
              <a:ext cx="1374840" cy="11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Volatilida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24640" y="2470320"/>
              <a:ext cx="136044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68160" y="1946160"/>
            <a:ext cx="691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rkowitz, H. - Portofolio Selection.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Journal of Financ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, 7:77-91, 195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151080" y="5762520"/>
                <a:ext cx="29019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07" name=""/>
          <p:cNvGrpSpPr/>
          <p:nvPr/>
        </p:nvGrpSpPr>
        <p:grpSpPr>
          <a:xfrm>
            <a:off x="4533840" y="4495680"/>
            <a:ext cx="2303640" cy="1105200"/>
            <a:chOff x="4533840" y="4495680"/>
            <a:chExt cx="2303640" cy="1105200"/>
          </a:xfrm>
        </p:grpSpPr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4729320" y="4695840"/>
                  <a:ext cx="210816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9" name=""/>
            <p:cNvSpPr/>
            <p:nvPr/>
          </p:nvSpPr>
          <p:spPr>
            <a:xfrm>
              <a:off x="4533840" y="4495680"/>
              <a:ext cx="0" cy="1105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5168880" y="5149800"/>
                  <a:ext cx="96840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 </m:t>
                      </m:r>
                      <m:r>
                        <m:t xml:space="preserve">∈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0,1</m:t>
                          </m:r>
                          <m:r>
                            <m:t xml:space="preserve"> 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11" name="mertonn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90600" y="1298520"/>
            <a:ext cx="838080" cy="111924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1154160" y="2638440"/>
            <a:ext cx="7130880" cy="1733400"/>
            <a:chOff x="1154160" y="2638440"/>
            <a:chExt cx="7130880" cy="1733400"/>
          </a:xfrm>
        </p:grpSpPr>
        <p:sp>
          <p:nvSpPr>
            <p:cNvPr id="113" name=""/>
            <p:cNvSpPr/>
            <p:nvPr/>
          </p:nvSpPr>
          <p:spPr>
            <a:xfrm>
              <a:off x="1889280" y="293688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00320" y="2638440"/>
              <a:ext cx="6984720" cy="17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Ativo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reço(t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         E[Preço(t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]            E[r]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               Volatilidade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5160960" y="3016080"/>
                  <a:ext cx="1403280" cy="62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p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2336760" y="3073320"/>
                  <a:ext cx="66060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3892680" y="3054240"/>
                  <a:ext cx="67788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5176800" y="3683160"/>
                  <a:ext cx="137016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p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2344680" y="3740040"/>
                  <a:ext cx="64476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3902040" y="3720960"/>
                  <a:ext cx="65880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7321680" y="3054240"/>
                  <a:ext cx="34272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7311960" y="3701880"/>
                  <a:ext cx="32220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3" name=""/>
            <p:cNvSpPr/>
            <p:nvPr/>
          </p:nvSpPr>
          <p:spPr>
            <a:xfrm>
              <a:off x="1154160" y="2987640"/>
              <a:ext cx="71010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214360" y="985680"/>
            <a:ext cx="47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xemplo: Carteira com 2 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Otto Gottlieb</cp:lastModifiedBy>
  <cp:lastPrinted>2000-07-03T14:27:54Z</cp:lastPrinted>
  <dcterms:modified xsi:type="dcterms:W3CDTF">2003-09-05T23:04:50Z</dcterms:modified>
  <cp:revision>197</cp:revision>
  <dc:subject/>
  <dc:title>Mercados Digitais</dc:title>
</cp:coreProperties>
</file>