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3EA-D0AF-4922-907A-F6968C6D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922-2C6F-4522-B566-D6486A5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C57-129B-4621-8F04-A2E54938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E5E-32D7-4E82-9F23-3796B914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499-1A79-4EC2-9975-A0B2EF9E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B2B-9569-463D-8962-5F2E5413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CB8-7CC8-443F-AD2F-2141F7E7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146-B2D3-4636-8B28-C1A8869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1D8-FB63-478D-9E67-4B2B8D8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D53-5D61-4D9D-A92F-A4F49AE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1A5-A8BF-472B-AEC1-955506B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2C5-5CBB-45DD-A022-7961C0A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B90-04A6-425B-A438-B774BC22D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25960" y="552600"/>
            <a:ext cx="1845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Solução 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762440" y="3651120"/>
            <a:ext cx="3390840" cy="1833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5120" y="513540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T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1.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4600" y="3681360"/>
            <a:ext cx="3762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60800" y="3695760"/>
            <a:ext cx="0" cy="1371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62440" y="3651120"/>
            <a:ext cx="3405240" cy="267840"/>
            <a:chOff x="4762440" y="3651120"/>
            <a:chExt cx="3405240" cy="267840"/>
          </a:xfrm>
        </p:grpSpPr>
        <p:sp>
          <p:nvSpPr>
            <p:cNvPr id="165" name=""/>
            <p:cNvSpPr/>
            <p:nvPr/>
          </p:nvSpPr>
          <p:spPr>
            <a:xfrm>
              <a:off x="4762440" y="3651120"/>
              <a:ext cx="3405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059320" y="3660120"/>
              <a:ext cx="1800" cy="2588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762440" y="2695680"/>
            <a:ext cx="3457800" cy="2809800"/>
            <a:chOff x="4762440" y="2695680"/>
            <a:chExt cx="3457800" cy="2809800"/>
          </a:xfrm>
        </p:grpSpPr>
        <p:sp>
          <p:nvSpPr>
            <p:cNvPr id="168" name=""/>
            <p:cNvSpPr/>
            <p:nvPr/>
          </p:nvSpPr>
          <p:spPr>
            <a:xfrm>
              <a:off x="4762440" y="2695680"/>
              <a:ext cx="3457800" cy="2809800"/>
            </a:xfrm>
            <a:custGeom>
              <a:avLst/>
              <a:gdLst/>
              <a:ahLst/>
              <a:rect l="l" t="t" r="r" b="b"/>
              <a:pathLst>
                <a:path w="2178" h="1770">
                  <a:moveTo>
                    <a:pt x="0" y="0"/>
                  </a:moveTo>
                  <a:lnTo>
                    <a:pt x="2178" y="1770"/>
                  </a:lnTo>
                  <a:lnTo>
                    <a:pt x="0" y="17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41920" y="5015520"/>
              <a:ext cx="160200" cy="203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60" y="2828880"/>
            <a:ext cx="3665520" cy="331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160" y="4183200"/>
            <a:ext cx="39240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região de valores d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tais 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é a que contém a origem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9360" y="2611440"/>
            <a:ext cx="146160" cy="146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40680" y="5438880"/>
            <a:ext cx="146160" cy="14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6480" y="5427720"/>
            <a:ext cx="145800" cy="14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81320" y="55278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(0,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05240" y="4386240"/>
            <a:ext cx="12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gião 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62440" y="2557440"/>
            <a:ext cx="3917880" cy="2927520"/>
            <a:chOff x="4762440" y="2557440"/>
            <a:chExt cx="3917880" cy="2927520"/>
          </a:xfrm>
        </p:grpSpPr>
        <p:sp>
          <p:nvSpPr>
            <p:cNvPr id="225" name=""/>
            <p:cNvSpPr/>
            <p:nvPr/>
          </p:nvSpPr>
          <p:spPr>
            <a:xfrm flipH="1" flipV="1">
              <a:off x="4762440" y="3146400"/>
              <a:ext cx="2611440" cy="233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74080" y="2557440"/>
              <a:ext cx="1506240" cy="392040"/>
            </a:xfrm>
            <a:prstGeom prst="wedgeRectCallout">
              <a:avLst>
                <a:gd name="adj1" fmla="val -162115"/>
                <a:gd name="adj2" fmla="val 258097"/>
              </a:avLst>
            </a:prstGeom>
            <a:solidFill>
              <a:srgbClr val="ffff99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R$ 9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57880" y="1808280"/>
            <a:ext cx="1506600" cy="392040"/>
          </a:xfrm>
          <a:prstGeom prst="wedgeRectCallout">
            <a:avLst>
              <a:gd name="adj1" fmla="val -159273"/>
              <a:gd name="adj2" fmla="val 261337"/>
            </a:avLst>
          </a:prstGeom>
          <a:solidFill>
            <a:srgbClr val="ffff99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R$ 12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5800" y="3270240"/>
            <a:ext cx="1506600" cy="392040"/>
          </a:xfrm>
          <a:prstGeom prst="wedgeRectCallout">
            <a:avLst>
              <a:gd name="adj1" fmla="val -164962"/>
              <a:gd name="adj2" fmla="val 280365"/>
            </a:avLst>
          </a:prstGeom>
          <a:solidFill>
            <a:srgbClr val="ffff99"/>
          </a:solidFill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R$ 6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757760" y="4000680"/>
            <a:ext cx="3936960" cy="1477800"/>
            <a:chOff x="4757760" y="4000680"/>
            <a:chExt cx="3936960" cy="1477800"/>
          </a:xfrm>
        </p:grpSpPr>
        <p:sp>
          <p:nvSpPr>
            <p:cNvPr id="251" name=""/>
            <p:cNvSpPr/>
            <p:nvPr/>
          </p:nvSpPr>
          <p:spPr>
            <a:xfrm>
              <a:off x="4757760" y="4741920"/>
              <a:ext cx="865080" cy="736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88120" y="4000680"/>
              <a:ext cx="1506600" cy="392040"/>
            </a:xfrm>
            <a:prstGeom prst="wedgeRectCallout">
              <a:avLst>
                <a:gd name="adj1" fmla="val -170652"/>
                <a:gd name="adj2" fmla="val 272671"/>
              </a:avLst>
            </a:prstGeom>
            <a:solidFill>
              <a:srgbClr val="ffff99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3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22160" y="2069280"/>
            <a:ext cx="636480" cy="716760"/>
            <a:chOff x="5222160" y="2069280"/>
            <a:chExt cx="636480" cy="716760"/>
          </a:xfrm>
        </p:grpSpPr>
        <p:sp>
          <p:nvSpPr>
            <p:cNvPr id="254" name=""/>
            <p:cNvSpPr/>
            <p:nvPr/>
          </p:nvSpPr>
          <p:spPr>
            <a:xfrm flipV="1">
              <a:off x="5253120" y="2381400"/>
              <a:ext cx="403200" cy="404640"/>
            </a:xfrm>
            <a:prstGeom prst="line">
              <a:avLst/>
            </a:prstGeom>
            <a:ln w="76320">
              <a:solidFill>
                <a:srgbClr val="99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22160" y="206928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ff"/>
                  </a:solidFill>
                  <a:latin typeface="Arial Black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31920" y="1689120"/>
            <a:ext cx="2655720" cy="44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292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330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=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=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b2b2b2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396080" y="3997440"/>
            <a:ext cx="1279440" cy="1913040"/>
            <a:chOff x="1396080" y="3997440"/>
            <a:chExt cx="1279440" cy="1913040"/>
          </a:xfrm>
        </p:grpSpPr>
        <p:sp>
          <p:nvSpPr>
            <p:cNvPr id="335" name=""/>
            <p:cNvSpPr/>
            <p:nvPr/>
          </p:nvSpPr>
          <p:spPr>
            <a:xfrm>
              <a:off x="1396080" y="4719240"/>
              <a:ext cx="127944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 Black"/>
                </a:rPr>
                <a:t>Soluçã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F = 2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TM = 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76400" y="3997440"/>
              <a:ext cx="0" cy="620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560" y="2211480"/>
            <a:ext cx="7748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. A turma se divide em grupos de até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. O instrutor distribui os problemas aos gru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. Cada grupo tem 50 min para resolver o problema que receb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. O instrutor fornece, a cada grupo, o resultado esperado para o probl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cífico que receb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. Os grupos têm mais 20 min para realizar as correções, se necessári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 preparar a apresent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6. Um representante de cada grupo expõe aos demais colegas a s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o problema específico que recebeu, usando, no máximo 1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7. O instrutor faz os comentários ger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00" y="1528920"/>
            <a:ext cx="77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Capítulo 3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93880" y="297648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200" y="1528920"/>
            <a:ext cx="77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Capítulo 3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240" y="2755800"/>
            <a:ext cx="858492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9480" y="5999400"/>
            <a:ext cx="284040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86" y="7855"/>
                </a:moveTo>
                <a:lnTo>
                  <a:pt x="35065" y="7855"/>
                </a:lnTo>
                <a:lnTo>
                  <a:pt x="35065" y="-200509"/>
                </a:lnTo>
                <a:lnTo>
                  <a:pt x="34755" y="-231656"/>
                </a:lnTo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ax R$ 4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+ R$ 6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2960" y="4911840"/>
            <a:ext cx="264384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38" y="4684"/>
                </a:moveTo>
                <a:lnTo>
                  <a:pt x="33717" y="4684"/>
                </a:lnTo>
                <a:lnTo>
                  <a:pt x="33717" y="-11906"/>
                </a:lnTo>
                <a:lnTo>
                  <a:pt x="34445" y="-18687"/>
                </a:lnTo>
              </a:path>
            </a:pathLst>
          </a:cu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1520" y="1736640"/>
            <a:ext cx="56419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roble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90.000,00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TeleMundo custam R$ 5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6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CosmoFone custam R$ 30,00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4,00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60.000,00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9400" y="5545440"/>
            <a:ext cx="39441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4" y="7624"/>
                </a:moveTo>
                <a:lnTo>
                  <a:pt x="24566" y="7624"/>
                </a:lnTo>
                <a:lnTo>
                  <a:pt x="24566" y="-181800"/>
                </a:lnTo>
                <a:lnTo>
                  <a:pt x="21020" y="-224852"/>
                </a:lnTo>
              </a:path>
            </a:pathLst>
          </a:cu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R$ 50,00 x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63400" y="1963800"/>
            <a:ext cx="3405240" cy="34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54320" y="2165400"/>
            <a:ext cx="2136960" cy="1139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86240" y="1941480"/>
            <a:ext cx="388800" cy="37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5080" y="1947960"/>
            <a:ext cx="389160" cy="37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ax R$ 4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6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+ 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3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$ 50,00 x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940200" y="2238480"/>
            <a:ext cx="207648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93640" y="2323800"/>
            <a:ext cx="3576600" cy="423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04720" y="2843280"/>
            <a:ext cx="4791240" cy="966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7400" y="476172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ínculos ou Restri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3736800" y="3854160"/>
            <a:ext cx="260640" cy="87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120" y="1981080"/>
            <a:ext cx="5035680" cy="20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x R$ 4,00 x CF + R$ 6,00 x 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+ 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9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30,00 x CF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50,00 x TM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R$ 60.00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1640" y="11271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c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1640" y="1127160"/>
            <a:ext cx="57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blema de Program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(Programação Lin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91160" y="2298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9240" y="2298600"/>
            <a:ext cx="287028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cc00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62440" y="2308320"/>
            <a:ext cx="2322720" cy="3176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17496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35120" y="3319560"/>
            <a:ext cx="1443240" cy="1791360"/>
            <a:chOff x="2535120" y="3319560"/>
            <a:chExt cx="1443240" cy="1791360"/>
          </a:xfrm>
        </p:grpSpPr>
        <p:sp>
          <p:nvSpPr>
            <p:cNvPr id="121" name=""/>
            <p:cNvSpPr/>
            <p:nvPr/>
          </p:nvSpPr>
          <p:spPr>
            <a:xfrm>
              <a:off x="2535120" y="4773600"/>
              <a:ext cx="144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CF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</a:rPr>
                <a:t> 2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84600" y="3319560"/>
              <a:ext cx="376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60800" y="333360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25960" y="2279520"/>
            <a:ext cx="259200" cy="3205440"/>
            <a:chOff x="6825960" y="2279520"/>
            <a:chExt cx="259200" cy="3205440"/>
          </a:xfrm>
        </p:grpSpPr>
        <p:sp>
          <p:nvSpPr>
            <p:cNvPr id="134" name=""/>
            <p:cNvSpPr/>
            <p:nvPr/>
          </p:nvSpPr>
          <p:spPr>
            <a:xfrm flipV="1">
              <a:off x="7085160" y="2279520"/>
              <a:ext cx="0" cy="3205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6825960" y="2452680"/>
              <a:ext cx="258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2:05Z</dcterms:modified>
  <cp:revision>193</cp:revision>
  <dc:subject/>
  <dc:title>Mercados Digitais</dc:title>
</cp:coreProperties>
</file>