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0A9-CD47-4E3F-8AD3-EE116BF7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7356-0773-4355-A6A5-8C8F5993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345-3B4A-429C-8E27-690DB2D5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ECE-8498-49F4-A98A-7FBDBB0B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DC9-6244-4F8F-9BCD-104770C5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34B-A2DB-4641-BB25-8F57D942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C311-4E70-4C86-B61B-3A4344B8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C4B-811D-4968-8B8A-5A3CCBEF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3CF-6559-4F8C-BE5A-5BF6800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CE96-7C11-4F57-8D11-EA7D68A7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958-BAB9-424A-B082-C4BC038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34F1-5446-43DD-A471-EE98396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AD95-5B55-4BEE-A2AF-F06E2FEC3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68160" y="5389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6600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36640" y="614520"/>
            <a:ext cx="21315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Aula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Solução Num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0, Pg, 94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720" y="1604880"/>
            <a:ext cx="8080560" cy="14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Publicida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Weekday: Custo de $2.000 e circulação de 3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unday: Custo de $8.000 e curculação de 8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gosto: Tem pelo menos 26 Weekdays e 5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retriz: Mais que 8 Weekdays e 2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5440" y="4484520"/>
            <a:ext cx="61894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30.000 Weekdays + 80.000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000 Weekdays + 8.000 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40.00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Budge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6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Agos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Agos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Diretri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Diretriz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0240" y="3276720"/>
            <a:ext cx="56818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Weekday      Sunday         Disponí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ust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8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irculação                30.000        8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0680" y="43434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dver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44640" y="3402000"/>
            <a:ext cx="618948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30.000 Weekdays + 80.000 Sun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000 Weekdays + 8.000 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40.00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6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Week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undays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Advert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5, Pg, 96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1720" y="1604880"/>
            <a:ext cx="80805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Lease/Bu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nheiro em Caixa = $ 50.000 e Entrada = $ 10.000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Pode comprar até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ção desejada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Pelo menos 1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11400" y="4587840"/>
            <a:ext cx="6189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3.000 Lease + 1.000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000 Lease + 800 Buy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.0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roduçã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Buy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Dinheiro para Entrad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9320" y="3306600"/>
            <a:ext cx="516240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ease          Buy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ção                     2.000          1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Desembolso Mensal    3.000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   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680" y="43434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Leas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61960" y="3287880"/>
            <a:ext cx="41119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3.000 Lease + 1.000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.000 Lease + 800 Buy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.0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Buy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3080" y="1890720"/>
            <a:ext cx="346320" cy="1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44920" y="1832760"/>
            <a:ext cx="39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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Leas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19, Pg, 97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1720" y="1604880"/>
            <a:ext cx="80805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Carteira de Investiment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Dinheiro disponível = $ 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tencial =                   x 0.2 +                    x 0.4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2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isco =                   x 0.3 +                    x 0.8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( </a:t>
            </a:r>
            <a:r>
              <a:rPr b="1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0.5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6720" y="4861080"/>
            <a:ext cx="61898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  40*0.10 Tater + 50*0.12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 Tater + 5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0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Budge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8 Tater + 2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5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otenci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2 Tater + 4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Ris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04920" y="3394080"/>
            <a:ext cx="516276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ater            Lakeside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ço da Ação               4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otencial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0.2                  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isco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0.3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0.8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Retorno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 10%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         1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8360" y="32958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4840" y="464652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4200" y="25754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01560" y="2813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880" y="283068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58320" y="21340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 T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69480" y="23724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5800" y="238932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17280" y="21484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44640" y="238644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0600" y="240336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18480" y="259128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40 Ta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30000" y="282960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15960" y="2846520"/>
            <a:ext cx="8794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tock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028880" y="3287880"/>
            <a:ext cx="409716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  40*0.10 Tater + 50*0.12 Lak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 Tater + 5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0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8 Tater + 2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5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2 Tater + 40 Lake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0.00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Stock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20, Pg, 9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63840" y="4197240"/>
            <a:ext cx="6189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15 Custard + 25 Fr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2 Custard + 1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Farinha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0 Custard + 4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Ovo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 Custard + 1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9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Açúcar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5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2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Frutas Sec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44640" y="1920960"/>
            <a:ext cx="588492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ustard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Fruit Pie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Disponível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arinha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1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vo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4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úca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rutas Sec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Lucro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15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7840" y="379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6240" y="3129120"/>
            <a:ext cx="8584920" cy="390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50680" y="1127160"/>
            <a:ext cx="38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Programação e Conteú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8920" y="2000160"/>
            <a:ext cx="86191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6/09 - Introd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13/09 - FOL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/09 -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ção Gráfica de Problemas de 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/09 - Solução Numérica de Problemas de PL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/10 - Análise da Sensibilida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/10 - Programação Int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/10 - Programação M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/10 - Transporte, Transbordo e Atribui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/11 - Cobertura Mínima, Caminho Mínimo, Fluxo Máximo e Caixeiro Viaj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evisão Geral e Tópicos Suplement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8/11 - P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2560" y="3562200"/>
            <a:ext cx="4168800" cy="18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15 Custard + 25 Fr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2 Custard + 1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0 Custard + 4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5 Custard + 10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9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5 Fruit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2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20, Pg, 9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2320" y="4140360"/>
            <a:ext cx="61898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 100 L + 14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40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Cobr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25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6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Zin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10 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Ferr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40 L + 25 S </a:t>
            </a:r>
            <a:r>
              <a:rPr b="1" lang="en-US" sz="14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1000 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[Resíduo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87400" y="1776240"/>
            <a:ext cx="58849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a Paz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Sucre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Demanda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br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4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Zinc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err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i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Resíduos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40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        1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usto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       100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7840" y="379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Sucr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87560" y="3244680"/>
            <a:ext cx="61894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 100 L + 14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40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25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10 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Sucr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31960" y="3146400"/>
            <a:ext cx="5064120" cy="24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1880" y="852480"/>
            <a:ext cx="444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20, Pg, 98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2320" y="4140360"/>
            <a:ext cx="618984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 100 L + 140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40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8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Cobr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25 S</a:t>
            </a:r>
            <a:r>
              <a:rPr b="1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6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Zinc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L + 10 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5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Ferr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 L + 25 S </a:t>
            </a: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0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Resíduo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87400" y="1776240"/>
            <a:ext cx="588492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a Paz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Sucre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   Demanda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br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4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Zinc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Ferr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Li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Resíduos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       1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usto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       100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840" y="379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Sucre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362400" y="2957400"/>
            <a:ext cx="262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Utilização 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ftw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WinQSB e LI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3960" y="112716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85600" y="1909080"/>
            <a:ext cx="23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Modelo Matem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61560" y="256644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Variáveis de Deci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09360" y="32662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Função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75160" y="38887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Programaçã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 Black"/>
              </a:rPr>
              <a:t>Mate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1520" y="1736640"/>
            <a:ext cx="5641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oblem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Atual: R$ 90.000,00 no Caix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ituação Desejada: R$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9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em apli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TeleMundo custam R$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6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ções da CosmoFone custam R$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 o 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esperado é de R$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/a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 Diretoria não quer que se aplique mai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$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60.000,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em ações de uma só companh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32960" y="4911840"/>
            <a:ext cx="4080600" cy="1394640"/>
            <a:chOff x="732960" y="4911840"/>
            <a:chExt cx="4080600" cy="1394640"/>
          </a:xfrm>
        </p:grpSpPr>
        <p:sp>
          <p:nvSpPr>
            <p:cNvPr id="174" name=""/>
            <p:cNvSpPr/>
            <p:nvPr/>
          </p:nvSpPr>
          <p:spPr>
            <a:xfrm>
              <a:off x="789840" y="5999400"/>
              <a:ext cx="2839680" cy="30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086" y="7855"/>
                  </a:moveTo>
                  <a:lnTo>
                    <a:pt x="35065" y="7855"/>
                  </a:lnTo>
                  <a:lnTo>
                    <a:pt x="35065" y="-200509"/>
                  </a:lnTo>
                  <a:lnTo>
                    <a:pt x="34762" y="-231656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Max R$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 Black"/>
                </a:rPr>
                <a:t>4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+ R$ </a:t>
              </a:r>
              <a:r>
                <a:rPr b="0" lang="en-US" sz="1400" spc="-1" strike="noStrike">
                  <a:solidFill>
                    <a:srgbClr val="ff3300"/>
                  </a:solidFill>
                  <a:latin typeface="Arial Black"/>
                </a:rPr>
                <a:t>6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2960" y="4911840"/>
              <a:ext cx="264384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2138" y="4684"/>
                  </a:moveTo>
                  <a:lnTo>
                    <a:pt x="33717" y="4684"/>
                  </a:lnTo>
                  <a:lnTo>
                    <a:pt x="33717" y="-11906"/>
                  </a:lnTo>
                  <a:lnTo>
                    <a:pt x="34445" y="-18687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3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6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5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00"/>
                  </a:solidFill>
                  <a:latin typeface="Arial Black"/>
                </a:rPr>
                <a:t>6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69760" y="5545440"/>
              <a:ext cx="3943800" cy="307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21954" y="7624"/>
                  </a:moveTo>
                  <a:lnTo>
                    <a:pt x="24566" y="7624"/>
                  </a:lnTo>
                  <a:lnTo>
                    <a:pt x="24566" y="-181800"/>
                  </a:lnTo>
                  <a:lnTo>
                    <a:pt x="21022" y="-22485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3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CF + R$ </a:t>
              </a:r>
              <a:r>
                <a:rPr b="0" lang="en-US" sz="1400" spc="-1" strike="noStrike">
                  <a:solidFill>
                    <a:srgbClr val="008000"/>
                  </a:solidFill>
                  <a:latin typeface="Arial Black"/>
                </a:rPr>
                <a:t>50,00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x TM </a:t>
              </a:r>
              <a:r>
                <a:rPr b="0" lang="en-US" sz="1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</a:t>
              </a:r>
              <a:r>
                <a:rPr b="0" lang="en-US" sz="1400" spc="-1" strike="noStrike">
                  <a:solidFill>
                    <a:srgbClr val="0000ff"/>
                  </a:solidFill>
                  <a:latin typeface="Arial Black"/>
                </a:rPr>
                <a:t> R$ </a:t>
              </a:r>
              <a:r>
                <a:rPr b="0" lang="en-US" sz="1400" spc="-1" strike="noStrike">
                  <a:solidFill>
                    <a:srgbClr val="9900ff"/>
                  </a:solidFill>
                  <a:latin typeface="Arial Black"/>
                </a:rPr>
                <a:t>90.000,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62440" y="3648240"/>
            <a:ext cx="2324160" cy="1847520"/>
          </a:xfrm>
          <a:custGeom>
            <a:avLst/>
            <a:gdLst/>
            <a:ahLst/>
            <a:rect l="l" t="t" r="r" b="b"/>
            <a:pathLst>
              <a:path w="1464" h="1164">
                <a:moveTo>
                  <a:pt x="0" y="0"/>
                </a:moveTo>
                <a:lnTo>
                  <a:pt x="744" y="0"/>
                </a:lnTo>
                <a:lnTo>
                  <a:pt x="1464" y="588"/>
                </a:lnTo>
                <a:lnTo>
                  <a:pt x="1464" y="1164"/>
                </a:lnTo>
                <a:lnTo>
                  <a:pt x="0" y="1164"/>
                </a:lnTo>
                <a:lnTo>
                  <a:pt x="0" y="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762440" y="3146400"/>
            <a:ext cx="2611440" cy="2338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48040" y="2324160"/>
            <a:ext cx="3492720" cy="317484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89760" y="112716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ão Grá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9400" y="5499000"/>
            <a:ext cx="4155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62440" y="1876320"/>
            <a:ext cx="0" cy="386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945040" y="53974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217000" y="539280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7086600" y="5384880"/>
            <a:ext cx="0" cy="18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29480" y="554688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402760" y="504180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99080" y="556884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86800" y="5540400"/>
            <a:ext cx="103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3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660560" y="394020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668480" y="236052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29040" y="2184480"/>
            <a:ext cx="144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2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1120" y="3780000"/>
            <a:ext cx="121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1703520"/>
            <a:ext cx="5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48040" y="3954600"/>
            <a:ext cx="1775160" cy="15444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57760" y="4741920"/>
            <a:ext cx="865080" cy="73656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62440" y="2684520"/>
            <a:ext cx="3448080" cy="2814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085160" y="2279520"/>
            <a:ext cx="0" cy="3205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62440" y="3651120"/>
            <a:ext cx="34052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441920" y="5015520"/>
            <a:ext cx="160200" cy="2030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825960" y="2452680"/>
            <a:ext cx="258840" cy="1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059320" y="3660120"/>
            <a:ext cx="1800" cy="25884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253120" y="2381400"/>
            <a:ext cx="403200" cy="404640"/>
          </a:xfrm>
          <a:prstGeom prst="line">
            <a:avLst/>
          </a:prstGeom>
          <a:ln w="7632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22160" y="20692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05600" y="4299120"/>
            <a:ext cx="1139760" cy="350640"/>
            <a:chOff x="7005600" y="4299120"/>
            <a:chExt cx="1139760" cy="350640"/>
          </a:xfrm>
        </p:grpSpPr>
        <p:sp>
          <p:nvSpPr>
            <p:cNvPr id="211" name=""/>
            <p:cNvSpPr/>
            <p:nvPr/>
          </p:nvSpPr>
          <p:spPr>
            <a:xfrm>
              <a:off x="7005600" y="4503600"/>
              <a:ext cx="146160" cy="146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94600" y="4299120"/>
              <a:ext cx="95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Ó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123200" y="4458960"/>
            <a:ext cx="12794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Soluçã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F = 2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M =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3360" y="174960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4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9900ff"/>
                </a:solidFill>
                <a:latin typeface="Arial Black"/>
              </a:rPr>
              <a:t> + 6,00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41280" y="2335320"/>
            <a:ext cx="39243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.t.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50,00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30,00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7920" y="2957400"/>
            <a:ext cx="212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Soluções 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Au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cosmo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cosmo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9600" y="1244520"/>
            <a:ext cx="392400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cosmo2s" descr=""/>
          <p:cNvPicPr/>
          <p:nvPr/>
        </p:nvPicPr>
        <p:blipFill>
          <a:blip r:embed="rId1"/>
          <a:stretch/>
        </p:blipFill>
        <p:spPr>
          <a:xfrm>
            <a:off x="3341520" y="3859200"/>
            <a:ext cx="5384880" cy="217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348000" y="6032520"/>
            <a:ext cx="538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715240" y="3852720"/>
            <a:ext cx="0" cy="217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151600" y="1990080"/>
            <a:ext cx="1355400" cy="1182600"/>
          </a:xfrm>
          <a:custGeom>
            <a:avLst/>
            <a:gdLst>
              <a:gd name="textAreaLeft" fmla="*/ 451800 w 1355400"/>
              <a:gd name="textAreaRight" fmla="*/ 1161000 w 1355400"/>
              <a:gd name="textAreaTop" fmla="*/ 680760 h 1182600"/>
              <a:gd name="textAreaBottom" fmla="*/ 101268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cosmogr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cosmopl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cosmo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cosmlin1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71438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019320" y="2313000"/>
            <a:ext cx="3924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Max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4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6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s.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9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3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F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50,0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M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cc00ff"/>
                </a:solidFill>
                <a:latin typeface="Arial Black"/>
              </a:rPr>
              <a:t>6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822240" y="2479680"/>
            <a:ext cx="1355760" cy="1182600"/>
          </a:xfrm>
          <a:custGeom>
            <a:avLst/>
            <a:gdLst>
              <a:gd name="textAreaLeft" fmla="*/ 452160 w 1355760"/>
              <a:gd name="textAreaRight" fmla="*/ 1161720 w 1355760"/>
              <a:gd name="textAreaTop" fmla="*/ 681120 h 1182600"/>
              <a:gd name="textAreaBottom" fmla="*/ 101304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cosmlin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5, Pg, 93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Die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w Chow Feed (Chow) : 1 u cálcio, 40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o Town Buffet (Moo) : 2u cálcio, 25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ecessidades diárias por vaca: 100 u cálcio, 20000 calorias e 1500 u proteí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ustos: Chow = $ 0.015 e Moo = $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27320" y="4917960"/>
            <a:ext cx="5208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[cálci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alori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[proteín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25760" y="3192480"/>
            <a:ext cx="37796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how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Moo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Ne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álci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alori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2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teín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usto         0.015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Manuf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65040" y="3790800"/>
            <a:ext cx="35197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51400" y="3548160"/>
            <a:ext cx="1355400" cy="1182600"/>
          </a:xfrm>
          <a:custGeom>
            <a:avLst/>
            <a:gdLst>
              <a:gd name="textAreaLeft" fmla="*/ 451800 w 1355400"/>
              <a:gd name="textAreaRight" fmla="*/ 1161000 w 1355400"/>
              <a:gd name="textAreaTop" fmla="*/ 681120 h 1182600"/>
              <a:gd name="textAreaBottom" fmla="*/ 1013040 h 1182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5, Pg, 93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Die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w Chow Feed (Chow) : 1 u cálcio, 40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o Town Buffet (Moo) : 2u cálcio, 250 calorias, 20 u proteí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Necessidades diárias por vaca: 100 u cálcio, 20000 calorias e 1500 u proteí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ustos: Chow = $ 0.015 e Moo = $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27320" y="4917960"/>
            <a:ext cx="520848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álci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0       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calori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[proteína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25760" y="3192480"/>
            <a:ext cx="377964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how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  Moo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Ne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álci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calori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4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25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teína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2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custo         0.015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0.0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Manuf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Manuf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Lind1" descr=""/>
          <p:cNvPicPr/>
          <p:nvPr/>
        </p:nvPicPr>
        <p:blipFill>
          <a:blip r:embed="rId1"/>
          <a:stretch/>
        </p:blipFill>
        <p:spPr>
          <a:xfrm>
            <a:off x="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2328840" y="2421000"/>
            <a:ext cx="351936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48720" y="2104920"/>
            <a:ext cx="1355400" cy="1182960"/>
          </a:xfrm>
          <a:custGeom>
            <a:avLst/>
            <a:gdLst>
              <a:gd name="textAreaLeft" fmla="*/ 451440 w 1355400"/>
              <a:gd name="textAreaRight" fmla="*/ 1160640 w 1355400"/>
              <a:gd name="textAreaTop" fmla="*/ 681480 h 1182960"/>
              <a:gd name="textAreaBottom" fmla="*/ 1013400 h 11829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ind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74840" y="3233880"/>
            <a:ext cx="30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s para 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 de Hoj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8880" y="1662120"/>
            <a:ext cx="80946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anufa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rodutos : Z345 St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Z345 In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I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W250 St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W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, W250 Ind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WI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Estratégia: Pelo menos 50% Indust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I +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.5 (ZS + ZI + WS + W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- 0.5 ZS + 0.5 ZI - 0.5 WS + 0.5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ix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ZS + Z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.75 (ZS + ZI + WS + WI)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25 ZS + 0.25 ZI - 0.75 WS - 0.75 WI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WS + WI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0.75 (ZS + ZI + WS + WI)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-0.75 ZS - 0.75 ZI + 0.25 WS + 0.25 WI </a:t>
            </a:r>
            <a:r>
              <a:rPr b="0" lang="en-US" sz="1600" spc="-1" strike="noStrike">
                <a:solidFill>
                  <a:srgbClr val="008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42280" y="104148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8880" y="1562040"/>
            <a:ext cx="8340840" cy="44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e Investiment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Títulos :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tocks = EAL, BRU, 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onds = BL,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e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T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elo menos 25% dos Stocks no TAT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.25 (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+ BRU + 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0.75 TAT - 0.25 EAL - 0.25 BRU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0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elo menos tantos Bonds quanto Stocks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L +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+ BRU + 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L + 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-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EAL - BRU - TAT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enos de 12.500 em titulos com retorno anual menor que 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0%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AT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B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TDA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12.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891160" y="9540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24080" y="1577880"/>
            <a:ext cx="685296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Diet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herioos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Grap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P19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Bran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Desej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h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Gr          P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B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t A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3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3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2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2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t C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2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t D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25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t B6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erro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4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4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100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25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Açúcar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12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 9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    9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 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Sabor 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Pelo menos 10% de cada cereal 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Ch </a:t>
            </a:r>
            <a:r>
              <a:rPr b="0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0.1 (Ch + Gr + P + B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ou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0.9 Ch - 0.1 Gr - 0.1 P - 0.1 Br  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40040" y="9540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51560" y="95400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1760" y="559152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centraçõ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04840" y="2324160"/>
            <a:ext cx="1068480" cy="144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92320" y="2454120"/>
            <a:ext cx="6350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0760" y="25218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5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5200" y="3799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14960" y="2721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235400" y="2332080"/>
            <a:ext cx="1343160" cy="1730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65720" y="2462040"/>
            <a:ext cx="504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82280" y="24724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54280" y="409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3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77080" y="2717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67640" y="2355840"/>
            <a:ext cx="1689120" cy="206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4760" y="2486160"/>
            <a:ext cx="79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44480" y="2612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8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014600" y="446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5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11360" y="4230720"/>
            <a:ext cx="0" cy="12128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01320" y="5547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.5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13200" y="4527720"/>
            <a:ext cx="0" cy="909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17560" y="55555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0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1240" y="4923000"/>
            <a:ext cx="0" cy="5349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5720" y="55634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6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7480" y="1619280"/>
            <a:ext cx="31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7480" y="1619280"/>
            <a:ext cx="31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04840" y="2324160"/>
            <a:ext cx="1068480" cy="1442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92320" y="2454120"/>
            <a:ext cx="6350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10760" y="252180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5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095200" y="3799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414960" y="272196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35400" y="2332080"/>
            <a:ext cx="1343160" cy="17301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65720" y="2462040"/>
            <a:ext cx="504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82280" y="24724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3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54280" y="40964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3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77080" y="2717280"/>
            <a:ext cx="52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7640" y="2355840"/>
            <a:ext cx="1689120" cy="2063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4760" y="2486160"/>
            <a:ext cx="792360" cy="649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44480" y="261216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8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14600" y="4466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5 li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11360" y="4230720"/>
            <a:ext cx="0" cy="121284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01320" y="55476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2.5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813200" y="4527720"/>
            <a:ext cx="0" cy="9093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7560" y="55555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0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91240" y="4923000"/>
            <a:ext cx="0" cy="5349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65720" y="556344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 Black"/>
              </a:rPr>
              <a:t>1.6 g/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30800" y="554616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2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61440" y="5554080"/>
            <a:ext cx="5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3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50880" y="55620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(2 + 3) 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668240" y="5959080"/>
            <a:ext cx="6110280" cy="405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+ ... + 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= (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 + ... + vol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n</a:t>
            </a: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) x conc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Arial Black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51560" y="95400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Manuf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65040" y="3416400"/>
            <a:ext cx="35197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in 0.015 Chow + 0.020 M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Chow + 2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400 Chow + 25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0000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0 Chow + 20 Moo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15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030480" y="2120760"/>
            <a:ext cx="2451240" cy="102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7120" y="1563840"/>
            <a:ext cx="8453520" cy="50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Mistu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                     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aso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Octanagem   Reg (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  Prem (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9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Available                 Cost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acific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5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                p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42 x 3.000 = 126.000     $0,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Gulf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87            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                g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 42 x 2000 = 84.000        $0.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iddle Eas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95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              mp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         42 x 8000 = 336.000      $0,47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$0,52          $0,6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Regular:    8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87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9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87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(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mium:      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Availability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26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acific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Gulf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Middle East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ontracts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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00.0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Re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....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[Pr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pacidade de Processamento: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4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 = 0,52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 + 0,60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+ 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- 0,34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p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- 0,36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 - 0,47 (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+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)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= 0.05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3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m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4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gp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18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pr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+ 0.26 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p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7880" y="35258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851560" y="95400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1760" y="2284560"/>
            <a:ext cx="8512200" cy="36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a Propagan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Ketchup     Spaghetti       Taco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        Joint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K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S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T                        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Aumento          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4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3,2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   11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       1,4  +  1,4  +  1,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 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x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x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    x                x         x        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reço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0,30 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0,35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  0,10           0,30     0,35    0,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Retorno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=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,20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=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,12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     =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,10</a:t>
            </a:r>
            <a:r>
              <a:rPr b="0" lang="en-US" sz="1600" spc="-1" strike="noStrike">
                <a:solidFill>
                  <a:srgbClr val="990000"/>
                </a:solidFill>
                <a:latin typeface="Arial Black"/>
              </a:rPr>
              <a:t>      =0,42 + 0,49 + 0,14 =</a:t>
            </a:r>
            <a:r>
              <a:rPr b="0" lang="en-US" sz="1600" spc="-1" strike="noStrike">
                <a:solidFill>
                  <a:srgbClr val="9933ff"/>
                </a:solidFill>
                <a:latin typeface="Arial Black"/>
              </a:rPr>
              <a:t>1,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02320" y="104148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0280" y="1738440"/>
            <a:ext cx="807876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 Black"/>
              </a:rPr>
              <a:t>Problema do Sanduích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Turkey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 Beef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Arial Black"/>
              </a:rPr>
              <a:t>Ham      Club      All Meat         Disp                    Cu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T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B           H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C           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eru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8 x 16 = 384        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Carne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12 x 16 = 576    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esunt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0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0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4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10 x 16 = 480      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Queij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  1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 3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00"/>
                </a:solidFill>
                <a:latin typeface="Arial Black"/>
              </a:rPr>
              <a:t> 2            50           3 x 8 x 16 = 384        5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Preço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   2,75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  3,50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33ff"/>
                </a:solidFill>
                <a:latin typeface="Arial Black"/>
              </a:rPr>
              <a:t>3,25      4,00         4,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51560" y="1041480"/>
            <a:ext cx="35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Dica para o Exercício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93880" y="2976480"/>
            <a:ext cx="378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Bom Trabalh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87920" y="11271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rcí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54200" y="1528920"/>
            <a:ext cx="774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(Capítulo 4, Lawrence e Pasternack, 199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Manuf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4000" y="18504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Arial Black"/>
              </a:rPr>
              <a:t>ITA-E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9120" y="852480"/>
            <a:ext cx="4333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Black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 Black"/>
              </a:rPr>
              <a:t>(Exercício 2, Pg, 92, Lawrence &amp; Pasterna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1720" y="1604880"/>
            <a:ext cx="80805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blema da Manufatur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ão-de-obra disponível: na Produção  300 h e na Montagem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Produção 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 h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Montagem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1 h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 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Lucro: GE45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$50 e GE60 </a:t>
            </a: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$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5760" y="4989600"/>
            <a:ext cx="52088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50 GE45 + 75 GE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 GE45 + 2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3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Produçã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GE45 + 3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40        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[Montagem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25760" y="3336840"/>
            <a:ext cx="5537160" cy="11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</a:t>
            </a: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GE45      GE60        Disp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Produção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2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Arial Black"/>
              </a:rPr>
              <a:t>Montagem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3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2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Lucro                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	</a:t>
            </a:r>
            <a:r>
              <a:rPr b="0" lang="en-US" sz="1400" spc="-1" strike="noStrike">
                <a:solidFill>
                  <a:srgbClr val="9900ff"/>
                </a:solidFill>
                <a:latin typeface="Arial Black"/>
              </a:rPr>
              <a:t>50           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12264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0680" y="4746600"/>
            <a:ext cx="81914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E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476360" y="3446640"/>
            <a:ext cx="359244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Max 50 GE45 + 75 GE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2 GE45 + 2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300</a:t>
            </a:r>
            <a:r>
              <a:rPr b="0" lang="en-US" sz="1400" spc="-1" strike="noStrike">
                <a:solidFill>
                  <a:srgbClr val="0000ff"/>
                </a:solidFill>
                <a:latin typeface="Arial Black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1 GE45 + 75 GE60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ff3300"/>
                </a:solidFill>
                <a:latin typeface="Arial Black"/>
              </a:rPr>
              <a:t> 240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GE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1:01:38Z</dcterms:created>
  <dc:creator>Takashi Yoneyama</dc:creator>
  <dc:description/>
  <dc:language>en-US</dc:language>
  <cp:lastModifiedBy>Otto Gottlieb</cp:lastModifiedBy>
  <cp:lastPrinted>2000-07-03T14:27:54Z</cp:lastPrinted>
  <dcterms:modified xsi:type="dcterms:W3CDTF">2003-09-05T23:02:34Z</dcterms:modified>
  <cp:revision>217</cp:revision>
  <dc:subject/>
  <dc:title>Mercados Digitais</dc:title>
</cp:coreProperties>
</file>