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5D0-F465-49BC-A69A-FF893CF1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ADF-4B77-4D09-B36E-7C48E4C7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F38-C341-443C-954F-BC941904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32F-0B92-4BD5-9BB7-E7E082F7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B93-1959-4002-B886-F6B27B96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2FD-3999-420B-ADCD-4D4C42BA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D5E-1D84-4350-A341-00892AE1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91D-A4FE-4A0A-8433-F74DFFA8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BC9-B45C-4AAE-83A8-360B4778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187-350A-4EFF-94D2-DACD8CFC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9E3-7E85-42D7-BBCB-8F22678D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7AC-CD9F-4EFA-84B9-F7CA44E3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301C-847D-43BB-A7FB-013FB4CDC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8160" y="5389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29040" y="613080"/>
            <a:ext cx="27655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ula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nálise de Sens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2360" y="112716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blema da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0" y="1903320"/>
            <a:ext cx="436248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Identificar e definir o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0800" y="3857760"/>
            <a:ext cx="2673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Escolher uma 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20800" y="2568600"/>
            <a:ext cx="553104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Determinar o conjunto de ações poss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11320" y="3218040"/>
            <a:ext cx="498312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Propor critérios para avaliar as 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00480" y="4473720"/>
            <a:ext cx="414648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Implementar a ação escolh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5400" y="5140440"/>
            <a:ext cx="4128840" cy="1214280"/>
          </a:xfrm>
          <a:prstGeom prst="diamond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Avaliar o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59320" y="229536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7760" y="294012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7480" y="358920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423396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7480" y="4854600"/>
            <a:ext cx="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4440" y="5835240"/>
            <a:ext cx="126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Satisfató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4800" y="581292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Não Satisfató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54760" y="5554800"/>
            <a:ext cx="97632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66040" y="5749920"/>
            <a:ext cx="118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999720" y="5741640"/>
            <a:ext cx="1438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995400" y="4041360"/>
            <a:ext cx="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5400" y="4040280"/>
            <a:ext cx="2165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81960" y="1674720"/>
            <a:ext cx="1812600" cy="795600"/>
          </a:xfrm>
          <a:prstGeom prst="leftArrow">
            <a:avLst>
              <a:gd name="adj1" fmla="val 68065"/>
              <a:gd name="adj2" fmla="val 47876"/>
            </a:avLst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Incerte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07400" y="3011400"/>
            <a:ext cx="1958760" cy="750960"/>
          </a:xfrm>
          <a:prstGeom prst="leftArrow">
            <a:avLst>
              <a:gd name="adj1" fmla="val 68065"/>
              <a:gd name="adj2" fmla="val 54811"/>
            </a:avLst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je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38560" y="3570120"/>
            <a:ext cx="374400" cy="3733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3960" y="1787400"/>
            <a:ext cx="18817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70560" y="5084640"/>
            <a:ext cx="3155400" cy="120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40" y="2012"/>
                </a:moveTo>
                <a:lnTo>
                  <a:pt x="25301" y="2012"/>
                </a:lnTo>
                <a:lnTo>
                  <a:pt x="25301" y="-6231"/>
                </a:lnTo>
                <a:lnTo>
                  <a:pt x="-6554" y="-23475"/>
                </a:lnTo>
              </a:path>
              <a:path w="21600" h="21600">
                <a:moveTo>
                  <a:pt x="22040" y="0"/>
                </a:moveTo>
                <a:lnTo>
                  <a:pt x="22040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Incertezas e subjetivida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- Que aconteceria com a fun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objetivo se, ao invés de 6, fosse 7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- Será que esta restrição está s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atisfeita com muita folg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093760" y="2516040"/>
            <a:ext cx="374760" cy="3733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3960" y="1787400"/>
            <a:ext cx="18817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8680" y="5214600"/>
            <a:ext cx="3140280" cy="101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5" y="2434"/>
                </a:moveTo>
                <a:lnTo>
                  <a:pt x="25304" y="2434"/>
                </a:lnTo>
                <a:lnTo>
                  <a:pt x="25304" y="-15685"/>
                </a:lnTo>
                <a:lnTo>
                  <a:pt x="5365" y="-51698"/>
                </a:lnTo>
              </a:path>
              <a:path w="21600" h="21600">
                <a:moveTo>
                  <a:pt x="22035" y="0"/>
                </a:moveTo>
                <a:lnTo>
                  <a:pt x="22035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Incertezas e subjetivida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- Que aconteceria com o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ótimos de x</a:t>
            </a:r>
            <a:r>
              <a:rPr b="0" lang="en-US" sz="14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 x</a:t>
            </a:r>
            <a:r>
              <a:rPr b="0" lang="en-US" sz="14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se este co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fosse alterado de 2 para 3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314960" y="4419720"/>
            <a:ext cx="1876320" cy="1076040"/>
          </a:xfrm>
          <a:custGeom>
            <a:avLst/>
            <a:gdLst/>
            <a:ahLst/>
            <a:rect l="l" t="t" r="r" b="b"/>
            <a:pathLst>
              <a:path w="1182" h="678">
                <a:moveTo>
                  <a:pt x="0" y="0"/>
                </a:moveTo>
                <a:lnTo>
                  <a:pt x="432" y="0"/>
                </a:lnTo>
                <a:lnTo>
                  <a:pt x="846" y="180"/>
                </a:lnTo>
                <a:lnTo>
                  <a:pt x="1182" y="678"/>
                </a:lnTo>
                <a:lnTo>
                  <a:pt x="6" y="67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3960" y="1787400"/>
            <a:ext cx="18817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99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99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9900ff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3360" y="5484960"/>
            <a:ext cx="411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329000" y="1947960"/>
            <a:ext cx="0" cy="37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90560" y="504072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0080" y="168480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57720" y="4127400"/>
            <a:ext cx="17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37200" y="2779560"/>
            <a:ext cx="172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50000" y="5401800"/>
            <a:ext cx="0" cy="1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565600" y="5400720"/>
            <a:ext cx="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186600" y="5403960"/>
            <a:ext cx="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99320" y="5392800"/>
            <a:ext cx="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432560" y="5396040"/>
            <a:ext cx="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74200" y="5736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17160" y="572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872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44040" y="5734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504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85680" y="5725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45600" y="3975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4960" y="266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29000" y="2786040"/>
            <a:ext cx="1862280" cy="26989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328640" y="4127040"/>
            <a:ext cx="3102120" cy="135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29000" y="4416480"/>
            <a:ext cx="3260880" cy="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02680" y="4430880"/>
            <a:ext cx="0" cy="288720"/>
          </a:xfrm>
          <a:prstGeom prst="line">
            <a:avLst/>
          </a:prstGeom>
          <a:ln w="381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87760" y="3381480"/>
            <a:ext cx="225360" cy="110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99200" y="5397480"/>
            <a:ext cx="115920" cy="274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flipH="1" flipV="1">
            <a:off x="5213160" y="4215960"/>
            <a:ext cx="718920" cy="7938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14960" y="4419720"/>
            <a:ext cx="1876320" cy="1076040"/>
          </a:xfrm>
          <a:custGeom>
            <a:avLst/>
            <a:gdLst/>
            <a:ahLst/>
            <a:rect l="l" t="t" r="r" b="b"/>
            <a:pathLst>
              <a:path w="1182" h="678">
                <a:moveTo>
                  <a:pt x="0" y="0"/>
                </a:moveTo>
                <a:lnTo>
                  <a:pt x="432" y="0"/>
                </a:lnTo>
                <a:lnTo>
                  <a:pt x="846" y="180"/>
                </a:lnTo>
                <a:lnTo>
                  <a:pt x="1182" y="678"/>
                </a:lnTo>
                <a:lnTo>
                  <a:pt x="6" y="672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3960" y="1787400"/>
            <a:ext cx="18817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99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99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9900ff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3360" y="5484960"/>
            <a:ext cx="411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29000" y="1947960"/>
            <a:ext cx="0" cy="37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90560" y="504072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0080" y="168480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57720" y="4127400"/>
            <a:ext cx="1731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37200" y="2779560"/>
            <a:ext cx="172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50000" y="5401800"/>
            <a:ext cx="0" cy="187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565600" y="540072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186600" y="540396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799320" y="539280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432560" y="539604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74200" y="5736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17160" y="572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872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44040" y="5734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6504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85680" y="5725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45600" y="3975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4960" y="266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29000" y="2786040"/>
            <a:ext cx="1862280" cy="2698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328640" y="4127040"/>
            <a:ext cx="3102120" cy="1357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29000" y="4416480"/>
            <a:ext cx="3260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02680" y="4430880"/>
            <a:ext cx="0" cy="2887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87760" y="3381480"/>
            <a:ext cx="225360" cy="11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099200" y="5397480"/>
            <a:ext cx="115920" cy="2746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328640" y="2800080"/>
            <a:ext cx="2467080" cy="268452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295520" y="3443040"/>
            <a:ext cx="1888920" cy="20206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309920" y="4134960"/>
            <a:ext cx="1254240" cy="134316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308480" y="2114640"/>
            <a:ext cx="3116160" cy="33494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338800" y="2755800"/>
            <a:ext cx="520560" cy="4622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4480" y="2430000"/>
            <a:ext cx="13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Lucro 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84680" y="46465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318360" y="3551400"/>
            <a:ext cx="750600" cy="25848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3960" y="1787400"/>
            <a:ext cx="18817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0000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9900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9900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990000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318360" y="3551400"/>
            <a:ext cx="750600" cy="25848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3960" y="1787400"/>
            <a:ext cx="18817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0000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9900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9900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990000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35280" y="2379600"/>
            <a:ext cx="1330560" cy="23040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0560" y="2612880"/>
            <a:ext cx="0" cy="17748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62280" y="4590720"/>
            <a:ext cx="136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Black"/>
              </a:rPr>
              <a:t>x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Arial Black"/>
              </a:rPr>
              <a:t>2</a:t>
            </a:r>
            <a:r>
              <a:rPr b="1" lang="en-US" sz="1800" spc="-1" strike="noStrike">
                <a:solidFill>
                  <a:srgbClr val="990000"/>
                </a:solidFill>
                <a:latin typeface="Arial Black"/>
              </a:rPr>
              <a:t> = 0.57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2568600" y="2785680"/>
            <a:ext cx="663480" cy="4876920"/>
          </a:xfrm>
          <a:custGeom>
            <a:avLst/>
            <a:gdLst>
              <a:gd name="textAreaLeft" fmla="*/ 424080 w 663480"/>
              <a:gd name="textAreaRight" fmla="*/ 663840 w 663480"/>
              <a:gd name="textAreaTop" fmla="*/ 181440 h 4876920"/>
              <a:gd name="textAreaBottom" fmla="*/ 4695480 h 487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84"/>
                  <a:pt x="10800" y="2568"/>
                </a:cubicBezTo>
                <a:lnTo>
                  <a:pt x="10800" y="8096"/>
                </a:lnTo>
                <a:cubicBezTo>
                  <a:pt x="10800" y="9380"/>
                  <a:pt x="5400" y="10664"/>
                  <a:pt x="0" y="10664"/>
                </a:cubicBezTo>
                <a:cubicBezTo>
                  <a:pt x="5400" y="10664"/>
                  <a:pt x="10800" y="11948"/>
                  <a:pt x="10800" y="13232"/>
                </a:cubicBezTo>
                <a:lnTo>
                  <a:pt x="10800" y="19032"/>
                </a:lnTo>
                <a:cubicBezTo>
                  <a:pt x="10800" y="2031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57400" y="570636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 Black"/>
              </a:rPr>
              <a:t>Folga = 0.8000 - 0.5714 = </a:t>
            </a:r>
            <a:r>
              <a:rPr b="0" lang="en-US" sz="1800" spc="-1" strike="noStrike" u="sng">
                <a:solidFill>
                  <a:srgbClr val="990000"/>
                </a:solidFill>
                <a:uFillTx/>
                <a:latin typeface="Arial Black"/>
              </a:rPr>
              <a:t>0.22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80680" y="4235040"/>
            <a:ext cx="1695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lack or Surp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35040" y="3579840"/>
            <a:ext cx="2106720" cy="331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960" y="1787400"/>
            <a:ext cx="18817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69696"/>
                </a:solidFill>
                <a:latin typeface="Arial Black"/>
              </a:rPr>
              <a:t>Max   x</a:t>
            </a:r>
            <a:r>
              <a:rPr b="1" lang="pt-BR" sz="1800" spc="-1" strike="noStrike" baseline="-25000">
                <a:solidFill>
                  <a:srgbClr val="969696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969696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969696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69696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69696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969696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969696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969696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969696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969696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969696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69696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969696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969696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969696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969696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81920" y="1787400"/>
            <a:ext cx="1779480" cy="33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ff3300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99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9933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ff3300"/>
                </a:solidFill>
                <a:uFillTx/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3360" y="5484960"/>
            <a:ext cx="411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329000" y="1947960"/>
            <a:ext cx="0" cy="37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90560" y="504072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20080" y="168480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57720" y="4127400"/>
            <a:ext cx="1731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37200" y="2779560"/>
            <a:ext cx="172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950000" y="5401800"/>
            <a:ext cx="0" cy="187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565600" y="540072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186600" y="540396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799320" y="539280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432560" y="539604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74200" y="5736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17160" y="572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872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44040" y="5734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6504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85680" y="5725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45600" y="3975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4960" y="266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29000" y="2786040"/>
            <a:ext cx="1862280" cy="26989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08480" y="2319480"/>
            <a:ext cx="2193840" cy="31748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9572600">
            <a:off x="5137200" y="3940200"/>
            <a:ext cx="677880" cy="345960"/>
          </a:xfrm>
          <a:prstGeom prst="rightArrow">
            <a:avLst>
              <a:gd name="adj1" fmla="val 50000"/>
              <a:gd name="adj2" fmla="val 489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336920" y="4413240"/>
            <a:ext cx="2127240" cy="1066680"/>
          </a:xfrm>
          <a:custGeom>
            <a:avLst/>
            <a:gdLst/>
            <a:ahLst/>
            <a:rect l="l" t="t" r="r" b="b"/>
            <a:pathLst>
              <a:path w="1340" h="672">
                <a:moveTo>
                  <a:pt x="0" y="0"/>
                </a:moveTo>
                <a:lnTo>
                  <a:pt x="432" y="0"/>
                </a:lnTo>
                <a:lnTo>
                  <a:pt x="1113" y="311"/>
                </a:lnTo>
                <a:lnTo>
                  <a:pt x="1340" y="666"/>
                </a:lnTo>
                <a:lnTo>
                  <a:pt x="6" y="672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24320" y="4402080"/>
            <a:ext cx="1866960" cy="1093680"/>
          </a:xfrm>
          <a:custGeom>
            <a:avLst/>
            <a:gdLst/>
            <a:ahLst/>
            <a:rect l="l" t="t" r="r" b="b"/>
            <a:pathLst>
              <a:path w="1176" h="689">
                <a:moveTo>
                  <a:pt x="3" y="0"/>
                </a:moveTo>
                <a:lnTo>
                  <a:pt x="426" y="11"/>
                </a:lnTo>
                <a:lnTo>
                  <a:pt x="840" y="191"/>
                </a:lnTo>
                <a:lnTo>
                  <a:pt x="1176" y="689"/>
                </a:lnTo>
                <a:lnTo>
                  <a:pt x="0" y="683"/>
                </a:lnTo>
                <a:lnTo>
                  <a:pt x="3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3960" y="1787400"/>
            <a:ext cx="18817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3360" y="5484960"/>
            <a:ext cx="411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329000" y="1947960"/>
            <a:ext cx="0" cy="37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90560" y="504072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20080" y="168480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57720" y="4127400"/>
            <a:ext cx="1731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37200" y="2779560"/>
            <a:ext cx="172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0000" y="5401800"/>
            <a:ext cx="0" cy="187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565600" y="540072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186600" y="540396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799320" y="539280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432560" y="539604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74200" y="5736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17160" y="572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872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44040" y="5734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6504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85680" y="5725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45600" y="3975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54960" y="266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29000" y="2786040"/>
            <a:ext cx="1862280" cy="2698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4328640" y="4127040"/>
            <a:ext cx="3102120" cy="1357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29000" y="4416480"/>
            <a:ext cx="3260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4309920" y="3261960"/>
            <a:ext cx="2019600" cy="2179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308480" y="2114640"/>
            <a:ext cx="3116160" cy="33494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84680" y="464652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08480" y="2319480"/>
            <a:ext cx="2193840" cy="31748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43680" y="48434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4620960" y="3298320"/>
            <a:ext cx="2019240" cy="21798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35960" y="2054160"/>
            <a:ext cx="1887120" cy="762480"/>
          </a:xfrm>
          <a:prstGeom prst="borderCallout2">
            <a:avLst>
              <a:gd name="adj1" fmla="val 18750"/>
              <a:gd name="adj2" fmla="val -8333"/>
              <a:gd name="adj3" fmla="val 15449"/>
              <a:gd name="adj4" fmla="val -12666"/>
              <a:gd name="adj5" fmla="val 345064"/>
              <a:gd name="adj6" fmla="val -5834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Antigo Ót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x</a:t>
            </a:r>
            <a:r>
              <a:rPr b="0" lang="en-US" sz="14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=2.143 e x</a:t>
            </a:r>
            <a:r>
              <a:rPr b="0" lang="en-US" sz="14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 = 0.5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lucro = $ 3.2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32720" y="2987640"/>
            <a:ext cx="1887120" cy="762480"/>
          </a:xfrm>
          <a:prstGeom prst="borderCallout2">
            <a:avLst>
              <a:gd name="adj1" fmla="val 18750"/>
              <a:gd name="adj2" fmla="val -8333"/>
              <a:gd name="adj3" fmla="val 15254"/>
              <a:gd name="adj4" fmla="val -7398"/>
              <a:gd name="adj5" fmla="val 242657"/>
              <a:gd name="adj6" fmla="val -33069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 Black"/>
              </a:rPr>
              <a:t>Novo Ót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 Black"/>
              </a:rPr>
              <a:t>x</a:t>
            </a:r>
            <a:r>
              <a:rPr b="0" lang="en-US" sz="1400" spc="-1" strike="noStrike" baseline="-25000">
                <a:solidFill>
                  <a:srgbClr val="9933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993300"/>
                </a:solidFill>
                <a:latin typeface="Arial Black"/>
              </a:rPr>
              <a:t>=2.857 e x</a:t>
            </a:r>
            <a:r>
              <a:rPr b="0" lang="en-US" sz="1400" spc="-1" strike="noStrike" baseline="-25000">
                <a:solidFill>
                  <a:srgbClr val="9933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993300"/>
                </a:solidFill>
                <a:latin typeface="Arial Black"/>
              </a:rPr>
              <a:t> = 0.4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 Black"/>
              </a:rPr>
              <a:t>lucro = $ 3.7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32880" y="3196800"/>
            <a:ext cx="177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99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9933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3300"/>
                </a:solidFill>
                <a:uFillTx/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3480" y="3579840"/>
            <a:ext cx="2049480" cy="317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26760" y="3602160"/>
            <a:ext cx="2049480" cy="317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490920"/>
            <a:ext cx="8585280" cy="39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50680" y="112716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920" y="2000160"/>
            <a:ext cx="8619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6/09 - Int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3/09 - FOL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/09 -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ção Gráfica de Problemas de P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/09 - Solução Numérica de Problemas de P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/10 - Análise da Sensibilida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10 - Programação Int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/10 - Programação 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/10 - Transporte, Transbordo e Atribui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/11 - Cobertura Mínima, Caminho Mínimo, Fluxo Máximo e Caixeiro Viaj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visão Geral e Tópicos Supleme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8/11 -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336920" y="4413240"/>
            <a:ext cx="2127240" cy="1066680"/>
          </a:xfrm>
          <a:custGeom>
            <a:avLst/>
            <a:gdLst/>
            <a:ahLst/>
            <a:rect l="l" t="t" r="r" b="b"/>
            <a:pathLst>
              <a:path w="1340" h="672">
                <a:moveTo>
                  <a:pt x="0" y="0"/>
                </a:moveTo>
                <a:lnTo>
                  <a:pt x="432" y="0"/>
                </a:lnTo>
                <a:lnTo>
                  <a:pt x="1113" y="311"/>
                </a:lnTo>
                <a:lnTo>
                  <a:pt x="1340" y="666"/>
                </a:lnTo>
                <a:lnTo>
                  <a:pt x="6" y="672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24320" y="4402080"/>
            <a:ext cx="1866960" cy="1093680"/>
          </a:xfrm>
          <a:custGeom>
            <a:avLst/>
            <a:gdLst/>
            <a:ahLst/>
            <a:rect l="l" t="t" r="r" b="b"/>
            <a:pathLst>
              <a:path w="1176" h="689">
                <a:moveTo>
                  <a:pt x="3" y="0"/>
                </a:moveTo>
                <a:lnTo>
                  <a:pt x="426" y="11"/>
                </a:lnTo>
                <a:lnTo>
                  <a:pt x="840" y="191"/>
                </a:lnTo>
                <a:lnTo>
                  <a:pt x="1176" y="689"/>
                </a:lnTo>
                <a:lnTo>
                  <a:pt x="0" y="683"/>
                </a:lnTo>
                <a:lnTo>
                  <a:pt x="3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3360" y="5484960"/>
            <a:ext cx="411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329000" y="1947960"/>
            <a:ext cx="0" cy="37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990560" y="504072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20080" y="168480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57720" y="4127400"/>
            <a:ext cx="1731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37200" y="2779560"/>
            <a:ext cx="172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950000" y="5401800"/>
            <a:ext cx="0" cy="187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565600" y="540072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186600" y="540396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799320" y="539280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432560" y="539604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74200" y="5736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17160" y="572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1872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44040" y="5734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6504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85680" y="5725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5600" y="3975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54960" y="266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29000" y="2786040"/>
            <a:ext cx="1862280" cy="2698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4328640" y="4127040"/>
            <a:ext cx="3102120" cy="1357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29000" y="4416480"/>
            <a:ext cx="3260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4309920" y="3261960"/>
            <a:ext cx="2019600" cy="2179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4308480" y="2114640"/>
            <a:ext cx="3116160" cy="33494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84680" y="464652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08480" y="2319480"/>
            <a:ext cx="2193840" cy="31748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43680" y="48434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4620960" y="3298320"/>
            <a:ext cx="2019240" cy="21798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35960" y="2054160"/>
            <a:ext cx="1887120" cy="762480"/>
          </a:xfrm>
          <a:prstGeom prst="borderCallout2">
            <a:avLst>
              <a:gd name="adj1" fmla="val 18750"/>
              <a:gd name="adj2" fmla="val -8333"/>
              <a:gd name="adj3" fmla="val 15449"/>
              <a:gd name="adj4" fmla="val -12666"/>
              <a:gd name="adj5" fmla="val 345064"/>
              <a:gd name="adj6" fmla="val -58342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Antigo Ót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x</a:t>
            </a:r>
            <a:r>
              <a:rPr b="0" lang="en-US" sz="14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=2.143 e x</a:t>
            </a:r>
            <a:r>
              <a:rPr b="0" lang="en-US" sz="14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 = 0.5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lucro = $ 3.2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32720" y="2987640"/>
            <a:ext cx="1887120" cy="762480"/>
          </a:xfrm>
          <a:prstGeom prst="borderCallout2">
            <a:avLst>
              <a:gd name="adj1" fmla="val 18750"/>
              <a:gd name="adj2" fmla="val -8333"/>
              <a:gd name="adj3" fmla="val 15254"/>
              <a:gd name="adj4" fmla="val -7398"/>
              <a:gd name="adj5" fmla="val 242657"/>
              <a:gd name="adj6" fmla="val -33069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 Black"/>
              </a:rPr>
              <a:t>Novo Ót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 Black"/>
              </a:rPr>
              <a:t>x</a:t>
            </a:r>
            <a:r>
              <a:rPr b="0" lang="en-US" sz="1400" spc="-1" strike="noStrike" baseline="-25000">
                <a:solidFill>
                  <a:srgbClr val="9933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993300"/>
                </a:solidFill>
                <a:latin typeface="Arial Black"/>
              </a:rPr>
              <a:t>=2.857 e x</a:t>
            </a:r>
            <a:r>
              <a:rPr b="0" lang="en-US" sz="1400" spc="-1" strike="noStrike" baseline="-25000">
                <a:solidFill>
                  <a:srgbClr val="9933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993300"/>
                </a:solidFill>
                <a:latin typeface="Arial Black"/>
              </a:rPr>
              <a:t> = 0.4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 Black"/>
              </a:rPr>
              <a:t>lucro = $ 3.7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7480" y="1787400"/>
            <a:ext cx="261900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ff3300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99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9933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ff3300"/>
                </a:solidFill>
                <a:uFillTx/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Antigo Lucro = 3.28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Novo Lucro   = 3.7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Variação       = 0.42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7480" y="1787400"/>
            <a:ext cx="261900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b2b2b2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b2b2b2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99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9900ff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b2b2b2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b2b2b2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b2b2b2"/>
                </a:solidFill>
                <a:uFillTx/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Antigo Lucro = 3.28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Novo Lucro   = 3.7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Variação       = 0.42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910560" y="3191040"/>
            <a:ext cx="750600" cy="258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49840" y="2549520"/>
            <a:ext cx="750960" cy="25884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26080" y="3205080"/>
            <a:ext cx="750960" cy="258840"/>
          </a:xfrm>
          <a:prstGeom prst="ellipse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1600" y="421920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Variação d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480" y="1787400"/>
            <a:ext cx="261900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b2b2b2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b2b2b2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b2b2b2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b2b2b2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b2b2b2"/>
                </a:solidFill>
                <a:uFillTx/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Antigo Lucro = 3.28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Novo Lucro   = 3.7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Variação       = 0.42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910560" y="3191040"/>
            <a:ext cx="750600" cy="258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49840" y="2549520"/>
            <a:ext cx="750960" cy="25884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26080" y="3205080"/>
            <a:ext cx="750960" cy="258840"/>
          </a:xfrm>
          <a:prstGeom prst="ellipse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80080" y="4285800"/>
            <a:ext cx="3499920" cy="17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hadow P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shadow price for a constra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asures the amount the optim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ctive function value chan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er unit increase in the right-h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value of the constra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4080" y="1787400"/>
            <a:ext cx="185112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0000ff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pt-BR" sz="1800" spc="-1" strike="noStrike" u="sng">
                <a:solidFill>
                  <a:srgbClr val="0000ff"/>
                </a:solidFill>
                <a:uFillTx/>
                <a:latin typeface="Arial Black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045280" y="3201840"/>
            <a:ext cx="750960" cy="2588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314960" y="4419720"/>
            <a:ext cx="3101760" cy="1066680"/>
          </a:xfrm>
          <a:custGeom>
            <a:avLst/>
            <a:gdLst/>
            <a:ahLst/>
            <a:rect l="l" t="t" r="r" b="b"/>
            <a:pathLst>
              <a:path w="1954" h="672">
                <a:moveTo>
                  <a:pt x="0" y="0"/>
                </a:moveTo>
                <a:lnTo>
                  <a:pt x="432" y="0"/>
                </a:lnTo>
                <a:lnTo>
                  <a:pt x="846" y="180"/>
                </a:lnTo>
                <a:lnTo>
                  <a:pt x="1954" y="671"/>
                </a:lnTo>
                <a:lnTo>
                  <a:pt x="6" y="672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13360" y="5484960"/>
            <a:ext cx="411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329000" y="1947960"/>
            <a:ext cx="0" cy="37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90560" y="504072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20080" y="168480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57720" y="4127400"/>
            <a:ext cx="1731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37200" y="2779560"/>
            <a:ext cx="172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950000" y="5401800"/>
            <a:ext cx="0" cy="187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565600" y="540072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186600" y="540396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799320" y="539280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432560" y="539604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74200" y="5736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17160" y="572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1872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44040" y="5734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6504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85680" y="5725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45600" y="3975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4960" y="266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10360" y="1992240"/>
            <a:ext cx="2411280" cy="3492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4328640" y="4127040"/>
            <a:ext cx="3102120" cy="1357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29000" y="4416480"/>
            <a:ext cx="3260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308480" y="2114640"/>
            <a:ext cx="3116160" cy="33494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59480" y="541188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84080" y="1787400"/>
            <a:ext cx="185112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0000ff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pt-BR" sz="1800" spc="-1" strike="noStrike" u="sng">
                <a:solidFill>
                  <a:srgbClr val="0000ff"/>
                </a:solidFill>
                <a:uFillTx/>
                <a:latin typeface="Arial Black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52760" y="2809800"/>
            <a:ext cx="1862280" cy="26989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9572600">
            <a:off x="5205240" y="3699000"/>
            <a:ext cx="1230480" cy="345960"/>
          </a:xfrm>
          <a:prstGeom prst="rightArrow">
            <a:avLst>
              <a:gd name="adj1" fmla="val 49759"/>
              <a:gd name="adj2" fmla="val 5484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223960" y="2227320"/>
            <a:ext cx="225720" cy="139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84680" y="464652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080" y="1787400"/>
            <a:ext cx="185112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0000ff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pt-BR" sz="1800" spc="-1" strike="noStrike" u="sng">
                <a:solidFill>
                  <a:srgbClr val="0000ff"/>
                </a:solidFill>
                <a:uFillTx/>
                <a:latin typeface="Arial Black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045280" y="3201840"/>
            <a:ext cx="750960" cy="2588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sensf1" descr=""/>
          <p:cNvPicPr/>
          <p:nvPr/>
        </p:nvPicPr>
        <p:blipFill>
          <a:blip r:embed="rId2"/>
          <a:stretch/>
        </p:blipFill>
        <p:spPr>
          <a:xfrm>
            <a:off x="3457440" y="4043520"/>
            <a:ext cx="5429520" cy="2276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587920" y="5564160"/>
            <a:ext cx="750960" cy="2588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267240" y="3467160"/>
            <a:ext cx="1847880" cy="20383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248000" y="2076480"/>
            <a:ext cx="2757600" cy="4184640"/>
            <a:chOff x="4248000" y="2076480"/>
            <a:chExt cx="2757600" cy="4184640"/>
          </a:xfrm>
        </p:grpSpPr>
        <p:sp>
          <p:nvSpPr>
            <p:cNvPr id="412" name=""/>
            <p:cNvSpPr/>
            <p:nvPr/>
          </p:nvSpPr>
          <p:spPr>
            <a:xfrm>
              <a:off x="4248000" y="4438800"/>
              <a:ext cx="628920" cy="666720"/>
            </a:xfrm>
            <a:prstGeom prst="ellipse">
              <a:avLst/>
            </a:prstGeom>
            <a:noFill/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05240" y="2076480"/>
              <a:ext cx="628560" cy="666720"/>
            </a:xfrm>
            <a:prstGeom prst="ellipse">
              <a:avLst/>
            </a:prstGeom>
            <a:noFill/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30960" y="3125880"/>
              <a:ext cx="674640" cy="772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11880" y="5487840"/>
              <a:ext cx="674640" cy="773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1920" y="1787400"/>
            <a:ext cx="177948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467480" y="3184560"/>
            <a:ext cx="750960" cy="258840"/>
          </a:xfrm>
          <a:prstGeom prst="ellipse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314960" y="4416480"/>
            <a:ext cx="1284120" cy="1069920"/>
          </a:xfrm>
          <a:custGeom>
            <a:avLst/>
            <a:gdLst/>
            <a:ahLst/>
            <a:rect l="l" t="t" r="r" b="b"/>
            <a:pathLst>
              <a:path w="809" h="674">
                <a:moveTo>
                  <a:pt x="0" y="2"/>
                </a:moveTo>
                <a:lnTo>
                  <a:pt x="318" y="0"/>
                </a:lnTo>
                <a:lnTo>
                  <a:pt x="509" y="264"/>
                </a:lnTo>
                <a:lnTo>
                  <a:pt x="809" y="673"/>
                </a:lnTo>
                <a:lnTo>
                  <a:pt x="6" y="674"/>
                </a:lnTo>
                <a:lnTo>
                  <a:pt x="0" y="2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3360" y="5484960"/>
            <a:ext cx="411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329000" y="1947960"/>
            <a:ext cx="0" cy="37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990560" y="504072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20080" y="168480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57720" y="4127400"/>
            <a:ext cx="1731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37200" y="2779560"/>
            <a:ext cx="172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4950000" y="5401800"/>
            <a:ext cx="0" cy="187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565600" y="540072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186600" y="540396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799320" y="539280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7432560" y="539604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74200" y="5736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17160" y="572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1872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44040" y="5734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6504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285680" y="5725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45600" y="3975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54960" y="266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29000" y="3743280"/>
            <a:ext cx="1257480" cy="1755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4324320" y="4113360"/>
            <a:ext cx="3106800" cy="13716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29000" y="4416480"/>
            <a:ext cx="32608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4308480" y="2114640"/>
            <a:ext cx="3116160" cy="33494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53080" y="436248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1920" y="1787400"/>
            <a:ext cx="177948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52760" y="2809800"/>
            <a:ext cx="1862280" cy="26989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 rot="8568600">
            <a:off x="4440960" y="3650040"/>
            <a:ext cx="520920" cy="331920"/>
          </a:xfrm>
          <a:prstGeom prst="rightArrow">
            <a:avLst>
              <a:gd name="adj1" fmla="val 46278"/>
              <a:gd name="adj2" fmla="val 5857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223960" y="2227320"/>
            <a:ext cx="225720" cy="139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343040" y="4546440"/>
            <a:ext cx="1443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84680" y="464652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81920" y="1787400"/>
            <a:ext cx="177948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7429680" y="3203640"/>
            <a:ext cx="750600" cy="2588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sensf1" descr=""/>
          <p:cNvPicPr/>
          <p:nvPr/>
        </p:nvPicPr>
        <p:blipFill>
          <a:blip r:embed="rId2"/>
          <a:stretch/>
        </p:blipFill>
        <p:spPr>
          <a:xfrm>
            <a:off x="3457440" y="4043520"/>
            <a:ext cx="5429520" cy="22762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600880" y="5737320"/>
            <a:ext cx="750600" cy="2588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191280" y="3467160"/>
            <a:ext cx="1409760" cy="2209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248000" y="2076480"/>
            <a:ext cx="2757600" cy="4184640"/>
            <a:chOff x="4248000" y="2076480"/>
            <a:chExt cx="2757600" cy="4184640"/>
          </a:xfrm>
        </p:grpSpPr>
        <p:sp>
          <p:nvSpPr>
            <p:cNvPr id="472" name=""/>
            <p:cNvSpPr/>
            <p:nvPr/>
          </p:nvSpPr>
          <p:spPr>
            <a:xfrm>
              <a:off x="6330960" y="3125880"/>
              <a:ext cx="674640" cy="772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1880" y="5487840"/>
              <a:ext cx="674640" cy="773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48000" y="4438800"/>
              <a:ext cx="628920" cy="666720"/>
            </a:xfrm>
            <a:prstGeom prst="ellipse">
              <a:avLst/>
            </a:prstGeom>
            <a:noFill/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05240" y="2076480"/>
              <a:ext cx="628560" cy="666720"/>
            </a:xfrm>
            <a:prstGeom prst="ellipse">
              <a:avLst/>
            </a:prstGeom>
            <a:noFill/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1920" y="1787400"/>
            <a:ext cx="177948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7429680" y="3203640"/>
            <a:ext cx="750600" cy="2588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058240" y="3203640"/>
            <a:ext cx="750960" cy="2588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330960" y="3125880"/>
            <a:ext cx="674640" cy="772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27240" y="4597920"/>
            <a:ext cx="450900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Range of Feas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range of feasibility for the avail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f a resource is the set of right-hand si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ver which the same set of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etermines the optimal po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84240" y="2612880"/>
            <a:ext cx="388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Formas Padrão 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blem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dos Exercícios de Hoj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54120" y="1787400"/>
            <a:ext cx="26748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1.5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045280" y="217332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1640" y="2914560"/>
            <a:ext cx="0" cy="649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 flipH="1" flipV="1">
            <a:off x="4322880" y="2448000"/>
            <a:ext cx="1876320" cy="304488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14960" y="4419720"/>
            <a:ext cx="1876320" cy="1076040"/>
          </a:xfrm>
          <a:custGeom>
            <a:avLst/>
            <a:gdLst/>
            <a:ahLst/>
            <a:rect l="l" t="t" r="r" b="b"/>
            <a:pathLst>
              <a:path w="1182" h="678">
                <a:moveTo>
                  <a:pt x="0" y="0"/>
                </a:moveTo>
                <a:lnTo>
                  <a:pt x="432" y="0"/>
                </a:lnTo>
                <a:lnTo>
                  <a:pt x="846" y="180"/>
                </a:lnTo>
                <a:lnTo>
                  <a:pt x="1182" y="678"/>
                </a:lnTo>
                <a:lnTo>
                  <a:pt x="6" y="672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3360" y="5484960"/>
            <a:ext cx="411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329000" y="1947960"/>
            <a:ext cx="0" cy="37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990560" y="504072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20080" y="168480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57720" y="4127400"/>
            <a:ext cx="1731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37200" y="2779560"/>
            <a:ext cx="172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950000" y="5401800"/>
            <a:ext cx="0" cy="187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565600" y="540072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186600" y="540396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6799320" y="539280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7432560" y="539604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74200" y="5736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17160" y="572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872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44040" y="5734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6504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85680" y="5725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45600" y="3975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54960" y="266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29000" y="2786040"/>
            <a:ext cx="1862280" cy="2698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4328640" y="4127040"/>
            <a:ext cx="3102120" cy="1357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9000" y="4416480"/>
            <a:ext cx="3260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343040" y="2165400"/>
            <a:ext cx="2049480" cy="33336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308480" y="2114640"/>
            <a:ext cx="3116160" cy="33494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48440" y="54259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54120" y="1787400"/>
            <a:ext cx="26748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1.5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01640" y="2914560"/>
            <a:ext cx="0" cy="649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84680" y="464652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7311600" y="3006360"/>
            <a:ext cx="758160" cy="405720"/>
          </a:xfrm>
          <a:prstGeom prst="borderCallout2">
            <a:avLst>
              <a:gd name="adj1" fmla="val 18750"/>
              <a:gd name="adj2" fmla="val -8333"/>
              <a:gd name="adj3" fmla="val 29629"/>
              <a:gd name="adj4" fmla="val -60347"/>
              <a:gd name="adj5" fmla="val 612675"/>
              <a:gd name="adj6" fmla="val -147981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x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 Black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322880" y="2448000"/>
            <a:ext cx="1876320" cy="304488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14960" y="4419720"/>
            <a:ext cx="1876320" cy="1076040"/>
          </a:xfrm>
          <a:custGeom>
            <a:avLst/>
            <a:gdLst/>
            <a:ahLst/>
            <a:rect l="l" t="t" r="r" b="b"/>
            <a:pathLst>
              <a:path w="1182" h="678">
                <a:moveTo>
                  <a:pt x="0" y="0"/>
                </a:moveTo>
                <a:lnTo>
                  <a:pt x="432" y="0"/>
                </a:lnTo>
                <a:lnTo>
                  <a:pt x="846" y="180"/>
                </a:lnTo>
                <a:lnTo>
                  <a:pt x="1182" y="678"/>
                </a:lnTo>
                <a:lnTo>
                  <a:pt x="6" y="672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3360" y="5484960"/>
            <a:ext cx="411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329000" y="1947960"/>
            <a:ext cx="0" cy="37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90560" y="504072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420080" y="168480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57720" y="4127400"/>
            <a:ext cx="1731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7200" y="2779560"/>
            <a:ext cx="172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950000" y="5401800"/>
            <a:ext cx="0" cy="187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565600" y="540072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186600" y="540396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799320" y="539280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432560" y="539604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74200" y="5736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17160" y="572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872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44040" y="5734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6504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285680" y="5725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5600" y="3975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54960" y="266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329000" y="2786040"/>
            <a:ext cx="1862280" cy="2698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4328640" y="4127040"/>
            <a:ext cx="3102120" cy="1357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29000" y="4416480"/>
            <a:ext cx="3260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4343040" y="2165400"/>
            <a:ext cx="2049480" cy="33336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148440" y="54259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48880" y="1787400"/>
            <a:ext cx="226908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1.5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sensf1" descr=""/>
          <p:cNvPicPr/>
          <p:nvPr/>
        </p:nvPicPr>
        <p:blipFill>
          <a:blip r:embed="rId1"/>
          <a:stretch/>
        </p:blipFill>
        <p:spPr>
          <a:xfrm>
            <a:off x="3438360" y="4062240"/>
            <a:ext cx="5429520" cy="22766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Sensp2" descr=""/>
          <p:cNvPicPr/>
          <p:nvPr/>
        </p:nvPicPr>
        <p:blipFill>
          <a:blip r:embed="rId2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54120" y="1787400"/>
            <a:ext cx="26748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1.5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045280" y="217332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01640" y="2914560"/>
            <a:ext cx="0" cy="649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63960" y="457344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562360" y="2419200"/>
            <a:ext cx="2552760" cy="2171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248000" y="2076480"/>
            <a:ext cx="685800" cy="3029040"/>
            <a:chOff x="4248000" y="2076480"/>
            <a:chExt cx="685800" cy="3029040"/>
          </a:xfrm>
        </p:grpSpPr>
        <p:sp>
          <p:nvSpPr>
            <p:cNvPr id="573" name=""/>
            <p:cNvSpPr/>
            <p:nvPr/>
          </p:nvSpPr>
          <p:spPr>
            <a:xfrm>
              <a:off x="4248000" y="4438800"/>
              <a:ext cx="628920" cy="666720"/>
            </a:xfrm>
            <a:prstGeom prst="ellipse">
              <a:avLst/>
            </a:prstGeom>
            <a:noFill/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05240" y="2076480"/>
              <a:ext cx="628560" cy="666720"/>
            </a:xfrm>
            <a:prstGeom prst="ellipse">
              <a:avLst/>
            </a:prstGeom>
            <a:noFill/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654120" y="1787400"/>
            <a:ext cx="26748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1.5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045280" y="217332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01640" y="2914560"/>
            <a:ext cx="0" cy="649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82240" y="4597920"/>
            <a:ext cx="466596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Range of Optim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optimal solution will remain unchan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 long as an objective function coe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ies within its range of optimality and t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no changes in anly other input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sensf1" descr=""/>
          <p:cNvPicPr/>
          <p:nvPr/>
        </p:nvPicPr>
        <p:blipFill>
          <a:blip r:embed="rId1"/>
          <a:stretch/>
        </p:blipFill>
        <p:spPr>
          <a:xfrm>
            <a:off x="3500280" y="4100400"/>
            <a:ext cx="5381640" cy="22766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Sensp2" descr=""/>
          <p:cNvPicPr/>
          <p:nvPr/>
        </p:nvPicPr>
        <p:blipFill>
          <a:blip r:embed="rId2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654120" y="1787400"/>
            <a:ext cx="26748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1.5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045280" y="217332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01640" y="2914560"/>
            <a:ext cx="0" cy="649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902120" y="459252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562360" y="2419200"/>
            <a:ext cx="2552760" cy="2171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48000" y="4476600"/>
            <a:ext cx="628920" cy="667080"/>
          </a:xfrm>
          <a:prstGeom prst="ellipse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05240" y="2076480"/>
            <a:ext cx="628560" cy="666720"/>
          </a:xfrm>
          <a:prstGeom prst="ellipse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91080" y="2800440"/>
            <a:ext cx="0" cy="1562040"/>
          </a:xfrm>
          <a:prstGeom prst="line">
            <a:avLst/>
          </a:prstGeom>
          <a:ln w="38160">
            <a:solidFill>
              <a:srgbClr val="99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48880" y="1787400"/>
            <a:ext cx="226908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1.5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Sensp6" descr=""/>
          <p:cNvPicPr/>
          <p:nvPr/>
        </p:nvPicPr>
        <p:blipFill>
          <a:blip r:embed="rId1"/>
          <a:stretch/>
        </p:blipFill>
        <p:spPr>
          <a:xfrm>
            <a:off x="3295800" y="3830760"/>
            <a:ext cx="5410080" cy="2257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4014720" y="4491000"/>
            <a:ext cx="750960" cy="2588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105600" y="447660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sensf1" descr=""/>
          <p:cNvPicPr/>
          <p:nvPr/>
        </p:nvPicPr>
        <p:blipFill>
          <a:blip r:embed="rId2"/>
          <a:stretch/>
        </p:blipFill>
        <p:spPr>
          <a:xfrm>
            <a:off x="4157640" y="1886040"/>
            <a:ext cx="3876840" cy="15620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695920" y="200484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sensf1" descr=""/>
          <p:cNvPicPr/>
          <p:nvPr/>
        </p:nvPicPr>
        <p:blipFill>
          <a:blip r:embed="rId1"/>
          <a:stretch/>
        </p:blipFill>
        <p:spPr>
          <a:xfrm>
            <a:off x="4157640" y="1886040"/>
            <a:ext cx="3876840" cy="1562040"/>
          </a:xfrm>
          <a:prstGeom prst="rect">
            <a:avLst/>
          </a:prstGeom>
          <a:ln w="0">
            <a:noFill/>
          </a:ln>
        </p:spPr>
      </p:pic>
      <p:pic>
        <p:nvPicPr>
          <p:cNvPr id="609" name="Sensp8" descr=""/>
          <p:cNvPicPr/>
          <p:nvPr/>
        </p:nvPicPr>
        <p:blipFill>
          <a:blip r:embed="rId2"/>
          <a:stretch/>
        </p:blipFill>
        <p:spPr>
          <a:xfrm>
            <a:off x="3286080" y="3830760"/>
            <a:ext cx="5381640" cy="22651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48880" y="1787400"/>
            <a:ext cx="226908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1.5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43520" y="4241880"/>
            <a:ext cx="706320" cy="509400"/>
          </a:xfrm>
          <a:prstGeom prst="ellipse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95840" y="448452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sensf1" descr=""/>
          <p:cNvPicPr/>
          <p:nvPr/>
        </p:nvPicPr>
        <p:blipFill>
          <a:blip r:embed="rId3"/>
          <a:stretch/>
        </p:blipFill>
        <p:spPr>
          <a:xfrm>
            <a:off x="4152960" y="1890720"/>
            <a:ext cx="3876480" cy="15526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695920" y="200484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7166880" y="3468240"/>
            <a:ext cx="758160" cy="405720"/>
          </a:xfrm>
          <a:prstGeom prst="borderCallout2">
            <a:avLst>
              <a:gd name="adj1" fmla="val 18750"/>
              <a:gd name="adj2" fmla="val -8333"/>
              <a:gd name="adj3" fmla="val 29629"/>
              <a:gd name="adj4" fmla="val -51824"/>
              <a:gd name="adj5" fmla="val 484217"/>
              <a:gd name="adj6" fmla="val -126953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x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 Black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4322880" y="2448000"/>
            <a:ext cx="1876320" cy="30448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14960" y="4419720"/>
            <a:ext cx="1876320" cy="1076040"/>
          </a:xfrm>
          <a:custGeom>
            <a:avLst/>
            <a:gdLst/>
            <a:ahLst/>
            <a:rect l="l" t="t" r="r" b="b"/>
            <a:pathLst>
              <a:path w="1182" h="678">
                <a:moveTo>
                  <a:pt x="0" y="0"/>
                </a:moveTo>
                <a:lnTo>
                  <a:pt x="432" y="0"/>
                </a:lnTo>
                <a:lnTo>
                  <a:pt x="846" y="180"/>
                </a:lnTo>
                <a:lnTo>
                  <a:pt x="1182" y="678"/>
                </a:lnTo>
                <a:lnTo>
                  <a:pt x="6" y="672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3360" y="5484960"/>
            <a:ext cx="411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4329000" y="1947960"/>
            <a:ext cx="0" cy="37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990560" y="504072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0080" y="1684800"/>
            <a:ext cx="35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57720" y="4127400"/>
            <a:ext cx="1731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237200" y="2779560"/>
            <a:ext cx="172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4950000" y="5401800"/>
            <a:ext cx="0" cy="187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5565600" y="540072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6186600" y="540396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6799320" y="539280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7432560" y="5396040"/>
            <a:ext cx="0" cy="187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74200" y="5736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17160" y="572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41872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44040" y="5734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65040" y="5729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285680" y="5725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945600" y="3975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54960" y="266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29000" y="2786040"/>
            <a:ext cx="1862280" cy="2698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4328640" y="4127040"/>
            <a:ext cx="3102120" cy="1357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29000" y="4416480"/>
            <a:ext cx="3260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02320" y="465768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4316400" y="2787480"/>
            <a:ext cx="1890720" cy="2727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22800" y="2031840"/>
            <a:ext cx="288324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1.5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+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1.5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2.25000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74160" y="2498760"/>
            <a:ext cx="2170800" cy="647640"/>
          </a:xfrm>
          <a:prstGeom prst="borderCallout2">
            <a:avLst>
              <a:gd name="adj1" fmla="val 18750"/>
              <a:gd name="adj2" fmla="val -8333"/>
              <a:gd name="adj3" fmla="val 19046"/>
              <a:gd name="adj4" fmla="val -6476"/>
              <a:gd name="adj5" fmla="val 335833"/>
              <a:gd name="adj6" fmla="val -33509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‘entr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(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) = (2.143,0.57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81120" y="3117960"/>
            <a:ext cx="0" cy="64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48880" y="1787400"/>
            <a:ext cx="226908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1.5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Sensp6" descr=""/>
          <p:cNvPicPr/>
          <p:nvPr/>
        </p:nvPicPr>
        <p:blipFill>
          <a:blip r:embed="rId1"/>
          <a:stretch/>
        </p:blipFill>
        <p:spPr>
          <a:xfrm>
            <a:off x="3295800" y="3830760"/>
            <a:ext cx="5410080" cy="22572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6105600" y="447660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92320" y="1950120"/>
            <a:ext cx="455292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Reduced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reduced cost for a variable at its l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ound yields the amount the profit coe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ust change before the variable can take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value above its lower b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6280" y="79524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1, Pg, 148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8880" y="1562040"/>
            <a:ext cx="834084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Manufatu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odutos : Z345 Std (ZS), Z345 Ind (ZI), W250 Std (WS), W250 Ind (W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Lucros: ZS = $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4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, ZI = $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56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, WS = $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 WI = $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ntratos a serem honrados: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ZS + ZI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tratégia: Pelo menos 50% Industrial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ZI + WI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5 (ZS + ZI + WS + W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ou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- 0.5 ZS + 0.5 ZI - 0.5 WS + 0.5 W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ix: ZS + ZI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75 (ZS + ZI + WS + WI)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.25 ZS + 0.25 ZI - 0.75 WS - 0.75 WI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WS + WI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75 (ZS + ZI + WS + WI)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-0.75 ZS - 0.75 ZI + 0.25 WS + 0.25 WI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sponibilidade de Materia Prima: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Zinco e Fer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2960" y="4195800"/>
            <a:ext cx="61038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4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ZS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56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ZI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WS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7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W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ZS + ZI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- 0.5 ZS + 0.5 ZI - 0.5 WS + 0.5 W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.25 ZS + 0.25 ZI - 0.75 WS - 0.75 WI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-0.75 ZS - 0.75 ZI + 0.25 WS + 0.25 WI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5 ZS + 46 ZI + 16 WS + 34 WI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2500               [Zinc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50 ZS + 30 ZI + 28 WS + 12 WI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2800               [Ferr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600" y="41036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48880" y="1787400"/>
            <a:ext cx="226908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1.5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Sensp6" descr=""/>
          <p:cNvPicPr/>
          <p:nvPr/>
        </p:nvPicPr>
        <p:blipFill>
          <a:blip r:embed="rId1"/>
          <a:stretch/>
        </p:blipFill>
        <p:spPr>
          <a:xfrm>
            <a:off x="3295800" y="3830760"/>
            <a:ext cx="5410080" cy="22572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3898440" y="2193480"/>
            <a:ext cx="423756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omplementary Slackn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 the optimal solution, either a variabl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 its lower bound or the reduced cost is 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32400" y="4349880"/>
            <a:ext cx="719280" cy="2016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143760" y="4343400"/>
            <a:ext cx="674640" cy="2016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43760" y="4540320"/>
            <a:ext cx="674640" cy="189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32400" y="4546440"/>
            <a:ext cx="719280" cy="182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13400" y="1127160"/>
            <a:ext cx="354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nes Investment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pg. 111 do Lawrence e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2520" y="2181240"/>
            <a:ext cx="7347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Variável</a:t>
            </a: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Rating</a:t>
            </a: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Liquidez</a:t>
            </a: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    Risco</a:t>
            </a: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 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Saving Accounts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SA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Imediata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0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4.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Certificado de Depósito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CD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5 anos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0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5.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Atlantic Lighting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AL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B+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Imediata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25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7,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Arkansas Real Estate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AK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Imediata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30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10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Bedrock Annuity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BA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1 ano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20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8,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Nocal Mining Bond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NM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B+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1 ano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15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6,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Minicomp Systems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MS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Imediata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65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20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Antony Hotels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AH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Imediata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40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12,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278000" y="4514760"/>
            <a:ext cx="49705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3300"/>
                </a:solidFill>
                <a:latin typeface="Arial Black"/>
              </a:rPr>
              <a:t>Diretriz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Disponível = $ 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Retorno Desejado &gt;= 7,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Pelo menos 50% em investimentos com rating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Pelo menos 40% em investimentos com liquidez imedi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Não mais que $ 30.000 em SA e 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Minimizar o r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Jone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Jones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93880" y="2976480"/>
            <a:ext cx="37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Bom Trabalh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87920" y="11271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rcí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4200" y="1528920"/>
            <a:ext cx="774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Capítulo 4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6280" y="79524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3, Pg, 148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8880" y="1562040"/>
            <a:ext cx="834084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e Investimen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ítulos : Stocks = EAL, BRU, TAT, Bonds = BL, BS e T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etornos: EAL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5%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, BRU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2%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, TAT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9%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, BL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1%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, BS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8%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 TDA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sponível para Investimento: $ 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Investir Tudo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EAL + BRU + TAT + BL + BS + TDA = 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DA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elo menos 25% dos Stocks no TAT:  TAT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25 (EAL + BRU + TAT)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                                    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0.75 TAT - 0.25 EAL - 0.25 BRU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elo menos tantos Bonds quanto Stocks :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BL + BS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EAL + BRU + 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enos de 12.500 em titulos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0%: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T + BS + TDA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1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33360" y="4513320"/>
            <a:ext cx="737712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0.1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AL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0.12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BRU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0.09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TAT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0.11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BL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0.08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BS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0.06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T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DA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0.75 TAT - 0.25 EAL - 0.25 BRU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-EAL - BRU - TAT + BL + BS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T + BS + TDA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1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EAL + BRU + TAT + BL + BS + TDA = 5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360" y="447840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6280" y="79524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6, Pg, 150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9760" y="384336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82760" y="1490760"/>
            <a:ext cx="685332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Die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herioos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 Grap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 P19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Bran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Desej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h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Gr           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Vit A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3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3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2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2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Vit C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2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10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2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Vit D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5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2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2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2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Vit B6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2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10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2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Ferr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4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4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10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2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Açúca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    12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      9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     9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in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2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h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9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Gr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9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P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T     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30 Ch + 30 Gr + 20 P + 20 Br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5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Vit A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5 Ch + 2 Gr + 100 P + 25 Br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5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Vit C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5 Ch + 25 Gr + 25 P + 25 Br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5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Vit 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5 Ch + 25 Gr + 100 P + 25 Br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5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Vit B6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45 Ch + 45 Gr + 100 P + 25 Br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5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Ferr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0.9 Ch - 0.1 Gr - 0.1 P - 0.1 Br 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0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&gt;=10% Ch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- 0.1 Ch + 0.9 Gr - 0.1 P - 0.1 Br 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0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&gt;=10% G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- 0.1 Ch - 0.1 Gr + 0.9 P - 0.1 Br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0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&gt;=10% P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- 0.1 Ch - 0.1 Gr - 0.1 P + 0.9 Br 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&gt;=10% B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7120" y="1563840"/>
            <a:ext cx="845352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Mistu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                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aso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Octanagem   Reg (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87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Prem (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91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vailable                 Cos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acific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8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                pp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42 x 3.000 = 126.000     $0,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Gulf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87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                gp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42 x 2000 = 84.000        $0.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iddle East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95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               mp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42 x 8000 = 336.000      $0,47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Preço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$0,52          $0,6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egular:    8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87 gr + 9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87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emium:  8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87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9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91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vailability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26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Pacific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84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Gulf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336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Middle Eas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ntracts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200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Reg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00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Pre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pacidade de Processamento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4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Lucro = 0,52 (pr + gr + mr)  + 0,60 (pp + gp + 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- 0,34 (pr + pp) - 0,36 (gr + gp) - 0,47 (mr + mp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= 0.0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13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16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24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18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p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26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09040" y="795240"/>
            <a:ext cx="4565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15, Pg, 152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7880" y="35258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09040" y="795240"/>
            <a:ext cx="4565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21, Pg, 155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82760" y="1490760"/>
            <a:ext cx="734364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Propagand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Ketchup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 Spaghetti      Taco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   Joint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K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S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T                        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ument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4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3,2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11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1,4  +  1,4  +  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x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x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x              x         x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eç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0,30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0,3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0,10         0,30     0,35    0,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etorn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=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,2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=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,12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=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,1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=0,42 + 0,49 + 0,14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,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,2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K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,12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S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,1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T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,0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K + S + T + J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2.0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J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4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J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 + J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.0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K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2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2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7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J + K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5 x 1.4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J + S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5 x 1.4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 K + 3.2 S + 11 T + 1.4 x 3 J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7.5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8200" y="338148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51880" y="86688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9, Pg, 110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0280" y="1736640"/>
            <a:ext cx="82519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o Sanduích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Turkey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Beef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Ham      Club      All Meat           Disp                  Cu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B           H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          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eru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4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2            50           3 x 8 x 16 = 384       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rn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4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2            50           3 x 12 x 16 = 576    1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esunt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0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4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2            50           3 x 10 x 16 = 480      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Queij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1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3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2            50           3 x 8 x 16 = 384        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Preço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  2,75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 3,50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,25      4,00         4,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2,7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T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,5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B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,2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H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4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4,2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 + B + H + C + A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3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Limite de Armazenament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 T + 2 C + 3 A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384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Peru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 B + 2 C + 3 A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576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Car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 H + 2 C + 3 A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48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Presunt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 + B + 2 H + 2 C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384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Queij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3800" y="39146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3-09-05T23:02:55Z</dcterms:modified>
  <cp:revision>216</cp:revision>
  <dc:subject/>
  <dc:title>Mercados Digitais</dc:title>
</cp:coreProperties>
</file>