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CA5-2D86-460D-905F-ECCE0533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A5E-253E-4B1F-9C7A-CBF25E14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CEF-2E71-40C0-897F-1F00117D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651-63C1-4FF1-A719-BA7CAA10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CF9-F012-4543-AE3E-DB1370D7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AA3-71D3-4D75-A1CA-4EDC90FE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F6D-03F3-45D4-8DD3-27CEB9AB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7C6-C71E-42FF-9B12-407A8AA2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3C7-C4A6-400C-BB60-C96FD16A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6DF-885E-4BB6-AFC1-1D4B39C3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7C4-659F-47D0-9E6C-D30A642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798-8217-401B-BFC2-38F76360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90E1-5DB9-4D9C-83AC-388C76D88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8160" y="5389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15880" y="628200"/>
            <a:ext cx="16329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ula 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Progra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Int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2192400" y="4140360"/>
            <a:ext cx="5105160" cy="2205720"/>
            <a:chOff x="2192400" y="4140360"/>
            <a:chExt cx="5105160" cy="2205720"/>
          </a:xfrm>
        </p:grpSpPr>
        <p:sp>
          <p:nvSpPr>
            <p:cNvPr id="128" name=""/>
            <p:cNvSpPr/>
            <p:nvPr/>
          </p:nvSpPr>
          <p:spPr>
            <a:xfrm>
              <a:off x="4525920" y="597780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broomr" descr=""/>
            <p:cNvPicPr/>
            <p:nvPr/>
          </p:nvPicPr>
          <p:blipFill>
            <a:blip r:embed="rId1"/>
            <a:stretch/>
          </p:blipFill>
          <p:spPr>
            <a:xfrm>
              <a:off x="2192400" y="4145040"/>
              <a:ext cx="5105160" cy="188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192400" y="4140360"/>
              <a:ext cx="50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32400" y="91368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Kootenay Straw Broom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0280" y="3724200"/>
            <a:ext cx="8628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13440" y="1336320"/>
            <a:ext cx="5523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Seek additional source for st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Accept delivery of an extra box with 10 handles for $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cc"/>
                </a:solidFill>
                <a:latin typeface="Arial Black"/>
              </a:rPr>
              <a:t>Add a half-time worker (4 hours/day) for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$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3320" y="5614920"/>
            <a:ext cx="763560" cy="25884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425320"/>
            <a:ext cx="5596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h de trabalho -&gt; 4 x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$3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=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$12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a mais na Função Obje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Função Objetivo = (12.75 - 1.5 - $0.75)*P + (18.00 - 2.25 - $0.75)*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não envolve “Time”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Logo, o lucro aumenta de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$120 - </a:t>
            </a: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$50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= $7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7920" y="112716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(Linear) Int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0440" y="1762200"/>
            <a:ext cx="3690720" cy="41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Uma família deseja sair de férias e reservou R$ 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1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000,00 para as despesas de alugue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o lugar onde a família deseja ficar existem para locação, por temporada, Aptos d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quartos a R$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4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000,00 e Casas d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quarto a R$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000,00.  A família precisa de pelo menos 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asa pois têm um cachorro. Qual a melhor combinação de Aptos e Casas que maximiza o número de quart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76760" y="2066760"/>
            <a:ext cx="392436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Aptos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4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Aptos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ptos, Ca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variáveis intei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7920" y="1127160"/>
            <a:ext cx="43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(Linear) Int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3640" y="2068560"/>
            <a:ext cx="327348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 Black"/>
              </a:rPr>
              <a:t>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1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9933ff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2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9933ff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m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...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a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Arial Black"/>
              </a:rPr>
              <a:t>m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=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b</a:t>
            </a:r>
            <a:r>
              <a:rPr b="0" lang="en-US" sz="1600" spc="-1" strike="noStrike" baseline="-25000">
                <a:solidFill>
                  <a:srgbClr val="9933ff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... ,x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 Black"/>
              </a:rPr>
              <a:t>n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variáveis intei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6760" y="2066760"/>
            <a:ext cx="392436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Aptos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4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Aptos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ptos, Ca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variáveis intei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62440" y="1674720"/>
            <a:ext cx="0" cy="406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678640" y="54072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518240" y="54054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59124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62720" y="5584680"/>
            <a:ext cx="3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99560" y="5027760"/>
            <a:ext cx="9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24560" y="558792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67760" y="557856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673160" y="3914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61040" y="426420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440" y="167472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4720" y="1806480"/>
            <a:ext cx="297180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2 Aptos + 1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4 Aptos + 3 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Aptos,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677840" y="34005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681080" y="44402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76400" y="4976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672080" y="287640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76880" y="21718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70400" y="2700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65720" y="3213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73640" y="37544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38720" y="4802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99560" y="5027760"/>
            <a:ext cx="9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440" y="167472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338720" y="1674720"/>
            <a:ext cx="4376520" cy="4250520"/>
            <a:chOff x="4338720" y="1674720"/>
            <a:chExt cx="4376520" cy="4250520"/>
          </a:xfrm>
        </p:grpSpPr>
        <p:sp>
          <p:nvSpPr>
            <p:cNvPr id="186" name=""/>
            <p:cNvSpPr/>
            <p:nvPr/>
          </p:nvSpPr>
          <p:spPr>
            <a:xfrm>
              <a:off x="4559400" y="5499000"/>
              <a:ext cx="4155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762440" y="1674720"/>
              <a:ext cx="0" cy="4068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678640" y="5407200"/>
              <a:ext cx="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518240" y="5405400"/>
              <a:ext cx="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591240" y="5409720"/>
              <a:ext cx="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668480" y="236052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62720" y="5584680"/>
              <a:ext cx="37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24560" y="558792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67760" y="5578560"/>
              <a:ext cx="49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673160" y="391464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668480" y="236052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61040" y="4264200"/>
              <a:ext cx="5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677840" y="340056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681080" y="444024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676400" y="497664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672080" y="2876400"/>
              <a:ext cx="17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76880" y="21718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70400" y="2700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65720" y="32130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73640" y="3754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338720" y="48020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62440" y="498168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676840" y="2352240"/>
              <a:ext cx="0" cy="314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591240" y="2347560"/>
              <a:ext cx="0" cy="314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520040" y="2347560"/>
              <a:ext cx="0" cy="314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43720" y="49291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72520" y="49338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29320" y="49291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62440" y="443880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43720" y="4386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72520" y="43909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29320" y="4386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62440" y="390996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43720" y="385776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72520" y="386244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29320" y="385776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62440" y="339552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43720" y="334332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72520" y="33480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29320" y="334332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62440" y="235728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43720" y="230508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72520" y="23097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29320" y="230508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67120" y="287172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48400" y="281952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77200" y="282420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34000" y="281952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676400" y="549432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761000" y="5409720"/>
              <a:ext cx="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0240" y="49338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10240" y="43909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10240" y="386244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10240" y="33480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10240" y="23097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14920" y="282420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43720" y="54435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72520" y="5448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29320" y="54435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08440" y="545004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04720" y="1806480"/>
            <a:ext cx="297180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2 Aptos + 1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4 Aptos + 3 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Aptos,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762440" y="3409920"/>
            <a:ext cx="2057400" cy="1562040"/>
          </a:xfrm>
          <a:custGeom>
            <a:avLst/>
            <a:gdLst/>
            <a:ahLst/>
            <a:rect l="l" t="t" r="r" b="b"/>
            <a:pathLst>
              <a:path w="1296" h="984">
                <a:moveTo>
                  <a:pt x="0" y="0"/>
                </a:moveTo>
                <a:lnTo>
                  <a:pt x="1296" y="984"/>
                </a:lnTo>
                <a:lnTo>
                  <a:pt x="0" y="984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72160" y="4975200"/>
            <a:ext cx="2755800" cy="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99560" y="5027760"/>
            <a:ext cx="9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440" y="167472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76840" y="3406680"/>
            <a:ext cx="2741400" cy="2092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720" y="1806480"/>
            <a:ext cx="297180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 Aptos + 1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 Aptos +3 Casas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99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1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Aptos,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19680" y="2408400"/>
            <a:ext cx="2684520" cy="306036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338720" y="1674720"/>
            <a:ext cx="4376520" cy="4250520"/>
            <a:chOff x="4338720" y="1674720"/>
            <a:chExt cx="4376520" cy="4250520"/>
          </a:xfrm>
        </p:grpSpPr>
        <p:sp>
          <p:nvSpPr>
            <p:cNvPr id="259" name=""/>
            <p:cNvSpPr/>
            <p:nvPr/>
          </p:nvSpPr>
          <p:spPr>
            <a:xfrm>
              <a:off x="4559400" y="5499000"/>
              <a:ext cx="4155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762440" y="1674720"/>
              <a:ext cx="0" cy="4068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678640" y="5407200"/>
              <a:ext cx="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7518240" y="5405400"/>
              <a:ext cx="0" cy="18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591240" y="5409720"/>
              <a:ext cx="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668480" y="236052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62720" y="5584680"/>
              <a:ext cx="37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24560" y="558792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67760" y="5578560"/>
              <a:ext cx="49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673160" y="391464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668480" y="236052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61040" y="4264200"/>
              <a:ext cx="51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677840" y="340056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681080" y="444024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676400" y="497664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672080" y="2876400"/>
              <a:ext cx="17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76880" y="21718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70400" y="27003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65720" y="321300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73640" y="3754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38720" y="48020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62440" y="498168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676840" y="2352240"/>
              <a:ext cx="0" cy="314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591240" y="2347560"/>
              <a:ext cx="0" cy="314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520040" y="2347560"/>
              <a:ext cx="0" cy="31431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43720" y="49291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472520" y="49338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29320" y="49291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62440" y="443880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43720" y="4386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72520" y="43909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9320" y="4386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62440" y="390996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43720" y="385776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72520" y="386244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29320" y="385776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62440" y="339552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43720" y="334332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72520" y="33480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29320" y="334332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62440" y="235728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43720" y="230508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72520" y="23097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29320" y="230508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67120" y="2871720"/>
              <a:ext cx="2752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48400" y="281952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77200" y="282420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34000" y="281952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676400" y="5494320"/>
              <a:ext cx="17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761000" y="5409720"/>
              <a:ext cx="0" cy="18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10240" y="49338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10240" y="439092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10240" y="386244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10240" y="334800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10240" y="23097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14920" y="2824200"/>
              <a:ext cx="9504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43720" y="54435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72520" y="544824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29320" y="5443560"/>
              <a:ext cx="9504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08440" y="5450040"/>
              <a:ext cx="95400" cy="95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762440" y="3409920"/>
            <a:ext cx="2057400" cy="1562040"/>
          </a:xfrm>
          <a:custGeom>
            <a:avLst/>
            <a:gdLst/>
            <a:ahLst/>
            <a:rect l="l" t="t" r="r" b="b"/>
            <a:pathLst>
              <a:path w="1296" h="984">
                <a:moveTo>
                  <a:pt x="0" y="0"/>
                </a:moveTo>
                <a:lnTo>
                  <a:pt x="1296" y="984"/>
                </a:lnTo>
                <a:lnTo>
                  <a:pt x="0" y="984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72160" y="4975200"/>
            <a:ext cx="2755800" cy="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99560" y="5027760"/>
            <a:ext cx="9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440" y="167472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76840" y="3406680"/>
            <a:ext cx="2741400" cy="2092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4720" y="1806480"/>
            <a:ext cx="297180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 Aptos + 1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 Aptos +3 Casas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99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1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Aptos,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19680" y="2408400"/>
            <a:ext cx="2684520" cy="306036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762440" y="1674720"/>
            <a:ext cx="0" cy="406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678640" y="54072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518240" y="54054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59124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62720" y="5584680"/>
            <a:ext cx="3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24560" y="558792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67760" y="557856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673160" y="3914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61040" y="426420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677840" y="34005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681080" y="44402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676400" y="4976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672080" y="287640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76880" y="21718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70400" y="2700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65720" y="3213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73640" y="37544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38720" y="4802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62440" y="498168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676840" y="235224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591240" y="234756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7520040" y="234756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43720" y="492912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72520" y="49338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29320" y="492912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62440" y="443880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43720" y="4386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72520" y="439092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9320" y="4386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62440" y="390996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43720" y="385776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72520" y="386244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29320" y="385776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62440" y="339552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43720" y="334332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472520" y="33480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29320" y="334332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62440" y="235728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43720" y="230508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2520" y="23097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29320" y="230508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67120" y="287172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48400" y="281952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477200" y="28242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34000" y="281952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676400" y="54943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76100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0240" y="49338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10240" y="439092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710240" y="386244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10240" y="33480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10240" y="23097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14920" y="28242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43720" y="54435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72520" y="5448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29320" y="54435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08440" y="545004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75320" y="3532320"/>
            <a:ext cx="1689120" cy="193500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86720" y="4916520"/>
            <a:ext cx="126720" cy="12708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83480" y="2114640"/>
            <a:ext cx="1827000" cy="1255680"/>
          </a:xfrm>
          <a:prstGeom prst="wedgeRoundRectCallout">
            <a:avLst>
              <a:gd name="adj1" fmla="val -43569"/>
              <a:gd name="adj2" fmla="val 169467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asas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Apto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762440" y="3409920"/>
            <a:ext cx="2057400" cy="1562040"/>
          </a:xfrm>
          <a:custGeom>
            <a:avLst/>
            <a:gdLst/>
            <a:ahLst/>
            <a:rect l="l" t="t" r="r" b="b"/>
            <a:pathLst>
              <a:path w="1296" h="984">
                <a:moveTo>
                  <a:pt x="0" y="0"/>
                </a:moveTo>
                <a:lnTo>
                  <a:pt x="1296" y="984"/>
                </a:lnTo>
                <a:lnTo>
                  <a:pt x="0" y="984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72160" y="4975200"/>
            <a:ext cx="2755800" cy="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999560" y="5027760"/>
            <a:ext cx="9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08440" y="167472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76840" y="3406680"/>
            <a:ext cx="2741400" cy="2092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4720" y="1806480"/>
            <a:ext cx="297180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 Aptos + 1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 Aptos +3 Casas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99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1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Aptos,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19680" y="2408400"/>
            <a:ext cx="2684520" cy="306036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762440" y="1674720"/>
            <a:ext cx="0" cy="406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678640" y="54072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7518240" y="54054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59124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62720" y="5584680"/>
            <a:ext cx="3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24560" y="558792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67760" y="557856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673160" y="3914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61040" y="426420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677840" y="34005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681080" y="44402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676400" y="4976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672080" y="287640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376880" y="21718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70400" y="2700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65720" y="3213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373640" y="37544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38720" y="4802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62440" y="498168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676840" y="235224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591240" y="234756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520040" y="234756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43720" y="492912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72520" y="49338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629320" y="492912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62440" y="443880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43720" y="4386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72520" y="439092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29320" y="438624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762440" y="390996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43720" y="385776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72520" y="386244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29320" y="385776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62440" y="339552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43720" y="334332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472520" y="33480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29320" y="334332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62440" y="235728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43720" y="230508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72520" y="23097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29320" y="230508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67120" y="287172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48400" y="281952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77200" y="28242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34000" y="281952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676400" y="54943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76100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10240" y="493380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10240" y="439092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10240" y="3862440"/>
            <a:ext cx="95040" cy="95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10240" y="334800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23097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14920" y="28242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543720" y="54435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72520" y="5448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29320" y="54435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08440" y="545004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75320" y="3532320"/>
            <a:ext cx="1689120" cy="193500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786720" y="4916520"/>
            <a:ext cx="126720" cy="12708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762440" y="3409920"/>
            <a:ext cx="2057400" cy="1562040"/>
          </a:xfrm>
          <a:custGeom>
            <a:avLst/>
            <a:gdLst/>
            <a:ahLst/>
            <a:rect l="l" t="t" r="r" b="b"/>
            <a:pathLst>
              <a:path w="1296" h="984">
                <a:moveTo>
                  <a:pt x="0" y="0"/>
                </a:moveTo>
                <a:lnTo>
                  <a:pt x="1296" y="984"/>
                </a:lnTo>
                <a:lnTo>
                  <a:pt x="0" y="984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72160" y="4975200"/>
            <a:ext cx="2755800" cy="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999560" y="5027760"/>
            <a:ext cx="9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08440" y="1674720"/>
            <a:ext cx="9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76840" y="3406680"/>
            <a:ext cx="2741400" cy="20923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4720" y="1806480"/>
            <a:ext cx="297180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2 Aptos + 1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 Aptos +3 Casas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Casas </a:t>
            </a:r>
            <a:r>
              <a:rPr b="0" lang="en-US" sz="1600" spc="-1" strike="noStrike">
                <a:solidFill>
                  <a:srgbClr val="99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1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Aptos,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19680" y="2408400"/>
            <a:ext cx="2684520" cy="306036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62440" y="1674720"/>
            <a:ext cx="0" cy="4068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678640" y="54072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7518240" y="54054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659124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462720" y="5584680"/>
            <a:ext cx="37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24560" y="558792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367760" y="557856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673160" y="3914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361040" y="426420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677840" y="34005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681080" y="44402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676400" y="497664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672080" y="287640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76880" y="21718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0400" y="2700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65720" y="3213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73640" y="37544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38720" y="4802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62440" y="498168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676840" y="235224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6591240" y="234756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7520040" y="2347560"/>
            <a:ext cx="0" cy="3143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43720" y="492912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72520" y="49338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29320" y="492912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62440" y="443880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43720" y="4386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472520" y="439092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29320" y="438624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62440" y="390996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43720" y="385776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472520" y="386244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629320" y="385776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62440" y="339552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543720" y="334332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472520" y="334800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29320" y="334332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62440" y="235728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543720" y="230508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472520" y="23097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29320" y="230508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67120" y="2871720"/>
            <a:ext cx="2752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548400" y="281952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477200" y="28242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634000" y="281952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676400" y="54943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4761000" y="540972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10240" y="493380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10240" y="439092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10240" y="3862440"/>
            <a:ext cx="95040" cy="95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10240" y="3348000"/>
            <a:ext cx="9504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10240" y="23097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14920" y="2824200"/>
            <a:ext cx="9504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43720" y="54435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472520" y="544824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29320" y="5443560"/>
            <a:ext cx="95040" cy="95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08440" y="5450040"/>
            <a:ext cx="95400" cy="95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37000" y="3541680"/>
            <a:ext cx="1689120" cy="193536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529320" y="4906800"/>
            <a:ext cx="127080" cy="12708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83480" y="2114640"/>
            <a:ext cx="1827000" cy="1255680"/>
          </a:xfrm>
          <a:prstGeom prst="wedgeRoundRectCallout">
            <a:avLst>
              <a:gd name="adj1" fmla="val -58166"/>
              <a:gd name="adj2" fmla="val 171745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asas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Apto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14560" y="172728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 Black"/>
              </a:rPr>
              <a:t>Exercí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67000" y="3422520"/>
            <a:ext cx="64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Resolver por Método Gráfico ou Enume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o Problema do Wolfe Helico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1840" y="3838680"/>
            <a:ext cx="8585280" cy="39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50680" y="112716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920" y="2000160"/>
            <a:ext cx="8619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6/09 - Int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3/09 - FOL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/09 -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ção Gráfica de Problemas de P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/09 - Solução Numérica de Problemas de P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/10 - Análise da Sensibilida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10 - Programação Int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/10 - Programação 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/10 - Transporte, Transbordo e Atribui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/11 - Cobertura Mínima, Caminho Mínimo, Fluxo Máximo e Caixeiro Viaj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visão Geral e Tópicos Supleme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8/11 -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71920" y="2857680"/>
            <a:ext cx="37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Bom Trabalh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4848120" y="1494360"/>
            <a:ext cx="3930840" cy="4658400"/>
            <a:chOff x="4848120" y="1494360"/>
            <a:chExt cx="3930840" cy="4658400"/>
          </a:xfrm>
        </p:grpSpPr>
        <p:sp>
          <p:nvSpPr>
            <p:cNvPr id="550" name=""/>
            <p:cNvSpPr/>
            <p:nvPr/>
          </p:nvSpPr>
          <p:spPr>
            <a:xfrm>
              <a:off x="5367240" y="4857840"/>
              <a:ext cx="1014480" cy="923760"/>
            </a:xfrm>
            <a:custGeom>
              <a:avLst/>
              <a:gdLst/>
              <a:ahLst/>
              <a:rect l="l" t="t" r="r" b="b"/>
              <a:pathLst>
                <a:path w="639" h="585">
                  <a:moveTo>
                    <a:pt x="0" y="0"/>
                  </a:moveTo>
                  <a:lnTo>
                    <a:pt x="510" y="186"/>
                  </a:lnTo>
                  <a:lnTo>
                    <a:pt x="639" y="585"/>
                  </a:lnTo>
                  <a:lnTo>
                    <a:pt x="207" y="5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442360" y="5446800"/>
              <a:ext cx="3063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78520" y="5778360"/>
              <a:ext cx="359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30800" y="5364000"/>
              <a:ext cx="38268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13480" y="5364000"/>
              <a:ext cx="38268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13480" y="4535640"/>
              <a:ext cx="38268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30800" y="4535640"/>
              <a:ext cx="38268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30800" y="4950000"/>
              <a:ext cx="382680" cy="4140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13480" y="4950000"/>
              <a:ext cx="382680" cy="4140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96160" y="5364000"/>
              <a:ext cx="38232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78480" y="5364000"/>
              <a:ext cx="38124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78480" y="4535640"/>
              <a:ext cx="38124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96160" y="4535640"/>
              <a:ext cx="382320" cy="414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96160" y="4950000"/>
              <a:ext cx="382320" cy="4140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78480" y="4950000"/>
              <a:ext cx="381240" cy="4140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59720" y="536400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142040" y="53640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142040" y="453564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59720" y="453564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59720" y="4950000"/>
              <a:ext cx="382320" cy="4140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42040" y="4950000"/>
              <a:ext cx="382680" cy="4140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524720" y="53640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07400" y="53640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907400" y="453564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24720" y="453564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24720" y="4950000"/>
              <a:ext cx="382680" cy="4140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07400" y="4950000"/>
              <a:ext cx="382680" cy="4140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30800" y="412128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13480" y="412128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13480" y="329256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30800" y="329256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30800" y="3706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613480" y="3706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6160" y="412128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78480" y="4121280"/>
              <a:ext cx="38124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78480" y="3292560"/>
              <a:ext cx="38124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96160" y="329256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96160" y="370692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78480" y="3706920"/>
              <a:ext cx="38124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59720" y="412128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42040" y="412128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142040" y="329256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59720" y="329256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59720" y="370692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42040" y="3706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24720" y="412128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907400" y="412128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07400" y="329256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24720" y="329256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24720" y="3706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907400" y="3706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30800" y="28782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613480" y="28782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13480" y="2050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30800" y="2050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230800" y="2465280"/>
              <a:ext cx="38268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613480" y="2465280"/>
              <a:ext cx="38268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996160" y="287820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78480" y="2878200"/>
              <a:ext cx="38124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78480" y="2050920"/>
              <a:ext cx="38124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996160" y="205092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96160" y="2465280"/>
              <a:ext cx="38232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78480" y="2465280"/>
              <a:ext cx="38124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59720" y="287820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142040" y="28782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142040" y="205092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59720" y="2050920"/>
              <a:ext cx="38232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59720" y="2465280"/>
              <a:ext cx="38232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42040" y="2465280"/>
              <a:ext cx="38268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24720" y="28782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907400" y="2878200"/>
              <a:ext cx="382680" cy="4143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07400" y="2050920"/>
              <a:ext cx="382680" cy="4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24720" y="2050920"/>
              <a:ext cx="382680" cy="4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524720" y="2465280"/>
              <a:ext cx="38268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07400" y="2465280"/>
              <a:ext cx="382680" cy="4129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48120" y="1719360"/>
              <a:ext cx="382680" cy="33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5230800" y="1719360"/>
              <a:ext cx="0" cy="42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68840" y="57373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56200" y="5737320"/>
              <a:ext cx="76320" cy="82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86520" y="57373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04240" y="57373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85120" y="5742000"/>
              <a:ext cx="777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21560" y="57373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250120" y="57373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73880" y="5322960"/>
              <a:ext cx="75960" cy="82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43560" y="53229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961240" y="5322960"/>
              <a:ext cx="75960" cy="82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91200" y="5322960"/>
              <a:ext cx="7596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08920" y="532296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73920" y="53229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491240" y="53276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726240" y="5322960"/>
              <a:ext cx="7632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256600" y="53229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343560" y="490860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61240" y="490860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91200" y="4910040"/>
              <a:ext cx="7596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08920" y="490860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73920" y="490860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91240" y="4913280"/>
              <a:ext cx="7632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26240" y="4910040"/>
              <a:ext cx="7632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56600" y="490860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573880" y="449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43560" y="449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08920" y="449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73920" y="449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491240" y="45007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26240" y="4495680"/>
              <a:ext cx="7632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56600" y="449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73880" y="407988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343560" y="407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61240" y="407988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91200" y="4081320"/>
              <a:ext cx="7596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08920" y="407988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873920" y="407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491240" y="40863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26240" y="4081320"/>
              <a:ext cx="7632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56600" y="407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73880" y="36655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43560" y="36655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61240" y="36655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91200" y="3666960"/>
              <a:ext cx="7596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08920" y="36655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873920" y="36655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91240" y="367200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726240" y="3666960"/>
              <a:ext cx="7632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256600" y="36655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43560" y="32511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61240" y="325116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91200" y="325296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08920" y="325116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73920" y="32511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91240" y="32576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26240" y="32529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56600" y="325116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73880" y="2836800"/>
              <a:ext cx="7596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43560" y="2836800"/>
              <a:ext cx="7632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61240" y="2836800"/>
              <a:ext cx="7596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91200" y="283860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08920" y="2836800"/>
              <a:ext cx="7596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873920" y="2836800"/>
              <a:ext cx="7632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91240" y="28432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26240" y="283860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256600" y="2836800"/>
              <a:ext cx="76320" cy="8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573880" y="242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43560" y="242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61240" y="242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91200" y="242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08920" y="242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873920" y="242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91240" y="242892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26240" y="242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256600" y="242424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68840" y="200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38880" y="200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56200" y="200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04240" y="200988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867800" y="200988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85120" y="2014560"/>
              <a:ext cx="777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21560" y="2009880"/>
              <a:ext cx="75960" cy="8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250120" y="2009880"/>
              <a:ext cx="7632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465760" y="5409000"/>
              <a:ext cx="313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30880" y="1494360"/>
              <a:ext cx="361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473440" y="5841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54680" y="5841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35560" y="584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03840" y="5842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02360" y="5845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78560" y="5845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59440" y="584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27720" y="5842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89160" y="5213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81240" y="4796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57480" y="4380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879800" y="3989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875120" y="3545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889160" y="3126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95640" y="2691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887720" y="2300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895640" y="1889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49920" y="1574640"/>
              <a:ext cx="301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32240" y="4809960"/>
              <a:ext cx="2689560" cy="9795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5230440" y="4459320"/>
              <a:ext cx="468360" cy="1324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224320" y="2049480"/>
              <a:ext cx="1154160" cy="37242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38880" y="5737320"/>
              <a:ext cx="76320" cy="82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573880" y="4908600"/>
              <a:ext cx="75960" cy="82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867800" y="573732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91200" y="4495680"/>
              <a:ext cx="75960" cy="8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86520" y="2009880"/>
              <a:ext cx="75960" cy="8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61240" y="449424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73880" y="3251160"/>
              <a:ext cx="75960" cy="8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08120" y="98316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Wolfe Helico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8440" y="4195440"/>
            <a:ext cx="315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3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2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.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600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200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1.8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6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202000" y="2043000"/>
            <a:ext cx="2322360" cy="3730680"/>
            <a:chOff x="5202000" y="2043000"/>
            <a:chExt cx="2322360" cy="3730680"/>
          </a:xfrm>
        </p:grpSpPr>
        <p:sp>
          <p:nvSpPr>
            <p:cNvPr id="746" name=""/>
            <p:cNvSpPr/>
            <p:nvPr/>
          </p:nvSpPr>
          <p:spPr>
            <a:xfrm flipH="1" flipV="1">
              <a:off x="5223960" y="3276720"/>
              <a:ext cx="1528920" cy="2496960"/>
            </a:xfrm>
            <a:prstGeom prst="line">
              <a:avLst/>
            </a:prstGeom>
            <a:ln w="1908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5202000" y="2043000"/>
              <a:ext cx="2322360" cy="3710160"/>
            </a:xfrm>
            <a:prstGeom prst="line">
              <a:avLst/>
            </a:prstGeom>
            <a:ln w="1908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5256000" y="2685960"/>
              <a:ext cx="1887480" cy="3075120"/>
            </a:xfrm>
            <a:prstGeom prst="line">
              <a:avLst/>
            </a:prstGeom>
            <a:ln w="1908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5226120" y="3898800"/>
              <a:ext cx="1138320" cy="1819440"/>
            </a:xfrm>
            <a:prstGeom prst="line">
              <a:avLst/>
            </a:prstGeom>
            <a:ln w="19080">
              <a:solidFill>
                <a:srgbClr val="99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135840" y="5108400"/>
            <a:ext cx="288720" cy="717840"/>
            <a:chOff x="6135840" y="5108400"/>
            <a:chExt cx="288720" cy="717840"/>
          </a:xfrm>
        </p:grpSpPr>
        <p:sp>
          <p:nvSpPr>
            <p:cNvPr id="751" name=""/>
            <p:cNvSpPr/>
            <p:nvPr/>
          </p:nvSpPr>
          <p:spPr>
            <a:xfrm>
              <a:off x="6326280" y="5727600"/>
              <a:ext cx="98280" cy="98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35840" y="5108400"/>
              <a:ext cx="98280" cy="98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53" name=""/>
          <p:cNvGraphicFramePr/>
          <p:nvPr/>
        </p:nvGraphicFramePr>
        <p:xfrm>
          <a:off x="173160" y="2236680"/>
          <a:ext cx="4646520" cy="18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236680"/>
                    <a:ext cx="46465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67240" y="4857840"/>
            <a:ext cx="1014480" cy="919080"/>
          </a:xfrm>
          <a:custGeom>
            <a:avLst/>
            <a:gdLst/>
            <a:ahLst/>
            <a:rect l="l" t="t" r="r" b="b"/>
            <a:pathLst>
              <a:path w="639" h="579">
                <a:moveTo>
                  <a:pt x="0" y="0"/>
                </a:moveTo>
                <a:lnTo>
                  <a:pt x="516" y="189"/>
                </a:lnTo>
                <a:lnTo>
                  <a:pt x="639" y="579"/>
                </a:lnTo>
                <a:lnTo>
                  <a:pt x="210" y="57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08120" y="98316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Black"/>
              </a:rPr>
              <a:t>Wolfe Helico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8440" y="4195440"/>
            <a:ext cx="315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x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3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2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.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600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200.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1.8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6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442360" y="5446800"/>
            <a:ext cx="30636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078520" y="5778360"/>
            <a:ext cx="359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230800" y="5364000"/>
            <a:ext cx="382680" cy="41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613480" y="5364000"/>
            <a:ext cx="382680" cy="41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613480" y="453564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230800" y="4535640"/>
            <a:ext cx="382680" cy="41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230800" y="4950000"/>
            <a:ext cx="382680" cy="414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613480" y="4950000"/>
            <a:ext cx="382680" cy="414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996160" y="5364000"/>
            <a:ext cx="382320" cy="414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378480" y="536400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378480" y="453564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996160" y="453564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996160" y="4950000"/>
            <a:ext cx="382320" cy="414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378480" y="4950000"/>
            <a:ext cx="38124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759720" y="536400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142040" y="53640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42040" y="453564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759720" y="453564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759720" y="4950000"/>
            <a:ext cx="38232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142040" y="4950000"/>
            <a:ext cx="38268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24720" y="53640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907400" y="53640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907400" y="453564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24720" y="453564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24720" y="4950000"/>
            <a:ext cx="38268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907400" y="4950000"/>
            <a:ext cx="382680" cy="4140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3080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1348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1348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23080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23080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1348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96160" y="412128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378480" y="412128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378480" y="329256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996160" y="329256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996160" y="370692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378480" y="370692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759720" y="412128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14204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14204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759720" y="329256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759720" y="370692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14204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2472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907400" y="412128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90740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524720" y="329256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2472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907400" y="3706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23080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61348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13480" y="2050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230800" y="2050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23080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1348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996160" y="287820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78480" y="287820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378480" y="2050920"/>
            <a:ext cx="38124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96160" y="205092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996160" y="2465280"/>
            <a:ext cx="38232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378480" y="2465280"/>
            <a:ext cx="38124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759720" y="287820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14204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142040" y="205092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759720" y="2050920"/>
            <a:ext cx="38232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759720" y="2465280"/>
            <a:ext cx="38232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14204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52472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907400" y="2878200"/>
            <a:ext cx="382680" cy="41436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907400" y="2050920"/>
            <a:ext cx="38268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524720" y="2050920"/>
            <a:ext cx="382680" cy="41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52472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907400" y="2465280"/>
            <a:ext cx="382680" cy="4129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848120" y="1719360"/>
            <a:ext cx="382680" cy="33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230800" y="1719360"/>
            <a:ext cx="0" cy="42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568840" y="57373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956200" y="5737320"/>
            <a:ext cx="7632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186520" y="57373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104240" y="57373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485120" y="5742000"/>
            <a:ext cx="777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721560" y="57373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250120" y="57373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73880" y="5322960"/>
            <a:ext cx="7596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43560" y="53229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961240" y="5322960"/>
            <a:ext cx="7596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91200" y="5322960"/>
            <a:ext cx="7596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08920" y="53229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873920" y="53229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491240" y="53276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726240" y="532296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256600" y="53229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43560" y="49086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61240" y="490860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91200" y="4910040"/>
            <a:ext cx="7596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108920" y="490860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873920" y="49086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491240" y="491328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26240" y="4910040"/>
            <a:ext cx="7632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256600" y="49086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573880" y="449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343560" y="449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108920" y="449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873920" y="449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491240" y="45007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726240" y="4495680"/>
            <a:ext cx="7632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256600" y="449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573880" y="407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343560" y="407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961240" y="407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191200" y="4081320"/>
            <a:ext cx="7596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8920" y="407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873920" y="407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491240" y="40863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26240" y="4081320"/>
            <a:ext cx="7632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56600" y="407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573880" y="36655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343560" y="36655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61240" y="36655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91200" y="3666960"/>
            <a:ext cx="7596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108920" y="36655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873920" y="36655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91240" y="36720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26240" y="3666960"/>
            <a:ext cx="7632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256600" y="36655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343560" y="32511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961240" y="32511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91200" y="32529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108920" y="32511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873920" y="32511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491240" y="32576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26240" y="32529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256600" y="325116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573880" y="2836800"/>
            <a:ext cx="7596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43560" y="283680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61240" y="2836800"/>
            <a:ext cx="7596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191200" y="283860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108920" y="2836800"/>
            <a:ext cx="7596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73920" y="283680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491240" y="28432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26240" y="283860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256600" y="2836800"/>
            <a:ext cx="76320" cy="8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573880" y="242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43560" y="242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961240" y="242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91200" y="242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108920" y="242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873920" y="242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491240" y="242892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26240" y="242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256600" y="242424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568840" y="200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38880" y="200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956200" y="200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104240" y="200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867800" y="200988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485120" y="2014560"/>
            <a:ext cx="777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21560" y="2009880"/>
            <a:ext cx="75960" cy="8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8250120" y="2009880"/>
            <a:ext cx="7632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465760" y="5409000"/>
            <a:ext cx="313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30880" y="1494360"/>
            <a:ext cx="361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73440" y="584100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854680" y="584100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235560" y="58442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603840" y="58424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002360" y="58456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378560" y="58456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759440" y="58442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127720" y="58424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889160" y="52138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881240" y="47962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857480" y="43804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879800" y="39898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875120" y="354528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889160" y="31262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895640" y="269136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887720" y="230076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895640" y="1889640"/>
            <a:ext cx="279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849920" y="1574640"/>
            <a:ext cx="30168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232240" y="4809960"/>
            <a:ext cx="2689560" cy="97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5230440" y="4459320"/>
            <a:ext cx="468360" cy="1324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24320" y="2049480"/>
            <a:ext cx="1154160" cy="372420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38880" y="5737320"/>
            <a:ext cx="7632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73880" y="4908600"/>
            <a:ext cx="75960" cy="82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867800" y="573732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91200" y="4495680"/>
            <a:ext cx="75960" cy="8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186520" y="2009880"/>
            <a:ext cx="75960" cy="8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61240" y="449424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573880" y="3251160"/>
            <a:ext cx="75960" cy="82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0" name=""/>
          <p:cNvGraphicFramePr/>
          <p:nvPr/>
        </p:nvGraphicFramePr>
        <p:xfrm>
          <a:off x="173160" y="2236680"/>
          <a:ext cx="4646520" cy="184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236680"/>
                    <a:ext cx="46465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"/>
          <p:cNvSpPr/>
          <p:nvPr/>
        </p:nvSpPr>
        <p:spPr>
          <a:xfrm>
            <a:off x="6554880" y="2572920"/>
            <a:ext cx="1407600" cy="1604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1,1) -&gt; $ 5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1,2) -&gt; $ 7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,0) -&gt; $ 6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(2,1) -&gt; $ 8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3,0) -&gt; $ 9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800" y="1924200"/>
            <a:ext cx="392436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 Fábrica ESPMóveis fabrica Mesas e Cadeiras. Cada Mesa requer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h de mão-de-obra e 9 ft</a:t>
            </a:r>
            <a:r>
              <a:rPr b="0" lang="en-US" sz="1600" spc="-1" strike="noStrike" baseline="30000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de madeira. Cada Cadeira requer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h de mão-de-obra e requer </a:t>
            </a: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ft</a:t>
            </a:r>
            <a:r>
              <a:rPr b="0" lang="en-US" sz="1600" spc="-1" strike="noStrike" baseline="30000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de madeira. No momento, dispõe-se de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6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h de mão-de-obra e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4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ft</a:t>
            </a:r>
            <a:r>
              <a:rPr b="0" lang="en-US" sz="1600" spc="-1" strike="noStrike" baseline="30000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de madeira. Os lucros são de $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8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por cada Mesa e $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por cada Cadeira. Quantas Mesas e Cadeiras devem ser fabricadas para maximizar o lucr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0000" y="1936800"/>
            <a:ext cx="36064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8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5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 +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6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mão-de-obr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9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 +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5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45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madeir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M,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950000" y="1936800"/>
            <a:ext cx="36064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8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+ 5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 +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6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mão-de-obr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9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 +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5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45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madeira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M,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566640" y="1442880"/>
            <a:ext cx="3765600" cy="4920480"/>
            <a:chOff x="566640" y="1442880"/>
            <a:chExt cx="3765600" cy="4920480"/>
          </a:xfrm>
        </p:grpSpPr>
        <p:sp>
          <p:nvSpPr>
            <p:cNvPr id="964" name=""/>
            <p:cNvSpPr/>
            <p:nvPr/>
          </p:nvSpPr>
          <p:spPr>
            <a:xfrm>
              <a:off x="1884240" y="6026040"/>
              <a:ext cx="3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89320" y="6026040"/>
              <a:ext cx="49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847960" y="60260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566640" y="1442880"/>
              <a:ext cx="3765600" cy="4911120"/>
              <a:chOff x="566640" y="1442880"/>
              <a:chExt cx="3765600" cy="4911120"/>
            </a:xfrm>
          </p:grpSpPr>
          <p:sp>
            <p:nvSpPr>
              <p:cNvPr id="968" name=""/>
              <p:cNvSpPr/>
              <p:nvPr/>
            </p:nvSpPr>
            <p:spPr>
              <a:xfrm>
                <a:off x="3944880" y="5533920"/>
                <a:ext cx="38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31800" y="1442880"/>
                <a:ext cx="405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390680" y="6016680"/>
                <a:ext cx="45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77800" y="48848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66640" y="30528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74560" y="3494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69880" y="39639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77800" y="44467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68440" y="532908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74560" y="264168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74560" y="22226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22240" y="5950080"/>
                <a:ext cx="3262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1009800" y="1631520"/>
                <a:ext cx="1440" cy="452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1542960" y="5870520"/>
                <a:ext cx="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2541600" y="5869080"/>
                <a:ext cx="144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2043000" y="5873760"/>
                <a:ext cx="180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923760" y="3240000"/>
                <a:ext cx="1605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928440" y="458136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923760" y="3240000"/>
                <a:ext cx="16056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933120" y="4137120"/>
                <a:ext cx="1602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934920" y="5035680"/>
                <a:ext cx="1605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931680" y="549900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927000" y="3684600"/>
                <a:ext cx="1605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011240" y="5502240"/>
                <a:ext cx="2550960" cy="1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1541520" y="1991880"/>
                <a:ext cx="1440" cy="3954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2043000" y="1972800"/>
                <a:ext cx="1800" cy="3970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2543040" y="1959120"/>
                <a:ext cx="1800" cy="3984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998720" y="545796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498760" y="5462640"/>
                <a:ext cx="8892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496880" y="545796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011240" y="5033880"/>
                <a:ext cx="2550960" cy="1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998720" y="4989600"/>
                <a:ext cx="8712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498760" y="499284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496880" y="4989600"/>
                <a:ext cx="8748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011240" y="4578480"/>
                <a:ext cx="25509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998720" y="453240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498760" y="4537080"/>
                <a:ext cx="8892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496880" y="453240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011240" y="4133880"/>
                <a:ext cx="2550960" cy="1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998720" y="408780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498760" y="4092480"/>
                <a:ext cx="889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496880" y="408780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011240" y="3236760"/>
                <a:ext cx="2550960" cy="1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998720" y="319104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498760" y="319572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496880" y="319104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014480" y="3681360"/>
                <a:ext cx="2552760" cy="18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003400" y="3635280"/>
                <a:ext cx="8748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503440" y="3639960"/>
                <a:ext cx="889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501920" y="3635280"/>
                <a:ext cx="871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931680" y="594504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V="1">
                <a:off x="1009800" y="5873760"/>
                <a:ext cx="144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961920" y="5462640"/>
                <a:ext cx="8892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961920" y="499284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961920" y="4537080"/>
                <a:ext cx="8892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961920" y="4092480"/>
                <a:ext cx="889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961920" y="319572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966960" y="3639960"/>
                <a:ext cx="871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998720" y="5902200"/>
                <a:ext cx="871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498760" y="590544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496880" y="5902200"/>
                <a:ext cx="8748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960480" y="590724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931680" y="282240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931680" y="282240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017720" y="2819520"/>
                <a:ext cx="2552400" cy="1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004840" y="2774880"/>
                <a:ext cx="889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506680" y="277812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503360" y="2774880"/>
                <a:ext cx="889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969840" y="277812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925200" y="241128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925200" y="2411280"/>
                <a:ext cx="160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012680" y="2408400"/>
                <a:ext cx="2551320" cy="1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000160" y="236376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500200" y="236700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98680" y="236376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963720" y="236700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919080" y="1990800"/>
                <a:ext cx="1605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919080" y="1990800"/>
                <a:ext cx="1605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004760" y="1987560"/>
                <a:ext cx="2552760" cy="1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992240" y="194328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494080" y="1946160"/>
                <a:ext cx="871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490760" y="194328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957240" y="1946160"/>
                <a:ext cx="8748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3036960" y="5864040"/>
                <a:ext cx="0" cy="16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3537000" y="5867280"/>
                <a:ext cx="144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3035160" y="1986120"/>
                <a:ext cx="1800" cy="3954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3537000" y="1967040"/>
                <a:ext cx="1440" cy="3970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492360" y="545148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990880" y="545148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492360" y="4983120"/>
                <a:ext cx="8748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990880" y="4983120"/>
                <a:ext cx="87120" cy="81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492360" y="452592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990880" y="452592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492360" y="4081320"/>
                <a:ext cx="8748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990880" y="4081320"/>
                <a:ext cx="871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492360" y="318456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990880" y="318456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497400" y="362916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5560" y="362916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492360" y="5896080"/>
                <a:ext cx="8748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90880" y="5896080"/>
                <a:ext cx="871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498840" y="276876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97360" y="276876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494160" y="2357280"/>
                <a:ext cx="8712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992320" y="2357280"/>
                <a:ext cx="8748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486240" y="193680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984400" y="1936800"/>
                <a:ext cx="8892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82480" y="18111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379680" y="60102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Black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7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1003320" y="3225960"/>
            <a:ext cx="2540160" cy="2717640"/>
          </a:xfrm>
          <a:custGeom>
            <a:avLst/>
            <a:gdLst/>
            <a:ahLst/>
            <a:rect l="l" t="t" r="r" b="b"/>
            <a:pathLst>
              <a:path w="1600" h="1712">
                <a:moveTo>
                  <a:pt x="8" y="0"/>
                </a:moveTo>
                <a:lnTo>
                  <a:pt x="1176" y="1048"/>
                </a:lnTo>
                <a:lnTo>
                  <a:pt x="1600" y="1712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082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50000" y="1936800"/>
            <a:ext cx="36064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6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M,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498760" y="4092480"/>
            <a:ext cx="889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98720" y="319104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498760" y="319572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496880" y="319104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003400" y="3635280"/>
            <a:ext cx="8748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03440" y="3639960"/>
            <a:ext cx="889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004840" y="2774880"/>
            <a:ext cx="889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06680" y="277812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490760" y="2774880"/>
            <a:ext cx="889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69840" y="277812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000160" y="236376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00200" y="236700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498680" y="236376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963720" y="236700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992240" y="194328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494080" y="1946160"/>
            <a:ext cx="871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90760" y="194328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57240" y="1946160"/>
            <a:ext cx="8748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492360" y="545148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492360" y="4983120"/>
            <a:ext cx="874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00240" y="5011560"/>
            <a:ext cx="874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492360" y="452592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990880" y="452592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492360" y="4081320"/>
            <a:ext cx="8748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990880" y="4081320"/>
            <a:ext cx="871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492360" y="318456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990880" y="318456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497400" y="362916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995560" y="362916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98840" y="276876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997360" y="276876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494160" y="2357280"/>
            <a:ext cx="871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992320" y="2357280"/>
            <a:ext cx="8748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486240" y="193680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984400" y="193680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952800" y="545940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952800" y="4991040"/>
            <a:ext cx="87480" cy="81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952800" y="453384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952800" y="4089240"/>
            <a:ext cx="8748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52800" y="319248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957480" y="363708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952800" y="5904000"/>
            <a:ext cx="8748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959280" y="277668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954600" y="2365200"/>
            <a:ext cx="8712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946680" y="1944720"/>
            <a:ext cx="8892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1003320" y="3225960"/>
            <a:ext cx="2540160" cy="2717640"/>
          </a:xfrm>
          <a:custGeom>
            <a:avLst/>
            <a:gdLst/>
            <a:ahLst/>
            <a:rect l="l" t="t" r="r" b="b"/>
            <a:pathLst>
              <a:path w="1600" h="1712">
                <a:moveTo>
                  <a:pt x="8" y="0"/>
                </a:moveTo>
                <a:lnTo>
                  <a:pt x="1176" y="1048"/>
                </a:lnTo>
                <a:lnTo>
                  <a:pt x="1600" y="1712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216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950000" y="1936800"/>
            <a:ext cx="36064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6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teger M,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1003320" y="2413080"/>
            <a:ext cx="2527200" cy="3530520"/>
            <a:chOff x="1003320" y="2413080"/>
            <a:chExt cx="2527200" cy="3530520"/>
          </a:xfrm>
        </p:grpSpPr>
        <p:sp>
          <p:nvSpPr>
            <p:cNvPr id="1301" name=""/>
            <p:cNvSpPr/>
            <p:nvPr/>
          </p:nvSpPr>
          <p:spPr>
            <a:xfrm>
              <a:off x="1015920" y="3251160"/>
              <a:ext cx="1892520" cy="26798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003320" y="2413080"/>
              <a:ext cx="2527200" cy="3492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15920" y="4127400"/>
              <a:ext cx="1282680" cy="18162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830680" y="4851360"/>
            <a:ext cx="126720" cy="1270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81400" y="2359080"/>
            <a:ext cx="2044440" cy="1255680"/>
          </a:xfrm>
          <a:prstGeom prst="wedgeRoundRectCallout">
            <a:avLst>
              <a:gd name="adj1" fmla="val -24458"/>
              <a:gd name="adj2" fmla="val 147722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Me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1003320" y="3225960"/>
            <a:ext cx="2540160" cy="2717640"/>
          </a:xfrm>
          <a:custGeom>
            <a:avLst/>
            <a:gdLst/>
            <a:ahLst/>
            <a:rect l="l" t="t" r="r" b="b"/>
            <a:pathLst>
              <a:path w="1600" h="1712">
                <a:moveTo>
                  <a:pt x="8" y="0"/>
                </a:moveTo>
                <a:lnTo>
                  <a:pt x="1176" y="1048"/>
                </a:lnTo>
                <a:lnTo>
                  <a:pt x="1600" y="1712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311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1003320" y="2413080"/>
            <a:ext cx="2527200" cy="3530520"/>
            <a:chOff x="1003320" y="2413080"/>
            <a:chExt cx="2527200" cy="3530520"/>
          </a:xfrm>
        </p:grpSpPr>
        <p:sp>
          <p:nvSpPr>
            <p:cNvPr id="1395" name=""/>
            <p:cNvSpPr/>
            <p:nvPr/>
          </p:nvSpPr>
          <p:spPr>
            <a:xfrm>
              <a:off x="1015920" y="3251160"/>
              <a:ext cx="1892520" cy="26798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003320" y="2413080"/>
              <a:ext cx="2527200" cy="3492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015920" y="4127400"/>
              <a:ext cx="1282680" cy="18162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2830680" y="4851360"/>
            <a:ext cx="126720" cy="127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381400" y="2359080"/>
            <a:ext cx="2044440" cy="1255680"/>
          </a:xfrm>
          <a:prstGeom prst="wedgeRoundRectCallout">
            <a:avLst>
              <a:gd name="adj1" fmla="val -24458"/>
              <a:gd name="adj2" fmla="val 147722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Me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Lucro = $ 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867280" y="4906800"/>
            <a:ext cx="2044800" cy="1256040"/>
          </a:xfrm>
          <a:prstGeom prst="wedgeRoundRectCallout">
            <a:avLst>
              <a:gd name="adj1" fmla="val -209393"/>
              <a:gd name="adj2" fmla="val -40773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Me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463840" y="4960800"/>
            <a:ext cx="127080" cy="127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5340240" y="2869560"/>
            <a:ext cx="2005200" cy="1400040"/>
          </a:xfrm>
          <a:custGeom>
            <a:avLst/>
            <a:gdLst>
              <a:gd name="textAreaLeft" fmla="*/ 648000 w 2005200"/>
              <a:gd name="textAreaRight" fmla="*/ 1659240 w 2005200"/>
              <a:gd name="textAreaTop" fmla="*/ 870840 h 1400040"/>
              <a:gd name="textAreaBottom" fmla="*/ 1158120 h 1400040"/>
            </a:gdLst>
            <a:ahLst/>
            <a:rect l="textAreaLeft" t="textAreaTop" r="textAreaRight" b="textAreaBottom"/>
            <a:pathLst>
              <a:path w="21600" h="21600">
                <a:moveTo>
                  <a:pt x="0" y="17172"/>
                </a:moveTo>
                <a:lnTo>
                  <a:pt x="13443" y="17172"/>
                </a:lnTo>
                <a:lnTo>
                  <a:pt x="13443" y="6979"/>
                </a:lnTo>
                <a:lnTo>
                  <a:pt x="9714" y="6979"/>
                </a:lnTo>
                <a:lnTo>
                  <a:pt x="15657" y="0"/>
                </a:lnTo>
                <a:lnTo>
                  <a:pt x="21600" y="6979"/>
                </a:lnTo>
                <a:lnTo>
                  <a:pt x="17871" y="6979"/>
                </a:lnTo>
                <a:lnTo>
                  <a:pt x="178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81640" y="2886480"/>
            <a:ext cx="16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Trunc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1003320" y="3225960"/>
            <a:ext cx="2540160" cy="2717640"/>
          </a:xfrm>
          <a:custGeom>
            <a:avLst/>
            <a:gdLst/>
            <a:ahLst/>
            <a:rect l="l" t="t" r="r" b="b"/>
            <a:pathLst>
              <a:path w="1600" h="1712">
                <a:moveTo>
                  <a:pt x="8" y="0"/>
                </a:moveTo>
                <a:lnTo>
                  <a:pt x="1176" y="1048"/>
                </a:lnTo>
                <a:lnTo>
                  <a:pt x="1600" y="1712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409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1003320" y="2413080"/>
            <a:ext cx="2527200" cy="3530520"/>
            <a:chOff x="1003320" y="2413080"/>
            <a:chExt cx="2527200" cy="3530520"/>
          </a:xfrm>
        </p:grpSpPr>
        <p:sp>
          <p:nvSpPr>
            <p:cNvPr id="1493" name=""/>
            <p:cNvSpPr/>
            <p:nvPr/>
          </p:nvSpPr>
          <p:spPr>
            <a:xfrm>
              <a:off x="1015920" y="3251160"/>
              <a:ext cx="1892520" cy="26798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003320" y="2413080"/>
              <a:ext cx="2527200" cy="3492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015920" y="4127400"/>
              <a:ext cx="1282680" cy="18162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2830680" y="4851360"/>
            <a:ext cx="126720" cy="127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295360" y="2359080"/>
            <a:ext cx="2217960" cy="1255680"/>
          </a:xfrm>
          <a:prstGeom prst="wedgeRoundRectCallout">
            <a:avLst>
              <a:gd name="adj1" fmla="val -22583"/>
              <a:gd name="adj2" fmla="val 147722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olução Relax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sas = 3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deiras = 2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/>
          <p:nvPr/>
        </p:nvSpPr>
        <p:spPr>
          <a:xfrm>
            <a:off x="1009800" y="1992240"/>
            <a:ext cx="1530360" cy="3954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30480" y="1992240"/>
            <a:ext cx="966960" cy="3954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504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1003320" y="2413080"/>
            <a:ext cx="2527200" cy="3530520"/>
            <a:chOff x="1003320" y="2413080"/>
            <a:chExt cx="2527200" cy="3530520"/>
          </a:xfrm>
        </p:grpSpPr>
        <p:sp>
          <p:nvSpPr>
            <p:cNvPr id="1589" name=""/>
            <p:cNvSpPr/>
            <p:nvPr/>
          </p:nvSpPr>
          <p:spPr>
            <a:xfrm>
              <a:off x="1015920" y="3251160"/>
              <a:ext cx="1892520" cy="26798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003320" y="2413080"/>
              <a:ext cx="2527200" cy="3492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15920" y="4127400"/>
              <a:ext cx="1282680" cy="18162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2830680" y="4851360"/>
            <a:ext cx="126720" cy="127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016080" y="1994040"/>
            <a:ext cx="69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1827360" y="1987560"/>
            <a:ext cx="691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042360" y="160596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983960" y="15994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32440" y="3286080"/>
            <a:ext cx="289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 Black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 Black"/>
              </a:rPr>
              <a:t>da Aula A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3044880" y="5181480"/>
            <a:ext cx="490320" cy="765360"/>
          </a:xfrm>
          <a:custGeom>
            <a:avLst/>
            <a:gdLst/>
            <a:ahLst/>
            <a:rect l="l" t="t" r="r" b="b"/>
            <a:pathLst>
              <a:path w="309" h="482">
                <a:moveTo>
                  <a:pt x="0" y="0"/>
                </a:moveTo>
                <a:lnTo>
                  <a:pt x="309" y="482"/>
                </a:lnTo>
                <a:lnTo>
                  <a:pt x="0" y="48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003320" y="3225960"/>
            <a:ext cx="1550880" cy="2720880"/>
          </a:xfrm>
          <a:custGeom>
            <a:avLst/>
            <a:gdLst/>
            <a:ahLst/>
            <a:rect l="l" t="t" r="r" b="b"/>
            <a:pathLst>
              <a:path w="977" h="1714">
                <a:moveTo>
                  <a:pt x="8" y="0"/>
                </a:moveTo>
                <a:lnTo>
                  <a:pt x="977" y="868"/>
                </a:lnTo>
                <a:lnTo>
                  <a:pt x="968" y="1714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602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890960" y="1709640"/>
            <a:ext cx="28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 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900680" y="2454120"/>
            <a:ext cx="3682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Note que todos os pontos viáveis do problema estão em uma das regiões, ou seja, com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3044880" y="5181480"/>
            <a:ext cx="490320" cy="765360"/>
          </a:xfrm>
          <a:custGeom>
            <a:avLst/>
            <a:gdLst/>
            <a:ahLst/>
            <a:rect l="l" t="t" r="r" b="b"/>
            <a:pathLst>
              <a:path w="309" h="482">
                <a:moveTo>
                  <a:pt x="0" y="0"/>
                </a:moveTo>
                <a:lnTo>
                  <a:pt x="309" y="482"/>
                </a:lnTo>
                <a:lnTo>
                  <a:pt x="0" y="48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003320" y="3225960"/>
            <a:ext cx="1550880" cy="2720880"/>
          </a:xfrm>
          <a:custGeom>
            <a:avLst/>
            <a:gdLst/>
            <a:ahLst/>
            <a:rect l="l" t="t" r="r" b="b"/>
            <a:pathLst>
              <a:path w="977" h="1714">
                <a:moveTo>
                  <a:pt x="8" y="0"/>
                </a:moveTo>
                <a:lnTo>
                  <a:pt x="977" y="868"/>
                </a:lnTo>
                <a:lnTo>
                  <a:pt x="968" y="1714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2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693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90960" y="1709640"/>
            <a:ext cx="28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 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u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900680" y="2454120"/>
            <a:ext cx="368280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sub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1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2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805280" y="2843280"/>
            <a:ext cx="2799000" cy="157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3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784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900680" y="2454120"/>
            <a:ext cx="368280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Escolha um sub-probl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1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2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/>
          <p:nvPr/>
        </p:nvSpPr>
        <p:spPr>
          <a:xfrm flipV="1">
            <a:off x="3035160" y="1986120"/>
            <a:ext cx="1800" cy="3968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05280" y="2843280"/>
            <a:ext cx="2799000" cy="157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044880" y="5181480"/>
            <a:ext cx="490320" cy="765360"/>
          </a:xfrm>
          <a:custGeom>
            <a:avLst/>
            <a:gdLst/>
            <a:ahLst/>
            <a:rect l="l" t="t" r="r" b="b"/>
            <a:pathLst>
              <a:path w="309" h="482">
                <a:moveTo>
                  <a:pt x="0" y="0"/>
                </a:moveTo>
                <a:lnTo>
                  <a:pt x="309" y="482"/>
                </a:lnTo>
                <a:lnTo>
                  <a:pt x="0" y="48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3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874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900680" y="2454120"/>
            <a:ext cx="3682800" cy="26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1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1003320" y="2413080"/>
            <a:ext cx="2527200" cy="3530520"/>
            <a:chOff x="1003320" y="2413080"/>
            <a:chExt cx="2527200" cy="3530520"/>
          </a:xfrm>
        </p:grpSpPr>
        <p:sp>
          <p:nvSpPr>
            <p:cNvPr id="1958" name=""/>
            <p:cNvSpPr/>
            <p:nvPr/>
          </p:nvSpPr>
          <p:spPr>
            <a:xfrm>
              <a:off x="1015920" y="3251160"/>
              <a:ext cx="1892520" cy="26798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03320" y="2413080"/>
              <a:ext cx="2527200" cy="3492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15920" y="4127400"/>
              <a:ext cx="1282680" cy="18162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1" name=""/>
          <p:cNvSpPr/>
          <p:nvPr/>
        </p:nvSpPr>
        <p:spPr>
          <a:xfrm>
            <a:off x="4951440" y="4782960"/>
            <a:ext cx="2217600" cy="1256040"/>
          </a:xfrm>
          <a:prstGeom prst="wedgeRoundRectCallout">
            <a:avLst>
              <a:gd name="adj1" fmla="val -133175"/>
              <a:gd name="adj2" fmla="val -21300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sas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Lucro= $ 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 flipH="1" flipV="1">
            <a:off x="3039840" y="1982520"/>
            <a:ext cx="4680" cy="396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965320" y="5073480"/>
            <a:ext cx="127080" cy="1270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"/>
          <p:cNvSpPr/>
          <p:nvPr/>
        </p:nvSpPr>
        <p:spPr>
          <a:xfrm>
            <a:off x="2697120" y="1673280"/>
            <a:ext cx="3606840" cy="1746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924280" y="1747800"/>
            <a:ext cx="337968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960480" y="4148280"/>
            <a:ext cx="3448080" cy="2699280"/>
            <a:chOff x="960480" y="4148280"/>
            <a:chExt cx="3448080" cy="2699280"/>
          </a:xfrm>
        </p:grpSpPr>
        <p:sp>
          <p:nvSpPr>
            <p:cNvPr id="1971" name=""/>
            <p:cNvSpPr/>
            <p:nvPr/>
          </p:nvSpPr>
          <p:spPr>
            <a:xfrm>
              <a:off x="960480" y="4148280"/>
              <a:ext cx="3187800" cy="2063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028880" y="4222800"/>
              <a:ext cx="3379680" cy="26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: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Max  8 M + 5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s.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1 M + 1 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6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9 M + 5 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4906800" y="4148280"/>
            <a:ext cx="3448080" cy="2699280"/>
            <a:chOff x="4906800" y="4148280"/>
            <a:chExt cx="3448080" cy="2699280"/>
          </a:xfrm>
        </p:grpSpPr>
        <p:sp>
          <p:nvSpPr>
            <p:cNvPr id="1974" name=""/>
            <p:cNvSpPr/>
            <p:nvPr/>
          </p:nvSpPr>
          <p:spPr>
            <a:xfrm>
              <a:off x="4906800" y="4148280"/>
              <a:ext cx="3187800" cy="2063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975200" y="4222800"/>
              <a:ext cx="3379680" cy="26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2: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Max  8 M + 5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s.t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1 M + 1 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6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9 M + 5 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        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 3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Ainda Não Resolv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H="1">
            <a:off x="3433680" y="3421080"/>
            <a:ext cx="997200" cy="706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437000" y="3414600"/>
            <a:ext cx="996840" cy="70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031920" y="359856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014080" y="35697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1984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4890960" y="1709640"/>
            <a:ext cx="28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ou 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4900680" y="2454120"/>
            <a:ext cx="368280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ub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3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4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"/>
          <p:cNvSpPr/>
          <p:nvPr/>
        </p:nvSpPr>
        <p:spPr>
          <a:xfrm>
            <a:off x="1008000" y="5037120"/>
            <a:ext cx="2987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3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2074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890960" y="1709640"/>
            <a:ext cx="28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ou 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900680" y="2454120"/>
            <a:ext cx="3682800" cy="26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ub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3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297400" y="4782960"/>
            <a:ext cx="2217960" cy="1256040"/>
          </a:xfrm>
          <a:prstGeom prst="wedgeRoundRectCallout">
            <a:avLst>
              <a:gd name="adj1" fmla="val -106476"/>
              <a:gd name="adj2" fmla="val -29393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Inviá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3724200" y="4734000"/>
            <a:ext cx="0" cy="288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"/>
          <p:cNvSpPr/>
          <p:nvPr/>
        </p:nvSpPr>
        <p:spPr>
          <a:xfrm>
            <a:off x="3016080" y="5499000"/>
            <a:ext cx="519120" cy="447840"/>
          </a:xfrm>
          <a:custGeom>
            <a:avLst/>
            <a:gdLst/>
            <a:ahLst/>
            <a:rect l="l" t="t" r="r" b="b"/>
            <a:pathLst>
              <a:path w="327" h="282">
                <a:moveTo>
                  <a:pt x="0" y="0"/>
                </a:moveTo>
                <a:lnTo>
                  <a:pt x="154" y="0"/>
                </a:lnTo>
                <a:lnTo>
                  <a:pt x="327" y="282"/>
                </a:lnTo>
                <a:lnTo>
                  <a:pt x="18" y="282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5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2166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890960" y="1709640"/>
            <a:ext cx="288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ou 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900680" y="2454120"/>
            <a:ext cx="3682800" cy="21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4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023840" y="5499000"/>
            <a:ext cx="2987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300320" y="5499000"/>
            <a:ext cx="0" cy="289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1003320" y="2413080"/>
            <a:ext cx="2527200" cy="3530520"/>
            <a:chOff x="1003320" y="2413080"/>
            <a:chExt cx="2527200" cy="3530520"/>
          </a:xfrm>
        </p:grpSpPr>
        <p:sp>
          <p:nvSpPr>
            <p:cNvPr id="2254" name=""/>
            <p:cNvSpPr/>
            <p:nvPr/>
          </p:nvSpPr>
          <p:spPr>
            <a:xfrm>
              <a:off x="1015920" y="3251160"/>
              <a:ext cx="1892520" cy="26798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003320" y="2413080"/>
              <a:ext cx="2527200" cy="34923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015920" y="4127400"/>
              <a:ext cx="1282680" cy="18162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3200400" y="5435640"/>
            <a:ext cx="127080" cy="1270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630680" y="4708440"/>
            <a:ext cx="2217960" cy="1255680"/>
          </a:xfrm>
          <a:prstGeom prst="wedgeRoundRectCallout">
            <a:avLst>
              <a:gd name="adj1" fmla="val -107694"/>
              <a:gd name="adj2" fmla="val 13083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sas = 4.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Lucro= $ 40.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"/>
          <p:cNvSpPr/>
          <p:nvPr/>
        </p:nvSpPr>
        <p:spPr>
          <a:xfrm>
            <a:off x="2870280" y="1689120"/>
            <a:ext cx="3881520" cy="40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924280" y="1747800"/>
            <a:ext cx="412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5" name=""/>
          <p:cNvGrpSpPr/>
          <p:nvPr/>
        </p:nvGrpSpPr>
        <p:grpSpPr>
          <a:xfrm>
            <a:off x="1797120" y="2833560"/>
            <a:ext cx="2711520" cy="679320"/>
            <a:chOff x="1797120" y="2833560"/>
            <a:chExt cx="2711520" cy="679320"/>
          </a:xfrm>
        </p:grpSpPr>
        <p:sp>
          <p:nvSpPr>
            <p:cNvPr id="2266" name=""/>
            <p:cNvSpPr/>
            <p:nvPr/>
          </p:nvSpPr>
          <p:spPr>
            <a:xfrm>
              <a:off x="1797120" y="283356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865520" y="290808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8" name=""/>
          <p:cNvGrpSpPr/>
          <p:nvPr/>
        </p:nvGrpSpPr>
        <p:grpSpPr>
          <a:xfrm>
            <a:off x="4979880" y="2819520"/>
            <a:ext cx="2930760" cy="685800"/>
            <a:chOff x="4979880" y="2819520"/>
            <a:chExt cx="2930760" cy="685800"/>
          </a:xfrm>
        </p:grpSpPr>
        <p:sp>
          <p:nvSpPr>
            <p:cNvPr id="2269" name=""/>
            <p:cNvSpPr/>
            <p:nvPr/>
          </p:nvSpPr>
          <p:spPr>
            <a:xfrm>
              <a:off x="4979880" y="2819520"/>
              <a:ext cx="2551320" cy="685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038560" y="2898720"/>
              <a:ext cx="287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2: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 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3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Ainda Não Resolv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1" name=""/>
          <p:cNvSpPr/>
          <p:nvPr/>
        </p:nvSpPr>
        <p:spPr>
          <a:xfrm flipH="1">
            <a:off x="3794040" y="2092320"/>
            <a:ext cx="997200" cy="706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4797360" y="2085840"/>
            <a:ext cx="996840" cy="70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392280" y="22698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374440" y="22413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2012760" y="3514680"/>
            <a:ext cx="996840" cy="70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016080" y="3508200"/>
            <a:ext cx="997200" cy="70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638720" y="3692160"/>
            <a:ext cx="69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3620520" y="3663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9" name=""/>
          <p:cNvGrpSpPr/>
          <p:nvPr/>
        </p:nvGrpSpPr>
        <p:grpSpPr>
          <a:xfrm>
            <a:off x="204840" y="4227480"/>
            <a:ext cx="2711520" cy="679320"/>
            <a:chOff x="204840" y="4227480"/>
            <a:chExt cx="2711520" cy="679320"/>
          </a:xfrm>
        </p:grpSpPr>
        <p:sp>
          <p:nvSpPr>
            <p:cNvPr id="2280" name=""/>
            <p:cNvSpPr/>
            <p:nvPr/>
          </p:nvSpPr>
          <p:spPr>
            <a:xfrm>
              <a:off x="204840" y="422748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73240" y="430200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3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 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2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Inviá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3119400" y="4227480"/>
            <a:ext cx="2711520" cy="679320"/>
            <a:chOff x="3119400" y="4227480"/>
            <a:chExt cx="2711520" cy="679320"/>
          </a:xfrm>
        </p:grpSpPr>
        <p:sp>
          <p:nvSpPr>
            <p:cNvPr id="2283" name=""/>
            <p:cNvSpPr/>
            <p:nvPr/>
          </p:nvSpPr>
          <p:spPr>
            <a:xfrm>
              <a:off x="3119400" y="422748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187800" y="430200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4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1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M=4.44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C=1, $=4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/>
          <p:nvPr/>
        </p:nvSpPr>
        <p:spPr>
          <a:xfrm>
            <a:off x="2870280" y="1689120"/>
            <a:ext cx="3881520" cy="40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924280" y="1747800"/>
            <a:ext cx="412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1797120" y="2833560"/>
            <a:ext cx="2711520" cy="679320"/>
            <a:chOff x="1797120" y="2833560"/>
            <a:chExt cx="2711520" cy="679320"/>
          </a:xfrm>
        </p:grpSpPr>
        <p:sp>
          <p:nvSpPr>
            <p:cNvPr id="2292" name=""/>
            <p:cNvSpPr/>
            <p:nvPr/>
          </p:nvSpPr>
          <p:spPr>
            <a:xfrm>
              <a:off x="1797120" y="283356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65520" y="290808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4" name=""/>
          <p:cNvGrpSpPr/>
          <p:nvPr/>
        </p:nvGrpSpPr>
        <p:grpSpPr>
          <a:xfrm>
            <a:off x="4979880" y="2819520"/>
            <a:ext cx="2930760" cy="685800"/>
            <a:chOff x="4979880" y="2819520"/>
            <a:chExt cx="2930760" cy="685800"/>
          </a:xfrm>
        </p:grpSpPr>
        <p:sp>
          <p:nvSpPr>
            <p:cNvPr id="2295" name=""/>
            <p:cNvSpPr/>
            <p:nvPr/>
          </p:nvSpPr>
          <p:spPr>
            <a:xfrm>
              <a:off x="4979880" y="2819520"/>
              <a:ext cx="2551320" cy="685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38560" y="2898720"/>
              <a:ext cx="287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2: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 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3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Ainda Não Resolv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 flipH="1">
            <a:off x="3794040" y="2092320"/>
            <a:ext cx="997200" cy="7063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797360" y="2085840"/>
            <a:ext cx="996840" cy="70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392280" y="22698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374440" y="22413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 flipH="1">
            <a:off x="2012760" y="3514680"/>
            <a:ext cx="996840" cy="70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016080" y="3508200"/>
            <a:ext cx="997200" cy="70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638720" y="3692160"/>
            <a:ext cx="69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620520" y="3663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5" name=""/>
          <p:cNvGrpSpPr/>
          <p:nvPr/>
        </p:nvGrpSpPr>
        <p:grpSpPr>
          <a:xfrm>
            <a:off x="204840" y="4227480"/>
            <a:ext cx="2711520" cy="679320"/>
            <a:chOff x="204840" y="4227480"/>
            <a:chExt cx="2711520" cy="679320"/>
          </a:xfrm>
        </p:grpSpPr>
        <p:sp>
          <p:nvSpPr>
            <p:cNvPr id="2306" name=""/>
            <p:cNvSpPr/>
            <p:nvPr/>
          </p:nvSpPr>
          <p:spPr>
            <a:xfrm>
              <a:off x="204840" y="4227480"/>
              <a:ext cx="2595600" cy="679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2880" y="4302000"/>
              <a:ext cx="264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 Black"/>
                </a:rPr>
                <a:t>SP3 = PO + [ C </a:t>
              </a:r>
              <a:r>
                <a:rPr b="0" lang="en-US" sz="1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 Black"/>
                </a:rPr>
                <a:t> 2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Inviá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8" name=""/>
          <p:cNvGrpSpPr/>
          <p:nvPr/>
        </p:nvGrpSpPr>
        <p:grpSpPr>
          <a:xfrm>
            <a:off x="3119400" y="4227480"/>
            <a:ext cx="2711520" cy="679320"/>
            <a:chOff x="3119400" y="4227480"/>
            <a:chExt cx="2711520" cy="679320"/>
          </a:xfrm>
        </p:grpSpPr>
        <p:sp>
          <p:nvSpPr>
            <p:cNvPr id="2309" name=""/>
            <p:cNvSpPr/>
            <p:nvPr/>
          </p:nvSpPr>
          <p:spPr>
            <a:xfrm>
              <a:off x="3119400" y="422748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187800" y="430200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4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1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M=4.44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C=1, $=4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1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869760" y="1316160"/>
            <a:ext cx="5432400" cy="2180880"/>
            <a:chOff x="869760" y="1316160"/>
            <a:chExt cx="5432400" cy="2180880"/>
          </a:xfrm>
        </p:grpSpPr>
        <p:sp>
          <p:nvSpPr>
            <p:cNvPr id="61" name=""/>
            <p:cNvSpPr/>
            <p:nvPr/>
          </p:nvSpPr>
          <p:spPr>
            <a:xfrm>
              <a:off x="869760" y="1316160"/>
              <a:ext cx="54324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    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Pioneer (P)      Heritage (H)      Dis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00"/>
                  </a:solidFill>
                  <a:latin typeface="Arial Black"/>
                </a:rPr>
                <a:t>Sell $                    $12.75            $18.00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Straw  (lb)       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      1                    1.5                 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Time (h)                   0.25           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 0.40                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Handles            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	</a:t>
              </a:r>
              <a:r>
                <a:rPr b="0" lang="en-US" sz="1600" spc="-1" strike="noStrike">
                  <a:solidFill>
                    <a:srgbClr val="008000"/>
                  </a:solidFill>
                  <a:latin typeface="Arial Black"/>
                </a:rPr>
                <a:t>      1                    1                    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5320" y="2746440"/>
              <a:ext cx="31539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1 lb de Staw = $ 1.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ão de Obra Familiar = $ 2.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1 Handle = $ 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78640" y="4988160"/>
            <a:ext cx="6340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(12.75 - 1.5 - 0.75)*P + (18.00 - 2.25 - 0.75)*H = 10.5*P+15*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*P + 1.5H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35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Staw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0.25P + 0.40H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8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Tim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P + 1H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30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Handle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7840" y="52142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32400" y="91368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Kootenay Straw Broom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4827600"/>
            <a:ext cx="8628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38680" y="3703320"/>
            <a:ext cx="5523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Seek additional source for st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Accept delivery of an extra box with 10 handles for $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Add a half-time worker (4 hours/day) for $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0280" y="3724200"/>
            <a:ext cx="8628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4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2315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4905360" y="1622520"/>
            <a:ext cx="28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 e 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e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4900680" y="2295360"/>
            <a:ext cx="368280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</a:t>
            </a:r>
            <a:r>
              <a:rPr b="0" lang="en-US" sz="1600" spc="-1" strike="noStrike" baseline="30000">
                <a:solidFill>
                  <a:srgbClr val="ff33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5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"/>
          <p:cNvSpPr/>
          <p:nvPr/>
        </p:nvSpPr>
        <p:spPr>
          <a:xfrm>
            <a:off x="1009800" y="5499000"/>
            <a:ext cx="2987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V="1">
            <a:off x="3030480" y="1991880"/>
            <a:ext cx="0" cy="3954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030480" y="5499000"/>
            <a:ext cx="0" cy="433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2408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905360" y="1622520"/>
            <a:ext cx="28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 e 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e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900680" y="2295360"/>
            <a:ext cx="368280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</a:t>
            </a:r>
            <a:r>
              <a:rPr b="0" lang="en-US" sz="1600" spc="-1" strike="noStrike" baseline="30000">
                <a:solidFill>
                  <a:srgbClr val="ff33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5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"/>
          <p:cNvSpPr/>
          <p:nvPr/>
        </p:nvSpPr>
        <p:spPr>
          <a:xfrm>
            <a:off x="1014480" y="5499000"/>
            <a:ext cx="2987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V="1">
            <a:off x="3030480" y="1991880"/>
            <a:ext cx="0" cy="3954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030480" y="5499000"/>
            <a:ext cx="0" cy="433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9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2500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905360" y="1622520"/>
            <a:ext cx="28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 e 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e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4900680" y="2295360"/>
            <a:ext cx="368280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</a:t>
            </a:r>
            <a:r>
              <a:rPr b="0" lang="en-US" sz="1600" spc="-1" strike="noStrike" baseline="30000">
                <a:solidFill>
                  <a:srgbClr val="ff33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5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4630680" y="4708440"/>
            <a:ext cx="2217960" cy="1255680"/>
          </a:xfrm>
          <a:prstGeom prst="wedgeRoundRectCallout">
            <a:avLst>
              <a:gd name="adj1" fmla="val -107694"/>
              <a:gd name="adj2" fmla="val 13083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Lucro= $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960640" y="5435640"/>
            <a:ext cx="127080" cy="1270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3535200" y="1978200"/>
            <a:ext cx="0" cy="3954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1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2592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4905360" y="1622520"/>
            <a:ext cx="28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lém de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 e 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ome-se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 e 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4900680" y="2295360"/>
            <a:ext cx="3682800" cy="25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onsidere 2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ub</a:t>
            </a:r>
            <a:r>
              <a:rPr b="0" lang="en-US" sz="1600" spc="-1" strike="noStrike" baseline="30000">
                <a:solidFill>
                  <a:srgbClr val="ff3300"/>
                </a:solidFill>
                <a:latin typeface="Arial Black"/>
              </a:rPr>
              <a:t>3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-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009800" y="5499000"/>
            <a:ext cx="2987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3470400" y="5888160"/>
            <a:ext cx="126720" cy="1267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4630680" y="4708440"/>
            <a:ext cx="2217960" cy="1255680"/>
          </a:xfrm>
          <a:prstGeom prst="wedgeRoundRectCallout">
            <a:avLst>
              <a:gd name="adj1" fmla="val -96027"/>
              <a:gd name="adj2" fmla="val 47597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Lucro= $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"/>
          <p:cNvSpPr/>
          <p:nvPr/>
        </p:nvSpPr>
        <p:spPr>
          <a:xfrm>
            <a:off x="2870280" y="1689120"/>
            <a:ext cx="3881520" cy="40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924280" y="1747800"/>
            <a:ext cx="412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 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5" name=""/>
          <p:cNvGrpSpPr/>
          <p:nvPr/>
        </p:nvGrpSpPr>
        <p:grpSpPr>
          <a:xfrm>
            <a:off x="1797120" y="2833560"/>
            <a:ext cx="2711520" cy="679320"/>
            <a:chOff x="1797120" y="2833560"/>
            <a:chExt cx="2711520" cy="679320"/>
          </a:xfrm>
        </p:grpSpPr>
        <p:sp>
          <p:nvSpPr>
            <p:cNvPr id="2686" name=""/>
            <p:cNvSpPr/>
            <p:nvPr/>
          </p:nvSpPr>
          <p:spPr>
            <a:xfrm>
              <a:off x="1797120" y="283356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865520" y="290808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4979880" y="2819520"/>
            <a:ext cx="2930760" cy="685800"/>
            <a:chOff x="4979880" y="2819520"/>
            <a:chExt cx="2930760" cy="685800"/>
          </a:xfrm>
        </p:grpSpPr>
        <p:sp>
          <p:nvSpPr>
            <p:cNvPr id="2689" name=""/>
            <p:cNvSpPr/>
            <p:nvPr/>
          </p:nvSpPr>
          <p:spPr>
            <a:xfrm>
              <a:off x="4979880" y="2819520"/>
              <a:ext cx="2551320" cy="685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038560" y="2898720"/>
              <a:ext cx="287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2: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 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3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Ainda Não Resolv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1" name=""/>
          <p:cNvSpPr/>
          <p:nvPr/>
        </p:nvSpPr>
        <p:spPr>
          <a:xfrm flipH="1">
            <a:off x="3794040" y="2092320"/>
            <a:ext cx="997200" cy="7063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4797360" y="2085840"/>
            <a:ext cx="996840" cy="70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3392280" y="22698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5374440" y="22413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 flipH="1">
            <a:off x="2012760" y="3514680"/>
            <a:ext cx="996840" cy="7063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3016080" y="3508200"/>
            <a:ext cx="997200" cy="70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1638720" y="3692160"/>
            <a:ext cx="69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620520" y="3663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9" name=""/>
          <p:cNvGrpSpPr/>
          <p:nvPr/>
        </p:nvGrpSpPr>
        <p:grpSpPr>
          <a:xfrm>
            <a:off x="204840" y="4227480"/>
            <a:ext cx="2711520" cy="679320"/>
            <a:chOff x="204840" y="4227480"/>
            <a:chExt cx="2711520" cy="679320"/>
          </a:xfrm>
        </p:grpSpPr>
        <p:sp>
          <p:nvSpPr>
            <p:cNvPr id="2700" name=""/>
            <p:cNvSpPr/>
            <p:nvPr/>
          </p:nvSpPr>
          <p:spPr>
            <a:xfrm>
              <a:off x="204840" y="4227480"/>
              <a:ext cx="2595600" cy="679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72880" y="4302000"/>
              <a:ext cx="264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 Black"/>
                </a:rPr>
                <a:t>SP3 = SP1 + [ C </a:t>
              </a:r>
              <a:r>
                <a:rPr b="0" lang="en-US" sz="1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 Black"/>
                </a:rPr>
                <a:t> 2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Inviá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2" name=""/>
          <p:cNvGrpSpPr/>
          <p:nvPr/>
        </p:nvGrpSpPr>
        <p:grpSpPr>
          <a:xfrm>
            <a:off x="3119400" y="4227480"/>
            <a:ext cx="2711520" cy="679320"/>
            <a:chOff x="3119400" y="4227480"/>
            <a:chExt cx="2711520" cy="679320"/>
          </a:xfrm>
        </p:grpSpPr>
        <p:sp>
          <p:nvSpPr>
            <p:cNvPr id="2703" name=""/>
            <p:cNvSpPr/>
            <p:nvPr/>
          </p:nvSpPr>
          <p:spPr>
            <a:xfrm>
              <a:off x="3119400" y="422748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187800" y="430200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4 = SP1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1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M=4.44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C=1, $=4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5" name=""/>
          <p:cNvSpPr/>
          <p:nvPr/>
        </p:nvSpPr>
        <p:spPr>
          <a:xfrm flipH="1">
            <a:off x="3365280" y="4923000"/>
            <a:ext cx="996840" cy="7063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4368960" y="4916520"/>
            <a:ext cx="996840" cy="7063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2963880" y="51001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9933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945680" y="507168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9933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 4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1557360" y="5635800"/>
            <a:ext cx="2595600" cy="679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4471920" y="5635800"/>
            <a:ext cx="2595600" cy="679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4540320" y="57103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SP5 = SP4 + [ M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 4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M=4, C=1,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$=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1625760" y="57103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 = SP4 +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 M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5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=5, C=0, $=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"/>
          <p:cNvSpPr/>
          <p:nvPr/>
        </p:nvSpPr>
        <p:spPr>
          <a:xfrm>
            <a:off x="2870280" y="1689120"/>
            <a:ext cx="3881520" cy="40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924280" y="1747800"/>
            <a:ext cx="412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 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9" name=""/>
          <p:cNvGrpSpPr/>
          <p:nvPr/>
        </p:nvGrpSpPr>
        <p:grpSpPr>
          <a:xfrm>
            <a:off x="1797120" y="2833560"/>
            <a:ext cx="2711520" cy="679320"/>
            <a:chOff x="1797120" y="2833560"/>
            <a:chExt cx="2711520" cy="679320"/>
          </a:xfrm>
        </p:grpSpPr>
        <p:sp>
          <p:nvSpPr>
            <p:cNvPr id="2720" name=""/>
            <p:cNvSpPr/>
            <p:nvPr/>
          </p:nvSpPr>
          <p:spPr>
            <a:xfrm>
              <a:off x="1797120" y="283356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865520" y="290808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2" name=""/>
          <p:cNvGrpSpPr/>
          <p:nvPr/>
        </p:nvGrpSpPr>
        <p:grpSpPr>
          <a:xfrm>
            <a:off x="4979880" y="2819520"/>
            <a:ext cx="2930760" cy="685800"/>
            <a:chOff x="4979880" y="2819520"/>
            <a:chExt cx="2930760" cy="685800"/>
          </a:xfrm>
        </p:grpSpPr>
        <p:sp>
          <p:nvSpPr>
            <p:cNvPr id="2723" name=""/>
            <p:cNvSpPr/>
            <p:nvPr/>
          </p:nvSpPr>
          <p:spPr>
            <a:xfrm>
              <a:off x="4979880" y="2819520"/>
              <a:ext cx="2551320" cy="685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038560" y="2898720"/>
              <a:ext cx="287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2: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 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3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Ainda Não Resolv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5" name=""/>
          <p:cNvSpPr/>
          <p:nvPr/>
        </p:nvSpPr>
        <p:spPr>
          <a:xfrm flipH="1">
            <a:off x="3794040" y="2092320"/>
            <a:ext cx="997200" cy="7063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4797360" y="2085840"/>
            <a:ext cx="996840" cy="70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3392280" y="22698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5374440" y="22413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 flipH="1">
            <a:off x="2134800" y="3508200"/>
            <a:ext cx="996840" cy="70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1644120" y="36349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1" name=""/>
          <p:cNvGrpSpPr/>
          <p:nvPr/>
        </p:nvGrpSpPr>
        <p:grpSpPr>
          <a:xfrm>
            <a:off x="754200" y="4213080"/>
            <a:ext cx="2710800" cy="679320"/>
            <a:chOff x="754200" y="4213080"/>
            <a:chExt cx="2710800" cy="679320"/>
          </a:xfrm>
        </p:grpSpPr>
        <p:sp>
          <p:nvSpPr>
            <p:cNvPr id="2732" name=""/>
            <p:cNvSpPr/>
            <p:nvPr/>
          </p:nvSpPr>
          <p:spPr>
            <a:xfrm>
              <a:off x="754200" y="4213080"/>
              <a:ext cx="259524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22240" y="4287600"/>
              <a:ext cx="264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4 = SP1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1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M=4.44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C=1, $=4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4" name=""/>
          <p:cNvSpPr/>
          <p:nvPr/>
        </p:nvSpPr>
        <p:spPr>
          <a:xfrm flipH="1">
            <a:off x="2023560" y="4908600"/>
            <a:ext cx="1800" cy="7063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127240" y="5057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9933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763560" y="5621400"/>
            <a:ext cx="2595600" cy="679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789120" y="56959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 = SP4 +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 M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5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=5, C=0, $=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"/>
          <p:cNvSpPr/>
          <p:nvPr/>
        </p:nvSpPr>
        <p:spPr>
          <a:xfrm>
            <a:off x="1003320" y="3225960"/>
            <a:ext cx="1550880" cy="2720880"/>
          </a:xfrm>
          <a:custGeom>
            <a:avLst/>
            <a:gdLst/>
            <a:ahLst/>
            <a:rect l="l" t="t" r="r" b="b"/>
            <a:pathLst>
              <a:path w="977" h="1714">
                <a:moveTo>
                  <a:pt x="8" y="0"/>
                </a:moveTo>
                <a:lnTo>
                  <a:pt x="977" y="868"/>
                </a:lnTo>
                <a:lnTo>
                  <a:pt x="968" y="1714"/>
                </a:lnTo>
                <a:lnTo>
                  <a:pt x="0" y="1712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V="1">
            <a:off x="2543040" y="1959120"/>
            <a:ext cx="1800" cy="3984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2543040" y="1991880"/>
            <a:ext cx="0" cy="39546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990720" y="1994040"/>
            <a:ext cx="2565360" cy="394956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1009800" y="3218040"/>
            <a:ext cx="3001680" cy="2728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4" name=""/>
          <p:cNvGrpSpPr/>
          <p:nvPr/>
        </p:nvGrpSpPr>
        <p:grpSpPr>
          <a:xfrm>
            <a:off x="1004760" y="1987560"/>
            <a:ext cx="3027240" cy="3516480"/>
            <a:chOff x="1004760" y="1987560"/>
            <a:chExt cx="3027240" cy="3516480"/>
          </a:xfrm>
        </p:grpSpPr>
        <p:sp>
          <p:nvSpPr>
            <p:cNvPr id="2745" name=""/>
            <p:cNvSpPr/>
            <p:nvPr/>
          </p:nvSpPr>
          <p:spPr>
            <a:xfrm>
              <a:off x="1012320" y="550224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012320" y="503388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012320" y="4578480"/>
              <a:ext cx="3010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012320" y="4133880"/>
              <a:ext cx="30103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012320" y="3236760"/>
              <a:ext cx="3010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015920" y="3681360"/>
              <a:ext cx="301248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019880" y="2819520"/>
              <a:ext cx="3012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013760" y="2408400"/>
              <a:ext cx="3010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004760" y="1987560"/>
              <a:ext cx="30124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4189320" y="5475240"/>
            <a:ext cx="3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631800" y="1442880"/>
            <a:ext cx="40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1884240" y="6026040"/>
            <a:ext cx="3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1390680" y="6016680"/>
            <a:ext cx="4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2389320" y="60260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577800" y="4884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566640" y="305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574560" y="3494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569880" y="3963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577800" y="4446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568440" y="5329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74560" y="2641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74560" y="222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822240" y="5950080"/>
            <a:ext cx="3603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 flipH="1" flipV="1">
            <a:off x="1009800" y="1631520"/>
            <a:ext cx="1440" cy="452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 flipV="1">
            <a:off x="1542960" y="58705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 flipV="1">
            <a:off x="2541600" y="58690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 flipV="1">
            <a:off x="2043000" y="5873760"/>
            <a:ext cx="180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 flipH="1">
            <a:off x="928440" y="458136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 flipH="1">
            <a:off x="923760" y="3240000"/>
            <a:ext cx="160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H="1">
            <a:off x="933120" y="4137120"/>
            <a:ext cx="160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 flipH="1">
            <a:off x="934920" y="503568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 flipH="1">
            <a:off x="931680" y="54990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 flipH="1">
            <a:off x="927000" y="36846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 flipV="1">
            <a:off x="1541520" y="1991880"/>
            <a:ext cx="1440" cy="395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 flipV="1">
            <a:off x="2043000" y="1972800"/>
            <a:ext cx="1800" cy="3970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1998720" y="545796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49876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1496880" y="545796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998720" y="4989600"/>
            <a:ext cx="871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249876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496880" y="4989600"/>
            <a:ext cx="8748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998720" y="453240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2498760" y="455616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496880" y="45324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998720" y="41068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496880" y="40878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492200" y="364500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 flipH="1">
            <a:off x="931680" y="594504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 flipV="1">
            <a:off x="1009800" y="587376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961920" y="546264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961920" y="49928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961920" y="4537080"/>
            <a:ext cx="8892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961920" y="4092480"/>
            <a:ext cx="889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961920" y="319572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966960" y="363996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1998720" y="5902200"/>
            <a:ext cx="8712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2498760" y="59054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1496880" y="5902200"/>
            <a:ext cx="8748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960480" y="5907240"/>
            <a:ext cx="889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 flipH="1">
            <a:off x="931680" y="282240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 flipH="1">
            <a:off x="925200" y="2411280"/>
            <a:ext cx="160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919080" y="1990800"/>
            <a:ext cx="160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 flipV="1">
            <a:off x="3036960" y="586404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 flipV="1">
            <a:off x="3537000" y="586728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 flipV="1">
            <a:off x="3035160" y="1986120"/>
            <a:ext cx="1800" cy="395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V="1">
            <a:off x="3537000" y="196704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990880" y="54514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3492360" y="5896080"/>
            <a:ext cx="8748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990880" y="5896080"/>
            <a:ext cx="87120" cy="82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582480" y="18111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847960" y="60260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3379680" y="60102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3849840" y="60199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 flipV="1">
            <a:off x="3997440" y="5875200"/>
            <a:ext cx="1440" cy="1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 flipV="1">
            <a:off x="3997440" y="1974960"/>
            <a:ext cx="1440" cy="3970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4890960" y="1709640"/>
            <a:ext cx="288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gora, o ramo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900680" y="2454120"/>
            <a:ext cx="36828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2: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Max  8 M + 5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1 M + 1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6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9 M + 5 C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465280" y="4521240"/>
            <a:ext cx="127080" cy="1270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978440" y="4203720"/>
            <a:ext cx="2217600" cy="1255680"/>
          </a:xfrm>
          <a:prstGeom prst="wedgeRoundRectCallout">
            <a:avLst>
              <a:gd name="adj1" fmla="val -157231"/>
              <a:gd name="adj2" fmla="val -20291"/>
              <a:gd name="adj3" fmla="val 16667"/>
            </a:avLst>
          </a:prstGeom>
          <a:solidFill>
            <a:srgbClr val="cc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s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Cadeiras =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Lucro= $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/>
          <p:nvPr/>
        </p:nvSpPr>
        <p:spPr>
          <a:xfrm>
            <a:off x="2870280" y="1689120"/>
            <a:ext cx="3881520" cy="40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2924280" y="1747800"/>
            <a:ext cx="412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 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7" name=""/>
          <p:cNvGrpSpPr/>
          <p:nvPr/>
        </p:nvGrpSpPr>
        <p:grpSpPr>
          <a:xfrm>
            <a:off x="1797120" y="2833560"/>
            <a:ext cx="2711520" cy="679320"/>
            <a:chOff x="1797120" y="2833560"/>
            <a:chExt cx="2711520" cy="679320"/>
          </a:xfrm>
        </p:grpSpPr>
        <p:sp>
          <p:nvSpPr>
            <p:cNvPr id="2838" name=""/>
            <p:cNvSpPr/>
            <p:nvPr/>
          </p:nvSpPr>
          <p:spPr>
            <a:xfrm>
              <a:off x="1797120" y="283356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1865520" y="290808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0" name=""/>
          <p:cNvGrpSpPr/>
          <p:nvPr/>
        </p:nvGrpSpPr>
        <p:grpSpPr>
          <a:xfrm>
            <a:off x="4979880" y="2819520"/>
            <a:ext cx="2930760" cy="685800"/>
            <a:chOff x="4979880" y="2819520"/>
            <a:chExt cx="2930760" cy="685800"/>
          </a:xfrm>
        </p:grpSpPr>
        <p:sp>
          <p:nvSpPr>
            <p:cNvPr id="2841" name=""/>
            <p:cNvSpPr/>
            <p:nvPr/>
          </p:nvSpPr>
          <p:spPr>
            <a:xfrm>
              <a:off x="4979880" y="2819520"/>
              <a:ext cx="2551320" cy="685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5038560" y="2898720"/>
              <a:ext cx="287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2: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 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3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3, C = 3, $ =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3" name=""/>
          <p:cNvSpPr/>
          <p:nvPr/>
        </p:nvSpPr>
        <p:spPr>
          <a:xfrm flipH="1">
            <a:off x="3794040" y="2092320"/>
            <a:ext cx="997200" cy="7063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797360" y="2085840"/>
            <a:ext cx="996840" cy="70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392280" y="22698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5374440" y="22413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H="1">
            <a:off x="2134800" y="3508200"/>
            <a:ext cx="996840" cy="70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1644120" y="36349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9" name=""/>
          <p:cNvGrpSpPr/>
          <p:nvPr/>
        </p:nvGrpSpPr>
        <p:grpSpPr>
          <a:xfrm>
            <a:off x="754200" y="4213080"/>
            <a:ext cx="2710800" cy="679320"/>
            <a:chOff x="754200" y="4213080"/>
            <a:chExt cx="2710800" cy="679320"/>
          </a:xfrm>
        </p:grpSpPr>
        <p:sp>
          <p:nvSpPr>
            <p:cNvPr id="2850" name=""/>
            <p:cNvSpPr/>
            <p:nvPr/>
          </p:nvSpPr>
          <p:spPr>
            <a:xfrm>
              <a:off x="754200" y="4213080"/>
              <a:ext cx="259524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822240" y="4287600"/>
              <a:ext cx="264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4 = SP1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1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M=4.44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C=1, $=4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2" name=""/>
          <p:cNvSpPr/>
          <p:nvPr/>
        </p:nvSpPr>
        <p:spPr>
          <a:xfrm flipH="1">
            <a:off x="2023560" y="4908600"/>
            <a:ext cx="1800" cy="7063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127240" y="5057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9933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63560" y="5621400"/>
            <a:ext cx="2595600" cy="679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789120" y="56959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 = SP4 +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 M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5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=5, C=0, $=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"/>
          <p:cNvSpPr/>
          <p:nvPr/>
        </p:nvSpPr>
        <p:spPr>
          <a:xfrm>
            <a:off x="2870280" y="1689120"/>
            <a:ext cx="3881520" cy="40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924280" y="1747800"/>
            <a:ext cx="412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PO: M = 3.75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C = 2.25, $ = 41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2" name=""/>
          <p:cNvGrpSpPr/>
          <p:nvPr/>
        </p:nvGrpSpPr>
        <p:grpSpPr>
          <a:xfrm>
            <a:off x="1797120" y="2833560"/>
            <a:ext cx="2711520" cy="679320"/>
            <a:chOff x="1797120" y="2833560"/>
            <a:chExt cx="2711520" cy="679320"/>
          </a:xfrm>
        </p:grpSpPr>
        <p:sp>
          <p:nvSpPr>
            <p:cNvPr id="2863" name=""/>
            <p:cNvSpPr/>
            <p:nvPr/>
          </p:nvSpPr>
          <p:spPr>
            <a:xfrm>
              <a:off x="1797120" y="2833560"/>
              <a:ext cx="259560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865520" y="2908080"/>
              <a:ext cx="264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1 = PO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4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 = 4, </a:t>
              </a: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C = 1.8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$ = 4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5" name=""/>
          <p:cNvSpPr/>
          <p:nvPr/>
        </p:nvSpPr>
        <p:spPr>
          <a:xfrm>
            <a:off x="4979880" y="2819520"/>
            <a:ext cx="2465640" cy="685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5038560" y="2898720"/>
            <a:ext cx="287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SP2: PO + [ M </a:t>
            </a:r>
            <a:r>
              <a:rPr b="0" lang="en-US" sz="16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 3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M = 3, C = 3, $ = 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 flipH="1">
            <a:off x="3794040" y="2092320"/>
            <a:ext cx="997200" cy="7063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4797360" y="2085840"/>
            <a:ext cx="996840" cy="70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392280" y="22698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374440" y="2241360"/>
            <a:ext cx="8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 flipH="1">
            <a:off x="2134800" y="3508200"/>
            <a:ext cx="996840" cy="70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1644120" y="36349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3" name=""/>
          <p:cNvGrpSpPr/>
          <p:nvPr/>
        </p:nvGrpSpPr>
        <p:grpSpPr>
          <a:xfrm>
            <a:off x="754200" y="4213080"/>
            <a:ext cx="2710800" cy="679320"/>
            <a:chOff x="754200" y="4213080"/>
            <a:chExt cx="2710800" cy="679320"/>
          </a:xfrm>
        </p:grpSpPr>
        <p:sp>
          <p:nvSpPr>
            <p:cNvPr id="2874" name=""/>
            <p:cNvSpPr/>
            <p:nvPr/>
          </p:nvSpPr>
          <p:spPr>
            <a:xfrm>
              <a:off x="754200" y="4213080"/>
              <a:ext cx="2595240" cy="679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822240" y="4287600"/>
              <a:ext cx="2642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SP4 = SP1 +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[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C </a:t>
              </a:r>
              <a:r>
                <a:rPr b="0" lang="en-US" sz="16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 1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ff"/>
                  </a:solidFill>
                  <a:latin typeface="Arial Black"/>
                </a:rPr>
                <a:t>M=4.44</a:t>
              </a: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, C=1, $=40.5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6" name=""/>
          <p:cNvSpPr/>
          <p:nvPr/>
        </p:nvSpPr>
        <p:spPr>
          <a:xfrm flipH="1">
            <a:off x="2023560" y="4908600"/>
            <a:ext cx="1800" cy="7063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2127240" y="5057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M </a:t>
            </a:r>
            <a:r>
              <a:rPr b="0" lang="en-US" sz="1600" spc="-1" strike="noStrike">
                <a:solidFill>
                  <a:srgbClr val="9933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763560" y="5621400"/>
            <a:ext cx="2595600" cy="679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789120" y="56959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 Black"/>
              </a:rPr>
              <a:t>SP6 = SP4 +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[ M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5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=5, C=0, $=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763560" y="5621400"/>
            <a:ext cx="2595600" cy="6793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789120" y="569592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SP6 = SP4 + [ M </a:t>
            </a:r>
            <a:r>
              <a:rPr b="0" lang="en-US" sz="1600" spc="-1" strike="noStrike">
                <a:solidFill>
                  <a:srgbClr val="80808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5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M=5, C=0, $=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4373640" y="4267800"/>
            <a:ext cx="1606320" cy="398880"/>
          </a:xfrm>
          <a:solidFill>
            <a:srgbClr val="ffff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Soluçã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607760" y="102708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Método Branch and Bound (and Fath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78640" y="4988160"/>
            <a:ext cx="6340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x  </a:t>
            </a:r>
            <a:r>
              <a:rPr b="0" lang="en-US" sz="1600" spc="-1" strike="noStrike">
                <a:solidFill>
                  <a:srgbClr val="993300"/>
                </a:solidFill>
                <a:latin typeface="Arial Black"/>
              </a:rPr>
              <a:t>(12.75 - 1.5 - 0.75)*P + (18.00 - 2.25 - 0.75)*H = 10.5*P+15*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*P + 1.5H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35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Staw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0.25P + 0.40H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8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Tim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1P + 1H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300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[Handle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7840" y="52142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32400" y="91368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Kootenay Straw Broom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2360" y="4827600"/>
            <a:ext cx="8628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8680" y="3703320"/>
            <a:ext cx="5523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Seek additional source for st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Accept delivery of an extra box with 10 handles for $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Add a half-time worker (4 hours/day) for $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roomp" descr=""/>
          <p:cNvPicPr/>
          <p:nvPr/>
        </p:nvPicPr>
        <p:blipFill>
          <a:blip r:embed="rId1"/>
          <a:stretch/>
        </p:blipFill>
        <p:spPr>
          <a:xfrm>
            <a:off x="2706840" y="1797120"/>
            <a:ext cx="3876480" cy="1562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60280" y="3724200"/>
            <a:ext cx="8628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1245600" y="115560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Obs: </a:t>
            </a:r>
            <a:r>
              <a:rPr b="0" lang="pt-BR" sz="2400" spc="-1" strike="noStrike">
                <a:solidFill>
                  <a:srgbClr val="0000ff"/>
                </a:solidFill>
                <a:latin typeface="Arial Black"/>
              </a:rPr>
              <a:t>Nomencl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1898280" y="2158560"/>
            <a:ext cx="52693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No LINDO: 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Integer ou INT = 0 ou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General Integer ou GIN = 0, 1, 2, 3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Exemplo: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x  8M + 5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M + 1C &lt;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M + 5C &lt;=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IN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IN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1698840" y="504288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No WINQSB: 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Integer = 0, 1, 2, 3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Binary = 0 ou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3691800" y="165096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 Black"/>
              </a:rPr>
              <a:t>Exercí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723960" y="3327480"/>
            <a:ext cx="77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Resolver utilizando 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LINDO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ou </a:t>
            </a:r>
            <a:r>
              <a:rPr b="0" lang="en-US" sz="1800" spc="-1" strike="noStrike">
                <a:solidFill>
                  <a:srgbClr val="009900"/>
                </a:solidFill>
                <a:latin typeface="Arial Black"/>
              </a:rPr>
              <a:t>WINQSB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Exercícios do Capítulo 5 do Lawrence e Pasternack,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2766960" y="2781360"/>
            <a:ext cx="37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Bom Trabalh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32400" y="91368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Kootenay Straw Broom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192400" y="4140360"/>
            <a:ext cx="5105160" cy="2205720"/>
            <a:chOff x="2192400" y="4140360"/>
            <a:chExt cx="5105160" cy="2205720"/>
          </a:xfrm>
        </p:grpSpPr>
        <p:sp>
          <p:nvSpPr>
            <p:cNvPr id="84" name=""/>
            <p:cNvSpPr/>
            <p:nvPr/>
          </p:nvSpPr>
          <p:spPr>
            <a:xfrm>
              <a:off x="4525920" y="597780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broomr" descr=""/>
            <p:cNvPicPr/>
            <p:nvPr/>
          </p:nvPicPr>
          <p:blipFill>
            <a:blip r:embed="rId1"/>
            <a:stretch/>
          </p:blipFill>
          <p:spPr>
            <a:xfrm>
              <a:off x="2192400" y="4145040"/>
              <a:ext cx="5105160" cy="188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192400" y="4140360"/>
              <a:ext cx="50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60280" y="3724200"/>
            <a:ext cx="8628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roomp" descr=""/>
          <p:cNvPicPr/>
          <p:nvPr/>
        </p:nvPicPr>
        <p:blipFill>
          <a:blip r:embed="rId2"/>
          <a:stretch/>
        </p:blipFill>
        <p:spPr>
          <a:xfrm>
            <a:off x="2706840" y="1797120"/>
            <a:ext cx="387648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32400" y="91368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Kootenay Straw Broom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92400" y="4140360"/>
            <a:ext cx="5105160" cy="2205720"/>
            <a:chOff x="2192400" y="4140360"/>
            <a:chExt cx="5105160" cy="2205720"/>
          </a:xfrm>
        </p:grpSpPr>
        <p:sp>
          <p:nvSpPr>
            <p:cNvPr id="94" name=""/>
            <p:cNvSpPr/>
            <p:nvPr/>
          </p:nvSpPr>
          <p:spPr>
            <a:xfrm>
              <a:off x="4525920" y="597780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broomr" descr=""/>
            <p:cNvPicPr/>
            <p:nvPr/>
          </p:nvPicPr>
          <p:blipFill>
            <a:blip r:embed="rId1"/>
            <a:stretch/>
          </p:blipFill>
          <p:spPr>
            <a:xfrm>
              <a:off x="2192400" y="4145040"/>
              <a:ext cx="5105160" cy="188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192400" y="4140360"/>
              <a:ext cx="50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60280" y="3724200"/>
            <a:ext cx="8628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70520" y="4807080"/>
            <a:ext cx="950760" cy="2584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739520" y="1723680"/>
            <a:ext cx="5757120" cy="1494360"/>
            <a:chOff x="1739520" y="1723680"/>
            <a:chExt cx="5757120" cy="1494360"/>
          </a:xfrm>
        </p:grpSpPr>
        <p:sp>
          <p:nvSpPr>
            <p:cNvPr id="100" name=""/>
            <p:cNvSpPr/>
            <p:nvPr/>
          </p:nvSpPr>
          <p:spPr>
            <a:xfrm>
              <a:off x="4098960" y="2755800"/>
              <a:ext cx="1298520" cy="203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39520" y="2271600"/>
              <a:ext cx="57571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A Função Objetivo = (12.75 - 1.5 -</a:t>
              </a:r>
              <a:r>
                <a:rPr b="0" lang="en-US" sz="1400" spc="-1" strike="noStrike">
                  <a:solidFill>
                    <a:srgbClr val="993300"/>
                  </a:solidFill>
                  <a:latin typeface="Arial Black"/>
                </a:rPr>
                <a:t> 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$0.75)*P + (18.00 - 2.25 - $0.75)*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já leva em consideração o custo do “Straw”  e dos “Handles”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Deve-se, ainda, descontar a  mão de obra  de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$2.8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Logo, o lucro é </a:t>
              </a:r>
              <a:r>
                <a:rPr b="0" lang="en-US" sz="1400" spc="-1" strike="noStrike">
                  <a:solidFill>
                    <a:srgbClr val="008000"/>
                  </a:solidFill>
                  <a:latin typeface="Arial Black"/>
                </a:rPr>
                <a:t>$3.300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 Black"/>
                </a:rPr>
                <a:t> - $2.800 = $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80160" y="1731600"/>
              <a:ext cx="723240" cy="337320"/>
            </a:xfrm>
            <a:prstGeom prst="borderCallout2">
              <a:avLst>
                <a:gd name="adj1" fmla="val 18750"/>
                <a:gd name="adj2" fmla="val -8333"/>
                <a:gd name="adj3" fmla="val 33027"/>
                <a:gd name="adj4" fmla="val 120962"/>
                <a:gd name="adj5" fmla="val 166629"/>
                <a:gd name="adj6" fmla="val 178356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Str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66520" y="1723680"/>
              <a:ext cx="861840" cy="337320"/>
            </a:xfrm>
            <a:prstGeom prst="borderCallout2">
              <a:avLst>
                <a:gd name="adj1" fmla="val 18750"/>
                <a:gd name="adj2" fmla="val -8333"/>
                <a:gd name="adj3" fmla="val 33027"/>
                <a:gd name="adj4" fmla="val -15361"/>
                <a:gd name="adj5" fmla="val 162898"/>
                <a:gd name="adj6" fmla="val -5352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Hand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192400" y="4140360"/>
            <a:ext cx="5105160" cy="2205720"/>
            <a:chOff x="2192400" y="4140360"/>
            <a:chExt cx="5105160" cy="2205720"/>
          </a:xfrm>
        </p:grpSpPr>
        <p:sp>
          <p:nvSpPr>
            <p:cNvPr id="105" name=""/>
            <p:cNvSpPr/>
            <p:nvPr/>
          </p:nvSpPr>
          <p:spPr>
            <a:xfrm>
              <a:off x="4525920" y="597780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broomr" descr=""/>
            <p:cNvPicPr/>
            <p:nvPr/>
          </p:nvPicPr>
          <p:blipFill>
            <a:blip r:embed="rId1"/>
            <a:stretch/>
          </p:blipFill>
          <p:spPr>
            <a:xfrm>
              <a:off x="2192400" y="4145040"/>
              <a:ext cx="5105160" cy="188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192400" y="4140360"/>
              <a:ext cx="50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32400" y="91368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Kootenay Straw Broom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35520" y="5456160"/>
            <a:ext cx="763560" cy="258840"/>
          </a:xfrm>
          <a:prstGeom prst="ellipse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0280" y="3724200"/>
            <a:ext cx="8628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13440" y="1336320"/>
            <a:ext cx="5523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cc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cc"/>
                </a:solidFill>
                <a:latin typeface="Arial Black"/>
              </a:rPr>
              <a:t>Seek additional source for st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Accept delivery of an extra box with 10 handles for $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Add a half-time worker (4 hours/day) for $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192400" y="4140360"/>
            <a:ext cx="5105160" cy="2205720"/>
            <a:chOff x="2192400" y="4140360"/>
            <a:chExt cx="5105160" cy="2205720"/>
          </a:xfrm>
        </p:grpSpPr>
        <p:sp>
          <p:nvSpPr>
            <p:cNvPr id="116" name=""/>
            <p:cNvSpPr/>
            <p:nvPr/>
          </p:nvSpPr>
          <p:spPr>
            <a:xfrm>
              <a:off x="4525920" y="5977800"/>
              <a:ext cx="24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Black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broomr" descr=""/>
            <p:cNvPicPr/>
            <p:nvPr/>
          </p:nvPicPr>
          <p:blipFill>
            <a:blip r:embed="rId1"/>
            <a:stretch/>
          </p:blipFill>
          <p:spPr>
            <a:xfrm>
              <a:off x="2192400" y="4145040"/>
              <a:ext cx="5105160" cy="188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192400" y="4140360"/>
              <a:ext cx="50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32400" y="913680"/>
            <a:ext cx="37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Kootenay Straw Broom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0280" y="3724200"/>
            <a:ext cx="8628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13440" y="1336320"/>
            <a:ext cx="5523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Seek additional source for st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cc"/>
                </a:solidFill>
                <a:latin typeface="Arial Black"/>
              </a:rPr>
              <a:t>Accept delivery of an extra box with 10 handles for $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Add a half-time worker (4 hours/day) for $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8920" y="5802480"/>
            <a:ext cx="763920" cy="258480"/>
          </a:xfrm>
          <a:prstGeom prst="ellipse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25840" y="2425320"/>
            <a:ext cx="5836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 cx = 10 Handles -&gt; Aumento na Função Objetivo =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$3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x 10 =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$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Função Objetivo = (12.75 - 1.5 -</a:t>
            </a:r>
            <a:r>
              <a:rPr b="0" lang="en-US" sz="1400" spc="-1" strike="noStrike">
                <a:solidFill>
                  <a:srgbClr val="99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$0.7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*P + (18.00 - 2.25 -</a:t>
            </a:r>
            <a:r>
              <a:rPr b="0" lang="en-US" sz="1400" spc="-1" strike="noStrike">
                <a:solidFill>
                  <a:srgbClr val="99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$0.7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*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 já estavam incluídos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$0.75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or handle, ou 1 cx = 10 Handles = </a:t>
            </a: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$7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logo, valeria a pena pagar até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$30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009900"/>
                </a:solidFill>
                <a:latin typeface="Arial Black"/>
              </a:rPr>
              <a:t>$7.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por caixa ext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3-09-05T23:03:19Z</dcterms:modified>
  <cp:revision>222</cp:revision>
  <dc:subject/>
  <dc:title>Mercados Digitais</dc:title>
</cp:coreProperties>
</file>