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DE9-27F8-48F4-A00E-8EA60E88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6E5-DF73-4441-BF81-68ED6463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CD0-B9BE-4CEA-838E-B48FD35F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3D6-77F2-4D13-9AAB-BDBA8598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3BD-9376-4C6E-84BA-AED328BB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375-D46E-42AA-98DD-3B0D2798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C04-E31C-4C8D-A067-77A2B539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1B4-3618-43EF-B55D-702E52A9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0D3-5931-4B87-893B-CBC78762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F37-6D3C-4D03-A2F3-5F175CA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A4F-9E0D-406F-AA6E-5F5CB8B2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CE4-E35A-43E2-84CE-813D3E74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1C63-7590-43C1-A9AC-41EA56B51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8160" y="5389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15880" y="628200"/>
            <a:ext cx="16329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ula 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Progra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640" y="932400"/>
            <a:ext cx="66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aptado do Exemplo 6, pg. 478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960" y="1417680"/>
            <a:ext cx="825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 Ying Lu é proprietário de uma confecção e necessita planejar a produção deste 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r. Lu pode produzir uniformes, ternos ou jeans, com lucros de 20, 30 e 40 respectiv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nsiderando o esforço de vendas, design, encomenda de gabaritos, deve-se produzi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uniformes ou mais que 1000 uni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ternos ou mais que 2000 t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jeans ou mais que 1500 je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m termos de despezas para 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Tecido: uniformes = $ 1.50, ternos = $ 3.00 e jeans = $ 5.0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Mão de obra: uniformes = $ 3.00, ternos = $ 2.50 e jeans = $ 4.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9720" y="3544920"/>
            <a:ext cx="7342200" cy="28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x 20 u + 30 t + 40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1.5 u + 3 t + 5 j </a:t>
            </a:r>
            <a:r>
              <a:rPr b="1" lang="en-US" sz="1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6000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[tecid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3 u + 2.5 t + 4 j </a:t>
            </a:r>
            <a:r>
              <a:rPr b="1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6000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[mão de obra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Yu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[u = 0 ou 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100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1000 - 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( 1 - Y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Yt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[t = 0 ou t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200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2000 - t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( 1 - Y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j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Yj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[j = 0 ou j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150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1500 - j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00 * ( 1 - Yj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, t, j 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u, Yt, Yj binary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640" y="932400"/>
            <a:ext cx="66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aptado do Exemplo 6, pg. 478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960" y="1417680"/>
            <a:ext cx="825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 Ying Lu é proprietário de uma confecção e necessita planejar a produção deste 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r. Lu pode produzir uniformes, ternos ou jeans, com lucros de 20, 30 e 40 respectiv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nsiderando o esforço de vendas, design, encomenda de gabaritos, deve-se produzi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uniformes ou mais que 1000 uni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ternos ou mais que 2000 t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jeans ou mais que 1500 je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m termos de despezas para 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Tecido: uniformes = $ 1.50, ternos = $ 3.00 e jeans = $ 5.0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Mão de obra: uniformes = $ 3.00, ternos = $ 2.50 e jeans = $ 4.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9720" y="3544920"/>
            <a:ext cx="320040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x 20 u + 30 t + 40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1.5 u + 3 t + 5 j </a:t>
            </a:r>
            <a:r>
              <a:rPr b="1" lang="en-US" sz="1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6000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3 u + 2.5 t + 4 j </a:t>
            </a:r>
            <a:r>
              <a:rPr b="1" lang="en-US" sz="1400" spc="-1" strike="noStrike">
                <a:solidFill>
                  <a:srgbClr val="99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6000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u - 5000 * Y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0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 u + 5000 Y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4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 - 5000 * Yt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0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 t + 5000 Yt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j - 5000 * Yj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0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 j + 5000 Yj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35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, t, j 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u, Yt, Yj binary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67120" y="3838680"/>
            <a:ext cx="4611600" cy="2235240"/>
            <a:chOff x="3867120" y="3838680"/>
            <a:chExt cx="4611600" cy="2235240"/>
          </a:xfrm>
        </p:grpSpPr>
        <p:pic>
          <p:nvPicPr>
            <p:cNvPr id="173" name="ououpr" descr=""/>
            <p:cNvPicPr/>
            <p:nvPr/>
          </p:nvPicPr>
          <p:blipFill>
            <a:blip r:embed="rId1"/>
            <a:stretch/>
          </p:blipFill>
          <p:spPr>
            <a:xfrm>
              <a:off x="3868560" y="3844800"/>
              <a:ext cx="461016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867120" y="3838680"/>
              <a:ext cx="4603680" cy="222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614520" y="1601640"/>
            <a:ext cx="4047840" cy="3421080"/>
            <a:chOff x="614520" y="1601640"/>
            <a:chExt cx="4047840" cy="3421080"/>
          </a:xfrm>
        </p:grpSpPr>
        <p:pic>
          <p:nvPicPr>
            <p:cNvPr id="176" name="ououres" descr=""/>
            <p:cNvPicPr/>
            <p:nvPr/>
          </p:nvPicPr>
          <p:blipFill>
            <a:blip r:embed="rId1"/>
            <a:stretch/>
          </p:blipFill>
          <p:spPr>
            <a:xfrm>
              <a:off x="614520" y="1603440"/>
              <a:ext cx="4047840" cy="34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20640" y="1601640"/>
              <a:ext cx="4025880" cy="340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640" y="932400"/>
            <a:ext cx="66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aptado do Exemplo 6, pg. 478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67120" y="3838680"/>
            <a:ext cx="4611600" cy="2235240"/>
            <a:chOff x="3867120" y="3838680"/>
            <a:chExt cx="4611600" cy="2235240"/>
          </a:xfrm>
        </p:grpSpPr>
        <p:pic>
          <p:nvPicPr>
            <p:cNvPr id="183" name="ououpr" descr=""/>
            <p:cNvPicPr/>
            <p:nvPr/>
          </p:nvPicPr>
          <p:blipFill>
            <a:blip r:embed="rId2"/>
            <a:stretch/>
          </p:blipFill>
          <p:spPr>
            <a:xfrm>
              <a:off x="3868560" y="3844800"/>
              <a:ext cx="461016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867120" y="3838680"/>
              <a:ext cx="4603680" cy="222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428840" y="2079720"/>
            <a:ext cx="606240" cy="23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36760" y="2592360"/>
            <a:ext cx="606240" cy="23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17560" y="3165480"/>
            <a:ext cx="59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Condições do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Se A entã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51360" y="9324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400" y="3747960"/>
            <a:ext cx="6069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mo estabelecer a condição: "Se Viajar, então Livro = 0 e CD = 0"?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Livro + CD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M * ( 1 - YV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M *  Y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V = b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 = número grande (por exemplo 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0120" y="5427720"/>
            <a:ext cx="81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so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YV = 1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, Livro + CD = 0 e V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50 não restringe V.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6880" y="5823000"/>
            <a:ext cx="801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so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Yu = 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, Livro + CD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50, liberando consumo de Livros e CDs  e V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0 obriga V a ser 0.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5440" y="1576440"/>
            <a:ext cx="7133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io Patinhas está planejando as suas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 opções são: Viajar ou ficar em casa lendo Livros e ouvindo C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 dinheiro não é problema mas o tempo é. Tio Patinhas dispõe de 40 h de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vai ter 10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livro, que o Tio Patinhas demora 10 h para ler, dá 2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CD, que o Tio Patinhas demora 2 h para ouvir, dá 2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não poderá ler livros, nem ouvir CDs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51360" y="9324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2400" y="3747960"/>
            <a:ext cx="7634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x 100 V + 20 Livro + 2 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 Livro + 2 CD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4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limitação de temp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Livro + CD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 * ( 1 - YV )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[Se V = 1 então Livro = 0 e CD =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 * Y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V = b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ivro, CD = 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5440" y="1576440"/>
            <a:ext cx="7133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io Patinhas está planejando as suas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 opções são: Viajar ou ficar em casa lendo Livros e ouvindo C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 dinheiro não é problema mas o tempo é. Tio Patinhas dispõe de 40 h de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vai ter 10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livro, que o Tio Patinhas demora 10 h para ler, dá 2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CD, que o Tio Patinhas demora 2 h para ouvir, dá 2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não poderá ler livros, nem ouvir CDs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51360" y="9324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00" y="3747960"/>
            <a:ext cx="7634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x 100 V + 20 Livro + 2 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 Livro + 2 CD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4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limitação de temp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Livro + CD + 50 Y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[Se V = 1 então Livro = 0 e CD =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V  - 50 Y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V = b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ivro, CD = 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5440" y="1576440"/>
            <a:ext cx="7133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io Patinhas está planejando as suas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 opções são: Viajar ou ficar em casa lendo Livros e ouvindo C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 dinheiro não é problema mas o tempo é. Tio Patinhas dispõe de 40 h de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vai ter 10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livro, que o Tio Patinhas demora 10 h para ler, dá 2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CD, que o Tio Patinhas demora 2 h para ouvir, dá 2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não poderá ler livros, nem ouvir CDs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51360" y="9324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2480" y="3747960"/>
            <a:ext cx="3838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x 100 V + 20 Livro + 2 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 Livro + 2 CD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4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Livro + CD + 50 Y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V  - 50 YV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V = b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ivro, CD = 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5440" y="1576440"/>
            <a:ext cx="7133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io Patinhas está planejando as suas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 opções são: Viajar ou ficar em casa lendo Livros e ouvindo C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 dinheiro não é problema mas o tempo é. Tio Patinhas dispõe de 40 h de fé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vai ter 10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livro, que o Tio Patinhas demora 10 h para ler, dá 20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da CD, que o Tio Patinhas demora 2 h para ouvir, dá 2 pontos de satisf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e Viajar, Tio Patinhas não poderá ler livros, nem ouvir CDs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viagpr1" descr=""/>
          <p:cNvPicPr/>
          <p:nvPr/>
        </p:nvPicPr>
        <p:blipFill>
          <a:blip r:embed="rId1"/>
          <a:stretch/>
        </p:blipFill>
        <p:spPr>
          <a:xfrm>
            <a:off x="4083120" y="4336920"/>
            <a:ext cx="4038480" cy="139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51360" y="9324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viagpr1" descr=""/>
          <p:cNvPicPr/>
          <p:nvPr/>
        </p:nvPicPr>
        <p:blipFill>
          <a:blip r:embed="rId1"/>
          <a:stretch/>
        </p:blipFill>
        <p:spPr>
          <a:xfrm>
            <a:off x="4083120" y="4336920"/>
            <a:ext cx="403848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1212840" y="1833480"/>
            <a:ext cx="4432320" cy="2210040"/>
            <a:chOff x="1212840" y="1833480"/>
            <a:chExt cx="4432320" cy="2210040"/>
          </a:xfrm>
        </p:grpSpPr>
        <p:pic>
          <p:nvPicPr>
            <p:cNvPr id="228" name="viagres1" descr=""/>
            <p:cNvPicPr/>
            <p:nvPr/>
          </p:nvPicPr>
          <p:blipFill>
            <a:blip r:embed="rId2"/>
            <a:stretch/>
          </p:blipFill>
          <p:spPr>
            <a:xfrm>
              <a:off x="1216080" y="1833480"/>
              <a:ext cx="442908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212840" y="1833480"/>
              <a:ext cx="4429080" cy="21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460600" y="2101680"/>
            <a:ext cx="533520" cy="244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51360" y="9324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viagpr1" descr=""/>
          <p:cNvPicPr/>
          <p:nvPr/>
        </p:nvPicPr>
        <p:blipFill>
          <a:blip r:embed="rId1"/>
          <a:stretch/>
        </p:blipFill>
        <p:spPr>
          <a:xfrm>
            <a:off x="4083120" y="4336920"/>
            <a:ext cx="403848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4068720" y="1992240"/>
            <a:ext cx="4032360" cy="1373400"/>
            <a:chOff x="4068720" y="1992240"/>
            <a:chExt cx="4032360" cy="1373400"/>
          </a:xfrm>
        </p:grpSpPr>
        <p:pic>
          <p:nvPicPr>
            <p:cNvPr id="237" name="viagpr2" descr=""/>
            <p:cNvPicPr/>
            <p:nvPr/>
          </p:nvPicPr>
          <p:blipFill>
            <a:blip r:embed="rId2"/>
            <a:stretch/>
          </p:blipFill>
          <p:spPr>
            <a:xfrm>
              <a:off x="4076640" y="1994040"/>
              <a:ext cx="4019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068720" y="1992240"/>
              <a:ext cx="4032360" cy="137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324400" y="4460760"/>
            <a:ext cx="533520" cy="244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2320" y="2101680"/>
            <a:ext cx="533520" cy="24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599080" y="2352600"/>
            <a:ext cx="0" cy="210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4680" y="4211640"/>
            <a:ext cx="8585280" cy="39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50680" y="112716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920" y="2000160"/>
            <a:ext cx="8619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6/09 - Int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3/09 - FOL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/09 -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ção Gráfica de Problemas de 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/09 - Solução Numérica de Problemas de P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/10 - Análise da Sensibilida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10 - Programação Int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/10 - Programação 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/10 - Transporte, Transbordo e Atribui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/11 - Cobertura Mínima, Caminho Mínimo, Fluxo Máximo e Caixeiro Viaj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visão Geral e Tópicos Su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/11 -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51360" y="9324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aptado da pg. 480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068720" y="1992240"/>
            <a:ext cx="4032360" cy="1373400"/>
            <a:chOff x="4068720" y="1992240"/>
            <a:chExt cx="4032360" cy="1373400"/>
          </a:xfrm>
        </p:grpSpPr>
        <p:pic>
          <p:nvPicPr>
            <p:cNvPr id="247" name="viagpr2" descr=""/>
            <p:cNvPicPr/>
            <p:nvPr/>
          </p:nvPicPr>
          <p:blipFill>
            <a:blip r:embed="rId1"/>
            <a:stretch/>
          </p:blipFill>
          <p:spPr>
            <a:xfrm>
              <a:off x="4076640" y="1994040"/>
              <a:ext cx="4019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068720" y="1992240"/>
              <a:ext cx="4032360" cy="137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332320" y="2101680"/>
            <a:ext cx="533520" cy="24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544760" y="3719520"/>
            <a:ext cx="4433760" cy="2255760"/>
            <a:chOff x="1544760" y="3719520"/>
            <a:chExt cx="4433760" cy="2255760"/>
          </a:xfrm>
        </p:grpSpPr>
        <p:pic>
          <p:nvPicPr>
            <p:cNvPr id="251" name="viagres2" descr=""/>
            <p:cNvPicPr/>
            <p:nvPr/>
          </p:nvPicPr>
          <p:blipFill>
            <a:blip r:embed="rId2"/>
            <a:stretch/>
          </p:blipFill>
          <p:spPr>
            <a:xfrm>
              <a:off x="1549440" y="3719520"/>
              <a:ext cx="4429080" cy="22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544760" y="3724200"/>
              <a:ext cx="4414680" cy="225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786040" y="4216320"/>
            <a:ext cx="533520" cy="24444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62160" y="3063960"/>
            <a:ext cx="497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Inclusã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Custos Fi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41520" y="92232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Como considerar Custos Fi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11440" y="1632600"/>
            <a:ext cx="582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  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Fil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raçatuba        Bauru        Campina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Dis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CF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$100.000       $90.000       $8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Lucro p/ Serv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$200            $180            $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ão-de-Obra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50                40                55         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aterial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 $15              $25              $20       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$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5800" y="3413160"/>
            <a:ext cx="6280920" cy="29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jam: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o número de serviços prestados em Araçatub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Bauru e Campinas, respectivamen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jam: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YA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= 1 se vai ser aberto filial em Araçatuba CF = $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0 se não vai ser ab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dem,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Y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YC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estas condiçõ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* Y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B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* Y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* Y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nde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é um número gran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21800" y="1171080"/>
            <a:ext cx="7126200" cy="2325960"/>
            <a:chOff x="721800" y="1171080"/>
            <a:chExt cx="7126200" cy="2325960"/>
          </a:xfrm>
        </p:grpSpPr>
        <p:sp>
          <p:nvSpPr>
            <p:cNvPr id="268" name=""/>
            <p:cNvSpPr/>
            <p:nvPr/>
          </p:nvSpPr>
          <p:spPr>
            <a:xfrm>
              <a:off x="1332000" y="1171080"/>
              <a:ext cx="6516000" cy="16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                                          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Fili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raçatuba (A)      Bauru (B)        Campinas (C)         Dis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00"/>
                  </a:solidFill>
                  <a:latin typeface="Arial Black"/>
                </a:rPr>
                <a:t>CF                     $100.000            $90.000          $8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00"/>
                  </a:solidFill>
                  <a:latin typeface="Arial Black"/>
                </a:rPr>
                <a:t>Lucro p/ Serv.          $200                 $180               $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Mão-de-Obra                50                    40                    55              2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Material                     $15                  $25                  $20            $1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1800" y="2746440"/>
              <a:ext cx="11912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G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* 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B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G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* Y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G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* Y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125000" y="3925080"/>
            <a:ext cx="7049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200*A + 180*B + 150*C - 100.000*YA - 90.000*YB - 80.000*Y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*A + 40*B + 55*C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25.0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Mão de Ob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5*A + 25*B + 20*C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10.0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Materi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A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B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B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100.000*YA + 90.000*YB + 80.000*YC </a:t>
            </a:r>
            <a:r>
              <a:rPr b="0" lang="en-US" sz="1600" spc="-1" strike="noStrike">
                <a:solidFill>
                  <a:srgbClr val="ff3399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200.000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[Cash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A + B + C </a:t>
            </a:r>
            <a:r>
              <a:rPr b="0" lang="en-US" sz="1600" spc="-1" strike="noStrike">
                <a:solidFill>
                  <a:srgbClr val="ff3399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6240" y="3665520"/>
            <a:ext cx="86277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25000" y="3925080"/>
            <a:ext cx="7049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200*A + 180*B + 150*C - 100.000*YA - 90.000*YB - 80.000*Y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*A + 40*B + 55*C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25.0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Mão de Ob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5*A + 25*B + 20*C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10.0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Materi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A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B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B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-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.0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*Y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100.000*YA + 90.000*YB + 80.000*YC </a:t>
            </a:r>
            <a:r>
              <a:rPr b="0" lang="en-US" sz="1600" spc="-1" strike="noStrike">
                <a:solidFill>
                  <a:srgbClr val="ff3399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200.000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[Cash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A + B + C </a:t>
            </a:r>
            <a:r>
              <a:rPr b="0" lang="en-US" sz="1600" spc="-1" strike="noStrike">
                <a:solidFill>
                  <a:srgbClr val="ff3399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ilialp" descr=""/>
          <p:cNvPicPr/>
          <p:nvPr/>
        </p:nvPicPr>
        <p:blipFill>
          <a:blip r:embed="rId1"/>
          <a:stretch/>
        </p:blipFill>
        <p:spPr>
          <a:xfrm>
            <a:off x="1285920" y="900000"/>
            <a:ext cx="6838920" cy="223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filialp" descr=""/>
          <p:cNvPicPr/>
          <p:nvPr/>
        </p:nvPicPr>
        <p:blipFill>
          <a:blip r:embed="rId1"/>
          <a:stretch/>
        </p:blipFill>
        <p:spPr>
          <a:xfrm>
            <a:off x="1285920" y="900000"/>
            <a:ext cx="6838920" cy="2238480"/>
          </a:xfrm>
          <a:prstGeom prst="rect">
            <a:avLst/>
          </a:prstGeom>
          <a:ln w="0">
            <a:noFill/>
          </a:ln>
        </p:spPr>
      </p:pic>
      <p:pic>
        <p:nvPicPr>
          <p:cNvPr id="281" name="filialr" descr=""/>
          <p:cNvPicPr/>
          <p:nvPr/>
        </p:nvPicPr>
        <p:blipFill>
          <a:blip r:embed="rId2"/>
          <a:stretch/>
        </p:blipFill>
        <p:spPr>
          <a:xfrm>
            <a:off x="2162160" y="3152880"/>
            <a:ext cx="5124600" cy="332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91800" y="165096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Exercí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960" y="3327480"/>
            <a:ext cx="77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Resolver utilizando 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LINDO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ou 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WINQSB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Exercícios do Capítulo 5 do Lawrence e Pasternack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66960" y="2781360"/>
            <a:ext cx="37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Bom Trabalh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8240" y="3294000"/>
            <a:ext cx="49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Programação M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33440" y="3319560"/>
            <a:ext cx="8354880" cy="1308600"/>
            <a:chOff x="433440" y="3319560"/>
            <a:chExt cx="8354880" cy="1308600"/>
          </a:xfrm>
        </p:grpSpPr>
        <p:sp>
          <p:nvSpPr>
            <p:cNvPr id="58" name=""/>
            <p:cNvSpPr/>
            <p:nvPr/>
          </p:nvSpPr>
          <p:spPr>
            <a:xfrm>
              <a:off x="1331640" y="3468600"/>
              <a:ext cx="6516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in  55 TCI + M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.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( 68-55 ) TCI + 0.09 MFI  </a:t>
              </a:r>
              <a:r>
                <a:rPr b="1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250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[retorno mínimo desejado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55 TCI </a:t>
              </a:r>
              <a:r>
                <a:rPr b="1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0.40 ( 55 TCI + MFI)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[até 40% na TCI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55 TCI </a:t>
              </a:r>
              <a:r>
                <a:rPr b="1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750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[limite de recursos disponívei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3440" y="3319560"/>
              <a:ext cx="8354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43280" y="97056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emplo 5.4, pg. 170 do Lawrence e Pastern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08720" y="1648800"/>
            <a:ext cx="6785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Mednick é nova no setor de investimentos financei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ara começar, pretende investir o mínimo possível da economia que possu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considera: ações da TCS e fundo de aplicações M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ções da TCS custam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5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e a projeção de 1 ano indica preço futuro d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plicações na MFI possui projeção de renda anual d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possui a meta de te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2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de retorno neste 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gostaria de aplicar, no máximo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0%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na TCS, até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7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26960" y="3462480"/>
            <a:ext cx="651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n  55 TCI + M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3 TCI + 0.09 MFI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2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retorno mínimo desejad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3 TCI – 0.40 MFI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até 40% na TC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5 TCI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7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limite de recursos disponívei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3280" y="97056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emplo 5.4, pg. 170 do Lawrence e Pastern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3440" y="3319560"/>
            <a:ext cx="8354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360" y="4727520"/>
            <a:ext cx="8354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hellprob" descr=""/>
          <p:cNvPicPr/>
          <p:nvPr/>
        </p:nvPicPr>
        <p:blipFill>
          <a:blip r:embed="rId1"/>
          <a:stretch/>
        </p:blipFill>
        <p:spPr>
          <a:xfrm>
            <a:off x="2633760" y="4869000"/>
            <a:ext cx="3733560" cy="1390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08720" y="1648800"/>
            <a:ext cx="6785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Mednick é nova no setor de investimentos financei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ara começar, pretende investir o mínimo possível da economia que possu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considera: ações da TCS e fundo de aplicações M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ções da TCS custam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5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e a projeção de 1 ano indica preço futuro d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plicações na MFI possui projeção de renda anual d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possui a meta de te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2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de retorno neste 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lley gostaria de aplicar, no máximo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0%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na TCS, até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7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15680" y="1542960"/>
            <a:ext cx="651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n  55 TCI + M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3 TCI + 0.09 MFI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2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retorno mínimo desejad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3 TCI – 0.40 MFI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até 40% na TC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5 TCI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75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limite de recursos disponívei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3280" y="97056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emplo 5.4, pg. 170 do Lawrence e Pastern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3440" y="2741760"/>
            <a:ext cx="8354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760" y="4367160"/>
            <a:ext cx="8354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hellprob" descr=""/>
          <p:cNvPicPr/>
          <p:nvPr/>
        </p:nvPicPr>
        <p:blipFill>
          <a:blip r:embed="rId1"/>
          <a:stretch/>
        </p:blipFill>
        <p:spPr>
          <a:xfrm>
            <a:off x="2763720" y="2835360"/>
            <a:ext cx="3733920" cy="139068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630520" y="4502160"/>
            <a:ext cx="4152960" cy="1866600"/>
            <a:chOff x="2630520" y="4502160"/>
            <a:chExt cx="4152960" cy="1866600"/>
          </a:xfrm>
        </p:grpSpPr>
        <p:pic>
          <p:nvPicPr>
            <p:cNvPr id="83" name="shellres" descr=""/>
            <p:cNvPicPr/>
            <p:nvPr/>
          </p:nvPicPr>
          <p:blipFill>
            <a:blip r:embed="rId2"/>
            <a:stretch/>
          </p:blipFill>
          <p:spPr>
            <a:xfrm>
              <a:off x="2630520" y="4502160"/>
              <a:ext cx="4143600" cy="18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641680" y="4502160"/>
              <a:ext cx="4141800" cy="186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714760" y="3130200"/>
            <a:ext cx="2337840" cy="1984680"/>
            <a:chOff x="2714760" y="3130200"/>
            <a:chExt cx="2337840" cy="1984680"/>
          </a:xfrm>
        </p:grpSpPr>
        <p:sp>
          <p:nvSpPr>
            <p:cNvPr id="86" name=""/>
            <p:cNvSpPr/>
            <p:nvPr/>
          </p:nvSpPr>
          <p:spPr>
            <a:xfrm flipH="1" flipV="1">
              <a:off x="4855680" y="3137040"/>
              <a:ext cx="1800" cy="19778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114720" y="3133440"/>
              <a:ext cx="1440" cy="7650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3506760" y="3130200"/>
              <a:ext cx="1440" cy="10429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311640" y="3132000"/>
              <a:ext cx="1440" cy="911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686040" y="3133440"/>
              <a:ext cx="0" cy="1168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914560" y="3133800"/>
              <a:ext cx="0" cy="636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714760" y="3133440"/>
              <a:ext cx="0" cy="492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876840" y="3133800"/>
              <a:ext cx="0" cy="1303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067280" y="3133800"/>
              <a:ext cx="0" cy="1420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467240" y="3133440"/>
              <a:ext cx="0" cy="17096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254480" y="3134880"/>
              <a:ext cx="3240" cy="15620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667400" y="3133800"/>
              <a:ext cx="2880" cy="1851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5047920" y="3134880"/>
              <a:ext cx="4680" cy="18860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615680" y="1542960"/>
            <a:ext cx="651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n  55 TCI + MF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3 TCI + 0.09 MFI 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250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[retorno mínimo desejad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3 TCI – 0.40 MFI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[até 40% na TC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5 TCI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750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[limite de recursos disponívei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3280" y="97056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emplo 5.4, pg. 170 do Lawrence e Pastern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3440" y="2741760"/>
            <a:ext cx="8354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5440" y="6032520"/>
            <a:ext cx="50659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25760" y="2973240"/>
            <a:ext cx="0" cy="324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29600" y="28396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F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60120" y="55414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14560" y="594684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00480" y="595152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87840" y="595152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2560" y="5948280"/>
            <a:ext cx="324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5316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4016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22840" y="595008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9436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8172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9080" y="59482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444400" y="5146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50880" y="4226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47640" y="334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67320" y="5009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86400" y="4094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86400" y="3199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6094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55760" y="6096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35160" y="6091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77880" y="6094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9920" y="6101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46360" y="6094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68440" y="6094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86200" y="6102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0920" y="610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36720" y="6102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05000" y="6107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33680" y="3505320"/>
            <a:ext cx="3676680" cy="253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33680" y="4362120"/>
            <a:ext cx="4191120" cy="1676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05520" y="2968200"/>
            <a:ext cx="0" cy="3070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533320" y="5028840"/>
            <a:ext cx="3848040" cy="1009800"/>
          </a:xfrm>
          <a:prstGeom prst="line">
            <a:avLst/>
          </a:prstGeom>
          <a:ln w="19080">
            <a:solidFill>
              <a:srgbClr val="cc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552760" y="5257440"/>
            <a:ext cx="3029040" cy="762120"/>
          </a:xfrm>
          <a:prstGeom prst="line">
            <a:avLst/>
          </a:prstGeom>
          <a:ln w="19080">
            <a:solidFill>
              <a:srgbClr val="cc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495520" y="4800240"/>
            <a:ext cx="4610160" cy="1219320"/>
          </a:xfrm>
          <a:prstGeom prst="line">
            <a:avLst/>
          </a:prstGeom>
          <a:ln w="19080">
            <a:solidFill>
              <a:srgbClr val="cc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72080" y="4809960"/>
            <a:ext cx="2180880" cy="581040"/>
          </a:xfrm>
          <a:prstGeom prst="line">
            <a:avLst/>
          </a:prstGeom>
          <a:ln w="19080">
            <a:solidFill>
              <a:srgbClr val="cc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5057640"/>
            <a:ext cx="11448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17560" y="3165480"/>
            <a:ext cx="59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Condições do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Ou A ou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640" y="932400"/>
            <a:ext cx="66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aptado do Exemplo 6, pg. 478 do Win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2320" y="3747960"/>
            <a:ext cx="696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mo estabelecer a condição: "ou 0 uniformes ou mais que 1.000 uniformes"?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M * Y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1000 - u </a:t>
            </a:r>
            <a:r>
              <a:rPr b="1" lang="en-US" sz="1400" spc="-1" strike="noStrike">
                <a:solidFill>
                  <a:srgbClr val="ff33cc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M * ( 1 - Y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Yu = b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 = número grande (por exemplo 5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0120" y="5427720"/>
            <a:ext cx="81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so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Yu = 1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, u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5000 que vai apresentar folga , mas 1000 - u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0, de modo que 1.000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u.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6880" y="5823000"/>
            <a:ext cx="801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so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Yu = 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, u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0 , ou seja u não vai ser produzido  e 1000 - u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5000, ou seja 1000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5000.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4640" y="3465360"/>
            <a:ext cx="8355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960" y="1417680"/>
            <a:ext cx="825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 Ying Lu é proprietário de uma confecção e necessita planejar a produção deste 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r. Lu pode produzir uniformes, ternos ou jeans, com lucros de 20, 30 e 40 respectiv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nsiderando o esforço de vendas, design, encomenda de gabaritos, deve-se produzi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uniformes ou mais que 1000 uni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ternos ou mais que 2000 t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u 0 jeans ou mais que 1500 je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Em termos de despezas para 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Tecido: uniformes = $ 1.50, ternos = $ 3.00 e jeans = $ 5.0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Mão de obra: uniformes = $ 3.00, ternos = $ 2.50 e jeans = $ 4.0 sendo disponível $ 6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3-10-21T12:05:06Z</dcterms:modified>
  <cp:revision>234</cp:revision>
  <dc:subject/>
  <dc:title>Mercados Digitais</dc:title>
</cp:coreProperties>
</file>