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E70E-B5B5-4912-B531-AABD26BA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5C84-FB7F-4891-B246-8E4D043A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571A-4EB5-4636-B5C0-15DC0BB9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779C-D731-4A06-98F5-402588FB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5F2A-EA48-42D1-B214-F21F6A6C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6070-3B49-4FFF-ACB0-6740BFA5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D35F-6B37-4364-8CF2-68D13501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2F7B-700F-495E-9195-4E191F7B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AE25-D511-442D-B9BC-AF825C59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9FDA-B6BE-4606-AD2D-8C531B1D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49C7-86C8-4525-BFDE-6736417E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755-F25E-410B-8FBF-333E1144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E22A-B5C8-4968-8722-105E79639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8160" y="53892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4040" y="553320"/>
            <a:ext cx="122004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Aula 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Mode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de Re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87960" y="942840"/>
            <a:ext cx="4120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(pg. 215 do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7960" y="17524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55080" y="2133720"/>
            <a:ext cx="247284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Orige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1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2        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3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  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55080" y="3352680"/>
            <a:ext cx="2472840" cy="13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Destin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4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5         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6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7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66240" y="4876920"/>
            <a:ext cx="58363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Custo por Unidade de Flux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  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4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     5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         6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1  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               35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    30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        40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2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      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  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37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    40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        42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3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               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40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     15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         20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04400" y="2240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72600" y="3229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31400" y="41407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12560" y="19389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93560" y="2810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11080" y="3692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07800" y="44438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5062680" y="2120400"/>
            <a:ext cx="2340000" cy="282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48280" y="2403360"/>
            <a:ext cx="2382840" cy="527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49720" y="2409840"/>
            <a:ext cx="2698920" cy="138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48280" y="2409840"/>
            <a:ext cx="2254320" cy="21081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268960" y="2165040"/>
            <a:ext cx="2104920" cy="12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283360" y="2987640"/>
            <a:ext cx="211932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67160" y="3363840"/>
            <a:ext cx="245268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75440" y="3357720"/>
            <a:ext cx="2011320" cy="11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048280" y="2179800"/>
            <a:ext cx="2354400" cy="2101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062680" y="3002040"/>
            <a:ext cx="2340000" cy="1265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051520" y="3852360"/>
            <a:ext cx="2682720" cy="42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059440" y="4270320"/>
            <a:ext cx="2227320" cy="319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080" y="2029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03760" y="2251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22520" y="3609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83120" y="23673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65400" y="2845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89200" y="32058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25800" y="2601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21000" y="2699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675120" y="3415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30440" y="3682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46320" y="3905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230520" y="42170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92840" y="235116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218200" y="331308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995720" y="421488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97640" y="205884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34360" y="290196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84960" y="451476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754760" y="378612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487960" y="942840"/>
            <a:ext cx="4120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(pg. 215 do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7960" y="17524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55080" y="2133720"/>
            <a:ext cx="247284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Orige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1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2        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3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  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55080" y="3352680"/>
            <a:ext cx="2472840" cy="13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Destin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4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5         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6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7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04400" y="2240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72600" y="3229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1400" y="41407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12560" y="19389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3560" y="2810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11080" y="3692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07800" y="44438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062680" y="2120400"/>
            <a:ext cx="234000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48280" y="2403360"/>
            <a:ext cx="2382840" cy="52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49720" y="2409840"/>
            <a:ext cx="2698920" cy="13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48280" y="2409840"/>
            <a:ext cx="2254320" cy="21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268960" y="2165040"/>
            <a:ext cx="2104920" cy="12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5283360" y="2987640"/>
            <a:ext cx="211932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67160" y="3363840"/>
            <a:ext cx="245268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75440" y="3357720"/>
            <a:ext cx="2011320" cy="11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048280" y="2179800"/>
            <a:ext cx="2354400" cy="210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062680" y="3002040"/>
            <a:ext cx="2340000" cy="12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051520" y="3852360"/>
            <a:ext cx="26827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059440" y="4270320"/>
            <a:ext cx="2227320" cy="319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4080" y="2029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03760" y="2251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222520" y="3609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83120" y="23673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665400" y="2845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89200" y="32058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25800" y="2601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21000" y="2699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675120" y="3415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130440" y="3682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46320" y="3905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30520" y="42170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92840" y="235116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218200" y="331308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95720" y="421488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397640" y="205884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434360" y="290196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284960" y="451476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754760" y="378612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872320" y="4546440"/>
            <a:ext cx="634680" cy="86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41440" y="4564440"/>
            <a:ext cx="42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x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 Black"/>
              </a:rPr>
              <a:t>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611440" y="5353200"/>
            <a:ext cx="3278160" cy="825480"/>
          </a:xfrm>
          <a:prstGeom prst="wedgeRoundRectCallout">
            <a:avLst>
              <a:gd name="adj1" fmla="val 50435"/>
              <a:gd name="adj2" fmla="val -142500"/>
              <a:gd name="adj3" fmla="val 16667"/>
            </a:avLst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x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 Black"/>
              </a:rPr>
              <a:t>37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é o fluxo de 3 para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resultando custo 28 x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 Black"/>
              </a:rPr>
              <a:t>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865080" y="2106720"/>
            <a:ext cx="2670120" cy="1212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87960" y="942840"/>
            <a:ext cx="4120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(pg. 215 do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7960" y="17524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55080" y="2133720"/>
            <a:ext cx="247284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Orige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1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2      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55080" y="3352680"/>
            <a:ext cx="2472840" cy="13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Destin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4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5       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6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7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04400" y="2240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72600" y="3229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631400" y="41407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12560" y="19389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93560" y="2810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011080" y="3692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507800" y="44438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062680" y="2120400"/>
            <a:ext cx="2340000" cy="282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48280" y="2403360"/>
            <a:ext cx="2382840" cy="52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49720" y="2409840"/>
            <a:ext cx="2698920" cy="138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48280" y="2409840"/>
            <a:ext cx="2254320" cy="2108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268960" y="2165040"/>
            <a:ext cx="2104920" cy="12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283360" y="2987640"/>
            <a:ext cx="211932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67160" y="3363840"/>
            <a:ext cx="245268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75440" y="3357720"/>
            <a:ext cx="2011320" cy="11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048280" y="2179800"/>
            <a:ext cx="2354400" cy="210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062680" y="3002040"/>
            <a:ext cx="2340000" cy="12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051520" y="3852360"/>
            <a:ext cx="26827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9440" y="4270320"/>
            <a:ext cx="2227320" cy="3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080" y="2029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03760" y="2251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22520" y="3609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83120" y="23673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665400" y="2845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289200" y="32058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25800" y="2601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121000" y="2699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675120" y="3415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30440" y="3682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46320" y="3905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30520" y="42170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92840" y="235116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8200" y="331308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95720" y="421488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397640" y="205884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34360" y="290196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84960" y="451476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754760" y="378612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202040" y="4870440"/>
            <a:ext cx="25279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Restrições na Orige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4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5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6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7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= 1200</a:t>
            </a:r>
            <a:r>
              <a:rPr b="0" lang="pt-BR" sz="1600" spc="-1" strike="noStrike" baseline="-25000">
                <a:solidFill>
                  <a:srgbClr val="99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865080" y="2106720"/>
            <a:ext cx="2670120" cy="1212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87960" y="942840"/>
            <a:ext cx="4120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(pg. 215 do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7960" y="17524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55080" y="2133720"/>
            <a:ext cx="247284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Orige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1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2      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3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55080" y="3352680"/>
            <a:ext cx="2472840" cy="13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Destin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4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5       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6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7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604400" y="2240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2600" y="3229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631400" y="41407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12560" y="19389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93560" y="2810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011080" y="3692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507800" y="44438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062680" y="2120400"/>
            <a:ext cx="2340000" cy="282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48280" y="2403360"/>
            <a:ext cx="2382840" cy="52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49720" y="2409840"/>
            <a:ext cx="2698920" cy="138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48280" y="2409840"/>
            <a:ext cx="2254320" cy="2108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5268960" y="2165040"/>
            <a:ext cx="2104920" cy="12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5283360" y="2987640"/>
            <a:ext cx="211932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267160" y="3363840"/>
            <a:ext cx="245268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75440" y="3357720"/>
            <a:ext cx="2011320" cy="11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048280" y="2179800"/>
            <a:ext cx="2354400" cy="2101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5062680" y="3002040"/>
            <a:ext cx="2340000" cy="1265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051520" y="3852360"/>
            <a:ext cx="2682720" cy="422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59440" y="4270320"/>
            <a:ext cx="2227320" cy="3193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94080" y="2029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503760" y="2251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222520" y="3609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83120" y="23673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65400" y="2845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289200" y="32058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725800" y="2601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21000" y="2699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675120" y="3415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30440" y="3682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46320" y="3905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230520" y="42170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92840" y="235116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218200" y="331308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95720" y="4214880"/>
            <a:ext cx="114480" cy="114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97640" y="205884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434360" y="290196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284960" y="451476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54760" y="378612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202040" y="4870440"/>
            <a:ext cx="252792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Restrições na Orige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4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5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6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7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= 1200</a:t>
            </a:r>
            <a:r>
              <a:rPr b="0" lang="pt-BR" sz="1600" spc="-1" strike="noStrike" baseline="-25000">
                <a:solidFill>
                  <a:srgbClr val="99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24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25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26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27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=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34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35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36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37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= 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836640" y="3319560"/>
            <a:ext cx="2655720" cy="1428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487960" y="942840"/>
            <a:ext cx="4120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(pg. 215 do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960" y="17524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55080" y="2133720"/>
            <a:ext cx="247284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Orige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2      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55080" y="3352680"/>
            <a:ext cx="2472840" cy="13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Destin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4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5       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6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7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604400" y="2240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72600" y="3229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631400" y="41407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12560" y="19389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693560" y="2810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011080" y="3692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507800" y="44438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5062680" y="2120400"/>
            <a:ext cx="2340000" cy="282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048280" y="2403360"/>
            <a:ext cx="2382840" cy="52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049720" y="2409840"/>
            <a:ext cx="2698920" cy="13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48280" y="2409840"/>
            <a:ext cx="2254320" cy="21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268960" y="2165040"/>
            <a:ext cx="2104920" cy="1212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283360" y="2987640"/>
            <a:ext cx="211932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67160" y="3363840"/>
            <a:ext cx="245268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75440" y="3357720"/>
            <a:ext cx="2011320" cy="11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048280" y="2179800"/>
            <a:ext cx="2354400" cy="2101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062680" y="3002040"/>
            <a:ext cx="2340000" cy="12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5051520" y="3852360"/>
            <a:ext cx="26827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059440" y="4270320"/>
            <a:ext cx="2227320" cy="3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094080" y="2029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503760" y="2251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222520" y="3609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883120" y="23673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665400" y="2845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289200" y="32058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725800" y="2601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21000" y="2699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675120" y="3415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130440" y="3682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46320" y="3905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230520" y="42170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992840" y="235116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218200" y="331308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995720" y="421488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397640" y="205884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434360" y="290196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284960" y="451476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754760" y="378612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094400" y="4799160"/>
            <a:ext cx="22989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Restrições no Destin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4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24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34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= 1100</a:t>
            </a:r>
            <a:r>
              <a:rPr b="0" lang="pt-BR" sz="1600" spc="-1" strike="noStrike" baseline="-25000">
                <a:solidFill>
                  <a:srgbClr val="99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836640" y="3319560"/>
            <a:ext cx="2655720" cy="1428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87960" y="942840"/>
            <a:ext cx="4120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(pg. 215 do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7960" y="17524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55080" y="2133720"/>
            <a:ext cx="247284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Orige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2      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55080" y="3352680"/>
            <a:ext cx="2472840" cy="13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Destin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4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5       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6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7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604400" y="2240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872600" y="3229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631400" y="41407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12560" y="19389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93560" y="2810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011080" y="3692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507800" y="44438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5062680" y="2120400"/>
            <a:ext cx="2340000" cy="282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048280" y="2403360"/>
            <a:ext cx="2382840" cy="52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49720" y="2409840"/>
            <a:ext cx="2698920" cy="138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48280" y="2409840"/>
            <a:ext cx="2254320" cy="210816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5268960" y="2165040"/>
            <a:ext cx="2104920" cy="1212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5283360" y="2987640"/>
            <a:ext cx="211932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267160" y="3363840"/>
            <a:ext cx="2452680" cy="460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275440" y="3357720"/>
            <a:ext cx="2011320" cy="118872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048280" y="2179800"/>
            <a:ext cx="2354400" cy="2101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5062680" y="3002040"/>
            <a:ext cx="2340000" cy="12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5051520" y="3852360"/>
            <a:ext cx="2682720" cy="422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059440" y="4270320"/>
            <a:ext cx="2227320" cy="31932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080" y="2029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503760" y="2251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22520" y="3609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83120" y="23673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665400" y="2845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289200" y="32058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725800" y="2601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121000" y="2699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675120" y="3415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130440" y="3682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746320" y="3905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230520" y="42170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992840" y="235116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218200" y="331308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995720" y="421488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397640" y="205884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434360" y="290196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284960" y="4514760"/>
            <a:ext cx="114480" cy="1144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754760" y="378612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094400" y="4799160"/>
            <a:ext cx="229896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Restrições no Destin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4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24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34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=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15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25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35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= 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16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26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36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=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x</a:t>
            </a:r>
            <a:r>
              <a:rPr b="0" lang="pt-BR" sz="1600" spc="-1" strike="noStrike" baseline="-25000">
                <a:solidFill>
                  <a:srgbClr val="9933ff"/>
                </a:solidFill>
                <a:latin typeface="Arial Black"/>
              </a:rPr>
              <a:t>17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9933ff"/>
                </a:solidFill>
                <a:latin typeface="Arial Black"/>
              </a:rPr>
              <a:t>27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9933ff"/>
                </a:solidFill>
                <a:latin typeface="Arial Black"/>
              </a:rPr>
              <a:t>37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= 750</a:t>
            </a:r>
            <a:r>
              <a:rPr b="0" lang="pt-BR" sz="1600" spc="-1" strike="noStrike" baseline="-25000">
                <a:solidFill>
                  <a:srgbClr val="99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487960" y="942840"/>
            <a:ext cx="4120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(pg. 215 do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7960" y="17524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55080" y="2133720"/>
            <a:ext cx="247284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Orige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2      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955080" y="3352680"/>
            <a:ext cx="2472840" cy="13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Destin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4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5       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6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7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604400" y="2240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872600" y="3229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631400" y="41407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612560" y="19389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693560" y="2810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011080" y="3692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507800" y="44438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062680" y="2120400"/>
            <a:ext cx="2340000" cy="282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048280" y="2403360"/>
            <a:ext cx="2382840" cy="52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049720" y="2409840"/>
            <a:ext cx="2698920" cy="138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48280" y="2409840"/>
            <a:ext cx="2254320" cy="2108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5268960" y="2165040"/>
            <a:ext cx="2104920" cy="12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5283360" y="2987640"/>
            <a:ext cx="211932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267160" y="3363840"/>
            <a:ext cx="245268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75440" y="3357720"/>
            <a:ext cx="2011320" cy="11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048280" y="2179800"/>
            <a:ext cx="2354400" cy="2101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062680" y="3002040"/>
            <a:ext cx="2340000" cy="1265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5051520" y="3852360"/>
            <a:ext cx="2682720" cy="422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059440" y="4270320"/>
            <a:ext cx="2227320" cy="3193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094080" y="2029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503760" y="2251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22520" y="3609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883120" y="23673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665400" y="2845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289200" y="32058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25800" y="2601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121000" y="2699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675120" y="3415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130440" y="3682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746320" y="3905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230520" y="42170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92840" y="235116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218200" y="331308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995720" y="4214880"/>
            <a:ext cx="114480" cy="114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397640" y="205884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434360" y="290196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284960" y="451476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754760" y="378612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566000" y="4870440"/>
            <a:ext cx="529884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Custo Total do Transporte (a ser minimizado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35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4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30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5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40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6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 32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7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</a:t>
            </a:r>
            <a:r>
              <a:rPr b="0" lang="pt-BR" sz="1600" spc="-1" strike="noStrike" baseline="-25000">
                <a:solidFill>
                  <a:srgbClr val="99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37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24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40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25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42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26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25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27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                                       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40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34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+  15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35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+  20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36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+  28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487960" y="942840"/>
            <a:ext cx="4120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(pg. 215 do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028880" y="3254400"/>
            <a:ext cx="6593760" cy="25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4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5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6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7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= 1200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[Produção no Nó 1]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24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25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26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27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= 1000 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[Produção no Nó 2]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34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35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36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37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= 800 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[Produção no Nó 3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14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24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34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= 1100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[Consumo no Nó 4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15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25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35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= 400 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[Consumo no Nó 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16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26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36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= 750 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[Consumo no Nó 6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17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27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37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= 750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[Consumo no Nó 7]</a:t>
            </a:r>
            <a:r>
              <a:rPr b="0" lang="pt-BR" sz="1600" spc="-1" strike="noStrike" baseline="-25000">
                <a:solidFill>
                  <a:srgbClr val="99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48720" y="1911240"/>
            <a:ext cx="5298840" cy="14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Min 35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14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30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15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40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16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 32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17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37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24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40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25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42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26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25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27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                          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40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34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 15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35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 20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36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 28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7960" y="942840"/>
            <a:ext cx="4120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(pg. 215 do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5048280" y="2029320"/>
            <a:ext cx="2700360" cy="2560320"/>
            <a:chOff x="5048280" y="2029320"/>
            <a:chExt cx="2700360" cy="2560320"/>
          </a:xfrm>
        </p:grpSpPr>
        <p:sp>
          <p:nvSpPr>
            <p:cNvPr id="591" name=""/>
            <p:cNvSpPr/>
            <p:nvPr/>
          </p:nvSpPr>
          <p:spPr>
            <a:xfrm flipV="1">
              <a:off x="5062680" y="2120400"/>
              <a:ext cx="2340000" cy="282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48280" y="2403360"/>
              <a:ext cx="2382840" cy="5270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49720" y="2409840"/>
              <a:ext cx="2698920" cy="13860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048280" y="2409840"/>
              <a:ext cx="2254320" cy="2108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5268960" y="2165040"/>
              <a:ext cx="2104920" cy="12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5283360" y="2987640"/>
              <a:ext cx="2119320" cy="3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267160" y="3363840"/>
              <a:ext cx="2452680" cy="4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275440" y="3357720"/>
              <a:ext cx="2011320" cy="11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048280" y="2179800"/>
              <a:ext cx="2354400" cy="210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062680" y="3002040"/>
              <a:ext cx="2340000" cy="1265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051520" y="3852360"/>
              <a:ext cx="2682720" cy="42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059440" y="4270320"/>
              <a:ext cx="2227320" cy="3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094080" y="20293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503760" y="22514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222520" y="3609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883120" y="23673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665400" y="28454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289200" y="32058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 Black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25800" y="2601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121000" y="26992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675120" y="34153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130440" y="36820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746320" y="39056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 Black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230520" y="42170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 Black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3792600" y="2190960"/>
            <a:ext cx="1539720" cy="2361960"/>
            <a:chOff x="3792600" y="2190960"/>
            <a:chExt cx="1539720" cy="2361960"/>
          </a:xfrm>
        </p:grpSpPr>
        <p:sp>
          <p:nvSpPr>
            <p:cNvPr id="616" name=""/>
            <p:cNvSpPr/>
            <p:nvPr/>
          </p:nvSpPr>
          <p:spPr>
            <a:xfrm>
              <a:off x="3916800" y="2190960"/>
              <a:ext cx="99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Clevel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1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387320" y="3137400"/>
              <a:ext cx="76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Detro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792600" y="4032720"/>
              <a:ext cx="1179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Greensbo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8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992840" y="235116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218200" y="33130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995720" y="4214880"/>
              <a:ext cx="11448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7284960" y="1903680"/>
            <a:ext cx="1401840" cy="2982600"/>
            <a:chOff x="7284960" y="1903680"/>
            <a:chExt cx="1401840" cy="2982600"/>
          </a:xfrm>
        </p:grpSpPr>
        <p:sp>
          <p:nvSpPr>
            <p:cNvPr id="623" name=""/>
            <p:cNvSpPr/>
            <p:nvPr/>
          </p:nvSpPr>
          <p:spPr>
            <a:xfrm>
              <a:off x="7613280" y="1903680"/>
              <a:ext cx="772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Bost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1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639200" y="2703960"/>
              <a:ext cx="102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Richmo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907040" y="3586680"/>
              <a:ext cx="77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Atlan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7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585200" y="4366080"/>
              <a:ext cx="877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St. Lou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7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397640" y="205884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434360" y="290196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84960" y="45147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754760" y="378612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761040" y="17812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3800" y="2347920"/>
            <a:ext cx="2418120" cy="10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900"/>
                </a:solidFill>
                <a:latin typeface="Arial Black"/>
              </a:rPr>
              <a:t>Produçã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Cleveland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Detroit         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Greensboro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  8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03800" y="3567240"/>
            <a:ext cx="2418120" cy="12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900"/>
                </a:solidFill>
                <a:latin typeface="Arial Black"/>
              </a:rPr>
              <a:t>Depósit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Boston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1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Richmond         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  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Atlanta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  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  7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St. Louis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  7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910800" y="5091120"/>
            <a:ext cx="5385240" cy="12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900"/>
                </a:solidFill>
                <a:latin typeface="Arial Black"/>
              </a:rPr>
              <a:t>Custo de Transpor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Boston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Richmond    Atlanta   St. Lou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Cleveland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35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   30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       40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Detroit         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37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     40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         42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Greensboro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40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      15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          20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536280" y="94284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61040" y="17812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03800" y="2347920"/>
            <a:ext cx="2418120" cy="10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900"/>
                </a:solidFill>
                <a:latin typeface="Arial Black"/>
              </a:rPr>
              <a:t>Produçã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Cleveland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Detroit         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Greensboro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  8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03800" y="3567240"/>
            <a:ext cx="2418120" cy="12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900"/>
                </a:solidFill>
                <a:latin typeface="Arial Black"/>
              </a:rPr>
              <a:t>Depósit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Boston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1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Richmond         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  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Atlanta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  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  7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St. Louis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  7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10800" y="5091120"/>
            <a:ext cx="5385240" cy="12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900"/>
                </a:solidFill>
                <a:latin typeface="Arial Black"/>
              </a:rPr>
              <a:t>Custo de Transpor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Boston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Richmond    Atlanta   St. Lou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Cleveland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35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   30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       40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Detroit         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37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     40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         42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Greensboro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40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      15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          20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Carltnet" descr=""/>
          <p:cNvPicPr/>
          <p:nvPr/>
        </p:nvPicPr>
        <p:blipFill>
          <a:blip r:embed="rId1"/>
          <a:stretch/>
        </p:blipFill>
        <p:spPr>
          <a:xfrm>
            <a:off x="3745080" y="1566720"/>
            <a:ext cx="4714560" cy="3638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6240" y="4573440"/>
            <a:ext cx="8584920" cy="390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50680" y="1127160"/>
            <a:ext cx="38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Programação e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8920" y="2000160"/>
            <a:ext cx="861912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6/09 - Int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3/09 - FOL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/09 -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ção Gráfica de Problemas de P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/09 - Solução Numérica de Problemas de P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4/10 - Análise da Sensibilidad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/10 - Programação Int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/10 - Programação M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/10 - Transporte, Transbordo e Atribui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/11 - Cobertura Mínima, Caminho Mínimo, Fluxo Máximo e Caixeiro Viaj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evisão Geral e Tópicos Suplement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8/11 - Pro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Carltab" descr=""/>
          <p:cNvPicPr/>
          <p:nvPr/>
        </p:nvPicPr>
        <p:blipFill>
          <a:blip r:embed="rId1"/>
          <a:stretch/>
        </p:blipFill>
        <p:spPr>
          <a:xfrm>
            <a:off x="3462480" y="1919160"/>
            <a:ext cx="5048280" cy="1571760"/>
          </a:xfrm>
          <a:prstGeom prst="rect">
            <a:avLst/>
          </a:prstGeom>
          <a:ln w="0">
            <a:noFill/>
          </a:ln>
        </p:spPr>
      </p:pic>
      <p:pic>
        <p:nvPicPr>
          <p:cNvPr id="648" name="Carltsol" descr=""/>
          <p:cNvPicPr/>
          <p:nvPr/>
        </p:nvPicPr>
        <p:blipFill>
          <a:blip r:embed="rId2"/>
          <a:stretch/>
        </p:blipFill>
        <p:spPr>
          <a:xfrm>
            <a:off x="3672000" y="3665520"/>
            <a:ext cx="4657680" cy="142884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761040" y="17812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03800" y="2347920"/>
            <a:ext cx="2418120" cy="10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900"/>
                </a:solidFill>
                <a:latin typeface="Arial Black"/>
              </a:rPr>
              <a:t>Produçã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Cleveland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Detroit         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Greensboro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  8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03800" y="3567240"/>
            <a:ext cx="2418120" cy="12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900"/>
                </a:solidFill>
                <a:latin typeface="Arial Black"/>
              </a:rPr>
              <a:t>Depósit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Boston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1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Richmond         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  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Atlanta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  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  7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St. Louis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  7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910800" y="5091120"/>
            <a:ext cx="5385240" cy="12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900"/>
                </a:solidFill>
                <a:latin typeface="Arial Black"/>
              </a:rPr>
              <a:t>Custo de Transpor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Boston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Richmond    Atlanta   St. Lou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Cleveland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35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   30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       40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Detroit         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37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     40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         42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Greensboro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40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      15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          20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536280" y="94284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483720" y="942840"/>
            <a:ext cx="21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Transbo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76880" y="1598760"/>
            <a:ext cx="12841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752560" y="2620800"/>
            <a:ext cx="1459080" cy="763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2782800" y="3580920"/>
            <a:ext cx="1544760" cy="235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284720" y="2698920"/>
            <a:ext cx="2365200" cy="129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282920" y="2712960"/>
            <a:ext cx="2268720" cy="1689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2813040" y="2743200"/>
            <a:ext cx="1428840" cy="1054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757600" y="2593800"/>
            <a:ext cx="1569960" cy="92880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4270320" y="2063880"/>
            <a:ext cx="2351160" cy="65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249800" y="2678040"/>
            <a:ext cx="2762280" cy="104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4383000" y="2091960"/>
            <a:ext cx="2238480" cy="146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4411800" y="2842920"/>
            <a:ext cx="2282760" cy="70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400640" y="3568680"/>
            <a:ext cx="2538360" cy="1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379760" y="3564000"/>
            <a:ext cx="2198880" cy="8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901040" y="27230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704480" y="2872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26680" y="2495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973960" y="27849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62920" y="3118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148560" y="3724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02680" y="3292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20040" y="23673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66280" y="30531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082120" y="3638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29840" y="2218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866120" y="33660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914280" y="228168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Kan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955320" y="3746880"/>
            <a:ext cx="95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Louisvi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227480" y="263988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51320" y="351468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67000" y="1802160"/>
            <a:ext cx="76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Detro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053120" y="2602440"/>
            <a:ext cx="7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Mia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203600" y="3484800"/>
            <a:ext cx="68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Dal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648840" y="4264200"/>
            <a:ext cx="125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New Orle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647040" y="1957320"/>
            <a:ext cx="114120" cy="1144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683400" y="2800440"/>
            <a:ext cx="114120" cy="1141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534000" y="4413240"/>
            <a:ext cx="114480" cy="1144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004160" y="3684600"/>
            <a:ext cx="114120" cy="1141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884240" y="238644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Den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935000" y="3532680"/>
            <a:ext cx="7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tla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719440" y="2560680"/>
            <a:ext cx="114120" cy="1141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744640" y="375120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Transtab" descr=""/>
          <p:cNvPicPr/>
          <p:nvPr/>
        </p:nvPicPr>
        <p:blipFill>
          <a:blip r:embed="rId1"/>
          <a:stretch/>
        </p:blipFill>
        <p:spPr>
          <a:xfrm>
            <a:off x="554040" y="4505400"/>
            <a:ext cx="5210280" cy="1743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83720" y="942840"/>
            <a:ext cx="21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Transbo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76880" y="1598760"/>
            <a:ext cx="12841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752560" y="2620800"/>
            <a:ext cx="1459080" cy="763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2782800" y="3580920"/>
            <a:ext cx="1544760" cy="235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284720" y="2698920"/>
            <a:ext cx="2365200" cy="129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282920" y="2712960"/>
            <a:ext cx="2268720" cy="1689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2813040" y="2743200"/>
            <a:ext cx="1428840" cy="1054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757600" y="2593800"/>
            <a:ext cx="1569960" cy="92880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270320" y="2063880"/>
            <a:ext cx="2351160" cy="65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249800" y="2678040"/>
            <a:ext cx="2762280" cy="104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383000" y="2091960"/>
            <a:ext cx="2238480" cy="146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411800" y="2842920"/>
            <a:ext cx="2282760" cy="70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00640" y="3568680"/>
            <a:ext cx="2538360" cy="1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379760" y="3564000"/>
            <a:ext cx="2198880" cy="8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901040" y="27230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704480" y="2872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026680" y="2495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973960" y="27849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462920" y="3118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148560" y="3724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902680" y="3292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020040" y="23673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066280" y="30531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082120" y="3638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929840" y="2218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866120" y="33660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914280" y="228168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Kan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955320" y="3746880"/>
            <a:ext cx="95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Louisvi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27480" y="263988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351320" y="351468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67000" y="1802160"/>
            <a:ext cx="76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Detro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53120" y="2602440"/>
            <a:ext cx="7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Mia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203600" y="3484800"/>
            <a:ext cx="68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Dal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648840" y="4264200"/>
            <a:ext cx="125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New Orle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647040" y="1957320"/>
            <a:ext cx="114120" cy="1144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683400" y="2800440"/>
            <a:ext cx="114120" cy="1141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534000" y="4413240"/>
            <a:ext cx="114480" cy="1144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004160" y="3684600"/>
            <a:ext cx="114120" cy="1141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84240" y="238644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Den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935000" y="3532680"/>
            <a:ext cx="7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tla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719440" y="2560680"/>
            <a:ext cx="114120" cy="1141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744640" y="375120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Transsol" descr=""/>
          <p:cNvPicPr/>
          <p:nvPr/>
        </p:nvPicPr>
        <p:blipFill>
          <a:blip r:embed="rId1"/>
          <a:stretch/>
        </p:blipFill>
        <p:spPr>
          <a:xfrm>
            <a:off x="468360" y="4608360"/>
            <a:ext cx="4629240" cy="160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483720" y="942840"/>
            <a:ext cx="21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Transbo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76880" y="1598760"/>
            <a:ext cx="12841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Transsol" descr=""/>
          <p:cNvPicPr/>
          <p:nvPr/>
        </p:nvPicPr>
        <p:blipFill>
          <a:blip r:embed="rId1"/>
          <a:stretch/>
        </p:blipFill>
        <p:spPr>
          <a:xfrm>
            <a:off x="468360" y="4608360"/>
            <a:ext cx="4629240" cy="1600200"/>
          </a:xfrm>
          <a:prstGeom prst="rect">
            <a:avLst/>
          </a:prstGeom>
          <a:ln w="0">
            <a:noFill/>
          </a:ln>
        </p:spPr>
      </p:pic>
      <p:pic>
        <p:nvPicPr>
          <p:cNvPr id="752" name="Transgrf" descr=""/>
          <p:cNvPicPr/>
          <p:nvPr/>
        </p:nvPicPr>
        <p:blipFill>
          <a:blip r:embed="rId2"/>
          <a:stretch/>
        </p:blipFill>
        <p:spPr>
          <a:xfrm>
            <a:off x="2538360" y="1554120"/>
            <a:ext cx="4686480" cy="2981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603600" y="9428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Atrib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64360" y="2133720"/>
            <a:ext cx="12841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441680" y="2432160"/>
            <a:ext cx="2283120" cy="8427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4427640" y="2324160"/>
            <a:ext cx="2340000" cy="10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429080" y="2438280"/>
            <a:ext cx="2425680" cy="18338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4648320" y="3305160"/>
            <a:ext cx="2090520" cy="10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4662360" y="2366640"/>
            <a:ext cx="2105280" cy="103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646520" y="3392640"/>
            <a:ext cx="21211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4427640" y="2366640"/>
            <a:ext cx="236844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4441680" y="3362040"/>
            <a:ext cx="2254320" cy="933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4430880" y="4284360"/>
            <a:ext cx="2334960" cy="1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28240" y="36471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860720" y="2137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051880" y="40280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839120" y="2975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946400" y="24260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968000" y="2656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43160" y="37468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010840" y="33501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032080" y="31201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759480" y="2283480"/>
            <a:ext cx="5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868920" y="325800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703320" y="4153320"/>
            <a:ext cx="6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ar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371840" y="237960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597560" y="334152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375080" y="424332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16400" y="218340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X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891840" y="315648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Yah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998400" y="414072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Zo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791400" y="2260440"/>
            <a:ext cx="114120" cy="1144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11840" y="3247920"/>
            <a:ext cx="114480" cy="1144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816600" y="4232160"/>
            <a:ext cx="114480" cy="1144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Leadtab" descr=""/>
          <p:cNvPicPr/>
          <p:nvPr/>
        </p:nvPicPr>
        <p:blipFill>
          <a:blip r:embed="rId1"/>
          <a:stretch/>
        </p:blipFill>
        <p:spPr>
          <a:xfrm>
            <a:off x="1305000" y="5048280"/>
            <a:ext cx="1828800" cy="714240"/>
          </a:xfrm>
          <a:prstGeom prst="rect">
            <a:avLst/>
          </a:prstGeom>
          <a:ln w="0">
            <a:noFill/>
          </a:ln>
        </p:spPr>
      </p:pic>
      <p:pic>
        <p:nvPicPr>
          <p:cNvPr id="789" name="Leadersol" descr=""/>
          <p:cNvPicPr/>
          <p:nvPr/>
        </p:nvPicPr>
        <p:blipFill>
          <a:blip r:embed="rId2"/>
          <a:stretch/>
        </p:blipFill>
        <p:spPr>
          <a:xfrm>
            <a:off x="3670200" y="5051520"/>
            <a:ext cx="451512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603600" y="9428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Atrib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64360" y="2133720"/>
            <a:ext cx="12841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Leadtab" descr=""/>
          <p:cNvPicPr/>
          <p:nvPr/>
        </p:nvPicPr>
        <p:blipFill>
          <a:blip r:embed="rId1"/>
          <a:stretch/>
        </p:blipFill>
        <p:spPr>
          <a:xfrm>
            <a:off x="1305000" y="5048280"/>
            <a:ext cx="1828800" cy="714240"/>
          </a:xfrm>
          <a:prstGeom prst="rect">
            <a:avLst/>
          </a:prstGeom>
          <a:ln w="0">
            <a:noFill/>
          </a:ln>
        </p:spPr>
      </p:pic>
      <p:pic>
        <p:nvPicPr>
          <p:cNvPr id="796" name="Leadersol" descr=""/>
          <p:cNvPicPr/>
          <p:nvPr/>
        </p:nvPicPr>
        <p:blipFill>
          <a:blip r:embed="rId2"/>
          <a:stretch/>
        </p:blipFill>
        <p:spPr>
          <a:xfrm>
            <a:off x="3670200" y="5051520"/>
            <a:ext cx="4515120" cy="914400"/>
          </a:xfrm>
          <a:prstGeom prst="rect">
            <a:avLst/>
          </a:prstGeom>
          <a:ln w="0">
            <a:noFill/>
          </a:ln>
        </p:spPr>
      </p:pic>
      <p:pic>
        <p:nvPicPr>
          <p:cNvPr id="797" name="Leadergrf" descr=""/>
          <p:cNvPicPr/>
          <p:nvPr/>
        </p:nvPicPr>
        <p:blipFill>
          <a:blip r:embed="rId3"/>
          <a:stretch/>
        </p:blipFill>
        <p:spPr>
          <a:xfrm>
            <a:off x="3584520" y="2205000"/>
            <a:ext cx="4657680" cy="2362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766960" y="4248000"/>
            <a:ext cx="378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Bom Trabalh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787920" y="112716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rcí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23960" y="2927520"/>
            <a:ext cx="77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Resolver, utilizando o programa </a:t>
            </a:r>
            <a:r>
              <a:rPr b="0" lang="en-US" sz="1800" spc="-1" strike="noStrike">
                <a:solidFill>
                  <a:srgbClr val="009900"/>
                </a:solidFill>
                <a:latin typeface="Arial Black"/>
              </a:rPr>
              <a:t>Net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 do pacote </a:t>
            </a:r>
            <a:r>
              <a:rPr b="0" lang="en-US" sz="1800" spc="-1" strike="noStrike">
                <a:solidFill>
                  <a:srgbClr val="009900"/>
                </a:solidFill>
                <a:latin typeface="Arial Black"/>
              </a:rPr>
              <a:t>WINQSB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,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 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Exercícios do Capítulo 6 do Lawrence e Pasternack, 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28560" y="99072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Fluxo em R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71080" y="2109960"/>
            <a:ext cx="55476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00"/>
                </a:solidFill>
                <a:latin typeface="Arial Black"/>
              </a:rPr>
              <a:t>Problemas Principa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Transporte </a:t>
            </a:r>
            <a:r>
              <a:rPr b="0" lang="pt-BR" sz="1800" spc="-1" strike="noStrike">
                <a:solidFill>
                  <a:srgbClr val="990000"/>
                </a:solidFill>
                <a:latin typeface="Arial Black"/>
              </a:rPr>
              <a:t>(Transport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Transbordo </a:t>
            </a:r>
            <a:r>
              <a:rPr b="0" lang="pt-BR" sz="1800" spc="-1" strike="noStrike">
                <a:solidFill>
                  <a:srgbClr val="990000"/>
                </a:solidFill>
                <a:latin typeface="Arial Black"/>
              </a:rPr>
              <a:t>(Transship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Atribuição ou Designação </a:t>
            </a:r>
            <a:r>
              <a:rPr b="0" lang="pt-BR" sz="1800" spc="-1" strike="noStrike">
                <a:solidFill>
                  <a:srgbClr val="990000"/>
                </a:solidFill>
                <a:latin typeface="Arial Black"/>
              </a:rPr>
              <a:t>(Assign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Caminho Mínimo </a:t>
            </a:r>
            <a:r>
              <a:rPr b="0" lang="pt-BR" sz="1800" spc="-1" strike="noStrike">
                <a:solidFill>
                  <a:srgbClr val="990000"/>
                </a:solidFill>
                <a:latin typeface="Arial Black"/>
              </a:rPr>
              <a:t>(Shortest-Pa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Fluxo Máximo </a:t>
            </a:r>
            <a:r>
              <a:rPr b="0" lang="pt-BR" sz="1800" spc="-1" strike="noStrike">
                <a:solidFill>
                  <a:srgbClr val="990000"/>
                </a:solidFill>
                <a:latin typeface="Arial Black"/>
              </a:rPr>
              <a:t>(Maximum F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Árvore de Cobertura Mínima </a:t>
            </a:r>
            <a:r>
              <a:rPr b="0" lang="pt-BR" sz="1800" spc="-1" strike="noStrike">
                <a:solidFill>
                  <a:srgbClr val="990000"/>
                </a:solidFill>
                <a:latin typeface="Arial Black"/>
              </a:rPr>
              <a:t>(Spanning Tr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Caixeiro Viajante </a:t>
            </a:r>
            <a:r>
              <a:rPr b="0" lang="pt-BR" sz="1800" spc="-1" strike="noStrike">
                <a:solidFill>
                  <a:srgbClr val="990000"/>
                </a:solidFill>
                <a:latin typeface="Arial Black"/>
              </a:rPr>
              <a:t>(Traveling Salesm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82600" y="2741760"/>
            <a:ext cx="6176880" cy="1400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28560" y="99072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Fluxo em R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71080" y="2109960"/>
            <a:ext cx="55479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00"/>
                </a:solidFill>
                <a:latin typeface="Arial Black"/>
              </a:rPr>
              <a:t>Problemas Principa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Transporte </a:t>
            </a:r>
            <a:r>
              <a:rPr b="0" lang="pt-BR" sz="1800" spc="-1" strike="noStrike">
                <a:solidFill>
                  <a:srgbClr val="990000"/>
                </a:solidFill>
                <a:latin typeface="Arial Black"/>
              </a:rPr>
              <a:t>(Transport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Transbordo </a:t>
            </a:r>
            <a:r>
              <a:rPr b="0" lang="pt-BR" sz="1800" spc="-1" strike="noStrike">
                <a:solidFill>
                  <a:srgbClr val="990000"/>
                </a:solidFill>
                <a:latin typeface="Arial Black"/>
              </a:rPr>
              <a:t>(Transship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Atribuição ou Designação </a:t>
            </a:r>
            <a:r>
              <a:rPr b="0" lang="pt-BR" sz="1800" spc="-1" strike="noStrike">
                <a:solidFill>
                  <a:srgbClr val="990000"/>
                </a:solidFill>
                <a:latin typeface="Arial Black"/>
              </a:rPr>
              <a:t>(Assign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b2b2b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Arial Black"/>
              </a:rPr>
              <a:t>Caminho Mínimo (Shortest-Pa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b2b2b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Arial Black"/>
              </a:rPr>
              <a:t>Fluxo Máximo (Maximum F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b2b2b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Arial Black"/>
              </a:rPr>
              <a:t>Árvore de Cobertura Mínima (Spanning Tr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b2b2b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Arial Black"/>
              </a:rPr>
              <a:t>Caixeiro Viajante (Traveling Salesm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Telanet" descr=""/>
          <p:cNvPicPr/>
          <p:nvPr/>
        </p:nvPicPr>
        <p:blipFill>
          <a:blip r:embed="rId1"/>
          <a:stretch/>
        </p:blipFill>
        <p:spPr>
          <a:xfrm>
            <a:off x="1903320" y="1033560"/>
            <a:ext cx="5658120" cy="5143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01880" y="1030320"/>
            <a:ext cx="5659560" cy="5153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87960" y="942840"/>
            <a:ext cx="4120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(pg. 215 do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7960" y="17524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55080" y="2133720"/>
            <a:ext cx="247284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Produçã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Cleveland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Detroit         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Greensboro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  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55080" y="3352680"/>
            <a:ext cx="2472840" cy="13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Depósit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Boston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Richmond         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Atlanta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St. Louis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92680" y="4876920"/>
            <a:ext cx="573588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Custo de Transpor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Boston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Richmond    Atlanta   St. Lou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Cleveland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 35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    30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        40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Detroit         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37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    40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        42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Greensboro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40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     15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         20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048280" y="2029320"/>
            <a:ext cx="2700360" cy="2560320"/>
            <a:chOff x="5048280" y="2029320"/>
            <a:chExt cx="2700360" cy="2560320"/>
          </a:xfrm>
        </p:grpSpPr>
        <p:sp>
          <p:nvSpPr>
            <p:cNvPr id="78" name=""/>
            <p:cNvSpPr/>
            <p:nvPr/>
          </p:nvSpPr>
          <p:spPr>
            <a:xfrm flipV="1">
              <a:off x="5062680" y="2120400"/>
              <a:ext cx="2340000" cy="282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48280" y="2403360"/>
              <a:ext cx="2382840" cy="5270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49720" y="2409840"/>
              <a:ext cx="2698920" cy="13860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8280" y="2409840"/>
              <a:ext cx="2254320" cy="2108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268960" y="2165040"/>
              <a:ext cx="2104920" cy="12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5283360" y="2987640"/>
              <a:ext cx="2119320" cy="3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267160" y="3363840"/>
              <a:ext cx="2452680" cy="4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75440" y="3357720"/>
              <a:ext cx="2011320" cy="11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5048280" y="2179800"/>
              <a:ext cx="2354400" cy="210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5062680" y="3002040"/>
              <a:ext cx="2340000" cy="1265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5051520" y="3852360"/>
              <a:ext cx="2682720" cy="42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59440" y="4270320"/>
              <a:ext cx="2227320" cy="3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94080" y="20293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03760" y="22514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22520" y="3609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83120" y="23673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65400" y="28454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89200" y="32058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 Black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25800" y="2601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21000" y="26992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75120" y="34153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30440" y="36820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46320" y="39056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 Black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30520" y="42170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 Black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792600" y="2190960"/>
            <a:ext cx="1539720" cy="2361960"/>
            <a:chOff x="3792600" y="2190960"/>
            <a:chExt cx="1539720" cy="2361960"/>
          </a:xfrm>
        </p:grpSpPr>
        <p:sp>
          <p:nvSpPr>
            <p:cNvPr id="103" name=""/>
            <p:cNvSpPr/>
            <p:nvPr/>
          </p:nvSpPr>
          <p:spPr>
            <a:xfrm>
              <a:off x="3916800" y="2190960"/>
              <a:ext cx="99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Clevel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1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87320" y="3137400"/>
              <a:ext cx="76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Detro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92600" y="4032720"/>
              <a:ext cx="1179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Greensbo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8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92840" y="235116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18200" y="33130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95720" y="4214880"/>
              <a:ext cx="11448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7284960" y="1903680"/>
            <a:ext cx="1401840" cy="2982600"/>
            <a:chOff x="7284960" y="1903680"/>
            <a:chExt cx="1401840" cy="2982600"/>
          </a:xfrm>
        </p:grpSpPr>
        <p:sp>
          <p:nvSpPr>
            <p:cNvPr id="110" name=""/>
            <p:cNvSpPr/>
            <p:nvPr/>
          </p:nvSpPr>
          <p:spPr>
            <a:xfrm>
              <a:off x="7613280" y="1903680"/>
              <a:ext cx="772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Bost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1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39200" y="2703960"/>
              <a:ext cx="102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Richmo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07040" y="3586680"/>
              <a:ext cx="77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Atlan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7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85200" y="4366080"/>
              <a:ext cx="877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St. Lou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7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97640" y="205884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34360" y="290196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84960" y="45147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754760" y="378612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87960" y="942840"/>
            <a:ext cx="4120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(pg. 215 do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792600" y="1903680"/>
            <a:ext cx="4894200" cy="2982600"/>
            <a:chOff x="3792600" y="1903680"/>
            <a:chExt cx="4894200" cy="2982600"/>
          </a:xfrm>
        </p:grpSpPr>
        <p:sp>
          <p:nvSpPr>
            <p:cNvPr id="123" name=""/>
            <p:cNvSpPr/>
            <p:nvPr/>
          </p:nvSpPr>
          <p:spPr>
            <a:xfrm flipV="1">
              <a:off x="5062680" y="2120400"/>
              <a:ext cx="234000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48280" y="2403360"/>
              <a:ext cx="2382840" cy="52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49720" y="2409840"/>
              <a:ext cx="2698920" cy="13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48280" y="2409840"/>
              <a:ext cx="2254320" cy="21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268960" y="2165040"/>
              <a:ext cx="2104920" cy="12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283360" y="2987640"/>
              <a:ext cx="2119320" cy="3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67160" y="3363840"/>
              <a:ext cx="2452680" cy="4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75440" y="3357720"/>
              <a:ext cx="2011320" cy="11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5048280" y="2179800"/>
              <a:ext cx="2354400" cy="21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5062680" y="3002040"/>
              <a:ext cx="2340000" cy="12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051520" y="3852360"/>
              <a:ext cx="268272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59440" y="4270320"/>
              <a:ext cx="2227320" cy="3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94080" y="20293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03760" y="22514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22520" y="3609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83120" y="23673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65400" y="28454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89200" y="32058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25800" y="2601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21000" y="26992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75120" y="34153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30440" y="36820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46320" y="39056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30520" y="42170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16800" y="2190960"/>
              <a:ext cx="99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Clevel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1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87320" y="3137400"/>
              <a:ext cx="76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Detro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92600" y="4032720"/>
              <a:ext cx="1179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Greensbo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8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92840" y="235116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18200" y="33130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95720" y="4214880"/>
              <a:ext cx="11448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7284960" y="1903680"/>
              <a:ext cx="1401840" cy="2982600"/>
              <a:chOff x="7284960" y="1903680"/>
              <a:chExt cx="1401840" cy="2982600"/>
            </a:xfrm>
          </p:grpSpPr>
          <p:sp>
            <p:nvSpPr>
              <p:cNvPr id="154" name=""/>
              <p:cNvSpPr/>
              <p:nvPr/>
            </p:nvSpPr>
            <p:spPr>
              <a:xfrm>
                <a:off x="7613280" y="1903680"/>
                <a:ext cx="772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Bost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1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39200" y="2703960"/>
                <a:ext cx="1026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Richmo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4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907040" y="3586680"/>
                <a:ext cx="779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Atlan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7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585200" y="4366080"/>
                <a:ext cx="877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St. Lou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7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397640" y="2058840"/>
                <a:ext cx="114480" cy="114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434360" y="2901960"/>
                <a:ext cx="114120" cy="114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284960" y="4514760"/>
                <a:ext cx="114480" cy="114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754760" y="3786120"/>
                <a:ext cx="114480" cy="114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87960" y="942840"/>
            <a:ext cx="4120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(pg. 215 do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706920" y="1903680"/>
            <a:ext cx="4979880" cy="4217760"/>
            <a:chOff x="3706920" y="1903680"/>
            <a:chExt cx="4979880" cy="4217760"/>
          </a:xfrm>
        </p:grpSpPr>
        <p:sp>
          <p:nvSpPr>
            <p:cNvPr id="167" name=""/>
            <p:cNvSpPr/>
            <p:nvPr/>
          </p:nvSpPr>
          <p:spPr>
            <a:xfrm flipV="1">
              <a:off x="5062680" y="2120400"/>
              <a:ext cx="234000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48280" y="2403360"/>
              <a:ext cx="2382840" cy="52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49720" y="2409840"/>
              <a:ext cx="2698920" cy="13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48280" y="2409840"/>
              <a:ext cx="2254320" cy="21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268960" y="2165040"/>
              <a:ext cx="2104920" cy="12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283360" y="2987640"/>
              <a:ext cx="2119320" cy="3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67160" y="3363840"/>
              <a:ext cx="2452680" cy="4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75440" y="3357720"/>
              <a:ext cx="2011320" cy="11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048280" y="2179800"/>
              <a:ext cx="2354400" cy="21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062680" y="3002040"/>
              <a:ext cx="2340000" cy="12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5051520" y="3852360"/>
              <a:ext cx="268272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59440" y="4270320"/>
              <a:ext cx="2227320" cy="3193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94080" y="20293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503760" y="22514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22520" y="3609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83120" y="23673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65400" y="28454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89200" y="32058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25800" y="2601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21000" y="26992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75120" y="34153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30440" y="36820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46320" y="39056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30520" y="42170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16800" y="2190960"/>
              <a:ext cx="99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Clevel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1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87320" y="3137400"/>
              <a:ext cx="76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Detro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792600" y="4032720"/>
              <a:ext cx="1179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Greensbo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8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92840" y="235116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18200" y="33130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95720" y="4214880"/>
              <a:ext cx="11448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7284960" y="1903680"/>
              <a:ext cx="1401840" cy="2982600"/>
              <a:chOff x="7284960" y="1903680"/>
              <a:chExt cx="1401840" cy="2982600"/>
            </a:xfrm>
          </p:grpSpPr>
          <p:sp>
            <p:nvSpPr>
              <p:cNvPr id="198" name=""/>
              <p:cNvSpPr/>
              <p:nvPr/>
            </p:nvSpPr>
            <p:spPr>
              <a:xfrm>
                <a:off x="7613280" y="1903680"/>
                <a:ext cx="772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Bost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1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39200" y="2703960"/>
                <a:ext cx="1026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Richmo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4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907040" y="3586680"/>
                <a:ext cx="779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Atlan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7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585200" y="4366080"/>
                <a:ext cx="877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St. Lou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7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397640" y="2058840"/>
                <a:ext cx="114480" cy="114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434360" y="2901960"/>
                <a:ext cx="114120" cy="114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284960" y="4514760"/>
                <a:ext cx="114480" cy="114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754760" y="3786120"/>
                <a:ext cx="114480" cy="114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706920" y="5556240"/>
              <a:ext cx="1965240" cy="565200"/>
            </a:xfrm>
            <a:prstGeom prst="wedgeRoundRectCallout">
              <a:avLst>
                <a:gd name="adj1" fmla="val 18495"/>
                <a:gd name="adj2" fmla="val -266851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 Black"/>
                </a:rPr>
                <a:t>Nó ou Vért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87960" y="942840"/>
            <a:ext cx="4120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(pg. 215 do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706920" y="1903680"/>
            <a:ext cx="4979880" cy="4217760"/>
            <a:chOff x="3706920" y="1903680"/>
            <a:chExt cx="4979880" cy="4217760"/>
          </a:xfrm>
        </p:grpSpPr>
        <p:sp>
          <p:nvSpPr>
            <p:cNvPr id="212" name=""/>
            <p:cNvSpPr/>
            <p:nvPr/>
          </p:nvSpPr>
          <p:spPr>
            <a:xfrm flipV="1">
              <a:off x="5062680" y="2120400"/>
              <a:ext cx="234000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48280" y="2403360"/>
              <a:ext cx="2382840" cy="52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49720" y="2409840"/>
              <a:ext cx="2698920" cy="13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48280" y="2409840"/>
              <a:ext cx="2254320" cy="21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268960" y="2165040"/>
              <a:ext cx="2104920" cy="12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5283360" y="2987640"/>
              <a:ext cx="2119320" cy="3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67160" y="3363840"/>
              <a:ext cx="2452680" cy="4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75440" y="3357720"/>
              <a:ext cx="2011320" cy="11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5048280" y="2179800"/>
              <a:ext cx="2354400" cy="21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062680" y="3002040"/>
              <a:ext cx="2340000" cy="12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5051520" y="3852360"/>
              <a:ext cx="268272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59440" y="4270320"/>
              <a:ext cx="2227320" cy="3193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94080" y="20293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03760" y="22514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22520" y="3609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83120" y="23673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65400" y="28454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89200" y="32058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25800" y="2601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21000" y="26992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75120" y="34153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30440" y="36820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46320" y="39056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30520" y="42170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16800" y="2190960"/>
              <a:ext cx="99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Clevel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1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87320" y="3137400"/>
              <a:ext cx="76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Detro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92600" y="4032720"/>
              <a:ext cx="1179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Greensbo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8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92840" y="235116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18200" y="33130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95720" y="4214880"/>
              <a:ext cx="11448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7284960" y="1903680"/>
              <a:ext cx="1401840" cy="2982600"/>
              <a:chOff x="7284960" y="1903680"/>
              <a:chExt cx="1401840" cy="2982600"/>
            </a:xfrm>
          </p:grpSpPr>
          <p:sp>
            <p:nvSpPr>
              <p:cNvPr id="243" name=""/>
              <p:cNvSpPr/>
              <p:nvPr/>
            </p:nvSpPr>
            <p:spPr>
              <a:xfrm>
                <a:off x="7613280" y="1903680"/>
                <a:ext cx="772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Bost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1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639200" y="2703960"/>
                <a:ext cx="1026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Richmo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4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907040" y="3586680"/>
                <a:ext cx="779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Atlan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7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85200" y="4366080"/>
                <a:ext cx="877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St. Lou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7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397640" y="2058840"/>
                <a:ext cx="114480" cy="114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434360" y="2901960"/>
                <a:ext cx="114120" cy="114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284960" y="4514760"/>
                <a:ext cx="114480" cy="114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754760" y="3786120"/>
                <a:ext cx="114480" cy="114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3706920" y="5556240"/>
              <a:ext cx="1965240" cy="565200"/>
            </a:xfrm>
            <a:prstGeom prst="wedgeRoundRectCallout">
              <a:avLst>
                <a:gd name="adj1" fmla="val 70597"/>
                <a:gd name="adj2" fmla="val -246629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 Black"/>
                </a:rPr>
                <a:t>Ramo ou Ar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Otto Gottlieb</cp:lastModifiedBy>
  <cp:lastPrinted>2000-07-03T14:27:54Z</cp:lastPrinted>
  <dcterms:modified xsi:type="dcterms:W3CDTF">2003-09-05T23:03:52Z</dcterms:modified>
  <cp:revision>253</cp:revision>
  <dc:subject/>
  <dc:title>Mercados Digitais</dc:title>
</cp:coreProperties>
</file>