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553-7C63-45B3-AAF3-89F0D038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578-D3CF-4276-B586-D456B373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2EF-8DAD-49B6-8A8E-FEDFB542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3DD-48AD-4382-9DEA-2CA8EB31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BBE-2361-4892-9127-030677C1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F73-3216-409D-9C0B-C11AD063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467-A020-4C3A-8333-56BA4EE7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BA0-A4F3-4D22-9E60-5F67B0E3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6AA-5EE4-4F4B-B1F8-1AC370D5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281-4072-462B-860F-FEBB5FC3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F21-BB9B-4C55-9D6A-98969DA6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B0D-91C1-44FA-9364-D6CE42D2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4D0F-7E57-48A3-8D0F-497E61AB9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8160" y="5389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31360" y="393120"/>
            <a:ext cx="18054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Mode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de Re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Rev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Tóp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Suplement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87880" y="94284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Fluxo Máx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3800" y="2133720"/>
            <a:ext cx="234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ITAir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43520" y="29131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367320" y="2984400"/>
            <a:ext cx="1105200" cy="60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60960" y="2906640"/>
            <a:ext cx="113184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03960" y="2273400"/>
            <a:ext cx="1171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153040" y="2300400"/>
            <a:ext cx="109548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44080" y="2275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88400" y="2915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55400" y="2331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47320" y="2972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249768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tiba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33640" y="2446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u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25800" y="285444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3720" y="286236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37360" y="22068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95360" y="186408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ão Jos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11280" y="36612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os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84200" y="27676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uba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80200" y="354960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66040" y="29052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29840" y="3018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Itairgrf" descr=""/>
          <p:cNvPicPr/>
          <p:nvPr/>
        </p:nvPicPr>
        <p:blipFill>
          <a:blip r:embed="rId1"/>
          <a:stretch/>
        </p:blipFill>
        <p:spPr>
          <a:xfrm>
            <a:off x="3533760" y="3994200"/>
            <a:ext cx="4705200" cy="2362320"/>
          </a:xfrm>
          <a:prstGeom prst="rect">
            <a:avLst/>
          </a:prstGeom>
          <a:ln w="0">
            <a:noFill/>
          </a:ln>
        </p:spPr>
      </p:pic>
      <p:pic>
        <p:nvPicPr>
          <p:cNvPr id="314" name="Itairtab" descr=""/>
          <p:cNvPicPr/>
          <p:nvPr/>
        </p:nvPicPr>
        <p:blipFill>
          <a:blip r:embed="rId2"/>
          <a:stretch/>
        </p:blipFill>
        <p:spPr>
          <a:xfrm>
            <a:off x="1533600" y="2655720"/>
            <a:ext cx="1457280" cy="1057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87880" y="94284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Fluxo Máx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73800" y="2133720"/>
            <a:ext cx="234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ITAir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367320" y="2984400"/>
            <a:ext cx="1105200" cy="60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60960" y="2906640"/>
            <a:ext cx="113184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03960" y="2273400"/>
            <a:ext cx="1171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153040" y="2300400"/>
            <a:ext cx="109548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44080" y="2275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88400" y="2915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55400" y="2331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47320" y="2972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05320" y="249768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tiba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33640" y="2446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u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3720" y="286236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37360" y="22068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95360" y="186408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ão Jos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1280" y="36612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os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84200" y="27676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uba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80200" y="354960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466040" y="29052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29840" y="3018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Itairtab" descr=""/>
          <p:cNvPicPr/>
          <p:nvPr/>
        </p:nvPicPr>
        <p:blipFill>
          <a:blip r:embed="rId1"/>
          <a:stretch/>
        </p:blipFill>
        <p:spPr>
          <a:xfrm>
            <a:off x="1533600" y="2655720"/>
            <a:ext cx="1457280" cy="1057320"/>
          </a:xfrm>
          <a:prstGeom prst="rect">
            <a:avLst/>
          </a:prstGeom>
          <a:ln w="0">
            <a:noFill/>
          </a:ln>
        </p:spPr>
      </p:pic>
      <p:pic>
        <p:nvPicPr>
          <p:cNvPr id="339" name="Itairsol" descr=""/>
          <p:cNvPicPr/>
          <p:nvPr/>
        </p:nvPicPr>
        <p:blipFill>
          <a:blip r:embed="rId2"/>
          <a:stretch/>
        </p:blipFill>
        <p:spPr>
          <a:xfrm>
            <a:off x="534960" y="4195800"/>
            <a:ext cx="3543480" cy="914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043520" y="29131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5800" y="285444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87880" y="94284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Fluxo Máx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45360" y="2133720"/>
            <a:ext cx="235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27960" y="3846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37000" y="3189240"/>
            <a:ext cx="201924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6760" y="3203280"/>
            <a:ext cx="207792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537000" y="3231720"/>
            <a:ext cx="2047680" cy="12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506760" y="3781080"/>
            <a:ext cx="2035080" cy="6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537000" y="3246120"/>
            <a:ext cx="2033640" cy="18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537000" y="3823920"/>
            <a:ext cx="2047680" cy="13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22600" y="5122800"/>
            <a:ext cx="209232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551400" y="4516200"/>
            <a:ext cx="2033280" cy="11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522600" y="5122440"/>
            <a:ext cx="2076480" cy="60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06760" y="5729400"/>
            <a:ext cx="207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97800" y="441000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46400" y="434484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9680" y="397080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91320" y="403596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309760" y="3246480"/>
            <a:ext cx="1139760" cy="11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309760" y="3795840"/>
            <a:ext cx="113976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38560" y="4400640"/>
            <a:ext cx="111096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24160" y="4400640"/>
            <a:ext cx="113976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09760" y="4400640"/>
            <a:ext cx="1154160" cy="12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672160" y="4516200"/>
            <a:ext cx="1038240" cy="1212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672160" y="4516200"/>
            <a:ext cx="102384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57760" y="4487760"/>
            <a:ext cx="9954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57760" y="3765600"/>
            <a:ext cx="1052640" cy="69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57760" y="3203640"/>
            <a:ext cx="1024200" cy="12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07440" y="3334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8200" y="3067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88680" y="4793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80680" y="4542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29920" y="4218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82120" y="3778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36200" y="3628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65880" y="4775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31040" y="4539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26360" y="3753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62720" y="4178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83440" y="3494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64640" y="545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02600" y="5128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08920" y="4831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26520" y="4985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26560" y="4183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00960" y="4350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99560" y="3867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04320" y="2837520"/>
            <a:ext cx="5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600" y="340560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Beatri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78560" y="370836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75320" y="441468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81800" y="313848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20360" y="477252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Di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89120" y="412956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in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4120" y="531396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Emí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95840" y="505764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99080" y="566892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08600" y="28296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nto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04720" y="3442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B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449520" y="370044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46640" y="440676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52760" y="3130560"/>
            <a:ext cx="11448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59360" y="470736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34160" y="405036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34520" y="5306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rn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67160" y="504972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70400" y="566100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87880" y="94284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Fluxo Máx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45360" y="2133720"/>
            <a:ext cx="235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Matchgrf" descr=""/>
          <p:cNvPicPr/>
          <p:nvPr/>
        </p:nvPicPr>
        <p:blipFill>
          <a:blip r:embed="rId1"/>
          <a:stretch/>
        </p:blipFill>
        <p:spPr>
          <a:xfrm>
            <a:off x="2382840" y="2611440"/>
            <a:ext cx="4667400" cy="3629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Matchsol" descr=""/>
          <p:cNvPicPr/>
          <p:nvPr/>
        </p:nvPicPr>
        <p:blipFill>
          <a:blip r:embed="rId1"/>
          <a:stretch/>
        </p:blipFill>
        <p:spPr>
          <a:xfrm>
            <a:off x="2378160" y="2595600"/>
            <a:ext cx="4734000" cy="361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87880" y="94284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Fluxo Máx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45360" y="2133720"/>
            <a:ext cx="235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829480" y="2930400"/>
            <a:ext cx="1760400" cy="12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236920" y="3046320"/>
            <a:ext cx="216540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5222880" y="3754080"/>
            <a:ext cx="1573200" cy="13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43520" y="2930400"/>
            <a:ext cx="15591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73880" y="3075120"/>
            <a:ext cx="201600" cy="11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5253120" y="2930400"/>
            <a:ext cx="60480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53120" y="3782880"/>
            <a:ext cx="2322360" cy="3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43520" y="2930400"/>
            <a:ext cx="909720" cy="220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75760" y="942840"/>
            <a:ext cx="49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Árvore de Cobertura Mín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2800" y="1846440"/>
            <a:ext cx="770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Problema: Interconectar todas as 5 filias da ESPMicro: Aclimação, Brás, Cambuci, Diadema e Estoril, de modo que se gaste o mínimo de fibra óp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09440" y="3732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20320" y="2715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6400" y="3443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97040" y="252792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cli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72160" y="28231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Br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18440" y="299556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529400" y="411948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89520" y="287172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68760" y="480888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ad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66200" y="429480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mbu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79480" y="381996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tor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3640" y="506736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87960" y="374328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796080" y="4171680"/>
            <a:ext cx="793800" cy="90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96320" y="3148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36160" y="3346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03040" y="4324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41000" y="41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64840" y="3437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ESPMtab" descr=""/>
          <p:cNvPicPr/>
          <p:nvPr/>
        </p:nvPicPr>
        <p:blipFill>
          <a:blip r:embed="rId1"/>
          <a:stretch/>
        </p:blipFill>
        <p:spPr>
          <a:xfrm>
            <a:off x="1028880" y="2755800"/>
            <a:ext cx="3133440" cy="1057320"/>
          </a:xfrm>
          <a:prstGeom prst="rect">
            <a:avLst/>
          </a:prstGeom>
          <a:ln w="0">
            <a:noFill/>
          </a:ln>
        </p:spPr>
      </p:pic>
      <p:pic>
        <p:nvPicPr>
          <p:cNvPr id="456" name="ESPMsol" descr=""/>
          <p:cNvPicPr/>
          <p:nvPr/>
        </p:nvPicPr>
        <p:blipFill>
          <a:blip r:embed="rId2"/>
          <a:stretch/>
        </p:blipFill>
        <p:spPr>
          <a:xfrm>
            <a:off x="1681200" y="5462640"/>
            <a:ext cx="5753160" cy="80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75760" y="942840"/>
            <a:ext cx="49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Árvore de Cobertura Mín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12800" y="1846440"/>
            <a:ext cx="770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Problema: Interconectar todas as 5 filias da ESPMicro: Aclimação, Brás, Cambuci, Diadema e Estoril, de modo que se gaste o mínimo de fibra óp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ESPMtab" descr=""/>
          <p:cNvPicPr/>
          <p:nvPr/>
        </p:nvPicPr>
        <p:blipFill>
          <a:blip r:embed="rId1"/>
          <a:stretch/>
        </p:blipFill>
        <p:spPr>
          <a:xfrm>
            <a:off x="1028880" y="2755800"/>
            <a:ext cx="3133440" cy="1057320"/>
          </a:xfrm>
          <a:prstGeom prst="rect">
            <a:avLst/>
          </a:prstGeom>
          <a:ln w="0">
            <a:noFill/>
          </a:ln>
        </p:spPr>
      </p:pic>
      <p:pic>
        <p:nvPicPr>
          <p:cNvPr id="463" name="ESPMgraf" descr=""/>
          <p:cNvPicPr/>
          <p:nvPr/>
        </p:nvPicPr>
        <p:blipFill>
          <a:blip r:embed="rId2"/>
          <a:stretch/>
        </p:blipFill>
        <p:spPr>
          <a:xfrm>
            <a:off x="1865160" y="3940200"/>
            <a:ext cx="1571760" cy="23241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5829480" y="2930400"/>
            <a:ext cx="1760400" cy="12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236920" y="3046320"/>
            <a:ext cx="216540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5222880" y="3754080"/>
            <a:ext cx="1573200" cy="13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43520" y="2930400"/>
            <a:ext cx="15591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373880" y="3075120"/>
            <a:ext cx="201600" cy="11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5253120" y="2930400"/>
            <a:ext cx="60480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53120" y="3782880"/>
            <a:ext cx="2322360" cy="3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43520" y="2930400"/>
            <a:ext cx="909720" cy="220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09440" y="3732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20320" y="2715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466400" y="3443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97040" y="252792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cli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72160" y="28231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Br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318440" y="299556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29400" y="411948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89520" y="287172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68760" y="480888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ad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666200" y="429480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mbu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79480" y="381996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tor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13640" y="506736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87960" y="374328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796080" y="4171680"/>
            <a:ext cx="793800" cy="90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96320" y="3148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36160" y="3346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03040" y="4324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41000" y="41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64840" y="3437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75760" y="942840"/>
            <a:ext cx="49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Árvore de Cobertura Mín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12800" y="1846440"/>
            <a:ext cx="770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Problema: Interconectar todas as 5 filias da ESPMicro: Aclimação, Brás, Cambuci, Diadema e Estoril, de modo que se gaste o mínimo de fibra óp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ESPMtab" descr=""/>
          <p:cNvPicPr/>
          <p:nvPr/>
        </p:nvPicPr>
        <p:blipFill>
          <a:blip r:embed="rId1"/>
          <a:stretch/>
        </p:blipFill>
        <p:spPr>
          <a:xfrm>
            <a:off x="1028880" y="2755800"/>
            <a:ext cx="3133440" cy="1057320"/>
          </a:xfrm>
          <a:prstGeom prst="rect">
            <a:avLst/>
          </a:prstGeom>
          <a:ln w="0">
            <a:noFill/>
          </a:ln>
        </p:spPr>
      </p:pic>
      <p:pic>
        <p:nvPicPr>
          <p:cNvPr id="497" name="ESPMgraf" descr=""/>
          <p:cNvPicPr/>
          <p:nvPr/>
        </p:nvPicPr>
        <p:blipFill>
          <a:blip r:embed="rId2"/>
          <a:stretch/>
        </p:blipFill>
        <p:spPr>
          <a:xfrm>
            <a:off x="1865160" y="3940200"/>
            <a:ext cx="1571760" cy="23241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829480" y="2930400"/>
            <a:ext cx="1760400" cy="122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236920" y="3046320"/>
            <a:ext cx="21654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5222880" y="3754080"/>
            <a:ext cx="1573200" cy="139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43520" y="2930400"/>
            <a:ext cx="1559160" cy="115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73880" y="3075120"/>
            <a:ext cx="201600" cy="112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253120" y="2930400"/>
            <a:ext cx="604800" cy="8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53120" y="3782880"/>
            <a:ext cx="2322360" cy="389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43520" y="2930400"/>
            <a:ext cx="909720" cy="220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20320" y="2715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466400" y="3443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97040" y="252792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cli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72160" y="28231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Br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318440" y="299556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29400" y="411948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89520" y="287172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68760" y="480888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ad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66200" y="429480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mbu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79480" y="381996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tor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13640" y="506736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7960" y="374328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6796080" y="4171680"/>
            <a:ext cx="793800" cy="90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296320" y="3148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841000" y="41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959440" y="3117960"/>
            <a:ext cx="1298520" cy="17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61800" y="9428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Caixeiro Viaj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73080" y="1714680"/>
            <a:ext cx="7527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Federal Emergency Management Agency, pg. 2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do Lawrence e Pastern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02200" y="4166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94200" y="26056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771680" y="23104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336880" y="351540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30200" y="434700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93600" y="269136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79760" y="490104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861160" y="2585880"/>
            <a:ext cx="2477160" cy="2320560"/>
            <a:chOff x="5861160" y="2585880"/>
            <a:chExt cx="2477160" cy="2320560"/>
          </a:xfrm>
        </p:grpSpPr>
        <p:sp>
          <p:nvSpPr>
            <p:cNvPr id="535" name=""/>
            <p:cNvSpPr/>
            <p:nvPr/>
          </p:nvSpPr>
          <p:spPr>
            <a:xfrm flipH="1">
              <a:off x="6238080" y="3650760"/>
              <a:ext cx="2029680" cy="69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245720" y="2652480"/>
              <a:ext cx="659880" cy="21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5903280" y="2674800"/>
              <a:ext cx="205740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7245720" y="3662280"/>
              <a:ext cx="1013400" cy="11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6211800" y="4310640"/>
              <a:ext cx="1027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7919640" y="2682000"/>
              <a:ext cx="331560" cy="9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234840" y="2682360"/>
              <a:ext cx="1684800" cy="164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5940000" y="3093120"/>
              <a:ext cx="2319120" cy="5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570200">
              <a:off x="7198920" y="476928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570200">
              <a:off x="6167520" y="4276080"/>
              <a:ext cx="11376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570200">
              <a:off x="8201520" y="3607920"/>
              <a:ext cx="11376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570200">
              <a:off x="5883840" y="3058200"/>
              <a:ext cx="11412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570200">
              <a:off x="7852680" y="260856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60520" y="3161880"/>
              <a:ext cx="266400" cy="11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501960" y="4577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040240" y="2899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7984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46720" y="2888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41640" y="3018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11400" y="35611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03640" y="31118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930720" y="3756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fematab" descr=""/>
          <p:cNvPicPr/>
          <p:nvPr/>
        </p:nvPicPr>
        <p:blipFill>
          <a:blip r:embed="rId1"/>
          <a:stretch/>
        </p:blipFill>
        <p:spPr>
          <a:xfrm>
            <a:off x="480960" y="3481560"/>
            <a:ext cx="4810320" cy="1047600"/>
          </a:xfrm>
          <a:prstGeom prst="rect">
            <a:avLst/>
          </a:prstGeom>
          <a:ln w="0">
            <a:noFill/>
          </a:ln>
        </p:spPr>
      </p:pic>
      <p:pic>
        <p:nvPicPr>
          <p:cNvPr id="558" name="Femasol" descr=""/>
          <p:cNvPicPr/>
          <p:nvPr/>
        </p:nvPicPr>
        <p:blipFill>
          <a:blip r:embed="rId2"/>
          <a:stretch/>
        </p:blipFill>
        <p:spPr>
          <a:xfrm>
            <a:off x="446040" y="4734000"/>
            <a:ext cx="5276880" cy="1085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5959440" y="3117960"/>
            <a:ext cx="1270080" cy="1657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61800" y="9428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Caixeiro Viaj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73080" y="1714680"/>
            <a:ext cx="7527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Federal Emergency Management Agency, pg. 2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do Lawrence e Pastern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94200" y="26056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771680" y="23104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336880" y="351540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30200" y="434700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93600" y="269136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79760" y="490104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6236280" y="3685320"/>
            <a:ext cx="1928520" cy="658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246440" y="2652840"/>
            <a:ext cx="660960" cy="2199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6014880" y="2673000"/>
            <a:ext cx="1943280" cy="414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245720" y="3660840"/>
            <a:ext cx="1013760" cy="119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6294960" y="4366440"/>
            <a:ext cx="942840" cy="445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7932240" y="2735640"/>
            <a:ext cx="315360" cy="93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233400" y="2681640"/>
            <a:ext cx="1684800" cy="1645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5938560" y="3092760"/>
            <a:ext cx="2319480" cy="569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7570200">
            <a:off x="7200720" y="476856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7570200">
            <a:off x="6168960" y="427644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rot="7570200">
            <a:off x="8202240" y="360792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7570200">
            <a:off x="5884560" y="305892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7570200">
            <a:off x="7854480" y="260784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60520" y="3160080"/>
            <a:ext cx="265680" cy="117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501960" y="4577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040240" y="2899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7984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930720" y="3756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fematab" descr=""/>
          <p:cNvPicPr/>
          <p:nvPr/>
        </p:nvPicPr>
        <p:blipFill>
          <a:blip r:embed="rId1"/>
          <a:stretch/>
        </p:blipFill>
        <p:spPr>
          <a:xfrm>
            <a:off x="480960" y="3481560"/>
            <a:ext cx="4810320" cy="1047600"/>
          </a:xfrm>
          <a:prstGeom prst="rect">
            <a:avLst/>
          </a:prstGeom>
          <a:ln w="0">
            <a:noFill/>
          </a:ln>
        </p:spPr>
      </p:pic>
      <p:pic>
        <p:nvPicPr>
          <p:cNvPr id="590" name="Femasol" descr=""/>
          <p:cNvPicPr/>
          <p:nvPr/>
        </p:nvPicPr>
        <p:blipFill>
          <a:blip r:embed="rId2"/>
          <a:stretch/>
        </p:blipFill>
        <p:spPr>
          <a:xfrm>
            <a:off x="446040" y="4734000"/>
            <a:ext cx="5276880" cy="1085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4680" y="4906800"/>
            <a:ext cx="8585280" cy="39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920" y="2000160"/>
            <a:ext cx="86191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6/09 - Int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3/09 - FOL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/09 -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ção Gráfica de Problemas de P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/09 - Solução Numérica de Problemas de P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/10 - Análise da Sensibilida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/10 - Programação Int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/10 - Programação M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/10 - Transporte, Transbordo e Atribui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/11 - Cobertura Mínima, Caminho Mínimo, Fluxo Máximo e Caixeiro Viaj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visão Geral e Tópicos Suplement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8/11 -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0680" y="112716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gram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14680" y="3108240"/>
            <a:ext cx="59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Muito Obrigad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96000" y="2882880"/>
            <a:ext cx="305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 Black"/>
              </a:rPr>
              <a:t>Modelo de Re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 Black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28560" y="9907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Fluxo em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71080" y="2109960"/>
            <a:ext cx="55476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00"/>
                </a:solidFill>
                <a:latin typeface="Arial Black"/>
              </a:rPr>
              <a:t>Problemas Princip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Transporte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Transpor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Transbord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Transship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Atribuição ou Designaçã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Assign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Caminho Mínim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Shortest-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Fluxo Máxim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Maximum 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Árvore de Cobertura Mínima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Spanning Tr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Caixeiro Viajante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Traveling Salesm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39760" y="4113360"/>
            <a:ext cx="6753240" cy="181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28560" y="9907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Fluxo em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71080" y="2109960"/>
            <a:ext cx="55476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00"/>
                </a:solidFill>
                <a:latin typeface="Arial Black"/>
              </a:rPr>
              <a:t>Problemas Princip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b2b2b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 Black"/>
              </a:rPr>
              <a:t>Transporte (Transpor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b2b2b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 Black"/>
              </a:rPr>
              <a:t>Transbordo (Transship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b2b2b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 Black"/>
              </a:rPr>
              <a:t>Atribuição ou Designação (Assign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Caminho Mínim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Shortest-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Fluxo Máxim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Maximum 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Árvore de Cobertura Mínima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Spanning Tr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Caixeiro Viajante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Traveling Salesm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lanet" descr=""/>
          <p:cNvPicPr/>
          <p:nvPr/>
        </p:nvPicPr>
        <p:blipFill>
          <a:blip r:embed="rId1"/>
          <a:stretch/>
        </p:blipFill>
        <p:spPr>
          <a:xfrm>
            <a:off x="1903320" y="1033560"/>
            <a:ext cx="5658120" cy="5143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01880" y="1030320"/>
            <a:ext cx="5659560" cy="5153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79480" y="2525760"/>
            <a:ext cx="3724200" cy="779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2360" y="27457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24360" y="942840"/>
            <a:ext cx="30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Caminh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4040" y="15843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35440" y="157680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Sea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58480" y="184356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ut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2160" y="21286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51800" y="236412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rt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98960" y="24750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91960" y="24073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4680" y="264780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48960" y="32598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06960" y="34434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85760" y="256104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heye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77200" y="287352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360" y="300888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lt L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88080" y="317664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63240" y="37738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cr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08480" y="389880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42000" y="43218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kers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49800" y="44179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14520" y="416304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as Ve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54480" y="454824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64160" y="478368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rst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06920" y="5010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98320" y="51170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ing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35560" y="50115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2640" y="446760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buque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0280" y="464976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2400" y="508860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os 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9480" y="521352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18720" y="599796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n Di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95680" y="59054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90240" y="609804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uc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40160" y="603576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38000" y="59695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El P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56280" y="33026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en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0960" y="33274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23160" y="5526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hoe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2280" y="5464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1905120"/>
            <a:ext cx="25830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74560" y="1905120"/>
            <a:ext cx="87480" cy="54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76440" y="1919160"/>
            <a:ext cx="132732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0880" y="2525760"/>
            <a:ext cx="147312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6480" y="2525760"/>
            <a:ext cx="20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06760" y="3476520"/>
            <a:ext cx="79380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300560" y="3233520"/>
            <a:ext cx="148572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5280" y="2712960"/>
            <a:ext cx="102564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859360" y="2236680"/>
            <a:ext cx="11448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02280" y="2193840"/>
            <a:ext cx="15591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7040" y="2930400"/>
            <a:ext cx="28872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589520" y="3376440"/>
            <a:ext cx="24588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04280" y="4705200"/>
            <a:ext cx="1587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43520" y="3247920"/>
            <a:ext cx="1746360" cy="14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194080" y="3203640"/>
            <a:ext cx="66492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94440" y="4618080"/>
            <a:ext cx="112536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291360" y="4705200"/>
            <a:ext cx="131292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404880" y="3925800"/>
            <a:ext cx="5868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90840" y="4487760"/>
            <a:ext cx="178920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274920" y="4503600"/>
            <a:ext cx="13032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90760" y="5253120"/>
            <a:ext cx="3603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1120" y="5961240"/>
            <a:ext cx="163044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95960" y="6119640"/>
            <a:ext cx="246708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89320" y="5267160"/>
            <a:ext cx="18907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51600" y="5511960"/>
            <a:ext cx="14436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675320" y="4618080"/>
            <a:ext cx="51912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260880" y="5079960"/>
            <a:ext cx="140004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75320" y="5065560"/>
            <a:ext cx="16160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151600" y="4646520"/>
            <a:ext cx="55440" cy="8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829480" y="2944800"/>
            <a:ext cx="170316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51600" y="5527800"/>
            <a:ext cx="263988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05400" y="17737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80160" y="23025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8280" y="2973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31000" y="3781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2560" y="52837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2240" y="2800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52640" y="2035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49640" y="2080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0600" y="2324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60920" y="3711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13200" y="33645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49760" y="3767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89880" y="3738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5760" y="483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60960" y="5182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46360" y="42296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78200" y="30326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35440" y="4070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4691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4120" y="5529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35320" y="600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2040" y="6105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03800" y="5686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67160" y="51962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9480" y="4821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0080" y="4590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89560" y="4474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9520" y="5586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00560" y="4966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5160" y="1860480"/>
            <a:ext cx="11448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07240" y="608004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24360" y="942840"/>
            <a:ext cx="30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Caminh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4040" y="15843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Fairnet" descr=""/>
          <p:cNvPicPr/>
          <p:nvPr/>
        </p:nvPicPr>
        <p:blipFill>
          <a:blip r:embed="rId1"/>
          <a:stretch/>
        </p:blipFill>
        <p:spPr>
          <a:xfrm>
            <a:off x="2643120" y="2112840"/>
            <a:ext cx="4114800" cy="4048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376440" y="1919160"/>
            <a:ext cx="1341720" cy="7653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440" y="2698920"/>
            <a:ext cx="1068480" cy="5331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04280" y="4705200"/>
            <a:ext cx="158760" cy="14288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43520" y="3247920"/>
            <a:ext cx="1746360" cy="14716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89880" y="3738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24360" y="942840"/>
            <a:ext cx="30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Caminh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4040" y="15843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35440" y="157680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Sea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58480" y="184356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ut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2160" y="21286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51800" y="236412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rt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98960" y="24750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91960" y="24073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B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48960" y="32598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06960" y="34434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85760" y="256104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heye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77200" y="287352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360" y="300888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Salt L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63240" y="37738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cr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08480" y="389880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42000" y="43218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kers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49800" y="44179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14520" y="416304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as Ve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54480" y="454824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64160" y="478368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rst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06920" y="5010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98320" y="51170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ing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35560" y="50115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2640" y="446760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Albuque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02400" y="508860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os 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19480" y="521352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18720" y="599796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n Di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95680" y="59054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90240" y="609804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uc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40160" y="603576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38000" y="59695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El P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56280" y="33026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en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0960" y="33274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23160" y="5526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hoe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2280" y="5464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76440" y="1905120"/>
            <a:ext cx="25830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274560" y="1905120"/>
            <a:ext cx="87480" cy="54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60880" y="2525760"/>
            <a:ext cx="147312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46480" y="2525760"/>
            <a:ext cx="20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06760" y="3476520"/>
            <a:ext cx="79380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300560" y="3233520"/>
            <a:ext cx="148572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859360" y="2236680"/>
            <a:ext cx="11448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02280" y="2193840"/>
            <a:ext cx="15591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7040" y="2930400"/>
            <a:ext cx="28872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89520" y="3376440"/>
            <a:ext cx="24588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94080" y="3203640"/>
            <a:ext cx="66492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94440" y="4618080"/>
            <a:ext cx="112536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291360" y="4705200"/>
            <a:ext cx="131292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404880" y="3925800"/>
            <a:ext cx="5868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90840" y="4487760"/>
            <a:ext cx="178920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274920" y="4503600"/>
            <a:ext cx="13032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90760" y="5253120"/>
            <a:ext cx="3603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1120" y="5961240"/>
            <a:ext cx="163044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5960" y="6119640"/>
            <a:ext cx="246708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89320" y="5267160"/>
            <a:ext cx="18907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51600" y="5511960"/>
            <a:ext cx="14436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675320" y="4618080"/>
            <a:ext cx="51912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60880" y="5079960"/>
            <a:ext cx="140004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675320" y="5065560"/>
            <a:ext cx="16160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151600" y="4646520"/>
            <a:ext cx="55440" cy="8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829480" y="2944800"/>
            <a:ext cx="170316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51600" y="5527800"/>
            <a:ext cx="263988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05400" y="17737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80160" y="23025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58280" y="2973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731000" y="3781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02560" y="52837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2240" y="2800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52640" y="2035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49640" y="2080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30600" y="2324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60920" y="3711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13200" y="33645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49760" y="3767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5760" y="483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60960" y="5182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46360" y="42296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78200" y="30326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35440" y="4070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4691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94120" y="5529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35320" y="600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2040" y="6105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03800" y="5686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67160" y="51962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89480" y="4821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10080" y="4590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89560" y="4474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9520" y="5586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00560" y="4966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05160" y="1860480"/>
            <a:ext cx="11448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07240" y="608004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Fairsol" descr=""/>
          <p:cNvPicPr/>
          <p:nvPr/>
        </p:nvPicPr>
        <p:blipFill>
          <a:blip r:embed="rId1"/>
          <a:stretch/>
        </p:blipFill>
        <p:spPr>
          <a:xfrm>
            <a:off x="355680" y="4676760"/>
            <a:ext cx="4734000" cy="1085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684680" y="264780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88080" y="317664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35880" y="465948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7-03T14:27:54Z</cp:lastPrinted>
  <dcterms:modified xsi:type="dcterms:W3CDTF">2003-11-04T06:12:45Z</dcterms:modified>
  <cp:revision>293</cp:revision>
  <dc:subject/>
  <dc:title>Mercados Digitais</dc:title>
</cp:coreProperties>
</file>