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45D-2DE8-4382-BF17-FFECE862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B0C-6C11-404B-A75A-BC49493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2B0-376D-44C0-AC33-F02EF9C3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912-09AF-4284-AA55-299F9F67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484-A97D-4DDF-9A7B-66C1B745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3C9-C962-4840-BEB5-5A4FD58C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EF9-D2EA-475A-BBAE-6062ED1B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43F-6D87-4CC0-A77E-0C7216E1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681-4867-418E-A707-4ECF8ECA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239-5E24-4D65-BEFE-4B32A094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9D5-BA4B-4D5E-85EF-DF963B0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18D-4996-4BE7-B03C-4CBC5F74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8024-53E3-46AF-B7E5-7C2DAA3F1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77080" y="474840"/>
            <a:ext cx="1857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ula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icroWe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8200" y="1217160"/>
            <a:ext cx="60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http://www.wwnorton.com/college/econ/hal5/powerpoint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66080" y="84204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lides PowerPoint do Prof. Hal V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var2" descr=""/>
          <p:cNvPicPr/>
          <p:nvPr/>
        </p:nvPicPr>
        <p:blipFill>
          <a:blip r:embed="rId3"/>
          <a:stretch/>
        </p:blipFill>
        <p:spPr>
          <a:xfrm>
            <a:off x="5010120" y="2668680"/>
            <a:ext cx="3670200" cy="2744640"/>
          </a:xfrm>
          <a:prstGeom prst="rect">
            <a:avLst/>
          </a:prstGeom>
          <a:ln w="0">
            <a:noFill/>
          </a:ln>
        </p:spPr>
      </p:pic>
      <p:pic>
        <p:nvPicPr>
          <p:cNvPr id="98" name="var3" descr=""/>
          <p:cNvPicPr/>
          <p:nvPr/>
        </p:nvPicPr>
        <p:blipFill>
          <a:blip r:embed="rId4"/>
          <a:stretch/>
        </p:blipFill>
        <p:spPr>
          <a:xfrm>
            <a:off x="2236680" y="3672000"/>
            <a:ext cx="3640320" cy="2732040"/>
          </a:xfrm>
          <a:prstGeom prst="rect">
            <a:avLst/>
          </a:prstGeom>
          <a:ln w="0">
            <a:noFill/>
          </a:ln>
        </p:spPr>
      </p:pic>
      <p:pic>
        <p:nvPicPr>
          <p:cNvPr id="99" name="var1" descr=""/>
          <p:cNvPicPr/>
          <p:nvPr/>
        </p:nvPicPr>
        <p:blipFill>
          <a:blip r:embed="rId5"/>
          <a:stretch/>
        </p:blipFill>
        <p:spPr>
          <a:xfrm>
            <a:off x="612720" y="1712880"/>
            <a:ext cx="3657600" cy="27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18680" y="2311920"/>
            <a:ext cx="66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4. Conceituar o Termo "Microeconomi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5. Situar a Matéria no Contexto da Engenharia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238560" y="5683320"/>
            <a:ext cx="3690360" cy="457200"/>
            <a:chOff x="3238560" y="5683320"/>
            <a:chExt cx="3690360" cy="457200"/>
          </a:xfrm>
        </p:grpSpPr>
        <p:sp>
          <p:nvSpPr>
            <p:cNvPr id="111" name=""/>
            <p:cNvSpPr/>
            <p:nvPr/>
          </p:nvSpPr>
          <p:spPr>
            <a:xfrm>
              <a:off x="3238560" y="5683320"/>
              <a:ext cx="36363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360" y="5719320"/>
              <a:ext cx="3688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N = (3*S+ 2*P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Lucida Casual"/>
                </a:rPr>
                <a:t>1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+2*P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Lucida Casual"/>
                </a:rPr>
                <a:t>2</a:t>
              </a: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+2*T+E )/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806280" y="9208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32080" y="1528560"/>
            <a:ext cx="6402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A avaliação do aproveitamento consistirá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9933ff"/>
                </a:solidFill>
                <a:latin typeface="Arial"/>
              </a:rPr>
              <a:t>Produ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2 provas escritas, individuais, gerando notas P</a:t>
            </a:r>
            <a:r>
              <a:rPr b="1" lang="en-AU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e P</a:t>
            </a:r>
            <a:r>
              <a:rPr b="1" lang="en-AU" sz="16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10 testes curtos de final de aula, produzindo uma mé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denotada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10 listas de exercícios para casa, produzindo uma nota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9933ff"/>
                </a:solidFill>
                <a:latin typeface="Arial"/>
              </a:rPr>
              <a:t>Process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avaliação subjetiva da 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Participação, Assiduida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Pontualidade e Postura Ética, resultando nota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A nota final N será calculada pela fórmul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18680" y="2311920"/>
            <a:ext cx="66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 Conceituar o Termo "Microeconomi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5. Situar a Matéria no Contexto da Engenharia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29120" y="1432080"/>
            <a:ext cx="66333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Aurélio B. H. Ferreira, </a:t>
            </a:r>
            <a:r>
              <a:rPr b="1" i="1" lang="pt-BR" sz="1600" spc="-1" strike="noStrike">
                <a:solidFill>
                  <a:srgbClr val="ff3300"/>
                </a:solidFill>
                <a:latin typeface="Arial"/>
              </a:rPr>
              <a:t>Novo Dicionário da Língua Portuguesa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,86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economia,</a:t>
            </a:r>
            <a:r>
              <a:rPr b="1" lang="en-A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[do latim </a:t>
            </a:r>
            <a:r>
              <a:rPr b="1" i="1" lang="en-AU" sz="1600" spc="-1" strike="noStrike">
                <a:solidFill>
                  <a:srgbClr val="008000"/>
                </a:solidFill>
                <a:latin typeface="Arial"/>
              </a:rPr>
              <a:t>oeconomia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]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Arial"/>
              </a:rPr>
              <a:t>1. A arte de bem administrar uma casa ou um estabelecimento parti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Arial"/>
              </a:rPr>
              <a:t>2. Contenção ou moderação nos ga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Arial"/>
              </a:rPr>
              <a:t>3. Ciência que trata dos fenômenos relativos à produção, distribuiçã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Arial"/>
              </a:rPr>
              <a:t>acumulação e consumo de be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microeconomia,</a:t>
            </a:r>
            <a:r>
              <a:rPr b="1" lang="en-AU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[do grego </a:t>
            </a:r>
            <a:r>
              <a:rPr b="1" i="1" lang="en-AU" sz="1600" spc="-1" strike="noStrike">
                <a:solidFill>
                  <a:srgbClr val="008000"/>
                </a:solidFill>
                <a:latin typeface="Arial"/>
              </a:rPr>
              <a:t>mikrós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+ do latim </a:t>
            </a:r>
            <a:r>
              <a:rPr b="1" i="1" lang="en-AU" sz="1600" spc="-1" strike="noStrike">
                <a:solidFill>
                  <a:srgbClr val="008000"/>
                </a:solidFill>
                <a:latin typeface="Arial"/>
              </a:rPr>
              <a:t>oeconomia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]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Arial"/>
              </a:rPr>
              <a:t>1. Ramo da ciência econômia que estuda as relações entre un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Arial"/>
              </a:rPr>
              <a:t>específicas, levando em consideração a análise pormenorizada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Arial"/>
              </a:rPr>
              <a:t>comportamento dessas unida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mercado,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 [do latim </a:t>
            </a:r>
            <a:r>
              <a:rPr b="1" i="1" lang="pt-BR" sz="1600" spc="-1" strike="noStrike">
                <a:solidFill>
                  <a:srgbClr val="008000"/>
                </a:solidFill>
                <a:latin typeface="Arial"/>
              </a:rPr>
              <a:t>mercatu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]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1. Lugar onde se comerciam gêneros alimentícios e outras mercado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2. Permutação ou troca de produtos ou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3. Relação estabelecida entre oferta e procura de bens, serviços 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4. Conjunto de Pessoas ou empresas que, oferecendo ou procurando ben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serviços ou capital determinam o surgimento desta rel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68160" y="88272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ítulo do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68160" y="88272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ítulo do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2520" y="2021400"/>
            <a:ext cx="678888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Equipe de Professores da USP - </a:t>
            </a:r>
            <a:r>
              <a:rPr b="1" i="1" lang="en-AU" sz="1600" spc="-1" strike="noStrike">
                <a:solidFill>
                  <a:srgbClr val="ff3300"/>
                </a:solidFill>
                <a:latin typeface="Arial"/>
              </a:rPr>
              <a:t>Manual de Economia</a:t>
            </a: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, 3</a:t>
            </a:r>
            <a:r>
              <a:rPr b="1" lang="en-AU" sz="1600" spc="-1" strike="noStrike" u="sng" baseline="30000">
                <a:solidFill>
                  <a:srgbClr val="ff3300"/>
                </a:solidFill>
                <a:uFillTx/>
                <a:latin typeface="Arial"/>
              </a:rPr>
              <a:t>a</a:t>
            </a: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 ed, Edito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Saraiva, São Paulo, SP, 1998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9933ff"/>
                </a:solidFill>
                <a:latin typeface="Arial"/>
              </a:rPr>
              <a:t>Economia: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ciência social que estuda a maneira pela qual 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homens decidem empregar recursos escassos a fim de produz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diferentes bens e serviços, de modo a distribuí-los entre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várias pessoas e grupos da sociedade, de modo a satisfazer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necessidades huma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9933ff"/>
                </a:solidFill>
                <a:latin typeface="Arial"/>
              </a:rPr>
              <a:t>Microeconomia: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estudo do comportamento dos consumidores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produtores em mercados específicos, preocupando-se como s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determinados os preços e as quantidades dos bens e serviç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nestes merc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2520" y="2021400"/>
            <a:ext cx="678888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Equipe de Professores da USP - </a:t>
            </a:r>
            <a:r>
              <a:rPr b="1" i="1" lang="en-AU" sz="1600" spc="-1" strike="noStrike">
                <a:solidFill>
                  <a:srgbClr val="ff3300"/>
                </a:solidFill>
                <a:latin typeface="Arial"/>
              </a:rPr>
              <a:t>Manual de Economia</a:t>
            </a: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, 3</a:t>
            </a:r>
            <a:r>
              <a:rPr b="1" lang="en-AU" sz="1600" spc="-1" strike="noStrike" u="sng" baseline="30000">
                <a:solidFill>
                  <a:srgbClr val="ff3300"/>
                </a:solidFill>
                <a:uFillTx/>
                <a:latin typeface="Arial"/>
              </a:rPr>
              <a:t>a</a:t>
            </a: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 ed, Edito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3300"/>
                </a:solidFill>
                <a:latin typeface="Arial"/>
              </a:rPr>
              <a:t>Saraiva, São Paulo, SP, 1998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9933ff"/>
                </a:solidFill>
                <a:latin typeface="Arial"/>
              </a:rPr>
              <a:t>Economia: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ciência social que estuda a maneira pela qual 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homens </a:t>
            </a:r>
            <a:r>
              <a:rPr b="1" lang="en-AU" sz="1600" spc="-1" strike="noStrike" u="sng">
                <a:solidFill>
                  <a:srgbClr val="ff3300"/>
                </a:solidFill>
                <a:uFillTx/>
                <a:latin typeface="Arial"/>
              </a:rPr>
              <a:t>decidem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empregar recursos </a:t>
            </a:r>
            <a:r>
              <a:rPr b="1" lang="en-AU" sz="1600" spc="-1" strike="noStrike" u="sng">
                <a:solidFill>
                  <a:srgbClr val="ff3300"/>
                </a:solidFill>
                <a:uFillTx/>
                <a:latin typeface="Arial"/>
              </a:rPr>
              <a:t>escassos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a fim de produz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diferentes bens e serviços, de modo a distribuí-los entre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várias pessoas e grupos da sociedade, de modo a </a:t>
            </a:r>
            <a:r>
              <a:rPr b="1" lang="en-AU" sz="1600" spc="-1" strike="noStrike" u="sng">
                <a:solidFill>
                  <a:srgbClr val="ff3300"/>
                </a:solidFill>
                <a:uFillTx/>
                <a:latin typeface="Arial"/>
              </a:rPr>
              <a:t>satisfazer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ff3300"/>
                </a:solidFill>
                <a:uFillTx/>
                <a:latin typeface="Arial"/>
              </a:rPr>
              <a:t>necessidades humanas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9933ff"/>
                </a:solidFill>
                <a:latin typeface="Arial"/>
              </a:rPr>
              <a:t>Microeconomia: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estudo do </a:t>
            </a:r>
            <a:r>
              <a:rPr b="1" lang="en-AU" sz="1600" spc="-1" strike="noStrike" u="sng">
                <a:solidFill>
                  <a:srgbClr val="ff3300"/>
                </a:solidFill>
                <a:uFillTx/>
                <a:latin typeface="Arial"/>
              </a:rPr>
              <a:t>comportamento dos consumidores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ff3300"/>
                </a:solidFill>
                <a:uFillTx/>
                <a:latin typeface="Arial"/>
              </a:rPr>
              <a:t>produtores em mercados específicos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, preocupando-se como s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determinados os preços e as quantidades dos bens e serviç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nestes merc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68160" y="88272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ítulo do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18680" y="2311920"/>
            <a:ext cx="66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4. Conceituar o Termo "Microeconomi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 Situar a Matéria no Contexto da Engenharia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60840" y="106524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ngenharia de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23960" y="2052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7920" y="2467080"/>
            <a:ext cx="746388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ff"/>
                </a:solidFill>
                <a:latin typeface="Arial"/>
              </a:rPr>
              <a:t>Home Page</a:t>
            </a: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 do Depto de Engenharia de Produção da UFM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" Engenharia de Produção é comumente associada à Administração e 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Engenharia Econômica, contendo matérias e disciplinas que forneceri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onhecimentos e desenvolveriam habilidades necessárias ao desempen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e atividades de gestão pelos engenheiros, independentemente de su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especialidades técnicas 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22320" y="2763720"/>
            <a:ext cx="39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8000"/>
                </a:solidFill>
                <a:latin typeface="Arial"/>
              </a:rPr>
              <a:t>Microecono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33720" y="4172040"/>
            <a:ext cx="5029200" cy="1828800"/>
            <a:chOff x="2133720" y="4172040"/>
            <a:chExt cx="5029200" cy="1828800"/>
          </a:xfrm>
        </p:grpSpPr>
        <p:sp>
          <p:nvSpPr>
            <p:cNvPr id="49" name=""/>
            <p:cNvSpPr/>
            <p:nvPr/>
          </p:nvSpPr>
          <p:spPr>
            <a:xfrm>
              <a:off x="2133720" y="4172040"/>
              <a:ext cx="5029200" cy="1828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2000" y="4257720"/>
              <a:ext cx="43747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9900"/>
                  </a:solidFill>
                  <a:latin typeface="Arial"/>
                </a:rPr>
                <a:t>Takashi Yoney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ITA - Divisão de Engenharia Eletrôn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Tel: (0xx12) </a:t>
              </a:r>
              <a:r>
                <a:rPr b="1" lang="pt-BR" sz="1800" spc="-1" strike="noStrike">
                  <a:solidFill>
                    <a:srgbClr val="008000"/>
                  </a:solidFill>
                  <a:latin typeface="Arial"/>
                </a:rPr>
                <a:t>3947</a:t>
              </a: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-59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E-mail: takashi@ele.ita.cta.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Arial"/>
                </a:rPr>
                <a:t>HP: http://www.ele.ita.cta.br/~takas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394080" y="88740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Alguns Fa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4520" y="1817280"/>
            <a:ext cx="776844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Macroeconômicos: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taxa de câmbio, tributação, juros, política sala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Legais: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proteção à propriedade intelectual, preservação ambient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regulação do capital estrangeiro, defesa do consumidor, normalizaçã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defesa da concorrência, segurança do trabal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Infra-estruturais: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insumos básicos, energia, transportes, comunicaçõ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centros de pesqu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Sociais: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qualificação da mão-de-obra, seguridade social, mobilida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valores cultu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Políticos: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relações internacionais, incentivos regionais, prioriz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dos programas de governo, ação afirmativa e igualdade de oportun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Científicos: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novas tecnologias, novas áreas de atuação, novos mét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de trabal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287360" y="1973160"/>
            <a:ext cx="6666120" cy="3899160"/>
            <a:chOff x="1287360" y="1973160"/>
            <a:chExt cx="6666120" cy="3899160"/>
          </a:xfrm>
        </p:grpSpPr>
        <p:sp>
          <p:nvSpPr>
            <p:cNvPr id="159" name=""/>
            <p:cNvSpPr/>
            <p:nvPr/>
          </p:nvSpPr>
          <p:spPr>
            <a:xfrm>
              <a:off x="1287360" y="1973160"/>
              <a:ext cx="6666120" cy="38991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27360" y="3051000"/>
              <a:ext cx="1238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Lucida Casual"/>
                </a:rPr>
                <a:t>Instal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Lucida Casual"/>
                </a:rPr>
                <a:t>Créd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Lucida Casual"/>
                </a:rPr>
                <a:t>Garant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66"/>
                  </a:solidFill>
                  <a:latin typeface="Lucida Casual"/>
                </a:rPr>
                <a:t>Pós-V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3880" y="5494320"/>
              <a:ext cx="202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Lucida Casual"/>
                </a:rPr>
                <a:t>Produto Ampli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446120" y="2239920"/>
            <a:ext cx="4675320" cy="3003480"/>
            <a:chOff x="1446120" y="2239920"/>
            <a:chExt cx="4675320" cy="3003480"/>
          </a:xfrm>
        </p:grpSpPr>
        <p:sp>
          <p:nvSpPr>
            <p:cNvPr id="163" name=""/>
            <p:cNvSpPr/>
            <p:nvPr/>
          </p:nvSpPr>
          <p:spPr>
            <a:xfrm>
              <a:off x="1446120" y="2239920"/>
              <a:ext cx="4675320" cy="30034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96680" y="2857680"/>
              <a:ext cx="1689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Lucida Casual"/>
                </a:rPr>
                <a:t>Embala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Lucida Casual"/>
                </a:rPr>
                <a:t>Ma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Lucida Casual"/>
                </a:rPr>
                <a:t>Qua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Lucida Casual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Lucida Casual"/>
                </a:rPr>
                <a:t>Característ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1040" y="483120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Lucida Casual"/>
                </a:rPr>
                <a:t>Produto Re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954240" y="873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77960" y="2567160"/>
            <a:ext cx="2589120" cy="1909440"/>
            <a:chOff x="1677960" y="2567160"/>
            <a:chExt cx="2589120" cy="1909440"/>
          </a:xfrm>
        </p:grpSpPr>
        <p:sp>
          <p:nvSpPr>
            <p:cNvPr id="172" name=""/>
            <p:cNvSpPr/>
            <p:nvPr/>
          </p:nvSpPr>
          <p:spPr>
            <a:xfrm>
              <a:off x="1677960" y="2567160"/>
              <a:ext cx="2589120" cy="1909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68560" y="3153960"/>
              <a:ext cx="17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Lucida Casual"/>
                </a:rPr>
                <a:t>Bens ou Serviç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73720" y="4112640"/>
              <a:ext cx="170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Lucida Casual"/>
                </a:rPr>
                <a:t>Produto Bás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7920" y="95868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Mix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27760" y="2012400"/>
            <a:ext cx="61596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roduto (Produ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Embalagem, Marca, Qualidade, Design,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reço (Pr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Orientado para Competição, para Custos, para 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romoção (Promo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Publicidade, Cupons, Amostras, Pacotes, Competi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raça (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Canais de Distribuição, Localização do Varejo, Logí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38280" y="4457880"/>
            <a:ext cx="2076480" cy="125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3200400"/>
            <a:ext cx="2076480" cy="125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14760" y="4457880"/>
            <a:ext cx="2076480" cy="125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14760" y="3200400"/>
            <a:ext cx="2076480" cy="125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5760" y="811080"/>
            <a:ext cx="534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Matriz de Crescimento-Particip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(BCG - Boston Consulting Gro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36000" y="36327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Lucida Casual"/>
              </a:rPr>
              <a:t>Rising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514240"/>
            <a:ext cx="0" cy="339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95560" y="5715000"/>
            <a:ext cx="579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46160" y="489024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Lucida Casual"/>
              </a:rPr>
              <a:t>Cash C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49320" y="363276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Lucida Casual"/>
              </a:rPr>
              <a:t>Problem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77160" y="487116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Lucida Casual"/>
              </a:rPr>
              <a:t>D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7520" y="217440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Tax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Cres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d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95000" y="4613040"/>
            <a:ext cx="160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Particip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Relativa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Lucida Casu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38560" y="5073480"/>
            <a:ext cx="1041480" cy="87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38560" y="4203720"/>
            <a:ext cx="1041480" cy="869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38560" y="3333600"/>
            <a:ext cx="1041480" cy="8701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0040" y="5073480"/>
            <a:ext cx="1041120" cy="870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80040" y="4203720"/>
            <a:ext cx="1041120" cy="869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80040" y="3333600"/>
            <a:ext cx="1041120" cy="8701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1160" y="5073480"/>
            <a:ext cx="1041480" cy="870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21160" y="4203720"/>
            <a:ext cx="1041480" cy="869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21160" y="3333600"/>
            <a:ext cx="1041480" cy="87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06640" y="863640"/>
            <a:ext cx="5315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Matriz de Planejamento Estraté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(GE - General Electr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160" y="233136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Atra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do Negó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1760" y="4919400"/>
            <a:ext cx="146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Força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no Negó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60960" y="343944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95520" y="59731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F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23800" y="4353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040" y="59731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48640" y="52873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Lucida Casual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5600" y="59731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Fr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3280" y="4003200"/>
            <a:ext cx="1717560" cy="184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958" y="1327"/>
                </a:moveTo>
                <a:lnTo>
                  <a:pt x="-3653" y="1327"/>
                </a:lnTo>
                <a:lnTo>
                  <a:pt x="-3653" y="-7003"/>
                </a:lnTo>
                <a:lnTo>
                  <a:pt x="12416" y="-15524"/>
                </a:lnTo>
              </a:path>
            </a:pathLst>
          </a:custGeom>
          <a:solidFill>
            <a:srgbClr val="ffff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99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Crescimento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do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Margem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Concorr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9933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993300"/>
                </a:solidFill>
                <a:latin typeface="Lucida Casual"/>
              </a:rPr>
              <a:t>Sazona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238560" y="2742840"/>
            <a:ext cx="0" cy="339084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5943600"/>
            <a:ext cx="4210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08880" y="1725120"/>
            <a:ext cx="1946160" cy="303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46" y="879"/>
                </a:moveTo>
                <a:lnTo>
                  <a:pt x="25494" y="879"/>
                </a:lnTo>
                <a:lnTo>
                  <a:pt x="25494" y="24028"/>
                </a:lnTo>
                <a:lnTo>
                  <a:pt x="15712" y="25656"/>
                </a:lnTo>
              </a:path>
            </a:pathLst>
          </a:cu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Participação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Rel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Competi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de Pre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Qua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Vant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Geográ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Conhec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Lucida Casual"/>
              </a:rPr>
              <a:t>do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2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18440" y="87300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Forças Competitivas, segundo Michael E. P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85200" y="1691640"/>
            <a:ext cx="12337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ntr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97360" y="3722040"/>
            <a:ext cx="16909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Fornec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88120" y="3723480"/>
            <a:ext cx="17809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nsum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77560" y="5784120"/>
            <a:ext cx="14396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ub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59480" y="3593160"/>
            <a:ext cx="17168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 Negó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02040" y="3909960"/>
            <a:ext cx="6350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535720" y="3903840"/>
            <a:ext cx="6350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11600" y="4424400"/>
            <a:ext cx="0" cy="1262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09680"/>
            <a:ext cx="0" cy="1295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376360" y="2484360"/>
            <a:ext cx="4533480" cy="2982600"/>
            <a:chOff x="2376360" y="2484360"/>
            <a:chExt cx="4533480" cy="2982600"/>
          </a:xfrm>
        </p:grpSpPr>
        <p:sp>
          <p:nvSpPr>
            <p:cNvPr id="239" name=""/>
            <p:cNvSpPr/>
            <p:nvPr/>
          </p:nvSpPr>
          <p:spPr>
            <a:xfrm>
              <a:off x="5635080" y="2514600"/>
              <a:ext cx="1229400" cy="520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meaça 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Entr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03680" y="2786040"/>
              <a:ext cx="1023840" cy="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14040" y="4946760"/>
              <a:ext cx="1229400" cy="520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meaça 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Substitu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48120" y="5229360"/>
              <a:ext cx="630360" cy="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18120" y="4568760"/>
              <a:ext cx="179172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Poder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Negoci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dos Consumi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989680" y="3882600"/>
              <a:ext cx="0" cy="66348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76360" y="2484360"/>
              <a:ext cx="172296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Poder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Negoci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dos Fornece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227400" y="3198600"/>
              <a:ext cx="0" cy="66348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37720" y="84456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Agências Reguladoras e Fiscaliz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07720" y="2062080"/>
            <a:ext cx="678132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A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Águas (17 jul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ATEL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Telecomunicações (07 jul 199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CINE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Cinema (06 set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EEL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Energia Elétrica (26 dez 199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P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Petróleo (06 ago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S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Saúde e Planos de Saúde (05 jun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TT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Transporte Terrestre (05 jun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TAQ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Transporte Aquaviário (05 jun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ANVISA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- Agência Nacional de Vigilância Sanitária (26 jan 19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699000" y="8730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Legis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600" y="2954520"/>
            <a:ext cx="833256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Constituição da República Federativa do Brasil (05 out 19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rt. 219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Lucida Casu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: "O mercado interno integra o patrimônio nacional e será incentiv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de modo a viabilizar o desenvolvimento cultural e sócio-econômico, o bem-est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da população e a autonomia tecnológica do País, nos termos de lei federal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699000" y="8730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Legis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3880" y="1686600"/>
            <a:ext cx="838872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Lucida Casual"/>
              </a:rPr>
              <a:t>Legislação Complementar, Lei 8.137 (27 dez 19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rt. 4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Lucida Casu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: "Constitui crime contra a ordem econômi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 - abusar do poder econômico, dominando o mercado ou eliminando, total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parcialmente, a concorrência medi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) ajuste ou acordo de empres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b) aquisição de acervos de empresas ou cotas, ações, títulos ou direit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c) coalizão, incorporação, fusão ou integração de empres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d) concentração de ações, títulos, cotas ou direitos em poder de empres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empresas coligadas ou controladas, ou pessoas físicas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e) cessação parcial ou total das atividades da empres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f) impedimento a constituição, funcionamento ou desenvolvime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empresa concorrent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I - formar acordo, convênio, ajuste ou aliança entre ofertantes, visan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) à fixação artificial de preços ou quantidades vendidas ou produzid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b) ao controle regionalizado do mercado por empresa ou grupo de empres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c) ao controle, em detrimento da concorrência, de rede de distribuição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de forneced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6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6000" y="1477440"/>
            <a:ext cx="849744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rt. 4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Lucida Casu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, continuação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II - discriminar preços de bens ou de prestação de serviços por ajustes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cordo de grupo econômico, com o fim de estabelecer monopólio, ou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eliminar, total ou parcialmente, a concorr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V - açambarcar, sonegar, destruir ou inutilizar bens de produção ou de consu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com o fim de estabelecer monopólio ou de eliminar, total ou parcialmente,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concorr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V - provocar oscilação de preços em detrimento de empresa concorrente 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vendedor de matéria-prima, mediante ajuste ou acordo, ou por outro me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fraudul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VI - vender mercadorias abaixo do preço de custo, com o fim de impedi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 concorr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VII - elevar sem justa caus o preço do bem ou serviço, valendo-s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posição dominante no merc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ena: reclusão de 2 a 5 anos ou multa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18680" y="2311920"/>
            <a:ext cx="66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. Conceituar o Termo "Microeconomi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. Situar a Matéria no Contexto da Engenharia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960" y="2234880"/>
            <a:ext cx="860544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rt 5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Lucida Casu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: Constitui crime de mesma naturez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 - exigir exclusividade de propaganda, transmissão ou difusão de publicida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em detrimento da concorrênci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I - subordinar a venda de bem ou a utilização de serviço à aquisição de ou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bem, ou ao uso de determinado serviç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II - sujeitar a venda de bem ou a utilização de serviço à aquisição de quant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rbitrariamente determinad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V - recusar-se, sem justa causa, o diretor, administrador, ou gerente de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 prestar à autoridade competente ou prestá-la de modo inexato, informaç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sobre o custo de produção ou preço de ve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ena: detenção de 2 a 5 anos ou mul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4640" y="2035080"/>
            <a:ext cx="8753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Art 6</a:t>
            </a:r>
            <a:r>
              <a:rPr b="1" lang="en-US" sz="1600" spc="-1" strike="noStrike" u="sng" baseline="30000">
                <a:solidFill>
                  <a:srgbClr val="009900"/>
                </a:solidFill>
                <a:uFillTx/>
                <a:latin typeface="Lucida Casual"/>
              </a:rPr>
              <a:t>o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: Constitui crime de mesma naturez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 - vender ou oferecer à venda mercadoria, ou contrar ou oferecer serviço,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preço superior ao oficialmente tabelado, ao fixado por órgão ou entid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governamental, e ao estabelecido em regime legal de contro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I - aplicar fórmula de reajustamento de preços ou indexação de contrato proibid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ou diversa daquela que for legalmente estabelecida, ou fixada por auto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competen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II - exigir, cobrar ou receber qualquer vantagem ou importância adicion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preço tabelado, congelado, administrado, fixado ou controlado pelo P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Público, inclusive por meio de adoção ou aumento de taxa ou outro perc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incidente sobre qualquer contratação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Pena: detenção de 1 a 4 anos ou mul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87360" y="30740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8680" y="2311920"/>
            <a:ext cx="66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4. Conceituar o Termo "Microeconomi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5. Situar a Matéria no Contexto da Engenharia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68560" y="2006640"/>
            <a:ext cx="7115040" cy="25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09800" y="1746360"/>
          <a:ext cx="7432560" cy="48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746360"/>
                    <a:ext cx="7432560" cy="48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73640" y="10652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genda do 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18680" y="2311920"/>
            <a:ext cx="66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1. Apresentar a Organização e o Conteúdo da Ma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Apresentar a Bibliografia e escolher o Livro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3. Apresentar o Método de 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4. Conceituar o Termo "Microeconomi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5. Situar a Matéria no Contexto da Engenharia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45000" y="9795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5320" y="2312640"/>
            <a:ext cx="7299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1. Kupfer, D. e Hasenclever, L. (eds) - </a:t>
            </a:r>
            <a:r>
              <a:rPr b="1" i="1" lang="en-AU" sz="1600" spc="-1" strike="noStrike">
                <a:solidFill>
                  <a:srgbClr val="008000"/>
                </a:solidFill>
                <a:latin typeface="Arial"/>
              </a:rPr>
              <a:t>Economia Industrial: Funda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i="1" lang="en-AU" sz="1600" spc="-1" strike="noStrike">
                <a:solidFill>
                  <a:srgbClr val="008000"/>
                </a:solidFill>
                <a:latin typeface="Arial"/>
              </a:rPr>
              <a:t>Teóricos e Práticas no Brasil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, Editora Campus, Rio de Janeiro, RJ,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2. Equipe de Professores da USP - </a:t>
            </a:r>
            <a:r>
              <a:rPr b="1" i="1" lang="en-AU" sz="1600" spc="-1" strike="noStrike">
                <a:solidFill>
                  <a:srgbClr val="ff0000"/>
                </a:solidFill>
                <a:latin typeface="Arial"/>
              </a:rPr>
              <a:t>Manual de Economia</a:t>
            </a: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, 3</a:t>
            </a:r>
            <a:r>
              <a:rPr b="1" lang="en-AU" sz="1600" spc="-1" strike="noStrike" u="sng" baseline="30000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 ed, Edito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Saraiva, São Paulo, SP, 199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3. Parkin, M. - </a:t>
            </a:r>
            <a:r>
              <a:rPr b="1" i="1" lang="en-AU" sz="1600" spc="-1" strike="noStrike">
                <a:solidFill>
                  <a:srgbClr val="008000"/>
                </a:solidFill>
                <a:latin typeface="Arial"/>
              </a:rPr>
              <a:t>Economics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, 5</a:t>
            </a:r>
            <a:r>
              <a:rPr b="1" lang="en-AU" sz="1600" spc="-1" strike="noStrike" u="sng" baseline="30000">
                <a:solidFill>
                  <a:srgbClr val="008000"/>
                </a:solidFill>
                <a:uFillTx/>
                <a:latin typeface="Arial"/>
              </a:rPr>
              <a:t>a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ed, Addison-Wesley, Reading, MA,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4. Besanko, D.; Dranove, D.; Shanley, M. - </a:t>
            </a:r>
            <a:r>
              <a:rPr b="1" i="1" lang="en-AU" sz="1600" spc="-1" strike="noStrike">
                <a:solidFill>
                  <a:srgbClr val="008000"/>
                </a:solidFill>
                <a:latin typeface="Arial"/>
              </a:rPr>
              <a:t>Economics of Strategy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, 2</a:t>
            </a:r>
            <a:r>
              <a:rPr b="1" lang="en-AU" sz="1600" spc="-1" strike="noStrike" u="sng" baseline="30000">
                <a:solidFill>
                  <a:srgbClr val="008000"/>
                </a:solidFill>
                <a:uFillTx/>
                <a:latin typeface="Arial"/>
              </a:rPr>
              <a:t>a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AU" sz="1600" spc="-1" strike="noStrike">
                <a:solidFill>
                  <a:srgbClr val="008000"/>
                </a:solidFill>
                <a:latin typeface="Arial"/>
              </a:rPr>
              <a:t>John Wiley &amp; Sons, New York, NY,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ff"/>
                </a:solidFill>
                <a:latin typeface="Arial"/>
              </a:rPr>
              <a:t>5. Varian, H.R. - </a:t>
            </a:r>
            <a:r>
              <a:rPr b="1" i="1" lang="en-AU" sz="1600" spc="-1" strike="noStrike">
                <a:solidFill>
                  <a:srgbClr val="0000ff"/>
                </a:solidFill>
                <a:latin typeface="Arial"/>
              </a:rPr>
              <a:t>Microeconomia: Princípios Básicos</a:t>
            </a:r>
            <a:r>
              <a:rPr b="1" lang="en-AU" sz="1600" spc="-1" strike="noStrike">
                <a:solidFill>
                  <a:srgbClr val="0000ff"/>
                </a:solidFill>
                <a:latin typeface="Arial"/>
              </a:rPr>
              <a:t>. Editora Campu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AU" sz="1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AU" sz="1600" spc="-1" strike="noStrike" u="sng" baseline="30000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AU" sz="1600" spc="-1" strike="noStrike">
                <a:solidFill>
                  <a:srgbClr val="0000ff"/>
                </a:solidFill>
                <a:latin typeface="Arial"/>
              </a:rPr>
              <a:t>ed, 2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icroWeb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MicroWeb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7-03T14:27:54Z</cp:lastPrinted>
  <dcterms:modified xsi:type="dcterms:W3CDTF">2003-08-05T23:01:07Z</dcterms:modified>
  <cp:revision>180</cp:revision>
  <dc:subject/>
  <dc:title>Mercados Digitais</dc:title>
</cp:coreProperties>
</file>