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6F5-587E-4A17-BDB9-94BBE43C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D52-7990-4B15-93F0-7D90E8E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66C-D1A9-4CA5-87E4-810AFD60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23F-C694-4CA0-817E-40E67604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09A-8641-4C47-ACFE-B2520274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F49-576A-4786-8EC4-4B1C236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BD3-B002-49FC-904B-346E116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D4E-4D47-4329-8A49-3A607F04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A44-DDDF-4928-8BC2-060B9DC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EB5-B7C2-473A-BE45-C259E6A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638-B6C9-4E67-923B-F48A674A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F04-350D-48C7-8CB1-AFD6696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B697-7A33-4BDA-8A41-D30755179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8120" y="7462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19480" y="179064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51814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11520" y="1578960"/>
            <a:ext cx="1262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l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/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-100km/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49840" y="52722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m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24320" y="2017800"/>
            <a:ext cx="2343240" cy="165744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14840" y="2131920"/>
            <a:ext cx="2914560" cy="211464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2017800"/>
            <a:ext cx="1657440" cy="106668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62480" y="2228760"/>
            <a:ext cx="1600200" cy="2076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60880" y="20336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atisf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8120" y="7462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19480" y="179064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52720" y="51814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11520" y="1578960"/>
            <a:ext cx="1262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l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/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-100km/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49840" y="52722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m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24320" y="2017800"/>
            <a:ext cx="2343240" cy="165744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14840" y="2131920"/>
            <a:ext cx="2914560" cy="211464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71960" y="2017800"/>
            <a:ext cx="1657440" cy="106668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19480" y="2819520"/>
            <a:ext cx="2895480" cy="236196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1960" y="3200400"/>
            <a:ext cx="114480" cy="114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29480" y="1638360"/>
            <a:ext cx="1504800" cy="609480"/>
          </a:xfrm>
          <a:prstGeom prst="wedgeRoundRectCallout">
            <a:avLst>
              <a:gd name="adj1" fmla="val -98208"/>
              <a:gd name="adj2" fmla="val 207550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odelo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9840" y="2971800"/>
            <a:ext cx="324000" cy="1447920"/>
          </a:xfrm>
          <a:custGeom>
            <a:avLst/>
            <a:gdLst>
              <a:gd name="textAreaLeft" fmla="*/ 0 w 324000"/>
              <a:gd name="textAreaRight" fmla="*/ 117000 w 3240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41040" y="342432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urv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ndifere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3240" y="4433760"/>
            <a:ext cx="141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ont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 Efici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90240" y="8064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52640" y="1692360"/>
            <a:ext cx="7543800" cy="4535280"/>
            <a:chOff x="1052640" y="1692360"/>
            <a:chExt cx="7543800" cy="4535280"/>
          </a:xfrm>
        </p:grpSpPr>
        <p:sp>
          <p:nvSpPr>
            <p:cNvPr id="179" name=""/>
            <p:cNvSpPr/>
            <p:nvPr/>
          </p:nvSpPr>
          <p:spPr>
            <a:xfrm>
              <a:off x="1052640" y="1692360"/>
              <a:ext cx="7543800" cy="45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3300"/>
                  </a:solidFill>
                  <a:latin typeface="Arial"/>
                </a:rPr>
                <a:t>Como fixar o preç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Estrutura de Competição (Perfeita? Monopolística? Oligopolística?...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Características do Produto (Luxo?, Primeira Necessidade?, Pacote?...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Referência Temporal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             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= a + b p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+ e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                          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[ clássica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             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= a + b (p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- p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-1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) + e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[ teoria adaptativa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Referência Subjetiv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= a + b log(             ) + e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t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	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[ Weber-Fechner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Discriminação (Região?, Classe Social?, Tipo de Consumidor?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Cus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Outro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395880" y="4381560"/>
              <a:ext cx="1020600" cy="774720"/>
              <a:chOff x="3395880" y="4381560"/>
              <a:chExt cx="1020600" cy="774720"/>
            </a:xfrm>
          </p:grpSpPr>
          <p:sp>
            <p:nvSpPr>
              <p:cNvPr id="181" name=""/>
              <p:cNvSpPr/>
              <p:nvPr/>
            </p:nvSpPr>
            <p:spPr>
              <a:xfrm>
                <a:off x="3395880" y="4397400"/>
                <a:ext cx="838080" cy="4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r>
                  <a:rPr b="1" lang="pt-BR" sz="1600" spc="-1" strike="noStrike" baseline="-25000">
                    <a:solidFill>
                      <a:srgbClr val="009900"/>
                    </a:solidFill>
                    <a:latin typeface="Arial"/>
                  </a:rPr>
                  <a:t>t</a:t>
                </a:r>
                <a:r>
                  <a:rPr b="1" lang="pt-BR" sz="1600" spc="-1" strike="noStrike">
                    <a:solidFill>
                      <a:srgbClr val="009900"/>
                    </a:solidFill>
                    <a:latin typeface="Arial"/>
                  </a:rPr>
                  <a:t> - p</a:t>
                </a:r>
                <a:r>
                  <a:rPr b="1" lang="pt-BR" sz="1600" spc="-1" strike="noStrike" baseline="-25000">
                    <a:solidFill>
                      <a:srgbClr val="009900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578400" y="4705200"/>
                <a:ext cx="838080" cy="451080"/>
                <a:chOff x="3578400" y="4705200"/>
                <a:chExt cx="838080" cy="451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578400" y="4730400"/>
                  <a:ext cx="838080" cy="42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9900"/>
                      </a:solidFill>
                      <a:latin typeface="Arial"/>
                    </a:rPr>
                    <a:t>p</a:t>
                  </a:r>
                  <a:r>
                    <a:rPr b="1" lang="pt-BR" sz="1600" spc="-1" strike="noStrike" baseline="-25000">
                      <a:solidFill>
                        <a:srgbClr val="009900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98640" y="4705200"/>
                  <a:ext cx="30456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99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873600" y="4381560"/>
                <a:ext cx="3049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99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13520" y="4794120"/>
                <a:ext cx="69516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1828800"/>
            <a:ext cx="6818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ki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e lançamento para penetração no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iferenciados por linhas de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e produtos c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e sub-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e bu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segmentados (localidade, classe econôm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promocionais (preço isca, bônus, desco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internacionais (FOB, zoneamento, ponto-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de produtos com prestí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eços fixados pelo consumidor (lan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762120"/>
            <a:ext cx="69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stratégias de Fixação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800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mo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3480" y="1523880"/>
            <a:ext cx="718200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Objetivos da Promo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Aumento do Market Sh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p.ex. competitive upgrade, cobertura do switching cost, etc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onquista de Novos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p.ex. mala-direta, amostras, visita de vendedores, pacotes, etc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cupação de Nichos Especí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p.ex. escolas, clínicas médicas, etc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ompras Repeti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p.ex. fidelização, cupons de desconto na caixa, etc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Redução de Est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p.ex. amostras, recompra, etc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86280" y="5219640"/>
            <a:ext cx="46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7200" y="4896000"/>
            <a:ext cx="46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800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moção: Propag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76400" y="348624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65776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181320" y="1790280"/>
            <a:ext cx="0" cy="196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181320" y="3943440"/>
            <a:ext cx="0" cy="196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82480" y="30506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01560" y="5241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99880" y="167904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em  propag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2480" y="39463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81320" y="2552760"/>
            <a:ext cx="4267080" cy="933480"/>
          </a:xfrm>
          <a:custGeom>
            <a:avLst/>
            <a:gdLst/>
            <a:ahLst/>
            <a:rect l="l" t="t" r="r" b="b"/>
            <a:pathLst>
              <a:path w="2688" h="588">
                <a:moveTo>
                  <a:pt x="0" y="588"/>
                </a:moveTo>
                <a:lnTo>
                  <a:pt x="708" y="588"/>
                </a:lnTo>
                <a:lnTo>
                  <a:pt x="708" y="0"/>
                </a:lnTo>
                <a:lnTo>
                  <a:pt x="1476" y="0"/>
                </a:lnTo>
                <a:lnTo>
                  <a:pt x="1476" y="588"/>
                </a:lnTo>
                <a:lnTo>
                  <a:pt x="2580" y="588"/>
                </a:lnTo>
                <a:lnTo>
                  <a:pt x="2688" y="588"/>
                </a:ln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24320" y="3772080"/>
            <a:ext cx="0" cy="209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24560" y="3772080"/>
            <a:ext cx="0" cy="209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81320" y="4248000"/>
            <a:ext cx="4400640" cy="990720"/>
          </a:xfrm>
          <a:custGeom>
            <a:avLst/>
            <a:gdLst/>
            <a:ahLst/>
            <a:rect l="l" t="t" r="r" b="b"/>
            <a:pathLst>
              <a:path w="2772" h="624">
                <a:moveTo>
                  <a:pt x="0" y="624"/>
                </a:moveTo>
                <a:cubicBezTo>
                  <a:pt x="120" y="624"/>
                  <a:pt x="444" y="624"/>
                  <a:pt x="720" y="624"/>
                </a:cubicBezTo>
                <a:cubicBezTo>
                  <a:pt x="1140" y="480"/>
                  <a:pt x="1152" y="36"/>
                  <a:pt x="1476" y="0"/>
                </a:cubicBezTo>
                <a:cubicBezTo>
                  <a:pt x="1752" y="300"/>
                  <a:pt x="1740" y="348"/>
                  <a:pt x="2028" y="408"/>
                </a:cubicBezTo>
                <a:cubicBezTo>
                  <a:pt x="2328" y="408"/>
                  <a:pt x="2617" y="408"/>
                  <a:pt x="2772" y="408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2600" y="5853600"/>
            <a:ext cx="27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20520" y="5853600"/>
            <a:ext cx="28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52760" y="5051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30800" y="47271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ó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781200"/>
            <a:ext cx="73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aça: Canais de Distribuição e Log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1752480"/>
            <a:ext cx="71816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Fatores Envolvi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Embalag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Armazen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Administração e 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u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20040" y="327420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Fidelização x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23920" y="3714840"/>
            <a:ext cx="61531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1840" y="1710000"/>
            <a:ext cx="6296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orque se perdem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% mor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% mudam de ende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% acham outro fornecedor mais conven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% acham outro fornecedor mais 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4% pela qualidade dos produtos 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% pelo mau atendimento re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0000" y="6018840"/>
            <a:ext cx="79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raújo, MG. e D’Ávila, F.H. - Comércio Eletrônico: Mercado de Oportunidade, SEBRA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5640" y="79956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Fidelidade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25640" y="79956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Fidelidade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8360" y="4008960"/>
            <a:ext cx="732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 ma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... custa 5 vezes mais conseguir um novo cliente,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anter um an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... cada cliente satisfeito gera mais 1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... cada cliente insatisfeito gera a perda de 13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0000" y="6018840"/>
            <a:ext cx="79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raújo, MG. e D’Ávila, F.H. - Comércio Eletrônico: Mercado de Oportunidade, SEBRA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1840" y="1710000"/>
            <a:ext cx="6296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orque se perdem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% mor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% mudam de ende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% acham outro fornecedor mais conven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% acham outro fornecedor mais 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4% pela qualidade dos produtos 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% pelo mau atendimento re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4495680"/>
            <a:ext cx="7089840" cy="24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80920" y="1658880"/>
          <a:ext cx="7431120" cy="48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658880"/>
                    <a:ext cx="74311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657880" y="92880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ORAC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APP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82320" y="79956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incípi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7480" y="2420640"/>
            <a:ext cx="361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Escolh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Futuras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depen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das Escolhas </a:t>
            </a: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Pas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2040" y="2422440"/>
            <a:ext cx="300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Escolhas Futu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dependem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Escolhas Pas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80000" y="5317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usto de Troca Ele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1972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82320" y="79956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incípi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003400" y="8182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160" y="190440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7760" y="2437920"/>
            <a:ext cx="76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4960" y="327600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9920" y="411408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472356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160" y="190440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760" y="2437920"/>
            <a:ext cx="76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4960" y="327600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9920" y="411408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472356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6400" y="5256360"/>
            <a:ext cx="48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usto de Troca -&gt; Omni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03400" y="8182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3160" y="190440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BM PC x Mac -&gt; Programas do PC não ‘rodam’ no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7760" y="2437920"/>
            <a:ext cx="76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Windows x Linux -&gt; Compatibilidade limitada do emulador Wind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para Linux, Retre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4960" y="327600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Office x Smartsuite -&gt; Retreinamento de Pessoal, 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ncompatíveis (por exemplo textos, dados) [StarOffice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9920" y="411408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iG x UOL -&gt; Mudança de endereço eletrônico [.forward?, bigfoot.com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72356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*.avi x *.mpeg -&gt; Novo editor/vis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05320" y="5256360"/>
            <a:ext cx="598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Custo de Troca -&gt; Omni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usto Troca Elevado -&gt; 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3400" y="8182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Custos de T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541240" y="79956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Tipos de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6520" y="2057400"/>
            <a:ext cx="785664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promissos contratuais (exclusividade, renovação automática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ens durá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Treinamento especi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adrões e especificações técnicas em formato propriet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Financiamentos vinculados ao fornec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usto de bus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rogramas de lealdade (fidelid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69120" y="799560"/>
            <a:ext cx="58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Incentivos à Troca do Fornec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4560" y="2038320"/>
            <a:ext cx="586620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petitive upgr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93300"/>
                </a:solidFill>
                <a:latin typeface="Arial"/>
              </a:rPr>
              <a:t>(Produtos superiores a preços men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Retreinamento grat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nstalação gratu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nversões e adaptações gratu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Subsídios para indenizações de quebra de con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onif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133080" y="22276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eleção 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20280" y="761400"/>
            <a:ext cx="43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iclo do Apris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9040" y="35992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xperi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7320" y="49708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ntrinchei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6320" y="3599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pri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43280" y="22287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6388920" y="235512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6286680" y="4591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1893240" y="44884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09920" y="31240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Arial"/>
              </a:rPr>
              <a:t>Mark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94760" y="799560"/>
            <a:ext cx="53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onto de Vista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4080" y="2152800"/>
            <a:ext cx="61923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Negociar benefícios inici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Manter opções abertas a uma segunda f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roteger-se da exploração monopo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autela na elaboração de 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Reavaliar periodicamente o estado de apris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046520" y="2438280"/>
            <a:ext cx="7200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Formar a base instalada de cl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Fomentar o entrincheiramento e não apenas a experiment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or parte d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umentar o valor da base instalada com a venda   de produ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7480" y="79956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onto de Vista do Fornec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0400" y="1523880"/>
            <a:ext cx="58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otler, P. e Armstrong, G. -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Princípios de Marketi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 7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ed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ros Técnicos e Científicos, Rio de Janeiro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57760" y="2286720"/>
            <a:ext cx="690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rketing =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" processo social e gerencial, através do qual indivídu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 grupos obtêm aquilo que desejam e de que necessitam, criando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rocando produtos e valores uns com outros. 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1800" y="3510360"/>
            <a:ext cx="1917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s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ma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atisf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rans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elacionamen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11800" y="7300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Mark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42900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533480" y="3924360"/>
            <a:ext cx="1295640" cy="1066680"/>
          </a:xfrm>
          <a:custGeom>
            <a:avLst/>
            <a:gdLst>
              <a:gd name="textAreaLeft" fmla="*/ 415800 w 1295640"/>
              <a:gd name="textAreaRight" fmla="*/ 1147320 w 1295640"/>
              <a:gd name="textAreaTop" fmla="*/ 780480 h 1066680"/>
              <a:gd name="textAreaBottom" fmla="*/ 9446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8276"/>
                </a:moveTo>
                <a:lnTo>
                  <a:pt x="15800" y="18276"/>
                </a:lnTo>
                <a:lnTo>
                  <a:pt x="15800" y="6930"/>
                </a:lnTo>
                <a:lnTo>
                  <a:pt x="13324" y="6930"/>
                </a:lnTo>
                <a:lnTo>
                  <a:pt x="17462" y="0"/>
                </a:lnTo>
                <a:lnTo>
                  <a:pt x="21600" y="6930"/>
                </a:lnTo>
                <a:lnTo>
                  <a:pt x="19124" y="6930"/>
                </a:lnTo>
                <a:lnTo>
                  <a:pt x="191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724280"/>
            <a:ext cx="1447560" cy="914400"/>
          </a:xfrm>
          <a:prstGeom prst="wedgeRoundRectCallout">
            <a:avLst>
              <a:gd name="adj1" fmla="val 86842"/>
              <a:gd name="adj2" fmla="val -218750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ão é s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pag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 venda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4080" y="787320"/>
            <a:ext cx="77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stágios do Comportamento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53160" y="16761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urgimento da Necess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1040" y="2742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Busca de Inform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7360" y="38095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valiação do Pro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32600" y="487656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cisão de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8920" y="5943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Juízo Pós-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5334120"/>
            <a:ext cx="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200400"/>
            <a:ext cx="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133720"/>
            <a:ext cx="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56520" y="83196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Mix de Marketing (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4P</a:t>
            </a: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33960" y="1870200"/>
            <a:ext cx="5909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duto (Produ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mbalagem, Marca, Qualidade, Design,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eço (Pr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ientado para Competição, para Custos, para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moção (Promo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ublicidade, Cupons, Amostras, Pacotes, Compet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aça (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anais de Distribuição, Localização do Varejo,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38840" y="83196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Mix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1872360"/>
            <a:ext cx="627696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duto (Produ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combinação de bens e serviços que a empresa oferece 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rcado al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eço (Pr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montante de dinheiro que os clientes devem pagar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ter o pro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moção (Promo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tividades que levam informações sobre os atributos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to aos consumidores para persuadí-los a comprá-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aça (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tividades que tornam o produto disponível para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sumidores al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87360" y="1973160"/>
            <a:ext cx="6666120" cy="3899160"/>
            <a:chOff x="1287360" y="1973160"/>
            <a:chExt cx="6666120" cy="3899160"/>
          </a:xfrm>
        </p:grpSpPr>
        <p:sp>
          <p:nvSpPr>
            <p:cNvPr id="95" name=""/>
            <p:cNvSpPr/>
            <p:nvPr/>
          </p:nvSpPr>
          <p:spPr>
            <a:xfrm>
              <a:off x="1287360" y="1973160"/>
              <a:ext cx="6666120" cy="38991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32400" y="3051000"/>
              <a:ext cx="1227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Insta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Créd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Garant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Pós-V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6360" y="5494320"/>
              <a:ext cx="19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Arial"/>
                </a:rPr>
                <a:t>Produto Ampli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446120" y="2239920"/>
            <a:ext cx="4675320" cy="3003480"/>
            <a:chOff x="1446120" y="2239920"/>
            <a:chExt cx="4675320" cy="3003480"/>
          </a:xfrm>
        </p:grpSpPr>
        <p:sp>
          <p:nvSpPr>
            <p:cNvPr id="99" name=""/>
            <p:cNvSpPr/>
            <p:nvPr/>
          </p:nvSpPr>
          <p:spPr>
            <a:xfrm>
              <a:off x="1446120" y="2239920"/>
              <a:ext cx="4675320" cy="30034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3680" y="2857680"/>
              <a:ext cx="1634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mbal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Ma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Qua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aracterís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85880" y="483120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Arial"/>
                </a:rPr>
                <a:t>Produto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858120" y="7462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77960" y="2567160"/>
            <a:ext cx="2589120" cy="1909440"/>
            <a:chOff x="1677960" y="2567160"/>
            <a:chExt cx="2589120" cy="1909440"/>
          </a:xfrm>
        </p:grpSpPr>
        <p:sp>
          <p:nvSpPr>
            <p:cNvPr id="108" name=""/>
            <p:cNvSpPr/>
            <p:nvPr/>
          </p:nvSpPr>
          <p:spPr>
            <a:xfrm>
              <a:off x="1677960" y="2567160"/>
              <a:ext cx="2589120" cy="1909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6400" y="3153960"/>
              <a:ext cx="176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Bens ou Servi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85960" y="4112640"/>
              <a:ext cx="16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Arial"/>
                </a:rPr>
                <a:t>Produto Bás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58120" y="7462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19480" y="179064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2720" y="51814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19480" y="2819520"/>
            <a:ext cx="2895480" cy="236196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287640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9840" y="52722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m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67400" y="3048120"/>
            <a:ext cx="1141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1160" y="4933800"/>
            <a:ext cx="114480" cy="114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86080"/>
            <a:ext cx="114480" cy="114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8720" y="34099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5920" y="398160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324320" y="2246760"/>
            <a:ext cx="2573280" cy="1639080"/>
            <a:chOff x="4324320" y="2246760"/>
            <a:chExt cx="2573280" cy="1639080"/>
          </a:xfrm>
        </p:grpSpPr>
        <p:sp>
          <p:nvSpPr>
            <p:cNvPr id="127" name=""/>
            <p:cNvSpPr/>
            <p:nvPr/>
          </p:nvSpPr>
          <p:spPr>
            <a:xfrm flipV="1">
              <a:off x="4324320" y="2580840"/>
              <a:ext cx="1676520" cy="314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819680" y="2590920"/>
              <a:ext cx="1181160" cy="45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372280" y="2581200"/>
              <a:ext cx="628560" cy="790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10400" y="2580840"/>
              <a:ext cx="190440" cy="1305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43600" y="2246760"/>
              <a:ext cx="18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rodutos Efic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305240" y="4629240"/>
            <a:ext cx="114480" cy="114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0160" y="3952800"/>
            <a:ext cx="114120" cy="114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85320" y="3362400"/>
            <a:ext cx="4577400" cy="1581120"/>
            <a:chOff x="985320" y="3362400"/>
            <a:chExt cx="4577400" cy="1581120"/>
          </a:xfrm>
        </p:grpSpPr>
        <p:sp>
          <p:nvSpPr>
            <p:cNvPr id="135" name=""/>
            <p:cNvSpPr/>
            <p:nvPr/>
          </p:nvSpPr>
          <p:spPr>
            <a:xfrm flipV="1">
              <a:off x="2257560" y="3362400"/>
              <a:ext cx="127620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57560" y="3753000"/>
              <a:ext cx="2266920" cy="237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57560" y="3753000"/>
              <a:ext cx="1971720" cy="88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47840" y="3753000"/>
              <a:ext cx="3314880" cy="1190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85320" y="3483360"/>
              <a:ext cx="116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Produ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Inefic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811520" y="1578960"/>
            <a:ext cx="1262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l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/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-100km/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10-06T20:33:49Z</dcterms:modified>
  <cp:revision>160</cp:revision>
  <dc:subject/>
  <dc:title>Qualidade</dc:title>
</cp:coreProperties>
</file>