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2AD-5E6A-4AE8-BAC8-DA5AF535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65C-18A1-4F18-AE97-60A7CD9C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5BE-B2DE-4C7E-B2EB-32ABE54B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D57-8046-49F5-82AE-0C1588E8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CFB-E9F4-4CEB-9002-5CAF4EE1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2F0-61E3-4314-A817-4A69B10C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FC0-D90F-4065-BD40-ABAE710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2E4-3D5F-4570-AEC8-24C1D4C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A2F-BC43-4EB5-AEA5-6602AC56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F0D-295C-453C-A1C2-8B5CE97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0A1-D061-4316-B761-BC7CB2E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A78-9F68-4218-B000-2964E94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4ED-5034-494D-8A7F-8EC738511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36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19680" y="3468600"/>
            <a:ext cx="0" cy="2206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08840" y="7970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ust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5408640"/>
            <a:ext cx="525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135160" y="1925640"/>
            <a:ext cx="0" cy="377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5120" y="1596960"/>
            <a:ext cx="9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$/M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20080" y="5521320"/>
            <a:ext cx="17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ergia 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M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09760" y="2708280"/>
            <a:ext cx="3875040" cy="1785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338560" y="2854080"/>
            <a:ext cx="3803400" cy="19587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8920" y="2639880"/>
            <a:ext cx="21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M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visto pela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44400" y="438948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deman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46480" y="2309760"/>
            <a:ext cx="3803400" cy="1959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57640" y="1719360"/>
            <a:ext cx="22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M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visto pela socieda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43480" y="366696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5960" y="339876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49800" y="2846160"/>
            <a:ext cx="0" cy="49500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6440" y="1474920"/>
            <a:ext cx="1706400" cy="1009440"/>
          </a:xfrm>
          <a:prstGeom prst="wedgeRoundRectCallout">
            <a:avLst>
              <a:gd name="adj1" fmla="val 90560"/>
              <a:gd name="adj2" fmla="val 108648"/>
              <a:gd name="adj3" fmla="val 16667"/>
            </a:avLst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Cobrar Imp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para compens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a polu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51520" y="567684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to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962160" y="3483000"/>
            <a:ext cx="493560" cy="2332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424240" y="2193840"/>
            <a:ext cx="6188040" cy="2352600"/>
            <a:chOff x="2424240" y="2193840"/>
            <a:chExt cx="6188040" cy="2352600"/>
          </a:xfrm>
        </p:grpSpPr>
        <p:sp>
          <p:nvSpPr>
            <p:cNvPr id="194" name=""/>
            <p:cNvSpPr/>
            <p:nvPr/>
          </p:nvSpPr>
          <p:spPr>
            <a:xfrm>
              <a:off x="2424240" y="2193840"/>
              <a:ext cx="3875040" cy="17859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467320" y="3638520"/>
              <a:ext cx="0" cy="49536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45320" y="3898800"/>
              <a:ext cx="1866960" cy="647640"/>
            </a:xfrm>
            <a:prstGeom prst="wedgeRoundRectCallout">
              <a:avLst>
                <a:gd name="adj1" fmla="val -116666"/>
                <a:gd name="adj2" fmla="val -36763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Externalidade Posit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30480" y="3024360"/>
              <a:ext cx="229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B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(visto pela socieda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05280" y="2852640"/>
            <a:ext cx="582480" cy="595440"/>
            <a:chOff x="3905280" y="2852640"/>
            <a:chExt cx="582480" cy="595440"/>
          </a:xfrm>
        </p:grpSpPr>
        <p:sp>
          <p:nvSpPr>
            <p:cNvPr id="199" name=""/>
            <p:cNvSpPr/>
            <p:nvPr/>
          </p:nvSpPr>
          <p:spPr>
            <a:xfrm flipH="1">
              <a:off x="3906720" y="2882880"/>
              <a:ext cx="581040" cy="565200"/>
            </a:xfrm>
            <a:custGeom>
              <a:avLst/>
              <a:gdLst/>
              <a:ahLst/>
              <a:rect l="l" t="t" r="r" b="b"/>
              <a:pathLst>
                <a:path w="375" h="356">
                  <a:moveTo>
                    <a:pt x="0" y="183"/>
                  </a:moveTo>
                  <a:lnTo>
                    <a:pt x="375" y="356"/>
                  </a:lnTo>
                  <a:lnTo>
                    <a:pt x="375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5280" y="28526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8840" y="7970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ust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59040" y="5408640"/>
            <a:ext cx="525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135160" y="1925640"/>
            <a:ext cx="0" cy="377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84400" y="16160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$/vag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69760" y="55213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ola Priv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vaga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09760" y="2708280"/>
            <a:ext cx="4065480" cy="190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1840" y="4616280"/>
            <a:ext cx="24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visto pelos indivídu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346480" y="2309760"/>
            <a:ext cx="3803400" cy="1959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52480" y="20620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M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45160" y="3095640"/>
            <a:ext cx="1372320" cy="2890080"/>
            <a:chOff x="3845160" y="3095640"/>
            <a:chExt cx="1372320" cy="2890080"/>
          </a:xfrm>
        </p:grpSpPr>
        <p:sp>
          <p:nvSpPr>
            <p:cNvPr id="215" name=""/>
            <p:cNvSpPr/>
            <p:nvPr/>
          </p:nvSpPr>
          <p:spPr>
            <a:xfrm>
              <a:off x="4498920" y="3164040"/>
              <a:ext cx="0" cy="2425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45160" y="5648400"/>
              <a:ext cx="13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to efic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43480" y="3095640"/>
              <a:ext cx="11412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41920" y="3413160"/>
            <a:ext cx="11412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3680" y="1562040"/>
            <a:ext cx="2038320" cy="666720"/>
          </a:xfrm>
          <a:prstGeom prst="wedgeRoundRectCallout">
            <a:avLst>
              <a:gd name="adj1" fmla="val 27180"/>
              <a:gd name="adj2" fmla="val 187620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Deadweight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498920" y="3164040"/>
            <a:ext cx="0" cy="242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4240" y="2193840"/>
            <a:ext cx="3875040" cy="17859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08840" y="7970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ust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59040" y="5408640"/>
            <a:ext cx="525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135160" y="1925640"/>
            <a:ext cx="0" cy="377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84400" y="16160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$/vag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69760" y="55213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ola Priv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vaga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09760" y="2708280"/>
            <a:ext cx="4065480" cy="190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1840" y="4616280"/>
            <a:ext cx="24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visto pelos indivídu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346480" y="2309760"/>
            <a:ext cx="3803400" cy="1959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52480" y="20620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M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467320" y="3638520"/>
            <a:ext cx="0" cy="50976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45320" y="4029120"/>
            <a:ext cx="982800" cy="517320"/>
          </a:xfrm>
          <a:prstGeom prst="wedgeRoundRectCallout">
            <a:avLst>
              <a:gd name="adj1" fmla="val -176657"/>
              <a:gd name="adj2" fmla="val -72393"/>
              <a:gd name="adj3" fmla="val 16667"/>
            </a:avLst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ol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30480" y="3024360"/>
            <a:ext cx="22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visto pela socieda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44520" y="3181320"/>
            <a:ext cx="507960" cy="263520"/>
          </a:xfrm>
          <a:prstGeom prst="line">
            <a:avLst/>
          </a:prstGeom>
          <a:ln w="572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3480" y="3095640"/>
            <a:ext cx="11412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1920" y="341316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45160" y="564840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to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91360" y="7462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Locatário Fumante x Locador Não-Fu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1790280"/>
            <a:ext cx="0" cy="4172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2760" y="5619600"/>
            <a:ext cx="5124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9200" y="163368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gar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[fumaç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38480" y="5748480"/>
            <a:ext cx="100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nh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[R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3880" y="2651040"/>
            <a:ext cx="2265480" cy="193860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71960" y="2649600"/>
            <a:ext cx="2938320" cy="251136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2639880"/>
            <a:ext cx="1612800" cy="135900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91360" y="7462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Locatário Fumante x Locador Não-Fu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4960" y="2400480"/>
            <a:ext cx="0" cy="3733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752480" y="2647800"/>
            <a:ext cx="46483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2880" y="58892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 Li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3480" y="281448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lug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[R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3067200"/>
            <a:ext cx="3181320" cy="255240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3657600"/>
            <a:ext cx="2568600" cy="196704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20960" y="4248000"/>
            <a:ext cx="1884240" cy="137160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87720" y="3530520"/>
            <a:ext cx="1200240" cy="1276560"/>
          </a:xfrm>
          <a:custGeom>
            <a:avLst/>
            <a:gdLst/>
            <a:ahLst/>
            <a:rect l="l" t="t" r="r" b="b"/>
            <a:pathLst>
              <a:path w="756" h="804">
                <a:moveTo>
                  <a:pt x="0" y="804"/>
                </a:moveTo>
                <a:cubicBezTo>
                  <a:pt x="136" y="668"/>
                  <a:pt x="484" y="282"/>
                  <a:pt x="75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91360" y="7462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Locatário Fumante x Locador Não-Fu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14960" y="2400480"/>
            <a:ext cx="0" cy="3733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52480" y="2647800"/>
            <a:ext cx="46483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62880" y="58892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 Li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3480" y="281448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lug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[R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63880" y="2651040"/>
            <a:ext cx="2265480" cy="193860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1960" y="2649600"/>
            <a:ext cx="2938320" cy="251136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2639880"/>
            <a:ext cx="1612800" cy="135900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19520" y="1790280"/>
            <a:ext cx="0" cy="4172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5619600"/>
            <a:ext cx="5124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9200" y="163368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gar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[fumaç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8480" y="5748480"/>
            <a:ext cx="100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nh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[R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067200"/>
            <a:ext cx="3181320" cy="255240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22400" y="3657600"/>
            <a:ext cx="2568600" cy="196704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0960" y="4248000"/>
            <a:ext cx="1884240" cy="137160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40320" y="409248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08320" y="455616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71960" y="363852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15240" y="4343400"/>
            <a:ext cx="1409760" cy="743040"/>
          </a:xfrm>
          <a:prstGeom prst="wedgeRoundRectCallout">
            <a:avLst>
              <a:gd name="adj1" fmla="val -200000"/>
              <a:gd name="adj2" fmla="val -102777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nju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 Par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87720" y="3530520"/>
            <a:ext cx="1200240" cy="1276560"/>
          </a:xfrm>
          <a:custGeom>
            <a:avLst/>
            <a:gdLst/>
            <a:ahLst/>
            <a:rect l="l" t="t" r="r" b="b"/>
            <a:pathLst>
              <a:path w="756" h="804">
                <a:moveTo>
                  <a:pt x="0" y="804"/>
                </a:moveTo>
                <a:cubicBezTo>
                  <a:pt x="136" y="668"/>
                  <a:pt x="484" y="282"/>
                  <a:pt x="75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1360" y="74628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Locatário Fumante x Locador Não-Fu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63880" y="2651040"/>
            <a:ext cx="2265480" cy="193860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1960" y="2649600"/>
            <a:ext cx="2938320" cy="251136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2639880"/>
            <a:ext cx="1612800" cy="1359000"/>
          </a:xfrm>
          <a:custGeom>
            <a:avLst/>
            <a:gdLst/>
            <a:ahLst/>
            <a:rect l="l" t="t" r="r" b="b"/>
            <a:pathLst>
              <a:path w="1476" h="1044">
                <a:moveTo>
                  <a:pt x="0" y="0"/>
                </a:moveTo>
                <a:cubicBezTo>
                  <a:pt x="12" y="301"/>
                  <a:pt x="198" y="607"/>
                  <a:pt x="444" y="781"/>
                </a:cubicBezTo>
                <a:cubicBezTo>
                  <a:pt x="690" y="955"/>
                  <a:pt x="1128" y="1044"/>
                  <a:pt x="1476" y="10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94880" y="378468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gar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[fumaç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3067200"/>
            <a:ext cx="3181320" cy="255240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2400" y="3657600"/>
            <a:ext cx="2568600" cy="196704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0960" y="4248000"/>
            <a:ext cx="1884240" cy="1371600"/>
          </a:xfrm>
          <a:custGeom>
            <a:avLst/>
            <a:gdLst/>
            <a:ahLst/>
            <a:rect l="l" t="t" r="r" b="b"/>
            <a:pathLst>
              <a:path w="1824" h="1488">
                <a:moveTo>
                  <a:pt x="0" y="12"/>
                </a:moveTo>
                <a:cubicBezTo>
                  <a:pt x="492" y="0"/>
                  <a:pt x="968" y="126"/>
                  <a:pt x="1272" y="372"/>
                </a:cubicBezTo>
                <a:cubicBezTo>
                  <a:pt x="1576" y="618"/>
                  <a:pt x="1824" y="1140"/>
                  <a:pt x="1824" y="14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0320" y="409248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08320" y="455616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71960" y="363852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00440" y="2643120"/>
            <a:ext cx="330336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10320" y="1846440"/>
            <a:ext cx="1432080" cy="912600"/>
          </a:xfrm>
          <a:prstGeom prst="wedgeRoundRectCallout">
            <a:avLst>
              <a:gd name="adj1" fmla="val -83370"/>
              <a:gd name="adj2" fmla="val 121824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ix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dgew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25520" y="5691240"/>
            <a:ext cx="100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nh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[R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63200" y="394308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 Li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36600" y="197820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lug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[R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989800" y="314496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Arial"/>
              </a:rPr>
              <a:t>Bens Púb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30680" y="1820880"/>
            <a:ext cx="60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arkin, M. – Economics. 4</a:t>
            </a:r>
            <a:r>
              <a:rPr b="1" lang="pt-BR" sz="1800" spc="-1" strike="noStrike" baseline="30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ed., Addison-Wesley,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06200" y="2384280"/>
            <a:ext cx="70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Bem Público</a:t>
            </a: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: é aquele que é consumido por todos, mesmo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não tenha pago por e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411280" y="3098880"/>
            <a:ext cx="4236480" cy="1615680"/>
            <a:chOff x="2411280" y="3098880"/>
            <a:chExt cx="4236480" cy="1615680"/>
          </a:xfrm>
        </p:grpSpPr>
        <p:sp>
          <p:nvSpPr>
            <p:cNvPr id="323" name=""/>
            <p:cNvSpPr/>
            <p:nvPr/>
          </p:nvSpPr>
          <p:spPr>
            <a:xfrm>
              <a:off x="2411280" y="4071960"/>
              <a:ext cx="181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Não Riva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no Consum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315960" y="3098880"/>
              <a:ext cx="826920" cy="830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9000" y="3105000"/>
              <a:ext cx="826920" cy="830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69080" y="410364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Não Exclu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65240" y="5261040"/>
            <a:ext cx="63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Exemplos</a:t>
            </a: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: Segurança Pública, Farol, Parque, Praia, 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6920" y="7779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Ben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56920" y="7779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Ben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78440" y="19382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Não Riv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no Consu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3640" y="4560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Não Exclu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9520" y="193824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Riv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no Consu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5920" y="3094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Exclu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4160" y="2808360"/>
            <a:ext cx="16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0000"/>
                </a:solidFill>
                <a:uFillTx/>
                <a:latin typeface="Arial"/>
              </a:rPr>
              <a:t>Privado Puro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utomó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o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89160" y="4275000"/>
            <a:ext cx="19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Arial"/>
              </a:rPr>
              <a:t>Público Puro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Defesa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Fa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Sinais de Rá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93400" y="4560840"/>
            <a:ext cx="185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Peixes 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Ruas Estre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Pronto Soco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5240" y="2846520"/>
            <a:ext cx="24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TV a Ca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Pontes com Pedá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Corre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62280" y="2647800"/>
            <a:ext cx="537192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62280" y="2647800"/>
            <a:ext cx="0" cy="29908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9800" y="4762440"/>
            <a:ext cx="7089480" cy="24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4040" y="1658880"/>
          <a:ext cx="7431120" cy="48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658880"/>
                    <a:ext cx="74311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44360" y="75888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Aquisição de um Bem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6120" y="1486080"/>
            <a:ext cx="538956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Seja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u(x,y) = utilidade de se ter $x e y aparelhos d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B = Orç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 = Contribuição para compra de um aparelho d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S = Sobra de dinh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T = Custo do aparelho d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Alexandra: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 S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e S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= 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– 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e: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 S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e S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= 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– 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73000" y="4610160"/>
            <a:ext cx="754236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Caso 1: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T,1)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&gt; Daria para Alexandra comprar o aparelho de TV sozin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Caso 2: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T,1)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&gt; Daria para Berenice comprar o aparelho de TV sozin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640" y="1905120"/>
            <a:ext cx="782784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Caso 3: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T,1)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&lt;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T,1)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&lt;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mas é possível achar valores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e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 tal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 aparelho de TV passaria a ser um bem público para Alexandra e Beren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360" y="75888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Aquisição de um Bem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4880" y="1562040"/>
            <a:ext cx="388440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 =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1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+ 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44360" y="75888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Aquisição de um Bem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686480" y="2590560"/>
            <a:ext cx="0" cy="38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1160" y="5581800"/>
            <a:ext cx="7067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36720" y="50896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42400" y="51274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43800" y="2593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257200" y="3579840"/>
            <a:ext cx="2400120" cy="1257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86480" y="3162240"/>
            <a:ext cx="2514600" cy="17337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55240" y="407988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84360" y="432756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40200" y="3975120"/>
            <a:ext cx="110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4400" y="4384800"/>
            <a:ext cx="98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05200" y="3962520"/>
            <a:ext cx="1695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09840" y="4248000"/>
            <a:ext cx="224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92640" y="4021200"/>
            <a:ext cx="0" cy="21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3772080"/>
            <a:ext cx="0" cy="2381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25360" y="297972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29080" y="3063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83040" y="626436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36920" y="5940360"/>
            <a:ext cx="12319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42640" y="5848920"/>
            <a:ext cx="767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 &gt; B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45080" y="59288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14920" y="556092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28880" y="5700600"/>
            <a:ext cx="100080" cy="663840"/>
          </a:xfrm>
          <a:custGeom>
            <a:avLst/>
            <a:gdLst>
              <a:gd name="textAreaLeft" fmla="*/ 64080 w 100080"/>
              <a:gd name="textAreaRight" fmla="*/ 100440 w 100080"/>
              <a:gd name="textAreaTop" fmla="*/ 17280 h 663840"/>
              <a:gd name="textAreaBottom" fmla="*/ 646560 h 6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26000" y="4205160"/>
            <a:ext cx="114120" cy="1144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26000" y="391320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4880" y="1562040"/>
            <a:ext cx="388440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 =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1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+ 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44360" y="75888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Aquisição de um Bem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686480" y="2590560"/>
            <a:ext cx="0" cy="38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81160" y="5581800"/>
            <a:ext cx="7067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36720" y="50896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42400" y="51274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43800" y="2593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257200" y="3579840"/>
            <a:ext cx="2400120" cy="1257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86480" y="3162240"/>
            <a:ext cx="2514600" cy="17337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55240" y="407988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84360" y="432756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40200" y="3975120"/>
            <a:ext cx="110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18800" y="4313160"/>
            <a:ext cx="98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05200" y="3962520"/>
            <a:ext cx="1695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409840" y="4248000"/>
            <a:ext cx="224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92640" y="4021200"/>
            <a:ext cx="0" cy="21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772080"/>
            <a:ext cx="0" cy="2381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25360" y="297972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29080" y="3063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83040" y="626436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36920" y="5940360"/>
            <a:ext cx="12319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42640" y="5848920"/>
            <a:ext cx="767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 &gt; C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5080" y="5943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14920" y="558972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8880" y="5700600"/>
            <a:ext cx="100080" cy="663840"/>
          </a:xfrm>
          <a:custGeom>
            <a:avLst/>
            <a:gdLst>
              <a:gd name="textAreaLeft" fmla="*/ 64080 w 100080"/>
              <a:gd name="textAreaRight" fmla="*/ 100440 w 100080"/>
              <a:gd name="textAreaTop" fmla="*/ 17280 h 663840"/>
              <a:gd name="textAreaBottom" fmla="*/ 646560 h 6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26000" y="4205160"/>
            <a:ext cx="114120" cy="1144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26000" y="391320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V="1">
            <a:off x="4686480" y="2590560"/>
            <a:ext cx="0" cy="38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4880" y="1562040"/>
            <a:ext cx="388440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 =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1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+ 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4360" y="75888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Aquisição de um Bem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1160" y="5581800"/>
            <a:ext cx="7067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36720" y="50896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42400" y="51274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43800" y="2593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257200" y="3579840"/>
            <a:ext cx="2400120" cy="12571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86480" y="3162240"/>
            <a:ext cx="2514600" cy="173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5240" y="407988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84360" y="432756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68920" y="4005360"/>
            <a:ext cx="110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05200" y="39625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409840" y="4248000"/>
            <a:ext cx="2247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92640" y="4021200"/>
            <a:ext cx="0" cy="21160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3772080"/>
            <a:ext cx="0" cy="23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26000" y="420516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26000" y="39132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13120" y="626436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21400" y="5940360"/>
            <a:ext cx="1145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64400" y="5906160"/>
            <a:ext cx="78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 &gt; C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2680" y="5957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56560" y="558972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508800" y="5743440"/>
            <a:ext cx="100080" cy="663840"/>
          </a:xfrm>
          <a:custGeom>
            <a:avLst/>
            <a:gdLst>
              <a:gd name="textAreaLeft" fmla="*/ 64440 w 100080"/>
              <a:gd name="textAreaRight" fmla="*/ 100800 w 100080"/>
              <a:gd name="textAreaTop" fmla="*/ 17280 h 663840"/>
              <a:gd name="textAreaBottom" fmla="*/ 646560 h 6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18800" y="4313160"/>
            <a:ext cx="98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b2b2b2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b2b2b2"/>
                </a:solidFill>
                <a:latin typeface="Arial"/>
              </a:rPr>
              <a:t>,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25360" y="297972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29080" y="3063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4880" y="1562040"/>
            <a:ext cx="388440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 =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1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u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,1) </a:t>
            </a:r>
            <a:r>
              <a:rPr b="1" lang="pt-BR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9933ff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,0)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+ C</a:t>
            </a:r>
            <a:r>
              <a:rPr b="1" lang="pt-BR" sz="16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=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44360" y="75888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Aquisição de um Bem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686480" y="2590920"/>
            <a:ext cx="0" cy="31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81160" y="5581800"/>
            <a:ext cx="7067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36720" y="50896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42400" y="51274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43800" y="2593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57200" y="3579840"/>
            <a:ext cx="2400120" cy="1257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6480" y="3162240"/>
            <a:ext cx="2514600" cy="173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55240" y="407988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84360" y="432756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05200" y="39625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409840" y="4248000"/>
            <a:ext cx="224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392640" y="4021200"/>
            <a:ext cx="0" cy="21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772080"/>
            <a:ext cx="0" cy="23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20440" y="6014880"/>
            <a:ext cx="5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9933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26000" y="4205160"/>
            <a:ext cx="114120" cy="1144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6000" y="39132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76440" y="5981760"/>
            <a:ext cx="2486160" cy="144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25360" y="297972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29080" y="3063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16360" y="5802480"/>
            <a:ext cx="15922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94240" y="3463920"/>
            <a:ext cx="6480" cy="241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98720" y="3868560"/>
            <a:ext cx="0" cy="20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7000" y="360036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36800" y="397512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05880" y="7588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blema do Caroneiro (Free Ri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6120" y="1486080"/>
            <a:ext cx="7503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onsidere novamente as amigas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lexandr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e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Ambas possuem dinheiro suficiente para comprar o aparelho de T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Ter aparelho de TV dá satisfação de 10 po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astar R$ 300 dá satisfação de –5 po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astar R$ 150 dá satisfação de –2 po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 aparelho de TV custa R$ 3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48000" y="4362480"/>
            <a:ext cx="1467000" cy="7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5162400"/>
            <a:ext cx="14670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48000" y="5162400"/>
            <a:ext cx="14670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15000" y="4362480"/>
            <a:ext cx="1467000" cy="7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39600" y="3965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97440" y="396540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não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34800" y="461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44720" y="53942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56280" y="4594320"/>
            <a:ext cx="14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-2+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2+10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44120" y="35272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91120" y="49370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lexan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74840" y="4594320"/>
            <a:ext cx="11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-5+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70040" y="5413320"/>
            <a:ext cx="12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-5+10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84000" y="53942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05880" y="7588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blema do Caroneiro (Free Ri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16120" y="1486080"/>
            <a:ext cx="7503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Considere novamente as amigas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lexandra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e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Ambas possuem dinheiro suficiente para comprar o aparelho de T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Ter aparelho de TV dá satisfação de 10 po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astar R$ 300 dá satisfação de –5 po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Gastar R$ 150 dá satisfação de –2 po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 aparelho de TV custa R$ 3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48000" y="4362480"/>
            <a:ext cx="1467000" cy="7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5162400"/>
            <a:ext cx="14670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48000" y="5162400"/>
            <a:ext cx="14670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4362480"/>
            <a:ext cx="1467000" cy="7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39600" y="3965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97440" y="396540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não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34800" y="461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44720" y="53942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22320" y="45943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8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8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44120" y="35272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91120" y="49370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lexan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88960" y="45943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2520" y="5394240"/>
            <a:ext cx="8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45840" y="53751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05880" y="7588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Problema do Caroneiro (Free Ri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48000" y="4362480"/>
            <a:ext cx="1467000" cy="7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5162400"/>
            <a:ext cx="14670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48000" y="5162400"/>
            <a:ext cx="14670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4362480"/>
            <a:ext cx="1467000" cy="7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39600" y="3965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97440" y="396540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não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34800" y="461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44720" y="53942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ão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17640" y="45450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8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8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44120" y="35272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91120" y="49370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lexan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84280" y="4545000"/>
            <a:ext cx="9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8560" y="53452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41520" y="53262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81120" y="1619280"/>
            <a:ext cx="2590920" cy="1485720"/>
          </a:xfrm>
          <a:prstGeom prst="wedgeRoundRectCallout">
            <a:avLst>
              <a:gd name="adj1" fmla="val 129412"/>
              <a:gd name="adj2" fmla="val 151814"/>
              <a:gd name="adj3" fmla="val 16667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esmo comprando sozinha, a satisf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Alexandra é maior que não ter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43640" y="1657440"/>
            <a:ext cx="2590560" cy="1485720"/>
          </a:xfrm>
          <a:prstGeom prst="wedgeRoundRectCallout">
            <a:avLst>
              <a:gd name="adj1" fmla="val -12500"/>
              <a:gd name="adj2" fmla="val 149250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erenicd pe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ar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400480" y="5276880"/>
            <a:ext cx="1409400" cy="36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4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02280" y="758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Tragédia do Uso Co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90440" y="1747080"/>
            <a:ext cx="6996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astagem comunitá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da vaca custa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quantidade de leite produzida por cada vaca depende do númer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 vacas pastando na área comunitá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ja R(N) a receita obtida com o leite das N vacas durante a s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ida prod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90440" y="3590640"/>
            <a:ext cx="5891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ara maximizar a riqueza d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unidade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max R(N) – V x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19040" y="4790520"/>
            <a:ext cx="5891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u sej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Mg(N) = V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19400" y="333864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00"/>
                </a:solidFill>
                <a:latin typeface="Arial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419200" y="5695920"/>
            <a:ext cx="1352880" cy="3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02280" y="758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Tragédia do Uso Co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90440" y="1747080"/>
            <a:ext cx="6996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astagem comunitá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da vaca custa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quantidade de leite produzida por cada vaca depende do númer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 vacas pastando na área comunitá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ja R(N) a receita obtida com o leite das N vacas durante a s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ida prod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90440" y="3474720"/>
            <a:ext cx="5891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 receita gerada por cada vaca 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0040" y="3845880"/>
            <a:ext cx="149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= RMe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76440" y="4133880"/>
            <a:ext cx="552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09520" y="4498920"/>
            <a:ext cx="72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nquanto RMe for maior que V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gum membro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da comunidade v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mpra uma v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38120" y="5190840"/>
            <a:ext cx="5891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u sej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Me(N) = V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02280" y="758880"/>
            <a:ext cx="43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Tragédia do Uso Co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343240" y="1733040"/>
            <a:ext cx="0" cy="379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52800" y="5334120"/>
            <a:ext cx="52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43240" y="2647800"/>
            <a:ext cx="2495520" cy="25336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2666880"/>
            <a:ext cx="4324320" cy="196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47840" y="3619440"/>
            <a:ext cx="4267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9720" y="3431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48920" y="48985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88440" y="42318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3600360"/>
            <a:ext cx="0" cy="1714680"/>
          </a:xfrm>
          <a:prstGeom prst="line">
            <a:avLst/>
          </a:prstGeom>
          <a:ln w="1260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62360" y="151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39960" y="541296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6680" y="5367600"/>
            <a:ext cx="140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Nú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Ótimo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a Comun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57880" y="3638520"/>
            <a:ext cx="0" cy="16765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2280" y="5359680"/>
            <a:ext cx="99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ú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at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76880" y="3533760"/>
            <a:ext cx="180720" cy="1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95720" y="3543480"/>
            <a:ext cx="180720" cy="18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23080" y="81288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5280" y="1614600"/>
            <a:ext cx="72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Varian, H.A. </a:t>
            </a:r>
            <a:r>
              <a:rPr b="1" i="1" lang="pt-BR" sz="1600" spc="-1" strike="noStrike">
                <a:solidFill>
                  <a:srgbClr val="0000ff"/>
                </a:solidFill>
                <a:latin typeface="Arial"/>
              </a:rPr>
              <a:t>Microeconomi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– Princípios Básicos,  Editora Campus, 2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8120" y="2028960"/>
            <a:ext cx="660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Externalidade de consumo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: o consumidor é afetado pela p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u consumo de outro ag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Externalidade na produção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: a produção é afetada pela p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ou consumo de outro ag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200" y="3538440"/>
            <a:ext cx="729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Taylor, J.B. – Principles of Microeconomics, 2</a:t>
            </a:r>
            <a:r>
              <a:rPr b="1" lang="pt-BR" sz="1600" spc="-1" strike="noStrike" baseline="30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ed., Houghton Mifflin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6040" y="3981600"/>
            <a:ext cx="675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Externalidade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: situação na qual o custo de produção ou o benefí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de consumo de um bem ou serviço impacta aqueles que não est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roduzindo nem consumindo este bem ou serviç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8640" y="502596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Parkin, M. – Economics. 4</a:t>
            </a:r>
            <a:r>
              <a:rPr b="1" lang="pt-BR" sz="1600" spc="-1" strike="noStrike" baseline="30000">
                <a:solidFill>
                  <a:srgbClr val="0000ff"/>
                </a:solidFill>
                <a:latin typeface="Arial"/>
              </a:rPr>
              <a:t>a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ed., Addison-Wesley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1360" y="5513400"/>
            <a:ext cx="65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Externalidade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: é um custo ou benefício oriundo de uma trans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e que recai sobre indivíduos que não participam desta trans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76840" y="78264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emplos de 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0280" y="19908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Extração de Ouro em Gari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840" y="34354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Contaminação do Rio com Mercú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0280" y="489600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Redução 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Atividade de Pes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70120" y="2467080"/>
            <a:ext cx="0" cy="842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601640" y="3936960"/>
            <a:ext cx="827280" cy="830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4800" y="3943440"/>
            <a:ext cx="827280" cy="830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68280" y="490212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Intoxi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94600" y="2006640"/>
            <a:ext cx="3105360" cy="3633840"/>
            <a:chOff x="5394600" y="2006640"/>
            <a:chExt cx="3105360" cy="3633840"/>
          </a:xfrm>
        </p:grpSpPr>
        <p:sp>
          <p:nvSpPr>
            <p:cNvPr id="84" name=""/>
            <p:cNvSpPr/>
            <p:nvPr/>
          </p:nvSpPr>
          <p:spPr>
            <a:xfrm>
              <a:off x="6127920" y="200664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Arial"/>
                </a:rPr>
                <a:t>Produtor</a:t>
              </a: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 de Ou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7320" y="4873680"/>
              <a:ext cx="258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Consumidor de Peix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09560" y="527220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Produtor de Peix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94600" y="320364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Externa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Negativ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61120" y="2473200"/>
              <a:ext cx="0" cy="2338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76840" y="78264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emplos de 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7560" y="19620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Apicul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9880" y="340668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As abelhas transportam pól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8040" y="489600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Melhoria 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Colh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de Fru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01640" y="3936960"/>
            <a:ext cx="827280" cy="830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44800" y="3943440"/>
            <a:ext cx="827280" cy="830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53200" y="1992240"/>
            <a:ext cx="3195000" cy="3633840"/>
            <a:chOff x="5353200" y="1992240"/>
            <a:chExt cx="3195000" cy="3633840"/>
          </a:xfrm>
        </p:grpSpPr>
        <p:sp>
          <p:nvSpPr>
            <p:cNvPr id="100" name=""/>
            <p:cNvSpPr/>
            <p:nvPr/>
          </p:nvSpPr>
          <p:spPr>
            <a:xfrm>
              <a:off x="6086880" y="1992240"/>
              <a:ext cx="198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Arial"/>
                </a:rPr>
                <a:t>Produtor</a:t>
              </a: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 de M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75560" y="4859280"/>
              <a:ext cx="267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Consumidor de Flor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8160" y="525780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Produtor de Frut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53200" y="318924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Externa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Positiv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20080" y="2459160"/>
              <a:ext cx="0" cy="2338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670120" y="2467080"/>
            <a:ext cx="0" cy="842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27600" y="5048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Jardins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mais Fl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76840" y="78264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xemplos de 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68080" y="20048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Fumante de Char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6160" y="34066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Fumaça no Ambi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" y="49100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A Pizzaria 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que Reservar 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Área Espe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01640" y="3936960"/>
            <a:ext cx="827280" cy="830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44800" y="3943440"/>
            <a:ext cx="827280" cy="830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66160" y="1978200"/>
            <a:ext cx="3208320" cy="3633480"/>
            <a:chOff x="5366160" y="1978200"/>
            <a:chExt cx="3208320" cy="3633480"/>
          </a:xfrm>
        </p:grpSpPr>
        <p:sp>
          <p:nvSpPr>
            <p:cNvPr id="118" name=""/>
            <p:cNvSpPr/>
            <p:nvPr/>
          </p:nvSpPr>
          <p:spPr>
            <a:xfrm>
              <a:off x="5649120" y="1978200"/>
              <a:ext cx="29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Arial"/>
                </a:rPr>
                <a:t>Consumidor</a:t>
              </a: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 de Char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8880" y="4844880"/>
              <a:ext cx="26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Consumidor de Piz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0760" y="524340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Produtor de Pizz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66160" y="317484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Externa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Negativ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32680" y="2444760"/>
              <a:ext cx="0" cy="2338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670120" y="2467080"/>
            <a:ext cx="0" cy="842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3480" y="4903920"/>
            <a:ext cx="231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Fumantes Pas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com Aumento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Risco de Cân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08840" y="7970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ust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59040" y="5408640"/>
            <a:ext cx="525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5160" y="1925640"/>
            <a:ext cx="0" cy="377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93920" y="1711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 [$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20080" y="5521320"/>
            <a:ext cx="17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ergia 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M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137040"/>
            <a:ext cx="4035240" cy="2247840"/>
          </a:xfrm>
          <a:custGeom>
            <a:avLst/>
            <a:gdLst/>
            <a:ahLst/>
            <a:rect l="l" t="t" r="r" b="b"/>
            <a:pathLst>
              <a:path w="2807" h="1901">
                <a:moveTo>
                  <a:pt x="0" y="1901"/>
                </a:moveTo>
                <a:cubicBezTo>
                  <a:pt x="311" y="1453"/>
                  <a:pt x="886" y="795"/>
                  <a:pt x="1417" y="420"/>
                </a:cubicBezTo>
                <a:cubicBezTo>
                  <a:pt x="1948" y="45"/>
                  <a:pt x="2487" y="36"/>
                  <a:pt x="280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3080" y="297504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enef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094480" y="2184480"/>
            <a:ext cx="4064040" cy="2697120"/>
          </a:xfrm>
          <a:custGeom>
            <a:avLst/>
            <a:gdLst/>
            <a:ahLst/>
            <a:rect l="l" t="t" r="r" b="b"/>
            <a:pathLst>
              <a:path w="2807" h="1901">
                <a:moveTo>
                  <a:pt x="0" y="1901"/>
                </a:moveTo>
                <a:cubicBezTo>
                  <a:pt x="311" y="1453"/>
                  <a:pt x="886" y="795"/>
                  <a:pt x="1417" y="420"/>
                </a:cubicBezTo>
                <a:cubicBezTo>
                  <a:pt x="1948" y="45"/>
                  <a:pt x="2487" y="36"/>
                  <a:pt x="28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5280" y="1995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35240" y="3208320"/>
            <a:ext cx="1736640" cy="2994840"/>
            <a:chOff x="3135240" y="3208320"/>
            <a:chExt cx="1736640" cy="2994840"/>
          </a:xfrm>
        </p:grpSpPr>
        <p:sp>
          <p:nvSpPr>
            <p:cNvPr id="139" name=""/>
            <p:cNvSpPr/>
            <p:nvPr/>
          </p:nvSpPr>
          <p:spPr>
            <a:xfrm>
              <a:off x="4010040" y="3208320"/>
              <a:ext cx="0" cy="2292480"/>
            </a:xfrm>
            <a:prstGeom prst="line">
              <a:avLst/>
            </a:prstGeom>
            <a:ln w="1260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3960" y="5518080"/>
              <a:ext cx="62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q</a:t>
              </a:r>
              <a:r>
                <a:rPr b="1" lang="pt-BR" sz="1600" spc="-1" strike="noStrike" baseline="-25000">
                  <a:solidFill>
                    <a:srgbClr val="009900"/>
                  </a:solidFill>
                  <a:latin typeface="Arial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135240" y="3225600"/>
              <a:ext cx="1698840" cy="10299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73400" y="3828960"/>
              <a:ext cx="1698480" cy="1030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66000" y="58658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BMg  = C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921120" y="3157560"/>
            <a:ext cx="581040" cy="581040"/>
            <a:chOff x="3921120" y="3157560"/>
            <a:chExt cx="581040" cy="581040"/>
          </a:xfrm>
        </p:grpSpPr>
        <p:sp>
          <p:nvSpPr>
            <p:cNvPr id="145" name=""/>
            <p:cNvSpPr/>
            <p:nvPr/>
          </p:nvSpPr>
          <p:spPr>
            <a:xfrm>
              <a:off x="3921120" y="3173400"/>
              <a:ext cx="581040" cy="565200"/>
            </a:xfrm>
            <a:custGeom>
              <a:avLst/>
              <a:gdLst/>
              <a:ahLst/>
              <a:rect l="l" t="t" r="r" b="b"/>
              <a:pathLst>
                <a:path w="375" h="356">
                  <a:moveTo>
                    <a:pt x="0" y="183"/>
                  </a:moveTo>
                  <a:lnTo>
                    <a:pt x="375" y="356"/>
                  </a:lnTo>
                  <a:lnTo>
                    <a:pt x="375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0720" y="3157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08840" y="7970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usto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59040" y="5408640"/>
            <a:ext cx="525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35160" y="1925640"/>
            <a:ext cx="0" cy="377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5120" y="1596960"/>
            <a:ext cx="9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$/M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20080" y="5521320"/>
            <a:ext cx="17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ergia 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[M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9760" y="2708280"/>
            <a:ext cx="3875040" cy="1785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38560" y="2854080"/>
            <a:ext cx="3803400" cy="1958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28920" y="2639880"/>
            <a:ext cx="21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CM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visto pela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3480" y="366696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600" y="1719360"/>
            <a:ext cx="7890120" cy="3174840"/>
            <a:chOff x="363600" y="1719360"/>
            <a:chExt cx="7890120" cy="3174840"/>
          </a:xfrm>
        </p:grpSpPr>
        <p:sp>
          <p:nvSpPr>
            <p:cNvPr id="161" name=""/>
            <p:cNvSpPr/>
            <p:nvPr/>
          </p:nvSpPr>
          <p:spPr>
            <a:xfrm flipV="1">
              <a:off x="2346480" y="2309760"/>
              <a:ext cx="3803400" cy="1959120"/>
            </a:xfrm>
            <a:prstGeom prst="line">
              <a:avLst/>
            </a:prstGeom>
            <a:ln w="38160">
              <a:solidFill>
                <a:srgbClr val="0099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57640" y="1719360"/>
              <a:ext cx="229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CM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00"/>
                  </a:solidFill>
                  <a:latin typeface="Arial"/>
                </a:rPr>
                <a:t>(visto pela socieda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10000" y="4152960"/>
              <a:ext cx="0" cy="49536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3600" y="3726000"/>
              <a:ext cx="1503360" cy="1168200"/>
            </a:xfrm>
            <a:prstGeom prst="wedgeRoundRectCallout">
              <a:avLst>
                <a:gd name="adj1" fmla="val 98787"/>
                <a:gd name="adj2" fmla="val 15083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Arial"/>
                </a:rPr>
                <a:t>Externalidade Negativa n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Arial"/>
                </a:rPr>
                <a:t>conside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Arial"/>
                </a:rPr>
                <a:t>pela 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44400" y="438948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B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deman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51520" y="3398760"/>
            <a:ext cx="1372320" cy="2615400"/>
            <a:chOff x="3251520" y="3398760"/>
            <a:chExt cx="1372320" cy="2615400"/>
          </a:xfrm>
        </p:grpSpPr>
        <p:sp>
          <p:nvSpPr>
            <p:cNvPr id="167" name=""/>
            <p:cNvSpPr/>
            <p:nvPr/>
          </p:nvSpPr>
          <p:spPr>
            <a:xfrm>
              <a:off x="3933720" y="3468600"/>
              <a:ext cx="0" cy="220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51520" y="5676840"/>
              <a:ext cx="13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to efic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4760" y="3398760"/>
              <a:ext cx="11412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533680" y="1562040"/>
            <a:ext cx="2038320" cy="666720"/>
          </a:xfrm>
          <a:prstGeom prst="wedgeRoundRectCallout">
            <a:avLst>
              <a:gd name="adj1" fmla="val 37851"/>
              <a:gd name="adj2" fmla="val 231189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Deadweight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10-12T13:07:31Z</dcterms:modified>
  <cp:revision>175</cp:revision>
  <dc:subject/>
  <dc:title>Macroeconomia</dc:title>
</cp:coreProperties>
</file>