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3.wmf" ContentType="image/x-wmf"/>
  <Override PartName="/ppt/media/image8.jpeg" ContentType="image/jpeg"/>
  <Override PartName="/ppt/media/image10.jpeg" ContentType="image/jpeg"/>
  <Override PartName="/ppt/media/image7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wmf" ContentType="image/x-wmf"/>
  <Override PartName="/ppt/media/image15.jpeg" ContentType="image/jpeg"/>
  <Override PartName="/ppt/media/image14.wmf" ContentType="image/x-wmf"/>
  <Override PartName="/ppt/media/image1.wmf" ContentType="image/x-wmf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DBE-C86C-4298-9709-4AFC6899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5DA-EBCE-47FD-9795-FA32B09A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7E4-DE92-472B-BE57-5332444F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920-365C-4FF8-9A68-C5D254FD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E4D-D54E-41B3-9BBC-A5CEF041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176-CA6D-4AEF-8452-F5D0F334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BD5-6FB1-428B-AF75-7CE8D1C3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C29-C297-4F97-9DB4-1B80B26F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463-84D4-4D44-8B2E-99B7B7BC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B87-62CD-4701-9659-69C551AD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545-22F3-4332-A006-EDFF8C6E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98A-029F-4520-AAC8-E1F2CAEE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3675-3EF1-41A4-96BF-B146BE8E4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31360" y="474840"/>
            <a:ext cx="19486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Microec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0000" y="4996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27080" y="988920"/>
            <a:ext cx="54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Indicadores Sociais Adi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1880" y="1858680"/>
            <a:ext cx="667584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Taxa de alfabet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Taxa de crimin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Participação econômica do setor in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Percentual da população com direito de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Taxa de exclusão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Número de acidentes de trab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Número de médicos por habi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Percentual da população servida por coleta de li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Gastos com assistência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et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diama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ocwatch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0000" y="3207600"/>
            <a:ext cx="54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obreza e Desigualdade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obrez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18400" y="1888920"/>
            <a:ext cx="4241160" cy="4088880"/>
            <a:chOff x="518400" y="1888920"/>
            <a:chExt cx="4241160" cy="4088880"/>
          </a:xfrm>
        </p:grpSpPr>
        <p:sp>
          <p:nvSpPr>
            <p:cNvPr id="91" name=""/>
            <p:cNvSpPr/>
            <p:nvPr/>
          </p:nvSpPr>
          <p:spPr>
            <a:xfrm>
              <a:off x="1433520" y="2059200"/>
              <a:ext cx="3031920" cy="30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294920" y="265284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294920" y="326412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293480" y="387360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294920" y="448308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47680" y="497844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47800" y="4989600"/>
              <a:ext cx="180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59080" y="498312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71800" y="498960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433520" y="2057400"/>
              <a:ext cx="3031920" cy="303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3440" y="5609520"/>
              <a:ext cx="163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% popul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35280" y="5195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62400" y="5195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71880" y="5195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67320" y="5195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31440" y="51955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85200" y="51796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40400" y="4873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480" y="18889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39960" y="24667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39960" y="30762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24120" y="37018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20880" y="43113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142560" y="338220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% ren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263040" y="913680"/>
            <a:ext cx="26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Índice de G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32080" y="2057400"/>
            <a:ext cx="3019320" cy="3032280"/>
          </a:xfrm>
          <a:custGeom>
            <a:avLst/>
            <a:gdLst/>
            <a:ahLst/>
            <a:rect l="l" t="t" r="r" b="b"/>
            <a:pathLst>
              <a:path w="1902" h="1910">
                <a:moveTo>
                  <a:pt x="0" y="1910"/>
                </a:moveTo>
                <a:cubicBezTo>
                  <a:pt x="310" y="1775"/>
                  <a:pt x="615" y="1647"/>
                  <a:pt x="874" y="1498"/>
                </a:cubicBezTo>
                <a:cubicBezTo>
                  <a:pt x="1133" y="1349"/>
                  <a:pt x="1394" y="1200"/>
                  <a:pt x="1556" y="1018"/>
                </a:cubicBezTo>
                <a:cubicBezTo>
                  <a:pt x="1718" y="836"/>
                  <a:pt x="1786" y="573"/>
                  <a:pt x="1844" y="403"/>
                </a:cubicBezTo>
                <a:cubicBezTo>
                  <a:pt x="1902" y="233"/>
                  <a:pt x="1889" y="84"/>
                  <a:pt x="1901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35400" y="4983120"/>
            <a:ext cx="2041560" cy="609480"/>
          </a:xfrm>
          <a:prstGeom prst="wedgeRoundRectCallout">
            <a:avLst>
              <a:gd name="adj1" fmla="val -118819"/>
              <a:gd name="adj2" fmla="val -237500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Curva de Loren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518400" y="1888920"/>
            <a:ext cx="4241160" cy="4088880"/>
            <a:chOff x="518400" y="1888920"/>
            <a:chExt cx="4241160" cy="4088880"/>
          </a:xfrm>
        </p:grpSpPr>
        <p:sp>
          <p:nvSpPr>
            <p:cNvPr id="123" name=""/>
            <p:cNvSpPr/>
            <p:nvPr/>
          </p:nvSpPr>
          <p:spPr>
            <a:xfrm>
              <a:off x="1433520" y="2059200"/>
              <a:ext cx="3031920" cy="303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294920" y="265284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294920" y="326412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293480" y="387360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294920" y="448308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47680" y="497844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47800" y="4989600"/>
              <a:ext cx="180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59080" y="498312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71800" y="498960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433520" y="2057400"/>
              <a:ext cx="3031920" cy="303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43440" y="5609520"/>
              <a:ext cx="163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% popul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35280" y="5195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2400" y="5195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71880" y="5195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67320" y="5195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31440" y="51955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5200" y="51796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40400" y="4873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4480" y="18889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39960" y="24667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39960" y="30762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24120" y="37018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20880" y="43113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asu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142560" y="3382200"/>
              <a:ext cx="11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% ren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263040" y="913680"/>
            <a:ext cx="26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Índice de G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33520" y="2057400"/>
            <a:ext cx="3033720" cy="3032280"/>
          </a:xfrm>
          <a:custGeom>
            <a:avLst/>
            <a:gdLst/>
            <a:ahLst/>
            <a:rect l="l" t="t" r="r" b="b"/>
            <a:pathLst>
              <a:path w="1911" h="1910">
                <a:moveTo>
                  <a:pt x="1911" y="0"/>
                </a:moveTo>
                <a:lnTo>
                  <a:pt x="1911" y="1910"/>
                </a:lnTo>
                <a:lnTo>
                  <a:pt x="0" y="1910"/>
                </a:lnTo>
                <a:lnTo>
                  <a:pt x="1911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81040" y="2147760"/>
            <a:ext cx="2925720" cy="2925720"/>
          </a:xfrm>
          <a:custGeom>
            <a:avLst/>
            <a:gdLst/>
            <a:ahLst/>
            <a:rect l="l" t="t" r="r" b="b"/>
            <a:pathLst>
              <a:path w="1902" h="1910">
                <a:moveTo>
                  <a:pt x="0" y="1910"/>
                </a:moveTo>
                <a:cubicBezTo>
                  <a:pt x="310" y="1775"/>
                  <a:pt x="615" y="1647"/>
                  <a:pt x="874" y="1498"/>
                </a:cubicBezTo>
                <a:cubicBezTo>
                  <a:pt x="1133" y="1349"/>
                  <a:pt x="1394" y="1200"/>
                  <a:pt x="1556" y="1018"/>
                </a:cubicBezTo>
                <a:cubicBezTo>
                  <a:pt x="1718" y="836"/>
                  <a:pt x="1786" y="573"/>
                  <a:pt x="1844" y="403"/>
                </a:cubicBezTo>
                <a:cubicBezTo>
                  <a:pt x="1902" y="233"/>
                  <a:pt x="1889" y="84"/>
                  <a:pt x="1901" y="0"/>
                </a:cubicBezTo>
                <a:lnTo>
                  <a:pt x="0" y="191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32080" y="2057400"/>
            <a:ext cx="3019320" cy="3032280"/>
          </a:xfrm>
          <a:custGeom>
            <a:avLst/>
            <a:gdLst/>
            <a:ahLst/>
            <a:rect l="l" t="t" r="r" b="b"/>
            <a:pathLst>
              <a:path w="1902" h="1910">
                <a:moveTo>
                  <a:pt x="0" y="1910"/>
                </a:moveTo>
                <a:cubicBezTo>
                  <a:pt x="310" y="1775"/>
                  <a:pt x="615" y="1647"/>
                  <a:pt x="874" y="1498"/>
                </a:cubicBezTo>
                <a:cubicBezTo>
                  <a:pt x="1133" y="1349"/>
                  <a:pt x="1394" y="1200"/>
                  <a:pt x="1556" y="1018"/>
                </a:cubicBezTo>
                <a:cubicBezTo>
                  <a:pt x="1718" y="836"/>
                  <a:pt x="1786" y="573"/>
                  <a:pt x="1844" y="403"/>
                </a:cubicBezTo>
                <a:cubicBezTo>
                  <a:pt x="1902" y="233"/>
                  <a:pt x="1889" y="84"/>
                  <a:pt x="1901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529600" y="1932120"/>
            <a:ext cx="2501640" cy="2226960"/>
            <a:chOff x="5529600" y="1932120"/>
            <a:chExt cx="2501640" cy="2226960"/>
          </a:xfrm>
        </p:grpSpPr>
        <p:sp>
          <p:nvSpPr>
            <p:cNvPr id="152" name=""/>
            <p:cNvSpPr/>
            <p:nvPr/>
          </p:nvSpPr>
          <p:spPr>
            <a:xfrm>
              <a:off x="6800760" y="1932120"/>
              <a:ext cx="1008000" cy="1004760"/>
            </a:xfrm>
            <a:custGeom>
              <a:avLst/>
              <a:gdLst/>
              <a:ahLst/>
              <a:rect l="l" t="t" r="r" b="b"/>
              <a:pathLst>
                <a:path w="1902" h="1910">
                  <a:moveTo>
                    <a:pt x="0" y="1910"/>
                  </a:moveTo>
                  <a:cubicBezTo>
                    <a:pt x="310" y="1775"/>
                    <a:pt x="615" y="1647"/>
                    <a:pt x="874" y="1498"/>
                  </a:cubicBezTo>
                  <a:cubicBezTo>
                    <a:pt x="1133" y="1349"/>
                    <a:pt x="1394" y="1200"/>
                    <a:pt x="1556" y="1018"/>
                  </a:cubicBezTo>
                  <a:cubicBezTo>
                    <a:pt x="1718" y="836"/>
                    <a:pt x="1786" y="573"/>
                    <a:pt x="1844" y="403"/>
                  </a:cubicBezTo>
                  <a:cubicBezTo>
                    <a:pt x="1902" y="233"/>
                    <a:pt x="1889" y="84"/>
                    <a:pt x="1901" y="0"/>
                  </a:cubicBezTo>
                  <a:lnTo>
                    <a:pt x="0" y="191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99320" y="3168720"/>
              <a:ext cx="992160" cy="990360"/>
            </a:xfrm>
            <a:custGeom>
              <a:avLst/>
              <a:gdLst/>
              <a:ahLst/>
              <a:rect l="l" t="t" r="r" b="b"/>
              <a:pathLst>
                <a:path w="1911" h="1910">
                  <a:moveTo>
                    <a:pt x="1911" y="0"/>
                  </a:moveTo>
                  <a:lnTo>
                    <a:pt x="1911" y="1910"/>
                  </a:lnTo>
                  <a:lnTo>
                    <a:pt x="0" y="1910"/>
                  </a:lnTo>
                  <a:lnTo>
                    <a:pt x="1911" y="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9600" y="2809080"/>
              <a:ext cx="95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Lucida Casual"/>
                </a:rPr>
                <a:t>Gini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su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7000" y="3062160"/>
              <a:ext cx="1524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905440" y="4471200"/>
            <a:ext cx="181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Casual"/>
              </a:rPr>
              <a:t>0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ff"/>
                </a:solidFill>
                <a:latin typeface="Lucida Casual"/>
              </a:rPr>
              <a:t>  i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Lucida Casual"/>
              </a:rPr>
              <a:t>Gini</a:t>
            </a:r>
            <a:r>
              <a:rPr b="1" i="1" lang="en-US" sz="2400" spc="-1" strike="noStrike" baseline="-25000">
                <a:solidFill>
                  <a:srgbClr val="0000ff"/>
                </a:solidFill>
                <a:latin typeface="Lucida Casu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ff"/>
                </a:solidFill>
                <a:latin typeface="Lucida Casu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gini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6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02440" y="320760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Transferência de R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991240" y="9136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Bem-estar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3200" y="2056320"/>
            <a:ext cx="32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edistribuição de R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048120" y="28954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556272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16160" y="6019560"/>
            <a:ext cx="27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Lucida Casual"/>
              </a:rPr>
              <a:t>Renda dos 50% mais 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965520" y="4039920"/>
            <a:ext cx="297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Renda dos 50% mais 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4952880"/>
            <a:ext cx="0" cy="6098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047760" y="487692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48006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895480" y="4876920"/>
            <a:ext cx="2286000" cy="914400"/>
            <a:chOff x="2895480" y="4876920"/>
            <a:chExt cx="2286000" cy="914400"/>
          </a:xfrm>
        </p:grpSpPr>
        <p:sp>
          <p:nvSpPr>
            <p:cNvPr id="181" name=""/>
            <p:cNvSpPr/>
            <p:nvPr/>
          </p:nvSpPr>
          <p:spPr>
            <a:xfrm flipH="1">
              <a:off x="3048120" y="5791320"/>
              <a:ext cx="213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95480" y="4876920"/>
              <a:ext cx="0" cy="6094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876920" y="1904760"/>
            <a:ext cx="2833200" cy="1023120"/>
            <a:chOff x="4876920" y="1904760"/>
            <a:chExt cx="2833200" cy="1023120"/>
          </a:xfrm>
        </p:grpSpPr>
        <p:sp>
          <p:nvSpPr>
            <p:cNvPr id="184" name=""/>
            <p:cNvSpPr/>
            <p:nvPr/>
          </p:nvSpPr>
          <p:spPr>
            <a:xfrm flipH="1">
              <a:off x="4876920" y="2286000"/>
              <a:ext cx="213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010280" y="2286000"/>
              <a:ext cx="6098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7692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012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76920" y="2590920"/>
              <a:ext cx="27432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28960" y="259056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33cc"/>
                  </a:solidFill>
                  <a:latin typeface="Lucida Casual"/>
                </a:rPr>
                <a:t>Renda To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49760" y="190476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Lucida Casual"/>
                </a:rPr>
                <a:t>R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36040" y="1904760"/>
              <a:ext cx="87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8000"/>
                  </a:solidFill>
                  <a:latin typeface="Lucida Casual"/>
                </a:rPr>
                <a:t>Pob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9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25640" y="5022720"/>
            <a:ext cx="7089840" cy="246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861840" y="1670040"/>
          <a:ext cx="7431120" cy="48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1670040"/>
                    <a:ext cx="743112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586600" y="93492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Lucida Casual"/>
              </a:rPr>
              <a:t>Organização do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0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991240" y="9136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Bem-estar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3200" y="2056320"/>
            <a:ext cx="32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edistribuição de R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048120" y="28954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556272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16160" y="6019560"/>
            <a:ext cx="27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Lucida Casual"/>
              </a:rPr>
              <a:t>Renda dos 50% mais 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65520" y="4039920"/>
            <a:ext cx="297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Renda dos 50% mais 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4952880"/>
            <a:ext cx="0" cy="6098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047760" y="4876920"/>
            <a:ext cx="20574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4800600"/>
            <a:ext cx="15228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895480" y="4876920"/>
            <a:ext cx="2286000" cy="914400"/>
            <a:chOff x="2895480" y="4876920"/>
            <a:chExt cx="2286000" cy="914400"/>
          </a:xfrm>
        </p:grpSpPr>
        <p:sp>
          <p:nvSpPr>
            <p:cNvPr id="206" name=""/>
            <p:cNvSpPr/>
            <p:nvPr/>
          </p:nvSpPr>
          <p:spPr>
            <a:xfrm flipH="1">
              <a:off x="3048120" y="5791320"/>
              <a:ext cx="2133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95480" y="4876920"/>
              <a:ext cx="0" cy="6094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 flipH="1">
            <a:off x="4876920" y="2286000"/>
            <a:ext cx="213336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010280" y="2286000"/>
            <a:ext cx="60984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2209680"/>
            <a:ext cx="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0120" y="2209680"/>
            <a:ext cx="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2590920"/>
            <a:ext cx="27432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28960" y="259056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Lucida Casual"/>
              </a:rPr>
              <a:t>Renda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49760" y="19047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36040" y="19047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048120" y="3715920"/>
            <a:ext cx="1836720" cy="184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743200" y="4038480"/>
            <a:ext cx="1752120" cy="1919520"/>
            <a:chOff x="2743200" y="4038480"/>
            <a:chExt cx="1752120" cy="1919520"/>
          </a:xfrm>
        </p:grpSpPr>
        <p:sp>
          <p:nvSpPr>
            <p:cNvPr id="218" name=""/>
            <p:cNvSpPr/>
            <p:nvPr/>
          </p:nvSpPr>
          <p:spPr>
            <a:xfrm flipH="1">
              <a:off x="3047760" y="5958000"/>
              <a:ext cx="1447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743200" y="4038480"/>
              <a:ext cx="0" cy="1447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flipV="1">
            <a:off x="4495680" y="4114800"/>
            <a:ext cx="0" cy="1447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4114800"/>
            <a:ext cx="1447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40384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876560" y="2971800"/>
            <a:ext cx="2743560" cy="413280"/>
            <a:chOff x="4876560" y="2971800"/>
            <a:chExt cx="2743560" cy="413280"/>
          </a:xfrm>
        </p:grpSpPr>
        <p:sp>
          <p:nvSpPr>
            <p:cNvPr id="224" name=""/>
            <p:cNvSpPr/>
            <p:nvPr/>
          </p:nvSpPr>
          <p:spPr>
            <a:xfrm flipH="1">
              <a:off x="4876560" y="2971800"/>
              <a:ext cx="1384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248520" y="2971800"/>
              <a:ext cx="13716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45200" y="304776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Lucida Casual"/>
                </a:rPr>
                <a:t>R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55160" y="3047760"/>
              <a:ext cx="87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8000"/>
                  </a:solidFill>
                  <a:latin typeface="Lucida Casual"/>
                </a:rPr>
                <a:t>Pob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 flipH="1" flipV="1">
            <a:off x="4572000" y="4190760"/>
            <a:ext cx="533520" cy="609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57920" y="3503520"/>
            <a:ext cx="2592360" cy="1432080"/>
          </a:xfrm>
          <a:prstGeom prst="wedgeRoundRectCallout">
            <a:avLst>
              <a:gd name="adj1" fmla="val -87171"/>
              <a:gd name="adj2" fmla="val 18291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Tributaçã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arida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ssistência soci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Vales,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3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991240" y="9136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Bem-estar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53200" y="2056320"/>
            <a:ext cx="32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edistribuição de R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048120" y="28954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556272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16160" y="6019560"/>
            <a:ext cx="27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Lucida Casual"/>
              </a:rPr>
              <a:t>Renda dos 50% mais 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965520" y="4039920"/>
            <a:ext cx="297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Renda dos 50% mais 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4952880"/>
            <a:ext cx="0" cy="6098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047760" y="4876920"/>
            <a:ext cx="20574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4800600"/>
            <a:ext cx="15228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895480" y="4876920"/>
            <a:ext cx="2286000" cy="914400"/>
            <a:chOff x="2895480" y="4876920"/>
            <a:chExt cx="2286000" cy="914400"/>
          </a:xfrm>
        </p:grpSpPr>
        <p:sp>
          <p:nvSpPr>
            <p:cNvPr id="244" name=""/>
            <p:cNvSpPr/>
            <p:nvPr/>
          </p:nvSpPr>
          <p:spPr>
            <a:xfrm flipH="1">
              <a:off x="3048120" y="5791320"/>
              <a:ext cx="2133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5480" y="4876920"/>
              <a:ext cx="0" cy="6094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 flipH="1">
            <a:off x="4876920" y="2286000"/>
            <a:ext cx="213336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010280" y="2286000"/>
            <a:ext cx="60984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76920" y="2209680"/>
            <a:ext cx="0" cy="1371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0120" y="2209680"/>
            <a:ext cx="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25909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28960" y="259056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Renda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49760" y="19047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36040" y="19047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048120" y="3715920"/>
            <a:ext cx="1836720" cy="184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743200" y="4495680"/>
            <a:ext cx="1752120" cy="1462320"/>
            <a:chOff x="2743200" y="4495680"/>
            <a:chExt cx="1752120" cy="1462320"/>
          </a:xfrm>
        </p:grpSpPr>
        <p:sp>
          <p:nvSpPr>
            <p:cNvPr id="256" name=""/>
            <p:cNvSpPr/>
            <p:nvPr/>
          </p:nvSpPr>
          <p:spPr>
            <a:xfrm flipH="1">
              <a:off x="3047760" y="5958000"/>
              <a:ext cx="1447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743200" y="4495680"/>
              <a:ext cx="0" cy="990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 flipV="1">
            <a:off x="4495680" y="4572000"/>
            <a:ext cx="0" cy="990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4572000"/>
            <a:ext cx="1447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4038480"/>
            <a:ext cx="152280" cy="152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876560" y="2967120"/>
            <a:ext cx="1390680" cy="46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4495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876920" y="3352680"/>
            <a:ext cx="2223720" cy="413280"/>
            <a:chOff x="4876920" y="3352680"/>
            <a:chExt cx="2223720" cy="413280"/>
          </a:xfrm>
        </p:grpSpPr>
        <p:sp>
          <p:nvSpPr>
            <p:cNvPr id="264" name=""/>
            <p:cNvSpPr/>
            <p:nvPr/>
          </p:nvSpPr>
          <p:spPr>
            <a:xfrm flipH="1">
              <a:off x="6248520" y="3352680"/>
              <a:ext cx="7617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45200" y="342864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Lucida Casual"/>
                </a:rPr>
                <a:t>R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26560" y="3428640"/>
              <a:ext cx="87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8000"/>
                  </a:solidFill>
                  <a:latin typeface="Lucida Casual"/>
                </a:rPr>
                <a:t>Pob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4876920" y="3352680"/>
              <a:ext cx="1380960" cy="5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 flipH="1">
            <a:off x="6248520" y="2971800"/>
            <a:ext cx="137160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572000" y="4586040"/>
            <a:ext cx="533520" cy="261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010280" y="3352680"/>
            <a:ext cx="609840" cy="0"/>
          </a:xfrm>
          <a:prstGeom prst="line">
            <a:avLst/>
          </a:prstGeom>
          <a:ln w="3816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00600" y="4155480"/>
            <a:ext cx="2851200" cy="916920"/>
          </a:xfrm>
          <a:solidFill>
            <a:srgbClr val="ffcccc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evido à tributaçã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investimento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risco recu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7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991240" y="91368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Bem-estar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53200" y="2056320"/>
            <a:ext cx="32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edistribuição de R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048120" y="28954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556272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16160" y="6019560"/>
            <a:ext cx="27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Lucida Casual"/>
              </a:rPr>
              <a:t>Renda dos 50% mais 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965520" y="4039920"/>
            <a:ext cx="297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Renda dos 50% mais 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4952880"/>
            <a:ext cx="0" cy="6098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047760" y="4876920"/>
            <a:ext cx="20574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4800600"/>
            <a:ext cx="15228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895480" y="4876920"/>
            <a:ext cx="2286000" cy="914400"/>
            <a:chOff x="2895480" y="4876920"/>
            <a:chExt cx="2286000" cy="914400"/>
          </a:xfrm>
        </p:grpSpPr>
        <p:sp>
          <p:nvSpPr>
            <p:cNvPr id="286" name=""/>
            <p:cNvSpPr/>
            <p:nvPr/>
          </p:nvSpPr>
          <p:spPr>
            <a:xfrm flipH="1">
              <a:off x="3048120" y="5791320"/>
              <a:ext cx="2133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95480" y="4876920"/>
              <a:ext cx="0" cy="6094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 flipH="1">
            <a:off x="4876920" y="2286000"/>
            <a:ext cx="213336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7010280" y="2286000"/>
            <a:ext cx="60984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2209680"/>
            <a:ext cx="0" cy="1371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0120" y="2209680"/>
            <a:ext cx="0" cy="914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76920" y="25909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28960" y="259056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Renda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49760" y="190476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36040" y="19047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808080"/>
                </a:solidFill>
                <a:latin typeface="Lucida Casual"/>
              </a:rPr>
              <a:t>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048120" y="3715920"/>
            <a:ext cx="1836720" cy="184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743200" y="4495680"/>
            <a:ext cx="1752120" cy="1462320"/>
            <a:chOff x="2743200" y="4495680"/>
            <a:chExt cx="1752120" cy="1462320"/>
          </a:xfrm>
        </p:grpSpPr>
        <p:sp>
          <p:nvSpPr>
            <p:cNvPr id="298" name=""/>
            <p:cNvSpPr/>
            <p:nvPr/>
          </p:nvSpPr>
          <p:spPr>
            <a:xfrm flipH="1">
              <a:off x="3047760" y="5958000"/>
              <a:ext cx="1447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743200" y="4495680"/>
              <a:ext cx="0" cy="990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V="1">
            <a:off x="4495680" y="4572000"/>
            <a:ext cx="0" cy="9907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8120" y="4572000"/>
            <a:ext cx="1447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4038480"/>
            <a:ext cx="152280" cy="152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876920" y="2971800"/>
            <a:ext cx="137160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248520" y="3352680"/>
            <a:ext cx="761760" cy="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45200" y="342864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Lucida Casual"/>
              </a:rPr>
              <a:t>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26560" y="342864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Lucida Casual"/>
              </a:rPr>
              <a:t>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19720" y="4495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876560" y="3352680"/>
            <a:ext cx="1361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248520" y="2971800"/>
            <a:ext cx="137160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010280" y="3352680"/>
            <a:ext cx="609840" cy="0"/>
          </a:xfrm>
          <a:prstGeom prst="line">
            <a:avLst/>
          </a:prstGeom>
          <a:ln w="3816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4572000" y="4586040"/>
            <a:ext cx="533520" cy="2617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35560" y="4141800"/>
            <a:ext cx="2506680" cy="1303200"/>
          </a:xfrm>
          <a:prstGeom prst="wedgeRoundRectCallout">
            <a:avLst>
              <a:gd name="adj1" fmla="val -8009"/>
              <a:gd name="adj2" fmla="val -106759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O aumento da re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os pobres é men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ue a redução 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renda dos 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1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1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96360" y="3207600"/>
            <a:ext cx="49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fração e Índices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4838760" y="2578680"/>
            <a:ext cx="3432240" cy="3610080"/>
            <a:chOff x="4838760" y="2578680"/>
            <a:chExt cx="3432240" cy="3610080"/>
          </a:xfrm>
        </p:grpSpPr>
        <p:sp>
          <p:nvSpPr>
            <p:cNvPr id="323" name=""/>
            <p:cNvSpPr/>
            <p:nvPr/>
          </p:nvSpPr>
          <p:spPr>
            <a:xfrm flipH="1">
              <a:off x="5089680" y="4770360"/>
              <a:ext cx="9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65920" y="2578680"/>
              <a:ext cx="2841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Lucida Casual"/>
                </a:rPr>
                <a:t>“</a:t>
              </a:r>
              <a:r>
                <a:rPr b="1" lang="en-US" sz="2000" spc="-1" strike="noStrike">
                  <a:solidFill>
                    <a:srgbClr val="0000ff"/>
                  </a:solidFill>
                  <a:latin typeface="Lucida Casual"/>
                </a:rPr>
                <a:t>demand-pull” o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Lucida Casual"/>
                </a:rPr>
                <a:t>inflação de deman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68720" y="5775480"/>
              <a:ext cx="312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197320" y="3457080"/>
              <a:ext cx="0" cy="263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5229360" y="3703680"/>
              <a:ext cx="2468520" cy="1582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3520" y="4405320"/>
              <a:ext cx="2651040" cy="111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04080" y="4708440"/>
              <a:ext cx="107640" cy="106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45560" y="58204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38760" y="3215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994200" y="93024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Inf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19240" y="1845360"/>
            <a:ext cx="72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Inflação = aumento continuado do nível geral de pre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70960" y="2559600"/>
            <a:ext cx="246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“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cost-push” o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inflação de cu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95280" y="5761080"/>
            <a:ext cx="312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523880" y="3443400"/>
            <a:ext cx="0" cy="2636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555920" y="4844880"/>
            <a:ext cx="2422440" cy="702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39720" y="3962520"/>
            <a:ext cx="23464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08240" y="5029200"/>
            <a:ext cx="108000" cy="106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1431720" y="508464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41880" y="5820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35080" y="31996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249200" y="4389480"/>
            <a:ext cx="0" cy="79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26680" y="4313160"/>
            <a:ext cx="2551680" cy="959040"/>
            <a:chOff x="1426680" y="4313160"/>
            <a:chExt cx="2551680" cy="959040"/>
          </a:xfrm>
        </p:grpSpPr>
        <p:sp>
          <p:nvSpPr>
            <p:cNvPr id="345" name=""/>
            <p:cNvSpPr/>
            <p:nvPr/>
          </p:nvSpPr>
          <p:spPr>
            <a:xfrm flipV="1">
              <a:off x="1555920" y="4313160"/>
              <a:ext cx="2422440" cy="959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06840" y="4749840"/>
              <a:ext cx="107640" cy="106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1426680" y="4800600"/>
              <a:ext cx="12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3673440" y="4465800"/>
              <a:ext cx="0" cy="411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432080" y="3780000"/>
            <a:ext cx="2469960" cy="1203120"/>
            <a:chOff x="1432080" y="3780000"/>
            <a:chExt cx="2469960" cy="1203120"/>
          </a:xfrm>
        </p:grpSpPr>
        <p:sp>
          <p:nvSpPr>
            <p:cNvPr id="350" name=""/>
            <p:cNvSpPr/>
            <p:nvPr/>
          </p:nvSpPr>
          <p:spPr>
            <a:xfrm flipH="1">
              <a:off x="1432080" y="4560840"/>
              <a:ext cx="9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555920" y="3780000"/>
              <a:ext cx="2346120" cy="12031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46480" y="4505400"/>
              <a:ext cx="107640" cy="106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673440" y="3948120"/>
              <a:ext cx="0" cy="411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089680" y="4175280"/>
            <a:ext cx="2743200" cy="1234800"/>
            <a:chOff x="5089680" y="4175280"/>
            <a:chExt cx="2743200" cy="1234800"/>
          </a:xfrm>
        </p:grpSpPr>
        <p:sp>
          <p:nvSpPr>
            <p:cNvPr id="355" name=""/>
            <p:cNvSpPr/>
            <p:nvPr/>
          </p:nvSpPr>
          <p:spPr>
            <a:xfrm>
              <a:off x="5213520" y="4175280"/>
              <a:ext cx="2619360" cy="88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08640" y="4502160"/>
              <a:ext cx="108000" cy="106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089680" y="4556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7620120" y="4998960"/>
              <a:ext cx="0" cy="411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V="1">
            <a:off x="4937040" y="4160880"/>
            <a:ext cx="0" cy="79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105160" y="3948120"/>
            <a:ext cx="2713320" cy="1020600"/>
            <a:chOff x="5105160" y="3948120"/>
            <a:chExt cx="2713320" cy="1020600"/>
          </a:xfrm>
        </p:grpSpPr>
        <p:sp>
          <p:nvSpPr>
            <p:cNvPr id="361" name=""/>
            <p:cNvSpPr/>
            <p:nvPr/>
          </p:nvSpPr>
          <p:spPr>
            <a:xfrm>
              <a:off x="5213520" y="3948120"/>
              <a:ext cx="2604960" cy="66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59640" y="4281480"/>
              <a:ext cx="108000" cy="106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5105160" y="4341960"/>
              <a:ext cx="153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04280" y="4557600"/>
              <a:ext cx="0" cy="411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6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200400" y="105264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Índice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844640" y="1859040"/>
          <a:ext cx="5715000" cy="272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4640" y="1859040"/>
                    <a:ext cx="571500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2" name=""/>
          <p:cNvGrpSpPr/>
          <p:nvPr/>
        </p:nvGrpSpPr>
        <p:grpSpPr>
          <a:xfrm>
            <a:off x="967680" y="4450680"/>
            <a:ext cx="7454160" cy="718920"/>
            <a:chOff x="967680" y="4450680"/>
            <a:chExt cx="7454160" cy="718920"/>
          </a:xfrm>
        </p:grpSpPr>
        <p:sp>
          <p:nvSpPr>
            <p:cNvPr id="373" name=""/>
            <p:cNvSpPr/>
            <p:nvPr/>
          </p:nvSpPr>
          <p:spPr>
            <a:xfrm>
              <a:off x="967680" y="4584240"/>
              <a:ext cx="785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</a:rPr>
                <a:t>ma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24040" y="4800600"/>
              <a:ext cx="334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37000" y="4450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2840" y="4801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77920" y="4588560"/>
              <a:ext cx="63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,01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1,02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990099"/>
                  </a:solidFill>
                  <a:latin typeface="Arial"/>
                </a:rPr>
                <a:t>1,04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1,08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,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,28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) = 1,345 (ou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4,5%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870200" y="5254560"/>
            <a:ext cx="5984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mp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,0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x 0,25 +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1,0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x 0,25 +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1,04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x 0,2 +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1,08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x 0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x 0,05 +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,28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 0,05 = 1,1275 (ou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,75%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44640" y="5245200"/>
            <a:ext cx="6066000" cy="731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4144680" y="4493880"/>
            <a:ext cx="1646640" cy="611640"/>
            <a:chOff x="4144680" y="4493880"/>
            <a:chExt cx="1646640" cy="611640"/>
          </a:xfrm>
        </p:grpSpPr>
        <p:sp>
          <p:nvSpPr>
            <p:cNvPr id="381" name=""/>
            <p:cNvSpPr/>
            <p:nvPr/>
          </p:nvSpPr>
          <p:spPr>
            <a:xfrm flipV="1">
              <a:off x="4160880" y="4495680"/>
              <a:ext cx="163044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4144680" y="4493880"/>
              <a:ext cx="163044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85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200400" y="105264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Índice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685800" y="1752480"/>
          <a:ext cx="8458200" cy="301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4582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800640" y="4804200"/>
            <a:ext cx="21560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Laspeyr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    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400840" y="4704840"/>
            <a:ext cx="38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22440" y="5105520"/>
            <a:ext cx="335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90040" y="514800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56000" y="463320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541600" y="506016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2600" y="512064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046320" y="4647600"/>
            <a:ext cx="1265400" cy="904320"/>
            <a:chOff x="3046320" y="4647600"/>
            <a:chExt cx="1265400" cy="904320"/>
          </a:xfrm>
        </p:grpSpPr>
        <p:sp>
          <p:nvSpPr>
            <p:cNvPr id="398" name=""/>
            <p:cNvSpPr/>
            <p:nvPr/>
          </p:nvSpPr>
          <p:spPr>
            <a:xfrm>
              <a:off x="3046320" y="5103720"/>
              <a:ext cx="1265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64760" y="5150520"/>
              <a:ext cx="102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(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   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56720" y="5146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505872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91520" y="5146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43440" y="505872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48720" y="473508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00640" y="464760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83880" y="473508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35440" y="464760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414320" y="4617360"/>
            <a:ext cx="1648080" cy="934560"/>
            <a:chOff x="4414320" y="4617360"/>
            <a:chExt cx="1648080" cy="934560"/>
          </a:xfrm>
        </p:grpSpPr>
        <p:sp>
          <p:nvSpPr>
            <p:cNvPr id="409" name=""/>
            <p:cNvSpPr/>
            <p:nvPr/>
          </p:nvSpPr>
          <p:spPr>
            <a:xfrm>
              <a:off x="4797360" y="5103720"/>
              <a:ext cx="12650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91760" y="51505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07760" y="5146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359320" y="505872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42560" y="5146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94480" y="505872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93560" y="470916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18560" y="470520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61120" y="4617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44360" y="4705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95920" y="4617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14320" y="4920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808920" y="4201560"/>
            <a:ext cx="616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mp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,01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 0,25 + ... +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,28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 0,05 = 1,1275 (ou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,75%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24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987440" y="5591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2,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913000" y="559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4x12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71000" y="5957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0400" y="105264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Índice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685800" y="1752480"/>
          <a:ext cx="8458200" cy="301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4582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800640" y="4804200"/>
            <a:ext cx="21560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Laspeyr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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     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00840" y="4704840"/>
            <a:ext cx="38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22440" y="5105520"/>
            <a:ext cx="335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90040" y="514800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56000" y="463320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41600" y="506016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92600" y="512064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046320" y="4647600"/>
            <a:ext cx="1265400" cy="904320"/>
            <a:chOff x="3046320" y="4647600"/>
            <a:chExt cx="1265400" cy="904320"/>
          </a:xfrm>
        </p:grpSpPr>
        <p:sp>
          <p:nvSpPr>
            <p:cNvPr id="440" name=""/>
            <p:cNvSpPr/>
            <p:nvPr/>
          </p:nvSpPr>
          <p:spPr>
            <a:xfrm>
              <a:off x="3046320" y="5103720"/>
              <a:ext cx="1265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64760" y="5150520"/>
              <a:ext cx="102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(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      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56720" y="5146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08280" y="505872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91520" y="5146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43440" y="505872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48720" y="473508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00640" y="464760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83880" y="473508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35440" y="464760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623240" y="5760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414320" y="4617360"/>
            <a:ext cx="1648080" cy="934560"/>
            <a:chOff x="4414320" y="4617360"/>
            <a:chExt cx="1648080" cy="934560"/>
          </a:xfrm>
        </p:grpSpPr>
        <p:sp>
          <p:nvSpPr>
            <p:cNvPr id="452" name=""/>
            <p:cNvSpPr/>
            <p:nvPr/>
          </p:nvSpPr>
          <p:spPr>
            <a:xfrm>
              <a:off x="4797360" y="5103720"/>
              <a:ext cx="12650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91760" y="51505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07760" y="5146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59320" y="505872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42560" y="5146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94480" y="505872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93560" y="470916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18560" y="470520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361120" y="4617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44360" y="4705200"/>
              <a:ext cx="40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q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695920" y="4617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14320" y="4920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011320" y="5959440"/>
            <a:ext cx="716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71000" y="5591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0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833560" y="5959440"/>
            <a:ext cx="1065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95480" y="559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x5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49040" y="59587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00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00760" y="577620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+ ...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47080" y="4201560"/>
            <a:ext cx="608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mp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,01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 0,25 + ... +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2,28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 0,05 = 1,1275 (ou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,75%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87440" y="5957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2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27760" y="5959440"/>
            <a:ext cx="7156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850000" y="5959440"/>
            <a:ext cx="10652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865120" y="59587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.000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77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116800" y="960480"/>
            <a:ext cx="50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Principais Índices de Pre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53400" y="2685600"/>
            <a:ext cx="60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IBGE: IPCA - Índice de Preços ao Consumidor Amp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11 regiões do país, 1-40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5560" y="3477600"/>
            <a:ext cx="58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FIPE: IPC - Índice de Preços ao Consumidor Amp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Município de São Paulo, 1-20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0080" y="4254120"/>
            <a:ext cx="51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DIEESE: ICV - Índice de Custo de 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Região Metropolitana de São Paulo, 1-30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960" y="1951920"/>
            <a:ext cx="63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IBGE: INPC - Índice Nacional de Preços ao 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11 regiões do país, 1-8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42400" y="5074560"/>
            <a:ext cx="71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sual"/>
              </a:rPr>
              <a:t>FGV: IGP-M - Índice Geral de Preços do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RJ + SP + 10 regiões, 1-33 SM, inclui construção civil e ata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8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FIP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4240" y="3097080"/>
            <a:ext cx="58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Lucida Casual"/>
              </a:rPr>
              <a:t>Cenário Sócio-Econô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527920" y="11415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Composição do IPC-FI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2484360" y="2362320"/>
          <a:ext cx="4632480" cy="298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362320"/>
                    <a:ext cx="463248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95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SALMI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diees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457200" y="3695760"/>
            <a:ext cx="8096400" cy="1047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diees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0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92760" y="320760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Salá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728160" y="914400"/>
            <a:ext cx="22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Salário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57200" y="511956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509840" y="214776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63840" y="52268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96480" y="255996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Custo de 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94000" y="2651040"/>
            <a:ext cx="2590560" cy="1951200"/>
          </a:xfrm>
          <a:custGeom>
            <a:avLst/>
            <a:gdLst/>
            <a:ahLst/>
            <a:rect l="l" t="t" r="r" b="b"/>
            <a:pathLst>
              <a:path w="1632" h="1229">
                <a:moveTo>
                  <a:pt x="0" y="1229"/>
                </a:moveTo>
                <a:cubicBezTo>
                  <a:pt x="189" y="1152"/>
                  <a:pt x="378" y="1075"/>
                  <a:pt x="557" y="970"/>
                </a:cubicBezTo>
                <a:cubicBezTo>
                  <a:pt x="736" y="865"/>
                  <a:pt x="896" y="758"/>
                  <a:pt x="1075" y="596"/>
                </a:cubicBezTo>
                <a:cubicBezTo>
                  <a:pt x="1254" y="434"/>
                  <a:pt x="1443" y="217"/>
                  <a:pt x="1632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346480" y="2682360"/>
            <a:ext cx="1690560" cy="1919520"/>
            <a:chOff x="2346480" y="2682360"/>
            <a:chExt cx="1690560" cy="1919520"/>
          </a:xfrm>
        </p:grpSpPr>
        <p:sp>
          <p:nvSpPr>
            <p:cNvPr id="513" name=""/>
            <p:cNvSpPr/>
            <p:nvPr/>
          </p:nvSpPr>
          <p:spPr>
            <a:xfrm flipV="1">
              <a:off x="2346480" y="4220640"/>
              <a:ext cx="0" cy="3812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3200400" y="3629160"/>
              <a:ext cx="0" cy="591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4037040" y="2682360"/>
              <a:ext cx="0" cy="9306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3138480" y="2895480"/>
            <a:ext cx="214200" cy="5176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508040" y="3554280"/>
            <a:ext cx="2590920" cy="1524960"/>
            <a:chOff x="1508040" y="3554280"/>
            <a:chExt cx="2590920" cy="1524960"/>
          </a:xfrm>
        </p:grpSpPr>
        <p:sp>
          <p:nvSpPr>
            <p:cNvPr id="518" name=""/>
            <p:cNvSpPr/>
            <p:nvPr/>
          </p:nvSpPr>
          <p:spPr>
            <a:xfrm>
              <a:off x="1508040" y="4587840"/>
              <a:ext cx="8384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60520" y="4222800"/>
              <a:ext cx="8384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14800" y="3627360"/>
              <a:ext cx="838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12160" y="471096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Salá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2820600" y="4251240"/>
              <a:ext cx="196920" cy="487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54320" y="451656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06800" y="415116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46680" y="355428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016720" y="164700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Inflação A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862280" y="566820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Salário Real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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816440" y="1631160"/>
            <a:ext cx="3217320" cy="4435920"/>
            <a:chOff x="4816440" y="1631160"/>
            <a:chExt cx="3217320" cy="4435920"/>
          </a:xfrm>
        </p:grpSpPr>
        <p:sp>
          <p:nvSpPr>
            <p:cNvPr id="529" name=""/>
            <p:cNvSpPr/>
            <p:nvPr/>
          </p:nvSpPr>
          <p:spPr>
            <a:xfrm>
              <a:off x="4816440" y="511956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4968720" y="214776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38920" y="52128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549760" y="163116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Lucida Casual"/>
                </a:rPr>
                <a:t>Inflação Baix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97520" y="4649760"/>
              <a:ext cx="83808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5835600" y="4432320"/>
              <a:ext cx="1800" cy="231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6689880" y="4074840"/>
              <a:ext cx="1440" cy="36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703920" y="4070520"/>
              <a:ext cx="838440" cy="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83120" y="3475080"/>
              <a:ext cx="2590920" cy="1189080"/>
            </a:xfrm>
            <a:custGeom>
              <a:avLst/>
              <a:gdLst/>
              <a:ahLst/>
              <a:rect l="l" t="t" r="r" b="b"/>
              <a:pathLst>
                <a:path w="1632" h="1229">
                  <a:moveTo>
                    <a:pt x="0" y="1229"/>
                  </a:moveTo>
                  <a:cubicBezTo>
                    <a:pt x="189" y="1152"/>
                    <a:pt x="378" y="1075"/>
                    <a:pt x="557" y="970"/>
                  </a:cubicBezTo>
                  <a:cubicBezTo>
                    <a:pt x="736" y="865"/>
                    <a:pt x="896" y="758"/>
                    <a:pt x="1075" y="596"/>
                  </a:cubicBezTo>
                  <a:cubicBezTo>
                    <a:pt x="1254" y="434"/>
                    <a:pt x="1443" y="217"/>
                    <a:pt x="1632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540560" y="3489480"/>
              <a:ext cx="1800" cy="5666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51440" y="4437000"/>
              <a:ext cx="83844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08000" y="3002760"/>
              <a:ext cx="173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Lucida Casual"/>
                </a:rPr>
                <a:t>Custo de V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50000" y="3338640"/>
              <a:ext cx="214200" cy="5173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63560" y="454104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Salá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7240320" y="4051080"/>
              <a:ext cx="196920" cy="487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653440" y="566820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Salário Real </a:t>
              </a: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59280" y="4592520"/>
              <a:ext cx="15264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97720" y="436392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451640" y="3998880"/>
              <a:ext cx="15264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5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631680" y="91440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Desempr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666880" y="5181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819520" y="22096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068560" y="2056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W/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81320" y="51807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00400" y="2590920"/>
            <a:ext cx="2971800" cy="1981080"/>
          </a:xfrm>
          <a:custGeom>
            <a:avLst/>
            <a:gdLst/>
            <a:ahLst/>
            <a:rect l="l" t="t" r="r" b="b"/>
            <a:pathLst>
              <a:path w="2026" h="1258">
                <a:moveTo>
                  <a:pt x="0" y="1258"/>
                </a:moveTo>
                <a:cubicBezTo>
                  <a:pt x="138" y="1220"/>
                  <a:pt x="567" y="1138"/>
                  <a:pt x="826" y="1028"/>
                </a:cubicBezTo>
                <a:cubicBezTo>
                  <a:pt x="1085" y="918"/>
                  <a:pt x="1355" y="767"/>
                  <a:pt x="1555" y="596"/>
                </a:cubicBezTo>
                <a:cubicBezTo>
                  <a:pt x="1755" y="425"/>
                  <a:pt x="1928" y="124"/>
                  <a:pt x="2026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76720" y="2743200"/>
            <a:ext cx="2987640" cy="1981080"/>
          </a:xfrm>
          <a:custGeom>
            <a:avLst/>
            <a:gdLst/>
            <a:ahLst/>
            <a:rect l="l" t="t" r="r" b="b"/>
            <a:pathLst>
              <a:path w="1882" h="1248">
                <a:moveTo>
                  <a:pt x="0" y="0"/>
                </a:moveTo>
                <a:cubicBezTo>
                  <a:pt x="80" y="29"/>
                  <a:pt x="301" y="91"/>
                  <a:pt x="479" y="176"/>
                </a:cubicBezTo>
                <a:cubicBezTo>
                  <a:pt x="656" y="261"/>
                  <a:pt x="880" y="378"/>
                  <a:pt x="1066" y="510"/>
                </a:cubicBezTo>
                <a:cubicBezTo>
                  <a:pt x="1252" y="641"/>
                  <a:pt x="1459" y="841"/>
                  <a:pt x="1595" y="964"/>
                </a:cubicBezTo>
                <a:cubicBezTo>
                  <a:pt x="1731" y="1087"/>
                  <a:pt x="1822" y="1189"/>
                  <a:pt x="1882" y="1248"/>
                </a:cubicBezTo>
              </a:path>
            </a:pathLst>
          </a:custGeom>
          <a:noFill/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35400" y="3678120"/>
            <a:ext cx="15264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758680" y="37497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11720" y="3825720"/>
            <a:ext cx="0" cy="141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483560" y="3123720"/>
            <a:ext cx="4353840" cy="734760"/>
            <a:chOff x="1483560" y="3123720"/>
            <a:chExt cx="4353840" cy="734760"/>
          </a:xfrm>
        </p:grpSpPr>
        <p:sp>
          <p:nvSpPr>
            <p:cNvPr id="563" name=""/>
            <p:cNvSpPr/>
            <p:nvPr/>
          </p:nvSpPr>
          <p:spPr>
            <a:xfrm>
              <a:off x="2759040" y="3292560"/>
              <a:ext cx="307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530440" y="3123720"/>
              <a:ext cx="0" cy="731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483560" y="3215880"/>
              <a:ext cx="97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Salá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Re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310280" y="2285280"/>
            <a:ext cx="1630080" cy="854640"/>
            <a:chOff x="4310280" y="2285280"/>
            <a:chExt cx="1630080" cy="854640"/>
          </a:xfrm>
        </p:grpSpPr>
        <p:sp>
          <p:nvSpPr>
            <p:cNvPr id="567" name=""/>
            <p:cNvSpPr/>
            <p:nvPr/>
          </p:nvSpPr>
          <p:spPr>
            <a:xfrm flipV="1">
              <a:off x="4541760" y="2712960"/>
              <a:ext cx="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5700600" y="2712960"/>
              <a:ext cx="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56160" y="2895480"/>
              <a:ext cx="11430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310280" y="2285280"/>
              <a:ext cx="16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Desempre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6144120" y="22996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56080" y="4647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471920" y="3218040"/>
            <a:ext cx="1314360" cy="155520"/>
            <a:chOff x="4471920" y="3218040"/>
            <a:chExt cx="1314360" cy="155520"/>
          </a:xfrm>
        </p:grpSpPr>
        <p:sp>
          <p:nvSpPr>
            <p:cNvPr id="574" name=""/>
            <p:cNvSpPr/>
            <p:nvPr/>
          </p:nvSpPr>
          <p:spPr>
            <a:xfrm>
              <a:off x="5634000" y="322092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71920" y="321804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7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1012680" y="847800"/>
          <a:ext cx="7185240" cy="49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847800"/>
                    <a:ext cx="718524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"/>
          <p:cNvSpPr/>
          <p:nvPr/>
        </p:nvSpPr>
        <p:spPr>
          <a:xfrm>
            <a:off x="420120" y="5713560"/>
            <a:ext cx="692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asual"/>
              </a:rPr>
              <a:t>Obs: Dados da DIE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asu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Lucida Casual"/>
              </a:rPr>
              <a:t>Expurgados os pontos correspondentes a ‘planos econômic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5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OPE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TXDESEM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N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9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622240" y="3207600"/>
            <a:ext cx="41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omércio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730240" y="858240"/>
            <a:ext cx="41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Comércio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87840" y="3535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940120" y="1873080"/>
            <a:ext cx="0" cy="332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73440" y="504360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2940120" y="2529000"/>
            <a:ext cx="3384360" cy="1890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940120" y="2529000"/>
            <a:ext cx="3475080" cy="20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61240" y="5106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03800" y="1661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32400" y="3444840"/>
            <a:ext cx="1141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757600" y="3505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408200" y="5177880"/>
            <a:ext cx="88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sem i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07520" y="3288960"/>
            <a:ext cx="56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n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0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3581280" y="5565600"/>
            <a:ext cx="3917160" cy="780480"/>
            <a:chOff x="3581280" y="5565600"/>
            <a:chExt cx="3917160" cy="780480"/>
          </a:xfrm>
        </p:grpSpPr>
        <p:sp>
          <p:nvSpPr>
            <p:cNvPr id="611" name=""/>
            <p:cNvSpPr/>
            <p:nvPr/>
          </p:nvSpPr>
          <p:spPr>
            <a:xfrm>
              <a:off x="5564160" y="5565600"/>
              <a:ext cx="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81280" y="5668920"/>
              <a:ext cx="1981440" cy="15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106240" y="5977800"/>
              <a:ext cx="239220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724" y="6562"/>
                  </a:moveTo>
                  <a:lnTo>
                    <a:pt x="-7150" y="6562"/>
                  </a:lnTo>
                  <a:lnTo>
                    <a:pt x="-7150" y="-3372"/>
                  </a:lnTo>
                  <a:lnTo>
                    <a:pt x="-5463" y="-17445"/>
                  </a:lnTo>
                </a:path>
                <a:path w="21600" h="21600">
                  <a:moveTo>
                    <a:pt x="-724" y="0"/>
                  </a:moveTo>
                  <a:lnTo>
                    <a:pt x="-724" y="21600"/>
                  </a:lnTo>
                </a:path>
              </a:pathLst>
            </a:custGeom>
            <a:solidFill>
              <a:srgbClr val="ff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roduto Import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2936880" y="2530440"/>
            <a:ext cx="2617920" cy="1538280"/>
          </a:xfrm>
          <a:custGeom>
            <a:avLst/>
            <a:gdLst/>
            <a:ahLst/>
            <a:rect l="l" t="t" r="r" b="b"/>
            <a:pathLst>
              <a:path w="1649" h="969">
                <a:moveTo>
                  <a:pt x="0" y="0"/>
                </a:moveTo>
                <a:lnTo>
                  <a:pt x="1649" y="969"/>
                </a:lnTo>
                <a:lnTo>
                  <a:pt x="3" y="969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562720" y="408456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581280" y="408456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7840" y="3535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2940120" y="1873080"/>
            <a:ext cx="0" cy="332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773440" y="504360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940120" y="2529000"/>
            <a:ext cx="3384360" cy="1890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940120" y="2529000"/>
            <a:ext cx="3475080" cy="20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1240" y="5106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03800" y="1661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2757600" y="3505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08200" y="5177880"/>
            <a:ext cx="88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969696"/>
                </a:solidFill>
                <a:latin typeface="Lucida Casual"/>
              </a:rPr>
              <a:t>sem i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7520" y="3288960"/>
            <a:ext cx="56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969696"/>
                </a:solidFill>
                <a:latin typeface="Lucida Casual"/>
              </a:rPr>
              <a:t>n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2773440" y="4068720"/>
            <a:ext cx="27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191680" y="38365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g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505480" y="4008600"/>
            <a:ext cx="114120" cy="115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25840" y="4010040"/>
            <a:ext cx="1141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411160" y="5163840"/>
            <a:ext cx="64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93360" y="5303880"/>
            <a:ext cx="2887920" cy="1040400"/>
            <a:chOff x="693360" y="5303880"/>
            <a:chExt cx="2887920" cy="1040400"/>
          </a:xfrm>
        </p:grpSpPr>
        <p:sp>
          <p:nvSpPr>
            <p:cNvPr id="633" name=""/>
            <p:cNvSpPr/>
            <p:nvPr/>
          </p:nvSpPr>
          <p:spPr>
            <a:xfrm>
              <a:off x="2941560" y="5303880"/>
              <a:ext cx="0" cy="5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81280" y="5318280"/>
              <a:ext cx="0" cy="5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41560" y="5667480"/>
              <a:ext cx="609840" cy="14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3360" y="5976000"/>
              <a:ext cx="21787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3" y="6562"/>
                  </a:moveTo>
                  <a:lnTo>
                    <a:pt x="26937" y="6562"/>
                  </a:lnTo>
                  <a:lnTo>
                    <a:pt x="26937" y="-4466"/>
                  </a:lnTo>
                  <a:lnTo>
                    <a:pt x="25789" y="-18373"/>
                  </a:lnTo>
                </a:path>
                <a:path w="21600" h="21600">
                  <a:moveTo>
                    <a:pt x="22403" y="0"/>
                  </a:moveTo>
                  <a:lnTo>
                    <a:pt x="22403" y="21600"/>
                  </a:lnTo>
                </a:path>
              </a:pathLst>
            </a:custGeom>
            <a:solidFill>
              <a:srgbClr val="ffcccc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Lucida Casual"/>
                </a:rPr>
                <a:t>Produto Na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2941560" y="2530440"/>
            <a:ext cx="1660680" cy="977760"/>
          </a:xfrm>
          <a:custGeom>
            <a:avLst/>
            <a:gdLst/>
            <a:ahLst/>
            <a:rect l="l" t="t" r="r" b="b"/>
            <a:pathLst>
              <a:path w="1046" h="616">
                <a:moveTo>
                  <a:pt x="0" y="0"/>
                </a:moveTo>
                <a:lnTo>
                  <a:pt x="1046" y="616"/>
                </a:lnTo>
                <a:lnTo>
                  <a:pt x="0" y="61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32400" y="3444840"/>
            <a:ext cx="1141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4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730240" y="858240"/>
            <a:ext cx="41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Comércio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581280" y="4068720"/>
            <a:ext cx="1981440" cy="976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941560" y="4068720"/>
            <a:ext cx="639720" cy="9684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581280" y="5565600"/>
            <a:ext cx="3917160" cy="780480"/>
            <a:chOff x="3581280" y="5565600"/>
            <a:chExt cx="3917160" cy="780480"/>
          </a:xfrm>
        </p:grpSpPr>
        <p:sp>
          <p:nvSpPr>
            <p:cNvPr id="647" name=""/>
            <p:cNvSpPr/>
            <p:nvPr/>
          </p:nvSpPr>
          <p:spPr>
            <a:xfrm>
              <a:off x="5564160" y="5565600"/>
              <a:ext cx="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81280" y="5668920"/>
              <a:ext cx="1981440" cy="15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106240" y="5977800"/>
              <a:ext cx="239220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724" y="6562"/>
                  </a:moveTo>
                  <a:lnTo>
                    <a:pt x="-7150" y="6562"/>
                  </a:lnTo>
                  <a:lnTo>
                    <a:pt x="-7150" y="-3372"/>
                  </a:lnTo>
                  <a:lnTo>
                    <a:pt x="-5463" y="-17445"/>
                  </a:lnTo>
                </a:path>
                <a:path w="21600" h="21600">
                  <a:moveTo>
                    <a:pt x="-724" y="0"/>
                  </a:moveTo>
                  <a:lnTo>
                    <a:pt x="-724" y="21600"/>
                  </a:lnTo>
                </a:path>
              </a:pathLst>
            </a:custGeom>
            <a:solidFill>
              <a:srgbClr val="ffcc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roduto Import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2936880" y="2530440"/>
            <a:ext cx="2617920" cy="1538280"/>
          </a:xfrm>
          <a:custGeom>
            <a:avLst/>
            <a:gdLst/>
            <a:ahLst/>
            <a:rect l="l" t="t" r="r" b="b"/>
            <a:pathLst>
              <a:path w="1649" h="969">
                <a:moveTo>
                  <a:pt x="0" y="0"/>
                </a:moveTo>
                <a:lnTo>
                  <a:pt x="1649" y="969"/>
                </a:lnTo>
                <a:lnTo>
                  <a:pt x="3" y="969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62720" y="408456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581280" y="408456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87840" y="3535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940120" y="1873080"/>
            <a:ext cx="0" cy="332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773440" y="504360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2940120" y="2529000"/>
            <a:ext cx="3384360" cy="189072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940120" y="2529000"/>
            <a:ext cx="3475080" cy="20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61240" y="51062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503800" y="1661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757600" y="3505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08200" y="5177880"/>
            <a:ext cx="88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969696"/>
                </a:solidFill>
                <a:latin typeface="Lucida Casual"/>
              </a:rPr>
              <a:t>sem i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07520" y="3288960"/>
            <a:ext cx="56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969696"/>
                </a:solidFill>
                <a:latin typeface="Lucida Casual"/>
              </a:rPr>
              <a:t>n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773440" y="4068720"/>
            <a:ext cx="27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91680" y="38365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g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505480" y="4008600"/>
            <a:ext cx="114120" cy="115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25840" y="4010040"/>
            <a:ext cx="1141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1160" y="5163840"/>
            <a:ext cx="64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693360" y="5303880"/>
            <a:ext cx="2887920" cy="1040400"/>
            <a:chOff x="693360" y="5303880"/>
            <a:chExt cx="2887920" cy="1040400"/>
          </a:xfrm>
        </p:grpSpPr>
        <p:sp>
          <p:nvSpPr>
            <p:cNvPr id="669" name=""/>
            <p:cNvSpPr/>
            <p:nvPr/>
          </p:nvSpPr>
          <p:spPr>
            <a:xfrm>
              <a:off x="2941560" y="5303880"/>
              <a:ext cx="0" cy="5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81280" y="5318280"/>
              <a:ext cx="0" cy="5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41560" y="5667480"/>
              <a:ext cx="609840" cy="14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3360" y="5976000"/>
              <a:ext cx="217872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3" y="6562"/>
                  </a:moveTo>
                  <a:lnTo>
                    <a:pt x="26937" y="6562"/>
                  </a:lnTo>
                  <a:lnTo>
                    <a:pt x="26937" y="-4466"/>
                  </a:lnTo>
                  <a:lnTo>
                    <a:pt x="25789" y="-18373"/>
                  </a:lnTo>
                </a:path>
                <a:path w="21600" h="21600">
                  <a:moveTo>
                    <a:pt x="22403" y="0"/>
                  </a:moveTo>
                  <a:lnTo>
                    <a:pt x="22403" y="21600"/>
                  </a:lnTo>
                </a:path>
              </a:pathLst>
            </a:custGeom>
            <a:solidFill>
              <a:srgbClr val="ffcccc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Lucida Casual"/>
                </a:rPr>
                <a:t>Produto Na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941560" y="2530440"/>
            <a:ext cx="1660680" cy="977760"/>
          </a:xfrm>
          <a:custGeom>
            <a:avLst/>
            <a:gdLst/>
            <a:ahLst/>
            <a:rect l="l" t="t" r="r" b="b"/>
            <a:pathLst>
              <a:path w="1046" h="616">
                <a:moveTo>
                  <a:pt x="0" y="0"/>
                </a:moveTo>
                <a:lnTo>
                  <a:pt x="1046" y="616"/>
                </a:lnTo>
                <a:lnTo>
                  <a:pt x="0" y="61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2400" y="3444840"/>
            <a:ext cx="1141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7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730240" y="858240"/>
            <a:ext cx="41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Comércio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263400" y="94860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Taxa de Câ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739160" y="2588400"/>
            <a:ext cx="61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Taxa de Câmbio = preço da moeda estrangei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55160" y="3448440"/>
            <a:ext cx="3846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Exemplo</a:t>
            </a: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: compra, 29 set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US$ = 1.849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FF = 0.2495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¥ = 0,01722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Lucida Casual"/>
              </a:rPr>
              <a:t>£ = 2.7119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8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288600" y="8532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Âncora Camb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01400" y="190728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1 kg de açúcar = V$ 1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661200" y="19090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Lucida Casual"/>
              </a:rPr>
              <a:t>V$ 1,00 = R$ 1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52520" y="149616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País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624720" y="1480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Bra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988240" y="189324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1 R$ = 1 kg de açú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5705280" y="2349360"/>
            <a:ext cx="1657440" cy="716040"/>
            <a:chOff x="5705280" y="2349360"/>
            <a:chExt cx="1657440" cy="716040"/>
          </a:xfrm>
        </p:grpSpPr>
        <p:sp>
          <p:nvSpPr>
            <p:cNvPr id="694" name=""/>
            <p:cNvSpPr/>
            <p:nvPr/>
          </p:nvSpPr>
          <p:spPr>
            <a:xfrm>
              <a:off x="6889680" y="2349360"/>
              <a:ext cx="473040" cy="716040"/>
            </a:xfrm>
            <a:prstGeom prst="downArrow">
              <a:avLst>
                <a:gd name="adj1" fmla="val 50000"/>
                <a:gd name="adj2" fmla="val 3784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705280" y="2486520"/>
              <a:ext cx="122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Lucida Casual"/>
                </a:rPr>
                <a:t>Infl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5486760" y="4392720"/>
            <a:ext cx="325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Lucida Casual"/>
              </a:rPr>
              <a:t>1 kg açúcar = R$ 2,00 no Bras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Lucida Casual"/>
              </a:rPr>
              <a:t>   </a:t>
            </a:r>
            <a:r>
              <a:rPr b="1" lang="en-US" sz="1600" spc="-1" strike="noStrike">
                <a:solidFill>
                  <a:srgbClr val="3333ff"/>
                </a:solidFill>
                <a:latin typeface="Lucida Casual"/>
              </a:rPr>
              <a:t>R$ 1,00 no País V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5617080" y="3551400"/>
            <a:ext cx="1775880" cy="715680"/>
            <a:chOff x="5617080" y="3551400"/>
            <a:chExt cx="1775880" cy="715680"/>
          </a:xfrm>
        </p:grpSpPr>
        <p:sp>
          <p:nvSpPr>
            <p:cNvPr id="698" name=""/>
            <p:cNvSpPr/>
            <p:nvPr/>
          </p:nvSpPr>
          <p:spPr>
            <a:xfrm>
              <a:off x="5617080" y="3702600"/>
              <a:ext cx="11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Lucida Casual"/>
                </a:rPr>
                <a:t>R$ f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19920" y="3551400"/>
              <a:ext cx="473040" cy="715680"/>
            </a:xfrm>
            <a:prstGeom prst="downArrow">
              <a:avLst>
                <a:gd name="adj1" fmla="val 50000"/>
                <a:gd name="adj2" fmla="val 3782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6202080" y="5032440"/>
            <a:ext cx="1962360" cy="1172520"/>
            <a:chOff x="6202080" y="5032440"/>
            <a:chExt cx="1962360" cy="1172520"/>
          </a:xfrm>
        </p:grpSpPr>
        <p:sp>
          <p:nvSpPr>
            <p:cNvPr id="701" name=""/>
            <p:cNvSpPr/>
            <p:nvPr/>
          </p:nvSpPr>
          <p:spPr>
            <a:xfrm>
              <a:off x="6934320" y="5032440"/>
              <a:ext cx="473040" cy="716040"/>
            </a:xfrm>
            <a:prstGeom prst="downArrow">
              <a:avLst>
                <a:gd name="adj1" fmla="val 50000"/>
                <a:gd name="adj2" fmla="val 3784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02080" y="5806080"/>
              <a:ext cx="196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Importações </a:t>
              </a: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47480" y="3158280"/>
            <a:ext cx="8072280" cy="384120"/>
            <a:chOff x="447480" y="3158280"/>
            <a:chExt cx="8072280" cy="384120"/>
          </a:xfrm>
        </p:grpSpPr>
        <p:sp>
          <p:nvSpPr>
            <p:cNvPr id="704" name=""/>
            <p:cNvSpPr/>
            <p:nvPr/>
          </p:nvSpPr>
          <p:spPr>
            <a:xfrm>
              <a:off x="447480" y="3172680"/>
              <a:ext cx="287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 kg de açúcar = V$ 1,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62640" y="3174120"/>
              <a:ext cx="202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Lucida Casual"/>
                </a:rPr>
                <a:t>V$ 1,00 = R$ 1,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973840" y="3158280"/>
              <a:ext cx="254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2 R$ = 1 kg de aç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0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629800" y="853200"/>
            <a:ext cx="42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Desvalorização Camb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01400" y="190728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1 kg de açúcar = V$ 1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646800" y="189324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Lucida Casual"/>
              </a:rPr>
              <a:t>V$ 1,00 = R$ 1,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352520" y="149616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País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624720" y="1480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Casual"/>
              </a:rPr>
              <a:t>Bra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945400" y="187740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1 R$ = 1 kg de açú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595600" y="2333520"/>
            <a:ext cx="2222640" cy="716040"/>
            <a:chOff x="2595600" y="2333520"/>
            <a:chExt cx="2222640" cy="716040"/>
          </a:xfrm>
        </p:grpSpPr>
        <p:sp>
          <p:nvSpPr>
            <p:cNvPr id="718" name=""/>
            <p:cNvSpPr/>
            <p:nvPr/>
          </p:nvSpPr>
          <p:spPr>
            <a:xfrm>
              <a:off x="4344840" y="2333520"/>
              <a:ext cx="473400" cy="716040"/>
            </a:xfrm>
            <a:prstGeom prst="downArrow">
              <a:avLst>
                <a:gd name="adj1" fmla="val 50000"/>
                <a:gd name="adj2" fmla="val 37814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95600" y="2410560"/>
              <a:ext cx="180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Lucida Casual"/>
                </a:rPr>
                <a:t>Desvaloriz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2912040" y="4454640"/>
            <a:ext cx="325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Lucida Casual"/>
              </a:rPr>
              <a:t>1 kg açúcar = R$ 1,00 no Bras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Lucida Casual"/>
              </a:rPr>
              <a:t>   </a:t>
            </a:r>
            <a:r>
              <a:rPr b="1" lang="en-US" sz="1600" spc="-1" strike="noStrike">
                <a:solidFill>
                  <a:srgbClr val="3333ff"/>
                </a:solidFill>
                <a:latin typeface="Lucida Casual"/>
              </a:rPr>
              <a:t>R$ 2,00 no País V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3028320" y="3613320"/>
            <a:ext cx="1789920" cy="715680"/>
            <a:chOff x="3028320" y="3613320"/>
            <a:chExt cx="1789920" cy="715680"/>
          </a:xfrm>
        </p:grpSpPr>
        <p:sp>
          <p:nvSpPr>
            <p:cNvPr id="722" name=""/>
            <p:cNvSpPr/>
            <p:nvPr/>
          </p:nvSpPr>
          <p:spPr>
            <a:xfrm>
              <a:off x="3028320" y="376452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Lucida Casual"/>
                </a:rPr>
                <a:t>R$ fra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344840" y="3613320"/>
              <a:ext cx="473400" cy="715680"/>
            </a:xfrm>
            <a:prstGeom prst="downArrow">
              <a:avLst>
                <a:gd name="adj1" fmla="val 50000"/>
                <a:gd name="adj2" fmla="val 37795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656880" y="5094360"/>
            <a:ext cx="1904400" cy="1172520"/>
            <a:chOff x="3656880" y="5094360"/>
            <a:chExt cx="1904400" cy="1172520"/>
          </a:xfrm>
        </p:grpSpPr>
        <p:sp>
          <p:nvSpPr>
            <p:cNvPr id="725" name=""/>
            <p:cNvSpPr/>
            <p:nvPr/>
          </p:nvSpPr>
          <p:spPr>
            <a:xfrm>
              <a:off x="4359240" y="5094360"/>
              <a:ext cx="473040" cy="716040"/>
            </a:xfrm>
            <a:prstGeom prst="downArrow">
              <a:avLst>
                <a:gd name="adj1" fmla="val 50000"/>
                <a:gd name="adj2" fmla="val 3784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56880" y="5868000"/>
              <a:ext cx="190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Lucida Casual"/>
                </a:rPr>
                <a:t>Exportações </a:t>
              </a: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447480" y="3158280"/>
            <a:ext cx="8072280" cy="384120"/>
            <a:chOff x="447480" y="3158280"/>
            <a:chExt cx="8072280" cy="384120"/>
          </a:xfrm>
        </p:grpSpPr>
        <p:sp>
          <p:nvSpPr>
            <p:cNvPr id="728" name=""/>
            <p:cNvSpPr/>
            <p:nvPr/>
          </p:nvSpPr>
          <p:spPr>
            <a:xfrm>
              <a:off x="447480" y="3172680"/>
              <a:ext cx="287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 kg de açúcar = V$ 1,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662640" y="3174120"/>
              <a:ext cx="202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Lucida Casual"/>
                </a:rPr>
                <a:t>V$ 1,00 = R$ 2,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973840" y="3158280"/>
              <a:ext cx="254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1 R$ = 1 kg de aç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3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W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WTO10G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WTO10B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BGEMI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808280" y="1717560"/>
            <a:ext cx="5769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56760" y="766080"/>
            <a:ext cx="51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Desenvolvimento Econô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02320" y="5181480"/>
            <a:ext cx="8391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99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Lucida Casual"/>
              </a:rPr>
              <a:t>Economia capitalista 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não</a:t>
            </a:r>
            <a:r>
              <a:rPr b="1" lang="pt-BR" sz="1800" spc="-1" strike="noStrike">
                <a:solidFill>
                  <a:srgbClr val="009900"/>
                </a:solidFill>
                <a:latin typeface="Lucida Casual"/>
              </a:rPr>
              <a:t> promove automaticamente o pleno empre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990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Lucida Casual"/>
              </a:rPr>
              <a:t>Governos, através de instrumentos de política  econômica, dev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00"/>
                </a:solidFill>
                <a:latin typeface="Lucida Casual"/>
              </a:rPr>
              <a:t>  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irecionar</a:t>
            </a:r>
            <a:r>
              <a:rPr b="1" lang="pt-BR" sz="1800" spc="-1" strike="noStrike">
                <a:solidFill>
                  <a:srgbClr val="009900"/>
                </a:solidFill>
                <a:latin typeface="Lucida Casual"/>
              </a:rPr>
              <a:t> a economia para o total uso dos recur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490480" y="3029760"/>
            <a:ext cx="1715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Laissez-fai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Lucida Casual"/>
              </a:rPr>
              <a:t>Reces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Lucida Casual"/>
              </a:rPr>
              <a:t>Desempr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Lucida Casual"/>
              </a:rPr>
              <a:t>Infl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91760" y="1633320"/>
            <a:ext cx="49719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Ide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Lucida Casual"/>
              </a:rPr>
              <a:t>Crescimento econômico com distribui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Lucida Casual"/>
              </a:rPr>
              <a:t>Pleno emprego dos fatores de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ff"/>
                </a:solidFill>
                <a:latin typeface="Lucida Casual"/>
              </a:rPr>
              <a:t>Estabilidade de pre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4357800" y="4282920"/>
            <a:ext cx="2229480" cy="809640"/>
            <a:chOff x="4357800" y="4282920"/>
            <a:chExt cx="2229480" cy="809640"/>
          </a:xfrm>
        </p:grpSpPr>
        <p:sp>
          <p:nvSpPr>
            <p:cNvPr id="744" name=""/>
            <p:cNvSpPr/>
            <p:nvPr/>
          </p:nvSpPr>
          <p:spPr>
            <a:xfrm>
              <a:off x="4357800" y="4282920"/>
              <a:ext cx="485640" cy="809640"/>
            </a:xfrm>
            <a:prstGeom prst="downArrow">
              <a:avLst>
                <a:gd name="adj1" fmla="val 50000"/>
                <a:gd name="adj2" fmla="val 41679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38840" y="4466520"/>
              <a:ext cx="164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Keynes, 19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4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5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087360" y="3074040"/>
            <a:ext cx="33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Muito Obrigad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BND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EAD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13480" y="3207600"/>
            <a:ext cx="35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ndicadores Soc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41600" y="91584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Lucida Casual"/>
              </a:rPr>
              <a:t>Indicadores Sociais - O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6200" y="1747800"/>
            <a:ext cx="8306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Expectativa de vida ao nas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Mortalidade neona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Mortalidade infan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Mortalidade ma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Porcentagem de crianças P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Número de anos de escolar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Taxa de pobreza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Número de pessoas por cômodo (excluindo cozinha e banhei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Acesso a água pot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Acesso a sani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Valor da cesta de alime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Renda per cap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Renda famil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sual"/>
              </a:rPr>
              <a:t>Taxa de desempreg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5-03T14:19:10Z</cp:lastPrinted>
  <dcterms:modified xsi:type="dcterms:W3CDTF">2003-10-17T02:27:07Z</dcterms:modified>
  <cp:revision>163</cp:revision>
  <dc:subject/>
  <dc:title>Beneficios socio-economicos</dc:title>
</cp:coreProperties>
</file>