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pptx" ContentType="application/vnd.openxmlformats-officedocument.presentationml.presentation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4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.png" ContentType="image/png"/>
  <Override PartName="/ppt/media/image23.wmf" ContentType="image/x-wmf"/>
  <Override PartName="/ppt/media/image60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3.wmf" ContentType="image/x-wmf"/>
  <Override PartName="/ppt/media/image4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52D-671E-483E-A73B-4D7BABCE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26D-6DCD-4C4C-8D92-126C145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EA2-798D-48D7-A0DF-37CD5C73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08C-A719-43CE-BDB7-6D65E759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1A4-AAA4-4A9A-9DC9-6A4EEF8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2B5-1D6E-45BC-9A89-5C9027E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B02-7D60-4A61-BDEC-E9EFF5DF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F52-3D1C-42B0-83FE-989B1BA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F12-8610-4732-AE83-0FEE9E57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CFE-8010-4606-BFFF-523B065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524-2C25-4EA6-8679-80D6B49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EDB-E70C-4282-9BC1-303E32F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F837-D830-4D31-8CC5-ED62DD21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7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36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764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9880" y="173844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173844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0764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30480" y="199404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0480" y="199404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02040" y="1892160"/>
          <a:ext cx="457056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2040" y="1892160"/>
                    <a:ext cx="457056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14920" y="186372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4920" y="186372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16360" y="18493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6360" y="18493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16440" y="17780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6440" y="17780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16440" y="19065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6440" y="19065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000" y="26971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17880" y="19638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7880" y="19638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6971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787920" y="19065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7920" y="19065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7115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44800" y="190656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4800" y="190656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08160" y="5675400"/>
            <a:ext cx="7089840" cy="24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38240" y="1808280"/>
          <a:ext cx="7432560" cy="48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808280"/>
                    <a:ext cx="743256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8880" y="108756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000" y="26971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44880" y="183528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4880" y="183528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44800" y="183528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4800" y="183528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2465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43360" y="19512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3360" y="19512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000" y="26971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73600" y="19209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9209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7040" y="309888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0520" y="183528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0520" y="183528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000" y="31147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17880" y="171936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7880" y="171936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4200" y="30718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873600" y="19224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9224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000" y="34765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959280" y="19065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9280" y="19065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000" y="34765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187812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0520" y="187812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000" y="34765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59200" y="19494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9200" y="19494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18920" y="323388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Revisão G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000" y="34765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814920" y="187812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4920" y="187812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040" y="3851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73600" y="19065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9065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7040" y="3851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801960" y="190656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1960" y="190656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851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828960" y="18781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8960" y="18781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7040" y="38512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30760" y="19512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0760" y="19512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7040" y="42559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844800" y="189396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4800" y="189396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7040" y="42559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930480" y="196524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0480" y="196524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6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7040" y="42559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946680" y="20066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6680" y="20066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7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7040" y="425592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843360" y="200808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3360" y="200808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7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4200" y="450216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830760" y="19512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0760" y="19512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24360" y="189072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189072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16765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4200" y="450216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902040" y="19368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2040" y="19368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4200" y="450216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44880" y="1892160"/>
          <a:ext cx="457056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4880" y="1892160"/>
                    <a:ext cx="457056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0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4200" y="450216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73600" y="19209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9209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1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4200" y="450216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800520" y="184932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0520" y="184932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4200" y="476244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3846600" y="19796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6600" y="19796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4200" y="476244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800520" y="1892160"/>
          <a:ext cx="457020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0520" y="1892160"/>
                    <a:ext cx="457020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4200" y="476244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759120" y="1935000"/>
          <a:ext cx="457056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9120" y="1935000"/>
                    <a:ext cx="457056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4200" y="476244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700440" y="19368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0440" y="19368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6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4200" y="476244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28960" y="199404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8960" y="199404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6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4200" y="476244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773520" y="19512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3520" y="19512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14840" y="192888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192888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8600" y="16765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4200" y="476100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757680" y="19494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7680" y="19494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8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4200" y="476100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87640" y="193680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7640" y="193680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4200" y="476100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743280" y="1908000"/>
          <a:ext cx="457056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3280" y="1908000"/>
                    <a:ext cx="457056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3000" y="501984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828960" y="18637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8960" y="18637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3000" y="501984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873600" y="19368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9368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2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000" y="501984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73600" y="183528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83528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3000" y="501984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30760" y="19065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0760" y="19065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4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000" y="501984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3772080" y="19494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2080" y="19494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000" y="501984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757680" y="19638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7680" y="19638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73600" y="19940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19940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6765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86200" y="18907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8907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757680" y="202248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7680" y="202248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3772080" y="19494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2080" y="19494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757680" y="1892160"/>
          <a:ext cx="457020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7680" y="1892160"/>
                    <a:ext cx="457020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3800520" y="19652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0520" y="19652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0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887640" y="18637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7640" y="18637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3000" y="52801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816360" y="18781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6360" y="18781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552600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786120" y="187812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6120" y="187812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552600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3699000" y="190656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9000" y="190656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552600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857760" y="192240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192240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" y="552600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3757680" y="186372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7680" y="186372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676520"/>
            <a:ext cx="271440" cy="180720"/>
          </a:xfrm>
          <a:prstGeom prst="rightArrow">
            <a:avLst>
              <a:gd name="adj1" fmla="val 50000"/>
              <a:gd name="adj2" fmla="val 375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67120" y="1947960"/>
          <a:ext cx="457056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7120" y="1947960"/>
                    <a:ext cx="45705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8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552600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3857760" y="1935000"/>
          <a:ext cx="4570200" cy="34182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1935000"/>
                    <a:ext cx="457020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481480" y="3068280"/>
            <a:ext cx="43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eve História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ensamento Econô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87840" y="2422440"/>
            <a:ext cx="0" cy="44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809800" y="2843280"/>
            <a:ext cx="889200" cy="47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45080" y="2832120"/>
            <a:ext cx="888840" cy="47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49000" y="31111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Mercanti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450-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54520" y="2454120"/>
            <a:ext cx="0" cy="1111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0120" y="3538440"/>
            <a:ext cx="43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Adam 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23-17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An Inquiry into the Natur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Causes of the Wealth of Nations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30840" y="2440080"/>
            <a:ext cx="0" cy="1111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48720" y="3612960"/>
            <a:ext cx="48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Thomas Robert Malth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66-18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Essay on the Principle of Populations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75280" y="2440080"/>
            <a:ext cx="0" cy="1111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25400" y="3676320"/>
            <a:ext cx="32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David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72-18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he Principles of Pol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Economy and Taxation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8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51600" y="2470320"/>
            <a:ext cx="0" cy="88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76600" y="3417480"/>
            <a:ext cx="65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Jean Baptiste S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76-18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raité d’économie politique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8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Loi des débouchés: “A Oferta cria sua própria Demand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2424240"/>
            <a:ext cx="0" cy="1110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68640" y="355428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John Stuart M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06-18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Principles of Political Economy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8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18280" y="2470320"/>
            <a:ext cx="0" cy="898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03240" y="3570120"/>
            <a:ext cx="51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Karl Heinrich Ma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18-18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Das Kapital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vol 1-1867, vol 2-1885, vol 3-18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0764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62520" y="18716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8716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94240" y="2408400"/>
            <a:ext cx="0" cy="1110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68960" y="3538440"/>
            <a:ext cx="38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Alfred Mars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42-19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he Principles of Economics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8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9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78560" y="2436840"/>
            <a:ext cx="0" cy="1111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51160" y="3524040"/>
            <a:ext cx="470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León Wal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31-19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Éléments d’économie politique pure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8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837400" y="2424240"/>
            <a:ext cx="0" cy="1110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95120" y="3614400"/>
            <a:ext cx="40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Irving F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67-19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he Making of Index Numbers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913360" y="2424240"/>
            <a:ext cx="0" cy="1110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074040" y="3659040"/>
            <a:ext cx="558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Joseph Schump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83-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heory of Economic Development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Business Cycles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History of Economic Analysis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obra póstuma 19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3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70560" y="2440080"/>
            <a:ext cx="0" cy="1111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05840" y="3600360"/>
            <a:ext cx="35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John Maynard Key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83-19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General Theory of Employ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Interest and Money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3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45240" y="2440080"/>
            <a:ext cx="0" cy="1111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69160" y="3693960"/>
            <a:ext cx="52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E.H.Chamberlin, 1899-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heory of Monopolistic Competition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Joan Robinson, 1904-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he Economics of Imperfect Competition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19920" y="2425680"/>
            <a:ext cx="0" cy="623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637080" y="3150360"/>
            <a:ext cx="494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Sir John Richard Hicks, 1904-19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Value and Capital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Sir Roy Forbes Harrod, 1900-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Towards a Dynamic Economics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riedrich August von Hayek, 1899-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Prices and Production, 1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Bertil Ohlin, 1899-19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Interregional and International Trade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7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646280" y="100548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Linha do Tempo da Ciência Econô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5080" y="2392200"/>
            <a:ext cx="7513920" cy="486000"/>
          </a:xfrm>
          <a:custGeom>
            <a:avLst/>
            <a:gdLst>
              <a:gd name="textAreaLeft" fmla="*/ 1173960 w 7513920"/>
              <a:gd name="textAreaRight" fmla="*/ 7396200 w 7513920"/>
              <a:gd name="textAreaTop" fmla="*/ 172080 h 486000"/>
              <a:gd name="textAreaBottom" fmla="*/ 31392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7654"/>
                </a:moveTo>
                <a:lnTo>
                  <a:pt x="20436" y="7654"/>
                </a:lnTo>
                <a:lnTo>
                  <a:pt x="20436" y="0"/>
                </a:lnTo>
                <a:lnTo>
                  <a:pt x="21600" y="10800"/>
                </a:lnTo>
                <a:lnTo>
                  <a:pt x="20436" y="21600"/>
                </a:lnTo>
                <a:lnTo>
                  <a:pt x="20436" y="13946"/>
                </a:lnTo>
                <a:lnTo>
                  <a:pt x="3375" y="13946"/>
                </a:lnTo>
                <a:close/>
              </a:path>
              <a:path w="21600" h="21600">
                <a:moveTo>
                  <a:pt x="0" y="7654"/>
                </a:moveTo>
                <a:lnTo>
                  <a:pt x="675" y="7654"/>
                </a:lnTo>
                <a:lnTo>
                  <a:pt x="675" y="13946"/>
                </a:lnTo>
                <a:lnTo>
                  <a:pt x="0" y="13946"/>
                </a:lnTo>
                <a:close/>
              </a:path>
              <a:path w="21600" h="21600">
                <a:moveTo>
                  <a:pt x="1350" y="7654"/>
                </a:moveTo>
                <a:lnTo>
                  <a:pt x="2700" y="7654"/>
                </a:lnTo>
                <a:lnTo>
                  <a:pt x="2700" y="13946"/>
                </a:lnTo>
                <a:lnTo>
                  <a:pt x="1350" y="139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49760" y="2028960"/>
            <a:ext cx="0" cy="82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81480" y="1664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227320"/>
            <a:ext cx="314172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40240" y="18169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Pré-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304600" y="18313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Fase Cientí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118280" y="2425680"/>
            <a:ext cx="0" cy="806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76400" y="3424680"/>
            <a:ext cx="466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Milton Friedman, 191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Inflation Causes and Consequences, 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9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Wassily Leontief, 1906-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Input-Output Economics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Kenneth J. Arrow, 1921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Studies on Mathematical Theory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Lucida Casual"/>
              </a:rPr>
              <a:t>Inventory and Production</a:t>
            </a: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, 19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680000" y="2206440"/>
            <a:ext cx="325764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9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3023280" y="3172680"/>
            <a:ext cx="35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Lucida Casu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1371600"/>
          <a:ext cx="314352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3143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076480"/>
            <a:ext cx="271440" cy="181080"/>
          </a:xfrm>
          <a:prstGeom prst="rightArrow">
            <a:avLst>
              <a:gd name="adj1" fmla="val 50000"/>
              <a:gd name="adj2" fmla="val 374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43440" y="1967040"/>
          <a:ext cx="4570200" cy="34178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3440" y="1967040"/>
                    <a:ext cx="45702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10-12T14:15:38Z</dcterms:modified>
  <cp:revision>149</cp:revision>
  <dc:subject/>
  <dc:title>Macroeconomia</dc:title>
</cp:coreProperties>
</file>