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D90-0D91-414B-A7A1-E5C395DB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B24-2A91-43E8-A006-35EE4DD8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B56-3CC3-4E3A-8006-120644B7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BB7-B2E3-4486-AB09-25DFC0D6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098-EABC-4290-BB2E-A6A01DD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8E0-941A-4590-BD01-7FB06A0D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0A1-2758-4BCD-A177-FC72DE60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4C9-4F0B-4F0C-8331-DEEE39B3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132-7B1A-4940-9033-23676B53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D42-C8F5-4380-B9FE-8DC33FC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631-5695-4675-8998-A4465198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E01-5128-4340-AA86-0ECE8819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5CEE-543D-4544-8B7E-CBF4A1196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3172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HOCGAM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HAPYPU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828800" y="1657440"/>
          <a:ext cx="56008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57440"/>
                    <a:ext cx="56008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714600" y="817920"/>
            <a:ext cx="77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Comparação: Livros Eletrônicos x Jogos Inte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1905120"/>
          <a:ext cx="266688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666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303800" y="1857240"/>
            <a:ext cx="1440" cy="330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37200" y="51642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37200" y="475452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37200" y="43354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37200" y="39258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37200" y="35146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37200" y="30956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37200" y="26859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7200" y="2266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37200" y="18572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03800" y="5164200"/>
            <a:ext cx="3211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03800" y="516384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370480" y="516384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448320" y="516384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515360" y="516384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70360" y="3448080"/>
            <a:ext cx="123840" cy="125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81720" y="468792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03880" y="426888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70360" y="3448080"/>
            <a:ext cx="123840" cy="125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5120" y="369720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2840" y="327672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60840" y="220032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89600" y="394488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9120" y="410688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5120" y="361152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3600" y="3448080"/>
            <a:ext cx="123840" cy="125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46760" y="4849920"/>
            <a:ext cx="12528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94360" y="460224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5600" y="410688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70360" y="426888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08360" y="385920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98840" y="220032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2840" y="419256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03880" y="468792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27600" y="435456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08600" y="5049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08600" y="4640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42210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38116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34005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29811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25718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21528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17431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46560" y="5364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46640" y="53640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3640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53640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18080" y="5764320"/>
            <a:ext cx="188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vros Eletrônic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753280" y="3697560"/>
            <a:ext cx="1791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Jogos Intera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9880" y="202896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04920" y="2000160"/>
            <a:ext cx="150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ito Satisfe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19880" y="254304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2760" y="2514600"/>
            <a:ext cx="91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isfe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52560" y="819000"/>
            <a:ext cx="358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Arial"/>
              </a:rPr>
              <a:t>Curvas de Indiferenç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14560" y="1781280"/>
            <a:ext cx="1800" cy="330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7960" y="50878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47960" y="46782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47960" y="4259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47960" y="3849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47960" y="34383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47960" y="301932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47960" y="26100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7960" y="2190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47960" y="1781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14560" y="5087880"/>
            <a:ext cx="3211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914560" y="5087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981600" y="50875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059440" y="50875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126120" y="5087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81480" y="3371760"/>
            <a:ext cx="123840" cy="125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92840" y="461160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14640" y="419256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1480" y="3371760"/>
            <a:ext cx="123840" cy="125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86240" y="362124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33600" y="320040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71960" y="212400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00360" y="386856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403056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86240" y="353520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14720" y="3371760"/>
            <a:ext cx="123840" cy="1256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57880" y="4773600"/>
            <a:ext cx="12528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05120" y="452592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403056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81480" y="419256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19480" y="378288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9960" y="212400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33600" y="411624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14640" y="461160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8360" y="427824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19360" y="49737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1936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95520" y="41450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95520" y="37353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95520" y="33242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95520" y="29052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95520" y="24955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95520" y="20764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95520" y="16668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576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57760" y="52880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35600" y="52880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02280" y="52880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28840" y="5688000"/>
            <a:ext cx="188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vros Eletrônic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1364400" y="3621240"/>
            <a:ext cx="1791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Jogos Intera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30640" y="1952640"/>
            <a:ext cx="123840" cy="123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15680" y="1924200"/>
            <a:ext cx="150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ito Satisfe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30640" y="2467080"/>
            <a:ext cx="123840" cy="123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13520" y="2438280"/>
            <a:ext cx="91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isfe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62240" y="1628640"/>
            <a:ext cx="162000" cy="12002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24240" y="2828880"/>
            <a:ext cx="162000" cy="6015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86240" y="3430440"/>
            <a:ext cx="314280" cy="590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0520" y="4021200"/>
            <a:ext cx="323640" cy="3045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24160" y="4325760"/>
            <a:ext cx="314640" cy="1810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38800" y="4506840"/>
            <a:ext cx="323640" cy="1144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62440" y="4621320"/>
            <a:ext cx="316080" cy="856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78520" y="4707000"/>
            <a:ext cx="314280" cy="66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2800" y="4773600"/>
            <a:ext cx="323640" cy="47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6440" y="4821120"/>
            <a:ext cx="314640" cy="38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38400" y="2228760"/>
            <a:ext cx="123840" cy="12016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62240" y="3430440"/>
            <a:ext cx="324000" cy="895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86240" y="4325760"/>
            <a:ext cx="314280" cy="2955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0520" y="4621320"/>
            <a:ext cx="323640" cy="152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24160" y="4773600"/>
            <a:ext cx="314640" cy="856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38800" y="4859280"/>
            <a:ext cx="323640" cy="666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62440" y="4925880"/>
            <a:ext cx="316080" cy="381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78520" y="4964040"/>
            <a:ext cx="314280" cy="28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2800" y="4992840"/>
            <a:ext cx="323640" cy="28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6440" y="5021280"/>
            <a:ext cx="314640" cy="19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52560" y="819000"/>
            <a:ext cx="358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Arial"/>
              </a:rPr>
              <a:t>Curvas de Indiferenç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95480" y="2095560"/>
            <a:ext cx="1800" cy="315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8880" y="52498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8880" y="45450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28880" y="3849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8880" y="3143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28880" y="24480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2498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9548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010040" y="52495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3540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249960" y="52495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71960" y="2448000"/>
            <a:ext cx="285480" cy="1401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57440" y="3849840"/>
            <a:ext cx="276480" cy="4665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4316400"/>
            <a:ext cx="276120" cy="228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10040" y="4545000"/>
            <a:ext cx="285840" cy="142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95880" y="4687920"/>
            <a:ext cx="277560" cy="950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3440" y="4782960"/>
            <a:ext cx="276480" cy="66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49920" y="4849920"/>
            <a:ext cx="285480" cy="47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35400" y="4897440"/>
            <a:ext cx="276480" cy="38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1880" y="4935600"/>
            <a:ext cx="276120" cy="381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71960" y="3849840"/>
            <a:ext cx="285480" cy="6951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57440" y="4545000"/>
            <a:ext cx="276480" cy="2379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4782960"/>
            <a:ext cx="276120" cy="1144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10040" y="4897440"/>
            <a:ext cx="285840" cy="76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95880" y="4973760"/>
            <a:ext cx="277560" cy="37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3440" y="5011560"/>
            <a:ext cx="276480" cy="381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9920" y="5049720"/>
            <a:ext cx="285480" cy="28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35400" y="5078520"/>
            <a:ext cx="276480" cy="19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1880" y="5097600"/>
            <a:ext cx="276120" cy="9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1900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04880" y="4440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04880" y="3745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04880" y="3038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04880" y="2343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38240" y="545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9520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092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548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75160" y="58118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1549080" y="372312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53080" y="3828960"/>
            <a:ext cx="914400" cy="609840"/>
          </a:xfrm>
          <a:prstGeom prst="wedgeRoundRectCallout">
            <a:avLst>
              <a:gd name="adj1" fmla="val -83333"/>
              <a:gd name="adj2" fmla="val 140365"/>
              <a:gd name="adj3" fmla="val 16667"/>
            </a:avLst>
          </a:prstGeom>
          <a:solidFill>
            <a:srgbClr val="ff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U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14640" y="3095640"/>
            <a:ext cx="914400" cy="609480"/>
          </a:xfrm>
          <a:prstGeom prst="wedgeRoundRectCallout">
            <a:avLst>
              <a:gd name="adj1" fmla="val -71875"/>
              <a:gd name="adj2" fmla="val 135675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U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52560" y="819000"/>
            <a:ext cx="358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Arial"/>
              </a:rPr>
              <a:t>Curvas de Indiferenç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895480" y="1979640"/>
            <a:ext cx="1800" cy="327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28880" y="52498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43280" y="4475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43280" y="36482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57680" y="28116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41480" y="1987560"/>
            <a:ext cx="66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52498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89548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67812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337000" y="523368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249960" y="52495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1900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8920" y="4370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8920" y="3543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33320" y="270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7480" y="1882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38240" y="545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6364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22520" y="5433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3548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60200" y="5797440"/>
            <a:ext cx="144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érias na Pra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1313640" y="3559680"/>
            <a:ext cx="190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érias na Montan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30640" y="2647800"/>
            <a:ext cx="914400" cy="609840"/>
          </a:xfrm>
          <a:prstGeom prst="wedgeRoundRectCallout">
            <a:avLst>
              <a:gd name="adj1" fmla="val -71875"/>
              <a:gd name="adj2" fmla="val 135675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U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60360" y="861840"/>
            <a:ext cx="514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Exemplos de Curvas de Indifer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6120" y="3652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525920" y="5243400"/>
            <a:ext cx="1800" cy="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1440" y="5443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00520" y="3637080"/>
            <a:ext cx="1616040" cy="16174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4040" y="2793960"/>
            <a:ext cx="2438280" cy="2440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49600" y="3684600"/>
            <a:ext cx="914400" cy="609480"/>
          </a:xfrm>
          <a:prstGeom prst="wedgeRoundRectCallout">
            <a:avLst>
              <a:gd name="adj1" fmla="val -83333"/>
              <a:gd name="adj2" fmla="val 140365"/>
              <a:gd name="adj3" fmla="val 16667"/>
            </a:avLst>
          </a:prstGeom>
          <a:solidFill>
            <a:srgbClr val="ff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U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55320" y="1628280"/>
            <a:ext cx="14396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ub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erfe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95480" y="1979640"/>
            <a:ext cx="1800" cy="327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8880" y="52498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475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43280" y="36482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57680" y="28116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41480" y="1987560"/>
            <a:ext cx="66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52498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89548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67812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337000" y="523368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49960" y="52495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900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18920" y="4370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8920" y="3543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33320" y="270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7480" y="1882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38240" y="545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6364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22520" y="5433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3548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03280" y="5759280"/>
            <a:ext cx="111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patos -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1662120" y="3395160"/>
            <a:ext cx="116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patos  -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88080" y="2571840"/>
            <a:ext cx="914400" cy="609480"/>
          </a:xfrm>
          <a:prstGeom prst="wedgeRoundRectCallout">
            <a:avLst>
              <a:gd name="adj1" fmla="val -71875"/>
              <a:gd name="adj2" fmla="val 135675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U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4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60360" y="861840"/>
            <a:ext cx="514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Exemplos de Curvas de Indifer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86120" y="3652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525920" y="5243400"/>
            <a:ext cx="1800" cy="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1440" y="5443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45200" y="3322800"/>
            <a:ext cx="914400" cy="609480"/>
          </a:xfrm>
          <a:prstGeom prst="wedgeRoundRectCallout">
            <a:avLst>
              <a:gd name="adj1" fmla="val -83333"/>
              <a:gd name="adj2" fmla="val 140365"/>
              <a:gd name="adj3" fmla="val 16667"/>
            </a:avLst>
          </a:prstGeom>
          <a:solidFill>
            <a:srgbClr val="ff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U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59480" y="1628280"/>
            <a:ext cx="18313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ple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erfe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86320" y="2317680"/>
            <a:ext cx="1506600" cy="1401840"/>
            <a:chOff x="4486320" y="2317680"/>
            <a:chExt cx="1506600" cy="1401840"/>
          </a:xfrm>
        </p:grpSpPr>
        <p:sp>
          <p:nvSpPr>
            <p:cNvPr id="354" name=""/>
            <p:cNvSpPr/>
            <p:nvPr/>
          </p:nvSpPr>
          <p:spPr>
            <a:xfrm>
              <a:off x="4494600" y="2317680"/>
              <a:ext cx="0" cy="1401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86320" y="3703680"/>
              <a:ext cx="15066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686040" y="2317680"/>
            <a:ext cx="2325600" cy="2201400"/>
            <a:chOff x="3686040" y="2317680"/>
            <a:chExt cx="2325600" cy="2201400"/>
          </a:xfrm>
        </p:grpSpPr>
        <p:sp>
          <p:nvSpPr>
            <p:cNvPr id="357" name=""/>
            <p:cNvSpPr/>
            <p:nvPr/>
          </p:nvSpPr>
          <p:spPr>
            <a:xfrm>
              <a:off x="3699000" y="2317680"/>
              <a:ext cx="0" cy="2201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86040" y="4494240"/>
              <a:ext cx="232560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895480" y="1979640"/>
            <a:ext cx="1800" cy="327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28880" y="52498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3280" y="4475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43280" y="36482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57680" y="28116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41480" y="1987560"/>
            <a:ext cx="66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52498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89548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67812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337000" y="523368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249960" y="52495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1900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18920" y="4370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8920" y="3543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33320" y="270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7480" y="1882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38240" y="545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6364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22520" y="5433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3548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02920" y="5778360"/>
            <a:ext cx="93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mb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1836720" y="334188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je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8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60360" y="861840"/>
            <a:ext cx="514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Exemplos de Curvas de Indifer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86120" y="3652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25920" y="5243400"/>
            <a:ext cx="1800" cy="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11440" y="5443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893680" y="2813040"/>
            <a:ext cx="2438280" cy="2440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59280" y="3189240"/>
            <a:ext cx="914400" cy="609480"/>
          </a:xfrm>
          <a:prstGeom prst="wedgeRoundRectCallout">
            <a:avLst>
              <a:gd name="adj1" fmla="val 54166"/>
              <a:gd name="adj2" fmla="val 99740"/>
              <a:gd name="adj3" fmla="val 16667"/>
            </a:avLst>
          </a:prstGeom>
          <a:solidFill>
            <a:srgbClr val="ff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U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67800" y="1764720"/>
            <a:ext cx="8146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674880" y="2832120"/>
            <a:ext cx="2438280" cy="2440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59280" y="2457360"/>
            <a:ext cx="914400" cy="609840"/>
          </a:xfrm>
          <a:prstGeom prst="wedgeRoundRectCallout">
            <a:avLst>
              <a:gd name="adj1" fmla="val 90625"/>
              <a:gd name="adj2" fmla="val 151300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U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1979640"/>
            <a:ext cx="1800" cy="327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43280" y="4475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43280" y="36482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57680" y="28116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41480" y="1987560"/>
            <a:ext cx="66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1900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18920" y="4370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8920" y="3543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33320" y="270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17480" y="1882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75360" y="577836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d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1812600" y="3317760"/>
            <a:ext cx="85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rv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60360" y="861840"/>
            <a:ext cx="514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Exemplos de Curvas de Indifer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86120" y="3652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65120" y="1764720"/>
            <a:ext cx="1220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ciáv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44680" y="3319560"/>
            <a:ext cx="2248200" cy="15048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30520" y="3805200"/>
            <a:ext cx="1017720" cy="6955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52840" y="2460600"/>
            <a:ext cx="914400" cy="609480"/>
          </a:xfrm>
          <a:prstGeom prst="wedgeRoundRectCallout">
            <a:avLst>
              <a:gd name="adj1" fmla="val -73611"/>
              <a:gd name="adj2" fmla="val 171875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U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22760" y="3060720"/>
            <a:ext cx="914400" cy="609480"/>
          </a:xfrm>
          <a:prstGeom prst="wedgeRoundRectCallout">
            <a:avLst>
              <a:gd name="adj1" fmla="val -54166"/>
              <a:gd name="adj2" fmla="val 96615"/>
              <a:gd name="adj3" fmla="val 16667"/>
            </a:avLst>
          </a:prstGeom>
          <a:solidFill>
            <a:srgbClr val="ff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U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27800" y="4481640"/>
            <a:ext cx="1314360" cy="571320"/>
          </a:xfrm>
          <a:prstGeom prst="wedgeRoundRectCallout">
            <a:avLst>
              <a:gd name="adj1" fmla="val -163162"/>
              <a:gd name="adj2" fmla="val -105277"/>
              <a:gd name="adj3" fmla="val 16667"/>
            </a:avLst>
          </a:prstGeom>
          <a:solidFill>
            <a:srgbClr val="ffcc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Sa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11760" y="4110120"/>
            <a:ext cx="85680" cy="74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28880" y="52498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52498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89548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678120" y="52495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337000" y="523368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249960" y="52495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38240" y="545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6364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22520" y="5433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35480" y="545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4525920" y="5243400"/>
            <a:ext cx="1800" cy="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1440" y="5443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38240" y="2174760"/>
            <a:ext cx="7115040" cy="25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85960" y="1655640"/>
          <a:ext cx="7432560" cy="48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655640"/>
                    <a:ext cx="743256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586600" y="934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732960" y="1371600"/>
            <a:ext cx="71622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medir a satisfação de uma pessoa em possuir um c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em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28640" y="2932200"/>
            <a:ext cx="7453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al a proporção de bens e serviços desejados pel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uando este é informado sobre o pre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3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42960" y="2828880"/>
            <a:ext cx="390600" cy="1649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3560" y="4478400"/>
            <a:ext cx="276120" cy="237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4716360"/>
            <a:ext cx="276480" cy="1144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86160" y="4830840"/>
            <a:ext cx="285480" cy="66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71640" y="4897440"/>
            <a:ext cx="277920" cy="47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9560" y="4944960"/>
            <a:ext cx="276120" cy="381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25680" y="4983120"/>
            <a:ext cx="28584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11520" y="5002200"/>
            <a:ext cx="276120" cy="2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7640" y="5030640"/>
            <a:ext cx="276480" cy="9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64120" y="5040360"/>
            <a:ext cx="28548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54920" y="76932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Orçamento Limi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9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3240" y="3483000"/>
            <a:ext cx="1820880" cy="533520"/>
          </a:xfrm>
          <a:prstGeom prst="wedgeRoundRectCallout">
            <a:avLst>
              <a:gd name="adj1" fmla="val -39101"/>
              <a:gd name="adj2" fmla="val 219939"/>
              <a:gd name="adj3" fmla="val 16667"/>
            </a:avLst>
          </a:prstGeom>
          <a:solidFill>
            <a:srgbClr val="ffcc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264360" y="1654920"/>
            <a:ext cx="15872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 R$ 1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9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54920" y="76932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Orçamento Limi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42960" y="2828880"/>
            <a:ext cx="390600" cy="1649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33560" y="4478400"/>
            <a:ext cx="276120" cy="237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4716360"/>
            <a:ext cx="276480" cy="1144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86160" y="4830840"/>
            <a:ext cx="285480" cy="66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71640" y="4897440"/>
            <a:ext cx="277920" cy="47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560" y="4944960"/>
            <a:ext cx="276120" cy="381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25680" y="4983120"/>
            <a:ext cx="28584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11520" y="5002200"/>
            <a:ext cx="276120" cy="2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030640"/>
            <a:ext cx="276480" cy="9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64120" y="5040360"/>
            <a:ext cx="28548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73240" y="3483000"/>
            <a:ext cx="1820880" cy="533520"/>
          </a:xfrm>
          <a:prstGeom prst="wedgeRoundRectCallout">
            <a:avLst>
              <a:gd name="adj1" fmla="val -39101"/>
              <a:gd name="adj2" fmla="val 219939"/>
              <a:gd name="adj3" fmla="val 16667"/>
            </a:avLst>
          </a:prstGeom>
          <a:solidFill>
            <a:srgbClr val="ffcc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258600" y="1654920"/>
            <a:ext cx="15872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 R$ 1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366960" y="3830760"/>
            <a:ext cx="19774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Possi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= 0 -&gt; 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=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00ff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 = 20 -&gt; q</a:t>
            </a:r>
            <a:r>
              <a:rPr b="1" lang="pt-BR" sz="1800" spc="-1" strike="noStrike" baseline="-25000">
                <a:solidFill>
                  <a:srgbClr val="ff00ff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10 -&gt; 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66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cc66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cc6600"/>
                </a:solidFill>
                <a:latin typeface="Lucida Casual"/>
              </a:rPr>
              <a:t> = 15 -&gt; q</a:t>
            </a:r>
            <a:r>
              <a:rPr b="1" lang="pt-BR" sz="1800" spc="-1" strike="noStrike" baseline="-25000">
                <a:solidFill>
                  <a:srgbClr val="cc66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cc6600"/>
                </a:solidFill>
                <a:latin typeface="Lucida Casu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42960" y="2828880"/>
            <a:ext cx="390600" cy="1649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33560" y="4478400"/>
            <a:ext cx="276120" cy="237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4716360"/>
            <a:ext cx="276480" cy="1144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86160" y="4830840"/>
            <a:ext cx="285480" cy="66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771640" y="4897440"/>
            <a:ext cx="277920" cy="47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9560" y="4944960"/>
            <a:ext cx="276120" cy="381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25680" y="4983120"/>
            <a:ext cx="28584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11520" y="5002200"/>
            <a:ext cx="276120" cy="2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7640" y="5030640"/>
            <a:ext cx="276480" cy="9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64120" y="5040360"/>
            <a:ext cx="28548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38440" y="5133960"/>
            <a:ext cx="114480" cy="114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314360" y="3719520"/>
            <a:ext cx="114480" cy="114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38280" y="4438800"/>
            <a:ext cx="114480" cy="1141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4076640"/>
            <a:ext cx="114120" cy="1144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54920" y="76932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Orçamento Limi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3240" y="3483000"/>
            <a:ext cx="1820880" cy="533520"/>
          </a:xfrm>
          <a:prstGeom prst="wedgeRoundRectCallout">
            <a:avLst>
              <a:gd name="adj1" fmla="val -39101"/>
              <a:gd name="adj2" fmla="val 219939"/>
              <a:gd name="adj3" fmla="val 16667"/>
            </a:avLst>
          </a:prstGeom>
          <a:solidFill>
            <a:srgbClr val="ffcc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924280" y="2914560"/>
            <a:ext cx="914400" cy="609840"/>
          </a:xfrm>
          <a:prstGeom prst="wedgeRoundRectCallout">
            <a:avLst>
              <a:gd name="adj1" fmla="val -89583"/>
              <a:gd name="adj2" fmla="val 204425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67200" y="3171960"/>
            <a:ext cx="914400" cy="609480"/>
          </a:xfrm>
          <a:prstGeom prst="wedgeRoundRectCallout">
            <a:avLst>
              <a:gd name="adj1" fmla="val -169791"/>
              <a:gd name="adj2" fmla="val 220050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U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67200" y="4114800"/>
            <a:ext cx="914400" cy="609480"/>
          </a:xfrm>
          <a:prstGeom prst="wedgeRoundRectCallout">
            <a:avLst>
              <a:gd name="adj1" fmla="val -125000"/>
              <a:gd name="adj2" fmla="val 99740"/>
              <a:gd name="adj3" fmla="val 16667"/>
            </a:avLst>
          </a:prstGeom>
          <a:solidFill>
            <a:srgbClr val="ff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ff"/>
                </a:solidFill>
                <a:latin typeface="Lucida Casual"/>
              </a:rPr>
              <a:t>U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42960" y="2828880"/>
            <a:ext cx="390600" cy="1649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33560" y="4478400"/>
            <a:ext cx="276120" cy="237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09680" y="4716360"/>
            <a:ext cx="276480" cy="1144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486160" y="4830840"/>
            <a:ext cx="285480" cy="66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897440"/>
            <a:ext cx="277920" cy="47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049560" y="4944960"/>
            <a:ext cx="276120" cy="381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25680" y="4983120"/>
            <a:ext cx="28584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11520" y="5002200"/>
            <a:ext cx="276120" cy="2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87640" y="5030640"/>
            <a:ext cx="276480" cy="9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64120" y="5040360"/>
            <a:ext cx="28548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14800" y="490536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38280" y="4438800"/>
            <a:ext cx="114480" cy="114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71560" y="4000680"/>
            <a:ext cx="11448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495680" y="1943280"/>
            <a:ext cx="3753000" cy="1257120"/>
          </a:xfrm>
          <a:prstGeom prst="wedgeRoundRectCallout">
            <a:avLst>
              <a:gd name="adj1" fmla="val -101268"/>
              <a:gd name="adj2" fmla="val 150629"/>
              <a:gd name="adj3" fmla="val 16667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Haverá alguma re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ntre quantidades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reços no ponto de óti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8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42960" y="2828880"/>
            <a:ext cx="390600" cy="1649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933560" y="4478400"/>
            <a:ext cx="276120" cy="237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09680" y="4716360"/>
            <a:ext cx="276480" cy="1144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86160" y="4830840"/>
            <a:ext cx="285480" cy="66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71640" y="4897440"/>
            <a:ext cx="277920" cy="47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049560" y="4944960"/>
            <a:ext cx="276120" cy="381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25680" y="4983120"/>
            <a:ext cx="28584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611520" y="5002200"/>
            <a:ext cx="276120" cy="2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7640" y="5030640"/>
            <a:ext cx="276480" cy="9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64120" y="5040360"/>
            <a:ext cx="28548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14800" y="490536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38280" y="4438800"/>
            <a:ext cx="114480" cy="114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771560" y="4000680"/>
            <a:ext cx="11448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186160" y="1663560"/>
            <a:ext cx="15325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4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692280" y="1895400"/>
            <a:ext cx="4145400" cy="4093560"/>
            <a:chOff x="692280" y="1895400"/>
            <a:chExt cx="4145400" cy="4093560"/>
          </a:xfrm>
        </p:grpSpPr>
        <p:sp>
          <p:nvSpPr>
            <p:cNvPr id="748" name=""/>
            <p:cNvSpPr/>
            <p:nvPr/>
          </p:nvSpPr>
          <p:spPr>
            <a:xfrm>
              <a:off x="1371600" y="2000160"/>
              <a:ext cx="1440" cy="31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305000" y="518328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305000" y="483084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05000" y="447840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05000" y="412596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05000" y="37735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05000" y="34099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05000" y="305748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05000" y="270504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05000" y="235260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05000" y="200016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71600" y="5183280"/>
              <a:ext cx="335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137160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248616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611520" y="5182920"/>
              <a:ext cx="180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472608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47720" y="2352600"/>
              <a:ext cx="285840" cy="1420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33560" y="3773520"/>
              <a:ext cx="276120" cy="4665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09680" y="4240080"/>
              <a:ext cx="276480" cy="238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86160" y="4478400"/>
              <a:ext cx="285480" cy="142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71640" y="4621320"/>
              <a:ext cx="277920" cy="950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49560" y="4716360"/>
              <a:ext cx="276120" cy="666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25680" y="4782960"/>
              <a:ext cx="285840" cy="47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11520" y="4830840"/>
              <a:ext cx="276120" cy="38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87640" y="4869000"/>
              <a:ext cx="276480" cy="28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95120" y="5078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95120" y="472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80640" y="4373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80640" y="4021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98064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980640" y="3305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80640" y="2952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80640" y="2600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80640" y="224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80640" y="1895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14000" y="538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7132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970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112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50920" y="5745240"/>
              <a:ext cx="15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26640" y="3647160"/>
              <a:ext cx="157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438280" y="4438800"/>
              <a:ext cx="11448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231880" y="1663560"/>
            <a:ext cx="34444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B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92280" y="1895400"/>
            <a:ext cx="4145400" cy="4093560"/>
            <a:chOff x="692280" y="1895400"/>
            <a:chExt cx="4145400" cy="4093560"/>
          </a:xfrm>
        </p:grpSpPr>
        <p:sp>
          <p:nvSpPr>
            <p:cNvPr id="798" name=""/>
            <p:cNvSpPr/>
            <p:nvPr/>
          </p:nvSpPr>
          <p:spPr>
            <a:xfrm>
              <a:off x="2585160" y="4073040"/>
              <a:ext cx="65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92480" y="4463640"/>
              <a:ext cx="62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71600" y="2000160"/>
              <a:ext cx="1440" cy="31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05000" y="518328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05000" y="483084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05000" y="447840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05000" y="412596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5000" y="37735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05000" y="34099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05000" y="305748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05000" y="270504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05000" y="235260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05000" y="200016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71600" y="5183280"/>
              <a:ext cx="335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137160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248616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611520" y="5182920"/>
              <a:ext cx="180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72608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47720" y="2352600"/>
              <a:ext cx="285840" cy="142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33560" y="3773520"/>
              <a:ext cx="276120" cy="466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09680" y="4240080"/>
              <a:ext cx="276480" cy="23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86160" y="4478400"/>
              <a:ext cx="285480" cy="142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71640" y="4621320"/>
              <a:ext cx="277920" cy="9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49560" y="4716360"/>
              <a:ext cx="276120" cy="6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325680" y="4782960"/>
              <a:ext cx="285840" cy="4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11520" y="4830840"/>
              <a:ext cx="276120" cy="38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887640" y="4869000"/>
              <a:ext cx="276480" cy="28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5120" y="5078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95120" y="472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80640" y="4373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80640" y="4021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064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980640" y="3305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80640" y="2952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980640" y="2600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980640" y="224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80640" y="1895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14000" y="538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37132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970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112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50920" y="5745240"/>
              <a:ext cx="15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6200000">
              <a:off x="26640" y="3647160"/>
              <a:ext cx="157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2523960" y="4495680"/>
              <a:ext cx="679680" cy="432000"/>
            </a:xfrm>
            <a:prstGeom prst="rtTriangl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438800"/>
              <a:ext cx="11448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5231880" y="1663560"/>
            <a:ext cx="3444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4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92280" y="1895400"/>
            <a:ext cx="4145400" cy="4093560"/>
            <a:chOff x="692280" y="1895400"/>
            <a:chExt cx="4145400" cy="4093560"/>
          </a:xfrm>
        </p:grpSpPr>
        <p:sp>
          <p:nvSpPr>
            <p:cNvPr id="851" name=""/>
            <p:cNvSpPr/>
            <p:nvPr/>
          </p:nvSpPr>
          <p:spPr>
            <a:xfrm>
              <a:off x="2585160" y="4073040"/>
              <a:ext cx="65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92480" y="4463640"/>
              <a:ext cx="62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71600" y="2000160"/>
              <a:ext cx="1440" cy="31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305000" y="518328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05000" y="483084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05000" y="447840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05000" y="412596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305000" y="37735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05000" y="34099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05000" y="305748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05000" y="270504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5000" y="235260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05000" y="200016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71600" y="5183280"/>
              <a:ext cx="335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137160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248616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611520" y="5182920"/>
              <a:ext cx="180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472608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47720" y="2352600"/>
              <a:ext cx="285840" cy="142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33560" y="3773520"/>
              <a:ext cx="276120" cy="466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09680" y="4240080"/>
              <a:ext cx="276480" cy="23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86160" y="4478400"/>
              <a:ext cx="285480" cy="142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71640" y="4621320"/>
              <a:ext cx="277920" cy="9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49560" y="4716360"/>
              <a:ext cx="276120" cy="6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325680" y="4782960"/>
              <a:ext cx="285840" cy="4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11520" y="4830840"/>
              <a:ext cx="276120" cy="38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87640" y="4869000"/>
              <a:ext cx="276480" cy="28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95120" y="5078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95120" y="472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80640" y="4373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0640" y="4021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064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80640" y="3305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80640" y="2952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80640" y="2600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80640" y="224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80640" y="1895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314000" y="538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7132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970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6112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50920" y="5745240"/>
              <a:ext cx="15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200000">
              <a:off x="26640" y="3647160"/>
              <a:ext cx="157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2523960" y="4495680"/>
              <a:ext cx="679680" cy="432000"/>
            </a:xfrm>
            <a:prstGeom prst="rtTriangl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438280" y="4438800"/>
              <a:ext cx="11448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5089680" y="1663560"/>
            <a:ext cx="38019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0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92280" y="1895400"/>
            <a:ext cx="4145400" cy="4093560"/>
            <a:chOff x="692280" y="1895400"/>
            <a:chExt cx="4145400" cy="4093560"/>
          </a:xfrm>
        </p:grpSpPr>
        <p:sp>
          <p:nvSpPr>
            <p:cNvPr id="904" name=""/>
            <p:cNvSpPr/>
            <p:nvPr/>
          </p:nvSpPr>
          <p:spPr>
            <a:xfrm>
              <a:off x="2585160" y="4073040"/>
              <a:ext cx="65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92480" y="4463640"/>
              <a:ext cx="62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371600" y="2000160"/>
              <a:ext cx="1440" cy="31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05000" y="518328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305000" y="483084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05000" y="447840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05000" y="412596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05000" y="37735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05000" y="34099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05000" y="305748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05000" y="270504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05000" y="235260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05000" y="200016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71600" y="5183280"/>
              <a:ext cx="335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137160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248616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611520" y="5182920"/>
              <a:ext cx="180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472608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647720" y="2352600"/>
              <a:ext cx="285840" cy="142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33560" y="3773520"/>
              <a:ext cx="276120" cy="466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09680" y="4240080"/>
              <a:ext cx="276480" cy="23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86160" y="4478400"/>
              <a:ext cx="285480" cy="142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71640" y="4621320"/>
              <a:ext cx="277920" cy="9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49560" y="4716360"/>
              <a:ext cx="276120" cy="6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25680" y="4782960"/>
              <a:ext cx="285840" cy="4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11520" y="4830840"/>
              <a:ext cx="276120" cy="38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87640" y="4869000"/>
              <a:ext cx="276480" cy="28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95120" y="5078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95120" y="472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980640" y="4373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80640" y="4021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8064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980640" y="3305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980640" y="2952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80640" y="2600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80640" y="224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80640" y="1895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14000" y="538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7132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4970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6112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50920" y="5745240"/>
              <a:ext cx="15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26640" y="3647160"/>
              <a:ext cx="157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flipV="1">
              <a:off x="2523960" y="4495680"/>
              <a:ext cx="679680" cy="432000"/>
            </a:xfrm>
            <a:prstGeom prst="rtTriangl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38280" y="4438800"/>
              <a:ext cx="11448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82520" y="9097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7040" y="2043000"/>
            <a:ext cx="550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mundongo: Modelo para estudo de fárm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neco: Modelo para pin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quete: Modelo de um pré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pa: Modelo de uma região geográ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94960" y="3463920"/>
            <a:ext cx="5874120" cy="1674000"/>
            <a:chOff x="894960" y="3463920"/>
            <a:chExt cx="5874120" cy="1674000"/>
          </a:xfrm>
        </p:grpSpPr>
        <p:sp>
          <p:nvSpPr>
            <p:cNvPr id="62" name=""/>
            <p:cNvSpPr/>
            <p:nvPr/>
          </p:nvSpPr>
          <p:spPr>
            <a:xfrm>
              <a:off x="894960" y="4495320"/>
              <a:ext cx="58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odelos Matemáticos: Equações, Gráficos, Regr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4880" y="3463920"/>
              <a:ext cx="0" cy="8510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089680" y="1663560"/>
            <a:ext cx="380196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0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 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11600" y="2463840"/>
            <a:ext cx="2074680" cy="1031760"/>
          </a:xfrm>
          <a:prstGeom prst="wedgeRoundRectCallout">
            <a:avLst>
              <a:gd name="adj1" fmla="val 64231"/>
              <a:gd name="adj2" fmla="val 127847"/>
              <a:gd name="adj3" fmla="val 16667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B = 0, pois 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ssumido que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rçamento é fi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6429240" y="3706920"/>
            <a:ext cx="927360" cy="382320"/>
            <a:chOff x="6429240" y="3706920"/>
            <a:chExt cx="927360" cy="382320"/>
          </a:xfrm>
        </p:grpSpPr>
        <p:sp>
          <p:nvSpPr>
            <p:cNvPr id="954" name=""/>
            <p:cNvSpPr/>
            <p:nvPr/>
          </p:nvSpPr>
          <p:spPr>
            <a:xfrm>
              <a:off x="6429240" y="3706920"/>
              <a:ext cx="42876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927840" y="3708360"/>
              <a:ext cx="42876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692280" y="1895400"/>
            <a:ext cx="4145400" cy="4093560"/>
            <a:chOff x="692280" y="1895400"/>
            <a:chExt cx="4145400" cy="4093560"/>
          </a:xfrm>
        </p:grpSpPr>
        <p:sp>
          <p:nvSpPr>
            <p:cNvPr id="961" name=""/>
            <p:cNvSpPr/>
            <p:nvPr/>
          </p:nvSpPr>
          <p:spPr>
            <a:xfrm>
              <a:off x="2585160" y="4073040"/>
              <a:ext cx="65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192480" y="4463640"/>
              <a:ext cx="62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371600" y="2000160"/>
              <a:ext cx="1440" cy="31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05000" y="518328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305000" y="483084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305000" y="447840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305000" y="412596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305000" y="37735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05000" y="34099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05000" y="305748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05000" y="270504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05000" y="235260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05000" y="200016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71600" y="5183280"/>
              <a:ext cx="335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137160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248616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3611520" y="5182920"/>
              <a:ext cx="180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472608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647720" y="2352600"/>
              <a:ext cx="285840" cy="142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933560" y="3773520"/>
              <a:ext cx="276120" cy="466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09680" y="4240080"/>
              <a:ext cx="276480" cy="23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86160" y="4478400"/>
              <a:ext cx="285480" cy="142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71640" y="4621320"/>
              <a:ext cx="277920" cy="9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049560" y="4716360"/>
              <a:ext cx="276120" cy="6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25680" y="4782960"/>
              <a:ext cx="285840" cy="4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11520" y="4830840"/>
              <a:ext cx="276120" cy="38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87640" y="4869000"/>
              <a:ext cx="276480" cy="28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95120" y="5078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95120" y="472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80640" y="4373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80640" y="4021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8064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80640" y="3305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80640" y="2952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80640" y="2600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80640" y="224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80640" y="1895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14000" y="538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7132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970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12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050920" y="5745240"/>
              <a:ext cx="15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6200000">
              <a:off x="26640" y="3647160"/>
              <a:ext cx="157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2523960" y="4495680"/>
              <a:ext cx="679680" cy="432000"/>
            </a:xfrm>
            <a:prstGeom prst="rtTriangl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38280" y="4438800"/>
              <a:ext cx="11448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5089680" y="1663560"/>
            <a:ext cx="380196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0= 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5234040" y="4690440"/>
            <a:ext cx="2606760" cy="1411560"/>
            <a:chOff x="5234040" y="4690440"/>
            <a:chExt cx="2606760" cy="1411560"/>
          </a:xfrm>
        </p:grpSpPr>
        <p:grpSp>
          <p:nvGrpSpPr>
            <p:cNvPr id="1010" name=""/>
            <p:cNvGrpSpPr/>
            <p:nvPr/>
          </p:nvGrpSpPr>
          <p:grpSpPr>
            <a:xfrm>
              <a:off x="5875560" y="5077440"/>
              <a:ext cx="1965240" cy="1024560"/>
              <a:chOff x="5875560" y="5077440"/>
              <a:chExt cx="1965240" cy="102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6185520" y="5591880"/>
                <a:ext cx="813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</a:t>
                </a: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q</a:t>
                </a:r>
                <a:r>
                  <a:rPr b="1" lang="pt-BR" sz="2400" spc="-1" strike="noStrike" baseline="-25000">
                    <a:solidFill>
                      <a:srgbClr val="3333cc"/>
                    </a:solidFill>
                    <a:latin typeface="Lucida Casu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214680" y="5077440"/>
                <a:ext cx="770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</a:t>
                </a: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q</a:t>
                </a:r>
                <a:r>
                  <a:rPr b="1" lang="pt-BR" sz="2400" spc="-1" strike="noStrike" baseline="-25000">
                    <a:solidFill>
                      <a:srgbClr val="3333cc"/>
                    </a:solidFill>
                    <a:latin typeface="Lucida Casual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75560" y="5306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3333cc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210360" y="5608800"/>
                <a:ext cx="772920" cy="1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346520" y="555372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p</a:t>
                </a:r>
                <a:r>
                  <a:rPr b="1" lang="pt-BR" sz="2400" spc="-1" strike="noStrike" baseline="-25000">
                    <a:solidFill>
                      <a:srgbClr val="3333cc"/>
                    </a:solidFill>
                    <a:latin typeface="Lucida Casual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14480" y="5096520"/>
                <a:ext cx="47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p</a:t>
                </a:r>
                <a:r>
                  <a:rPr b="1" lang="pt-BR" sz="2400" spc="-1" strike="noStrike" baseline="-25000">
                    <a:solidFill>
                      <a:srgbClr val="3333cc"/>
                    </a:solidFill>
                    <a:latin typeface="Lucida Casu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288200" y="5618160"/>
                <a:ext cx="552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994080" y="5369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33cc"/>
                    </a:solidFill>
                    <a:latin typeface="Lucida Casu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5234040" y="469044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Ou sej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2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92280" y="1895400"/>
            <a:ext cx="4145400" cy="4093560"/>
            <a:chOff x="692280" y="1895400"/>
            <a:chExt cx="4145400" cy="4093560"/>
          </a:xfrm>
        </p:grpSpPr>
        <p:sp>
          <p:nvSpPr>
            <p:cNvPr id="1025" name=""/>
            <p:cNvSpPr/>
            <p:nvPr/>
          </p:nvSpPr>
          <p:spPr>
            <a:xfrm>
              <a:off x="2585160" y="4073040"/>
              <a:ext cx="65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192480" y="4463640"/>
              <a:ext cx="62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71600" y="2000160"/>
              <a:ext cx="1440" cy="31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05000" y="518328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05000" y="483084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05000" y="447840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05000" y="412596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05000" y="37735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305000" y="34099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05000" y="305748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305000" y="270504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05000" y="235260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05000" y="200016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371600" y="5183280"/>
              <a:ext cx="335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137160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248616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3611520" y="5182920"/>
              <a:ext cx="180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472608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47720" y="2352600"/>
              <a:ext cx="285840" cy="142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933560" y="3773520"/>
              <a:ext cx="276120" cy="466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09680" y="4240080"/>
              <a:ext cx="276480" cy="23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86160" y="4478400"/>
              <a:ext cx="285480" cy="142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71640" y="4621320"/>
              <a:ext cx="277920" cy="9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049560" y="4716360"/>
              <a:ext cx="276120" cy="6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25680" y="4782960"/>
              <a:ext cx="285840" cy="4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611520" y="4830840"/>
              <a:ext cx="276120" cy="38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87640" y="4869000"/>
              <a:ext cx="276480" cy="28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95120" y="5078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95120" y="472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980640" y="4373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80640" y="4021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8064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80640" y="3305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80640" y="2952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80640" y="2600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80640" y="224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80640" y="1895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314000" y="538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37132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4970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112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050920" y="5745240"/>
              <a:ext cx="15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26640" y="3647160"/>
              <a:ext cx="157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flipV="1">
              <a:off x="2523960" y="4495680"/>
              <a:ext cx="679680" cy="432000"/>
            </a:xfrm>
            <a:prstGeom prst="rtTriangl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38280" y="4438800"/>
              <a:ext cx="11448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4495680" y="1943280"/>
            <a:ext cx="3753000" cy="1257120"/>
          </a:xfrm>
          <a:prstGeom prst="wedgeRoundRectCallout">
            <a:avLst>
              <a:gd name="adj1" fmla="val -101268"/>
              <a:gd name="adj2" fmla="val 150629"/>
              <a:gd name="adj3" fmla="val 16667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Haverá alguma re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ntre quantidades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reços no ponto de óti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7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542960" y="2828880"/>
            <a:ext cx="390600" cy="1649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933560" y="4478400"/>
            <a:ext cx="276120" cy="237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09680" y="4716360"/>
            <a:ext cx="276480" cy="1144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86160" y="4830840"/>
            <a:ext cx="285480" cy="66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71640" y="4897440"/>
            <a:ext cx="277920" cy="47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049560" y="4944960"/>
            <a:ext cx="276120" cy="381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325680" y="4983120"/>
            <a:ext cx="28584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611520" y="5002200"/>
            <a:ext cx="276120" cy="2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87640" y="5030640"/>
            <a:ext cx="276480" cy="9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64120" y="5040360"/>
            <a:ext cx="28548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14800" y="490536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438280" y="4438800"/>
            <a:ext cx="114480" cy="114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771560" y="4000680"/>
            <a:ext cx="11448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526720" y="406944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Sim. A relação 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324480" y="3409920"/>
            <a:ext cx="486000" cy="538200"/>
          </a:xfrm>
          <a:prstGeom prst="downArrow">
            <a:avLst>
              <a:gd name="adj1" fmla="val 50000"/>
              <a:gd name="adj2" fmla="val 276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597640" y="4729680"/>
            <a:ext cx="1965240" cy="1024200"/>
            <a:chOff x="5597640" y="4729680"/>
            <a:chExt cx="1965240" cy="1024200"/>
          </a:xfrm>
        </p:grpSpPr>
        <p:sp>
          <p:nvSpPr>
            <p:cNvPr id="1136" name=""/>
            <p:cNvSpPr/>
            <p:nvPr/>
          </p:nvSpPr>
          <p:spPr>
            <a:xfrm>
              <a:off x="5907600" y="5243760"/>
              <a:ext cx="81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37480" y="4729680"/>
              <a:ext cx="77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</a:t>
              </a: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q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597640" y="495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Arial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32440" y="5261040"/>
              <a:ext cx="772920" cy="1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068600" y="5205600"/>
              <a:ext cx="4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037280" y="4748400"/>
              <a:ext cx="47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r>
                <a:rPr b="1" lang="pt-BR" sz="2400" spc="-1" strike="noStrike" baseline="-25000">
                  <a:solidFill>
                    <a:srgbClr val="3333cc"/>
                  </a:solidFill>
                  <a:latin typeface="Lucida Casu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010280" y="5270400"/>
              <a:ext cx="5526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715440" y="502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cc"/>
                  </a:solidFill>
                  <a:latin typeface="Lucida Casu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2847960" y="1592280"/>
            <a:ext cx="1440" cy="3770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765520" y="536256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765520" y="494352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765520" y="452592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765520" y="410832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765520" y="369108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65520" y="326232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765520" y="284472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65520" y="242712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765520" y="200988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765520" y="159228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847960" y="5362560"/>
            <a:ext cx="41673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2847960" y="5362560"/>
            <a:ext cx="144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4233960" y="5362560"/>
            <a:ext cx="144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5630760" y="5362560"/>
            <a:ext cx="180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7015320" y="5362560"/>
            <a:ext cx="144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191040" y="2009880"/>
            <a:ext cx="355320" cy="16812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46360" y="3691080"/>
            <a:ext cx="343080" cy="55404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89440" y="4245120"/>
            <a:ext cx="344520" cy="2808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233960" y="4525920"/>
            <a:ext cx="353880" cy="1699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587840" y="4695840"/>
            <a:ext cx="344520" cy="11268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932360" y="4808520"/>
            <a:ext cx="343080" cy="7956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275440" y="4888080"/>
            <a:ext cx="355320" cy="5544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30760" y="4943520"/>
            <a:ext cx="343080" cy="4608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73840" y="4989600"/>
            <a:ext cx="342720" cy="331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05240" y="5237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05240" y="4819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362680" y="4402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362680" y="39844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362680" y="35672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362680" y="31384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362680" y="27208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362680" y="23036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362680" y="18842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362680" y="146700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776680" y="55990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091400" y="5599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488200" y="5599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74200" y="5599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75120" y="5989680"/>
            <a:ext cx="18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16200000">
            <a:off x="1227240" y="3346560"/>
            <a:ext cx="187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2819160" y="4932360"/>
            <a:ext cx="1407960" cy="14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 flipV="1">
            <a:off x="2841120" y="3692160"/>
            <a:ext cx="685800" cy="32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 flipV="1">
            <a:off x="3561840" y="3676680"/>
            <a:ext cx="9720" cy="167328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224240" y="4937040"/>
            <a:ext cx="0" cy="42552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 flipV="1">
            <a:off x="3540960" y="3699000"/>
            <a:ext cx="685800" cy="124776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76520" y="362916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24760" y="319320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52680" y="396468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007360" y="88524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Taxa Marginal de Sub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2847960" y="1592280"/>
            <a:ext cx="1440" cy="3770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65520" y="536256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765520" y="494352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765520" y="452592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65520" y="410832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765520" y="369108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765520" y="326232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765520" y="284472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765520" y="242712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765520" y="200988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765520" y="159228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47960" y="5362560"/>
            <a:ext cx="41673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2847960" y="5362560"/>
            <a:ext cx="144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233960" y="5362560"/>
            <a:ext cx="144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630760" y="5362560"/>
            <a:ext cx="180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7015320" y="5362560"/>
            <a:ext cx="144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191040" y="2009880"/>
            <a:ext cx="355320" cy="16812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546360" y="3691080"/>
            <a:ext cx="343080" cy="55404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89440" y="4245120"/>
            <a:ext cx="344520" cy="2808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233960" y="4525920"/>
            <a:ext cx="353880" cy="1699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587840" y="4695840"/>
            <a:ext cx="344520" cy="11268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32360" y="4808520"/>
            <a:ext cx="343080" cy="7956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275440" y="4888080"/>
            <a:ext cx="355320" cy="5544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630760" y="4943520"/>
            <a:ext cx="343080" cy="4608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973840" y="4989600"/>
            <a:ext cx="342720" cy="331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505240" y="5237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05240" y="4819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362680" y="4402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362680" y="39844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362680" y="35672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362680" y="31384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362680" y="27208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362680" y="23036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62680" y="18842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62680" y="146700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776680" y="55990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91400" y="5599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488200" y="5599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74200" y="5599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2840040" y="4791240"/>
            <a:ext cx="196200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02040" y="4780080"/>
            <a:ext cx="0" cy="5666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4848120" y="4791240"/>
            <a:ext cx="1524240" cy="38088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34000" y="470520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286960" y="425052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414840" y="471708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802040" y="4791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876400" y="5184720"/>
            <a:ext cx="3463920" cy="180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75240" y="5175360"/>
            <a:ext cx="3240" cy="15552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4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4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975120" y="5989680"/>
            <a:ext cx="18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rot="16200000">
            <a:off x="1227240" y="3346560"/>
            <a:ext cx="187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007360" y="84708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Taxa Marginal de Sub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 flipH="1">
            <a:off x="2819520" y="3886200"/>
            <a:ext cx="76176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641760" y="3932280"/>
            <a:ext cx="15840" cy="141768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8880" y="1611360"/>
            <a:ext cx="1800" cy="3770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746440" y="538164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746440" y="496260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746440" y="454500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746440" y="412740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46440" y="371016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746440" y="328140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746440" y="286380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746440" y="2446200"/>
            <a:ext cx="824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6440" y="202896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46440" y="1611360"/>
            <a:ext cx="824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828880" y="5381640"/>
            <a:ext cx="41673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828880" y="5381640"/>
            <a:ext cx="180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4214880" y="5381640"/>
            <a:ext cx="144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5611680" y="5381640"/>
            <a:ext cx="180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6996240" y="5381640"/>
            <a:ext cx="1440" cy="77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171960" y="2028960"/>
            <a:ext cx="355320" cy="16812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27280" y="3710160"/>
            <a:ext cx="343080" cy="55404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70360" y="4264200"/>
            <a:ext cx="344520" cy="2808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214880" y="4545000"/>
            <a:ext cx="353880" cy="1699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568760" y="4714920"/>
            <a:ext cx="344520" cy="11268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913280" y="4827600"/>
            <a:ext cx="343080" cy="792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256360" y="4906800"/>
            <a:ext cx="355320" cy="558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611680" y="4962600"/>
            <a:ext cx="343080" cy="4608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954760" y="5008680"/>
            <a:ext cx="342720" cy="331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486160" y="52563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486160" y="4838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43600" y="442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343600" y="40035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343600" y="35863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343600" y="31575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343600" y="2739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343600" y="23223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343600" y="19033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343600" y="1486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57600" y="56181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072320" y="5618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469120" y="5618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855120" y="5618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656880" y="3885480"/>
            <a:ext cx="685800" cy="114300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38098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72640" y="332640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59680" y="19436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fini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555600" y="306000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584760" y="254556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163480" y="283752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TMgS =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591240" y="306720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376520" y="414576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007360" y="88524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Taxa Marginal de Sub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 flipV="1">
            <a:off x="2835360" y="4997160"/>
            <a:ext cx="1488960" cy="32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327560" y="4998960"/>
            <a:ext cx="0" cy="3812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75120" y="5989680"/>
            <a:ext cx="18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16200000">
            <a:off x="1227240" y="3346560"/>
            <a:ext cx="187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5089680" y="1663560"/>
            <a:ext cx="380196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0= 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-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M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6203880" y="4491000"/>
            <a:ext cx="943200" cy="1101600"/>
            <a:chOff x="6203880" y="4491000"/>
            <a:chExt cx="943200" cy="1101600"/>
          </a:xfrm>
        </p:grpSpPr>
        <p:sp>
          <p:nvSpPr>
            <p:cNvPr id="1314" name=""/>
            <p:cNvSpPr/>
            <p:nvPr/>
          </p:nvSpPr>
          <p:spPr>
            <a:xfrm>
              <a:off x="6222960" y="4491000"/>
              <a:ext cx="0" cy="141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6203880" y="4638600"/>
              <a:ext cx="943200" cy="954000"/>
              <a:chOff x="6203880" y="4638600"/>
              <a:chExt cx="943200" cy="954000"/>
            </a:xfrm>
          </p:grpSpPr>
          <p:sp>
            <p:nvSpPr>
              <p:cNvPr id="1316" name=""/>
              <p:cNvSpPr/>
              <p:nvPr/>
            </p:nvSpPr>
            <p:spPr>
              <a:xfrm>
                <a:off x="6203880" y="4678200"/>
                <a:ext cx="925560" cy="914400"/>
              </a:xfrm>
              <a:prstGeom prst="upArrowCallout">
                <a:avLst>
                  <a:gd name="adj1" fmla="val 25307"/>
                  <a:gd name="adj2" fmla="val 25305"/>
                  <a:gd name="adj3" fmla="val 16667"/>
                  <a:gd name="adj4" fmla="val 66660"/>
                </a:avLst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3333cc"/>
                    </a:solidFill>
                    <a:latin typeface="Lucida Casual"/>
                  </a:rPr>
                  <a:t>-TMg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218280" y="4638600"/>
                <a:ext cx="9288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 flipV="1">
              <a:off x="7147080" y="4500360"/>
              <a:ext cx="0" cy="137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2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692280" y="1895400"/>
            <a:ext cx="4145400" cy="4093560"/>
            <a:chOff x="692280" y="1895400"/>
            <a:chExt cx="4145400" cy="4093560"/>
          </a:xfrm>
        </p:grpSpPr>
        <p:sp>
          <p:nvSpPr>
            <p:cNvPr id="1324" name=""/>
            <p:cNvSpPr/>
            <p:nvPr/>
          </p:nvSpPr>
          <p:spPr>
            <a:xfrm>
              <a:off x="2585160" y="4073040"/>
              <a:ext cx="654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192480" y="4463640"/>
              <a:ext cx="62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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71600" y="2000160"/>
              <a:ext cx="1440" cy="31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305000" y="518328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305000" y="483084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305000" y="447840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305000" y="412596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305000" y="37735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05000" y="3409920"/>
              <a:ext cx="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05000" y="305748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05000" y="270504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305000" y="235260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305000" y="2000160"/>
              <a:ext cx="66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371600" y="5183280"/>
              <a:ext cx="3354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137160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248616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3611520" y="5182920"/>
              <a:ext cx="180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4726080" y="5182920"/>
              <a:ext cx="144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647720" y="2352600"/>
              <a:ext cx="285840" cy="1420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33560" y="3773520"/>
              <a:ext cx="276120" cy="466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4240080"/>
              <a:ext cx="276480" cy="23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86160" y="4478400"/>
              <a:ext cx="285480" cy="142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71640" y="4621320"/>
              <a:ext cx="277920" cy="9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049560" y="4716360"/>
              <a:ext cx="276120" cy="6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325680" y="4782960"/>
              <a:ext cx="285840" cy="4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611520" y="4830840"/>
              <a:ext cx="276120" cy="38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87640" y="4869000"/>
              <a:ext cx="276480" cy="28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095120" y="5078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095120" y="472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980640" y="4373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80640" y="4021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98064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980640" y="3305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980640" y="2952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980640" y="2600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980640" y="224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980640" y="1895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14000" y="538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37132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4970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611240" y="538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50920" y="5745240"/>
              <a:ext cx="15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16200000">
              <a:off x="26640" y="3647160"/>
              <a:ext cx="157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dade de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90680" y="3772080"/>
              <a:ext cx="2247840" cy="1438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 flipV="1">
              <a:off x="2523960" y="4495680"/>
              <a:ext cx="679680" cy="432000"/>
            </a:xfrm>
            <a:prstGeom prst="rtTriangl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438280" y="4438800"/>
              <a:ext cx="114480" cy="114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5089680" y="1663560"/>
            <a:ext cx="380196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im, p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(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=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 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0= 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+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/</a:t>
            </a:r>
            <a:r>
              <a:rPr b="1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 = 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p</a:t>
            </a:r>
            <a:r>
              <a:rPr b="1" lang="pt-BR" sz="18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TM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917400" y="526968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947280" y="475524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535360" y="50281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TMgS =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953400" y="5276880"/>
            <a:ext cx="761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078400" y="5231520"/>
            <a:ext cx="4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046720" y="47743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020080" y="5295960"/>
            <a:ext cx="552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725240" y="5047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585160" y="4073040"/>
            <a:ext cx="65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192480" y="4463640"/>
            <a:ext cx="62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Symbol"/>
                <a:ea typeface="Symbol"/>
              </a:rPr>
              <a:t>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 flipV="1">
            <a:off x="2523960" y="4495680"/>
            <a:ext cx="679680" cy="432000"/>
          </a:xfrm>
          <a:prstGeom prst="rtTriangl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438280" y="4438800"/>
            <a:ext cx="114480" cy="114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4495680" y="1943280"/>
            <a:ext cx="3753000" cy="1257120"/>
          </a:xfrm>
          <a:prstGeom prst="wedgeRoundRectCallout">
            <a:avLst>
              <a:gd name="adj1" fmla="val -101268"/>
              <a:gd name="adj2" fmla="val 150629"/>
              <a:gd name="adj3" fmla="val 16667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Haverá alguma re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entre quantidades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preços no ponto de óti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3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542960" y="2828880"/>
            <a:ext cx="390600" cy="1649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933560" y="4478400"/>
            <a:ext cx="276120" cy="237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209680" y="4716360"/>
            <a:ext cx="276480" cy="1144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486160" y="4830840"/>
            <a:ext cx="285480" cy="66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771640" y="4897440"/>
            <a:ext cx="277920" cy="47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049560" y="4944960"/>
            <a:ext cx="276120" cy="381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325680" y="4983120"/>
            <a:ext cx="28584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611520" y="5002200"/>
            <a:ext cx="276120" cy="2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887640" y="5030640"/>
            <a:ext cx="276480" cy="9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64120" y="5040360"/>
            <a:ext cx="28548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214800" y="4905360"/>
            <a:ext cx="114120" cy="11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438280" y="4438800"/>
            <a:ext cx="114480" cy="114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771560" y="4000680"/>
            <a:ext cx="114480" cy="11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202840" y="7884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Maximização da Ut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526720" y="406944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Lucida Casual"/>
              </a:rPr>
              <a:t>Sim. A relação 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324480" y="3409920"/>
            <a:ext cx="486000" cy="538200"/>
          </a:xfrm>
          <a:prstGeom prst="downArrow">
            <a:avLst>
              <a:gd name="adj1" fmla="val 50000"/>
              <a:gd name="adj2" fmla="val 276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707880" y="509832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737760" y="458388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325840" y="48567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TMgS =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743880" y="5105520"/>
            <a:ext cx="761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868880" y="5060160"/>
            <a:ext cx="4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837200" y="460296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810560" y="5124600"/>
            <a:ext cx="552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515720" y="4875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2521440" y="883440"/>
            <a:ext cx="42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Interpretação de TM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351800" y="3170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As variações nas quantidades demand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são 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inversamente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 proporcionais aos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612320" y="235512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642200" y="184068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230640" y="21135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TMgS =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648320" y="2362320"/>
            <a:ext cx="761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773320" y="2316960"/>
            <a:ext cx="4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742000" y="185976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715000" y="2381400"/>
            <a:ext cx="552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420160" y="213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1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32960" y="1371600"/>
            <a:ext cx="71622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o medir a satisfação de uma pessoa em possuir um c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em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1351800" y="3170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As variações nas quantidades demand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são inversamente proporcionais aos pre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56040" y="4140360"/>
            <a:ext cx="319068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TMgS=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Proporção de 1 q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 para 2 q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027760" y="4159080"/>
            <a:ext cx="319068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TMgS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roporção de 1 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para 1 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12320" y="2355120"/>
            <a:ext cx="81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642200" y="1840680"/>
            <a:ext cx="77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Symbol"/>
                <a:ea typeface="Symbol"/>
              </a:rPr>
              <a:t></a:t>
            </a: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230640" y="21135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TMgS =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648320" y="2362320"/>
            <a:ext cx="76176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773320" y="2316960"/>
            <a:ext cx="4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742000" y="185976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</a:t>
            </a:r>
            <a:r>
              <a:rPr b="1" lang="pt-BR" sz="2400" spc="-1" strike="noStrike" baseline="-25000">
                <a:solidFill>
                  <a:srgbClr val="808080"/>
                </a:solidFill>
                <a:latin typeface="Lucida Casu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715000" y="2381400"/>
            <a:ext cx="552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420160" y="213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2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521440" y="883440"/>
            <a:ext cx="42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Interpretação de TM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732960" y="1371600"/>
            <a:ext cx="71622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medir a satisfação de uma pessoa em possuir um c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em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15320" y="4479840"/>
            <a:ext cx="7841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PROBLEM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riando o preço de um dado bem, como se alteraria a quantid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ste bem que a massa de consumidores desejaria compr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8640" y="2932200"/>
            <a:ext cx="7453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ual a proporção de bens e serviços desejados pel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uando este é informado sobre o pre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3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3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4520" y="8262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feito do Pre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300760" y="16646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 =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768920" y="2478600"/>
            <a:ext cx="3552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= R$ 2,50      q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=            = 40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13520" y="2370600"/>
            <a:ext cx="6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2,50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070760" y="2814480"/>
            <a:ext cx="490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1371600" y="3172320"/>
            <a:ext cx="6988320" cy="1988640"/>
            <a:chOff x="1371600" y="3172320"/>
            <a:chExt cx="6988320" cy="1988640"/>
          </a:xfrm>
        </p:grpSpPr>
        <p:sp>
          <p:nvSpPr>
            <p:cNvPr id="1582" name=""/>
            <p:cNvSpPr/>
            <p:nvPr/>
          </p:nvSpPr>
          <p:spPr>
            <a:xfrm>
              <a:off x="1371600" y="3765600"/>
              <a:ext cx="1092240" cy="1395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3" name=""/>
            <p:cNvGrpSpPr/>
            <p:nvPr/>
          </p:nvGrpSpPr>
          <p:grpSpPr>
            <a:xfrm>
              <a:off x="4807080" y="3172320"/>
              <a:ext cx="3552840" cy="916920"/>
              <a:chOff x="4807080" y="3172320"/>
              <a:chExt cx="3552840" cy="916920"/>
            </a:xfrm>
          </p:grpSpPr>
          <p:sp>
            <p:nvSpPr>
              <p:cNvPr id="1584" name=""/>
              <p:cNvSpPr/>
              <p:nvPr/>
            </p:nvSpPr>
            <p:spPr>
              <a:xfrm>
                <a:off x="4807080" y="3280320"/>
                <a:ext cx="35528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Arial"/>
                  </a:rPr>
                  <a:t>p</a:t>
                </a:r>
                <a:r>
                  <a:rPr b="1" lang="pt-BR" sz="1800" spc="-1" strike="noStrike" baseline="-25000">
                    <a:solidFill>
                      <a:srgbClr val="008000"/>
                    </a:solidFill>
                    <a:latin typeface="Arial"/>
                  </a:rPr>
                  <a:t>L</a:t>
                </a:r>
                <a:r>
                  <a:rPr b="1" lang="pt-BR" sz="1800" spc="-1" strike="noStrike">
                    <a:solidFill>
                      <a:srgbClr val="008000"/>
                    </a:solidFill>
                    <a:latin typeface="Arial"/>
                  </a:rPr>
                  <a:t> = R$ 5,00      q</a:t>
                </a:r>
                <a:r>
                  <a:rPr b="1" lang="pt-BR" sz="1800" spc="-1" strike="noStrike" baseline="-25000">
                    <a:solidFill>
                      <a:srgbClr val="008000"/>
                    </a:solidFill>
                    <a:latin typeface="Arial"/>
                  </a:rPr>
                  <a:t>L</a:t>
                </a:r>
                <a:r>
                  <a:rPr b="1" lang="pt-BR" sz="1800" spc="-1" strike="noStrike">
                    <a:solidFill>
                      <a:srgbClr val="008000"/>
                    </a:solidFill>
                    <a:latin typeface="Arial"/>
                  </a:rPr>
                  <a:t> =            = 20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051680" y="3172320"/>
                <a:ext cx="639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33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Arial"/>
                  </a:rPr>
                  <a:t>5,00</a:t>
                </a:r>
                <a:r>
                  <a:rPr b="1" lang="pt-BR" sz="1800" spc="-1" strike="noStrike">
                    <a:solidFill>
                      <a:srgbClr val="0000ff"/>
                    </a:solidFill>
                    <a:latin typeface="Arial"/>
                  </a:rPr>
                  <a:t>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108920" y="3616200"/>
                <a:ext cx="490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276600" y="1617480"/>
            <a:ext cx="14500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Orig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9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9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542960" y="2828880"/>
            <a:ext cx="390600" cy="1649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933560" y="4478400"/>
            <a:ext cx="276120" cy="237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09680" y="4716360"/>
            <a:ext cx="276480" cy="1144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486160" y="4830840"/>
            <a:ext cx="285480" cy="66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771640" y="4897440"/>
            <a:ext cx="277920" cy="47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9560" y="4944960"/>
            <a:ext cx="276120" cy="381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325680" y="4983120"/>
            <a:ext cx="28584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611520" y="5002200"/>
            <a:ext cx="276120" cy="2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887640" y="5030640"/>
            <a:ext cx="276480" cy="9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164120" y="5040360"/>
            <a:ext cx="28548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400480" y="44006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371600" y="4476600"/>
            <a:ext cx="1123920" cy="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2476440" y="4476600"/>
            <a:ext cx="0" cy="7048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134520" y="8262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feito do Pre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300760" y="16646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=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6258960" y="1617480"/>
            <a:ext cx="14500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Lucida Casual"/>
              </a:rPr>
              <a:t>Orig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= R$ 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163560" y="3830760"/>
            <a:ext cx="20476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umento de p</a:t>
            </a:r>
            <a:r>
              <a:rPr b="1" lang="pt-BR" sz="20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R$ 5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J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=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dução de q</a:t>
            </a:r>
            <a:r>
              <a:rPr b="1" lang="pt-BR" sz="1800" spc="-1" strike="noStrike" baseline="-25000">
                <a:solidFill>
                  <a:srgbClr val="3333cc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5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134520" y="8262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feito do Pre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371600" y="2000160"/>
            <a:ext cx="1440" cy="318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05000" y="518328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305000" y="483084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305000" y="447840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305000" y="41259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305000" y="37735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305000" y="340992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305000" y="305748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305000" y="270504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305000" y="235260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305000" y="2000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71600" y="5183280"/>
            <a:ext cx="3354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137160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248616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3611520" y="518292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4726080" y="518292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647720" y="2352600"/>
            <a:ext cx="285840" cy="14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933560" y="3773520"/>
            <a:ext cx="276120" cy="466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209680" y="4240080"/>
            <a:ext cx="276480" cy="238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486160" y="4478400"/>
            <a:ext cx="285480" cy="14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771640" y="4621320"/>
            <a:ext cx="277920" cy="95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049560" y="4716360"/>
            <a:ext cx="276120" cy="66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325680" y="4782960"/>
            <a:ext cx="285840" cy="47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611520" y="4830840"/>
            <a:ext cx="276120" cy="38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887640" y="4869000"/>
            <a:ext cx="276480" cy="28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542960" y="2828880"/>
            <a:ext cx="390600" cy="1649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933560" y="4478400"/>
            <a:ext cx="276120" cy="2379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09680" y="4716360"/>
            <a:ext cx="276480" cy="1144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486160" y="4830840"/>
            <a:ext cx="285480" cy="666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771640" y="4897440"/>
            <a:ext cx="277920" cy="475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049560" y="4944960"/>
            <a:ext cx="276120" cy="381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325680" y="4983120"/>
            <a:ext cx="28584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611520" y="5002200"/>
            <a:ext cx="276120" cy="2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887640" y="5030640"/>
            <a:ext cx="276480" cy="97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164120" y="5040360"/>
            <a:ext cx="28548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095120" y="5078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095120" y="4726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9806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980640" y="4021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980640" y="3668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980640" y="3305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980640" y="29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980640" y="2600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980640" y="2247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980640" y="1895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314000" y="5383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37132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4970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611240" y="538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050920" y="574524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rot="16200000">
            <a:off x="28080" y="364860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390680" y="3772080"/>
            <a:ext cx="2247840" cy="14382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378080" y="4527720"/>
            <a:ext cx="5713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1981080" y="4520880"/>
            <a:ext cx="0" cy="67932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371600" y="3772080"/>
            <a:ext cx="1104840" cy="1409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300760" y="16646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=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892160" y="444492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"/>
          <p:cNvSpPr/>
          <p:nvPr/>
        </p:nvSpPr>
        <p:spPr>
          <a:xfrm>
            <a:off x="3029040" y="2322360"/>
            <a:ext cx="947520" cy="14353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030480" y="4176720"/>
            <a:ext cx="1800" cy="163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984400" y="5815080"/>
            <a:ext cx="460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984400" y="553896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984400" y="527220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984400" y="499572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984400" y="471960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984400" y="445284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984400" y="417672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030480" y="5815080"/>
            <a:ext cx="29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3030480" y="5815080"/>
            <a:ext cx="1800" cy="47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351936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401940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4508640" y="5815080"/>
            <a:ext cx="14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499896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5497560" y="5815080"/>
            <a:ext cx="14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598788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848680" y="5738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848680" y="5462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848680" y="519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848680" y="4919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848680" y="46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775240" y="437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775240" y="4100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993040" y="5948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483720" y="5948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94524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43556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92444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42448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91372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21040" y="618660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rot="16200000">
            <a:off x="2093760" y="4842000"/>
            <a:ext cx="91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ço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992320" y="37576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992320" y="3395520"/>
            <a:ext cx="3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992320" y="303372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992320" y="267192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992320" y="230040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992320" y="1938240"/>
            <a:ext cx="3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992320" y="157644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030480" y="3757680"/>
            <a:ext cx="489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3030480" y="375768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5479920" y="3757680"/>
            <a:ext cx="180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927920" y="3757680"/>
            <a:ext cx="180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230640" y="1938240"/>
            <a:ext cx="190440" cy="914400"/>
          </a:xfrm>
          <a:custGeom>
            <a:avLst/>
            <a:gdLst/>
            <a:ahLst/>
            <a:rect l="l" t="t" r="r" b="b"/>
            <a:pathLst>
              <a:path w="120" h="576">
                <a:moveTo>
                  <a:pt x="0" y="0"/>
                </a:moveTo>
                <a:lnTo>
                  <a:pt x="12" y="72"/>
                </a:lnTo>
                <a:lnTo>
                  <a:pt x="24" y="150"/>
                </a:lnTo>
                <a:lnTo>
                  <a:pt x="54" y="306"/>
                </a:lnTo>
                <a:lnTo>
                  <a:pt x="66" y="384"/>
                </a:lnTo>
                <a:lnTo>
                  <a:pt x="84" y="450"/>
                </a:lnTo>
                <a:lnTo>
                  <a:pt x="102" y="516"/>
                </a:lnTo>
                <a:lnTo>
                  <a:pt x="120" y="57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421080" y="2852640"/>
            <a:ext cx="390600" cy="447840"/>
          </a:xfrm>
          <a:custGeom>
            <a:avLst/>
            <a:gdLst/>
            <a:ahLst/>
            <a:rect l="l" t="t" r="r" b="b"/>
            <a:pathLst>
              <a:path w="246" h="282">
                <a:moveTo>
                  <a:pt x="0" y="0"/>
                </a:moveTo>
                <a:lnTo>
                  <a:pt x="24" y="48"/>
                </a:lnTo>
                <a:lnTo>
                  <a:pt x="48" y="96"/>
                </a:lnTo>
                <a:lnTo>
                  <a:pt x="72" y="132"/>
                </a:lnTo>
                <a:lnTo>
                  <a:pt x="102" y="168"/>
                </a:lnTo>
                <a:lnTo>
                  <a:pt x="162" y="228"/>
                </a:lnTo>
                <a:lnTo>
                  <a:pt x="204" y="258"/>
                </a:lnTo>
                <a:lnTo>
                  <a:pt x="246" y="28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811680" y="3300480"/>
            <a:ext cx="780840" cy="228600"/>
          </a:xfrm>
          <a:custGeom>
            <a:avLst/>
            <a:gdLst/>
            <a:ahLst/>
            <a:rect l="l" t="t" r="r" b="b"/>
            <a:pathLst>
              <a:path w="492" h="144">
                <a:moveTo>
                  <a:pt x="0" y="0"/>
                </a:moveTo>
                <a:lnTo>
                  <a:pt x="48" y="24"/>
                </a:lnTo>
                <a:lnTo>
                  <a:pt x="108" y="48"/>
                </a:lnTo>
                <a:lnTo>
                  <a:pt x="168" y="66"/>
                </a:lnTo>
                <a:lnTo>
                  <a:pt x="228" y="84"/>
                </a:lnTo>
                <a:lnTo>
                  <a:pt x="360" y="120"/>
                </a:lnTo>
                <a:lnTo>
                  <a:pt x="492" y="144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592520" y="3529080"/>
            <a:ext cx="792360" cy="75960"/>
          </a:xfrm>
          <a:custGeom>
            <a:avLst/>
            <a:gdLst/>
            <a:ahLst/>
            <a:rect l="l" t="t" r="r" b="b"/>
            <a:pathLst>
              <a:path w="499" h="48">
                <a:moveTo>
                  <a:pt x="0" y="0"/>
                </a:moveTo>
                <a:lnTo>
                  <a:pt x="126" y="18"/>
                </a:lnTo>
                <a:lnTo>
                  <a:pt x="247" y="30"/>
                </a:lnTo>
                <a:lnTo>
                  <a:pt x="499" y="48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384880" y="3605040"/>
            <a:ext cx="780840" cy="38160"/>
          </a:xfrm>
          <a:custGeom>
            <a:avLst/>
            <a:gdLst/>
            <a:ahLst/>
            <a:rect l="l" t="t" r="r" b="b"/>
            <a:pathLst>
              <a:path w="492" h="24">
                <a:moveTo>
                  <a:pt x="0" y="0"/>
                </a:moveTo>
                <a:lnTo>
                  <a:pt x="246" y="12"/>
                </a:lnTo>
                <a:lnTo>
                  <a:pt x="492" y="24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165720" y="3643200"/>
            <a:ext cx="781200" cy="19080"/>
          </a:xfrm>
          <a:custGeom>
            <a:avLst/>
            <a:gdLst/>
            <a:ahLst/>
            <a:rect l="l" t="t" r="r" b="b"/>
            <a:pathLst>
              <a:path w="492" h="12">
                <a:moveTo>
                  <a:pt x="0" y="0"/>
                </a:moveTo>
                <a:lnTo>
                  <a:pt x="246" y="6"/>
                </a:lnTo>
                <a:lnTo>
                  <a:pt x="492" y="1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946920" y="3662280"/>
            <a:ext cx="781200" cy="19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421080" y="1938240"/>
            <a:ext cx="390600" cy="914400"/>
          </a:xfrm>
          <a:custGeom>
            <a:avLst/>
            <a:gdLst/>
            <a:ahLst/>
            <a:rect l="l" t="t" r="r" b="b"/>
            <a:pathLst>
              <a:path w="246" h="576">
                <a:moveTo>
                  <a:pt x="0" y="0"/>
                </a:moveTo>
                <a:lnTo>
                  <a:pt x="30" y="72"/>
                </a:lnTo>
                <a:lnTo>
                  <a:pt x="54" y="150"/>
                </a:lnTo>
                <a:lnTo>
                  <a:pt x="108" y="306"/>
                </a:lnTo>
                <a:lnTo>
                  <a:pt x="138" y="384"/>
                </a:lnTo>
                <a:lnTo>
                  <a:pt x="168" y="450"/>
                </a:lnTo>
                <a:lnTo>
                  <a:pt x="204" y="516"/>
                </a:lnTo>
                <a:lnTo>
                  <a:pt x="246" y="57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811680" y="2852640"/>
            <a:ext cx="780840" cy="447840"/>
          </a:xfrm>
          <a:custGeom>
            <a:avLst/>
            <a:gdLst/>
            <a:ahLst/>
            <a:rect l="l" t="t" r="r" b="b"/>
            <a:pathLst>
              <a:path w="492" h="282">
                <a:moveTo>
                  <a:pt x="0" y="0"/>
                </a:moveTo>
                <a:lnTo>
                  <a:pt x="48" y="48"/>
                </a:lnTo>
                <a:lnTo>
                  <a:pt x="108" y="96"/>
                </a:lnTo>
                <a:lnTo>
                  <a:pt x="168" y="138"/>
                </a:lnTo>
                <a:lnTo>
                  <a:pt x="228" y="168"/>
                </a:lnTo>
                <a:lnTo>
                  <a:pt x="360" y="234"/>
                </a:lnTo>
                <a:lnTo>
                  <a:pt x="492" y="282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592520" y="3300480"/>
            <a:ext cx="792360" cy="152280"/>
          </a:xfrm>
          <a:custGeom>
            <a:avLst/>
            <a:gdLst/>
            <a:ahLst/>
            <a:rect l="l" t="t" r="r" b="b"/>
            <a:pathLst>
              <a:path w="499" h="96">
                <a:moveTo>
                  <a:pt x="0" y="0"/>
                </a:moveTo>
                <a:lnTo>
                  <a:pt x="60" y="24"/>
                </a:lnTo>
                <a:lnTo>
                  <a:pt x="126" y="36"/>
                </a:lnTo>
                <a:lnTo>
                  <a:pt x="247" y="60"/>
                </a:lnTo>
                <a:lnTo>
                  <a:pt x="373" y="78"/>
                </a:lnTo>
                <a:lnTo>
                  <a:pt x="499" y="9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384880" y="3452760"/>
            <a:ext cx="780840" cy="76320"/>
          </a:xfrm>
          <a:custGeom>
            <a:avLst/>
            <a:gdLst/>
            <a:ahLst/>
            <a:rect l="l" t="t" r="r" b="b"/>
            <a:pathLst>
              <a:path w="492" h="48">
                <a:moveTo>
                  <a:pt x="0" y="0"/>
                </a:moveTo>
                <a:lnTo>
                  <a:pt x="126" y="18"/>
                </a:lnTo>
                <a:lnTo>
                  <a:pt x="246" y="30"/>
                </a:lnTo>
                <a:lnTo>
                  <a:pt x="492" y="48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165720" y="3529080"/>
            <a:ext cx="781200" cy="47520"/>
          </a:xfrm>
          <a:custGeom>
            <a:avLst/>
            <a:gdLst/>
            <a:ahLst/>
            <a:rect l="l" t="t" r="r" b="b"/>
            <a:pathLst>
              <a:path w="492" h="30">
                <a:moveTo>
                  <a:pt x="0" y="0"/>
                </a:moveTo>
                <a:lnTo>
                  <a:pt x="246" y="18"/>
                </a:lnTo>
                <a:lnTo>
                  <a:pt x="492" y="30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946920" y="3576600"/>
            <a:ext cx="781200" cy="28440"/>
          </a:xfrm>
          <a:custGeom>
            <a:avLst/>
            <a:gdLst/>
            <a:ahLst/>
            <a:rect l="l" t="t" r="r" b="b"/>
            <a:pathLst>
              <a:path w="492" h="18">
                <a:moveTo>
                  <a:pt x="0" y="0"/>
                </a:moveTo>
                <a:lnTo>
                  <a:pt x="246" y="12"/>
                </a:lnTo>
                <a:lnTo>
                  <a:pt x="492" y="18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811680" y="1938240"/>
            <a:ext cx="780840" cy="914400"/>
          </a:xfrm>
          <a:custGeom>
            <a:avLst/>
            <a:gdLst/>
            <a:ahLst/>
            <a:rect l="l" t="t" r="r" b="b"/>
            <a:pathLst>
              <a:path w="492" h="576">
                <a:moveTo>
                  <a:pt x="0" y="0"/>
                </a:moveTo>
                <a:lnTo>
                  <a:pt x="60" y="72"/>
                </a:lnTo>
                <a:lnTo>
                  <a:pt x="120" y="156"/>
                </a:lnTo>
                <a:lnTo>
                  <a:pt x="246" y="312"/>
                </a:lnTo>
                <a:lnTo>
                  <a:pt x="306" y="390"/>
                </a:lnTo>
                <a:lnTo>
                  <a:pt x="366" y="462"/>
                </a:lnTo>
                <a:lnTo>
                  <a:pt x="432" y="522"/>
                </a:lnTo>
                <a:lnTo>
                  <a:pt x="492" y="57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592520" y="2852640"/>
            <a:ext cx="792360" cy="295200"/>
          </a:xfrm>
          <a:custGeom>
            <a:avLst/>
            <a:gdLst/>
            <a:ahLst/>
            <a:rect l="l" t="t" r="r" b="b"/>
            <a:pathLst>
              <a:path w="499" h="186">
                <a:moveTo>
                  <a:pt x="0" y="0"/>
                </a:moveTo>
                <a:lnTo>
                  <a:pt x="60" y="42"/>
                </a:lnTo>
                <a:lnTo>
                  <a:pt x="126" y="78"/>
                </a:lnTo>
                <a:lnTo>
                  <a:pt x="186" y="102"/>
                </a:lnTo>
                <a:lnTo>
                  <a:pt x="247" y="120"/>
                </a:lnTo>
                <a:lnTo>
                  <a:pt x="373" y="156"/>
                </a:lnTo>
                <a:lnTo>
                  <a:pt x="499" y="18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384880" y="3147840"/>
            <a:ext cx="780840" cy="152640"/>
          </a:xfrm>
          <a:custGeom>
            <a:avLst/>
            <a:gdLst/>
            <a:ahLst/>
            <a:rect l="l" t="t" r="r" b="b"/>
            <a:pathLst>
              <a:path w="492" h="96">
                <a:moveTo>
                  <a:pt x="0" y="0"/>
                </a:moveTo>
                <a:lnTo>
                  <a:pt x="126" y="30"/>
                </a:lnTo>
                <a:lnTo>
                  <a:pt x="246" y="54"/>
                </a:lnTo>
                <a:lnTo>
                  <a:pt x="492" y="9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165720" y="3300480"/>
            <a:ext cx="781200" cy="95040"/>
          </a:xfrm>
          <a:custGeom>
            <a:avLst/>
            <a:gdLst/>
            <a:ahLst/>
            <a:rect l="l" t="t" r="r" b="b"/>
            <a:pathLst>
              <a:path w="492" h="60">
                <a:moveTo>
                  <a:pt x="0" y="0"/>
                </a:moveTo>
                <a:lnTo>
                  <a:pt x="246" y="36"/>
                </a:lnTo>
                <a:lnTo>
                  <a:pt x="492" y="60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946920" y="3395520"/>
            <a:ext cx="781200" cy="57240"/>
          </a:xfrm>
          <a:custGeom>
            <a:avLst/>
            <a:gdLst/>
            <a:ahLst/>
            <a:rect l="l" t="t" r="r" b="b"/>
            <a:pathLst>
              <a:path w="492" h="36">
                <a:moveTo>
                  <a:pt x="0" y="0"/>
                </a:moveTo>
                <a:lnTo>
                  <a:pt x="246" y="18"/>
                </a:lnTo>
                <a:lnTo>
                  <a:pt x="492" y="3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858400" y="368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781360" y="3319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781360" y="2957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781360" y="259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781360" y="2224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781360" y="1862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781360" y="1500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991600" y="3871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40252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85016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616640" y="413856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rot="16200000">
            <a:off x="1869480" y="2482560"/>
            <a:ext cx="1386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022560" y="2305080"/>
            <a:ext cx="1913040" cy="14446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029040" y="2303640"/>
            <a:ext cx="3798720" cy="14522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429000" y="437832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911760" y="2952720"/>
            <a:ext cx="101520" cy="101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424320" y="294480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865760" y="2979720"/>
            <a:ext cx="104760" cy="9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962520" y="4724280"/>
            <a:ext cx="914400" cy="609840"/>
          </a:xfrm>
          <a:prstGeom prst="wedgeRoundRectCallout">
            <a:avLst>
              <a:gd name="adj1" fmla="val -45833"/>
              <a:gd name="adj2" fmla="val -204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/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957400" y="75024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Curva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371840" y="1542960"/>
            <a:ext cx="914400" cy="609840"/>
          </a:xfrm>
          <a:prstGeom prst="wedgeRoundRectCallout">
            <a:avLst>
              <a:gd name="adj1" fmla="val -145833"/>
              <a:gd name="adj2" fmla="val 188800"/>
              <a:gd name="adj3" fmla="val 16667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475080" y="3048120"/>
            <a:ext cx="0" cy="1342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9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030480" y="1576440"/>
            <a:ext cx="1800" cy="21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/>
          <p:nvPr/>
        </p:nvSpPr>
        <p:spPr>
          <a:xfrm>
            <a:off x="3030480" y="4176720"/>
            <a:ext cx="1800" cy="163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984400" y="5815080"/>
            <a:ext cx="460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984400" y="553896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984400" y="527220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984400" y="499572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984400" y="471960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984400" y="445284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984400" y="417672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030480" y="5815080"/>
            <a:ext cx="29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3030480" y="5815080"/>
            <a:ext cx="1800" cy="47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351936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401940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4508640" y="5815080"/>
            <a:ext cx="14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V="1">
            <a:off x="499896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5497560" y="5815080"/>
            <a:ext cx="14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V="1">
            <a:off x="598788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848680" y="5738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848680" y="5462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848680" y="519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848680" y="4919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848680" y="46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75240" y="437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775240" y="4100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993040" y="5948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483720" y="5948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94524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3556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92444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42448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91372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821040" y="618660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2093760" y="4842000"/>
            <a:ext cx="91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ço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030480" y="1576440"/>
            <a:ext cx="1800" cy="21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992320" y="37576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992320" y="3395520"/>
            <a:ext cx="3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92320" y="303372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992320" y="267192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992320" y="230040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992320" y="1938240"/>
            <a:ext cx="3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992320" y="157644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030480" y="3757680"/>
            <a:ext cx="489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3030480" y="375768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5479920" y="3757680"/>
            <a:ext cx="180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7927920" y="3757680"/>
            <a:ext cx="180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230640" y="1938240"/>
            <a:ext cx="190440" cy="914400"/>
          </a:xfrm>
          <a:custGeom>
            <a:avLst/>
            <a:gdLst/>
            <a:ahLst/>
            <a:rect l="l" t="t" r="r" b="b"/>
            <a:pathLst>
              <a:path w="120" h="576">
                <a:moveTo>
                  <a:pt x="0" y="0"/>
                </a:moveTo>
                <a:lnTo>
                  <a:pt x="12" y="72"/>
                </a:lnTo>
                <a:lnTo>
                  <a:pt x="24" y="150"/>
                </a:lnTo>
                <a:lnTo>
                  <a:pt x="54" y="306"/>
                </a:lnTo>
                <a:lnTo>
                  <a:pt x="66" y="384"/>
                </a:lnTo>
                <a:lnTo>
                  <a:pt x="84" y="450"/>
                </a:lnTo>
                <a:lnTo>
                  <a:pt x="102" y="516"/>
                </a:lnTo>
                <a:lnTo>
                  <a:pt x="120" y="576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421080" y="2852640"/>
            <a:ext cx="390600" cy="447840"/>
          </a:xfrm>
          <a:custGeom>
            <a:avLst/>
            <a:gdLst/>
            <a:ahLst/>
            <a:rect l="l" t="t" r="r" b="b"/>
            <a:pathLst>
              <a:path w="246" h="282">
                <a:moveTo>
                  <a:pt x="0" y="0"/>
                </a:moveTo>
                <a:lnTo>
                  <a:pt x="24" y="48"/>
                </a:lnTo>
                <a:lnTo>
                  <a:pt x="48" y="96"/>
                </a:lnTo>
                <a:lnTo>
                  <a:pt x="72" y="132"/>
                </a:lnTo>
                <a:lnTo>
                  <a:pt x="102" y="168"/>
                </a:lnTo>
                <a:lnTo>
                  <a:pt x="162" y="228"/>
                </a:lnTo>
                <a:lnTo>
                  <a:pt x="204" y="258"/>
                </a:lnTo>
                <a:lnTo>
                  <a:pt x="246" y="282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811680" y="3300480"/>
            <a:ext cx="780840" cy="228600"/>
          </a:xfrm>
          <a:custGeom>
            <a:avLst/>
            <a:gdLst/>
            <a:ahLst/>
            <a:rect l="l" t="t" r="r" b="b"/>
            <a:pathLst>
              <a:path w="492" h="144">
                <a:moveTo>
                  <a:pt x="0" y="0"/>
                </a:moveTo>
                <a:lnTo>
                  <a:pt x="48" y="24"/>
                </a:lnTo>
                <a:lnTo>
                  <a:pt x="108" y="48"/>
                </a:lnTo>
                <a:lnTo>
                  <a:pt x="168" y="66"/>
                </a:lnTo>
                <a:lnTo>
                  <a:pt x="228" y="84"/>
                </a:lnTo>
                <a:lnTo>
                  <a:pt x="360" y="120"/>
                </a:lnTo>
                <a:lnTo>
                  <a:pt x="492" y="144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592520" y="3529080"/>
            <a:ext cx="792360" cy="75960"/>
          </a:xfrm>
          <a:custGeom>
            <a:avLst/>
            <a:gdLst/>
            <a:ahLst/>
            <a:rect l="l" t="t" r="r" b="b"/>
            <a:pathLst>
              <a:path w="499" h="48">
                <a:moveTo>
                  <a:pt x="0" y="0"/>
                </a:moveTo>
                <a:lnTo>
                  <a:pt x="126" y="18"/>
                </a:lnTo>
                <a:lnTo>
                  <a:pt x="247" y="30"/>
                </a:lnTo>
                <a:lnTo>
                  <a:pt x="499" y="48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384880" y="3605040"/>
            <a:ext cx="780840" cy="38160"/>
          </a:xfrm>
          <a:custGeom>
            <a:avLst/>
            <a:gdLst/>
            <a:ahLst/>
            <a:rect l="l" t="t" r="r" b="b"/>
            <a:pathLst>
              <a:path w="492" h="24">
                <a:moveTo>
                  <a:pt x="0" y="0"/>
                </a:moveTo>
                <a:lnTo>
                  <a:pt x="246" y="12"/>
                </a:lnTo>
                <a:lnTo>
                  <a:pt x="492" y="24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165720" y="3643200"/>
            <a:ext cx="781200" cy="19080"/>
          </a:xfrm>
          <a:custGeom>
            <a:avLst/>
            <a:gdLst/>
            <a:ahLst/>
            <a:rect l="l" t="t" r="r" b="b"/>
            <a:pathLst>
              <a:path w="492" h="12">
                <a:moveTo>
                  <a:pt x="0" y="0"/>
                </a:moveTo>
                <a:lnTo>
                  <a:pt x="246" y="6"/>
                </a:lnTo>
                <a:lnTo>
                  <a:pt x="492" y="12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946920" y="3662280"/>
            <a:ext cx="78120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421080" y="1938240"/>
            <a:ext cx="390600" cy="914400"/>
          </a:xfrm>
          <a:custGeom>
            <a:avLst/>
            <a:gdLst/>
            <a:ahLst/>
            <a:rect l="l" t="t" r="r" b="b"/>
            <a:pathLst>
              <a:path w="246" h="576">
                <a:moveTo>
                  <a:pt x="0" y="0"/>
                </a:moveTo>
                <a:lnTo>
                  <a:pt x="30" y="72"/>
                </a:lnTo>
                <a:lnTo>
                  <a:pt x="54" y="150"/>
                </a:lnTo>
                <a:lnTo>
                  <a:pt x="108" y="306"/>
                </a:lnTo>
                <a:lnTo>
                  <a:pt x="138" y="384"/>
                </a:lnTo>
                <a:lnTo>
                  <a:pt x="168" y="450"/>
                </a:lnTo>
                <a:lnTo>
                  <a:pt x="204" y="516"/>
                </a:lnTo>
                <a:lnTo>
                  <a:pt x="246" y="576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811680" y="2852640"/>
            <a:ext cx="780840" cy="447840"/>
          </a:xfrm>
          <a:custGeom>
            <a:avLst/>
            <a:gdLst/>
            <a:ahLst/>
            <a:rect l="l" t="t" r="r" b="b"/>
            <a:pathLst>
              <a:path w="492" h="282">
                <a:moveTo>
                  <a:pt x="0" y="0"/>
                </a:moveTo>
                <a:lnTo>
                  <a:pt x="48" y="48"/>
                </a:lnTo>
                <a:lnTo>
                  <a:pt x="108" y="96"/>
                </a:lnTo>
                <a:lnTo>
                  <a:pt x="168" y="138"/>
                </a:lnTo>
                <a:lnTo>
                  <a:pt x="228" y="168"/>
                </a:lnTo>
                <a:lnTo>
                  <a:pt x="360" y="234"/>
                </a:lnTo>
                <a:lnTo>
                  <a:pt x="492" y="282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592520" y="3300480"/>
            <a:ext cx="792360" cy="152280"/>
          </a:xfrm>
          <a:custGeom>
            <a:avLst/>
            <a:gdLst/>
            <a:ahLst/>
            <a:rect l="l" t="t" r="r" b="b"/>
            <a:pathLst>
              <a:path w="499" h="96">
                <a:moveTo>
                  <a:pt x="0" y="0"/>
                </a:moveTo>
                <a:lnTo>
                  <a:pt x="60" y="24"/>
                </a:lnTo>
                <a:lnTo>
                  <a:pt x="126" y="36"/>
                </a:lnTo>
                <a:lnTo>
                  <a:pt x="247" y="60"/>
                </a:lnTo>
                <a:lnTo>
                  <a:pt x="373" y="78"/>
                </a:lnTo>
                <a:lnTo>
                  <a:pt x="499" y="96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84880" y="3452760"/>
            <a:ext cx="780840" cy="76320"/>
          </a:xfrm>
          <a:custGeom>
            <a:avLst/>
            <a:gdLst/>
            <a:ahLst/>
            <a:rect l="l" t="t" r="r" b="b"/>
            <a:pathLst>
              <a:path w="492" h="48">
                <a:moveTo>
                  <a:pt x="0" y="0"/>
                </a:moveTo>
                <a:lnTo>
                  <a:pt x="126" y="18"/>
                </a:lnTo>
                <a:lnTo>
                  <a:pt x="246" y="30"/>
                </a:lnTo>
                <a:lnTo>
                  <a:pt x="492" y="48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165720" y="3529080"/>
            <a:ext cx="781200" cy="47520"/>
          </a:xfrm>
          <a:custGeom>
            <a:avLst/>
            <a:gdLst/>
            <a:ahLst/>
            <a:rect l="l" t="t" r="r" b="b"/>
            <a:pathLst>
              <a:path w="492" h="30">
                <a:moveTo>
                  <a:pt x="0" y="0"/>
                </a:moveTo>
                <a:lnTo>
                  <a:pt x="246" y="18"/>
                </a:lnTo>
                <a:lnTo>
                  <a:pt x="492" y="30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946920" y="3576600"/>
            <a:ext cx="781200" cy="28440"/>
          </a:xfrm>
          <a:custGeom>
            <a:avLst/>
            <a:gdLst/>
            <a:ahLst/>
            <a:rect l="l" t="t" r="r" b="b"/>
            <a:pathLst>
              <a:path w="492" h="18">
                <a:moveTo>
                  <a:pt x="0" y="0"/>
                </a:moveTo>
                <a:lnTo>
                  <a:pt x="246" y="12"/>
                </a:lnTo>
                <a:lnTo>
                  <a:pt x="492" y="18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811680" y="1938240"/>
            <a:ext cx="780840" cy="914400"/>
          </a:xfrm>
          <a:custGeom>
            <a:avLst/>
            <a:gdLst/>
            <a:ahLst/>
            <a:rect l="l" t="t" r="r" b="b"/>
            <a:pathLst>
              <a:path w="492" h="576">
                <a:moveTo>
                  <a:pt x="0" y="0"/>
                </a:moveTo>
                <a:lnTo>
                  <a:pt x="60" y="72"/>
                </a:lnTo>
                <a:lnTo>
                  <a:pt x="120" y="156"/>
                </a:lnTo>
                <a:lnTo>
                  <a:pt x="246" y="312"/>
                </a:lnTo>
                <a:lnTo>
                  <a:pt x="306" y="390"/>
                </a:lnTo>
                <a:lnTo>
                  <a:pt x="366" y="462"/>
                </a:lnTo>
                <a:lnTo>
                  <a:pt x="432" y="522"/>
                </a:lnTo>
                <a:lnTo>
                  <a:pt x="492" y="57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592520" y="2852640"/>
            <a:ext cx="792360" cy="295200"/>
          </a:xfrm>
          <a:custGeom>
            <a:avLst/>
            <a:gdLst/>
            <a:ahLst/>
            <a:rect l="l" t="t" r="r" b="b"/>
            <a:pathLst>
              <a:path w="499" h="186">
                <a:moveTo>
                  <a:pt x="0" y="0"/>
                </a:moveTo>
                <a:lnTo>
                  <a:pt x="60" y="42"/>
                </a:lnTo>
                <a:lnTo>
                  <a:pt x="126" y="78"/>
                </a:lnTo>
                <a:lnTo>
                  <a:pt x="186" y="102"/>
                </a:lnTo>
                <a:lnTo>
                  <a:pt x="247" y="120"/>
                </a:lnTo>
                <a:lnTo>
                  <a:pt x="373" y="156"/>
                </a:lnTo>
                <a:lnTo>
                  <a:pt x="499" y="18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384880" y="3147840"/>
            <a:ext cx="780840" cy="152640"/>
          </a:xfrm>
          <a:custGeom>
            <a:avLst/>
            <a:gdLst/>
            <a:ahLst/>
            <a:rect l="l" t="t" r="r" b="b"/>
            <a:pathLst>
              <a:path w="492" h="96">
                <a:moveTo>
                  <a:pt x="0" y="0"/>
                </a:moveTo>
                <a:lnTo>
                  <a:pt x="126" y="30"/>
                </a:lnTo>
                <a:lnTo>
                  <a:pt x="246" y="54"/>
                </a:lnTo>
                <a:lnTo>
                  <a:pt x="492" y="9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65720" y="3300480"/>
            <a:ext cx="781200" cy="95040"/>
          </a:xfrm>
          <a:custGeom>
            <a:avLst/>
            <a:gdLst/>
            <a:ahLst/>
            <a:rect l="l" t="t" r="r" b="b"/>
            <a:pathLst>
              <a:path w="492" h="60">
                <a:moveTo>
                  <a:pt x="0" y="0"/>
                </a:moveTo>
                <a:lnTo>
                  <a:pt x="246" y="36"/>
                </a:lnTo>
                <a:lnTo>
                  <a:pt x="492" y="60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946920" y="3395520"/>
            <a:ext cx="781200" cy="57240"/>
          </a:xfrm>
          <a:custGeom>
            <a:avLst/>
            <a:gdLst/>
            <a:ahLst/>
            <a:rect l="l" t="t" r="r" b="b"/>
            <a:pathLst>
              <a:path w="492" h="36">
                <a:moveTo>
                  <a:pt x="0" y="0"/>
                </a:moveTo>
                <a:lnTo>
                  <a:pt x="246" y="18"/>
                </a:lnTo>
                <a:lnTo>
                  <a:pt x="492" y="3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858400" y="368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781360" y="3319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781360" y="2957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781360" y="259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781360" y="2224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781360" y="1862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781360" y="1500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991600" y="3871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0252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85016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616640" y="413856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rot="16200000">
            <a:off x="1869480" y="2482560"/>
            <a:ext cx="1386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029040" y="2322360"/>
            <a:ext cx="947520" cy="1435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041640" y="2305080"/>
            <a:ext cx="1893960" cy="14446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029040" y="2322360"/>
            <a:ext cx="3798720" cy="14335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429000" y="437832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911760" y="295272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424320" y="2944800"/>
            <a:ext cx="101520" cy="101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865760" y="2979720"/>
            <a:ext cx="104760" cy="9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219640" y="4629240"/>
            <a:ext cx="914400" cy="609480"/>
          </a:xfrm>
          <a:prstGeom prst="wedgeRoundRectCallout">
            <a:avLst>
              <a:gd name="adj1" fmla="val -83333"/>
              <a:gd name="adj2" fmla="val -192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/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1" lang="pt-BR" sz="1800" spc="-1" strike="noStrike" baseline="-25000">
                <a:solidFill>
                  <a:srgbClr val="008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957400" y="75024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Curva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734000" y="1562040"/>
            <a:ext cx="914400" cy="609840"/>
          </a:xfrm>
          <a:prstGeom prst="wedgeRoundRectCallout">
            <a:avLst>
              <a:gd name="adj1" fmla="val -129166"/>
              <a:gd name="adj2" fmla="val 182550"/>
              <a:gd name="adj3" fmla="val 16667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970440" y="3067200"/>
            <a:ext cx="0" cy="1819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88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89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924360" y="487368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"/>
          <p:cNvSpPr/>
          <p:nvPr/>
        </p:nvSpPr>
        <p:spPr>
          <a:xfrm>
            <a:off x="3030480" y="4176720"/>
            <a:ext cx="1800" cy="163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984400" y="5815080"/>
            <a:ext cx="460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984400" y="553896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984400" y="527220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84400" y="499572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984400" y="471960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984400" y="445284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984400" y="417672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030480" y="5815080"/>
            <a:ext cx="29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3030480" y="5815080"/>
            <a:ext cx="1800" cy="47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351936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401940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4508640" y="5815080"/>
            <a:ext cx="14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499896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5497560" y="5815080"/>
            <a:ext cx="14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598788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848680" y="5738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848680" y="5462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848680" y="519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848680" y="4919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848680" y="46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775240" y="437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775240" y="4100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993040" y="5948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483720" y="5948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94524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43556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92444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42448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91372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21040" y="618660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rot="16200000">
            <a:off x="2093760" y="4842000"/>
            <a:ext cx="91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ço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030480" y="1576440"/>
            <a:ext cx="1800" cy="21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992320" y="37576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992320" y="3395520"/>
            <a:ext cx="3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992320" y="303372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992320" y="267192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992320" y="230040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992320" y="1938240"/>
            <a:ext cx="3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992320" y="157644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030480" y="3757680"/>
            <a:ext cx="489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3030480" y="375768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5479920" y="3757680"/>
            <a:ext cx="180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927920" y="3757680"/>
            <a:ext cx="180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230640" y="1938240"/>
            <a:ext cx="190440" cy="914400"/>
          </a:xfrm>
          <a:custGeom>
            <a:avLst/>
            <a:gdLst/>
            <a:ahLst/>
            <a:rect l="l" t="t" r="r" b="b"/>
            <a:pathLst>
              <a:path w="120" h="576">
                <a:moveTo>
                  <a:pt x="0" y="0"/>
                </a:moveTo>
                <a:lnTo>
                  <a:pt x="12" y="72"/>
                </a:lnTo>
                <a:lnTo>
                  <a:pt x="24" y="150"/>
                </a:lnTo>
                <a:lnTo>
                  <a:pt x="54" y="306"/>
                </a:lnTo>
                <a:lnTo>
                  <a:pt x="66" y="384"/>
                </a:lnTo>
                <a:lnTo>
                  <a:pt x="84" y="450"/>
                </a:lnTo>
                <a:lnTo>
                  <a:pt x="102" y="516"/>
                </a:lnTo>
                <a:lnTo>
                  <a:pt x="120" y="576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421080" y="2852640"/>
            <a:ext cx="390600" cy="447840"/>
          </a:xfrm>
          <a:custGeom>
            <a:avLst/>
            <a:gdLst/>
            <a:ahLst/>
            <a:rect l="l" t="t" r="r" b="b"/>
            <a:pathLst>
              <a:path w="246" h="282">
                <a:moveTo>
                  <a:pt x="0" y="0"/>
                </a:moveTo>
                <a:lnTo>
                  <a:pt x="24" y="48"/>
                </a:lnTo>
                <a:lnTo>
                  <a:pt x="48" y="96"/>
                </a:lnTo>
                <a:lnTo>
                  <a:pt x="72" y="132"/>
                </a:lnTo>
                <a:lnTo>
                  <a:pt x="102" y="168"/>
                </a:lnTo>
                <a:lnTo>
                  <a:pt x="162" y="228"/>
                </a:lnTo>
                <a:lnTo>
                  <a:pt x="204" y="258"/>
                </a:lnTo>
                <a:lnTo>
                  <a:pt x="246" y="282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811680" y="3300480"/>
            <a:ext cx="780840" cy="228600"/>
          </a:xfrm>
          <a:custGeom>
            <a:avLst/>
            <a:gdLst/>
            <a:ahLst/>
            <a:rect l="l" t="t" r="r" b="b"/>
            <a:pathLst>
              <a:path w="492" h="144">
                <a:moveTo>
                  <a:pt x="0" y="0"/>
                </a:moveTo>
                <a:lnTo>
                  <a:pt x="48" y="24"/>
                </a:lnTo>
                <a:lnTo>
                  <a:pt x="108" y="48"/>
                </a:lnTo>
                <a:lnTo>
                  <a:pt x="168" y="66"/>
                </a:lnTo>
                <a:lnTo>
                  <a:pt x="228" y="84"/>
                </a:lnTo>
                <a:lnTo>
                  <a:pt x="360" y="120"/>
                </a:lnTo>
                <a:lnTo>
                  <a:pt x="492" y="144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592520" y="3529080"/>
            <a:ext cx="792360" cy="75960"/>
          </a:xfrm>
          <a:custGeom>
            <a:avLst/>
            <a:gdLst/>
            <a:ahLst/>
            <a:rect l="l" t="t" r="r" b="b"/>
            <a:pathLst>
              <a:path w="499" h="48">
                <a:moveTo>
                  <a:pt x="0" y="0"/>
                </a:moveTo>
                <a:lnTo>
                  <a:pt x="126" y="18"/>
                </a:lnTo>
                <a:lnTo>
                  <a:pt x="247" y="30"/>
                </a:lnTo>
                <a:lnTo>
                  <a:pt x="499" y="48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384880" y="3605040"/>
            <a:ext cx="780840" cy="38160"/>
          </a:xfrm>
          <a:custGeom>
            <a:avLst/>
            <a:gdLst/>
            <a:ahLst/>
            <a:rect l="l" t="t" r="r" b="b"/>
            <a:pathLst>
              <a:path w="492" h="24">
                <a:moveTo>
                  <a:pt x="0" y="0"/>
                </a:moveTo>
                <a:lnTo>
                  <a:pt x="246" y="12"/>
                </a:lnTo>
                <a:lnTo>
                  <a:pt x="492" y="24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165720" y="3643200"/>
            <a:ext cx="781200" cy="19080"/>
          </a:xfrm>
          <a:custGeom>
            <a:avLst/>
            <a:gdLst/>
            <a:ahLst/>
            <a:rect l="l" t="t" r="r" b="b"/>
            <a:pathLst>
              <a:path w="492" h="12">
                <a:moveTo>
                  <a:pt x="0" y="0"/>
                </a:moveTo>
                <a:lnTo>
                  <a:pt x="246" y="6"/>
                </a:lnTo>
                <a:lnTo>
                  <a:pt x="492" y="12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946920" y="3662280"/>
            <a:ext cx="781200" cy="190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421080" y="1938240"/>
            <a:ext cx="390600" cy="914400"/>
          </a:xfrm>
          <a:custGeom>
            <a:avLst/>
            <a:gdLst/>
            <a:ahLst/>
            <a:rect l="l" t="t" r="r" b="b"/>
            <a:pathLst>
              <a:path w="246" h="576">
                <a:moveTo>
                  <a:pt x="0" y="0"/>
                </a:moveTo>
                <a:lnTo>
                  <a:pt x="30" y="72"/>
                </a:lnTo>
                <a:lnTo>
                  <a:pt x="54" y="150"/>
                </a:lnTo>
                <a:lnTo>
                  <a:pt x="108" y="306"/>
                </a:lnTo>
                <a:lnTo>
                  <a:pt x="138" y="384"/>
                </a:lnTo>
                <a:lnTo>
                  <a:pt x="168" y="450"/>
                </a:lnTo>
                <a:lnTo>
                  <a:pt x="204" y="516"/>
                </a:lnTo>
                <a:lnTo>
                  <a:pt x="246" y="576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811680" y="2852640"/>
            <a:ext cx="780840" cy="447840"/>
          </a:xfrm>
          <a:custGeom>
            <a:avLst/>
            <a:gdLst/>
            <a:ahLst/>
            <a:rect l="l" t="t" r="r" b="b"/>
            <a:pathLst>
              <a:path w="492" h="282">
                <a:moveTo>
                  <a:pt x="0" y="0"/>
                </a:moveTo>
                <a:lnTo>
                  <a:pt x="48" y="48"/>
                </a:lnTo>
                <a:lnTo>
                  <a:pt x="108" y="96"/>
                </a:lnTo>
                <a:lnTo>
                  <a:pt x="168" y="138"/>
                </a:lnTo>
                <a:lnTo>
                  <a:pt x="228" y="168"/>
                </a:lnTo>
                <a:lnTo>
                  <a:pt x="360" y="234"/>
                </a:lnTo>
                <a:lnTo>
                  <a:pt x="492" y="282"/>
                </a:lnTo>
              </a:path>
            </a:pathLst>
          </a:cu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592520" y="3300480"/>
            <a:ext cx="792360" cy="152280"/>
          </a:xfrm>
          <a:custGeom>
            <a:avLst/>
            <a:gdLst/>
            <a:ahLst/>
            <a:rect l="l" t="t" r="r" b="b"/>
            <a:pathLst>
              <a:path w="499" h="96">
                <a:moveTo>
                  <a:pt x="0" y="0"/>
                </a:moveTo>
                <a:lnTo>
                  <a:pt x="60" y="24"/>
                </a:lnTo>
                <a:lnTo>
                  <a:pt x="126" y="36"/>
                </a:lnTo>
                <a:lnTo>
                  <a:pt x="247" y="60"/>
                </a:lnTo>
                <a:lnTo>
                  <a:pt x="373" y="78"/>
                </a:lnTo>
                <a:lnTo>
                  <a:pt x="499" y="96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384880" y="3452760"/>
            <a:ext cx="780840" cy="76320"/>
          </a:xfrm>
          <a:custGeom>
            <a:avLst/>
            <a:gdLst/>
            <a:ahLst/>
            <a:rect l="l" t="t" r="r" b="b"/>
            <a:pathLst>
              <a:path w="492" h="48">
                <a:moveTo>
                  <a:pt x="0" y="0"/>
                </a:moveTo>
                <a:lnTo>
                  <a:pt x="126" y="18"/>
                </a:lnTo>
                <a:lnTo>
                  <a:pt x="246" y="30"/>
                </a:lnTo>
                <a:lnTo>
                  <a:pt x="492" y="48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165720" y="3529080"/>
            <a:ext cx="781200" cy="47520"/>
          </a:xfrm>
          <a:custGeom>
            <a:avLst/>
            <a:gdLst/>
            <a:ahLst/>
            <a:rect l="l" t="t" r="r" b="b"/>
            <a:pathLst>
              <a:path w="492" h="30">
                <a:moveTo>
                  <a:pt x="0" y="0"/>
                </a:moveTo>
                <a:lnTo>
                  <a:pt x="246" y="18"/>
                </a:lnTo>
                <a:lnTo>
                  <a:pt x="492" y="30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946920" y="3576600"/>
            <a:ext cx="781200" cy="28440"/>
          </a:xfrm>
          <a:custGeom>
            <a:avLst/>
            <a:gdLst/>
            <a:ahLst/>
            <a:rect l="l" t="t" r="r" b="b"/>
            <a:pathLst>
              <a:path w="492" h="18">
                <a:moveTo>
                  <a:pt x="0" y="0"/>
                </a:moveTo>
                <a:lnTo>
                  <a:pt x="246" y="12"/>
                </a:lnTo>
                <a:lnTo>
                  <a:pt x="492" y="18"/>
                </a:lnTo>
              </a:path>
            </a:pathLst>
          </a:custGeom>
          <a:solidFill>
            <a:srgbClr val="969696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811680" y="1938240"/>
            <a:ext cx="780840" cy="914400"/>
          </a:xfrm>
          <a:custGeom>
            <a:avLst/>
            <a:gdLst/>
            <a:ahLst/>
            <a:rect l="l" t="t" r="r" b="b"/>
            <a:pathLst>
              <a:path w="492" h="576">
                <a:moveTo>
                  <a:pt x="0" y="0"/>
                </a:moveTo>
                <a:lnTo>
                  <a:pt x="60" y="72"/>
                </a:lnTo>
                <a:lnTo>
                  <a:pt x="120" y="156"/>
                </a:lnTo>
                <a:lnTo>
                  <a:pt x="246" y="312"/>
                </a:lnTo>
                <a:lnTo>
                  <a:pt x="306" y="390"/>
                </a:lnTo>
                <a:lnTo>
                  <a:pt x="366" y="462"/>
                </a:lnTo>
                <a:lnTo>
                  <a:pt x="432" y="522"/>
                </a:lnTo>
                <a:lnTo>
                  <a:pt x="492" y="57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592520" y="2852640"/>
            <a:ext cx="792360" cy="295200"/>
          </a:xfrm>
          <a:custGeom>
            <a:avLst/>
            <a:gdLst/>
            <a:ahLst/>
            <a:rect l="l" t="t" r="r" b="b"/>
            <a:pathLst>
              <a:path w="499" h="186">
                <a:moveTo>
                  <a:pt x="0" y="0"/>
                </a:moveTo>
                <a:lnTo>
                  <a:pt x="60" y="42"/>
                </a:lnTo>
                <a:lnTo>
                  <a:pt x="126" y="78"/>
                </a:lnTo>
                <a:lnTo>
                  <a:pt x="186" y="102"/>
                </a:lnTo>
                <a:lnTo>
                  <a:pt x="247" y="120"/>
                </a:lnTo>
                <a:lnTo>
                  <a:pt x="373" y="156"/>
                </a:lnTo>
                <a:lnTo>
                  <a:pt x="499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384880" y="3147840"/>
            <a:ext cx="780840" cy="152640"/>
          </a:xfrm>
          <a:custGeom>
            <a:avLst/>
            <a:gdLst/>
            <a:ahLst/>
            <a:rect l="l" t="t" r="r" b="b"/>
            <a:pathLst>
              <a:path w="492" h="96">
                <a:moveTo>
                  <a:pt x="0" y="0"/>
                </a:moveTo>
                <a:lnTo>
                  <a:pt x="126" y="30"/>
                </a:lnTo>
                <a:lnTo>
                  <a:pt x="246" y="54"/>
                </a:lnTo>
                <a:lnTo>
                  <a:pt x="492" y="9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165720" y="3300480"/>
            <a:ext cx="781200" cy="95040"/>
          </a:xfrm>
          <a:custGeom>
            <a:avLst/>
            <a:gdLst/>
            <a:ahLst/>
            <a:rect l="l" t="t" r="r" b="b"/>
            <a:pathLst>
              <a:path w="492" h="60">
                <a:moveTo>
                  <a:pt x="0" y="0"/>
                </a:moveTo>
                <a:lnTo>
                  <a:pt x="246" y="36"/>
                </a:lnTo>
                <a:lnTo>
                  <a:pt x="492" y="6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946920" y="3395520"/>
            <a:ext cx="781200" cy="57240"/>
          </a:xfrm>
          <a:custGeom>
            <a:avLst/>
            <a:gdLst/>
            <a:ahLst/>
            <a:rect l="l" t="t" r="r" b="b"/>
            <a:pathLst>
              <a:path w="492" h="36">
                <a:moveTo>
                  <a:pt x="0" y="0"/>
                </a:moveTo>
                <a:lnTo>
                  <a:pt x="246" y="18"/>
                </a:lnTo>
                <a:lnTo>
                  <a:pt x="492" y="3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858400" y="368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781360" y="3319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81360" y="2957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781360" y="259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781360" y="2224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781360" y="1862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781360" y="1500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991600" y="3871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40252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85016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616640" y="413856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rot="16200000">
            <a:off x="1869480" y="2482560"/>
            <a:ext cx="1386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029040" y="2322360"/>
            <a:ext cx="947520" cy="1435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041640" y="2305080"/>
            <a:ext cx="1893960" cy="14446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029040" y="2322360"/>
            <a:ext cx="3798720" cy="14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429000" y="437832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911760" y="2952720"/>
            <a:ext cx="101520" cy="101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424320" y="2944800"/>
            <a:ext cx="101520" cy="101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865760" y="2979720"/>
            <a:ext cx="104760" cy="98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691320" y="4673520"/>
            <a:ext cx="914400" cy="609840"/>
          </a:xfrm>
          <a:prstGeom prst="wedgeRoundRectCallout">
            <a:avLst>
              <a:gd name="adj1" fmla="val -34546"/>
              <a:gd name="adj2" fmla="val -1971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/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957400" y="75024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Curva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354640" y="1560600"/>
            <a:ext cx="914400" cy="609480"/>
          </a:xfrm>
          <a:prstGeom prst="wedgeRoundRectCallout">
            <a:avLst>
              <a:gd name="adj1" fmla="val -94444"/>
              <a:gd name="adj2" fmla="val 180208"/>
              <a:gd name="adj3" fmla="val 16667"/>
            </a:avLst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Ó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921200" y="3110040"/>
            <a:ext cx="0" cy="21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7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8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924360" y="487368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856040" y="5300640"/>
            <a:ext cx="10188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/>
          <p:nvPr/>
        </p:nvSpPr>
        <p:spPr>
          <a:xfrm>
            <a:off x="3506760" y="4430880"/>
            <a:ext cx="490680" cy="5047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11480" y="4935600"/>
            <a:ext cx="909720" cy="4190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030480" y="4176720"/>
            <a:ext cx="1800" cy="163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984400" y="581508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984400" y="553896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984400" y="527220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984400" y="499572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984400" y="471960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984400" y="4452840"/>
            <a:ext cx="46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984400" y="4176720"/>
            <a:ext cx="4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030480" y="5815080"/>
            <a:ext cx="29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303048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351936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401940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4508640" y="5815080"/>
            <a:ext cx="14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499896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5497560" y="5815080"/>
            <a:ext cx="144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987880" y="5815080"/>
            <a:ext cx="180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848680" y="5738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848680" y="5462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848680" y="519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848680" y="4919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848680" y="46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775240" y="437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775240" y="4100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993040" y="5948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483720" y="5948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4524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43556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92444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42448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913720" y="594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821040" y="618660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rot="16200000">
            <a:off x="2093760" y="4842000"/>
            <a:ext cx="91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ço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30480" y="1576440"/>
            <a:ext cx="1800" cy="21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92320" y="375768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992320" y="3395520"/>
            <a:ext cx="3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992320" y="303372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992320" y="267192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992320" y="230040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992320" y="1938240"/>
            <a:ext cx="38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992320" y="1576440"/>
            <a:ext cx="38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30480" y="3757680"/>
            <a:ext cx="489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3030480" y="3757680"/>
            <a:ext cx="180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5479920" y="3757680"/>
            <a:ext cx="180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7927920" y="3757680"/>
            <a:ext cx="180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230640" y="1938240"/>
            <a:ext cx="190440" cy="914400"/>
          </a:xfrm>
          <a:custGeom>
            <a:avLst/>
            <a:gdLst/>
            <a:ahLst/>
            <a:rect l="l" t="t" r="r" b="b"/>
            <a:pathLst>
              <a:path w="120" h="576">
                <a:moveTo>
                  <a:pt x="0" y="0"/>
                </a:moveTo>
                <a:lnTo>
                  <a:pt x="12" y="72"/>
                </a:lnTo>
                <a:lnTo>
                  <a:pt x="24" y="150"/>
                </a:lnTo>
                <a:lnTo>
                  <a:pt x="54" y="306"/>
                </a:lnTo>
                <a:lnTo>
                  <a:pt x="66" y="384"/>
                </a:lnTo>
                <a:lnTo>
                  <a:pt x="84" y="450"/>
                </a:lnTo>
                <a:lnTo>
                  <a:pt x="102" y="516"/>
                </a:lnTo>
                <a:lnTo>
                  <a:pt x="120" y="576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421080" y="2852640"/>
            <a:ext cx="390600" cy="447840"/>
          </a:xfrm>
          <a:custGeom>
            <a:avLst/>
            <a:gdLst/>
            <a:ahLst/>
            <a:rect l="l" t="t" r="r" b="b"/>
            <a:pathLst>
              <a:path w="246" h="282">
                <a:moveTo>
                  <a:pt x="0" y="0"/>
                </a:moveTo>
                <a:lnTo>
                  <a:pt x="24" y="48"/>
                </a:lnTo>
                <a:lnTo>
                  <a:pt x="48" y="96"/>
                </a:lnTo>
                <a:lnTo>
                  <a:pt x="72" y="132"/>
                </a:lnTo>
                <a:lnTo>
                  <a:pt x="102" y="168"/>
                </a:lnTo>
                <a:lnTo>
                  <a:pt x="162" y="228"/>
                </a:lnTo>
                <a:lnTo>
                  <a:pt x="204" y="258"/>
                </a:lnTo>
                <a:lnTo>
                  <a:pt x="246" y="28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11680" y="3300480"/>
            <a:ext cx="780840" cy="228600"/>
          </a:xfrm>
          <a:custGeom>
            <a:avLst/>
            <a:gdLst/>
            <a:ahLst/>
            <a:rect l="l" t="t" r="r" b="b"/>
            <a:pathLst>
              <a:path w="492" h="144">
                <a:moveTo>
                  <a:pt x="0" y="0"/>
                </a:moveTo>
                <a:lnTo>
                  <a:pt x="48" y="24"/>
                </a:lnTo>
                <a:lnTo>
                  <a:pt x="108" y="48"/>
                </a:lnTo>
                <a:lnTo>
                  <a:pt x="168" y="66"/>
                </a:lnTo>
                <a:lnTo>
                  <a:pt x="228" y="84"/>
                </a:lnTo>
                <a:lnTo>
                  <a:pt x="360" y="120"/>
                </a:lnTo>
                <a:lnTo>
                  <a:pt x="492" y="144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92520" y="3529080"/>
            <a:ext cx="792360" cy="75960"/>
          </a:xfrm>
          <a:custGeom>
            <a:avLst/>
            <a:gdLst/>
            <a:ahLst/>
            <a:rect l="l" t="t" r="r" b="b"/>
            <a:pathLst>
              <a:path w="499" h="48">
                <a:moveTo>
                  <a:pt x="0" y="0"/>
                </a:moveTo>
                <a:lnTo>
                  <a:pt x="126" y="18"/>
                </a:lnTo>
                <a:lnTo>
                  <a:pt x="247" y="30"/>
                </a:lnTo>
                <a:lnTo>
                  <a:pt x="499" y="48"/>
                </a:lnTo>
              </a:path>
            </a:pathLst>
          </a:custGeom>
          <a:solidFill>
            <a:srgbClr val="ffff99"/>
          </a:solidFill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384880" y="3605040"/>
            <a:ext cx="780840" cy="38160"/>
          </a:xfrm>
          <a:custGeom>
            <a:avLst/>
            <a:gdLst/>
            <a:ahLst/>
            <a:rect l="l" t="t" r="r" b="b"/>
            <a:pathLst>
              <a:path w="492" h="24">
                <a:moveTo>
                  <a:pt x="0" y="0"/>
                </a:moveTo>
                <a:lnTo>
                  <a:pt x="246" y="12"/>
                </a:lnTo>
                <a:lnTo>
                  <a:pt x="492" y="24"/>
                </a:lnTo>
              </a:path>
            </a:pathLst>
          </a:custGeom>
          <a:solidFill>
            <a:srgbClr val="ffff99"/>
          </a:solidFill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165720" y="3643200"/>
            <a:ext cx="781200" cy="19080"/>
          </a:xfrm>
          <a:custGeom>
            <a:avLst/>
            <a:gdLst/>
            <a:ahLst/>
            <a:rect l="l" t="t" r="r" b="b"/>
            <a:pathLst>
              <a:path w="492" h="12">
                <a:moveTo>
                  <a:pt x="0" y="0"/>
                </a:moveTo>
                <a:lnTo>
                  <a:pt x="246" y="6"/>
                </a:lnTo>
                <a:lnTo>
                  <a:pt x="492" y="12"/>
                </a:lnTo>
              </a:path>
            </a:pathLst>
          </a:custGeom>
          <a:solidFill>
            <a:srgbClr val="ffff99"/>
          </a:solidFill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946920" y="3662280"/>
            <a:ext cx="781200" cy="19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421080" y="1938240"/>
            <a:ext cx="390600" cy="914400"/>
          </a:xfrm>
          <a:custGeom>
            <a:avLst/>
            <a:gdLst/>
            <a:ahLst/>
            <a:rect l="l" t="t" r="r" b="b"/>
            <a:pathLst>
              <a:path w="246" h="576">
                <a:moveTo>
                  <a:pt x="0" y="0"/>
                </a:moveTo>
                <a:lnTo>
                  <a:pt x="30" y="72"/>
                </a:lnTo>
                <a:lnTo>
                  <a:pt x="54" y="150"/>
                </a:lnTo>
                <a:lnTo>
                  <a:pt x="108" y="306"/>
                </a:lnTo>
                <a:lnTo>
                  <a:pt x="138" y="384"/>
                </a:lnTo>
                <a:lnTo>
                  <a:pt x="168" y="450"/>
                </a:lnTo>
                <a:lnTo>
                  <a:pt x="204" y="516"/>
                </a:lnTo>
                <a:lnTo>
                  <a:pt x="246" y="576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811680" y="2852640"/>
            <a:ext cx="780840" cy="447840"/>
          </a:xfrm>
          <a:custGeom>
            <a:avLst/>
            <a:gdLst/>
            <a:ahLst/>
            <a:rect l="l" t="t" r="r" b="b"/>
            <a:pathLst>
              <a:path w="492" h="282">
                <a:moveTo>
                  <a:pt x="0" y="0"/>
                </a:moveTo>
                <a:lnTo>
                  <a:pt x="48" y="48"/>
                </a:lnTo>
                <a:lnTo>
                  <a:pt x="108" y="96"/>
                </a:lnTo>
                <a:lnTo>
                  <a:pt x="168" y="138"/>
                </a:lnTo>
                <a:lnTo>
                  <a:pt x="228" y="168"/>
                </a:lnTo>
                <a:lnTo>
                  <a:pt x="360" y="234"/>
                </a:lnTo>
                <a:lnTo>
                  <a:pt x="492" y="282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592520" y="3300480"/>
            <a:ext cx="792360" cy="152280"/>
          </a:xfrm>
          <a:custGeom>
            <a:avLst/>
            <a:gdLst/>
            <a:ahLst/>
            <a:rect l="l" t="t" r="r" b="b"/>
            <a:pathLst>
              <a:path w="499" h="96">
                <a:moveTo>
                  <a:pt x="0" y="0"/>
                </a:moveTo>
                <a:lnTo>
                  <a:pt x="60" y="24"/>
                </a:lnTo>
                <a:lnTo>
                  <a:pt x="126" y="36"/>
                </a:lnTo>
                <a:lnTo>
                  <a:pt x="247" y="60"/>
                </a:lnTo>
                <a:lnTo>
                  <a:pt x="373" y="78"/>
                </a:lnTo>
                <a:lnTo>
                  <a:pt x="499" y="96"/>
                </a:lnTo>
              </a:path>
            </a:pathLst>
          </a:custGeom>
          <a:solidFill>
            <a:srgbClr val="ffff99"/>
          </a:solidFill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384880" y="3452760"/>
            <a:ext cx="780840" cy="76320"/>
          </a:xfrm>
          <a:custGeom>
            <a:avLst/>
            <a:gdLst/>
            <a:ahLst/>
            <a:rect l="l" t="t" r="r" b="b"/>
            <a:pathLst>
              <a:path w="492" h="48">
                <a:moveTo>
                  <a:pt x="0" y="0"/>
                </a:moveTo>
                <a:lnTo>
                  <a:pt x="126" y="18"/>
                </a:lnTo>
                <a:lnTo>
                  <a:pt x="246" y="30"/>
                </a:lnTo>
                <a:lnTo>
                  <a:pt x="492" y="48"/>
                </a:lnTo>
              </a:path>
            </a:pathLst>
          </a:custGeom>
          <a:solidFill>
            <a:srgbClr val="ffff99"/>
          </a:solidFill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165720" y="3529080"/>
            <a:ext cx="781200" cy="47520"/>
          </a:xfrm>
          <a:custGeom>
            <a:avLst/>
            <a:gdLst/>
            <a:ahLst/>
            <a:rect l="l" t="t" r="r" b="b"/>
            <a:pathLst>
              <a:path w="492" h="30">
                <a:moveTo>
                  <a:pt x="0" y="0"/>
                </a:moveTo>
                <a:lnTo>
                  <a:pt x="246" y="18"/>
                </a:lnTo>
                <a:lnTo>
                  <a:pt x="492" y="30"/>
                </a:lnTo>
              </a:path>
            </a:pathLst>
          </a:custGeom>
          <a:solidFill>
            <a:srgbClr val="ffff99"/>
          </a:solidFill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946920" y="3576600"/>
            <a:ext cx="781200" cy="28440"/>
          </a:xfrm>
          <a:custGeom>
            <a:avLst/>
            <a:gdLst/>
            <a:ahLst/>
            <a:rect l="l" t="t" r="r" b="b"/>
            <a:pathLst>
              <a:path w="492" h="18">
                <a:moveTo>
                  <a:pt x="0" y="0"/>
                </a:moveTo>
                <a:lnTo>
                  <a:pt x="246" y="12"/>
                </a:lnTo>
                <a:lnTo>
                  <a:pt x="492" y="18"/>
                </a:lnTo>
              </a:path>
            </a:pathLst>
          </a:custGeom>
          <a:solidFill>
            <a:srgbClr val="ffff99"/>
          </a:solidFill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811680" y="1938240"/>
            <a:ext cx="780840" cy="914400"/>
          </a:xfrm>
          <a:custGeom>
            <a:avLst/>
            <a:gdLst/>
            <a:ahLst/>
            <a:rect l="l" t="t" r="r" b="b"/>
            <a:pathLst>
              <a:path w="492" h="576">
                <a:moveTo>
                  <a:pt x="0" y="0"/>
                </a:moveTo>
                <a:lnTo>
                  <a:pt x="60" y="72"/>
                </a:lnTo>
                <a:lnTo>
                  <a:pt x="120" y="156"/>
                </a:lnTo>
                <a:lnTo>
                  <a:pt x="246" y="312"/>
                </a:lnTo>
                <a:lnTo>
                  <a:pt x="306" y="390"/>
                </a:lnTo>
                <a:lnTo>
                  <a:pt x="366" y="462"/>
                </a:lnTo>
                <a:lnTo>
                  <a:pt x="432" y="522"/>
                </a:lnTo>
                <a:lnTo>
                  <a:pt x="492" y="57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592520" y="2852640"/>
            <a:ext cx="792360" cy="295200"/>
          </a:xfrm>
          <a:custGeom>
            <a:avLst/>
            <a:gdLst/>
            <a:ahLst/>
            <a:rect l="l" t="t" r="r" b="b"/>
            <a:pathLst>
              <a:path w="499" h="186">
                <a:moveTo>
                  <a:pt x="0" y="0"/>
                </a:moveTo>
                <a:lnTo>
                  <a:pt x="60" y="42"/>
                </a:lnTo>
                <a:lnTo>
                  <a:pt x="126" y="78"/>
                </a:lnTo>
                <a:lnTo>
                  <a:pt x="186" y="102"/>
                </a:lnTo>
                <a:lnTo>
                  <a:pt x="247" y="120"/>
                </a:lnTo>
                <a:lnTo>
                  <a:pt x="373" y="156"/>
                </a:lnTo>
                <a:lnTo>
                  <a:pt x="499" y="18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384880" y="3147840"/>
            <a:ext cx="780840" cy="152640"/>
          </a:xfrm>
          <a:custGeom>
            <a:avLst/>
            <a:gdLst/>
            <a:ahLst/>
            <a:rect l="l" t="t" r="r" b="b"/>
            <a:pathLst>
              <a:path w="492" h="96">
                <a:moveTo>
                  <a:pt x="0" y="0"/>
                </a:moveTo>
                <a:lnTo>
                  <a:pt x="126" y="30"/>
                </a:lnTo>
                <a:lnTo>
                  <a:pt x="246" y="54"/>
                </a:lnTo>
                <a:lnTo>
                  <a:pt x="492" y="9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165720" y="3300480"/>
            <a:ext cx="781200" cy="95040"/>
          </a:xfrm>
          <a:custGeom>
            <a:avLst/>
            <a:gdLst/>
            <a:ahLst/>
            <a:rect l="l" t="t" r="r" b="b"/>
            <a:pathLst>
              <a:path w="492" h="60">
                <a:moveTo>
                  <a:pt x="0" y="0"/>
                </a:moveTo>
                <a:lnTo>
                  <a:pt x="246" y="36"/>
                </a:lnTo>
                <a:lnTo>
                  <a:pt x="492" y="6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946920" y="3395520"/>
            <a:ext cx="781200" cy="57240"/>
          </a:xfrm>
          <a:custGeom>
            <a:avLst/>
            <a:gdLst/>
            <a:ahLst/>
            <a:rect l="l" t="t" r="r" b="b"/>
            <a:pathLst>
              <a:path w="492" h="36">
                <a:moveTo>
                  <a:pt x="0" y="0"/>
                </a:moveTo>
                <a:lnTo>
                  <a:pt x="246" y="18"/>
                </a:lnTo>
                <a:lnTo>
                  <a:pt x="492" y="36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858400" y="368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781360" y="3319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781360" y="2957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781360" y="259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781360" y="2224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781360" y="1862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781360" y="1500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991600" y="3871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40252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85016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616640" y="4138560"/>
            <a:ext cx="139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rot="16200000">
            <a:off x="1869480" y="2482560"/>
            <a:ext cx="1386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dade de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029040" y="2322360"/>
            <a:ext cx="947520" cy="14353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041640" y="2305080"/>
            <a:ext cx="1893960" cy="14446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029040" y="2322360"/>
            <a:ext cx="3798720" cy="14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9000" y="437832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11760" y="295272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424320" y="294480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865760" y="2979720"/>
            <a:ext cx="104760" cy="98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957400" y="75024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Curva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924360" y="4873680"/>
            <a:ext cx="10152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856040" y="5300640"/>
            <a:ext cx="101880" cy="101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"/>
          <p:cNvSpPr/>
          <p:nvPr/>
        </p:nvSpPr>
        <p:spPr>
          <a:xfrm>
            <a:off x="564480" y="1111320"/>
            <a:ext cx="7841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Variando o preço de um dado bem, como se alteraria a quantid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ste bem que a massa de consumidores desejaria compr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103560" y="3274920"/>
            <a:ext cx="1440" cy="233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046320" y="5610240"/>
            <a:ext cx="572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046320" y="5216400"/>
            <a:ext cx="57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046320" y="4835520"/>
            <a:ext cx="572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046320" y="4441680"/>
            <a:ext cx="572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046320" y="4049640"/>
            <a:ext cx="57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046320" y="3668760"/>
            <a:ext cx="572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046320" y="3274920"/>
            <a:ext cx="572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103560" y="5610240"/>
            <a:ext cx="372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3103560" y="560988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3720960" y="560988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4351320" y="560988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4968720" y="560988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5584680" y="5609880"/>
            <a:ext cx="180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6213600" y="560988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6831000" y="5609880"/>
            <a:ext cx="1440" cy="6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872440" y="5500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2872440" y="5106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872440" y="4727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872440" y="4334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872440" y="3940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83160" y="3560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783160" y="3166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058200" y="5799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675960" y="5799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257720" y="5799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875480" y="5799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492880" y="5799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124680" y="5799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739200" y="5799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172040" y="6059520"/>
            <a:ext cx="158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rot="16200000">
            <a:off x="2000520" y="4288320"/>
            <a:ext cx="103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eço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438720" y="2629800"/>
            <a:ext cx="29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rva de Demanda (de 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448080" y="3409920"/>
            <a:ext cx="3030480" cy="1712880"/>
          </a:xfrm>
          <a:custGeom>
            <a:avLst/>
            <a:gdLst/>
            <a:ahLst/>
            <a:rect l="l" t="t" r="r" b="b"/>
            <a:pathLst>
              <a:path w="1909" h="1079">
                <a:moveTo>
                  <a:pt x="0" y="0"/>
                </a:moveTo>
                <a:cubicBezTo>
                  <a:pt x="94" y="125"/>
                  <a:pt x="158" y="486"/>
                  <a:pt x="564" y="752"/>
                </a:cubicBezTo>
                <a:cubicBezTo>
                  <a:pt x="970" y="1018"/>
                  <a:pt x="1624" y="1007"/>
                  <a:pt x="1909" y="1079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1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1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31880" y="1371600"/>
            <a:ext cx="72979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medir a satisfação de uma pessoa em possuir uma c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ercadoria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0400" y="2666880"/>
            <a:ext cx="78786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9900"/>
                </a:solidFill>
                <a:latin typeface="Lucida Casu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Viajar de Férias ou Renovar os Móveis da Ca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Escolher Linux ou Window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Comprar Jogo Eletrônico ou Raquete de Tên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Assinar Jornal Eletrônico ou Jornal de Pap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Ir até a Livraria ou Procurar na Amazon.c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Comprar um Computador ou Depositar na Caderneta de Poupanç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"/>
          <p:cNvSpPr/>
          <p:nvPr/>
        </p:nvSpPr>
        <p:spPr>
          <a:xfrm>
            <a:off x="1105200" y="1738440"/>
            <a:ext cx="4639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Função de Ut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urva de Indifere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P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Restrição de Orç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Taxa Marginal de Substit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Lucida Casual"/>
              </a:rPr>
              <a:t>Curva da Demanda</a:t>
            </a: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1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1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2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087360" y="30740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880" y="1371600"/>
            <a:ext cx="72979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medir a satisfação de uma pessoa em possuir uma c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ercadoria ou receber um determinado serviç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7200" y="2666880"/>
            <a:ext cx="76834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Viajar de Férias ou Renovar os Móveis da Ca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Escolher Linux ou Window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rar Jogo Eletrônico ou Raquete de Tên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ssinar Jornal Eletrônico ou Jornal de Pap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Ir até a Livraria ou Procurar na Amazon.c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Telefonar para o Astrólogo ou Puxar um Programa de Horóscop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2160" y="5105520"/>
            <a:ext cx="66513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tal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nheiro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,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empo, Espaço, Energia, Paciência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Limi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35480" y="3258000"/>
            <a:ext cx="78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Comparação: </a:t>
            </a:r>
            <a:r>
              <a:rPr b="1" lang="pt-BR" sz="2400" spc="-1" strike="noStrike">
                <a:solidFill>
                  <a:srgbClr val="0000ff"/>
                </a:solidFill>
                <a:latin typeface="Lucida Casual"/>
              </a:rPr>
              <a:t>Livros Eletrônicos x Jogos Inte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reedo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uten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Elena Yoshie Sato Yoneyama</cp:lastModifiedBy>
  <cp:lastPrinted>2000-05-03T14:19:10Z</cp:lastPrinted>
  <dcterms:modified xsi:type="dcterms:W3CDTF">2003-08-10T23:31:49Z</dcterms:modified>
  <cp:revision>175</cp:revision>
  <dc:subject/>
  <dc:title>Alteraçoes PE</dc:title>
</cp:coreProperties>
</file>