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BE6-D840-43DF-AC9D-A44DBF86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1E4-A510-4DF5-A370-EA39A549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818-6D58-4F7D-9726-512DC1A4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3A4-E0F7-432F-A6B9-C103AF0E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DCA-DB34-4D0F-8279-4A5A628F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12B-D439-4E66-B164-E507FD90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7EA-B4FA-4879-AF80-517BA59A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3B8-9CFC-47E7-8452-3A8C746A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3CD-7D79-47E1-BDDD-86F1AED3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A27-2D18-49AA-95BB-6D281E6C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8F9-36CA-4C09-95A7-00ADE493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0FA-A717-497C-BCB4-8AC5E001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BF4E-5323-4733-BEFD-FA90770ED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31720" y="474840"/>
            <a:ext cx="19486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Microec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0000" y="4996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 flipV="1">
            <a:off x="1314360" y="19616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09800" y="54673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46240" y="581760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ão de Obra 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-813960" y="355716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 (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38120" y="2982960"/>
            <a:ext cx="3283200" cy="2460600"/>
          </a:xfrm>
          <a:custGeom>
            <a:avLst/>
            <a:gdLst/>
            <a:ahLst/>
            <a:rect l="l" t="t" r="r" b="b"/>
            <a:pathLst>
              <a:path w="2068" h="1550">
                <a:moveTo>
                  <a:pt x="0" y="1550"/>
                </a:moveTo>
                <a:cubicBezTo>
                  <a:pt x="106" y="1501"/>
                  <a:pt x="458" y="1396"/>
                  <a:pt x="638" y="1258"/>
                </a:cubicBezTo>
                <a:cubicBezTo>
                  <a:pt x="818" y="1120"/>
                  <a:pt x="937" y="891"/>
                  <a:pt x="1079" y="720"/>
                </a:cubicBezTo>
                <a:cubicBezTo>
                  <a:pt x="1221" y="549"/>
                  <a:pt x="1327" y="351"/>
                  <a:pt x="1492" y="231"/>
                </a:cubicBezTo>
                <a:cubicBezTo>
                  <a:pt x="1657" y="111"/>
                  <a:pt x="1948" y="48"/>
                  <a:pt x="2068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42560" y="913680"/>
            <a:ext cx="37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Funçã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6440" y="2542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 = f(</a:t>
            </a:r>
            <a:r>
              <a:rPr b="1" lang="pt-BR" sz="1800" spc="-1" strike="noStrike">
                <a:solidFill>
                  <a:srgbClr val="009900"/>
                </a:solidFill>
                <a:latin typeface="Lucida Casual"/>
              </a:rPr>
              <a:t>M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K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33600" y="3928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9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67120" y="1467000"/>
            <a:ext cx="4229280" cy="704880"/>
          </a:xfrm>
          <a:prstGeom prst="wedgeRoundRectCallout">
            <a:avLst>
              <a:gd name="adj1" fmla="val -29731"/>
              <a:gd name="adj2" fmla="val 105180"/>
              <a:gd name="adj3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 princípio, q = f(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,...,x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ependendo de m fatores de p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 flipV="1">
            <a:off x="1676520" y="176796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527364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51600" y="5623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ão de Obra 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-452160" y="336384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 (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00280" y="2789280"/>
            <a:ext cx="3282840" cy="2460600"/>
          </a:xfrm>
          <a:custGeom>
            <a:avLst/>
            <a:gdLst/>
            <a:ahLst/>
            <a:rect l="l" t="t" r="r" b="b"/>
            <a:pathLst>
              <a:path w="2068" h="1550">
                <a:moveTo>
                  <a:pt x="0" y="1550"/>
                </a:moveTo>
                <a:cubicBezTo>
                  <a:pt x="106" y="1501"/>
                  <a:pt x="458" y="1396"/>
                  <a:pt x="638" y="1258"/>
                </a:cubicBezTo>
                <a:cubicBezTo>
                  <a:pt x="818" y="1120"/>
                  <a:pt x="937" y="891"/>
                  <a:pt x="1079" y="720"/>
                </a:cubicBezTo>
                <a:cubicBezTo>
                  <a:pt x="1221" y="549"/>
                  <a:pt x="1327" y="351"/>
                  <a:pt x="1492" y="231"/>
                </a:cubicBezTo>
                <a:cubicBezTo>
                  <a:pt x="1657" y="111"/>
                  <a:pt x="1948" y="48"/>
                  <a:pt x="2068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88600" y="2634840"/>
            <a:ext cx="40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Lucida Casu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16120" y="2071800"/>
            <a:ext cx="3282840" cy="3162240"/>
          </a:xfrm>
          <a:custGeom>
            <a:avLst/>
            <a:gdLst/>
            <a:ahLst/>
            <a:rect l="l" t="t" r="r" b="b"/>
            <a:pathLst>
              <a:path w="2068" h="1550">
                <a:moveTo>
                  <a:pt x="0" y="1550"/>
                </a:moveTo>
                <a:cubicBezTo>
                  <a:pt x="106" y="1501"/>
                  <a:pt x="458" y="1396"/>
                  <a:pt x="638" y="1258"/>
                </a:cubicBezTo>
                <a:cubicBezTo>
                  <a:pt x="818" y="1120"/>
                  <a:pt x="937" y="891"/>
                  <a:pt x="1079" y="720"/>
                </a:cubicBezTo>
                <a:cubicBezTo>
                  <a:pt x="1221" y="549"/>
                  <a:pt x="1327" y="351"/>
                  <a:pt x="1492" y="231"/>
                </a:cubicBezTo>
                <a:cubicBezTo>
                  <a:pt x="1657" y="111"/>
                  <a:pt x="1948" y="48"/>
                  <a:pt x="2068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74560" y="1856880"/>
            <a:ext cx="40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K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Lucida Casu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21000" y="1966680"/>
            <a:ext cx="0" cy="32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221000" y="2423880"/>
            <a:ext cx="0" cy="62388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25880" y="3274920"/>
            <a:ext cx="3246480" cy="1503360"/>
          </a:xfrm>
          <a:prstGeom prst="wedgeRoundRectCallout">
            <a:avLst>
              <a:gd name="adj1" fmla="val -69462"/>
              <a:gd name="adj2" fmla="val -85268"/>
              <a:gd name="adj3" fmla="val 16667"/>
            </a:avLst>
          </a:prstGeom>
          <a:solidFill>
            <a:srgbClr val="ffffcc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Com maior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(p.ex. máquinas melh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obtem-se maior volume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produção com a me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Lucida Casual"/>
              </a:rPr>
              <a:t>quantidade de mã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1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42560" y="913680"/>
            <a:ext cx="37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Funçã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50800" y="1384200"/>
            <a:ext cx="792216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Como ajustar o fator de produção</a:t>
            </a: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 M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de modo a maximizar o lucro</a:t>
            </a: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 L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a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produzir uma certa quantidade </a:t>
            </a: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q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de produto de preço </a:t>
            </a:r>
            <a:r>
              <a:rPr b="1" lang="pt-BR" sz="18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2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 flipV="1">
            <a:off x="1314360" y="19616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09800" y="54673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46240" y="581760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ão de Obra 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-813960" y="355716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 (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42560" y="913680"/>
            <a:ext cx="37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Funçã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3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63800" y="1626480"/>
            <a:ext cx="29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or simplicidad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75680" y="2155680"/>
            <a:ext cx="2504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uc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 = p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 c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 p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(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 c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613120" y="3655440"/>
            <a:ext cx="2953440" cy="668160"/>
            <a:chOff x="5613120" y="3655440"/>
            <a:chExt cx="2953440" cy="668160"/>
          </a:xfrm>
        </p:grpSpPr>
        <p:sp>
          <p:nvSpPr>
            <p:cNvPr id="335" name=""/>
            <p:cNvSpPr/>
            <p:nvPr/>
          </p:nvSpPr>
          <p:spPr>
            <a:xfrm>
              <a:off x="5613120" y="3681000"/>
              <a:ext cx="51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48000" y="3803040"/>
              <a:ext cx="251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= p                   - c =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58480" y="3655440"/>
              <a:ext cx="11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(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,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657400" y="3994200"/>
              <a:ext cx="406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629040" y="3994200"/>
              <a:ext cx="996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600960" y="4194000"/>
            <a:ext cx="1054080" cy="651960"/>
            <a:chOff x="6600960" y="4194000"/>
            <a:chExt cx="1054080" cy="651960"/>
          </a:xfrm>
        </p:grpSpPr>
        <p:sp>
          <p:nvSpPr>
            <p:cNvPr id="341" name=""/>
            <p:cNvSpPr/>
            <p:nvPr/>
          </p:nvSpPr>
          <p:spPr>
            <a:xfrm rot="16200000">
              <a:off x="6969240" y="3825720"/>
              <a:ext cx="317520" cy="105408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27360 h 1054080"/>
                <a:gd name="textAreaBottom" fmla="*/ 1026720 h 105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11920" y="447768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PM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334200" y="5014440"/>
            <a:ext cx="1515960" cy="686160"/>
            <a:chOff x="6334200" y="5014440"/>
            <a:chExt cx="1515960" cy="686160"/>
          </a:xfrm>
        </p:grpSpPr>
        <p:sp>
          <p:nvSpPr>
            <p:cNvPr id="344" name=""/>
            <p:cNvSpPr/>
            <p:nvPr/>
          </p:nvSpPr>
          <p:spPr>
            <a:xfrm>
              <a:off x="6334200" y="5035680"/>
              <a:ext cx="1400040" cy="66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59400" y="5014440"/>
              <a:ext cx="3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05360" y="51364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222680" y="5342040"/>
              <a:ext cx="4064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14120" y="51778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PMg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338120" y="3271680"/>
            <a:ext cx="3283200" cy="2171880"/>
          </a:xfrm>
          <a:custGeom>
            <a:avLst/>
            <a:gdLst/>
            <a:ahLst/>
            <a:rect l="l" t="t" r="r" b="b"/>
            <a:pathLst>
              <a:path w="2068" h="1550">
                <a:moveTo>
                  <a:pt x="0" y="1550"/>
                </a:moveTo>
                <a:cubicBezTo>
                  <a:pt x="106" y="1501"/>
                  <a:pt x="458" y="1396"/>
                  <a:pt x="638" y="1258"/>
                </a:cubicBezTo>
                <a:cubicBezTo>
                  <a:pt x="818" y="1120"/>
                  <a:pt x="937" y="891"/>
                  <a:pt x="1079" y="720"/>
                </a:cubicBezTo>
                <a:cubicBezTo>
                  <a:pt x="1221" y="549"/>
                  <a:pt x="1327" y="351"/>
                  <a:pt x="1492" y="231"/>
                </a:cubicBezTo>
                <a:cubicBezTo>
                  <a:pt x="1657" y="111"/>
                  <a:pt x="1948" y="48"/>
                  <a:pt x="2068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06440" y="27439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 = f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K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 flipV="1">
            <a:off x="1314360" y="19616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09800" y="54673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46240" y="581760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ão de Obra 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6200000">
            <a:off x="-813960" y="355716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 (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38120" y="3271680"/>
            <a:ext cx="3283200" cy="2171880"/>
          </a:xfrm>
          <a:custGeom>
            <a:avLst/>
            <a:gdLst/>
            <a:ahLst/>
            <a:rect l="l" t="t" r="r" b="b"/>
            <a:pathLst>
              <a:path w="2068" h="1550">
                <a:moveTo>
                  <a:pt x="0" y="1550"/>
                </a:moveTo>
                <a:cubicBezTo>
                  <a:pt x="106" y="1501"/>
                  <a:pt x="458" y="1396"/>
                  <a:pt x="638" y="1258"/>
                </a:cubicBezTo>
                <a:cubicBezTo>
                  <a:pt x="818" y="1120"/>
                  <a:pt x="937" y="891"/>
                  <a:pt x="1079" y="720"/>
                </a:cubicBezTo>
                <a:cubicBezTo>
                  <a:pt x="1221" y="549"/>
                  <a:pt x="1327" y="351"/>
                  <a:pt x="1492" y="231"/>
                </a:cubicBezTo>
                <a:cubicBezTo>
                  <a:pt x="1657" y="111"/>
                  <a:pt x="1948" y="48"/>
                  <a:pt x="2068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42560" y="913680"/>
            <a:ext cx="37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Funçã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5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351160" y="1506240"/>
            <a:ext cx="1515960" cy="686160"/>
            <a:chOff x="2351160" y="1506240"/>
            <a:chExt cx="1515960" cy="686160"/>
          </a:xfrm>
        </p:grpSpPr>
        <p:sp>
          <p:nvSpPr>
            <p:cNvPr id="362" name=""/>
            <p:cNvSpPr/>
            <p:nvPr/>
          </p:nvSpPr>
          <p:spPr>
            <a:xfrm>
              <a:off x="2351160" y="1527480"/>
              <a:ext cx="1400040" cy="66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76360" y="1506240"/>
              <a:ext cx="3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22320" y="16282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239640" y="1833840"/>
              <a:ext cx="4064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31080" y="16696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Arial"/>
                </a:rPr>
                <a:t>PMg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662800" y="1710720"/>
            <a:ext cx="2720520" cy="1582200"/>
            <a:chOff x="5662800" y="1710720"/>
            <a:chExt cx="2720520" cy="1582200"/>
          </a:xfrm>
        </p:grpSpPr>
        <p:sp>
          <p:nvSpPr>
            <p:cNvPr id="368" name=""/>
            <p:cNvSpPr/>
            <p:nvPr/>
          </p:nvSpPr>
          <p:spPr>
            <a:xfrm>
              <a:off x="5662800" y="1710720"/>
              <a:ext cx="27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Lucro:  L = p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- c </a:t>
              </a: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M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-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828400" y="2642400"/>
              <a:ext cx="2467440" cy="650520"/>
              <a:chOff x="5828400" y="2642400"/>
              <a:chExt cx="2467440" cy="65052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6335280" y="2642400"/>
                <a:ext cx="406440" cy="642600"/>
                <a:chOff x="6335280" y="2642400"/>
                <a:chExt cx="406440" cy="6426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370560" y="2642400"/>
                  <a:ext cx="3207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>
                  <a:off x="6335280" y="2984400"/>
                  <a:ext cx="40644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6994080" y="2650320"/>
                <a:ext cx="406440" cy="642600"/>
                <a:chOff x="6994080" y="2650320"/>
                <a:chExt cx="406440" cy="642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029360" y="2650320"/>
                  <a:ext cx="3207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>
                  <a:off x="6994080" y="2991960"/>
                  <a:ext cx="40644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7889400" y="2650320"/>
                <a:ext cx="406440" cy="642600"/>
                <a:chOff x="7889400" y="2650320"/>
                <a:chExt cx="406440" cy="6426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7912080" y="2650320"/>
                  <a:ext cx="345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7889400" y="2992320"/>
                  <a:ext cx="40644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5828400" y="2802600"/>
                <a:ext cx="212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q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 =         +        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M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 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013520" y="2178000"/>
              <a:ext cx="0" cy="49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762160" y="3384720"/>
            <a:ext cx="2894400" cy="2926080"/>
            <a:chOff x="5762160" y="3384720"/>
            <a:chExt cx="2894400" cy="2926080"/>
          </a:xfrm>
        </p:grpSpPr>
        <p:sp>
          <p:nvSpPr>
            <p:cNvPr id="382" name=""/>
            <p:cNvSpPr/>
            <p:nvPr/>
          </p:nvSpPr>
          <p:spPr>
            <a:xfrm>
              <a:off x="7007400" y="3384720"/>
              <a:ext cx="0" cy="49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5762160" y="3979440"/>
              <a:ext cx="2894400" cy="2331360"/>
              <a:chOff x="5762160" y="3979440"/>
              <a:chExt cx="2894400" cy="2331360"/>
            </a:xfrm>
          </p:grpSpPr>
          <p:sp>
            <p:nvSpPr>
              <p:cNvPr id="384" name=""/>
              <p:cNvSpPr/>
              <p:nvPr/>
            </p:nvSpPr>
            <p:spPr>
              <a:xfrm>
                <a:off x="5926320" y="3979440"/>
                <a:ext cx="2466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Para cada valor de 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L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,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tem-se uma reta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6180480" y="4677480"/>
                <a:ext cx="2467800" cy="650520"/>
                <a:chOff x="6180480" y="4677480"/>
                <a:chExt cx="2467800" cy="650520"/>
              </a:xfrm>
            </p:grpSpPr>
            <p:grpSp>
              <p:nvGrpSpPr>
                <p:cNvPr id="386" name=""/>
                <p:cNvGrpSpPr/>
                <p:nvPr/>
              </p:nvGrpSpPr>
              <p:grpSpPr>
                <a:xfrm>
                  <a:off x="7611480" y="4685400"/>
                  <a:ext cx="406440" cy="642600"/>
                  <a:chOff x="7611480" y="4685400"/>
                  <a:chExt cx="406440" cy="64260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7646760" y="4685400"/>
                    <a:ext cx="3207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ff"/>
                        </a:solidFill>
                        <a:latin typeface="Arial"/>
                      </a:rPr>
                      <a:t>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>
                    <a:off x="7611480" y="5027400"/>
                    <a:ext cx="406440" cy="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6667560" y="4677480"/>
                  <a:ext cx="406080" cy="642600"/>
                  <a:chOff x="6667560" y="4677480"/>
                  <a:chExt cx="406080" cy="6426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6701760" y="4677480"/>
                    <a:ext cx="3207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ff"/>
                        </a:solidFill>
                        <a:latin typeface="Arial"/>
                      </a:rPr>
                      <a:t>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>
                    <a:off x="6667560" y="5019120"/>
                    <a:ext cx="406080" cy="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8241840" y="4678920"/>
                  <a:ext cx="406440" cy="642600"/>
                  <a:chOff x="8241840" y="4678920"/>
                  <a:chExt cx="406440" cy="64260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8264520" y="4678920"/>
                    <a:ext cx="34524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ff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>
                    <a:off x="8241840" y="5020920"/>
                    <a:ext cx="406440" cy="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5" name=""/>
                <p:cNvSpPr/>
                <p:nvPr/>
              </p:nvSpPr>
              <p:spPr>
                <a:xfrm>
                  <a:off x="6180480" y="4845600"/>
                  <a:ext cx="212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Arial"/>
                    </a:rPr>
                    <a:t>q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 =         </a:t>
                  </a:r>
                  <a:r>
                    <a:rPr b="1" lang="en-US" sz="1800" spc="-1" strike="noStrike">
                      <a:solidFill>
                        <a:srgbClr val="009900"/>
                      </a:solidFill>
                      <a:latin typeface="Arial"/>
                    </a:rPr>
                    <a:t>M</a:t>
                  </a:r>
                  <a:r>
                    <a:rPr b="1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 +        +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5762160" y="5613480"/>
                <a:ext cx="1814040" cy="6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o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    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q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 =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M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 +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6200000">
                <a:off x="8065080" y="4850280"/>
                <a:ext cx="158760" cy="1023840"/>
              </a:xfrm>
              <a:custGeom>
                <a:avLst/>
                <a:gdLst>
                  <a:gd name="textAreaLeft" fmla="*/ 101520 w 158760"/>
                  <a:gd name="textAreaRight" fmla="*/ 159120 w 158760"/>
                  <a:gd name="textAreaTop" fmla="*/ 26640 h 1023840"/>
                  <a:gd name="textAreaBottom" fmla="*/ 997200 h 1023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6200000">
                <a:off x="6789600" y="5089320"/>
                <a:ext cx="173160" cy="547560"/>
              </a:xfrm>
              <a:custGeom>
                <a:avLst/>
                <a:gdLst>
                  <a:gd name="textAreaLeft" fmla="*/ 110520 w 173160"/>
                  <a:gd name="textAreaRight" fmla="*/ 173520 w 173160"/>
                  <a:gd name="textAreaTop" fmla="*/ 14040 h 547560"/>
                  <a:gd name="textAreaBottom" fmla="*/ 533520 h 54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734520" y="5422320"/>
                <a:ext cx="159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                 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996840" y="2669400"/>
            <a:ext cx="3814200" cy="2426400"/>
            <a:chOff x="996840" y="2669400"/>
            <a:chExt cx="3814200" cy="2426400"/>
          </a:xfrm>
        </p:grpSpPr>
        <p:sp>
          <p:nvSpPr>
            <p:cNvPr id="401" name=""/>
            <p:cNvSpPr/>
            <p:nvPr/>
          </p:nvSpPr>
          <p:spPr>
            <a:xfrm flipV="1">
              <a:off x="1311120" y="2671920"/>
              <a:ext cx="3319560" cy="14270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292400" y="3169800"/>
              <a:ext cx="3319200" cy="14274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96840" y="39171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68560" y="3016080"/>
              <a:ext cx="82080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03960" y="2669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328760" y="3668760"/>
              <a:ext cx="3319560" cy="14270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741840" y="3421080"/>
            <a:ext cx="423000" cy="2407320"/>
            <a:chOff x="3741840" y="3421080"/>
            <a:chExt cx="423000" cy="2407320"/>
          </a:xfrm>
        </p:grpSpPr>
        <p:sp>
          <p:nvSpPr>
            <p:cNvPr id="408" name=""/>
            <p:cNvSpPr/>
            <p:nvPr/>
          </p:nvSpPr>
          <p:spPr>
            <a:xfrm>
              <a:off x="3838680" y="3421080"/>
              <a:ext cx="142920" cy="142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09960" y="3565440"/>
              <a:ext cx="0" cy="18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41840" y="546012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M</a:t>
              </a:r>
              <a:r>
                <a:rPr b="1" lang="en-US" sz="1800" spc="-1" strike="noStrike" baseline="30000">
                  <a:solidFill>
                    <a:srgbClr val="0099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736800" y="1515960"/>
            <a:ext cx="621000" cy="677880"/>
            <a:chOff x="3736800" y="1515960"/>
            <a:chExt cx="621000" cy="677880"/>
          </a:xfrm>
        </p:grpSpPr>
        <p:sp>
          <p:nvSpPr>
            <p:cNvPr id="412" name=""/>
            <p:cNvSpPr/>
            <p:nvPr/>
          </p:nvSpPr>
          <p:spPr>
            <a:xfrm>
              <a:off x="3736800" y="1515960"/>
              <a:ext cx="621000" cy="677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87200" y="166464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687320" y="2832840"/>
            <a:ext cx="320760" cy="2189880"/>
            <a:chOff x="1687320" y="2832840"/>
            <a:chExt cx="320760" cy="2189880"/>
          </a:xfrm>
        </p:grpSpPr>
        <p:sp>
          <p:nvSpPr>
            <p:cNvPr id="415" name=""/>
            <p:cNvSpPr/>
            <p:nvPr/>
          </p:nvSpPr>
          <p:spPr>
            <a:xfrm>
              <a:off x="1689120" y="3189240"/>
              <a:ext cx="315720" cy="1833480"/>
            </a:xfrm>
            <a:prstGeom prst="upArrow">
              <a:avLst>
                <a:gd name="adj1" fmla="val 57787"/>
                <a:gd name="adj2" fmla="val 78425"/>
              </a:avLst>
            </a:prstGeom>
            <a:solidFill>
              <a:srgbClr val="ffff99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87320" y="28328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694560" y="287748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 = f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K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280" y="5944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3505320" y="2286000"/>
            <a:ext cx="2666880" cy="3276720"/>
            <a:chOff x="3505320" y="2286000"/>
            <a:chExt cx="2666880" cy="3276720"/>
          </a:xfrm>
        </p:grpSpPr>
        <p:sp>
          <p:nvSpPr>
            <p:cNvPr id="422" name=""/>
            <p:cNvSpPr/>
            <p:nvPr/>
          </p:nvSpPr>
          <p:spPr>
            <a:xfrm>
              <a:off x="3505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86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6708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48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29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008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91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172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3133800" y="3063960"/>
            <a:ext cx="3282840" cy="2460600"/>
          </a:xfrm>
          <a:custGeom>
            <a:avLst/>
            <a:gdLst/>
            <a:ahLst/>
            <a:rect l="l" t="t" r="r" b="b"/>
            <a:pathLst>
              <a:path w="2068" h="1550">
                <a:moveTo>
                  <a:pt x="0" y="1550"/>
                </a:moveTo>
                <a:cubicBezTo>
                  <a:pt x="106" y="1501"/>
                  <a:pt x="458" y="1396"/>
                  <a:pt x="638" y="1258"/>
                </a:cubicBezTo>
                <a:cubicBezTo>
                  <a:pt x="818" y="1120"/>
                  <a:pt x="937" y="891"/>
                  <a:pt x="1079" y="720"/>
                </a:cubicBezTo>
                <a:cubicBezTo>
                  <a:pt x="1221" y="549"/>
                  <a:pt x="1327" y="351"/>
                  <a:pt x="1492" y="231"/>
                </a:cubicBezTo>
                <a:cubicBezTo>
                  <a:pt x="1657" y="111"/>
                  <a:pt x="1948" y="48"/>
                  <a:pt x="2068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5380200"/>
            <a:ext cx="0" cy="182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513240" y="5211720"/>
            <a:ext cx="380880" cy="176400"/>
            <a:chOff x="3513240" y="5211720"/>
            <a:chExt cx="380880" cy="176400"/>
          </a:xfrm>
        </p:grpSpPr>
        <p:sp>
          <p:nvSpPr>
            <p:cNvPr id="433" name=""/>
            <p:cNvSpPr/>
            <p:nvPr/>
          </p:nvSpPr>
          <p:spPr>
            <a:xfrm>
              <a:off x="3894120" y="5211720"/>
              <a:ext cx="0" cy="174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13240" y="538812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94120" y="4967280"/>
            <a:ext cx="372960" cy="249120"/>
            <a:chOff x="3894120" y="4967280"/>
            <a:chExt cx="372960" cy="249120"/>
          </a:xfrm>
        </p:grpSpPr>
        <p:sp>
          <p:nvSpPr>
            <p:cNvPr id="436" name=""/>
            <p:cNvSpPr/>
            <p:nvPr/>
          </p:nvSpPr>
          <p:spPr>
            <a:xfrm>
              <a:off x="4267080" y="4967280"/>
              <a:ext cx="0" cy="249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94120" y="5211720"/>
              <a:ext cx="37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259160" y="4457880"/>
            <a:ext cx="389160" cy="495000"/>
            <a:chOff x="4259160" y="4457880"/>
            <a:chExt cx="389160" cy="495000"/>
          </a:xfrm>
        </p:grpSpPr>
        <p:sp>
          <p:nvSpPr>
            <p:cNvPr id="439" name=""/>
            <p:cNvSpPr/>
            <p:nvPr/>
          </p:nvSpPr>
          <p:spPr>
            <a:xfrm>
              <a:off x="4648320" y="4457880"/>
              <a:ext cx="0" cy="493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59160" y="4952880"/>
              <a:ext cx="38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648320" y="3138480"/>
            <a:ext cx="1523880" cy="1324080"/>
            <a:chOff x="4648320" y="3138480"/>
            <a:chExt cx="1523880" cy="1324080"/>
          </a:xfrm>
        </p:grpSpPr>
        <p:sp>
          <p:nvSpPr>
            <p:cNvPr id="442" name=""/>
            <p:cNvSpPr/>
            <p:nvPr/>
          </p:nvSpPr>
          <p:spPr>
            <a:xfrm>
              <a:off x="4648320" y="4457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29200" y="39704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10080" y="35053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91320" y="3276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21280" y="3968640"/>
              <a:ext cx="0" cy="493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10080" y="3503520"/>
              <a:ext cx="0" cy="463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83400" y="3282840"/>
              <a:ext cx="0" cy="219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72200" y="3138480"/>
              <a:ext cx="0" cy="136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938760" y="58539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ão de Obra 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6200000">
            <a:off x="1035000" y="359388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 (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5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71480" y="769320"/>
            <a:ext cx="43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Produtividade Mar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51280" y="5944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05320" y="5380200"/>
            <a:ext cx="0" cy="182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94120" y="5211720"/>
            <a:ext cx="0" cy="184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67080" y="4951440"/>
            <a:ext cx="0" cy="264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48320" y="4457880"/>
            <a:ext cx="0" cy="4935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513240" y="538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90880" y="5208480"/>
            <a:ext cx="3762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59160" y="4952880"/>
            <a:ext cx="38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629240" y="4457880"/>
            <a:ext cx="406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08680" y="3963960"/>
            <a:ext cx="411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3505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9132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21280" y="3968640"/>
            <a:ext cx="0" cy="493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10080" y="3503520"/>
            <a:ext cx="0" cy="463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83400" y="3273480"/>
            <a:ext cx="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72200" y="3138480"/>
            <a:ext cx="0" cy="1364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38760" y="58539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ão de Obra 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6200000">
            <a:off x="1035000" y="359388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 (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7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71480" y="769320"/>
            <a:ext cx="43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Produtividade Mar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51280" y="5944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05320" y="5450040"/>
            <a:ext cx="0" cy="112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2960" y="5373720"/>
            <a:ext cx="0" cy="183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67080" y="5251320"/>
            <a:ext cx="0" cy="324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37160" y="5057640"/>
            <a:ext cx="0" cy="493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97520" y="5019840"/>
            <a:ext cx="0" cy="550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75160" y="5095800"/>
            <a:ext cx="0" cy="463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37320" y="5318280"/>
            <a:ext cx="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67440" y="5437080"/>
            <a:ext cx="0" cy="136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38760" y="58539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ão de Obra 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16200000">
            <a:off x="1095840" y="36032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td p/ Mão de Obra (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/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9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71480" y="769320"/>
            <a:ext cx="43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Produtividade Mar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251280" y="5944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05320" y="5305320"/>
            <a:ext cx="0" cy="246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2960" y="4905360"/>
            <a:ext cx="0" cy="662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67080" y="4335480"/>
            <a:ext cx="0" cy="1239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37160" y="3693960"/>
            <a:ext cx="0" cy="1871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997520" y="3506760"/>
            <a:ext cx="0" cy="20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5160" y="3790800"/>
            <a:ext cx="0" cy="1760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37320" y="4618080"/>
            <a:ext cx="0" cy="931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67440" y="5129280"/>
            <a:ext cx="0" cy="4395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38760" y="58539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ão de Obra 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16200000">
            <a:off x="1095840" y="36032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td p/ Mão de Obra (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/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3151080" y="3483000"/>
            <a:ext cx="3471120" cy="2070000"/>
            <a:chOff x="3151080" y="3483000"/>
            <a:chExt cx="3471120" cy="2070000"/>
          </a:xfrm>
        </p:grpSpPr>
        <p:sp>
          <p:nvSpPr>
            <p:cNvPr id="514" name=""/>
            <p:cNvSpPr/>
            <p:nvPr/>
          </p:nvSpPr>
          <p:spPr>
            <a:xfrm>
              <a:off x="3151080" y="3483000"/>
              <a:ext cx="2932200" cy="2070000"/>
            </a:xfrm>
            <a:custGeom>
              <a:avLst/>
              <a:gdLst/>
              <a:ahLst/>
              <a:rect l="l" t="t" r="r" b="b"/>
              <a:pathLst>
                <a:path w="1847" h="1304">
                  <a:moveTo>
                    <a:pt x="0" y="1304"/>
                  </a:moveTo>
                  <a:cubicBezTo>
                    <a:pt x="38" y="1277"/>
                    <a:pt x="148" y="1213"/>
                    <a:pt x="226" y="1144"/>
                  </a:cubicBezTo>
                  <a:cubicBezTo>
                    <a:pt x="304" y="1075"/>
                    <a:pt x="389" y="989"/>
                    <a:pt x="466" y="890"/>
                  </a:cubicBezTo>
                  <a:cubicBezTo>
                    <a:pt x="543" y="791"/>
                    <a:pt x="614" y="674"/>
                    <a:pt x="691" y="548"/>
                  </a:cubicBezTo>
                  <a:cubicBezTo>
                    <a:pt x="768" y="422"/>
                    <a:pt x="852" y="223"/>
                    <a:pt x="931" y="133"/>
                  </a:cubicBezTo>
                  <a:cubicBezTo>
                    <a:pt x="1010" y="43"/>
                    <a:pt x="1084" y="0"/>
                    <a:pt x="1164" y="10"/>
                  </a:cubicBezTo>
                  <a:cubicBezTo>
                    <a:pt x="1244" y="20"/>
                    <a:pt x="1332" y="77"/>
                    <a:pt x="1411" y="192"/>
                  </a:cubicBezTo>
                  <a:cubicBezTo>
                    <a:pt x="1490" y="307"/>
                    <a:pt x="1563" y="559"/>
                    <a:pt x="1636" y="701"/>
                  </a:cubicBezTo>
                  <a:cubicBezTo>
                    <a:pt x="1709" y="843"/>
                    <a:pt x="1803" y="972"/>
                    <a:pt x="1847" y="1043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38560" y="4312440"/>
              <a:ext cx="6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PM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571480" y="769320"/>
            <a:ext cx="43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Produtividade Mar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 rot="16200000">
            <a:off x="850320" y="3612960"/>
            <a:ext cx="36068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rodutividade Marginal (PM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1280" y="5944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38760" y="58539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ão de Obra 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L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51080" y="3483000"/>
            <a:ext cx="2932200" cy="2070000"/>
          </a:xfrm>
          <a:custGeom>
            <a:avLst/>
            <a:gdLst/>
            <a:ahLst/>
            <a:rect l="l" t="t" r="r" b="b"/>
            <a:pathLst>
              <a:path w="1847" h="1304">
                <a:moveTo>
                  <a:pt x="0" y="1304"/>
                </a:moveTo>
                <a:cubicBezTo>
                  <a:pt x="38" y="1277"/>
                  <a:pt x="148" y="1213"/>
                  <a:pt x="226" y="1144"/>
                </a:cubicBezTo>
                <a:cubicBezTo>
                  <a:pt x="304" y="1075"/>
                  <a:pt x="389" y="989"/>
                  <a:pt x="466" y="890"/>
                </a:cubicBezTo>
                <a:cubicBezTo>
                  <a:pt x="543" y="791"/>
                  <a:pt x="614" y="674"/>
                  <a:pt x="691" y="548"/>
                </a:cubicBezTo>
                <a:cubicBezTo>
                  <a:pt x="768" y="422"/>
                  <a:pt x="852" y="223"/>
                  <a:pt x="931" y="133"/>
                </a:cubicBezTo>
                <a:cubicBezTo>
                  <a:pt x="1010" y="43"/>
                  <a:pt x="1084" y="0"/>
                  <a:pt x="1164" y="10"/>
                </a:cubicBezTo>
                <a:cubicBezTo>
                  <a:pt x="1244" y="20"/>
                  <a:pt x="1332" y="77"/>
                  <a:pt x="1411" y="192"/>
                </a:cubicBezTo>
                <a:cubicBezTo>
                  <a:pt x="1490" y="307"/>
                  <a:pt x="1563" y="559"/>
                  <a:pt x="1636" y="701"/>
                </a:cubicBezTo>
                <a:cubicBezTo>
                  <a:pt x="1709" y="843"/>
                  <a:pt x="1803" y="972"/>
                  <a:pt x="1847" y="1043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46640" y="2128680"/>
            <a:ext cx="3268800" cy="981360"/>
          </a:xfrm>
          <a:prstGeom prst="wedgeRoundRectCallout">
            <a:avLst>
              <a:gd name="adj1" fmla="val -42472"/>
              <a:gd name="adj2" fmla="val 122166"/>
              <a:gd name="adj3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 Produtividade aumenta 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 mão de obra, mas sò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Casual"/>
              </a:rPr>
              <a:t>até um certo p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38560" y="431244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P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3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71480" y="769320"/>
            <a:ext cx="43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Produtividade Mar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57320" y="2422440"/>
            <a:ext cx="7115040" cy="25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85960" y="1655640"/>
          <a:ext cx="7432560" cy="48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655640"/>
                    <a:ext cx="7432560" cy="48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586600" y="93492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Lucida Casual"/>
              </a:rPr>
              <a:t>Organização do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3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3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370160" y="2457360"/>
            <a:ext cx="0" cy="2890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25360" y="5064120"/>
            <a:ext cx="322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865880" y="5216040"/>
            <a:ext cx="183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ão de Obra ( </a:t>
            </a: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L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6200000">
            <a:off x="-461880" y="3605040"/>
            <a:ext cx="275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tidade Produzida ( </a:t>
            </a: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q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89240" y="3218040"/>
            <a:ext cx="2620800" cy="1828800"/>
          </a:xfrm>
          <a:custGeom>
            <a:avLst/>
            <a:gdLst/>
            <a:ahLst/>
            <a:rect l="l" t="t" r="r" b="b"/>
            <a:pathLst>
              <a:path w="2068" h="1550">
                <a:moveTo>
                  <a:pt x="0" y="1550"/>
                </a:moveTo>
                <a:cubicBezTo>
                  <a:pt x="106" y="1501"/>
                  <a:pt x="458" y="1396"/>
                  <a:pt x="638" y="1258"/>
                </a:cubicBezTo>
                <a:cubicBezTo>
                  <a:pt x="818" y="1120"/>
                  <a:pt x="937" y="891"/>
                  <a:pt x="1079" y="720"/>
                </a:cubicBezTo>
                <a:cubicBezTo>
                  <a:pt x="1221" y="549"/>
                  <a:pt x="1327" y="351"/>
                  <a:pt x="1492" y="231"/>
                </a:cubicBezTo>
                <a:cubicBezTo>
                  <a:pt x="1657" y="111"/>
                  <a:pt x="1948" y="48"/>
                  <a:pt x="2068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16200000">
            <a:off x="2552760" y="4762080"/>
            <a:ext cx="399960" cy="2019240"/>
          </a:xfrm>
          <a:custGeom>
            <a:avLst/>
            <a:gdLst>
              <a:gd name="textAreaLeft" fmla="*/ 255600 w 399960"/>
              <a:gd name="textAreaRight" fmla="*/ 400320 w 399960"/>
              <a:gd name="textAreaTop" fmla="*/ 52560 h 2019240"/>
              <a:gd name="textAreaBottom" fmla="*/ 1966680 h 20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060280" y="599724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Custo ( CV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 rot="8060400">
            <a:off x="3447720" y="2190240"/>
            <a:ext cx="800280" cy="533520"/>
          </a:xfrm>
          <a:custGeom>
            <a:avLst/>
            <a:gdLst>
              <a:gd name="textAreaLeft" fmla="*/ 140040 w 800280"/>
              <a:gd name="textAreaRight" fmla="*/ 580320 w 8002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352520" y="2552760"/>
            <a:ext cx="2495520" cy="249552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694040" y="2457360"/>
            <a:ext cx="3841200" cy="3115080"/>
            <a:chOff x="4694040" y="2457360"/>
            <a:chExt cx="3841200" cy="3115080"/>
          </a:xfrm>
        </p:grpSpPr>
        <p:sp>
          <p:nvSpPr>
            <p:cNvPr id="549" name=""/>
            <p:cNvSpPr/>
            <p:nvPr/>
          </p:nvSpPr>
          <p:spPr>
            <a:xfrm>
              <a:off x="6591240" y="3333600"/>
              <a:ext cx="0" cy="133380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5475240" y="2457360"/>
              <a:ext cx="0" cy="289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60880" y="5064120"/>
              <a:ext cx="339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605560" y="5235120"/>
              <a:ext cx="274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Quantidade produzida ( </a:t>
              </a:r>
              <a:r>
                <a:rPr b="1" lang="pt-BR" sz="1600" spc="-1" strike="noStrike">
                  <a:solidFill>
                    <a:srgbClr val="ff3300"/>
                  </a:solidFill>
                  <a:latin typeface="Arial"/>
                </a:rPr>
                <a:t>q 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6200000">
              <a:off x="3557520" y="3599640"/>
              <a:ext cx="26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usto de Produção ( </a:t>
              </a:r>
              <a:r>
                <a:rPr b="1" lang="pt-BR" sz="1600" spc="-1" strike="noStrike">
                  <a:solidFill>
                    <a:srgbClr val="ff3300"/>
                  </a:solidFill>
                  <a:latin typeface="Arial"/>
                </a:rPr>
                <a:t>CT 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75240" y="2909880"/>
              <a:ext cx="2617920" cy="1700280"/>
            </a:xfrm>
            <a:custGeom>
              <a:avLst/>
              <a:gdLst/>
              <a:ahLst/>
              <a:rect l="l" t="t" r="r" b="b"/>
              <a:pathLst>
                <a:path w="2064" h="1296">
                  <a:moveTo>
                    <a:pt x="0" y="1296"/>
                  </a:moveTo>
                  <a:cubicBezTo>
                    <a:pt x="70" y="1226"/>
                    <a:pt x="168" y="1012"/>
                    <a:pt x="420" y="876"/>
                  </a:cubicBezTo>
                  <a:cubicBezTo>
                    <a:pt x="672" y="740"/>
                    <a:pt x="1238" y="626"/>
                    <a:pt x="1512" y="480"/>
                  </a:cubicBezTo>
                  <a:cubicBezTo>
                    <a:pt x="1786" y="334"/>
                    <a:pt x="1949" y="100"/>
                    <a:pt x="2064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714440" y="2555640"/>
              <a:ext cx="82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6600"/>
                  </a:solidFill>
                  <a:latin typeface="Arial"/>
                </a:rPr>
                <a:t>CT( q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75240" y="3348000"/>
              <a:ext cx="2617920" cy="1700280"/>
            </a:xfrm>
            <a:custGeom>
              <a:avLst/>
              <a:gdLst/>
              <a:ahLst/>
              <a:rect l="l" t="t" r="r" b="b"/>
              <a:pathLst>
                <a:path w="2064" h="1296">
                  <a:moveTo>
                    <a:pt x="0" y="1296"/>
                  </a:moveTo>
                  <a:cubicBezTo>
                    <a:pt x="70" y="1226"/>
                    <a:pt x="168" y="1012"/>
                    <a:pt x="420" y="876"/>
                  </a:cubicBezTo>
                  <a:cubicBezTo>
                    <a:pt x="672" y="740"/>
                    <a:pt x="1238" y="626"/>
                    <a:pt x="1512" y="480"/>
                  </a:cubicBezTo>
                  <a:cubicBezTo>
                    <a:pt x="1786" y="334"/>
                    <a:pt x="1949" y="100"/>
                    <a:pt x="2064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419880" y="3828960"/>
              <a:ext cx="361800" cy="476280"/>
            </a:xfrm>
            <a:prstGeom prst="upArrow">
              <a:avLst>
                <a:gd name="adj1" fmla="val 46824"/>
                <a:gd name="adj2" fmla="val 55289"/>
              </a:avLst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99320" y="468288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3300"/>
                  </a:solidFill>
                  <a:latin typeface="Arial"/>
                </a:rPr>
                <a:t>C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5067360" y="4610160"/>
              <a:ext cx="41904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257800" y="4191120"/>
              <a:ext cx="0" cy="419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57800" y="5067360"/>
              <a:ext cx="0" cy="342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6200000">
            <a:off x="1388520" y="36669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24080" y="2666880"/>
            <a:ext cx="3276720" cy="2286000"/>
          </a:xfrm>
          <a:custGeom>
            <a:avLst/>
            <a:gdLst/>
            <a:ahLst/>
            <a:rect l="l" t="t" r="r" b="b"/>
            <a:pathLst>
              <a:path w="2064" h="1296">
                <a:moveTo>
                  <a:pt x="0" y="1296"/>
                </a:moveTo>
                <a:cubicBezTo>
                  <a:pt x="70" y="1226"/>
                  <a:pt x="168" y="1012"/>
                  <a:pt x="420" y="876"/>
                </a:cubicBezTo>
                <a:cubicBezTo>
                  <a:pt x="672" y="740"/>
                  <a:pt x="1238" y="626"/>
                  <a:pt x="1512" y="480"/>
                </a:cubicBezTo>
                <a:cubicBezTo>
                  <a:pt x="1786" y="334"/>
                  <a:pt x="1949" y="100"/>
                  <a:pt x="206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206760" y="2283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7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16200000">
            <a:off x="1388520" y="36669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24080" y="2666880"/>
            <a:ext cx="3276720" cy="2286000"/>
          </a:xfrm>
          <a:custGeom>
            <a:avLst/>
            <a:gdLst/>
            <a:ahLst/>
            <a:rect l="l" t="t" r="r" b="b"/>
            <a:pathLst>
              <a:path w="2064" h="1296">
                <a:moveTo>
                  <a:pt x="0" y="1296"/>
                </a:moveTo>
                <a:cubicBezTo>
                  <a:pt x="70" y="1226"/>
                  <a:pt x="168" y="1012"/>
                  <a:pt x="420" y="876"/>
                </a:cubicBezTo>
                <a:cubicBezTo>
                  <a:pt x="672" y="740"/>
                  <a:pt x="1238" y="626"/>
                  <a:pt x="1512" y="480"/>
                </a:cubicBezTo>
                <a:cubicBezTo>
                  <a:pt x="1786" y="334"/>
                  <a:pt x="1949" y="100"/>
                  <a:pt x="206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27560" y="4807080"/>
            <a:ext cx="2836800" cy="669960"/>
          </a:xfrm>
          <a:prstGeom prst="wedgeRoundRectCallout">
            <a:avLst>
              <a:gd name="adj1" fmla="val -47930"/>
              <a:gd name="adj2" fmla="val -92416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Rendimentos Cresc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de Esc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206760" y="2283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1388520" y="36669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24080" y="2666880"/>
            <a:ext cx="3276720" cy="2286000"/>
          </a:xfrm>
          <a:custGeom>
            <a:avLst/>
            <a:gdLst/>
            <a:ahLst/>
            <a:rect l="l" t="t" r="r" b="b"/>
            <a:pathLst>
              <a:path w="2064" h="1296">
                <a:moveTo>
                  <a:pt x="0" y="1296"/>
                </a:moveTo>
                <a:cubicBezTo>
                  <a:pt x="70" y="1226"/>
                  <a:pt x="168" y="1012"/>
                  <a:pt x="420" y="876"/>
                </a:cubicBezTo>
                <a:cubicBezTo>
                  <a:pt x="672" y="740"/>
                  <a:pt x="1238" y="626"/>
                  <a:pt x="1512" y="480"/>
                </a:cubicBezTo>
                <a:cubicBezTo>
                  <a:pt x="1786" y="334"/>
                  <a:pt x="1949" y="100"/>
                  <a:pt x="206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254560" y="4003560"/>
            <a:ext cx="3068640" cy="681120"/>
          </a:xfrm>
          <a:prstGeom prst="wedgeRoundRectCallout">
            <a:avLst>
              <a:gd name="adj1" fmla="val -27546"/>
              <a:gd name="adj2" fmla="val -166782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Rendimentos Decresc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de Esc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06760" y="2283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9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 flipV="1">
            <a:off x="3124080" y="2362320"/>
            <a:ext cx="0" cy="358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1388520" y="36669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2666880"/>
            <a:ext cx="3276720" cy="2286000"/>
          </a:xfrm>
          <a:custGeom>
            <a:avLst/>
            <a:gdLst/>
            <a:ahLst/>
            <a:rect l="l" t="t" r="r" b="b"/>
            <a:pathLst>
              <a:path w="2064" h="1296">
                <a:moveTo>
                  <a:pt x="0" y="1296"/>
                </a:moveTo>
                <a:cubicBezTo>
                  <a:pt x="70" y="1226"/>
                  <a:pt x="168" y="1012"/>
                  <a:pt x="420" y="876"/>
                </a:cubicBezTo>
                <a:cubicBezTo>
                  <a:pt x="672" y="740"/>
                  <a:pt x="1238" y="626"/>
                  <a:pt x="1512" y="480"/>
                </a:cubicBezTo>
                <a:cubicBezTo>
                  <a:pt x="1786" y="334"/>
                  <a:pt x="1949" y="100"/>
                  <a:pt x="206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24080" y="4952880"/>
            <a:ext cx="259092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10080" y="3581280"/>
            <a:ext cx="0" cy="1371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10080" y="4952880"/>
            <a:ext cx="0" cy="60984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474000" y="4419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usto Variá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875400" y="50284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usto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876920" y="3581280"/>
            <a:ext cx="1600200" cy="0"/>
          </a:xfrm>
          <a:prstGeom prst="line">
            <a:avLst/>
          </a:prstGeom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088320" y="4419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ust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360600" y="1675440"/>
            <a:ext cx="27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CT(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)</a:t>
            </a:r>
            <a:r>
              <a:rPr b="1" lang="pt-BR" sz="24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=</a:t>
            </a:r>
            <a:r>
              <a:rPr b="1" lang="pt-BR" sz="24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CF</a:t>
            </a:r>
            <a:r>
              <a:rPr b="1" lang="pt-BR" sz="24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+</a:t>
            </a:r>
            <a:r>
              <a:rPr b="1" lang="pt-BR" sz="24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V(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246640" y="5562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06760" y="2283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1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597320" y="2329560"/>
            <a:ext cx="55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ividindo-se por q, obtém-se os custos médi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43760" y="3534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180960" y="2802960"/>
            <a:ext cx="1983600" cy="825120"/>
            <a:chOff x="3180960" y="2802960"/>
            <a:chExt cx="1983600" cy="825120"/>
          </a:xfrm>
        </p:grpSpPr>
        <p:sp>
          <p:nvSpPr>
            <p:cNvPr id="622" name=""/>
            <p:cNvSpPr/>
            <p:nvPr/>
          </p:nvSpPr>
          <p:spPr>
            <a:xfrm>
              <a:off x="3180960" y="3077280"/>
              <a:ext cx="12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CTM(</a:t>
              </a: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)</a:t>
              </a: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04600" y="2802960"/>
              <a:ext cx="75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CT(</a:t>
              </a: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16640" y="32598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98840" y="32605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4059000" y="3717360"/>
            <a:ext cx="2215800" cy="825480"/>
            <a:chOff x="4059000" y="3717360"/>
            <a:chExt cx="2215800" cy="825480"/>
          </a:xfrm>
        </p:grpSpPr>
        <p:sp>
          <p:nvSpPr>
            <p:cNvPr id="627" name=""/>
            <p:cNvSpPr/>
            <p:nvPr/>
          </p:nvSpPr>
          <p:spPr>
            <a:xfrm>
              <a:off x="4595040" y="3717360"/>
              <a:ext cx="45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C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52280" y="4174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424400" y="41464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498280" y="371736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CV(</a:t>
              </a: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718960" y="4174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91080" y="41464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25680" y="3945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059000" y="3945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4097160" y="4764960"/>
            <a:ext cx="19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=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FM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+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VM(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60600" y="1675440"/>
            <a:ext cx="27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CT(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)</a:t>
            </a:r>
            <a:r>
              <a:rPr b="1" lang="pt-BR" sz="24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=</a:t>
            </a:r>
            <a:r>
              <a:rPr b="1" lang="pt-BR" sz="24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CF</a:t>
            </a:r>
            <a:r>
              <a:rPr b="1" lang="pt-BR" sz="24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+</a:t>
            </a:r>
            <a:r>
              <a:rPr b="1" lang="pt-BR" sz="2400" spc="-1" strike="noStrike">
                <a:solidFill>
                  <a:srgbClr val="ffff00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CV(</a:t>
            </a:r>
            <a:r>
              <a:rPr b="1" lang="pt-BR" sz="24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683000" y="5422320"/>
            <a:ext cx="49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Importante memorizar: </a:t>
            </a: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T(q) = CTM(q) x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4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838920" y="3276360"/>
            <a:ext cx="1276200" cy="2362320"/>
            <a:chOff x="6838920" y="3276360"/>
            <a:chExt cx="1276200" cy="2362320"/>
          </a:xfrm>
        </p:grpSpPr>
        <p:sp>
          <p:nvSpPr>
            <p:cNvPr id="643" name=""/>
            <p:cNvSpPr/>
            <p:nvPr/>
          </p:nvSpPr>
          <p:spPr>
            <a:xfrm>
              <a:off x="6838920" y="5638680"/>
              <a:ext cx="12574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8096400" y="3276360"/>
              <a:ext cx="0" cy="23619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6857640" y="3276720"/>
              <a:ext cx="12574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355560" y="913680"/>
            <a:ext cx="27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s Mé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19480" y="2266920"/>
            <a:ext cx="3162240" cy="1312920"/>
          </a:xfrm>
          <a:custGeom>
            <a:avLst/>
            <a:gdLst/>
            <a:ahLst/>
            <a:rect l="l" t="t" r="r" b="b"/>
            <a:pathLst>
              <a:path w="1992" h="827">
                <a:moveTo>
                  <a:pt x="0" y="312"/>
                </a:moveTo>
                <a:cubicBezTo>
                  <a:pt x="72" y="540"/>
                  <a:pt x="208" y="663"/>
                  <a:pt x="336" y="744"/>
                </a:cubicBezTo>
                <a:cubicBezTo>
                  <a:pt x="464" y="825"/>
                  <a:pt x="598" y="827"/>
                  <a:pt x="768" y="797"/>
                </a:cubicBezTo>
                <a:cubicBezTo>
                  <a:pt x="938" y="767"/>
                  <a:pt x="1152" y="695"/>
                  <a:pt x="1356" y="562"/>
                </a:cubicBezTo>
                <a:cubicBezTo>
                  <a:pt x="1560" y="429"/>
                  <a:pt x="1872" y="156"/>
                  <a:pt x="1992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238560" y="2438280"/>
            <a:ext cx="3200400" cy="1791000"/>
          </a:xfrm>
          <a:custGeom>
            <a:avLst/>
            <a:gdLst/>
            <a:ahLst/>
            <a:rect l="l" t="t" r="r" b="b"/>
            <a:pathLst>
              <a:path w="2016" h="1128">
                <a:moveTo>
                  <a:pt x="0" y="288"/>
                </a:moveTo>
                <a:cubicBezTo>
                  <a:pt x="84" y="684"/>
                  <a:pt x="180" y="828"/>
                  <a:pt x="300" y="972"/>
                </a:cubicBezTo>
                <a:cubicBezTo>
                  <a:pt x="420" y="1116"/>
                  <a:pt x="572" y="1128"/>
                  <a:pt x="720" y="1116"/>
                </a:cubicBezTo>
                <a:cubicBezTo>
                  <a:pt x="868" y="1104"/>
                  <a:pt x="1048" y="992"/>
                  <a:pt x="1188" y="900"/>
                </a:cubicBezTo>
                <a:cubicBezTo>
                  <a:pt x="1328" y="808"/>
                  <a:pt x="1422" y="714"/>
                  <a:pt x="1560" y="564"/>
                </a:cubicBezTo>
                <a:cubicBezTo>
                  <a:pt x="1698" y="414"/>
                  <a:pt x="1921" y="118"/>
                  <a:pt x="2016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29800" y="2221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237000" y="27298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458160" y="4731480"/>
            <a:ext cx="31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(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)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=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FM(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)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+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VM(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)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744360" y="3543480"/>
            <a:ext cx="700560" cy="622080"/>
            <a:chOff x="3744360" y="3543480"/>
            <a:chExt cx="700560" cy="622080"/>
          </a:xfrm>
        </p:grpSpPr>
        <p:sp>
          <p:nvSpPr>
            <p:cNvPr id="657" name=""/>
            <p:cNvSpPr/>
            <p:nvPr/>
          </p:nvSpPr>
          <p:spPr>
            <a:xfrm>
              <a:off x="4444920" y="3543480"/>
              <a:ext cx="0" cy="622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744360" y="367740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8000"/>
                  </a:solidFill>
                  <a:latin typeface="Lucida Casual"/>
                </a:rPr>
                <a:t>CF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6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124080" y="3200400"/>
            <a:ext cx="2133720" cy="2362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034800" y="91368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Total Mé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18040" y="2286000"/>
            <a:ext cx="3240000" cy="1285920"/>
          </a:xfrm>
          <a:custGeom>
            <a:avLst/>
            <a:gdLst/>
            <a:ahLst/>
            <a:rect l="l" t="t" r="r" b="b"/>
            <a:pathLst>
              <a:path w="2041" h="810">
                <a:moveTo>
                  <a:pt x="0" y="324"/>
                </a:moveTo>
                <a:cubicBezTo>
                  <a:pt x="64" y="515"/>
                  <a:pt x="233" y="626"/>
                  <a:pt x="361" y="703"/>
                </a:cubicBezTo>
                <a:cubicBezTo>
                  <a:pt x="489" y="780"/>
                  <a:pt x="603" y="810"/>
                  <a:pt x="769" y="785"/>
                </a:cubicBezTo>
                <a:cubicBezTo>
                  <a:pt x="935" y="759"/>
                  <a:pt x="1145" y="681"/>
                  <a:pt x="1357" y="550"/>
                </a:cubicBezTo>
                <a:cubicBezTo>
                  <a:pt x="1569" y="419"/>
                  <a:pt x="1899" y="115"/>
                  <a:pt x="2041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86080" y="55472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744280" y="2970720"/>
            <a:ext cx="3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353760" y="419004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Área = c x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867280" y="3505320"/>
            <a:ext cx="1828800" cy="1523880"/>
          </a:xfrm>
          <a:prstGeom prst="wedgeRoundRectCallout">
            <a:avLst>
              <a:gd name="adj1" fmla="val -81597"/>
              <a:gd name="adj2" fmla="val 93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Repres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 Cust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 Produz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29800" y="2221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7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3124080" y="3200400"/>
            <a:ext cx="2133720" cy="2362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34800" y="91368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Total Mé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086080" y="55472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44280" y="2970720"/>
            <a:ext cx="3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353760" y="419004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Área = c x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67280" y="3611520"/>
            <a:ext cx="2362320" cy="852480"/>
          </a:xfrm>
          <a:prstGeom prst="wedgeRoundRectCallout">
            <a:avLst>
              <a:gd name="adj1" fmla="val -74462"/>
              <a:gd name="adj2" fmla="val 2858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Lembr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T(q) = CTM(q) x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29800" y="2221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9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18040" y="2286000"/>
            <a:ext cx="3240000" cy="1285920"/>
          </a:xfrm>
          <a:custGeom>
            <a:avLst/>
            <a:gdLst/>
            <a:ahLst/>
            <a:rect l="l" t="t" r="r" b="b"/>
            <a:pathLst>
              <a:path w="2041" h="810">
                <a:moveTo>
                  <a:pt x="0" y="324"/>
                </a:moveTo>
                <a:cubicBezTo>
                  <a:pt x="64" y="515"/>
                  <a:pt x="233" y="626"/>
                  <a:pt x="361" y="703"/>
                </a:cubicBezTo>
                <a:cubicBezTo>
                  <a:pt x="489" y="780"/>
                  <a:pt x="603" y="810"/>
                  <a:pt x="769" y="785"/>
                </a:cubicBezTo>
                <a:cubicBezTo>
                  <a:pt x="935" y="759"/>
                  <a:pt x="1145" y="681"/>
                  <a:pt x="1357" y="550"/>
                </a:cubicBezTo>
                <a:cubicBezTo>
                  <a:pt x="1569" y="419"/>
                  <a:pt x="1899" y="115"/>
                  <a:pt x="2041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rot="16200000">
            <a:off x="1388520" y="36669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2666880"/>
            <a:ext cx="3276720" cy="2286000"/>
          </a:xfrm>
          <a:custGeom>
            <a:avLst/>
            <a:gdLst/>
            <a:ahLst/>
            <a:rect l="l" t="t" r="r" b="b"/>
            <a:pathLst>
              <a:path w="2064" h="1296">
                <a:moveTo>
                  <a:pt x="0" y="1296"/>
                </a:moveTo>
                <a:cubicBezTo>
                  <a:pt x="70" y="1226"/>
                  <a:pt x="168" y="1012"/>
                  <a:pt x="420" y="876"/>
                </a:cubicBezTo>
                <a:cubicBezTo>
                  <a:pt x="672" y="740"/>
                  <a:pt x="1238" y="626"/>
                  <a:pt x="1512" y="480"/>
                </a:cubicBezTo>
                <a:cubicBezTo>
                  <a:pt x="1786" y="334"/>
                  <a:pt x="1949" y="100"/>
                  <a:pt x="2064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505320" y="2286000"/>
            <a:ext cx="2666880" cy="3276720"/>
            <a:chOff x="3505320" y="2286000"/>
            <a:chExt cx="2666880" cy="3276720"/>
          </a:xfrm>
        </p:grpSpPr>
        <p:sp>
          <p:nvSpPr>
            <p:cNvPr id="702" name=""/>
            <p:cNvSpPr/>
            <p:nvPr/>
          </p:nvSpPr>
          <p:spPr>
            <a:xfrm>
              <a:off x="3505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86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6708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48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29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1008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79132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72200" y="2286000"/>
              <a:ext cx="0" cy="32767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124080" y="3327480"/>
            <a:ext cx="3060720" cy="1625400"/>
            <a:chOff x="3124080" y="3327480"/>
            <a:chExt cx="3060720" cy="1625400"/>
          </a:xfrm>
        </p:grpSpPr>
        <p:sp>
          <p:nvSpPr>
            <p:cNvPr id="711" name=""/>
            <p:cNvSpPr/>
            <p:nvPr/>
          </p:nvSpPr>
          <p:spPr>
            <a:xfrm>
              <a:off x="3124080" y="4952880"/>
              <a:ext cx="3812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05320" y="4444920"/>
              <a:ext cx="3808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98800" y="4165560"/>
              <a:ext cx="3812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254480" y="4013280"/>
              <a:ext cx="3938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48320" y="3873600"/>
              <a:ext cx="3808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041800" y="3746520"/>
              <a:ext cx="3938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10080" y="3581280"/>
              <a:ext cx="3812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78360" y="3327480"/>
              <a:ext cx="4064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505320" y="4444920"/>
            <a:ext cx="0" cy="507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3886200" y="2946240"/>
            <a:ext cx="2298600" cy="1498680"/>
            <a:chOff x="3886200" y="2946240"/>
            <a:chExt cx="2298600" cy="1498680"/>
          </a:xfrm>
        </p:grpSpPr>
        <p:sp>
          <p:nvSpPr>
            <p:cNvPr id="721" name=""/>
            <p:cNvSpPr/>
            <p:nvPr/>
          </p:nvSpPr>
          <p:spPr>
            <a:xfrm>
              <a:off x="3886200" y="4165560"/>
              <a:ext cx="0" cy="279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267080" y="4000680"/>
              <a:ext cx="0" cy="164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60920" y="3873600"/>
              <a:ext cx="0" cy="127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29200" y="3733920"/>
              <a:ext cx="0" cy="126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410080" y="3581280"/>
              <a:ext cx="0" cy="165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03920" y="3340080"/>
              <a:ext cx="0" cy="241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184800" y="2946240"/>
              <a:ext cx="0" cy="381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3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57360" y="3176640"/>
            <a:ext cx="417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Solução dos Exercí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da Aula An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2361600" y="2057040"/>
            <a:ext cx="4039200" cy="3886200"/>
            <a:chOff x="2361600" y="2057040"/>
            <a:chExt cx="4039200" cy="3886200"/>
          </a:xfrm>
        </p:grpSpPr>
        <p:sp>
          <p:nvSpPr>
            <p:cNvPr id="736" name=""/>
            <p:cNvSpPr/>
            <p:nvPr/>
          </p:nvSpPr>
          <p:spPr>
            <a:xfrm flipV="1">
              <a:off x="3124080" y="2057040"/>
              <a:ext cx="0" cy="3886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6200000">
              <a:off x="1388520" y="366372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808080"/>
                  </a:solidFill>
                  <a:latin typeface="Lucida Casual"/>
                </a:rPr>
                <a:t>Custo de Prod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124080" y="2666880"/>
              <a:ext cx="3276720" cy="2286000"/>
            </a:xfrm>
            <a:custGeom>
              <a:avLst/>
              <a:gdLst/>
              <a:ahLst/>
              <a:rect l="l" t="t" r="r" b="b"/>
              <a:pathLst>
                <a:path w="2064" h="1296">
                  <a:moveTo>
                    <a:pt x="0" y="1296"/>
                  </a:moveTo>
                  <a:cubicBezTo>
                    <a:pt x="70" y="1226"/>
                    <a:pt x="168" y="1012"/>
                    <a:pt x="420" y="876"/>
                  </a:cubicBezTo>
                  <a:cubicBezTo>
                    <a:pt x="672" y="740"/>
                    <a:pt x="1238" y="626"/>
                    <a:pt x="1512" y="480"/>
                  </a:cubicBezTo>
                  <a:cubicBezTo>
                    <a:pt x="1786" y="334"/>
                    <a:pt x="1949" y="100"/>
                    <a:pt x="2064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3505320" y="2286000"/>
              <a:ext cx="2666880" cy="3276720"/>
              <a:chOff x="3505320" y="2286000"/>
              <a:chExt cx="2666880" cy="3276720"/>
            </a:xfrm>
          </p:grpSpPr>
          <p:sp>
            <p:nvSpPr>
              <p:cNvPr id="740" name=""/>
              <p:cNvSpPr/>
              <p:nvPr/>
            </p:nvSpPr>
            <p:spPr>
              <a:xfrm>
                <a:off x="3505320" y="2286000"/>
                <a:ext cx="0" cy="32767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886200" y="2286000"/>
                <a:ext cx="0" cy="32767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267080" y="2286000"/>
                <a:ext cx="0" cy="32767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648320" y="2286000"/>
                <a:ext cx="0" cy="32767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029200" y="2286000"/>
                <a:ext cx="0" cy="32767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10080" y="2286000"/>
                <a:ext cx="0" cy="32767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791320" y="2286000"/>
                <a:ext cx="0" cy="32767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172200" y="2286000"/>
                <a:ext cx="0" cy="32767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3124080" y="3327480"/>
              <a:ext cx="3060720" cy="1625400"/>
              <a:chOff x="3124080" y="3327480"/>
              <a:chExt cx="3060720" cy="1625400"/>
            </a:xfrm>
          </p:grpSpPr>
          <p:sp>
            <p:nvSpPr>
              <p:cNvPr id="749" name=""/>
              <p:cNvSpPr/>
              <p:nvPr/>
            </p:nvSpPr>
            <p:spPr>
              <a:xfrm>
                <a:off x="3124080" y="4952880"/>
                <a:ext cx="3812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505320" y="4444920"/>
                <a:ext cx="380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898800" y="4165560"/>
                <a:ext cx="3812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254480" y="4013280"/>
                <a:ext cx="3938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648320" y="3873600"/>
                <a:ext cx="380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041800" y="3746520"/>
                <a:ext cx="3938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410080" y="3581280"/>
                <a:ext cx="3812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778360" y="3327480"/>
                <a:ext cx="40644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7" name=""/>
          <p:cNvSpPr/>
          <p:nvPr/>
        </p:nvSpPr>
        <p:spPr>
          <a:xfrm>
            <a:off x="3505320" y="4444920"/>
            <a:ext cx="0" cy="507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3886200" y="2946240"/>
            <a:ext cx="2298600" cy="1498680"/>
            <a:chOff x="3886200" y="2946240"/>
            <a:chExt cx="2298600" cy="1498680"/>
          </a:xfrm>
        </p:grpSpPr>
        <p:sp>
          <p:nvSpPr>
            <p:cNvPr id="759" name=""/>
            <p:cNvSpPr/>
            <p:nvPr/>
          </p:nvSpPr>
          <p:spPr>
            <a:xfrm>
              <a:off x="3886200" y="4165560"/>
              <a:ext cx="0" cy="279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267080" y="4000680"/>
              <a:ext cx="0" cy="164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660920" y="3873600"/>
              <a:ext cx="0" cy="127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29200" y="3733920"/>
              <a:ext cx="0" cy="126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410080" y="3581280"/>
              <a:ext cx="0" cy="165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3920" y="3340080"/>
              <a:ext cx="0" cy="241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84800" y="2946240"/>
              <a:ext cx="0" cy="381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6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80680" y="913680"/>
            <a:ext cx="28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Mar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530520" y="5041800"/>
            <a:ext cx="0" cy="507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62440" y="5256360"/>
            <a:ext cx="0" cy="295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27480" y="5386320"/>
            <a:ext cx="0" cy="165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97560" y="5423040"/>
            <a:ext cx="0" cy="126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971960" y="5430960"/>
            <a:ext cx="0" cy="126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16480" y="5397480"/>
            <a:ext cx="0" cy="165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721480" y="5313240"/>
            <a:ext cx="0" cy="2415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83280" y="517356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3189240" y="4719600"/>
            <a:ext cx="0" cy="10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8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3557160" y="55382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80680" y="913680"/>
            <a:ext cx="28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Mar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544920" y="3346560"/>
            <a:ext cx="0" cy="1847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68560" y="4186080"/>
            <a:ext cx="0" cy="1016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30720" y="4589640"/>
            <a:ext cx="0" cy="599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611600" y="4740120"/>
            <a:ext cx="0" cy="447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86360" y="4726080"/>
            <a:ext cx="0" cy="461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335560" y="4589640"/>
            <a:ext cx="0" cy="599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35520" y="4309920"/>
            <a:ext cx="0" cy="878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7680" y="3808440"/>
            <a:ext cx="0" cy="1386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3203640" y="2136600"/>
            <a:ext cx="0" cy="337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833560" y="520236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786680" y="35254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Mar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537000" y="3333600"/>
            <a:ext cx="2581200" cy="1427400"/>
          </a:xfrm>
          <a:custGeom>
            <a:avLst/>
            <a:gdLst/>
            <a:ahLst/>
            <a:rect l="l" t="t" r="r" b="b"/>
            <a:pathLst>
              <a:path w="1626" h="899">
                <a:moveTo>
                  <a:pt x="0" y="0"/>
                </a:moveTo>
                <a:cubicBezTo>
                  <a:pt x="34" y="87"/>
                  <a:pt x="133" y="392"/>
                  <a:pt x="205" y="525"/>
                </a:cubicBezTo>
                <a:cubicBezTo>
                  <a:pt x="277" y="658"/>
                  <a:pt x="352" y="739"/>
                  <a:pt x="432" y="800"/>
                </a:cubicBezTo>
                <a:cubicBezTo>
                  <a:pt x="511" y="861"/>
                  <a:pt x="613" y="883"/>
                  <a:pt x="682" y="891"/>
                </a:cubicBezTo>
                <a:cubicBezTo>
                  <a:pt x="751" y="899"/>
                  <a:pt x="842" y="897"/>
                  <a:pt x="917" y="882"/>
                </a:cubicBezTo>
                <a:cubicBezTo>
                  <a:pt x="992" y="867"/>
                  <a:pt x="1059" y="841"/>
                  <a:pt x="1135" y="800"/>
                </a:cubicBezTo>
                <a:cubicBezTo>
                  <a:pt x="1211" y="759"/>
                  <a:pt x="1303" y="705"/>
                  <a:pt x="1372" y="637"/>
                </a:cubicBezTo>
                <a:cubicBezTo>
                  <a:pt x="1441" y="569"/>
                  <a:pt x="1573" y="377"/>
                  <a:pt x="1626" y="3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0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3557160" y="55382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280680" y="913680"/>
            <a:ext cx="28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Mar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3640" y="2136600"/>
            <a:ext cx="0" cy="337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33560" y="520236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1786680" y="35254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Mar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37000" y="3333600"/>
            <a:ext cx="2581200" cy="1438560"/>
          </a:xfrm>
          <a:custGeom>
            <a:avLst/>
            <a:gdLst/>
            <a:ahLst/>
            <a:rect l="l" t="t" r="r" b="b"/>
            <a:pathLst>
              <a:path w="1626" h="906">
                <a:moveTo>
                  <a:pt x="0" y="0"/>
                </a:moveTo>
                <a:cubicBezTo>
                  <a:pt x="36" y="87"/>
                  <a:pt x="145" y="394"/>
                  <a:pt x="217" y="527"/>
                </a:cubicBezTo>
                <a:cubicBezTo>
                  <a:pt x="289" y="660"/>
                  <a:pt x="354" y="739"/>
                  <a:pt x="432" y="800"/>
                </a:cubicBezTo>
                <a:cubicBezTo>
                  <a:pt x="510" y="861"/>
                  <a:pt x="607" y="878"/>
                  <a:pt x="688" y="892"/>
                </a:cubicBezTo>
                <a:cubicBezTo>
                  <a:pt x="769" y="906"/>
                  <a:pt x="843" y="897"/>
                  <a:pt x="917" y="882"/>
                </a:cubicBezTo>
                <a:cubicBezTo>
                  <a:pt x="991" y="867"/>
                  <a:pt x="1059" y="841"/>
                  <a:pt x="1135" y="800"/>
                </a:cubicBezTo>
                <a:cubicBezTo>
                  <a:pt x="1211" y="759"/>
                  <a:pt x="1290" y="719"/>
                  <a:pt x="1372" y="637"/>
                </a:cubicBezTo>
                <a:cubicBezTo>
                  <a:pt x="1454" y="555"/>
                  <a:pt x="1573" y="377"/>
                  <a:pt x="1626" y="309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787720" y="3382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1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743400" y="1403280"/>
            <a:ext cx="762552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Como deve ser dimensionada a quantidade produzida, se 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é tomadora de preços (preço é fixado pelo mercado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1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4025880" y="3117960"/>
            <a:ext cx="895320" cy="895320"/>
          </a:xfrm>
          <a:prstGeom prst="flowChartConnector">
            <a:avLst/>
          </a:prstGeom>
          <a:solidFill>
            <a:srgbClr val="ffff00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319560" y="2330280"/>
            <a:ext cx="3282840" cy="1285920"/>
          </a:xfrm>
          <a:custGeom>
            <a:avLst/>
            <a:gdLst/>
            <a:ahLst/>
            <a:rect l="l" t="t" r="r" b="b"/>
            <a:pathLst>
              <a:path w="2068" h="810">
                <a:moveTo>
                  <a:pt x="0" y="259"/>
                </a:moveTo>
                <a:cubicBezTo>
                  <a:pt x="72" y="432"/>
                  <a:pt x="255" y="615"/>
                  <a:pt x="388" y="703"/>
                </a:cubicBezTo>
                <a:cubicBezTo>
                  <a:pt x="521" y="791"/>
                  <a:pt x="630" y="810"/>
                  <a:pt x="796" y="785"/>
                </a:cubicBezTo>
                <a:cubicBezTo>
                  <a:pt x="962" y="759"/>
                  <a:pt x="1172" y="681"/>
                  <a:pt x="1384" y="550"/>
                </a:cubicBezTo>
                <a:cubicBezTo>
                  <a:pt x="1596" y="419"/>
                  <a:pt x="1926" y="115"/>
                  <a:pt x="2068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90760" y="2711520"/>
            <a:ext cx="1349640" cy="2097000"/>
          </a:xfrm>
          <a:custGeom>
            <a:avLst/>
            <a:gdLst/>
            <a:ahLst/>
            <a:rect l="l" t="t" r="r" b="b"/>
            <a:pathLst>
              <a:path w="850" h="1430">
                <a:moveTo>
                  <a:pt x="850" y="0"/>
                </a:moveTo>
                <a:cubicBezTo>
                  <a:pt x="814" y="179"/>
                  <a:pt x="720" y="850"/>
                  <a:pt x="636" y="1075"/>
                </a:cubicBezTo>
                <a:cubicBezTo>
                  <a:pt x="552" y="1300"/>
                  <a:pt x="451" y="1430"/>
                  <a:pt x="345" y="1347"/>
                </a:cubicBezTo>
                <a:cubicBezTo>
                  <a:pt x="239" y="1264"/>
                  <a:pt x="72" y="736"/>
                  <a:pt x="0" y="575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31880" y="2321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90160" y="2113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3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121200" y="1947960"/>
            <a:ext cx="3043080" cy="3065400"/>
          </a:xfrm>
          <a:prstGeom prst="flowChartConnector">
            <a:avLst/>
          </a:prstGeom>
          <a:solidFill>
            <a:srgbClr val="ffff00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27320" y="3327480"/>
            <a:ext cx="1800360" cy="22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35240" y="3641760"/>
            <a:ext cx="1789200" cy="1922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013000" y="2328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26680" y="2297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2766240" y="3094920"/>
            <a:ext cx="2169360" cy="368280"/>
            <a:chOff x="2766240" y="3094920"/>
            <a:chExt cx="2169360" cy="368280"/>
          </a:xfrm>
        </p:grpSpPr>
        <p:sp>
          <p:nvSpPr>
            <p:cNvPr id="845" name=""/>
            <p:cNvSpPr/>
            <p:nvPr/>
          </p:nvSpPr>
          <p:spPr>
            <a:xfrm>
              <a:off x="2766240" y="30949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3132000" y="3319560"/>
              <a:ext cx="1803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759200" y="3333600"/>
            <a:ext cx="325440" cy="2552040"/>
            <a:chOff x="4759200" y="3333600"/>
            <a:chExt cx="325440" cy="2552040"/>
          </a:xfrm>
        </p:grpSpPr>
        <p:sp>
          <p:nvSpPr>
            <p:cNvPr id="848" name=""/>
            <p:cNvSpPr/>
            <p:nvPr/>
          </p:nvSpPr>
          <p:spPr>
            <a:xfrm>
              <a:off x="4759200" y="5517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935600" y="3333600"/>
              <a:ext cx="0" cy="223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3135240" y="3333600"/>
            <a:ext cx="1795680" cy="31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46600" y="2649600"/>
            <a:ext cx="2367000" cy="111132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549600" y="2698920"/>
            <a:ext cx="1774800" cy="1774800"/>
          </a:xfrm>
          <a:custGeom>
            <a:avLst/>
            <a:gdLst/>
            <a:ahLst/>
            <a:rect l="l" t="t" r="r" b="b"/>
            <a:pathLst>
              <a:path w="1118" h="1118">
                <a:moveTo>
                  <a:pt x="0" y="1118"/>
                </a:moveTo>
                <a:cubicBezTo>
                  <a:pt x="152" y="1102"/>
                  <a:pt x="305" y="1086"/>
                  <a:pt x="491" y="900"/>
                </a:cubicBezTo>
                <a:cubicBezTo>
                  <a:pt x="677" y="714"/>
                  <a:pt x="897" y="357"/>
                  <a:pt x="1118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5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3124080" y="3317760"/>
            <a:ext cx="2254320" cy="224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124080" y="3436920"/>
            <a:ext cx="2265480" cy="2122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013000" y="2328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26680" y="2297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765520" y="3094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137040" y="3309480"/>
            <a:ext cx="1798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759200" y="5517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197320" y="5490720"/>
            <a:ext cx="46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 baseline="-25000">
                <a:solidFill>
                  <a:srgbClr val="ff3300"/>
                </a:solidFill>
                <a:latin typeface="Lucida Casu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33800" y="3324240"/>
            <a:ext cx="2255760" cy="100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944960" y="3279600"/>
            <a:ext cx="480960" cy="2293920"/>
            <a:chOff x="4944960" y="3279600"/>
            <a:chExt cx="480960" cy="2293920"/>
          </a:xfrm>
        </p:grpSpPr>
        <p:sp>
          <p:nvSpPr>
            <p:cNvPr id="872" name=""/>
            <p:cNvSpPr/>
            <p:nvPr/>
          </p:nvSpPr>
          <p:spPr>
            <a:xfrm>
              <a:off x="4944960" y="3317760"/>
              <a:ext cx="455400" cy="7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395680" y="3325680"/>
              <a:ext cx="0" cy="22478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338440" y="3279600"/>
              <a:ext cx="87480" cy="874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4935600" y="3333600"/>
            <a:ext cx="0" cy="223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478320" y="1631880"/>
            <a:ext cx="2097000" cy="638280"/>
          </a:xfrm>
          <a:prstGeom prst="wedgeRoundRectCallout">
            <a:avLst>
              <a:gd name="adj1" fmla="val -9425"/>
              <a:gd name="adj2" fmla="val 206962"/>
              <a:gd name="adj3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Redução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Margem de 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32000" y="3324240"/>
            <a:ext cx="1792440" cy="35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846600" y="2649600"/>
            <a:ext cx="2367000" cy="111132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549600" y="2698920"/>
            <a:ext cx="1774800" cy="1774800"/>
          </a:xfrm>
          <a:custGeom>
            <a:avLst/>
            <a:gdLst/>
            <a:ahLst/>
            <a:rect l="l" t="t" r="r" b="b"/>
            <a:pathLst>
              <a:path w="1118" h="1118">
                <a:moveTo>
                  <a:pt x="0" y="1118"/>
                </a:moveTo>
                <a:cubicBezTo>
                  <a:pt x="152" y="1102"/>
                  <a:pt x="305" y="1086"/>
                  <a:pt x="491" y="900"/>
                </a:cubicBezTo>
                <a:cubicBezTo>
                  <a:pt x="677" y="714"/>
                  <a:pt x="897" y="357"/>
                  <a:pt x="1118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8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3130560" y="3330720"/>
            <a:ext cx="2813040" cy="2228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125880" y="2925720"/>
            <a:ext cx="2822400" cy="26319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125880" y="2928960"/>
            <a:ext cx="2819160" cy="384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846600" y="2649600"/>
            <a:ext cx="2367000" cy="111132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013000" y="2328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26680" y="2297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765520" y="3094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46400" y="3319560"/>
            <a:ext cx="178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759200" y="5517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935600" y="3333600"/>
            <a:ext cx="0" cy="223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4948200" y="3274920"/>
            <a:ext cx="1276200" cy="2635920"/>
            <a:chOff x="4948200" y="3274920"/>
            <a:chExt cx="1276200" cy="2635920"/>
          </a:xfrm>
        </p:grpSpPr>
        <p:grpSp>
          <p:nvGrpSpPr>
            <p:cNvPr id="900" name=""/>
            <p:cNvGrpSpPr/>
            <p:nvPr/>
          </p:nvGrpSpPr>
          <p:grpSpPr>
            <a:xfrm>
              <a:off x="4948200" y="3321000"/>
              <a:ext cx="1276200" cy="2589840"/>
              <a:chOff x="4948200" y="3321000"/>
              <a:chExt cx="1276200" cy="2589840"/>
            </a:xfrm>
          </p:grpSpPr>
          <p:sp>
            <p:nvSpPr>
              <p:cNvPr id="901" name=""/>
              <p:cNvSpPr/>
              <p:nvPr/>
            </p:nvSpPr>
            <p:spPr>
              <a:xfrm>
                <a:off x="4948200" y="3321000"/>
                <a:ext cx="100944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952960" y="3335400"/>
                <a:ext cx="0" cy="2247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760720" y="5505120"/>
                <a:ext cx="463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3300"/>
                    </a:solidFill>
                    <a:latin typeface="Lucida Casual"/>
                  </a:rPr>
                  <a:t>q</a:t>
                </a:r>
                <a:r>
                  <a:rPr b="1" lang="pt-BR" sz="1800" spc="-1" strike="noStrike" baseline="-25000">
                    <a:solidFill>
                      <a:srgbClr val="ff3300"/>
                    </a:solidFill>
                    <a:latin typeface="Lucida Casu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5895720" y="3274920"/>
              <a:ext cx="87480" cy="874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3505320" y="1746360"/>
            <a:ext cx="1231920" cy="609480"/>
          </a:xfrm>
          <a:prstGeom prst="wedgeRoundRectCallout">
            <a:avLst>
              <a:gd name="adj1" fmla="val 36726"/>
              <a:gd name="adj2" fmla="val 13645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juí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5894280" y="2873520"/>
            <a:ext cx="2030400" cy="1271520"/>
            <a:chOff x="5894280" y="2873520"/>
            <a:chExt cx="2030400" cy="1271520"/>
          </a:xfrm>
        </p:grpSpPr>
        <p:sp>
          <p:nvSpPr>
            <p:cNvPr id="907" name=""/>
            <p:cNvSpPr/>
            <p:nvPr/>
          </p:nvSpPr>
          <p:spPr>
            <a:xfrm>
              <a:off x="6629400" y="3535200"/>
              <a:ext cx="1295280" cy="609840"/>
            </a:xfrm>
            <a:prstGeom prst="wedgeRoundRectCallout">
              <a:avLst>
                <a:gd name="adj1" fmla="val -102083"/>
                <a:gd name="adj2" fmla="val -149740"/>
                <a:gd name="adj3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CTM &gt; 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894280" y="2873520"/>
              <a:ext cx="90720" cy="87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1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549600" y="2698920"/>
            <a:ext cx="1774800" cy="1774800"/>
          </a:xfrm>
          <a:custGeom>
            <a:avLst/>
            <a:gdLst/>
            <a:ahLst/>
            <a:rect l="l" t="t" r="r" b="b"/>
            <a:pathLst>
              <a:path w="1118" h="1118">
                <a:moveTo>
                  <a:pt x="0" y="1118"/>
                </a:moveTo>
                <a:cubicBezTo>
                  <a:pt x="152" y="1102"/>
                  <a:pt x="305" y="1086"/>
                  <a:pt x="491" y="900"/>
                </a:cubicBezTo>
                <a:cubicBezTo>
                  <a:pt x="677" y="714"/>
                  <a:pt x="897" y="357"/>
                  <a:pt x="1118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3138480" y="3328920"/>
            <a:ext cx="1077840" cy="2222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124080" y="3513240"/>
            <a:ext cx="1092240" cy="20304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13000" y="2328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926680" y="2297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765520" y="3094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46400" y="3319560"/>
            <a:ext cx="1789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759200" y="5517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30560" y="3328920"/>
            <a:ext cx="1089000" cy="1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935600" y="3333600"/>
            <a:ext cx="0" cy="223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362400" y="1631880"/>
            <a:ext cx="2052720" cy="638280"/>
          </a:xfrm>
          <a:prstGeom prst="wedgeRoundRectCallout">
            <a:avLst>
              <a:gd name="adj1" fmla="val -43115"/>
              <a:gd name="adj2" fmla="val 214925"/>
              <a:gd name="adj3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Redução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Arial"/>
              </a:rPr>
              <a:t>Margem de 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3123720" y="3683160"/>
            <a:ext cx="181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22640" y="3327480"/>
            <a:ext cx="1811160" cy="3459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3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846600" y="2649600"/>
            <a:ext cx="2367000" cy="111132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4019400" y="3270240"/>
            <a:ext cx="463680" cy="2611800"/>
            <a:chOff x="4019400" y="3270240"/>
            <a:chExt cx="463680" cy="2611800"/>
          </a:xfrm>
        </p:grpSpPr>
        <p:sp>
          <p:nvSpPr>
            <p:cNvPr id="937" name=""/>
            <p:cNvSpPr/>
            <p:nvPr/>
          </p:nvSpPr>
          <p:spPr>
            <a:xfrm>
              <a:off x="4211640" y="3306600"/>
              <a:ext cx="0" cy="2248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19400" y="5476320"/>
              <a:ext cx="46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Lucida Casual"/>
                </a:rPr>
                <a:t>q</a:t>
              </a:r>
              <a:r>
                <a:rPr b="1" lang="pt-BR" sz="1800" spc="-1" strike="noStrike" baseline="-25000">
                  <a:solidFill>
                    <a:srgbClr val="ff3300"/>
                  </a:solidFill>
                  <a:latin typeface="Lucida Casu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64120" y="3270240"/>
              <a:ext cx="87120" cy="874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3549600" y="2698920"/>
            <a:ext cx="1774800" cy="1774800"/>
          </a:xfrm>
          <a:custGeom>
            <a:avLst/>
            <a:gdLst/>
            <a:ahLst/>
            <a:rect l="l" t="t" r="r" b="b"/>
            <a:pathLst>
              <a:path w="1118" h="1118">
                <a:moveTo>
                  <a:pt x="0" y="1118"/>
                </a:moveTo>
                <a:cubicBezTo>
                  <a:pt x="152" y="1102"/>
                  <a:pt x="305" y="1086"/>
                  <a:pt x="491" y="900"/>
                </a:cubicBezTo>
                <a:cubicBezTo>
                  <a:pt x="677" y="714"/>
                  <a:pt x="897" y="357"/>
                  <a:pt x="1118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691240" y="2367000"/>
            <a:ext cx="2181240" cy="1940040"/>
          </a:xfrm>
          <a:custGeom>
            <a:avLst/>
            <a:gdLst/>
            <a:ahLst/>
            <a:rect l="l" t="t" r="r" b="b"/>
            <a:pathLst>
              <a:path w="1374" h="1222">
                <a:moveTo>
                  <a:pt x="0" y="0"/>
                </a:moveTo>
                <a:cubicBezTo>
                  <a:pt x="57" y="80"/>
                  <a:pt x="225" y="344"/>
                  <a:pt x="342" y="487"/>
                </a:cubicBezTo>
                <a:cubicBezTo>
                  <a:pt x="459" y="630"/>
                  <a:pt x="611" y="770"/>
                  <a:pt x="705" y="858"/>
                </a:cubicBezTo>
                <a:cubicBezTo>
                  <a:pt x="799" y="946"/>
                  <a:pt x="830" y="967"/>
                  <a:pt x="909" y="1018"/>
                </a:cubicBezTo>
                <a:cubicBezTo>
                  <a:pt x="988" y="1069"/>
                  <a:pt x="1100" y="1130"/>
                  <a:pt x="1178" y="1164"/>
                </a:cubicBezTo>
                <a:cubicBezTo>
                  <a:pt x="1256" y="1198"/>
                  <a:pt x="1333" y="1210"/>
                  <a:pt x="1374" y="122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51520" y="2370240"/>
            <a:ext cx="1806480" cy="2398680"/>
          </a:xfrm>
          <a:custGeom>
            <a:avLst/>
            <a:gdLst/>
            <a:ahLst/>
            <a:rect l="l" t="t" r="r" b="b"/>
            <a:pathLst>
              <a:path w="1138" h="1511">
                <a:moveTo>
                  <a:pt x="0" y="0"/>
                </a:moveTo>
                <a:cubicBezTo>
                  <a:pt x="58" y="171"/>
                  <a:pt x="116" y="343"/>
                  <a:pt x="177" y="485"/>
                </a:cubicBezTo>
                <a:cubicBezTo>
                  <a:pt x="238" y="627"/>
                  <a:pt x="301" y="744"/>
                  <a:pt x="365" y="849"/>
                </a:cubicBezTo>
                <a:cubicBezTo>
                  <a:pt x="429" y="954"/>
                  <a:pt x="488" y="1037"/>
                  <a:pt x="563" y="1118"/>
                </a:cubicBezTo>
                <a:cubicBezTo>
                  <a:pt x="638" y="1199"/>
                  <a:pt x="722" y="1271"/>
                  <a:pt x="818" y="1336"/>
                </a:cubicBezTo>
                <a:cubicBezTo>
                  <a:pt x="914" y="1401"/>
                  <a:pt x="1071" y="1475"/>
                  <a:pt x="1138" y="1511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00800" y="91800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Correção do Exercíci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800" y="22788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Lucida Handwriting"/>
              </a:rPr>
              <a:t>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297320" y="2104920"/>
            <a:ext cx="0" cy="31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08600" y="4998240"/>
            <a:ext cx="39924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59080" y="3139920"/>
            <a:ext cx="20894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230520" y="3149640"/>
            <a:ext cx="9720" cy="18525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29800" y="29566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0" y="18885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42480" y="204228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65920" y="5029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7920" y="5184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iv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175280" y="3703680"/>
            <a:ext cx="2606400" cy="14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69120" y="352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513120" y="3700440"/>
            <a:ext cx="1800" cy="12891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802560" y="3713040"/>
            <a:ext cx="1440" cy="12733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00520" y="4998960"/>
            <a:ext cx="631800" cy="2682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00880" y="5272200"/>
            <a:ext cx="1440" cy="1378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11920" y="5013360"/>
            <a:ext cx="417600" cy="280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214760" y="5278320"/>
            <a:ext cx="1800" cy="1382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6640" y="53874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84200" y="5379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52680" y="5392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85080" y="2351160"/>
            <a:ext cx="1355760" cy="623880"/>
          </a:xfrm>
          <a:prstGeom prst="wedgeRoundRectCallout">
            <a:avLst>
              <a:gd name="adj1" fmla="val -78337"/>
              <a:gd name="adj2" fmla="val 131425"/>
              <a:gd name="adj3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MgS =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37160" y="4010040"/>
            <a:ext cx="1326960" cy="622440"/>
          </a:xfrm>
          <a:prstGeom prst="wedgeRoundRectCallout">
            <a:avLst>
              <a:gd name="adj1" fmla="val 84092"/>
              <a:gd name="adj2" fmla="val -132398"/>
              <a:gd name="adj3" fmla="val 16667"/>
            </a:avLst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TMgS = 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08880" y="3664080"/>
            <a:ext cx="75960" cy="7776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51720" y="3738600"/>
            <a:ext cx="1440" cy="1631880"/>
          </a:xfrm>
          <a:prstGeom prst="line">
            <a:avLst/>
          </a:prstGeom>
          <a:ln w="1908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126120" y="4998960"/>
            <a:ext cx="380880" cy="2509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26120" y="5264280"/>
            <a:ext cx="1800" cy="1378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96840" y="5380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1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17680" y="1981080"/>
            <a:ext cx="2546280" cy="1706760"/>
            <a:chOff x="517680" y="1981080"/>
            <a:chExt cx="2546280" cy="1706760"/>
          </a:xfrm>
        </p:grpSpPr>
        <p:sp>
          <p:nvSpPr>
            <p:cNvPr id="94" name=""/>
            <p:cNvSpPr/>
            <p:nvPr/>
          </p:nvSpPr>
          <p:spPr>
            <a:xfrm>
              <a:off x="517680" y="1981080"/>
              <a:ext cx="2546280" cy="1706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12840" y="3042360"/>
              <a:ext cx="779760" cy="51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8000"/>
                  </a:solidFill>
                  <a:latin typeface="Arial"/>
                </a:rPr>
                <a:t>D q</a:t>
              </a:r>
              <a:r>
                <a:rPr b="1" lang="pt-BR" sz="2400" spc="-1" strike="noStrike" baseline="-25000">
                  <a:solidFill>
                    <a:srgbClr val="008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26160" y="2527920"/>
              <a:ext cx="770400" cy="51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8000"/>
                  </a:solidFill>
                  <a:latin typeface="Arial"/>
                </a:rPr>
                <a:t>D q</a:t>
              </a:r>
              <a:r>
                <a:rPr b="1" lang="pt-BR" sz="2400" spc="-1" strike="noStrike" baseline="-25000">
                  <a:solidFill>
                    <a:srgbClr val="008000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240" y="2800800"/>
              <a:ext cx="13755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8000"/>
                  </a:solidFill>
                  <a:latin typeface="Arial"/>
                </a:rPr>
                <a:t>TMgS =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1920" y="3049560"/>
              <a:ext cx="7621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80640" y="2102400"/>
              <a:ext cx="148212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Utiliz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254640" y="3174840"/>
            <a:ext cx="538200" cy="5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86600" y="3108240"/>
            <a:ext cx="91800" cy="921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5280" y="3191040"/>
            <a:ext cx="277920" cy="5270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 flipV="1">
            <a:off x="3124080" y="2057040"/>
            <a:ext cx="0" cy="3886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819520" y="55627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14320" y="591264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rot="16200000">
            <a:off x="1396080" y="366228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usto por 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975040" y="91368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ust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13000" y="2328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C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926680" y="2297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C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766240" y="3094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3124080" y="3319560"/>
            <a:ext cx="1811520" cy="1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760280" y="5517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35600" y="3333600"/>
            <a:ext cx="0" cy="2237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846600" y="2649600"/>
            <a:ext cx="2367000" cy="1111320"/>
          </a:xfrm>
          <a:custGeom>
            <a:avLst/>
            <a:gdLst/>
            <a:ahLst/>
            <a:rect l="l" t="t" r="r" b="b"/>
            <a:pathLst>
              <a:path w="2100" h="954">
                <a:moveTo>
                  <a:pt x="0" y="384"/>
                </a:moveTo>
                <a:cubicBezTo>
                  <a:pt x="70" y="458"/>
                  <a:pt x="282" y="738"/>
                  <a:pt x="420" y="828"/>
                </a:cubicBezTo>
                <a:cubicBezTo>
                  <a:pt x="558" y="918"/>
                  <a:pt x="662" y="954"/>
                  <a:pt x="828" y="924"/>
                </a:cubicBezTo>
                <a:cubicBezTo>
                  <a:pt x="994" y="894"/>
                  <a:pt x="1204" y="802"/>
                  <a:pt x="1416" y="648"/>
                </a:cubicBezTo>
                <a:cubicBezTo>
                  <a:pt x="1628" y="494"/>
                  <a:pt x="1958" y="135"/>
                  <a:pt x="2100" y="0"/>
                </a:cubicBez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549600" y="2698920"/>
            <a:ext cx="1774800" cy="1774800"/>
          </a:xfrm>
          <a:custGeom>
            <a:avLst/>
            <a:gdLst/>
            <a:ahLst/>
            <a:rect l="l" t="t" r="r" b="b"/>
            <a:pathLst>
              <a:path w="1118" h="1118">
                <a:moveTo>
                  <a:pt x="0" y="1118"/>
                </a:moveTo>
                <a:cubicBezTo>
                  <a:pt x="152" y="1102"/>
                  <a:pt x="305" y="1086"/>
                  <a:pt x="491" y="900"/>
                </a:cubicBezTo>
                <a:cubicBezTo>
                  <a:pt x="677" y="714"/>
                  <a:pt x="897" y="357"/>
                  <a:pt x="1118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5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57760" y="3848040"/>
            <a:ext cx="2351160" cy="819360"/>
          </a:xfrm>
          <a:prstGeom prst="wedgeRoundRectCallout">
            <a:avLst>
              <a:gd name="adj1" fmla="val -76740"/>
              <a:gd name="adj2" fmla="val 171898"/>
              <a:gd name="adj3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ntidade Ót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ara 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fix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3733920" y="3619440"/>
            <a:ext cx="1657080" cy="62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80320" y="1409760"/>
            <a:ext cx="795168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o deve ser dimensionada a quantidade produzida, se 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é tomadora de preços (preço é fixado pelo mercado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6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851640" y="369612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Mg =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837720" y="1365120"/>
            <a:ext cx="705564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Variando-se o preço, como é alterada a quantidade de um b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que é ofertado no merca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6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1" name=""/>
          <p:cNvGraphicFramePr/>
          <p:nvPr/>
        </p:nvGraphicFramePr>
        <p:xfrm>
          <a:off x="2133720" y="1638360"/>
          <a:ext cx="5029200" cy="499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38360"/>
                    <a:ext cx="50292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1090440" y="85608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Lucida Casual"/>
              </a:rPr>
              <a:t>Quantidades produzidas em função do pre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76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8" name=""/>
          <p:cNvGraphicFramePr/>
          <p:nvPr/>
        </p:nvGraphicFramePr>
        <p:xfrm>
          <a:off x="438120" y="1714680"/>
          <a:ext cx="6629400" cy="474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14680"/>
                    <a:ext cx="662940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82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090440" y="85608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Lucida Casual"/>
              </a:rPr>
              <a:t>Quantidades produzidas em função do pre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8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9" name=""/>
          <p:cNvGraphicFramePr/>
          <p:nvPr/>
        </p:nvGraphicFramePr>
        <p:xfrm>
          <a:off x="438120" y="1714680"/>
          <a:ext cx="6629400" cy="4743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120" y="1714680"/>
                    <a:ext cx="662940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1" name=""/>
          <p:cNvSpPr/>
          <p:nvPr/>
        </p:nvSpPr>
        <p:spPr>
          <a:xfrm>
            <a:off x="1090440" y="85608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Lucida Casual"/>
              </a:rPr>
              <a:t>Quantidades produzidas em função do pre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2" name=""/>
          <p:cNvGraphicFramePr/>
          <p:nvPr/>
        </p:nvGraphicFramePr>
        <p:xfrm>
          <a:off x="6915240" y="2228760"/>
          <a:ext cx="200016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15240" y="2228760"/>
                    <a:ext cx="2000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96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438120" y="1714680"/>
          <a:ext cx="6629400" cy="4743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8120" y="1714680"/>
                    <a:ext cx="662940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0" name=""/>
          <p:cNvSpPr/>
          <p:nvPr/>
        </p:nvSpPr>
        <p:spPr>
          <a:xfrm>
            <a:off x="1090440" y="85608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Lucida Casual"/>
              </a:rPr>
              <a:t>Quantidades produzidas em função do pre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743120" y="2387520"/>
            <a:ext cx="1440" cy="24876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654200" y="4875120"/>
            <a:ext cx="889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654200" y="4456080"/>
            <a:ext cx="889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54200" y="4051440"/>
            <a:ext cx="889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654200" y="3632040"/>
            <a:ext cx="889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54200" y="3211560"/>
            <a:ext cx="889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654200" y="2806560"/>
            <a:ext cx="889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654200" y="2387520"/>
            <a:ext cx="889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743120" y="4875120"/>
            <a:ext cx="47545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1743120" y="4875120"/>
            <a:ext cx="1440" cy="9072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3333600" y="4875120"/>
            <a:ext cx="1800" cy="9072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4908600" y="4875120"/>
            <a:ext cx="1440" cy="9072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6497640" y="4875120"/>
            <a:ext cx="1440" cy="9072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2538360" y="4051440"/>
            <a:ext cx="795240" cy="209520"/>
          </a:xfrm>
          <a:prstGeom prst="line">
            <a:avLst/>
          </a:prstGeom>
          <a:ln w="44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333600" y="3631680"/>
            <a:ext cx="793800" cy="419400"/>
          </a:xfrm>
          <a:prstGeom prst="line">
            <a:avLst/>
          </a:prstGeom>
          <a:ln w="44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4127400" y="2806200"/>
            <a:ext cx="781200" cy="825480"/>
          </a:xfrm>
          <a:prstGeom prst="line">
            <a:avLst/>
          </a:prstGeom>
          <a:ln w="44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215520" y="863640"/>
            <a:ext cx="2573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9900"/>
                </a:solidFill>
                <a:latin typeface="Arial"/>
              </a:rPr>
              <a:t>Curva da Ofer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308240" y="4756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308240" y="43354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308240" y="39304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308240" y="3511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308240" y="3092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246320" y="268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246320" y="2266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692360" y="5099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191040" y="50990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765680" y="50990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356520" y="50990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329640" y="5468760"/>
            <a:ext cx="125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rot="16200000">
            <a:off x="646920" y="3409200"/>
            <a:ext cx="63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438280" y="4191120"/>
            <a:ext cx="152640" cy="15228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200400" y="400068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010040" y="3571920"/>
            <a:ext cx="152280" cy="152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05280" y="2766960"/>
            <a:ext cx="152640" cy="152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3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6915240" y="2228760"/>
          <a:ext cx="2000160" cy="1905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15240" y="2228760"/>
                    <a:ext cx="2000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837720" y="1365120"/>
            <a:ext cx="705564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Ari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Variando-se o preço, como é alterada a quantidade de um b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que é ofertado no merca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4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4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43040" y="3016080"/>
            <a:ext cx="1800" cy="24879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454120" y="5504040"/>
            <a:ext cx="889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454120" y="5084640"/>
            <a:ext cx="889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454120" y="4680000"/>
            <a:ext cx="889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54120" y="4260960"/>
            <a:ext cx="889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54120" y="3840120"/>
            <a:ext cx="889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454120" y="3435480"/>
            <a:ext cx="889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454120" y="3016080"/>
            <a:ext cx="889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543040" y="5504040"/>
            <a:ext cx="47545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2543040" y="5503680"/>
            <a:ext cx="1800" cy="903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4133880" y="5503680"/>
            <a:ext cx="1440" cy="903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5708520" y="5503680"/>
            <a:ext cx="1800" cy="903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7297560" y="5503680"/>
            <a:ext cx="1800" cy="903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3338640" y="4680000"/>
            <a:ext cx="795240" cy="209520"/>
          </a:xfrm>
          <a:prstGeom prst="line">
            <a:avLst/>
          </a:prstGeom>
          <a:ln w="44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33880" y="4260960"/>
            <a:ext cx="793800" cy="419040"/>
          </a:xfrm>
          <a:prstGeom prst="line">
            <a:avLst/>
          </a:prstGeom>
          <a:ln w="44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4927680" y="3435120"/>
            <a:ext cx="780840" cy="825480"/>
          </a:xfrm>
          <a:prstGeom prst="line">
            <a:avLst/>
          </a:prstGeom>
          <a:ln w="442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108160" y="5384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108160" y="4964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108160" y="45594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108160" y="4140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108160" y="3720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046240" y="3316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46240" y="289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492280" y="57276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990960" y="57276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565600" y="57276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156440" y="57276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29560" y="6059520"/>
            <a:ext cx="125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rot="16200000">
            <a:off x="1447200" y="3942720"/>
            <a:ext cx="63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238560" y="4819680"/>
            <a:ext cx="152280" cy="15228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000680" y="462924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809960" y="4200480"/>
            <a:ext cx="152640" cy="152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605560" y="3395520"/>
            <a:ext cx="152280" cy="1526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1156680" y="1639800"/>
            <a:ext cx="52826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Recapit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Custo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Custos Fixo e Vari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Custo Mar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Custo de Oportun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Preço na Concorrência Perfe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8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019160" y="2026800"/>
            <a:ext cx="0" cy="350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9120" y="527364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96760" y="266688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6520" y="25390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52640" y="1954800"/>
            <a:ext cx="10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td_Jo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14280" y="488700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td_Liv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74640" y="52196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46320" y="52196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01800" y="52196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59080" y="52196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14920" y="522756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27400" y="3308400"/>
            <a:ext cx="1465200" cy="1355760"/>
          </a:xfrm>
          <a:custGeom>
            <a:avLst/>
            <a:gdLst/>
            <a:ahLst/>
            <a:rect l="l" t="t" r="r" b="b"/>
            <a:pathLst>
              <a:path w="923" h="854">
                <a:moveTo>
                  <a:pt x="0" y="0"/>
                </a:moveTo>
                <a:cubicBezTo>
                  <a:pt x="26" y="69"/>
                  <a:pt x="88" y="307"/>
                  <a:pt x="154" y="422"/>
                </a:cubicBezTo>
                <a:cubicBezTo>
                  <a:pt x="220" y="537"/>
                  <a:pt x="266" y="619"/>
                  <a:pt x="394" y="691"/>
                </a:cubicBezTo>
                <a:cubicBezTo>
                  <a:pt x="522" y="763"/>
                  <a:pt x="813" y="820"/>
                  <a:pt x="923" y="8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70000" y="3489480"/>
            <a:ext cx="1417680" cy="1311120"/>
          </a:xfrm>
          <a:custGeom>
            <a:avLst/>
            <a:gdLst/>
            <a:ahLst/>
            <a:rect l="l" t="t" r="r" b="b"/>
            <a:pathLst>
              <a:path w="893" h="826">
                <a:moveTo>
                  <a:pt x="0" y="0"/>
                </a:moveTo>
                <a:cubicBezTo>
                  <a:pt x="22" y="59"/>
                  <a:pt x="66" y="249"/>
                  <a:pt x="125" y="356"/>
                </a:cubicBezTo>
                <a:cubicBezTo>
                  <a:pt x="184" y="463"/>
                  <a:pt x="227" y="566"/>
                  <a:pt x="355" y="644"/>
                </a:cubicBezTo>
                <a:cubicBezTo>
                  <a:pt x="483" y="722"/>
                  <a:pt x="781" y="788"/>
                  <a:pt x="893" y="8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1400" y="3718080"/>
            <a:ext cx="1478160" cy="1265040"/>
          </a:xfrm>
          <a:custGeom>
            <a:avLst/>
            <a:gdLst/>
            <a:ahLst/>
            <a:rect l="l" t="t" r="r" b="b"/>
            <a:pathLst>
              <a:path w="931" h="797">
                <a:moveTo>
                  <a:pt x="0" y="0"/>
                </a:moveTo>
                <a:cubicBezTo>
                  <a:pt x="29" y="64"/>
                  <a:pt x="94" y="278"/>
                  <a:pt x="164" y="385"/>
                </a:cubicBezTo>
                <a:cubicBezTo>
                  <a:pt x="234" y="492"/>
                  <a:pt x="294" y="575"/>
                  <a:pt x="422" y="644"/>
                </a:cubicBezTo>
                <a:cubicBezTo>
                  <a:pt x="550" y="713"/>
                  <a:pt x="825" y="765"/>
                  <a:pt x="931" y="7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6960" y="3886200"/>
            <a:ext cx="1447920" cy="1251000"/>
          </a:xfrm>
          <a:custGeom>
            <a:avLst/>
            <a:gdLst/>
            <a:ahLst/>
            <a:rect l="l" t="t" r="r" b="b"/>
            <a:pathLst>
              <a:path w="912" h="787">
                <a:moveTo>
                  <a:pt x="0" y="0"/>
                </a:moveTo>
                <a:cubicBezTo>
                  <a:pt x="22" y="61"/>
                  <a:pt x="65" y="259"/>
                  <a:pt x="126" y="365"/>
                </a:cubicBezTo>
                <a:cubicBezTo>
                  <a:pt x="187" y="471"/>
                  <a:pt x="235" y="564"/>
                  <a:pt x="366" y="634"/>
                </a:cubicBezTo>
                <a:cubicBezTo>
                  <a:pt x="497" y="704"/>
                  <a:pt x="798" y="755"/>
                  <a:pt x="912" y="7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31880" y="52995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21000" y="53121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66960" y="5320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01760" y="53121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40360" y="40773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58000" y="45788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37120" y="35820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6,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32480" y="5243400"/>
            <a:ext cx="287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35400" y="479628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td_Liv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18360" y="51894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89680" y="51894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45520" y="51894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02440" y="51894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1760" y="3228480"/>
            <a:ext cx="0" cy="227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82680" y="30690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eço_Liv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49840" y="371628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49840" y="421164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62440" y="470700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63320" y="5364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52080" y="5377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98040" y="53852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33200" y="5377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93520" y="5399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38120" y="602424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0/2.4 =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808440" y="5657400"/>
            <a:ext cx="0" cy="374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1023480" y="2655720"/>
            <a:ext cx="2786040" cy="261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41680" y="417204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698920" y="4214880"/>
            <a:ext cx="0" cy="1068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9920" y="5384880"/>
            <a:ext cx="317520" cy="317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4575240"/>
            <a:ext cx="17305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445520" y="4574880"/>
            <a:ext cx="0" cy="663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4800" y="44974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00800" y="91800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Correção do Exercíci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8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068280" y="322668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16520" y="1954800"/>
            <a:ext cx="8440920" cy="4406760"/>
            <a:chOff x="416520" y="1954800"/>
            <a:chExt cx="8440920" cy="4406760"/>
          </a:xfrm>
        </p:grpSpPr>
        <p:sp>
          <p:nvSpPr>
            <p:cNvPr id="160" name=""/>
            <p:cNvSpPr/>
            <p:nvPr/>
          </p:nvSpPr>
          <p:spPr>
            <a:xfrm>
              <a:off x="789120" y="5273640"/>
              <a:ext cx="36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96760" y="266688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6520" y="25390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52640" y="1954800"/>
              <a:ext cx="100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td_Jog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14280" y="4887000"/>
              <a:ext cx="102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td_Liv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74640" y="521964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46320" y="521964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01800" y="521964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59080" y="521964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14920" y="522756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27400" y="3308400"/>
              <a:ext cx="1465200" cy="1355760"/>
            </a:xfrm>
            <a:custGeom>
              <a:avLst/>
              <a:gdLst/>
              <a:ahLst/>
              <a:rect l="l" t="t" r="r" b="b"/>
              <a:pathLst>
                <a:path w="923" h="854">
                  <a:moveTo>
                    <a:pt x="0" y="0"/>
                  </a:moveTo>
                  <a:cubicBezTo>
                    <a:pt x="26" y="69"/>
                    <a:pt x="88" y="307"/>
                    <a:pt x="154" y="422"/>
                  </a:cubicBezTo>
                  <a:cubicBezTo>
                    <a:pt x="220" y="537"/>
                    <a:pt x="266" y="619"/>
                    <a:pt x="394" y="691"/>
                  </a:cubicBezTo>
                  <a:cubicBezTo>
                    <a:pt x="522" y="763"/>
                    <a:pt x="813" y="820"/>
                    <a:pt x="923" y="8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70000" y="3489480"/>
              <a:ext cx="1417680" cy="1311120"/>
            </a:xfrm>
            <a:custGeom>
              <a:avLst/>
              <a:gdLst/>
              <a:ahLst/>
              <a:rect l="l" t="t" r="r" b="b"/>
              <a:pathLst>
                <a:path w="893" h="826">
                  <a:moveTo>
                    <a:pt x="0" y="0"/>
                  </a:moveTo>
                  <a:cubicBezTo>
                    <a:pt x="22" y="59"/>
                    <a:pt x="66" y="249"/>
                    <a:pt x="125" y="356"/>
                  </a:cubicBezTo>
                  <a:cubicBezTo>
                    <a:pt x="184" y="463"/>
                    <a:pt x="227" y="566"/>
                    <a:pt x="355" y="644"/>
                  </a:cubicBezTo>
                  <a:cubicBezTo>
                    <a:pt x="483" y="722"/>
                    <a:pt x="781" y="788"/>
                    <a:pt x="893" y="8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41400" y="3718080"/>
              <a:ext cx="1478160" cy="1265040"/>
            </a:xfrm>
            <a:custGeom>
              <a:avLst/>
              <a:gdLst/>
              <a:ahLst/>
              <a:rect l="l" t="t" r="r" b="b"/>
              <a:pathLst>
                <a:path w="931" h="797">
                  <a:moveTo>
                    <a:pt x="0" y="0"/>
                  </a:moveTo>
                  <a:cubicBezTo>
                    <a:pt x="29" y="64"/>
                    <a:pt x="94" y="278"/>
                    <a:pt x="164" y="385"/>
                  </a:cubicBezTo>
                  <a:cubicBezTo>
                    <a:pt x="234" y="492"/>
                    <a:pt x="294" y="575"/>
                    <a:pt x="422" y="644"/>
                  </a:cubicBezTo>
                  <a:cubicBezTo>
                    <a:pt x="550" y="713"/>
                    <a:pt x="825" y="765"/>
                    <a:pt x="931" y="7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96960" y="3886200"/>
              <a:ext cx="1447920" cy="1251000"/>
            </a:xfrm>
            <a:custGeom>
              <a:avLst/>
              <a:gdLst/>
              <a:ahLst/>
              <a:rect l="l" t="t" r="r" b="b"/>
              <a:pathLst>
                <a:path w="912" h="787">
                  <a:moveTo>
                    <a:pt x="0" y="0"/>
                  </a:moveTo>
                  <a:cubicBezTo>
                    <a:pt x="22" y="61"/>
                    <a:pt x="65" y="259"/>
                    <a:pt x="126" y="365"/>
                  </a:cubicBezTo>
                  <a:cubicBezTo>
                    <a:pt x="187" y="471"/>
                    <a:pt x="235" y="564"/>
                    <a:pt x="366" y="634"/>
                  </a:cubicBezTo>
                  <a:cubicBezTo>
                    <a:pt x="497" y="704"/>
                    <a:pt x="798" y="755"/>
                    <a:pt x="912" y="7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31880" y="52995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21000" y="53121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66960" y="53200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01760" y="531216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40360" y="40773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58000" y="45788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2,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37120" y="3582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6,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32480" y="5243400"/>
              <a:ext cx="28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35400" y="4796280"/>
              <a:ext cx="102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Qtd_Liv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18360" y="518940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9680" y="518940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45520" y="518940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02440" y="518940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11760" y="3228480"/>
              <a:ext cx="0" cy="22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82680" y="3069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eço_Liv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49840" y="3716280"/>
              <a:ext cx="1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49840" y="4211640"/>
              <a:ext cx="1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62440" y="4707000"/>
              <a:ext cx="12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63320" y="53647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52080" y="53773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12440" y="53852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33200" y="53773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93520" y="53996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31320" y="6024240"/>
              <a:ext cx="114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120/3 = 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273480" y="5643720"/>
              <a:ext cx="0" cy="3744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1023840" y="2655720"/>
              <a:ext cx="2222640" cy="26114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65200" y="4287960"/>
              <a:ext cx="1429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35240" y="5370480"/>
              <a:ext cx="317520" cy="317520"/>
            </a:xfrm>
            <a:prstGeom prst="ellipse">
              <a:avLst/>
            </a:prstGeom>
            <a:noFill/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15000" y="4575240"/>
              <a:ext cx="173052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445520" y="4574880"/>
              <a:ext cx="0" cy="6634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54800" y="4497480"/>
              <a:ext cx="1429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38280" y="4373640"/>
              <a:ext cx="0" cy="907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14000" y="538380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7143840" y="4444560"/>
              <a:ext cx="0" cy="79380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4430880"/>
              <a:ext cx="1428840" cy="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61040" y="4361040"/>
              <a:ext cx="142920" cy="14256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V="1">
            <a:off x="1019160" y="2026800"/>
            <a:ext cx="0" cy="350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00800" y="91800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Correção do Exercíci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1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1023840" y="2639880"/>
            <a:ext cx="1689120" cy="262728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33640" y="4241880"/>
            <a:ext cx="142920" cy="142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4214880"/>
            <a:ext cx="1182600" cy="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883560" y="4214880"/>
            <a:ext cx="0" cy="102384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04000" y="4137120"/>
            <a:ext cx="142920" cy="142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1044360" y="2661840"/>
            <a:ext cx="1112760" cy="2583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82640" y="426564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21320" y="366696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15000" y="3710160"/>
            <a:ext cx="79380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478560" y="3710160"/>
            <a:ext cx="0" cy="15285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9120" y="527364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96760" y="266688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6520" y="25390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52640" y="1954800"/>
            <a:ext cx="10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td_Jo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14280" y="488700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td_Liv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74640" y="52196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46320" y="52196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01800" y="52196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59080" y="521964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14920" y="522756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27400" y="3308400"/>
            <a:ext cx="1465200" cy="1355760"/>
          </a:xfrm>
          <a:custGeom>
            <a:avLst/>
            <a:gdLst/>
            <a:ahLst/>
            <a:rect l="l" t="t" r="r" b="b"/>
            <a:pathLst>
              <a:path w="923" h="854">
                <a:moveTo>
                  <a:pt x="0" y="0"/>
                </a:moveTo>
                <a:cubicBezTo>
                  <a:pt x="26" y="69"/>
                  <a:pt x="88" y="307"/>
                  <a:pt x="154" y="422"/>
                </a:cubicBezTo>
                <a:cubicBezTo>
                  <a:pt x="220" y="537"/>
                  <a:pt x="266" y="619"/>
                  <a:pt x="394" y="691"/>
                </a:cubicBezTo>
                <a:cubicBezTo>
                  <a:pt x="522" y="763"/>
                  <a:pt x="813" y="820"/>
                  <a:pt x="923" y="8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70000" y="3489480"/>
            <a:ext cx="1417680" cy="1311120"/>
          </a:xfrm>
          <a:custGeom>
            <a:avLst/>
            <a:gdLst/>
            <a:ahLst/>
            <a:rect l="l" t="t" r="r" b="b"/>
            <a:pathLst>
              <a:path w="893" h="826">
                <a:moveTo>
                  <a:pt x="0" y="0"/>
                </a:moveTo>
                <a:cubicBezTo>
                  <a:pt x="22" y="59"/>
                  <a:pt x="66" y="249"/>
                  <a:pt x="125" y="356"/>
                </a:cubicBezTo>
                <a:cubicBezTo>
                  <a:pt x="184" y="463"/>
                  <a:pt x="227" y="566"/>
                  <a:pt x="355" y="644"/>
                </a:cubicBezTo>
                <a:cubicBezTo>
                  <a:pt x="483" y="722"/>
                  <a:pt x="781" y="788"/>
                  <a:pt x="893" y="8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41400" y="3718080"/>
            <a:ext cx="1478160" cy="1265040"/>
          </a:xfrm>
          <a:custGeom>
            <a:avLst/>
            <a:gdLst/>
            <a:ahLst/>
            <a:rect l="l" t="t" r="r" b="b"/>
            <a:pathLst>
              <a:path w="931" h="797">
                <a:moveTo>
                  <a:pt x="0" y="0"/>
                </a:moveTo>
                <a:cubicBezTo>
                  <a:pt x="29" y="64"/>
                  <a:pt x="94" y="278"/>
                  <a:pt x="164" y="385"/>
                </a:cubicBezTo>
                <a:cubicBezTo>
                  <a:pt x="234" y="492"/>
                  <a:pt x="294" y="575"/>
                  <a:pt x="422" y="644"/>
                </a:cubicBezTo>
                <a:cubicBezTo>
                  <a:pt x="550" y="713"/>
                  <a:pt x="825" y="765"/>
                  <a:pt x="931" y="7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96960" y="3886200"/>
            <a:ext cx="1447920" cy="1251000"/>
          </a:xfrm>
          <a:custGeom>
            <a:avLst/>
            <a:gdLst/>
            <a:ahLst/>
            <a:rect l="l" t="t" r="r" b="b"/>
            <a:pathLst>
              <a:path w="912" h="787">
                <a:moveTo>
                  <a:pt x="0" y="0"/>
                </a:moveTo>
                <a:cubicBezTo>
                  <a:pt x="22" y="61"/>
                  <a:pt x="65" y="259"/>
                  <a:pt x="126" y="365"/>
                </a:cubicBezTo>
                <a:cubicBezTo>
                  <a:pt x="187" y="471"/>
                  <a:pt x="235" y="564"/>
                  <a:pt x="366" y="634"/>
                </a:cubicBezTo>
                <a:cubicBezTo>
                  <a:pt x="497" y="704"/>
                  <a:pt x="798" y="755"/>
                  <a:pt x="912" y="7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31880" y="52995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21000" y="53121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66960" y="53200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1760" y="53121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40360" y="40773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58000" y="45788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37120" y="358200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6,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32480" y="5243400"/>
            <a:ext cx="287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35400" y="479628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td_Liv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18360" y="51894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89680" y="51894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45520" y="51894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2440" y="518940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711760" y="3228480"/>
            <a:ext cx="0" cy="227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82680" y="306900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eço_Liv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49840" y="371628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49840" y="421164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62440" y="470700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63320" y="5364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52080" y="5377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2440" y="53852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3200" y="5377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93520" y="5399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15000" y="4575240"/>
            <a:ext cx="17305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445520" y="4574880"/>
            <a:ext cx="0" cy="663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54800" y="44974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14000" y="5383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7143840" y="4444560"/>
            <a:ext cx="0" cy="793800"/>
          </a:xfrm>
          <a:prstGeom prst="line">
            <a:avLst/>
          </a:prstGeom>
          <a:ln w="936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5000" y="4430880"/>
            <a:ext cx="1428840" cy="0"/>
          </a:xfrm>
          <a:prstGeom prst="line">
            <a:avLst/>
          </a:prstGeom>
          <a:ln w="936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61040" y="4361040"/>
            <a:ext cx="142920" cy="1425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019160" y="2026800"/>
            <a:ext cx="0" cy="350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00800" y="91800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Correção do Exercíci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74840" y="1365120"/>
            <a:ext cx="813744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Como varia a quantidade produzida em função dos fatores de produçã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7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 flipV="1">
            <a:off x="1314360" y="19616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09800" y="54673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46240" y="581760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ão de Obra 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-813960" y="355716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Produzida (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38120" y="2982960"/>
            <a:ext cx="3283200" cy="2460600"/>
          </a:xfrm>
          <a:custGeom>
            <a:avLst/>
            <a:gdLst/>
            <a:ahLst/>
            <a:rect l="l" t="t" r="r" b="b"/>
            <a:pathLst>
              <a:path w="2068" h="1550">
                <a:moveTo>
                  <a:pt x="0" y="1550"/>
                </a:moveTo>
                <a:cubicBezTo>
                  <a:pt x="106" y="1501"/>
                  <a:pt x="458" y="1396"/>
                  <a:pt x="638" y="1258"/>
                </a:cubicBezTo>
                <a:cubicBezTo>
                  <a:pt x="818" y="1120"/>
                  <a:pt x="937" y="891"/>
                  <a:pt x="1079" y="720"/>
                </a:cubicBezTo>
                <a:cubicBezTo>
                  <a:pt x="1221" y="549"/>
                  <a:pt x="1327" y="351"/>
                  <a:pt x="1492" y="231"/>
                </a:cubicBezTo>
                <a:cubicBezTo>
                  <a:pt x="1657" y="111"/>
                  <a:pt x="1948" y="48"/>
                  <a:pt x="2068" y="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42560" y="913680"/>
            <a:ext cx="37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Função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33600" y="39283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apital K = fi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8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06440" y="2542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q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 = f(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M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,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K</a:t>
            </a:r>
            <a:r>
              <a:rPr b="1" lang="pt-BR" sz="1800" spc="-1" strike="noStrike">
                <a:solidFill>
                  <a:srgbClr val="ff6600"/>
                </a:solidFill>
                <a:latin typeface="Lucida Casu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5-03T14:19:10Z</cp:lastPrinted>
  <dcterms:modified xsi:type="dcterms:W3CDTF">2003-08-14T18:42:49Z</dcterms:modified>
  <cp:revision>162</cp:revision>
  <dc:subject/>
  <dc:title>Consumidor</dc:title>
</cp:coreProperties>
</file>