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6AFC-1A22-4F1A-97A2-B915245D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5BA5-EA95-4904-B43F-4C3A79BE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FF2A-E3D0-4800-ADEC-E9F03D44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F034-A0F5-4444-8C87-27AC047B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67DE-BA22-459B-B0B8-693230C8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F4AF-3EDB-4FE8-A580-93A39A4D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109-9C5F-4EF9-82DC-EF3D7E72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DA96-9E08-4389-A3DF-84BE3140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D011-FF30-421A-9D29-CD2569B5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F248-6D04-4EA3-AD9A-AB154251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A0F4-C188-409D-96C7-C7E7DFE8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B9A2-170F-4FF4-AFDA-C343CE04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3CE8-63B3-4E6D-AD97-90A2F8C5C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31720" y="474840"/>
            <a:ext cx="19486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Aula 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Microecono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0000" y="49968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ITA-MP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Lucida Casu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5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45640" y="3150360"/>
            <a:ext cx="410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Competição Perfe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271680" y="2031840"/>
            <a:ext cx="2367000" cy="702000"/>
          </a:xfrm>
          <a:custGeom>
            <a:avLst/>
            <a:gdLst/>
            <a:ahLst/>
            <a:rect l="l" t="t" r="r" b="b"/>
            <a:pathLst>
              <a:path w="1491" h="442">
                <a:moveTo>
                  <a:pt x="0" y="442"/>
                </a:moveTo>
                <a:cubicBezTo>
                  <a:pt x="64" y="439"/>
                  <a:pt x="128" y="437"/>
                  <a:pt x="282" y="404"/>
                </a:cubicBezTo>
                <a:cubicBezTo>
                  <a:pt x="436" y="371"/>
                  <a:pt x="721" y="311"/>
                  <a:pt x="922" y="244"/>
                </a:cubicBezTo>
                <a:cubicBezTo>
                  <a:pt x="1123" y="177"/>
                  <a:pt x="1396" y="41"/>
                  <a:pt x="1491" y="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60880" y="1767960"/>
            <a:ext cx="0" cy="16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32280" y="3308400"/>
            <a:ext cx="33526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60880" y="2165400"/>
            <a:ext cx="2514600" cy="914400"/>
          </a:xfrm>
          <a:custGeom>
            <a:avLst/>
            <a:gdLst/>
            <a:ahLst/>
            <a:rect l="l" t="t" r="r" b="b"/>
            <a:pathLst>
              <a:path w="1584" h="720">
                <a:moveTo>
                  <a:pt x="0" y="0"/>
                </a:moveTo>
                <a:cubicBezTo>
                  <a:pt x="152" y="140"/>
                  <a:pt x="304" y="280"/>
                  <a:pt x="480" y="384"/>
                </a:cubicBezTo>
                <a:cubicBezTo>
                  <a:pt x="656" y="488"/>
                  <a:pt x="872" y="568"/>
                  <a:pt x="1056" y="624"/>
                </a:cubicBezTo>
                <a:cubicBezTo>
                  <a:pt x="1240" y="680"/>
                  <a:pt x="1496" y="704"/>
                  <a:pt x="1584" y="7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14360" y="3459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5400" y="34599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32440" y="34599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27560" y="3156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94240" y="3156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92920" y="338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620800" y="170748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98800" y="2589120"/>
            <a:ext cx="96840" cy="47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37760" y="287280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 (Mercado To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619000" y="4083840"/>
            <a:ext cx="3775320" cy="2106720"/>
            <a:chOff x="2619000" y="4083840"/>
            <a:chExt cx="3775320" cy="2106720"/>
          </a:xfrm>
        </p:grpSpPr>
        <p:sp>
          <p:nvSpPr>
            <p:cNvPr id="272" name=""/>
            <p:cNvSpPr/>
            <p:nvPr/>
          </p:nvSpPr>
          <p:spPr>
            <a:xfrm flipV="1">
              <a:off x="3260880" y="4084200"/>
              <a:ext cx="1440" cy="17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32280" y="5670720"/>
              <a:ext cx="3352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14360" y="5822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96440" y="58222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63480" y="58222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27560" y="55180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94240" y="55180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68880" y="57459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19000" y="4083840"/>
              <a:ext cx="55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Lucida Casual"/>
                </a:rPr>
                <a:t>$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448200" y="857880"/>
            <a:ext cx="82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Lucida Casual"/>
              </a:rPr>
              <a:t>Fixação do Preço pelo Mercado (Competição Perfei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936880" y="2404440"/>
            <a:ext cx="995040" cy="368280"/>
            <a:chOff x="2936880" y="2404440"/>
            <a:chExt cx="995040" cy="368280"/>
          </a:xfrm>
        </p:grpSpPr>
        <p:sp>
          <p:nvSpPr>
            <p:cNvPr id="283" name=""/>
            <p:cNvSpPr/>
            <p:nvPr/>
          </p:nvSpPr>
          <p:spPr>
            <a:xfrm flipH="1">
              <a:off x="3271320" y="2620800"/>
              <a:ext cx="660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36880" y="24044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260880" y="4908600"/>
            <a:ext cx="2133360" cy="7632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918160" y="4763520"/>
            <a:ext cx="1339200" cy="368280"/>
            <a:chOff x="2918160" y="4763520"/>
            <a:chExt cx="1339200" cy="368280"/>
          </a:xfrm>
        </p:grpSpPr>
        <p:sp>
          <p:nvSpPr>
            <p:cNvPr id="287" name=""/>
            <p:cNvSpPr/>
            <p:nvPr/>
          </p:nvSpPr>
          <p:spPr>
            <a:xfrm flipH="1">
              <a:off x="3271320" y="4957920"/>
              <a:ext cx="986040" cy="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18160" y="47635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Lucida Casu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737680" y="17917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76920" y="4040280"/>
            <a:ext cx="2257560" cy="942840"/>
          </a:xfrm>
          <a:prstGeom prst="wedgeRoundRectCallout">
            <a:avLst>
              <a:gd name="adj1" fmla="val -70111"/>
              <a:gd name="adj2" fmla="val 45958"/>
              <a:gd name="adj3" fmla="val 16667"/>
            </a:avLst>
          </a:prstGeom>
          <a:solidFill>
            <a:srgbClr val="ffff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Demanda vista p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rodutor com 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de particip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260520" y="2546280"/>
            <a:ext cx="2165400" cy="3138480"/>
            <a:chOff x="3260520" y="2546280"/>
            <a:chExt cx="2165400" cy="3138480"/>
          </a:xfrm>
        </p:grpSpPr>
        <p:sp>
          <p:nvSpPr>
            <p:cNvPr id="292" name=""/>
            <p:cNvSpPr/>
            <p:nvPr/>
          </p:nvSpPr>
          <p:spPr>
            <a:xfrm>
              <a:off x="3900600" y="2546280"/>
              <a:ext cx="0" cy="1447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3260520" y="3948120"/>
              <a:ext cx="641160" cy="5634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92400" y="2546280"/>
              <a:ext cx="0" cy="1447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76560" y="3949560"/>
              <a:ext cx="1449360" cy="547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76720" y="4449600"/>
              <a:ext cx="0" cy="1204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96040" y="4479840"/>
              <a:ext cx="0" cy="12049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0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030680" y="1987560"/>
            <a:ext cx="4526640" cy="33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Hipóte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Grande Número de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Produto Homogên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Livre Entrada e Saída de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Maximinação de Luc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Livre Circulação de Infor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Perfeita Mobilidade dos Fa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0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8200" y="857880"/>
            <a:ext cx="82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Lucida Casual"/>
              </a:rPr>
              <a:t>Fixação do Preço pelo Mercado (Competição Perfei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1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57120" y="3150360"/>
            <a:ext cx="50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ntervenções no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390840" y="2666880"/>
            <a:ext cx="2419560" cy="1600200"/>
          </a:xfrm>
          <a:custGeom>
            <a:avLst/>
            <a:gdLst/>
            <a:ahLst/>
            <a:rect l="l" t="t" r="r" b="b"/>
            <a:pathLst>
              <a:path w="1524" h="1008">
                <a:moveTo>
                  <a:pt x="0" y="1008"/>
                </a:moveTo>
                <a:cubicBezTo>
                  <a:pt x="299" y="930"/>
                  <a:pt x="598" y="852"/>
                  <a:pt x="852" y="684"/>
                </a:cubicBezTo>
                <a:cubicBezTo>
                  <a:pt x="1106" y="516"/>
                  <a:pt x="1315" y="258"/>
                  <a:pt x="152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60680" y="2130480"/>
            <a:ext cx="1440" cy="28940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50245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84360" y="453564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84360" y="406548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84360" y="357660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484360" y="308916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84360" y="26179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84360" y="213048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60680" y="5024520"/>
            <a:ext cx="49737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5606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38472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422424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0482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87052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71040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53444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6520" y="48895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06520" y="44020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06520" y="39304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06520" y="3443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306520" y="2954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81960" y="24843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81960" y="19954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5096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7500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5044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744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9816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63660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602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93040" y="5746680"/>
            <a:ext cx="2858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Quantidade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912240" y="3282480"/>
            <a:ext cx="19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Preço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14000" y="807480"/>
            <a:ext cx="51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Preço Baixo: Fixação de T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90840" y="2647800"/>
            <a:ext cx="2533680" cy="1733760"/>
          </a:xfrm>
          <a:custGeom>
            <a:avLst/>
            <a:gdLst/>
            <a:ahLst/>
            <a:rect l="l" t="t" r="r" b="b"/>
            <a:pathLst>
              <a:path w="1596" h="1092">
                <a:moveTo>
                  <a:pt x="0" y="0"/>
                </a:moveTo>
                <a:cubicBezTo>
                  <a:pt x="107" y="245"/>
                  <a:pt x="214" y="490"/>
                  <a:pt x="480" y="672"/>
                </a:cubicBezTo>
                <a:cubicBezTo>
                  <a:pt x="746" y="854"/>
                  <a:pt x="1410" y="1022"/>
                  <a:pt x="1596" y="109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781680" y="2400480"/>
            <a:ext cx="1219320" cy="609480"/>
          </a:xfrm>
          <a:prstGeom prst="wedgeRoundRectCallout">
            <a:avLst>
              <a:gd name="adj1" fmla="val -125000"/>
              <a:gd name="adj2" fmla="val 270050"/>
              <a:gd name="adj3" fmla="val 16667"/>
            </a:avLst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81560" y="1676520"/>
            <a:ext cx="914400" cy="609480"/>
          </a:xfrm>
          <a:prstGeom prst="wedgeRoundRectCallout">
            <a:avLst>
              <a:gd name="adj1" fmla="val 87500"/>
              <a:gd name="adj2" fmla="val 123175"/>
              <a:gd name="adj3" fmla="val 16667"/>
            </a:avLst>
          </a:prstGeom>
          <a:solidFill>
            <a:srgbClr val="ffcccc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10120" y="4048200"/>
            <a:ext cx="15228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52760" y="4133880"/>
            <a:ext cx="25146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19600" y="4048200"/>
            <a:ext cx="15228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79720" y="45316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9900"/>
                </a:solidFill>
                <a:latin typeface="Lucida Casual"/>
              </a:rPr>
              <a:t>Car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248000"/>
            <a:ext cx="0" cy="400320"/>
          </a:xfrm>
          <a:prstGeom prst="line">
            <a:avLst/>
          </a:prstGeom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95800" y="4238640"/>
            <a:ext cx="0" cy="399960"/>
          </a:xfrm>
          <a:prstGeom prst="line">
            <a:avLst/>
          </a:prstGeom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95560" y="4514760"/>
            <a:ext cx="1190880" cy="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35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390840" y="2666880"/>
            <a:ext cx="2419560" cy="1600200"/>
          </a:xfrm>
          <a:custGeom>
            <a:avLst/>
            <a:gdLst/>
            <a:ahLst/>
            <a:rect l="l" t="t" r="r" b="b"/>
            <a:pathLst>
              <a:path w="1524" h="1008">
                <a:moveTo>
                  <a:pt x="0" y="1008"/>
                </a:moveTo>
                <a:cubicBezTo>
                  <a:pt x="299" y="930"/>
                  <a:pt x="598" y="852"/>
                  <a:pt x="852" y="684"/>
                </a:cubicBezTo>
                <a:cubicBezTo>
                  <a:pt x="1106" y="516"/>
                  <a:pt x="1315" y="258"/>
                  <a:pt x="152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60680" y="2130480"/>
            <a:ext cx="1440" cy="28940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84360" y="50245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84360" y="453564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84360" y="406548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84360" y="357660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84360" y="308916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84360" y="26179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84360" y="213048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560680" y="5024520"/>
            <a:ext cx="49737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25606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38472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22424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0482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87052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671040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753444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306520" y="48895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306520" y="44020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306520" y="39304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06520" y="3443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306520" y="2954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81960" y="24843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81960" y="19954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5096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7500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5044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744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9816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3660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602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93040" y="5746680"/>
            <a:ext cx="2858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Quantidade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6200000">
            <a:off x="912240" y="3282480"/>
            <a:ext cx="19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Preço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90840" y="2647800"/>
            <a:ext cx="2533680" cy="1733760"/>
          </a:xfrm>
          <a:custGeom>
            <a:avLst/>
            <a:gdLst/>
            <a:ahLst/>
            <a:rect l="l" t="t" r="r" b="b"/>
            <a:pathLst>
              <a:path w="1596" h="1092">
                <a:moveTo>
                  <a:pt x="0" y="0"/>
                </a:moveTo>
                <a:cubicBezTo>
                  <a:pt x="107" y="245"/>
                  <a:pt x="214" y="490"/>
                  <a:pt x="480" y="672"/>
                </a:cubicBezTo>
                <a:cubicBezTo>
                  <a:pt x="746" y="854"/>
                  <a:pt x="1410" y="1022"/>
                  <a:pt x="1596" y="109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10120" y="4048200"/>
            <a:ext cx="15228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52760" y="4133880"/>
            <a:ext cx="25146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19600" y="4048200"/>
            <a:ext cx="15228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79720" y="45316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9900"/>
                </a:solidFill>
                <a:latin typeface="Lucida Casual"/>
              </a:rPr>
              <a:t>Carê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86200" y="4248000"/>
            <a:ext cx="0" cy="400320"/>
          </a:xfrm>
          <a:prstGeom prst="line">
            <a:avLst/>
          </a:prstGeom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95800" y="4238640"/>
            <a:ext cx="0" cy="399960"/>
          </a:xfrm>
          <a:prstGeom prst="line">
            <a:avLst/>
          </a:prstGeom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95560" y="4514760"/>
            <a:ext cx="1190880" cy="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08880" y="2819880"/>
            <a:ext cx="203364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Efei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Fi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Mercado Neg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0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214000" y="807480"/>
            <a:ext cx="513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Preço Baixo: Fixação de T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390840" y="2666880"/>
            <a:ext cx="2419560" cy="1600200"/>
          </a:xfrm>
          <a:custGeom>
            <a:avLst/>
            <a:gdLst/>
            <a:ahLst/>
            <a:rect l="l" t="t" r="r" b="b"/>
            <a:pathLst>
              <a:path w="1524" h="1008">
                <a:moveTo>
                  <a:pt x="0" y="1008"/>
                </a:moveTo>
                <a:cubicBezTo>
                  <a:pt x="299" y="930"/>
                  <a:pt x="598" y="852"/>
                  <a:pt x="852" y="684"/>
                </a:cubicBezTo>
                <a:cubicBezTo>
                  <a:pt x="1106" y="516"/>
                  <a:pt x="1315" y="258"/>
                  <a:pt x="152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60680" y="2130480"/>
            <a:ext cx="1440" cy="28940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484360" y="50245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484360" y="453564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84360" y="406548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84360" y="357660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484360" y="308916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484360" y="26179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84360" y="213048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60680" y="5024520"/>
            <a:ext cx="49737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5606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38472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422424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0482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87052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671040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753444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06520" y="48895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06520" y="44020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06520" y="39304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306520" y="3443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306520" y="2954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81960" y="24843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181960" y="19954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55096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37500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5044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9744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9816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63660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602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93040" y="5746680"/>
            <a:ext cx="2858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Quantidade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6200000">
            <a:off x="912240" y="3282480"/>
            <a:ext cx="19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Preço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52520" y="78840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Lucida Casual"/>
              </a:rPr>
              <a:t>Preço Alto: Fixação de P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390840" y="2647800"/>
            <a:ext cx="2533680" cy="1733760"/>
          </a:xfrm>
          <a:custGeom>
            <a:avLst/>
            <a:gdLst/>
            <a:ahLst/>
            <a:rect l="l" t="t" r="r" b="b"/>
            <a:pathLst>
              <a:path w="1596" h="1092">
                <a:moveTo>
                  <a:pt x="0" y="0"/>
                </a:moveTo>
                <a:cubicBezTo>
                  <a:pt x="107" y="245"/>
                  <a:pt x="214" y="490"/>
                  <a:pt x="480" y="672"/>
                </a:cubicBezTo>
                <a:cubicBezTo>
                  <a:pt x="746" y="854"/>
                  <a:pt x="1410" y="1022"/>
                  <a:pt x="1596" y="109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781680" y="2400480"/>
            <a:ext cx="1219320" cy="609480"/>
          </a:xfrm>
          <a:prstGeom prst="wedgeRoundRectCallout">
            <a:avLst>
              <a:gd name="adj1" fmla="val -125000"/>
              <a:gd name="adj2" fmla="val 270050"/>
              <a:gd name="adj3" fmla="val 16667"/>
            </a:avLst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81560" y="1676520"/>
            <a:ext cx="914400" cy="609480"/>
          </a:xfrm>
          <a:prstGeom prst="wedgeRoundRectCallout">
            <a:avLst>
              <a:gd name="adj1" fmla="val 87500"/>
              <a:gd name="adj2" fmla="val 123175"/>
              <a:gd name="adj3" fmla="val 16667"/>
            </a:avLst>
          </a:prstGeom>
          <a:solidFill>
            <a:srgbClr val="ffcccc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38560" y="3362400"/>
            <a:ext cx="15264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71840" y="3429000"/>
            <a:ext cx="25146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53000" y="3352680"/>
            <a:ext cx="15228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39840" y="258840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9900"/>
                </a:solidFill>
                <a:latin typeface="Lucida Casual"/>
              </a:rPr>
              <a:t>Ex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28960" y="2905200"/>
            <a:ext cx="0" cy="399960"/>
          </a:xfrm>
          <a:prstGeom prst="line">
            <a:avLst/>
          </a:prstGeom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114880" y="2924280"/>
            <a:ext cx="0" cy="399960"/>
          </a:xfrm>
          <a:prstGeom prst="line">
            <a:avLst/>
          </a:prstGeom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3838680" y="3048120"/>
            <a:ext cx="1257120" cy="936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45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390840" y="2666880"/>
            <a:ext cx="2419560" cy="1600200"/>
          </a:xfrm>
          <a:custGeom>
            <a:avLst/>
            <a:gdLst/>
            <a:ahLst/>
            <a:rect l="l" t="t" r="r" b="b"/>
            <a:pathLst>
              <a:path w="1524" h="1008">
                <a:moveTo>
                  <a:pt x="0" y="1008"/>
                </a:moveTo>
                <a:cubicBezTo>
                  <a:pt x="299" y="930"/>
                  <a:pt x="598" y="852"/>
                  <a:pt x="852" y="684"/>
                </a:cubicBezTo>
                <a:cubicBezTo>
                  <a:pt x="1106" y="516"/>
                  <a:pt x="1315" y="258"/>
                  <a:pt x="152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60680" y="2130480"/>
            <a:ext cx="1440" cy="28940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84360" y="50245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484360" y="453564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84360" y="406548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84360" y="357660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484360" y="308916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484360" y="26179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484360" y="213048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560680" y="5024520"/>
            <a:ext cx="49737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25606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338472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422424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50482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587052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671040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753444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06520" y="48895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06520" y="44020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06520" y="39304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06520" y="3443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06520" y="2954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181960" y="24843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181960" y="19954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55096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37500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5044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744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816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63660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4602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93040" y="5746680"/>
            <a:ext cx="2858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Quantidade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rot="16200000">
            <a:off x="912240" y="3282480"/>
            <a:ext cx="19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Preço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390840" y="2647800"/>
            <a:ext cx="2533680" cy="1733760"/>
          </a:xfrm>
          <a:custGeom>
            <a:avLst/>
            <a:gdLst/>
            <a:ahLst/>
            <a:rect l="l" t="t" r="r" b="b"/>
            <a:pathLst>
              <a:path w="1596" h="1092">
                <a:moveTo>
                  <a:pt x="0" y="0"/>
                </a:moveTo>
                <a:cubicBezTo>
                  <a:pt x="107" y="245"/>
                  <a:pt x="214" y="490"/>
                  <a:pt x="480" y="672"/>
                </a:cubicBezTo>
                <a:cubicBezTo>
                  <a:pt x="746" y="854"/>
                  <a:pt x="1410" y="1022"/>
                  <a:pt x="1596" y="109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38560" y="3362400"/>
            <a:ext cx="15264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571840" y="3429000"/>
            <a:ext cx="25146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753000" y="3352680"/>
            <a:ext cx="15228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39840" y="258840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9900"/>
                </a:solidFill>
                <a:latin typeface="Lucida Casual"/>
              </a:rPr>
              <a:t>Exces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28960" y="2905200"/>
            <a:ext cx="0" cy="399960"/>
          </a:xfrm>
          <a:prstGeom prst="line">
            <a:avLst/>
          </a:prstGeom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14880" y="2924280"/>
            <a:ext cx="0" cy="399960"/>
          </a:xfrm>
          <a:prstGeom prst="line">
            <a:avLst/>
          </a:prstGeom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38680" y="3048120"/>
            <a:ext cx="1257120" cy="936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658200" y="2611440"/>
            <a:ext cx="182052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Medid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Subsíd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  </a:t>
            </a: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pelo Gov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0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52520" y="78840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Lucida Casual"/>
              </a:rPr>
              <a:t>Preço Alto: Fixação de P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390840" y="2666880"/>
            <a:ext cx="2419560" cy="1600200"/>
          </a:xfrm>
          <a:custGeom>
            <a:avLst/>
            <a:gdLst/>
            <a:ahLst/>
            <a:rect l="l" t="t" r="r" b="b"/>
            <a:pathLst>
              <a:path w="1524" h="1008">
                <a:moveTo>
                  <a:pt x="0" y="1008"/>
                </a:moveTo>
                <a:cubicBezTo>
                  <a:pt x="299" y="930"/>
                  <a:pt x="598" y="852"/>
                  <a:pt x="852" y="684"/>
                </a:cubicBezTo>
                <a:cubicBezTo>
                  <a:pt x="1106" y="516"/>
                  <a:pt x="1315" y="258"/>
                  <a:pt x="152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60680" y="2130480"/>
            <a:ext cx="1440" cy="28940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84360" y="50245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84360" y="453564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484360" y="406548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484360" y="357660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84360" y="308916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484360" y="26179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484360" y="213048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560680" y="5024520"/>
            <a:ext cx="49737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5606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338472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22424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50482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87052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671040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753444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306520" y="48895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306520" y="44020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306520" y="39304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06520" y="3443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06520" y="2954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181960" y="24843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181960" y="19954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5096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37500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5044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744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9816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63660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4602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93040" y="5746680"/>
            <a:ext cx="2858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Quantidade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rot="16200000">
            <a:off x="912240" y="3282480"/>
            <a:ext cx="19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Preço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649600" y="826200"/>
            <a:ext cx="401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Lucida Casual"/>
              </a:rPr>
              <a:t>Oferta Limitada: Co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390840" y="2647800"/>
            <a:ext cx="2533680" cy="1733760"/>
          </a:xfrm>
          <a:custGeom>
            <a:avLst/>
            <a:gdLst/>
            <a:ahLst/>
            <a:rect l="l" t="t" r="r" b="b"/>
            <a:pathLst>
              <a:path w="1596" h="1092">
                <a:moveTo>
                  <a:pt x="0" y="0"/>
                </a:moveTo>
                <a:cubicBezTo>
                  <a:pt x="107" y="245"/>
                  <a:pt x="214" y="490"/>
                  <a:pt x="480" y="672"/>
                </a:cubicBezTo>
                <a:cubicBezTo>
                  <a:pt x="746" y="854"/>
                  <a:pt x="1410" y="1022"/>
                  <a:pt x="1596" y="109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29400" y="3219480"/>
            <a:ext cx="1219320" cy="609480"/>
          </a:xfrm>
          <a:prstGeom prst="wedgeRoundRectCallout">
            <a:avLst>
              <a:gd name="adj1" fmla="val -135939"/>
              <a:gd name="adj2" fmla="val 120050"/>
              <a:gd name="adj3" fmla="val 16667"/>
            </a:avLst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724800" y="1771560"/>
            <a:ext cx="914400" cy="609840"/>
          </a:xfrm>
          <a:prstGeom prst="wedgeRoundRectCallout">
            <a:avLst>
              <a:gd name="adj1" fmla="val -168750"/>
              <a:gd name="adj2" fmla="val 138800"/>
              <a:gd name="adj3" fmla="val 16667"/>
            </a:avLst>
          </a:prstGeom>
          <a:solidFill>
            <a:srgbClr val="ffcccc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400640" y="3819600"/>
            <a:ext cx="15228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3827520" y="3457080"/>
            <a:ext cx="1440" cy="15433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753000" y="3352680"/>
            <a:ext cx="15228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2967120" y="3423600"/>
            <a:ext cx="750960" cy="11160"/>
          </a:xfrm>
          <a:prstGeom prst="line">
            <a:avLst/>
          </a:prstGeom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19400" y="3901320"/>
            <a:ext cx="0" cy="692280"/>
          </a:xfrm>
          <a:prstGeom prst="line">
            <a:avLst/>
          </a:prstGeom>
          <a:ln w="2844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128000" y="3760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173400" y="19123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9900"/>
                </a:solidFill>
                <a:latin typeface="Lucida Casual"/>
              </a:rPr>
              <a:t>Sobre-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3017520" y="3890880"/>
            <a:ext cx="1374840" cy="0"/>
          </a:xfrm>
          <a:prstGeom prst="line">
            <a:avLst/>
          </a:prstGeom>
          <a:ln w="1908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19400" y="1931400"/>
            <a:ext cx="0" cy="14922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746520" y="4078440"/>
            <a:ext cx="152280" cy="142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5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5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545200" y="2907360"/>
            <a:ext cx="431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Efeito das Alter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na Oferta e Dem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21880" y="2763720"/>
            <a:ext cx="41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9900"/>
                </a:solidFill>
                <a:latin typeface="Lucida Casual"/>
              </a:rPr>
              <a:t>Microeconom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133720" y="4172040"/>
            <a:ext cx="5029200" cy="1828800"/>
            <a:chOff x="2133720" y="4172040"/>
            <a:chExt cx="5029200" cy="1828800"/>
          </a:xfrm>
        </p:grpSpPr>
        <p:sp>
          <p:nvSpPr>
            <p:cNvPr id="49" name=""/>
            <p:cNvSpPr/>
            <p:nvPr/>
          </p:nvSpPr>
          <p:spPr>
            <a:xfrm>
              <a:off x="2133720" y="4172040"/>
              <a:ext cx="5029200" cy="1828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14520" y="4257720"/>
              <a:ext cx="4551480" cy="16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9900"/>
                  </a:solidFill>
                  <a:latin typeface="Lucida Casual"/>
                </a:rPr>
                <a:t>Takashi Yoney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00"/>
                  </a:solidFill>
                  <a:latin typeface="Lucida Casual"/>
                </a:rPr>
                <a:t>ITA - Divisão de Engenharia Eletrôn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00"/>
                  </a:solidFill>
                  <a:latin typeface="Lucida Casual"/>
                </a:rPr>
                <a:t>Tel: (0xx12) 3947-599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00"/>
                  </a:solidFill>
                  <a:latin typeface="Lucida Casual"/>
                </a:rPr>
                <a:t>E-mail: takashi@ele.ita.cta.b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00"/>
                  </a:solidFill>
                  <a:latin typeface="Lucida Casual"/>
                </a:rPr>
                <a:t>HP: http://www.ele.ita.cta.br/~takash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487800" y="1711440"/>
            <a:ext cx="7921080" cy="36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Simplifica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nálise de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 preços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e 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uant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emais variáveis assumidas 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fixas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(condição </a:t>
            </a:r>
            <a:r>
              <a:rPr b="1" i="1" lang="pt-BR" sz="1800" spc="-1" strike="noStrike">
                <a:solidFill>
                  <a:srgbClr val="ff0000"/>
                </a:solidFill>
                <a:latin typeface="Lucida Casual"/>
              </a:rPr>
              <a:t>ceteris paribus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as, na realida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oferta = função(preços, tecnologia, clima, normas,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Problema: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Como a quantidade ofertada varia quando há alteraçõ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nas demais variávei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6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3040200" y="325908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791080" y="799560"/>
            <a:ext cx="36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Efeito da Tecn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760080" y="30488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569680" y="3317400"/>
            <a:ext cx="3697560" cy="337320"/>
            <a:chOff x="2569680" y="3317400"/>
            <a:chExt cx="3697560" cy="337320"/>
          </a:xfrm>
        </p:grpSpPr>
        <p:sp>
          <p:nvSpPr>
            <p:cNvPr id="572" name=""/>
            <p:cNvSpPr/>
            <p:nvPr/>
          </p:nvSpPr>
          <p:spPr>
            <a:xfrm flipH="1">
              <a:off x="2987280" y="3533760"/>
              <a:ext cx="32799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569680" y="33174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Lucida Casu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3024360" y="3263760"/>
            <a:ext cx="3651120" cy="2051280"/>
            <a:chOff x="3024360" y="3263760"/>
            <a:chExt cx="3651120" cy="2051280"/>
          </a:xfrm>
        </p:grpSpPr>
        <p:sp>
          <p:nvSpPr>
            <p:cNvPr id="575" name=""/>
            <p:cNvSpPr/>
            <p:nvPr/>
          </p:nvSpPr>
          <p:spPr>
            <a:xfrm>
              <a:off x="5676840" y="3409920"/>
              <a:ext cx="0" cy="188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48520" y="3429000"/>
              <a:ext cx="0" cy="188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3024360" y="3263760"/>
              <a:ext cx="3651120" cy="1652760"/>
              <a:chOff x="3024360" y="3263760"/>
              <a:chExt cx="3651120" cy="1652760"/>
            </a:xfrm>
          </p:grpSpPr>
          <p:sp>
            <p:nvSpPr>
              <p:cNvPr id="578" name=""/>
              <p:cNvSpPr/>
              <p:nvPr/>
            </p:nvSpPr>
            <p:spPr>
              <a:xfrm>
                <a:off x="3030480" y="3263760"/>
                <a:ext cx="3116160" cy="1339920"/>
              </a:xfrm>
              <a:custGeom>
                <a:avLst/>
                <a:gdLst/>
                <a:ahLst/>
                <a:rect l="l" t="t" r="r" b="b"/>
                <a:pathLst>
                  <a:path w="1963" h="663">
                    <a:moveTo>
                      <a:pt x="0" y="663"/>
                    </a:moveTo>
                    <a:cubicBezTo>
                      <a:pt x="220" y="621"/>
                      <a:pt x="441" y="580"/>
                      <a:pt x="682" y="509"/>
                    </a:cubicBezTo>
                    <a:cubicBezTo>
                      <a:pt x="923" y="438"/>
                      <a:pt x="1231" y="321"/>
                      <a:pt x="1445" y="236"/>
                    </a:cubicBezTo>
                    <a:cubicBezTo>
                      <a:pt x="1659" y="151"/>
                      <a:pt x="1877" y="39"/>
                      <a:pt x="1963" y="0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024360" y="3287880"/>
                <a:ext cx="3651120" cy="1628640"/>
              </a:xfrm>
              <a:custGeom>
                <a:avLst/>
                <a:gdLst/>
                <a:ahLst/>
                <a:rect l="l" t="t" r="r" b="b"/>
                <a:pathLst>
                  <a:path w="1963" h="663">
                    <a:moveTo>
                      <a:pt x="0" y="663"/>
                    </a:moveTo>
                    <a:cubicBezTo>
                      <a:pt x="220" y="621"/>
                      <a:pt x="441" y="580"/>
                      <a:pt x="682" y="509"/>
                    </a:cubicBezTo>
                    <a:cubicBezTo>
                      <a:pt x="923" y="438"/>
                      <a:pt x="1231" y="321"/>
                      <a:pt x="1445" y="236"/>
                    </a:cubicBezTo>
                    <a:cubicBezTo>
                      <a:pt x="1659" y="151"/>
                      <a:pt x="1877" y="39"/>
                      <a:pt x="1963" y="0"/>
                    </a:cubicBezTo>
                  </a:path>
                </a:pathLst>
              </a:custGeom>
              <a:noFill/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0" name=""/>
          <p:cNvGrpSpPr/>
          <p:nvPr/>
        </p:nvGrpSpPr>
        <p:grpSpPr>
          <a:xfrm>
            <a:off x="4056120" y="1625760"/>
            <a:ext cx="2206080" cy="1909440"/>
            <a:chOff x="4056120" y="1625760"/>
            <a:chExt cx="2206080" cy="1909440"/>
          </a:xfrm>
        </p:grpSpPr>
        <p:sp>
          <p:nvSpPr>
            <p:cNvPr id="581" name=""/>
            <p:cNvSpPr/>
            <p:nvPr/>
          </p:nvSpPr>
          <p:spPr>
            <a:xfrm>
              <a:off x="5745240" y="3535200"/>
              <a:ext cx="51696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056120" y="1625760"/>
              <a:ext cx="2196000" cy="1148400"/>
            </a:xfrm>
            <a:prstGeom prst="wedgeRoundRectCallout">
              <a:avLst>
                <a:gd name="adj1" fmla="val 37027"/>
                <a:gd name="adj2" fmla="val 113416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8000"/>
                  </a:solidFill>
                  <a:latin typeface="Lucida Casual"/>
                </a:rPr>
                <a:t>Baratea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8000"/>
                  </a:solidFill>
                  <a:latin typeface="Lucida Casual"/>
                </a:rPr>
                <a:t>da produção </a:t>
              </a:r>
              <a:r>
                <a:rPr b="1" lang="pt-BR" sz="16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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8000"/>
                  </a:solidFill>
                  <a:latin typeface="Lucida Casual"/>
                </a:rPr>
                <a:t>Maior oferta pa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8000"/>
                  </a:solidFill>
                  <a:latin typeface="Lucida Casual"/>
                </a:rPr>
                <a:t>mesmo preç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8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044720" y="84240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Lucida Casual"/>
              </a:rPr>
              <a:t>Efeito da Elevação de Preço dos Fa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968080" y="26679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360880" y="3222360"/>
            <a:ext cx="3697200" cy="337320"/>
            <a:chOff x="2360880" y="3222360"/>
            <a:chExt cx="3697200" cy="337320"/>
          </a:xfrm>
        </p:grpSpPr>
        <p:sp>
          <p:nvSpPr>
            <p:cNvPr id="594" name=""/>
            <p:cNvSpPr/>
            <p:nvPr/>
          </p:nvSpPr>
          <p:spPr>
            <a:xfrm flipH="1">
              <a:off x="2790720" y="3438720"/>
              <a:ext cx="326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60880" y="322236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Lucida Casu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5857920" y="3362400"/>
            <a:ext cx="0" cy="19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181480" y="3390840"/>
            <a:ext cx="0" cy="19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040200" y="325908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2994120" y="2967120"/>
            <a:ext cx="3152520" cy="1636560"/>
            <a:chOff x="2994120" y="2967120"/>
            <a:chExt cx="3152520" cy="1636560"/>
          </a:xfrm>
        </p:grpSpPr>
        <p:sp>
          <p:nvSpPr>
            <p:cNvPr id="600" name=""/>
            <p:cNvSpPr/>
            <p:nvPr/>
          </p:nvSpPr>
          <p:spPr>
            <a:xfrm>
              <a:off x="3030480" y="3263760"/>
              <a:ext cx="3116160" cy="1339920"/>
            </a:xfrm>
            <a:custGeom>
              <a:avLst/>
              <a:gdLst/>
              <a:ahLst/>
              <a:rect l="l" t="t" r="r" b="b"/>
              <a:pathLst>
                <a:path w="1963" h="663">
                  <a:moveTo>
                    <a:pt x="0" y="663"/>
                  </a:moveTo>
                  <a:cubicBezTo>
                    <a:pt x="220" y="621"/>
                    <a:pt x="441" y="580"/>
                    <a:pt x="682" y="509"/>
                  </a:cubicBezTo>
                  <a:cubicBezTo>
                    <a:pt x="923" y="438"/>
                    <a:pt x="1231" y="321"/>
                    <a:pt x="1445" y="236"/>
                  </a:cubicBezTo>
                  <a:cubicBezTo>
                    <a:pt x="1659" y="151"/>
                    <a:pt x="1877" y="39"/>
                    <a:pt x="1963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994120" y="2967120"/>
              <a:ext cx="2935080" cy="1325520"/>
            </a:xfrm>
            <a:custGeom>
              <a:avLst/>
              <a:gdLst/>
              <a:ahLst/>
              <a:rect l="l" t="t" r="r" b="b"/>
              <a:pathLst>
                <a:path w="1963" h="663">
                  <a:moveTo>
                    <a:pt x="0" y="663"/>
                  </a:moveTo>
                  <a:cubicBezTo>
                    <a:pt x="220" y="621"/>
                    <a:pt x="441" y="580"/>
                    <a:pt x="682" y="509"/>
                  </a:cubicBezTo>
                  <a:cubicBezTo>
                    <a:pt x="923" y="438"/>
                    <a:pt x="1231" y="321"/>
                    <a:pt x="1445" y="236"/>
                  </a:cubicBezTo>
                  <a:cubicBezTo>
                    <a:pt x="1659" y="151"/>
                    <a:pt x="1877" y="39"/>
                    <a:pt x="1963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422520" y="1693800"/>
            <a:ext cx="2386080" cy="1749600"/>
            <a:chOff x="3422520" y="1693800"/>
            <a:chExt cx="2386080" cy="1749600"/>
          </a:xfrm>
        </p:grpSpPr>
        <p:sp>
          <p:nvSpPr>
            <p:cNvPr id="603" name=""/>
            <p:cNvSpPr/>
            <p:nvPr/>
          </p:nvSpPr>
          <p:spPr>
            <a:xfrm flipH="1">
              <a:off x="5229000" y="3443400"/>
              <a:ext cx="56196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422520" y="1693800"/>
              <a:ext cx="2386080" cy="1171800"/>
            </a:xfrm>
            <a:prstGeom prst="wedgeRoundRectCallout">
              <a:avLst>
                <a:gd name="adj1" fmla="val 40884"/>
                <a:gd name="adj2" fmla="val 96476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8000"/>
                  </a:solidFill>
                  <a:latin typeface="Arial"/>
                </a:rPr>
                <a:t>Aumento no Cus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8000"/>
                  </a:solidFill>
                  <a:latin typeface="Arial"/>
                </a:rPr>
                <a:t>de produção -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8000"/>
                  </a:solidFill>
                  <a:latin typeface="Arial"/>
                </a:rPr>
                <a:t>Menor oferta pa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8000"/>
                  </a:solidFill>
                  <a:latin typeface="Arial"/>
                </a:rPr>
                <a:t>mesmo preç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0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"/>
          <p:cNvGrpSpPr/>
          <p:nvPr/>
        </p:nvGrpSpPr>
        <p:grpSpPr>
          <a:xfrm>
            <a:off x="3557520" y="2490840"/>
            <a:ext cx="4854240" cy="2355120"/>
            <a:chOff x="3557520" y="2490840"/>
            <a:chExt cx="4854240" cy="2355120"/>
          </a:xfrm>
        </p:grpSpPr>
        <p:sp>
          <p:nvSpPr>
            <p:cNvPr id="610" name=""/>
            <p:cNvSpPr/>
            <p:nvPr/>
          </p:nvSpPr>
          <p:spPr>
            <a:xfrm>
              <a:off x="3557520" y="2490840"/>
              <a:ext cx="3159360" cy="1947960"/>
            </a:xfrm>
            <a:custGeom>
              <a:avLst/>
              <a:gdLst/>
              <a:ahLst/>
              <a:rect l="l" t="t" r="r" b="b"/>
              <a:pathLst>
                <a:path w="1627" h="1427">
                  <a:moveTo>
                    <a:pt x="0" y="0"/>
                  </a:moveTo>
                  <a:cubicBezTo>
                    <a:pt x="134" y="197"/>
                    <a:pt x="268" y="394"/>
                    <a:pt x="463" y="591"/>
                  </a:cubicBezTo>
                  <a:cubicBezTo>
                    <a:pt x="658" y="788"/>
                    <a:pt x="978" y="1043"/>
                    <a:pt x="1172" y="1182"/>
                  </a:cubicBezTo>
                  <a:cubicBezTo>
                    <a:pt x="1366" y="1321"/>
                    <a:pt x="1551" y="1386"/>
                    <a:pt x="1627" y="142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487560" y="4477680"/>
              <a:ext cx="192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Lucida Casual"/>
                </a:rPr>
                <a:t>D: Renda Mai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30480" y="3263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5212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2987640" y="3716280"/>
            <a:ext cx="2303640" cy="1494000"/>
            <a:chOff x="2987640" y="3716280"/>
            <a:chExt cx="2303640" cy="1494000"/>
          </a:xfrm>
        </p:grpSpPr>
        <p:sp>
          <p:nvSpPr>
            <p:cNvPr id="625" name=""/>
            <p:cNvSpPr/>
            <p:nvPr/>
          </p:nvSpPr>
          <p:spPr>
            <a:xfrm>
              <a:off x="5224320" y="3809880"/>
              <a:ext cx="0" cy="14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2987640" y="3767040"/>
              <a:ext cx="219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146560" y="3716280"/>
              <a:ext cx="14472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736800" y="1774800"/>
            <a:ext cx="2127600" cy="1473120"/>
            <a:chOff x="3736800" y="1774800"/>
            <a:chExt cx="2127600" cy="1473120"/>
          </a:xfrm>
        </p:grpSpPr>
        <p:sp>
          <p:nvSpPr>
            <p:cNvPr id="629" name=""/>
            <p:cNvSpPr/>
            <p:nvPr/>
          </p:nvSpPr>
          <p:spPr>
            <a:xfrm>
              <a:off x="3736800" y="3247920"/>
              <a:ext cx="592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968640" y="1774800"/>
              <a:ext cx="1895760" cy="536760"/>
            </a:xfrm>
            <a:prstGeom prst="wedgeRoundRectCallout">
              <a:avLst>
                <a:gd name="adj1" fmla="val -50000"/>
                <a:gd name="adj2" fmla="val 218342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Lucida Casual"/>
                </a:rPr>
                <a:t>Bens Norma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1234800" y="828000"/>
            <a:ext cx="659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Lucida Casual"/>
              </a:rPr>
              <a:t>Efeito da Renda sobre Bens Norm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3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085720" y="523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645640" y="35758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"/>
          <p:cNvGrpSpPr/>
          <p:nvPr/>
        </p:nvGrpSpPr>
        <p:grpSpPr>
          <a:xfrm>
            <a:off x="3009960" y="3083040"/>
            <a:ext cx="4536360" cy="1994760"/>
            <a:chOff x="3009960" y="3083040"/>
            <a:chExt cx="4536360" cy="1994760"/>
          </a:xfrm>
        </p:grpSpPr>
        <p:sp>
          <p:nvSpPr>
            <p:cNvPr id="639" name=""/>
            <p:cNvSpPr/>
            <p:nvPr/>
          </p:nvSpPr>
          <p:spPr>
            <a:xfrm>
              <a:off x="3009960" y="3083040"/>
              <a:ext cx="2481120" cy="1658880"/>
            </a:xfrm>
            <a:custGeom>
              <a:avLst/>
              <a:gdLst/>
              <a:ahLst/>
              <a:rect l="l" t="t" r="r" b="b"/>
              <a:pathLst>
                <a:path w="1627" h="1427">
                  <a:moveTo>
                    <a:pt x="0" y="0"/>
                  </a:moveTo>
                  <a:cubicBezTo>
                    <a:pt x="134" y="197"/>
                    <a:pt x="268" y="394"/>
                    <a:pt x="463" y="591"/>
                  </a:cubicBezTo>
                  <a:cubicBezTo>
                    <a:pt x="658" y="788"/>
                    <a:pt x="978" y="1043"/>
                    <a:pt x="1172" y="1182"/>
                  </a:cubicBezTo>
                  <a:cubicBezTo>
                    <a:pt x="1366" y="1321"/>
                    <a:pt x="1551" y="1386"/>
                    <a:pt x="1627" y="142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622120" y="4709520"/>
              <a:ext cx="192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Lucida Casual"/>
                </a:rPr>
                <a:t>D: Renda Mai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30480" y="3263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017880" y="4135320"/>
            <a:ext cx="1407960" cy="1046160"/>
            <a:chOff x="3017880" y="4135320"/>
            <a:chExt cx="1407960" cy="1046160"/>
          </a:xfrm>
        </p:grpSpPr>
        <p:sp>
          <p:nvSpPr>
            <p:cNvPr id="654" name=""/>
            <p:cNvSpPr/>
            <p:nvPr/>
          </p:nvSpPr>
          <p:spPr>
            <a:xfrm>
              <a:off x="4357800" y="4214880"/>
              <a:ext cx="0" cy="96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3017880" y="4200480"/>
              <a:ext cx="131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81480" y="4135320"/>
              <a:ext cx="144360" cy="130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3564000" y="2063880"/>
            <a:ext cx="2314440" cy="1546200"/>
            <a:chOff x="3564000" y="2063880"/>
            <a:chExt cx="2314440" cy="1546200"/>
          </a:xfrm>
        </p:grpSpPr>
        <p:sp>
          <p:nvSpPr>
            <p:cNvPr id="658" name=""/>
            <p:cNvSpPr/>
            <p:nvPr/>
          </p:nvSpPr>
          <p:spPr>
            <a:xfrm flipH="1">
              <a:off x="3564000" y="3610080"/>
              <a:ext cx="490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983040" y="2063880"/>
              <a:ext cx="1895400" cy="536400"/>
            </a:xfrm>
            <a:prstGeom prst="wedgeRoundRectCallout">
              <a:avLst>
                <a:gd name="adj1" fmla="val -58375"/>
                <a:gd name="adj2" fmla="val 2399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Lucida Casual"/>
                </a:rPr>
                <a:t>Bens Inferi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1190880" y="828000"/>
            <a:ext cx="68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Lucida Casual"/>
              </a:rPr>
              <a:t>Efeito da Renda sobre Bens Inferi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6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"/>
          <p:cNvGrpSpPr/>
          <p:nvPr/>
        </p:nvGrpSpPr>
        <p:grpSpPr>
          <a:xfrm>
            <a:off x="2735280" y="2521080"/>
            <a:ext cx="5727600" cy="1947600"/>
            <a:chOff x="2735280" y="2521080"/>
            <a:chExt cx="5727600" cy="1947600"/>
          </a:xfrm>
        </p:grpSpPr>
        <p:sp>
          <p:nvSpPr>
            <p:cNvPr id="666" name=""/>
            <p:cNvSpPr/>
            <p:nvPr/>
          </p:nvSpPr>
          <p:spPr>
            <a:xfrm>
              <a:off x="2735280" y="2521080"/>
              <a:ext cx="3159000" cy="1947600"/>
            </a:xfrm>
            <a:custGeom>
              <a:avLst/>
              <a:gdLst/>
              <a:ahLst/>
              <a:rect l="l" t="t" r="r" b="b"/>
              <a:pathLst>
                <a:path w="1627" h="1427">
                  <a:moveTo>
                    <a:pt x="0" y="0"/>
                  </a:moveTo>
                  <a:cubicBezTo>
                    <a:pt x="134" y="197"/>
                    <a:pt x="268" y="394"/>
                    <a:pt x="463" y="591"/>
                  </a:cubicBezTo>
                  <a:cubicBezTo>
                    <a:pt x="658" y="788"/>
                    <a:pt x="978" y="1043"/>
                    <a:pt x="1172" y="1182"/>
                  </a:cubicBezTo>
                  <a:cubicBezTo>
                    <a:pt x="1366" y="1321"/>
                    <a:pt x="1551" y="1386"/>
                    <a:pt x="1627" y="142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536000" y="3517200"/>
              <a:ext cx="39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Lucida Casual"/>
                </a:rPr>
                <a:t>D: Popularização do Computa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2525760" y="828000"/>
            <a:ext cx="417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Lucida Casual"/>
              </a:rPr>
              <a:t>Bens Complement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2165400" y="210780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933560" y="5240160"/>
            <a:ext cx="37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79800" y="2570040"/>
            <a:ext cx="3159000" cy="210672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rot="16200000">
            <a:off x="-194400" y="344484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 de Sistema 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893960" y="5512680"/>
            <a:ext cx="42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de Sistema 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914560" y="3278160"/>
            <a:ext cx="592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146400" y="1744560"/>
            <a:ext cx="3481560" cy="735120"/>
          </a:xfrm>
          <a:prstGeom prst="wedgeRoundRectCallout">
            <a:avLst>
              <a:gd name="adj1" fmla="val -50000"/>
              <a:gd name="adj2" fmla="val 15410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O.S. acompanham as ven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e compu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2440" y="45838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D: 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7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2899080" y="813600"/>
            <a:ext cx="347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Lucida Casual"/>
              </a:rPr>
              <a:t>Bens Substitu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002040" y="2540160"/>
            <a:ext cx="3200400" cy="2031840"/>
          </a:xfrm>
          <a:custGeom>
            <a:avLst/>
            <a:gdLst/>
            <a:ahLst/>
            <a:rect l="l" t="t" r="r" b="b"/>
            <a:pathLst>
              <a:path w="2016" h="1280">
                <a:moveTo>
                  <a:pt x="0" y="0"/>
                </a:moveTo>
                <a:cubicBezTo>
                  <a:pt x="164" y="183"/>
                  <a:pt x="329" y="372"/>
                  <a:pt x="566" y="550"/>
                </a:cubicBezTo>
                <a:cubicBezTo>
                  <a:pt x="803" y="728"/>
                  <a:pt x="1179" y="947"/>
                  <a:pt x="1421" y="1069"/>
                </a:cubicBezTo>
                <a:cubicBezTo>
                  <a:pt x="1663" y="1191"/>
                  <a:pt x="1892" y="1236"/>
                  <a:pt x="2016" y="128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rot="16200000">
            <a:off x="704520" y="3459240"/>
            <a:ext cx="35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 de Aparelhos Mini-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82080" y="5558760"/>
            <a:ext cx="42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 de Aparelhos Mini-Dis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564000" y="3610080"/>
            <a:ext cx="596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770280" y="1911240"/>
            <a:ext cx="3084480" cy="797040"/>
          </a:xfrm>
          <a:prstGeom prst="wedgeRoundRectCallout">
            <a:avLst>
              <a:gd name="adj1" fmla="val -47324"/>
              <a:gd name="adj2" fmla="val 15717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arcialmente substituí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or mp3 play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3009960" y="3083040"/>
            <a:ext cx="5577840" cy="1978920"/>
            <a:chOff x="3009960" y="3083040"/>
            <a:chExt cx="5577840" cy="1978920"/>
          </a:xfrm>
        </p:grpSpPr>
        <p:sp>
          <p:nvSpPr>
            <p:cNvPr id="690" name=""/>
            <p:cNvSpPr/>
            <p:nvPr/>
          </p:nvSpPr>
          <p:spPr>
            <a:xfrm>
              <a:off x="3009960" y="3083040"/>
              <a:ext cx="2481120" cy="1658880"/>
            </a:xfrm>
            <a:custGeom>
              <a:avLst/>
              <a:gdLst/>
              <a:ahLst/>
              <a:rect l="l" t="t" r="r" b="b"/>
              <a:pathLst>
                <a:path w="1627" h="1427">
                  <a:moveTo>
                    <a:pt x="0" y="0"/>
                  </a:moveTo>
                  <a:cubicBezTo>
                    <a:pt x="134" y="197"/>
                    <a:pt x="268" y="394"/>
                    <a:pt x="463" y="591"/>
                  </a:cubicBezTo>
                  <a:cubicBezTo>
                    <a:pt x="658" y="788"/>
                    <a:pt x="978" y="1043"/>
                    <a:pt x="1172" y="1182"/>
                  </a:cubicBezTo>
                  <a:cubicBezTo>
                    <a:pt x="1366" y="1321"/>
                    <a:pt x="1551" y="1386"/>
                    <a:pt x="1627" y="142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603040" y="4693680"/>
              <a:ext cx="298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Lucida Casual"/>
                </a:rPr>
                <a:t>D: Popularização de mp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6236640" y="437292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Lucida Casual"/>
              </a:rPr>
              <a:t>D: 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9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2987640" y="4014720"/>
            <a:ext cx="1774800" cy="119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667600" y="813600"/>
            <a:ext cx="37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Lucida Casual"/>
              </a:rPr>
              <a:t>Efeito da Tribu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030480" y="3263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27400" y="2165400"/>
            <a:ext cx="2024280" cy="609480"/>
          </a:xfrm>
          <a:prstGeom prst="wedgeRoundRectCallout">
            <a:avLst>
              <a:gd name="adj1" fmla="val -59962"/>
              <a:gd name="adj2" fmla="val 247657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ceita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tor Produ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1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2987640" y="4013280"/>
            <a:ext cx="1760400" cy="1181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976480" y="3587760"/>
            <a:ext cx="1154160" cy="682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09960" y="2579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995560" y="4278240"/>
            <a:ext cx="1154160" cy="909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973840" y="2684520"/>
            <a:ext cx="0" cy="663480"/>
          </a:xfrm>
          <a:prstGeom prst="line">
            <a:avLst/>
          </a:prstGeom>
          <a:ln w="2844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000120" y="28044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Imp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141800" y="3651120"/>
            <a:ext cx="0" cy="155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2987280" y="3579840"/>
            <a:ext cx="1111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002120" y="523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644920" y="3374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2496960" y="3579480"/>
            <a:ext cx="0" cy="44748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4127400" y="5729400"/>
            <a:ext cx="649440" cy="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064040" y="351648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030480" y="3263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486240" y="1905120"/>
            <a:ext cx="1790640" cy="609480"/>
          </a:xfrm>
          <a:prstGeom prst="wedgeRoundRectCallout">
            <a:avLst>
              <a:gd name="adj1" fmla="val -46810"/>
              <a:gd name="adj2" fmla="val 22942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colhi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lo Gov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4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667600" y="813600"/>
            <a:ext cx="37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Lucida Casual"/>
              </a:rPr>
              <a:t>Efeito da Tribu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2200320" y="842400"/>
            <a:ext cx="47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Excedente do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030480" y="3263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02120" y="2684520"/>
            <a:ext cx="0" cy="13269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692520" y="1616040"/>
            <a:ext cx="2776680" cy="609480"/>
          </a:xfrm>
          <a:prstGeom prst="wedgeRoundRectCallout">
            <a:avLst>
              <a:gd name="adj1" fmla="val -66638"/>
              <a:gd name="adj2" fmla="val 115106"/>
              <a:gd name="adj3" fmla="val 16667"/>
            </a:avLst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Preço, se houves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sòmente 1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024360" y="2619360"/>
            <a:ext cx="144360" cy="130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6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57320" y="2670120"/>
            <a:ext cx="7115040" cy="258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86600" y="93492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Lucida Casual"/>
              </a:rPr>
              <a:t>Organização do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5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85960" y="1655640"/>
          <a:ext cx="7432560" cy="4805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85960" y="1655640"/>
                    <a:ext cx="7432560" cy="48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030480" y="3263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102120" y="2684520"/>
            <a:ext cx="0" cy="13269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692520" y="1616040"/>
            <a:ext cx="2776680" cy="609480"/>
          </a:xfrm>
          <a:prstGeom prst="wedgeRoundRectCallout">
            <a:avLst>
              <a:gd name="adj1" fmla="val -62462"/>
              <a:gd name="adj2" fmla="val 141148"/>
              <a:gd name="adj3" fmla="val 16667"/>
            </a:avLst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Preço menor, pago pe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dois consumi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181320" y="2763720"/>
            <a:ext cx="144360" cy="130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40000" y="2808360"/>
            <a:ext cx="0" cy="12110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8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200320" y="842400"/>
            <a:ext cx="47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Excedente do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030480" y="3263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02120" y="2660760"/>
            <a:ext cx="0" cy="1350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692520" y="1616040"/>
            <a:ext cx="2776680" cy="609480"/>
          </a:xfrm>
          <a:prstGeom prst="wedgeRoundRectCallout">
            <a:avLst>
              <a:gd name="adj1" fmla="val -58291"/>
              <a:gd name="adj2" fmla="val 162240"/>
              <a:gd name="adj3" fmla="val 16667"/>
            </a:avLst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Preço menor, pago pe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três consumi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313080" y="2901960"/>
            <a:ext cx="144360" cy="130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240000" y="2808360"/>
            <a:ext cx="0" cy="12110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392640" y="2989440"/>
            <a:ext cx="0" cy="10238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1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200320" y="842400"/>
            <a:ext cx="47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Excedente do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30480" y="3263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692520" y="1616040"/>
            <a:ext cx="2776680" cy="609480"/>
          </a:xfrm>
          <a:prstGeom prst="wedgeRoundRectCallout">
            <a:avLst>
              <a:gd name="adj1" fmla="val -50458"/>
              <a:gd name="adj2" fmla="val 211981"/>
              <a:gd name="adj3" fmla="val 16667"/>
            </a:avLst>
          </a:prstGeom>
          <a:solidFill>
            <a:srgbClr val="ff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Todos os consumi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pagam me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535200" y="3112920"/>
            <a:ext cx="0" cy="900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678120" y="3218040"/>
            <a:ext cx="0" cy="7952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821040" y="3341520"/>
            <a:ext cx="0" cy="6717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944880" y="3456000"/>
            <a:ext cx="0" cy="566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078440" y="3541680"/>
            <a:ext cx="0" cy="4716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211640" y="3637080"/>
            <a:ext cx="0" cy="385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344840" y="3732120"/>
            <a:ext cx="0" cy="2905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478400" y="3817800"/>
            <a:ext cx="0" cy="2048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02240" y="3894120"/>
            <a:ext cx="0" cy="1191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102120" y="2660760"/>
            <a:ext cx="0" cy="1350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240000" y="2808360"/>
            <a:ext cx="0" cy="12110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92640" y="2989440"/>
            <a:ext cx="0" cy="10238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4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200320" y="842400"/>
            <a:ext cx="47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Excedente do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2987640" y="2548080"/>
            <a:ext cx="1774800" cy="1463400"/>
          </a:xfrm>
          <a:custGeom>
            <a:avLst/>
            <a:gdLst/>
            <a:ahLst/>
            <a:rect l="l" t="t" r="r" b="b"/>
            <a:pathLst>
              <a:path w="1118" h="922">
                <a:moveTo>
                  <a:pt x="2" y="0"/>
                </a:moveTo>
                <a:lnTo>
                  <a:pt x="163" y="168"/>
                </a:lnTo>
                <a:lnTo>
                  <a:pt x="353" y="360"/>
                </a:lnTo>
                <a:lnTo>
                  <a:pt x="584" y="555"/>
                </a:lnTo>
                <a:lnTo>
                  <a:pt x="842" y="729"/>
                </a:lnTo>
                <a:lnTo>
                  <a:pt x="1028" y="855"/>
                </a:lnTo>
                <a:lnTo>
                  <a:pt x="1118" y="922"/>
                </a:lnTo>
                <a:lnTo>
                  <a:pt x="0" y="922"/>
                </a:lnTo>
                <a:lnTo>
                  <a:pt x="2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030480" y="3263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692520" y="1616040"/>
            <a:ext cx="2776680" cy="609480"/>
          </a:xfrm>
          <a:prstGeom prst="wedgeRoundRectCallout">
            <a:avLst>
              <a:gd name="adj1" fmla="val -50458"/>
              <a:gd name="adj2" fmla="val 211981"/>
              <a:gd name="adj3" fmla="val 16667"/>
            </a:avLst>
          </a:prstGeom>
          <a:solidFill>
            <a:srgbClr val="ffcc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Área repres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ganho da socie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6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200320" y="842400"/>
            <a:ext cx="47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Excedente do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2462040" y="8424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Excedente do Produ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011400" y="3273480"/>
            <a:ext cx="311652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16160" y="4014720"/>
            <a:ext cx="0" cy="5731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040280" y="2049480"/>
            <a:ext cx="2776320" cy="609480"/>
          </a:xfrm>
          <a:prstGeom prst="wedgeRoundRectCallout">
            <a:avLst>
              <a:gd name="adj1" fmla="val -82189"/>
              <a:gd name="adj2" fmla="val 356773"/>
              <a:gd name="adj3" fmla="val 16667"/>
            </a:avLst>
          </a:prstGeom>
          <a:solidFill>
            <a:srgbClr val="ffff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Preço, se houves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sòmente 1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036960" y="4514760"/>
            <a:ext cx="144360" cy="1303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88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011400" y="3273480"/>
            <a:ext cx="311652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116160" y="4014720"/>
            <a:ext cx="0" cy="5731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329000" y="2049480"/>
            <a:ext cx="2270160" cy="609480"/>
          </a:xfrm>
          <a:prstGeom prst="wedgeRoundRectCallout">
            <a:avLst>
              <a:gd name="adj1" fmla="val -94476"/>
              <a:gd name="adj2" fmla="val 347134"/>
              <a:gd name="adj3" fmla="val 16667"/>
            </a:avLst>
          </a:prstGeom>
          <a:solidFill>
            <a:srgbClr val="ffff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Preço, por ha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2 consumi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71960" y="4491000"/>
            <a:ext cx="144360" cy="1303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54400" y="4008600"/>
            <a:ext cx="0" cy="5299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0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462040" y="8424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Excedente do Produ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011400" y="3273480"/>
            <a:ext cx="311652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386240" y="2049480"/>
            <a:ext cx="2241720" cy="609480"/>
          </a:xfrm>
          <a:prstGeom prst="wedgeRoundRectCallout">
            <a:avLst>
              <a:gd name="adj1" fmla="val -73157"/>
              <a:gd name="adj2" fmla="val 269009"/>
              <a:gd name="adj3" fmla="val 16667"/>
            </a:avLst>
          </a:prstGeom>
          <a:solidFill>
            <a:srgbClr val="ffff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Os produ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recebem m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409920" y="4019400"/>
            <a:ext cx="0" cy="47628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705120" y="4010040"/>
            <a:ext cx="0" cy="3999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562200" y="4019400"/>
            <a:ext cx="0" cy="4572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867120" y="4019400"/>
            <a:ext cx="0" cy="33336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029120" y="4010040"/>
            <a:ext cx="0" cy="2952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72040" y="4019400"/>
            <a:ext cx="0" cy="24768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305240" y="4010040"/>
            <a:ext cx="0" cy="19044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438800" y="4019400"/>
            <a:ext cx="0" cy="15264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572000" y="4019400"/>
            <a:ext cx="0" cy="9540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16160" y="4014720"/>
            <a:ext cx="0" cy="5731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254400" y="4008600"/>
            <a:ext cx="0" cy="52992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3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462040" y="8424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Excedente do Produ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/>
          <p:cNvSpPr/>
          <p:nvPr/>
        </p:nvSpPr>
        <p:spPr>
          <a:xfrm>
            <a:off x="2987640" y="4010040"/>
            <a:ext cx="1781280" cy="609480"/>
          </a:xfrm>
          <a:custGeom>
            <a:avLst/>
            <a:gdLst/>
            <a:ahLst/>
            <a:rect l="l" t="t" r="r" b="b"/>
            <a:pathLst>
              <a:path w="1122" h="384">
                <a:moveTo>
                  <a:pt x="0" y="0"/>
                </a:moveTo>
                <a:lnTo>
                  <a:pt x="1122" y="2"/>
                </a:lnTo>
                <a:lnTo>
                  <a:pt x="930" y="90"/>
                </a:lnTo>
                <a:lnTo>
                  <a:pt x="646" y="198"/>
                </a:lnTo>
                <a:lnTo>
                  <a:pt x="426" y="270"/>
                </a:lnTo>
                <a:lnTo>
                  <a:pt x="158" y="34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011400" y="3273480"/>
            <a:ext cx="311652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227480" y="2049480"/>
            <a:ext cx="2371680" cy="609480"/>
          </a:xfrm>
          <a:prstGeom prst="wedgeRoundRectCallout">
            <a:avLst>
              <a:gd name="adj1" fmla="val -65194"/>
              <a:gd name="adj2" fmla="val 269009"/>
              <a:gd name="adj3" fmla="val 16667"/>
            </a:avLst>
          </a:prstGeom>
          <a:solidFill>
            <a:srgbClr val="ccec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Benefícios par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Setor Produ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5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5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462040" y="8424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Excedente do Produ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2979720" y="4013280"/>
            <a:ext cx="1789200" cy="603000"/>
          </a:xfrm>
          <a:custGeom>
            <a:avLst/>
            <a:gdLst/>
            <a:ahLst/>
            <a:rect l="l" t="t" r="r" b="b"/>
            <a:pathLst>
              <a:path w="1132" h="380">
                <a:moveTo>
                  <a:pt x="0" y="0"/>
                </a:moveTo>
                <a:lnTo>
                  <a:pt x="1132" y="0"/>
                </a:lnTo>
                <a:lnTo>
                  <a:pt x="940" y="88"/>
                </a:lnTo>
                <a:lnTo>
                  <a:pt x="656" y="196"/>
                </a:lnTo>
                <a:lnTo>
                  <a:pt x="436" y="268"/>
                </a:lnTo>
                <a:lnTo>
                  <a:pt x="168" y="340"/>
                </a:lnTo>
                <a:lnTo>
                  <a:pt x="0" y="380"/>
                </a:lnTo>
                <a:lnTo>
                  <a:pt x="0" y="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987640" y="2548080"/>
            <a:ext cx="1774800" cy="1463400"/>
          </a:xfrm>
          <a:custGeom>
            <a:avLst/>
            <a:gdLst/>
            <a:ahLst/>
            <a:rect l="l" t="t" r="r" b="b"/>
            <a:pathLst>
              <a:path w="1118" h="922">
                <a:moveTo>
                  <a:pt x="2" y="0"/>
                </a:moveTo>
                <a:lnTo>
                  <a:pt x="163" y="168"/>
                </a:lnTo>
                <a:lnTo>
                  <a:pt x="353" y="360"/>
                </a:lnTo>
                <a:lnTo>
                  <a:pt x="584" y="555"/>
                </a:lnTo>
                <a:lnTo>
                  <a:pt x="842" y="729"/>
                </a:lnTo>
                <a:lnTo>
                  <a:pt x="1028" y="855"/>
                </a:lnTo>
                <a:lnTo>
                  <a:pt x="1118" y="922"/>
                </a:lnTo>
                <a:lnTo>
                  <a:pt x="0" y="922"/>
                </a:lnTo>
                <a:lnTo>
                  <a:pt x="2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712240" y="799560"/>
            <a:ext cx="37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Efeito da Tribu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030480" y="3263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97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2981160" y="4013280"/>
            <a:ext cx="1787760" cy="604800"/>
          </a:xfrm>
          <a:custGeom>
            <a:avLst/>
            <a:gdLst/>
            <a:ahLst/>
            <a:rect l="l" t="t" r="r" b="b"/>
            <a:pathLst>
              <a:path w="1126" h="381">
                <a:moveTo>
                  <a:pt x="4" y="0"/>
                </a:moveTo>
                <a:lnTo>
                  <a:pt x="1126" y="0"/>
                </a:lnTo>
                <a:lnTo>
                  <a:pt x="934" y="88"/>
                </a:lnTo>
                <a:lnTo>
                  <a:pt x="650" y="196"/>
                </a:lnTo>
                <a:lnTo>
                  <a:pt x="430" y="268"/>
                </a:lnTo>
                <a:lnTo>
                  <a:pt x="162" y="340"/>
                </a:lnTo>
                <a:lnTo>
                  <a:pt x="0" y="381"/>
                </a:lnTo>
                <a:lnTo>
                  <a:pt x="4" y="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987640" y="2548080"/>
            <a:ext cx="1774800" cy="1463400"/>
          </a:xfrm>
          <a:custGeom>
            <a:avLst/>
            <a:gdLst/>
            <a:ahLst/>
            <a:rect l="l" t="t" r="r" b="b"/>
            <a:pathLst>
              <a:path w="1118" h="922">
                <a:moveTo>
                  <a:pt x="2" y="0"/>
                </a:moveTo>
                <a:lnTo>
                  <a:pt x="163" y="168"/>
                </a:lnTo>
                <a:lnTo>
                  <a:pt x="353" y="360"/>
                </a:lnTo>
                <a:lnTo>
                  <a:pt x="584" y="555"/>
                </a:lnTo>
                <a:lnTo>
                  <a:pt x="842" y="729"/>
                </a:lnTo>
                <a:lnTo>
                  <a:pt x="1028" y="855"/>
                </a:lnTo>
                <a:lnTo>
                  <a:pt x="1118" y="922"/>
                </a:lnTo>
                <a:lnTo>
                  <a:pt x="0" y="922"/>
                </a:lnTo>
                <a:lnTo>
                  <a:pt x="2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976480" y="4272120"/>
            <a:ext cx="1185840" cy="352440"/>
          </a:xfrm>
          <a:custGeom>
            <a:avLst/>
            <a:gdLst/>
            <a:ahLst/>
            <a:rect l="l" t="t" r="r" b="b"/>
            <a:pathLst>
              <a:path w="747" h="222">
                <a:moveTo>
                  <a:pt x="747" y="0"/>
                </a:moveTo>
                <a:lnTo>
                  <a:pt x="345" y="135"/>
                </a:lnTo>
                <a:lnTo>
                  <a:pt x="0" y="222"/>
                </a:lnTo>
                <a:lnTo>
                  <a:pt x="3" y="0"/>
                </a:lnTo>
                <a:lnTo>
                  <a:pt x="747" y="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981160" y="2523960"/>
            <a:ext cx="1152720" cy="1062360"/>
          </a:xfrm>
          <a:custGeom>
            <a:avLst/>
            <a:gdLst/>
            <a:ahLst/>
            <a:rect l="l" t="t" r="r" b="b"/>
            <a:pathLst>
              <a:path w="726" h="669">
                <a:moveTo>
                  <a:pt x="3" y="0"/>
                </a:moveTo>
                <a:lnTo>
                  <a:pt x="117" y="129"/>
                </a:lnTo>
                <a:lnTo>
                  <a:pt x="315" y="336"/>
                </a:lnTo>
                <a:lnTo>
                  <a:pt x="546" y="537"/>
                </a:lnTo>
                <a:lnTo>
                  <a:pt x="726" y="669"/>
                </a:lnTo>
                <a:lnTo>
                  <a:pt x="0" y="669"/>
                </a:lnTo>
                <a:lnTo>
                  <a:pt x="3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009960" y="2579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973840" y="2684520"/>
            <a:ext cx="0" cy="663480"/>
          </a:xfrm>
          <a:prstGeom prst="line">
            <a:avLst/>
          </a:prstGeom>
          <a:ln w="2844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000120" y="28044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Imp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141800" y="3651120"/>
            <a:ext cx="0" cy="155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2987280" y="3579840"/>
            <a:ext cx="1111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002120" y="523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644920" y="3374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2496960" y="3579480"/>
            <a:ext cx="0" cy="44748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4127400" y="5729400"/>
            <a:ext cx="649440" cy="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064040" y="351648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011400" y="3273480"/>
            <a:ext cx="311652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2987640" y="4272120"/>
            <a:ext cx="1168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0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1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2712240" y="799560"/>
            <a:ext cx="37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Efeito da Tribu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6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83280" y="3150360"/>
            <a:ext cx="442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Equilíbrio de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/>
          <p:nvPr/>
        </p:nvSpPr>
        <p:spPr>
          <a:xfrm>
            <a:off x="4140360" y="3587760"/>
            <a:ext cx="641160" cy="698400"/>
          </a:xfrm>
          <a:custGeom>
            <a:avLst/>
            <a:gdLst/>
            <a:ahLst/>
            <a:rect l="l" t="t" r="r" b="b"/>
            <a:pathLst>
              <a:path w="404" h="440">
                <a:moveTo>
                  <a:pt x="0" y="0"/>
                </a:moveTo>
                <a:lnTo>
                  <a:pt x="184" y="124"/>
                </a:lnTo>
                <a:lnTo>
                  <a:pt x="404" y="264"/>
                </a:lnTo>
                <a:lnTo>
                  <a:pt x="4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987640" y="3579840"/>
            <a:ext cx="1154160" cy="69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976480" y="4272120"/>
            <a:ext cx="1185840" cy="352440"/>
          </a:xfrm>
          <a:custGeom>
            <a:avLst/>
            <a:gdLst/>
            <a:ahLst/>
            <a:rect l="l" t="t" r="r" b="b"/>
            <a:pathLst>
              <a:path w="747" h="222">
                <a:moveTo>
                  <a:pt x="747" y="0"/>
                </a:moveTo>
                <a:lnTo>
                  <a:pt x="345" y="135"/>
                </a:lnTo>
                <a:lnTo>
                  <a:pt x="0" y="222"/>
                </a:lnTo>
                <a:lnTo>
                  <a:pt x="3" y="0"/>
                </a:lnTo>
                <a:lnTo>
                  <a:pt x="747" y="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981160" y="2523960"/>
            <a:ext cx="1152720" cy="1062360"/>
          </a:xfrm>
          <a:custGeom>
            <a:avLst/>
            <a:gdLst/>
            <a:ahLst/>
            <a:rect l="l" t="t" r="r" b="b"/>
            <a:pathLst>
              <a:path w="726" h="669">
                <a:moveTo>
                  <a:pt x="3" y="0"/>
                </a:moveTo>
                <a:lnTo>
                  <a:pt x="117" y="129"/>
                </a:lnTo>
                <a:lnTo>
                  <a:pt x="315" y="336"/>
                </a:lnTo>
                <a:lnTo>
                  <a:pt x="546" y="537"/>
                </a:lnTo>
                <a:lnTo>
                  <a:pt x="726" y="669"/>
                </a:lnTo>
                <a:lnTo>
                  <a:pt x="0" y="669"/>
                </a:lnTo>
                <a:lnTo>
                  <a:pt x="3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009960" y="2579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973840" y="2684520"/>
            <a:ext cx="0" cy="663480"/>
          </a:xfrm>
          <a:prstGeom prst="line">
            <a:avLst/>
          </a:prstGeom>
          <a:ln w="2844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00120" y="28044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Imp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141800" y="3651120"/>
            <a:ext cx="0" cy="155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2987280" y="3579840"/>
            <a:ext cx="1111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002120" y="523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644920" y="3374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2496960" y="3579480"/>
            <a:ext cx="0" cy="44748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H="1">
            <a:off x="4127400" y="5729400"/>
            <a:ext cx="649440" cy="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064040" y="351648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011400" y="3273480"/>
            <a:ext cx="311652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2987640" y="4272120"/>
            <a:ext cx="1168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80920" y="2614680"/>
            <a:ext cx="1435320" cy="609480"/>
          </a:xfrm>
          <a:prstGeom prst="wedgeRoundRectCallout">
            <a:avLst>
              <a:gd name="adj1" fmla="val 112833"/>
              <a:gd name="adj2" fmla="val 22134"/>
              <a:gd name="adj3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8000"/>
                </a:solidFill>
                <a:latin typeface="Arial"/>
              </a:rPr>
              <a:t>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903240" y="4684680"/>
            <a:ext cx="1435320" cy="609480"/>
          </a:xfrm>
          <a:prstGeom prst="wedgeRoundRectCallout">
            <a:avLst>
              <a:gd name="adj1" fmla="val 115930"/>
              <a:gd name="adj2" fmla="val -102865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993300"/>
                </a:solidFill>
                <a:latin typeface="Arial"/>
              </a:rPr>
              <a:t>Produ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341520" y="1555920"/>
            <a:ext cx="1160640" cy="609480"/>
          </a:xfrm>
          <a:prstGeom prst="wedgeRoundRectCallout">
            <a:avLst>
              <a:gd name="adj1" fmla="val -48768"/>
              <a:gd name="adj2" fmla="val 30130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ov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560840" y="2370240"/>
            <a:ext cx="641520" cy="609480"/>
          </a:xfrm>
          <a:prstGeom prst="wedgeRoundRectCallout">
            <a:avLst>
              <a:gd name="adj1" fmla="val -81435"/>
              <a:gd name="adj2" fmla="val 202342"/>
              <a:gd name="adj3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66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4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712240" y="799560"/>
            <a:ext cx="37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Efeito da Tribu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4140360" y="3587760"/>
            <a:ext cx="641160" cy="698400"/>
          </a:xfrm>
          <a:custGeom>
            <a:avLst/>
            <a:gdLst/>
            <a:ahLst/>
            <a:rect l="l" t="t" r="r" b="b"/>
            <a:pathLst>
              <a:path w="404" h="440">
                <a:moveTo>
                  <a:pt x="0" y="0"/>
                </a:moveTo>
                <a:lnTo>
                  <a:pt x="184" y="124"/>
                </a:lnTo>
                <a:lnTo>
                  <a:pt x="404" y="264"/>
                </a:lnTo>
                <a:lnTo>
                  <a:pt x="4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009960" y="2579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973840" y="2684520"/>
            <a:ext cx="0" cy="663480"/>
          </a:xfrm>
          <a:prstGeom prst="line">
            <a:avLst/>
          </a:prstGeom>
          <a:ln w="2844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000120" y="28044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Imp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141800" y="3651120"/>
            <a:ext cx="0" cy="155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2987280" y="3579840"/>
            <a:ext cx="1111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002120" y="523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644920" y="3374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2496960" y="3579480"/>
            <a:ext cx="0" cy="44748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>
            <a:off x="4127400" y="5729400"/>
            <a:ext cx="649440" cy="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064040" y="351648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011400" y="3273480"/>
            <a:ext cx="311652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2987640" y="4272120"/>
            <a:ext cx="1168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970440" y="1692360"/>
            <a:ext cx="2489040" cy="609480"/>
          </a:xfrm>
          <a:prstGeom prst="wedgeRoundRectCallout">
            <a:avLst>
              <a:gd name="adj1" fmla="val -34949"/>
              <a:gd name="adj2" fmla="val 318231"/>
              <a:gd name="adj3" fmla="val 16667"/>
            </a:avLst>
          </a:prstGeom>
          <a:solidFill>
            <a:srgbClr val="cc9900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66"/>
                </a:solidFill>
                <a:latin typeface="Lucida Casual"/>
              </a:rPr>
              <a:t>Deadweight L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07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07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"/>
          <p:cNvSpPr/>
          <p:nvPr/>
        </p:nvSpPr>
        <p:spPr>
          <a:xfrm>
            <a:off x="4140360" y="3587760"/>
            <a:ext cx="641160" cy="698400"/>
          </a:xfrm>
          <a:custGeom>
            <a:avLst/>
            <a:gdLst/>
            <a:ahLst/>
            <a:rect l="l" t="t" r="r" b="b"/>
            <a:pathLst>
              <a:path w="404" h="440">
                <a:moveTo>
                  <a:pt x="0" y="0"/>
                </a:moveTo>
                <a:lnTo>
                  <a:pt x="184" y="124"/>
                </a:lnTo>
                <a:lnTo>
                  <a:pt x="404" y="264"/>
                </a:lnTo>
                <a:lnTo>
                  <a:pt x="4" y="440"/>
                </a:lnTo>
                <a:lnTo>
                  <a:pt x="0" y="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987640" y="3579840"/>
            <a:ext cx="1154160" cy="69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976480" y="4272120"/>
            <a:ext cx="1185840" cy="352440"/>
          </a:xfrm>
          <a:custGeom>
            <a:avLst/>
            <a:gdLst/>
            <a:ahLst/>
            <a:rect l="l" t="t" r="r" b="b"/>
            <a:pathLst>
              <a:path w="747" h="222">
                <a:moveTo>
                  <a:pt x="747" y="0"/>
                </a:moveTo>
                <a:lnTo>
                  <a:pt x="345" y="135"/>
                </a:lnTo>
                <a:lnTo>
                  <a:pt x="0" y="222"/>
                </a:lnTo>
                <a:lnTo>
                  <a:pt x="3" y="0"/>
                </a:lnTo>
                <a:lnTo>
                  <a:pt x="747" y="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981160" y="2523960"/>
            <a:ext cx="1152720" cy="1062360"/>
          </a:xfrm>
          <a:custGeom>
            <a:avLst/>
            <a:gdLst/>
            <a:ahLst/>
            <a:rect l="l" t="t" r="r" b="b"/>
            <a:pathLst>
              <a:path w="726" h="669">
                <a:moveTo>
                  <a:pt x="3" y="0"/>
                </a:moveTo>
                <a:lnTo>
                  <a:pt x="117" y="129"/>
                </a:lnTo>
                <a:lnTo>
                  <a:pt x="315" y="336"/>
                </a:lnTo>
                <a:lnTo>
                  <a:pt x="546" y="537"/>
                </a:lnTo>
                <a:lnTo>
                  <a:pt x="726" y="669"/>
                </a:lnTo>
                <a:lnTo>
                  <a:pt x="0" y="669"/>
                </a:lnTo>
                <a:lnTo>
                  <a:pt x="3" y="0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2987640" y="2077560"/>
            <a:ext cx="0" cy="3333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755800" y="5210280"/>
            <a:ext cx="376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002040" y="2540160"/>
            <a:ext cx="3159000" cy="2106360"/>
          </a:xfrm>
          <a:custGeom>
            <a:avLst/>
            <a:gdLst/>
            <a:ahLst/>
            <a:rect l="l" t="t" r="r" b="b"/>
            <a:pathLst>
              <a:path w="1627" h="1427">
                <a:moveTo>
                  <a:pt x="0" y="0"/>
                </a:moveTo>
                <a:cubicBezTo>
                  <a:pt x="134" y="197"/>
                  <a:pt x="268" y="394"/>
                  <a:pt x="463" y="591"/>
                </a:cubicBezTo>
                <a:cubicBezTo>
                  <a:pt x="658" y="788"/>
                  <a:pt x="978" y="1043"/>
                  <a:pt x="1172" y="1182"/>
                </a:cubicBezTo>
                <a:cubicBezTo>
                  <a:pt x="1366" y="1321"/>
                  <a:pt x="1551" y="1386"/>
                  <a:pt x="1627" y="142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187680" y="44920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153840" y="307728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rot="16200000">
            <a:off x="2218320" y="2282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742000" y="53604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762440" y="4027320"/>
            <a:ext cx="0" cy="11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2987640" y="4011480"/>
            <a:ext cx="177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629240" y="5228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637000" y="3814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009960" y="2579760"/>
            <a:ext cx="311616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973840" y="2684520"/>
            <a:ext cx="0" cy="663480"/>
          </a:xfrm>
          <a:prstGeom prst="line">
            <a:avLst/>
          </a:prstGeom>
          <a:ln w="2844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000120" y="28044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Imp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41800" y="3651120"/>
            <a:ext cx="0" cy="1559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2987280" y="3579840"/>
            <a:ext cx="1111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002120" y="523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644920" y="3374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2496960" y="3579480"/>
            <a:ext cx="0" cy="44748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4127400" y="5729400"/>
            <a:ext cx="649440" cy="0"/>
          </a:xfrm>
          <a:prstGeom prst="line">
            <a:avLst/>
          </a:prstGeom>
          <a:ln w="284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064040" y="3516480"/>
            <a:ext cx="144360" cy="12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011400" y="3273480"/>
            <a:ext cx="3116520" cy="1339920"/>
          </a:xfrm>
          <a:custGeom>
            <a:avLst/>
            <a:gdLst/>
            <a:ahLst/>
            <a:rect l="l" t="t" r="r" b="b"/>
            <a:pathLst>
              <a:path w="1963" h="663">
                <a:moveTo>
                  <a:pt x="0" y="663"/>
                </a:moveTo>
                <a:cubicBezTo>
                  <a:pt x="220" y="621"/>
                  <a:pt x="441" y="580"/>
                  <a:pt x="682" y="509"/>
                </a:cubicBezTo>
                <a:cubicBezTo>
                  <a:pt x="923" y="438"/>
                  <a:pt x="1231" y="321"/>
                  <a:pt x="1445" y="236"/>
                </a:cubicBezTo>
                <a:cubicBezTo>
                  <a:pt x="1659" y="151"/>
                  <a:pt x="1877" y="39"/>
                  <a:pt x="1963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691160" y="3954600"/>
            <a:ext cx="144360" cy="1299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87640" y="4272120"/>
            <a:ext cx="1168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0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1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712240" y="799560"/>
            <a:ext cx="37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Efeito da Tribu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329240" y="1897200"/>
            <a:ext cx="1309680" cy="2040840"/>
          </a:xfrm>
          <a:solidFill>
            <a:srgbClr val="ffff66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Govern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Saú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Educ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Habit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Seguranç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Cul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La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"/>
          <p:cNvSpPr/>
          <p:nvPr/>
        </p:nvSpPr>
        <p:spPr>
          <a:xfrm>
            <a:off x="2267280" y="80028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Alguns Impostos no Bras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067120" y="1767600"/>
            <a:ext cx="650340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de Importação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de Exportação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de Renda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sobre Produtos Industrializados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sobre Operações Financeiras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sobre a Propriedade Territorial Rural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sobre Grandes Fortunas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G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sobre Transmissão </a:t>
            </a:r>
            <a:r>
              <a:rPr b="1" i="1" lang="en-US" sz="1600" spc="-1" strike="noStrike">
                <a:solidFill>
                  <a:srgbClr val="3333cc"/>
                </a:solidFill>
                <a:latin typeface="Lucida Casual"/>
              </a:rPr>
              <a:t>Causa Mortis 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e Doações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T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sobre Circulação de Mercadorias 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Prestação de Serviços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C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sobre Propriedade de Veículos Automotores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P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sobre Servioços de Qualquer Natureza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sobre Propriedade Predial e Territorial Urbana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P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sobre Transmissão Intervivos 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TI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Lucida Casual"/>
              </a:rPr>
              <a:t>Imposto sobre Vendas a Varejo de Combustíveis - </a:t>
            </a:r>
            <a:r>
              <a:rPr b="1" lang="en-US" sz="1600" spc="-1" strike="noStrike">
                <a:solidFill>
                  <a:srgbClr val="ff5050"/>
                </a:solidFill>
                <a:latin typeface="Lucida Casual"/>
              </a:rPr>
              <a:t>IVV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57920" y="26042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Lucida Casual"/>
              </a:rPr>
              <a:t>Uni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91760" y="420444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Lucida Casual"/>
              </a:rPr>
              <a:t>Es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02120" y="536184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Lucida Casual"/>
              </a:rPr>
              <a:t>Municíp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889280" y="1874880"/>
            <a:ext cx="0" cy="19494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889280" y="3886200"/>
            <a:ext cx="0" cy="112716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889280" y="5075280"/>
            <a:ext cx="0" cy="111132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2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2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2723400" y="831960"/>
            <a:ext cx="39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Outras Contribui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118520" y="4735440"/>
            <a:ext cx="66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Programa de Integração Social - </a:t>
            </a:r>
            <a:r>
              <a:rPr b="1" lang="en-US" sz="2000" spc="-1" strike="noStrike">
                <a:solidFill>
                  <a:srgbClr val="ff5050"/>
                </a:solidFill>
                <a:latin typeface="Lucida Casual"/>
              </a:rPr>
              <a:t>P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Contribuição Social sobre o Faturamento - </a:t>
            </a:r>
            <a:r>
              <a:rPr b="1" lang="en-US" sz="2000" spc="-1" strike="noStrike">
                <a:solidFill>
                  <a:srgbClr val="ff5050"/>
                </a:solidFill>
                <a:latin typeface="Lucida Casual"/>
              </a:rPr>
              <a:t>COF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Lucida Casual"/>
              </a:rPr>
              <a:t>Contribuição Social sobre o Lucro Líquido - </a:t>
            </a:r>
            <a:r>
              <a:rPr b="1" lang="en-US" sz="2000" spc="-1" strike="noStrike">
                <a:solidFill>
                  <a:srgbClr val="ff5050"/>
                </a:solidFill>
                <a:latin typeface="Lucida Casual"/>
              </a:rPr>
              <a:t>CS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32520" y="1943280"/>
            <a:ext cx="80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onstituição da República Federativa do Bras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Título VIII: Da Ordem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Cap II, Seção I, Art. 195</a:t>
            </a:r>
            <a:r>
              <a:rPr b="1" lang="pt-BR" sz="1800" spc="-1" strike="noStrike" baseline="30000">
                <a:solidFill>
                  <a:srgbClr val="ff3300"/>
                </a:solidFill>
                <a:latin typeface="Lucida Casual"/>
              </a:rPr>
              <a:t>o</a:t>
            </a: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“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A seguridade social será financiada por toda a sociedade, de for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ireta e indireta, nos termos da lei, mediante recursos provenie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os orçamentos da União, dos Estados, do Distrito Federal e 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unicípios...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3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3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/>
          <p:nvPr/>
        </p:nvSpPr>
        <p:spPr>
          <a:xfrm>
            <a:off x="848520" y="1371600"/>
            <a:ext cx="752436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De modo ge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Simplificaçã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análise de preços e quant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demais variáveis assumidas fixas (condição </a:t>
            </a:r>
            <a:r>
              <a:rPr b="1" i="1" lang="pt-BR" sz="1800" spc="-1" strike="noStrike">
                <a:solidFill>
                  <a:srgbClr val="808080"/>
                </a:solidFill>
                <a:latin typeface="Lucida Casual"/>
              </a:rPr>
              <a:t>ceteris paribus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as, na realida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emanda = função(preços, renda, prestígio, preferências,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19120" y="4269240"/>
            <a:ext cx="3616200" cy="824040"/>
          </a:xfr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Renda Aumenta 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Bens normais vendem m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Bens inferiores retra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3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3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848520" y="1371600"/>
            <a:ext cx="752436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De modo ge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Simplifica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análise de preços e quant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demais variáveis assumidas fixas (condição </a:t>
            </a:r>
            <a:r>
              <a:rPr b="1" i="1" lang="pt-BR" sz="1800" spc="-1" strike="noStrike">
                <a:solidFill>
                  <a:srgbClr val="808080"/>
                </a:solidFill>
                <a:latin typeface="Lucida Casual"/>
              </a:rPr>
              <a:t>ceteris paribus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as, na realida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emanda = função(preços, renda, prestígio, preferências,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604880" y="4094280"/>
            <a:ext cx="3511800" cy="580680"/>
          </a:xfr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estígio Maior e Preço Mant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-&gt; Aumenta Dem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4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4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/>
          <p:nvPr/>
        </p:nvSpPr>
        <p:spPr>
          <a:xfrm>
            <a:off x="848520" y="1371600"/>
            <a:ext cx="752436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De modo ge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Simplifica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análise de preços e quant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demais variáveis assumidas fixas (condição </a:t>
            </a:r>
            <a:r>
              <a:rPr b="1" i="1" lang="pt-BR" sz="1800" spc="-1" strike="noStrike">
                <a:solidFill>
                  <a:srgbClr val="808080"/>
                </a:solidFill>
                <a:latin typeface="Lucida Casual"/>
              </a:rPr>
              <a:t>ceteris paribus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as, na realida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demanda = função(preços, renda, prestígio, preferências,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993600" y="4255200"/>
            <a:ext cx="5135760" cy="824040"/>
          </a:xfr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oda -&gt; Altera preferência 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antido o preço, bens que acompanham a moda vendem m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4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4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794520" y="1371600"/>
            <a:ext cx="748044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De modo ge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Simplifica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análise de preços e quant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demais variáveis assumidas fixas (condição </a:t>
            </a:r>
            <a:r>
              <a:rPr b="1" i="1" lang="pt-BR" sz="1800" spc="-1" strike="noStrike">
                <a:solidFill>
                  <a:srgbClr val="808080"/>
                </a:solidFill>
                <a:latin typeface="Lucida Casual"/>
              </a:rPr>
              <a:t>ceteris paribus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as, na realida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ferta = função(preços, tecnologia, clima, normas,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373040" y="4147200"/>
            <a:ext cx="2711520" cy="824040"/>
          </a:xfr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vanço tecnológico 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Custos menores 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Produtos mais bar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3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54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55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794520" y="1371600"/>
            <a:ext cx="748044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De modo ge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Simplifica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análise de preços e quant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demais variáveis assumidas fixas (condição </a:t>
            </a:r>
            <a:r>
              <a:rPr b="1" i="1" lang="pt-BR" sz="1800" spc="-1" strike="noStrike">
                <a:solidFill>
                  <a:srgbClr val="808080"/>
                </a:solidFill>
                <a:latin typeface="Lucida Casual"/>
              </a:rPr>
              <a:t>ceteris paribus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as, na realida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ferta = função(preços, tecnologia, clima, normas,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052640" y="4224600"/>
            <a:ext cx="4060800" cy="580680"/>
          </a:xfr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Seca 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antida a demanda, os preços sob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6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6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26400" y="1447920"/>
            <a:ext cx="787248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À luz das informações sobre os desejos do consumidor e do produto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Arial"/>
              </a:rPr>
              <a:t>como seria a interação esperada entre estas part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7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794520" y="1371600"/>
            <a:ext cx="748044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Lucida Casual"/>
              </a:rPr>
              <a:t>De modo ger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Simplifica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análise de preços e quant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808080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demais variáveis assumidas fixas (condição </a:t>
            </a:r>
            <a:r>
              <a:rPr b="1" i="1" lang="pt-BR" sz="1800" spc="-1" strike="noStrike">
                <a:solidFill>
                  <a:srgbClr val="808080"/>
                </a:solidFill>
                <a:latin typeface="Lucida Casual"/>
              </a:rPr>
              <a:t>ceteris paribus</a:t>
            </a: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Mas, na realida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3333cc"/>
              </a:buClr>
              <a:buFont typeface="Lucida Casu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oferta = função(preços, tecnologia, clima, normas,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947960" y="4286880"/>
            <a:ext cx="3990960" cy="824040"/>
          </a:xfrm>
          <a:solidFill>
            <a:srgbClr val="ffff66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Segurança, poluição, homologação 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umento de custo 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Mantida a demanda, o preço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6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6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7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7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480120" y="3207600"/>
            <a:ext cx="25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Elastic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 flipV="1">
            <a:off x="1676520" y="2057040"/>
            <a:ext cx="144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1371600" y="4724280"/>
            <a:ext cx="27432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209680" y="2438280"/>
            <a:ext cx="990720" cy="1828800"/>
          </a:xfrm>
          <a:custGeom>
            <a:avLst/>
            <a:gdLst/>
            <a:ahLst/>
            <a:rect l="l" t="t" r="r" b="b"/>
            <a:pathLst>
              <a:path w="768" h="1248">
                <a:moveTo>
                  <a:pt x="0" y="0"/>
                </a:moveTo>
                <a:cubicBezTo>
                  <a:pt x="56" y="256"/>
                  <a:pt x="112" y="512"/>
                  <a:pt x="240" y="720"/>
                </a:cubicBezTo>
                <a:cubicBezTo>
                  <a:pt x="368" y="928"/>
                  <a:pt x="672" y="1152"/>
                  <a:pt x="768" y="12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867280" y="3505320"/>
            <a:ext cx="1676520" cy="304560"/>
          </a:xfrm>
          <a:custGeom>
            <a:avLst/>
            <a:gdLst/>
            <a:ahLst/>
            <a:rect l="l" t="t" r="r" b="b"/>
            <a:pathLst>
              <a:path w="1164" h="240">
                <a:moveTo>
                  <a:pt x="0" y="0"/>
                </a:moveTo>
                <a:cubicBezTo>
                  <a:pt x="84" y="28"/>
                  <a:pt x="310" y="128"/>
                  <a:pt x="504" y="168"/>
                </a:cubicBezTo>
                <a:cubicBezTo>
                  <a:pt x="698" y="208"/>
                  <a:pt x="1027" y="225"/>
                  <a:pt x="1164" y="24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rot="16200000">
            <a:off x="915120" y="325512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012760" y="47998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5486400" y="2057040"/>
            <a:ext cx="144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181480" y="4724280"/>
            <a:ext cx="27432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rot="16200000">
            <a:off x="4725000" y="325512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823000" y="479988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548320" y="159948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icrocompu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030760" y="159948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Vac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137680" y="5562000"/>
            <a:ext cx="48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Vacina: pequeno </a:t>
            </a: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 mesmo se </a:t>
            </a: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282320" y="5866560"/>
            <a:ext cx="66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icrocomputador: mesmo 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 pequeno causa grande 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8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9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786680" y="812160"/>
            <a:ext cx="55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Elasticidade Preço da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1786680" y="812160"/>
            <a:ext cx="55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Elasticidade Preço da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1143000" y="1980720"/>
            <a:ext cx="0" cy="3124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838080" y="480060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rot="16200000">
            <a:off x="345960" y="316152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853280" y="4952160"/>
            <a:ext cx="168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447920" y="2438280"/>
            <a:ext cx="2438280" cy="1752840"/>
          </a:xfrm>
          <a:custGeom>
            <a:avLst/>
            <a:gdLst/>
            <a:ahLst/>
            <a:rect l="l" t="t" r="r" b="b"/>
            <a:pathLst>
              <a:path w="1536" h="1104">
                <a:moveTo>
                  <a:pt x="0" y="0"/>
                </a:moveTo>
                <a:cubicBezTo>
                  <a:pt x="76" y="208"/>
                  <a:pt x="152" y="416"/>
                  <a:pt x="288" y="576"/>
                </a:cubicBezTo>
                <a:cubicBezTo>
                  <a:pt x="424" y="736"/>
                  <a:pt x="608" y="872"/>
                  <a:pt x="816" y="960"/>
                </a:cubicBezTo>
                <a:cubicBezTo>
                  <a:pt x="1024" y="1048"/>
                  <a:pt x="1416" y="1080"/>
                  <a:pt x="1536" y="11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670480" y="3504240"/>
            <a:ext cx="5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Symbol"/>
                <a:ea typeface="Symbol"/>
              </a:rPr>
              <a:t></a:t>
            </a: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906200" y="2589840"/>
            <a:ext cx="5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t-BR" sz="2400" spc="-1" strike="noStrike">
                <a:solidFill>
                  <a:srgbClr val="ff0000"/>
                </a:solidFill>
                <a:latin typeface="Lucida Casu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676520" y="3048120"/>
            <a:ext cx="990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666880" y="3048120"/>
            <a:ext cx="0" cy="1600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676520" y="3048120"/>
            <a:ext cx="990360" cy="1600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524480" y="3047400"/>
            <a:ext cx="35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Variação Percentual de 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406840" y="339804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410080" y="3809880"/>
            <a:ext cx="4572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477040" y="38091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976000" y="358056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(x 10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497120" y="1751760"/>
            <a:ext cx="42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Variação Percentual da 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406840" y="210276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410080" y="25146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477040" y="25138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976000" y="228528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(x 10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530960" y="4206240"/>
            <a:ext cx="37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lasticidade Preço da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765680" y="5257080"/>
            <a:ext cx="5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e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261040" y="5442120"/>
            <a:ext cx="1801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406840" y="461736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410080" y="50292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477040" y="50284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976000" y="479988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(x 10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406840" y="545544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410080" y="5867280"/>
            <a:ext cx="4572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477040" y="5866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976000" y="563796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(x 100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7102080" y="5258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416720" y="5442120"/>
            <a:ext cx="7653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435800" y="502992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7821720" y="54252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449840" y="5434920"/>
            <a:ext cx="4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823520" y="5022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23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23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"/>
          <p:cNvSpPr/>
          <p:nvPr/>
        </p:nvSpPr>
        <p:spPr>
          <a:xfrm flipV="1">
            <a:off x="2673360" y="2172960"/>
            <a:ext cx="144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368440" y="4840200"/>
            <a:ext cx="27432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206880" y="2554200"/>
            <a:ext cx="990360" cy="1828800"/>
          </a:xfrm>
          <a:custGeom>
            <a:avLst/>
            <a:gdLst/>
            <a:ahLst/>
            <a:rect l="l" t="t" r="r" b="b"/>
            <a:pathLst>
              <a:path w="768" h="1248">
                <a:moveTo>
                  <a:pt x="0" y="0"/>
                </a:moveTo>
                <a:cubicBezTo>
                  <a:pt x="56" y="256"/>
                  <a:pt x="112" y="512"/>
                  <a:pt x="240" y="720"/>
                </a:cubicBezTo>
                <a:cubicBezTo>
                  <a:pt x="368" y="928"/>
                  <a:pt x="672" y="1152"/>
                  <a:pt x="768" y="124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rot="16200000">
            <a:off x="1911960" y="33710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009960" y="491580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027600" y="171540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Vac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513880" y="5576040"/>
            <a:ext cx="48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Vacina: pequeno </a:t>
            </a: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q mesmo se </a:t>
            </a:r>
            <a:r>
              <a:rPr b="1" lang="pt-BR" sz="1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ff0000"/>
                </a:solidFill>
                <a:latin typeface="Lucida Casual"/>
              </a:rPr>
              <a:t>p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5113440" y="3099600"/>
            <a:ext cx="1252080" cy="780840"/>
            <a:chOff x="5113440" y="3099600"/>
            <a:chExt cx="1252080" cy="780840"/>
          </a:xfrm>
        </p:grpSpPr>
        <p:sp>
          <p:nvSpPr>
            <p:cNvPr id="1242" name=""/>
            <p:cNvSpPr/>
            <p:nvPr/>
          </p:nvSpPr>
          <p:spPr>
            <a:xfrm>
              <a:off x="5113440" y="3350160"/>
              <a:ext cx="56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e 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3" name=""/>
            <p:cNvGrpSpPr/>
            <p:nvPr/>
          </p:nvGrpSpPr>
          <p:grpSpPr>
            <a:xfrm>
              <a:off x="5600520" y="3099600"/>
              <a:ext cx="765000" cy="780840"/>
              <a:chOff x="5600520" y="3099600"/>
              <a:chExt cx="765000" cy="780840"/>
            </a:xfrm>
          </p:grpSpPr>
          <p:sp>
            <p:nvSpPr>
              <p:cNvPr id="1244" name=""/>
              <p:cNvSpPr/>
              <p:nvPr/>
            </p:nvSpPr>
            <p:spPr>
              <a:xfrm>
                <a:off x="5600520" y="3519360"/>
                <a:ext cx="7650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619600" y="3107520"/>
                <a:ext cx="46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pt-BR" sz="1800" spc="-1" strike="noStrike">
                    <a:solidFill>
                      <a:srgbClr val="ff0000"/>
                    </a:solidFill>
                    <a:latin typeface="Lucida Casu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005160" y="350280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0000"/>
                    </a:solidFill>
                    <a:latin typeface="Lucida Casu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633640" y="3512160"/>
                <a:ext cx="46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8000"/>
                    </a:solidFill>
                    <a:latin typeface="Symbol"/>
                    <a:ea typeface="Symbol"/>
                  </a:rPr>
                  <a:t></a:t>
                </a:r>
                <a:r>
                  <a:rPr b="1" lang="pt-BR" sz="1800" spc="-1" strike="noStrike">
                    <a:solidFill>
                      <a:srgbClr val="008000"/>
                    </a:solidFill>
                    <a:latin typeface="Lucida Casu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006960" y="309960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8000"/>
                    </a:solidFill>
                    <a:latin typeface="Lucida Casu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9" name=""/>
          <p:cNvSpPr/>
          <p:nvPr/>
        </p:nvSpPr>
        <p:spPr>
          <a:xfrm>
            <a:off x="3838680" y="3548520"/>
            <a:ext cx="5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Symbol"/>
                <a:ea typeface="Symbol"/>
              </a:rPr>
              <a:t></a:t>
            </a: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318840" y="2561040"/>
            <a:ext cx="5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t-BR" sz="2400" spc="-1" strike="noStrike">
                <a:solidFill>
                  <a:srgbClr val="ff0000"/>
                </a:solidFill>
                <a:latin typeface="Lucida Casu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292560" y="3033720"/>
            <a:ext cx="530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07000" y="3019320"/>
            <a:ext cx="0" cy="17161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292560" y="3033720"/>
            <a:ext cx="500040" cy="167148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364800" y="333936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equ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6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257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258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786680" y="812160"/>
            <a:ext cx="55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Elasticidade Preço da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 flipV="1">
            <a:off x="2455920" y="2130120"/>
            <a:ext cx="1440" cy="297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151000" y="4797360"/>
            <a:ext cx="274320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523960" y="3392640"/>
            <a:ext cx="2078280" cy="649080"/>
          </a:xfrm>
          <a:custGeom>
            <a:avLst/>
            <a:gdLst/>
            <a:ahLst/>
            <a:rect l="l" t="t" r="r" b="b"/>
            <a:pathLst>
              <a:path w="1309" h="409">
                <a:moveTo>
                  <a:pt x="0" y="0"/>
                </a:moveTo>
                <a:cubicBezTo>
                  <a:pt x="67" y="30"/>
                  <a:pt x="178" y="115"/>
                  <a:pt x="396" y="183"/>
                </a:cubicBezTo>
                <a:cubicBezTo>
                  <a:pt x="614" y="251"/>
                  <a:pt x="1119" y="362"/>
                  <a:pt x="1309" y="409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rot="16200000">
            <a:off x="1694520" y="332820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Pre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792160" y="48729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Lucida Casual"/>
              </a:rPr>
              <a:t>Quant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810160" y="167256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Vac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5127840" y="2867760"/>
            <a:ext cx="1252080" cy="780840"/>
            <a:chOff x="5127840" y="2867760"/>
            <a:chExt cx="1252080" cy="780840"/>
          </a:xfrm>
        </p:grpSpPr>
        <p:sp>
          <p:nvSpPr>
            <p:cNvPr id="1267" name=""/>
            <p:cNvSpPr/>
            <p:nvPr/>
          </p:nvSpPr>
          <p:spPr>
            <a:xfrm>
              <a:off x="5127840" y="3118320"/>
              <a:ext cx="56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3333cc"/>
                  </a:solidFill>
                  <a:latin typeface="Lucida Casual"/>
                </a:rPr>
                <a:t>e =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8" name=""/>
            <p:cNvGrpSpPr/>
            <p:nvPr/>
          </p:nvGrpSpPr>
          <p:grpSpPr>
            <a:xfrm>
              <a:off x="5614920" y="2867760"/>
              <a:ext cx="765000" cy="780840"/>
              <a:chOff x="5614920" y="2867760"/>
              <a:chExt cx="765000" cy="780840"/>
            </a:xfrm>
          </p:grpSpPr>
          <p:sp>
            <p:nvSpPr>
              <p:cNvPr id="1269" name=""/>
              <p:cNvSpPr/>
              <p:nvPr/>
            </p:nvSpPr>
            <p:spPr>
              <a:xfrm>
                <a:off x="5614920" y="3287520"/>
                <a:ext cx="7650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634000" y="2875680"/>
                <a:ext cx="46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pt-BR" sz="1800" spc="-1" strike="noStrike">
                    <a:solidFill>
                      <a:srgbClr val="ff0000"/>
                    </a:solidFill>
                    <a:latin typeface="Lucida Casu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019560" y="32709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0000"/>
                    </a:solidFill>
                    <a:latin typeface="Lucida Casu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648040" y="3280320"/>
                <a:ext cx="46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8000"/>
                    </a:solidFill>
                    <a:latin typeface="Symbol"/>
                    <a:ea typeface="Symbol"/>
                  </a:rPr>
                  <a:t></a:t>
                </a:r>
                <a:r>
                  <a:rPr b="1" lang="pt-BR" sz="1800" spc="-1" strike="noStrike">
                    <a:solidFill>
                      <a:srgbClr val="008000"/>
                    </a:solidFill>
                    <a:latin typeface="Lucida Casu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021360" y="28677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8000"/>
                    </a:solidFill>
                    <a:latin typeface="Lucida Casu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4" name=""/>
          <p:cNvSpPr/>
          <p:nvPr/>
        </p:nvSpPr>
        <p:spPr>
          <a:xfrm>
            <a:off x="4400640" y="3607200"/>
            <a:ext cx="5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Symbol"/>
                <a:ea typeface="Symbol"/>
              </a:rPr>
              <a:t></a:t>
            </a:r>
            <a:r>
              <a:rPr b="1" lang="pt-BR" sz="2400" spc="-1" strike="noStrike">
                <a:solidFill>
                  <a:srgbClr val="008000"/>
                </a:solidFill>
                <a:latin typeface="Lucida Casu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463560" y="3096000"/>
            <a:ext cx="5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pt-BR" sz="2400" spc="-1" strike="noStrike">
                <a:solidFill>
                  <a:srgbClr val="ff0000"/>
                </a:solidFill>
                <a:latin typeface="Lucida Casu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032280" y="3611520"/>
            <a:ext cx="1339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354560" y="3624120"/>
            <a:ext cx="0" cy="6210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989440" y="3611520"/>
            <a:ext cx="1380960" cy="5889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462000" y="310752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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 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1483920" y="5490360"/>
            <a:ext cx="66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Microcomputador: mesmo 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p pequeno causa grande </a:t>
            </a:r>
            <a:r>
              <a:rPr b="1" lang="pt-BR" sz="1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pt-BR" sz="1800" spc="-1" strike="noStrike">
                <a:solidFill>
                  <a:srgbClr val="3333cc"/>
                </a:solidFill>
                <a:latin typeface="Lucida Casual"/>
              </a:rPr>
              <a:t>q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2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283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284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786680" y="812160"/>
            <a:ext cx="555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Elasticidade Preço da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/>
          <p:nvPr/>
        </p:nvSpPr>
        <p:spPr>
          <a:xfrm>
            <a:off x="708120" y="2988360"/>
            <a:ext cx="77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ual a utilidade prática do conceito d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lasticidad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8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289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290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2468520" y="2959200"/>
            <a:ext cx="0" cy="56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 flipH="1">
            <a:off x="1417320" y="2959200"/>
            <a:ext cx="105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154960" y="813600"/>
            <a:ext cx="48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Lucida Casual"/>
              </a:rPr>
              <a:t>Ação e Reação do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4" name=""/>
          <p:cNvGrpSpPr/>
          <p:nvPr/>
        </p:nvGrpSpPr>
        <p:grpSpPr>
          <a:xfrm>
            <a:off x="1295280" y="2133360"/>
            <a:ext cx="2041560" cy="1463400"/>
            <a:chOff x="1295280" y="2133360"/>
            <a:chExt cx="2041560" cy="1463400"/>
          </a:xfrm>
        </p:grpSpPr>
        <p:sp>
          <p:nvSpPr>
            <p:cNvPr id="1295" name=""/>
            <p:cNvSpPr/>
            <p:nvPr/>
          </p:nvSpPr>
          <p:spPr>
            <a:xfrm flipV="1">
              <a:off x="1421640" y="2133360"/>
              <a:ext cx="0" cy="146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295280" y="3518640"/>
              <a:ext cx="204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508760" y="2535120"/>
              <a:ext cx="1517040" cy="724320"/>
            </a:xfrm>
            <a:custGeom>
              <a:avLst/>
              <a:gdLst/>
              <a:ahLst/>
              <a:rect l="l" t="t" r="r" b="b"/>
              <a:pathLst>
                <a:path w="1498" h="884">
                  <a:moveTo>
                    <a:pt x="0" y="884"/>
                  </a:moveTo>
                  <a:cubicBezTo>
                    <a:pt x="93" y="860"/>
                    <a:pt x="376" y="817"/>
                    <a:pt x="557" y="740"/>
                  </a:cubicBezTo>
                  <a:cubicBezTo>
                    <a:pt x="738" y="663"/>
                    <a:pt x="928" y="546"/>
                    <a:pt x="1085" y="423"/>
                  </a:cubicBezTo>
                  <a:cubicBezTo>
                    <a:pt x="1242" y="300"/>
                    <a:pt x="1412" y="88"/>
                    <a:pt x="1498" y="0"/>
                  </a:cubicBezTo>
                </a:path>
              </a:pathLst>
            </a:custGeom>
            <a:noFill/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489320" y="2526840"/>
              <a:ext cx="1546200" cy="834120"/>
            </a:xfrm>
            <a:custGeom>
              <a:avLst/>
              <a:gdLst/>
              <a:ahLst/>
              <a:rect l="l" t="t" r="r" b="b"/>
              <a:pathLst>
                <a:path w="1527" h="1018">
                  <a:moveTo>
                    <a:pt x="0" y="0"/>
                  </a:moveTo>
                  <a:cubicBezTo>
                    <a:pt x="77" y="80"/>
                    <a:pt x="296" y="347"/>
                    <a:pt x="461" y="480"/>
                  </a:cubicBezTo>
                  <a:cubicBezTo>
                    <a:pt x="626" y="613"/>
                    <a:pt x="811" y="707"/>
                    <a:pt x="989" y="797"/>
                  </a:cubicBezTo>
                  <a:cubicBezTo>
                    <a:pt x="1167" y="887"/>
                    <a:pt x="1415" y="972"/>
                    <a:pt x="1527" y="101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737720" y="2452320"/>
              <a:ext cx="1360800" cy="731880"/>
            </a:xfrm>
            <a:custGeom>
              <a:avLst/>
              <a:gdLst/>
              <a:ahLst/>
              <a:rect l="l" t="t" r="r" b="b"/>
              <a:pathLst>
                <a:path w="1344" h="893">
                  <a:moveTo>
                    <a:pt x="0" y="0"/>
                  </a:moveTo>
                  <a:cubicBezTo>
                    <a:pt x="64" y="62"/>
                    <a:pt x="247" y="262"/>
                    <a:pt x="384" y="374"/>
                  </a:cubicBezTo>
                  <a:cubicBezTo>
                    <a:pt x="521" y="486"/>
                    <a:pt x="661" y="586"/>
                    <a:pt x="821" y="672"/>
                  </a:cubicBezTo>
                  <a:cubicBezTo>
                    <a:pt x="981" y="758"/>
                    <a:pt x="1235" y="847"/>
                    <a:pt x="1344" y="893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0" name=""/>
          <p:cNvSpPr/>
          <p:nvPr/>
        </p:nvSpPr>
        <p:spPr>
          <a:xfrm>
            <a:off x="3047400" y="23619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984240" y="20743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255840" y="3491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187800" y="292716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o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028680" y="317160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Anti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411280" y="290520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508040" y="2316240"/>
            <a:ext cx="4888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239920" y="3065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H="1">
            <a:off x="1432080" y="3081240"/>
            <a:ext cx="80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184480" y="301464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688760" y="382500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p</a:t>
            </a:r>
            <a:r>
              <a:rPr b="1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e q</a:t>
            </a:r>
            <a:r>
              <a:rPr b="1" lang="en-US" sz="1800" spc="-1" strike="noStrike">
                <a:solidFill>
                  <a:srgbClr val="008000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704960" y="161532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urto Pr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1309680" y="283536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208240" y="362916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501920" y="1967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4175280" y="1631160"/>
            <a:ext cx="4200120" cy="2576520"/>
            <a:chOff x="4175280" y="1631160"/>
            <a:chExt cx="4200120" cy="2576520"/>
          </a:xfrm>
        </p:grpSpPr>
        <p:sp>
          <p:nvSpPr>
            <p:cNvPr id="1316" name=""/>
            <p:cNvSpPr/>
            <p:nvPr/>
          </p:nvSpPr>
          <p:spPr>
            <a:xfrm>
              <a:off x="5908680" y="2541600"/>
              <a:ext cx="1547640" cy="833400"/>
            </a:xfrm>
            <a:custGeom>
              <a:avLst/>
              <a:gdLst/>
              <a:ahLst/>
              <a:rect l="l" t="t" r="r" b="b"/>
              <a:pathLst>
                <a:path w="1527" h="1018">
                  <a:moveTo>
                    <a:pt x="0" y="0"/>
                  </a:moveTo>
                  <a:cubicBezTo>
                    <a:pt x="77" y="80"/>
                    <a:pt x="296" y="347"/>
                    <a:pt x="461" y="480"/>
                  </a:cubicBezTo>
                  <a:cubicBezTo>
                    <a:pt x="626" y="613"/>
                    <a:pt x="811" y="707"/>
                    <a:pt x="989" y="797"/>
                  </a:cubicBezTo>
                  <a:cubicBezTo>
                    <a:pt x="1167" y="887"/>
                    <a:pt x="1415" y="972"/>
                    <a:pt x="1527" y="101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188040" y="2779560"/>
              <a:ext cx="1560600" cy="665280"/>
            </a:xfrm>
            <a:custGeom>
              <a:avLst/>
              <a:gdLst/>
              <a:ahLst/>
              <a:rect l="l" t="t" r="r" b="b"/>
              <a:pathLst>
                <a:path w="983" h="419">
                  <a:moveTo>
                    <a:pt x="0" y="419"/>
                  </a:moveTo>
                  <a:cubicBezTo>
                    <a:pt x="57" y="413"/>
                    <a:pt x="232" y="407"/>
                    <a:pt x="345" y="380"/>
                  </a:cubicBezTo>
                  <a:cubicBezTo>
                    <a:pt x="458" y="353"/>
                    <a:pt x="575" y="318"/>
                    <a:pt x="681" y="255"/>
                  </a:cubicBezTo>
                  <a:cubicBezTo>
                    <a:pt x="787" y="192"/>
                    <a:pt x="920" y="53"/>
                    <a:pt x="983" y="0"/>
                  </a:cubicBezTo>
                </a:path>
              </a:pathLst>
            </a:custGeom>
            <a:noFill/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329600" y="3218040"/>
              <a:ext cx="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5835600" y="3171960"/>
              <a:ext cx="14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5842080" y="2147760"/>
              <a:ext cx="0" cy="146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715000" y="3532320"/>
              <a:ext cx="204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929200" y="2549520"/>
              <a:ext cx="1516320" cy="723960"/>
            </a:xfrm>
            <a:custGeom>
              <a:avLst/>
              <a:gdLst/>
              <a:ahLst/>
              <a:rect l="l" t="t" r="r" b="b"/>
              <a:pathLst>
                <a:path w="1498" h="884">
                  <a:moveTo>
                    <a:pt x="0" y="884"/>
                  </a:moveTo>
                  <a:cubicBezTo>
                    <a:pt x="93" y="860"/>
                    <a:pt x="376" y="817"/>
                    <a:pt x="557" y="740"/>
                  </a:cubicBezTo>
                  <a:cubicBezTo>
                    <a:pt x="738" y="663"/>
                    <a:pt x="928" y="546"/>
                    <a:pt x="1085" y="423"/>
                  </a:cubicBezTo>
                  <a:cubicBezTo>
                    <a:pt x="1242" y="300"/>
                    <a:pt x="1412" y="88"/>
                    <a:pt x="1498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157800" y="2467080"/>
              <a:ext cx="1355760" cy="755640"/>
            </a:xfrm>
            <a:custGeom>
              <a:avLst/>
              <a:gdLst/>
              <a:ahLst/>
              <a:rect l="l" t="t" r="r" b="b"/>
              <a:pathLst>
                <a:path w="854" h="476">
                  <a:moveTo>
                    <a:pt x="0" y="0"/>
                  </a:moveTo>
                  <a:cubicBezTo>
                    <a:pt x="41" y="32"/>
                    <a:pt x="158" y="134"/>
                    <a:pt x="245" y="193"/>
                  </a:cubicBezTo>
                  <a:cubicBezTo>
                    <a:pt x="332" y="252"/>
                    <a:pt x="421" y="309"/>
                    <a:pt x="523" y="356"/>
                  </a:cubicBezTo>
                  <a:cubicBezTo>
                    <a:pt x="625" y="403"/>
                    <a:pt x="785" y="451"/>
                    <a:pt x="854" y="476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403600" y="2088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675560" y="35060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699320" y="256032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Arial"/>
                </a:rPr>
                <a:t>No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448400" y="318564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ntig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265880" y="3110040"/>
              <a:ext cx="115920" cy="115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959440" y="2346480"/>
              <a:ext cx="48888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659640" y="3079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5851080" y="3095640"/>
              <a:ext cx="80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603840" y="3029040"/>
              <a:ext cx="115920" cy="115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085440" y="3839400"/>
              <a:ext cx="151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D</a:t>
              </a:r>
              <a:r>
                <a:rPr b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</a:t>
              </a: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 p? e q</a:t>
              </a:r>
              <a:r>
                <a:rPr b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5729400" y="2879640"/>
              <a:ext cx="0" cy="473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6627960" y="3635280"/>
              <a:ext cx="691920" cy="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937480" y="2012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958360" y="163116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Longo Praz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823080" y="2922480"/>
              <a:ext cx="115920" cy="115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403600" y="29268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175280" y="2695680"/>
              <a:ext cx="976320" cy="485640"/>
            </a:xfrm>
            <a:prstGeom prst="rightArrow">
              <a:avLst>
                <a:gd name="adj1" fmla="val 49676"/>
                <a:gd name="adj2" fmla="val 5034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t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1" name=""/>
          <p:cNvGrpSpPr/>
          <p:nvPr/>
        </p:nvGrpSpPr>
        <p:grpSpPr>
          <a:xfrm>
            <a:off x="1014120" y="4303080"/>
            <a:ext cx="2735280" cy="2103480"/>
            <a:chOff x="1014120" y="4303080"/>
            <a:chExt cx="2735280" cy="2103480"/>
          </a:xfrm>
        </p:grpSpPr>
        <p:sp>
          <p:nvSpPr>
            <p:cNvPr id="1342" name=""/>
            <p:cNvSpPr/>
            <p:nvPr/>
          </p:nvSpPr>
          <p:spPr>
            <a:xfrm>
              <a:off x="2392200" y="5468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1463760" y="5407200"/>
              <a:ext cx="86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V="1">
              <a:off x="1452600" y="4406760"/>
              <a:ext cx="0" cy="146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325520" y="5791320"/>
              <a:ext cx="204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30440" y="4808520"/>
              <a:ext cx="1608120" cy="800280"/>
            </a:xfrm>
            <a:custGeom>
              <a:avLst/>
              <a:gdLst/>
              <a:ahLst/>
              <a:rect l="l" t="t" r="r" b="b"/>
              <a:pathLst>
                <a:path w="1013" h="504">
                  <a:moveTo>
                    <a:pt x="0" y="504"/>
                  </a:moveTo>
                  <a:cubicBezTo>
                    <a:pt x="59" y="492"/>
                    <a:pt x="238" y="470"/>
                    <a:pt x="353" y="430"/>
                  </a:cubicBezTo>
                  <a:cubicBezTo>
                    <a:pt x="468" y="391"/>
                    <a:pt x="578" y="340"/>
                    <a:pt x="688" y="268"/>
                  </a:cubicBezTo>
                  <a:cubicBezTo>
                    <a:pt x="798" y="196"/>
                    <a:pt x="945" y="56"/>
                    <a:pt x="1013" y="0"/>
                  </a:cubicBezTo>
                </a:path>
              </a:pathLst>
            </a:custGeom>
            <a:noFill/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519200" y="4800600"/>
              <a:ext cx="1548000" cy="833400"/>
            </a:xfrm>
            <a:custGeom>
              <a:avLst/>
              <a:gdLst/>
              <a:ahLst/>
              <a:rect l="l" t="t" r="r" b="b"/>
              <a:pathLst>
                <a:path w="1527" h="1018">
                  <a:moveTo>
                    <a:pt x="0" y="0"/>
                  </a:moveTo>
                  <a:cubicBezTo>
                    <a:pt x="77" y="80"/>
                    <a:pt x="296" y="347"/>
                    <a:pt x="461" y="480"/>
                  </a:cubicBezTo>
                  <a:cubicBezTo>
                    <a:pt x="626" y="613"/>
                    <a:pt x="811" y="707"/>
                    <a:pt x="989" y="797"/>
                  </a:cubicBezTo>
                  <a:cubicBezTo>
                    <a:pt x="1167" y="887"/>
                    <a:pt x="1415" y="972"/>
                    <a:pt x="1527" y="101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014120" y="4347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316320" y="57506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073320" y="49096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3300"/>
                  </a:solidFill>
                  <a:latin typeface="Arial"/>
                </a:rPr>
                <a:t>No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071880" y="54748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335320" y="5351400"/>
              <a:ext cx="115920" cy="115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894040" y="4667400"/>
              <a:ext cx="48888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147760" y="5361120"/>
              <a:ext cx="0" cy="42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>
              <a:off x="1461960" y="5308560"/>
              <a:ext cx="62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092320" y="5249880"/>
              <a:ext cx="115920" cy="115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699920" y="6038280"/>
              <a:ext cx="148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</a:t>
              </a: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 p</a:t>
              </a:r>
              <a:r>
                <a:rPr b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</a:t>
              </a: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 e q</a:t>
              </a:r>
              <a:r>
                <a:rPr b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47840" y="52387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154240" y="589428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874960" y="430308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515960" y="4746600"/>
              <a:ext cx="1494000" cy="747720"/>
            </a:xfrm>
            <a:custGeom>
              <a:avLst/>
              <a:gdLst/>
              <a:ahLst/>
              <a:rect l="l" t="t" r="r" b="b"/>
              <a:pathLst>
                <a:path w="941" h="471">
                  <a:moveTo>
                    <a:pt x="0" y="471"/>
                  </a:moveTo>
                  <a:cubicBezTo>
                    <a:pt x="51" y="459"/>
                    <a:pt x="201" y="438"/>
                    <a:pt x="307" y="399"/>
                  </a:cubicBezTo>
                  <a:cubicBezTo>
                    <a:pt x="413" y="360"/>
                    <a:pt x="533" y="307"/>
                    <a:pt x="639" y="240"/>
                  </a:cubicBezTo>
                  <a:cubicBezTo>
                    <a:pt x="745" y="173"/>
                    <a:pt x="878" y="50"/>
                    <a:pt x="941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996920" y="460008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ntig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3" name=""/>
          <p:cNvGrpSpPr/>
          <p:nvPr/>
        </p:nvGrpSpPr>
        <p:grpSpPr>
          <a:xfrm>
            <a:off x="4176720" y="4333320"/>
            <a:ext cx="4144680" cy="2103120"/>
            <a:chOff x="4176720" y="4333320"/>
            <a:chExt cx="4144680" cy="2103120"/>
          </a:xfrm>
        </p:grpSpPr>
        <p:sp>
          <p:nvSpPr>
            <p:cNvPr id="1364" name=""/>
            <p:cNvSpPr/>
            <p:nvPr/>
          </p:nvSpPr>
          <p:spPr>
            <a:xfrm>
              <a:off x="5873760" y="4776840"/>
              <a:ext cx="1494000" cy="747720"/>
            </a:xfrm>
            <a:custGeom>
              <a:avLst/>
              <a:gdLst/>
              <a:ahLst/>
              <a:rect l="l" t="t" r="r" b="b"/>
              <a:pathLst>
                <a:path w="941" h="471">
                  <a:moveTo>
                    <a:pt x="0" y="471"/>
                  </a:moveTo>
                  <a:cubicBezTo>
                    <a:pt x="51" y="459"/>
                    <a:pt x="201" y="438"/>
                    <a:pt x="307" y="399"/>
                  </a:cubicBezTo>
                  <a:cubicBezTo>
                    <a:pt x="413" y="360"/>
                    <a:pt x="533" y="307"/>
                    <a:pt x="639" y="240"/>
                  </a:cubicBezTo>
                  <a:cubicBezTo>
                    <a:pt x="745" y="173"/>
                    <a:pt x="878" y="50"/>
                    <a:pt x="941" y="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031160" y="5369040"/>
              <a:ext cx="0" cy="44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>
              <a:off x="5813280" y="5292720"/>
              <a:ext cx="115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5810400" y="4437000"/>
              <a:ext cx="0" cy="146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683320" y="5821200"/>
              <a:ext cx="204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987880" y="4838760"/>
              <a:ext cx="1608480" cy="799920"/>
            </a:xfrm>
            <a:custGeom>
              <a:avLst/>
              <a:gdLst/>
              <a:ahLst/>
              <a:rect l="l" t="t" r="r" b="b"/>
              <a:pathLst>
                <a:path w="1013" h="504">
                  <a:moveTo>
                    <a:pt x="0" y="504"/>
                  </a:moveTo>
                  <a:cubicBezTo>
                    <a:pt x="59" y="492"/>
                    <a:pt x="238" y="470"/>
                    <a:pt x="353" y="430"/>
                  </a:cubicBezTo>
                  <a:cubicBezTo>
                    <a:pt x="468" y="391"/>
                    <a:pt x="578" y="340"/>
                    <a:pt x="688" y="268"/>
                  </a:cubicBezTo>
                  <a:cubicBezTo>
                    <a:pt x="798" y="196"/>
                    <a:pt x="945" y="56"/>
                    <a:pt x="1013" y="0"/>
                  </a:cubicBezTo>
                </a:path>
              </a:pathLst>
            </a:custGeom>
            <a:noFill/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877000" y="4830840"/>
              <a:ext cx="1547640" cy="833400"/>
            </a:xfrm>
            <a:custGeom>
              <a:avLst/>
              <a:gdLst/>
              <a:ahLst/>
              <a:rect l="l" t="t" r="r" b="b"/>
              <a:pathLst>
                <a:path w="1527" h="1018">
                  <a:moveTo>
                    <a:pt x="0" y="0"/>
                  </a:moveTo>
                  <a:cubicBezTo>
                    <a:pt x="77" y="80"/>
                    <a:pt x="296" y="347"/>
                    <a:pt x="461" y="480"/>
                  </a:cubicBezTo>
                  <a:cubicBezTo>
                    <a:pt x="626" y="613"/>
                    <a:pt x="811" y="707"/>
                    <a:pt x="989" y="797"/>
                  </a:cubicBezTo>
                  <a:cubicBezTo>
                    <a:pt x="1167" y="887"/>
                    <a:pt x="1415" y="972"/>
                    <a:pt x="1527" y="1018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371920" y="4377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673760" y="5780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645320" y="522252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o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429320" y="55051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251840" y="4697280"/>
              <a:ext cx="48888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505560" y="5391000"/>
              <a:ext cx="0" cy="42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5819400" y="5338800"/>
              <a:ext cx="62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450120" y="5280120"/>
              <a:ext cx="115920" cy="115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032520" y="6068160"/>
              <a:ext cx="1533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O</a:t>
              </a:r>
              <a:r>
                <a:rPr b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</a:t>
              </a: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</a:t>
              </a: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 p? e q</a:t>
              </a:r>
              <a:r>
                <a:rPr b="1" lang="en-US" sz="1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719680" y="5110200"/>
              <a:ext cx="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512040" y="5924520"/>
              <a:ext cx="525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232400" y="4333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354360" y="4630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ntig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073920" y="4748040"/>
              <a:ext cx="1538280" cy="668520"/>
            </a:xfrm>
            <a:custGeom>
              <a:avLst/>
              <a:gdLst/>
              <a:ahLst/>
              <a:rect l="l" t="t" r="r" b="b"/>
              <a:pathLst>
                <a:path w="969" h="421">
                  <a:moveTo>
                    <a:pt x="0" y="0"/>
                  </a:moveTo>
                  <a:cubicBezTo>
                    <a:pt x="41" y="32"/>
                    <a:pt x="140" y="131"/>
                    <a:pt x="249" y="191"/>
                  </a:cubicBezTo>
                  <a:cubicBezTo>
                    <a:pt x="358" y="251"/>
                    <a:pt x="537" y="325"/>
                    <a:pt x="657" y="363"/>
                  </a:cubicBezTo>
                  <a:cubicBezTo>
                    <a:pt x="777" y="401"/>
                    <a:pt x="904" y="409"/>
                    <a:pt x="969" y="42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973920" y="5243400"/>
              <a:ext cx="115920" cy="115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381640" y="5123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738840" y="5157720"/>
              <a:ext cx="115920" cy="1159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176720" y="5010120"/>
              <a:ext cx="976320" cy="485640"/>
            </a:xfrm>
            <a:prstGeom prst="rightArrow">
              <a:avLst>
                <a:gd name="adj1" fmla="val 49676"/>
                <a:gd name="adj2" fmla="val 5034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t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39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39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"/>
          <p:cNvSpPr/>
          <p:nvPr/>
        </p:nvSpPr>
        <p:spPr>
          <a:xfrm>
            <a:off x="1203480" y="3992400"/>
            <a:ext cx="2895480" cy="366840"/>
          </a:xfrm>
          <a:custGeom>
            <a:avLst/>
            <a:gdLst/>
            <a:ahLst/>
            <a:rect l="l" t="t" r="r" b="b"/>
            <a:pathLst>
              <a:path w="1824" h="164">
                <a:moveTo>
                  <a:pt x="0" y="0"/>
                </a:moveTo>
                <a:cubicBezTo>
                  <a:pt x="338" y="44"/>
                  <a:pt x="676" y="89"/>
                  <a:pt x="980" y="116"/>
                </a:cubicBezTo>
                <a:cubicBezTo>
                  <a:pt x="1284" y="143"/>
                  <a:pt x="1675" y="156"/>
                  <a:pt x="1824" y="1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76360" y="824760"/>
            <a:ext cx="802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Efeitos da Elasticidade na Reação do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 flipV="1">
            <a:off x="1171440" y="2317680"/>
            <a:ext cx="0" cy="3138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988920" y="5243400"/>
            <a:ext cx="339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602720" y="181224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manda Elá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844560" y="2223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089600" y="48013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278000" y="2759040"/>
            <a:ext cx="2622600" cy="1417680"/>
          </a:xfrm>
          <a:custGeom>
            <a:avLst/>
            <a:gdLst/>
            <a:ahLst/>
            <a:rect l="l" t="t" r="r" b="b"/>
            <a:pathLst>
              <a:path w="1652" h="893">
                <a:moveTo>
                  <a:pt x="0" y="893"/>
                </a:moveTo>
                <a:cubicBezTo>
                  <a:pt x="78" y="880"/>
                  <a:pt x="298" y="872"/>
                  <a:pt x="471" y="816"/>
                </a:cubicBezTo>
                <a:cubicBezTo>
                  <a:pt x="644" y="760"/>
                  <a:pt x="841" y="692"/>
                  <a:pt x="1038" y="556"/>
                </a:cubicBezTo>
                <a:cubicBezTo>
                  <a:pt x="1235" y="420"/>
                  <a:pt x="1524" y="116"/>
                  <a:pt x="1652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432000" y="3855960"/>
            <a:ext cx="3757320" cy="1891800"/>
            <a:chOff x="432000" y="3855960"/>
            <a:chExt cx="3757320" cy="1891800"/>
          </a:xfrm>
        </p:grpSpPr>
        <p:grpSp>
          <p:nvGrpSpPr>
            <p:cNvPr id="1402" name=""/>
            <p:cNvGrpSpPr/>
            <p:nvPr/>
          </p:nvGrpSpPr>
          <p:grpSpPr>
            <a:xfrm>
              <a:off x="432000" y="3855960"/>
              <a:ext cx="3757320" cy="1891800"/>
              <a:chOff x="432000" y="3855960"/>
              <a:chExt cx="3757320" cy="1891800"/>
            </a:xfrm>
          </p:grpSpPr>
          <p:sp>
            <p:nvSpPr>
              <p:cNvPr id="1403" name=""/>
              <p:cNvSpPr/>
              <p:nvPr/>
            </p:nvSpPr>
            <p:spPr>
              <a:xfrm>
                <a:off x="1293840" y="3855960"/>
                <a:ext cx="2895480" cy="260280"/>
              </a:xfrm>
              <a:custGeom>
                <a:avLst/>
                <a:gdLst/>
                <a:ahLst/>
                <a:rect l="l" t="t" r="r" b="b"/>
                <a:pathLst>
                  <a:path w="1824" h="164">
                    <a:moveTo>
                      <a:pt x="0" y="0"/>
                    </a:moveTo>
                    <a:cubicBezTo>
                      <a:pt x="338" y="44"/>
                      <a:pt x="676" y="89"/>
                      <a:pt x="980" y="116"/>
                    </a:cubicBezTo>
                    <a:cubicBezTo>
                      <a:pt x="1284" y="143"/>
                      <a:pt x="1675" y="156"/>
                      <a:pt x="1824" y="164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 flipH="1">
                <a:off x="947520" y="3978360"/>
                <a:ext cx="1276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2243160" y="403848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739880" y="5379480"/>
                <a:ext cx="55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q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 flipH="1">
                <a:off x="2232000" y="5030640"/>
                <a:ext cx="365040" cy="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32000" y="3874320"/>
                <a:ext cx="55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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Lucida Casual"/>
                  </a:rPr>
                  <a:t>p</a:t>
                </a:r>
                <a:r>
                  <a:rPr b="1" lang="en-US" sz="18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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1420920" y="5035680"/>
                <a:ext cx="426960" cy="0"/>
              </a:xfrm>
              <a:prstGeom prst="line">
                <a:avLst/>
              </a:prstGeom>
              <a:ln w="572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0" name=""/>
            <p:cNvSpPr/>
            <p:nvPr/>
          </p:nvSpPr>
          <p:spPr>
            <a:xfrm>
              <a:off x="2179800" y="3913200"/>
              <a:ext cx="115560" cy="115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1" name=""/>
          <p:cNvSpPr/>
          <p:nvPr/>
        </p:nvSpPr>
        <p:spPr>
          <a:xfrm>
            <a:off x="1787400" y="404820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849320" y="4162320"/>
            <a:ext cx="5040" cy="12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H="1" flipV="1">
            <a:off x="948960" y="4105440"/>
            <a:ext cx="826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41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41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 flipV="1">
            <a:off x="1171440" y="2317680"/>
            <a:ext cx="0" cy="3138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988920" y="5243400"/>
            <a:ext cx="339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602720" y="181224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manda Elá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844560" y="2223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089600" y="48013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293840" y="3855960"/>
            <a:ext cx="2895480" cy="260280"/>
          </a:xfrm>
          <a:custGeom>
            <a:avLst/>
            <a:gdLst/>
            <a:ahLst/>
            <a:rect l="l" t="t" r="r" b="b"/>
            <a:pathLst>
              <a:path w="1824" h="164">
                <a:moveTo>
                  <a:pt x="0" y="0"/>
                </a:moveTo>
                <a:cubicBezTo>
                  <a:pt x="338" y="44"/>
                  <a:pt x="676" y="89"/>
                  <a:pt x="980" y="116"/>
                </a:cubicBezTo>
                <a:cubicBezTo>
                  <a:pt x="1284" y="143"/>
                  <a:pt x="1675" y="156"/>
                  <a:pt x="1824" y="1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278000" y="2759040"/>
            <a:ext cx="2622600" cy="1417680"/>
          </a:xfrm>
          <a:custGeom>
            <a:avLst/>
            <a:gdLst/>
            <a:ahLst/>
            <a:rect l="l" t="t" r="r" b="b"/>
            <a:pathLst>
              <a:path w="1652" h="893">
                <a:moveTo>
                  <a:pt x="0" y="893"/>
                </a:moveTo>
                <a:cubicBezTo>
                  <a:pt x="78" y="880"/>
                  <a:pt x="298" y="872"/>
                  <a:pt x="471" y="816"/>
                </a:cubicBezTo>
                <a:cubicBezTo>
                  <a:pt x="644" y="760"/>
                  <a:pt x="841" y="692"/>
                  <a:pt x="1038" y="556"/>
                </a:cubicBezTo>
                <a:cubicBezTo>
                  <a:pt x="1235" y="420"/>
                  <a:pt x="1524" y="116"/>
                  <a:pt x="165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293840" y="2774880"/>
            <a:ext cx="3063960" cy="1662120"/>
          </a:xfrm>
          <a:custGeom>
            <a:avLst/>
            <a:gdLst/>
            <a:ahLst/>
            <a:rect l="l" t="t" r="r" b="b"/>
            <a:pathLst>
              <a:path w="1930" h="1047">
                <a:moveTo>
                  <a:pt x="0" y="1047"/>
                </a:moveTo>
                <a:cubicBezTo>
                  <a:pt x="90" y="1032"/>
                  <a:pt x="339" y="1024"/>
                  <a:pt x="542" y="961"/>
                </a:cubicBezTo>
                <a:cubicBezTo>
                  <a:pt x="745" y="898"/>
                  <a:pt x="989" y="831"/>
                  <a:pt x="1220" y="671"/>
                </a:cubicBezTo>
                <a:cubicBezTo>
                  <a:pt x="1451" y="511"/>
                  <a:pt x="1782" y="140"/>
                  <a:pt x="1930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948960" y="4092480"/>
            <a:ext cx="90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H="1">
            <a:off x="948960" y="4027320"/>
            <a:ext cx="194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867040" y="3973680"/>
            <a:ext cx="115920" cy="115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816200" y="404820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879560" y="4135320"/>
            <a:ext cx="0" cy="136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925720" y="408456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78000" y="3876120"/>
            <a:ext cx="5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144880" y="5287320"/>
            <a:ext cx="5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q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879560" y="4984920"/>
            <a:ext cx="1046160" cy="0"/>
          </a:xfrm>
          <a:prstGeom prst="line">
            <a:avLst/>
          </a:prstGeom>
          <a:ln w="5724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203480" y="3992400"/>
            <a:ext cx="2895480" cy="366840"/>
          </a:xfrm>
          <a:custGeom>
            <a:avLst/>
            <a:gdLst/>
            <a:ahLst/>
            <a:rect l="l" t="t" r="r" b="b"/>
            <a:pathLst>
              <a:path w="1824" h="164">
                <a:moveTo>
                  <a:pt x="0" y="0"/>
                </a:moveTo>
                <a:cubicBezTo>
                  <a:pt x="338" y="44"/>
                  <a:pt x="676" y="89"/>
                  <a:pt x="980" y="116"/>
                </a:cubicBezTo>
                <a:cubicBezTo>
                  <a:pt x="1284" y="143"/>
                  <a:pt x="1675" y="156"/>
                  <a:pt x="1824" y="164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7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438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439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76360" y="824760"/>
            <a:ext cx="802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Efeitos da Elasticidade na Reação do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390840" y="2666880"/>
            <a:ext cx="2419560" cy="1600200"/>
          </a:xfrm>
          <a:custGeom>
            <a:avLst/>
            <a:gdLst/>
            <a:ahLst/>
            <a:rect l="l" t="t" r="r" b="b"/>
            <a:pathLst>
              <a:path w="1524" h="1008">
                <a:moveTo>
                  <a:pt x="0" y="1008"/>
                </a:moveTo>
                <a:cubicBezTo>
                  <a:pt x="299" y="930"/>
                  <a:pt x="598" y="852"/>
                  <a:pt x="852" y="684"/>
                </a:cubicBezTo>
                <a:cubicBezTo>
                  <a:pt x="1106" y="516"/>
                  <a:pt x="1315" y="258"/>
                  <a:pt x="152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60680" y="2130480"/>
            <a:ext cx="1440" cy="28940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50245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84360" y="453564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406548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357660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84360" y="308916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6179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84360" y="213048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60680" y="5024520"/>
            <a:ext cx="49737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606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38472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22424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0482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87052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71040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53444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06520" y="48895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06520" y="44020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06520" y="39304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6520" y="3443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06520" y="2954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1960" y="24843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81960" y="19954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5096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7500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5044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744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816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3660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02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93040" y="5746680"/>
            <a:ext cx="2858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Quantidade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912240" y="3282480"/>
            <a:ext cx="19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Preço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33120" y="807480"/>
            <a:ext cx="38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Equilíbrio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90840" y="2647800"/>
            <a:ext cx="2533680" cy="1733760"/>
          </a:xfrm>
          <a:custGeom>
            <a:avLst/>
            <a:gdLst/>
            <a:ahLst/>
            <a:rect l="l" t="t" r="r" b="b"/>
            <a:pathLst>
              <a:path w="1596" h="1092">
                <a:moveTo>
                  <a:pt x="0" y="0"/>
                </a:moveTo>
                <a:cubicBezTo>
                  <a:pt x="107" y="245"/>
                  <a:pt x="214" y="490"/>
                  <a:pt x="480" y="672"/>
                </a:cubicBezTo>
                <a:cubicBezTo>
                  <a:pt x="746" y="854"/>
                  <a:pt x="1410" y="1022"/>
                  <a:pt x="1596" y="109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2400480"/>
            <a:ext cx="1219320" cy="609480"/>
          </a:xfrm>
          <a:prstGeom prst="wedgeRoundRectCallout">
            <a:avLst>
              <a:gd name="adj1" fmla="val -125000"/>
              <a:gd name="adj2" fmla="val 270050"/>
              <a:gd name="adj3" fmla="val 16667"/>
            </a:avLst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81560" y="1676520"/>
            <a:ext cx="914400" cy="609480"/>
          </a:xfrm>
          <a:prstGeom prst="wedgeRoundRectCallout">
            <a:avLst>
              <a:gd name="adj1" fmla="val 87500"/>
              <a:gd name="adj2" fmla="val 123175"/>
              <a:gd name="adj3" fmla="val 16667"/>
            </a:avLst>
          </a:prstGeom>
          <a:solidFill>
            <a:srgbClr val="ffcccc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1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6157800" y="2754360"/>
            <a:ext cx="1508400" cy="2408040"/>
          </a:xfrm>
          <a:custGeom>
            <a:avLst/>
            <a:gdLst/>
            <a:ahLst/>
            <a:rect l="l" t="t" r="r" b="b"/>
            <a:pathLst>
              <a:path w="950" h="1517">
                <a:moveTo>
                  <a:pt x="0" y="0"/>
                </a:moveTo>
                <a:cubicBezTo>
                  <a:pt x="43" y="148"/>
                  <a:pt x="154" y="670"/>
                  <a:pt x="251" y="891"/>
                </a:cubicBezTo>
                <a:cubicBezTo>
                  <a:pt x="348" y="1112"/>
                  <a:pt x="467" y="1222"/>
                  <a:pt x="584" y="1326"/>
                </a:cubicBezTo>
                <a:cubicBezTo>
                  <a:pt x="701" y="1430"/>
                  <a:pt x="874" y="1477"/>
                  <a:pt x="950" y="151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203480" y="3992400"/>
            <a:ext cx="2895480" cy="366840"/>
          </a:xfrm>
          <a:custGeom>
            <a:avLst/>
            <a:gdLst/>
            <a:ahLst/>
            <a:rect l="l" t="t" r="r" b="b"/>
            <a:pathLst>
              <a:path w="1824" h="164">
                <a:moveTo>
                  <a:pt x="0" y="0"/>
                </a:moveTo>
                <a:cubicBezTo>
                  <a:pt x="338" y="44"/>
                  <a:pt x="676" y="89"/>
                  <a:pt x="980" y="116"/>
                </a:cubicBezTo>
                <a:cubicBezTo>
                  <a:pt x="1284" y="143"/>
                  <a:pt x="1675" y="156"/>
                  <a:pt x="1824" y="164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1171440" y="2317680"/>
            <a:ext cx="0" cy="3138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988920" y="5243400"/>
            <a:ext cx="339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602720" y="181224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Demanda Elá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844560" y="2223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4089600" y="48013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293840" y="3855960"/>
            <a:ext cx="2895480" cy="260280"/>
          </a:xfrm>
          <a:custGeom>
            <a:avLst/>
            <a:gdLst/>
            <a:ahLst/>
            <a:rect l="l" t="t" r="r" b="b"/>
            <a:pathLst>
              <a:path w="1824" h="164">
                <a:moveTo>
                  <a:pt x="0" y="0"/>
                </a:moveTo>
                <a:cubicBezTo>
                  <a:pt x="338" y="44"/>
                  <a:pt x="676" y="89"/>
                  <a:pt x="980" y="116"/>
                </a:cubicBezTo>
                <a:cubicBezTo>
                  <a:pt x="1284" y="143"/>
                  <a:pt x="1675" y="156"/>
                  <a:pt x="1824" y="164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278000" y="2759040"/>
            <a:ext cx="2622600" cy="1417680"/>
          </a:xfrm>
          <a:custGeom>
            <a:avLst/>
            <a:gdLst/>
            <a:ahLst/>
            <a:rect l="l" t="t" r="r" b="b"/>
            <a:pathLst>
              <a:path w="1652" h="893">
                <a:moveTo>
                  <a:pt x="0" y="893"/>
                </a:moveTo>
                <a:cubicBezTo>
                  <a:pt x="78" y="880"/>
                  <a:pt x="298" y="872"/>
                  <a:pt x="471" y="816"/>
                </a:cubicBezTo>
                <a:cubicBezTo>
                  <a:pt x="644" y="760"/>
                  <a:pt x="841" y="692"/>
                  <a:pt x="1038" y="556"/>
                </a:cubicBezTo>
                <a:cubicBezTo>
                  <a:pt x="1235" y="420"/>
                  <a:pt x="1524" y="116"/>
                  <a:pt x="165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947520" y="3978360"/>
            <a:ext cx="127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179800" y="3913200"/>
            <a:ext cx="11556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787400" y="404820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>
            <a:off x="1841400" y="4162320"/>
            <a:ext cx="7920" cy="12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243160" y="40384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739880" y="5379480"/>
            <a:ext cx="5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2232000" y="5030640"/>
            <a:ext cx="36504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5226120" y="2317680"/>
            <a:ext cx="0" cy="3138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043600" y="5243400"/>
            <a:ext cx="339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8113680" y="47854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332320" y="2759040"/>
            <a:ext cx="2622600" cy="1417680"/>
          </a:xfrm>
          <a:custGeom>
            <a:avLst/>
            <a:gdLst/>
            <a:ahLst/>
            <a:rect l="l" t="t" r="r" b="b"/>
            <a:pathLst>
              <a:path w="1652" h="893">
                <a:moveTo>
                  <a:pt x="0" y="893"/>
                </a:moveTo>
                <a:cubicBezTo>
                  <a:pt x="78" y="880"/>
                  <a:pt x="298" y="872"/>
                  <a:pt x="471" y="816"/>
                </a:cubicBezTo>
                <a:cubicBezTo>
                  <a:pt x="644" y="760"/>
                  <a:pt x="841" y="692"/>
                  <a:pt x="1038" y="556"/>
                </a:cubicBezTo>
                <a:cubicBezTo>
                  <a:pt x="1235" y="420"/>
                  <a:pt x="1524" y="116"/>
                  <a:pt x="1652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400800" y="386388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464160" y="3978360"/>
            <a:ext cx="1800" cy="13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853160" y="2177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509440" y="179640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manda Inelá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 flipH="1">
            <a:off x="5087520" y="3932280"/>
            <a:ext cx="131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H="1" flipV="1">
            <a:off x="948960" y="4105440"/>
            <a:ext cx="826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4551480" y="2562120"/>
            <a:ext cx="3160440" cy="3171240"/>
            <a:chOff x="4551480" y="2562120"/>
            <a:chExt cx="3160440" cy="3171240"/>
          </a:xfrm>
        </p:grpSpPr>
        <p:sp>
          <p:nvSpPr>
            <p:cNvPr id="1468" name=""/>
            <p:cNvSpPr/>
            <p:nvPr/>
          </p:nvSpPr>
          <p:spPr>
            <a:xfrm>
              <a:off x="6013440" y="4987800"/>
              <a:ext cx="42696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02440" y="2562120"/>
              <a:ext cx="1509480" cy="2513160"/>
            </a:xfrm>
            <a:custGeom>
              <a:avLst/>
              <a:gdLst/>
              <a:ahLst/>
              <a:rect l="l" t="t" r="r" b="b"/>
              <a:pathLst>
                <a:path w="951" h="1583">
                  <a:moveTo>
                    <a:pt x="0" y="0"/>
                  </a:moveTo>
                  <a:cubicBezTo>
                    <a:pt x="43" y="145"/>
                    <a:pt x="165" y="651"/>
                    <a:pt x="259" y="872"/>
                  </a:cubicBezTo>
                  <a:cubicBezTo>
                    <a:pt x="353" y="1093"/>
                    <a:pt x="452" y="1206"/>
                    <a:pt x="567" y="1324"/>
                  </a:cubicBezTo>
                  <a:cubicBezTo>
                    <a:pt x="682" y="1442"/>
                    <a:pt x="871" y="1529"/>
                    <a:pt x="951" y="158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5065560" y="3854520"/>
              <a:ext cx="146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534000" y="3805200"/>
              <a:ext cx="115920" cy="115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591240" y="3927600"/>
              <a:ext cx="0" cy="14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399360" y="5365080"/>
              <a:ext cx="55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q</a:t>
              </a: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551480" y="3734640"/>
              <a:ext cx="55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</a:t>
              </a:r>
              <a:r>
                <a:rPr b="1" lang="en-US" sz="1800" spc="-1" strike="noStrike">
                  <a:solidFill>
                    <a:srgbClr val="0000ff"/>
                  </a:solidFill>
                  <a:latin typeface="Lucida Casual"/>
                </a:rPr>
                <a:t>p</a:t>
              </a:r>
              <a:r>
                <a:rPr b="1" lang="en-US" sz="18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586560" y="4984920"/>
              <a:ext cx="36504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6" name=""/>
          <p:cNvSpPr/>
          <p:nvPr/>
        </p:nvSpPr>
        <p:spPr>
          <a:xfrm>
            <a:off x="432000" y="3874320"/>
            <a:ext cx="5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420920" y="5035680"/>
            <a:ext cx="42696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9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480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481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76360" y="824760"/>
            <a:ext cx="802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Efeitos da Elasticidade na Reação do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/>
          <p:nvPr/>
        </p:nvSpPr>
        <p:spPr>
          <a:xfrm flipV="1">
            <a:off x="1171440" y="2317680"/>
            <a:ext cx="0" cy="3138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988920" y="5243400"/>
            <a:ext cx="339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602720" y="181224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Demanda Elá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844560" y="2223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089600" y="48013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293840" y="3855960"/>
            <a:ext cx="2895480" cy="260280"/>
          </a:xfrm>
          <a:custGeom>
            <a:avLst/>
            <a:gdLst/>
            <a:ahLst/>
            <a:rect l="l" t="t" r="r" b="b"/>
            <a:pathLst>
              <a:path w="1824" h="164">
                <a:moveTo>
                  <a:pt x="0" y="0"/>
                </a:moveTo>
                <a:cubicBezTo>
                  <a:pt x="338" y="44"/>
                  <a:pt x="676" y="89"/>
                  <a:pt x="980" y="116"/>
                </a:cubicBezTo>
                <a:cubicBezTo>
                  <a:pt x="1284" y="143"/>
                  <a:pt x="1675" y="156"/>
                  <a:pt x="1824" y="164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278000" y="2759040"/>
            <a:ext cx="2622600" cy="1417680"/>
          </a:xfrm>
          <a:custGeom>
            <a:avLst/>
            <a:gdLst/>
            <a:ahLst/>
            <a:rect l="l" t="t" r="r" b="b"/>
            <a:pathLst>
              <a:path w="1652" h="893">
                <a:moveTo>
                  <a:pt x="0" y="893"/>
                </a:moveTo>
                <a:cubicBezTo>
                  <a:pt x="78" y="880"/>
                  <a:pt x="298" y="872"/>
                  <a:pt x="471" y="816"/>
                </a:cubicBezTo>
                <a:cubicBezTo>
                  <a:pt x="644" y="760"/>
                  <a:pt x="841" y="692"/>
                  <a:pt x="1038" y="556"/>
                </a:cubicBezTo>
                <a:cubicBezTo>
                  <a:pt x="1235" y="420"/>
                  <a:pt x="1524" y="116"/>
                  <a:pt x="165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293840" y="2774880"/>
            <a:ext cx="3063960" cy="1662120"/>
          </a:xfrm>
          <a:custGeom>
            <a:avLst/>
            <a:gdLst/>
            <a:ahLst/>
            <a:rect l="l" t="t" r="r" b="b"/>
            <a:pathLst>
              <a:path w="1930" h="1047">
                <a:moveTo>
                  <a:pt x="0" y="1047"/>
                </a:moveTo>
                <a:cubicBezTo>
                  <a:pt x="90" y="1032"/>
                  <a:pt x="339" y="1024"/>
                  <a:pt x="542" y="961"/>
                </a:cubicBezTo>
                <a:cubicBezTo>
                  <a:pt x="745" y="898"/>
                  <a:pt x="989" y="831"/>
                  <a:pt x="1220" y="671"/>
                </a:cubicBezTo>
                <a:cubicBezTo>
                  <a:pt x="1451" y="511"/>
                  <a:pt x="1782" y="140"/>
                  <a:pt x="1930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H="1" flipV="1">
            <a:off x="948960" y="4095360"/>
            <a:ext cx="89388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 flipV="1">
            <a:off x="948960" y="4029120"/>
            <a:ext cx="194940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2867040" y="3973680"/>
            <a:ext cx="115920" cy="115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816200" y="404820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879560" y="4135320"/>
            <a:ext cx="0" cy="136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2925720" y="408456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78000" y="3876120"/>
            <a:ext cx="5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p</a:t>
            </a: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144880" y="5287320"/>
            <a:ext cx="5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808080"/>
                </a:solidFill>
                <a:latin typeface="Lucida Casual"/>
              </a:rPr>
              <a:t>q</a:t>
            </a: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879560" y="4984920"/>
            <a:ext cx="1046160" cy="0"/>
          </a:xfrm>
          <a:prstGeom prst="line">
            <a:avLst/>
          </a:prstGeom>
          <a:ln w="5724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039000" y="5046840"/>
            <a:ext cx="4269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6713640" y="5052960"/>
            <a:ext cx="36504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5226120" y="2317680"/>
            <a:ext cx="0" cy="3138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043600" y="5243400"/>
            <a:ext cx="339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8113680" y="47854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202440" y="2562120"/>
            <a:ext cx="1509480" cy="2513160"/>
          </a:xfrm>
          <a:custGeom>
            <a:avLst/>
            <a:gdLst/>
            <a:ahLst/>
            <a:rect l="l" t="t" r="r" b="b"/>
            <a:pathLst>
              <a:path w="951" h="1583">
                <a:moveTo>
                  <a:pt x="0" y="0"/>
                </a:moveTo>
                <a:cubicBezTo>
                  <a:pt x="43" y="145"/>
                  <a:pt x="165" y="651"/>
                  <a:pt x="259" y="872"/>
                </a:cubicBezTo>
                <a:cubicBezTo>
                  <a:pt x="353" y="1093"/>
                  <a:pt x="452" y="1206"/>
                  <a:pt x="567" y="1324"/>
                </a:cubicBezTo>
                <a:cubicBezTo>
                  <a:pt x="682" y="1442"/>
                  <a:pt x="871" y="1529"/>
                  <a:pt x="951" y="158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332320" y="2759040"/>
            <a:ext cx="2622600" cy="1417680"/>
          </a:xfrm>
          <a:custGeom>
            <a:avLst/>
            <a:gdLst/>
            <a:ahLst/>
            <a:rect l="l" t="t" r="r" b="b"/>
            <a:pathLst>
              <a:path w="1652" h="893">
                <a:moveTo>
                  <a:pt x="0" y="893"/>
                </a:moveTo>
                <a:cubicBezTo>
                  <a:pt x="78" y="880"/>
                  <a:pt x="298" y="872"/>
                  <a:pt x="471" y="816"/>
                </a:cubicBezTo>
                <a:cubicBezTo>
                  <a:pt x="644" y="760"/>
                  <a:pt x="841" y="692"/>
                  <a:pt x="1038" y="556"/>
                </a:cubicBezTo>
                <a:cubicBezTo>
                  <a:pt x="1235" y="420"/>
                  <a:pt x="1524" y="116"/>
                  <a:pt x="1652" y="0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348160" y="2774880"/>
            <a:ext cx="3063960" cy="1662120"/>
          </a:xfrm>
          <a:custGeom>
            <a:avLst/>
            <a:gdLst/>
            <a:ahLst/>
            <a:rect l="l" t="t" r="r" b="b"/>
            <a:pathLst>
              <a:path w="1930" h="1047">
                <a:moveTo>
                  <a:pt x="0" y="1047"/>
                </a:moveTo>
                <a:cubicBezTo>
                  <a:pt x="90" y="1032"/>
                  <a:pt x="339" y="1024"/>
                  <a:pt x="542" y="961"/>
                </a:cubicBezTo>
                <a:cubicBezTo>
                  <a:pt x="745" y="898"/>
                  <a:pt x="989" y="831"/>
                  <a:pt x="1220" y="671"/>
                </a:cubicBezTo>
                <a:cubicBezTo>
                  <a:pt x="1451" y="511"/>
                  <a:pt x="1782" y="140"/>
                  <a:pt x="1930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5073480" y="3909960"/>
            <a:ext cx="13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H="1">
            <a:off x="5043240" y="4162320"/>
            <a:ext cx="156996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632640" y="409572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410160" y="3875040"/>
            <a:ext cx="115920" cy="115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475320" y="3965400"/>
            <a:ext cx="1800" cy="134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707160" y="4206960"/>
            <a:ext cx="0" cy="11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399360" y="5365080"/>
            <a:ext cx="5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q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533120" y="3866400"/>
            <a:ext cx="5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853160" y="2177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5509440" y="179640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manda Inelá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203480" y="3992400"/>
            <a:ext cx="2895480" cy="366840"/>
          </a:xfrm>
          <a:custGeom>
            <a:avLst/>
            <a:gdLst/>
            <a:ahLst/>
            <a:rect l="l" t="t" r="r" b="b"/>
            <a:pathLst>
              <a:path w="1824" h="164">
                <a:moveTo>
                  <a:pt x="0" y="0"/>
                </a:moveTo>
                <a:cubicBezTo>
                  <a:pt x="338" y="44"/>
                  <a:pt x="676" y="89"/>
                  <a:pt x="980" y="116"/>
                </a:cubicBezTo>
                <a:cubicBezTo>
                  <a:pt x="1284" y="143"/>
                  <a:pt x="1675" y="156"/>
                  <a:pt x="1824" y="164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157800" y="2754360"/>
            <a:ext cx="1508400" cy="2408040"/>
          </a:xfrm>
          <a:custGeom>
            <a:avLst/>
            <a:gdLst/>
            <a:ahLst/>
            <a:rect l="l" t="t" r="r" b="b"/>
            <a:pathLst>
              <a:path w="950" h="1517">
                <a:moveTo>
                  <a:pt x="0" y="0"/>
                </a:moveTo>
                <a:cubicBezTo>
                  <a:pt x="43" y="148"/>
                  <a:pt x="154" y="670"/>
                  <a:pt x="251" y="891"/>
                </a:cubicBezTo>
                <a:cubicBezTo>
                  <a:pt x="348" y="1112"/>
                  <a:pt x="467" y="1222"/>
                  <a:pt x="584" y="1326"/>
                </a:cubicBezTo>
                <a:cubicBezTo>
                  <a:pt x="701" y="1430"/>
                  <a:pt x="874" y="1477"/>
                  <a:pt x="950" y="1517"/>
                </a:cubicBezTo>
              </a:path>
            </a:pathLst>
          </a:custGeom>
          <a:noFill/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1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522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76360" y="824760"/>
            <a:ext cx="802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Efeitos da Elasticidade na Reação do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"/>
          <p:cNvSpPr/>
          <p:nvPr/>
        </p:nvSpPr>
        <p:spPr>
          <a:xfrm>
            <a:off x="6475320" y="3965400"/>
            <a:ext cx="1800" cy="134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879560" y="4135320"/>
            <a:ext cx="0" cy="136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1171440" y="2317680"/>
            <a:ext cx="0" cy="3138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988920" y="5243400"/>
            <a:ext cx="339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602720" y="181224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manda Elá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844560" y="2223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4089600" y="48013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 flipV="1">
            <a:off x="964800" y="4103280"/>
            <a:ext cx="847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948960" y="4027320"/>
            <a:ext cx="194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2867040" y="3973680"/>
            <a:ext cx="115920" cy="115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816200" y="404820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925720" y="408456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08240" y="3876120"/>
            <a:ext cx="5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144880" y="5287320"/>
            <a:ext cx="5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q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5226120" y="2317680"/>
            <a:ext cx="0" cy="3138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43600" y="5243400"/>
            <a:ext cx="339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8113680" y="47854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H="1">
            <a:off x="5073480" y="3909960"/>
            <a:ext cx="13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H="1" flipV="1">
            <a:off x="5051160" y="4158720"/>
            <a:ext cx="15620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632640" y="409572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6410160" y="3875040"/>
            <a:ext cx="115920" cy="115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707160" y="4206960"/>
            <a:ext cx="0" cy="11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399360" y="5365080"/>
            <a:ext cx="5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q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533120" y="3866400"/>
            <a:ext cx="5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ff"/>
                </a:solidFill>
                <a:latin typeface="Lucida Casual"/>
              </a:rPr>
              <a:t>p</a:t>
            </a:r>
            <a:r>
              <a:rPr b="1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853160" y="21772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asu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5509440" y="179640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manda Inelá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1936800" y="4030560"/>
            <a:ext cx="928800" cy="68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518160" y="3978360"/>
            <a:ext cx="136800" cy="154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55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55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76360" y="824760"/>
            <a:ext cx="802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Efeitos da Elasticidade na Reação do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"/>
          <p:cNvSpPr/>
          <p:nvPr/>
        </p:nvSpPr>
        <p:spPr>
          <a:xfrm>
            <a:off x="821160" y="835920"/>
            <a:ext cx="75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00"/>
                </a:solidFill>
                <a:latin typeface="Arial"/>
              </a:rPr>
              <a:t>Características que influem na Elastic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758520" y="2704320"/>
            <a:ext cx="235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Demanda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Elá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897120" y="3434400"/>
            <a:ext cx="311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pérfl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uitos Substi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rande Fatia da R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ngo Pra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1" name=""/>
          <p:cNvGrpSpPr/>
          <p:nvPr/>
        </p:nvGrpSpPr>
        <p:grpSpPr>
          <a:xfrm>
            <a:off x="4613760" y="2675520"/>
            <a:ext cx="3390840" cy="2072160"/>
            <a:chOff x="4613760" y="2675520"/>
            <a:chExt cx="3390840" cy="2072160"/>
          </a:xfrm>
        </p:grpSpPr>
        <p:sp>
          <p:nvSpPr>
            <p:cNvPr id="1562" name=""/>
            <p:cNvSpPr/>
            <p:nvPr/>
          </p:nvSpPr>
          <p:spPr>
            <a:xfrm>
              <a:off x="4613760" y="2675520"/>
              <a:ext cx="25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ff"/>
                  </a:solidFill>
                  <a:latin typeface="Arial"/>
                </a:rPr>
                <a:t>Demanda </a:t>
              </a:r>
              <a:r>
                <a:rPr b="1" lang="pt-BR" sz="2000" spc="-1" strike="noStrike">
                  <a:solidFill>
                    <a:srgbClr val="ff0000"/>
                  </a:solidFill>
                  <a:latin typeface="Arial"/>
                </a:rPr>
                <a:t>Inelás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724280" y="3434040"/>
              <a:ext cx="32803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ssenc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Poucos Substitu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Pequena Fatia da Ren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urto Praz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4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5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566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567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1391760" y="1555920"/>
            <a:ext cx="3537720" cy="37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Recapitu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Equilíbrio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Intervenções no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Bens Substit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Bens Complement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Bens Inferi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Trib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Reações do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Arial"/>
              </a:rPr>
              <a:t>Elastic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57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57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57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57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3087360" y="3074040"/>
            <a:ext cx="332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Muito Obrigad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390840" y="2666880"/>
            <a:ext cx="2419560" cy="1600200"/>
          </a:xfrm>
          <a:custGeom>
            <a:avLst/>
            <a:gdLst/>
            <a:ahLst/>
            <a:rect l="l" t="t" r="r" b="b"/>
            <a:pathLst>
              <a:path w="1524" h="1008">
                <a:moveTo>
                  <a:pt x="0" y="1008"/>
                </a:moveTo>
                <a:cubicBezTo>
                  <a:pt x="299" y="930"/>
                  <a:pt x="598" y="852"/>
                  <a:pt x="852" y="684"/>
                </a:cubicBezTo>
                <a:cubicBezTo>
                  <a:pt x="1106" y="516"/>
                  <a:pt x="1315" y="258"/>
                  <a:pt x="152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60680" y="2130480"/>
            <a:ext cx="1440" cy="28940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50245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84360" y="453564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84360" y="406548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84360" y="357660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308916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84360" y="26179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84360" y="213048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60680" y="5024520"/>
            <a:ext cx="49737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5606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8472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22424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0482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87052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71040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53444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55400" y="48895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55400" y="44020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55400" y="39304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55400" y="3443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55400" y="2954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33000" y="24843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000" y="19954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9984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2352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014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2516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4920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872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1132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74880" y="5746680"/>
            <a:ext cx="2858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Quantidade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912240" y="3456720"/>
            <a:ext cx="19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Preço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90840" y="2647800"/>
            <a:ext cx="2533680" cy="1733760"/>
          </a:xfrm>
          <a:custGeom>
            <a:avLst/>
            <a:gdLst/>
            <a:ahLst/>
            <a:rect l="l" t="t" r="r" b="b"/>
            <a:pathLst>
              <a:path w="1596" h="1092">
                <a:moveTo>
                  <a:pt x="0" y="0"/>
                </a:moveTo>
                <a:cubicBezTo>
                  <a:pt x="107" y="245"/>
                  <a:pt x="214" y="490"/>
                  <a:pt x="480" y="672"/>
                </a:cubicBezTo>
                <a:cubicBezTo>
                  <a:pt x="746" y="854"/>
                  <a:pt x="1410" y="1022"/>
                  <a:pt x="1596" y="109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81680" y="2400480"/>
            <a:ext cx="1219320" cy="609480"/>
          </a:xfrm>
          <a:prstGeom prst="wedgeRoundRectCallout">
            <a:avLst>
              <a:gd name="adj1" fmla="val -125000"/>
              <a:gd name="adj2" fmla="val 270050"/>
              <a:gd name="adj3" fmla="val 16667"/>
            </a:avLst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81560" y="1676520"/>
            <a:ext cx="914400" cy="609480"/>
          </a:xfrm>
          <a:prstGeom prst="wedgeRoundRectCallout">
            <a:avLst>
              <a:gd name="adj1" fmla="val 87500"/>
              <a:gd name="adj2" fmla="val 123175"/>
              <a:gd name="adj3" fmla="val 16667"/>
            </a:avLst>
          </a:prstGeom>
          <a:solidFill>
            <a:srgbClr val="ffcccc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00640" y="3828960"/>
            <a:ext cx="15228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76600" y="3962520"/>
            <a:ext cx="0" cy="10760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2538360" y="3898800"/>
            <a:ext cx="1919520" cy="64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15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33120" y="807480"/>
            <a:ext cx="38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Equilíbrio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314880" y="2666880"/>
            <a:ext cx="2495520" cy="1906560"/>
          </a:xfrm>
          <a:custGeom>
            <a:avLst/>
            <a:gdLst/>
            <a:ahLst/>
            <a:rect l="l" t="t" r="r" b="b"/>
            <a:pathLst>
              <a:path w="1524" h="1008">
                <a:moveTo>
                  <a:pt x="0" y="1008"/>
                </a:moveTo>
                <a:cubicBezTo>
                  <a:pt x="299" y="930"/>
                  <a:pt x="598" y="852"/>
                  <a:pt x="852" y="684"/>
                </a:cubicBezTo>
                <a:cubicBezTo>
                  <a:pt x="1106" y="516"/>
                  <a:pt x="1315" y="258"/>
                  <a:pt x="1524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60680" y="2130480"/>
            <a:ext cx="1440" cy="28940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50245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453564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406548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57660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84360" y="3089160"/>
            <a:ext cx="7632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84360" y="261792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0480"/>
            <a:ext cx="763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60680" y="5024520"/>
            <a:ext cx="49737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606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8472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22424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04828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870520" y="5024160"/>
            <a:ext cx="180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71040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534440" y="5024160"/>
            <a:ext cx="1440" cy="8388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55400" y="48895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55400" y="44020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55400" y="39304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55400" y="3443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55400" y="2954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000" y="24843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33000" y="199548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9984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23520" y="52592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014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2516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4920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8728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11320" y="525924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74880" y="5746680"/>
            <a:ext cx="2858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Quantidade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912240" y="3456720"/>
            <a:ext cx="19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Lucida Console"/>
              </a:rPr>
              <a:t>Preço de 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6920" y="2481120"/>
            <a:ext cx="2533680" cy="2006640"/>
          </a:xfrm>
          <a:custGeom>
            <a:avLst/>
            <a:gdLst/>
            <a:ahLst/>
            <a:rect l="l" t="t" r="r" b="b"/>
            <a:pathLst>
              <a:path w="1596" h="1092">
                <a:moveTo>
                  <a:pt x="0" y="0"/>
                </a:moveTo>
                <a:cubicBezTo>
                  <a:pt x="107" y="245"/>
                  <a:pt x="214" y="490"/>
                  <a:pt x="480" y="672"/>
                </a:cubicBezTo>
                <a:cubicBezTo>
                  <a:pt x="746" y="854"/>
                  <a:pt x="1410" y="1022"/>
                  <a:pt x="1596" y="109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400480"/>
            <a:ext cx="1219320" cy="609480"/>
          </a:xfrm>
          <a:prstGeom prst="wedgeRoundRectCallout">
            <a:avLst>
              <a:gd name="adj1" fmla="val -125000"/>
              <a:gd name="adj2" fmla="val 270050"/>
              <a:gd name="adj3" fmla="val 16667"/>
            </a:avLst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81560" y="1676520"/>
            <a:ext cx="914400" cy="609480"/>
          </a:xfrm>
          <a:prstGeom prst="wedgeRoundRectCallout">
            <a:avLst>
              <a:gd name="adj1" fmla="val 87500"/>
              <a:gd name="adj2" fmla="val 123175"/>
              <a:gd name="adj3" fmla="val 16667"/>
            </a:avLst>
          </a:prstGeom>
          <a:solidFill>
            <a:srgbClr val="ffcccc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89640" y="3914640"/>
            <a:ext cx="152280" cy="142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75080" y="3098880"/>
            <a:ext cx="292392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10160" y="3098880"/>
            <a:ext cx="0" cy="12189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108320" y="4314960"/>
            <a:ext cx="137808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103640" y="3661920"/>
            <a:ext cx="0" cy="63036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649680"/>
            <a:ext cx="909720" cy="46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33880" y="3666960"/>
            <a:ext cx="0" cy="45900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410000" y="4145040"/>
            <a:ext cx="58896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13240" y="3874680"/>
            <a:ext cx="0" cy="2602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05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33120" y="807480"/>
            <a:ext cx="38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Equilíbrio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48640" y="1162080"/>
            <a:ext cx="8065800" cy="12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8080"/>
                </a:solidFill>
                <a:latin typeface="Lucida Casual"/>
              </a:rPr>
              <a:t>PROBLE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À luz das informações sobre os desejos do consumidor e do produto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808080"/>
                </a:solidFill>
                <a:latin typeface="Lucida Casual"/>
              </a:rPr>
              <a:t>como seria a interação esperada entre estas part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19880" y="5989680"/>
            <a:ext cx="182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onsole"/>
              </a:rPr>
              <a:t>Quantidade de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1623240" y="4229640"/>
            <a:ext cx="122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Lucida Console"/>
              </a:rPr>
              <a:t>Preço de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89680" y="3341520"/>
            <a:ext cx="1135080" cy="746280"/>
          </a:xfrm>
          <a:prstGeom prst="wedgeRoundRectCallout">
            <a:avLst>
              <a:gd name="adj1" fmla="val -105662"/>
              <a:gd name="adj2" fmla="val 143828"/>
              <a:gd name="adj3" fmla="val 16667"/>
            </a:avLst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Lucida Casu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08400" y="2800440"/>
            <a:ext cx="955800" cy="557280"/>
          </a:xfrm>
          <a:prstGeom prst="wedgeRoundRectCallout">
            <a:avLst>
              <a:gd name="adj1" fmla="val 51828"/>
              <a:gd name="adj2" fmla="val 105555"/>
              <a:gd name="adj3" fmla="val 16667"/>
            </a:avLst>
          </a:prstGeom>
          <a:solidFill>
            <a:srgbClr val="ffcccc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993300"/>
                </a:solidFill>
                <a:latin typeface="Lucida Casu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467800" y="2908440"/>
            <a:ext cx="4370400" cy="2926080"/>
            <a:chOff x="2467800" y="2908440"/>
            <a:chExt cx="4370400" cy="2926080"/>
          </a:xfrm>
        </p:grpSpPr>
        <p:sp>
          <p:nvSpPr>
            <p:cNvPr id="214" name=""/>
            <p:cNvSpPr/>
            <p:nvPr/>
          </p:nvSpPr>
          <p:spPr>
            <a:xfrm>
              <a:off x="3441600" y="3445920"/>
              <a:ext cx="1873440" cy="1284120"/>
            </a:xfrm>
            <a:custGeom>
              <a:avLst/>
              <a:gdLst/>
              <a:ahLst/>
              <a:rect l="l" t="t" r="r" b="b"/>
              <a:pathLst>
                <a:path w="1524" h="1008">
                  <a:moveTo>
                    <a:pt x="0" y="1008"/>
                  </a:moveTo>
                  <a:cubicBezTo>
                    <a:pt x="299" y="930"/>
                    <a:pt x="598" y="852"/>
                    <a:pt x="852" y="684"/>
                  </a:cubicBezTo>
                  <a:cubicBezTo>
                    <a:pt x="1106" y="516"/>
                    <a:pt x="1315" y="258"/>
                    <a:pt x="1524" y="0"/>
                  </a:cubicBezTo>
                </a:path>
              </a:pathLst>
            </a:custGeom>
            <a:noFill/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98640" y="3016440"/>
              <a:ext cx="1800" cy="232308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39960" y="5339880"/>
              <a:ext cx="586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39960" y="4947480"/>
              <a:ext cx="586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739960" y="4569120"/>
              <a:ext cx="5868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39960" y="4176360"/>
              <a:ext cx="586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39960" y="3785400"/>
              <a:ext cx="58680" cy="180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39960" y="3407400"/>
              <a:ext cx="58680" cy="14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39960" y="3016440"/>
              <a:ext cx="5868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98640" y="5339880"/>
              <a:ext cx="3849840" cy="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98640" y="5339520"/>
              <a:ext cx="1800" cy="68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436920" y="5339520"/>
              <a:ext cx="1440" cy="68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086360" y="5339520"/>
              <a:ext cx="1440" cy="68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724280" y="5339520"/>
              <a:ext cx="1800" cy="68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361120" y="5339520"/>
              <a:ext cx="1440" cy="68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6012000" y="5339520"/>
              <a:ext cx="0" cy="68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648480" y="5339520"/>
              <a:ext cx="1440" cy="68040"/>
            </a:xfrm>
            <a:prstGeom prst="line">
              <a:avLst/>
            </a:prstGeom>
            <a:ln w="30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61760" y="5230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61760" y="4840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61760" y="44607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61760" y="40716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61760" y="36770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67800" y="33008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67800" y="2908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52200" y="55292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88680" y="55292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91680" y="5529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28520" y="5529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66440" y="5529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15880" y="5529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554160" y="5529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41600" y="3431160"/>
              <a:ext cx="1960560" cy="1391400"/>
            </a:xfrm>
            <a:custGeom>
              <a:avLst/>
              <a:gdLst/>
              <a:ahLst/>
              <a:rect l="l" t="t" r="r" b="b"/>
              <a:pathLst>
                <a:path w="1596" h="1092">
                  <a:moveTo>
                    <a:pt x="0" y="0"/>
                  </a:moveTo>
                  <a:cubicBezTo>
                    <a:pt x="107" y="245"/>
                    <a:pt x="214" y="490"/>
                    <a:pt x="480" y="672"/>
                  </a:cubicBezTo>
                  <a:cubicBezTo>
                    <a:pt x="746" y="854"/>
                    <a:pt x="1410" y="1022"/>
                    <a:pt x="1596" y="1092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22800" y="4380120"/>
              <a:ext cx="119160" cy="1137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81480" y="4486680"/>
              <a:ext cx="0" cy="8643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770200" y="4440960"/>
              <a:ext cx="1496880" cy="684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0" y="75096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logo" descr=""/>
          <p:cNvPicPr/>
          <p:nvPr/>
        </p:nvPicPr>
        <p:blipFill>
          <a:blip r:embed="rId1"/>
          <a:stretch/>
        </p:blipFill>
        <p:spPr>
          <a:xfrm>
            <a:off x="7524720" y="287280"/>
            <a:ext cx="1290600" cy="222480"/>
          </a:xfrm>
          <a:prstGeom prst="rect">
            <a:avLst/>
          </a:prstGeom>
          <a:ln w="0">
            <a:noFill/>
          </a:ln>
        </p:spPr>
      </p:pic>
      <p:pic>
        <p:nvPicPr>
          <p:cNvPr id="251" name="ASA_CO1" descr=""/>
          <p:cNvPicPr/>
          <p:nvPr/>
        </p:nvPicPr>
        <p:blipFill>
          <a:blip r:embed="rId2"/>
          <a:stretch/>
        </p:blipFill>
        <p:spPr>
          <a:xfrm>
            <a:off x="279360" y="182520"/>
            <a:ext cx="1076400" cy="4287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0" y="6541920"/>
            <a:ext cx="91440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Otto Gottlieb</cp:lastModifiedBy>
  <cp:lastPrinted>2000-05-03T14:19:10Z</cp:lastPrinted>
  <dcterms:modified xsi:type="dcterms:W3CDTF">2003-08-18T18:38:46Z</dcterms:modified>
  <cp:revision>153</cp:revision>
  <dc:subject/>
  <dc:title>Oferta</dc:title>
</cp:coreProperties>
</file>