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174-3E3C-4BC8-890C-FD9DCD9F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FAD-C04A-478F-93DC-D43DD6B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412-4FA7-4679-B5B4-A183C211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C26-0F39-47FB-86E2-A59C2E5D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CB4-82F0-4F0F-BA9F-4033470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23-84E8-47A9-8A7F-A4BCB86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915-EF70-4255-B47F-CB42C47C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18C-8FE0-46BB-9592-B9F6D6D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EA4-5169-423A-8233-C12E91E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C04-19E4-4002-B569-924D18B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3CE-F124-4855-BF39-58FE709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C92-BA6E-4E81-8B0A-9C784C6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FEE2-390B-438E-8199-99463B22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36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518148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324120" y="5054760"/>
            <a:ext cx="1800" cy="72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50000" y="5018040"/>
            <a:ext cx="1800" cy="75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7760" y="3160800"/>
            <a:ext cx="2136600" cy="2627280"/>
            <a:chOff x="5027760" y="3160800"/>
            <a:chExt cx="2136600" cy="2627280"/>
          </a:xfrm>
        </p:grpSpPr>
        <p:sp>
          <p:nvSpPr>
            <p:cNvPr id="329" name=""/>
            <p:cNvSpPr/>
            <p:nvPr/>
          </p:nvSpPr>
          <p:spPr>
            <a:xfrm>
              <a:off x="5027760" y="3160800"/>
              <a:ext cx="2128680" cy="260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57880" y="359424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5111640"/>
              <a:ext cx="1440" cy="66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518148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324120" y="5054760"/>
            <a:ext cx="1800" cy="72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50000" y="5030640"/>
            <a:ext cx="1800" cy="75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62920" y="5111640"/>
            <a:ext cx="1440" cy="665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4197960" y="26564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49720" y="5033880"/>
            <a:ext cx="2113200" cy="73980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882680" y="575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34080" y="575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00760" y="575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13880" y="567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05120" y="212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4171320" y="35427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29200" y="214920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5581800"/>
            <a:ext cx="33526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49720" y="2894040"/>
            <a:ext cx="211320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81840" y="5423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99200" y="5432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51040" y="31791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47160" y="2117160"/>
            <a:ext cx="3577320" cy="4000320"/>
            <a:chOff x="947160" y="2117160"/>
            <a:chExt cx="3577320" cy="4000320"/>
          </a:xfrm>
        </p:grpSpPr>
        <p:sp>
          <p:nvSpPr>
            <p:cNvPr id="389" name=""/>
            <p:cNvSpPr/>
            <p:nvPr/>
          </p:nvSpPr>
          <p:spPr>
            <a:xfrm rot="16200000">
              <a:off x="-25560" y="370980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Custo de Pro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1000" y="2565360"/>
              <a:ext cx="2151000" cy="253044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63560" y="21819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9040" y="5658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18800" y="211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473120" y="2142720"/>
              <a:ext cx="0" cy="359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44520" y="5575320"/>
              <a:ext cx="323712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25760" y="5416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43480" y="5425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55400" y="574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06440" y="57492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73480" y="57492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1600" y="843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5576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2244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857680" y="2727360"/>
            <a:ext cx="5416200" cy="1879560"/>
            <a:chOff x="2857680" y="2727360"/>
            <a:chExt cx="5416200" cy="1879560"/>
          </a:xfrm>
        </p:grpSpPr>
        <p:sp>
          <p:nvSpPr>
            <p:cNvPr id="420" name=""/>
            <p:cNvSpPr/>
            <p:nvPr/>
          </p:nvSpPr>
          <p:spPr>
            <a:xfrm>
              <a:off x="2857680" y="2727360"/>
              <a:ext cx="0" cy="490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60840" y="4084560"/>
              <a:ext cx="3713040" cy="522360"/>
            </a:xfrm>
            <a:prstGeom prst="wedgeRoundRectCallout">
              <a:avLst>
                <a:gd name="adj1" fmla="val -95449"/>
                <a:gd name="adj2" fmla="val -264287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Lucro = </a:t>
              </a:r>
              <a:r>
                <a:rPr b="1" lang="pt-BR" sz="1600" spc="-1" strike="noStrike">
                  <a:solidFill>
                    <a:srgbClr val="008000"/>
                  </a:solidFill>
                  <a:latin typeface="Arial"/>
                </a:rPr>
                <a:t>Receita</a:t>
              </a: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 - </a:t>
              </a:r>
              <a:r>
                <a:rPr b="1" lang="pt-BR" sz="1600" spc="-1" strike="noStrike">
                  <a:solidFill>
                    <a:srgbClr val="ff6600"/>
                  </a:solidFill>
                  <a:latin typeface="Arial"/>
                </a:rPr>
                <a:t>Custo 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1600" y="843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576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2440" y="545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57680" y="2727360"/>
            <a:ext cx="0" cy="490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60840" y="4084560"/>
            <a:ext cx="3713040" cy="522360"/>
          </a:xfrm>
          <a:prstGeom prst="wedgeRoundRectCallout">
            <a:avLst>
              <a:gd name="adj1" fmla="val -95449"/>
              <a:gd name="adj2" fmla="val -264287"/>
              <a:gd name="adj3" fmla="val 16667"/>
            </a:avLst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Quando o Lucro é Máx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81600" y="843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404720" y="5452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5560" y="537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26800" y="182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550880" y="1846080"/>
            <a:ext cx="0" cy="359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22280" y="5278320"/>
            <a:ext cx="33530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71760" y="2590920"/>
            <a:ext cx="2112840" cy="2636640"/>
          </a:xfrm>
          <a:custGeom>
            <a:avLst/>
            <a:gdLst/>
            <a:ahLst/>
            <a:rect l="l" t="t" r="r" b="b"/>
            <a:pathLst>
              <a:path w="1331" h="466">
                <a:moveTo>
                  <a:pt x="0" y="466"/>
                </a:moveTo>
                <a:cubicBezTo>
                  <a:pt x="80" y="383"/>
                  <a:pt x="160" y="300"/>
                  <a:pt x="246" y="238"/>
                </a:cubicBezTo>
                <a:cubicBezTo>
                  <a:pt x="332" y="176"/>
                  <a:pt x="425" y="129"/>
                  <a:pt x="519" y="93"/>
                </a:cubicBezTo>
                <a:cubicBezTo>
                  <a:pt x="613" y="57"/>
                  <a:pt x="716" y="35"/>
                  <a:pt x="809" y="20"/>
                </a:cubicBezTo>
                <a:cubicBezTo>
                  <a:pt x="902" y="5"/>
                  <a:pt x="992" y="0"/>
                  <a:pt x="1079" y="5"/>
                </a:cubicBezTo>
                <a:cubicBezTo>
                  <a:pt x="1166" y="10"/>
                  <a:pt x="1279" y="43"/>
                  <a:pt x="1331" y="5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03520" y="51195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21240" y="5129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72720" y="28756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63840" y="2103480"/>
            <a:ext cx="2151000" cy="2530440"/>
          </a:xfrm>
          <a:custGeom>
            <a:avLst/>
            <a:gdLst/>
            <a:ahLst/>
            <a:rect l="l" t="t" r="r" b="b"/>
            <a:pathLst>
              <a:path w="1355" h="1594">
                <a:moveTo>
                  <a:pt x="0" y="1594"/>
                </a:moveTo>
                <a:cubicBezTo>
                  <a:pt x="46" y="1508"/>
                  <a:pt x="108" y="1238"/>
                  <a:pt x="276" y="1077"/>
                </a:cubicBezTo>
                <a:cubicBezTo>
                  <a:pt x="444" y="916"/>
                  <a:pt x="826" y="809"/>
                  <a:pt x="1006" y="630"/>
                </a:cubicBezTo>
                <a:cubicBezTo>
                  <a:pt x="1186" y="451"/>
                  <a:pt x="1282" y="131"/>
                  <a:pt x="135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6400" y="1735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200320" y="2329920"/>
            <a:ext cx="1285920" cy="752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00520" y="2684520"/>
            <a:ext cx="0" cy="25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20840" y="2943360"/>
            <a:ext cx="1285920" cy="752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05200" y="2693880"/>
            <a:ext cx="0" cy="5857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58600" y="528444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56680" y="2085840"/>
            <a:ext cx="349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o ponto 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as inclin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as curvas R e CT são igu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5224320"/>
            <a:ext cx="114120" cy="115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30840" y="299052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u se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860000" y="4204440"/>
            <a:ext cx="2360520" cy="1959120"/>
            <a:chOff x="4860000" y="4204440"/>
            <a:chExt cx="2360520" cy="1959120"/>
          </a:xfrm>
        </p:grpSpPr>
        <p:sp>
          <p:nvSpPr>
            <p:cNvPr id="467" name=""/>
            <p:cNvSpPr/>
            <p:nvPr/>
          </p:nvSpPr>
          <p:spPr>
            <a:xfrm>
              <a:off x="4860000" y="420444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Lemb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62160" y="459504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73680" y="497916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20760" y="5438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96000" y="579528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05360" y="4772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R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1960" y="4965840"/>
              <a:ext cx="460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16520" y="56048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89880" y="5797440"/>
              <a:ext cx="460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81600" y="843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830240" y="86256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Determinação de Preç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034280" y="37422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179800" y="2741760"/>
            <a:ext cx="5281920" cy="2220120"/>
            <a:chOff x="2179800" y="2741760"/>
            <a:chExt cx="5281920" cy="2220120"/>
          </a:xfrm>
        </p:grpSpPr>
        <p:sp>
          <p:nvSpPr>
            <p:cNvPr id="489" name=""/>
            <p:cNvSpPr/>
            <p:nvPr/>
          </p:nvSpPr>
          <p:spPr>
            <a:xfrm>
              <a:off x="2179800" y="2741760"/>
              <a:ext cx="4890960" cy="2063520"/>
            </a:xfrm>
            <a:custGeom>
              <a:avLst/>
              <a:gdLst/>
              <a:ahLst/>
              <a:rect l="l" t="t" r="r" b="b"/>
              <a:pathLst>
                <a:path w="3081" h="1173">
                  <a:moveTo>
                    <a:pt x="0" y="0"/>
                  </a:moveTo>
                  <a:cubicBezTo>
                    <a:pt x="162" y="106"/>
                    <a:pt x="624" y="466"/>
                    <a:pt x="972" y="637"/>
                  </a:cubicBezTo>
                  <a:cubicBezTo>
                    <a:pt x="1320" y="808"/>
                    <a:pt x="1739" y="939"/>
                    <a:pt x="2090" y="1028"/>
                  </a:cubicBezTo>
                  <a:cubicBezTo>
                    <a:pt x="2441" y="1117"/>
                    <a:pt x="2875" y="1143"/>
                    <a:pt x="3081" y="11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11800" y="45936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338640" y="3610080"/>
            <a:ext cx="129960" cy="806400"/>
            <a:chOff x="3338640" y="3610080"/>
            <a:chExt cx="129960" cy="806400"/>
          </a:xfrm>
        </p:grpSpPr>
        <p:sp>
          <p:nvSpPr>
            <p:cNvPr id="495" name=""/>
            <p:cNvSpPr/>
            <p:nvPr/>
          </p:nvSpPr>
          <p:spPr>
            <a:xfrm flipV="1">
              <a:off x="3409920" y="3710160"/>
              <a:ext cx="0" cy="70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90840" y="4532400"/>
            <a:ext cx="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07880" y="535572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771920" y="3423600"/>
            <a:ext cx="1561320" cy="368280"/>
            <a:chOff x="1771920" y="3423600"/>
            <a:chExt cx="1561320" cy="368280"/>
          </a:xfrm>
        </p:grpSpPr>
        <p:sp>
          <p:nvSpPr>
            <p:cNvPr id="501" name=""/>
            <p:cNvSpPr/>
            <p:nvPr/>
          </p:nvSpPr>
          <p:spPr>
            <a:xfrm flipH="1">
              <a:off x="2179440" y="3651120"/>
              <a:ext cx="115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71920" y="3423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163600" y="4691160"/>
            <a:ext cx="1241640" cy="635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51000" y="3665520"/>
            <a:ext cx="1244520" cy="10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81600" y="843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79800" y="2828880"/>
            <a:ext cx="3895560" cy="1946160"/>
          </a:xfrm>
          <a:custGeom>
            <a:avLst/>
            <a:gdLst/>
            <a:ahLst/>
            <a:rect l="l" t="t" r="r" b="b"/>
            <a:pathLst>
              <a:path w="2454" h="1226">
                <a:moveTo>
                  <a:pt x="0" y="773"/>
                </a:moveTo>
                <a:cubicBezTo>
                  <a:pt x="88" y="841"/>
                  <a:pt x="342" y="1138"/>
                  <a:pt x="527" y="1182"/>
                </a:cubicBezTo>
                <a:cubicBezTo>
                  <a:pt x="712" y="1226"/>
                  <a:pt x="896" y="1139"/>
                  <a:pt x="1109" y="1036"/>
                </a:cubicBezTo>
                <a:cubicBezTo>
                  <a:pt x="1322" y="933"/>
                  <a:pt x="1584" y="737"/>
                  <a:pt x="1808" y="564"/>
                </a:cubicBezTo>
                <a:cubicBezTo>
                  <a:pt x="2032" y="391"/>
                  <a:pt x="2320" y="117"/>
                  <a:pt x="245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83840" y="2485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40080" y="464832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28880" y="2322360"/>
            <a:ext cx="914400" cy="609840"/>
          </a:xfrm>
          <a:prstGeom prst="wedgeRoundRectCallout">
            <a:avLst>
              <a:gd name="adj1" fmla="val -13712"/>
              <a:gd name="adj2" fmla="val 20025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4800" y="4443480"/>
            <a:ext cx="914400" cy="609480"/>
          </a:xfrm>
          <a:prstGeom prst="wedgeRoundRectCallout">
            <a:avLst>
              <a:gd name="adj1" fmla="val 136287"/>
              <a:gd name="adj2" fmla="val 3698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1160" y="2717640"/>
            <a:ext cx="3321000" cy="1624320"/>
          </a:xfrm>
          <a:prstGeom prst="wedgeRoundRectCallout">
            <a:avLst>
              <a:gd name="adj1" fmla="val -61518"/>
              <a:gd name="adj2" fmla="val -515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avia sido visto na aul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nálise de custos qu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tidade ofertada ót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 produtor é tal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preço = CMg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67160" y="3022560"/>
            <a:ext cx="3111840" cy="1281240"/>
          </a:xfrm>
          <a:prstGeom prst="wedgeRoundRectCallout">
            <a:avLst>
              <a:gd name="adj1" fmla="val -45763"/>
              <a:gd name="adj2" fmla="val -772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o toda a oferta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rcado é proveniente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nopoli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Curva de Oferta = CMg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2944800"/>
            <a:ext cx="711540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50840" y="22327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 = O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10360" y="2901960"/>
            <a:ext cx="2936880" cy="1012680"/>
          </a:xfrm>
          <a:prstGeom prst="wedgeRoundRectCallout">
            <a:avLst>
              <a:gd name="adj1" fmla="val -98106"/>
              <a:gd name="adj2" fmla="val 492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equilíbrio se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or não fo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nopo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789840" y="36979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179800" y="2741760"/>
            <a:ext cx="5281920" cy="2220120"/>
            <a:chOff x="2179800" y="2741760"/>
            <a:chExt cx="5281920" cy="2220120"/>
          </a:xfrm>
        </p:grpSpPr>
        <p:sp>
          <p:nvSpPr>
            <p:cNvPr id="586" name=""/>
            <p:cNvSpPr/>
            <p:nvPr/>
          </p:nvSpPr>
          <p:spPr>
            <a:xfrm>
              <a:off x="2179800" y="2741760"/>
              <a:ext cx="4890960" cy="2063520"/>
            </a:xfrm>
            <a:custGeom>
              <a:avLst/>
              <a:gdLst/>
              <a:ahLst/>
              <a:rect l="l" t="t" r="r" b="b"/>
              <a:pathLst>
                <a:path w="3081" h="1173">
                  <a:moveTo>
                    <a:pt x="0" y="0"/>
                  </a:moveTo>
                  <a:cubicBezTo>
                    <a:pt x="162" y="106"/>
                    <a:pt x="624" y="466"/>
                    <a:pt x="972" y="637"/>
                  </a:cubicBezTo>
                  <a:cubicBezTo>
                    <a:pt x="1320" y="808"/>
                    <a:pt x="1739" y="939"/>
                    <a:pt x="2090" y="1028"/>
                  </a:cubicBezTo>
                  <a:cubicBezTo>
                    <a:pt x="2441" y="1117"/>
                    <a:pt x="2875" y="1143"/>
                    <a:pt x="3081" y="11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11800" y="45936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338640" y="3610080"/>
            <a:ext cx="129960" cy="806400"/>
            <a:chOff x="3338640" y="3610080"/>
            <a:chExt cx="129960" cy="806400"/>
          </a:xfrm>
        </p:grpSpPr>
        <p:sp>
          <p:nvSpPr>
            <p:cNvPr id="592" name=""/>
            <p:cNvSpPr/>
            <p:nvPr/>
          </p:nvSpPr>
          <p:spPr>
            <a:xfrm flipV="1">
              <a:off x="3409920" y="3710160"/>
              <a:ext cx="0" cy="70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0840" y="4532400"/>
            <a:ext cx="0" cy="89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07880" y="5355720"/>
            <a:ext cx="71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71920" y="3423600"/>
            <a:ext cx="1561320" cy="368280"/>
            <a:chOff x="1771920" y="3423600"/>
            <a:chExt cx="1561320" cy="368280"/>
          </a:xfrm>
        </p:grpSpPr>
        <p:sp>
          <p:nvSpPr>
            <p:cNvPr id="598" name=""/>
            <p:cNvSpPr/>
            <p:nvPr/>
          </p:nvSpPr>
          <p:spPr>
            <a:xfrm flipH="1">
              <a:off x="2179440" y="3651120"/>
              <a:ext cx="115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1920" y="3423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760040" y="3728160"/>
            <a:ext cx="2121480" cy="368280"/>
            <a:chOff x="1760040" y="3728160"/>
            <a:chExt cx="2121480" cy="368280"/>
          </a:xfrm>
        </p:grpSpPr>
        <p:sp>
          <p:nvSpPr>
            <p:cNvPr id="601" name=""/>
            <p:cNvSpPr/>
            <p:nvPr/>
          </p:nvSpPr>
          <p:spPr>
            <a:xfrm>
              <a:off x="3751200" y="3865680"/>
              <a:ext cx="130320" cy="101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169720" y="3921120"/>
              <a:ext cx="15858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60040" y="372816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p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77800" y="2554200"/>
            <a:ext cx="914400" cy="609840"/>
          </a:xfrm>
          <a:prstGeom prst="wedgeRoundRectCallout">
            <a:avLst>
              <a:gd name="adj1" fmla="val 87152"/>
              <a:gd name="adj2" fmla="val 1127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&gt; </a:t>
            </a: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146320" y="2717640"/>
            <a:ext cx="1689120" cy="1206720"/>
          </a:xfrm>
          <a:custGeom>
            <a:avLst/>
            <a:gdLst/>
            <a:ahLst/>
            <a:rect l="l" t="t" r="r" b="b"/>
            <a:pathLst>
              <a:path w="1064" h="760">
                <a:moveTo>
                  <a:pt x="0" y="0"/>
                </a:moveTo>
                <a:lnTo>
                  <a:pt x="392" y="312"/>
                </a:lnTo>
                <a:lnTo>
                  <a:pt x="860" y="644"/>
                </a:lnTo>
                <a:lnTo>
                  <a:pt x="1064" y="760"/>
                </a:lnTo>
                <a:lnTo>
                  <a:pt x="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46320" y="3924360"/>
            <a:ext cx="1609560" cy="3240"/>
          </a:xfrm>
          <a:custGeom>
            <a:avLst/>
            <a:gdLst/>
            <a:ahLst/>
            <a:rect l="l" t="t" r="r" b="b"/>
            <a:pathLst>
              <a:path w="1014" h="2">
                <a:moveTo>
                  <a:pt x="1014" y="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79600" y="1746360"/>
            <a:ext cx="2646360" cy="609480"/>
          </a:xfrm>
          <a:prstGeom prst="wedgeRoundRectCallout">
            <a:avLst>
              <a:gd name="adj1" fmla="val -31402"/>
              <a:gd name="adj2" fmla="val 250259"/>
              <a:gd name="adj3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Ganho social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ncorrência perfe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44880" y="3665520"/>
            <a:ext cx="1260360" cy="260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2705040"/>
            <a:ext cx="1257120" cy="957240"/>
          </a:xfrm>
          <a:custGeom>
            <a:avLst/>
            <a:gdLst/>
            <a:ahLst/>
            <a:rect l="l" t="t" r="r" b="b"/>
            <a:pathLst>
              <a:path w="792" h="603">
                <a:moveTo>
                  <a:pt x="0" y="0"/>
                </a:moveTo>
                <a:lnTo>
                  <a:pt x="344" y="280"/>
                </a:lnTo>
                <a:lnTo>
                  <a:pt x="792" y="603"/>
                </a:lnTo>
                <a:lnTo>
                  <a:pt x="12" y="6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149200" y="3925800"/>
            <a:ext cx="16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46480" y="1568520"/>
            <a:ext cx="3979800" cy="628560"/>
          </a:xfrm>
          <a:prstGeom prst="wedgeRoundRectCallout">
            <a:avLst>
              <a:gd name="adj1" fmla="val -31370"/>
              <a:gd name="adj2" fmla="val 308333"/>
              <a:gd name="adj3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arte do ganho social fo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ransformado em aumento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00560" y="3662280"/>
            <a:ext cx="414360" cy="795600"/>
          </a:xfrm>
          <a:custGeom>
            <a:avLst/>
            <a:gdLst/>
            <a:ahLst/>
            <a:rect l="l" t="t" r="r" b="b"/>
            <a:pathLst>
              <a:path w="261" h="501">
                <a:moveTo>
                  <a:pt x="0" y="0"/>
                </a:moveTo>
                <a:lnTo>
                  <a:pt x="126" y="81"/>
                </a:lnTo>
                <a:lnTo>
                  <a:pt x="261" y="159"/>
                </a:lnTo>
                <a:lnTo>
                  <a:pt x="96" y="384"/>
                </a:lnTo>
                <a:lnTo>
                  <a:pt x="0" y="501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33720" y="2705040"/>
            <a:ext cx="1266840" cy="960480"/>
          </a:xfrm>
          <a:custGeom>
            <a:avLst/>
            <a:gdLst/>
            <a:ahLst/>
            <a:rect l="l" t="t" r="r" b="b"/>
            <a:pathLst>
              <a:path w="798" h="605">
                <a:moveTo>
                  <a:pt x="0" y="0"/>
                </a:moveTo>
                <a:lnTo>
                  <a:pt x="344" y="280"/>
                </a:lnTo>
                <a:lnTo>
                  <a:pt x="798" y="605"/>
                </a:lnTo>
                <a:lnTo>
                  <a:pt x="11" y="6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64240" y="243468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51200" y="3865680"/>
            <a:ext cx="13032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33280" y="93888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corrência Perfeita x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149200" y="3925800"/>
            <a:ext cx="16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06720" y="1808280"/>
            <a:ext cx="2595600" cy="476280"/>
          </a:xfrm>
          <a:prstGeom prst="wedgeRoundRectCallout">
            <a:avLst>
              <a:gd name="adj1" fmla="val -29694"/>
              <a:gd name="adj2" fmla="val 377666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Dead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567160" y="9007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12440" y="190728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64400" y="192960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etição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617400" y="2475000"/>
            <a:ext cx="7943760" cy="1937880"/>
            <a:chOff x="617400" y="2475000"/>
            <a:chExt cx="7943760" cy="1937880"/>
          </a:xfrm>
        </p:grpSpPr>
        <p:sp>
          <p:nvSpPr>
            <p:cNvPr id="685" name=""/>
            <p:cNvSpPr/>
            <p:nvPr/>
          </p:nvSpPr>
          <p:spPr>
            <a:xfrm>
              <a:off x="617400" y="2557800"/>
              <a:ext cx="328140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Único produtor supre to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a demanda do mer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53000" y="2475000"/>
              <a:ext cx="390816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Único produtor de um prod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diferenciad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6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Mar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3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Localiz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Propaga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Podem existir muitos produ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de bens substitu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06240" y="3293280"/>
            <a:ext cx="8280000" cy="1783440"/>
            <a:chOff x="606240" y="3293280"/>
            <a:chExt cx="8280000" cy="1783440"/>
          </a:xfrm>
        </p:grpSpPr>
        <p:sp>
          <p:nvSpPr>
            <p:cNvPr id="688" name=""/>
            <p:cNvSpPr/>
            <p:nvPr/>
          </p:nvSpPr>
          <p:spPr>
            <a:xfrm>
              <a:off x="606240" y="3293280"/>
              <a:ext cx="233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Determina o p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39320" y="4483440"/>
              <a:ext cx="42469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Determina o preço, mas d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ff3300"/>
                  </a:solidFill>
                  <a:latin typeface="Arial"/>
                </a:rPr>
                <a:t>conhecer o preço dos 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98320" y="3729240"/>
            <a:ext cx="7571880" cy="2076480"/>
            <a:chOff x="598320" y="3729240"/>
            <a:chExt cx="7571880" cy="2076480"/>
          </a:xfrm>
        </p:grpSpPr>
        <p:sp>
          <p:nvSpPr>
            <p:cNvPr id="691" name=""/>
            <p:cNvSpPr/>
            <p:nvPr/>
          </p:nvSpPr>
          <p:spPr>
            <a:xfrm>
              <a:off x="598320" y="3729240"/>
              <a:ext cx="343260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Barreiras fortes à entrad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competidor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7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Pa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Concessões do Gove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Economia de Esca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4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Tecnolo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01240" y="5185080"/>
              <a:ext cx="34689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Barreiras fracas à entrad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 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151000" y="3665520"/>
            <a:ext cx="1244520" cy="525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84520" y="2322360"/>
            <a:ext cx="1535040" cy="609840"/>
          </a:xfrm>
          <a:prstGeom prst="wedgeRoundRectCallout">
            <a:avLst>
              <a:gd name="adj1" fmla="val -18976"/>
              <a:gd name="adj2" fmla="val 2002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Lucro In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62560" y="843480"/>
            <a:ext cx="74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Cur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179800" y="2289960"/>
            <a:ext cx="3358800" cy="2747160"/>
            <a:chOff x="2179800" y="2289960"/>
            <a:chExt cx="3358800" cy="2747160"/>
          </a:xfrm>
        </p:grpSpPr>
        <p:sp>
          <p:nvSpPr>
            <p:cNvPr id="709" name=""/>
            <p:cNvSpPr/>
            <p:nvPr/>
          </p:nvSpPr>
          <p:spPr>
            <a:xfrm>
              <a:off x="2179800" y="2670120"/>
              <a:ext cx="2554200" cy="2367000"/>
            </a:xfrm>
            <a:custGeom>
              <a:avLst/>
              <a:gdLst/>
              <a:ahLst/>
              <a:rect l="l" t="t" r="r" b="b"/>
              <a:pathLst>
                <a:path w="1545" h="1227">
                  <a:moveTo>
                    <a:pt x="0" y="745"/>
                  </a:moveTo>
                  <a:cubicBezTo>
                    <a:pt x="84" y="921"/>
                    <a:pt x="168" y="1097"/>
                    <a:pt x="272" y="1145"/>
                  </a:cubicBezTo>
                  <a:cubicBezTo>
                    <a:pt x="376" y="1193"/>
                    <a:pt x="415" y="1227"/>
                    <a:pt x="627" y="1036"/>
                  </a:cubicBezTo>
                  <a:cubicBezTo>
                    <a:pt x="839" y="845"/>
                    <a:pt x="1391" y="174"/>
                    <a:pt x="1545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92680" y="228996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6600"/>
                  </a:solidFill>
                  <a:latin typeface="Lucida Casual"/>
                </a:rPr>
                <a:t>CMg</a:t>
              </a: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163600" y="2096280"/>
            <a:ext cx="5290200" cy="2185200"/>
            <a:chOff x="2163600" y="2096280"/>
            <a:chExt cx="5290200" cy="2185200"/>
          </a:xfrm>
        </p:grpSpPr>
        <p:sp>
          <p:nvSpPr>
            <p:cNvPr id="712" name=""/>
            <p:cNvSpPr/>
            <p:nvPr/>
          </p:nvSpPr>
          <p:spPr>
            <a:xfrm>
              <a:off x="2163600" y="2309760"/>
              <a:ext cx="4518360" cy="1971720"/>
            </a:xfrm>
            <a:custGeom>
              <a:avLst/>
              <a:gdLst/>
              <a:ahLst/>
              <a:rect l="l" t="t" r="r" b="b"/>
              <a:pathLst>
                <a:path w="2846" h="1242">
                  <a:moveTo>
                    <a:pt x="0" y="618"/>
                  </a:moveTo>
                  <a:cubicBezTo>
                    <a:pt x="124" y="710"/>
                    <a:pt x="513" y="1102"/>
                    <a:pt x="746" y="1172"/>
                  </a:cubicBezTo>
                  <a:cubicBezTo>
                    <a:pt x="979" y="1242"/>
                    <a:pt x="1174" y="1137"/>
                    <a:pt x="1400" y="1036"/>
                  </a:cubicBezTo>
                  <a:cubicBezTo>
                    <a:pt x="1626" y="935"/>
                    <a:pt x="1861" y="737"/>
                    <a:pt x="2102" y="564"/>
                  </a:cubicBezTo>
                  <a:cubicBezTo>
                    <a:pt x="2343" y="391"/>
                    <a:pt x="2692" y="117"/>
                    <a:pt x="2846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79160" y="20962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993300"/>
                  </a:solidFill>
                  <a:latin typeface="Lucida Casual"/>
                </a:rPr>
                <a:t>C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338640" y="3610080"/>
            <a:ext cx="131760" cy="1730160"/>
            <a:chOff x="3338640" y="3610080"/>
            <a:chExt cx="131760" cy="1730160"/>
          </a:xfrm>
        </p:grpSpPr>
        <p:sp>
          <p:nvSpPr>
            <p:cNvPr id="716" name=""/>
            <p:cNvSpPr/>
            <p:nvPr/>
          </p:nvSpPr>
          <p:spPr>
            <a:xfrm>
              <a:off x="3405240" y="3724200"/>
              <a:ext cx="0" cy="16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40080" y="4395960"/>
              <a:ext cx="13032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38640" y="3610080"/>
              <a:ext cx="129960" cy="10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332160" y="414180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64160" y="3054240"/>
            <a:ext cx="1779840" cy="1096920"/>
          </a:xfrm>
          <a:prstGeom prst="wedgeRoundRectCallout">
            <a:avLst>
              <a:gd name="adj1" fmla="val -38671"/>
              <a:gd name="adj2" fmla="val 102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manda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o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iferenci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860040" y="735120"/>
            <a:ext cx="7614360" cy="655560"/>
            <a:chOff x="860040" y="735120"/>
            <a:chExt cx="7614360" cy="655560"/>
          </a:xfrm>
        </p:grpSpPr>
        <p:sp>
          <p:nvSpPr>
            <p:cNvPr id="726" name=""/>
            <p:cNvSpPr/>
            <p:nvPr/>
          </p:nvSpPr>
          <p:spPr>
            <a:xfrm>
              <a:off x="2068560" y="735120"/>
              <a:ext cx="1028520" cy="655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0040" y="843480"/>
              <a:ext cx="76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Arial"/>
                </a:rPr>
                <a:t>Lucro 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Longo </a:t>
              </a:r>
              <a:r>
                <a:rPr b="1" lang="pt-BR" sz="2400" spc="-1" strike="noStrike">
                  <a:solidFill>
                    <a:srgbClr val="008000"/>
                  </a:solidFill>
                  <a:latin typeface="Arial"/>
                </a:rPr>
                <a:t>Prazo na Competição Monopol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51000" y="3665520"/>
            <a:ext cx="1244520" cy="525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05240" y="3724200"/>
            <a:ext cx="0" cy="161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240240" y="5600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111800" y="4593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40080" y="439596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38640" y="361008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32160" y="4141800"/>
            <a:ext cx="13032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0040" y="843480"/>
            <a:ext cx="76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ong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684520" y="2322360"/>
            <a:ext cx="1535040" cy="609840"/>
          </a:xfrm>
          <a:prstGeom prst="wedgeRoundRectCallout">
            <a:avLst>
              <a:gd name="adj1" fmla="val -18976"/>
              <a:gd name="adj2" fmla="val 200259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Lucro In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2151000" y="3929040"/>
            <a:ext cx="1139760" cy="22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292200" y="3911760"/>
            <a:ext cx="4680" cy="14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03680" y="56286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179800" y="2741760"/>
            <a:ext cx="32907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79800" y="2771640"/>
            <a:ext cx="328896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09800" y="4636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27400" y="4538520"/>
            <a:ext cx="13032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30640" y="387972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25960" y="410544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27920" y="371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1880" y="3218040"/>
            <a:ext cx="2977920" cy="1015920"/>
          </a:xfrm>
          <a:prstGeom prst="wedgeRoundRectCallout">
            <a:avLst>
              <a:gd name="adj1" fmla="val -63111"/>
              <a:gd name="adj2" fmla="val 95939"/>
              <a:gd name="adj3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manda deslocada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squerda devido à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de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60040" y="843480"/>
            <a:ext cx="76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Long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9000" y="1542960"/>
            <a:ext cx="7261200" cy="42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preender as diferenças entre as Concorrências Perfeita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Imperfeita, bem como avaliar os impactos resul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ceita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ncorrência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iferenciação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ustomização de 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utras Estratégias de Fixação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151000" y="4003560"/>
            <a:ext cx="966960" cy="74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147840" y="3956040"/>
            <a:ext cx="5040" cy="14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84160" y="54698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89280" y="5340240"/>
            <a:ext cx="555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149560" y="2251080"/>
            <a:ext cx="0" cy="33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11320" y="573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6200000">
            <a:off x="1396080" y="3728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8480" y="212652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179800" y="2741760"/>
            <a:ext cx="242712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79800" y="2771640"/>
            <a:ext cx="259704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79800" y="2670120"/>
            <a:ext cx="2554200" cy="2367000"/>
          </a:xfrm>
          <a:custGeom>
            <a:avLst/>
            <a:gdLst/>
            <a:ahLst/>
            <a:rect l="l" t="t" r="r" b="b"/>
            <a:pathLst>
              <a:path w="1545" h="1227">
                <a:moveTo>
                  <a:pt x="0" y="745"/>
                </a:moveTo>
                <a:cubicBezTo>
                  <a:pt x="84" y="921"/>
                  <a:pt x="168" y="1097"/>
                  <a:pt x="272" y="1145"/>
                </a:cubicBezTo>
                <a:cubicBezTo>
                  <a:pt x="376" y="1193"/>
                  <a:pt x="415" y="1227"/>
                  <a:pt x="627" y="1036"/>
                </a:cubicBezTo>
                <a:cubicBezTo>
                  <a:pt x="839" y="845"/>
                  <a:pt x="1391" y="174"/>
                  <a:pt x="1545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92680" y="22899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Mg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63600" y="2309760"/>
            <a:ext cx="4518360" cy="1971720"/>
          </a:xfrm>
          <a:custGeom>
            <a:avLst/>
            <a:gdLst/>
            <a:ahLst/>
            <a:rect l="l" t="t" r="r" b="b"/>
            <a:pathLst>
              <a:path w="2846" h="1242">
                <a:moveTo>
                  <a:pt x="0" y="618"/>
                </a:moveTo>
                <a:cubicBezTo>
                  <a:pt x="124" y="710"/>
                  <a:pt x="513" y="1102"/>
                  <a:pt x="746" y="1172"/>
                </a:cubicBezTo>
                <a:cubicBezTo>
                  <a:pt x="979" y="1242"/>
                  <a:pt x="1174" y="1137"/>
                  <a:pt x="1400" y="1036"/>
                </a:cubicBezTo>
                <a:cubicBezTo>
                  <a:pt x="1626" y="935"/>
                  <a:pt x="1861" y="737"/>
                  <a:pt x="2102" y="564"/>
                </a:cubicBezTo>
                <a:cubicBezTo>
                  <a:pt x="2343" y="391"/>
                  <a:pt x="2692" y="117"/>
                  <a:pt x="284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79160" y="2096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00440" y="4664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83040" y="466884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57480" y="3965400"/>
            <a:ext cx="13032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52800" y="4033800"/>
            <a:ext cx="129960" cy="101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79800" y="2741760"/>
            <a:ext cx="48909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79800" y="2771640"/>
            <a:ext cx="405432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127920" y="371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79800" y="2741760"/>
            <a:ext cx="3290760" cy="2063520"/>
          </a:xfrm>
          <a:custGeom>
            <a:avLst/>
            <a:gdLst/>
            <a:ahLst/>
            <a:rect l="l" t="t" r="r" b="b"/>
            <a:pathLst>
              <a:path w="3081" h="1173">
                <a:moveTo>
                  <a:pt x="0" y="0"/>
                </a:moveTo>
                <a:cubicBezTo>
                  <a:pt x="162" y="106"/>
                  <a:pt x="624" y="466"/>
                  <a:pt x="972" y="637"/>
                </a:cubicBezTo>
                <a:cubicBezTo>
                  <a:pt x="1320" y="808"/>
                  <a:pt x="1739" y="939"/>
                  <a:pt x="2090" y="1028"/>
                </a:cubicBezTo>
                <a:cubicBezTo>
                  <a:pt x="2441" y="1117"/>
                  <a:pt x="2875" y="1143"/>
                  <a:pt x="3081" y="1173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79800" y="2771640"/>
            <a:ext cx="3288960" cy="3030840"/>
          </a:xfrm>
          <a:custGeom>
            <a:avLst/>
            <a:gdLst/>
            <a:ahLst/>
            <a:rect l="l" t="t" r="r" b="b"/>
            <a:pathLst>
              <a:path w="2072" h="1909">
                <a:moveTo>
                  <a:pt x="0" y="0"/>
                </a:moveTo>
                <a:cubicBezTo>
                  <a:pt x="176" y="351"/>
                  <a:pt x="353" y="703"/>
                  <a:pt x="554" y="963"/>
                </a:cubicBezTo>
                <a:cubicBezTo>
                  <a:pt x="755" y="1223"/>
                  <a:pt x="956" y="1405"/>
                  <a:pt x="1209" y="1563"/>
                </a:cubicBezTo>
                <a:cubicBezTo>
                  <a:pt x="1462" y="1721"/>
                  <a:pt x="1930" y="1851"/>
                  <a:pt x="2072" y="1909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82920" y="1717560"/>
            <a:ext cx="2257200" cy="725760"/>
          </a:xfrm>
          <a:prstGeom prst="wedgeRoundRectCallout">
            <a:avLst>
              <a:gd name="adj1" fmla="val -48805"/>
              <a:gd name="adj2" fmla="val 269694"/>
              <a:gd name="adj3" fmla="val 16667"/>
            </a:avLst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A longo prazo,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lucros tendem a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60040" y="843480"/>
            <a:ext cx="76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uc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Long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azo na Competição 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BARBI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95000" y="1905120"/>
            <a:ext cx="785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tualidad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tação da bolsa, informes meteorológicos)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559080" y="1905120"/>
            <a:ext cx="7946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pcionais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fontes kangi, corretor ortográfico para russo)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559080" y="1905120"/>
            <a:ext cx="794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talh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559080" y="1905120"/>
            <a:ext cx="7946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empo de respost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3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59080" y="1905120"/>
            <a:ext cx="7946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qualidade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59080" y="1905120"/>
            <a:ext cx="7946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ertificação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559080" y="1905120"/>
            <a:ext cx="7946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nível de garanti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29528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42900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912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01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684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8880" y="15994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ncorrência (Quase)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76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352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2666880"/>
            <a:ext cx="69840" cy="3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080" y="2993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357440" y="1599480"/>
            <a:ext cx="3881880" cy="4711680"/>
            <a:chOff x="4357440" y="1599480"/>
            <a:chExt cx="3881880" cy="4711680"/>
          </a:xfrm>
        </p:grpSpPr>
        <p:grpSp>
          <p:nvGrpSpPr>
            <p:cNvPr id="74" name=""/>
            <p:cNvGrpSpPr/>
            <p:nvPr/>
          </p:nvGrpSpPr>
          <p:grpSpPr>
            <a:xfrm>
              <a:off x="4357440" y="1599480"/>
              <a:ext cx="3881880" cy="4711680"/>
              <a:chOff x="4357440" y="1599480"/>
              <a:chExt cx="3881880" cy="471168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5029200" y="1980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00600" y="3429000"/>
                <a:ext cx="335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29200" y="2286000"/>
                <a:ext cx="2514600" cy="914400"/>
              </a:xfrm>
              <a:custGeom>
                <a:avLst/>
                <a:gdLst/>
                <a:ahLst/>
                <a:rect l="l" t="t" r="r" b="b"/>
                <a:pathLst>
                  <a:path w="1584" h="720">
                    <a:moveTo>
                      <a:pt x="0" y="0"/>
                    </a:moveTo>
                    <a:cubicBezTo>
                      <a:pt x="152" y="140"/>
                      <a:pt x="304" y="280"/>
                      <a:pt x="480" y="384"/>
                    </a:cubicBezTo>
                    <a:cubicBezTo>
                      <a:pt x="656" y="488"/>
                      <a:pt x="872" y="568"/>
                      <a:pt x="1056" y="624"/>
                    </a:cubicBezTo>
                    <a:cubicBezTo>
                      <a:pt x="1240" y="680"/>
                      <a:pt x="1496" y="704"/>
                      <a:pt x="1584" y="7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82680" y="35805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34080" y="358056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00760" y="358056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95880" y="32767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2920" y="32767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5029200" y="43430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00600" y="5791320"/>
                <a:ext cx="33526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29200" y="4648320"/>
                <a:ext cx="2514600" cy="914400"/>
              </a:xfrm>
              <a:custGeom>
                <a:avLst/>
                <a:gdLst/>
                <a:ahLst/>
                <a:rect l="l" t="t" r="r" b="b"/>
                <a:pathLst>
                  <a:path w="1584" h="720">
                    <a:moveTo>
                      <a:pt x="0" y="0"/>
                    </a:moveTo>
                    <a:cubicBezTo>
                      <a:pt x="152" y="140"/>
                      <a:pt x="304" y="280"/>
                      <a:pt x="480" y="384"/>
                    </a:cubicBezTo>
                    <a:cubicBezTo>
                      <a:pt x="656" y="488"/>
                      <a:pt x="872" y="568"/>
                      <a:pt x="1056" y="624"/>
                    </a:cubicBezTo>
                    <a:cubicBezTo>
                      <a:pt x="1240" y="680"/>
                      <a:pt x="1496" y="704"/>
                      <a:pt x="1584" y="72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82680" y="5942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34080" y="59428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00760" y="59428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588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6292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85920" y="1599480"/>
                <a:ext cx="139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Monopól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98080" y="4571280"/>
                <a:ext cx="186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rodutor 100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913880" y="3504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913880" y="586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57440" y="1980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57440" y="44190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69240" y="2437560"/>
                <a:ext cx="117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Merca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538760" y="301536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9520" y="534744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23520" y="2590920"/>
            <a:ext cx="3805560" cy="3720240"/>
            <a:chOff x="623520" y="2590920"/>
            <a:chExt cx="3805560" cy="3720240"/>
          </a:xfrm>
        </p:grpSpPr>
        <p:grpSp>
          <p:nvGrpSpPr>
            <p:cNvPr id="101" name=""/>
            <p:cNvGrpSpPr/>
            <p:nvPr/>
          </p:nvGrpSpPr>
          <p:grpSpPr>
            <a:xfrm>
              <a:off x="623520" y="2590920"/>
              <a:ext cx="3805560" cy="3720240"/>
              <a:chOff x="623520" y="2590920"/>
              <a:chExt cx="3805560" cy="372024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1295280" y="434304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5791320"/>
                <a:ext cx="3353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49120" y="5942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1200" y="59428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97880" y="59428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6232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9000" y="56386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95280" y="5029200"/>
                <a:ext cx="213372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800" y="25909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95280" y="4038480"/>
                <a:ext cx="53352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5120" y="25909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05120" y="4038480"/>
                <a:ext cx="152388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92360" y="4571280"/>
                <a:ext cx="160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Produtor 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03640" y="58665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3520" y="44190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Casual"/>
                  </a:rPr>
                  <a:t>$/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77960" y="49572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648160" y="25250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4480" y="8100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articipação n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59080" y="1905120"/>
            <a:ext cx="79466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ível de garantia 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atibi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multiplatafo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559080" y="1905120"/>
            <a:ext cx="79466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reço dependent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tualidade (cotação da bolsa, informes meteor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opcionais (fontes kangi, corretor ortográfico para rus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detalhe (embrulho para presente, encadern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tempo de resposta (FedEx, UPS, Surface 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qualidade (256 cores x 16 milhões de 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ertificação (especificação militar, selo ver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nível de garantia (transporte, manutenção, p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compatibilidade (multiplatafo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idelidade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consumidor anti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15000" y="54093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71600" y="97164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81200" y="933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sequências da 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9360" y="2057400"/>
            <a:ext cx="781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08600" y="2057400"/>
            <a:ext cx="8454240" cy="18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1200" y="933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sequências da 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408600" y="2057400"/>
            <a:ext cx="845424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ução do desperd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oupa-se o material não desejado 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1200" y="933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sequências da 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08600" y="2057400"/>
            <a:ext cx="84542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Maior satisfaçã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s talhados de acordo com a preferência individu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 não para um perfil mé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a reprodução e distribuição não-autor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roduto adaptado a um consumidor específ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Redução do desperd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(poupa-se o material não desejado 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eços individualizados, baseados no valor perce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elo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81200" y="933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nsequências da 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54120" y="825480"/>
            <a:ext cx="62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reço de Produtos Custom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13880" y="176832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Custo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473560" y="2347920"/>
            <a:ext cx="4222440" cy="1145520"/>
            <a:chOff x="2473560" y="2347920"/>
            <a:chExt cx="4222440" cy="1145520"/>
          </a:xfrm>
        </p:grpSpPr>
        <p:sp>
          <p:nvSpPr>
            <p:cNvPr id="900" name=""/>
            <p:cNvSpPr/>
            <p:nvPr/>
          </p:nvSpPr>
          <p:spPr>
            <a:xfrm>
              <a:off x="2473560" y="3033720"/>
              <a:ext cx="422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Lucida Casual"/>
                </a:rPr>
                <a:t>Competição Monopol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67080" y="2347920"/>
              <a:ext cx="549360" cy="595440"/>
            </a:xfrm>
            <a:prstGeom prst="downArrow">
              <a:avLst>
                <a:gd name="adj1" fmla="val 50000"/>
                <a:gd name="adj2" fmla="val 2709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882600" y="4861080"/>
            <a:ext cx="3483000" cy="1115640"/>
            <a:chOff x="3882600" y="4861080"/>
            <a:chExt cx="3483000" cy="1115640"/>
          </a:xfrm>
        </p:grpSpPr>
        <p:sp>
          <p:nvSpPr>
            <p:cNvPr id="903" name=""/>
            <p:cNvSpPr/>
            <p:nvPr/>
          </p:nvSpPr>
          <p:spPr>
            <a:xfrm>
              <a:off x="3882600" y="55170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Mark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65640" y="4861080"/>
              <a:ext cx="549360" cy="595080"/>
            </a:xfrm>
            <a:prstGeom prst="downArrow">
              <a:avLst>
                <a:gd name="adj1" fmla="val 50000"/>
                <a:gd name="adj2" fmla="val 27081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0920" y="4998240"/>
              <a:ext cx="25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étodo Simplifi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596040" y="3687840"/>
            <a:ext cx="3935520" cy="1083960"/>
            <a:chOff x="3596040" y="3687840"/>
            <a:chExt cx="3935520" cy="1083960"/>
          </a:xfrm>
        </p:grpSpPr>
        <p:sp>
          <p:nvSpPr>
            <p:cNvPr id="907" name=""/>
            <p:cNvSpPr/>
            <p:nvPr/>
          </p:nvSpPr>
          <p:spPr>
            <a:xfrm>
              <a:off x="3596040" y="4312080"/>
              <a:ext cx="187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RMg = C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65640" y="3687840"/>
              <a:ext cx="549360" cy="595080"/>
            </a:xfrm>
            <a:prstGeom prst="downArrow">
              <a:avLst>
                <a:gd name="adj1" fmla="val 50000"/>
                <a:gd name="adj2" fmla="val 27081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10320" y="3747240"/>
              <a:ext cx="27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aximização de Lu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723960" y="857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Fixação Simplificada de Preços: Mark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990720" y="2179440"/>
            <a:ext cx="0" cy="280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7960" y="4784760"/>
            <a:ext cx="327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371600" y="3122640"/>
            <a:ext cx="1935000" cy="1084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22400" y="2879640"/>
            <a:ext cx="2270160" cy="1189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990720" y="2879640"/>
            <a:ext cx="2361960" cy="2760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2956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76440" y="39315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387600" y="548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2040" y="1918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86120" y="432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295520" y="2606040"/>
            <a:ext cx="4053960" cy="918720"/>
            <a:chOff x="4295520" y="2606040"/>
            <a:chExt cx="4053960" cy="918720"/>
          </a:xfrm>
        </p:grpSpPr>
        <p:sp>
          <p:nvSpPr>
            <p:cNvPr id="926" name=""/>
            <p:cNvSpPr/>
            <p:nvPr/>
          </p:nvSpPr>
          <p:spPr>
            <a:xfrm>
              <a:off x="4295520" y="260604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Dond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5295960" y="2774160"/>
              <a:ext cx="3053520" cy="750600"/>
              <a:chOff x="5295960" y="2774160"/>
              <a:chExt cx="3053520" cy="75060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5881320" y="2791440"/>
                <a:ext cx="1063080" cy="733320"/>
                <a:chOff x="5881320" y="2791440"/>
                <a:chExt cx="1063080" cy="7333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920920" y="2791440"/>
                  <a:ext cx="1023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p - C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881320" y="3141360"/>
                  <a:ext cx="103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042600" y="315648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C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7284600" y="2774160"/>
                <a:ext cx="1064880" cy="733320"/>
                <a:chOff x="7284600" y="2774160"/>
                <a:chExt cx="1064880" cy="7333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7321320" y="2774160"/>
                  <a:ext cx="102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p - R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284600" y="3124080"/>
                  <a:ext cx="103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44440" y="3139200"/>
                  <a:ext cx="691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RM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>
                <a:off x="5295960" y="295668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00"/>
                    </a:solidFill>
                    <a:latin typeface="Lucida Casual"/>
                  </a:rPr>
                  <a:t>m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962040" y="2958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4336920" y="3413880"/>
            <a:ext cx="4120920" cy="1385640"/>
            <a:chOff x="4336920" y="3413880"/>
            <a:chExt cx="4120920" cy="1385640"/>
          </a:xfrm>
        </p:grpSpPr>
        <p:sp>
          <p:nvSpPr>
            <p:cNvPr id="939" name=""/>
            <p:cNvSpPr/>
            <p:nvPr/>
          </p:nvSpPr>
          <p:spPr>
            <a:xfrm>
              <a:off x="4336920" y="341388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Ma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5261040" y="3580560"/>
              <a:ext cx="3196800" cy="1218960"/>
              <a:chOff x="5261040" y="3580560"/>
              <a:chExt cx="3196800" cy="121896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6088680" y="3580560"/>
                <a:ext cx="499680" cy="671400"/>
                <a:chOff x="6088680" y="3580560"/>
                <a:chExt cx="499680" cy="6714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6088680" y="3580560"/>
                  <a:ext cx="47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22880" y="3883680"/>
                  <a:ext cx="46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157800" y="3916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6064200" y="4128120"/>
                <a:ext cx="2393640" cy="671400"/>
                <a:chOff x="6064200" y="4128120"/>
                <a:chExt cx="2393640" cy="67140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6760800" y="4128120"/>
                  <a:ext cx="495720" cy="671400"/>
                  <a:chOff x="6760800" y="4128120"/>
                  <a:chExt cx="495720" cy="6714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6760800" y="4128120"/>
                    <a:ext cx="465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Symbol"/>
                        <a:ea typeface="Symbol"/>
                      </a:rPr>
                      <a:t></a:t>
                    </a: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Lucida Casu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791040" y="4431240"/>
                    <a:ext cx="465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Symbol"/>
                        <a:ea typeface="Symbol"/>
                      </a:rPr>
                      <a:t></a:t>
                    </a: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Lucida Casual"/>
                      </a:rPr>
                      <a:t>q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825960" y="446364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0" name=""/>
                <p:cNvSpPr/>
                <p:nvPr/>
              </p:nvSpPr>
              <p:spPr>
                <a:xfrm>
                  <a:off x="6064200" y="4280400"/>
                  <a:ext cx="239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= p + q      = p(1 + e</a:t>
                  </a:r>
                  <a:r>
                    <a:rPr b="1" lang="en-US" sz="1800" spc="-1" strike="noStrike" baseline="30000">
                      <a:solidFill>
                        <a:srgbClr val="0000ff"/>
                      </a:solidFill>
                      <a:latin typeface="Lucida Casual"/>
                    </a:rPr>
                    <a:t>-1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Lucida Casu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1" name=""/>
              <p:cNvSpPr/>
              <p:nvPr/>
            </p:nvSpPr>
            <p:spPr>
              <a:xfrm>
                <a:off x="5261040" y="373140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RMg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4338360" y="4693680"/>
            <a:ext cx="3175200" cy="1618920"/>
            <a:chOff x="4338360" y="4693680"/>
            <a:chExt cx="3175200" cy="1618920"/>
          </a:xfrm>
        </p:grpSpPr>
        <p:sp>
          <p:nvSpPr>
            <p:cNvPr id="953" name=""/>
            <p:cNvSpPr/>
            <p:nvPr/>
          </p:nvSpPr>
          <p:spPr>
            <a:xfrm>
              <a:off x="4338360" y="469368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rtant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79920" y="5180760"/>
              <a:ext cx="6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6066000" y="5012640"/>
              <a:ext cx="1447560" cy="689040"/>
              <a:chOff x="6066000" y="5012640"/>
              <a:chExt cx="1447560" cy="689040"/>
            </a:xfrm>
          </p:grpSpPr>
          <p:sp>
            <p:nvSpPr>
              <p:cNvPr id="956" name=""/>
              <p:cNvSpPr/>
              <p:nvPr/>
            </p:nvSpPr>
            <p:spPr>
              <a:xfrm>
                <a:off x="6189480" y="5012640"/>
                <a:ext cx="125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 - p - pe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Lucida Casu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195960" y="533340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(1 + e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Lucida Casual"/>
                  </a:rPr>
                  <a:t>-1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066000" y="5348160"/>
                <a:ext cx="1447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814000" y="5744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=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295680" y="5625360"/>
              <a:ext cx="713160" cy="687240"/>
              <a:chOff x="6295680" y="5625360"/>
              <a:chExt cx="713160" cy="687240"/>
            </a:xfrm>
          </p:grpSpPr>
          <p:sp>
            <p:nvSpPr>
              <p:cNvPr id="961" name=""/>
              <p:cNvSpPr/>
              <p:nvPr/>
            </p:nvSpPr>
            <p:spPr>
              <a:xfrm>
                <a:off x="6489360" y="5625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295680" y="5944320"/>
                <a:ext cx="69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 + 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23040" y="5959440"/>
                <a:ext cx="685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1827360" y="1767600"/>
            <a:ext cx="5017320" cy="2395800"/>
            <a:chOff x="1827360" y="1767600"/>
            <a:chExt cx="5017320" cy="2395800"/>
          </a:xfrm>
        </p:grpSpPr>
        <p:sp>
          <p:nvSpPr>
            <p:cNvPr id="965" name=""/>
            <p:cNvSpPr/>
            <p:nvPr/>
          </p:nvSpPr>
          <p:spPr>
            <a:xfrm>
              <a:off x="4318560" y="176760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nto A: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RMg = C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09880" y="37951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27360" y="3854520"/>
              <a:ext cx="106200" cy="1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999720" y="2164680"/>
            <a:ext cx="6660720" cy="1686600"/>
            <a:chOff x="999720" y="2164680"/>
            <a:chExt cx="6660720" cy="1686600"/>
          </a:xfrm>
        </p:grpSpPr>
        <p:sp>
          <p:nvSpPr>
            <p:cNvPr id="969" name=""/>
            <p:cNvSpPr/>
            <p:nvPr/>
          </p:nvSpPr>
          <p:spPr>
            <a:xfrm>
              <a:off x="4385160" y="2164680"/>
              <a:ext cx="32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onto B: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 =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CMg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(1 + </a:t>
              </a: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)</a:t>
              </a:r>
              <a:r>
                <a:rPr b="1" lang="en-US" sz="1800" spc="-1" strike="noStrike">
                  <a:solidFill>
                    <a:srgbClr val="ffff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06480" y="3274920"/>
              <a:ext cx="106560" cy="100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1859040" y="3394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53280" y="295668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Lucida Casu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999720" y="3322800"/>
              <a:ext cx="80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743040" y="800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s de Mark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957480" y="1755000"/>
            <a:ext cx="1451160" cy="687240"/>
            <a:chOff x="3957480" y="1755000"/>
            <a:chExt cx="1451160" cy="687240"/>
          </a:xfrm>
        </p:grpSpPr>
        <p:sp>
          <p:nvSpPr>
            <p:cNvPr id="980" name=""/>
            <p:cNvSpPr/>
            <p:nvPr/>
          </p:nvSpPr>
          <p:spPr>
            <a:xfrm>
              <a:off x="3957480" y="188532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m =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4695480" y="1755000"/>
              <a:ext cx="713160" cy="687240"/>
              <a:chOff x="4695480" y="1755000"/>
              <a:chExt cx="713160" cy="687240"/>
            </a:xfrm>
          </p:grpSpPr>
          <p:sp>
            <p:nvSpPr>
              <p:cNvPr id="982" name=""/>
              <p:cNvSpPr/>
              <p:nvPr/>
            </p:nvSpPr>
            <p:spPr>
              <a:xfrm>
                <a:off x="4889160" y="1755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695480" y="2073960"/>
                <a:ext cx="69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1 + 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722840" y="2089080"/>
                <a:ext cx="685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768600" y="2390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133640" y="257616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990720" y="4398480"/>
            <a:ext cx="179532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41680" y="3980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47720" y="3002040"/>
            <a:ext cx="273240" cy="517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058760" y="300204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38360" y="300348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9160" y="3517920"/>
            <a:ext cx="0" cy="97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050840" y="3521160"/>
            <a:ext cx="86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4000" y="2864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71120" y="3383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48560" y="49330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1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71200" y="444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449000" y="4450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79360" y="3359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00720" y="2380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965400" y="256680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822840" y="4389120"/>
            <a:ext cx="179532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473800" y="3971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79840" y="2992320"/>
            <a:ext cx="273240" cy="274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890880" y="29923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70480" y="2994120"/>
            <a:ext cx="0" cy="147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51280" y="327816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>
            <a:off x="3870360" y="3268800"/>
            <a:ext cx="86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515760" y="2854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17560" y="31327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259160" y="49348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03320" y="4432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81120" y="444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65400" y="314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99200" y="238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564240" y="2568240"/>
            <a:ext cx="0" cy="194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421320" y="4390560"/>
            <a:ext cx="179568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2640" y="397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78680" y="2994120"/>
            <a:ext cx="285840" cy="12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6489720" y="29941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068960" y="299556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50120" y="311796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6481800" y="3131640"/>
            <a:ext cx="868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14600" y="2834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16400" y="299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919560" y="49474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 = -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02160" y="4434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79960" y="444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su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440480" y="29473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355040" y="53492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231440" y="5326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45760" y="5341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m = 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473040" y="2076480"/>
            <a:ext cx="817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imeir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eço diferente para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Segund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sumidores divididos em grupos segundo volume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 forma de utilização do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Terceiro G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Mercado segmentado segundo características de elastic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a demanda ou características demográf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62120" y="857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129528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342900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912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001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684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4480" y="8100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articipação n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6520" y="15994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ncorrência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276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352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9528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791320"/>
            <a:ext cx="33530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12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1200" y="5942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97880" y="5942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95280" y="5019840"/>
            <a:ext cx="2162160" cy="9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295280" y="4038480"/>
            <a:ext cx="533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03848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364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3520" y="44190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8160" y="25250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2666880"/>
            <a:ext cx="69840" cy="3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61000" y="3594240"/>
            <a:ext cx="3483000" cy="825480"/>
          </a:xfrm>
          <a:prstGeom prst="wedgeRoundRectCallout">
            <a:avLst>
              <a:gd name="adj1" fmla="val -87328"/>
              <a:gd name="adj2" fmla="val 1209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Na Concorrência Perfe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o Mercado determina o preç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080" y="29934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35280" y="1994760"/>
            <a:ext cx="3142080" cy="3192480"/>
            <a:chOff x="935280" y="1994760"/>
            <a:chExt cx="3142080" cy="3192480"/>
          </a:xfrm>
        </p:grpSpPr>
        <p:grpSp>
          <p:nvGrpSpPr>
            <p:cNvPr id="155" name=""/>
            <p:cNvGrpSpPr/>
            <p:nvPr/>
          </p:nvGrpSpPr>
          <p:grpSpPr>
            <a:xfrm>
              <a:off x="935280" y="2178000"/>
              <a:ext cx="2801520" cy="793800"/>
              <a:chOff x="935280" y="2178000"/>
              <a:chExt cx="2801520" cy="793800"/>
            </a:xfrm>
          </p:grpSpPr>
          <p:sp>
            <p:nvSpPr>
              <p:cNvPr id="156" name=""/>
              <p:cNvSpPr/>
              <p:nvPr/>
            </p:nvSpPr>
            <p:spPr>
              <a:xfrm>
                <a:off x="1327320" y="2178000"/>
                <a:ext cx="2409480" cy="793800"/>
              </a:xfrm>
              <a:custGeom>
                <a:avLst/>
                <a:gdLst/>
                <a:ahLst/>
                <a:rect l="l" t="t" r="r" b="b"/>
                <a:pathLst>
                  <a:path w="1518" h="500">
                    <a:moveTo>
                      <a:pt x="0" y="500"/>
                    </a:moveTo>
                    <a:cubicBezTo>
                      <a:pt x="128" y="405"/>
                      <a:pt x="256" y="311"/>
                      <a:pt x="509" y="228"/>
                    </a:cubicBezTo>
                    <a:cubicBezTo>
                      <a:pt x="762" y="145"/>
                      <a:pt x="1350" y="38"/>
                      <a:pt x="1518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60400" y="2583000"/>
                <a:ext cx="144720" cy="1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312920" y="2655720"/>
                <a:ext cx="4334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5280" y="24440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957600" y="4818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5200" y="199476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220968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possui uma loja virtual que vende CDs (custo R$ 12,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árias pessoas desejam comprar o CD “4 Estações” do Vival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, em particular, gostam da combinação maestro + solis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960" y="762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5048280" y="4152960"/>
            <a:ext cx="3339000" cy="2133720"/>
            <a:chOff x="5048280" y="4152960"/>
            <a:chExt cx="3339000" cy="2133720"/>
          </a:xfrm>
        </p:grpSpPr>
        <p:sp>
          <p:nvSpPr>
            <p:cNvPr id="1046" name=""/>
            <p:cNvSpPr/>
            <p:nvPr/>
          </p:nvSpPr>
          <p:spPr>
            <a:xfrm>
              <a:off x="5269680" y="4806000"/>
              <a:ext cx="31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Lucida Casual"/>
                </a:rPr>
                <a:t>Na média, consumid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Lucida Casual"/>
                </a:rPr>
                <a:t>pagaria R$ 22,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48280" y="4152960"/>
              <a:ext cx="0" cy="2133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813240" y="2209680"/>
            <a:ext cx="7698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</a:t>
            </a:r>
            <a:r>
              <a:rPr b="1" lang="pt-BR" sz="2000" spc="-1" strike="noStrike" u="sng">
                <a:solidFill>
                  <a:srgbClr val="336600"/>
                </a:solidFill>
                <a:uFillTx/>
                <a:latin typeface="Lucida Casual"/>
              </a:rPr>
              <a:t>não possui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perfil de cada um e fixa o preço R$ 22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 -&gt; Não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 -&gt; Não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 -&gt;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 -&gt;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 -&gt; Não Comp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23960" y="762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672480" y="2209680"/>
            <a:ext cx="809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berto </a:t>
            </a:r>
            <a:r>
              <a:rPr b="1" lang="pt-BR" sz="2000" spc="-1" strike="noStrike" u="sng">
                <a:solidFill>
                  <a:srgbClr val="336600"/>
                </a:solidFill>
                <a:uFillTx/>
                <a:latin typeface="Lucida Casual"/>
              </a:rPr>
              <a:t>possui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perfil de cada um e usa diferenciação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ianca pagaria até R$ 20,00 -&gt; Vende por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os até R$ 10,00 -&gt; Não vende, pois R$ 10,00 &lt; R$ 12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niela até R$ 25,00 -&gt; Vende por R$ 2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nesto até R$ 30,00 -&gt; Vende por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Z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ilda até R$ 15,00 -&gt; Vende por R$ 15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23960" y="762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utilização do perfil do consumidor para diferenciação preços de primeiro 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879640" y="5570640"/>
            <a:ext cx="3021120" cy="739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20040" y="2043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9560" y="747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de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rceiro Gr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874880" y="23940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708200" y="3825720"/>
            <a:ext cx="2041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74880" y="2682720"/>
            <a:ext cx="1341360" cy="914400"/>
          </a:xfrm>
          <a:custGeom>
            <a:avLst/>
            <a:gdLst/>
            <a:ahLst/>
            <a:rect l="l" t="t" r="r" b="b"/>
            <a:pathLst>
              <a:path w="845" h="576">
                <a:moveTo>
                  <a:pt x="0" y="0"/>
                </a:moveTo>
                <a:cubicBezTo>
                  <a:pt x="67" y="62"/>
                  <a:pt x="253" y="278"/>
                  <a:pt x="394" y="374"/>
                </a:cubicBezTo>
                <a:cubicBezTo>
                  <a:pt x="535" y="470"/>
                  <a:pt x="751" y="534"/>
                  <a:pt x="845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26040" y="335088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345400" y="38062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416960" y="3060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6040" y="384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548320" y="237816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381640" y="3809880"/>
            <a:ext cx="2041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548320" y="3156120"/>
            <a:ext cx="1479600" cy="485640"/>
          </a:xfrm>
          <a:custGeom>
            <a:avLst/>
            <a:gdLst/>
            <a:ahLst/>
            <a:rect l="l" t="t" r="r" b="b"/>
            <a:pathLst>
              <a:path w="932" h="306">
                <a:moveTo>
                  <a:pt x="0" y="0"/>
                </a:moveTo>
                <a:cubicBezTo>
                  <a:pt x="77" y="34"/>
                  <a:pt x="306" y="150"/>
                  <a:pt x="461" y="201"/>
                </a:cubicBezTo>
                <a:cubicBezTo>
                  <a:pt x="616" y="252"/>
                  <a:pt x="834" y="284"/>
                  <a:pt x="932" y="30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44120" y="331920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88800" y="38048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34680" y="3136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189840" y="38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53960" y="20271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92440" y="4219200"/>
            <a:ext cx="194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514600" y="329220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782360" y="32925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187960" y="2226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14520" y="2286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87760" y="385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75600" y="3825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973840" y="336852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5562720" y="33526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56240" y="4203360"/>
            <a:ext cx="194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57720" y="4750920"/>
            <a:ext cx="40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L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,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- CT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+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61880" y="5101920"/>
            <a:ext cx="378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=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 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- CT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 + 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880200" y="5564880"/>
            <a:ext cx="7510320" cy="726840"/>
            <a:chOff x="880200" y="5564880"/>
            <a:chExt cx="7510320" cy="726840"/>
          </a:xfrm>
        </p:grpSpPr>
        <p:grpSp>
          <p:nvGrpSpPr>
            <p:cNvPr id="1095" name=""/>
            <p:cNvGrpSpPr/>
            <p:nvPr/>
          </p:nvGrpSpPr>
          <p:grpSpPr>
            <a:xfrm>
              <a:off x="880200" y="5636160"/>
              <a:ext cx="7510320" cy="482040"/>
              <a:chOff x="880200" y="5636160"/>
              <a:chExt cx="7510320" cy="482040"/>
            </a:xfrm>
          </p:grpSpPr>
          <p:sp>
            <p:nvSpPr>
              <p:cNvPr id="1096" name=""/>
              <p:cNvSpPr/>
              <p:nvPr/>
            </p:nvSpPr>
            <p:spPr>
              <a:xfrm>
                <a:off x="880200" y="5636160"/>
                <a:ext cx="189396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Lucida Casual"/>
                  </a:rPr>
                  <a:t>max L(q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Lucida Casual"/>
                  </a:rPr>
                  <a:t>1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Lucida Casual"/>
                  </a:rPr>
                  <a:t>,q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Lucida Casual"/>
                  </a:rPr>
                  <a:t>2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Lucida Casual"/>
                  </a:rPr>
                  <a:t>) 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Lucida Casu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44440" y="5704920"/>
                <a:ext cx="544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i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 = CMg(1+m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i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) , m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i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=           e RMg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1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(q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1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) = RMg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2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(q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2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269680" y="5564880"/>
              <a:ext cx="619560" cy="726840"/>
              <a:chOff x="5269680" y="5564880"/>
              <a:chExt cx="619560" cy="726840"/>
            </a:xfrm>
          </p:grpSpPr>
          <p:sp>
            <p:nvSpPr>
              <p:cNvPr id="1099" name=""/>
              <p:cNvSpPr/>
              <p:nvPr/>
            </p:nvSpPr>
            <p:spPr>
              <a:xfrm>
                <a:off x="5343120" y="556488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338800" y="5910120"/>
                <a:ext cx="469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69680" y="5886000"/>
                <a:ext cx="61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1+e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0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 flipV="1">
            <a:off x="1736640" y="251568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69960" y="3948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29320" y="344304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07520" y="3928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278720" y="31824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378160" y="3963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327560" y="25146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60880" y="394668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031000" y="347148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68040" y="39412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13920" y="3273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687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56640" y="434160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2373480" y="3414600"/>
            <a:ext cx="2880" cy="59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1644120" y="3414600"/>
            <a:ext cx="731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67200" y="236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376640" y="2409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9120" y="3931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08560" y="391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4743360" y="34923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4341960" y="34894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751040" y="3078000"/>
            <a:ext cx="111276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1960" y="2895480"/>
            <a:ext cx="62532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55240" y="432540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765840" y="251460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99160" y="3946680"/>
            <a:ext cx="1600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40736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097840" y="3917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6794640" y="2881440"/>
            <a:ext cx="1112760" cy="7156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25600" y="2331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590520" y="4328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CT(q) = 1 + 2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2128320" y="5038920"/>
            <a:ext cx="2973600" cy="882000"/>
            <a:chOff x="2128320" y="5038920"/>
            <a:chExt cx="2973600" cy="882000"/>
          </a:xfrm>
        </p:grpSpPr>
        <p:sp>
          <p:nvSpPr>
            <p:cNvPr id="1138" name=""/>
            <p:cNvSpPr/>
            <p:nvPr/>
          </p:nvSpPr>
          <p:spPr>
            <a:xfrm>
              <a:off x="2136960" y="5038920"/>
              <a:ext cx="296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e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 = -5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, q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= 5 e 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p</a:t>
              </a:r>
              <a:r>
                <a:rPr b="1" lang="en-US" sz="2000" spc="-1" strike="noStrike" baseline="-25000">
                  <a:solidFill>
                    <a:srgbClr val="993300"/>
                  </a:solidFill>
                  <a:latin typeface="Lucida Casual"/>
                </a:rPr>
                <a:t>1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 = 2.5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28320" y="5480280"/>
              <a:ext cx="274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e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 = -2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, q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= 4 e 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p</a:t>
              </a:r>
              <a:r>
                <a:rPr b="1" lang="en-US" sz="2000" spc="-1" strike="noStrike" baseline="-25000">
                  <a:solidFill>
                    <a:srgbClr val="993300"/>
                  </a:solidFill>
                  <a:latin typeface="Lucida Casual"/>
                </a:rPr>
                <a:t>2</a:t>
              </a:r>
              <a:r>
                <a:rPr b="1" lang="en-US" sz="2000" spc="-1" strike="noStrike">
                  <a:solidFill>
                    <a:srgbClr val="993300"/>
                  </a:solidFill>
                  <a:latin typeface="Lucida Casual"/>
                </a:rPr>
                <a:t> = 4</a:t>
              </a: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72040" y="4875120"/>
            <a:ext cx="1738440" cy="609840"/>
          </a:xfrm>
          <a:prstGeom prst="wedgeRoundRectCallout">
            <a:avLst>
              <a:gd name="adj1" fmla="val -83333"/>
              <a:gd name="adj2" fmla="val 62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|e|</a:t>
            </a: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70600" y="5576760"/>
            <a:ext cx="1738440" cy="609840"/>
          </a:xfrm>
          <a:prstGeom prst="wedgeRoundRectCallout">
            <a:avLst>
              <a:gd name="adj1" fmla="val -96486"/>
              <a:gd name="adj2" fmla="val -2968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|e|</a:t>
            </a: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9933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6699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4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09560" y="747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de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rceiro Gr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8240" y="19479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386960" y="19512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 flipV="1">
            <a:off x="1111320" y="233208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944640" y="3763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303640" y="325872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81840" y="3744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3400" y="29984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52480" y="378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370188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535200" y="376236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05680" y="328716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91680" y="37335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88600" y="30888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34340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75520" y="420336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751040" y="323028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018800" y="32306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341880" y="2179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50960" y="222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03440" y="374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83240" y="3733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127400" y="33210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3704760" y="3306600"/>
            <a:ext cx="422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125360" y="2894040"/>
            <a:ext cx="111312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716280" y="2711520"/>
            <a:ext cx="62568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393360" y="419868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614052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973840" y="3762360"/>
            <a:ext cx="2138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168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082000" y="370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04200" y="2162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43200" y="2965320"/>
            <a:ext cx="404640" cy="401760"/>
          </a:xfrm>
          <a:prstGeom prst="plus">
            <a:avLst>
              <a:gd name="adj" fmla="val 432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5086440" y="3079800"/>
            <a:ext cx="336240" cy="203040"/>
            <a:chOff x="5086440" y="3079800"/>
            <a:chExt cx="336240" cy="203040"/>
          </a:xfrm>
        </p:grpSpPr>
        <p:sp>
          <p:nvSpPr>
            <p:cNvPr id="1180" name=""/>
            <p:cNvSpPr/>
            <p:nvPr/>
          </p:nvSpPr>
          <p:spPr>
            <a:xfrm>
              <a:off x="5086440" y="307980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86440" y="320832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149880" y="2700360"/>
            <a:ext cx="1527120" cy="822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89680" y="4251240"/>
            <a:ext cx="2774880" cy="609840"/>
          </a:xfrm>
          <a:prstGeom prst="wedgeRoundRectCallout">
            <a:avLst>
              <a:gd name="adj1" fmla="val -5662"/>
              <a:gd name="adj2" fmla="val -207550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(q) = 3.5 - 0.083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95800" y="3351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09560" y="747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de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rceiro Gr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43800" y="19098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72520" y="191304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 flipV="1">
            <a:off x="1111320" y="2332080"/>
            <a:ext cx="0" cy="164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44640" y="3763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303640" y="325872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81840" y="3744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53400" y="299844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752480" y="378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70188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35200" y="3762360"/>
            <a:ext cx="12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05680" y="3287160"/>
            <a:ext cx="42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91680" y="37335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88600" y="30888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34340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5520" y="420336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3 - 0.1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1751040" y="323028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1018800" y="32306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341880" y="2179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0960" y="222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03440" y="3747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683240" y="3733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27400" y="33210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716280" y="33051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125360" y="2894040"/>
            <a:ext cx="1113120" cy="581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16280" y="2711520"/>
            <a:ext cx="625680" cy="88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393360" y="4198680"/>
            <a:ext cx="190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) = 6 - 0.5q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140520" y="2329920"/>
            <a:ext cx="0" cy="164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973840" y="3762360"/>
            <a:ext cx="2138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781680" y="377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082000" y="37029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704200" y="2162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743200" y="2965320"/>
            <a:ext cx="404640" cy="401760"/>
          </a:xfrm>
          <a:prstGeom prst="plus">
            <a:avLst>
              <a:gd name="adj" fmla="val 432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086440" y="3079800"/>
            <a:ext cx="336240" cy="203040"/>
            <a:chOff x="5086440" y="3079800"/>
            <a:chExt cx="336240" cy="203040"/>
          </a:xfrm>
        </p:grpSpPr>
        <p:sp>
          <p:nvSpPr>
            <p:cNvPr id="1223" name=""/>
            <p:cNvSpPr/>
            <p:nvPr/>
          </p:nvSpPr>
          <p:spPr>
            <a:xfrm>
              <a:off x="5086440" y="307980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86440" y="3208320"/>
              <a:ext cx="336240" cy="74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6149880" y="2700360"/>
            <a:ext cx="1527120" cy="822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989680" y="4084560"/>
            <a:ext cx="2774880" cy="609840"/>
          </a:xfrm>
          <a:prstGeom prst="wedgeRoundRectCallout">
            <a:avLst>
              <a:gd name="adj1" fmla="val -5662"/>
              <a:gd name="adj2" fmla="val -18020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(q) = 3.5 - 0.083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704000" y="3428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168960" y="3367080"/>
            <a:ext cx="1995480" cy="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581600" y="3001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140520" y="3122640"/>
            <a:ext cx="1143000" cy="795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89640" y="3857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R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513480" y="295596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6146640" y="2903040"/>
            <a:ext cx="306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332040" y="36716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900ff"/>
                </a:solidFill>
                <a:latin typeface="Lucida Casu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736960" y="26618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900ff"/>
                </a:solidFill>
                <a:latin typeface="Lucida Casu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61280" y="2849400"/>
            <a:ext cx="106200" cy="1065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068840" y="4720680"/>
            <a:ext cx="3529440" cy="737640"/>
            <a:chOff x="1068840" y="4720680"/>
            <a:chExt cx="3529440" cy="737640"/>
          </a:xfrm>
        </p:grpSpPr>
        <p:grpSp>
          <p:nvGrpSpPr>
            <p:cNvPr id="1238" name=""/>
            <p:cNvGrpSpPr/>
            <p:nvPr/>
          </p:nvGrpSpPr>
          <p:grpSpPr>
            <a:xfrm>
              <a:off x="3442680" y="4720680"/>
              <a:ext cx="1155600" cy="737640"/>
              <a:chOff x="3442680" y="4720680"/>
              <a:chExt cx="1155600" cy="737640"/>
            </a:xfrm>
          </p:grpSpPr>
          <p:sp>
            <p:nvSpPr>
              <p:cNvPr id="1239" name=""/>
              <p:cNvSpPr/>
              <p:nvPr/>
            </p:nvSpPr>
            <p:spPr>
              <a:xfrm>
                <a:off x="3442680" y="4720680"/>
                <a:ext cx="793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9900ff"/>
                    </a:solidFill>
                    <a:latin typeface="Lucida Casual"/>
                  </a:rPr>
                  <a:t>n</a:t>
                </a: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 = 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7240" y="5052600"/>
                <a:ext cx="1121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9900ff"/>
                    </a:solidFill>
                    <a:latin typeface="Lucida Casual"/>
                  </a:rPr>
                  <a:t>n</a:t>
                </a:r>
                <a:r>
                  <a:rPr b="1" lang="en-US" sz="1800" spc="-1" strike="noStrike">
                    <a:solidFill>
                      <a:srgbClr val="9900ff"/>
                    </a:solidFill>
                    <a:latin typeface="Lucida Casual"/>
                  </a:rPr>
                  <a:t> = 2.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1068840" y="47538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ff"/>
                  </a:solidFill>
                  <a:latin typeface="Lucida Casual"/>
                </a:rPr>
                <a:t>Não Diferenci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151600" y="4816440"/>
            <a:ext cx="2978280" cy="485640"/>
            <a:chOff x="5151600" y="4816440"/>
            <a:chExt cx="2978280" cy="485640"/>
          </a:xfrm>
        </p:grpSpPr>
        <p:sp>
          <p:nvSpPr>
            <p:cNvPr id="1243" name=""/>
            <p:cNvSpPr/>
            <p:nvPr/>
          </p:nvSpPr>
          <p:spPr>
            <a:xfrm>
              <a:off x="5151600" y="48164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97360" y="48744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ff"/>
                  </a:solidFill>
                  <a:latin typeface="Lucida Casual"/>
                </a:rPr>
                <a:t>Lucro = 5.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119600" y="5574960"/>
            <a:ext cx="3825000" cy="726480"/>
            <a:chOff x="1119600" y="5574960"/>
            <a:chExt cx="3825000" cy="726480"/>
          </a:xfrm>
        </p:grpSpPr>
        <p:sp>
          <p:nvSpPr>
            <p:cNvPr id="1246" name=""/>
            <p:cNvSpPr/>
            <p:nvPr/>
          </p:nvSpPr>
          <p:spPr>
            <a:xfrm>
              <a:off x="1119600" y="5593680"/>
              <a:ext cx="188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Diferenciaçã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08960" y="5574960"/>
              <a:ext cx="183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5 e 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2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84840" y="5895720"/>
              <a:ext cx="163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4 e 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 =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180040" y="5730840"/>
            <a:ext cx="2808000" cy="485640"/>
            <a:chOff x="5180040" y="5730840"/>
            <a:chExt cx="2808000" cy="485640"/>
          </a:xfrm>
        </p:grpSpPr>
        <p:sp>
          <p:nvSpPr>
            <p:cNvPr id="1250" name=""/>
            <p:cNvSpPr/>
            <p:nvPr/>
          </p:nvSpPr>
          <p:spPr>
            <a:xfrm>
              <a:off x="5180040" y="57308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6560" y="577476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Lucro = 9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09560" y="747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emplo de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rceiro Gr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43800" y="19098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72520" y="191304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i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73840" y="2040120"/>
            <a:ext cx="768492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slação Complementar, Lei 8.137 (27 dez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rt. 4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II - discriminar preços de bens ou de prestação de serviços por ajustes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cordo de grupo econômico, com o fim de estabelecer monopólio, ou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liminar, total ou parcialmente, 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I - vender mercadorias abaixo do preço de custo, com o fim de impedi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II - elevar sem justa caus o preço do bem ou serviço, valendo-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sição dominante no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a: reclusão de 2 a 5 anos ou multa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19000" y="8762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strição à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2790720" y="2828880"/>
            <a:ext cx="2057400" cy="116208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720"/>
                </a:moveTo>
                <a:lnTo>
                  <a:pt x="1296" y="720"/>
                </a:lnTo>
                <a:lnTo>
                  <a:pt x="0" y="0"/>
                </a:lnTo>
                <a:lnTo>
                  <a:pt x="0" y="72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789280" y="3978360"/>
            <a:ext cx="2041560" cy="1600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43080" y="800280"/>
            <a:ext cx="84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cedente do Consumidor com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2789280" y="214740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08200" y="5575320"/>
            <a:ext cx="44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525360" y="2971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46600" y="4691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60960" y="188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26400" y="5591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830840" y="403848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12600" y="3978360"/>
            <a:ext cx="20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45760" y="37587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89280" y="397836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697120" y="323064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77480" y="56019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20960" y="2847960"/>
            <a:ext cx="3687840" cy="20574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2805120" y="3198600"/>
            <a:ext cx="3657600" cy="172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757760" y="3898800"/>
            <a:ext cx="15228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790720" y="2828880"/>
            <a:ext cx="2057400" cy="116208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720"/>
                </a:moveTo>
                <a:lnTo>
                  <a:pt x="1296" y="720"/>
                </a:lnTo>
                <a:lnTo>
                  <a:pt x="0" y="0"/>
                </a:lnTo>
                <a:lnTo>
                  <a:pt x="0" y="72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525360" y="2971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546600" y="46918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60960" y="188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926400" y="5591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2333520" y="3014280"/>
            <a:ext cx="1156680" cy="3132720"/>
            <a:chOff x="2333520" y="3014280"/>
            <a:chExt cx="1156680" cy="3132720"/>
          </a:xfrm>
        </p:grpSpPr>
        <p:grpSp>
          <p:nvGrpSpPr>
            <p:cNvPr id="1293" name=""/>
            <p:cNvGrpSpPr/>
            <p:nvPr/>
          </p:nvGrpSpPr>
          <p:grpSpPr>
            <a:xfrm>
              <a:off x="2333520" y="3014280"/>
              <a:ext cx="1156680" cy="3132720"/>
              <a:chOff x="2333520" y="3014280"/>
              <a:chExt cx="1156680" cy="313272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2333520" y="3014280"/>
                <a:ext cx="1156680" cy="3132720"/>
                <a:chOff x="2333520" y="3014280"/>
                <a:chExt cx="1156680" cy="313272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2952000" y="5741280"/>
                  <a:ext cx="40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Casual"/>
                    </a:rPr>
                    <a:t>q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Lucida Casu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778840" y="3232080"/>
                  <a:ext cx="711360" cy="234792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333520" y="3014280"/>
                  <a:ext cx="40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Casu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Lucida Casu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778840" y="5792760"/>
                  <a:ext cx="71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2719080" y="3230640"/>
                <a:ext cx="5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3489480" y="55785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347560" y="3362040"/>
            <a:ext cx="1827720" cy="2783520"/>
            <a:chOff x="2347560" y="3362040"/>
            <a:chExt cx="1827720" cy="2783520"/>
          </a:xfrm>
        </p:grpSpPr>
        <p:sp>
          <p:nvSpPr>
            <p:cNvPr id="1302" name=""/>
            <p:cNvSpPr/>
            <p:nvPr/>
          </p:nvSpPr>
          <p:spPr>
            <a:xfrm>
              <a:off x="4175280" y="55785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2347560" y="3362040"/>
              <a:ext cx="1827720" cy="2783520"/>
              <a:chOff x="2347560" y="3362040"/>
              <a:chExt cx="1827720" cy="2783520"/>
            </a:xfrm>
          </p:grpSpPr>
          <p:sp>
            <p:nvSpPr>
              <p:cNvPr id="1304" name=""/>
              <p:cNvSpPr/>
              <p:nvPr/>
            </p:nvSpPr>
            <p:spPr>
              <a:xfrm>
                <a:off x="3489480" y="3611520"/>
                <a:ext cx="685800" cy="19670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712600" y="361152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347560" y="336204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Lucida Casu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521160" y="5791320"/>
                <a:ext cx="65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43200" y="573984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Lucida Casu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2347200" y="3744360"/>
            <a:ext cx="2483640" cy="2401200"/>
            <a:chOff x="2347200" y="3744360"/>
            <a:chExt cx="2483640" cy="2401200"/>
          </a:xfrm>
        </p:grpSpPr>
        <p:grpSp>
          <p:nvGrpSpPr>
            <p:cNvPr id="1310" name=""/>
            <p:cNvGrpSpPr/>
            <p:nvPr/>
          </p:nvGrpSpPr>
          <p:grpSpPr>
            <a:xfrm>
              <a:off x="2347200" y="3744360"/>
              <a:ext cx="2483640" cy="2401200"/>
              <a:chOff x="2347200" y="3744360"/>
              <a:chExt cx="2483640" cy="2401200"/>
            </a:xfrm>
          </p:grpSpPr>
          <p:grpSp>
            <p:nvGrpSpPr>
              <p:cNvPr id="1311" name=""/>
              <p:cNvGrpSpPr/>
              <p:nvPr/>
            </p:nvGrpSpPr>
            <p:grpSpPr>
              <a:xfrm>
                <a:off x="2347200" y="3744360"/>
                <a:ext cx="2483640" cy="2401200"/>
                <a:chOff x="2347200" y="3744360"/>
                <a:chExt cx="2483640" cy="240120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2347200" y="3744360"/>
                  <a:ext cx="40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Casu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Lucida Casu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175280" y="3978360"/>
                  <a:ext cx="655560" cy="16002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221000" y="4038480"/>
                  <a:ext cx="609840" cy="2107080"/>
                  <a:chOff x="4221000" y="4038480"/>
                  <a:chExt cx="609840" cy="210708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830840" y="4038480"/>
                    <a:ext cx="0" cy="17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221000" y="5791320"/>
                    <a:ext cx="60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330080" y="5739840"/>
                    <a:ext cx="401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Lucida Casual"/>
                      </a:rPr>
                      <a:t>q</a:t>
                    </a:r>
                    <a:r>
                      <a:rPr b="1" lang="en-US" sz="1800" spc="-1" strike="noStrike" baseline="-25000">
                        <a:solidFill>
                          <a:srgbClr val="000000"/>
                        </a:solidFill>
                        <a:latin typeface="Lucida Casu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 flipH="1">
                  <a:off x="2759040" y="3976560"/>
                  <a:ext cx="13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 flipH="1">
                <a:off x="2712600" y="397836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4826160" y="5578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2820960" y="2847960"/>
            <a:ext cx="3687840" cy="20574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805120" y="3198600"/>
            <a:ext cx="3657600" cy="172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57760" y="3898800"/>
            <a:ext cx="15228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43080" y="800280"/>
            <a:ext cx="84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xcedente do Consumidor com Diferenci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2789280" y="214740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608200" y="5575320"/>
            <a:ext cx="44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5035680" y="2576520"/>
            <a:ext cx="414360" cy="3205080"/>
            <a:chOff x="5035680" y="2576520"/>
            <a:chExt cx="414360" cy="3205080"/>
          </a:xfrm>
        </p:grpSpPr>
        <p:sp>
          <p:nvSpPr>
            <p:cNvPr id="167" name=""/>
            <p:cNvSpPr/>
            <p:nvPr/>
          </p:nvSpPr>
          <p:spPr>
            <a:xfrm>
              <a:off x="5035680" y="2576520"/>
              <a:ext cx="41256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8240" y="357336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8240" y="5419440"/>
              <a:ext cx="1800" cy="36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606240" y="2209680"/>
            <a:ext cx="155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532440" y="220968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4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532440" y="2209680"/>
            <a:ext cx="68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2440" y="2209680"/>
            <a:ext cx="682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532440" y="220968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532440" y="2209680"/>
            <a:ext cx="682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532440" y="2209680"/>
            <a:ext cx="682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segmentados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543600" y="2209680"/>
            <a:ext cx="682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promocionais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591480" y="2209680"/>
            <a:ext cx="70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s internacionais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591480" y="2209680"/>
            <a:ext cx="706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internacionais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eços de produtos com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38880" y="5425920"/>
            <a:ext cx="1440" cy="371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27760" y="2814480"/>
            <a:ext cx="847440" cy="2971440"/>
            <a:chOff x="5027760" y="2814480"/>
            <a:chExt cx="847440" cy="2971440"/>
          </a:xfrm>
        </p:grpSpPr>
        <p:sp>
          <p:nvSpPr>
            <p:cNvPr id="222" name=""/>
            <p:cNvSpPr/>
            <p:nvPr/>
          </p:nvSpPr>
          <p:spPr>
            <a:xfrm>
              <a:off x="5027760" y="2814480"/>
              <a:ext cx="846000" cy="610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73760" y="3570120"/>
              <a:ext cx="1440" cy="2207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190120"/>
              <a:ext cx="1800" cy="59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591480" y="2209680"/>
            <a:ext cx="706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Ski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lançamento para penetração no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iferenciados por linhas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sub-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segmentados (localidade, classe econôm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promocionais (preço isca, bônus, desco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internacionais (FOB, zoneamento, ponto-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eços de produtos com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Preços fixados pelo consumidor (l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1200" y="81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utras Estratégias de Fixação de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053000" y="1866960"/>
            <a:ext cx="5794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Monopó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etição Monopol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ustomização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ferenciação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Outras Estratégias de Fixação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0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087360" y="324540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5194440"/>
            <a:ext cx="0" cy="585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27760" y="2987640"/>
            <a:ext cx="1295280" cy="2843280"/>
            <a:chOff x="5027760" y="2987640"/>
            <a:chExt cx="1295280" cy="2843280"/>
          </a:xfrm>
        </p:grpSpPr>
        <p:sp>
          <p:nvSpPr>
            <p:cNvPr id="257" name=""/>
            <p:cNvSpPr/>
            <p:nvPr/>
          </p:nvSpPr>
          <p:spPr>
            <a:xfrm>
              <a:off x="5027760" y="2987640"/>
              <a:ext cx="1290600" cy="433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9800" y="3637080"/>
              <a:ext cx="180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3040" y="5037120"/>
              <a:ext cx="0" cy="752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V="1">
            <a:off x="5029200" y="19807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34290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2860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82680" y="358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3408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0760" y="3580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29200" y="43430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79132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2680" y="594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3408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00760" y="5942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85920" y="1599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13880" y="3504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1388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1980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69240" y="2437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38760" y="3015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42120" y="5425920"/>
            <a:ext cx="0" cy="36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5189400"/>
            <a:ext cx="1800" cy="592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7720" y="5035680"/>
            <a:ext cx="1800" cy="753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27760" y="3117960"/>
            <a:ext cx="1738080" cy="2712960"/>
            <a:chOff x="5027760" y="3117960"/>
            <a:chExt cx="1738080" cy="2712960"/>
          </a:xfrm>
        </p:grpSpPr>
        <p:sp>
          <p:nvSpPr>
            <p:cNvPr id="293" name=""/>
            <p:cNvSpPr/>
            <p:nvPr/>
          </p:nvSpPr>
          <p:spPr>
            <a:xfrm>
              <a:off x="5027760" y="3117960"/>
              <a:ext cx="1738080" cy="303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3240" y="3637080"/>
              <a:ext cx="1440" cy="21938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0000" y="5018040"/>
              <a:ext cx="1800" cy="750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rot="16200000">
            <a:off x="4196520" y="26596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4158720" y="5044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Rec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61920" y="437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66400" y="7909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ceita no Mon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8-27T18:23:43Z</dcterms:modified>
  <cp:revision>148</cp:revision>
  <dc:subject/>
  <dc:title>Alteraçoes PE</dc:title>
</cp:coreProperties>
</file>