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1CF-4B2D-4454-B990-B70DD7EE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F6F-BBCF-476D-8525-281BE9AF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B36-9270-4E23-AA67-C5FCDD5C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B51-ACD0-4E60-AAA5-45352823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E4D-E023-4154-A3E7-01168CC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D94-186D-4112-8787-2A16C469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E57-55B7-4266-8BBC-196B0706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34F-B33F-4314-97E5-CBFFF7C4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E14-063D-4B4A-8336-AEB2AF3C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3D11-D295-400D-9647-86099405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B34-A080-43D8-82E4-961160DE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DF9-DA2F-4321-AFF2-9C76195D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5D4C-5A93-4E85-ABF6-3C21E7BCA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3172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flipV="1">
            <a:off x="1766880" y="2531880"/>
            <a:ext cx="0" cy="2909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55840" y="5108400"/>
            <a:ext cx="3450960" cy="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8120" y="2210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25880" y="4892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5840" y="3325680"/>
            <a:ext cx="1859040" cy="1401840"/>
            <a:chOff x="2085840" y="3325680"/>
            <a:chExt cx="1859040" cy="1401840"/>
          </a:xfrm>
        </p:grpSpPr>
        <p:sp>
          <p:nvSpPr>
            <p:cNvPr id="128" name=""/>
            <p:cNvSpPr/>
            <p:nvPr/>
          </p:nvSpPr>
          <p:spPr>
            <a:xfrm>
              <a:off x="2085840" y="3325680"/>
              <a:ext cx="1570320" cy="38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9960" y="3690720"/>
              <a:ext cx="304920" cy="1036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H="1">
            <a:off x="1701360" y="3705120"/>
            <a:ext cx="194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25920" y="3705120"/>
            <a:ext cx="0" cy="14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2240" y="5185800"/>
            <a:ext cx="122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0880" y="3471480"/>
            <a:ext cx="10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58120" y="451080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Demanda vista por um dos Oligopo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16440" y="2430360"/>
            <a:ext cx="3067200" cy="1333440"/>
          </a:xfrm>
          <a:prstGeom prst="wedgeRoundRectCallout">
            <a:avLst>
              <a:gd name="adj1" fmla="val -82453"/>
              <a:gd name="adj2" fmla="val 87736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e um dos Oligopo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baixa o preço, oco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uerra de preços e 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mais seguem a tend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51400" y="3639960"/>
            <a:ext cx="12996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89520" y="78624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urva de Demanda no Olig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17320" y="8244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191120" y="3429000"/>
            <a:ext cx="1752480" cy="990720"/>
            <a:chOff x="4191120" y="3429000"/>
            <a:chExt cx="1752480" cy="990720"/>
          </a:xfrm>
        </p:grpSpPr>
        <p:sp>
          <p:nvSpPr>
            <p:cNvPr id="152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55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158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161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7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191120" y="3429000"/>
            <a:ext cx="1752480" cy="990720"/>
            <a:chOff x="4191120" y="3429000"/>
            <a:chExt cx="1752480" cy="990720"/>
          </a:xfrm>
        </p:grpSpPr>
        <p:sp>
          <p:nvSpPr>
            <p:cNvPr id="186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189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192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195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4240" y="1552680"/>
            <a:ext cx="3078360" cy="1660320"/>
          </a:xfrm>
          <a:prstGeom prst="wedgeRoundRectCallout">
            <a:avLst>
              <a:gd name="adj1" fmla="val 75166"/>
              <a:gd name="adj2" fmla="val 6749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Significa que o Luc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da Blue Telecom é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R$ 750 se adotar Preç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1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17320" y="8244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91120" y="3429000"/>
            <a:ext cx="1752480" cy="990720"/>
            <a:chOff x="4191120" y="3429000"/>
            <a:chExt cx="1752480" cy="990720"/>
          </a:xfrm>
        </p:grpSpPr>
        <p:sp>
          <p:nvSpPr>
            <p:cNvPr id="222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225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228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231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4240" y="1552680"/>
            <a:ext cx="3078360" cy="1660320"/>
          </a:xfrm>
          <a:prstGeom prst="wedgeRoundRectCallout">
            <a:avLst>
              <a:gd name="adj1" fmla="val 71712"/>
              <a:gd name="adj2" fmla="val 8489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Significa que o Luc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da Red Datacom é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R$ 750 se adotar Preç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7320" y="8244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191120" y="3429000"/>
            <a:ext cx="1752480" cy="990720"/>
            <a:chOff x="4191120" y="3429000"/>
            <a:chExt cx="1752480" cy="990720"/>
          </a:xfrm>
        </p:grpSpPr>
        <p:sp>
          <p:nvSpPr>
            <p:cNvPr id="258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112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261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264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267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31880" y="5699160"/>
            <a:ext cx="7892280" cy="485640"/>
            <a:chOff x="731880" y="5699160"/>
            <a:chExt cx="7892280" cy="485640"/>
          </a:xfrm>
        </p:grpSpPr>
        <p:sp>
          <p:nvSpPr>
            <p:cNvPr id="280" name=""/>
            <p:cNvSpPr/>
            <p:nvPr/>
          </p:nvSpPr>
          <p:spPr>
            <a:xfrm>
              <a:off x="731880" y="569916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96560" y="5788800"/>
              <a:ext cx="66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Há </a:t>
              </a:r>
              <a:r>
                <a:rPr b="1" lang="en-US" sz="1800" spc="-1" strike="noStrike">
                  <a:solidFill>
                    <a:srgbClr val="669900"/>
                  </a:solidFill>
                  <a:latin typeface="Lucida Casual"/>
                </a:rPr>
                <a:t>interdependência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 entre </a:t>
              </a: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Blue Telecom</a:t>
              </a:r>
              <a:r>
                <a:rPr b="1" lang="en-US" sz="1800" spc="-1" strike="noStrike">
                  <a:solidFill>
                    <a:srgbClr val="000000"/>
                  </a:solidFill>
                  <a:latin typeface="Lucida Casual"/>
                </a:rPr>
                <a:t> e </a:t>
              </a:r>
              <a:r>
                <a:rPr b="1" lang="en-US" sz="1800" spc="-1" strike="noStrike">
                  <a:solidFill>
                    <a:srgbClr val="ff3300"/>
                  </a:solidFill>
                  <a:latin typeface="Lucida Casual"/>
                </a:rPr>
                <a:t>Red Datac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8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17320" y="8244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298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943600" y="3429000"/>
            <a:ext cx="1752480" cy="990720"/>
            <a:chOff x="5943600" y="3429000"/>
            <a:chExt cx="1752480" cy="990720"/>
          </a:xfrm>
        </p:grpSpPr>
        <p:sp>
          <p:nvSpPr>
            <p:cNvPr id="301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43600" y="3429000"/>
              <a:ext cx="1752480" cy="99072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943600" y="4419720"/>
            <a:ext cx="1752480" cy="990360"/>
            <a:chOff x="5943600" y="4419720"/>
            <a:chExt cx="1752480" cy="990360"/>
          </a:xfrm>
        </p:grpSpPr>
        <p:sp>
          <p:nvSpPr>
            <p:cNvPr id="304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4360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7600" y="5782320"/>
            <a:ext cx="46324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956" y="6099"/>
                </a:moveTo>
                <a:lnTo>
                  <a:pt x="24096" y="6099"/>
                </a:lnTo>
                <a:lnTo>
                  <a:pt x="24096" y="-5760"/>
                </a:lnTo>
                <a:lnTo>
                  <a:pt x="22960" y="-21115"/>
                </a:lnTo>
              </a:path>
            </a:pathLst>
          </a:cu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Coalisão, Cartel, Acordo de Cavalhei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17320" y="8244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334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10360" y="5752080"/>
            <a:ext cx="335844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8" y="6099"/>
                </a:moveTo>
                <a:lnTo>
                  <a:pt x="25005" y="6099"/>
                </a:lnTo>
                <a:lnTo>
                  <a:pt x="25005" y="-7793"/>
                </a:lnTo>
                <a:lnTo>
                  <a:pt x="23802" y="-25692"/>
                </a:lnTo>
              </a:path>
            </a:pathLst>
          </a:cu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Red Datacom viola o aco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7320" y="8244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367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10360" y="5752080"/>
            <a:ext cx="335844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8" y="6099"/>
                </a:moveTo>
                <a:lnTo>
                  <a:pt x="25005" y="6099"/>
                </a:lnTo>
                <a:lnTo>
                  <a:pt x="25005" y="-7793"/>
                </a:lnTo>
                <a:lnTo>
                  <a:pt x="23802" y="-25692"/>
                </a:lnTo>
              </a:path>
            </a:pathLst>
          </a:cu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Red Datacom viola o aco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67480" y="38847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8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17320" y="8244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112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4419720"/>
            <a:ext cx="5562360" cy="99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3429000"/>
            <a:ext cx="5562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76800" y="26665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71680" y="358092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2000" y="266652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0240" y="4571640"/>
            <a:ext cx="17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Monopol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191120" y="4419720"/>
            <a:ext cx="1752480" cy="990360"/>
            <a:chOff x="4191120" y="4419720"/>
            <a:chExt cx="1752480" cy="990360"/>
          </a:xfrm>
        </p:grpSpPr>
        <p:sp>
          <p:nvSpPr>
            <p:cNvPr id="400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0" y="624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91120" y="4419720"/>
              <a:ext cx="1752480" cy="990360"/>
            </a:xfrm>
            <a:custGeom>
              <a:avLst/>
              <a:gdLst/>
              <a:ahLst/>
              <a:rect l="l" t="t" r="r" b="b"/>
              <a:pathLst>
                <a:path w="1104" h="624">
                  <a:moveTo>
                    <a:pt x="0" y="0"/>
                  </a:moveTo>
                  <a:lnTo>
                    <a:pt x="1104" y="0"/>
                  </a:lnTo>
                  <a:lnTo>
                    <a:pt x="1104" y="6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943600" y="3429000"/>
            <a:ext cx="1752480" cy="99072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0" y="624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4419720"/>
            <a:ext cx="1752480" cy="99036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0" y="0"/>
                </a:moveTo>
                <a:lnTo>
                  <a:pt x="1104" y="0"/>
                </a:lnTo>
                <a:lnTo>
                  <a:pt x="1104" y="62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4336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09840" y="50284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22280" y="3428280"/>
            <a:ext cx="91512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36480" y="4037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09840" y="4037760"/>
            <a:ext cx="111204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790520" y="44190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R$ 1.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99080" y="34282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89400" y="50284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b2b2b2"/>
                </a:solidFill>
                <a:latin typeface="Lucida Casual"/>
              </a:rPr>
              <a:t>- R$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66640" y="1980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Blue Tel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857160" y="42195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Red Dat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10360" y="5752080"/>
            <a:ext cx="335844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98" y="6099"/>
                </a:moveTo>
                <a:lnTo>
                  <a:pt x="25005" y="6099"/>
                </a:lnTo>
                <a:lnTo>
                  <a:pt x="25005" y="-7793"/>
                </a:lnTo>
                <a:lnTo>
                  <a:pt x="23802" y="-25692"/>
                </a:lnTo>
              </a:path>
            </a:pathLst>
          </a:custGeom>
          <a:solidFill>
            <a:srgbClr val="ffff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Red Datacom viola o aco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43600" y="2514600"/>
            <a:ext cx="1752480" cy="289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5620320" y="34261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98560" y="1908000"/>
            <a:ext cx="2628720" cy="1111320"/>
          </a:xfrm>
          <a:prstGeom prst="horizontalScroll">
            <a:avLst>
              <a:gd name="adj" fmla="val 1956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Efeito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Guerra de Pre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2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17320" y="8244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2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59120" y="824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íderes e 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1520" y="1617840"/>
            <a:ext cx="7075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derança em quantidad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Líde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uncia a quantidade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q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 ser ofer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Seguido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justa a produção para oferecer quantidad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320" y="3236760"/>
            <a:ext cx="429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ço estabelecido pelo Merca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800440" y="394308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14600" y="5810400"/>
            <a:ext cx="4705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38640" y="3812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48800" y="53938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40080" y="5415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98840" y="5415480"/>
            <a:ext cx="424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83160" y="5986800"/>
            <a:ext cx="896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+ q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4400640"/>
            <a:ext cx="3543120" cy="95256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27800" y="5165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010120" y="4990680"/>
            <a:ext cx="0" cy="100980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800440" y="501012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00440" y="5810400"/>
            <a:ext cx="1485720" cy="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29280" y="5810400"/>
            <a:ext cx="79992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2320" y="4825080"/>
            <a:ext cx="934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(q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+q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3205080"/>
            <a:ext cx="7115400" cy="25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85960" y="1655640"/>
          <a:ext cx="7432560" cy="48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655640"/>
                    <a:ext cx="743256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586600" y="934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" descr=""/>
          <p:cNvPicPr/>
          <p:nvPr/>
        </p:nvPicPr>
        <p:blipFill>
          <a:blip r:embed="rId3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" name="ASA_CO1" descr=""/>
          <p:cNvPicPr/>
          <p:nvPr/>
        </p:nvPicPr>
        <p:blipFill>
          <a:blip r:embed="rId4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4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59120" y="824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íderes e 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84360" y="1617840"/>
            <a:ext cx="3871800" cy="1200600"/>
            <a:chOff x="684360" y="1617840"/>
            <a:chExt cx="3871800" cy="1200600"/>
          </a:xfrm>
        </p:grpSpPr>
        <p:sp>
          <p:nvSpPr>
            <p:cNvPr id="451" name=""/>
            <p:cNvSpPr/>
            <p:nvPr/>
          </p:nvSpPr>
          <p:spPr>
            <a:xfrm>
              <a:off x="684360" y="1617840"/>
              <a:ext cx="38718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ritério do Seguidor ( 2 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aximizar L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= p(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+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) 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- CT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(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27040" y="23770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685080" y="3065400"/>
            <a:ext cx="356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implifica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(q) = a - bq            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T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q) = 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 +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4120" y="4684680"/>
            <a:ext cx="40496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estas Condiçõ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= [ a - b(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) ] 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[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a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5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59120" y="824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íderes e 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84360" y="1617840"/>
            <a:ext cx="3871800" cy="1200600"/>
            <a:chOff x="684360" y="1617840"/>
            <a:chExt cx="3871800" cy="1200600"/>
          </a:xfrm>
        </p:grpSpPr>
        <p:sp>
          <p:nvSpPr>
            <p:cNvPr id="461" name=""/>
            <p:cNvSpPr/>
            <p:nvPr/>
          </p:nvSpPr>
          <p:spPr>
            <a:xfrm>
              <a:off x="684360" y="1617840"/>
              <a:ext cx="38718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ritério do Seguidor ( 2 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aximizar L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= p(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+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) 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- CT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(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27040" y="23770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85080" y="3065400"/>
            <a:ext cx="356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implifica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(q) = a - bq            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T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q) = 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 +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4120" y="4684680"/>
            <a:ext cx="410688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estas Condiçõ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= [ a - b(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) ] 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[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a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545000" y="2122920"/>
            <a:ext cx="4140000" cy="3668040"/>
            <a:chOff x="4545000" y="2122920"/>
            <a:chExt cx="4140000" cy="3668040"/>
          </a:xfrm>
        </p:grpSpPr>
        <p:sp>
          <p:nvSpPr>
            <p:cNvPr id="466" name=""/>
            <p:cNvSpPr/>
            <p:nvPr/>
          </p:nvSpPr>
          <p:spPr>
            <a:xfrm flipV="1">
              <a:off x="5238720" y="2323800"/>
              <a:ext cx="0" cy="346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48280" y="5505480"/>
              <a:ext cx="352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45000" y="3868200"/>
              <a:ext cx="7081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-CV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72000" y="4210200"/>
              <a:ext cx="6094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224320" y="2871720"/>
              <a:ext cx="2394000" cy="2352600"/>
              <a:chOff x="5224320" y="2871720"/>
              <a:chExt cx="2394000" cy="2352600"/>
            </a:xfrm>
          </p:grpSpPr>
          <p:sp>
            <p:nvSpPr>
              <p:cNvPr id="471" name=""/>
              <p:cNvSpPr/>
              <p:nvPr/>
            </p:nvSpPr>
            <p:spPr>
              <a:xfrm>
                <a:off x="5238720" y="3295800"/>
                <a:ext cx="1284480" cy="1611000"/>
              </a:xfrm>
              <a:custGeom>
                <a:avLst/>
                <a:gdLst/>
                <a:ahLst/>
                <a:rect l="l" t="t" r="r" b="b"/>
                <a:pathLst>
                  <a:path w="809" h="1015">
                    <a:moveTo>
                      <a:pt x="0" y="0"/>
                    </a:moveTo>
                    <a:cubicBezTo>
                      <a:pt x="156" y="78"/>
                      <a:pt x="809" y="515"/>
                      <a:pt x="736" y="742"/>
                    </a:cubicBezTo>
                    <a:cubicBezTo>
                      <a:pt x="663" y="969"/>
                      <a:pt x="192" y="991"/>
                      <a:pt x="0" y="1015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24320" y="2871720"/>
                <a:ext cx="2394000" cy="2352600"/>
              </a:xfrm>
              <a:custGeom>
                <a:avLst/>
                <a:gdLst/>
                <a:ahLst/>
                <a:rect l="l" t="t" r="r" b="b"/>
                <a:pathLst>
                  <a:path w="1508" h="1482">
                    <a:moveTo>
                      <a:pt x="0" y="0"/>
                    </a:moveTo>
                    <a:cubicBezTo>
                      <a:pt x="257" y="132"/>
                      <a:pt x="1508" y="827"/>
                      <a:pt x="1363" y="1146"/>
                    </a:cubicBezTo>
                    <a:cubicBezTo>
                      <a:pt x="1218" y="1465"/>
                      <a:pt x="336" y="1472"/>
                      <a:pt x="18" y="1482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32240" y="3692520"/>
                <a:ext cx="663840" cy="914400"/>
              </a:xfrm>
              <a:custGeom>
                <a:avLst/>
                <a:gdLst/>
                <a:ahLst/>
                <a:rect l="l" t="t" r="r" b="b"/>
                <a:pathLst>
                  <a:path w="791" h="948">
                    <a:moveTo>
                      <a:pt x="0" y="0"/>
                    </a:moveTo>
                    <a:cubicBezTo>
                      <a:pt x="156" y="78"/>
                      <a:pt x="791" y="434"/>
                      <a:pt x="745" y="670"/>
                    </a:cubicBezTo>
                    <a:cubicBezTo>
                      <a:pt x="699" y="906"/>
                      <a:pt x="192" y="924"/>
                      <a:pt x="0" y="948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8315280" y="50536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86200" y="2122920"/>
              <a:ext cx="45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6199200" y="2043360"/>
            <a:ext cx="2446200" cy="663120"/>
          </a:xfrm>
          <a:prstGeom prst="wedgeRoundRectCallout">
            <a:avLst>
              <a:gd name="adj1" fmla="val -50763"/>
              <a:gd name="adj2" fmla="val 151680"/>
              <a:gd name="adj3" fmla="val 16667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urvas de Iso-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= c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95880" y="4183200"/>
            <a:ext cx="74520" cy="74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195880" y="4183200"/>
            <a:ext cx="74520" cy="74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8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59120" y="824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íderes e 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84360" y="1617840"/>
            <a:ext cx="3871800" cy="1200600"/>
            <a:chOff x="684360" y="1617840"/>
            <a:chExt cx="3871800" cy="1200600"/>
          </a:xfrm>
        </p:grpSpPr>
        <p:sp>
          <p:nvSpPr>
            <p:cNvPr id="485" name=""/>
            <p:cNvSpPr/>
            <p:nvPr/>
          </p:nvSpPr>
          <p:spPr>
            <a:xfrm>
              <a:off x="684360" y="1617840"/>
              <a:ext cx="38718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ritério do Seguidor ( 2 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aximizar L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= p(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+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) 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- CT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(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27040" y="23770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85080" y="3065400"/>
            <a:ext cx="356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implifica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(q) = a - bq            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T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q) = 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 +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4120" y="4684680"/>
            <a:ext cx="41450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estas Condiçõ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= [ a - b(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) ] 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[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a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238720" y="2323800"/>
            <a:ext cx="0" cy="346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48280" y="5505480"/>
            <a:ext cx="352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45000" y="3868200"/>
            <a:ext cx="708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-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0" y="4210200"/>
            <a:ext cx="60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224320" y="2871720"/>
            <a:ext cx="2394000" cy="2352600"/>
            <a:chOff x="5224320" y="2871720"/>
            <a:chExt cx="2394000" cy="2352600"/>
          </a:xfrm>
        </p:grpSpPr>
        <p:sp>
          <p:nvSpPr>
            <p:cNvPr id="494" name=""/>
            <p:cNvSpPr/>
            <p:nvPr/>
          </p:nvSpPr>
          <p:spPr>
            <a:xfrm>
              <a:off x="5238720" y="3295800"/>
              <a:ext cx="1284480" cy="1611000"/>
            </a:xfrm>
            <a:custGeom>
              <a:avLst/>
              <a:gdLst/>
              <a:ahLst/>
              <a:rect l="l" t="t" r="r" b="b"/>
              <a:pathLst>
                <a:path w="809" h="1015">
                  <a:moveTo>
                    <a:pt x="0" y="0"/>
                  </a:moveTo>
                  <a:cubicBezTo>
                    <a:pt x="156" y="78"/>
                    <a:pt x="809" y="515"/>
                    <a:pt x="736" y="742"/>
                  </a:cubicBezTo>
                  <a:cubicBezTo>
                    <a:pt x="663" y="969"/>
                    <a:pt x="192" y="991"/>
                    <a:pt x="0" y="1015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24320" y="2871720"/>
              <a:ext cx="2394000" cy="2352600"/>
            </a:xfrm>
            <a:custGeom>
              <a:avLst/>
              <a:gdLst/>
              <a:ahLst/>
              <a:rect l="l" t="t" r="r" b="b"/>
              <a:pathLst>
                <a:path w="1508" h="1482">
                  <a:moveTo>
                    <a:pt x="0" y="0"/>
                  </a:moveTo>
                  <a:cubicBezTo>
                    <a:pt x="257" y="132"/>
                    <a:pt x="1508" y="827"/>
                    <a:pt x="1363" y="1146"/>
                  </a:cubicBezTo>
                  <a:cubicBezTo>
                    <a:pt x="1218" y="1465"/>
                    <a:pt x="336" y="1472"/>
                    <a:pt x="18" y="148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32240" y="3692520"/>
              <a:ext cx="663840" cy="914400"/>
            </a:xfrm>
            <a:custGeom>
              <a:avLst/>
              <a:gdLst/>
              <a:ahLst/>
              <a:rect l="l" t="t" r="r" b="b"/>
              <a:pathLst>
                <a:path w="791" h="948">
                  <a:moveTo>
                    <a:pt x="0" y="0"/>
                  </a:moveTo>
                  <a:cubicBezTo>
                    <a:pt x="156" y="78"/>
                    <a:pt x="791" y="434"/>
                    <a:pt x="745" y="670"/>
                  </a:cubicBezTo>
                  <a:cubicBezTo>
                    <a:pt x="699" y="906"/>
                    <a:pt x="192" y="924"/>
                    <a:pt x="0" y="94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224320" y="4216320"/>
            <a:ext cx="2855880" cy="5191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315280" y="5053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86200" y="2122920"/>
            <a:ext cx="459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668920" y="1558440"/>
            <a:ext cx="2917800" cy="1128600"/>
            <a:chOff x="5668920" y="1558440"/>
            <a:chExt cx="2917800" cy="1128600"/>
          </a:xfrm>
        </p:grpSpPr>
        <p:sp>
          <p:nvSpPr>
            <p:cNvPr id="501" name=""/>
            <p:cNvSpPr/>
            <p:nvPr/>
          </p:nvSpPr>
          <p:spPr>
            <a:xfrm>
              <a:off x="5668920" y="1558440"/>
              <a:ext cx="291780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Para cada 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fixo, calcula-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        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dL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        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d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99040" y="2352960"/>
              <a:ext cx="3463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56880" y="2199960"/>
              <a:ext cx="4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873760" y="2808000"/>
            <a:ext cx="1522440" cy="2690640"/>
            <a:chOff x="5873760" y="2808000"/>
            <a:chExt cx="1522440" cy="2690640"/>
          </a:xfrm>
        </p:grpSpPr>
        <p:sp>
          <p:nvSpPr>
            <p:cNvPr id="505" name=""/>
            <p:cNvSpPr/>
            <p:nvPr/>
          </p:nvSpPr>
          <p:spPr>
            <a:xfrm flipV="1">
              <a:off x="5873760" y="2828520"/>
              <a:ext cx="0" cy="267012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6429240" y="2808000"/>
              <a:ext cx="0" cy="267012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96200" y="2808000"/>
              <a:ext cx="0" cy="267012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540560" y="3361680"/>
            <a:ext cx="1204920" cy="626760"/>
          </a:xfrm>
          <a:prstGeom prst="wedgeRoundRectCallout">
            <a:avLst>
              <a:gd name="adj1" fmla="val -46597"/>
              <a:gd name="adj2" fmla="val 150171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urv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1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59120" y="824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íderes e 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84360" y="1617840"/>
            <a:ext cx="3871800" cy="1200600"/>
            <a:chOff x="684360" y="1617840"/>
            <a:chExt cx="3871800" cy="1200600"/>
          </a:xfrm>
        </p:grpSpPr>
        <p:sp>
          <p:nvSpPr>
            <p:cNvPr id="515" name=""/>
            <p:cNvSpPr/>
            <p:nvPr/>
          </p:nvSpPr>
          <p:spPr>
            <a:xfrm>
              <a:off x="684360" y="1617840"/>
              <a:ext cx="38718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ritério do Seguidor ( 2 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aximizar L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= p(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+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) 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- CT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(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27040" y="23770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5080" y="3065400"/>
            <a:ext cx="356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implifica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(q) = a - bq            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T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(q) = 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 +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54120" y="4684680"/>
            <a:ext cx="43545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estas Condiçõ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= [ a - b(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) ] 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[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+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a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- CF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68920" y="1558440"/>
            <a:ext cx="29178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ara cada 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fixo, calcula-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L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q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85000" y="2344680"/>
            <a:ext cx="3538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56880" y="2199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745240" y="2762280"/>
            <a:ext cx="2510280" cy="1165680"/>
            <a:chOff x="5745240" y="2762280"/>
            <a:chExt cx="2510280" cy="1165680"/>
          </a:xfrm>
        </p:grpSpPr>
        <p:grpSp>
          <p:nvGrpSpPr>
            <p:cNvPr id="523" name=""/>
            <p:cNvGrpSpPr/>
            <p:nvPr/>
          </p:nvGrpSpPr>
          <p:grpSpPr>
            <a:xfrm>
              <a:off x="5745240" y="3225600"/>
              <a:ext cx="2510280" cy="702360"/>
              <a:chOff x="5745240" y="3225600"/>
              <a:chExt cx="2510280" cy="702360"/>
            </a:xfrm>
          </p:grpSpPr>
          <p:sp>
            <p:nvSpPr>
              <p:cNvPr id="524" name=""/>
              <p:cNvSpPr/>
              <p:nvPr/>
            </p:nvSpPr>
            <p:spPr>
              <a:xfrm>
                <a:off x="5745240" y="3225600"/>
                <a:ext cx="9936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dL</a:t>
                </a:r>
                <a:r>
                  <a:rPr b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dq</a:t>
                </a:r>
                <a:r>
                  <a:rPr b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80160" y="3602160"/>
                <a:ext cx="3538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35120" y="3421440"/>
                <a:ext cx="2120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= -2bq</a:t>
                </a:r>
                <a:r>
                  <a:rPr b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 = (a-bq</a:t>
                </a:r>
                <a:r>
                  <a:rPr b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-CV</a:t>
                </a:r>
                <a:r>
                  <a:rPr b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991200" y="2762280"/>
              <a:ext cx="0" cy="495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826240" y="4000680"/>
            <a:ext cx="2040120" cy="1833120"/>
            <a:chOff x="5826240" y="4000680"/>
            <a:chExt cx="2040120" cy="1833120"/>
          </a:xfrm>
        </p:grpSpPr>
        <p:sp>
          <p:nvSpPr>
            <p:cNvPr id="529" name=""/>
            <p:cNvSpPr/>
            <p:nvPr/>
          </p:nvSpPr>
          <p:spPr>
            <a:xfrm>
              <a:off x="6953400" y="4000680"/>
              <a:ext cx="0" cy="495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5826240" y="4656240"/>
              <a:ext cx="2040120" cy="1177560"/>
              <a:chOff x="5826240" y="4656240"/>
              <a:chExt cx="2040120" cy="117756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5959440" y="4656240"/>
                <a:ext cx="1906920" cy="821880"/>
                <a:chOff x="5959440" y="4656240"/>
                <a:chExt cx="1906920" cy="821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5959440" y="4900680"/>
                  <a:ext cx="6188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q</a:t>
                  </a:r>
                  <a:r>
                    <a:rPr b="1" lang="en-US" sz="1600" spc="-1" strike="noStrike" baseline="-25000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542640" y="4656240"/>
                  <a:ext cx="1323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q - bq</a:t>
                  </a:r>
                  <a:r>
                    <a:rPr b="1" lang="en-US" sz="1600" spc="-1" strike="noStrike" baseline="-25000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 - CV</a:t>
                  </a:r>
                  <a:r>
                    <a:rPr b="1" lang="en-US" sz="1600" spc="-1" strike="noStrike" baseline="-25000">
                      <a:solidFill>
                        <a:srgbClr val="0000ff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ff"/>
                      </a:solidFill>
                      <a:latin typeface="Arial"/>
                    </a:rPr>
                    <a:t>2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591240" y="5105160"/>
                  <a:ext cx="123804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5" name=""/>
              <p:cNvSpPr/>
              <p:nvPr/>
            </p:nvSpPr>
            <p:spPr>
              <a:xfrm>
                <a:off x="5826240" y="5463000"/>
                <a:ext cx="1558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q</a:t>
                </a:r>
                <a:r>
                  <a:rPr b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 = r</a:t>
                </a:r>
                <a:r>
                  <a:rPr b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 ( q</a:t>
                </a:r>
                <a:r>
                  <a:rPr b="1" lang="en-US" sz="1600" spc="-1" strike="noStrike" baseline="-25000">
                    <a:solidFill>
                      <a:srgbClr val="0000ff"/>
                    </a:solidFill>
                    <a:latin typeface="Arial"/>
                  </a:rPr>
                  <a:t>1 </a:t>
                </a: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59120" y="824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íderes e 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4360" y="1617840"/>
            <a:ext cx="3871800" cy="1200600"/>
            <a:chOff x="684360" y="1617840"/>
            <a:chExt cx="3871800" cy="1200600"/>
          </a:xfrm>
        </p:grpSpPr>
        <p:sp>
          <p:nvSpPr>
            <p:cNvPr id="542" name=""/>
            <p:cNvSpPr/>
            <p:nvPr/>
          </p:nvSpPr>
          <p:spPr>
            <a:xfrm>
              <a:off x="684360" y="1617840"/>
              <a:ext cx="38718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ritério do Líder (1 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Maximizar L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 = p(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+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) 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 - CT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(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27040" y="23770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685080" y="3065400"/>
            <a:ext cx="356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implifica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p(q) = a - bq            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T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(q) = 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 + CF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4120" y="4684680"/>
            <a:ext cx="425916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estas Condiçõ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= [ a - b(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+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) ] 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[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+ CF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= a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CF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4786200" y="2043360"/>
            <a:ext cx="3898800" cy="4226400"/>
            <a:chOff x="4786200" y="2043360"/>
            <a:chExt cx="3898800" cy="4226400"/>
          </a:xfrm>
        </p:grpSpPr>
        <p:sp>
          <p:nvSpPr>
            <p:cNvPr id="547" name=""/>
            <p:cNvSpPr/>
            <p:nvPr/>
          </p:nvSpPr>
          <p:spPr>
            <a:xfrm flipV="1">
              <a:off x="5238720" y="2323800"/>
              <a:ext cx="0" cy="346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48280" y="5505480"/>
              <a:ext cx="352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54720" y="5582880"/>
              <a:ext cx="7081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a-CV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1720" y="5924520"/>
              <a:ext cx="60948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653440" y="3126240"/>
              <a:ext cx="2373480" cy="2414160"/>
              <a:chOff x="5653440" y="3126240"/>
              <a:chExt cx="2373480" cy="2414160"/>
            </a:xfrm>
          </p:grpSpPr>
          <p:sp>
            <p:nvSpPr>
              <p:cNvPr id="552" name=""/>
              <p:cNvSpPr/>
              <p:nvPr/>
            </p:nvSpPr>
            <p:spPr>
              <a:xfrm flipH="1" rot="5430000">
                <a:off x="6139800" y="4068000"/>
                <a:ext cx="1284120" cy="1611000"/>
              </a:xfrm>
              <a:custGeom>
                <a:avLst/>
                <a:gdLst/>
                <a:ahLst/>
                <a:rect l="l" t="t" r="r" b="b"/>
                <a:pathLst>
                  <a:path w="809" h="1015">
                    <a:moveTo>
                      <a:pt x="0" y="0"/>
                    </a:moveTo>
                    <a:cubicBezTo>
                      <a:pt x="156" y="78"/>
                      <a:pt x="809" y="515"/>
                      <a:pt x="736" y="742"/>
                    </a:cubicBezTo>
                    <a:cubicBezTo>
                      <a:pt x="663" y="969"/>
                      <a:pt x="192" y="991"/>
                      <a:pt x="0" y="1015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 rot="5430000">
                <a:off x="5642640" y="3156840"/>
                <a:ext cx="2393640" cy="2352600"/>
              </a:xfrm>
              <a:custGeom>
                <a:avLst/>
                <a:gdLst/>
                <a:ahLst/>
                <a:rect l="l" t="t" r="r" b="b"/>
                <a:pathLst>
                  <a:path w="1508" h="1482">
                    <a:moveTo>
                      <a:pt x="0" y="0"/>
                    </a:moveTo>
                    <a:cubicBezTo>
                      <a:pt x="257" y="132"/>
                      <a:pt x="1508" y="827"/>
                      <a:pt x="1363" y="1146"/>
                    </a:cubicBezTo>
                    <a:cubicBezTo>
                      <a:pt x="1218" y="1465"/>
                      <a:pt x="336" y="1472"/>
                      <a:pt x="18" y="1482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5430000">
                <a:off x="6399000" y="4732560"/>
                <a:ext cx="663480" cy="914400"/>
              </a:xfrm>
              <a:custGeom>
                <a:avLst/>
                <a:gdLst/>
                <a:ahLst/>
                <a:rect l="l" t="t" r="r" b="b"/>
                <a:pathLst>
                  <a:path w="791" h="948">
                    <a:moveTo>
                      <a:pt x="0" y="0"/>
                    </a:moveTo>
                    <a:cubicBezTo>
                      <a:pt x="156" y="78"/>
                      <a:pt x="791" y="434"/>
                      <a:pt x="745" y="670"/>
                    </a:cubicBezTo>
                    <a:cubicBezTo>
                      <a:pt x="699" y="906"/>
                      <a:pt x="192" y="924"/>
                      <a:pt x="0" y="948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624720" y="5459400"/>
              <a:ext cx="74520" cy="745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315280" y="5053680"/>
              <a:ext cx="369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86200" y="2122920"/>
              <a:ext cx="45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99200" y="2043360"/>
              <a:ext cx="2446200" cy="663120"/>
            </a:xfrm>
            <a:prstGeom prst="wedgeRoundRectCallout">
              <a:avLst>
                <a:gd name="adj1" fmla="val -25870"/>
                <a:gd name="adj2" fmla="val 186134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urvas de Iso-luc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L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 = c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6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59120" y="824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íderes e 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4360" y="1617840"/>
            <a:ext cx="3871800" cy="1200600"/>
            <a:chOff x="684360" y="1617840"/>
            <a:chExt cx="3871800" cy="1200600"/>
          </a:xfrm>
        </p:grpSpPr>
        <p:sp>
          <p:nvSpPr>
            <p:cNvPr id="565" name=""/>
            <p:cNvSpPr/>
            <p:nvPr/>
          </p:nvSpPr>
          <p:spPr>
            <a:xfrm>
              <a:off x="684360" y="1617840"/>
              <a:ext cx="38718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ritério do Líder (1 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Maximizar L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 = p(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+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) 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 - CT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(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27040" y="2377080"/>
              <a:ext cx="500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685080" y="3065400"/>
            <a:ext cx="3564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implifica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p(q) = a - bq            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T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(q) = 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 + CF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   [line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54120" y="4684680"/>
            <a:ext cx="41828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estas Condiçõ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= [ a - b(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+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) ] 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[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+ CF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= a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b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- CF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68920" y="1558440"/>
            <a:ext cx="29178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embrando que 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= r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(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L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dq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885000" y="2344680"/>
            <a:ext cx="3538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256880" y="2199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6010200" y="4013280"/>
            <a:ext cx="1950120" cy="1427040"/>
            <a:chOff x="6010200" y="4013280"/>
            <a:chExt cx="1950120" cy="1427040"/>
          </a:xfrm>
        </p:grpSpPr>
        <p:sp>
          <p:nvSpPr>
            <p:cNvPr id="573" name=""/>
            <p:cNvSpPr/>
            <p:nvPr/>
          </p:nvSpPr>
          <p:spPr>
            <a:xfrm>
              <a:off x="6991200" y="4013280"/>
              <a:ext cx="0" cy="495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6010200" y="4618440"/>
              <a:ext cx="1950120" cy="821880"/>
              <a:chOff x="6010200" y="4618440"/>
              <a:chExt cx="1950120" cy="821880"/>
            </a:xfrm>
          </p:grpSpPr>
          <p:sp>
            <p:nvSpPr>
              <p:cNvPr id="575" name=""/>
              <p:cNvSpPr/>
              <p:nvPr/>
            </p:nvSpPr>
            <p:spPr>
              <a:xfrm>
                <a:off x="6010200" y="4888440"/>
                <a:ext cx="618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Arial"/>
                  </a:rPr>
                  <a:t>q</a:t>
                </a:r>
                <a:r>
                  <a:rPr b="1" lang="en-US" sz="1600" spc="-1" strike="noStrike" baseline="-25000">
                    <a:solidFill>
                      <a:srgbClr val="008000"/>
                    </a:solidFill>
                    <a:latin typeface="Arial"/>
                  </a:rPr>
                  <a:t>1</a:t>
                </a:r>
                <a:r>
                  <a:rPr b="1" lang="en-US" sz="1600" spc="-1" strike="noStrike" baseline="30000">
                    <a:solidFill>
                      <a:srgbClr val="008000"/>
                    </a:solidFill>
                    <a:latin typeface="Arial"/>
                  </a:rPr>
                  <a:t>*</a:t>
                </a:r>
                <a:r>
                  <a:rPr b="1" lang="en-US" sz="1600" spc="-1" strike="noStrike">
                    <a:solidFill>
                      <a:srgbClr val="008000"/>
                    </a:solidFill>
                    <a:latin typeface="Arial"/>
                  </a:rPr>
                  <a:t> =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504120" y="4618440"/>
                <a:ext cx="1456200" cy="82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Arial"/>
                  </a:rPr>
                  <a:t>a +CV</a:t>
                </a:r>
                <a:r>
                  <a:rPr b="1" lang="en-US" sz="1600" spc="-1" strike="noStrike" baseline="-25000">
                    <a:solidFill>
                      <a:srgbClr val="008000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008000"/>
                    </a:solidFill>
                    <a:latin typeface="Arial"/>
                  </a:rPr>
                  <a:t> - 2CV</a:t>
                </a:r>
                <a:r>
                  <a:rPr b="1" lang="en-US" sz="1600" spc="-1" strike="noStrike" baseline="-25000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Arial"/>
                  </a:rPr>
                  <a:t>2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616440" y="5067360"/>
                <a:ext cx="12380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5783400" y="2762280"/>
            <a:ext cx="2889000" cy="1190880"/>
            <a:chOff x="5783400" y="2762280"/>
            <a:chExt cx="2889000" cy="1190880"/>
          </a:xfrm>
        </p:grpSpPr>
        <p:sp>
          <p:nvSpPr>
            <p:cNvPr id="579" name=""/>
            <p:cNvSpPr/>
            <p:nvPr/>
          </p:nvSpPr>
          <p:spPr>
            <a:xfrm>
              <a:off x="6991200" y="2762280"/>
              <a:ext cx="0" cy="495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"/>
            <p:cNvGrpSpPr/>
            <p:nvPr/>
          </p:nvGrpSpPr>
          <p:grpSpPr>
            <a:xfrm>
              <a:off x="5783400" y="3250800"/>
              <a:ext cx="2889000" cy="702360"/>
              <a:chOff x="5783400" y="3250800"/>
              <a:chExt cx="2889000" cy="702360"/>
            </a:xfrm>
          </p:grpSpPr>
          <p:sp>
            <p:nvSpPr>
              <p:cNvPr id="581" name=""/>
              <p:cNvSpPr/>
              <p:nvPr/>
            </p:nvSpPr>
            <p:spPr>
              <a:xfrm>
                <a:off x="5783400" y="3250800"/>
                <a:ext cx="99360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Arial"/>
                  </a:rPr>
                  <a:t>dL</a:t>
                </a:r>
                <a:r>
                  <a:rPr b="1" lang="en-US" sz="1600" spc="-1" strike="noStrike" baseline="-25000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Arial"/>
                  </a:rPr>
                  <a:t>dq</a:t>
                </a:r>
                <a:r>
                  <a:rPr b="1" lang="en-US" sz="1600" spc="-1" strike="noStrike" baseline="-25000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43520" y="3627360"/>
                <a:ext cx="3542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208920" y="3459240"/>
                <a:ext cx="246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8000"/>
                    </a:solidFill>
                    <a:latin typeface="Arial"/>
                  </a:rPr>
                  <a:t>=                        - CV</a:t>
                </a:r>
                <a:r>
                  <a:rPr b="1" lang="en-US" sz="1600" spc="-1" strike="noStrike" baseline="-25000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6284880" y="3281760"/>
                <a:ext cx="1622520" cy="665640"/>
                <a:chOff x="6284880" y="3281760"/>
                <a:chExt cx="1622520" cy="66564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284880" y="3281760"/>
                  <a:ext cx="1622520" cy="66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"/>
                    </a:rPr>
                    <a:t>a-2bq</a:t>
                  </a:r>
                  <a:r>
                    <a:rPr b="1" lang="en-US" sz="1600" spc="-1" strike="noStrike" baseline="-25000">
                      <a:solidFill>
                        <a:srgbClr val="008000"/>
                      </a:solidFill>
                      <a:latin typeface="Arial"/>
                    </a:rPr>
                    <a:t>1</a:t>
                  </a: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"/>
                    </a:rPr>
                    <a:t>+CV</a:t>
                  </a:r>
                  <a:r>
                    <a:rPr b="1" lang="en-US" sz="1600" spc="-1" strike="noStrike" baseline="-25000">
                      <a:solidFill>
                        <a:srgbClr val="008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8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527880" y="3638160"/>
                  <a:ext cx="116208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238720" y="2323800"/>
            <a:ext cx="0" cy="346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48280" y="5505480"/>
            <a:ext cx="352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45000" y="3868200"/>
            <a:ext cx="708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-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0" y="4210200"/>
            <a:ext cx="60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5224320" y="2871720"/>
            <a:ext cx="2394000" cy="2352600"/>
            <a:chOff x="5224320" y="2871720"/>
            <a:chExt cx="2394000" cy="2352600"/>
          </a:xfrm>
        </p:grpSpPr>
        <p:sp>
          <p:nvSpPr>
            <p:cNvPr id="596" name=""/>
            <p:cNvSpPr/>
            <p:nvPr/>
          </p:nvSpPr>
          <p:spPr>
            <a:xfrm>
              <a:off x="5238720" y="3295800"/>
              <a:ext cx="1284480" cy="1611000"/>
            </a:xfrm>
            <a:custGeom>
              <a:avLst/>
              <a:gdLst/>
              <a:ahLst/>
              <a:rect l="l" t="t" r="r" b="b"/>
              <a:pathLst>
                <a:path w="809" h="1015">
                  <a:moveTo>
                    <a:pt x="0" y="0"/>
                  </a:moveTo>
                  <a:cubicBezTo>
                    <a:pt x="156" y="78"/>
                    <a:pt x="809" y="515"/>
                    <a:pt x="736" y="742"/>
                  </a:cubicBezTo>
                  <a:cubicBezTo>
                    <a:pt x="663" y="969"/>
                    <a:pt x="192" y="991"/>
                    <a:pt x="0" y="1015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24320" y="2871720"/>
              <a:ext cx="2394000" cy="2352600"/>
            </a:xfrm>
            <a:custGeom>
              <a:avLst/>
              <a:gdLst/>
              <a:ahLst/>
              <a:rect l="l" t="t" r="r" b="b"/>
              <a:pathLst>
                <a:path w="1508" h="1482">
                  <a:moveTo>
                    <a:pt x="0" y="0"/>
                  </a:moveTo>
                  <a:cubicBezTo>
                    <a:pt x="257" y="132"/>
                    <a:pt x="1508" y="827"/>
                    <a:pt x="1363" y="1146"/>
                  </a:cubicBezTo>
                  <a:cubicBezTo>
                    <a:pt x="1218" y="1465"/>
                    <a:pt x="336" y="1472"/>
                    <a:pt x="18" y="1482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32240" y="3692520"/>
              <a:ext cx="663840" cy="914400"/>
            </a:xfrm>
            <a:custGeom>
              <a:avLst/>
              <a:gdLst/>
              <a:ahLst/>
              <a:rect l="l" t="t" r="r" b="b"/>
              <a:pathLst>
                <a:path w="791" h="948">
                  <a:moveTo>
                    <a:pt x="0" y="0"/>
                  </a:moveTo>
                  <a:cubicBezTo>
                    <a:pt x="156" y="78"/>
                    <a:pt x="791" y="434"/>
                    <a:pt x="745" y="670"/>
                  </a:cubicBezTo>
                  <a:cubicBezTo>
                    <a:pt x="699" y="906"/>
                    <a:pt x="192" y="924"/>
                    <a:pt x="0" y="948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8315280" y="5053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86200" y="2122920"/>
            <a:ext cx="459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68840" y="5582880"/>
            <a:ext cx="708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a-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96200" y="5924520"/>
            <a:ext cx="6094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95880" y="4381560"/>
            <a:ext cx="1575000" cy="1130400"/>
          </a:xfrm>
          <a:custGeom>
            <a:avLst/>
            <a:gdLst/>
            <a:ahLst/>
            <a:rect l="l" t="t" r="r" b="b"/>
            <a:pathLst>
              <a:path w="992" h="712">
                <a:moveTo>
                  <a:pt x="992" y="712"/>
                </a:moveTo>
                <a:cubicBezTo>
                  <a:pt x="915" y="555"/>
                  <a:pt x="520" y="0"/>
                  <a:pt x="264" y="80"/>
                </a:cubicBezTo>
                <a:cubicBezTo>
                  <a:pt x="8" y="160"/>
                  <a:pt x="48" y="488"/>
                  <a:pt x="0" y="71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54600" y="3147840"/>
            <a:ext cx="2335320" cy="2356200"/>
          </a:xfrm>
          <a:custGeom>
            <a:avLst/>
            <a:gdLst/>
            <a:ahLst/>
            <a:rect l="l" t="t" r="r" b="b"/>
            <a:pathLst>
              <a:path w="1471" h="1484">
                <a:moveTo>
                  <a:pt x="1471" y="1481"/>
                </a:moveTo>
                <a:cubicBezTo>
                  <a:pt x="1341" y="1223"/>
                  <a:pt x="668" y="0"/>
                  <a:pt x="348" y="142"/>
                </a:cubicBezTo>
                <a:cubicBezTo>
                  <a:pt x="28" y="284"/>
                  <a:pt x="13" y="1166"/>
                  <a:pt x="0" y="1484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5430000">
            <a:off x="6672600" y="4891320"/>
            <a:ext cx="436320" cy="762120"/>
          </a:xfrm>
          <a:custGeom>
            <a:avLst/>
            <a:gdLst/>
            <a:ahLst/>
            <a:rect l="l" t="t" r="r" b="b"/>
            <a:pathLst>
              <a:path w="791" h="948">
                <a:moveTo>
                  <a:pt x="0" y="0"/>
                </a:moveTo>
                <a:cubicBezTo>
                  <a:pt x="156" y="78"/>
                  <a:pt x="791" y="434"/>
                  <a:pt x="745" y="670"/>
                </a:cubicBezTo>
                <a:cubicBezTo>
                  <a:pt x="699" y="906"/>
                  <a:pt x="192" y="924"/>
                  <a:pt x="0" y="948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38840" y="5459400"/>
            <a:ext cx="7488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34040" y="4227480"/>
            <a:ext cx="284616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95880" y="4199040"/>
            <a:ext cx="74520" cy="74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94480" y="4444920"/>
            <a:ext cx="114120" cy="114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62680" y="2529720"/>
            <a:ext cx="2890800" cy="626760"/>
          </a:xfrm>
          <a:prstGeom prst="wedgeRoundRectCallout">
            <a:avLst>
              <a:gd name="adj1" fmla="val -25347"/>
              <a:gd name="adj2" fmla="val 252754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Ótimo de Stackelbe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m Líder 1 e Segui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59120" y="824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Líderes e 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1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704600" y="813600"/>
            <a:ext cx="576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stabelecimento Simultâneo de q</a:t>
            </a:r>
            <a:r>
              <a:rPr b="1" lang="pt-BR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e q</a:t>
            </a:r>
            <a:r>
              <a:rPr b="1" lang="pt-BR" sz="2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4111560"/>
            <a:ext cx="74520" cy="74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414440" y="2252160"/>
            <a:ext cx="0" cy="346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24000" y="5433840"/>
            <a:ext cx="3524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20720" y="3796920"/>
            <a:ext cx="708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-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47720" y="4138560"/>
            <a:ext cx="60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400040" y="2800440"/>
            <a:ext cx="2394000" cy="2352600"/>
            <a:chOff x="1400040" y="2800440"/>
            <a:chExt cx="2394000" cy="2352600"/>
          </a:xfrm>
        </p:grpSpPr>
        <p:sp>
          <p:nvSpPr>
            <p:cNvPr id="623" name=""/>
            <p:cNvSpPr/>
            <p:nvPr/>
          </p:nvSpPr>
          <p:spPr>
            <a:xfrm>
              <a:off x="1414440" y="3224520"/>
              <a:ext cx="1284480" cy="1611000"/>
            </a:xfrm>
            <a:custGeom>
              <a:avLst/>
              <a:gdLst/>
              <a:ahLst/>
              <a:rect l="l" t="t" r="r" b="b"/>
              <a:pathLst>
                <a:path w="809" h="1015">
                  <a:moveTo>
                    <a:pt x="0" y="0"/>
                  </a:moveTo>
                  <a:cubicBezTo>
                    <a:pt x="156" y="78"/>
                    <a:pt x="809" y="515"/>
                    <a:pt x="736" y="742"/>
                  </a:cubicBezTo>
                  <a:cubicBezTo>
                    <a:pt x="663" y="969"/>
                    <a:pt x="192" y="991"/>
                    <a:pt x="0" y="1015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400040" y="2800440"/>
              <a:ext cx="2394000" cy="2352600"/>
            </a:xfrm>
            <a:custGeom>
              <a:avLst/>
              <a:gdLst/>
              <a:ahLst/>
              <a:rect l="l" t="t" r="r" b="b"/>
              <a:pathLst>
                <a:path w="1508" h="1482">
                  <a:moveTo>
                    <a:pt x="0" y="0"/>
                  </a:moveTo>
                  <a:cubicBezTo>
                    <a:pt x="257" y="132"/>
                    <a:pt x="1508" y="827"/>
                    <a:pt x="1363" y="1146"/>
                  </a:cubicBezTo>
                  <a:cubicBezTo>
                    <a:pt x="1218" y="1465"/>
                    <a:pt x="336" y="1472"/>
                    <a:pt x="18" y="148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07960" y="3621240"/>
              <a:ext cx="663840" cy="914400"/>
            </a:xfrm>
            <a:custGeom>
              <a:avLst/>
              <a:gdLst/>
              <a:ahLst/>
              <a:rect l="l" t="t" r="r" b="b"/>
              <a:pathLst>
                <a:path w="791" h="948">
                  <a:moveTo>
                    <a:pt x="0" y="0"/>
                  </a:moveTo>
                  <a:cubicBezTo>
                    <a:pt x="156" y="78"/>
                    <a:pt x="791" y="434"/>
                    <a:pt x="745" y="670"/>
                  </a:cubicBezTo>
                  <a:cubicBezTo>
                    <a:pt x="699" y="906"/>
                    <a:pt x="192" y="924"/>
                    <a:pt x="0" y="94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1400040" y="4145040"/>
            <a:ext cx="2855880" cy="5191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491000" y="49820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61920" y="2051640"/>
            <a:ext cx="459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049480" y="2736360"/>
            <a:ext cx="1522440" cy="2690640"/>
            <a:chOff x="2049480" y="2736360"/>
            <a:chExt cx="1522440" cy="2690640"/>
          </a:xfrm>
        </p:grpSpPr>
        <p:sp>
          <p:nvSpPr>
            <p:cNvPr id="630" name=""/>
            <p:cNvSpPr/>
            <p:nvPr/>
          </p:nvSpPr>
          <p:spPr>
            <a:xfrm flipV="1">
              <a:off x="2049480" y="2756880"/>
              <a:ext cx="0" cy="267012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604960" y="2736360"/>
              <a:ext cx="0" cy="267012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3571920" y="2736360"/>
              <a:ext cx="0" cy="267012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 flipV="1">
            <a:off x="5254560" y="2266560"/>
            <a:ext cx="0" cy="346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64120" y="5448240"/>
            <a:ext cx="352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331120" y="49964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2040" y="2065680"/>
            <a:ext cx="459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85040" y="5525640"/>
            <a:ext cx="708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a-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12040" y="5867280"/>
            <a:ext cx="6094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11720" y="4324320"/>
            <a:ext cx="1575000" cy="1130400"/>
          </a:xfrm>
          <a:custGeom>
            <a:avLst/>
            <a:gdLst/>
            <a:ahLst/>
            <a:rect l="l" t="t" r="r" b="b"/>
            <a:pathLst>
              <a:path w="992" h="712">
                <a:moveTo>
                  <a:pt x="992" y="712"/>
                </a:moveTo>
                <a:cubicBezTo>
                  <a:pt x="915" y="555"/>
                  <a:pt x="520" y="0"/>
                  <a:pt x="264" y="80"/>
                </a:cubicBezTo>
                <a:cubicBezTo>
                  <a:pt x="8" y="160"/>
                  <a:pt x="48" y="488"/>
                  <a:pt x="0" y="712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70440" y="3090960"/>
            <a:ext cx="2335320" cy="2355840"/>
          </a:xfrm>
          <a:custGeom>
            <a:avLst/>
            <a:gdLst/>
            <a:ahLst/>
            <a:rect l="l" t="t" r="r" b="b"/>
            <a:pathLst>
              <a:path w="1471" h="1484">
                <a:moveTo>
                  <a:pt x="1471" y="1481"/>
                </a:moveTo>
                <a:cubicBezTo>
                  <a:pt x="1341" y="1223"/>
                  <a:pt x="668" y="0"/>
                  <a:pt x="348" y="142"/>
                </a:cubicBezTo>
                <a:cubicBezTo>
                  <a:pt x="28" y="284"/>
                  <a:pt x="13" y="1166"/>
                  <a:pt x="0" y="1484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rot="5430000">
            <a:off x="6645600" y="4834080"/>
            <a:ext cx="436320" cy="762120"/>
          </a:xfrm>
          <a:custGeom>
            <a:avLst/>
            <a:gdLst/>
            <a:ahLst/>
            <a:rect l="l" t="t" r="r" b="b"/>
            <a:pathLst>
              <a:path w="791" h="948">
                <a:moveTo>
                  <a:pt x="0" y="0"/>
                </a:moveTo>
                <a:cubicBezTo>
                  <a:pt x="156" y="78"/>
                  <a:pt x="791" y="434"/>
                  <a:pt x="745" y="670"/>
                </a:cubicBezTo>
                <a:cubicBezTo>
                  <a:pt x="699" y="906"/>
                  <a:pt x="192" y="924"/>
                  <a:pt x="0" y="94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54680" y="5402160"/>
            <a:ext cx="74880" cy="74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68960" y="3305160"/>
            <a:ext cx="2841480" cy="0"/>
          </a:xfrm>
          <a:prstGeom prst="line">
            <a:avLst/>
          </a:prstGeom>
          <a:ln w="1260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62480" y="4424400"/>
            <a:ext cx="2841840" cy="0"/>
          </a:xfrm>
          <a:prstGeom prst="line">
            <a:avLst/>
          </a:prstGeom>
          <a:ln w="1260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70400" y="5024520"/>
            <a:ext cx="2841840" cy="0"/>
          </a:xfrm>
          <a:prstGeom prst="line">
            <a:avLst/>
          </a:prstGeom>
          <a:ln w="1260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306840" y="2814120"/>
            <a:ext cx="476280" cy="261324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64840" y="1637640"/>
            <a:ext cx="2202840" cy="626760"/>
          </a:xfrm>
          <a:prstGeom prst="wedgeRoundRectCallout">
            <a:avLst>
              <a:gd name="adj1" fmla="val -22078"/>
              <a:gd name="adj2" fmla="val 396555"/>
              <a:gd name="adj3" fmla="val 16667"/>
            </a:avLst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urva de Re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 2 em relação 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11080" y="1631160"/>
            <a:ext cx="2202840" cy="626760"/>
          </a:xfrm>
          <a:prstGeom prst="wedgeRoundRectCallout">
            <a:avLst>
              <a:gd name="adj1" fmla="val -43694"/>
              <a:gd name="adj2" fmla="val 177782"/>
              <a:gd name="adj3" fmla="val 16667"/>
            </a:avLst>
          </a:prstGeom>
          <a:solidFill>
            <a:srgbClr val="ffffcc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Curva de Re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ff"/>
                </a:solidFill>
                <a:latin typeface="Arial"/>
              </a:rPr>
              <a:t>de 1 em relação 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04600" y="813600"/>
            <a:ext cx="576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stabelecimento Simultâneo de q</a:t>
            </a:r>
            <a:r>
              <a:rPr b="1" lang="pt-BR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e q</a:t>
            </a:r>
            <a:r>
              <a:rPr b="1" lang="pt-BR" sz="24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76440" y="4010040"/>
            <a:ext cx="74880" cy="74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3419640" y="2150640"/>
            <a:ext cx="0" cy="346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28840" y="5316480"/>
            <a:ext cx="352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25560" y="3695400"/>
            <a:ext cx="708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-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52560" y="4037040"/>
            <a:ext cx="6098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405240" y="2698920"/>
            <a:ext cx="2394000" cy="2352600"/>
            <a:chOff x="3405240" y="2698920"/>
            <a:chExt cx="2394000" cy="2352600"/>
          </a:xfrm>
        </p:grpSpPr>
        <p:sp>
          <p:nvSpPr>
            <p:cNvPr id="660" name=""/>
            <p:cNvSpPr/>
            <p:nvPr/>
          </p:nvSpPr>
          <p:spPr>
            <a:xfrm>
              <a:off x="3419640" y="3123000"/>
              <a:ext cx="1284480" cy="1611000"/>
            </a:xfrm>
            <a:custGeom>
              <a:avLst/>
              <a:gdLst/>
              <a:ahLst/>
              <a:rect l="l" t="t" r="r" b="b"/>
              <a:pathLst>
                <a:path w="809" h="1015">
                  <a:moveTo>
                    <a:pt x="0" y="0"/>
                  </a:moveTo>
                  <a:cubicBezTo>
                    <a:pt x="156" y="78"/>
                    <a:pt x="809" y="515"/>
                    <a:pt x="736" y="742"/>
                  </a:cubicBezTo>
                  <a:cubicBezTo>
                    <a:pt x="663" y="969"/>
                    <a:pt x="192" y="991"/>
                    <a:pt x="0" y="1015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05240" y="2698920"/>
              <a:ext cx="2394000" cy="2352600"/>
            </a:xfrm>
            <a:custGeom>
              <a:avLst/>
              <a:gdLst/>
              <a:ahLst/>
              <a:rect l="l" t="t" r="r" b="b"/>
              <a:pathLst>
                <a:path w="1508" h="1482">
                  <a:moveTo>
                    <a:pt x="0" y="0"/>
                  </a:moveTo>
                  <a:cubicBezTo>
                    <a:pt x="257" y="132"/>
                    <a:pt x="1508" y="827"/>
                    <a:pt x="1363" y="1146"/>
                  </a:cubicBezTo>
                  <a:cubicBezTo>
                    <a:pt x="1218" y="1465"/>
                    <a:pt x="336" y="1472"/>
                    <a:pt x="18" y="1482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13160" y="3519720"/>
              <a:ext cx="663840" cy="914400"/>
            </a:xfrm>
            <a:custGeom>
              <a:avLst/>
              <a:gdLst/>
              <a:ahLst/>
              <a:rect l="l" t="t" r="r" b="b"/>
              <a:pathLst>
                <a:path w="791" h="948">
                  <a:moveTo>
                    <a:pt x="0" y="0"/>
                  </a:moveTo>
                  <a:cubicBezTo>
                    <a:pt x="156" y="78"/>
                    <a:pt x="791" y="434"/>
                    <a:pt x="745" y="670"/>
                  </a:cubicBezTo>
                  <a:cubicBezTo>
                    <a:pt x="699" y="906"/>
                    <a:pt x="192" y="924"/>
                    <a:pt x="0" y="948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3405240" y="4043520"/>
            <a:ext cx="2855880" cy="519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96200" y="48805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67120" y="1950120"/>
            <a:ext cx="45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054320" y="2634840"/>
            <a:ext cx="1522440" cy="2690640"/>
            <a:chOff x="4054320" y="2634840"/>
            <a:chExt cx="1522440" cy="2690640"/>
          </a:xfrm>
        </p:grpSpPr>
        <p:sp>
          <p:nvSpPr>
            <p:cNvPr id="667" name=""/>
            <p:cNvSpPr/>
            <p:nvPr/>
          </p:nvSpPr>
          <p:spPr>
            <a:xfrm flipV="1">
              <a:off x="4054320" y="2655360"/>
              <a:ext cx="0" cy="267012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609800" y="2634840"/>
              <a:ext cx="0" cy="267012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576760" y="2634840"/>
              <a:ext cx="0" cy="2670120"/>
            </a:xfrm>
            <a:prstGeom prst="line">
              <a:avLst/>
            </a:prstGeom>
            <a:ln w="1260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4651200" y="5395680"/>
            <a:ext cx="708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a-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678200" y="5737320"/>
            <a:ext cx="6098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78240" y="4194000"/>
            <a:ext cx="1575000" cy="1130400"/>
          </a:xfrm>
          <a:custGeom>
            <a:avLst/>
            <a:gdLst/>
            <a:ahLst/>
            <a:rect l="l" t="t" r="r" b="b"/>
            <a:pathLst>
              <a:path w="992" h="712">
                <a:moveTo>
                  <a:pt x="992" y="712"/>
                </a:moveTo>
                <a:cubicBezTo>
                  <a:pt x="915" y="555"/>
                  <a:pt x="520" y="0"/>
                  <a:pt x="264" y="80"/>
                </a:cubicBezTo>
                <a:cubicBezTo>
                  <a:pt x="8" y="160"/>
                  <a:pt x="48" y="488"/>
                  <a:pt x="0" y="712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36960" y="2960640"/>
            <a:ext cx="2335320" cy="2355840"/>
          </a:xfrm>
          <a:custGeom>
            <a:avLst/>
            <a:gdLst/>
            <a:ahLst/>
            <a:rect l="l" t="t" r="r" b="b"/>
            <a:pathLst>
              <a:path w="1471" h="1484">
                <a:moveTo>
                  <a:pt x="1471" y="1481"/>
                </a:moveTo>
                <a:cubicBezTo>
                  <a:pt x="1341" y="1223"/>
                  <a:pt x="668" y="0"/>
                  <a:pt x="348" y="142"/>
                </a:cubicBezTo>
                <a:cubicBezTo>
                  <a:pt x="28" y="284"/>
                  <a:pt x="13" y="1166"/>
                  <a:pt x="0" y="1484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5430000">
            <a:off x="4812120" y="4703760"/>
            <a:ext cx="436680" cy="762120"/>
          </a:xfrm>
          <a:custGeom>
            <a:avLst/>
            <a:gdLst/>
            <a:ahLst/>
            <a:rect l="l" t="t" r="r" b="b"/>
            <a:pathLst>
              <a:path w="791" h="948">
                <a:moveTo>
                  <a:pt x="0" y="0"/>
                </a:moveTo>
                <a:cubicBezTo>
                  <a:pt x="156" y="78"/>
                  <a:pt x="791" y="434"/>
                  <a:pt x="745" y="670"/>
                </a:cubicBezTo>
                <a:cubicBezTo>
                  <a:pt x="699" y="906"/>
                  <a:pt x="192" y="924"/>
                  <a:pt x="0" y="948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21200" y="527220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35480" y="3174840"/>
            <a:ext cx="2841480" cy="0"/>
          </a:xfrm>
          <a:prstGeom prst="line">
            <a:avLst/>
          </a:prstGeom>
          <a:ln w="1260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29000" y="4294080"/>
            <a:ext cx="2841480" cy="0"/>
          </a:xfrm>
          <a:prstGeom prst="line">
            <a:avLst/>
          </a:prstGeom>
          <a:ln w="1260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36920" y="4894200"/>
            <a:ext cx="2841480" cy="0"/>
          </a:xfrm>
          <a:prstGeom prst="line">
            <a:avLst/>
          </a:prstGeom>
          <a:ln w="12600">
            <a:solidFill>
              <a:srgbClr val="99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473360" y="2698920"/>
            <a:ext cx="476280" cy="261288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02320" y="4235400"/>
            <a:ext cx="114120" cy="114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06880" y="2238840"/>
            <a:ext cx="2157480" cy="363960"/>
          </a:xfrm>
          <a:prstGeom prst="wedgeRoundRectCallout">
            <a:avLst>
              <a:gd name="adj1" fmla="val -59773"/>
              <a:gd name="adj2" fmla="val 498912"/>
              <a:gd name="adj3" fmla="val 16667"/>
            </a:avLst>
          </a:prstGeom>
          <a:solidFill>
            <a:srgbClr val="ffffcc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Ótimo de Cour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429000" y="4044960"/>
            <a:ext cx="1536840" cy="1263600"/>
          </a:xfrm>
          <a:custGeom>
            <a:avLst/>
            <a:gdLst/>
            <a:ahLst/>
            <a:rect l="l" t="t" r="r" b="b"/>
            <a:pathLst>
              <a:path w="968" h="796">
                <a:moveTo>
                  <a:pt x="0" y="0"/>
                </a:moveTo>
                <a:cubicBezTo>
                  <a:pt x="788" y="64"/>
                  <a:pt x="904" y="480"/>
                  <a:pt x="968" y="79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67640" y="838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ar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376440" y="4010040"/>
            <a:ext cx="74880" cy="74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419640" y="2150640"/>
            <a:ext cx="0" cy="346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28840" y="5316480"/>
            <a:ext cx="352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25560" y="3695400"/>
            <a:ext cx="708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-CV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52560" y="4037040"/>
            <a:ext cx="6098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405240" y="2698920"/>
            <a:ext cx="2394000" cy="2352600"/>
            <a:chOff x="3405240" y="2698920"/>
            <a:chExt cx="2394000" cy="2352600"/>
          </a:xfrm>
        </p:grpSpPr>
        <p:sp>
          <p:nvSpPr>
            <p:cNvPr id="694" name=""/>
            <p:cNvSpPr/>
            <p:nvPr/>
          </p:nvSpPr>
          <p:spPr>
            <a:xfrm>
              <a:off x="3419640" y="3123000"/>
              <a:ext cx="1284480" cy="1611000"/>
            </a:xfrm>
            <a:custGeom>
              <a:avLst/>
              <a:gdLst/>
              <a:ahLst/>
              <a:rect l="l" t="t" r="r" b="b"/>
              <a:pathLst>
                <a:path w="809" h="1015">
                  <a:moveTo>
                    <a:pt x="0" y="0"/>
                  </a:moveTo>
                  <a:cubicBezTo>
                    <a:pt x="156" y="78"/>
                    <a:pt x="809" y="515"/>
                    <a:pt x="736" y="742"/>
                  </a:cubicBezTo>
                  <a:cubicBezTo>
                    <a:pt x="663" y="969"/>
                    <a:pt x="192" y="991"/>
                    <a:pt x="0" y="1015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05240" y="2698920"/>
              <a:ext cx="2394000" cy="2352600"/>
            </a:xfrm>
            <a:custGeom>
              <a:avLst/>
              <a:gdLst/>
              <a:ahLst/>
              <a:rect l="l" t="t" r="r" b="b"/>
              <a:pathLst>
                <a:path w="1508" h="1482">
                  <a:moveTo>
                    <a:pt x="0" y="0"/>
                  </a:moveTo>
                  <a:cubicBezTo>
                    <a:pt x="257" y="132"/>
                    <a:pt x="1508" y="827"/>
                    <a:pt x="1363" y="1146"/>
                  </a:cubicBezTo>
                  <a:cubicBezTo>
                    <a:pt x="1218" y="1465"/>
                    <a:pt x="336" y="1472"/>
                    <a:pt x="18" y="1482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13160" y="3519720"/>
              <a:ext cx="663840" cy="914400"/>
            </a:xfrm>
            <a:custGeom>
              <a:avLst/>
              <a:gdLst/>
              <a:ahLst/>
              <a:rect l="l" t="t" r="r" b="b"/>
              <a:pathLst>
                <a:path w="791" h="948">
                  <a:moveTo>
                    <a:pt x="0" y="0"/>
                  </a:moveTo>
                  <a:cubicBezTo>
                    <a:pt x="156" y="78"/>
                    <a:pt x="791" y="434"/>
                    <a:pt x="745" y="670"/>
                  </a:cubicBezTo>
                  <a:cubicBezTo>
                    <a:pt x="699" y="906"/>
                    <a:pt x="192" y="924"/>
                    <a:pt x="0" y="948"/>
                  </a:cubicBezTo>
                </a:path>
              </a:pathLst>
            </a:custGeom>
            <a:noFill/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6496200" y="48805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67120" y="1950120"/>
            <a:ext cx="45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51200" y="5395680"/>
            <a:ext cx="70812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a-CV</a:t>
            </a:r>
            <a:r>
              <a:rPr b="1" lang="en-US" sz="16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678200" y="5737320"/>
            <a:ext cx="6098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78240" y="4194000"/>
            <a:ext cx="1575000" cy="1130400"/>
          </a:xfrm>
          <a:custGeom>
            <a:avLst/>
            <a:gdLst/>
            <a:ahLst/>
            <a:rect l="l" t="t" r="r" b="b"/>
            <a:pathLst>
              <a:path w="992" h="712">
                <a:moveTo>
                  <a:pt x="992" y="712"/>
                </a:moveTo>
                <a:cubicBezTo>
                  <a:pt x="915" y="555"/>
                  <a:pt x="520" y="0"/>
                  <a:pt x="264" y="80"/>
                </a:cubicBezTo>
                <a:cubicBezTo>
                  <a:pt x="8" y="160"/>
                  <a:pt x="48" y="488"/>
                  <a:pt x="0" y="712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49560" y="2960640"/>
            <a:ext cx="2322720" cy="2355840"/>
          </a:xfrm>
          <a:custGeom>
            <a:avLst/>
            <a:gdLst/>
            <a:ahLst/>
            <a:rect l="l" t="t" r="r" b="b"/>
            <a:pathLst>
              <a:path w="1471" h="1484">
                <a:moveTo>
                  <a:pt x="1471" y="1481"/>
                </a:moveTo>
                <a:cubicBezTo>
                  <a:pt x="1341" y="1223"/>
                  <a:pt x="668" y="0"/>
                  <a:pt x="348" y="142"/>
                </a:cubicBezTo>
                <a:cubicBezTo>
                  <a:pt x="28" y="284"/>
                  <a:pt x="13" y="1166"/>
                  <a:pt x="0" y="1484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rot="5430000">
            <a:off x="4819320" y="4711320"/>
            <a:ext cx="419040" cy="761760"/>
          </a:xfrm>
          <a:custGeom>
            <a:avLst/>
            <a:gdLst/>
            <a:ahLst/>
            <a:rect l="l" t="t" r="r" b="b"/>
            <a:pathLst>
              <a:path w="791" h="948">
                <a:moveTo>
                  <a:pt x="0" y="0"/>
                </a:moveTo>
                <a:cubicBezTo>
                  <a:pt x="156" y="78"/>
                  <a:pt x="791" y="434"/>
                  <a:pt x="745" y="670"/>
                </a:cubicBezTo>
                <a:cubicBezTo>
                  <a:pt x="699" y="906"/>
                  <a:pt x="192" y="924"/>
                  <a:pt x="0" y="948"/>
                </a:cubicBezTo>
              </a:path>
            </a:pathLst>
          </a:custGeom>
          <a:noFill/>
          <a:ln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21200" y="5272200"/>
            <a:ext cx="74520" cy="745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78360" y="4114800"/>
            <a:ext cx="114120" cy="114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54560" y="2953440"/>
            <a:ext cx="2386080" cy="363960"/>
          </a:xfrm>
          <a:prstGeom prst="wedgeRoundRectCallout">
            <a:avLst>
              <a:gd name="adj1" fmla="val -70814"/>
              <a:gd name="adj2" fmla="val 405134"/>
              <a:gd name="adj3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junto de Par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4362480"/>
            <a:ext cx="114480" cy="114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97360" y="4857840"/>
            <a:ext cx="114480" cy="114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905360" y="5257800"/>
            <a:ext cx="114480" cy="114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5920" y="3994200"/>
            <a:ext cx="114480" cy="114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240" y="1276200"/>
            <a:ext cx="7261200" cy="47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ompreender as diferenças entre as Concorrências Perfeita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Imperfeita, bem como avaliar os impactos result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aracterizar os conceit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Oligopólio e sua caracter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alizão (Cart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Modelo de Demanda "quebrad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Teoria de Jo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quilíbrio de Stackel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quilíbrio de Cour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njunto de Par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408480" y="2031840"/>
            <a:ext cx="264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mpetição Perfe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uitas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duto Homogê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ntrada Li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2200" y="3274920"/>
            <a:ext cx="32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Competição Monopol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uitas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roduto Diferenc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ntrada Liv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27120" y="3311640"/>
            <a:ext cx="24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Olig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oucas Fi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m pro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ntrada Dificult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4800" y="4621320"/>
            <a:ext cx="17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Monopól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ma 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Um pro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em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640560" y="481824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6620040" y="216360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10800000">
            <a:off x="1467000" y="217656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5400000">
            <a:off x="1496880" y="481320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42440" y="172836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3040" y="1630440"/>
            <a:ext cx="157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Diferenci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de Prod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82400" y="5618160"/>
            <a:ext cx="157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Diferenci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de Prod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780600" y="5730480"/>
            <a:ext cx="205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Lucida Casu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192760" y="80064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ompetição Perfeita X Imperfe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2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1162080" y="1828800"/>
            <a:ext cx="726120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Recapitul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Oligopólio e sua caracter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alizão (Cart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Modelo de Demanda "quebrad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Teoria de Jo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quilíbrio de Stackel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Equilíbrio de Cour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njunto de Par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87360" y="30740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58960" y="2208240"/>
            <a:ext cx="73630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rélio Buarque de Holanda Ferreira, Novo Dicionário da Lín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uesa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,  Editora Nova Fronteira, 198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ligopólio [Do grego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oligós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] - "Situação de mercado na qual, 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limitado número de produtores, cada um é bastante forte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fluenciar o mercado, mas não o  é para desprezar a reação 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mpetidores.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8960" y="2208240"/>
            <a:ext cx="736308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rélio Buarque de Holanda Ferreira, Novo Dicionário da Lín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uesa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,  Editora Nova Fronteira, 198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Oligopólio [Do grego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oligós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] - "Situação de mercado na qual, 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imitado número de produtores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, cada um é bastante forte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fluenciar o mercado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, mas não o  é para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sprezar a reação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mpetidores.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371760" y="2629080"/>
            <a:ext cx="2381400" cy="102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61000" y="1751040"/>
            <a:ext cx="671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sidere um mercado co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, ... , f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firmas, ordenados p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ticipação no mercado, denotado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(f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54360" y="817560"/>
            <a:ext cx="5584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Índice de Herfindahl-Hirschman (H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481560" y="2711520"/>
                <a:ext cx="21747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H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p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189800" y="3770280"/>
            <a:ext cx="253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S: HHI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(0,10.00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88720" y="4456080"/>
            <a:ext cx="60602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m(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0.01%, m(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0.01%, ... , m(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000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0.0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HI = 0.01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0.01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... + 0.01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cinqüenta vez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0.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71760" y="2685960"/>
            <a:ext cx="230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371760" y="2629080"/>
            <a:ext cx="2381400" cy="102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61000" y="1751040"/>
            <a:ext cx="671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sidere um mercado co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, ... , f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firmas, ordenados p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ticipação no mercado, denotado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(f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54360" y="817560"/>
            <a:ext cx="5584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Índice de Herfindahl-Hirschman (H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81560" y="2711520"/>
                <a:ext cx="21747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H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p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189800" y="3770280"/>
            <a:ext cx="253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S: HHI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(0,10.00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66760" y="4456080"/>
            <a:ext cx="50058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m(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100%, m(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0%, m(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0%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HI = 10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1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71760" y="2685960"/>
            <a:ext cx="230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71760" y="2629080"/>
            <a:ext cx="2381400" cy="102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61000" y="1751040"/>
            <a:ext cx="671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sidere um mercado com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, ... , f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firmas, ordenados p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ticipação no mercado, denotado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(f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4360" y="817560"/>
            <a:ext cx="5584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Índice de Herfindahl-Hirschman (H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481560" y="2711520"/>
                <a:ext cx="21747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H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p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189800" y="3770280"/>
            <a:ext cx="253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S: HHI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(0,10.00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6760" y="4456080"/>
            <a:ext cx="513216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emplo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m(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50%, m(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30%, m(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=20%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HI = 5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3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2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= 3.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71760" y="2685960"/>
            <a:ext cx="230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04120" y="5808600"/>
            <a:ext cx="66484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pto de Justiça, EUA: Investigação a partir de HHI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89520" y="78624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Curva de Demanda no Oligopó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66880" y="2531880"/>
            <a:ext cx="0" cy="2909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68440" y="5114160"/>
            <a:ext cx="3446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8120" y="2210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25880" y="4892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085840" y="3325680"/>
            <a:ext cx="1859040" cy="1401840"/>
            <a:chOff x="2085840" y="3325680"/>
            <a:chExt cx="1859040" cy="1401840"/>
          </a:xfrm>
        </p:grpSpPr>
        <p:sp>
          <p:nvSpPr>
            <p:cNvPr id="110" name=""/>
            <p:cNvSpPr/>
            <p:nvPr/>
          </p:nvSpPr>
          <p:spPr>
            <a:xfrm>
              <a:off x="2085840" y="3325680"/>
              <a:ext cx="1570320" cy="381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39960" y="3690720"/>
              <a:ext cx="304920" cy="1036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1655280" y="3705120"/>
            <a:ext cx="1986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25920" y="3705120"/>
            <a:ext cx="0" cy="149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32240" y="5185800"/>
            <a:ext cx="122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0880" y="3471480"/>
            <a:ext cx="1078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Casual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58120" y="451080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Demanda vista por um dos Oligopo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45000" y="1962000"/>
            <a:ext cx="4322520" cy="1362240"/>
          </a:xfrm>
          <a:prstGeom prst="wedgeRoundRectCallout">
            <a:avLst>
              <a:gd name="adj1" fmla="val -71263"/>
              <a:gd name="adj2" fmla="val 61189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esmo que um dos Oligopo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eleve o preço, os demais continu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om q</a:t>
            </a:r>
            <a:r>
              <a:rPr b="1" lang="en-US" sz="1600" spc="-1" strike="noStrike" baseline="-25000">
                <a:solidFill>
                  <a:srgbClr val="ff3300"/>
                </a:solidFill>
                <a:latin typeface="Arial"/>
              </a:rPr>
              <a:t>estratégico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. Os consum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ixam de comprar deste Oligopoli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51400" y="3639960"/>
            <a:ext cx="129960" cy="101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5-03T14:19:10Z</cp:lastPrinted>
  <dcterms:modified xsi:type="dcterms:W3CDTF">2003-09-02T23:09:44Z</dcterms:modified>
  <cp:revision>149</cp:revision>
  <dc:subject/>
  <dc:title>Custos</dc:title>
</cp:coreProperties>
</file>