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23.wmf" ContentType="image/x-wmf"/>
  <Override PartName="/ppt/media/image34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wmf" ContentType="image/x-wmf"/>
  <Override PartName="/ppt/media/image15.jpeg" ContentType="image/jpeg"/>
  <Override PartName="/ppt/media/image1.png" ContentType="image/png"/>
  <Override PartName="/ppt/media/image14.jpeg" ContentType="image/jpeg"/>
  <Override PartName="/ppt/media/image16.wmf" ContentType="image/x-wmf"/>
  <Override PartName="/ppt/media/image17.jpeg" ContentType="image/jpe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3CD-9787-445D-8D70-A77EA83F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C66-CBE9-464D-80AA-73466C18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EBD-E96C-40D8-94E4-6F839707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DD8-D35B-477A-9700-B24C17E6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B9E-76B0-4569-8E24-F46A995A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8CE-4F82-430B-BBE5-E918F1A8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E46-0255-449B-A89C-7B19D4F8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910-502D-4BAC-A90A-49ACB047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CE4-EAC5-42B5-8925-6B969FA0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3CC-4F9A-4C2D-8DD3-40FB3BD3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C19-FF7A-48AC-AE8D-D494302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536-294A-4B8F-8668-48BB3345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5F89-7E98-4788-8B00-8B71352C9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3136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is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IS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ALISA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48960" y="34624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imização de Cartei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27320" y="122076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oria de Markow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8160" y="1946160"/>
            <a:ext cx="691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rkowitz, H. - Portofolio Selection.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Journal of Financ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7:77-91, 195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151080" y="5762520"/>
                <a:ext cx="290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4533840" y="4495680"/>
            <a:ext cx="2303640" cy="1105200"/>
            <a:chOff x="4533840" y="4495680"/>
            <a:chExt cx="2303640" cy="11052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729320" y="4695840"/>
                  <a:ext cx="210816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4533840" y="4495680"/>
              <a:ext cx="0" cy="1105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5168880" y="5149800"/>
                  <a:ext cx="9684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∈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0,1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8" name="mertonn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61960" y="1298520"/>
            <a:ext cx="83808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154160" y="2638440"/>
            <a:ext cx="7130880" cy="1733400"/>
            <a:chOff x="1154160" y="2638440"/>
            <a:chExt cx="7130880" cy="1733400"/>
          </a:xfrm>
        </p:grpSpPr>
        <p:sp>
          <p:nvSpPr>
            <p:cNvPr id="150" name=""/>
            <p:cNvSpPr/>
            <p:nvPr/>
          </p:nvSpPr>
          <p:spPr>
            <a:xfrm>
              <a:off x="1889280" y="29368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0320" y="2638440"/>
              <a:ext cx="6984720" cy="17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tivo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eço(t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E[Preço(t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]            E[r]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      Volatilidade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5160960" y="3016080"/>
                  <a:ext cx="14032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336760" y="3073320"/>
                  <a:ext cx="6606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892680" y="3054240"/>
                  <a:ext cx="6778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5176800" y="3683160"/>
                  <a:ext cx="1370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344680" y="3740040"/>
                  <a:ext cx="64476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3902040" y="3720960"/>
                  <a:ext cx="6588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7321680" y="3054240"/>
                  <a:ext cx="3427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311960" y="3701880"/>
                  <a:ext cx="322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1154160" y="2987640"/>
              <a:ext cx="7101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3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63760" y="1752480"/>
                <a:ext cx="6369120" cy="294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523880" y="5214960"/>
                <a:ext cx="49975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139160" y="4098960"/>
            <a:ext cx="739440" cy="620640"/>
          </a:xfrm>
          <a:custGeom>
            <a:avLst/>
            <a:gdLst/>
            <a:ahLst/>
            <a:rect l="l" t="t" r="r" b="b"/>
            <a:pathLst>
              <a:path w="466" h="391">
                <a:moveTo>
                  <a:pt x="466" y="0"/>
                </a:moveTo>
                <a:cubicBezTo>
                  <a:pt x="183" y="82"/>
                  <a:pt x="36" y="193"/>
                  <a:pt x="21" y="241"/>
                </a:cubicBezTo>
                <a:cubicBezTo>
                  <a:pt x="6" y="289"/>
                  <a:pt x="0" y="358"/>
                  <a:pt x="93" y="391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881520" y="4113360"/>
            <a:ext cx="1255680" cy="3744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1520" y="4487760"/>
            <a:ext cx="649080" cy="246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573200" y="4070520"/>
            <a:ext cx="606600" cy="620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933480" y="363852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0280" y="539100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33240" y="390996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33240" y="4529160"/>
                <a:ext cx="235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006640" y="5435640"/>
                <a:ext cx="342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387440" y="5425920"/>
                <a:ext cx="322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3480" y="407664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81240" y="4076640"/>
            <a:ext cx="0" cy="131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33480" y="4695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81120" y="469584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401940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4520" y="4638600"/>
            <a:ext cx="114120" cy="114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4960" y="38228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(x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20840" y="475452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 (x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95560" y="1295280"/>
            <a:ext cx="4895640" cy="1238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730680" y="1774800"/>
                <a:ext cx="1866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324160" y="2149560"/>
                <a:ext cx="44686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3320280" y="13510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teira = (1-x) A+x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428840" y="3111480"/>
                <a:ext cx="774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281480" y="3092400"/>
                <a:ext cx="936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989760" y="3073320"/>
                <a:ext cx="8175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 flipV="1">
            <a:off x="3884760" y="36604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51200" y="54133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584520" y="393228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584520" y="4551480"/>
                <a:ext cx="235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884760" y="4098960"/>
            <a:ext cx="1238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32520" y="4098960"/>
            <a:ext cx="0" cy="131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4760" y="471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2400" y="471816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65560" y="4041720"/>
            <a:ext cx="11448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65800" y="4660920"/>
            <a:ext cx="114120" cy="11412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94080" y="384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13080" y="4730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656400" y="36604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23200" y="54133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56520" y="3932280"/>
                <a:ext cx="2538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356520" y="4551480"/>
                <a:ext cx="23472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6656400" y="409896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04160" y="4098960"/>
            <a:ext cx="0" cy="131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6400" y="471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04040" y="471816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37560" y="404172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7440" y="4660920"/>
            <a:ext cx="114120" cy="11412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66080" y="384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85080" y="4730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752560" y="5143680"/>
                <a:ext cx="22248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90480" y="351324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702400" y="5122800"/>
                <a:ext cx="223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41760" y="3492360"/>
                <a:ext cx="1555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443800" y="5108400"/>
                <a:ext cx="22392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83160" y="3478320"/>
                <a:ext cx="15588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0760" y="5457960"/>
                <a:ext cx="342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381560" y="5448240"/>
                <a:ext cx="322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772400" y="5443560"/>
                <a:ext cx="34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153200" y="5433840"/>
                <a:ext cx="322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mlabpoto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639160" y="111924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lusão de Ativos sem R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79840" y="3697200"/>
            <a:ext cx="0" cy="1104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57960" y="4294080"/>
                <a:ext cx="968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,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5320" y="4919760"/>
                <a:ext cx="186696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486160" y="5335560"/>
                <a:ext cx="41511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717080" y="386712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teira = (1-x) A+x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303720" y="2182680"/>
            <a:ext cx="3936960" cy="1347840"/>
            <a:chOff x="3303720" y="2182680"/>
            <a:chExt cx="3936960" cy="1347840"/>
          </a:xfrm>
        </p:grpSpPr>
        <p:sp>
          <p:nvSpPr>
            <p:cNvPr id="242" name=""/>
            <p:cNvSpPr/>
            <p:nvPr/>
          </p:nvSpPr>
          <p:spPr>
            <a:xfrm>
              <a:off x="3892680" y="24811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03720" y="2182680"/>
              <a:ext cx="393696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tivo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[r]     Volatilidade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5305320" y="2617560"/>
                  <a:ext cx="34308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4392720" y="2700360"/>
                  <a:ext cx="24264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4383000" y="3176280"/>
                  <a:ext cx="223920" cy="3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5285160" y="3162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5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711600" y="1450800"/>
                <a:ext cx="1866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71800" y="1792440"/>
                <a:ext cx="13860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971800" y="337176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955960" y="4005360"/>
                <a:ext cx="235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V="1">
            <a:off x="330660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17880" y="5748480"/>
            <a:ext cx="357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92560" y="356868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56080" y="350676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84600" y="3309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0088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5604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386240" y="5811840"/>
                <a:ext cx="34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 flipV="1">
            <a:off x="3305160" y="3579840"/>
            <a:ext cx="1154160" cy="635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16560" y="3622680"/>
            <a:ext cx="0" cy="2136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3676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60520" y="45194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x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60480" y="357192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x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25680" y="4255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7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21880" y="2763720"/>
            <a:ext cx="41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Lucida Casual"/>
              </a:rPr>
              <a:t>Microecono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133720" y="4172040"/>
            <a:ext cx="5029200" cy="1828800"/>
            <a:chOff x="2133720" y="4172040"/>
            <a:chExt cx="5029200" cy="1828800"/>
          </a:xfrm>
        </p:grpSpPr>
        <p:sp>
          <p:nvSpPr>
            <p:cNvPr id="46" name=""/>
            <p:cNvSpPr/>
            <p:nvPr/>
          </p:nvSpPr>
          <p:spPr>
            <a:xfrm>
              <a:off x="2133720" y="4172040"/>
              <a:ext cx="5029200" cy="1828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14520" y="4257720"/>
              <a:ext cx="455148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9900"/>
                  </a:solidFill>
                  <a:latin typeface="Lucida Casual"/>
                </a:rPr>
                <a:t>Takashi Yoney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Lucida Casual"/>
                </a:rPr>
                <a:t>ITA - Divisão de Engenharia Eletrôn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Lucida Casual"/>
                </a:rPr>
                <a:t>Tel: (0xx12) 3947-59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Lucida Casual"/>
                </a:rPr>
                <a:t>E-mail: takashi@ele.ita.cta.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Lucida Casual"/>
                </a:rPr>
                <a:t>HP: http://www.ele.ita.cta.br/~takash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11600" y="1450800"/>
                <a:ext cx="1866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871800" y="1792440"/>
                <a:ext cx="13860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930480" y="3211560"/>
            <a:ext cx="1649520" cy="1197000"/>
          </a:xfrm>
          <a:custGeom>
            <a:avLst/>
            <a:gdLst/>
            <a:ahLst/>
            <a:rect l="l" t="t" r="r" b="b"/>
            <a:pathLst>
              <a:path w="1039" h="754">
                <a:moveTo>
                  <a:pt x="1039" y="0"/>
                </a:moveTo>
                <a:cubicBezTo>
                  <a:pt x="480" y="125"/>
                  <a:pt x="104" y="353"/>
                  <a:pt x="52" y="449"/>
                </a:cubicBezTo>
                <a:cubicBezTo>
                  <a:pt x="0" y="545"/>
                  <a:pt x="36" y="685"/>
                  <a:pt x="231" y="754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30660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17880" y="5748480"/>
            <a:ext cx="357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81800" y="3159000"/>
            <a:ext cx="11412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89400" y="4375080"/>
            <a:ext cx="11448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09960" y="2962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50088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5604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971800" y="337176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955960" y="4005360"/>
                <a:ext cx="235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3292560" y="356868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56080" y="350676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6160" y="3525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305160" y="3579840"/>
            <a:ext cx="1154160" cy="635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3676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62200" y="4226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25680" y="4255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flipV="1">
            <a:off x="3289320" y="4068720"/>
            <a:ext cx="725400" cy="154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711600" y="1450800"/>
                <a:ext cx="1866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871800" y="1792440"/>
                <a:ext cx="13860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3930480" y="3211560"/>
            <a:ext cx="1649520" cy="1197000"/>
          </a:xfrm>
          <a:custGeom>
            <a:avLst/>
            <a:gdLst/>
            <a:ahLst/>
            <a:rect l="l" t="t" r="r" b="b"/>
            <a:pathLst>
              <a:path w="1039" h="754">
                <a:moveTo>
                  <a:pt x="1039" y="0"/>
                </a:moveTo>
                <a:cubicBezTo>
                  <a:pt x="480" y="125"/>
                  <a:pt x="104" y="353"/>
                  <a:pt x="52" y="449"/>
                </a:cubicBezTo>
                <a:cubicBezTo>
                  <a:pt x="0" y="545"/>
                  <a:pt x="36" y="685"/>
                  <a:pt x="231" y="754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30660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17880" y="5748480"/>
            <a:ext cx="357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81800" y="3159000"/>
            <a:ext cx="11412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89400" y="4375080"/>
            <a:ext cx="11448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09960" y="2962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650088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05604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971800" y="337176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955960" y="4005360"/>
                <a:ext cx="235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292560" y="356868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56080" y="350676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6160" y="3525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305160" y="3579840"/>
            <a:ext cx="1154160" cy="635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3676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25680" y="4255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62200" y="4226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30480" y="40068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2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930480" y="3211560"/>
            <a:ext cx="1649520" cy="1197000"/>
          </a:xfrm>
          <a:custGeom>
            <a:avLst/>
            <a:gdLst/>
            <a:ahLst/>
            <a:rect l="l" t="t" r="r" b="b"/>
            <a:pathLst>
              <a:path w="1039" h="754">
                <a:moveTo>
                  <a:pt x="1039" y="0"/>
                </a:moveTo>
                <a:cubicBezTo>
                  <a:pt x="480" y="125"/>
                  <a:pt x="104" y="353"/>
                  <a:pt x="52" y="449"/>
                </a:cubicBezTo>
                <a:cubicBezTo>
                  <a:pt x="0" y="545"/>
                  <a:pt x="36" y="685"/>
                  <a:pt x="231" y="754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305160" y="2722320"/>
            <a:ext cx="2763720" cy="1492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711600" y="1450800"/>
                <a:ext cx="1866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71800" y="1792440"/>
                <a:ext cx="13860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 flipV="1">
            <a:off x="330660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17880" y="5748480"/>
            <a:ext cx="357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1800" y="3159000"/>
            <a:ext cx="11412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89400" y="4375080"/>
            <a:ext cx="11448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09960" y="2962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50088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05604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971800" y="337176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955960" y="4005360"/>
                <a:ext cx="235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92560" y="356868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56080" y="350676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56160" y="3525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3676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25680" y="4255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62200" y="4226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381560" y="2550960"/>
            <a:ext cx="1458720" cy="7970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4323960" y="3247920"/>
            <a:ext cx="133560" cy="238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65680" y="2374920"/>
            <a:ext cx="15127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X &lt;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Toma Emprést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4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mlabris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788920" y="3100320"/>
            <a:ext cx="38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vas de Indifere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torno x R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5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 flipV="1">
            <a:off x="330660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17880" y="5748480"/>
            <a:ext cx="357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0088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05604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6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33600" y="2552760"/>
            <a:ext cx="1257480" cy="1523880"/>
          </a:xfrm>
          <a:custGeom>
            <a:avLst/>
            <a:gdLst/>
            <a:ahLst/>
            <a:rect l="l" t="t" r="r" b="b"/>
            <a:pathLst>
              <a:path w="792" h="960">
                <a:moveTo>
                  <a:pt x="0" y="960"/>
                </a:moveTo>
                <a:cubicBezTo>
                  <a:pt x="528" y="912"/>
                  <a:pt x="720" y="432"/>
                  <a:pt x="792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33600" y="2209680"/>
            <a:ext cx="1257480" cy="1524240"/>
          </a:xfrm>
          <a:custGeom>
            <a:avLst/>
            <a:gdLst/>
            <a:ahLst/>
            <a:rect l="l" t="t" r="r" b="b"/>
            <a:pathLst>
              <a:path w="792" h="960">
                <a:moveTo>
                  <a:pt x="0" y="960"/>
                </a:moveTo>
                <a:cubicBezTo>
                  <a:pt x="528" y="912"/>
                  <a:pt x="720" y="432"/>
                  <a:pt x="79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2895480"/>
            <a:ext cx="1257480" cy="1524240"/>
          </a:xfrm>
          <a:custGeom>
            <a:avLst/>
            <a:gdLst/>
            <a:ahLst/>
            <a:rect l="l" t="t" r="r" b="b"/>
            <a:pathLst>
              <a:path w="792" h="960">
                <a:moveTo>
                  <a:pt x="0" y="960"/>
                </a:moveTo>
                <a:cubicBezTo>
                  <a:pt x="528" y="912"/>
                  <a:pt x="720" y="432"/>
                  <a:pt x="792" y="0"/>
                </a:cubicBezTo>
              </a:path>
            </a:pathLst>
          </a:custGeom>
          <a:noFill/>
          <a:ln w="19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753000" y="3314520"/>
            <a:ext cx="723600" cy="819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35120" y="408096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Ma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atisf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04840" y="101124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vas de Indiferença: Retorno x R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930480" y="3211560"/>
            <a:ext cx="1649520" cy="1197000"/>
          </a:xfrm>
          <a:custGeom>
            <a:avLst/>
            <a:gdLst/>
            <a:ahLst/>
            <a:rect l="l" t="t" r="r" b="b"/>
            <a:pathLst>
              <a:path w="1039" h="754">
                <a:moveTo>
                  <a:pt x="1039" y="0"/>
                </a:moveTo>
                <a:cubicBezTo>
                  <a:pt x="480" y="125"/>
                  <a:pt x="104" y="353"/>
                  <a:pt x="52" y="449"/>
                </a:cubicBezTo>
                <a:cubicBezTo>
                  <a:pt x="0" y="545"/>
                  <a:pt x="36" y="685"/>
                  <a:pt x="231" y="754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05160" y="2722320"/>
            <a:ext cx="2763720" cy="1492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30660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17880" y="5748480"/>
            <a:ext cx="357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81800" y="3159000"/>
            <a:ext cx="11412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89400" y="437508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09960" y="2962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50088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05604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955960" y="4005360"/>
                <a:ext cx="235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4456080" y="3506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56160" y="3525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36760" y="415908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82920" y="40845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62200" y="4226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33600" y="2552760"/>
            <a:ext cx="1257480" cy="1523880"/>
          </a:xfrm>
          <a:custGeom>
            <a:avLst/>
            <a:gdLst/>
            <a:ahLst/>
            <a:rect l="l" t="t" r="r" b="b"/>
            <a:pathLst>
              <a:path w="792" h="960">
                <a:moveTo>
                  <a:pt x="0" y="960"/>
                </a:moveTo>
                <a:cubicBezTo>
                  <a:pt x="528" y="912"/>
                  <a:pt x="720" y="432"/>
                  <a:pt x="792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0" y="2209680"/>
            <a:ext cx="1257480" cy="1524240"/>
          </a:xfrm>
          <a:custGeom>
            <a:avLst/>
            <a:gdLst/>
            <a:ahLst/>
            <a:rect l="l" t="t" r="r" b="b"/>
            <a:pathLst>
              <a:path w="792" h="960">
                <a:moveTo>
                  <a:pt x="0" y="960"/>
                </a:moveTo>
                <a:cubicBezTo>
                  <a:pt x="528" y="912"/>
                  <a:pt x="720" y="432"/>
                  <a:pt x="79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2895480"/>
            <a:ext cx="1257480" cy="1524240"/>
          </a:xfrm>
          <a:custGeom>
            <a:avLst/>
            <a:gdLst/>
            <a:ahLst/>
            <a:rect l="l" t="t" r="r" b="b"/>
            <a:pathLst>
              <a:path w="792" h="960">
                <a:moveTo>
                  <a:pt x="0" y="960"/>
                </a:moveTo>
                <a:cubicBezTo>
                  <a:pt x="528" y="912"/>
                  <a:pt x="720" y="432"/>
                  <a:pt x="792" y="0"/>
                </a:cubicBezTo>
              </a:path>
            </a:pathLst>
          </a:custGeom>
          <a:noFill/>
          <a:ln w="19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36800" y="3879720"/>
            <a:ext cx="11448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00360" y="5086440"/>
            <a:ext cx="1828800" cy="533160"/>
          </a:xfrm>
          <a:prstGeom prst="wedgeRoundRectCallout">
            <a:avLst>
              <a:gd name="adj1" fmla="val -36458"/>
              <a:gd name="adj2" fmla="val -24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arteira Ót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04840" y="101124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vas de Indiferença: Retorno x R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74400" y="340524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valiação de 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9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752560" y="329580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03480" y="2981160"/>
            <a:ext cx="1930320" cy="1668600"/>
          </a:xfrm>
          <a:custGeom>
            <a:avLst/>
            <a:gdLst/>
            <a:ahLst/>
            <a:rect l="l" t="t" r="r" b="b"/>
            <a:pathLst>
              <a:path w="1216" h="1051">
                <a:moveTo>
                  <a:pt x="1216" y="0"/>
                </a:moveTo>
                <a:cubicBezTo>
                  <a:pt x="400" y="85"/>
                  <a:pt x="90" y="343"/>
                  <a:pt x="45" y="560"/>
                </a:cubicBezTo>
                <a:cubicBezTo>
                  <a:pt x="0" y="778"/>
                  <a:pt x="236" y="999"/>
                  <a:pt x="567" y="1051"/>
                </a:cubicBezTo>
                <a:cubicBezTo>
                  <a:pt x="467" y="942"/>
                  <a:pt x="450" y="849"/>
                  <a:pt x="749" y="781"/>
                </a:cubicBezTo>
                <a:cubicBezTo>
                  <a:pt x="556" y="680"/>
                  <a:pt x="565" y="577"/>
                  <a:pt x="1001" y="486"/>
                </a:cubicBezTo>
                <a:cubicBezTo>
                  <a:pt x="847" y="422"/>
                  <a:pt x="692" y="322"/>
                  <a:pt x="1069" y="238"/>
                </a:cubicBezTo>
                <a:cubicBezTo>
                  <a:pt x="943" y="186"/>
                  <a:pt x="975" y="66"/>
                  <a:pt x="1216" y="0"/>
                </a:cubicBezTo>
                <a:close/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038240" y="3271680"/>
            <a:ext cx="1724040" cy="94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03968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9120" y="572940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423396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78912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690480" y="3141720"/>
                <a:ext cx="2541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696960" y="4005360"/>
                <a:ext cx="2174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1039680" y="3294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93880" y="323208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6984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mlabmerc" descr=""/>
          <p:cNvPicPr/>
          <p:nvPr/>
        </p:nvPicPr>
        <p:blipFill>
          <a:blip r:embed="rId1"/>
          <a:stretch/>
        </p:blipFill>
        <p:spPr>
          <a:xfrm>
            <a:off x="4805280" y="2268360"/>
            <a:ext cx="4008600" cy="36496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117160" y="112536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M - Capital Asset Pri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11760" y="324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595600" y="5780160"/>
                <a:ext cx="342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16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038240" y="3305160"/>
            <a:ext cx="1714320" cy="924120"/>
          </a:xfrm>
          <a:custGeom>
            <a:avLst/>
            <a:gdLst/>
            <a:ahLst/>
            <a:rect l="l" t="t" r="r" b="b"/>
            <a:pathLst>
              <a:path w="1080" h="582">
                <a:moveTo>
                  <a:pt x="1080" y="582"/>
                </a:moveTo>
                <a:lnTo>
                  <a:pt x="0" y="582"/>
                </a:lnTo>
                <a:lnTo>
                  <a:pt x="1080" y="0"/>
                </a:lnTo>
                <a:lnTo>
                  <a:pt x="1080" y="58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38240" y="4229280"/>
            <a:ext cx="171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71560" y="3809880"/>
            <a:ext cx="0" cy="19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037880" y="3819600"/>
            <a:ext cx="733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52560" y="329580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03480" y="2981160"/>
            <a:ext cx="1930320" cy="1668600"/>
          </a:xfrm>
          <a:custGeom>
            <a:avLst/>
            <a:gdLst/>
            <a:ahLst/>
            <a:rect l="l" t="t" r="r" b="b"/>
            <a:pathLst>
              <a:path w="1216" h="1051">
                <a:moveTo>
                  <a:pt x="1216" y="0"/>
                </a:moveTo>
                <a:cubicBezTo>
                  <a:pt x="400" y="85"/>
                  <a:pt x="90" y="343"/>
                  <a:pt x="45" y="560"/>
                </a:cubicBezTo>
                <a:cubicBezTo>
                  <a:pt x="0" y="778"/>
                  <a:pt x="236" y="999"/>
                  <a:pt x="567" y="1051"/>
                </a:cubicBezTo>
                <a:cubicBezTo>
                  <a:pt x="467" y="942"/>
                  <a:pt x="450" y="849"/>
                  <a:pt x="749" y="781"/>
                </a:cubicBezTo>
                <a:cubicBezTo>
                  <a:pt x="556" y="680"/>
                  <a:pt x="565" y="577"/>
                  <a:pt x="1001" y="486"/>
                </a:cubicBezTo>
                <a:cubicBezTo>
                  <a:pt x="847" y="422"/>
                  <a:pt x="692" y="322"/>
                  <a:pt x="1069" y="238"/>
                </a:cubicBezTo>
                <a:cubicBezTo>
                  <a:pt x="943" y="186"/>
                  <a:pt x="975" y="66"/>
                  <a:pt x="1216" y="0"/>
                </a:cubicBezTo>
                <a:close/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038240" y="3271680"/>
            <a:ext cx="1724040" cy="94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03968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9120" y="572940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23396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78912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690480" y="3141720"/>
                <a:ext cx="2541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1039680" y="3294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93880" y="323208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6984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17160" y="112536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M - Capital Asset Pri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11760" y="324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595600" y="5780160"/>
                <a:ext cx="342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1709640" y="376236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643040" y="5792760"/>
                <a:ext cx="341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92280" y="3637080"/>
                <a:ext cx="252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6141960" y="1790640"/>
                <a:ext cx="1430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924520" y="3005280"/>
                <a:ext cx="18669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6819840" y="2368440"/>
            <a:ext cx="0" cy="63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919840" y="4435560"/>
                <a:ext cx="1849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819840" y="3689280"/>
            <a:ext cx="0" cy="63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96960" y="4076640"/>
                <a:ext cx="2174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4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3459240"/>
            <a:ext cx="7115400" cy="25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85960" y="1655640"/>
          <a:ext cx="7432560" cy="48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655640"/>
                    <a:ext cx="743256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586600" y="934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038240" y="3305160"/>
            <a:ext cx="1714320" cy="924120"/>
          </a:xfrm>
          <a:custGeom>
            <a:avLst/>
            <a:gdLst/>
            <a:ahLst/>
            <a:rect l="l" t="t" r="r" b="b"/>
            <a:pathLst>
              <a:path w="1080" h="582">
                <a:moveTo>
                  <a:pt x="1080" y="582"/>
                </a:moveTo>
                <a:lnTo>
                  <a:pt x="0" y="582"/>
                </a:lnTo>
                <a:lnTo>
                  <a:pt x="1080" y="0"/>
                </a:lnTo>
                <a:lnTo>
                  <a:pt x="1080" y="58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38240" y="4229280"/>
            <a:ext cx="171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71560" y="3809880"/>
            <a:ext cx="0" cy="19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1037880" y="3819600"/>
            <a:ext cx="733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52560" y="329580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03480" y="2981160"/>
            <a:ext cx="1930320" cy="1668600"/>
          </a:xfrm>
          <a:custGeom>
            <a:avLst/>
            <a:gdLst/>
            <a:ahLst/>
            <a:rect l="l" t="t" r="r" b="b"/>
            <a:pathLst>
              <a:path w="1216" h="1051">
                <a:moveTo>
                  <a:pt x="1216" y="0"/>
                </a:moveTo>
                <a:cubicBezTo>
                  <a:pt x="400" y="85"/>
                  <a:pt x="90" y="343"/>
                  <a:pt x="45" y="560"/>
                </a:cubicBezTo>
                <a:cubicBezTo>
                  <a:pt x="0" y="778"/>
                  <a:pt x="236" y="999"/>
                  <a:pt x="567" y="1051"/>
                </a:cubicBezTo>
                <a:cubicBezTo>
                  <a:pt x="467" y="942"/>
                  <a:pt x="450" y="849"/>
                  <a:pt x="749" y="781"/>
                </a:cubicBezTo>
                <a:cubicBezTo>
                  <a:pt x="556" y="680"/>
                  <a:pt x="565" y="577"/>
                  <a:pt x="1001" y="486"/>
                </a:cubicBezTo>
                <a:cubicBezTo>
                  <a:pt x="847" y="422"/>
                  <a:pt x="692" y="322"/>
                  <a:pt x="1069" y="238"/>
                </a:cubicBezTo>
                <a:cubicBezTo>
                  <a:pt x="943" y="186"/>
                  <a:pt x="975" y="66"/>
                  <a:pt x="1216" y="0"/>
                </a:cubicBezTo>
                <a:close/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038240" y="3271680"/>
            <a:ext cx="1724040" cy="94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03968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9120" y="572940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423396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78912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90480" y="3141720"/>
                <a:ext cx="2541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696960" y="4076640"/>
                <a:ext cx="2174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1039680" y="3294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93880" y="323208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6984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17160" y="112536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M - Capital Asset Pri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11760" y="324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2595600" y="5780160"/>
                <a:ext cx="342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1709640" y="376236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643040" y="5792760"/>
                <a:ext cx="341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92280" y="3637080"/>
                <a:ext cx="252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141960" y="1790640"/>
                <a:ext cx="1430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924520" y="3005280"/>
                <a:ext cx="18669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6819840" y="2368440"/>
            <a:ext cx="0" cy="63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919840" y="4435560"/>
                <a:ext cx="1849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6819840" y="3689280"/>
            <a:ext cx="0" cy="63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08200" y="399744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84280" y="4044960"/>
            <a:ext cx="112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7600" y="40417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7360" y="389880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4640" y="387180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ˆ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5927760" y="5530680"/>
                <a:ext cx="1893960" cy="9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827760" y="4822920"/>
            <a:ext cx="0" cy="63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038240" y="3305160"/>
            <a:ext cx="1714320" cy="924120"/>
          </a:xfrm>
          <a:custGeom>
            <a:avLst/>
            <a:gdLst/>
            <a:ahLst/>
            <a:rect l="l" t="t" r="r" b="b"/>
            <a:pathLst>
              <a:path w="1080" h="582">
                <a:moveTo>
                  <a:pt x="1080" y="582"/>
                </a:moveTo>
                <a:lnTo>
                  <a:pt x="0" y="582"/>
                </a:lnTo>
                <a:lnTo>
                  <a:pt x="1080" y="0"/>
                </a:lnTo>
                <a:lnTo>
                  <a:pt x="1080" y="58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38240" y="4229280"/>
            <a:ext cx="171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71560" y="4113360"/>
            <a:ext cx="0" cy="16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52560" y="329580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03480" y="2981160"/>
            <a:ext cx="1930320" cy="1668600"/>
          </a:xfrm>
          <a:custGeom>
            <a:avLst/>
            <a:gdLst/>
            <a:ahLst/>
            <a:rect l="l" t="t" r="r" b="b"/>
            <a:pathLst>
              <a:path w="1216" h="1051">
                <a:moveTo>
                  <a:pt x="1216" y="0"/>
                </a:moveTo>
                <a:cubicBezTo>
                  <a:pt x="400" y="85"/>
                  <a:pt x="90" y="343"/>
                  <a:pt x="45" y="560"/>
                </a:cubicBezTo>
                <a:cubicBezTo>
                  <a:pt x="0" y="778"/>
                  <a:pt x="236" y="999"/>
                  <a:pt x="567" y="1051"/>
                </a:cubicBezTo>
                <a:cubicBezTo>
                  <a:pt x="467" y="942"/>
                  <a:pt x="450" y="849"/>
                  <a:pt x="749" y="781"/>
                </a:cubicBezTo>
                <a:cubicBezTo>
                  <a:pt x="556" y="680"/>
                  <a:pt x="565" y="577"/>
                  <a:pt x="1001" y="486"/>
                </a:cubicBezTo>
                <a:cubicBezTo>
                  <a:pt x="847" y="422"/>
                  <a:pt x="692" y="322"/>
                  <a:pt x="1069" y="238"/>
                </a:cubicBezTo>
                <a:cubicBezTo>
                  <a:pt x="943" y="186"/>
                  <a:pt x="975" y="66"/>
                  <a:pt x="1216" y="0"/>
                </a:cubicBezTo>
                <a:close/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038240" y="3271680"/>
            <a:ext cx="1724040" cy="94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103968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9120" y="572940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23396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78912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690480" y="3141720"/>
                <a:ext cx="2541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96960" y="4076640"/>
                <a:ext cx="2174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1039680" y="3294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93880" y="323208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6984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17160" y="112536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M - Capital Asset Pri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11760" y="324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595600" y="5780160"/>
                <a:ext cx="342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643040" y="5792760"/>
                <a:ext cx="341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06" name=""/>
          <p:cNvGrpSpPr/>
          <p:nvPr/>
        </p:nvGrpSpPr>
        <p:grpSpPr>
          <a:xfrm>
            <a:off x="5025960" y="3433680"/>
            <a:ext cx="3343320" cy="1476360"/>
            <a:chOff x="5025960" y="3433680"/>
            <a:chExt cx="3343320" cy="1476360"/>
          </a:xfrm>
        </p:grpSpPr>
        <p:sp>
          <p:nvSpPr>
            <p:cNvPr id="507" name=""/>
            <p:cNvSpPr/>
            <p:nvPr/>
          </p:nvSpPr>
          <p:spPr>
            <a:xfrm>
              <a:off x="5041800" y="3433680"/>
              <a:ext cx="100332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5100480" y="3448080"/>
                  <a:ext cx="86976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"/>
            <p:cNvSpPr/>
            <p:nvPr/>
          </p:nvSpPr>
          <p:spPr>
            <a:xfrm>
              <a:off x="5025960" y="4186080"/>
              <a:ext cx="1269720" cy="723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5132160" y="4238640"/>
                  <a:ext cx="10620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1" name=""/>
            <p:cNvSpPr/>
            <p:nvPr/>
          </p:nvSpPr>
          <p:spPr>
            <a:xfrm>
              <a:off x="6423480" y="3538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e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5080" y="4167000"/>
              <a:ext cx="1924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torno Ad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obre Be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708200" y="399744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584280" y="4044960"/>
            <a:ext cx="112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7600" y="40417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7360" y="389880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4640" y="387180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ˆ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2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879480" y="4155840"/>
            <a:ext cx="4414680" cy="432000"/>
            <a:chOff x="879480" y="4155840"/>
            <a:chExt cx="4414680" cy="432000"/>
          </a:xfrm>
        </p:grpSpPr>
        <p:sp>
          <p:nvSpPr>
            <p:cNvPr id="523" name=""/>
            <p:cNvSpPr/>
            <p:nvPr/>
          </p:nvSpPr>
          <p:spPr>
            <a:xfrm>
              <a:off x="3189240" y="4359240"/>
              <a:ext cx="1486080" cy="2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79480" y="4587840"/>
              <a:ext cx="44146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5005440" y="4155840"/>
              <a:ext cx="0" cy="4316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81040" y="112536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colha dos 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045800" y="2860560"/>
            <a:ext cx="3327840" cy="2498040"/>
            <a:chOff x="1045800" y="2860560"/>
            <a:chExt cx="3327840" cy="2498040"/>
          </a:xfrm>
        </p:grpSpPr>
        <p:sp>
          <p:nvSpPr>
            <p:cNvPr id="528" name=""/>
            <p:cNvSpPr/>
            <p:nvPr/>
          </p:nvSpPr>
          <p:spPr>
            <a:xfrm>
              <a:off x="1045800" y="28954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tiv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2020680" y="2916000"/>
                  <a:ext cx="16380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2716200" y="2914560"/>
                  <a:ext cx="22392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3398760" y="2860560"/>
                  <a:ext cx="26208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4162320" y="2916000"/>
                  <a:ext cx="21132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χ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33" name=""/>
            <p:cNvSpPr/>
            <p:nvPr/>
          </p:nvSpPr>
          <p:spPr>
            <a:xfrm>
              <a:off x="1303920" y="3317760"/>
              <a:ext cx="260532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         15         1         10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         17         1.5        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3         12         1          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4         17         2          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5         11         1          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6         11         1.5       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7         11         2          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8           7         0.8        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1122480" y="2001960"/>
                <a:ext cx="6094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996160" y="3421080"/>
                <a:ext cx="186840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3948480" y="3319560"/>
            <a:ext cx="575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.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.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81000" y="3262320"/>
            <a:ext cx="3795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4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396880" y="117648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Índices para Avaliação de 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56440" y="1857240"/>
            <a:ext cx="27118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fa de Jens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Índice de Sharp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Índice de Treyn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Índice de Modiglia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079800" y="2131920"/>
                <a:ext cx="8841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086360" y="3005280"/>
                <a:ext cx="1803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4365720" y="4276800"/>
                <a:ext cx="985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4410000" y="5002200"/>
                <a:ext cx="970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4586400" y="5697360"/>
                <a:ext cx="22366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2751120" y="319572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lagem e Pred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 Séries Tempo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SALMI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IBOVESP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649760" y="2593800"/>
            <a:ext cx="3878640" cy="1798920"/>
            <a:chOff x="4649760" y="2593800"/>
            <a:chExt cx="3878640" cy="1798920"/>
          </a:xfrm>
        </p:grpSpPr>
        <p:sp>
          <p:nvSpPr>
            <p:cNvPr id="565" name=""/>
            <p:cNvSpPr/>
            <p:nvPr/>
          </p:nvSpPr>
          <p:spPr>
            <a:xfrm>
              <a:off x="5363640" y="2593800"/>
              <a:ext cx="316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R1: Igual à semana anterior, 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649760" y="4316400"/>
              <a:ext cx="295200" cy="76320"/>
              <a:chOff x="4649760" y="4316400"/>
              <a:chExt cx="295200" cy="76320"/>
            </a:xfrm>
          </p:grpSpPr>
          <p:sp>
            <p:nvSpPr>
              <p:cNvPr id="567" name=""/>
              <p:cNvSpPr/>
              <p:nvPr/>
            </p:nvSpPr>
            <p:spPr>
              <a:xfrm>
                <a:off x="4649760" y="4354560"/>
                <a:ext cx="2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9000" y="43164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71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63640" y="2593800"/>
            <a:ext cx="31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867200" y="40813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552840" y="412416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57520" y="3662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19600" y="422424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81320" y="39672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8080" y="4510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10160" y="430992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62200" y="2593800"/>
            <a:ext cx="328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33560" y="3905280"/>
            <a:ext cx="2059200" cy="542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4416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57520" y="3662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19600" y="422424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81320" y="39672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8080" y="4510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610160" y="430992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57600" y="353376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19320" y="431496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86080" y="415296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62200" y="2593800"/>
            <a:ext cx="3288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4: Sazonal de 5 semanas,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28680" y="3603600"/>
            <a:ext cx="1152720" cy="111132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90760" y="3584520"/>
            <a:ext cx="1152720" cy="111132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43480" y="3594240"/>
            <a:ext cx="1152360" cy="111096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95840" y="3594240"/>
            <a:ext cx="1152360" cy="111096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48120" y="3625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2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62200" y="2593800"/>
            <a:ext cx="3288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: Sazonal de 5 semanas,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5: Tendência de 3 semanas,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8040" y="4165560"/>
            <a:ext cx="774720" cy="542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76920" y="469116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81320" y="39672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48080" y="4510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10160" y="430992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3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2200" y="2593800"/>
            <a:ext cx="3288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: Sazonal de 5 semanas,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5: Tendência de 3 semanas,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6: Média de R1 a R5,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75120" y="4222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017880" y="11034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étodos para Proj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88400" y="1924200"/>
            <a:ext cx="2879280" cy="25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ojeção de Preç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ne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ponenci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édia Móvel (MA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o-Regressivo (A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MA Não-Line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45640" y="4610160"/>
            <a:ext cx="259020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ojeção da Volatilida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R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W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305080" y="2489040"/>
                <a:ext cx="14317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995560" y="2868480"/>
                <a:ext cx="1690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90840" y="3287880"/>
                <a:ext cx="41371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691080" y="3718080"/>
                <a:ext cx="441468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444840" y="4137120"/>
                <a:ext cx="4257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416320" y="5154480"/>
                <a:ext cx="20872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2554200" y="5573880"/>
                <a:ext cx="3260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500200" y="5992920"/>
                <a:ext cx="3062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5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mlabreg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mlabgarc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324600" y="3510000"/>
            <a:ext cx="28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álise 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6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409560" y="107316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80360" y="1754280"/>
            <a:ext cx="69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incípio Básico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 histórico dos preços das ações refletem  todas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ças subjacentes que afetam a sua oferta ou a proc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30680" y="2373480"/>
            <a:ext cx="0" cy="439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91160" y="2868480"/>
            <a:ext cx="549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o de gráficos para estudo das tendências e padrõ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apligraf" descr=""/>
          <p:cNvPicPr/>
          <p:nvPr/>
        </p:nvPicPr>
        <p:blipFill>
          <a:blip r:embed="rId1"/>
          <a:stretch/>
        </p:blipFill>
        <p:spPr>
          <a:xfrm>
            <a:off x="2211480" y="3287880"/>
            <a:ext cx="4952880" cy="3257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75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mlabcand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mlabbo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45720" y="340524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987720" y="348156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mlabopt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simuativ" descr=""/>
          <p:cNvPicPr/>
          <p:nvPr/>
        </p:nvPicPr>
        <p:blipFill>
          <a:blip r:embed="rId1"/>
          <a:stretch/>
        </p:blipFill>
        <p:spPr>
          <a:xfrm>
            <a:off x="1541520" y="2286000"/>
            <a:ext cx="5335560" cy="40006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1920960" y="3386160"/>
            <a:ext cx="653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6916680" y="188100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6669000" y="3385800"/>
            <a:ext cx="0" cy="1219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6662880" y="2331720"/>
            <a:ext cx="1066680" cy="10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19040" y="108576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ra de uma Opção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578720" y="30765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991920" y="17272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6800" y="5016600"/>
            <a:ext cx="1096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3720" y="46767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Preço A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4960" y="3387600"/>
            <a:ext cx="1096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1840" y="303840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Preço Exercí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99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black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698920" y="1735200"/>
            <a:ext cx="842760" cy="1116000"/>
          </a:xfrm>
          <a:prstGeom prst="rect">
            <a:avLst/>
          </a:prstGeom>
          <a:ln w="0">
            <a:noFill/>
          </a:ln>
        </p:spPr>
      </p:pic>
      <p:pic>
        <p:nvPicPr>
          <p:cNvPr id="702" name="scholes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255920" y="1733400"/>
            <a:ext cx="852480" cy="11145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2827440" y="112248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órmula de Black-Sc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mertonn" descr=""/>
          <p:cNvPicPr/>
          <p:nvPr/>
        </p:nvPicPr>
        <p:blipFill>
          <a:blip r:embed="rId3">
            <a:grayscl/>
            <a:lum bright="6000"/>
          </a:blip>
          <a:stretch/>
        </p:blipFill>
        <p:spPr>
          <a:xfrm>
            <a:off x="5818320" y="1730520"/>
            <a:ext cx="838080" cy="11188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574360" y="2922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sher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86720" y="2909880"/>
            <a:ext cx="12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yron Sc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662800" y="291636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bert M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368960" y="3619440"/>
                <a:ext cx="2966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3745080" y="5326200"/>
                <a:ext cx="4065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τ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1990440" y="360360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ivo Livre de Risco F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07000" y="396540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ivo 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34080" y="44956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logo" descr=""/>
          <p:cNvPicPr/>
          <p:nvPr/>
        </p:nvPicPr>
        <p:blipFill>
          <a:blip r:embed="rId4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15" name="ASA_CO1" descr=""/>
          <p:cNvPicPr/>
          <p:nvPr/>
        </p:nvPicPr>
        <p:blipFill>
          <a:blip r:embed="rId5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529000" y="3357720"/>
                <a:ext cx="4338360" cy="17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rik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rik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695760" y="1325520"/>
                <a:ext cx="18223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4591080" y="1809720"/>
            <a:ext cx="0" cy="1276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60080" y="204156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pótes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ão Artibra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655360" y="558468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dos requerid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4673520" y="5591160"/>
                <a:ext cx="1709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rik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2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optionEXCEL" descr=""/>
          <p:cNvPicPr/>
          <p:nvPr/>
        </p:nvPicPr>
        <p:blipFill>
          <a:blip r:embed="rId1"/>
          <a:stretch/>
        </p:blipFill>
        <p:spPr>
          <a:xfrm>
            <a:off x="1857240" y="1681200"/>
            <a:ext cx="5695920" cy="490536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2827440" y="112248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órmula de Black-Sc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1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4085280" y="12477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38560" y="2189160"/>
            <a:ext cx="3072960" cy="36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l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ga (não é letra grega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ô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879640" y="2446200"/>
                <a:ext cx="1716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ção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2733840" y="3156120"/>
                <a:ext cx="43336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ção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rike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2903400" y="3884760"/>
                <a:ext cx="23068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00440" y="4586400"/>
                <a:ext cx="2826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g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ção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592360" y="5292720"/>
                <a:ext cx="2583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ção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rike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4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768480" y="104292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985680" y="1693800"/>
            <a:ext cx="0" cy="23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027080" y="2678040"/>
            <a:ext cx="128448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290680" y="2664000"/>
            <a:ext cx="993960" cy="993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057320" y="16336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81960" y="259236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33240" y="2971440"/>
            <a:ext cx="3637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998640" y="1743120"/>
            <a:ext cx="2104920" cy="20923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93920" y="240984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977760" y="2242800"/>
            <a:ext cx="1311480" cy="1312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290680" y="2246040"/>
            <a:ext cx="1298520" cy="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25160" y="36370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e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64040" y="1611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5076720" y="1644120"/>
            <a:ext cx="0" cy="235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89680" y="3286080"/>
            <a:ext cx="1284120" cy="6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381720" y="2297160"/>
            <a:ext cx="993960" cy="993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61040" y="15969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173000" y="26002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724280" y="2982960"/>
            <a:ext cx="36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075280" y="1852560"/>
            <a:ext cx="2104920" cy="20923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6384960" y="266400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97600" y="2092320"/>
            <a:ext cx="1311120" cy="1312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380280" y="3379680"/>
            <a:ext cx="129852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245000" y="19861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266240" y="3770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099160" y="349416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04160" y="231948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979560" y="4217760"/>
            <a:ext cx="0" cy="245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290680" y="5772240"/>
            <a:ext cx="130032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85680" y="4464000"/>
            <a:ext cx="1311480" cy="1311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77840" y="41860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075480" y="51166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627120" y="5495400"/>
            <a:ext cx="3637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977760" y="4383000"/>
            <a:ext cx="2249640" cy="223704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7440" y="493380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297160" y="4697280"/>
            <a:ext cx="936720" cy="936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01880" y="5637240"/>
            <a:ext cx="129852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161520" y="5772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72040" y="4005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070600" y="4168800"/>
            <a:ext cx="0" cy="24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397560" y="5175360"/>
            <a:ext cx="1284480" cy="61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5094360" y="5168520"/>
            <a:ext cx="1280880" cy="1282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227560" y="41511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80640" y="55864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718160" y="5506920"/>
            <a:ext cx="363672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68800" y="4376880"/>
            <a:ext cx="2249640" cy="22366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392880" y="502920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89640" y="5281560"/>
            <a:ext cx="936720" cy="936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45040" y="5297400"/>
            <a:ext cx="135576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006680" y="485604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e op 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75680" y="6350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092680" y="601812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26480" y="465624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9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3768480" y="104292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985680" y="1693800"/>
            <a:ext cx="0" cy="23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84240" y="2678040"/>
            <a:ext cx="177480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22680" y="2665440"/>
            <a:ext cx="993600" cy="993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057320" y="16336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081960" y="259236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633240" y="2971440"/>
            <a:ext cx="3637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727360" y="2077920"/>
            <a:ext cx="0" cy="150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855800" y="2214360"/>
            <a:ext cx="878040" cy="86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722680" y="2203200"/>
            <a:ext cx="996840" cy="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241440" y="356544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d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192120" y="168444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076720" y="1644120"/>
            <a:ext cx="0" cy="235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92160" y="3357720"/>
            <a:ext cx="895320" cy="61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1851120" y="1922400"/>
            <a:ext cx="1411200" cy="144144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261040" y="15969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201440" y="303372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724280" y="2982960"/>
            <a:ext cx="36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46600" y="194328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636920" y="352260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855800" y="241776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510280" y="351648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00080" y="3068640"/>
            <a:ext cx="88128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5091120" y="2476440"/>
            <a:ext cx="851040" cy="6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962680" y="2484360"/>
            <a:ext cx="1295280" cy="13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34240" y="2200320"/>
            <a:ext cx="0" cy="165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962680" y="2711520"/>
            <a:ext cx="892080" cy="895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6859440" y="3581280"/>
            <a:ext cx="99720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8320" y="373068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d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5099040" y="3197160"/>
            <a:ext cx="1762200" cy="7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6851520" y="2203200"/>
            <a:ext cx="979560" cy="99540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594840" y="187164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962680" y="2222640"/>
            <a:ext cx="0" cy="113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707440" y="189072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91120" y="2716200"/>
            <a:ext cx="88092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979560" y="4241880"/>
            <a:ext cx="0" cy="23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1857240" y="5695920"/>
            <a:ext cx="1860840" cy="6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000080" y="4867200"/>
            <a:ext cx="806400" cy="806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050840" y="41814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075480" y="514044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27120" y="5522760"/>
            <a:ext cx="36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720880" y="4626000"/>
            <a:ext cx="0" cy="150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1849320" y="5078520"/>
            <a:ext cx="892440" cy="893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2746440" y="5095800"/>
            <a:ext cx="99684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234960" y="6113520"/>
            <a:ext cx="90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26680" y="46069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e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070600" y="4192200"/>
            <a:ext cx="0" cy="235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60840" y="4906800"/>
            <a:ext cx="966600" cy="64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295280" y="4903920"/>
            <a:ext cx="1411560" cy="144144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54560" y="414504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166520" y="514836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4718160" y="5527800"/>
            <a:ext cx="366552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630800" y="607068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49320" y="496584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503800" y="606420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77760" y="5975280"/>
            <a:ext cx="88128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588360" y="441972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15160" y="6086520"/>
            <a:ext cx="1038240" cy="9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76720" y="4384800"/>
            <a:ext cx="1728720" cy="17445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97520" y="4734000"/>
            <a:ext cx="0" cy="150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11920" y="4795920"/>
            <a:ext cx="919080" cy="911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6808680" y="5681520"/>
            <a:ext cx="99720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382880" y="6093000"/>
            <a:ext cx="90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958000" y="5087880"/>
            <a:ext cx="1962000" cy="64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070600" y="5098680"/>
            <a:ext cx="849240" cy="8938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35880" y="615168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911920" y="4684680"/>
            <a:ext cx="0" cy="147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566400" y="614376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84640" y="4799160"/>
            <a:ext cx="85248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376400" y="477360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e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7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768480" y="104292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985680" y="1693800"/>
            <a:ext cx="0" cy="23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982800" y="3097080"/>
            <a:ext cx="177480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2736720" y="2204640"/>
            <a:ext cx="892440" cy="878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057320" y="16336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96000" y="299556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633240" y="2971440"/>
            <a:ext cx="3637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727360" y="2900520"/>
            <a:ext cx="0" cy="67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2738520" y="2545920"/>
            <a:ext cx="892080" cy="89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004760" y="2585880"/>
            <a:ext cx="866880" cy="858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168360" y="326376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op v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192120" y="185724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5076720" y="1644120"/>
            <a:ext cx="0" cy="235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73080" y="3271680"/>
            <a:ext cx="1906920" cy="64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84240" y="2371680"/>
            <a:ext cx="892080" cy="9223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261040" y="15969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129800" y="302112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724280" y="2982960"/>
            <a:ext cx="36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622880" y="251316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855800" y="2865600"/>
            <a:ext cx="0" cy="707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467440" y="250524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879560" y="3444840"/>
            <a:ext cx="88128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6418440" y="3327120"/>
            <a:ext cx="1198440" cy="61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097600" y="2008080"/>
            <a:ext cx="1295280" cy="13240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400800" y="2690640"/>
            <a:ext cx="0" cy="114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83200" y="2205000"/>
            <a:ext cx="1339920" cy="1343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099040" y="3168720"/>
            <a:ext cx="132876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6418440" y="1987200"/>
            <a:ext cx="1166760" cy="1182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147000" y="231948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979560" y="4241880"/>
            <a:ext cx="0" cy="23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50840" y="41814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075480" y="519732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27120" y="5522760"/>
            <a:ext cx="36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070600" y="4192200"/>
            <a:ext cx="0" cy="235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254560" y="414504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166520" y="514836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4718160" y="5527800"/>
            <a:ext cx="366552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34600" y="609300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9933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097600" y="4802040"/>
            <a:ext cx="1441440" cy="9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519960" y="4822920"/>
            <a:ext cx="806400" cy="12808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510240" y="4660920"/>
            <a:ext cx="0" cy="150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18160" y="5025960"/>
            <a:ext cx="571680" cy="5637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7095960" y="5594400"/>
            <a:ext cx="99720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352640" y="594684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 x ve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048280" y="5954760"/>
            <a:ext cx="865080" cy="64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950080" y="4449600"/>
            <a:ext cx="1469880" cy="14860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679000" y="610704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911920" y="5419800"/>
            <a:ext cx="0" cy="73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291720" y="609912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084640" y="5592600"/>
            <a:ext cx="852480" cy="8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448040" y="42973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030800" y="33433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op v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299000" y="174780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6404040" y="2198520"/>
            <a:ext cx="1349280" cy="1343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327400" y="5983200"/>
            <a:ext cx="1212840" cy="7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006560" y="4657680"/>
            <a:ext cx="1295280" cy="13240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309760" y="5340240"/>
            <a:ext cx="0" cy="113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92160" y="4854600"/>
            <a:ext cx="1316160" cy="1319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79560" y="5816520"/>
            <a:ext cx="1357200" cy="1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327400" y="4478040"/>
            <a:ext cx="1166760" cy="1182600"/>
          </a:xfrm>
          <a:prstGeom prst="line">
            <a:avLst/>
          </a:prstGeom>
          <a:ln cap="rnd" w="1908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056320" y="496872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939760" y="59929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op v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298600" y="4471920"/>
            <a:ext cx="835200" cy="1704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2320920" y="4355640"/>
            <a:ext cx="676440" cy="1443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997000" y="410220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 x 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81920" y="546264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072040" y="5803920"/>
            <a:ext cx="2005200" cy="4680"/>
          </a:xfrm>
          <a:prstGeom prst="line">
            <a:avLst/>
          </a:prstGeom>
          <a:ln w="1908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7083360" y="4890600"/>
            <a:ext cx="849240" cy="893880"/>
          </a:xfrm>
          <a:prstGeom prst="line">
            <a:avLst/>
          </a:prstGeom>
          <a:ln w="1908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5929200" y="5006520"/>
            <a:ext cx="57636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43520" y="463860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964800" y="5676840"/>
            <a:ext cx="1327320" cy="0"/>
          </a:xfrm>
          <a:prstGeom prst="line">
            <a:avLst/>
          </a:prstGeom>
          <a:ln cap="rnd" w="1908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512880" y="434196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4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923200" y="118728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 Introdutóri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4600" y="2295360"/>
            <a:ext cx="7495920" cy="11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iv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ço(t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Quantidade     Total        Preço(t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Tx Re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$5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6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$3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$8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(8-5)/5 =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0.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$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5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$3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$9             (9-6)/6 =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23840" y="3763800"/>
            <a:ext cx="7189920" cy="2665440"/>
            <a:chOff x="1023840" y="3763800"/>
            <a:chExt cx="7189920" cy="266544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4676760" y="3776760"/>
              <a:ext cx="3537000" cy="26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1023840" y="3763800"/>
              <a:ext cx="3487680" cy="26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486080" y="4667400"/>
              <a:ext cx="2705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43680" y="4495680"/>
              <a:ext cx="2705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39000" y="44290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52960" y="49719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40000" y="5164200"/>
              <a:ext cx="75960" cy="7596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94360" y="5013360"/>
              <a:ext cx="75960" cy="7632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17520" y="2698920"/>
            <a:ext cx="7300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481880" y="2295360"/>
            <a:ext cx="1401840" cy="1164600"/>
            <a:chOff x="7481880" y="2295360"/>
            <a:chExt cx="1401840" cy="1164600"/>
          </a:xfrm>
        </p:grpSpPr>
        <p:sp>
          <p:nvSpPr>
            <p:cNvPr id="82" name=""/>
            <p:cNvSpPr/>
            <p:nvPr/>
          </p:nvSpPr>
          <p:spPr>
            <a:xfrm>
              <a:off x="7508880" y="2295360"/>
              <a:ext cx="1374840" cy="11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Volat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81880" y="2698920"/>
              <a:ext cx="13604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simuativ" descr=""/>
          <p:cNvPicPr/>
          <p:nvPr/>
        </p:nvPicPr>
        <p:blipFill>
          <a:blip r:embed="rId1"/>
          <a:stretch/>
        </p:blipFill>
        <p:spPr>
          <a:xfrm>
            <a:off x="1122480" y="2212920"/>
            <a:ext cx="5335560" cy="400068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1501920" y="3313080"/>
            <a:ext cx="653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497640" y="2182320"/>
            <a:ext cx="0" cy="22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380280" y="3616200"/>
            <a:ext cx="0" cy="354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372360" y="3313080"/>
            <a:ext cx="707760" cy="301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979440" y="1098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159680" y="30034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586920" y="19432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73800" y="2685960"/>
            <a:ext cx="0" cy="354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65880" y="3016080"/>
            <a:ext cx="708120" cy="301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1817280" y="3073320"/>
            <a:ext cx="47912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802880" y="3546360"/>
            <a:ext cx="4797720" cy="6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65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simuativ" descr=""/>
          <p:cNvPicPr/>
          <p:nvPr/>
        </p:nvPicPr>
        <p:blipFill>
          <a:blip r:embed="rId1"/>
          <a:stretch/>
        </p:blipFill>
        <p:spPr>
          <a:xfrm>
            <a:off x="1122480" y="2212920"/>
            <a:ext cx="5335560" cy="400068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1487520" y="3443400"/>
            <a:ext cx="653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6483240" y="2312640"/>
            <a:ext cx="0" cy="22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365880" y="3732120"/>
            <a:ext cx="0" cy="354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357960" y="3038040"/>
            <a:ext cx="693720" cy="70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79440" y="1098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145280" y="31338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72880" y="207324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37280" y="2700360"/>
            <a:ext cx="0" cy="353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1789200" y="3605040"/>
            <a:ext cx="4797360" cy="6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79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2863440" y="361332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itura Recomend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8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3852720" y="11034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740240" y="1987560"/>
            <a:ext cx="5991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AF NETO, A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ercado Financeir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Editora, 4</a:t>
            </a:r>
            <a:r>
              <a:rPr b="1" lang="en-GB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d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LLAGI FILHO, A. e ISHIKAWA, S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ercado Financei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 de Capita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Atlas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MGRUBER, E.F.; SILVA, A.L.C.; LEAL,R.P.C.; CO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r., N.C.A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Gestão  de Risco e de Derivativo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Atlas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ORION, P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Value at Risk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McGraw Hill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ULL, J. - Introdução aos Mercados Futuros e de Opçõ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d, Cultura Editores Associados, 199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LTON, E.J. e GRUBER, M.J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dern Portolio The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nd Investment  Analy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John Wiley, 5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d,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LMOT, P.; HOWISON, S.; DEWYNNE, J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he Mathe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f Financial Derivative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Cambridge University Press,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ASSAF" descr=""/>
          <p:cNvPicPr/>
          <p:nvPr/>
        </p:nvPicPr>
        <p:blipFill>
          <a:blip r:embed="rId1"/>
          <a:stretch/>
        </p:blipFill>
        <p:spPr>
          <a:xfrm>
            <a:off x="380880" y="1136520"/>
            <a:ext cx="962280" cy="1320840"/>
          </a:xfrm>
          <a:prstGeom prst="rect">
            <a:avLst/>
          </a:prstGeom>
          <a:ln w="0">
            <a:noFill/>
          </a:ln>
        </p:spPr>
      </p:pic>
      <p:pic>
        <p:nvPicPr>
          <p:cNvPr id="989" name="MELLAGI" descr=""/>
          <p:cNvPicPr/>
          <p:nvPr/>
        </p:nvPicPr>
        <p:blipFill>
          <a:blip r:embed="rId2"/>
          <a:stretch/>
        </p:blipFill>
        <p:spPr>
          <a:xfrm>
            <a:off x="7915320" y="2000160"/>
            <a:ext cx="981000" cy="1295640"/>
          </a:xfrm>
          <a:prstGeom prst="rect">
            <a:avLst/>
          </a:prstGeom>
          <a:ln w="0">
            <a:noFill/>
          </a:ln>
        </p:spPr>
      </p:pic>
      <p:pic>
        <p:nvPicPr>
          <p:cNvPr id="990" name="lemgruber" descr=""/>
          <p:cNvPicPr/>
          <p:nvPr/>
        </p:nvPicPr>
        <p:blipFill>
          <a:blip r:embed="rId3"/>
          <a:stretch/>
        </p:blipFill>
        <p:spPr>
          <a:xfrm>
            <a:off x="371520" y="2557440"/>
            <a:ext cx="1000080" cy="1324080"/>
          </a:xfrm>
          <a:prstGeom prst="rect">
            <a:avLst/>
          </a:prstGeom>
          <a:ln w="0">
            <a:noFill/>
          </a:ln>
        </p:spPr>
      </p:pic>
      <p:pic>
        <p:nvPicPr>
          <p:cNvPr id="991" name="HULL" descr=""/>
          <p:cNvPicPr/>
          <p:nvPr/>
        </p:nvPicPr>
        <p:blipFill>
          <a:blip r:embed="rId4"/>
          <a:stretch/>
        </p:blipFill>
        <p:spPr>
          <a:xfrm>
            <a:off x="361800" y="3973680"/>
            <a:ext cx="990720" cy="1357200"/>
          </a:xfrm>
          <a:prstGeom prst="rect">
            <a:avLst/>
          </a:prstGeom>
          <a:ln w="0">
            <a:noFill/>
          </a:ln>
        </p:spPr>
      </p:pic>
      <p:pic>
        <p:nvPicPr>
          <p:cNvPr id="992" name="WILMOTT" descr=""/>
          <p:cNvPicPr/>
          <p:nvPr/>
        </p:nvPicPr>
        <p:blipFill>
          <a:blip r:embed="rId5"/>
          <a:stretch/>
        </p:blipFill>
        <p:spPr>
          <a:xfrm>
            <a:off x="380880" y="5432400"/>
            <a:ext cx="962280" cy="1311480"/>
          </a:xfrm>
          <a:prstGeom prst="rect">
            <a:avLst/>
          </a:prstGeom>
          <a:ln w="0">
            <a:noFill/>
          </a:ln>
        </p:spPr>
      </p:pic>
      <p:pic>
        <p:nvPicPr>
          <p:cNvPr id="993" name="JORION" descr=""/>
          <p:cNvPicPr/>
          <p:nvPr/>
        </p:nvPicPr>
        <p:blipFill>
          <a:blip r:embed="rId6"/>
          <a:stretch/>
        </p:blipFill>
        <p:spPr>
          <a:xfrm>
            <a:off x="7926480" y="3422520"/>
            <a:ext cx="950760" cy="126396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1390680" y="1695600"/>
            <a:ext cx="342720" cy="41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390680" y="3200400"/>
            <a:ext cx="3427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371600" y="4590720"/>
            <a:ext cx="399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52520" y="6039000"/>
            <a:ext cx="419040" cy="5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7505640" y="26096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6496200" y="3962520"/>
            <a:ext cx="13906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GRUBER" descr=""/>
          <p:cNvPicPr/>
          <p:nvPr/>
        </p:nvPicPr>
        <p:blipFill>
          <a:blip r:embed="rId7"/>
          <a:stretch/>
        </p:blipFill>
        <p:spPr>
          <a:xfrm>
            <a:off x="7912080" y="4818240"/>
            <a:ext cx="988920" cy="129672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7124760" y="5391000"/>
            <a:ext cx="74304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logo" descr=""/>
          <p:cNvPicPr/>
          <p:nvPr/>
        </p:nvPicPr>
        <p:blipFill>
          <a:blip r:embed="rId8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04" name="ASA_CO1" descr=""/>
          <p:cNvPicPr/>
          <p:nvPr/>
        </p:nvPicPr>
        <p:blipFill>
          <a:blip r:embed="rId9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2823840" y="1515960"/>
            <a:ext cx="465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NTHER, M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s Axiomas de Zuriqu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itora Record, RJ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28200" y="2787480"/>
            <a:ext cx="811476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O RISC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Preocupação não é doença, mas sinal de saúd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 você não está preocupado, não está arriscando o basta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Só aposte o que valer a pe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Resista à tentação das diversifica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GANÂNCI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Realize o lucro sempre cedo dema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Entre no negócio sabendo quanto quer gnhar e, quando che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á, caia fo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ESPERANÇA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Quando o barco começar a afundar, n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ze. Abandone-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Aceite as pequenas perdas com um sorriso, como fatos da vi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te incorrer em várias, enquanto espera um grande ganh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S PREVISÕES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O comportamento do ser humano não 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visível. Desconfio de quem afirmar que conhece uma nesga que seja do futu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7" name="ZURIQUE" descr=""/>
          <p:cNvPicPr/>
          <p:nvPr/>
        </p:nvPicPr>
        <p:blipFill>
          <a:blip r:embed="rId1"/>
          <a:stretch/>
        </p:blipFill>
        <p:spPr>
          <a:xfrm>
            <a:off x="1582560" y="1243080"/>
            <a:ext cx="986040" cy="131112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10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511920" y="1500120"/>
            <a:ext cx="82231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OS PADRÕE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Até começar a parecer ordem, o caos não 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ig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Cuidado com a armadilha do historia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6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Cuidado com a ilusão do grafis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7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Cuidado com a ilusão de correlação e a ilusão de causalida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8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Cuidado com a falácia do joga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MOBILIDAD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Evite lançar raízes. Tolhem seus movimen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9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Numa operação que não deu certo, não se deixe apanhar p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ntimentos como lealdade ou sauda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0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Jamais hesite em sair de um negócio se algo mais atra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arecer à sua fr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 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INTUIÇÃ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Só se pode confiar num palpite que po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 explic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1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Jamais confunda palpite com esperanç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RELIGIÃO E DO OCULTISM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É improvável que entre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sígnios de Deus para o Universo se inclua o de fazer você ficar 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Se astrologia funcionasse, todos os astrólogos seriam ric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3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Não é necessário exorcizar uma supertição. Podemos curti-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de que ela conheça o seu lug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1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495720" y="1442880"/>
            <a:ext cx="82746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O OTIMISMO E DO PESSIMISM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Otimismo significa esp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 melhor, mas confiança significa sber como se lidará com o pior. Jamais faça u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ogada por otimismo apen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O CONSENS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Fuja da opinião da maioria. Provavel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stá err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4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Jamais embarque nas especulações da moda. Com freqüê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melhor hora de se comprar alguma coisa é quando ninguém a qu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TEIMOSI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Se não deu certo da primeira vez, esqueç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5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Jamais tente salvar um mau investimento fazendo preço méd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O PLANEJAMENT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Planejamentos a longo prazo gera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igosa crença de que o futuro está sob controle. É importante jamais levar m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sério os seus planos a longo prazo, nem os de quem quer que sej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Fuja de investimentos a longo pr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2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2933640" y="365616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ormações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2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investsho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infomone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23200" y="118728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 Introdutóri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0560" y="2009880"/>
            <a:ext cx="399996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iv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ç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Retorn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$100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$1900   Prob=0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$10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993300"/>
                </a:solidFill>
                <a:latin typeface="Arial"/>
              </a:rPr>
              <a:t>$2         Prob=0.99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77040" y="2981160"/>
            <a:ext cx="3131640" cy="3366360"/>
            <a:chOff x="5477040" y="2981160"/>
            <a:chExt cx="3131640" cy="3366360"/>
          </a:xfrm>
        </p:grpSpPr>
        <p:grpSp>
          <p:nvGrpSpPr>
            <p:cNvPr id="91" name=""/>
            <p:cNvGrpSpPr/>
            <p:nvPr/>
          </p:nvGrpSpPr>
          <p:grpSpPr>
            <a:xfrm>
              <a:off x="5477040" y="3168720"/>
              <a:ext cx="2380680" cy="3028320"/>
              <a:chOff x="5477040" y="3168720"/>
              <a:chExt cx="2380680" cy="30283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5933880" y="3987720"/>
                <a:ext cx="742680" cy="1390320"/>
                <a:chOff x="5933880" y="3987720"/>
                <a:chExt cx="742680" cy="1390320"/>
              </a:xfrm>
            </p:grpSpPr>
            <p:sp>
              <p:nvSpPr>
                <p:cNvPr id="93" name=""/>
                <p:cNvSpPr/>
                <p:nvPr/>
              </p:nvSpPr>
              <p:spPr>
                <a:xfrm flipV="1">
                  <a:off x="5933880" y="3987720"/>
                  <a:ext cx="742680" cy="57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933880" y="4800240"/>
                  <a:ext cx="742680" cy="577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5477040" y="4406760"/>
                <a:ext cx="495000" cy="495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95480" y="44863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19680" y="3625920"/>
                <a:ext cx="495000" cy="49500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738480" y="37051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57840" y="5226120"/>
                <a:ext cx="495000" cy="49500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76640" y="53053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7076880" y="3168720"/>
                <a:ext cx="742680" cy="1389960"/>
                <a:chOff x="7076880" y="3168720"/>
                <a:chExt cx="742680" cy="1389960"/>
              </a:xfrm>
            </p:grpSpPr>
            <p:sp>
              <p:nvSpPr>
                <p:cNvPr id="102" name=""/>
                <p:cNvSpPr/>
                <p:nvPr/>
              </p:nvSpPr>
              <p:spPr>
                <a:xfrm flipV="1">
                  <a:off x="7076880" y="3168720"/>
                  <a:ext cx="742680" cy="57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076880" y="3980880"/>
                  <a:ext cx="742680" cy="577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7115040" y="4806720"/>
                <a:ext cx="742680" cy="1390320"/>
                <a:chOff x="7115040" y="4806720"/>
                <a:chExt cx="742680" cy="1390320"/>
              </a:xfrm>
            </p:grpSpPr>
            <p:sp>
              <p:nvSpPr>
                <p:cNvPr id="105" name=""/>
                <p:cNvSpPr/>
                <p:nvPr/>
              </p:nvSpPr>
              <p:spPr>
                <a:xfrm flipV="1">
                  <a:off x="7115040" y="4806720"/>
                  <a:ext cx="742680" cy="57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115040" y="5619240"/>
                  <a:ext cx="742680" cy="577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" name=""/>
            <p:cNvSpPr/>
            <p:nvPr/>
          </p:nvSpPr>
          <p:spPr>
            <a:xfrm>
              <a:off x="6014880" y="3971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33960" y="5076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05920" y="3419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8000"/>
                  </a:solidFill>
                  <a:latin typeface="Arial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05920" y="397188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49040" y="515304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3300"/>
                  </a:solidFill>
                  <a:latin typeface="Arial"/>
                </a:rPr>
                <a:t>0.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49040" y="55911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76880" y="2981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8000"/>
                  </a:solidFill>
                  <a:latin typeface="Arial"/>
                </a:rPr>
                <a:t>19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81840" y="433404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39080" y="4695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33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81840" y="60102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529520" y="3324240"/>
            <a:ext cx="2349720" cy="2756520"/>
            <a:chOff x="4529520" y="3324240"/>
            <a:chExt cx="2349720" cy="2756520"/>
          </a:xfrm>
        </p:grpSpPr>
        <p:sp>
          <p:nvSpPr>
            <p:cNvPr id="118" name=""/>
            <p:cNvSpPr/>
            <p:nvPr/>
          </p:nvSpPr>
          <p:spPr>
            <a:xfrm>
              <a:off x="4529520" y="3324240"/>
              <a:ext cx="23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00x0.1–100x0.9=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06200" y="5743440"/>
              <a:ext cx="22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x0.99–100x0.01=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0.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92200" y="2409840"/>
            <a:ext cx="3952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0160" y="2019240"/>
            <a:ext cx="0" cy="11541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74920" y="2027160"/>
            <a:ext cx="0" cy="11541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investoped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3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087360" y="307404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097160" y="365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ISKTEC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5-03T14:19:10Z</cp:lastPrinted>
  <dcterms:modified xsi:type="dcterms:W3CDTF">2003-09-09T23:34:18Z</dcterms:modified>
  <cp:revision>149</cp:revision>
  <dc:subject/>
  <dc:title>compet</dc:title>
</cp:coreProperties>
</file>