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8E8-20F4-4BCD-9C6D-CE650E10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FAD-5265-4793-9E85-B48F53F6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427-1004-42AC-BADC-4721AB35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585-E6DF-492B-B88A-60A9A8E1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9EB-B436-4B1C-952E-E5D81870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207-6468-4CA0-9FFE-E887BD7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4A5-BBFA-4E13-8581-3FB7055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D44-17CA-44C8-B0E9-BA01A922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A23-B1B4-4431-9381-9F3047C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437-BD8F-4B3B-B6A0-0081DF6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D67-F4DC-489C-9E7C-779C903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CF0-BC69-43AC-9323-1461472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00E-552E-4CCA-90E1-FAF081339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3172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neel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5360" y="5162400"/>
            <a:ext cx="7657920" cy="952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neel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4133880"/>
            <a:ext cx="765792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a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43280" y="4248000"/>
            <a:ext cx="6914880" cy="133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82880" y="94788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Normas, Padrões, Certif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5680" y="2048040"/>
            <a:ext cx="62715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adr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MPEG, RS 232, IEE 488, PCMCIA, *.ps, etc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         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USB?, Zip Drive?, 110/220V?, SCSI?, PAL-M?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88360" y="3236760"/>
            <a:ext cx="4139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ABNT, DIN, IEEE, CCIT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78000" y="4313160"/>
            <a:ext cx="47768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ertif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ISO 9002, ISO 14001, BS 88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3440" y="4056120"/>
            <a:ext cx="1774800" cy="119844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10360" y="7812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Certif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8920" y="32011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056120"/>
            <a:ext cx="1774800" cy="119844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10360" y="7812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Certif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68920" y="32011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83320" y="2763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3440" y="3846600"/>
            <a:ext cx="1471680" cy="14065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1640" y="3992400"/>
            <a:ext cx="136440" cy="130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8120" y="3846600"/>
            <a:ext cx="1461960" cy="3556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8120" y="297828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02040" y="378612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00240" y="4137120"/>
            <a:ext cx="1447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3240" y="2190600"/>
            <a:ext cx="1619280" cy="723960"/>
          </a:xfrm>
          <a:prstGeom prst="wedgeRoundRectCallout">
            <a:avLst>
              <a:gd name="adj1" fmla="val -54703"/>
              <a:gd name="adj2" fmla="val 198462"/>
              <a:gd name="adj3" fmla="val 16667"/>
            </a:avLst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spesa 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ertif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10360" y="7812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Certif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9800" y="455868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68920" y="32011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3320" y="2763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17840" y="3598920"/>
            <a:ext cx="1946160" cy="165420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4880" y="3598920"/>
            <a:ext cx="1960560" cy="3682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75040" y="232092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6360" y="4215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3440" y="3846600"/>
            <a:ext cx="1471680" cy="14065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3440" y="3846600"/>
            <a:ext cx="1466640" cy="355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8120" y="297828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97400" y="353844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2040" y="3786120"/>
            <a:ext cx="144360" cy="130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0280" y="3903840"/>
            <a:ext cx="144720" cy="129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00240" y="4137120"/>
            <a:ext cx="144720" cy="129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05160" y="3984480"/>
            <a:ext cx="144360" cy="1303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ANS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AB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NMET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55520" y="3979800"/>
            <a:ext cx="7089840" cy="246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85960" y="1655640"/>
          <a:ext cx="7432560" cy="48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655640"/>
                    <a:ext cx="743256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69120" y="81900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roteção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44520" y="254376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Declaração Universal dos Direit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2720" y="3408840"/>
            <a:ext cx="85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Lucida Casual"/>
              </a:rPr>
              <a:t>Art. 27, §2</a:t>
            </a:r>
            <a:r>
              <a:rPr b="1" lang="pt-BR" sz="2000" spc="-1" strike="noStrike" baseline="30000">
                <a:solidFill>
                  <a:srgbClr val="ff5050"/>
                </a:solidFill>
                <a:latin typeface="Lucida Casual"/>
              </a:rPr>
              <a:t>o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“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odo homem tem direito à proteção dos interesses mor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 materiais decorrentes de qualquer produção científica, literá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ou artística da qual seja auto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ABP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NEP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NP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USPATO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EUROP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WIP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7880" y="846000"/>
            <a:ext cx="76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3080" y="2405520"/>
            <a:ext cx="723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onstituição da República Federativa d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22 set 19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720" y="3573720"/>
            <a:ext cx="762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Título II: Dos Direitos e Garantias Fundam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, Art. 5</a:t>
            </a:r>
            <a:r>
              <a:rPr b="1" lang="pt-BR" sz="2000" spc="-1" strike="noStrike" baseline="30000">
                <a:solidFill>
                  <a:srgbClr val="ff3300"/>
                </a:solidFill>
                <a:latin typeface="Lucida Casual"/>
              </a:rPr>
              <a:t>o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, XXVI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“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aos autores pertence o direito exclusivo de utilizaçã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ublicação ou reprodução de suas obras, transmissível a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herdeiros pelo tempo que a lei fix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5600" y="1794240"/>
            <a:ext cx="4344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ódigo P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Decreto-Lei no 3.914 de 07 dez 19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86840" y="2664000"/>
            <a:ext cx="708120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Título III: Dos Crimes Contra a Propriedade I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: Art. 184 a 186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opriedade 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I: Art. 187 a 191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ivilégio de inve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II: Art. 192 a 195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marcas de indústria e comé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ap IV: art 196: 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ncorrência desl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37600" y="4863600"/>
            <a:ext cx="693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Obs: Lei 6.895 de 17 dez 1980: Dá nova redação aos art. 184 e 186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Art. 184: “Violar direito autor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Art. 186: “Nos crimes previstos neste Capítulo, sòmente se proc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mediante queixa...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7880" y="846000"/>
            <a:ext cx="76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37640" y="18421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Lei no 9.610 de 19 ju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5400" y="2776320"/>
            <a:ext cx="7866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“</a:t>
            </a: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ltera, atualiza e consolida a legislação sobre dire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utorais e dá outras providência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dequação aos tratados da O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azo de Proteção: 70 anos “post mortem auctor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rei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Morais (paternidade, integridade, modificação, divulgaçã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arrependimento, acesso a exemplar ún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Patrimoniais (“...qualquer tipo de utilização depende de prévia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expressa autorização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imitações: Braile, Pequenos Trechos, Paródias e Paraf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7880" y="846000"/>
            <a:ext cx="76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Legislação Pertinente à Propriedade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13360" y="2563920"/>
            <a:ext cx="480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Lucida Casual"/>
              </a:rPr>
              <a:t>Órgãos Regul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Lucida Casual"/>
              </a:rPr>
              <a:t>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Lucida Casual"/>
              </a:rPr>
              <a:t>Fiscaliz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3440" y="4056120"/>
            <a:ext cx="1774800" cy="119844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12400" y="8002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69280" y="3125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8240" y="407520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03440" y="405936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5040" y="5276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2800" y="3861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6280" y="3311640"/>
            <a:ext cx="3116160" cy="133956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06600" y="4002120"/>
            <a:ext cx="1447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03440" y="4075200"/>
            <a:ext cx="1771560" cy="1166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3440" y="3889440"/>
            <a:ext cx="1530360" cy="13651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3480" y="4539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73560" y="408636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603440" y="4071960"/>
            <a:ext cx="1774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8620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62160" y="36885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3311640"/>
            <a:ext cx="3162240" cy="1349280"/>
          </a:xfrm>
          <a:custGeom>
            <a:avLst/>
            <a:gdLst/>
            <a:ahLst/>
            <a:rect l="l" t="t" r="r" b="b"/>
            <a:pathLst>
              <a:path w="1992" h="850">
                <a:moveTo>
                  <a:pt x="0" y="850"/>
                </a:moveTo>
                <a:cubicBezTo>
                  <a:pt x="117" y="816"/>
                  <a:pt x="465" y="740"/>
                  <a:pt x="711" y="648"/>
                </a:cubicBezTo>
                <a:cubicBezTo>
                  <a:pt x="957" y="556"/>
                  <a:pt x="1260" y="409"/>
                  <a:pt x="1474" y="300"/>
                </a:cubicBezTo>
                <a:cubicBezTo>
                  <a:pt x="1688" y="192"/>
                  <a:pt x="1906" y="50"/>
                  <a:pt x="199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08400" y="4002120"/>
            <a:ext cx="13500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2568600"/>
            <a:ext cx="3170160" cy="197784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56040" y="382284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98080" y="2374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19400" y="4071960"/>
            <a:ext cx="1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12400" y="8002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03440" y="4075200"/>
            <a:ext cx="1770120" cy="1166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3440" y="3889440"/>
            <a:ext cx="1530360" cy="13651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617840" y="2587680"/>
            <a:ext cx="3535560" cy="2320200"/>
            <a:chOff x="1617840" y="2587680"/>
            <a:chExt cx="3535560" cy="2320200"/>
          </a:xfrm>
        </p:grpSpPr>
        <p:sp>
          <p:nvSpPr>
            <p:cNvPr id="244" name=""/>
            <p:cNvSpPr/>
            <p:nvPr/>
          </p:nvSpPr>
          <p:spPr>
            <a:xfrm>
              <a:off x="1617840" y="2587680"/>
              <a:ext cx="3159000" cy="210672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03480" y="45396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603440" y="4071960"/>
            <a:ext cx="1774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8620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62160" y="36885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3311640"/>
            <a:ext cx="3162240" cy="1349280"/>
          </a:xfrm>
          <a:custGeom>
            <a:avLst/>
            <a:gdLst/>
            <a:ahLst/>
            <a:rect l="l" t="t" r="r" b="b"/>
            <a:pathLst>
              <a:path w="1992" h="850">
                <a:moveTo>
                  <a:pt x="0" y="850"/>
                </a:moveTo>
                <a:cubicBezTo>
                  <a:pt x="117" y="816"/>
                  <a:pt x="465" y="740"/>
                  <a:pt x="711" y="648"/>
                </a:cubicBezTo>
                <a:cubicBezTo>
                  <a:pt x="957" y="556"/>
                  <a:pt x="1260" y="409"/>
                  <a:pt x="1474" y="300"/>
                </a:cubicBezTo>
                <a:cubicBezTo>
                  <a:pt x="1688" y="192"/>
                  <a:pt x="1906" y="50"/>
                  <a:pt x="199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98080" y="2374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19400" y="4071960"/>
            <a:ext cx="1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16040" y="3882960"/>
            <a:ext cx="1515960" cy="28908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2568600"/>
            <a:ext cx="3170160" cy="197784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6040" y="382284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719360"/>
            <a:ext cx="2832120" cy="565200"/>
          </a:xfrm>
          <a:prstGeom prst="wedgeRoundRectCallout">
            <a:avLst>
              <a:gd name="adj1" fmla="val -53476"/>
              <a:gd name="adj2" fmla="val 351685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muneração do A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59280" y="411624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73560" y="408636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08400" y="4002120"/>
            <a:ext cx="135000" cy="13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12400" y="8002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603440" y="3586320"/>
            <a:ext cx="1963800" cy="166824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603440" y="1447560"/>
            <a:ext cx="0" cy="401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525780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7440" y="540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620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36885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3311640"/>
            <a:ext cx="3162240" cy="1349280"/>
          </a:xfrm>
          <a:custGeom>
            <a:avLst/>
            <a:gdLst/>
            <a:ahLst/>
            <a:rect l="l" t="t" r="r" b="b"/>
            <a:pathLst>
              <a:path w="1992" h="850">
                <a:moveTo>
                  <a:pt x="0" y="850"/>
                </a:moveTo>
                <a:cubicBezTo>
                  <a:pt x="117" y="816"/>
                  <a:pt x="465" y="740"/>
                  <a:pt x="711" y="648"/>
                </a:cubicBezTo>
                <a:cubicBezTo>
                  <a:pt x="957" y="556"/>
                  <a:pt x="1260" y="409"/>
                  <a:pt x="1474" y="300"/>
                </a:cubicBezTo>
                <a:cubicBezTo>
                  <a:pt x="1688" y="192"/>
                  <a:pt x="1906" y="50"/>
                  <a:pt x="199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8080" y="2374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6040" y="3579840"/>
            <a:ext cx="1949400" cy="390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2568600"/>
            <a:ext cx="3170160" cy="197784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89640" y="4127040"/>
            <a:ext cx="3684240" cy="1433880"/>
            <a:chOff x="4589640" y="4127040"/>
            <a:chExt cx="3684240" cy="1433880"/>
          </a:xfrm>
        </p:grpSpPr>
        <p:sp>
          <p:nvSpPr>
            <p:cNvPr id="278" name=""/>
            <p:cNvSpPr/>
            <p:nvPr/>
          </p:nvSpPr>
          <p:spPr>
            <a:xfrm flipV="1">
              <a:off x="4589640" y="4127040"/>
              <a:ext cx="0" cy="476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05680" y="4591080"/>
              <a:ext cx="2068200" cy="969840"/>
            </a:xfrm>
            <a:prstGeom prst="wedgeRoundRectCallout">
              <a:avLst>
                <a:gd name="adj1" fmla="val -126824"/>
                <a:gd name="adj2" fmla="val -68495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ondições m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liberais de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622520" y="1887480"/>
            <a:ext cx="3559320" cy="2456640"/>
            <a:chOff x="1622520" y="1887480"/>
            <a:chExt cx="3559320" cy="2456640"/>
          </a:xfrm>
        </p:grpSpPr>
        <p:sp>
          <p:nvSpPr>
            <p:cNvPr id="281" name=""/>
            <p:cNvSpPr/>
            <p:nvPr/>
          </p:nvSpPr>
          <p:spPr>
            <a:xfrm>
              <a:off x="4831920" y="397584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22520" y="1887480"/>
              <a:ext cx="3186000" cy="228132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490920" y="3506760"/>
            <a:ext cx="1461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89480" y="3898800"/>
            <a:ext cx="14580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17840" y="258768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12400" y="8002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1719360"/>
            <a:ext cx="2832120" cy="565200"/>
          </a:xfrm>
          <a:prstGeom prst="wedgeRoundRectCallout">
            <a:avLst>
              <a:gd name="adj1" fmla="val -54819"/>
              <a:gd name="adj2" fmla="val 31460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muneração do A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03440" y="4264200"/>
            <a:ext cx="1400040" cy="99036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56680" y="8319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ira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5253120"/>
            <a:ext cx="5597640" cy="4680"/>
          </a:xfrm>
          <a:custGeom>
            <a:avLst/>
            <a:gdLst/>
            <a:ahLst/>
            <a:rect l="l" t="t" r="r" b="b"/>
            <a:pathLst>
              <a:path w="3526" h="3">
                <a:moveTo>
                  <a:pt x="0" y="3"/>
                </a:moveTo>
                <a:lnTo>
                  <a:pt x="35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17840" y="2587680"/>
            <a:ext cx="4803480" cy="260820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92520" y="48427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01560" y="5436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2996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0600" y="40348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568600"/>
            <a:ext cx="4699080" cy="197784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25720" y="41832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9040" y="23598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71600" y="5253120"/>
            <a:ext cx="5597640" cy="4680"/>
          </a:xfrm>
          <a:custGeom>
            <a:avLst/>
            <a:gdLst/>
            <a:ahLst/>
            <a:rect l="l" t="t" r="r" b="b"/>
            <a:pathLst>
              <a:path w="3526" h="3">
                <a:moveTo>
                  <a:pt x="0" y="3"/>
                </a:moveTo>
                <a:lnTo>
                  <a:pt x="35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17840" y="2587680"/>
            <a:ext cx="4803480" cy="260820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01560" y="5436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97120" y="4379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92520" y="48427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6280" y="235188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30840" y="499788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Lucida Casual"/>
              </a:rPr>
              <a:t>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3680" y="2619360"/>
            <a:ext cx="2813040" cy="255096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5040" y="499176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Lucida Casual"/>
              </a:rPr>
              <a:t>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2568600"/>
            <a:ext cx="4699080" cy="197784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22520" y="4700520"/>
            <a:ext cx="4699080" cy="40320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25760" y="2639880"/>
            <a:ext cx="1412640" cy="249264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56680" y="8319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ira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09560" y="4243320"/>
            <a:ext cx="1406520" cy="10098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5253120"/>
            <a:ext cx="5597640" cy="4680"/>
          </a:xfrm>
          <a:custGeom>
            <a:avLst/>
            <a:gdLst/>
            <a:ahLst/>
            <a:rect l="l" t="t" r="r" b="b"/>
            <a:pathLst>
              <a:path w="3526" h="3">
                <a:moveTo>
                  <a:pt x="0" y="3"/>
                </a:moveTo>
                <a:lnTo>
                  <a:pt x="35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17840" y="2587680"/>
            <a:ext cx="4803480" cy="260820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01560" y="5436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96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0600" y="40348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7120" y="4379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92520" y="48427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235188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0840" y="499788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Lucida Casual"/>
              </a:rPr>
              <a:t>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3680" y="2619360"/>
            <a:ext cx="2813040" cy="255096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5040" y="499176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Lucida Casual"/>
              </a:rPr>
              <a:t>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8120" y="4338720"/>
            <a:ext cx="944640" cy="9079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2568600"/>
            <a:ext cx="4699080" cy="197784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22520" y="4700520"/>
            <a:ext cx="4699080" cy="40320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25760" y="2639880"/>
            <a:ext cx="1412640" cy="249264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76440" y="429732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93920" y="1703520"/>
            <a:ext cx="1736640" cy="884160"/>
          </a:xfrm>
          <a:prstGeom prst="wedgeRoundRectCallout">
            <a:avLst>
              <a:gd name="adj1" fmla="val -64166"/>
              <a:gd name="adj2" fmla="val 28572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tração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torn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dutor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25720" y="4183200"/>
            <a:ext cx="144360" cy="129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6680" y="8319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ira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609560" y="4243320"/>
            <a:ext cx="1406520" cy="10098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5253120"/>
            <a:ext cx="5597640" cy="4680"/>
          </a:xfrm>
          <a:custGeom>
            <a:avLst/>
            <a:gdLst/>
            <a:ahLst/>
            <a:rect l="l" t="t" r="r" b="b"/>
            <a:pathLst>
              <a:path w="3526" h="3">
                <a:moveTo>
                  <a:pt x="0" y="3"/>
                </a:moveTo>
                <a:lnTo>
                  <a:pt x="35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17840" y="2587680"/>
            <a:ext cx="4803480" cy="260820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834120" y="23295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01560" y="5436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9960" y="5261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90600" y="40348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97120" y="4379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92520" y="48427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26280" y="235188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30840" y="499788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Lucida Casual"/>
              </a:rPr>
              <a:t>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33680" y="2619360"/>
            <a:ext cx="2813040" cy="255096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5040" y="499176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Lucida Casual"/>
              </a:rPr>
              <a:t>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8120" y="4338720"/>
            <a:ext cx="944640" cy="9079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603440" y="212580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2568600"/>
            <a:ext cx="4699080" cy="197784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6440" y="429732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6680" y="4979880"/>
            <a:ext cx="1068120" cy="27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25720" y="4183200"/>
            <a:ext cx="144360" cy="129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22520" y="4700520"/>
            <a:ext cx="4699080" cy="403200"/>
          </a:xfrm>
          <a:custGeom>
            <a:avLst/>
            <a:gdLst/>
            <a:ahLst/>
            <a:rect l="l" t="t" r="r" b="b"/>
            <a:pathLst>
              <a:path w="1997" h="1246">
                <a:moveTo>
                  <a:pt x="0" y="1246"/>
                </a:moveTo>
                <a:cubicBezTo>
                  <a:pt x="119" y="1205"/>
                  <a:pt x="464" y="1128"/>
                  <a:pt x="710" y="997"/>
                </a:cubicBezTo>
                <a:cubicBezTo>
                  <a:pt x="956" y="866"/>
                  <a:pt x="1262" y="629"/>
                  <a:pt x="1477" y="462"/>
                </a:cubicBezTo>
                <a:cubicBezTo>
                  <a:pt x="1692" y="296"/>
                  <a:pt x="1911" y="76"/>
                  <a:pt x="19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16080" y="4964040"/>
            <a:ext cx="0" cy="28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25760" y="2639880"/>
            <a:ext cx="1412640" cy="2492640"/>
          </a:xfrm>
          <a:custGeom>
            <a:avLst/>
            <a:gdLst/>
            <a:ahLst/>
            <a:rect l="l" t="t" r="r" b="b"/>
            <a:pathLst>
              <a:path w="3026" h="1643">
                <a:moveTo>
                  <a:pt x="0" y="0"/>
                </a:moveTo>
                <a:cubicBezTo>
                  <a:pt x="147" y="175"/>
                  <a:pt x="377" y="778"/>
                  <a:pt x="881" y="1052"/>
                </a:cubicBezTo>
                <a:cubicBezTo>
                  <a:pt x="1417" y="1379"/>
                  <a:pt x="2262" y="1588"/>
                  <a:pt x="3026" y="16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10000" y="4906800"/>
            <a:ext cx="14436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93920" y="1703520"/>
            <a:ext cx="1736640" cy="884160"/>
          </a:xfrm>
          <a:prstGeom prst="wedgeRoundRectCallout">
            <a:avLst>
              <a:gd name="adj1" fmla="val -64166"/>
              <a:gd name="adj2" fmla="val 28572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tração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torn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dutor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16360" y="2925720"/>
            <a:ext cx="1455480" cy="692280"/>
          </a:xfrm>
          <a:prstGeom prst="wedgeRoundRectCallout">
            <a:avLst>
              <a:gd name="adj1" fmla="val -86861"/>
              <a:gd name="adj2" fmla="val 25435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torn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i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32640" y="499968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Lucida Casual"/>
              </a:rPr>
              <a:t>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54200" y="4975200"/>
            <a:ext cx="0" cy="28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56680" y="8319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ira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63560" y="800280"/>
            <a:ext cx="76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roteção aos Valores Sociais e Me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5120" y="2125800"/>
            <a:ext cx="5942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Organizações civis ou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ONGs, clubes, associações, jornais, tv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25560" y="3159000"/>
            <a:ext cx="5267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Organizações governamen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Delegacias, comitês consultivos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76320" y="4235400"/>
            <a:ext cx="5038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Organizações religi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Igrejas, escolas confessionais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GU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3600" y="1619280"/>
            <a:ext cx="776664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omover a utilização de instrumentos da Teoria Econômica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avaliar os impactos dos mecanismos de regulação e 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nalisar conceitos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à Propriedade Intele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rmatização e Certif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a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a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teção aos Valores So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MAKEBOM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NTER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DRO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ARRO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ANIMCON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BOYCO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SATA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S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DECENAC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632320" y="8380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roteção a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65080" y="3187800"/>
            <a:ext cx="3578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Órgãos de Prot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PROCOM, IDEC,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2880" y="4176720"/>
            <a:ext cx="6814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ublicações e sites especia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Revistas de análise de sites, listas negras, etc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4040" y="2125800"/>
            <a:ext cx="4001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Legislação espec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Código do consumido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98200" y="5202360"/>
            <a:ext cx="4061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ertificações e homolog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s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INMETRO, FDA, FAA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1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7120" y="79380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Agências Reguladoras e Fiscaliz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07720" y="2062080"/>
            <a:ext cx="678132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A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Águas (17 jul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ATEL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Telecomunicações (07 jul 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CINE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Cinema (06 set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EEL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Energia Elétrica (26 dez 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P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Petróleo (06 ago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S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Saúde e Planos de Saúde (05 jun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TT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Transporte Terrestre (05 jun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TAQ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Transporte Aquaviário (05 jun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VISA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Vigilância Sanitária (26 jan 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512080" y="2025720"/>
            <a:ext cx="428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ódigo de Defesa d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(Lei 8072 de 11 set 19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4880" y="3164040"/>
            <a:ext cx="765432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Tit I: Dos Direitos d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Cap IV, Seção III: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Da Responsabilidade por Vício do Produt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do Serviço -&gt; Prazo para sanar o vício 30 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Cap V, Art. 37: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ropaganda Enganosa ou Publicidade Abu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Cap VII, Art. 56: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Das Sanções Administrativas (multa, apreen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do produto, cassação do registro, probição de fabricação, interd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do estabelecimento, intervenção, imposição de contra-propagan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1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32320" y="8380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roteção a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512080" y="2025720"/>
            <a:ext cx="428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ódigo de Defesa d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(Lei 8072 de 11 set 19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6320" y="2946240"/>
            <a:ext cx="778248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Tit II: Das Infrações Pe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Art. 66: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Fazer afirmação falsa ou enganosa, ou omitir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levante sobre a natureza, característica, qualidade, quantid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segurança, desempenho, durabilidade, preço ou garantia de 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 serviços;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Pena: Detenção de 3 meses a 1 ano e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Art. 67: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Fazer ou promover publicidade que sabe ou deveria sa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ser enganosa ou abusiva: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Pena: Detenção de 3 meses a 1 ano e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Art. 72: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Impedir ou dificultar o acesso do consumidor às 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que sobre ele contém em cadastros, bando de dados, ficha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gistros.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Pena: Detenção de 3 meses a 1 ano e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32320" y="8380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roteção a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CONSRIG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ROC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IDE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688840" y="800280"/>
            <a:ext cx="35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Proteção a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6360" y="1654200"/>
            <a:ext cx="817524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Legislação espec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Fair trading act, 1973; Sherman act, 1890; Clayton act, 191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No Brasil: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Lei 8.884 de 11 jun 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Art. 20 “... são consideradas infrações, os atos, mesmo aqueles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não surtem o efeito pretendido, direcionad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 - limitar, falsear ou de qualquer forma prejudicar a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ncorrência ou a livre inici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I- dominar o mercado relevante de bens e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II - aumentar arbitrariamente os lu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V - exercer de forma abusiva posição dominant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200" y="4479840"/>
            <a:ext cx="7385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Organis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Organização Mundial do Comérci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No Brasil: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CADE - Conselho Administrativo de Defesa Econô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000" y="5605560"/>
            <a:ext cx="52340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No caso do mercado de trab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xempl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(Sindicatos, Ministério do Trabalh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3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634200" y="7650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Legis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6080" y="1686600"/>
            <a:ext cx="810396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Legislação Complementar, Lei 8.137 (27 dez 19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t. 4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: "Constitui crime contra a ordem econôm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 - abusar do poder econômico, dominando o mercado ou eliminando, total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arcialmente, a concorrência medi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) ajuste ou acordo de empres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b) aquisição de acervos de empresas ou cotas, ações, títulos ou direit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) coalizão, incorporação, fusão ou integração de empres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) concentração de ações, títulos, cotas ou direitos em poder de empres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mpresas coligadas ou controladas, ou pessoas físicas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) cessação parcial ou total das atividades da empres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f) impedimento a constituição, funcionamento ou desenvolvime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mpresa concorrent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I - formar acordo, convênio, ajuste ou aliança entre ofertantes, visan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) à fixação artificial de preços ou quantidades vendidas ou produzid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b) ao controle regionalizado do mercado por empresa ou grupo de empres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) ao controle, em detrimento da concorrência, de rede de distribuição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de forneced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8000" y="1477440"/>
            <a:ext cx="817272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t. 4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, continuação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II - discriminar preços de bens ou de prestação de serviços por ajustes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cordo de grupo econômico, com o fim de estabelecer monopólio, ou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liminar, total ou parcialmente, a 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 - açambarcar, sonegar, destruir ou inutilizar bens de produção ou de 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m o fim de estabelecer monopólio ou de eliminar, total ou parcialmente,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 - provocar oscilação de preços em detrimento de empresa concorrente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endedor de matéria-prima, mediante ajuste ou acordo, ou por outro me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fraudul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I - vender mercadorias abaixo do preço de custo, com o fim de impedi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 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II - elevar sem justa caus o preço do bem ou serviço, valendo-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osição dominante no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na: reclusão de 2 a 5 anos ou multa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6960" y="2234880"/>
            <a:ext cx="820908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t 5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: Constitui crime de mesma nature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 - exigir exclusividade de propaganda, transmissão ou difusão de publicida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m detrimento da concorrênc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I - subordinar a venda de bem ou a utilização de serviço à aquisição de ou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bem, ou ao uso de determinado serviç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II - sujeitar a venda de bem ou a utilização de serviço à aquisição de quant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bitrariamente determina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V - recusar-se, sem justa causa, o diretor, administrador, ou gerente de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 prestar à autoridade competente ou prestá-la de modo inexato, informa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obre o custo de produção ou preço de v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na: detenção de 2 a 5 anos ou mul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2440" y="2035080"/>
            <a:ext cx="8317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t 6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: Constitui crime de mesma nature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 - vender ou oferecer à venda mercadoria, ou contrar ou oferecer serviço,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reço superior ao oficialmente tabelado, ao fixado por órgão ou entid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overnamental, e ao estabelecido em regime legal de contro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I - aplicar fórmula de reajustamento de preços ou indexação de contrato proibid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u diversa daquela que for legalmente estabelecida, ou fixada por auto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mpeten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II - exigir, cobrar ou receber qualquer vantagem ou importância adicion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reço tabelado, congelado, administrado, fixado ou controlado pelo P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úblico, inclusive por meio de adoção ou aumento de taxa ou outro perc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ncidente sobre qualquer contratação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na: detenção de 1 a 4 anos ou mul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natel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CONSP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30120" y="326448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natel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4114800"/>
            <a:ext cx="6419880" cy="8953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natel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76480" y="3886200"/>
            <a:ext cx="6191280" cy="7430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neel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09-29T17:08:14Z</dcterms:modified>
  <cp:revision>170</cp:revision>
  <dc:subject/>
  <dc:title>Customizados</dc:title>
</cp:coreProperties>
</file>