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212-1022-4DA3-A450-85B437C8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F1E-1157-465B-AE21-9376F9B4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8B2-2E7F-4125-8614-357B638F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B0F-AFEB-4653-AC79-FD65E3DD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841-75A6-40FA-ADA6-1786CCF7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87B-7A71-4367-BAFA-6F4E7ED8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33A-E963-4CEE-B186-D0D9608E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FE7-41A7-4EB1-8AA0-90FB6776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580-5DF7-48DB-AD60-8F6BF4A6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DC8-4325-4E6E-887D-FC3D925A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11E-71F3-4241-906C-35ADA9B9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9A4-F6DF-49FA-B298-C2874B03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EE51-76AF-4384-B445-C410D9BE0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3172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85680" y="2014560"/>
            <a:ext cx="754884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Estátic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não investir em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Depen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responder a iniciativas e especificações ex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Im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seguir os líderes, mas com vantagens de 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Defen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reduzir os riscos através de </a:t>
            </a:r>
            <a:r>
              <a:rPr b="1" i="1" lang="en-US" sz="2000" spc="-1" strike="noStrike">
                <a:solidFill>
                  <a:srgbClr val="808080"/>
                </a:solidFill>
                <a:latin typeface="Lucida Casu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Ofen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-&gt; manter liderança tecnológica e de mercado atrav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de investimentos 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3280" y="81216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stratégias de Ino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13120" y="754920"/>
            <a:ext cx="34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eríodo de Ino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19320" y="1720080"/>
            <a:ext cx="6675480" cy="1131120"/>
            <a:chOff x="1219320" y="1720080"/>
            <a:chExt cx="6675480" cy="1131120"/>
          </a:xfrm>
        </p:grpSpPr>
        <p:sp>
          <p:nvSpPr>
            <p:cNvPr id="112" name=""/>
            <p:cNvSpPr/>
            <p:nvPr/>
          </p:nvSpPr>
          <p:spPr>
            <a:xfrm>
              <a:off x="1219320" y="2284560"/>
              <a:ext cx="6675480" cy="350640"/>
            </a:xfrm>
            <a:custGeom>
              <a:avLst/>
              <a:gdLst>
                <a:gd name="textAreaLeft" fmla="*/ 0 w 6675480"/>
                <a:gd name="textAreaRight" fmla="*/ 6675840 w 66754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27" y="0"/>
                  </a:lnTo>
                  <a:lnTo>
                    <a:pt x="21600" y="10800"/>
                  </a:lnTo>
                  <a:lnTo>
                    <a:pt x="2072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2058840"/>
              <a:ext cx="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64360" y="2058840"/>
              <a:ext cx="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11520" y="2058840"/>
              <a:ext cx="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78400" y="2057400"/>
              <a:ext cx="0" cy="79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76360" y="17218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57640" y="17218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1560" y="17377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9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78440" y="17200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179800" y="2850480"/>
            <a:ext cx="1880640" cy="717480"/>
            <a:chOff x="2179800" y="2850480"/>
            <a:chExt cx="1880640" cy="717480"/>
          </a:xfrm>
        </p:grpSpPr>
        <p:grpSp>
          <p:nvGrpSpPr>
            <p:cNvPr id="122" name=""/>
            <p:cNvGrpSpPr/>
            <p:nvPr/>
          </p:nvGrpSpPr>
          <p:grpSpPr>
            <a:xfrm>
              <a:off x="2179800" y="2987640"/>
              <a:ext cx="1880640" cy="345240"/>
              <a:chOff x="2179800" y="2987640"/>
              <a:chExt cx="1880640" cy="345240"/>
            </a:xfrm>
          </p:grpSpPr>
          <p:sp>
            <p:nvSpPr>
              <p:cNvPr id="123" name=""/>
              <p:cNvSpPr/>
              <p:nvPr/>
            </p:nvSpPr>
            <p:spPr>
              <a:xfrm>
                <a:off x="2179800" y="298764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79800" y="3153960"/>
                <a:ext cx="1874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060440" y="299952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838960" y="28504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88680" y="31996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fotograf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55600" y="3231360"/>
            <a:ext cx="1137960" cy="733320"/>
            <a:chOff x="3855600" y="3231360"/>
            <a:chExt cx="1137960" cy="733320"/>
          </a:xfrm>
        </p:grpSpPr>
        <p:grpSp>
          <p:nvGrpSpPr>
            <p:cNvPr id="129" name=""/>
            <p:cNvGrpSpPr/>
            <p:nvPr/>
          </p:nvGrpSpPr>
          <p:grpSpPr>
            <a:xfrm>
              <a:off x="3855960" y="3382920"/>
              <a:ext cx="1119240" cy="345240"/>
              <a:chOff x="3855960" y="3382920"/>
              <a:chExt cx="1119240" cy="345240"/>
            </a:xfrm>
          </p:grpSpPr>
          <p:sp>
            <p:nvSpPr>
              <p:cNvPr id="130" name=""/>
              <p:cNvSpPr/>
              <p:nvPr/>
            </p:nvSpPr>
            <p:spPr>
              <a:xfrm>
                <a:off x="3855960" y="338292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55960" y="3549240"/>
                <a:ext cx="1115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75200" y="339480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182120" y="32313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5600" y="359640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telef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656960" y="3839400"/>
            <a:ext cx="779760" cy="735120"/>
            <a:chOff x="4656960" y="3839400"/>
            <a:chExt cx="779760" cy="735120"/>
          </a:xfrm>
        </p:grpSpPr>
        <p:grpSp>
          <p:nvGrpSpPr>
            <p:cNvPr id="136" name=""/>
            <p:cNvGrpSpPr/>
            <p:nvPr/>
          </p:nvGrpSpPr>
          <p:grpSpPr>
            <a:xfrm>
              <a:off x="4680000" y="4008600"/>
              <a:ext cx="752400" cy="345240"/>
              <a:chOff x="4680000" y="4008600"/>
              <a:chExt cx="752400" cy="3452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80000" y="400860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80000" y="4174920"/>
                <a:ext cx="749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32400" y="402048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822200" y="3839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6960" y="420624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rá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55520" y="3825000"/>
            <a:ext cx="465840" cy="793800"/>
            <a:chOff x="5555520" y="3825000"/>
            <a:chExt cx="465840" cy="793800"/>
          </a:xfrm>
        </p:grpSpPr>
        <p:grpSp>
          <p:nvGrpSpPr>
            <p:cNvPr id="143" name=""/>
            <p:cNvGrpSpPr/>
            <p:nvPr/>
          </p:nvGrpSpPr>
          <p:grpSpPr>
            <a:xfrm>
              <a:off x="5594400" y="4022640"/>
              <a:ext cx="403200" cy="345240"/>
              <a:chOff x="5594400" y="4022640"/>
              <a:chExt cx="403200" cy="345240"/>
            </a:xfrm>
          </p:grpSpPr>
          <p:sp>
            <p:nvSpPr>
              <p:cNvPr id="144" name=""/>
              <p:cNvSpPr/>
              <p:nvPr/>
            </p:nvSpPr>
            <p:spPr>
              <a:xfrm>
                <a:off x="5594400" y="402264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94400" y="4188960"/>
                <a:ext cx="402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97600" y="403452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555520" y="3825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58760" y="4250520"/>
              <a:ext cx="46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T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772240" y="2956680"/>
            <a:ext cx="1316160" cy="824040"/>
            <a:chOff x="5772240" y="2956680"/>
            <a:chExt cx="1316160" cy="824040"/>
          </a:xfrm>
        </p:grpSpPr>
        <p:grpSp>
          <p:nvGrpSpPr>
            <p:cNvPr id="150" name=""/>
            <p:cNvGrpSpPr/>
            <p:nvPr/>
          </p:nvGrpSpPr>
          <p:grpSpPr>
            <a:xfrm>
              <a:off x="6219720" y="3168720"/>
              <a:ext cx="358920" cy="345240"/>
              <a:chOff x="6219720" y="3168720"/>
              <a:chExt cx="358920" cy="345240"/>
            </a:xfrm>
          </p:grpSpPr>
          <p:sp>
            <p:nvSpPr>
              <p:cNvPr id="151" name=""/>
              <p:cNvSpPr/>
              <p:nvPr/>
            </p:nvSpPr>
            <p:spPr>
              <a:xfrm>
                <a:off x="6219720" y="316872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19720" y="3335040"/>
                <a:ext cx="3578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78640" y="318060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163560" y="2956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72240" y="341244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transis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346440" y="3749040"/>
            <a:ext cx="874080" cy="823680"/>
            <a:chOff x="6346440" y="3749040"/>
            <a:chExt cx="874080" cy="823680"/>
          </a:xfrm>
        </p:grpSpPr>
        <p:grpSp>
          <p:nvGrpSpPr>
            <p:cNvPr id="157" name=""/>
            <p:cNvGrpSpPr/>
            <p:nvPr/>
          </p:nvGrpSpPr>
          <p:grpSpPr>
            <a:xfrm>
              <a:off x="6572160" y="3960720"/>
              <a:ext cx="358560" cy="345600"/>
              <a:chOff x="6572160" y="3960720"/>
              <a:chExt cx="358560" cy="345600"/>
            </a:xfrm>
          </p:grpSpPr>
          <p:sp>
            <p:nvSpPr>
              <p:cNvPr id="158" name=""/>
              <p:cNvSpPr/>
              <p:nvPr/>
            </p:nvSpPr>
            <p:spPr>
              <a:xfrm>
                <a:off x="6572160" y="3960720"/>
                <a:ext cx="0" cy="333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72160" y="4127400"/>
                <a:ext cx="357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930720" y="3972600"/>
                <a:ext cx="0" cy="333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529680" y="37490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46440" y="420444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315320" y="4663440"/>
            <a:ext cx="4571280" cy="1405080"/>
            <a:chOff x="4315320" y="4663440"/>
            <a:chExt cx="4571280" cy="1405080"/>
          </a:xfrm>
        </p:grpSpPr>
        <p:sp>
          <p:nvSpPr>
            <p:cNvPr id="164" name=""/>
            <p:cNvSpPr/>
            <p:nvPr/>
          </p:nvSpPr>
          <p:spPr>
            <a:xfrm>
              <a:off x="6599160" y="49687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16480" y="4663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19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5320" y="5487840"/>
              <a:ext cx="457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Casual"/>
                </a:rPr>
                <a:t>Paul Baran, RAND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Casual"/>
                </a:rPr>
                <a:t>“</a:t>
              </a:r>
              <a:r>
                <a:rPr b="1" lang="en-US" sz="1600" spc="-1" strike="noStrike">
                  <a:solidFill>
                    <a:srgbClr val="ff0000"/>
                  </a:solidFill>
                  <a:latin typeface="Lucida Casual"/>
                </a:rPr>
                <a:t>On Distributed Communication Networks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219320" y="1720080"/>
            <a:ext cx="6675480" cy="1131120"/>
            <a:chOff x="1219320" y="1720080"/>
            <a:chExt cx="6675480" cy="1131120"/>
          </a:xfrm>
        </p:grpSpPr>
        <p:sp>
          <p:nvSpPr>
            <p:cNvPr id="172" name=""/>
            <p:cNvSpPr/>
            <p:nvPr/>
          </p:nvSpPr>
          <p:spPr>
            <a:xfrm>
              <a:off x="1219320" y="2284560"/>
              <a:ext cx="6675480" cy="350640"/>
            </a:xfrm>
            <a:custGeom>
              <a:avLst/>
              <a:gdLst>
                <a:gd name="textAreaLeft" fmla="*/ 0 w 6675480"/>
                <a:gd name="textAreaRight" fmla="*/ 6675840 w 66754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27" y="0"/>
                  </a:lnTo>
                  <a:lnTo>
                    <a:pt x="21600" y="10800"/>
                  </a:lnTo>
                  <a:lnTo>
                    <a:pt x="2072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8800" y="2058840"/>
              <a:ext cx="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4360" y="2058840"/>
              <a:ext cx="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11520" y="2058840"/>
              <a:ext cx="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78400" y="2057400"/>
              <a:ext cx="0" cy="79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6360" y="17218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7640" y="17218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11560" y="17377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9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78440" y="17200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179800" y="2987640"/>
            <a:ext cx="1880640" cy="345240"/>
            <a:chOff x="2179800" y="2987640"/>
            <a:chExt cx="1880640" cy="345240"/>
          </a:xfrm>
        </p:grpSpPr>
        <p:sp>
          <p:nvSpPr>
            <p:cNvPr id="182" name=""/>
            <p:cNvSpPr/>
            <p:nvPr/>
          </p:nvSpPr>
          <p:spPr>
            <a:xfrm>
              <a:off x="2179800" y="298764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79800" y="3153960"/>
              <a:ext cx="1874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60440" y="299952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838960" y="2850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88680" y="3199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fotograf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680000" y="4008600"/>
            <a:ext cx="752400" cy="345240"/>
            <a:chOff x="4680000" y="4008600"/>
            <a:chExt cx="752400" cy="345240"/>
          </a:xfrm>
        </p:grpSpPr>
        <p:sp>
          <p:nvSpPr>
            <p:cNvPr id="188" name=""/>
            <p:cNvSpPr/>
            <p:nvPr/>
          </p:nvSpPr>
          <p:spPr>
            <a:xfrm>
              <a:off x="4680000" y="400860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0000" y="4174920"/>
              <a:ext cx="749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32400" y="402048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55960" y="3382920"/>
            <a:ext cx="1119240" cy="345240"/>
            <a:chOff x="3855960" y="3382920"/>
            <a:chExt cx="1119240" cy="345240"/>
          </a:xfrm>
        </p:grpSpPr>
        <p:sp>
          <p:nvSpPr>
            <p:cNvPr id="192" name=""/>
            <p:cNvSpPr/>
            <p:nvPr/>
          </p:nvSpPr>
          <p:spPr>
            <a:xfrm>
              <a:off x="3855960" y="338292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55960" y="3549240"/>
              <a:ext cx="111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75200" y="339480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182120" y="323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5600" y="35964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telef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22200" y="3839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56960" y="42062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rá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555520" y="3825000"/>
            <a:ext cx="465840" cy="793800"/>
            <a:chOff x="5555520" y="3825000"/>
            <a:chExt cx="465840" cy="793800"/>
          </a:xfrm>
        </p:grpSpPr>
        <p:grpSp>
          <p:nvGrpSpPr>
            <p:cNvPr id="200" name=""/>
            <p:cNvGrpSpPr/>
            <p:nvPr/>
          </p:nvGrpSpPr>
          <p:grpSpPr>
            <a:xfrm>
              <a:off x="5594400" y="4022640"/>
              <a:ext cx="403200" cy="345240"/>
              <a:chOff x="5594400" y="4022640"/>
              <a:chExt cx="403200" cy="345240"/>
            </a:xfrm>
          </p:grpSpPr>
          <p:sp>
            <p:nvSpPr>
              <p:cNvPr id="201" name=""/>
              <p:cNvSpPr/>
              <p:nvPr/>
            </p:nvSpPr>
            <p:spPr>
              <a:xfrm>
                <a:off x="5594400" y="402264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94400" y="4188960"/>
                <a:ext cx="402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997600" y="403452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5555520" y="3825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58760" y="4250520"/>
              <a:ext cx="46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T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772240" y="2956680"/>
            <a:ext cx="1316160" cy="824040"/>
            <a:chOff x="5772240" y="2956680"/>
            <a:chExt cx="1316160" cy="824040"/>
          </a:xfrm>
        </p:grpSpPr>
        <p:grpSp>
          <p:nvGrpSpPr>
            <p:cNvPr id="207" name=""/>
            <p:cNvGrpSpPr/>
            <p:nvPr/>
          </p:nvGrpSpPr>
          <p:grpSpPr>
            <a:xfrm>
              <a:off x="6219720" y="3168720"/>
              <a:ext cx="358920" cy="345240"/>
              <a:chOff x="6219720" y="3168720"/>
              <a:chExt cx="358920" cy="345240"/>
            </a:xfrm>
          </p:grpSpPr>
          <p:sp>
            <p:nvSpPr>
              <p:cNvPr id="208" name=""/>
              <p:cNvSpPr/>
              <p:nvPr/>
            </p:nvSpPr>
            <p:spPr>
              <a:xfrm>
                <a:off x="6219720" y="316872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19720" y="3335040"/>
                <a:ext cx="3578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78640" y="318060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6163560" y="2956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72240" y="341244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transis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346440" y="3749040"/>
            <a:ext cx="874080" cy="823680"/>
            <a:chOff x="6346440" y="3749040"/>
            <a:chExt cx="874080" cy="823680"/>
          </a:xfrm>
        </p:grpSpPr>
        <p:grpSp>
          <p:nvGrpSpPr>
            <p:cNvPr id="214" name=""/>
            <p:cNvGrpSpPr/>
            <p:nvPr/>
          </p:nvGrpSpPr>
          <p:grpSpPr>
            <a:xfrm>
              <a:off x="6572160" y="3960720"/>
              <a:ext cx="358560" cy="345600"/>
              <a:chOff x="6572160" y="3960720"/>
              <a:chExt cx="358560" cy="345600"/>
            </a:xfrm>
          </p:grpSpPr>
          <p:sp>
            <p:nvSpPr>
              <p:cNvPr id="215" name=""/>
              <p:cNvSpPr/>
              <p:nvPr/>
            </p:nvSpPr>
            <p:spPr>
              <a:xfrm>
                <a:off x="6572160" y="3960720"/>
                <a:ext cx="0" cy="333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72160" y="4127400"/>
                <a:ext cx="357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30720" y="3972600"/>
                <a:ext cx="0" cy="333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6529680" y="37490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46440" y="420444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599160" y="49687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1120" y="5548320"/>
            <a:ext cx="240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sual"/>
              </a:rPr>
              <a:t>ARPANE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sual"/>
              </a:rPr>
              <a:t>UCLA, SRI, UCSB, Ut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42160" y="4968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21400" y="4649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19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3120" y="754920"/>
            <a:ext cx="34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eríodo de Ino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2284560"/>
            <a:ext cx="6675480" cy="350640"/>
          </a:xfrm>
          <a:custGeom>
            <a:avLst/>
            <a:gdLst>
              <a:gd name="textAreaLeft" fmla="*/ 0 w 6675480"/>
              <a:gd name="textAreaRight" fmla="*/ 6675840 w 667548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27" y="0"/>
                </a:lnTo>
                <a:lnTo>
                  <a:pt x="21600" y="10800"/>
                </a:lnTo>
                <a:lnTo>
                  <a:pt x="20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2058840"/>
            <a:ext cx="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4360" y="2058840"/>
            <a:ext cx="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11520" y="2058840"/>
            <a:ext cx="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78400" y="2057400"/>
            <a:ext cx="0" cy="792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76360" y="1721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7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57640" y="1721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11560" y="173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78440" y="17200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179800" y="2987640"/>
            <a:ext cx="1880640" cy="345240"/>
            <a:chOff x="2179800" y="2987640"/>
            <a:chExt cx="1880640" cy="345240"/>
          </a:xfrm>
        </p:grpSpPr>
        <p:sp>
          <p:nvSpPr>
            <p:cNvPr id="239" name=""/>
            <p:cNvSpPr/>
            <p:nvPr/>
          </p:nvSpPr>
          <p:spPr>
            <a:xfrm>
              <a:off x="2179800" y="298764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79800" y="3153960"/>
              <a:ext cx="1874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60440" y="299952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838960" y="2850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88680" y="3199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fotograf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680000" y="4008600"/>
            <a:ext cx="752400" cy="345240"/>
            <a:chOff x="4680000" y="4008600"/>
            <a:chExt cx="752400" cy="345240"/>
          </a:xfrm>
        </p:grpSpPr>
        <p:sp>
          <p:nvSpPr>
            <p:cNvPr id="245" name=""/>
            <p:cNvSpPr/>
            <p:nvPr/>
          </p:nvSpPr>
          <p:spPr>
            <a:xfrm>
              <a:off x="4680000" y="400860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80000" y="4174920"/>
              <a:ext cx="749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32400" y="402048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855960" y="3382920"/>
            <a:ext cx="1119240" cy="345240"/>
            <a:chOff x="3855960" y="3382920"/>
            <a:chExt cx="1119240" cy="345240"/>
          </a:xfrm>
        </p:grpSpPr>
        <p:sp>
          <p:nvSpPr>
            <p:cNvPr id="249" name=""/>
            <p:cNvSpPr/>
            <p:nvPr/>
          </p:nvSpPr>
          <p:spPr>
            <a:xfrm>
              <a:off x="3855960" y="338292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55960" y="3549240"/>
              <a:ext cx="111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75200" y="3394800"/>
              <a:ext cx="0" cy="3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182120" y="323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600" y="35964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telef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22200" y="3839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56960" y="42062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rá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555520" y="3825000"/>
            <a:ext cx="465840" cy="793800"/>
            <a:chOff x="5555520" y="3825000"/>
            <a:chExt cx="465840" cy="793800"/>
          </a:xfrm>
        </p:grpSpPr>
        <p:grpSp>
          <p:nvGrpSpPr>
            <p:cNvPr id="257" name=""/>
            <p:cNvGrpSpPr/>
            <p:nvPr/>
          </p:nvGrpSpPr>
          <p:grpSpPr>
            <a:xfrm>
              <a:off x="5594400" y="4022640"/>
              <a:ext cx="403200" cy="345240"/>
              <a:chOff x="5594400" y="4022640"/>
              <a:chExt cx="403200" cy="345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594400" y="402264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94400" y="4188960"/>
                <a:ext cx="402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97600" y="403452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555520" y="3825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58760" y="4250520"/>
              <a:ext cx="46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T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772240" y="2956680"/>
            <a:ext cx="1316160" cy="824040"/>
            <a:chOff x="5772240" y="2956680"/>
            <a:chExt cx="1316160" cy="824040"/>
          </a:xfrm>
        </p:grpSpPr>
        <p:grpSp>
          <p:nvGrpSpPr>
            <p:cNvPr id="264" name=""/>
            <p:cNvGrpSpPr/>
            <p:nvPr/>
          </p:nvGrpSpPr>
          <p:grpSpPr>
            <a:xfrm>
              <a:off x="6219720" y="3168720"/>
              <a:ext cx="358920" cy="345240"/>
              <a:chOff x="6219720" y="3168720"/>
              <a:chExt cx="358920" cy="345240"/>
            </a:xfrm>
          </p:grpSpPr>
          <p:sp>
            <p:nvSpPr>
              <p:cNvPr id="265" name=""/>
              <p:cNvSpPr/>
              <p:nvPr/>
            </p:nvSpPr>
            <p:spPr>
              <a:xfrm>
                <a:off x="6219720" y="316872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19720" y="3335040"/>
                <a:ext cx="3578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578640" y="3180600"/>
                <a:ext cx="0" cy="333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6163560" y="2956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72240" y="341244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transis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346440" y="3749040"/>
            <a:ext cx="874080" cy="823680"/>
            <a:chOff x="6346440" y="3749040"/>
            <a:chExt cx="874080" cy="823680"/>
          </a:xfrm>
        </p:grpSpPr>
        <p:grpSp>
          <p:nvGrpSpPr>
            <p:cNvPr id="271" name=""/>
            <p:cNvGrpSpPr/>
            <p:nvPr/>
          </p:nvGrpSpPr>
          <p:grpSpPr>
            <a:xfrm>
              <a:off x="6572160" y="3960720"/>
              <a:ext cx="358560" cy="345600"/>
              <a:chOff x="6572160" y="3960720"/>
              <a:chExt cx="358560" cy="345600"/>
            </a:xfrm>
          </p:grpSpPr>
          <p:sp>
            <p:nvSpPr>
              <p:cNvPr id="272" name=""/>
              <p:cNvSpPr/>
              <p:nvPr/>
            </p:nvSpPr>
            <p:spPr>
              <a:xfrm>
                <a:off x="6572160" y="3960720"/>
                <a:ext cx="0" cy="333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72160" y="4127400"/>
                <a:ext cx="357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30720" y="3972600"/>
                <a:ext cx="0" cy="333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529680" y="37490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46440" y="420444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599160" y="4968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13960" y="547164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sual"/>
              </a:rPr>
              <a:t>ARPA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42160" y="4968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49480" y="4709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599160" y="5195880"/>
            <a:ext cx="239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13120" y="754920"/>
            <a:ext cx="34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eríodo de Ino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880" y="1889280"/>
            <a:ext cx="8428320" cy="519120"/>
            <a:chOff x="380880" y="1889280"/>
            <a:chExt cx="8428320" cy="519120"/>
          </a:xfrm>
        </p:grpSpPr>
        <p:sp>
          <p:nvSpPr>
            <p:cNvPr id="288" name=""/>
            <p:cNvSpPr/>
            <p:nvPr/>
          </p:nvSpPr>
          <p:spPr>
            <a:xfrm>
              <a:off x="380880" y="1889280"/>
              <a:ext cx="8428320" cy="51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000" y="1967760"/>
              <a:ext cx="233856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Pesquisa Científ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322280" y="75492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cesso de Desenvolvimento Tec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18960" y="19630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stoque de 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0880" y="3611520"/>
            <a:ext cx="8428320" cy="1646280"/>
            <a:chOff x="380880" y="3611520"/>
            <a:chExt cx="8428320" cy="1646280"/>
          </a:xfrm>
        </p:grpSpPr>
        <p:sp>
          <p:nvSpPr>
            <p:cNvPr id="293" name=""/>
            <p:cNvSpPr/>
            <p:nvPr/>
          </p:nvSpPr>
          <p:spPr>
            <a:xfrm>
              <a:off x="380880" y="3611520"/>
              <a:ext cx="8428320" cy="1646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2320" y="3763080"/>
              <a:ext cx="12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Inov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66840" y="2773440"/>
            <a:ext cx="8426160" cy="503280"/>
            <a:chOff x="366840" y="2773440"/>
            <a:chExt cx="8426160" cy="503280"/>
          </a:xfrm>
        </p:grpSpPr>
        <p:sp>
          <p:nvSpPr>
            <p:cNvPr id="296" name=""/>
            <p:cNvSpPr/>
            <p:nvPr/>
          </p:nvSpPr>
          <p:spPr>
            <a:xfrm>
              <a:off x="366840" y="2773440"/>
              <a:ext cx="842616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2080" y="284868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Inven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678200" y="4968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96720" y="5532480"/>
            <a:ext cx="8426520" cy="503280"/>
            <a:chOff x="396720" y="5532480"/>
            <a:chExt cx="8426520" cy="503280"/>
          </a:xfrm>
        </p:grpSpPr>
        <p:sp>
          <p:nvSpPr>
            <p:cNvPr id="300" name=""/>
            <p:cNvSpPr/>
            <p:nvPr/>
          </p:nvSpPr>
          <p:spPr>
            <a:xfrm>
              <a:off x="396720" y="5532480"/>
              <a:ext cx="842652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880" y="557604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Difus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768560" y="2346480"/>
            <a:ext cx="1413720" cy="870480"/>
            <a:chOff x="4768560" y="2346480"/>
            <a:chExt cx="1413720" cy="870480"/>
          </a:xfrm>
        </p:grpSpPr>
        <p:sp>
          <p:nvSpPr>
            <p:cNvPr id="303" name=""/>
            <p:cNvSpPr/>
            <p:nvPr/>
          </p:nvSpPr>
          <p:spPr>
            <a:xfrm>
              <a:off x="4768560" y="284868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déia No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40320" y="2346480"/>
              <a:ext cx="0" cy="4269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859840" y="3108240"/>
            <a:ext cx="5551560" cy="1283400"/>
            <a:chOff x="2859840" y="3108240"/>
            <a:chExt cx="5551560" cy="1283400"/>
          </a:xfrm>
        </p:grpSpPr>
        <p:sp>
          <p:nvSpPr>
            <p:cNvPr id="306" name=""/>
            <p:cNvSpPr/>
            <p:nvPr/>
          </p:nvSpPr>
          <p:spPr>
            <a:xfrm>
              <a:off x="2859840" y="374904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Be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No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41160" y="3733200"/>
              <a:ext cx="106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Serviç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No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47640" y="3749040"/>
              <a:ext cx="111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Méto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No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60560" y="3747600"/>
              <a:ext cx="105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No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368520" y="3139920"/>
              <a:ext cx="1401840" cy="6098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02440" y="3108240"/>
              <a:ext cx="1249200" cy="6098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800600" y="3184560"/>
              <a:ext cx="426960" cy="549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54520" y="3184560"/>
              <a:ext cx="441360" cy="5032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505320" y="4297320"/>
            <a:ext cx="4022640" cy="869400"/>
            <a:chOff x="3505320" y="4297320"/>
            <a:chExt cx="4022640" cy="869400"/>
          </a:xfrm>
        </p:grpSpPr>
        <p:sp>
          <p:nvSpPr>
            <p:cNvPr id="315" name=""/>
            <p:cNvSpPr/>
            <p:nvPr/>
          </p:nvSpPr>
          <p:spPr>
            <a:xfrm>
              <a:off x="4452840" y="4798440"/>
              <a:ext cx="214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roduto Super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4359240"/>
              <a:ext cx="944280" cy="4716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537240" y="4313160"/>
              <a:ext cx="990720" cy="5032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30840" y="4327560"/>
              <a:ext cx="198360" cy="4269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959080" y="4297320"/>
              <a:ext cx="228600" cy="4572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838320" y="5165640"/>
            <a:ext cx="3326400" cy="808920"/>
            <a:chOff x="3838320" y="5165640"/>
            <a:chExt cx="3326400" cy="808920"/>
          </a:xfrm>
        </p:grpSpPr>
        <p:sp>
          <p:nvSpPr>
            <p:cNvPr id="321" name=""/>
            <p:cNvSpPr/>
            <p:nvPr/>
          </p:nvSpPr>
          <p:spPr>
            <a:xfrm>
              <a:off x="3838320" y="5606280"/>
              <a:ext cx="33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mpactos Socio-Econôm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70560" y="5165640"/>
              <a:ext cx="0" cy="4129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2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380880" y="1889280"/>
            <a:ext cx="8428320" cy="519120"/>
            <a:chOff x="380880" y="1889280"/>
            <a:chExt cx="8428320" cy="519120"/>
          </a:xfrm>
        </p:grpSpPr>
        <p:sp>
          <p:nvSpPr>
            <p:cNvPr id="328" name=""/>
            <p:cNvSpPr/>
            <p:nvPr/>
          </p:nvSpPr>
          <p:spPr>
            <a:xfrm>
              <a:off x="380880" y="1889280"/>
              <a:ext cx="8428320" cy="51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4360" y="1967760"/>
              <a:ext cx="310680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Criação do 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3611520"/>
            <a:ext cx="8428320" cy="1646280"/>
            <a:chOff x="380880" y="3611520"/>
            <a:chExt cx="8428320" cy="1646280"/>
          </a:xfrm>
        </p:grpSpPr>
        <p:sp>
          <p:nvSpPr>
            <p:cNvPr id="331" name=""/>
            <p:cNvSpPr/>
            <p:nvPr/>
          </p:nvSpPr>
          <p:spPr>
            <a:xfrm>
              <a:off x="380880" y="3611520"/>
              <a:ext cx="8428320" cy="1646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120" y="3933360"/>
              <a:ext cx="1845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Utilização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pela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66840" y="2665440"/>
            <a:ext cx="8426160" cy="703080"/>
            <a:chOff x="366840" y="2665440"/>
            <a:chExt cx="8426160" cy="703080"/>
          </a:xfrm>
        </p:grpSpPr>
        <p:sp>
          <p:nvSpPr>
            <p:cNvPr id="334" name=""/>
            <p:cNvSpPr/>
            <p:nvPr/>
          </p:nvSpPr>
          <p:spPr>
            <a:xfrm>
              <a:off x="366840" y="2665440"/>
              <a:ext cx="8426160" cy="703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3280" y="2696760"/>
              <a:ext cx="219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Transformaçã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do 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96720" y="5486400"/>
            <a:ext cx="8426520" cy="687240"/>
            <a:chOff x="396720" y="5486400"/>
            <a:chExt cx="8426520" cy="687240"/>
          </a:xfrm>
        </p:grpSpPr>
        <p:sp>
          <p:nvSpPr>
            <p:cNvPr id="337" name=""/>
            <p:cNvSpPr/>
            <p:nvPr/>
          </p:nvSpPr>
          <p:spPr>
            <a:xfrm>
              <a:off x="396720" y="5486400"/>
              <a:ext cx="8426520" cy="68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680" y="5530320"/>
              <a:ext cx="270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Utilização do Conheci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mento pela Socie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859840" y="1963080"/>
            <a:ext cx="5551560" cy="4011480"/>
            <a:chOff x="2859840" y="1963080"/>
            <a:chExt cx="5551560" cy="4011480"/>
          </a:xfrm>
        </p:grpSpPr>
        <p:sp>
          <p:nvSpPr>
            <p:cNvPr id="340" name=""/>
            <p:cNvSpPr/>
            <p:nvPr/>
          </p:nvSpPr>
          <p:spPr>
            <a:xfrm>
              <a:off x="3918960" y="1963080"/>
              <a:ext cx="31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Estoque de 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78200" y="49687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768560" y="2346480"/>
              <a:ext cx="1413720" cy="870480"/>
              <a:chOff x="4768560" y="2346480"/>
              <a:chExt cx="1413720" cy="870480"/>
            </a:xfrm>
          </p:grpSpPr>
          <p:sp>
            <p:nvSpPr>
              <p:cNvPr id="343" name=""/>
              <p:cNvSpPr/>
              <p:nvPr/>
            </p:nvSpPr>
            <p:spPr>
              <a:xfrm>
                <a:off x="4768560" y="2848680"/>
                <a:ext cx="141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Idéia Nov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440320" y="2346480"/>
                <a:ext cx="0" cy="426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2859840" y="3108240"/>
              <a:ext cx="5551560" cy="1283400"/>
              <a:chOff x="2859840" y="3108240"/>
              <a:chExt cx="5551560" cy="1283400"/>
            </a:xfrm>
          </p:grpSpPr>
          <p:sp>
            <p:nvSpPr>
              <p:cNvPr id="346" name=""/>
              <p:cNvSpPr/>
              <p:nvPr/>
            </p:nvSpPr>
            <p:spPr>
              <a:xfrm>
                <a:off x="2859840" y="3749040"/>
                <a:ext cx="77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Bem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Nov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241160" y="3733200"/>
                <a:ext cx="1064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Serviç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Nov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47640" y="3749040"/>
                <a:ext cx="111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Métod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Nov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60560" y="3747600"/>
                <a:ext cx="105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Insum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Nov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3368520" y="3139920"/>
                <a:ext cx="1401840" cy="60984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02440" y="3108240"/>
                <a:ext cx="1249200" cy="60984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4800600" y="3184560"/>
                <a:ext cx="426960" cy="5493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54520" y="3184560"/>
                <a:ext cx="441360" cy="50328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3505320" y="4297320"/>
              <a:ext cx="4022640" cy="869400"/>
              <a:chOff x="3505320" y="4297320"/>
              <a:chExt cx="4022640" cy="869400"/>
            </a:xfrm>
          </p:grpSpPr>
          <p:sp>
            <p:nvSpPr>
              <p:cNvPr id="355" name=""/>
              <p:cNvSpPr/>
              <p:nvPr/>
            </p:nvSpPr>
            <p:spPr>
              <a:xfrm>
                <a:off x="4452840" y="4798440"/>
                <a:ext cx="21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Produto Superi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05320" y="4359240"/>
                <a:ext cx="944280" cy="47160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537240" y="4313160"/>
                <a:ext cx="990720" cy="50328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30840" y="4327560"/>
                <a:ext cx="198360" cy="426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959080" y="4297320"/>
                <a:ext cx="228600" cy="45720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838320" y="5165640"/>
              <a:ext cx="3326400" cy="808920"/>
              <a:chOff x="3838320" y="5165640"/>
              <a:chExt cx="3326400" cy="808920"/>
            </a:xfrm>
          </p:grpSpPr>
          <p:sp>
            <p:nvSpPr>
              <p:cNvPr id="361" name=""/>
              <p:cNvSpPr/>
              <p:nvPr/>
            </p:nvSpPr>
            <p:spPr>
              <a:xfrm>
                <a:off x="3838320" y="5606280"/>
                <a:ext cx="3326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Impactos Socio-Econô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70560" y="5165640"/>
                <a:ext cx="0" cy="41292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6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22280" y="75492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cesso de Desenvolvimento Tec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71040" y="74232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odelo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chain-link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de Kline &amp; Rosen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762120" y="4191120"/>
            <a:ext cx="7619400" cy="1523880"/>
            <a:chOff x="762120" y="4191120"/>
            <a:chExt cx="7619400" cy="1523880"/>
          </a:xfrm>
        </p:grpSpPr>
        <p:grpSp>
          <p:nvGrpSpPr>
            <p:cNvPr id="370" name=""/>
            <p:cNvGrpSpPr/>
            <p:nvPr/>
          </p:nvGrpSpPr>
          <p:grpSpPr>
            <a:xfrm>
              <a:off x="762120" y="4191120"/>
              <a:ext cx="7619400" cy="1523880"/>
              <a:chOff x="762120" y="4191120"/>
              <a:chExt cx="7619400" cy="1523880"/>
            </a:xfrm>
          </p:grpSpPr>
          <p:sp>
            <p:nvSpPr>
              <p:cNvPr id="371" name=""/>
              <p:cNvSpPr/>
              <p:nvPr/>
            </p:nvSpPr>
            <p:spPr>
              <a:xfrm>
                <a:off x="3809880" y="4191120"/>
                <a:ext cx="1523520" cy="1523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33760" y="4191120"/>
                <a:ext cx="1523520" cy="1523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857640" y="4191120"/>
                <a:ext cx="1523880" cy="1523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285640" y="4191120"/>
                <a:ext cx="1523880" cy="1523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2120" y="4191120"/>
                <a:ext cx="1523520" cy="1523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942840" y="458568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Merc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ot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23080" y="458568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Concepçã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e Proj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4800" y="4585680"/>
              <a:ext cx="166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rototip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e Tes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08720" y="467604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rod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90680" y="4585680"/>
              <a:ext cx="157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Distribui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e Ven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286000" y="1905120"/>
            <a:ext cx="5943600" cy="990360"/>
            <a:chOff x="2286000" y="1905120"/>
            <a:chExt cx="5943600" cy="990360"/>
          </a:xfrm>
        </p:grpSpPr>
        <p:sp>
          <p:nvSpPr>
            <p:cNvPr id="382" name=""/>
            <p:cNvSpPr/>
            <p:nvPr/>
          </p:nvSpPr>
          <p:spPr>
            <a:xfrm>
              <a:off x="2286000" y="1905120"/>
              <a:ext cx="5943600" cy="990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70640" y="198036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esqui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819520" y="2895480"/>
            <a:ext cx="4800600" cy="1295640"/>
            <a:chOff x="2819520" y="2895480"/>
            <a:chExt cx="4800600" cy="1295640"/>
          </a:xfrm>
        </p:grpSpPr>
        <p:sp>
          <p:nvSpPr>
            <p:cNvPr id="385" name=""/>
            <p:cNvSpPr/>
            <p:nvPr/>
          </p:nvSpPr>
          <p:spPr>
            <a:xfrm>
              <a:off x="2819520" y="2895480"/>
              <a:ext cx="480060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03520" y="297108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904400" y="4190400"/>
            <a:ext cx="5182200" cy="368280"/>
            <a:chOff x="1904400" y="4190400"/>
            <a:chExt cx="5182200" cy="368280"/>
          </a:xfrm>
        </p:grpSpPr>
        <p:grpSp>
          <p:nvGrpSpPr>
            <p:cNvPr id="388" name=""/>
            <p:cNvGrpSpPr/>
            <p:nvPr/>
          </p:nvGrpSpPr>
          <p:grpSpPr>
            <a:xfrm>
              <a:off x="1904400" y="4190400"/>
              <a:ext cx="610200" cy="368280"/>
              <a:chOff x="1904400" y="4190400"/>
              <a:chExt cx="610200" cy="368280"/>
            </a:xfrm>
          </p:grpSpPr>
          <p:sp>
            <p:nvSpPr>
              <p:cNvPr id="389" name=""/>
              <p:cNvSpPr/>
              <p:nvPr/>
            </p:nvSpPr>
            <p:spPr>
              <a:xfrm>
                <a:off x="1905120" y="4495680"/>
                <a:ext cx="6094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904400" y="419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476400" y="4190400"/>
              <a:ext cx="610200" cy="368280"/>
              <a:chOff x="6476400" y="4190400"/>
              <a:chExt cx="610200" cy="368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4495680"/>
                <a:ext cx="6094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476400" y="419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952160" y="4190400"/>
              <a:ext cx="610200" cy="368280"/>
              <a:chOff x="4952160" y="4190400"/>
              <a:chExt cx="610200" cy="368280"/>
            </a:xfrm>
          </p:grpSpPr>
          <p:sp>
            <p:nvSpPr>
              <p:cNvPr id="395" name=""/>
              <p:cNvSpPr/>
              <p:nvPr/>
            </p:nvSpPr>
            <p:spPr>
              <a:xfrm>
                <a:off x="4952880" y="4495680"/>
                <a:ext cx="6094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952160" y="419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428280" y="4190400"/>
              <a:ext cx="610200" cy="368280"/>
              <a:chOff x="3428280" y="4190400"/>
              <a:chExt cx="610200" cy="368280"/>
            </a:xfrm>
          </p:grpSpPr>
          <p:sp>
            <p:nvSpPr>
              <p:cNvPr id="398" name=""/>
              <p:cNvSpPr/>
              <p:nvPr/>
            </p:nvSpPr>
            <p:spPr>
              <a:xfrm>
                <a:off x="3429000" y="4495680"/>
                <a:ext cx="6094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28280" y="419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2209320" y="2590920"/>
            <a:ext cx="6079320" cy="1904760"/>
            <a:chOff x="2209320" y="2590920"/>
            <a:chExt cx="6079320" cy="1904760"/>
          </a:xfrm>
        </p:grpSpPr>
        <p:sp>
          <p:nvSpPr>
            <p:cNvPr id="401" name=""/>
            <p:cNvSpPr/>
            <p:nvPr/>
          </p:nvSpPr>
          <p:spPr>
            <a:xfrm flipV="1">
              <a:off x="2590920" y="2666880"/>
              <a:ext cx="0" cy="1828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09320" y="335196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924680" y="2590920"/>
              <a:ext cx="0" cy="1828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19360" y="339804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971800" y="2361600"/>
            <a:ext cx="4595760" cy="1981440"/>
            <a:chOff x="2971800" y="2361600"/>
            <a:chExt cx="4595760" cy="1981440"/>
          </a:xfrm>
        </p:grpSpPr>
        <p:grpSp>
          <p:nvGrpSpPr>
            <p:cNvPr id="406" name=""/>
            <p:cNvGrpSpPr/>
            <p:nvPr/>
          </p:nvGrpSpPr>
          <p:grpSpPr>
            <a:xfrm>
              <a:off x="2971800" y="2361600"/>
              <a:ext cx="633240" cy="1981440"/>
              <a:chOff x="2971800" y="2361600"/>
              <a:chExt cx="633240" cy="1981440"/>
            </a:xfrm>
          </p:grpSpPr>
          <p:sp>
            <p:nvSpPr>
              <p:cNvPr id="407" name=""/>
              <p:cNvSpPr/>
              <p:nvPr/>
            </p:nvSpPr>
            <p:spPr>
              <a:xfrm>
                <a:off x="2971800" y="34290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71800" y="25146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048120" y="3580920"/>
                <a:ext cx="0" cy="762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048120" y="2666520"/>
                <a:ext cx="0" cy="762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24080" y="3581280"/>
                <a:ext cx="15264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8120" y="2666880"/>
                <a:ext cx="380880" cy="1524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272040" y="335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99680" y="236160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3962520" y="2361600"/>
              <a:ext cx="633240" cy="1981440"/>
              <a:chOff x="3962520" y="2361600"/>
              <a:chExt cx="633240" cy="1981440"/>
            </a:xfrm>
          </p:grpSpPr>
          <p:sp>
            <p:nvSpPr>
              <p:cNvPr id="416" name=""/>
              <p:cNvSpPr/>
              <p:nvPr/>
            </p:nvSpPr>
            <p:spPr>
              <a:xfrm>
                <a:off x="3962520" y="34290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62520" y="25146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4038840" y="3580920"/>
                <a:ext cx="0" cy="762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4038840" y="2666520"/>
                <a:ext cx="0" cy="762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14800" y="3581280"/>
                <a:ext cx="15264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38840" y="2666880"/>
                <a:ext cx="380880" cy="1524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262760" y="335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90400" y="236160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6172200" y="2361600"/>
              <a:ext cx="633240" cy="1981440"/>
              <a:chOff x="6172200" y="2361600"/>
              <a:chExt cx="633240" cy="1981440"/>
            </a:xfrm>
          </p:grpSpPr>
          <p:sp>
            <p:nvSpPr>
              <p:cNvPr id="425" name=""/>
              <p:cNvSpPr/>
              <p:nvPr/>
            </p:nvSpPr>
            <p:spPr>
              <a:xfrm>
                <a:off x="6172200" y="34290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72200" y="25146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6248520" y="3580920"/>
                <a:ext cx="0" cy="762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6248520" y="2666520"/>
                <a:ext cx="0" cy="762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324480" y="3581280"/>
                <a:ext cx="15264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48520" y="2666880"/>
                <a:ext cx="380880" cy="1524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72440" y="335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00080" y="236160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934320" y="2361600"/>
              <a:ext cx="633240" cy="1981440"/>
              <a:chOff x="6934320" y="2361600"/>
              <a:chExt cx="633240" cy="1981440"/>
            </a:xfrm>
          </p:grpSpPr>
          <p:sp>
            <p:nvSpPr>
              <p:cNvPr id="434" name=""/>
              <p:cNvSpPr/>
              <p:nvPr/>
            </p:nvSpPr>
            <p:spPr>
              <a:xfrm>
                <a:off x="6934320" y="34290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934320" y="25146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010640" y="3580920"/>
                <a:ext cx="0" cy="762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7010640" y="2666520"/>
                <a:ext cx="0" cy="762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86600" y="3581280"/>
                <a:ext cx="15264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10640" y="2666880"/>
                <a:ext cx="380880" cy="1524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234560" y="335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162200" y="236160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Lucida Casu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1523520" y="5257080"/>
            <a:ext cx="6639120" cy="838800"/>
            <a:chOff x="1523520" y="5257080"/>
            <a:chExt cx="6639120" cy="838800"/>
          </a:xfrm>
        </p:grpSpPr>
        <p:sp>
          <p:nvSpPr>
            <p:cNvPr id="443" name=""/>
            <p:cNvSpPr/>
            <p:nvPr/>
          </p:nvSpPr>
          <p:spPr>
            <a:xfrm>
              <a:off x="7558920" y="533340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523520" y="5257080"/>
              <a:ext cx="6639120" cy="838800"/>
              <a:chOff x="1523520" y="5257080"/>
              <a:chExt cx="6639120" cy="8388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2057040" y="5257080"/>
                <a:ext cx="5181480" cy="368280"/>
                <a:chOff x="2057040" y="5257080"/>
                <a:chExt cx="5181480" cy="36828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6629040" y="5257080"/>
                  <a:ext cx="609480" cy="368280"/>
                  <a:chOff x="6629040" y="5257080"/>
                  <a:chExt cx="609480" cy="36828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>
                    <a:off x="6629040" y="556272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962040" y="5257080"/>
                    <a:ext cx="269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3300"/>
                        </a:solidFill>
                        <a:latin typeface="Lucida Casual"/>
                      </a:rPr>
                      <a:t>f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2057040" y="5257080"/>
                  <a:ext cx="609480" cy="368280"/>
                  <a:chOff x="2057040" y="5257080"/>
                  <a:chExt cx="609480" cy="3682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>
                    <a:off x="2057040" y="556272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390040" y="5257080"/>
                    <a:ext cx="269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3300"/>
                        </a:solidFill>
                        <a:latin typeface="Lucida Casual"/>
                      </a:rPr>
                      <a:t>f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3580920" y="5257080"/>
                  <a:ext cx="609480" cy="368280"/>
                  <a:chOff x="3580920" y="5257080"/>
                  <a:chExt cx="609480" cy="3682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>
                    <a:off x="3580920" y="556272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3913920" y="5257080"/>
                    <a:ext cx="269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3300"/>
                        </a:solidFill>
                        <a:latin typeface="Lucida Casual"/>
                      </a:rPr>
                      <a:t>f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105160" y="5257080"/>
                  <a:ext cx="609480" cy="368280"/>
                  <a:chOff x="5105160" y="5257080"/>
                  <a:chExt cx="609480" cy="3682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>
                    <a:off x="5105160" y="556272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438160" y="5257080"/>
                    <a:ext cx="269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3300"/>
                        </a:solidFill>
                        <a:latin typeface="Lucida Casual"/>
                      </a:rPr>
                      <a:t>f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048120" y="5562720"/>
                <a:ext cx="4572000" cy="380880"/>
                <a:chOff x="3048120" y="5562720"/>
                <a:chExt cx="4572000" cy="3808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620120" y="5562720"/>
                  <a:ext cx="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>
                  <a:off x="3048120" y="5943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3048120" y="5562720"/>
                  <a:ext cx="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572000" y="5562720"/>
                  <a:ext cx="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6095880" y="5562720"/>
                  <a:ext cx="0" cy="380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1523520" y="5333400"/>
                <a:ext cx="6639120" cy="762480"/>
                <a:chOff x="1523520" y="5333400"/>
                <a:chExt cx="6639120" cy="7624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8153280" y="5562720"/>
                  <a:ext cx="0" cy="5331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1523520" y="6095880"/>
                  <a:ext cx="66294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1523880" y="5486040"/>
                  <a:ext cx="0" cy="609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857000" y="5333400"/>
                  <a:ext cx="30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Lucida Casu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7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2412360" y="83124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Vantagens dos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early-mo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5040" y="2060640"/>
            <a:ext cx="79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Curva de aprendizado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-&gt; redução no custo da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781200" y="800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Curva de Aprend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886200" y="19047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33920" y="37339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72080" y="16758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cu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92200" y="32760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6200" y="2286000"/>
            <a:ext cx="2819520" cy="1295280"/>
          </a:xfrm>
          <a:custGeom>
            <a:avLst/>
            <a:gdLst/>
            <a:ahLst/>
            <a:rect l="l" t="t" r="r" b="b"/>
            <a:pathLst>
              <a:path w="2304" h="1056">
                <a:moveTo>
                  <a:pt x="0" y="0"/>
                </a:moveTo>
                <a:cubicBezTo>
                  <a:pt x="156" y="188"/>
                  <a:pt x="312" y="376"/>
                  <a:pt x="528" y="528"/>
                </a:cubicBezTo>
                <a:cubicBezTo>
                  <a:pt x="744" y="680"/>
                  <a:pt x="1000" y="824"/>
                  <a:pt x="1296" y="912"/>
                </a:cubicBezTo>
                <a:cubicBezTo>
                  <a:pt x="1592" y="1000"/>
                  <a:pt x="2136" y="1032"/>
                  <a:pt x="2304" y="105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17920" y="2876400"/>
            <a:ext cx="0" cy="844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200320" y="3809880"/>
            <a:ext cx="4133880" cy="2361960"/>
            <a:chOff x="2200320" y="3809880"/>
            <a:chExt cx="4133880" cy="2361960"/>
          </a:xfrm>
        </p:grpSpPr>
        <p:sp>
          <p:nvSpPr>
            <p:cNvPr id="487" name=""/>
            <p:cNvSpPr/>
            <p:nvPr/>
          </p:nvSpPr>
          <p:spPr>
            <a:xfrm>
              <a:off x="4419720" y="3809880"/>
              <a:ext cx="0" cy="8384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200320" y="3961800"/>
              <a:ext cx="4133880" cy="2210040"/>
              <a:chOff x="2200320" y="3961800"/>
              <a:chExt cx="4133880" cy="221004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2590920" y="4190760"/>
                <a:ext cx="0" cy="19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438280" y="601992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590920" y="4572000"/>
                <a:ext cx="2819160" cy="1295280"/>
              </a:xfrm>
              <a:custGeom>
                <a:avLst/>
                <a:gdLst/>
                <a:ahLst/>
                <a:rect l="l" t="t" r="r" b="b"/>
                <a:pathLst>
                  <a:path w="2304" h="816">
                    <a:moveTo>
                      <a:pt x="0" y="0"/>
                    </a:moveTo>
                    <a:cubicBezTo>
                      <a:pt x="130" y="74"/>
                      <a:pt x="522" y="325"/>
                      <a:pt x="778" y="442"/>
                    </a:cubicBezTo>
                    <a:cubicBezTo>
                      <a:pt x="1034" y="559"/>
                      <a:pt x="1282" y="639"/>
                      <a:pt x="1536" y="701"/>
                    </a:cubicBezTo>
                    <a:cubicBezTo>
                      <a:pt x="1790" y="763"/>
                      <a:pt x="2144" y="792"/>
                      <a:pt x="2304" y="816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00320" y="39618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08760" y="57906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743200" y="4724280"/>
                <a:ext cx="1676520" cy="1067040"/>
              </a:xfrm>
              <a:custGeom>
                <a:avLst/>
                <a:gdLst/>
                <a:ahLst/>
                <a:rect l="l" t="t" r="r" b="b"/>
                <a:pathLst>
                  <a:path w="1056" h="672">
                    <a:moveTo>
                      <a:pt x="0" y="672"/>
                    </a:moveTo>
                    <a:cubicBezTo>
                      <a:pt x="176" y="608"/>
                      <a:pt x="352" y="544"/>
                      <a:pt x="528" y="432"/>
                    </a:cubicBezTo>
                    <a:cubicBezTo>
                      <a:pt x="704" y="320"/>
                      <a:pt x="968" y="72"/>
                      <a:pt x="1056" y="0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19440" y="5318280"/>
                <a:ext cx="92160" cy="85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2575080" y="5357880"/>
                <a:ext cx="104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59040" y="540396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flipV="1">
            <a:off x="3886200" y="19047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33920" y="37339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72080" y="16758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cu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92200" y="32760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2286000"/>
            <a:ext cx="2819520" cy="1295280"/>
          </a:xfrm>
          <a:custGeom>
            <a:avLst/>
            <a:gdLst/>
            <a:ahLst/>
            <a:rect l="l" t="t" r="r" b="b"/>
            <a:pathLst>
              <a:path w="2304" h="1056">
                <a:moveTo>
                  <a:pt x="0" y="0"/>
                </a:moveTo>
                <a:cubicBezTo>
                  <a:pt x="156" y="188"/>
                  <a:pt x="312" y="376"/>
                  <a:pt x="528" y="528"/>
                </a:cubicBezTo>
                <a:cubicBezTo>
                  <a:pt x="744" y="680"/>
                  <a:pt x="1000" y="824"/>
                  <a:pt x="1296" y="912"/>
                </a:cubicBezTo>
                <a:cubicBezTo>
                  <a:pt x="1592" y="1000"/>
                  <a:pt x="2136" y="1032"/>
                  <a:pt x="2304" y="105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590920" y="41907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38280" y="601992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4572000"/>
            <a:ext cx="2819160" cy="1295280"/>
          </a:xfrm>
          <a:custGeom>
            <a:avLst/>
            <a:gdLst/>
            <a:ahLst/>
            <a:rect l="l" t="t" r="r" b="b"/>
            <a:pathLst>
              <a:path w="2304" h="816">
                <a:moveTo>
                  <a:pt x="0" y="0"/>
                </a:moveTo>
                <a:cubicBezTo>
                  <a:pt x="130" y="74"/>
                  <a:pt x="522" y="325"/>
                  <a:pt x="778" y="442"/>
                </a:cubicBezTo>
                <a:cubicBezTo>
                  <a:pt x="1034" y="559"/>
                  <a:pt x="1282" y="639"/>
                  <a:pt x="1536" y="701"/>
                </a:cubicBezTo>
                <a:cubicBezTo>
                  <a:pt x="1790" y="763"/>
                  <a:pt x="2144" y="792"/>
                  <a:pt x="2304" y="81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00320" y="3961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08760" y="5790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43200" y="4724280"/>
            <a:ext cx="1676520" cy="106704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672"/>
                </a:moveTo>
                <a:cubicBezTo>
                  <a:pt x="176" y="608"/>
                  <a:pt x="352" y="544"/>
                  <a:pt x="528" y="432"/>
                </a:cubicBezTo>
                <a:cubicBezTo>
                  <a:pt x="704" y="320"/>
                  <a:pt x="968" y="72"/>
                  <a:pt x="1056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19720" y="3809880"/>
            <a:ext cx="0" cy="8384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7920" y="2876400"/>
            <a:ext cx="0" cy="844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025960" y="3242880"/>
            <a:ext cx="0" cy="4827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19440" y="5318280"/>
            <a:ext cx="92160" cy="85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585880" y="3809880"/>
            <a:ext cx="2443320" cy="2205000"/>
            <a:chOff x="2585880" y="3809880"/>
            <a:chExt cx="2443320" cy="2205000"/>
          </a:xfrm>
        </p:grpSpPr>
        <p:sp>
          <p:nvSpPr>
            <p:cNvPr id="518" name=""/>
            <p:cNvSpPr/>
            <p:nvPr/>
          </p:nvSpPr>
          <p:spPr>
            <a:xfrm>
              <a:off x="4075200" y="55767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585880" y="5553000"/>
              <a:ext cx="14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52680" y="480060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176" y="608"/>
                    <a:pt x="352" y="544"/>
                    <a:pt x="528" y="432"/>
                  </a:cubicBezTo>
                  <a:cubicBezTo>
                    <a:pt x="704" y="320"/>
                    <a:pt x="968" y="72"/>
                    <a:pt x="1056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29200" y="3809880"/>
              <a:ext cx="0" cy="9144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7040" y="5504040"/>
              <a:ext cx="92160" cy="85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H="1">
            <a:off x="2575080" y="5357880"/>
            <a:ext cx="104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59040" y="540396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2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81200" y="800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Curva de Aprend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57120" y="313524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Lucida Casual"/>
              </a:rPr>
              <a:t>Inovação Tecnológ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 flipV="1">
            <a:off x="3886200" y="19047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33920" y="37339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72080" y="16758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cu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92200" y="32760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6200" y="2286000"/>
            <a:ext cx="2819520" cy="1295280"/>
          </a:xfrm>
          <a:custGeom>
            <a:avLst/>
            <a:gdLst/>
            <a:ahLst/>
            <a:rect l="l" t="t" r="r" b="b"/>
            <a:pathLst>
              <a:path w="2304" h="1056">
                <a:moveTo>
                  <a:pt x="0" y="0"/>
                </a:moveTo>
                <a:cubicBezTo>
                  <a:pt x="156" y="188"/>
                  <a:pt x="312" y="376"/>
                  <a:pt x="528" y="528"/>
                </a:cubicBezTo>
                <a:cubicBezTo>
                  <a:pt x="744" y="680"/>
                  <a:pt x="1000" y="824"/>
                  <a:pt x="1296" y="912"/>
                </a:cubicBezTo>
                <a:cubicBezTo>
                  <a:pt x="1592" y="1000"/>
                  <a:pt x="2136" y="1032"/>
                  <a:pt x="2304" y="105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590920" y="419076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601992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90920" y="4572000"/>
            <a:ext cx="2819160" cy="1295280"/>
          </a:xfrm>
          <a:custGeom>
            <a:avLst/>
            <a:gdLst/>
            <a:ahLst/>
            <a:rect l="l" t="t" r="r" b="b"/>
            <a:pathLst>
              <a:path w="2304" h="816">
                <a:moveTo>
                  <a:pt x="0" y="0"/>
                </a:moveTo>
                <a:cubicBezTo>
                  <a:pt x="130" y="74"/>
                  <a:pt x="522" y="325"/>
                  <a:pt x="778" y="442"/>
                </a:cubicBezTo>
                <a:cubicBezTo>
                  <a:pt x="1034" y="559"/>
                  <a:pt x="1282" y="639"/>
                  <a:pt x="1536" y="701"/>
                </a:cubicBezTo>
                <a:cubicBezTo>
                  <a:pt x="1790" y="763"/>
                  <a:pt x="2144" y="792"/>
                  <a:pt x="2304" y="81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0320" y="3961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08760" y="5790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43200" y="4724280"/>
            <a:ext cx="1676520" cy="106704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672"/>
                </a:moveTo>
                <a:cubicBezTo>
                  <a:pt x="176" y="608"/>
                  <a:pt x="352" y="544"/>
                  <a:pt x="528" y="432"/>
                </a:cubicBezTo>
                <a:cubicBezTo>
                  <a:pt x="704" y="320"/>
                  <a:pt x="968" y="72"/>
                  <a:pt x="1056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2680" y="4800600"/>
            <a:ext cx="1676520" cy="106668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672"/>
                </a:moveTo>
                <a:cubicBezTo>
                  <a:pt x="176" y="608"/>
                  <a:pt x="352" y="544"/>
                  <a:pt x="528" y="432"/>
                </a:cubicBezTo>
                <a:cubicBezTo>
                  <a:pt x="704" y="320"/>
                  <a:pt x="968" y="72"/>
                  <a:pt x="1056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025960" y="3242880"/>
            <a:ext cx="0" cy="4827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638680" y="3428640"/>
            <a:ext cx="0" cy="30492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19720" y="3809880"/>
            <a:ext cx="0" cy="8384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38098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17920" y="2876400"/>
            <a:ext cx="0" cy="844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75200" y="557676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585880" y="5553000"/>
            <a:ext cx="1478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19440" y="5318280"/>
            <a:ext cx="92160" cy="85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37040" y="5504040"/>
            <a:ext cx="92160" cy="85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2575080" y="5357880"/>
            <a:ext cx="1049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9040" y="540396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585520" y="3809880"/>
            <a:ext cx="3053160" cy="2205000"/>
            <a:chOff x="2585520" y="3809880"/>
            <a:chExt cx="3053160" cy="2205000"/>
          </a:xfrm>
        </p:grpSpPr>
        <p:sp>
          <p:nvSpPr>
            <p:cNvPr id="554" name=""/>
            <p:cNvSpPr/>
            <p:nvPr/>
          </p:nvSpPr>
          <p:spPr>
            <a:xfrm>
              <a:off x="3962520" y="48769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176" y="608"/>
                    <a:pt x="352" y="544"/>
                    <a:pt x="528" y="432"/>
                  </a:cubicBezTo>
                  <a:cubicBezTo>
                    <a:pt x="704" y="320"/>
                    <a:pt x="968" y="72"/>
                    <a:pt x="1056" y="0"/>
                  </a:cubicBezTo>
                </a:path>
              </a:pathLst>
            </a:custGeom>
            <a:noFill/>
            <a:ln w="3816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38680" y="3809880"/>
              <a:ext cx="0" cy="990720"/>
            </a:xfrm>
            <a:prstGeom prst="line">
              <a:avLst/>
            </a:prstGeom>
            <a:ln w="936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91000" y="5667480"/>
              <a:ext cx="92160" cy="85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2585520" y="5703840"/>
              <a:ext cx="18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37080" y="57387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360520" y="5197320"/>
            <a:ext cx="2333880" cy="1020960"/>
            <a:chOff x="2360520" y="5197320"/>
            <a:chExt cx="2333880" cy="1020960"/>
          </a:xfrm>
        </p:grpSpPr>
        <p:sp>
          <p:nvSpPr>
            <p:cNvPr id="560" name=""/>
            <p:cNvSpPr/>
            <p:nvPr/>
          </p:nvSpPr>
          <p:spPr>
            <a:xfrm>
              <a:off x="3551400" y="6218280"/>
              <a:ext cx="1143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60520" y="5197320"/>
              <a:ext cx="0" cy="654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6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81200" y="800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Curva de Aprend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635040" y="2060640"/>
            <a:ext cx="794232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Curva de aprendiza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redução no custo da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Re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-&gt; confiança dos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12360" y="83124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Vantagens dos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early-mo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35040" y="2060640"/>
            <a:ext cx="794232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Curva de aprendiza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redução no custo da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Re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confiança dos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Custo de tr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-&gt; apri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12360" y="83124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Vantagens dos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early-mo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35040" y="2060640"/>
            <a:ext cx="79423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Curva de aprendiza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redução no custo da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Re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confiança dos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Custo de tr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apri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Economia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-&gt; externalidades de rede, menores custos de p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12360" y="83124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Vantagens dos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early-mo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35040" y="2060640"/>
            <a:ext cx="79423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Curva de aprendiza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redução no custo da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Re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confiança dos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Custo de tr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apri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Economia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externalidades de rede, menores custos de p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Restrições legais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-&gt; patentes, no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12360" y="83124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Vantagens dos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early-mo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3234960" y="80748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certeza e R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35440" y="1693800"/>
            <a:ext cx="576396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Operações franque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Diferenciação de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Modificação de produtos e 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mitação de inovações em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Licenciamento da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Novas gerações de produtos estabele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novações significativas nos 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Novos produtos com inovações radic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nvenção funda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961920" y="1905120"/>
            <a:ext cx="1416240" cy="4068720"/>
            <a:chOff x="961920" y="1905120"/>
            <a:chExt cx="1416240" cy="4068720"/>
          </a:xfrm>
        </p:grpSpPr>
        <p:sp>
          <p:nvSpPr>
            <p:cNvPr id="594" name=""/>
            <p:cNvSpPr/>
            <p:nvPr/>
          </p:nvSpPr>
          <p:spPr>
            <a:xfrm>
              <a:off x="961920" y="1905120"/>
              <a:ext cx="1416240" cy="4068720"/>
            </a:xfrm>
            <a:prstGeom prst="downArrow">
              <a:avLst>
                <a:gd name="adj1" fmla="val 42963"/>
                <a:gd name="adj2" fmla="val 4921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6200000">
              <a:off x="1129320" y="351720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ucida Casual"/>
                </a:rPr>
                <a:t>RI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9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421080" y="321408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9900"/>
                </a:solidFill>
                <a:latin typeface="Arial"/>
              </a:rPr>
              <a:t>Qua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313640" y="78048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82600" y="1904040"/>
            <a:ext cx="47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Lucida Casual"/>
              </a:rPr>
              <a:t>A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ocura 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agaria R$ 100,00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agaria R$ 20,00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62080" y="3427920"/>
            <a:ext cx="51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Lucida Casual"/>
              </a:rPr>
              <a:t>B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enedi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ossui loja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Vende anéis de qualidade por R$ 8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85120" y="4647240"/>
            <a:ext cx="68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Lucida Casual"/>
              </a:rPr>
              <a:t>C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rl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ossui loja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Vende anéis de qualidade duvidosa por R$ 3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 home-page da Carla é parecida com o do Bene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1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313640" y="78048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Exemplo Ilustrativo: Mercado de </a:t>
            </a:r>
            <a:r>
              <a:rPr b="0" lang="pt-BR" sz="2800" spc="-1" strike="noStrike">
                <a:solidFill>
                  <a:srgbClr val="ff5050"/>
                </a:solidFill>
                <a:latin typeface="Arial"/>
              </a:rPr>
              <a:t>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1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19440" y="2400480"/>
            <a:ext cx="3962520" cy="2057400"/>
          </a:xfrm>
          <a:prstGeom prst="wedgeRoundRectCallout">
            <a:avLst>
              <a:gd name="adj1" fmla="val 37981"/>
              <a:gd name="adj2" fmla="val -106097"/>
              <a:gd name="adj3" fmla="val 16667"/>
            </a:avLst>
          </a:prstGeom>
          <a:solidFill>
            <a:srgbClr val="cc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Originalmente, jargã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vendedores de carros nos EU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arro bom: </a:t>
            </a:r>
            <a:r>
              <a:rPr b="1" i="1" lang="en-US" sz="1800" spc="-1" strike="noStrike">
                <a:solidFill>
                  <a:srgbClr val="ff3300"/>
                </a:solidFill>
                <a:latin typeface="Lucida Casual"/>
              </a:rPr>
              <a:t>p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arro com problemas : </a:t>
            </a:r>
            <a:r>
              <a:rPr b="1" i="1" lang="en-US" sz="1800" spc="-1" strike="noStrike">
                <a:solidFill>
                  <a:srgbClr val="ff3300"/>
                </a:solidFill>
                <a:latin typeface="Lucida Casual"/>
              </a:rPr>
              <a:t>le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( assimetria de informaçã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198440" y="1904040"/>
            <a:ext cx="518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l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rocura 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até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até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109160" y="3427920"/>
            <a:ext cx="76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B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enedi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ossui loja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Vende anéis de qualidade com custo de produção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R$ 8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85120" y="4647240"/>
            <a:ext cx="68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rl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ossui loja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Vende bijuterias com custo de produção </a:t>
            </a: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R$ 3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A home-page da Carla é parecida com o do Bene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13640" y="78048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9080" y="4398840"/>
            <a:ext cx="7089840" cy="246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38240" y="1808280"/>
          <a:ext cx="7432560" cy="480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808280"/>
                    <a:ext cx="743256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8880" y="108756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8200" y="1785600"/>
            <a:ext cx="835560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onsumidores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m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m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Se os consumidores sabem que C vende produtos com 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inferior, quem quer uma boa joia compra 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40960" y="403776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B: R$ 80,00 &lt; R$ 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334120" y="4800600"/>
            <a:ext cx="2133360" cy="609480"/>
          </a:xfrm>
          <a:prstGeom prst="wedgeRoundRectCallout">
            <a:avLst>
              <a:gd name="adj1" fmla="val -108930"/>
              <a:gd name="adj2" fmla="val -14244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 prosp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3640" y="78048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68200" y="1785600"/>
            <a:ext cx="835560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onsumidores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Se os consumidores sabem que C vende produtos com 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inferior, quem quer uma boa joia compra 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40960" y="403776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B: R$ 80,00 &lt; R$ 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9520" y="449496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: R$ 30,00 &gt; R$ 2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81480" y="4952880"/>
            <a:ext cx="3276720" cy="1067040"/>
          </a:xfrm>
          <a:prstGeom prst="wedgeRoundRectCallout">
            <a:avLst>
              <a:gd name="adj1" fmla="val -88953"/>
              <a:gd name="adj2" fmla="val -7604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esmo quem proc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ijuterias não compra d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313640" y="78048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645480" y="1666800"/>
            <a:ext cx="7463880" cy="27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onsumidores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 não sabem que B e C vendem produ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de qualidades muito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Na Média, Consumidores Pagariam:  (100+20)/2 =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6280" y="472356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B: R$ 80,00 &gt;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24280" y="5029200"/>
            <a:ext cx="3581640" cy="1066680"/>
          </a:xfrm>
          <a:prstGeom prst="wedgeRoundRectCallout">
            <a:avLst>
              <a:gd name="adj1" fmla="val -72870"/>
              <a:gd name="adj2" fmla="val -61754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O preço de R$ 60,00 fix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elo mercado não 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viável para manter a 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13640" y="78048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645480" y="1666800"/>
            <a:ext cx="7463880" cy="27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onsumidores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 não sabem que B e C vendem produ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de qualidades muito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Na Média, Consumidores Pagariam:  (100+20)/2 =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36280" y="472356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B: R$ 80,00 &gt;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39520" y="518076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: R$ 30,00 &lt;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29200" y="5105520"/>
            <a:ext cx="3581280" cy="914400"/>
          </a:xfrm>
          <a:prstGeom prst="wedgeRoundRectCallout">
            <a:avLst>
              <a:gd name="adj1" fmla="val -77657"/>
              <a:gd name="adj2" fmla="val -1787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 vende, por algum temp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ijuterias por R$ 6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313640" y="78048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645480" y="1666800"/>
            <a:ext cx="7463880" cy="27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Consumidores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10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oa jo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Pagaria 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R$ 20,00</a:t>
            </a: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 por uma biju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2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, ... , A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Lucida Casual"/>
              </a:rPr>
              <a:t>10000</a:t>
            </a: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 não sabem que B e C vendem produ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de qualidades muito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Lucida Casual"/>
              </a:rPr>
              <a:t>Na Média, Consumidores Pagariam:  (100+20)/2 =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6280" y="472356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Lucida Casual"/>
              </a:rPr>
              <a:t>B: R$ 80,00 &gt;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39520" y="518076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C: R$ 30,00 &lt; R$ 6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15040" y="5238720"/>
            <a:ext cx="2819160" cy="1066680"/>
          </a:xfrm>
          <a:prstGeom prst="wedgeRoundRectCallout">
            <a:avLst>
              <a:gd name="adj1" fmla="val -98481"/>
              <a:gd name="adj2" fmla="val -3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lie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escon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6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13640" y="78048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Exemplo Ilustrativo: Mercado de Lim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2679120" y="780480"/>
            <a:ext cx="36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Fontes de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1600" y="1767960"/>
            <a:ext cx="71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ontes Tradicion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Jornais, Revistas, Rádio, Televisão, Outdoors, Exposiçõ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Folhetos, Telemarketting, 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0600" y="2971800"/>
            <a:ext cx="776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Fontes baseadas em Intern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Transferências de Arquivos -&gt; WWW, FTP, 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Broadcasting e Troca de Informações -&gt; UseNet, Mailing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Interações em Tempo Real -&gt; Talk, I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ineradores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31800" y="18896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Filtragem e Seleção de Informaçõ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8280" y="2970720"/>
            <a:ext cx="78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Materiais Indecentes -&gt; Cyberpatrol, NetNanny, Cybers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1200" y="342792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Sp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5135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Volume de Inform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4760" y="388512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Bloqueio de ‘site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1920" y="434232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Intermediários de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679120" y="780480"/>
            <a:ext cx="36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Fontes de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netnann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EFI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419560" y="799560"/>
            <a:ext cx="42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Sinalização de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44280" y="1677240"/>
            <a:ext cx="4757040" cy="47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putação -&gt; Marca, Por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mostras, Shareware e D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Órgãos de Proteção ao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Órgãos Certificadores -&gt; S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Garantias e Reembol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epoimentos de Outr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rtigos em Revistas de Prestí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Localização da Se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Disponibilização de Balanc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9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24360" y="8074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o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85680" y="2014560"/>
            <a:ext cx="727236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asual"/>
              </a:rPr>
              <a:t>Defin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asual"/>
              </a:rPr>
              <a:t>Alteração Técnic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Produção de bem ou serviço n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Uso de método ou insumo n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asual"/>
              </a:rPr>
              <a:t>Inov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Primeira ocorrência de uma Alteração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135880" y="841320"/>
            <a:ext cx="49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04080" y="2303640"/>
            <a:ext cx="1860480" cy="577800"/>
          </a:xfrm>
          <a:prstGeom prst="wedgeRoundRectCallout">
            <a:avLst>
              <a:gd name="adj1" fmla="val -81398"/>
              <a:gd name="adj2" fmla="val 12912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Satisfei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382920" y="3048120"/>
            <a:ext cx="4575240" cy="1447560"/>
            <a:chOff x="3382920" y="3048120"/>
            <a:chExt cx="4575240" cy="1447560"/>
          </a:xfrm>
        </p:grpSpPr>
        <p:sp>
          <p:nvSpPr>
            <p:cNvPr id="704" name=""/>
            <p:cNvSpPr/>
            <p:nvPr/>
          </p:nvSpPr>
          <p:spPr>
            <a:xfrm>
              <a:off x="3382920" y="3048120"/>
              <a:ext cx="2239920" cy="1447560"/>
            </a:xfrm>
            <a:custGeom>
              <a:avLst/>
              <a:gdLst/>
              <a:ahLst/>
              <a:rect l="l" t="t" r="r" b="b"/>
              <a:pathLst>
                <a:path w="1411" h="912">
                  <a:moveTo>
                    <a:pt x="0" y="912"/>
                  </a:moveTo>
                  <a:cubicBezTo>
                    <a:pt x="130" y="745"/>
                    <a:pt x="261" y="578"/>
                    <a:pt x="413" y="452"/>
                  </a:cubicBezTo>
                  <a:cubicBezTo>
                    <a:pt x="565" y="326"/>
                    <a:pt x="746" y="229"/>
                    <a:pt x="912" y="154"/>
                  </a:cubicBezTo>
                  <a:cubicBezTo>
                    <a:pt x="1078" y="79"/>
                    <a:pt x="1328" y="26"/>
                    <a:pt x="141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45040" y="3462480"/>
              <a:ext cx="2013120" cy="637920"/>
            </a:xfrm>
            <a:prstGeom prst="wedgeRoundRectCallout">
              <a:avLst>
                <a:gd name="adj1" fmla="val -61828"/>
                <a:gd name="adj2" fmla="val -112935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Mais Satisfei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382920" y="3048120"/>
            <a:ext cx="2239920" cy="144756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763800" y="3382920"/>
            <a:ext cx="224028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154320" y="1890720"/>
            <a:ext cx="5060880" cy="2390760"/>
            <a:chOff x="3154320" y="1890720"/>
            <a:chExt cx="5060880" cy="2390760"/>
          </a:xfrm>
        </p:grpSpPr>
        <p:sp>
          <p:nvSpPr>
            <p:cNvPr id="718" name=""/>
            <p:cNvSpPr/>
            <p:nvPr/>
          </p:nvSpPr>
          <p:spPr>
            <a:xfrm>
              <a:off x="3154320" y="2651040"/>
              <a:ext cx="2576520" cy="1630440"/>
            </a:xfrm>
            <a:custGeom>
              <a:avLst/>
              <a:gdLst/>
              <a:ahLst/>
              <a:rect l="l" t="t" r="r" b="b"/>
              <a:pathLst>
                <a:path w="1623" h="1027">
                  <a:moveTo>
                    <a:pt x="0" y="1027"/>
                  </a:moveTo>
                  <a:cubicBezTo>
                    <a:pt x="345" y="992"/>
                    <a:pt x="690" y="958"/>
                    <a:pt x="960" y="787"/>
                  </a:cubicBezTo>
                  <a:cubicBezTo>
                    <a:pt x="1230" y="616"/>
                    <a:pt x="1513" y="131"/>
                    <a:pt x="1623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94600" y="1890720"/>
              <a:ext cx="1920600" cy="990720"/>
            </a:xfrm>
            <a:prstGeom prst="wedgeRoundRectCallout">
              <a:avLst>
                <a:gd name="adj1" fmla="val -75703"/>
                <a:gd name="adj2" fmla="val 25319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Fronteira 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Eficiênci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roduçã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587840" y="3871800"/>
            <a:ext cx="3259080" cy="700200"/>
            <a:chOff x="4587840" y="3871800"/>
            <a:chExt cx="3259080" cy="700200"/>
          </a:xfrm>
        </p:grpSpPr>
        <p:sp>
          <p:nvSpPr>
            <p:cNvPr id="721" name=""/>
            <p:cNvSpPr/>
            <p:nvPr/>
          </p:nvSpPr>
          <p:spPr>
            <a:xfrm>
              <a:off x="4587840" y="3871800"/>
              <a:ext cx="136440" cy="12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40320" y="3978360"/>
              <a:ext cx="2406600" cy="593640"/>
            </a:xfrm>
            <a:prstGeom prst="wedgeRoundRectCallout">
              <a:avLst>
                <a:gd name="adj1" fmla="val -78101"/>
                <a:gd name="adj2" fmla="val -55078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Máxima Satisfaçã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2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5880" y="841320"/>
            <a:ext cx="49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82920" y="3048120"/>
            <a:ext cx="2239920" cy="144756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763800" y="3382920"/>
            <a:ext cx="224028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41560" y="2209680"/>
            <a:ext cx="2576520" cy="163044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21160" y="1616040"/>
            <a:ext cx="1523880" cy="747720"/>
          </a:xfrm>
          <a:prstGeom prst="wedgeRoundRectCallout">
            <a:avLst>
              <a:gd name="adj1" fmla="val 63541"/>
              <a:gd name="adj2" fmla="val 6804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Situ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n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27560" y="344952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4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35880" y="841320"/>
            <a:ext cx="49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382920" y="3048120"/>
            <a:ext cx="2239920" cy="144756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763800" y="3382920"/>
            <a:ext cx="224028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41560" y="2209680"/>
            <a:ext cx="2576520" cy="163044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21160" y="1616040"/>
            <a:ext cx="1523880" cy="747720"/>
          </a:xfrm>
          <a:prstGeom prst="wedgeRoundRectCallout">
            <a:avLst>
              <a:gd name="adj1" fmla="val 63541"/>
              <a:gd name="adj2" fmla="val 6804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Situ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In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27560" y="3449520"/>
            <a:ext cx="136440" cy="136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308400" y="1677960"/>
            <a:ext cx="4327560" cy="2527200"/>
            <a:chOff x="3308400" y="1677960"/>
            <a:chExt cx="4327560" cy="2527200"/>
          </a:xfrm>
        </p:grpSpPr>
        <p:sp>
          <p:nvSpPr>
            <p:cNvPr id="754" name=""/>
            <p:cNvSpPr/>
            <p:nvPr/>
          </p:nvSpPr>
          <p:spPr>
            <a:xfrm>
              <a:off x="3308400" y="2575080"/>
              <a:ext cx="2576520" cy="1630080"/>
            </a:xfrm>
            <a:custGeom>
              <a:avLst/>
              <a:gdLst/>
              <a:ahLst/>
              <a:rect l="l" t="t" r="r" b="b"/>
              <a:pathLst>
                <a:path w="1623" h="1027">
                  <a:moveTo>
                    <a:pt x="0" y="1027"/>
                  </a:moveTo>
                  <a:cubicBezTo>
                    <a:pt x="345" y="992"/>
                    <a:pt x="690" y="958"/>
                    <a:pt x="960" y="787"/>
                  </a:cubicBezTo>
                  <a:cubicBezTo>
                    <a:pt x="1230" y="616"/>
                    <a:pt x="1513" y="131"/>
                    <a:pt x="1623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5440320" y="1677960"/>
              <a:ext cx="2195640" cy="976320"/>
              <a:chOff x="5440320" y="1677960"/>
              <a:chExt cx="2195640" cy="976320"/>
            </a:xfrm>
          </p:grpSpPr>
          <p:sp>
            <p:nvSpPr>
              <p:cNvPr id="756" name=""/>
              <p:cNvSpPr/>
              <p:nvPr/>
            </p:nvSpPr>
            <p:spPr>
              <a:xfrm>
                <a:off x="5440320" y="2347920"/>
                <a:ext cx="365040" cy="306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308640" y="1677960"/>
                <a:ext cx="1327320" cy="595440"/>
              </a:xfrm>
              <a:prstGeom prst="wedgeRoundRectCallout">
                <a:avLst>
                  <a:gd name="adj1" fmla="val -106699"/>
                  <a:gd name="adj2" fmla="val 72666"/>
                  <a:gd name="adj3" fmla="val 16667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Lucida Casual"/>
                  </a:rPr>
                  <a:t>Inov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8" name=""/>
          <p:cNvGrpSpPr/>
          <p:nvPr/>
        </p:nvGrpSpPr>
        <p:grpSpPr>
          <a:xfrm>
            <a:off x="4738680" y="3784680"/>
            <a:ext cx="3257640" cy="1122120"/>
            <a:chOff x="4738680" y="3784680"/>
            <a:chExt cx="3257640" cy="1122120"/>
          </a:xfrm>
        </p:grpSpPr>
        <p:sp>
          <p:nvSpPr>
            <p:cNvPr id="759" name=""/>
            <p:cNvSpPr/>
            <p:nvPr/>
          </p:nvSpPr>
          <p:spPr>
            <a:xfrm>
              <a:off x="5240160" y="4206960"/>
              <a:ext cx="2756160" cy="699840"/>
            </a:xfrm>
            <a:prstGeom prst="wedgeRoundRectCallout">
              <a:avLst>
                <a:gd name="adj1" fmla="val -61810"/>
                <a:gd name="adj2" fmla="val -99888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Vantagem Competi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Qualidade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 Preço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</a:t>
              </a: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38680" y="3784680"/>
              <a:ext cx="136440" cy="136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135880" y="841320"/>
            <a:ext cx="49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382920" y="3048120"/>
            <a:ext cx="2239920" cy="144756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763800" y="3382920"/>
            <a:ext cx="224028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41560" y="2209680"/>
            <a:ext cx="2576520" cy="163044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27560" y="3449520"/>
            <a:ext cx="136440" cy="136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308400" y="2575080"/>
            <a:ext cx="2576520" cy="163008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40320" y="2347920"/>
            <a:ext cx="365040" cy="30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08640" y="1677960"/>
            <a:ext cx="1327320" cy="595440"/>
          </a:xfrm>
          <a:prstGeom prst="wedgeRoundRectCallout">
            <a:avLst>
              <a:gd name="adj1" fmla="val -106699"/>
              <a:gd name="adj2" fmla="val 72666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Inov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38680" y="378468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433760" y="3565440"/>
            <a:ext cx="3135600" cy="1341360"/>
            <a:chOff x="4433760" y="3565440"/>
            <a:chExt cx="3135600" cy="1341360"/>
          </a:xfrm>
        </p:grpSpPr>
        <p:sp>
          <p:nvSpPr>
            <p:cNvPr id="780" name=""/>
            <p:cNvSpPr/>
            <p:nvPr/>
          </p:nvSpPr>
          <p:spPr>
            <a:xfrm>
              <a:off x="5681520" y="3565440"/>
              <a:ext cx="1887840" cy="1341360"/>
            </a:xfrm>
            <a:prstGeom prst="wedgeRoundRectCallout">
              <a:avLst>
                <a:gd name="adj1" fmla="val -98694"/>
                <a:gd name="adj2" fmla="val -1004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Imitado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Qualidade 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Preço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</a:t>
              </a:r>
              <a:r>
                <a:rPr b="1" lang="en-US" sz="1800" spc="-1" strike="noStrike">
                  <a:solidFill>
                    <a:srgbClr val="ff0000"/>
                  </a:solidFill>
                  <a:latin typeface="Lucida Casu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65600" y="4211640"/>
              <a:ext cx="136440" cy="136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33760" y="3583080"/>
              <a:ext cx="258840" cy="639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35880" y="841320"/>
            <a:ext cx="49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 flipV="1">
            <a:off x="2879640" y="2270160"/>
            <a:ext cx="0" cy="30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711520" y="510372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62160" y="2651040"/>
            <a:ext cx="223992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58560" y="53665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2078640" y="35517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82920" y="3048120"/>
            <a:ext cx="2239920" cy="144756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763800" y="3382920"/>
            <a:ext cx="2240280" cy="144792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41560" y="2209680"/>
            <a:ext cx="2576520" cy="163044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327560" y="3449520"/>
            <a:ext cx="136440" cy="136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308400" y="2575080"/>
            <a:ext cx="2576520" cy="163008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91320" y="2714760"/>
            <a:ext cx="487080" cy="396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19760" y="1906560"/>
            <a:ext cx="1555920" cy="749160"/>
          </a:xfrm>
          <a:prstGeom prst="wedgeRoundRectCallout">
            <a:avLst>
              <a:gd name="adj1" fmla="val -96430"/>
              <a:gd name="adj2" fmla="val 73939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Vant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Susten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738680" y="3784680"/>
            <a:ext cx="136440" cy="136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781440" y="3017880"/>
            <a:ext cx="2576520" cy="1630440"/>
          </a:xfrm>
          <a:custGeom>
            <a:avLst/>
            <a:gdLst/>
            <a:ahLst/>
            <a:rect l="l" t="t" r="r" b="b"/>
            <a:pathLst>
              <a:path w="1623" h="1027">
                <a:moveTo>
                  <a:pt x="0" y="1027"/>
                </a:moveTo>
                <a:cubicBezTo>
                  <a:pt x="345" y="992"/>
                  <a:pt x="690" y="958"/>
                  <a:pt x="960" y="787"/>
                </a:cubicBezTo>
                <a:cubicBezTo>
                  <a:pt x="1230" y="616"/>
                  <a:pt x="1513" y="131"/>
                  <a:pt x="1623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586400" y="3978360"/>
            <a:ext cx="1568160" cy="928440"/>
          </a:xfrm>
          <a:custGeom>
            <a:avLst/>
            <a:gdLst/>
            <a:ahLst/>
            <a:rect l="l" t="t" r="r" b="b"/>
            <a:pathLst>
              <a:path w="1411" h="912">
                <a:moveTo>
                  <a:pt x="0" y="912"/>
                </a:moveTo>
                <a:cubicBezTo>
                  <a:pt x="130" y="745"/>
                  <a:pt x="261" y="578"/>
                  <a:pt x="413" y="452"/>
                </a:cubicBezTo>
                <a:cubicBezTo>
                  <a:pt x="565" y="326"/>
                  <a:pt x="746" y="229"/>
                  <a:pt x="912" y="154"/>
                </a:cubicBezTo>
                <a:cubicBezTo>
                  <a:pt x="1078" y="79"/>
                  <a:pt x="1328" y="26"/>
                  <a:pt x="1411" y="0"/>
                </a:cubicBezTo>
              </a:path>
            </a:pathLst>
          </a:custGeom>
          <a:noFill/>
          <a:ln w="381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195880" y="422748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65600" y="4211640"/>
            <a:ext cx="136440" cy="136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433760" y="3583080"/>
            <a:ext cx="258840" cy="639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327560" y="3597120"/>
            <a:ext cx="304560" cy="273240"/>
            <a:chOff x="4327560" y="3597120"/>
            <a:chExt cx="304560" cy="273240"/>
          </a:xfrm>
        </p:grpSpPr>
        <p:sp>
          <p:nvSpPr>
            <p:cNvPr id="807" name=""/>
            <p:cNvSpPr/>
            <p:nvPr/>
          </p:nvSpPr>
          <p:spPr>
            <a:xfrm flipH="1">
              <a:off x="4389120" y="3597120"/>
              <a:ext cx="198360" cy="27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27560" y="3659040"/>
              <a:ext cx="304560" cy="19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1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35880" y="841320"/>
            <a:ext cx="49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Indiferença Preço x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1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087360" y="307404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81720" y="848520"/>
            <a:ext cx="57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cesso de Inovação Tecn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64600" y="20437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Inv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3680" y="361224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Inov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46400" y="531864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Dif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05320" y="2603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2600" y="4200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38240" y="1887480"/>
            <a:ext cx="2498760" cy="760320"/>
          </a:xfrm>
          <a:custGeom>
            <a:avLst/>
            <a:gdLst>
              <a:gd name="textAreaLeft" fmla="*/ 0 w 2498760"/>
              <a:gd name="textAreaRight" fmla="*/ 2499120 w 24987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72" y="0"/>
                </a:lnTo>
                <a:lnTo>
                  <a:pt x="21600" y="10800"/>
                </a:lnTo>
                <a:lnTo>
                  <a:pt x="186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08080" y="20102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asual"/>
              </a:rPr>
              <a:t>Science-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6440" y="5210280"/>
            <a:ext cx="2498760" cy="760320"/>
          </a:xfrm>
          <a:custGeom>
            <a:avLst/>
            <a:gdLst>
              <a:gd name="textAreaLeft" fmla="*/ 0 w 2498760"/>
              <a:gd name="textAreaRight" fmla="*/ 2499120 w 249876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72" y="0"/>
                </a:lnTo>
                <a:lnTo>
                  <a:pt x="21600" y="10800"/>
                </a:lnTo>
                <a:lnTo>
                  <a:pt x="186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80960" y="533304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asual"/>
              </a:rPr>
              <a:t>Market-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63280" y="81216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stratégias de Ino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85680" y="20145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Estática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-&gt; não investir em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85680" y="2014560"/>
            <a:ext cx="727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Estátic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não investir em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Depen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-&gt; responder a iniciativas e especificações ex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3280" y="81216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stratégias de Ino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85680" y="2014560"/>
            <a:ext cx="727236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Estátic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não investir em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Depen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responder a iniciativas e especificações ex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Im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-&gt; seguir os líderes, mas com vantagens de 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3280" y="81216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stratégias de Ino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5680" y="2014560"/>
            <a:ext cx="72723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Estátic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não investir em ino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Depen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responder a iniciativas e especificações ex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Im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808080"/>
                </a:solidFill>
                <a:latin typeface="Lucida Casual"/>
              </a:rPr>
              <a:t>-&gt; seguir os líderes, mas com vantagens de 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asual"/>
              </a:rPr>
              <a:t>Defen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-&gt; reduzir os riscos através de </a:t>
            </a:r>
            <a:r>
              <a:rPr b="1" i="1" lang="en-US" sz="2000" spc="-1" strike="noStrike">
                <a:solidFill>
                  <a:srgbClr val="0000ff"/>
                </a:solidFill>
                <a:latin typeface="Lucida Casu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3280" y="81216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stratégias de Ino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5-03T14:19:10Z</cp:lastPrinted>
  <dcterms:modified xsi:type="dcterms:W3CDTF">2003-10-02T16:40:28Z</dcterms:modified>
  <cp:revision>152</cp:revision>
  <dc:subject/>
  <dc:title>regula</dc:title>
</cp:coreProperties>
</file>