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017-0FF3-4FCC-B9A8-0AA5E762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295-F8E2-4EF5-9828-A26C22B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393-40BE-428B-B352-ABEA8EDC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6D6-AD36-42BD-A6C2-07984187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3A0-04B2-4D73-85FA-C6241C4B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5E1-2FAA-44FC-9FE9-23A0F85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607-5D03-4C00-B56F-FF973F5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553-57B1-4D94-ADA3-204A541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598-B502-40BA-92BF-23E3C73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E30-947C-4C1E-A398-8685952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43B-868D-4468-A8C6-7CB1A24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21E-3166-48A4-AABB-DD236DD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26D-CB6D-46C8-8E2E-E043A273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23920" y="93204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esquis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5440" y="1879560"/>
            <a:ext cx="79441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urante a Segunda Guerra Mundial, os líderes militares solicitaram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ientistas estudassem problemas como posicionamento de rada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rmazenamento de munições e transporte de tropa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160" y="5443920"/>
            <a:ext cx="79700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je em dia, Pesquisa Operacional é enfoque científico para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e Deci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10160" y="4591080"/>
            <a:ext cx="0" cy="704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3783240"/>
            <a:ext cx="76986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aplicação do método científico e de ferramentas matemáticas 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perações militares passou a ser chamado de Pesquisa Oper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0160" y="2933640"/>
            <a:ext cx="0" cy="704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1400" y="93204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s de Problemas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5640" y="3440520"/>
            <a:ext cx="7478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existem vários caminhos que ligam duas cidades, qual é a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picia o mínimo de gasto de combustív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4400" y="2431800"/>
            <a:ext cx="81309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um dado combustível é obtido de uma mistura de produto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ariados, qual a composição de menor custo com poder calor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ufic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480" y="1668960"/>
            <a:ext cx="75700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tanto a Matéria Prima quanto a Mão de Obra são limitados, 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quantidade produtos que maximiza o lucro da 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4400" y="4221360"/>
            <a:ext cx="78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em uma região existem casas que devem ser intercon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 uma rede de água, qual a que minimiza o gasto com tubulaçã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4983480"/>
            <a:ext cx="77439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existem vários ativos financeiros, qual a combinação que mel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flete o compromisso entre o risco e o retorn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00" y="5707440"/>
            <a:ext cx="76924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 o espaço para armazenamento é limitado, de quanto deve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 pedido de material para atender a demanda de um certo perí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86960" y="8985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20800" y="2295360"/>
            <a:ext cx="5531040" cy="641520"/>
            <a:chOff x="1720800" y="2295360"/>
            <a:chExt cx="5531040" cy="641520"/>
          </a:xfrm>
        </p:grpSpPr>
        <p:sp>
          <p:nvSpPr>
            <p:cNvPr id="136" name=""/>
            <p:cNvSpPr/>
            <p:nvPr/>
          </p:nvSpPr>
          <p:spPr>
            <a:xfrm>
              <a:off x="1720800" y="2568600"/>
              <a:ext cx="553104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Determinar o conjunto de ações possíve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9320" y="22953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011320" y="2940120"/>
            <a:ext cx="4983120" cy="646200"/>
            <a:chOff x="2011320" y="2940120"/>
            <a:chExt cx="4983120" cy="646200"/>
          </a:xfrm>
        </p:grpSpPr>
        <p:sp>
          <p:nvSpPr>
            <p:cNvPr id="139" name=""/>
            <p:cNvSpPr/>
            <p:nvPr/>
          </p:nvSpPr>
          <p:spPr>
            <a:xfrm>
              <a:off x="2011320" y="3218040"/>
              <a:ext cx="498312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Propor critérios para avaliar as a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87760" y="294012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160800" y="3589200"/>
            <a:ext cx="2673360" cy="636840"/>
            <a:chOff x="3160800" y="3589200"/>
            <a:chExt cx="2673360" cy="636840"/>
          </a:xfrm>
        </p:grpSpPr>
        <p:sp>
          <p:nvSpPr>
            <p:cNvPr id="142" name=""/>
            <p:cNvSpPr/>
            <p:nvPr/>
          </p:nvSpPr>
          <p:spPr>
            <a:xfrm>
              <a:off x="3160800" y="3857760"/>
              <a:ext cx="267336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Escolher uma 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7480" y="35892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00480" y="4233960"/>
            <a:ext cx="4146480" cy="608040"/>
            <a:chOff x="2400480" y="4233960"/>
            <a:chExt cx="4146480" cy="608040"/>
          </a:xfrm>
        </p:grpSpPr>
        <p:sp>
          <p:nvSpPr>
            <p:cNvPr id="145" name=""/>
            <p:cNvSpPr/>
            <p:nvPr/>
          </p:nvSpPr>
          <p:spPr>
            <a:xfrm>
              <a:off x="2400480" y="4473720"/>
              <a:ext cx="414648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Implementar a ação escolh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2160" y="423396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35400" y="4854600"/>
            <a:ext cx="4128840" cy="1500120"/>
            <a:chOff x="2435400" y="4854600"/>
            <a:chExt cx="4128840" cy="1500120"/>
          </a:xfrm>
        </p:grpSpPr>
        <p:sp>
          <p:nvSpPr>
            <p:cNvPr id="148" name=""/>
            <p:cNvSpPr/>
            <p:nvPr/>
          </p:nvSpPr>
          <p:spPr>
            <a:xfrm>
              <a:off x="2435400" y="5140440"/>
              <a:ext cx="4128840" cy="121428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Avaliar os 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7480" y="485460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54440" y="5554800"/>
            <a:ext cx="2276640" cy="617760"/>
            <a:chOff x="6454440" y="5554800"/>
            <a:chExt cx="2276640" cy="617760"/>
          </a:xfrm>
        </p:grpSpPr>
        <p:sp>
          <p:nvSpPr>
            <p:cNvPr id="151" name=""/>
            <p:cNvSpPr/>
            <p:nvPr/>
          </p:nvSpPr>
          <p:spPr>
            <a:xfrm>
              <a:off x="6454440" y="583524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Satisf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54760" y="5554800"/>
              <a:ext cx="97632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6040" y="57499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74800" y="4040280"/>
            <a:ext cx="2286000" cy="2109960"/>
            <a:chOff x="874800" y="4040280"/>
            <a:chExt cx="2286000" cy="2109960"/>
          </a:xfrm>
        </p:grpSpPr>
        <p:sp>
          <p:nvSpPr>
            <p:cNvPr id="155" name=""/>
            <p:cNvSpPr/>
            <p:nvPr/>
          </p:nvSpPr>
          <p:spPr>
            <a:xfrm>
              <a:off x="874800" y="5812920"/>
              <a:ext cx="170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Não Satisf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999720" y="5741640"/>
              <a:ext cx="14382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95400" y="4041360"/>
              <a:ext cx="0" cy="17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5400" y="4040280"/>
              <a:ext cx="216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4473720"/>
            <a:ext cx="41464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mplementar a ação escolh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5400" y="5140440"/>
            <a:ext cx="4128840" cy="1214280"/>
          </a:xfrm>
          <a:prstGeom prst="diamond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valiar o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59320" y="22953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7760" y="29401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7480" y="35892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2160" y="42339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7480" y="485460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54440" y="583524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4800" y="58129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ão 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54760" y="5554800"/>
            <a:ext cx="97632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66040" y="574992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999720" y="5741640"/>
            <a:ext cx="143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5400" y="40413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5400" y="4040280"/>
            <a:ext cx="21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1960" y="1674720"/>
            <a:ext cx="1812600" cy="795600"/>
          </a:xfrm>
          <a:prstGeom prst="leftArrow">
            <a:avLst>
              <a:gd name="adj1" fmla="val 68065"/>
              <a:gd name="adj2" fmla="val 47876"/>
            </a:avLst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Incerte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07400" y="3011400"/>
            <a:ext cx="1958760" cy="750960"/>
          </a:xfrm>
          <a:prstGeom prst="leftArrow">
            <a:avLst>
              <a:gd name="adj1" fmla="val 68065"/>
              <a:gd name="adj2" fmla="val 54811"/>
            </a:avLst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je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86960" y="8985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3120" y="1689120"/>
            <a:ext cx="8570880" cy="262584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00480" y="4473720"/>
            <a:ext cx="41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Implementar a ação escolh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5400" y="5140440"/>
            <a:ext cx="41288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Avaliar o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59320" y="22953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87760" y="29401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7480" y="35892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2160" y="42339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7480" y="4854600"/>
            <a:ext cx="0" cy="293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54440" y="5835240"/>
            <a:ext cx="1265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4800" y="5812920"/>
            <a:ext cx="170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Não 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54760" y="555480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6040" y="5749920"/>
            <a:ext cx="11808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999720" y="5741640"/>
            <a:ext cx="14382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95400" y="4041360"/>
            <a:ext cx="0" cy="1701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5400" y="4040280"/>
            <a:ext cx="2165400" cy="1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1120" y="39297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Tomada de Dec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86960" y="8985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13560" y="87948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Tomada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604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604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6560" y="3218040"/>
            <a:ext cx="4983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45240" y="2092320"/>
            <a:ext cx="3315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51360" y="273528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59280" y="342252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6160" y="410832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3560" y="87948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Tomada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3200" y="5613840"/>
            <a:ext cx="337032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24" y="7624"/>
                </a:moveTo>
                <a:lnTo>
                  <a:pt x="30788" y="7624"/>
                </a:lnTo>
                <a:lnTo>
                  <a:pt x="30788" y="-127376"/>
                </a:lnTo>
                <a:lnTo>
                  <a:pt x="30258" y="-167843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Número de Ações da TeleMundo =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9400" y="5116680"/>
            <a:ext cx="33627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21" y="7624"/>
                </a:moveTo>
                <a:lnTo>
                  <a:pt x="29063" y="7624"/>
                </a:lnTo>
                <a:lnTo>
                  <a:pt x="29063" y="-72741"/>
                </a:lnTo>
                <a:lnTo>
                  <a:pt x="30301" y="-94494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Número de Ações da CosmoFone = 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93640" y="5596200"/>
            <a:ext cx="436428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22" y="7855"/>
                </a:moveTo>
                <a:lnTo>
                  <a:pt x="24482" y="7855"/>
                </a:lnTo>
                <a:lnTo>
                  <a:pt x="24482" y="-124364"/>
                </a:lnTo>
                <a:lnTo>
                  <a:pt x="23499" y="-176948"/>
                </a:lnTo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usto de TM Ações da TeleMundo = R$ 50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2960" y="5069160"/>
            <a:ext cx="43016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22" y="7855"/>
                </a:moveTo>
                <a:lnTo>
                  <a:pt x="23279" y="7855"/>
                </a:lnTo>
                <a:lnTo>
                  <a:pt x="23279" y="-70255"/>
                </a:lnTo>
                <a:lnTo>
                  <a:pt x="24131" y="-91231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usto de CF Ações da CosmoFone = R$ 30,00 x 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40760" y="2763720"/>
            <a:ext cx="54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8000"/>
                </a:solidFill>
                <a:latin typeface="Arial"/>
              </a:rPr>
              <a:t>Pesquisa Oper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33720" y="4172040"/>
            <a:ext cx="5029200" cy="1828800"/>
            <a:chOff x="2133720" y="4172040"/>
            <a:chExt cx="5029200" cy="1828800"/>
          </a:xfrm>
        </p:grpSpPr>
        <p:sp>
          <p:nvSpPr>
            <p:cNvPr id="49" name=""/>
            <p:cNvSpPr/>
            <p:nvPr/>
          </p:nvSpPr>
          <p:spPr>
            <a:xfrm>
              <a:off x="2133720" y="4172040"/>
              <a:ext cx="5029200" cy="1828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2000" y="4257720"/>
              <a:ext cx="43747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9900"/>
                  </a:solidFill>
                  <a:latin typeface="Arial"/>
                </a:rPr>
                <a:t>Takashi Yoney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ITA - Divisão de Engenharia Eletrô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Tel: (0xx12)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3947</a:t>
              </a: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-5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E-mail: takashi@ele.ita.cta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HP: http://www.ele.ita.cta.br/~takas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996633"/>
                </a:solidFill>
                <a:latin typeface="Arial Black"/>
              </a:rPr>
              <a:t>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89480" y="5999400"/>
            <a:ext cx="28400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6" y="7855"/>
                </a:moveTo>
                <a:lnTo>
                  <a:pt x="35065" y="7855"/>
                </a:lnTo>
                <a:lnTo>
                  <a:pt x="35065" y="-200509"/>
                </a:lnTo>
                <a:lnTo>
                  <a:pt x="34763" y="-231656"/>
                </a:lnTo>
              </a:path>
            </a:pathLst>
          </a:cu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 Black"/>
              </a:rPr>
              <a:t>Max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R$ 4,00 x CF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ituação Desejada: R$ 90.000,00 </a:t>
            </a:r>
            <a:r>
              <a:rPr b="0" lang="en-US" sz="1400" spc="-1" strike="noStrike">
                <a:solidFill>
                  <a:srgbClr val="ff9933"/>
                </a:solidFill>
                <a:latin typeface="Arial Black"/>
              </a:rPr>
              <a:t>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ções da TeleMundo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ções da CosmoFone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9480" y="5999400"/>
            <a:ext cx="28400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6" y="7855"/>
                </a:moveTo>
                <a:lnTo>
                  <a:pt x="35065" y="7855"/>
                </a:lnTo>
                <a:lnTo>
                  <a:pt x="35065" y="-200509"/>
                </a:lnTo>
                <a:lnTo>
                  <a:pt x="34763" y="-231656"/>
                </a:lnTo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ções da TeleMundo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ções da CosmoFone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63400" y="1963800"/>
            <a:ext cx="3405240" cy="34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054320" y="2165400"/>
            <a:ext cx="2136960" cy="1139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486240" y="1941480"/>
            <a:ext cx="388800" cy="37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35080" y="1947960"/>
            <a:ext cx="389160" cy="37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ax R$ 4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6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940200" y="2238480"/>
            <a:ext cx="20764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393640" y="2323800"/>
            <a:ext cx="3576600" cy="423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04720" y="2843280"/>
            <a:ext cx="4791240" cy="966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98920" y="476172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Vínculos ou Restri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736800" y="3854160"/>
            <a:ext cx="260640" cy="87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16400" y="8938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91640" y="86040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691160" y="2298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91640" y="86040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535120" y="3319560"/>
            <a:ext cx="1443240" cy="1791360"/>
            <a:chOff x="2535120" y="3319560"/>
            <a:chExt cx="1443240" cy="1791360"/>
          </a:xfrm>
        </p:grpSpPr>
        <p:sp>
          <p:nvSpPr>
            <p:cNvPr id="385" name=""/>
            <p:cNvSpPr/>
            <p:nvPr/>
          </p:nvSpPr>
          <p:spPr>
            <a:xfrm>
              <a:off x="2535120" y="4773600"/>
              <a:ext cx="144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F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2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84600" y="3319560"/>
              <a:ext cx="376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0800" y="333360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25960" y="2279520"/>
            <a:ext cx="259200" cy="3205440"/>
            <a:chOff x="6825960" y="2279520"/>
            <a:chExt cx="259200" cy="3205440"/>
          </a:xfrm>
        </p:grpSpPr>
        <p:sp>
          <p:nvSpPr>
            <p:cNvPr id="398" name=""/>
            <p:cNvSpPr/>
            <p:nvPr/>
          </p:nvSpPr>
          <p:spPr>
            <a:xfrm flipV="1">
              <a:off x="7085160" y="2279520"/>
              <a:ext cx="0" cy="3205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6825960" y="2452680"/>
              <a:ext cx="258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535120" y="513540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84600" y="3681360"/>
            <a:ext cx="3762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0" y="3695760"/>
            <a:ext cx="0" cy="1371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62440" y="3651120"/>
            <a:ext cx="3405240" cy="267840"/>
            <a:chOff x="4762440" y="3651120"/>
            <a:chExt cx="3405240" cy="267840"/>
          </a:xfrm>
        </p:grpSpPr>
        <p:sp>
          <p:nvSpPr>
            <p:cNvPr id="430" name=""/>
            <p:cNvSpPr/>
            <p:nvPr/>
          </p:nvSpPr>
          <p:spPr>
            <a:xfrm>
              <a:off x="4762440" y="3651120"/>
              <a:ext cx="3405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059320" y="3660120"/>
              <a:ext cx="1800" cy="258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160" y="4183200"/>
            <a:ext cx="3924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upor, inicial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920" y="5027760"/>
            <a:ext cx="4473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=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ntão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90.000,00/5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= 1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4689360" y="2530440"/>
            <a:ext cx="2571840" cy="337320"/>
            <a:chOff x="4689360" y="2530440"/>
            <a:chExt cx="2571840" cy="337320"/>
          </a:xfrm>
        </p:grpSpPr>
        <p:sp>
          <p:nvSpPr>
            <p:cNvPr id="481" name=""/>
            <p:cNvSpPr/>
            <p:nvPr/>
          </p:nvSpPr>
          <p:spPr>
            <a:xfrm>
              <a:off x="4927680" y="2530440"/>
              <a:ext cx="23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ff"/>
                  </a:solidFill>
                  <a:latin typeface="Arial Black"/>
                </a:rPr>
                <a:t>CF</a:t>
              </a:r>
              <a:r>
                <a:rPr b="0" lang="en-US" sz="1600" spc="-1" strike="noStrike">
                  <a:solidFill>
                    <a:srgbClr val="cc00ff"/>
                  </a:solidFill>
                  <a:latin typeface="Arial Black"/>
                </a:rPr>
                <a:t> = 0</a:t>
              </a:r>
              <a:r>
                <a:rPr b="0" lang="en-US" sz="1400" spc="-1" strike="noStrike">
                  <a:solidFill>
                    <a:srgbClr val="cc00ff"/>
                  </a:solidFill>
                  <a:latin typeface="Arial Black"/>
                </a:rPr>
                <a:t>, TM </a:t>
              </a:r>
              <a:r>
                <a:rPr b="0" lang="en-US" sz="1600" spc="-1" strike="noStrike">
                  <a:solidFill>
                    <a:srgbClr val="cc00ff"/>
                  </a:solidFill>
                  <a:latin typeface="Arial Black"/>
                </a:rPr>
                <a:t>= 1.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9360" y="2611440"/>
              <a:ext cx="146160" cy="14616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1160" y="4183200"/>
            <a:ext cx="3924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upor, inicial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7920" y="5027760"/>
            <a:ext cx="4473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</a:t>
            </a: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cc3300"/>
                </a:solidFill>
                <a:latin typeface="Arial Black"/>
              </a:rPr>
              <a:t> =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ntão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90.000,00/3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 </a:t>
            </a: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CF </a:t>
            </a:r>
            <a:r>
              <a:rPr b="0" lang="en-US" sz="1600" spc="-1" strike="noStrike">
                <a:solidFill>
                  <a:srgbClr val="cc3300"/>
                </a:solidFill>
                <a:latin typeface="Arial Black"/>
              </a:rPr>
              <a:t>= 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27680" y="2530440"/>
            <a:ext cx="23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= 0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, TM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= 1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9360" y="2611440"/>
            <a:ext cx="146160" cy="146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76880" y="4849920"/>
            <a:ext cx="2333880" cy="734760"/>
            <a:chOff x="6176880" y="4849920"/>
            <a:chExt cx="2333880" cy="734760"/>
          </a:xfrm>
        </p:grpSpPr>
        <p:sp>
          <p:nvSpPr>
            <p:cNvPr id="509" name=""/>
            <p:cNvSpPr/>
            <p:nvPr/>
          </p:nvSpPr>
          <p:spPr>
            <a:xfrm>
              <a:off x="8140680" y="5438880"/>
              <a:ext cx="146160" cy="1458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76880" y="4849920"/>
              <a:ext cx="23338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 Black"/>
                </a:rPr>
                <a:t>CF </a:t>
              </a:r>
              <a:r>
                <a:rPr b="0" lang="en-US" sz="1600" spc="-1" strike="noStrike">
                  <a:solidFill>
                    <a:srgbClr val="cc3300"/>
                  </a:solidFill>
                  <a:latin typeface="Arial Black"/>
                </a:rPr>
                <a:t>= 3.000</a:t>
              </a:r>
              <a:r>
                <a:rPr b="0" lang="en-US" sz="1400" spc="-1" strike="noStrike">
                  <a:solidFill>
                    <a:srgbClr val="cc3300"/>
                  </a:solidFill>
                  <a:latin typeface="Arial Black"/>
                </a:rPr>
                <a:t>, TM</a:t>
              </a:r>
              <a:r>
                <a:rPr b="0" lang="en-US" sz="1600" spc="-1" strike="noStrike">
                  <a:solidFill>
                    <a:srgbClr val="cc3300"/>
                  </a:solidFill>
                  <a:latin typeface="Arial Black"/>
                </a:rPr>
                <a:t> = 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4762440" y="2695680"/>
            <a:ext cx="3457800" cy="2809800"/>
            <a:chOff x="4762440" y="2695680"/>
            <a:chExt cx="3457800" cy="2809800"/>
          </a:xfrm>
        </p:grpSpPr>
        <p:sp>
          <p:nvSpPr>
            <p:cNvPr id="517" name=""/>
            <p:cNvSpPr/>
            <p:nvPr/>
          </p:nvSpPr>
          <p:spPr>
            <a:xfrm>
              <a:off x="4762440" y="2695680"/>
              <a:ext cx="3457800" cy="2809800"/>
            </a:xfrm>
            <a:custGeom>
              <a:avLst/>
              <a:gdLst/>
              <a:ahLst/>
              <a:rect l="l" t="t" r="r" b="b"/>
              <a:pathLst>
                <a:path w="2178" h="1770">
                  <a:moveTo>
                    <a:pt x="0" y="0"/>
                  </a:moveTo>
                  <a:lnTo>
                    <a:pt x="2178" y="1770"/>
                  </a:lnTo>
                  <a:lnTo>
                    <a:pt x="0" y="1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441920" y="5015520"/>
              <a:ext cx="160200" cy="20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1160" y="4183200"/>
            <a:ext cx="39240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região de valores d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tais 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é a que contém a origem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89360" y="2611440"/>
            <a:ext cx="146160" cy="146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40680" y="5438880"/>
            <a:ext cx="146160" cy="14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86480" y="5427720"/>
            <a:ext cx="145800" cy="14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81320" y="55278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05240" y="4386240"/>
            <a:ext cx="12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gião 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31920" y="1689120"/>
            <a:ext cx="2655720" cy="44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6880" y="4095720"/>
            <a:ext cx="424188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Qual o retorno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F = 1.500 e TM = 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,00 CF + 6,00 TM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,00 x 1.500 + 6,00 x 0 = 6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6120" y="5632560"/>
            <a:ext cx="424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de R$ 6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7760" y="1720800"/>
            <a:ext cx="424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de R$ 6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6840" y="2736000"/>
            <a:ext cx="301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4,00 CF + 6,00 TM = 6.000,0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9080" y="3774960"/>
            <a:ext cx="352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va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CF = 0, então TM = 6.000,00/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M =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TM = 0, então CF = 6.000,00/4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= 1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686480" y="3871800"/>
            <a:ext cx="1901520" cy="1702080"/>
            <a:chOff x="4686480" y="3871800"/>
            <a:chExt cx="1901520" cy="1702080"/>
          </a:xfrm>
        </p:grpSpPr>
        <p:sp>
          <p:nvSpPr>
            <p:cNvPr id="619" name=""/>
            <p:cNvSpPr/>
            <p:nvPr/>
          </p:nvSpPr>
          <p:spPr>
            <a:xfrm>
              <a:off x="4748040" y="3954600"/>
              <a:ext cx="1775160" cy="154440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42200" y="5427720"/>
              <a:ext cx="145800" cy="146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86480" y="3871800"/>
              <a:ext cx="14580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425920" y="1719360"/>
            <a:ext cx="3338640" cy="941400"/>
          </a:xfrm>
          <a:prstGeom prst="wedgeRectCallout">
            <a:avLst>
              <a:gd name="adj1" fmla="val -49143"/>
              <a:gd name="adj2" fmla="val 248652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Qualquer combinação CF e T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ao longo desta reta produ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um retorno de 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7760" y="1720800"/>
            <a:ext cx="36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de R$ 12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6200" y="2736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,00 CF + 6,00 TM = 12.000,0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" y="3774960"/>
            <a:ext cx="364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va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CF = 0, então TM = 12.000,00/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M = 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TM = 0, então CF = 12.000,00/4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= 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692600" y="2284560"/>
            <a:ext cx="3598920" cy="3289320"/>
            <a:chOff x="4692600" y="2284560"/>
            <a:chExt cx="3598920" cy="3289320"/>
          </a:xfrm>
        </p:grpSpPr>
        <p:sp>
          <p:nvSpPr>
            <p:cNvPr id="648" name=""/>
            <p:cNvSpPr/>
            <p:nvPr/>
          </p:nvSpPr>
          <p:spPr>
            <a:xfrm>
              <a:off x="4748040" y="2324160"/>
              <a:ext cx="3492720" cy="3174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45360" y="5427720"/>
              <a:ext cx="146160" cy="146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92600" y="2284560"/>
              <a:ext cx="146160" cy="14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425920" y="1719360"/>
            <a:ext cx="3338640" cy="941400"/>
          </a:xfrm>
          <a:prstGeom prst="wedgeRectCallout">
            <a:avLst>
              <a:gd name="adj1" fmla="val -32740"/>
              <a:gd name="adj2" fmla="val 133643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Qualquer combinação CF e T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ao longo desta reta produ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um retorno de 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762440" y="2557440"/>
            <a:ext cx="3917880" cy="2927520"/>
            <a:chOff x="4762440" y="2557440"/>
            <a:chExt cx="3917880" cy="2927520"/>
          </a:xfrm>
        </p:grpSpPr>
        <p:sp>
          <p:nvSpPr>
            <p:cNvPr id="659" name=""/>
            <p:cNvSpPr/>
            <p:nvPr/>
          </p:nvSpPr>
          <p:spPr>
            <a:xfrm flipH="1" flipV="1">
              <a:off x="4762440" y="3146400"/>
              <a:ext cx="2611440" cy="233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4080" y="2557440"/>
              <a:ext cx="1506240" cy="392040"/>
            </a:xfrm>
            <a:prstGeom prst="wedgeRectCallout">
              <a:avLst>
                <a:gd name="adj1" fmla="val -162115"/>
                <a:gd name="adj2" fmla="val 258097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R$ 9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57880" y="1808280"/>
            <a:ext cx="1506600" cy="392040"/>
          </a:xfrm>
          <a:prstGeom prst="wedgeRectCallout">
            <a:avLst>
              <a:gd name="adj1" fmla="val -159273"/>
              <a:gd name="adj2" fmla="val 261337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165800" y="3270240"/>
            <a:ext cx="1506600" cy="392040"/>
          </a:xfrm>
          <a:prstGeom prst="wedgeRectCallout">
            <a:avLst>
              <a:gd name="adj1" fmla="val -164962"/>
              <a:gd name="adj2" fmla="val 280365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757760" y="4000680"/>
            <a:ext cx="3936960" cy="1477800"/>
            <a:chOff x="4757760" y="4000680"/>
            <a:chExt cx="3936960" cy="1477800"/>
          </a:xfrm>
        </p:grpSpPr>
        <p:sp>
          <p:nvSpPr>
            <p:cNvPr id="681" name=""/>
            <p:cNvSpPr/>
            <p:nvPr/>
          </p:nvSpPr>
          <p:spPr>
            <a:xfrm>
              <a:off x="4757760" y="4741920"/>
              <a:ext cx="865080" cy="73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8120" y="4000680"/>
              <a:ext cx="1506600" cy="392040"/>
            </a:xfrm>
            <a:prstGeom prst="wedgeRectCallout">
              <a:avLst>
                <a:gd name="adj1" fmla="val -170652"/>
                <a:gd name="adj2" fmla="val 272671"/>
              </a:avLst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3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222160" y="2069280"/>
            <a:ext cx="636480" cy="716760"/>
            <a:chOff x="5222160" y="2069280"/>
            <a:chExt cx="636480" cy="716760"/>
          </a:xfrm>
        </p:grpSpPr>
        <p:sp>
          <p:nvSpPr>
            <p:cNvPr id="684" name=""/>
            <p:cNvSpPr/>
            <p:nvPr/>
          </p:nvSpPr>
          <p:spPr>
            <a:xfrm flipV="1">
              <a:off x="5253120" y="2381400"/>
              <a:ext cx="403200" cy="40464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22160" y="2069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 Black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4762440" y="2279520"/>
            <a:ext cx="3448080" cy="3219480"/>
            <a:chOff x="4762440" y="2279520"/>
            <a:chExt cx="3448080" cy="3219480"/>
          </a:xfrm>
        </p:grpSpPr>
        <p:sp>
          <p:nvSpPr>
            <p:cNvPr id="692" name=""/>
            <p:cNvSpPr/>
            <p:nvPr/>
          </p:nvSpPr>
          <p:spPr>
            <a:xfrm>
              <a:off x="4762440" y="3648240"/>
              <a:ext cx="2324160" cy="1847520"/>
            </a:xfrm>
            <a:custGeom>
              <a:avLst/>
              <a:gdLst/>
              <a:ahLst/>
              <a:rect l="l" t="t" r="r" b="b"/>
              <a:pathLst>
                <a:path w="1464" h="1164">
                  <a:moveTo>
                    <a:pt x="0" y="0"/>
                  </a:moveTo>
                  <a:lnTo>
                    <a:pt x="744" y="0"/>
                  </a:lnTo>
                  <a:lnTo>
                    <a:pt x="1464" y="588"/>
                  </a:lnTo>
                  <a:lnTo>
                    <a:pt x="1464" y="1164"/>
                  </a:lnTo>
                  <a:lnTo>
                    <a:pt x="0" y="1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62440" y="2684520"/>
              <a:ext cx="3448080" cy="2814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085160" y="2279520"/>
              <a:ext cx="0" cy="3205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62440" y="3651120"/>
              <a:ext cx="34052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441920" y="5015520"/>
              <a:ext cx="160200" cy="20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6825960" y="2452680"/>
              <a:ext cx="258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8059320" y="3660120"/>
              <a:ext cx="1800" cy="258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758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123200" y="4458960"/>
            <a:ext cx="1279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=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M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600" y="879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ão um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stimad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8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os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Zapper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5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ão um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stimad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8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os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Zapper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5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 (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e modo que o retorno seja maximizad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, semanalmente, o fornecedor deste material prov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.200 lb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 lb de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3 min de tempo de produção. Uma dúzia de Zappers requer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lb de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400 min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)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3 min de 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Uma dúzia de Zappers requer 1 lb de plástico 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 minutos de 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dução total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stes brinqued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não deve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perar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800 dúzia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7680" y="2076480"/>
            <a:ext cx="8397720" cy="285840"/>
            <a:chOff x="247680" y="2076480"/>
            <a:chExt cx="8397720" cy="285840"/>
          </a:xfrm>
        </p:grpSpPr>
        <p:sp>
          <p:nvSpPr>
            <p:cNvPr id="74" name=""/>
            <p:cNvSpPr/>
            <p:nvPr/>
          </p:nvSpPr>
          <p:spPr>
            <a:xfrm>
              <a:off x="635040" y="208296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7680" y="207648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 não deve exceder a de Zappers por mais de 450 dúzia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78560" y="879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67640" y="270900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61560" y="347112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87480" y="1836720"/>
            <a:ext cx="7018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WINSTON, W.L. - </a:t>
            </a:r>
            <a:r>
              <a:rPr b="0" i="1" lang="pt-BR" sz="1600" spc="-1" strike="noStrike">
                <a:solidFill>
                  <a:srgbClr val="ff0000"/>
                </a:solidFill>
                <a:latin typeface="Arial Black"/>
              </a:rPr>
              <a:t>Operations Research - Applications and Algorithms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, Thomson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LAWRENCE, J.A. e PASTERNACK, B.A. - </a:t>
            </a: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Appl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Management Science</a:t>
            </a: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, John Wiley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ANDERSON, D.R.; SWEENEY, D.J.; WILLIAMS, T.A. - </a:t>
            </a: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Quantitative Methods for Business</a:t>
            </a: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, Thomson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HILLIER, F.S. E LIEBERMAN, G.J. - </a:t>
            </a: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Introduc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Operations Research</a:t>
            </a: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, McGraw Hil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45000" y="8841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awrence" descr=""/>
          <p:cNvPicPr/>
          <p:nvPr/>
        </p:nvPicPr>
        <p:blipFill>
          <a:blip r:embed="rId3"/>
          <a:stretch/>
        </p:blipFill>
        <p:spPr>
          <a:xfrm>
            <a:off x="7305840" y="2457360"/>
            <a:ext cx="1164960" cy="1573200"/>
          </a:xfrm>
          <a:prstGeom prst="rect">
            <a:avLst/>
          </a:prstGeom>
          <a:ln w="0">
            <a:noFill/>
          </a:ln>
        </p:spPr>
      </p:pic>
      <p:pic>
        <p:nvPicPr>
          <p:cNvPr id="91" name="winston" descr=""/>
          <p:cNvPicPr/>
          <p:nvPr/>
        </p:nvPicPr>
        <p:blipFill>
          <a:blip r:embed="rId4"/>
          <a:stretch/>
        </p:blipFill>
        <p:spPr>
          <a:xfrm>
            <a:off x="628560" y="1330200"/>
            <a:ext cx="1212840" cy="1541520"/>
          </a:xfrm>
          <a:prstGeom prst="rect">
            <a:avLst/>
          </a:prstGeom>
          <a:ln w="0">
            <a:noFill/>
          </a:ln>
        </p:spPr>
      </p:pic>
      <p:pic>
        <p:nvPicPr>
          <p:cNvPr id="92" name="anderson" descr=""/>
          <p:cNvPicPr/>
          <p:nvPr/>
        </p:nvPicPr>
        <p:blipFill>
          <a:blip r:embed="rId5"/>
          <a:stretch/>
        </p:blipFill>
        <p:spPr>
          <a:xfrm>
            <a:off x="590400" y="3767040"/>
            <a:ext cx="1200240" cy="1609920"/>
          </a:xfrm>
          <a:prstGeom prst="rect">
            <a:avLst/>
          </a:prstGeom>
          <a:ln w="0">
            <a:noFill/>
          </a:ln>
        </p:spPr>
      </p:pic>
      <p:pic>
        <p:nvPicPr>
          <p:cNvPr id="93" name="hillier" descr=""/>
          <p:cNvPicPr/>
          <p:nvPr/>
        </p:nvPicPr>
        <p:blipFill>
          <a:blip r:embed="rId6"/>
          <a:stretch/>
        </p:blipFill>
        <p:spPr>
          <a:xfrm>
            <a:off x="7405560" y="5178600"/>
            <a:ext cx="982800" cy="117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0120" y="2311920"/>
            <a:ext cx="598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. Conceituar o Termo “Pesquisa Operacion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. Apresentar o Problema de Programação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6600" y="106524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Método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200" y="1920600"/>
            <a:ext cx="64368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P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Nota da Prov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P 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Nota da Prov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LE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Média das Notas das Listas de Exercí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Média das Notas dos Exercícios de S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ff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Nota Final da Maté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( 3*NP1  + 3*NP2  + 2*MLE  + 2*MES )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ovas: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Individuais, com consulta a livros, aponta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essoais e hardcopy dos slides Powerpoint da maté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istas de Exercícios: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Entrega obrigatória das solu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individualmente e em hardcopy, dentro do prazo estabeleci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ermitido o uso de recursos didáticos como programa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mputador e acesso Internet, bem como discussões em grup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xercícios de Sala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: Considerando-se a possibilidade de falta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 média será calculada com base em 10 trabalh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04T17:59:35Z</dcterms:modified>
  <cp:revision>190</cp:revision>
  <dc:subject/>
  <dc:title>Mercados Digitais</dc:title>
</cp:coreProperties>
</file>