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AA7-B023-49B3-9484-F6DE1C33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A1E6-50CF-42D9-B7D6-3466A610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E73-B88C-4BD8-9682-3EFB9B1E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84FC-8CE2-4249-BB3A-DFD8E352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BF0F-BF3C-493C-9133-DD82000C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57C8-1217-4B55-A954-FF7333E6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F284-76DE-4F80-8A94-1E76CDC0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F519-45C4-4B1B-8068-F29852A9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6332-8E28-4F67-A7E3-EB10988B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3A2E-7D00-4ABE-87CA-A35D3C56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B830-F2B8-4E0D-95DF-67F600BC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5B81-BFBA-4C79-9AE0-9E521FAA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2C12-E8BD-430A-921C-D99EB5219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4560" y="510840"/>
            <a:ext cx="18676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B-730 Aula 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squ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3880" y="49968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TA-M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8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10600" y="84852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ariáveis Bás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55680" y="5665680"/>
            <a:ext cx="19828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8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2x</a:t>
            </a:r>
            <a:r>
              <a:rPr b="1" lang="en-US" sz="18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+ 5x</a:t>
            </a:r>
            <a:r>
              <a:rPr b="1" lang="en-US" sz="18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94440" y="578016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ff"/>
                </a:solidFill>
                <a:latin typeface="Arial"/>
              </a:rPr>
              <a:t>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37040" y="5643720"/>
            <a:ext cx="19828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=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43640" y="5675400"/>
            <a:ext cx="146160" cy="623880"/>
          </a:xfrm>
          <a:custGeom>
            <a:avLst/>
            <a:gdLst>
              <a:gd name="textAreaLeft" fmla="*/ 0 w 146160"/>
              <a:gd name="textAreaRight" fmla="*/ 52560 w 146160"/>
              <a:gd name="textAreaTop" fmla="*/ 16200 h 623880"/>
              <a:gd name="textAreaBottom" fmla="*/ 60768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50280" y="5732640"/>
            <a:ext cx="87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ff"/>
                </a:solidFill>
                <a:latin typeface="Arial"/>
              </a:rPr>
              <a:t>Solu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ff"/>
                </a:solidFill>
                <a:latin typeface="Arial"/>
              </a:rPr>
              <a:t>Bás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49560" y="5821200"/>
            <a:ext cx="0" cy="289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11280" y="577692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- 2 </a:t>
            </a:r>
            <a:r>
              <a:rPr b="1" lang="pt-BR" sz="1600" spc="-1" strike="noStrike">
                <a:solidFill>
                  <a:srgbClr val="ff3300"/>
                </a:solidFill>
                <a:latin typeface="Symbol"/>
                <a:ea typeface="Symbol"/>
              </a:rPr>
              <a:t>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049560" y="4906800"/>
            <a:ext cx="0" cy="594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89080" y="4105440"/>
            <a:ext cx="2127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8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0</a:t>
            </a:r>
            <a:r>
              <a:rPr b="1" lang="en-US" sz="1800" spc="-1" strike="noStrike" baseline="-25000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+  x</a:t>
            </a:r>
            <a:r>
              <a:rPr b="1" lang="en-US" sz="18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057480" y="3303360"/>
            <a:ext cx="0" cy="5936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201760" y="4289040"/>
            <a:ext cx="0" cy="289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63840" y="424512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- 2 </a:t>
            </a:r>
            <a:r>
              <a:rPr b="1" lang="pt-BR" sz="1600" spc="-1" strike="noStrike">
                <a:solidFill>
                  <a:srgbClr val="ff3300"/>
                </a:solidFill>
                <a:latin typeface="Symbol"/>
                <a:ea typeface="Symbol"/>
              </a:rPr>
              <a:t>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98520" y="2558880"/>
            <a:ext cx="241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+ 0</a:t>
            </a:r>
            <a:r>
              <a:rPr b="1" lang="en-US" sz="1800" spc="-1" strike="noStrike" baseline="-25000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=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0</a:t>
            </a:r>
            <a:r>
              <a:rPr b="1" lang="en-US" sz="1800" spc="-1" strike="noStrike" baseline="-25000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+ x</a:t>
            </a:r>
            <a:r>
              <a:rPr b="1" lang="en-US" sz="18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890960" y="2638440"/>
            <a:ext cx="1059120" cy="1031760"/>
          </a:xfrm>
          <a:custGeom>
            <a:avLst/>
            <a:gdLst>
              <a:gd name="textAreaLeft" fmla="*/ 287280 w 1059120"/>
              <a:gd name="textAreaRight" fmla="*/ 846000 w 1059120"/>
              <a:gd name="textAreaTop" fmla="*/ 664200 h 1031760"/>
              <a:gd name="textAreaBottom" fmla="*/ 824400 h 1031760"/>
            </a:gdLst>
            <a:ahLst/>
            <a:rect l="textAreaLeft" t="textAreaTop" r="textAreaRight" b="textAreaBottom"/>
            <a:pathLst>
              <a:path w="21600" h="21600">
                <a:moveTo>
                  <a:pt x="0" y="15575"/>
                </a:moveTo>
                <a:lnTo>
                  <a:pt x="5860" y="9550"/>
                </a:lnTo>
                <a:lnTo>
                  <a:pt x="5860" y="13898"/>
                </a:lnTo>
                <a:lnTo>
                  <a:pt x="13898" y="13898"/>
                </a:lnTo>
                <a:lnTo>
                  <a:pt x="13898" y="5860"/>
                </a:lnTo>
                <a:lnTo>
                  <a:pt x="9550" y="5860"/>
                </a:lnTo>
                <a:lnTo>
                  <a:pt x="15575" y="0"/>
                </a:lnTo>
                <a:lnTo>
                  <a:pt x="21600" y="5860"/>
                </a:lnTo>
                <a:lnTo>
                  <a:pt x="17252" y="5860"/>
                </a:lnTo>
                <a:lnTo>
                  <a:pt x="17252" y="17252"/>
                </a:lnTo>
                <a:lnTo>
                  <a:pt x="5860" y="17252"/>
                </a:lnTo>
                <a:lnTo>
                  <a:pt x="586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9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80600" y="819720"/>
            <a:ext cx="63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Relação entre Variáveis Básicas e Vér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61920" y="1616040"/>
            <a:ext cx="294012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max z =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 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20840" y="3252960"/>
            <a:ext cx="0" cy="768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5040" y="4367160"/>
            <a:ext cx="352116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max z =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+ 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1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     =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+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 =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, 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94680" y="1862280"/>
            <a:ext cx="2116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s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s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2960" y="1560600"/>
            <a:ext cx="31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Seleção das Variáveis Básic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00640" y="2749680"/>
            <a:ext cx="2738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2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= 8 ou 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=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3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=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67400" y="2259000"/>
            <a:ext cx="0" cy="419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24320" y="5486400"/>
            <a:ext cx="271476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240160" y="4716360"/>
            <a:ext cx="2394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443560" y="3526920"/>
            <a:ext cx="0" cy="224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38720" y="6095880"/>
            <a:ext cx="349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68720" y="4535640"/>
            <a:ext cx="349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42880" y="3373560"/>
            <a:ext cx="349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284880" y="4963680"/>
            <a:ext cx="682560" cy="84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284880" y="4309920"/>
            <a:ext cx="0" cy="149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929280" y="3505320"/>
            <a:ext cx="0" cy="149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249960" y="3476160"/>
            <a:ext cx="682560" cy="84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57960" y="4021200"/>
            <a:ext cx="841320" cy="245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43560" y="3484080"/>
            <a:ext cx="1493640" cy="55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89400" y="57754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036760" y="38815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76920" y="4765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2040" y="419400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2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80600" y="819720"/>
            <a:ext cx="63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Relação entre Variáveis Básicas e Vér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61920" y="1616040"/>
            <a:ext cx="294012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max z =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 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20840" y="3252960"/>
            <a:ext cx="0" cy="768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5040" y="4367160"/>
            <a:ext cx="352116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max z =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+ 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1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     =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+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 =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, 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94680" y="1862280"/>
            <a:ext cx="2116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2960" y="1560600"/>
            <a:ext cx="31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Seleção das Variáveis Básic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40440" y="2719440"/>
            <a:ext cx="1199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s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=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s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2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67400" y="2259000"/>
            <a:ext cx="0" cy="419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24320" y="5486400"/>
            <a:ext cx="271476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240160" y="4716360"/>
            <a:ext cx="2394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443560" y="3526920"/>
            <a:ext cx="0" cy="224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938720" y="6095880"/>
            <a:ext cx="349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68720" y="4535640"/>
            <a:ext cx="349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42880" y="3373560"/>
            <a:ext cx="349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284880" y="4963680"/>
            <a:ext cx="682560" cy="84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284880" y="4309920"/>
            <a:ext cx="0" cy="149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929280" y="3505320"/>
            <a:ext cx="0" cy="149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249960" y="3476160"/>
            <a:ext cx="682560" cy="84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57960" y="4021200"/>
            <a:ext cx="841320" cy="245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443560" y="3484080"/>
            <a:ext cx="1493640" cy="55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57754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36760" y="38815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76920" y="4765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02160" y="550080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18360" y="2793960"/>
            <a:ext cx="2214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e 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3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=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5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80600" y="819720"/>
            <a:ext cx="63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Relação entre Variáveis Básicas e Vér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61920" y="1616040"/>
            <a:ext cx="294012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max z =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 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20840" y="3252960"/>
            <a:ext cx="0" cy="768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35040" y="4367160"/>
            <a:ext cx="352116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max z =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+ 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1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     =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+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 =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, 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94680" y="1862280"/>
            <a:ext cx="2116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s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72960" y="1560600"/>
            <a:ext cx="31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Seleção das Variáveis Básic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40440" y="2719440"/>
            <a:ext cx="1199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s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=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3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=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67400" y="2259000"/>
            <a:ext cx="0" cy="419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24320" y="5486400"/>
            <a:ext cx="271476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5240160" y="4716360"/>
            <a:ext cx="2394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443560" y="3526920"/>
            <a:ext cx="0" cy="224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938720" y="6095880"/>
            <a:ext cx="349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68720" y="4535640"/>
            <a:ext cx="349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42880" y="3373560"/>
            <a:ext cx="349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284880" y="4963680"/>
            <a:ext cx="682560" cy="84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284880" y="4309920"/>
            <a:ext cx="0" cy="149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929280" y="3505320"/>
            <a:ext cx="0" cy="149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249960" y="3476160"/>
            <a:ext cx="682560" cy="84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57960" y="4021200"/>
            <a:ext cx="841320" cy="245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443560" y="3484080"/>
            <a:ext cx="1493640" cy="55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89400" y="57754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036760" y="38815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76920" y="4765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02160" y="399096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318360" y="2793960"/>
            <a:ext cx="2214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e 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2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=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8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80600" y="819720"/>
            <a:ext cx="63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Relação entre Variáveis Básicas e Vér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61920" y="1616040"/>
            <a:ext cx="294012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max z =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 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20840" y="3252960"/>
            <a:ext cx="0" cy="768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5040" y="4367160"/>
            <a:ext cx="352116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max z =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+ 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1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     =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+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 =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, 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94680" y="1862280"/>
            <a:ext cx="2116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s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s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72960" y="1560600"/>
            <a:ext cx="31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Seleção das Variáveis Básic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67400" y="2259000"/>
            <a:ext cx="0" cy="419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24320" y="5486400"/>
            <a:ext cx="271476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240160" y="4716360"/>
            <a:ext cx="2394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43560" y="3526920"/>
            <a:ext cx="0" cy="224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938720" y="6095880"/>
            <a:ext cx="349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68720" y="4535640"/>
            <a:ext cx="349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42880" y="3373560"/>
            <a:ext cx="349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284880" y="4963680"/>
            <a:ext cx="682560" cy="84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284880" y="4309920"/>
            <a:ext cx="0" cy="149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929280" y="3505320"/>
            <a:ext cx="0" cy="149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6249960" y="3476160"/>
            <a:ext cx="682560" cy="84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57960" y="4021200"/>
            <a:ext cx="841320" cy="245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443560" y="3484080"/>
            <a:ext cx="1493640" cy="55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89400" y="57754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36760" y="38815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76920" y="4765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83560" y="343836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10120" y="2692440"/>
            <a:ext cx="185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=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8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3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=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1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80600" y="819720"/>
            <a:ext cx="63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Relação entre Variáveis Básicas e Vér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61920" y="1616040"/>
            <a:ext cx="294012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max z =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 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20840" y="3252960"/>
            <a:ext cx="0" cy="768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5040" y="4367160"/>
            <a:ext cx="352116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max z =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+ 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1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     =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+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 =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, 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94680" y="1862280"/>
            <a:ext cx="2116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s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72960" y="1560600"/>
            <a:ext cx="31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Seleção das Variáveis Básic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67400" y="2259000"/>
            <a:ext cx="0" cy="419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24320" y="5486400"/>
            <a:ext cx="271476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240160" y="4716360"/>
            <a:ext cx="2394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443560" y="3526920"/>
            <a:ext cx="0" cy="224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938720" y="6095880"/>
            <a:ext cx="349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68720" y="4535640"/>
            <a:ext cx="349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42880" y="3373560"/>
            <a:ext cx="349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284880" y="4963680"/>
            <a:ext cx="682560" cy="84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6284880" y="4309920"/>
            <a:ext cx="0" cy="149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6929280" y="3505320"/>
            <a:ext cx="0" cy="149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249960" y="3476160"/>
            <a:ext cx="682560" cy="84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57960" y="4021200"/>
            <a:ext cx="841320" cy="245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43560" y="3484080"/>
            <a:ext cx="1493640" cy="55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89400" y="57754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36760" y="38815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676920" y="4765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83560" y="494820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10120" y="2692440"/>
            <a:ext cx="185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=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8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s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2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=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4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80600" y="819720"/>
            <a:ext cx="63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Relação entre Variáveis Básicas e Vér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61920" y="1616040"/>
            <a:ext cx="294012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max z =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 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20840" y="3252960"/>
            <a:ext cx="0" cy="768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4367160"/>
            <a:ext cx="352116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max z =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+ 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1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     =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+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 =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, 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494680" y="1862280"/>
            <a:ext cx="2116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s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872960" y="1560600"/>
            <a:ext cx="31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Seleção das Variáveis Básic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467400" y="2259000"/>
            <a:ext cx="0" cy="419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224320" y="5486400"/>
            <a:ext cx="271476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5240160" y="4716360"/>
            <a:ext cx="2394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443560" y="3526920"/>
            <a:ext cx="0" cy="224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938720" y="6095880"/>
            <a:ext cx="349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68720" y="4535640"/>
            <a:ext cx="349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42880" y="3373560"/>
            <a:ext cx="349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6284880" y="4963680"/>
            <a:ext cx="682560" cy="84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284880" y="4309920"/>
            <a:ext cx="0" cy="149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6929280" y="3505320"/>
            <a:ext cx="0" cy="149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249960" y="3476160"/>
            <a:ext cx="682560" cy="84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57960" y="4021200"/>
            <a:ext cx="841320" cy="245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443560" y="3484080"/>
            <a:ext cx="1493640" cy="55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89400" y="57754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36760" y="38815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676920" y="4765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45280" y="576108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9640" y="2692440"/>
            <a:ext cx="2563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2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= 4 ou 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=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 4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s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2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=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6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80600" y="819720"/>
            <a:ext cx="63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Relação entre Variáveis Básicas e Vér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61920" y="1616040"/>
            <a:ext cx="294012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max z =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 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20840" y="3252960"/>
            <a:ext cx="0" cy="768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5040" y="4367160"/>
            <a:ext cx="352116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max z =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+ 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1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     =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+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 =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, 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94680" y="1862280"/>
            <a:ext cx="2116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 x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s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, s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72960" y="1560600"/>
            <a:ext cx="31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Seleção das Variáveis Básic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67400" y="2259000"/>
            <a:ext cx="0" cy="419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224320" y="5486400"/>
            <a:ext cx="271476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5240160" y="4716360"/>
            <a:ext cx="2394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443560" y="3526920"/>
            <a:ext cx="0" cy="224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38720" y="6095880"/>
            <a:ext cx="349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68720" y="4535640"/>
            <a:ext cx="349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42880" y="3373560"/>
            <a:ext cx="349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6284880" y="4963680"/>
            <a:ext cx="682560" cy="84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6284880" y="4309920"/>
            <a:ext cx="0" cy="149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6929280" y="3505320"/>
            <a:ext cx="0" cy="149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6249960" y="3476160"/>
            <a:ext cx="682560" cy="84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57960" y="4021200"/>
            <a:ext cx="841320" cy="245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5443560" y="3484080"/>
            <a:ext cx="1493640" cy="55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89400" y="57754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036760" y="38815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676920" y="4765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43480" y="2692440"/>
            <a:ext cx="280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2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+ x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= 4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9900ff"/>
                </a:solidFill>
                <a:latin typeface="Courier New"/>
              </a:rPr>
              <a:t>0</a:t>
            </a:r>
            <a:r>
              <a:rPr b="1" lang="en-US" sz="1600" spc="-1" strike="noStrike" baseline="-25000">
                <a:solidFill>
                  <a:srgbClr val="9900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9900ff"/>
                </a:solidFill>
                <a:latin typeface="Courier New"/>
              </a:rPr>
              <a:t>= 10 </a:t>
            </a:r>
            <a:r>
              <a:rPr b="1" lang="en-US" sz="1400" spc="-1" strike="noStrike">
                <a:solidFill>
                  <a:srgbClr val="9900ff"/>
                </a:solidFill>
                <a:latin typeface="Arial"/>
              </a:rPr>
              <a:t>(não é possí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4543560" y="5138640"/>
            <a:ext cx="4005000" cy="60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9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80600" y="819720"/>
            <a:ext cx="63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Relação entre Variáveis Básicas e Vér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61920" y="1616040"/>
            <a:ext cx="294012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max z =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 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20840" y="3252960"/>
            <a:ext cx="0" cy="768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35040" y="4367160"/>
            <a:ext cx="352116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max z =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2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+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+ 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1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     =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+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 =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,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, 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>
                <a:solidFill>
                  <a:srgbClr val="3333ff"/>
                </a:solidFill>
                <a:latin typeface="Courier New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567680" y="1730520"/>
            <a:ext cx="3735000" cy="3222000"/>
            <a:chOff x="4567680" y="1730520"/>
            <a:chExt cx="3735000" cy="3222000"/>
          </a:xfrm>
        </p:grpSpPr>
        <p:sp>
          <p:nvSpPr>
            <p:cNvPr id="404" name=""/>
            <p:cNvSpPr/>
            <p:nvPr/>
          </p:nvSpPr>
          <p:spPr>
            <a:xfrm>
              <a:off x="5435640" y="2782800"/>
              <a:ext cx="963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urier New"/>
                </a:rPr>
                <a:t>(x</a:t>
              </a:r>
              <a:r>
                <a:rPr b="1" lang="en-US" sz="1600" spc="-1" strike="noStrike" baseline="-25000">
                  <a:solidFill>
                    <a:srgbClr val="ff3300"/>
                  </a:solidFill>
                  <a:latin typeface="Courier New"/>
                </a:rPr>
                <a:t>1</a:t>
              </a:r>
              <a:r>
                <a:rPr b="1" lang="en-US" sz="1600" spc="-1" strike="noStrike">
                  <a:solidFill>
                    <a:srgbClr val="ff3300"/>
                  </a:solidFill>
                  <a:latin typeface="Courier New"/>
                </a:rPr>
                <a:t>,x</a:t>
              </a:r>
              <a:r>
                <a:rPr b="1" lang="en-US" sz="1600" spc="-1" strike="noStrike" baseline="-25000">
                  <a:solidFill>
                    <a:srgbClr val="ff3300"/>
                  </a:solidFill>
                  <a:latin typeface="Courier New"/>
                </a:rPr>
                <a:t>3</a:t>
              </a:r>
              <a:r>
                <a:rPr b="1" lang="en-US" sz="1600" spc="-1" strike="noStrike">
                  <a:solidFill>
                    <a:srgbClr val="ff3300"/>
                  </a:solidFill>
                  <a:latin typeface="Courier New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50000" y="4444920"/>
              <a:ext cx="93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urier New"/>
                </a:rPr>
                <a:t>(x</a:t>
              </a:r>
              <a:r>
                <a:rPr b="1" lang="en-US" sz="1600" spc="-1" strike="noStrike" baseline="-25000">
                  <a:solidFill>
                    <a:srgbClr val="ff3300"/>
                  </a:solidFill>
                  <a:latin typeface="Courier New"/>
                </a:rPr>
                <a:t>1</a:t>
              </a:r>
              <a:r>
                <a:rPr b="1" lang="en-US" sz="1600" spc="-1" strike="noStrike">
                  <a:solidFill>
                    <a:srgbClr val="ff3300"/>
                  </a:solidFill>
                  <a:latin typeface="Courier New"/>
                </a:rPr>
                <a:t>,s</a:t>
              </a:r>
              <a:r>
                <a:rPr b="1" lang="en-US" sz="1600" spc="-1" strike="noStrike" baseline="-25000">
                  <a:solidFill>
                    <a:srgbClr val="ff3300"/>
                  </a:solidFill>
                  <a:latin typeface="Courier New"/>
                </a:rPr>
                <a:t>2</a:t>
              </a:r>
              <a:r>
                <a:rPr b="1" lang="en-US" sz="1600" spc="-1" strike="noStrike">
                  <a:solidFill>
                    <a:srgbClr val="ff3300"/>
                  </a:solidFill>
                  <a:latin typeface="Courier New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38720" y="4006800"/>
              <a:ext cx="2714040" cy="79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5254560" y="3236400"/>
              <a:ext cx="239364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5457600" y="2047680"/>
              <a:ext cx="0" cy="22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52760" y="4616280"/>
              <a:ext cx="349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1" lang="pt-BR" sz="1400" spc="-1" strike="noStrike" baseline="-25000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82760" y="3055680"/>
              <a:ext cx="349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1" lang="pt-BR" sz="1400" spc="-1" strike="noStrike" baseline="-25000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56920" y="1893600"/>
              <a:ext cx="349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1" lang="pt-BR" sz="1400" spc="-1" strike="noStrike" baseline="-25000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298920" y="3484440"/>
              <a:ext cx="682560" cy="840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6298920" y="2829960"/>
              <a:ext cx="0" cy="149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943680" y="2025000"/>
              <a:ext cx="0" cy="149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6264000" y="1996920"/>
              <a:ext cx="682560" cy="840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72000" y="2541600"/>
              <a:ext cx="840960" cy="245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457600" y="2004840"/>
              <a:ext cx="1493640" cy="552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103800" y="429552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50800" y="24015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690960" y="328608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59320" y="4281480"/>
              <a:ext cx="88560" cy="88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256080" y="2741400"/>
              <a:ext cx="88560" cy="88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00720" y="4019400"/>
              <a:ext cx="88200" cy="88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96120" y="4103640"/>
              <a:ext cx="93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urier New"/>
                </a:rPr>
                <a:t>(s</a:t>
              </a:r>
              <a:r>
                <a:rPr b="1" lang="en-US" sz="1600" spc="-1" strike="noStrike" baseline="-25000">
                  <a:solidFill>
                    <a:srgbClr val="ff3300"/>
                  </a:solidFill>
                  <a:latin typeface="Courier New"/>
                </a:rPr>
                <a:t>1</a:t>
              </a:r>
              <a:r>
                <a:rPr b="1" lang="en-US" sz="1600" spc="-1" strike="noStrike">
                  <a:solidFill>
                    <a:srgbClr val="ff3300"/>
                  </a:solidFill>
                  <a:latin typeface="Courier New"/>
                </a:rPr>
                <a:t>,s</a:t>
              </a:r>
              <a:r>
                <a:rPr b="1" lang="en-US" sz="1600" spc="-1" strike="noStrike" baseline="-25000">
                  <a:solidFill>
                    <a:srgbClr val="ff3300"/>
                  </a:solidFill>
                  <a:latin typeface="Courier New"/>
                </a:rPr>
                <a:t>2</a:t>
              </a:r>
              <a:r>
                <a:rPr b="1" lang="en-US" sz="1600" spc="-1" strike="noStrike">
                  <a:solidFill>
                    <a:srgbClr val="ff3300"/>
                  </a:solidFill>
                  <a:latin typeface="Courier New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14760" y="2481120"/>
              <a:ext cx="88560" cy="88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67680" y="2550960"/>
              <a:ext cx="93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urier New"/>
                </a:rPr>
                <a:t>(x</a:t>
              </a:r>
              <a:r>
                <a:rPr b="1" lang="en-US" sz="1600" spc="-1" strike="noStrike" baseline="-25000">
                  <a:solidFill>
                    <a:srgbClr val="ff3300"/>
                  </a:solidFill>
                  <a:latin typeface="Courier New"/>
                </a:rPr>
                <a:t>3</a:t>
              </a:r>
              <a:r>
                <a:rPr b="1" lang="en-US" sz="1600" spc="-1" strike="noStrike">
                  <a:solidFill>
                    <a:srgbClr val="ff3300"/>
                  </a:solidFill>
                  <a:latin typeface="Courier New"/>
                </a:rPr>
                <a:t>,s</a:t>
              </a:r>
              <a:r>
                <a:rPr b="1" lang="en-US" sz="1600" spc="-1" strike="noStrike" baseline="-25000">
                  <a:solidFill>
                    <a:srgbClr val="ff3300"/>
                  </a:solidFill>
                  <a:latin typeface="Courier New"/>
                </a:rPr>
                <a:t>1</a:t>
              </a:r>
              <a:r>
                <a:rPr b="1" lang="en-US" sz="1600" spc="-1" strike="noStrike">
                  <a:solidFill>
                    <a:srgbClr val="ff3300"/>
                  </a:solidFill>
                  <a:latin typeface="Courier New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897600" y="1958760"/>
              <a:ext cx="88560" cy="88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953400" y="1730520"/>
              <a:ext cx="93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urier New"/>
                </a:rPr>
                <a:t>(x</a:t>
              </a:r>
              <a:r>
                <a:rPr b="1" lang="en-US" sz="1600" spc="-1" strike="noStrike" baseline="-25000">
                  <a:solidFill>
                    <a:srgbClr val="ff3300"/>
                  </a:solidFill>
                  <a:latin typeface="Courier New"/>
                </a:rPr>
                <a:t>2</a:t>
              </a:r>
              <a:r>
                <a:rPr b="1" lang="en-US" sz="1600" spc="-1" strike="noStrike">
                  <a:solidFill>
                    <a:srgbClr val="ff3300"/>
                  </a:solidFill>
                  <a:latin typeface="Courier New"/>
                </a:rPr>
                <a:t>,x</a:t>
              </a:r>
              <a:r>
                <a:rPr b="1" lang="en-US" sz="1600" spc="-1" strike="noStrike" baseline="-25000">
                  <a:solidFill>
                    <a:srgbClr val="ff3300"/>
                  </a:solidFill>
                  <a:latin typeface="Courier New"/>
                </a:rPr>
                <a:t>3</a:t>
              </a:r>
              <a:r>
                <a:rPr b="1" lang="en-US" sz="1600" spc="-1" strike="noStrike">
                  <a:solidFill>
                    <a:srgbClr val="ff3300"/>
                  </a:solidFill>
                  <a:latin typeface="Courier New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12000" y="3468600"/>
              <a:ext cx="88560" cy="88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90120" y="3465360"/>
              <a:ext cx="93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urier New"/>
                </a:rPr>
                <a:t>(x</a:t>
              </a:r>
              <a:r>
                <a:rPr b="1" lang="en-US" sz="1600" spc="-1" strike="noStrike" baseline="-25000">
                  <a:solidFill>
                    <a:srgbClr val="ff3300"/>
                  </a:solidFill>
                  <a:latin typeface="Courier New"/>
                </a:rPr>
                <a:t>2</a:t>
              </a:r>
              <a:r>
                <a:rPr b="1" lang="en-US" sz="1600" spc="-1" strike="noStrike">
                  <a:solidFill>
                    <a:srgbClr val="ff3300"/>
                  </a:solidFill>
                  <a:latin typeface="Courier New"/>
                </a:rPr>
                <a:t>,s</a:t>
              </a:r>
              <a:r>
                <a:rPr b="1" lang="en-US" sz="1600" spc="-1" strike="noStrike" baseline="-25000">
                  <a:solidFill>
                    <a:srgbClr val="ff3300"/>
                  </a:solidFill>
                  <a:latin typeface="Courier New"/>
                </a:rPr>
                <a:t>2</a:t>
              </a:r>
              <a:r>
                <a:rPr b="1" lang="en-US" sz="1600" spc="-1" strike="noStrike">
                  <a:solidFill>
                    <a:srgbClr val="ff3300"/>
                  </a:solidFill>
                  <a:latin typeface="Courier New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4465800" y="5184720"/>
            <a:ext cx="419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8000"/>
                </a:solidFill>
                <a:latin typeface="Arial"/>
              </a:rPr>
              <a:t>Cada seleção de variáveis bás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8000"/>
                </a:solidFill>
                <a:latin typeface="Arial"/>
              </a:rPr>
              <a:t>corresponde a uma vértice da região viá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3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688480" y="2629800"/>
            <a:ext cx="4069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étodo Sim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Tablea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4520" y="2322000"/>
            <a:ext cx="18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72720" y="93492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Organização e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47680" y="2590920"/>
            <a:ext cx="8397720" cy="285480"/>
            <a:chOff x="247680" y="2590920"/>
            <a:chExt cx="8397720" cy="285480"/>
          </a:xfrm>
        </p:grpSpPr>
        <p:sp>
          <p:nvSpPr>
            <p:cNvPr id="54" name=""/>
            <p:cNvSpPr/>
            <p:nvPr/>
          </p:nvSpPr>
          <p:spPr>
            <a:xfrm>
              <a:off x="635040" y="2597040"/>
              <a:ext cx="8010360" cy="2390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7680" y="2590920"/>
              <a:ext cx="324000" cy="285480"/>
            </a:xfrm>
            <a:prstGeom prst="rightArrow">
              <a:avLst>
                <a:gd name="adj1" fmla="val 50000"/>
                <a:gd name="adj2" fmla="val 28373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" name=""/>
          <p:cNvGraphicFramePr/>
          <p:nvPr/>
        </p:nvGraphicFramePr>
        <p:xfrm>
          <a:off x="306360" y="1792440"/>
          <a:ext cx="8645400" cy="458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60" y="1792440"/>
                    <a:ext cx="86454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09120" y="852480"/>
            <a:ext cx="4333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Problema da Manuf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8000"/>
                </a:solidFill>
                <a:latin typeface="Arial Black"/>
              </a:rPr>
              <a:t>(Exercício 2, Pg, 92, Lawrence &amp; Pastern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1720" y="1604880"/>
            <a:ext cx="80805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ão-de-obra disponível: na Produção  300 h e na Montagem 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rodução : GE45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2 h e GE60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2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ontagem: GE45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1 h e GE60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3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Lucro: GE45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$50 e GE60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$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93920" y="3370320"/>
            <a:ext cx="520848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ax 50 GE45 + 75 GE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 GE45 + 2 GE60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3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Produçã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1 GE45 + 3 GE60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240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[Montage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8360" y="312264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0680" y="474660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00240" y="4267080"/>
            <a:ext cx="0" cy="12002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69880" y="3699000"/>
            <a:ext cx="1284480" cy="5925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GE45 =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GE60 =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51160" y="5065560"/>
            <a:ext cx="3570120" cy="11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Max z = 50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+ 75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2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+ 2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2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+ s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       = 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1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+ 3 x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        + s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= 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943280" y="4343400"/>
            <a:ext cx="516240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5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40040" y="81828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abl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381560" y="3390840"/>
            <a:ext cx="0" cy="800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674800" y="1808280"/>
            <a:ext cx="357048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Max z = 50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+ 75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2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+ 2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+ s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       =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1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+ 3 x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        + s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= 2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60720" y="4475160"/>
            <a:ext cx="549432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z - 50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- 75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    =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2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+  2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+ s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= 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1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+  3 x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  + s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= 2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GE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6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GE1" descr=""/>
          <p:cNvPicPr/>
          <p:nvPr/>
        </p:nvPicPr>
        <p:blipFill>
          <a:blip r:embed="rId3"/>
          <a:stretch/>
        </p:blipFill>
        <p:spPr>
          <a:xfrm>
            <a:off x="2046240" y="1971720"/>
            <a:ext cx="5051520" cy="6174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2177280" y="163980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23480" y="164952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60280" y="163836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93640" y="164160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95280" y="166356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434640" y="166356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az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46240" y="1973160"/>
            <a:ext cx="50799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37400" y="233028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 - z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431040" y="2160720"/>
            <a:ext cx="725400" cy="218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649600" y="2359080"/>
            <a:ext cx="725400" cy="245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7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GE1" descr=""/>
          <p:cNvPicPr/>
          <p:nvPr/>
        </p:nvPicPr>
        <p:blipFill>
          <a:blip r:embed="rId3"/>
          <a:stretch/>
        </p:blipFill>
        <p:spPr>
          <a:xfrm>
            <a:off x="2046240" y="1971720"/>
            <a:ext cx="5051520" cy="617400"/>
          </a:xfrm>
          <a:prstGeom prst="rect">
            <a:avLst/>
          </a:prstGeom>
          <a:ln w="0">
            <a:noFill/>
          </a:ln>
        </p:spPr>
      </p:pic>
      <p:pic>
        <p:nvPicPr>
          <p:cNvPr id="478" name="GE2" descr=""/>
          <p:cNvPicPr/>
          <p:nvPr/>
        </p:nvPicPr>
        <p:blipFill>
          <a:blip r:embed="rId4"/>
          <a:stretch/>
        </p:blipFill>
        <p:spPr>
          <a:xfrm>
            <a:off x="2039760" y="3162240"/>
            <a:ext cx="5178600" cy="6177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177280" y="163980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3480" y="164952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60280" y="163836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93640" y="164160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95280" y="166356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434640" y="166356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az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046240" y="1973160"/>
            <a:ext cx="50799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337400" y="233028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 - z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39760" y="3170160"/>
            <a:ext cx="52102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693920" y="191448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Symbol"/>
                <a:ea typeface="Symbol"/>
              </a:rPr>
              <a:t></a:t>
            </a: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272360" y="2263680"/>
            <a:ext cx="12193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505720" y="2249640"/>
            <a:ext cx="0" cy="12189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7402680" y="3468600"/>
            <a:ext cx="11174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46240" y="3352680"/>
            <a:ext cx="5210280" cy="2174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9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GE1" descr=""/>
          <p:cNvPicPr/>
          <p:nvPr/>
        </p:nvPicPr>
        <p:blipFill>
          <a:blip r:embed="rId3"/>
          <a:stretch/>
        </p:blipFill>
        <p:spPr>
          <a:xfrm>
            <a:off x="2046240" y="1971720"/>
            <a:ext cx="5051520" cy="617400"/>
          </a:xfrm>
          <a:prstGeom prst="rect">
            <a:avLst/>
          </a:prstGeom>
          <a:ln w="0">
            <a:noFill/>
          </a:ln>
        </p:spPr>
      </p:pic>
      <p:pic>
        <p:nvPicPr>
          <p:cNvPr id="498" name="GE2" descr=""/>
          <p:cNvPicPr/>
          <p:nvPr/>
        </p:nvPicPr>
        <p:blipFill>
          <a:blip r:embed="rId4"/>
          <a:stretch/>
        </p:blipFill>
        <p:spPr>
          <a:xfrm>
            <a:off x="2039760" y="3162240"/>
            <a:ext cx="5178600" cy="61776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2177280" y="163980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23480" y="164952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60280" y="163836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93640" y="164160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95280" y="166356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434640" y="166356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az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046240" y="1973160"/>
            <a:ext cx="50799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37400" y="233028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 - z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39760" y="3170160"/>
            <a:ext cx="52102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7359480" y="3468240"/>
            <a:ext cx="709920" cy="46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333560" y="3452760"/>
            <a:ext cx="71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Symbol"/>
                <a:ea typeface="Symbol"/>
              </a:rPr>
              <a:t></a:t>
            </a: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(-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7331040" y="2046240"/>
            <a:ext cx="1292400" cy="14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607600" y="2044800"/>
            <a:ext cx="0" cy="14382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7329240" y="3251160"/>
            <a:ext cx="8427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8264520" y="3462480"/>
            <a:ext cx="3636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018640" y="32893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170920" y="3236760"/>
            <a:ext cx="0" cy="101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1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GE1" descr=""/>
          <p:cNvPicPr/>
          <p:nvPr/>
        </p:nvPicPr>
        <p:blipFill>
          <a:blip r:embed="rId3"/>
          <a:stretch/>
        </p:blipFill>
        <p:spPr>
          <a:xfrm>
            <a:off x="2046240" y="1971720"/>
            <a:ext cx="5051520" cy="617400"/>
          </a:xfrm>
          <a:prstGeom prst="rect">
            <a:avLst/>
          </a:prstGeom>
          <a:ln w="0">
            <a:noFill/>
          </a:ln>
        </p:spPr>
      </p:pic>
      <p:pic>
        <p:nvPicPr>
          <p:cNvPr id="521" name="GE2" descr=""/>
          <p:cNvPicPr/>
          <p:nvPr/>
        </p:nvPicPr>
        <p:blipFill>
          <a:blip r:embed="rId4"/>
          <a:stretch/>
        </p:blipFill>
        <p:spPr>
          <a:xfrm>
            <a:off x="2039760" y="3162240"/>
            <a:ext cx="5178600" cy="6177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2177280" y="163980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823480" y="164952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60280" y="163836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093640" y="164160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95280" y="166356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434640" y="166356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az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046240" y="1973160"/>
            <a:ext cx="50799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337400" y="233028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 - z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39760" y="3170160"/>
            <a:ext cx="52102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532560" y="3133800"/>
            <a:ext cx="725400" cy="218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82880" y="3548160"/>
            <a:ext cx="725400" cy="218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3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GE1" descr=""/>
          <p:cNvPicPr/>
          <p:nvPr/>
        </p:nvPicPr>
        <p:blipFill>
          <a:blip r:embed="rId3"/>
          <a:stretch/>
        </p:blipFill>
        <p:spPr>
          <a:xfrm>
            <a:off x="2046240" y="1971720"/>
            <a:ext cx="5051520" cy="617400"/>
          </a:xfrm>
          <a:prstGeom prst="rect">
            <a:avLst/>
          </a:prstGeom>
          <a:ln w="0">
            <a:noFill/>
          </a:ln>
        </p:spPr>
      </p:pic>
      <p:pic>
        <p:nvPicPr>
          <p:cNvPr id="538" name="GE2" descr=""/>
          <p:cNvPicPr/>
          <p:nvPr/>
        </p:nvPicPr>
        <p:blipFill>
          <a:blip r:embed="rId4"/>
          <a:stretch/>
        </p:blipFill>
        <p:spPr>
          <a:xfrm>
            <a:off x="2039760" y="3162240"/>
            <a:ext cx="5178600" cy="617760"/>
          </a:xfrm>
          <a:prstGeom prst="rect">
            <a:avLst/>
          </a:prstGeom>
          <a:ln w="0">
            <a:noFill/>
          </a:ln>
        </p:spPr>
      </p:pic>
      <p:pic>
        <p:nvPicPr>
          <p:cNvPr id="539" name="GE3" descr=""/>
          <p:cNvPicPr/>
          <p:nvPr/>
        </p:nvPicPr>
        <p:blipFill>
          <a:blip r:embed="rId5"/>
          <a:stretch/>
        </p:blipFill>
        <p:spPr>
          <a:xfrm>
            <a:off x="2057400" y="4352760"/>
            <a:ext cx="4479840" cy="6177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2177280" y="163980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823480" y="164952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60280" y="163836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093640" y="164160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95280" y="166356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434640" y="166356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az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046240" y="1973160"/>
            <a:ext cx="50799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37400" y="233028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 - z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039760" y="3170160"/>
            <a:ext cx="52102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54160" y="4361040"/>
            <a:ext cx="445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2033640" y="5949720"/>
            <a:ext cx="709560" cy="140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978920" y="55846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Symbol"/>
                <a:ea typeface="Symbol"/>
              </a:rPr>
              <a:t></a:t>
            </a: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(-7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31040" y="3236760"/>
            <a:ext cx="10317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345520" y="3235320"/>
            <a:ext cx="0" cy="1236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6678360" y="4456080"/>
            <a:ext cx="16556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2938320" y="5943600"/>
            <a:ext cx="3636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92440" y="577044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59120" y="6081840"/>
            <a:ext cx="0" cy="101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505280" y="2857680"/>
            <a:ext cx="68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Symbol"/>
                <a:ea typeface="Symbol"/>
              </a:rPr>
              <a:t></a:t>
            </a: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4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6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GE1" descr=""/>
          <p:cNvPicPr/>
          <p:nvPr/>
        </p:nvPicPr>
        <p:blipFill>
          <a:blip r:embed="rId3"/>
          <a:stretch/>
        </p:blipFill>
        <p:spPr>
          <a:xfrm>
            <a:off x="2046240" y="1971720"/>
            <a:ext cx="5051520" cy="617400"/>
          </a:xfrm>
          <a:prstGeom prst="rect">
            <a:avLst/>
          </a:prstGeom>
          <a:ln w="0">
            <a:noFill/>
          </a:ln>
        </p:spPr>
      </p:pic>
      <p:pic>
        <p:nvPicPr>
          <p:cNvPr id="564" name="GE2" descr=""/>
          <p:cNvPicPr/>
          <p:nvPr/>
        </p:nvPicPr>
        <p:blipFill>
          <a:blip r:embed="rId4"/>
          <a:stretch/>
        </p:blipFill>
        <p:spPr>
          <a:xfrm>
            <a:off x="2039760" y="3162240"/>
            <a:ext cx="5178600" cy="617760"/>
          </a:xfrm>
          <a:prstGeom prst="rect">
            <a:avLst/>
          </a:prstGeom>
          <a:ln w="0">
            <a:noFill/>
          </a:ln>
        </p:spPr>
      </p:pic>
      <p:pic>
        <p:nvPicPr>
          <p:cNvPr id="565" name="GE3" descr=""/>
          <p:cNvPicPr/>
          <p:nvPr/>
        </p:nvPicPr>
        <p:blipFill>
          <a:blip r:embed="rId5"/>
          <a:stretch/>
        </p:blipFill>
        <p:spPr>
          <a:xfrm>
            <a:off x="2057400" y="4352760"/>
            <a:ext cx="4479840" cy="61776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2177280" y="163980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23480" y="164952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60280" y="163836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093640" y="164160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795280" y="166356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434640" y="166356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az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46240" y="1973160"/>
            <a:ext cx="50799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337400" y="233028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 - z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039760" y="3170160"/>
            <a:ext cx="52102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4160" y="4361040"/>
            <a:ext cx="445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6664320" y="4425840"/>
            <a:ext cx="709560" cy="50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09960" y="4060800"/>
            <a:ext cx="88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Symbol"/>
                <a:ea typeface="Symbol"/>
              </a:rPr>
              <a:t></a:t>
            </a: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(-1/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359480" y="3440160"/>
            <a:ext cx="8715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215200" y="3422520"/>
            <a:ext cx="0" cy="10033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6619680" y="4654440"/>
            <a:ext cx="873000" cy="50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7569360" y="4419360"/>
            <a:ext cx="644400" cy="46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323480" y="42465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489800" y="4557600"/>
            <a:ext cx="0" cy="101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8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GE1" descr=""/>
          <p:cNvPicPr/>
          <p:nvPr/>
        </p:nvPicPr>
        <p:blipFill>
          <a:blip r:embed="rId3"/>
          <a:stretch/>
        </p:blipFill>
        <p:spPr>
          <a:xfrm>
            <a:off x="2046240" y="1971720"/>
            <a:ext cx="5051520" cy="617400"/>
          </a:xfrm>
          <a:prstGeom prst="rect">
            <a:avLst/>
          </a:prstGeom>
          <a:ln w="0">
            <a:noFill/>
          </a:ln>
        </p:spPr>
      </p:pic>
      <p:pic>
        <p:nvPicPr>
          <p:cNvPr id="589" name="GE2" descr=""/>
          <p:cNvPicPr/>
          <p:nvPr/>
        </p:nvPicPr>
        <p:blipFill>
          <a:blip r:embed="rId4"/>
          <a:stretch/>
        </p:blipFill>
        <p:spPr>
          <a:xfrm>
            <a:off x="2039760" y="3162240"/>
            <a:ext cx="5178600" cy="617760"/>
          </a:xfrm>
          <a:prstGeom prst="rect">
            <a:avLst/>
          </a:prstGeom>
          <a:ln w="0">
            <a:noFill/>
          </a:ln>
        </p:spPr>
      </p:pic>
      <p:pic>
        <p:nvPicPr>
          <p:cNvPr id="590" name="GE3" descr=""/>
          <p:cNvPicPr/>
          <p:nvPr/>
        </p:nvPicPr>
        <p:blipFill>
          <a:blip r:embed="rId5"/>
          <a:stretch/>
        </p:blipFill>
        <p:spPr>
          <a:xfrm>
            <a:off x="2057400" y="4352760"/>
            <a:ext cx="4479840" cy="61776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2177280" y="163980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823480" y="164952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60280" y="163836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093640" y="164160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795280" y="166356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434640" y="166356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az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046240" y="1973160"/>
            <a:ext cx="50799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337400" y="233028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 - z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39760" y="3170160"/>
            <a:ext cx="52102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054160" y="4361040"/>
            <a:ext cx="445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69000" y="4425840"/>
            <a:ext cx="704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609600" y="40608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Symbol"/>
                <a:ea typeface="Symbol"/>
              </a:rPr>
              <a:t></a:t>
            </a: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(-2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359480" y="3440160"/>
            <a:ext cx="8715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215200" y="3422520"/>
            <a:ext cx="0" cy="989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6619680" y="4876920"/>
            <a:ext cx="8650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569000" y="4414680"/>
            <a:ext cx="639720" cy="50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23480" y="42465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470720" y="4538520"/>
            <a:ext cx="0" cy="333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6280" y="848520"/>
            <a:ext cx="33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istemas Lin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78200" y="1552680"/>
            <a:ext cx="3943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...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n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n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b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...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n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n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b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m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m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...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mn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n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b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686040" y="1959120"/>
            <a:ext cx="1176480" cy="769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1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GE3" descr=""/>
          <p:cNvPicPr/>
          <p:nvPr/>
        </p:nvPicPr>
        <p:blipFill>
          <a:blip r:embed="rId3"/>
          <a:stretch/>
        </p:blipFill>
        <p:spPr>
          <a:xfrm>
            <a:off x="2057400" y="4352760"/>
            <a:ext cx="4479840" cy="6177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054160" y="4361040"/>
            <a:ext cx="445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5960" y="4330800"/>
            <a:ext cx="725400" cy="218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800680" y="4330800"/>
            <a:ext cx="725400" cy="218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00680" y="4549680"/>
            <a:ext cx="725400" cy="21924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716200" y="4543560"/>
            <a:ext cx="725400" cy="21888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191680" y="397656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851920" y="398448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796200" y="2019240"/>
            <a:ext cx="96084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ff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3333ff"/>
                </a:solidFill>
                <a:latin typeface="Arial"/>
              </a:rPr>
              <a:t>1 </a:t>
            </a:r>
            <a:r>
              <a:rPr b="1" lang="pt-BR" sz="1600" spc="-1" strike="noStrike">
                <a:solidFill>
                  <a:srgbClr val="3333ff"/>
                </a:solidFill>
                <a:latin typeface="Arial"/>
              </a:rPr>
              <a:t> = 1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ff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3333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3333ff"/>
                </a:solidFill>
                <a:latin typeface="Arial"/>
              </a:rPr>
              <a:t>  = 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4295880" y="2946240"/>
            <a:ext cx="0" cy="92880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2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210400" y="3052080"/>
            <a:ext cx="478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ercícios em Sa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780640" y="3832920"/>
            <a:ext cx="375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Bom Trabalh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3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680200" y="3223440"/>
            <a:ext cx="40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uito Obrigad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6280" y="848520"/>
            <a:ext cx="33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istemas Lin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78200" y="1552680"/>
            <a:ext cx="3943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...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n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n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b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...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n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n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b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m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m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...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mn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n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b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81560" y="1641600"/>
            <a:ext cx="246240" cy="1320840"/>
          </a:xfrm>
          <a:custGeom>
            <a:avLst/>
            <a:gdLst>
              <a:gd name="textAreaLeft" fmla="*/ 0 w 246240"/>
              <a:gd name="textAreaRight" fmla="*/ 88920 w 246240"/>
              <a:gd name="textAreaTop" fmla="*/ 34200 h 1320840"/>
              <a:gd name="textAreaBottom" fmla="*/ 1286640 h 132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4240" y="211140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 equ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409920" y="3078000"/>
            <a:ext cx="0" cy="37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229280" y="3085920"/>
            <a:ext cx="0" cy="37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470560" y="3092400"/>
            <a:ext cx="0" cy="37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4303080" y="2332440"/>
            <a:ext cx="261720" cy="2600280"/>
          </a:xfrm>
          <a:custGeom>
            <a:avLst/>
            <a:gdLst>
              <a:gd name="textAreaLeft" fmla="*/ 167400 w 261720"/>
              <a:gd name="textAreaRight" fmla="*/ 261720 w 261720"/>
              <a:gd name="textAreaTop" fmla="*/ 67320 h 2600280"/>
              <a:gd name="textAreaBottom" fmla="*/ 2532960 h 26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4"/>
                  <a:pt x="10800" y="1788"/>
                </a:cubicBezTo>
                <a:lnTo>
                  <a:pt x="10800" y="9640"/>
                </a:lnTo>
                <a:cubicBezTo>
                  <a:pt x="10800" y="10534"/>
                  <a:pt x="5400" y="11428"/>
                  <a:pt x="0" y="11428"/>
                </a:cubicBezTo>
                <a:cubicBezTo>
                  <a:pt x="5400" y="11428"/>
                  <a:pt x="10800" y="12322"/>
                  <a:pt x="10800" y="13216"/>
                </a:cubicBezTo>
                <a:lnTo>
                  <a:pt x="10800" y="19812"/>
                </a:lnTo>
                <a:cubicBezTo>
                  <a:pt x="10800" y="207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55880" y="377352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 incógn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3240" y="425916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x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63680" y="4933800"/>
            <a:ext cx="1708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+ 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- 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0160" y="5254560"/>
            <a:ext cx="6969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80200" y="4927680"/>
            <a:ext cx="1707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6280" y="848520"/>
            <a:ext cx="33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istemas Lin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78200" y="1552680"/>
            <a:ext cx="3943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...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n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n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b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...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n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n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b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m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m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...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mn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n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b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81560" y="1641600"/>
            <a:ext cx="246240" cy="1320840"/>
          </a:xfrm>
          <a:custGeom>
            <a:avLst/>
            <a:gdLst>
              <a:gd name="textAreaLeft" fmla="*/ 0 w 246240"/>
              <a:gd name="textAreaRight" fmla="*/ 88920 w 246240"/>
              <a:gd name="textAreaTop" fmla="*/ 34200 h 1320840"/>
              <a:gd name="textAreaBottom" fmla="*/ 1286640 h 132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64240" y="211140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 equ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409920" y="3078000"/>
            <a:ext cx="0" cy="37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229280" y="3085920"/>
            <a:ext cx="0" cy="37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470560" y="3092400"/>
            <a:ext cx="0" cy="37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4303080" y="2332440"/>
            <a:ext cx="261720" cy="2600280"/>
          </a:xfrm>
          <a:custGeom>
            <a:avLst/>
            <a:gdLst>
              <a:gd name="textAreaLeft" fmla="*/ 167400 w 261720"/>
              <a:gd name="textAreaRight" fmla="*/ 261720 w 261720"/>
              <a:gd name="textAreaTop" fmla="*/ 67320 h 2600280"/>
              <a:gd name="textAreaBottom" fmla="*/ 2532960 h 26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4"/>
                  <a:pt x="10800" y="1788"/>
                </a:cubicBezTo>
                <a:lnTo>
                  <a:pt x="10800" y="9640"/>
                </a:lnTo>
                <a:cubicBezTo>
                  <a:pt x="10800" y="10534"/>
                  <a:pt x="5400" y="11428"/>
                  <a:pt x="0" y="11428"/>
                </a:cubicBezTo>
                <a:cubicBezTo>
                  <a:pt x="5400" y="11428"/>
                  <a:pt x="10800" y="12322"/>
                  <a:pt x="10800" y="13216"/>
                </a:cubicBezTo>
                <a:lnTo>
                  <a:pt x="10800" y="19812"/>
                </a:lnTo>
                <a:cubicBezTo>
                  <a:pt x="10800" y="207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55880" y="377352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 incógn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3240" y="425916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x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63680" y="4933800"/>
            <a:ext cx="1708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+ 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+ 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0160" y="5254560"/>
            <a:ext cx="6969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80200" y="4927680"/>
            <a:ext cx="1707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=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=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6280" y="848520"/>
            <a:ext cx="33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istemas Lin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78200" y="1552680"/>
            <a:ext cx="3943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...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n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n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b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...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n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n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b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m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m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...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mn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n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b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81560" y="1641600"/>
            <a:ext cx="246240" cy="1320840"/>
          </a:xfrm>
          <a:custGeom>
            <a:avLst/>
            <a:gdLst>
              <a:gd name="textAreaLeft" fmla="*/ 0 w 246240"/>
              <a:gd name="textAreaRight" fmla="*/ 88920 w 246240"/>
              <a:gd name="textAreaTop" fmla="*/ 34200 h 1320840"/>
              <a:gd name="textAreaBottom" fmla="*/ 1286640 h 132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64240" y="211140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 equ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409920" y="3078000"/>
            <a:ext cx="0" cy="37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229280" y="3085920"/>
            <a:ext cx="0" cy="37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470560" y="3092400"/>
            <a:ext cx="0" cy="37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4303080" y="2332440"/>
            <a:ext cx="261720" cy="2600280"/>
          </a:xfrm>
          <a:custGeom>
            <a:avLst/>
            <a:gdLst>
              <a:gd name="textAreaLeft" fmla="*/ 167400 w 261720"/>
              <a:gd name="textAreaRight" fmla="*/ 261720 w 261720"/>
              <a:gd name="textAreaTop" fmla="*/ 67320 h 2600280"/>
              <a:gd name="textAreaBottom" fmla="*/ 2532960 h 26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4"/>
                  <a:pt x="10800" y="1788"/>
                </a:cubicBezTo>
                <a:lnTo>
                  <a:pt x="10800" y="9640"/>
                </a:lnTo>
                <a:cubicBezTo>
                  <a:pt x="10800" y="10534"/>
                  <a:pt x="5400" y="11428"/>
                  <a:pt x="0" y="11428"/>
                </a:cubicBezTo>
                <a:cubicBezTo>
                  <a:pt x="5400" y="11428"/>
                  <a:pt x="10800" y="12322"/>
                  <a:pt x="10800" y="13216"/>
                </a:cubicBezTo>
                <a:lnTo>
                  <a:pt x="10800" y="19812"/>
                </a:lnTo>
                <a:cubicBezTo>
                  <a:pt x="10800" y="207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55880" y="377352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 incógn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3240" y="425916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x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46240" y="4889520"/>
            <a:ext cx="18813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+  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-  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2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+ 5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=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0160" y="5254560"/>
            <a:ext cx="6969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80200" y="4927680"/>
            <a:ext cx="1707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6280" y="848520"/>
            <a:ext cx="33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istemas Lin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8200" y="1552680"/>
            <a:ext cx="3943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...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n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n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b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...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n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n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b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m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m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...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mn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n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b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81560" y="1641600"/>
            <a:ext cx="246240" cy="1320840"/>
          </a:xfrm>
          <a:custGeom>
            <a:avLst/>
            <a:gdLst>
              <a:gd name="textAreaLeft" fmla="*/ 0 w 246240"/>
              <a:gd name="textAreaRight" fmla="*/ 88920 w 246240"/>
              <a:gd name="textAreaTop" fmla="*/ 34200 h 1320840"/>
              <a:gd name="textAreaBottom" fmla="*/ 1286640 h 132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64240" y="211140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 equ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409920" y="3078000"/>
            <a:ext cx="0" cy="37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229280" y="3085920"/>
            <a:ext cx="0" cy="37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470560" y="3092400"/>
            <a:ext cx="0" cy="37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4303080" y="2332440"/>
            <a:ext cx="261720" cy="2600280"/>
          </a:xfrm>
          <a:custGeom>
            <a:avLst/>
            <a:gdLst>
              <a:gd name="textAreaLeft" fmla="*/ 167400 w 261720"/>
              <a:gd name="textAreaRight" fmla="*/ 261720 w 261720"/>
              <a:gd name="textAreaTop" fmla="*/ 67320 h 2600280"/>
              <a:gd name="textAreaBottom" fmla="*/ 2532960 h 26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4"/>
                  <a:pt x="10800" y="1788"/>
                </a:cubicBezTo>
                <a:lnTo>
                  <a:pt x="10800" y="9640"/>
                </a:lnTo>
                <a:cubicBezTo>
                  <a:pt x="10800" y="10534"/>
                  <a:pt x="5400" y="11428"/>
                  <a:pt x="0" y="11428"/>
                </a:cubicBezTo>
                <a:cubicBezTo>
                  <a:pt x="5400" y="11428"/>
                  <a:pt x="10800" y="12322"/>
                  <a:pt x="10800" y="13216"/>
                </a:cubicBezTo>
                <a:lnTo>
                  <a:pt x="10800" y="19812"/>
                </a:lnTo>
                <a:cubicBezTo>
                  <a:pt x="10800" y="207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5880" y="377352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 incógn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03240" y="425916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x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46240" y="4889520"/>
            <a:ext cx="18813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+  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-  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2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+ 5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=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0160" y="5254560"/>
            <a:ext cx="6969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80200" y="4927680"/>
            <a:ext cx="1707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3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4160" y="8485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lgoritmo de Gauss-Jord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49400" y="1434960"/>
            <a:ext cx="3943440" cy="15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...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n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n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b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...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n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n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b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m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m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... + 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mn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n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b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741760" y="3111480"/>
            <a:ext cx="4057560" cy="1873440"/>
            <a:chOff x="2741760" y="3111480"/>
            <a:chExt cx="4057560" cy="1873440"/>
          </a:xfrm>
        </p:grpSpPr>
        <p:sp>
          <p:nvSpPr>
            <p:cNvPr id="139" name=""/>
            <p:cNvSpPr/>
            <p:nvPr/>
          </p:nvSpPr>
          <p:spPr>
            <a:xfrm>
              <a:off x="2855880" y="3111480"/>
              <a:ext cx="3943440" cy="18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11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 a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12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  ...   a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1n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                       b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1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 a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2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  ...   a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n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                       b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m1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 a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m2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 ...   a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mn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                     b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95920" y="3112920"/>
              <a:ext cx="547560" cy="18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41760" y="3236760"/>
              <a:ext cx="88920" cy="1348920"/>
            </a:xfrm>
            <a:custGeom>
              <a:avLst/>
              <a:gdLst>
                <a:gd name="textAreaLeft" fmla="*/ 25920 w 88920"/>
                <a:gd name="textAreaRight" fmla="*/ 89280 w 88920"/>
                <a:gd name="textAreaTop" fmla="*/ 56160 h 1348920"/>
                <a:gd name="textAreaBottom" fmla="*/ 1292760 h 134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563360" y="3242880"/>
              <a:ext cx="88920" cy="1349280"/>
            </a:xfrm>
            <a:custGeom>
              <a:avLst/>
              <a:gdLst>
                <a:gd name="textAreaLeft" fmla="*/ 25560 w 88920"/>
                <a:gd name="textAreaRight" fmla="*/ 88920 w 88920"/>
                <a:gd name="textAreaTop" fmla="*/ 56160 h 1349280"/>
                <a:gd name="textAreaBottom" fmla="*/ 1293120 h 13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57760" y="3231720"/>
              <a:ext cx="88920" cy="1349280"/>
            </a:xfrm>
            <a:custGeom>
              <a:avLst/>
              <a:gdLst>
                <a:gd name="textAreaLeft" fmla="*/ 25920 w 88920"/>
                <a:gd name="textAreaRight" fmla="*/ 89280 w 88920"/>
                <a:gd name="textAreaTop" fmla="*/ 56160 h 1349280"/>
                <a:gd name="textAreaBottom" fmla="*/ 1293120 h 13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150880" y="3236760"/>
              <a:ext cx="88920" cy="1348920"/>
            </a:xfrm>
            <a:custGeom>
              <a:avLst/>
              <a:gdLst>
                <a:gd name="textAreaLeft" fmla="*/ 25560 w 88920"/>
                <a:gd name="textAreaRight" fmla="*/ 88920 w 88920"/>
                <a:gd name="textAreaTop" fmla="*/ 56160 h 1348920"/>
                <a:gd name="textAreaBottom" fmla="*/ 1292760 h 134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29320" y="3234960"/>
              <a:ext cx="88920" cy="1349280"/>
            </a:xfrm>
            <a:custGeom>
              <a:avLst/>
              <a:gdLst>
                <a:gd name="textAreaLeft" fmla="*/ 25920 w 88920"/>
                <a:gd name="textAreaRight" fmla="*/ 89280 w 88920"/>
                <a:gd name="textAreaTop" fmla="*/ 56160 h 1349280"/>
                <a:gd name="textAreaBottom" fmla="*/ 1293120 h 13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6028560" y="3233520"/>
              <a:ext cx="88920" cy="1348920"/>
            </a:xfrm>
            <a:custGeom>
              <a:avLst/>
              <a:gdLst>
                <a:gd name="textAreaLeft" fmla="*/ 25560 w 88920"/>
                <a:gd name="textAreaRight" fmla="*/ 88920 w 88920"/>
                <a:gd name="textAreaTop" fmla="*/ 56160 h 1348920"/>
                <a:gd name="textAreaBottom" fmla="*/ 1292760 h 134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78680" y="374796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66640" y="3033720"/>
            <a:ext cx="801072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3360" y="4782960"/>
            <a:ext cx="801036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282680" y="4859280"/>
            <a:ext cx="2328840" cy="1596600"/>
            <a:chOff x="1282680" y="4859280"/>
            <a:chExt cx="2328840" cy="1596600"/>
          </a:xfrm>
        </p:grpSpPr>
        <p:sp>
          <p:nvSpPr>
            <p:cNvPr id="151" name=""/>
            <p:cNvSpPr/>
            <p:nvPr/>
          </p:nvSpPr>
          <p:spPr>
            <a:xfrm>
              <a:off x="1397160" y="4859280"/>
              <a:ext cx="2214360" cy="15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11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 a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12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  ...   a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1n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  b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1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 a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2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  ...   a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n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   b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m1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 a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m2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 ...  a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mn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   b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282680" y="4984560"/>
              <a:ext cx="2303280" cy="1355040"/>
              <a:chOff x="1282680" y="4984560"/>
              <a:chExt cx="2303280" cy="1355040"/>
            </a:xfrm>
          </p:grpSpPr>
          <p:sp>
            <p:nvSpPr>
              <p:cNvPr id="153" name=""/>
              <p:cNvSpPr/>
              <p:nvPr/>
            </p:nvSpPr>
            <p:spPr>
              <a:xfrm>
                <a:off x="1282680" y="4984560"/>
                <a:ext cx="88920" cy="1348920"/>
              </a:xfrm>
              <a:custGeom>
                <a:avLst/>
                <a:gdLst>
                  <a:gd name="textAreaLeft" fmla="*/ 25920 w 88920"/>
                  <a:gd name="textAreaRight" fmla="*/ 89280 w 88920"/>
                  <a:gd name="textAreaTop" fmla="*/ 56160 h 1348920"/>
                  <a:gd name="textAreaBottom" fmla="*/ 1292760 h 134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3496680" y="4990320"/>
                <a:ext cx="88920" cy="1349280"/>
              </a:xfrm>
              <a:custGeom>
                <a:avLst/>
                <a:gdLst>
                  <a:gd name="textAreaLeft" fmla="*/ 25560 w 88920"/>
                  <a:gd name="textAreaRight" fmla="*/ 88920 w 88920"/>
                  <a:gd name="textAreaTop" fmla="*/ 56160 h 1349280"/>
                  <a:gd name="textAreaBottom" fmla="*/ 1293120 h 134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3832200" y="5661000"/>
            <a:ext cx="1668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96200" y="507996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Transforma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Elementa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716440" y="4867200"/>
            <a:ext cx="2328840" cy="1596600"/>
            <a:chOff x="5716440" y="4867200"/>
            <a:chExt cx="2328840" cy="1596600"/>
          </a:xfrm>
        </p:grpSpPr>
        <p:sp>
          <p:nvSpPr>
            <p:cNvPr id="158" name=""/>
            <p:cNvSpPr/>
            <p:nvPr/>
          </p:nvSpPr>
          <p:spPr>
            <a:xfrm>
              <a:off x="5830920" y="4867200"/>
              <a:ext cx="2214360" cy="15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1     0    ...     0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0     1    ...     0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0     0    ...     1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5716440" y="4992480"/>
              <a:ext cx="2303280" cy="1355040"/>
              <a:chOff x="5716440" y="4992480"/>
              <a:chExt cx="2303280" cy="1355040"/>
            </a:xfrm>
          </p:grpSpPr>
          <p:sp>
            <p:nvSpPr>
              <p:cNvPr id="160" name=""/>
              <p:cNvSpPr/>
              <p:nvPr/>
            </p:nvSpPr>
            <p:spPr>
              <a:xfrm>
                <a:off x="5716440" y="4992480"/>
                <a:ext cx="88920" cy="1348920"/>
              </a:xfrm>
              <a:custGeom>
                <a:avLst/>
                <a:gdLst>
                  <a:gd name="textAreaLeft" fmla="*/ 25920 w 88920"/>
                  <a:gd name="textAreaRight" fmla="*/ 89280 w 88920"/>
                  <a:gd name="textAreaTop" fmla="*/ 56160 h 1348920"/>
                  <a:gd name="textAreaBottom" fmla="*/ 1292760 h 134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7930440" y="4998240"/>
                <a:ext cx="88920" cy="1349280"/>
              </a:xfrm>
              <a:custGeom>
                <a:avLst/>
                <a:gdLst>
                  <a:gd name="textAreaLeft" fmla="*/ 25560 w 88920"/>
                  <a:gd name="textAreaRight" fmla="*/ 88920 w 88920"/>
                  <a:gd name="textAreaTop" fmla="*/ 56160 h 1349280"/>
                  <a:gd name="textAreaBottom" fmla="*/ 1293120 h 134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6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10600" y="84852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ariáveis Bás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74880" y="2075040"/>
            <a:ext cx="3943440" cy="15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Arial"/>
              </a:rPr>
              <a:t>11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+ a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Arial"/>
              </a:rPr>
              <a:t>12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+ ... + a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Arial"/>
              </a:rPr>
              <a:t>1n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Arial"/>
              </a:rPr>
              <a:t>n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= b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Arial"/>
              </a:rPr>
              <a:t>21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+ a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Arial"/>
              </a:rPr>
              <a:t>22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+ ... + a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Arial"/>
              </a:rPr>
              <a:t>2n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Arial"/>
              </a:rPr>
              <a:t>n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= b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Arial"/>
              </a:rPr>
              <a:t>m1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+ a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Arial"/>
              </a:rPr>
              <a:t>m2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+ ... + a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Arial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Arial"/>
              </a:rPr>
              <a:t>n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= b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1400" y="1730520"/>
            <a:ext cx="48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Seja o sistema de equações lineares com n &gt; 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6720" y="3684600"/>
            <a:ext cx="728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Escolhendo-se m variáveis (chamadas básicas) e fazendo os demais n-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variáveis iguais a 0, pode-se resolver o sistema (desde que det </a:t>
            </a:r>
            <a:r>
              <a:rPr b="1" lang="pt-BR" sz="1600" spc="-1" strike="noStrike">
                <a:solidFill>
                  <a:srgbClr val="008000"/>
                </a:solidFill>
                <a:latin typeface="Symbol"/>
                <a:ea typeface="Symbol"/>
              </a:rPr>
              <a:t>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0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0560" y="452448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ff"/>
                </a:solidFill>
                <a:latin typeface="Arial"/>
              </a:rPr>
              <a:t>Exempl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90880" y="4541760"/>
            <a:ext cx="32605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8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+ x</a:t>
            </a:r>
            <a:r>
              <a:rPr b="1" lang="en-US" sz="18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2x</a:t>
            </a:r>
            <a:r>
              <a:rPr b="1" lang="en-US" sz="18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+ 5x</a:t>
            </a:r>
            <a:r>
              <a:rPr b="1" lang="en-US" sz="18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+ x</a:t>
            </a:r>
            <a:r>
              <a:rPr b="1" lang="en-US" sz="18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95200" y="5183280"/>
            <a:ext cx="502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ff"/>
                </a:solidFill>
                <a:latin typeface="Arial"/>
              </a:rPr>
              <a:t>Escolhendo </a:t>
            </a:r>
            <a:r>
              <a:rPr b="1" lang="pt-BR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pt-BR" sz="16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pt-BR" sz="1400" spc="-1" strike="noStrike">
                <a:solidFill>
                  <a:srgbClr val="3333ff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pt-BR" sz="16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pt-BR" sz="1400" spc="-1" strike="noStrike">
                <a:solidFill>
                  <a:srgbClr val="3333ff"/>
                </a:solidFill>
                <a:latin typeface="Arial"/>
              </a:rPr>
              <a:t> como variáveis básicas (logo</a:t>
            </a:r>
            <a:r>
              <a:rPr b="1" lang="pt-BR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pt-BR" sz="1600" spc="-1" strike="noStrike" baseline="-25000">
                <a:solidFill>
                  <a:srgbClr val="3333ff"/>
                </a:solidFill>
                <a:latin typeface="Courier New"/>
              </a:rPr>
              <a:t>3</a:t>
            </a:r>
            <a:r>
              <a:rPr b="1" lang="pt-BR" sz="1400" spc="-1" strike="noStrike">
                <a:solidFill>
                  <a:srgbClr val="3333ff"/>
                </a:solidFill>
                <a:latin typeface="Arial"/>
              </a:rPr>
              <a:t> = 0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55680" y="5665680"/>
            <a:ext cx="19828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+ 2x</a:t>
            </a:r>
            <a:r>
              <a:rPr b="1" lang="en-US" sz="18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2x</a:t>
            </a:r>
            <a:r>
              <a:rPr b="1" lang="en-US" sz="18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+ 5x</a:t>
            </a:r>
            <a:r>
              <a:rPr b="1" lang="en-US" sz="18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94440" y="578016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ff"/>
                </a:solidFill>
                <a:latin typeface="Arial"/>
              </a:rPr>
              <a:t>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37040" y="5643720"/>
            <a:ext cx="19828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3333ff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=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3333ff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43640" y="5675400"/>
            <a:ext cx="146160" cy="623880"/>
          </a:xfrm>
          <a:custGeom>
            <a:avLst/>
            <a:gdLst>
              <a:gd name="textAreaLeft" fmla="*/ 0 w 146160"/>
              <a:gd name="textAreaRight" fmla="*/ 52560 w 146160"/>
              <a:gd name="textAreaTop" fmla="*/ 16200 h 623880"/>
              <a:gd name="textAreaBottom" fmla="*/ 60768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50280" y="5732640"/>
            <a:ext cx="87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ff"/>
                </a:solidFill>
                <a:latin typeface="Arial"/>
              </a:rPr>
              <a:t>Solu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ff"/>
                </a:solidFill>
                <a:latin typeface="Arial"/>
              </a:rPr>
              <a:t>Bás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Sato</cp:lastModifiedBy>
  <cp:lastPrinted>2000-07-03T14:27:54Z</cp:lastPrinted>
  <dcterms:modified xsi:type="dcterms:W3CDTF">2004-01-20T20:39:07Z</dcterms:modified>
  <cp:revision>210</cp:revision>
  <dc:subject/>
  <dc:title>Mercados Digitais</dc:title>
</cp:coreProperties>
</file>