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A62-1795-47DB-B413-5D0AE59A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CD1-1742-4B5F-AA7B-8ED4A1C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155-D347-46D9-89F2-3EC4275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BF7-70B0-477F-8735-23649C1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17F-FE41-4C19-903B-E4EE566E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C7B-1561-4DC3-900D-A0791BD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2CE-D80A-4E4F-817C-A291D08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0A2-6CA2-4B3F-9C4B-0C816AE9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800-587E-4BB2-B4B9-AE28B98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49E-FEDC-4357-A5D8-12F4323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145-FCF4-4DDB-BEDB-E1C5A6D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3E6-35E1-4BC5-BAB3-A3D6409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BB0B-AA15-43F1-8D57-13336610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how1" descr=""/>
          <p:cNvPicPr/>
          <p:nvPr/>
        </p:nvPicPr>
        <p:blipFill>
          <a:blip r:embed="rId3"/>
          <a:stretch/>
        </p:blipFill>
        <p:spPr>
          <a:xfrm>
            <a:off x="396720" y="1785960"/>
            <a:ext cx="8436240" cy="822240"/>
          </a:xfrm>
          <a:prstGeom prst="rect">
            <a:avLst/>
          </a:prstGeom>
          <a:ln w="0">
            <a:noFill/>
          </a:ln>
        </p:spPr>
      </p:pic>
      <p:pic>
        <p:nvPicPr>
          <p:cNvPr id="125" name="Chow2" descr=""/>
          <p:cNvPicPr/>
          <p:nvPr/>
        </p:nvPicPr>
        <p:blipFill>
          <a:blip r:embed="rId4"/>
          <a:stretch/>
        </p:blipFill>
        <p:spPr>
          <a:xfrm>
            <a:off x="395280" y="2698920"/>
            <a:ext cx="7829640" cy="822240"/>
          </a:xfrm>
          <a:prstGeom prst="rect">
            <a:avLst/>
          </a:prstGeom>
          <a:ln w="0">
            <a:noFill/>
          </a:ln>
        </p:spPr>
      </p:pic>
      <p:pic>
        <p:nvPicPr>
          <p:cNvPr id="126" name="Chow3" descr=""/>
          <p:cNvPicPr/>
          <p:nvPr/>
        </p:nvPicPr>
        <p:blipFill>
          <a:blip r:embed="rId5"/>
          <a:stretch/>
        </p:blipFill>
        <p:spPr>
          <a:xfrm>
            <a:off x="388800" y="3657600"/>
            <a:ext cx="7783560" cy="822240"/>
          </a:xfrm>
          <a:prstGeom prst="rect">
            <a:avLst/>
          </a:prstGeom>
          <a:ln w="0">
            <a:noFill/>
          </a:ln>
        </p:spPr>
      </p:pic>
      <p:pic>
        <p:nvPicPr>
          <p:cNvPr id="127" name="Chow4" descr=""/>
          <p:cNvPicPr/>
          <p:nvPr/>
        </p:nvPicPr>
        <p:blipFill>
          <a:blip r:embed="rId6"/>
          <a:stretch/>
        </p:blipFill>
        <p:spPr>
          <a:xfrm>
            <a:off x="376200" y="4600440"/>
            <a:ext cx="7954920" cy="822600"/>
          </a:xfrm>
          <a:prstGeom prst="rect">
            <a:avLst/>
          </a:prstGeom>
          <a:ln w="0">
            <a:noFill/>
          </a:ln>
        </p:spPr>
      </p:pic>
      <p:pic>
        <p:nvPicPr>
          <p:cNvPr id="128" name="Chow5" descr=""/>
          <p:cNvPicPr/>
          <p:nvPr/>
        </p:nvPicPr>
        <p:blipFill>
          <a:blip r:embed="rId7"/>
          <a:stretch/>
        </p:blipFill>
        <p:spPr>
          <a:xfrm>
            <a:off x="372960" y="5516640"/>
            <a:ext cx="723600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0" y="2341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-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" y="142704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7600" y="142704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8560" y="14209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1960" y="141444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47400" y="142704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63600" y="1433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87360" y="142704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2440" y="14400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75040" y="1440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34560" y="14335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4720" y="774720"/>
            <a:ext cx="43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Problema da Di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5, Pg, 93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00" y="1785960"/>
            <a:ext cx="848988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8520" y="2692440"/>
            <a:ext cx="788040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0600" y="3657600"/>
            <a:ext cx="788040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0600" y="4600440"/>
            <a:ext cx="804060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200" y="5514840"/>
            <a:ext cx="728496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roblema de Invest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19, Pg, 97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720" y="1528920"/>
            <a:ext cx="80805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nheiro disponível = $ 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tencial =                   x 0.2 +                    x 0.4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2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isco =                   x 0.3 +                    x 0.8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6680" y="3146400"/>
            <a:ext cx="61898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  40*0.10 Tater + 50*0.12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 Tater + 5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0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Budge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8 Tater + 2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5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otenci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2 Tater + 4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Ris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0290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4840" y="464652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4200" y="24991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01560" y="27374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275436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58320" y="205776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 T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69480" y="229608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55800" y="231300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17280" y="207216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4640" y="231048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30600" y="232740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18480" y="251496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 T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0000" y="275328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15960" y="277020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00240" y="4267080"/>
            <a:ext cx="0" cy="12002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2640" y="3699000"/>
            <a:ext cx="1284480" cy="59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ater 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akes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9640" y="4888080"/>
            <a:ext cx="59115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ax  z = 4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6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+M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4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5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+ s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            =</a:t>
            </a:r>
            <a:r>
              <a:rPr b="1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100.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2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-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+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=</a:t>
            </a:r>
            <a:r>
              <a:rPr b="1" lang="en-US" sz="1400" spc="-1" strike="noStrike">
                <a:solidFill>
                  <a:srgbClr val="008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25.000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12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+ 4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       + s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=</a:t>
            </a:r>
            <a:r>
              <a:rPr b="1" lang="en-US" sz="1400" spc="-1" strike="noStrike">
                <a:solidFill>
                  <a:srgbClr val="008000"/>
                </a:solidFill>
                <a:latin typeface="Arial Black"/>
              </a:rPr>
              <a:t>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50.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9400" y="4329000"/>
            <a:ext cx="716256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1560" y="3390840"/>
            <a:ext cx="0" cy="800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46240" y="1679400"/>
            <a:ext cx="591192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ax  z = 4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6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+M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5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+ s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        =</a:t>
            </a: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0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8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- s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+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=</a:t>
            </a: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5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2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+ 4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   + s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=</a:t>
            </a: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8160" y="4460760"/>
            <a:ext cx="73706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 4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 6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=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s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= 10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8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=  2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4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+ s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=  5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Stock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10400" y="305208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80640" y="383292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Tater1" descr=""/>
          <p:cNvPicPr/>
          <p:nvPr/>
        </p:nvPicPr>
        <p:blipFill>
          <a:blip r:embed="rId3"/>
          <a:stretch/>
        </p:blipFill>
        <p:spPr>
          <a:xfrm>
            <a:off x="777960" y="2030400"/>
            <a:ext cx="7497720" cy="822240"/>
          </a:xfrm>
          <a:prstGeom prst="rect">
            <a:avLst/>
          </a:prstGeom>
          <a:ln w="0">
            <a:noFill/>
          </a:ln>
        </p:spPr>
      </p:pic>
      <p:pic>
        <p:nvPicPr>
          <p:cNvPr id="191" name="Tater2" descr=""/>
          <p:cNvPicPr/>
          <p:nvPr/>
        </p:nvPicPr>
        <p:blipFill>
          <a:blip r:embed="rId4"/>
          <a:stretch/>
        </p:blipFill>
        <p:spPr>
          <a:xfrm>
            <a:off x="803160" y="3060720"/>
            <a:ext cx="7418520" cy="822240"/>
          </a:xfrm>
          <a:prstGeom prst="rect">
            <a:avLst/>
          </a:prstGeom>
          <a:ln w="0">
            <a:noFill/>
          </a:ln>
        </p:spPr>
      </p:pic>
      <p:pic>
        <p:nvPicPr>
          <p:cNvPr id="192" name="Tater3" descr=""/>
          <p:cNvPicPr/>
          <p:nvPr/>
        </p:nvPicPr>
        <p:blipFill>
          <a:blip r:embed="rId5"/>
          <a:stretch/>
        </p:blipFill>
        <p:spPr>
          <a:xfrm>
            <a:off x="787320" y="4133880"/>
            <a:ext cx="7418520" cy="822240"/>
          </a:xfrm>
          <a:prstGeom prst="rect">
            <a:avLst/>
          </a:prstGeom>
          <a:ln w="0">
            <a:noFill/>
          </a:ln>
        </p:spPr>
      </p:pic>
      <p:pic>
        <p:nvPicPr>
          <p:cNvPr id="193" name="Tater4" descr=""/>
          <p:cNvPicPr/>
          <p:nvPr/>
        </p:nvPicPr>
        <p:blipFill>
          <a:blip r:embed="rId6"/>
          <a:stretch/>
        </p:blipFill>
        <p:spPr>
          <a:xfrm>
            <a:off x="752400" y="5208480"/>
            <a:ext cx="6504120" cy="822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5600" y="16876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93000" y="16876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23480" y="16812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71040" y="16891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5640" y="17017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49280" y="1693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74760" y="1700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0800" y="16794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1880" y="84600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Problema de Investi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19, Pg, 97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80" y="2031840"/>
            <a:ext cx="748836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4960" y="3056040"/>
            <a:ext cx="7445160" cy="81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2640" y="4138560"/>
            <a:ext cx="744552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0320" y="5205240"/>
            <a:ext cx="655956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3280" y="2836800"/>
            <a:ext cx="8397720" cy="285840"/>
            <a:chOff x="233280" y="283680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20640" y="284328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3280" y="283680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roblema da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5, Pg, 93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w Chow Feed (Chow) : 1 u cálcio, 40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o Town Buffet (Moo) : 2u cálcio, 25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ecessidades diárias por vaca: 100 u cálcio, 20000 calorias e 1500 u proteí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ustos: Chow = $ 0.015 e Moo = $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0080" y="4898880"/>
            <a:ext cx="52084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in z = 0.015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0.02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1    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2    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-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    =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40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25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-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= 2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20  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20  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      -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= 15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8240" y="3241800"/>
            <a:ext cx="5208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álci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0       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alori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proteín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0240" y="4267080"/>
            <a:ext cx="0" cy="12002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9880" y="3699000"/>
            <a:ext cx="1284480" cy="59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how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oo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76240" y="4343400"/>
            <a:ext cx="727704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7760" y="1679400"/>
            <a:ext cx="505620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in z = 0.015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0.02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0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5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= 2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= 15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8000" y="4460760"/>
            <a:ext cx="7812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0.015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- 0.0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 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2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=  1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560" y="3390840"/>
            <a:ext cx="0" cy="800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4343400"/>
            <a:ext cx="727704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08000" y="4460760"/>
            <a:ext cx="7812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0.015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- 0.0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 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2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=  1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83080" y="3654000"/>
            <a:ext cx="0" cy="538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4480" y="1536840"/>
            <a:ext cx="78120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solução básic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z,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 = (0,-100,-20000,-1500)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não é viáv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     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=  1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0160" y="420840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57640" y="420048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17760" y="1679400"/>
            <a:ext cx="646416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in z = 0.015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0.02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0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5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= 2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= 15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329000"/>
            <a:ext cx="855504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17760" y="1679400"/>
            <a:ext cx="646416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in z = 0.015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0.02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+ M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+ M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+ M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  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+ 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0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5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+ 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2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    = 2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0  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- e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        + 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= 15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" y="4460760"/>
            <a:ext cx="85723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0.015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0.0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2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1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1560" y="3390840"/>
            <a:ext cx="0" cy="800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4329000"/>
            <a:ext cx="855504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160" y="4460760"/>
            <a:ext cx="85723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0.015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0.0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 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2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  2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- e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1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4400" y="422280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3480" y="423072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2960" y="421632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4320" y="423072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4230720"/>
            <a:ext cx="0" cy="2062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83080" y="3654000"/>
            <a:ext cx="0" cy="538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1536840"/>
            <a:ext cx="8667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solução básic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z,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 = (21600M,100,20000,1500)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é viáv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- M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=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= 2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+ a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3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=  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Manuf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24T20:40:02Z</dcterms:modified>
  <cp:revision>203</cp:revision>
  <dc:subject/>
  <dc:title>Mercados Digitais</dc:title>
</cp:coreProperties>
</file>