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79B-27BC-4331-8676-524DDB0B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9FA-6D00-4AC9-ACC7-4940CF00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562-FFFA-4937-8E68-86F49A7C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BE9-1875-423B-83FC-AE883F64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CEB-5009-4C78-B2D8-158BD1E0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5BF-5B14-49DE-A6E7-0577267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FC2-DBE6-4D33-B74D-30030A82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48F-E58B-4786-8B70-83F5C56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2BA-39B0-44C6-AA94-C9B4E417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BE1-B625-4145-BBE6-5FA22C1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513-C1E7-4DC1-8B8D-0DB3272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277-1D51-436F-892E-23575A04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0480-91F7-401C-87A3-65581DE47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79600" y="1244520"/>
            <a:ext cx="392400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cosmo2s" descr=""/>
          <p:cNvPicPr/>
          <p:nvPr/>
        </p:nvPicPr>
        <p:blipFill>
          <a:blip r:embed="rId1"/>
          <a:stretch/>
        </p:blipFill>
        <p:spPr>
          <a:xfrm>
            <a:off x="3341520" y="3859200"/>
            <a:ext cx="5384880" cy="217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348000" y="6032520"/>
            <a:ext cx="53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15240" y="38527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51600" y="1990080"/>
            <a:ext cx="1355400" cy="1182600"/>
          </a:xfrm>
          <a:custGeom>
            <a:avLst/>
            <a:gdLst>
              <a:gd name="textAreaLeft" fmla="*/ 451800 w 1355400"/>
              <a:gd name="textAreaRight" fmla="*/ 1161000 w 1355400"/>
              <a:gd name="textAreaTop" fmla="*/ 680760 h 1182600"/>
              <a:gd name="textAreaBottom" fmla="*/ 101268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2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osmogr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osmopl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cosm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osmlin1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19320" y="23130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22240" y="2479680"/>
            <a:ext cx="1355760" cy="1182600"/>
          </a:xfrm>
          <a:custGeom>
            <a:avLst/>
            <a:gdLst>
              <a:gd name="textAreaLeft" fmla="*/ 452160 w 1355760"/>
              <a:gd name="textAreaRight" fmla="*/ 1161720 w 1355760"/>
              <a:gd name="textAreaTop" fmla="*/ 681120 h 1182600"/>
              <a:gd name="textAreaBottom" fmla="*/ 101304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smlin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09120" y="852480"/>
            <a:ext cx="4333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5, Pg, 93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720" y="1604880"/>
            <a:ext cx="808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Die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w Chow Feed (Chow) : 1 u cálcio, 40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oo Town Buffet (Moo) : 2u cálcio, 25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Necessidades diárias por vaca: 100 u cálcio, 20000 calorias e 1500 u proteí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ustos: Chow = $ 0.015 e Moo = $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7320" y="4917960"/>
            <a:ext cx="5208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[cálci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calori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[proteín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25760" y="3192480"/>
            <a:ext cx="37796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how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Moo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Ne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álci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alori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25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teín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usto         0.015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" y="47466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Manuf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3790800"/>
            <a:ext cx="35197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51400" y="3548160"/>
            <a:ext cx="1355400" cy="1182600"/>
          </a:xfrm>
          <a:custGeom>
            <a:avLst/>
            <a:gdLst>
              <a:gd name="textAreaLeft" fmla="*/ 451800 w 1355400"/>
              <a:gd name="textAreaRight" fmla="*/ 1161000 w 1355400"/>
              <a:gd name="textAreaTop" fmla="*/ 681120 h 1182600"/>
              <a:gd name="textAreaBottom" fmla="*/ 101304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Manuf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nuf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240" y="3098880"/>
            <a:ext cx="8397720" cy="285840"/>
            <a:chOff x="219240" y="309888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606600" y="310536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240" y="309888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Lind1" descr="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328840" y="2421000"/>
            <a:ext cx="351936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8720" y="2104920"/>
            <a:ext cx="1355400" cy="1182960"/>
          </a:xfrm>
          <a:custGeom>
            <a:avLst/>
            <a:gdLst>
              <a:gd name="textAreaLeft" fmla="*/ 451440 w 1355400"/>
              <a:gd name="textAreaRight" fmla="*/ 1160640 w 1355400"/>
              <a:gd name="textAreaTop" fmla="*/ 681480 h 1182960"/>
              <a:gd name="textAreaBottom" fmla="*/ 1013400 h 11829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Lin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26080" y="3033720"/>
            <a:ext cx="34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Dicas para 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Exercícios de Hoj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88880" y="1662120"/>
            <a:ext cx="8094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anufa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rodutos : Z345 St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, Z345 In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I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, W250 St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W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, W250 In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WI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stratégia: Pelo menos 50%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I + W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.5 (ZS + ZI + WS + W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- 0.5 ZS + 0.5 ZI - 0.5 WS + 0.5 W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ix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S + Z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.75 (ZS + ZI + WS + WI)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25 ZS + 0.25 ZI - 0.75 WS - 0.75 W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WS + WI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0.75 (ZS + ZI + WS + WI)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-0.75 ZS - 0.75 ZI + 0.25 WS + 0.25 WI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23200" y="87012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Dica para o Exercíci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31640" y="1714680"/>
            <a:ext cx="834084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e Investimen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ítulos 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tocks = EAL, BRU, 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onds = BL, 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T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elo menos 25% dos Stocks no TAT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.25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EAL + BRU + 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75 TAT - 0.25 EAL - 0.25 BRU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elo menos tantos Bonds quanto Stock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L + 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EAL + BRU + 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L + 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-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EAL - BRU - TAT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nos de 12.500 em titulos com retorno anual menor que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0%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TD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2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1160" y="85896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Dica para o Exercíci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763720" y="820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Dica para o Exercício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1760" y="5591520"/>
            <a:ext cx="14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centr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04840" y="2324160"/>
            <a:ext cx="1068480" cy="1442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92320" y="2454120"/>
            <a:ext cx="6350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0760" y="25218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5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200" y="3799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4960" y="2721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35400" y="2332080"/>
            <a:ext cx="1343160" cy="1730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65720" y="2462040"/>
            <a:ext cx="504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2280" y="24724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54280" y="409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3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77080" y="2717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67640" y="2355840"/>
            <a:ext cx="1689120" cy="2063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4760" y="2486160"/>
            <a:ext cx="79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44480" y="2612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8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4600" y="4466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5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1360" y="4230720"/>
            <a:ext cx="0" cy="12128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1320" y="5547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.5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13200" y="4527720"/>
            <a:ext cx="0" cy="909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7560" y="55555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0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91240" y="4923000"/>
            <a:ext cx="0" cy="5349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65720" y="55634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6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7480" y="1619280"/>
            <a:ext cx="31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17480" y="1619280"/>
            <a:ext cx="31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04840" y="2324160"/>
            <a:ext cx="1068480" cy="1442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92320" y="2454120"/>
            <a:ext cx="6350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760" y="25218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5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95200" y="3799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4960" y="2721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5400" y="2332080"/>
            <a:ext cx="1343160" cy="1730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65720" y="2462040"/>
            <a:ext cx="504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82280" y="24724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54280" y="409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3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77080" y="2717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67640" y="2355840"/>
            <a:ext cx="1689120" cy="2063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2486160"/>
            <a:ext cx="79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44480" y="2612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8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4600" y="4466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5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1360" y="4230720"/>
            <a:ext cx="0" cy="12128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01320" y="5547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.5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13200" y="4527720"/>
            <a:ext cx="0" cy="909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7560" y="55555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0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1240" y="4923000"/>
            <a:ext cx="0" cy="5349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65720" y="55634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6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30800" y="55461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2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1440" y="55540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3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50880" y="5562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 + 3)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8240" y="5959080"/>
            <a:ext cx="6110280" cy="40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x con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+ ... + 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x con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= (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+ ... + 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) x con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63720" y="820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Dica para o Exercício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30480" y="2120760"/>
            <a:ext cx="2451240" cy="102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7120" y="1563840"/>
            <a:ext cx="8453520" cy="50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aso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ctanagem   Reg (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  Prem (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9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Available                 Cos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acific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                p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42 x 3.000 = 126.000     $0,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Gulf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7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                g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42 x 2000 = 84.000        $0.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ddle East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95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               m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42 x 8000 = 336.000      $0,47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Preço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$0,52          $0,6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gular:    8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87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9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(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mium:      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vailability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26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acifi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...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Gulf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...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Middle Ea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tracts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00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Re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...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re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pacidade de Processamento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 = 0,52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  + 0,60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+ 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0,34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 - 0,36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 - 0,47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= 0.0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3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4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8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p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7880" y="352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3720" y="820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Dica para o Exercício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4440" y="293760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ercícios em S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04320" y="371880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m Trabalh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366280" y="79524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1, Pg, 14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8880" y="1562040"/>
            <a:ext cx="83408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Manufatu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odutos : Z345 Std (ZS), Z345 Ind (ZI), W250 Std (WS), W250 Ind (W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s: ZS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ZI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6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WS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WI = $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tratos a serem honrados: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ZS + ZI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ratégia: Pelo menos 50% Industrial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ZI + WI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5 (ZS + ZI + WS + W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u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- 0.5 ZS + 0.5 ZI - 0.5 WS + 0.5 W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x: ZS + ZI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75 (ZS + ZI + WS + WI)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.25 ZS + 0.25 ZI - 0.75 WS - 0.7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WS + WI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75 (ZS + ZI + WS + WI)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-0.75 ZS - 0.75 ZI + 0.25 WS + 0.2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sponibilidade de Materia Prima: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Zinco e Fer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82960" y="4195800"/>
            <a:ext cx="61038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Z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6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ZI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W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7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ZS + ZI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- 0.5 ZS + 0.5 ZI - 0.5 WS + 0.5 W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.25 ZS + 0.25 ZI - 0.75 WS - 0.7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-0.75 ZS - 0.75 ZI + 0.25 WS + 0.25 WI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5 ZS + 46 ZI + 16 WS + 34 WI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500               [Zinc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50 ZS + 30 ZI + 28 WS + 12 WI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800               [Ferr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600" y="4103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9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TeleMundo custam R$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6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CosmoFone custam R$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32960" y="4911840"/>
            <a:ext cx="4080600" cy="1394640"/>
            <a:chOff x="732960" y="4911840"/>
            <a:chExt cx="4080600" cy="1394640"/>
          </a:xfrm>
        </p:grpSpPr>
        <p:sp>
          <p:nvSpPr>
            <p:cNvPr id="65" name=""/>
            <p:cNvSpPr/>
            <p:nvPr/>
          </p:nvSpPr>
          <p:spPr>
            <a:xfrm>
              <a:off x="789840" y="5999400"/>
              <a:ext cx="2839680" cy="30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086" y="7855"/>
                  </a:moveTo>
                  <a:lnTo>
                    <a:pt x="35065" y="7855"/>
                  </a:lnTo>
                  <a:lnTo>
                    <a:pt x="35065" y="-200509"/>
                  </a:lnTo>
                  <a:lnTo>
                    <a:pt x="34762" y="-23165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Max R$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 Black"/>
                </a:rPr>
                <a:t>4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CF + R$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 Black"/>
                </a:rPr>
                <a:t>6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2960" y="4911840"/>
              <a:ext cx="264384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38" y="4684"/>
                  </a:moveTo>
                  <a:lnTo>
                    <a:pt x="33717" y="4684"/>
                  </a:lnTo>
                  <a:lnTo>
                    <a:pt x="33717" y="-11906"/>
                  </a:lnTo>
                  <a:lnTo>
                    <a:pt x="34445" y="-18687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3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CF </a:t>
              </a:r>
              <a:r>
                <a:rPr b="0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R$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60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5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TM </a:t>
              </a:r>
              <a:r>
                <a:rPr b="0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R$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60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9760" y="5545440"/>
              <a:ext cx="3943800" cy="30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1954" y="7624"/>
                  </a:moveTo>
                  <a:lnTo>
                    <a:pt x="24566" y="7624"/>
                  </a:lnTo>
                  <a:lnTo>
                    <a:pt x="24566" y="-181800"/>
                  </a:lnTo>
                  <a:lnTo>
                    <a:pt x="21022" y="-22485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3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CF + 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5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TM </a:t>
              </a:r>
              <a:r>
                <a:rPr b="0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R$ </a:t>
              </a:r>
              <a:r>
                <a:rPr b="0" lang="en-US" sz="1400" spc="-1" strike="noStrike">
                  <a:solidFill>
                    <a:srgbClr val="9900ff"/>
                  </a:solidFill>
                  <a:latin typeface="Arial Black"/>
                </a:rPr>
                <a:t>90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66280" y="79524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3, Pg, 14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8880" y="1562040"/>
            <a:ext cx="83408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e Investimen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ítulos : Stocks = EAL, BRU, TAT, Bonds = BL, BS e 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s: EAL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BRU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2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TAT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9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BL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1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, BS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8%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TDA =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sponível para Investimento: $ 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Investir Tudo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AL + BRU + TAT + BL + BS + TDA = 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D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elo menos 25% dos Stocks no TAT:  TAT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25 (EAL + BRU + TAT)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                             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0.75 TAT - 0.25 EAL - 0.25 BRU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elo menos tantos Bonds quanto Stocks :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BL + BS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EAL + BRU + 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enos de 12.500 em titulos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%: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T + BS + TD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1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33360" y="4513320"/>
            <a:ext cx="73771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1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AL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1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RU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09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TAT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1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L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08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S +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0.06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DA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0.75 TAT - 0.25 EAL - 0.25 BRU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-EAL - BRU - TAT + BL + BS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T + BS + TD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1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AL + BRU + TAT + BL + BS + TDA = 5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360" y="44784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57120" y="1563840"/>
            <a:ext cx="845352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aso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ctanagem   Reg (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Prem (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9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vailable                 Cos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acific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                p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42 x 3.000 = 126.000     $0,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Gulf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7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                g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42 x 2000 = 84.000        $0.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ddle East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95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               m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42 x 8000 = 336.000      $0,47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Preço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$0,52          $0,6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gular:    8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87 gr + 9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mium:  8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87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9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91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vailability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26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acifi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84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Gulf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36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Middle Ea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tracts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00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Re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00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re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pacidade de Processamento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 = 0,52 (pr + gr + mr)  + 0,60 (pp + gp + 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0,34 (pr + pp) - 0,36 (gr + gp) - 0,47 (mr + mp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= 0.0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3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4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8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p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9040" y="795240"/>
            <a:ext cx="4565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(Exercício 15, Pg, 152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880" y="352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1640" y="11271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91160" y="2298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05240" y="4386240"/>
            <a:ext cx="12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gião V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62440" y="2557440"/>
            <a:ext cx="3917880" cy="2927520"/>
            <a:chOff x="4762440" y="2557440"/>
            <a:chExt cx="3917880" cy="2927520"/>
          </a:xfrm>
        </p:grpSpPr>
        <p:sp>
          <p:nvSpPr>
            <p:cNvPr id="109" name=""/>
            <p:cNvSpPr/>
            <p:nvPr/>
          </p:nvSpPr>
          <p:spPr>
            <a:xfrm flipH="1" flipV="1">
              <a:off x="4762440" y="3146400"/>
              <a:ext cx="2611440" cy="233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74080" y="2557440"/>
              <a:ext cx="1506240" cy="392040"/>
            </a:xfrm>
            <a:prstGeom prst="wedgeRectCallout">
              <a:avLst>
                <a:gd name="adj1" fmla="val -162115"/>
                <a:gd name="adj2" fmla="val 258097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R$ 9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7880" y="1808280"/>
            <a:ext cx="1506600" cy="392040"/>
          </a:xfrm>
          <a:prstGeom prst="wedgeRectCallout">
            <a:avLst>
              <a:gd name="adj1" fmla="val -159273"/>
              <a:gd name="adj2" fmla="val 261337"/>
            </a:avLst>
          </a:prstGeom>
          <a:solidFill>
            <a:srgbClr val="ffff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12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5800" y="3270240"/>
            <a:ext cx="1506600" cy="392040"/>
          </a:xfrm>
          <a:prstGeom prst="wedgeRectCallout">
            <a:avLst>
              <a:gd name="adj1" fmla="val -164962"/>
              <a:gd name="adj2" fmla="val 280365"/>
            </a:avLst>
          </a:prstGeom>
          <a:solidFill>
            <a:srgbClr val="ffff99"/>
          </a:solidFill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R$ 6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57760" y="4000680"/>
            <a:ext cx="3936960" cy="1477800"/>
            <a:chOff x="4757760" y="4000680"/>
            <a:chExt cx="3936960" cy="1477800"/>
          </a:xfrm>
        </p:grpSpPr>
        <p:sp>
          <p:nvSpPr>
            <p:cNvPr id="132" name=""/>
            <p:cNvSpPr/>
            <p:nvPr/>
          </p:nvSpPr>
          <p:spPr>
            <a:xfrm>
              <a:off x="4757760" y="4741920"/>
              <a:ext cx="865080" cy="73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88120" y="4000680"/>
              <a:ext cx="1506600" cy="392040"/>
            </a:xfrm>
            <a:prstGeom prst="wedgeRectCallout">
              <a:avLst>
                <a:gd name="adj1" fmla="val -170652"/>
                <a:gd name="adj2" fmla="val 272671"/>
              </a:avLst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3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222160" y="2069280"/>
            <a:ext cx="636480" cy="716760"/>
            <a:chOff x="5222160" y="2069280"/>
            <a:chExt cx="636480" cy="716760"/>
          </a:xfrm>
        </p:grpSpPr>
        <p:sp>
          <p:nvSpPr>
            <p:cNvPr id="135" name=""/>
            <p:cNvSpPr/>
            <p:nvPr/>
          </p:nvSpPr>
          <p:spPr>
            <a:xfrm flipV="1">
              <a:off x="5253120" y="2381400"/>
              <a:ext cx="403200" cy="40464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22160" y="2069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 Black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31920" y="1689120"/>
            <a:ext cx="2655720" cy="44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3360" y="1749600"/>
            <a:ext cx="3924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174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23200" y="4458960"/>
            <a:ext cx="1279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 =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M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cosmo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cosm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4-01-28T12:13:51Z</dcterms:modified>
  <cp:revision>201</cp:revision>
  <dc:subject/>
  <dc:title>Mercados Digitais</dc:title>
</cp:coreProperties>
</file>